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003C2-2C9D-4859-BE27-506ECF2E5FB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59E07-7E64-4A67-8548-A1D32272E6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, I am Chia-Kai Liang, the first author of this pap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my talk on Thursday, I will present a new light field camera with programmable aperture. By “programmable aperture” I mean that the shape of the aperture can be changed in each expo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using the programmable aperture and the multiple-exposure technique, this camera can capture the light field at full spatial resolution, same as the sensor resol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ultiple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e light field to improve the acquisition efficiency and data qu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also adjust the angular resolution of the light field and capture normal pictures without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lternation of the cam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so develop two post-processing algorithms to enhance the light field quality, and estimate the depth information of the scene from the captured light fie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ase come to my talk at 8:30 on Thursday. I will show you more details and results. Thank yo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96360"/>
            <a:ext cx="840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798200"/>
            <a:ext cx="84153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04920" y="4321440"/>
            <a:ext cx="84153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396360"/>
            <a:ext cx="840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798200"/>
            <a:ext cx="41065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17000" y="1798200"/>
            <a:ext cx="41065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4321440"/>
            <a:ext cx="41065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17000" y="4321440"/>
            <a:ext cx="41065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920" y="396360"/>
            <a:ext cx="840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798200"/>
            <a:ext cx="27093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50000" y="1798200"/>
            <a:ext cx="27093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95440" y="1798200"/>
            <a:ext cx="27093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04920" y="4321440"/>
            <a:ext cx="27093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50000" y="4321440"/>
            <a:ext cx="27093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95440" y="4321440"/>
            <a:ext cx="27093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396360"/>
            <a:ext cx="840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04920" y="1798200"/>
            <a:ext cx="841536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96360"/>
            <a:ext cx="840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920" y="1798200"/>
            <a:ext cx="841536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96360"/>
            <a:ext cx="840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798200"/>
            <a:ext cx="41065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17000" y="1798200"/>
            <a:ext cx="41065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396360"/>
            <a:ext cx="840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396360"/>
            <a:ext cx="840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96360"/>
            <a:ext cx="840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798200"/>
            <a:ext cx="41065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17000" y="1798200"/>
            <a:ext cx="41065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04920" y="4321440"/>
            <a:ext cx="41065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396360"/>
            <a:ext cx="840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04920" y="1798200"/>
            <a:ext cx="841536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396360"/>
            <a:ext cx="840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798200"/>
            <a:ext cx="41065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17000" y="1798200"/>
            <a:ext cx="41065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17000" y="4321440"/>
            <a:ext cx="41065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396360"/>
            <a:ext cx="840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798200"/>
            <a:ext cx="41065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17000" y="1798200"/>
            <a:ext cx="41065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4920" y="4321440"/>
            <a:ext cx="84153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396360"/>
            <a:ext cx="840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798200"/>
            <a:ext cx="84153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04920" y="4321440"/>
            <a:ext cx="84153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396360"/>
            <a:ext cx="840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798200"/>
            <a:ext cx="41065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17000" y="1798200"/>
            <a:ext cx="41065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04920" y="4321440"/>
            <a:ext cx="41065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17000" y="4321440"/>
            <a:ext cx="41065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396360"/>
            <a:ext cx="840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798200"/>
            <a:ext cx="27093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50000" y="1798200"/>
            <a:ext cx="27093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95440" y="1798200"/>
            <a:ext cx="27093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04920" y="4321440"/>
            <a:ext cx="27093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50000" y="4321440"/>
            <a:ext cx="27093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95440" y="4321440"/>
            <a:ext cx="27093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396360"/>
            <a:ext cx="840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04920" y="1798200"/>
            <a:ext cx="841536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96360"/>
            <a:ext cx="840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798200"/>
            <a:ext cx="41065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17000" y="1798200"/>
            <a:ext cx="41065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396360"/>
            <a:ext cx="840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04920" y="396360"/>
            <a:ext cx="840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396360"/>
            <a:ext cx="840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798200"/>
            <a:ext cx="41065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17000" y="1798200"/>
            <a:ext cx="41065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04920" y="4321440"/>
            <a:ext cx="41065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96360"/>
            <a:ext cx="840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798200"/>
            <a:ext cx="41065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17000" y="1798200"/>
            <a:ext cx="41065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17000" y="4321440"/>
            <a:ext cx="41065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96360"/>
            <a:ext cx="840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798200"/>
            <a:ext cx="41065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17000" y="1798200"/>
            <a:ext cx="41065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4321440"/>
            <a:ext cx="84153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322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0" descr="slide backgroun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396360"/>
            <a:ext cx="8402400" cy="121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47f33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798200"/>
            <a:ext cx="841536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99d1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99d1c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99d1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99d1c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99d1c"/>
              </a:buClr>
              <a:buSzPct val="110000"/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322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7" descr="texture background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6" descr="LogoCentered"/>
          <p:cNvPicPr/>
          <p:nvPr/>
        </p:nvPicPr>
        <p:blipFill>
          <a:blip r:embed="rId3"/>
          <a:stretch/>
        </p:blipFill>
        <p:spPr>
          <a:xfrm>
            <a:off x="4954680" y="650880"/>
            <a:ext cx="3743280" cy="217980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14" descr="LogoCentered"/>
          <p:cNvPicPr/>
          <p:nvPr/>
        </p:nvPicPr>
        <p:blipFill>
          <a:blip r:embed="rId4"/>
          <a:stretch/>
        </p:blipFill>
        <p:spPr>
          <a:xfrm>
            <a:off x="4950000" y="646200"/>
            <a:ext cx="3743280" cy="2179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396360"/>
            <a:ext cx="8402400" cy="121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47f33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04920" y="1798200"/>
            <a:ext cx="841536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99d1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99d1c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99d1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99d1c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99d1c"/>
              </a:buClr>
              <a:buSzPct val="110000"/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119160"/>
            <a:ext cx="840240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47f33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新細明體"/>
              </a:rPr>
              <a:t>A Light Field Camera with Programmable Apertur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1688760"/>
            <a:ext cx="8415360" cy="30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99d1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  <a:ea typeface="新細明體"/>
              </a:rPr>
              <a:t>Full spatial resolution (= sensor resolution)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99d1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  <a:ea typeface="新細明體"/>
              </a:rPr>
              <a:t>Adjustable angular resolution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99d1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  <a:ea typeface="新細明體"/>
              </a:rPr>
              <a:t>Backward compatible with conventional camera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99d1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  <a:ea typeface="新細明體"/>
              </a:rPr>
              <a:t>High light field quality by multiplexing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99d1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  <a:ea typeface="新細明體"/>
              </a:rPr>
              <a:t>Easy to implement and low cost (&lt; US $5)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b05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  <a:ea typeface="新細明體"/>
              </a:rPr>
              <a:t>Effective photometric calibration and depth estimation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圖片 5" descr="prototype01-1.png"/>
          <p:cNvPicPr/>
          <p:nvPr/>
        </p:nvPicPr>
        <p:blipFill>
          <a:blip r:embed="rId1"/>
          <a:srcRect l="10670" t="0" r="6509" b="20613"/>
          <a:stretch/>
        </p:blipFill>
        <p:spPr>
          <a:xfrm>
            <a:off x="289080" y="4829040"/>
            <a:ext cx="1676160" cy="1016280"/>
          </a:xfrm>
          <a:prstGeom prst="rect">
            <a:avLst/>
          </a:prstGeom>
          <a:ln w="0">
            <a:noFill/>
          </a:ln>
        </p:spPr>
      </p:pic>
      <p:pic>
        <p:nvPicPr>
          <p:cNvPr id="90" name="圖片 6" descr="prototype01-2.png"/>
          <p:cNvPicPr/>
          <p:nvPr/>
        </p:nvPicPr>
        <p:blipFill>
          <a:blip r:embed="rId2"/>
          <a:stretch/>
        </p:blipFill>
        <p:spPr>
          <a:xfrm>
            <a:off x="1590840" y="5280120"/>
            <a:ext cx="1707840" cy="1203120"/>
          </a:xfrm>
          <a:prstGeom prst="rect">
            <a:avLst/>
          </a:prstGeom>
          <a:ln w="0">
            <a:noFill/>
          </a:ln>
        </p:spPr>
      </p:pic>
      <p:pic>
        <p:nvPicPr>
          <p:cNvPr id="91" name="圖片 8" descr="s_IMG_2950.jpg"/>
          <p:cNvPicPr/>
          <p:nvPr/>
        </p:nvPicPr>
        <p:blipFill>
          <a:blip r:embed="rId3"/>
          <a:stretch/>
        </p:blipFill>
        <p:spPr>
          <a:xfrm>
            <a:off x="3048120" y="4775040"/>
            <a:ext cx="1172880" cy="1081080"/>
          </a:xfrm>
          <a:prstGeom prst="rect">
            <a:avLst/>
          </a:prstGeom>
          <a:ln w="0">
            <a:noFill/>
          </a:ln>
        </p:spPr>
      </p:pic>
      <p:pic>
        <p:nvPicPr>
          <p:cNvPr id="92" name="圖片 7" descr="s_IMG_3041.jpg"/>
          <p:cNvPicPr/>
          <p:nvPr/>
        </p:nvPicPr>
        <p:blipFill>
          <a:blip r:embed="rId4"/>
          <a:srcRect l="9434" t="0" r="0" b="0"/>
          <a:stretch/>
        </p:blipFill>
        <p:spPr>
          <a:xfrm>
            <a:off x="4125960" y="5229360"/>
            <a:ext cx="1292040" cy="1222200"/>
          </a:xfrm>
          <a:prstGeom prst="rect">
            <a:avLst/>
          </a:prstGeom>
          <a:ln w="0">
            <a:noFill/>
          </a:ln>
        </p:spPr>
      </p:pic>
      <p:pic>
        <p:nvPicPr>
          <p:cNvPr id="93" name="圖片 7" descr="Sketch(1,1) iter6 noBF.png"/>
          <p:cNvPicPr/>
          <p:nvPr/>
        </p:nvPicPr>
        <p:blipFill>
          <a:blip r:embed="rId5"/>
          <a:stretch/>
        </p:blipFill>
        <p:spPr>
          <a:xfrm>
            <a:off x="7477200" y="4888080"/>
            <a:ext cx="1471680" cy="974520"/>
          </a:xfrm>
          <a:prstGeom prst="rect">
            <a:avLst/>
          </a:prstGeom>
          <a:ln w="0">
            <a:noFill/>
          </a:ln>
        </p:spPr>
      </p:pic>
      <p:sp>
        <p:nvSpPr>
          <p:cNvPr id="94" name="文字方塊 8"/>
          <p:cNvSpPr/>
          <p:nvPr/>
        </p:nvSpPr>
        <p:spPr>
          <a:xfrm>
            <a:off x="2481120" y="6423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新細明體"/>
              </a:rPr>
              <a:t>Prototyp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文字方塊 9"/>
          <p:cNvSpPr/>
          <p:nvPr/>
        </p:nvSpPr>
        <p:spPr>
          <a:xfrm>
            <a:off x="5595840" y="5835600"/>
            <a:ext cx="183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新細明體"/>
              </a:rPr>
              <a:t>View interpol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文字方塊 10"/>
          <p:cNvSpPr/>
          <p:nvPr/>
        </p:nvSpPr>
        <p:spPr>
          <a:xfrm>
            <a:off x="7532640" y="5835600"/>
            <a:ext cx="13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新細明體"/>
              </a:rPr>
              <a:t>Depth ma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viewInterpolation_multimule_depth.wmv" descr=""/>
          <p:cNvPicPr/>
          <p:nvPr/>
        </p:nvPicPr>
        <p:blipFill>
          <a:blip r:embed="rId6"/>
          <a:stretch/>
        </p:blipFill>
        <p:spPr>
          <a:xfrm>
            <a:off x="5599080" y="4700520"/>
            <a:ext cx="1824120" cy="118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932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Chia-Kai Liang</cp:lastModifiedBy>
  <dcterms:modified xsi:type="dcterms:W3CDTF">2008-07-21T09:50:52Z</dcterms:modified>
  <cp:revision>91</cp:revision>
  <dc:subject/>
  <dc:title>Slide 1</dc:title>
</cp:coreProperties>
</file>