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8143214"/>
        <c:axId val="78357518"/>
      </c:barChart>
      <c:catAx>
        <c:axId val="5814321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8357518"/>
        <c:crosses val="autoZero"/>
        <c:auto val="1"/>
        <c:lblAlgn val="ctr"/>
        <c:lblOffset val="100"/>
        <c:noMultiLvlLbl val="0"/>
      </c:catAx>
      <c:valAx>
        <c:axId val="7835751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814321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088F8-6A23-430D-BDAA-F50E81CA4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905AF-2C31-4195-A337-1D5F20D13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C190A-2A18-4CB4-992C-B767581BD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1D06C-0024-4EE7-8E18-57FBBA423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2A947-0561-4AA8-A519-3566DBFA6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B487B-F809-479D-8427-26C06B1DA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1AB57-1B0C-467B-B4EC-76C64416A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BFB1C-E1CD-433D-85FB-D5F25C4DB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ACE27-C018-4B91-A3E5-012BFEBFB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EEEBE-D449-4F11-872F-D07953406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AC577-7189-4A04-A152-1A6D172CC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2D576-3858-4156-9E2F-DC1830E5E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8FDEE-06DB-4641-819A-366CAA23C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B619B-FB1F-4111-9BC9-777598E15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DDA06-8A7D-44CE-B285-5F0DE5336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A0EE7-4AB9-4FE0-B9BD-BF6702499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D8CCC-9166-4706-B0D6-B8455306A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EB98A-5B19-4B19-B92E-CB01E97D7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05F33-C33D-4DB9-81C5-A3B57DCE3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545B3-3264-4A9A-8651-C9F386CE6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2722A-839C-48AB-A699-F74C49B00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643DD-C1D1-49A5-A44A-E8E7C291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B73A-C8F4-416C-9A17-AEF45F4DE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DE4B2-6836-4005-994F-93C241605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BCA39-0D34-40AC-87DD-40FA265DDA4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0DCF3-41F3-4A03-9CFA-2E1F93268EE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