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AA4-F067-464A-AE1A-53667EFC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ECC-4476-428C-9113-8CBD6762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13E-B7AB-4BF4-BE15-09050F3E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7D7-0B91-4877-A72A-AC79F681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C76-8BFE-4664-B67B-08569F0F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5D2-629B-4D06-94AE-BF6FE2A6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285-6A48-4BF3-A6EA-F0438202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5B2-622E-46F8-A589-FE975A5C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DE1-E8EA-4040-BFD3-3943E7A3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4CB-A182-4230-AC40-BD9C79DA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751-C925-4ED3-96A7-A68FF78B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65D-1AEF-44E0-BEF8-D4D2719F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40B4-AB9E-44EA-8D4E-FE178E220A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bt.pas" TargetMode="External"/><Relationship Id="rId2" Type="http://schemas.openxmlformats.org/officeDocument/2006/relationships/hyperlink" Target="file:///sbt2.pa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B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补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山纪念中学 陈启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标准版和退化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B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共同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大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速度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能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试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码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间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功能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用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1414440"/>
          <a:ext cx="8229600" cy="414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准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退化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衡方式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衡方式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s[left[left[t]]]&gt;s[right[t]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_rotate(t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s[right[right[t]]]&gt;s[left[t]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_rotate(t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1112760"/>
          <a:ext cx="8229600" cy="353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准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退化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点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对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AY,AVL,TREAP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很快，代码短，不会退化，保证深度非常小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点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对标准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T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更快，代码更短，随机、有序数据不会退化（除人字形数据），深度也很小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1112760"/>
          <a:ext cx="8229600" cy="353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准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退化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适用范围：任何程序中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用范围：在信息学竞赛中很实用，因为不太可能有人字型数据。但在实际应用中就不能保证一定不退化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1112760"/>
          <a:ext cx="8229600" cy="353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准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退化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码：</a:t>
                      </a:r>
                      <a:r>
                        <a:rPr b="0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sbt.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码：</a:t>
                      </a:r>
                      <a:r>
                        <a:rPr b="0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sbt2.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</cp:lastModifiedBy>
  <dcterms:modified xsi:type="dcterms:W3CDTF">2007-10-04T08:22:4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