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0AF1B-1808-47EA-9775-05D6F7AE7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663F-4B60-47DA-8D29-FE67F64B6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84C0E-BFE1-4D20-8C14-CE62EF1C9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795E4-F391-42B4-BF3F-CECD7ABD9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2F671-0D26-4612-940A-86CF1A872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82146-39D8-46A8-9365-8B2C6FE0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99E6-2B0E-431D-A18A-9EB41B21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3B07-31AA-4CC7-A458-8DD3A4DD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8CA3-D87F-4105-A512-75CA4723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6268-9426-4401-B6B6-2AD39D50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53095-ACBF-471E-B439-88F84CA5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3098-B457-4E23-A563-EC851B5D2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B7FB-F883-4640-B567-EC83C9D025F9}" type="datetime">
              <a:rPr b="0" lang="ru-RU" sz="1800" spc="-1" strike="noStrike">
                <a:solidFill>
                  <a:srgbClr val="000000"/>
                </a:solidFill>
                <a:latin typeface="Arial"/>
              </a:rPr>
              <a:t>31.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DCC2-EC96-45F3-9F5C-4FD6A827B258}"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