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46.jpeg" ContentType="image/jpeg"/>
  <Override PartName="/ppt/media/image3.wmf" ContentType="image/x-wmf"/>
  <Override PartName="/ppt/media/image45.png" ContentType="image/png"/>
  <Override PartName="/ppt/media/image44.png" ContentType="image/png"/>
  <Override PartName="/ppt/media/image43.png" ContentType="image/png"/>
  <Override PartName="/ppt/media/image41.png" ContentType="image/png"/>
  <Override PartName="/ppt/media/image57.wmf" ContentType="image/x-wmf"/>
  <Override PartName="/ppt/media/image20.wmf" ContentType="image/x-wmf"/>
  <Override PartName="/ppt/media/image48.wmf" ContentType="image/x-wmf"/>
  <Override PartName="/ppt/media/image58.wmf" ContentType="image/x-wmf"/>
  <Override PartName="/ppt/media/image6.jpeg" ContentType="image/jpeg"/>
  <Override PartName="/ppt/media/image4.jpeg" ContentType="image/jpeg"/>
  <Override PartName="/ppt/media/image40.png" ContentType="image/png"/>
  <Override PartName="/ppt/media/image25.png" ContentType="image/png"/>
  <Override PartName="/ppt/media/image18.png" ContentType="image/png"/>
  <Override PartName="/ppt/media/image42.jpeg" ContentType="image/jpeg"/>
  <Override PartName="/ppt/media/image65.wmf" ContentType="image/x-wmf"/>
  <Override PartName="/ppt/media/image54.wmf" ContentType="image/x-wmf"/>
  <Override PartName="/ppt/media/image14.png" ContentType="image/png"/>
  <Override PartName="/ppt/media/image15.png" ContentType="image/png"/>
  <Override PartName="/ppt/media/image56.wmf" ContentType="image/x-wmf"/>
  <Override PartName="/ppt/media/image16.png" ContentType="image/png"/>
  <Override PartName="/ppt/media/image66.wmf" ContentType="image/x-wmf"/>
  <Override PartName="/ppt/media/image26.png" ContentType="image/png"/>
  <Override PartName="/ppt/media/image64.wmf" ContentType="image/x-wmf"/>
  <Override PartName="/ppt/media/image24.png" ContentType="image/png"/>
  <Override PartName="/ppt/media/image63.wmf" ContentType="image/x-wmf"/>
  <Override PartName="/ppt/media/image23.png" ContentType="image/png"/>
  <Override PartName="/ppt/media/image60.jpeg" ContentType="image/jpeg"/>
  <Override PartName="/ppt/media/image30.png" ContentType="image/png"/>
  <Override PartName="/ppt/media/image62.wmf" ContentType="image/x-wmf"/>
  <Override PartName="/ppt/media/image22.png" ContentType="image/png"/>
  <Override PartName="/ppt/media/image2.wmf" ContentType="image/x-wmf"/>
  <Override PartName="/ppt/media/image27.png" ContentType="image/png"/>
  <Override PartName="/ppt/media/image5.jpeg" ContentType="image/jpeg"/>
  <Override PartName="/ppt/media/image61.png" ContentType="image/png"/>
  <Override PartName="/ppt/media/image59.wmf" ContentType="image/x-wmf"/>
  <Override PartName="/ppt/media/image10.png" ContentType="image/png"/>
  <Override PartName="/ppt/media/image47.png" ContentType="image/png"/>
  <Override PartName="/ppt/media/image1.jpeg" ContentType="image/jpeg"/>
  <Override PartName="/ppt/media/image21.png" ContentType="image/png"/>
  <Override PartName="/ppt/media/image50.wmf" ContentType="image/x-wmf"/>
  <Override PartName="/ppt/media/image28.png" ContentType="image/png"/>
  <Override PartName="/ppt/media/image8.png" ContentType="image/png"/>
  <Override PartName="/ppt/media/image38.png" ContentType="image/png"/>
  <Override PartName="/ppt/media/image13.png" ContentType="image/png"/>
  <Override PartName="/ppt/media/image53.wmf" ContentType="image/x-wmf"/>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52.wmf" ContentType="image/x-wmf"/>
  <Override PartName="/ppt/media/image17.wmf" ContentType="image/x-wmf"/>
  <Override PartName="/ppt/media/image9.png" ContentType="image/png"/>
  <Override PartName="/ppt/media/image39.png" ContentType="image/png"/>
  <Override PartName="/ppt/media/image11.png" ContentType="image/png"/>
  <Override PartName="/ppt/media/image29.png" ContentType="image/png"/>
  <Override PartName="/ppt/media/image51.wmf" ContentType="image/x-wmf"/>
  <Override PartName="/ppt/media/image31.png" ContentType="image/png"/>
  <Override PartName="/ppt/media/image32.png" ContentType="image/png"/>
  <Override PartName="/ppt/media/image33.png" ContentType="image/png"/>
  <Override PartName="/ppt/media/image34.png" ContentType="image/png"/>
  <Override PartName="/ppt/media/image35.png" ContentType="image/png"/>
  <Override PartName="/ppt/media/image3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7019925"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0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856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72F5-F9C6-4206-A3C0-29DAFFFA4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8"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8284-6B9A-40A7-BA03-047BCFB6C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9"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0"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1"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2" name="PlaceHolder 1"/>
          <p:cNvSpPr>
            <a:spLocks noGrp="1"/>
          </p:cNvSpPr>
          <p:nvPr>
            <p:ph type="sldImg"/>
          </p:nvPr>
        </p:nvSpPr>
        <p:spPr>
          <a:xfrm>
            <a:off x="1192320" y="695160"/>
            <a:ext cx="4635360" cy="3476880"/>
          </a:xfrm>
          <a:prstGeom prst="rect">
            <a:avLst/>
          </a:prstGeom>
          <a:ln w="0">
            <a:noFill/>
          </a:ln>
        </p:spPr>
      </p:sp>
      <p:sp>
        <p:nvSpPr>
          <p:cNvPr id="4113" name="PlaceHolder 2"/>
          <p:cNvSpPr>
            <a:spLocks noGrp="1"/>
          </p:cNvSpPr>
          <p:nvPr>
            <p:ph type="body"/>
          </p:nvPr>
        </p:nvSpPr>
        <p:spPr>
          <a:xfrm>
            <a:off x="701640" y="4403880"/>
            <a:ext cx="5616720" cy="417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4"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B967-3D7A-4463-82D5-1728585AB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5"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6"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7"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8" name="PlaceHolder 1"/>
          <p:cNvSpPr>
            <a:spLocks noGrp="1"/>
          </p:cNvSpPr>
          <p:nvPr>
            <p:ph type="sldImg"/>
          </p:nvPr>
        </p:nvSpPr>
        <p:spPr>
          <a:xfrm>
            <a:off x="1192320" y="695160"/>
            <a:ext cx="4635360" cy="3476880"/>
          </a:xfrm>
          <a:prstGeom prst="rect">
            <a:avLst/>
          </a:prstGeom>
          <a:ln w="0">
            <a:noFill/>
          </a:ln>
        </p:spPr>
      </p:sp>
      <p:sp>
        <p:nvSpPr>
          <p:cNvPr id="4119" name="PlaceHolder 2"/>
          <p:cNvSpPr>
            <a:spLocks noGrp="1"/>
          </p:cNvSpPr>
          <p:nvPr>
            <p:ph type="body"/>
          </p:nvPr>
        </p:nvSpPr>
        <p:spPr>
          <a:xfrm>
            <a:off x="701640" y="4403880"/>
            <a:ext cx="5616720" cy="417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1EDE5-E91E-4A73-B1DE-390BB368D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0EF62-0519-46BA-BA75-757532EE2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E5E37-5DC3-4BC1-9631-B186A8EB6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80C5B-C248-46A1-82D4-6A2FEAADD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143C4-12E7-406E-B3A4-AD3AD6597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CFB58-9A84-4B5C-9A42-4B46CCA2F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9EA12-6680-4DED-8035-9981E16C3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2C900-F32E-4A12-8DAF-C8444C7B3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2089E-E27D-49AE-BE09-7E9BAC229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9B052-BDFD-4A03-979A-82255315D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31B9E-D8E9-4F1D-BDA9-4C0CCC381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94909-DC23-494B-8AF0-6E886D610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4BCF-2E52-49AF-B6E7-8FBD1DF85E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images.google.com/imgres?imgurl=www.flimpsons.com/images/josh/homerthinking.gif&amp;imgrefurl=http://www.flimpsons.com/images/&amp;h=303&amp;w=270&amp;prev=/images%3Fq%3Dhomer%2Bthinking%26svnum%3D10%26hl%3Den%26lr%3D%26ie%3DUTF8%26oe%3DUTF8" TargetMode="External"/><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masthead" descr=""/>
          <p:cNvPicPr/>
          <p:nvPr/>
        </p:nvPicPr>
        <p:blipFill>
          <a:blip r:embed="rId1"/>
          <a:stretch/>
        </p:blipFill>
        <p:spPr>
          <a:xfrm>
            <a:off x="3429000" y="0"/>
            <a:ext cx="5715000" cy="1371600"/>
          </a:xfrm>
          <a:prstGeom prst="rect">
            <a:avLst/>
          </a:prstGeom>
          <a:ln w="0">
            <a:noFill/>
          </a:ln>
        </p:spPr>
      </p:pic>
      <p:sp>
        <p:nvSpPr>
          <p:cNvPr id="49" name=""/>
          <p:cNvSpPr/>
          <p:nvPr/>
        </p:nvSpPr>
        <p:spPr>
          <a:xfrm>
            <a:off x="406440" y="1431000"/>
            <a:ext cx="8116920" cy="4997160"/>
          </a:xfrm>
          <a:prstGeom prst="rect">
            <a:avLst/>
          </a:prstGeom>
          <a:noFill/>
          <a:ln w="0">
            <a:noFill/>
          </a:ln>
        </p:spPr>
        <p:style>
          <a:lnRef idx="0"/>
          <a:fillRef idx="0"/>
          <a:effectRef idx="0"/>
          <a:fontRef idx="minor"/>
        </p:style>
        <p:txBody>
          <a:bodyPr lIns="90000" rIns="90000" tIns="46800" bIns="46800" anchor="ctr">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ymbolic Representations of Time Series</a:t>
            </a:r>
            <a:endParaRPr b="0" lang="en-US" sz="40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monn Keogh and Jessica Lin</a:t>
            </a:r>
            <a:endParaRPr b="0" lang="en-US" sz="32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uter Science &amp; Engineering Department</a:t>
            </a:r>
            <a:br>
              <a:rPr sz="1600"/>
            </a:br>
            <a:r>
              <a:rPr b="0" lang="en-US" sz="1600" spc="-1" strike="noStrike">
                <a:solidFill>
                  <a:srgbClr val="000000"/>
                </a:solidFill>
                <a:latin typeface="Times New Roman"/>
              </a:rPr>
              <a:t>University of California - Riverside</a:t>
            </a:r>
            <a:br>
              <a:rPr sz="1600"/>
            </a:br>
            <a:r>
              <a:rPr b="0" lang="en-US" sz="1600" spc="-1" strike="noStrike">
                <a:solidFill>
                  <a:srgbClr val="000000"/>
                </a:solidFill>
                <a:latin typeface="Times New Roman"/>
              </a:rPr>
              <a:t>Riverside,CA 92521</a:t>
            </a:r>
            <a:br>
              <a:rPr sz="1600"/>
            </a:br>
            <a:r>
              <a:rPr b="0" i="1" lang="en-US" sz="1600" spc="-1" strike="noStrike">
                <a:solidFill>
                  <a:srgbClr val="000000"/>
                </a:solidFill>
                <a:latin typeface="Times New Roman"/>
              </a:rPr>
              <a:t>eamonn@cs.ucr.ed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76040" y="206280"/>
            <a:ext cx="86886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uclidean Distance Metric</a:t>
            </a:r>
            <a:endParaRPr b="0" lang="en-US" sz="4800" spc="-1" strike="noStrike">
              <a:solidFill>
                <a:srgbClr val="000000"/>
              </a:solidFill>
              <a:latin typeface="Times New Roman"/>
            </a:endParaRPr>
          </a:p>
        </p:txBody>
      </p:sp>
      <p:sp>
        <p:nvSpPr>
          <p:cNvPr id="363" name=""/>
          <p:cNvSpPr/>
          <p:nvPr/>
        </p:nvSpPr>
        <p:spPr>
          <a:xfrm>
            <a:off x="6086520" y="2625840"/>
            <a:ext cx="2813040" cy="834840"/>
          </a:xfrm>
          <a:custGeom>
            <a:avLst/>
            <a:gdLst/>
            <a:ahLst/>
            <a:rect l="l" t="t" r="r" b="b"/>
            <a:pathLst>
              <a:path w="2081" h="596">
                <a:moveTo>
                  <a:pt x="0" y="227"/>
                </a:moveTo>
                <a:lnTo>
                  <a:pt x="17" y="240"/>
                </a:lnTo>
                <a:lnTo>
                  <a:pt x="40" y="248"/>
                </a:lnTo>
                <a:lnTo>
                  <a:pt x="57" y="254"/>
                </a:lnTo>
                <a:lnTo>
                  <a:pt x="80" y="262"/>
                </a:lnTo>
                <a:lnTo>
                  <a:pt x="101" y="275"/>
                </a:lnTo>
                <a:lnTo>
                  <a:pt x="119" y="288"/>
                </a:lnTo>
                <a:lnTo>
                  <a:pt x="142" y="294"/>
                </a:lnTo>
                <a:lnTo>
                  <a:pt x="159" y="308"/>
                </a:lnTo>
                <a:lnTo>
                  <a:pt x="182" y="321"/>
                </a:lnTo>
                <a:lnTo>
                  <a:pt x="203" y="335"/>
                </a:lnTo>
                <a:lnTo>
                  <a:pt x="221" y="348"/>
                </a:lnTo>
                <a:lnTo>
                  <a:pt x="244" y="367"/>
                </a:lnTo>
                <a:lnTo>
                  <a:pt x="267" y="381"/>
                </a:lnTo>
                <a:lnTo>
                  <a:pt x="284" y="402"/>
                </a:lnTo>
                <a:lnTo>
                  <a:pt x="305" y="408"/>
                </a:lnTo>
                <a:lnTo>
                  <a:pt x="322" y="415"/>
                </a:lnTo>
                <a:lnTo>
                  <a:pt x="345" y="429"/>
                </a:lnTo>
                <a:lnTo>
                  <a:pt x="368" y="434"/>
                </a:lnTo>
                <a:lnTo>
                  <a:pt x="386" y="448"/>
                </a:lnTo>
                <a:lnTo>
                  <a:pt x="407" y="448"/>
                </a:lnTo>
                <a:lnTo>
                  <a:pt x="424" y="448"/>
                </a:lnTo>
                <a:lnTo>
                  <a:pt x="447" y="456"/>
                </a:lnTo>
                <a:lnTo>
                  <a:pt x="470" y="456"/>
                </a:lnTo>
                <a:lnTo>
                  <a:pt x="487" y="456"/>
                </a:lnTo>
                <a:lnTo>
                  <a:pt x="509" y="461"/>
                </a:lnTo>
                <a:lnTo>
                  <a:pt x="526" y="461"/>
                </a:lnTo>
                <a:lnTo>
                  <a:pt x="549" y="469"/>
                </a:lnTo>
                <a:lnTo>
                  <a:pt x="572" y="469"/>
                </a:lnTo>
                <a:lnTo>
                  <a:pt x="589" y="475"/>
                </a:lnTo>
                <a:lnTo>
                  <a:pt x="610" y="475"/>
                </a:lnTo>
                <a:lnTo>
                  <a:pt x="628" y="481"/>
                </a:lnTo>
                <a:lnTo>
                  <a:pt x="651" y="481"/>
                </a:lnTo>
                <a:lnTo>
                  <a:pt x="674" y="481"/>
                </a:lnTo>
                <a:lnTo>
                  <a:pt x="691" y="481"/>
                </a:lnTo>
                <a:lnTo>
                  <a:pt x="712" y="475"/>
                </a:lnTo>
                <a:lnTo>
                  <a:pt x="735" y="475"/>
                </a:lnTo>
                <a:lnTo>
                  <a:pt x="752" y="481"/>
                </a:lnTo>
                <a:lnTo>
                  <a:pt x="775" y="481"/>
                </a:lnTo>
                <a:lnTo>
                  <a:pt x="793" y="481"/>
                </a:lnTo>
                <a:lnTo>
                  <a:pt x="814" y="481"/>
                </a:lnTo>
                <a:lnTo>
                  <a:pt x="837" y="475"/>
                </a:lnTo>
                <a:lnTo>
                  <a:pt x="854" y="469"/>
                </a:lnTo>
                <a:lnTo>
                  <a:pt x="877" y="461"/>
                </a:lnTo>
                <a:lnTo>
                  <a:pt x="894" y="456"/>
                </a:lnTo>
                <a:lnTo>
                  <a:pt x="916" y="461"/>
                </a:lnTo>
                <a:lnTo>
                  <a:pt x="939" y="461"/>
                </a:lnTo>
                <a:lnTo>
                  <a:pt x="956" y="456"/>
                </a:lnTo>
                <a:lnTo>
                  <a:pt x="979" y="442"/>
                </a:lnTo>
                <a:lnTo>
                  <a:pt x="996" y="442"/>
                </a:lnTo>
                <a:lnTo>
                  <a:pt x="1017" y="442"/>
                </a:lnTo>
                <a:lnTo>
                  <a:pt x="1040" y="434"/>
                </a:lnTo>
                <a:lnTo>
                  <a:pt x="1058" y="421"/>
                </a:lnTo>
                <a:lnTo>
                  <a:pt x="1081" y="421"/>
                </a:lnTo>
                <a:lnTo>
                  <a:pt x="1098" y="415"/>
                </a:lnTo>
                <a:lnTo>
                  <a:pt x="1121" y="402"/>
                </a:lnTo>
                <a:lnTo>
                  <a:pt x="1142" y="394"/>
                </a:lnTo>
                <a:lnTo>
                  <a:pt x="1159" y="381"/>
                </a:lnTo>
                <a:lnTo>
                  <a:pt x="1183" y="361"/>
                </a:lnTo>
                <a:lnTo>
                  <a:pt x="1206" y="340"/>
                </a:lnTo>
                <a:lnTo>
                  <a:pt x="1223" y="321"/>
                </a:lnTo>
                <a:lnTo>
                  <a:pt x="1244" y="302"/>
                </a:lnTo>
                <a:lnTo>
                  <a:pt x="1261" y="275"/>
                </a:lnTo>
                <a:lnTo>
                  <a:pt x="1284" y="248"/>
                </a:lnTo>
                <a:lnTo>
                  <a:pt x="1307" y="213"/>
                </a:lnTo>
                <a:lnTo>
                  <a:pt x="1325" y="181"/>
                </a:lnTo>
                <a:lnTo>
                  <a:pt x="1346" y="154"/>
                </a:lnTo>
                <a:lnTo>
                  <a:pt x="1363" y="114"/>
                </a:lnTo>
                <a:lnTo>
                  <a:pt x="1386" y="81"/>
                </a:lnTo>
                <a:lnTo>
                  <a:pt x="1409" y="54"/>
                </a:lnTo>
                <a:lnTo>
                  <a:pt x="1426" y="33"/>
                </a:lnTo>
                <a:lnTo>
                  <a:pt x="1448" y="14"/>
                </a:lnTo>
                <a:lnTo>
                  <a:pt x="1465" y="8"/>
                </a:lnTo>
                <a:lnTo>
                  <a:pt x="1488" y="0"/>
                </a:lnTo>
                <a:lnTo>
                  <a:pt x="1511" y="0"/>
                </a:lnTo>
                <a:lnTo>
                  <a:pt x="1528" y="14"/>
                </a:lnTo>
                <a:lnTo>
                  <a:pt x="1549" y="41"/>
                </a:lnTo>
                <a:lnTo>
                  <a:pt x="1567" y="73"/>
                </a:lnTo>
                <a:lnTo>
                  <a:pt x="1590" y="114"/>
                </a:lnTo>
                <a:lnTo>
                  <a:pt x="1613" y="154"/>
                </a:lnTo>
                <a:lnTo>
                  <a:pt x="1630" y="208"/>
                </a:lnTo>
                <a:lnTo>
                  <a:pt x="1651" y="254"/>
                </a:lnTo>
                <a:lnTo>
                  <a:pt x="1668" y="308"/>
                </a:lnTo>
                <a:lnTo>
                  <a:pt x="1691" y="356"/>
                </a:lnTo>
                <a:lnTo>
                  <a:pt x="1714" y="402"/>
                </a:lnTo>
                <a:lnTo>
                  <a:pt x="1732" y="442"/>
                </a:lnTo>
                <a:lnTo>
                  <a:pt x="1753" y="481"/>
                </a:lnTo>
                <a:lnTo>
                  <a:pt x="1776" y="515"/>
                </a:lnTo>
                <a:lnTo>
                  <a:pt x="1793" y="548"/>
                </a:lnTo>
                <a:lnTo>
                  <a:pt x="1816" y="569"/>
                </a:lnTo>
                <a:lnTo>
                  <a:pt x="1833" y="588"/>
                </a:lnTo>
                <a:lnTo>
                  <a:pt x="1855" y="596"/>
                </a:lnTo>
                <a:lnTo>
                  <a:pt x="1878" y="596"/>
                </a:lnTo>
                <a:lnTo>
                  <a:pt x="1895" y="596"/>
                </a:lnTo>
                <a:lnTo>
                  <a:pt x="1918" y="596"/>
                </a:lnTo>
                <a:lnTo>
                  <a:pt x="1935" y="596"/>
                </a:lnTo>
                <a:lnTo>
                  <a:pt x="1956" y="596"/>
                </a:lnTo>
                <a:lnTo>
                  <a:pt x="1979" y="596"/>
                </a:lnTo>
                <a:lnTo>
                  <a:pt x="1997" y="596"/>
                </a:lnTo>
                <a:lnTo>
                  <a:pt x="2020" y="596"/>
                </a:lnTo>
                <a:lnTo>
                  <a:pt x="2037" y="596"/>
                </a:lnTo>
                <a:lnTo>
                  <a:pt x="2058" y="588"/>
                </a:lnTo>
                <a:lnTo>
                  <a:pt x="2081" y="588"/>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086520" y="1019160"/>
            <a:ext cx="2813040" cy="1197000"/>
          </a:xfrm>
          <a:custGeom>
            <a:avLst/>
            <a:gdLst/>
            <a:ahLst/>
            <a:rect l="l" t="t" r="r" b="b"/>
            <a:pathLst>
              <a:path w="2081" h="853">
                <a:moveTo>
                  <a:pt x="0" y="378"/>
                </a:moveTo>
                <a:lnTo>
                  <a:pt x="17" y="384"/>
                </a:lnTo>
                <a:lnTo>
                  <a:pt x="40" y="394"/>
                </a:lnTo>
                <a:lnTo>
                  <a:pt x="57" y="399"/>
                </a:lnTo>
                <a:lnTo>
                  <a:pt x="80" y="421"/>
                </a:lnTo>
                <a:lnTo>
                  <a:pt x="101" y="442"/>
                </a:lnTo>
                <a:lnTo>
                  <a:pt x="119" y="463"/>
                </a:lnTo>
                <a:lnTo>
                  <a:pt x="142" y="490"/>
                </a:lnTo>
                <a:lnTo>
                  <a:pt x="159" y="511"/>
                </a:lnTo>
                <a:lnTo>
                  <a:pt x="182" y="522"/>
                </a:lnTo>
                <a:lnTo>
                  <a:pt x="203" y="532"/>
                </a:lnTo>
                <a:lnTo>
                  <a:pt x="221" y="565"/>
                </a:lnTo>
                <a:lnTo>
                  <a:pt x="244" y="597"/>
                </a:lnTo>
                <a:lnTo>
                  <a:pt x="267" y="618"/>
                </a:lnTo>
                <a:lnTo>
                  <a:pt x="284" y="624"/>
                </a:lnTo>
                <a:lnTo>
                  <a:pt x="305" y="624"/>
                </a:lnTo>
                <a:lnTo>
                  <a:pt x="322" y="624"/>
                </a:lnTo>
                <a:lnTo>
                  <a:pt x="345" y="628"/>
                </a:lnTo>
                <a:lnTo>
                  <a:pt x="368" y="661"/>
                </a:lnTo>
                <a:lnTo>
                  <a:pt x="386" y="720"/>
                </a:lnTo>
                <a:lnTo>
                  <a:pt x="407" y="741"/>
                </a:lnTo>
                <a:lnTo>
                  <a:pt x="424" y="715"/>
                </a:lnTo>
                <a:lnTo>
                  <a:pt x="447" y="667"/>
                </a:lnTo>
                <a:lnTo>
                  <a:pt x="470" y="661"/>
                </a:lnTo>
                <a:lnTo>
                  <a:pt x="487" y="688"/>
                </a:lnTo>
                <a:lnTo>
                  <a:pt x="509" y="715"/>
                </a:lnTo>
                <a:lnTo>
                  <a:pt x="526" y="697"/>
                </a:lnTo>
                <a:lnTo>
                  <a:pt x="549" y="672"/>
                </a:lnTo>
                <a:lnTo>
                  <a:pt x="572" y="661"/>
                </a:lnTo>
                <a:lnTo>
                  <a:pt x="589" y="661"/>
                </a:lnTo>
                <a:lnTo>
                  <a:pt x="610" y="661"/>
                </a:lnTo>
                <a:lnTo>
                  <a:pt x="628" y="661"/>
                </a:lnTo>
                <a:lnTo>
                  <a:pt x="651" y="672"/>
                </a:lnTo>
                <a:lnTo>
                  <a:pt x="674" y="724"/>
                </a:lnTo>
                <a:lnTo>
                  <a:pt x="691" y="778"/>
                </a:lnTo>
                <a:lnTo>
                  <a:pt x="712" y="799"/>
                </a:lnTo>
                <a:lnTo>
                  <a:pt x="735" y="757"/>
                </a:lnTo>
                <a:lnTo>
                  <a:pt x="752" y="724"/>
                </a:lnTo>
                <a:lnTo>
                  <a:pt x="775" y="730"/>
                </a:lnTo>
                <a:lnTo>
                  <a:pt x="793" y="745"/>
                </a:lnTo>
                <a:lnTo>
                  <a:pt x="814" y="715"/>
                </a:lnTo>
                <a:lnTo>
                  <a:pt x="837" y="661"/>
                </a:lnTo>
                <a:lnTo>
                  <a:pt x="854" y="640"/>
                </a:lnTo>
                <a:lnTo>
                  <a:pt x="877" y="655"/>
                </a:lnTo>
                <a:lnTo>
                  <a:pt x="894" y="688"/>
                </a:lnTo>
                <a:lnTo>
                  <a:pt x="916" y="688"/>
                </a:lnTo>
                <a:lnTo>
                  <a:pt x="939" y="655"/>
                </a:lnTo>
                <a:lnTo>
                  <a:pt x="956" y="628"/>
                </a:lnTo>
                <a:lnTo>
                  <a:pt x="979" y="634"/>
                </a:lnTo>
                <a:lnTo>
                  <a:pt x="996" y="667"/>
                </a:lnTo>
                <a:lnTo>
                  <a:pt x="1017" y="697"/>
                </a:lnTo>
                <a:lnTo>
                  <a:pt x="1040" y="720"/>
                </a:lnTo>
                <a:lnTo>
                  <a:pt x="1058" y="724"/>
                </a:lnTo>
                <a:lnTo>
                  <a:pt x="1081" y="697"/>
                </a:lnTo>
                <a:lnTo>
                  <a:pt x="1098" y="655"/>
                </a:lnTo>
                <a:lnTo>
                  <a:pt x="1121" y="613"/>
                </a:lnTo>
                <a:lnTo>
                  <a:pt x="1142" y="580"/>
                </a:lnTo>
                <a:lnTo>
                  <a:pt x="1159" y="565"/>
                </a:lnTo>
                <a:lnTo>
                  <a:pt x="1183" y="559"/>
                </a:lnTo>
                <a:lnTo>
                  <a:pt x="1206" y="576"/>
                </a:lnTo>
                <a:lnTo>
                  <a:pt x="1223" y="576"/>
                </a:lnTo>
                <a:lnTo>
                  <a:pt x="1244" y="538"/>
                </a:lnTo>
                <a:lnTo>
                  <a:pt x="1261" y="496"/>
                </a:lnTo>
                <a:lnTo>
                  <a:pt x="1284" y="459"/>
                </a:lnTo>
                <a:lnTo>
                  <a:pt x="1307" y="432"/>
                </a:lnTo>
                <a:lnTo>
                  <a:pt x="1325" y="411"/>
                </a:lnTo>
                <a:lnTo>
                  <a:pt x="1346" y="384"/>
                </a:lnTo>
                <a:lnTo>
                  <a:pt x="1363" y="357"/>
                </a:lnTo>
                <a:lnTo>
                  <a:pt x="1386" y="298"/>
                </a:lnTo>
                <a:lnTo>
                  <a:pt x="1409" y="223"/>
                </a:lnTo>
                <a:lnTo>
                  <a:pt x="1426" y="138"/>
                </a:lnTo>
                <a:lnTo>
                  <a:pt x="1448" y="63"/>
                </a:lnTo>
                <a:lnTo>
                  <a:pt x="1465" y="21"/>
                </a:lnTo>
                <a:lnTo>
                  <a:pt x="1488" y="5"/>
                </a:lnTo>
                <a:lnTo>
                  <a:pt x="1511" y="0"/>
                </a:lnTo>
                <a:lnTo>
                  <a:pt x="1528" y="15"/>
                </a:lnTo>
                <a:lnTo>
                  <a:pt x="1549" y="48"/>
                </a:lnTo>
                <a:lnTo>
                  <a:pt x="1567" y="111"/>
                </a:lnTo>
                <a:lnTo>
                  <a:pt x="1590" y="176"/>
                </a:lnTo>
                <a:lnTo>
                  <a:pt x="1613" y="244"/>
                </a:lnTo>
                <a:lnTo>
                  <a:pt x="1630" y="319"/>
                </a:lnTo>
                <a:lnTo>
                  <a:pt x="1651" y="432"/>
                </a:lnTo>
                <a:lnTo>
                  <a:pt x="1668" y="576"/>
                </a:lnTo>
                <a:lnTo>
                  <a:pt x="1691" y="720"/>
                </a:lnTo>
                <a:lnTo>
                  <a:pt x="1714" y="793"/>
                </a:lnTo>
                <a:lnTo>
                  <a:pt x="1732" y="820"/>
                </a:lnTo>
                <a:lnTo>
                  <a:pt x="1753" y="826"/>
                </a:lnTo>
                <a:lnTo>
                  <a:pt x="1776" y="843"/>
                </a:lnTo>
                <a:lnTo>
                  <a:pt x="1793" y="843"/>
                </a:lnTo>
                <a:lnTo>
                  <a:pt x="1816" y="826"/>
                </a:lnTo>
                <a:lnTo>
                  <a:pt x="1833" y="826"/>
                </a:lnTo>
                <a:lnTo>
                  <a:pt x="1855" y="838"/>
                </a:lnTo>
                <a:lnTo>
                  <a:pt x="1878" y="853"/>
                </a:lnTo>
                <a:lnTo>
                  <a:pt x="1895" y="853"/>
                </a:lnTo>
                <a:lnTo>
                  <a:pt x="1918" y="843"/>
                </a:lnTo>
                <a:lnTo>
                  <a:pt x="1935" y="826"/>
                </a:lnTo>
                <a:lnTo>
                  <a:pt x="1956" y="826"/>
                </a:lnTo>
                <a:lnTo>
                  <a:pt x="1979" y="838"/>
                </a:lnTo>
                <a:lnTo>
                  <a:pt x="1997" y="853"/>
                </a:lnTo>
                <a:lnTo>
                  <a:pt x="2020" y="853"/>
                </a:lnTo>
                <a:lnTo>
                  <a:pt x="2037" y="838"/>
                </a:lnTo>
                <a:lnTo>
                  <a:pt x="2058" y="816"/>
                </a:lnTo>
                <a:lnTo>
                  <a:pt x="2081" y="799"/>
                </a:lnTo>
              </a:path>
            </a:pathLst>
          </a:custGeom>
          <a:noFill/>
          <a:ln w="284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70760" y="321300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66" name=""/>
          <p:cNvSpPr/>
          <p:nvPr/>
        </p:nvSpPr>
        <p:spPr>
          <a:xfrm>
            <a:off x="7970760" y="179856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367" name=""/>
          <p:cNvGrpSpPr/>
          <p:nvPr/>
        </p:nvGrpSpPr>
        <p:grpSpPr>
          <a:xfrm>
            <a:off x="6075360" y="4863960"/>
            <a:ext cx="2816280" cy="1561320"/>
            <a:chOff x="6075360" y="4863960"/>
            <a:chExt cx="2816280" cy="1561320"/>
          </a:xfrm>
        </p:grpSpPr>
        <p:sp>
          <p:nvSpPr>
            <p:cNvPr id="368" name=""/>
            <p:cNvSpPr/>
            <p:nvPr/>
          </p:nvSpPr>
          <p:spPr>
            <a:xfrm>
              <a:off x="6075360" y="5267160"/>
              <a:ext cx="2813040" cy="665280"/>
            </a:xfrm>
            <a:custGeom>
              <a:avLst/>
              <a:gdLst/>
              <a:ahLst/>
              <a:rect l="l" t="t" r="r" b="b"/>
              <a:pathLst>
                <a:path w="2081" h="474">
                  <a:moveTo>
                    <a:pt x="0" y="180"/>
                  </a:moveTo>
                  <a:lnTo>
                    <a:pt x="17" y="192"/>
                  </a:lnTo>
                  <a:lnTo>
                    <a:pt x="40" y="196"/>
                  </a:lnTo>
                  <a:lnTo>
                    <a:pt x="56" y="201"/>
                  </a:lnTo>
                  <a:lnTo>
                    <a:pt x="79" y="207"/>
                  </a:lnTo>
                  <a:lnTo>
                    <a:pt x="102" y="217"/>
                  </a:lnTo>
                  <a:lnTo>
                    <a:pt x="119" y="228"/>
                  </a:lnTo>
                  <a:lnTo>
                    <a:pt x="142" y="234"/>
                  </a:lnTo>
                  <a:lnTo>
                    <a:pt x="157" y="244"/>
                  </a:lnTo>
                  <a:lnTo>
                    <a:pt x="180" y="255"/>
                  </a:lnTo>
                  <a:lnTo>
                    <a:pt x="203" y="265"/>
                  </a:lnTo>
                  <a:lnTo>
                    <a:pt x="221" y="276"/>
                  </a:lnTo>
                  <a:lnTo>
                    <a:pt x="244" y="292"/>
                  </a:lnTo>
                  <a:lnTo>
                    <a:pt x="265" y="303"/>
                  </a:lnTo>
                  <a:lnTo>
                    <a:pt x="282" y="319"/>
                  </a:lnTo>
                  <a:lnTo>
                    <a:pt x="305" y="324"/>
                  </a:lnTo>
                  <a:lnTo>
                    <a:pt x="322" y="330"/>
                  </a:lnTo>
                  <a:lnTo>
                    <a:pt x="346" y="340"/>
                  </a:lnTo>
                  <a:lnTo>
                    <a:pt x="367" y="345"/>
                  </a:lnTo>
                  <a:lnTo>
                    <a:pt x="384" y="357"/>
                  </a:lnTo>
                  <a:lnTo>
                    <a:pt x="407" y="357"/>
                  </a:lnTo>
                  <a:lnTo>
                    <a:pt x="424" y="357"/>
                  </a:lnTo>
                  <a:lnTo>
                    <a:pt x="447" y="361"/>
                  </a:lnTo>
                  <a:lnTo>
                    <a:pt x="468" y="361"/>
                  </a:lnTo>
                  <a:lnTo>
                    <a:pt x="486" y="361"/>
                  </a:lnTo>
                  <a:lnTo>
                    <a:pt x="509" y="367"/>
                  </a:lnTo>
                  <a:lnTo>
                    <a:pt x="526" y="367"/>
                  </a:lnTo>
                  <a:lnTo>
                    <a:pt x="549" y="372"/>
                  </a:lnTo>
                  <a:lnTo>
                    <a:pt x="572" y="372"/>
                  </a:lnTo>
                  <a:lnTo>
                    <a:pt x="587" y="378"/>
                  </a:lnTo>
                  <a:lnTo>
                    <a:pt x="611" y="378"/>
                  </a:lnTo>
                  <a:lnTo>
                    <a:pt x="628" y="382"/>
                  </a:lnTo>
                  <a:lnTo>
                    <a:pt x="651" y="382"/>
                  </a:lnTo>
                  <a:lnTo>
                    <a:pt x="674" y="382"/>
                  </a:lnTo>
                  <a:lnTo>
                    <a:pt x="689" y="382"/>
                  </a:lnTo>
                  <a:lnTo>
                    <a:pt x="712" y="378"/>
                  </a:lnTo>
                  <a:lnTo>
                    <a:pt x="735" y="378"/>
                  </a:lnTo>
                  <a:lnTo>
                    <a:pt x="753" y="382"/>
                  </a:lnTo>
                  <a:lnTo>
                    <a:pt x="776" y="382"/>
                  </a:lnTo>
                  <a:lnTo>
                    <a:pt x="791" y="382"/>
                  </a:lnTo>
                  <a:lnTo>
                    <a:pt x="814" y="382"/>
                  </a:lnTo>
                  <a:lnTo>
                    <a:pt x="837" y="378"/>
                  </a:lnTo>
                  <a:lnTo>
                    <a:pt x="854" y="372"/>
                  </a:lnTo>
                  <a:lnTo>
                    <a:pt x="877" y="367"/>
                  </a:lnTo>
                  <a:lnTo>
                    <a:pt x="893" y="361"/>
                  </a:lnTo>
                  <a:lnTo>
                    <a:pt x="916" y="367"/>
                  </a:lnTo>
                  <a:lnTo>
                    <a:pt x="939" y="367"/>
                  </a:lnTo>
                  <a:lnTo>
                    <a:pt x="956" y="361"/>
                  </a:lnTo>
                  <a:lnTo>
                    <a:pt x="979" y="351"/>
                  </a:lnTo>
                  <a:lnTo>
                    <a:pt x="995" y="351"/>
                  </a:lnTo>
                  <a:lnTo>
                    <a:pt x="1018" y="351"/>
                  </a:lnTo>
                  <a:lnTo>
                    <a:pt x="1041" y="345"/>
                  </a:lnTo>
                  <a:lnTo>
                    <a:pt x="1058" y="336"/>
                  </a:lnTo>
                  <a:lnTo>
                    <a:pt x="1081" y="336"/>
                  </a:lnTo>
                  <a:lnTo>
                    <a:pt x="1098" y="330"/>
                  </a:lnTo>
                  <a:lnTo>
                    <a:pt x="1119" y="319"/>
                  </a:lnTo>
                  <a:lnTo>
                    <a:pt x="1142" y="313"/>
                  </a:lnTo>
                  <a:lnTo>
                    <a:pt x="1160" y="303"/>
                  </a:lnTo>
                  <a:lnTo>
                    <a:pt x="1183" y="288"/>
                  </a:lnTo>
                  <a:lnTo>
                    <a:pt x="1206" y="270"/>
                  </a:lnTo>
                  <a:lnTo>
                    <a:pt x="1221" y="255"/>
                  </a:lnTo>
                  <a:lnTo>
                    <a:pt x="1244" y="240"/>
                  </a:lnTo>
                  <a:lnTo>
                    <a:pt x="1261" y="217"/>
                  </a:lnTo>
                  <a:lnTo>
                    <a:pt x="1285" y="196"/>
                  </a:lnTo>
                  <a:lnTo>
                    <a:pt x="1308" y="171"/>
                  </a:lnTo>
                  <a:lnTo>
                    <a:pt x="1323" y="144"/>
                  </a:lnTo>
                  <a:lnTo>
                    <a:pt x="1346" y="122"/>
                  </a:lnTo>
                  <a:lnTo>
                    <a:pt x="1363" y="90"/>
                  </a:lnTo>
                  <a:lnTo>
                    <a:pt x="1386" y="63"/>
                  </a:lnTo>
                  <a:lnTo>
                    <a:pt x="1409" y="42"/>
                  </a:lnTo>
                  <a:lnTo>
                    <a:pt x="1425" y="26"/>
                  </a:lnTo>
                  <a:lnTo>
                    <a:pt x="1448" y="9"/>
                  </a:lnTo>
                  <a:lnTo>
                    <a:pt x="1465" y="5"/>
                  </a:lnTo>
                  <a:lnTo>
                    <a:pt x="1488" y="0"/>
                  </a:lnTo>
                  <a:lnTo>
                    <a:pt x="1511" y="0"/>
                  </a:lnTo>
                  <a:lnTo>
                    <a:pt x="1528" y="9"/>
                  </a:lnTo>
                  <a:lnTo>
                    <a:pt x="1550" y="30"/>
                  </a:lnTo>
                  <a:lnTo>
                    <a:pt x="1567" y="57"/>
                  </a:lnTo>
                  <a:lnTo>
                    <a:pt x="1590" y="90"/>
                  </a:lnTo>
                  <a:lnTo>
                    <a:pt x="1613" y="122"/>
                  </a:lnTo>
                  <a:lnTo>
                    <a:pt x="1630" y="165"/>
                  </a:lnTo>
                  <a:lnTo>
                    <a:pt x="1651" y="201"/>
                  </a:lnTo>
                  <a:lnTo>
                    <a:pt x="1669" y="244"/>
                  </a:lnTo>
                  <a:lnTo>
                    <a:pt x="1692" y="282"/>
                  </a:lnTo>
                  <a:lnTo>
                    <a:pt x="1715" y="319"/>
                  </a:lnTo>
                  <a:lnTo>
                    <a:pt x="1732" y="351"/>
                  </a:lnTo>
                  <a:lnTo>
                    <a:pt x="1753" y="382"/>
                  </a:lnTo>
                  <a:lnTo>
                    <a:pt x="1776" y="409"/>
                  </a:lnTo>
                  <a:lnTo>
                    <a:pt x="1793" y="436"/>
                  </a:lnTo>
                  <a:lnTo>
                    <a:pt x="1816" y="453"/>
                  </a:lnTo>
                  <a:lnTo>
                    <a:pt x="1834" y="468"/>
                  </a:lnTo>
                  <a:lnTo>
                    <a:pt x="1855" y="474"/>
                  </a:lnTo>
                  <a:lnTo>
                    <a:pt x="1878" y="474"/>
                  </a:lnTo>
                  <a:lnTo>
                    <a:pt x="1895" y="474"/>
                  </a:lnTo>
                  <a:lnTo>
                    <a:pt x="1918" y="474"/>
                  </a:lnTo>
                  <a:lnTo>
                    <a:pt x="1935" y="474"/>
                  </a:lnTo>
                  <a:lnTo>
                    <a:pt x="1957" y="474"/>
                  </a:lnTo>
                  <a:lnTo>
                    <a:pt x="1980" y="474"/>
                  </a:lnTo>
                  <a:lnTo>
                    <a:pt x="1997" y="474"/>
                  </a:lnTo>
                  <a:lnTo>
                    <a:pt x="2020" y="474"/>
                  </a:lnTo>
                  <a:lnTo>
                    <a:pt x="2037" y="474"/>
                  </a:lnTo>
                  <a:lnTo>
                    <a:pt x="2058" y="468"/>
                  </a:lnTo>
                  <a:lnTo>
                    <a:pt x="2081" y="468"/>
                  </a:lnTo>
                </a:path>
              </a:pathLst>
            </a:custGeom>
            <a:no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075360" y="4863960"/>
              <a:ext cx="2813040" cy="1195200"/>
            </a:xfrm>
            <a:custGeom>
              <a:avLst/>
              <a:gdLst/>
              <a:ahLst/>
              <a:rect l="l" t="t" r="r" b="b"/>
              <a:pathLst>
                <a:path w="2081" h="854">
                  <a:moveTo>
                    <a:pt x="0" y="379"/>
                  </a:moveTo>
                  <a:lnTo>
                    <a:pt x="17" y="385"/>
                  </a:lnTo>
                  <a:lnTo>
                    <a:pt x="40" y="394"/>
                  </a:lnTo>
                  <a:lnTo>
                    <a:pt x="56" y="400"/>
                  </a:lnTo>
                  <a:lnTo>
                    <a:pt x="79" y="421"/>
                  </a:lnTo>
                  <a:lnTo>
                    <a:pt x="102" y="442"/>
                  </a:lnTo>
                  <a:lnTo>
                    <a:pt x="119" y="463"/>
                  </a:lnTo>
                  <a:lnTo>
                    <a:pt x="142" y="490"/>
                  </a:lnTo>
                  <a:lnTo>
                    <a:pt x="157" y="511"/>
                  </a:lnTo>
                  <a:lnTo>
                    <a:pt x="180" y="523"/>
                  </a:lnTo>
                  <a:lnTo>
                    <a:pt x="203" y="533"/>
                  </a:lnTo>
                  <a:lnTo>
                    <a:pt x="221" y="565"/>
                  </a:lnTo>
                  <a:lnTo>
                    <a:pt x="244" y="598"/>
                  </a:lnTo>
                  <a:lnTo>
                    <a:pt x="265" y="619"/>
                  </a:lnTo>
                  <a:lnTo>
                    <a:pt x="282" y="623"/>
                  </a:lnTo>
                  <a:lnTo>
                    <a:pt x="305" y="623"/>
                  </a:lnTo>
                  <a:lnTo>
                    <a:pt x="322" y="623"/>
                  </a:lnTo>
                  <a:lnTo>
                    <a:pt x="346" y="629"/>
                  </a:lnTo>
                  <a:lnTo>
                    <a:pt x="367" y="661"/>
                  </a:lnTo>
                  <a:lnTo>
                    <a:pt x="384" y="721"/>
                  </a:lnTo>
                  <a:lnTo>
                    <a:pt x="407" y="742"/>
                  </a:lnTo>
                  <a:lnTo>
                    <a:pt x="424" y="715"/>
                  </a:lnTo>
                  <a:lnTo>
                    <a:pt x="447" y="667"/>
                  </a:lnTo>
                  <a:lnTo>
                    <a:pt x="468" y="661"/>
                  </a:lnTo>
                  <a:lnTo>
                    <a:pt x="486" y="688"/>
                  </a:lnTo>
                  <a:lnTo>
                    <a:pt x="509" y="715"/>
                  </a:lnTo>
                  <a:lnTo>
                    <a:pt x="526" y="698"/>
                  </a:lnTo>
                  <a:lnTo>
                    <a:pt x="549" y="671"/>
                  </a:lnTo>
                  <a:lnTo>
                    <a:pt x="572" y="661"/>
                  </a:lnTo>
                  <a:lnTo>
                    <a:pt x="587" y="661"/>
                  </a:lnTo>
                  <a:lnTo>
                    <a:pt x="611" y="661"/>
                  </a:lnTo>
                  <a:lnTo>
                    <a:pt x="628" y="661"/>
                  </a:lnTo>
                  <a:lnTo>
                    <a:pt x="651" y="671"/>
                  </a:lnTo>
                  <a:lnTo>
                    <a:pt x="674" y="725"/>
                  </a:lnTo>
                  <a:lnTo>
                    <a:pt x="689" y="779"/>
                  </a:lnTo>
                  <a:lnTo>
                    <a:pt x="712" y="800"/>
                  </a:lnTo>
                  <a:lnTo>
                    <a:pt x="735" y="757"/>
                  </a:lnTo>
                  <a:lnTo>
                    <a:pt x="753" y="725"/>
                  </a:lnTo>
                  <a:lnTo>
                    <a:pt x="776" y="731"/>
                  </a:lnTo>
                  <a:lnTo>
                    <a:pt x="791" y="746"/>
                  </a:lnTo>
                  <a:lnTo>
                    <a:pt x="814" y="715"/>
                  </a:lnTo>
                  <a:lnTo>
                    <a:pt x="837" y="661"/>
                  </a:lnTo>
                  <a:lnTo>
                    <a:pt x="854" y="640"/>
                  </a:lnTo>
                  <a:lnTo>
                    <a:pt x="877" y="656"/>
                  </a:lnTo>
                  <a:lnTo>
                    <a:pt x="893" y="688"/>
                  </a:lnTo>
                  <a:lnTo>
                    <a:pt x="916" y="688"/>
                  </a:lnTo>
                  <a:lnTo>
                    <a:pt x="939" y="656"/>
                  </a:lnTo>
                  <a:lnTo>
                    <a:pt x="956" y="629"/>
                  </a:lnTo>
                  <a:lnTo>
                    <a:pt x="979" y="634"/>
                  </a:lnTo>
                  <a:lnTo>
                    <a:pt x="995" y="667"/>
                  </a:lnTo>
                  <a:lnTo>
                    <a:pt x="1018" y="698"/>
                  </a:lnTo>
                  <a:lnTo>
                    <a:pt x="1041" y="721"/>
                  </a:lnTo>
                  <a:lnTo>
                    <a:pt x="1058" y="725"/>
                  </a:lnTo>
                  <a:lnTo>
                    <a:pt x="1081" y="698"/>
                  </a:lnTo>
                  <a:lnTo>
                    <a:pt x="1098" y="656"/>
                  </a:lnTo>
                  <a:lnTo>
                    <a:pt x="1119" y="613"/>
                  </a:lnTo>
                  <a:lnTo>
                    <a:pt x="1142" y="581"/>
                  </a:lnTo>
                  <a:lnTo>
                    <a:pt x="1160" y="565"/>
                  </a:lnTo>
                  <a:lnTo>
                    <a:pt x="1183" y="559"/>
                  </a:lnTo>
                  <a:lnTo>
                    <a:pt x="1206" y="577"/>
                  </a:lnTo>
                  <a:lnTo>
                    <a:pt x="1221" y="577"/>
                  </a:lnTo>
                  <a:lnTo>
                    <a:pt x="1244" y="538"/>
                  </a:lnTo>
                  <a:lnTo>
                    <a:pt x="1261" y="496"/>
                  </a:lnTo>
                  <a:lnTo>
                    <a:pt x="1285" y="458"/>
                  </a:lnTo>
                  <a:lnTo>
                    <a:pt x="1308" y="431"/>
                  </a:lnTo>
                  <a:lnTo>
                    <a:pt x="1323" y="411"/>
                  </a:lnTo>
                  <a:lnTo>
                    <a:pt x="1346" y="385"/>
                  </a:lnTo>
                  <a:lnTo>
                    <a:pt x="1363" y="358"/>
                  </a:lnTo>
                  <a:lnTo>
                    <a:pt x="1386" y="298"/>
                  </a:lnTo>
                  <a:lnTo>
                    <a:pt x="1409" y="223"/>
                  </a:lnTo>
                  <a:lnTo>
                    <a:pt x="1425" y="139"/>
                  </a:lnTo>
                  <a:lnTo>
                    <a:pt x="1448" y="64"/>
                  </a:lnTo>
                  <a:lnTo>
                    <a:pt x="1465" y="21"/>
                  </a:lnTo>
                  <a:lnTo>
                    <a:pt x="1488" y="4"/>
                  </a:lnTo>
                  <a:lnTo>
                    <a:pt x="1511" y="0"/>
                  </a:lnTo>
                  <a:lnTo>
                    <a:pt x="1528" y="16"/>
                  </a:lnTo>
                  <a:lnTo>
                    <a:pt x="1550" y="48"/>
                  </a:lnTo>
                  <a:lnTo>
                    <a:pt x="1567" y="112"/>
                  </a:lnTo>
                  <a:lnTo>
                    <a:pt x="1590" y="175"/>
                  </a:lnTo>
                  <a:lnTo>
                    <a:pt x="1613" y="244"/>
                  </a:lnTo>
                  <a:lnTo>
                    <a:pt x="1630" y="319"/>
                  </a:lnTo>
                  <a:lnTo>
                    <a:pt x="1651" y="431"/>
                  </a:lnTo>
                  <a:lnTo>
                    <a:pt x="1669" y="577"/>
                  </a:lnTo>
                  <a:lnTo>
                    <a:pt x="1692" y="721"/>
                  </a:lnTo>
                  <a:lnTo>
                    <a:pt x="1715" y="794"/>
                  </a:lnTo>
                  <a:lnTo>
                    <a:pt x="1732" y="821"/>
                  </a:lnTo>
                  <a:lnTo>
                    <a:pt x="1753" y="827"/>
                  </a:lnTo>
                  <a:lnTo>
                    <a:pt x="1776" y="842"/>
                  </a:lnTo>
                  <a:lnTo>
                    <a:pt x="1793" y="842"/>
                  </a:lnTo>
                  <a:lnTo>
                    <a:pt x="1816" y="827"/>
                  </a:lnTo>
                  <a:lnTo>
                    <a:pt x="1834" y="827"/>
                  </a:lnTo>
                  <a:lnTo>
                    <a:pt x="1855" y="838"/>
                  </a:lnTo>
                  <a:lnTo>
                    <a:pt x="1878" y="854"/>
                  </a:lnTo>
                  <a:lnTo>
                    <a:pt x="1895" y="854"/>
                  </a:lnTo>
                  <a:lnTo>
                    <a:pt x="1918" y="842"/>
                  </a:lnTo>
                  <a:lnTo>
                    <a:pt x="1935" y="827"/>
                  </a:lnTo>
                  <a:lnTo>
                    <a:pt x="1957" y="827"/>
                  </a:lnTo>
                  <a:lnTo>
                    <a:pt x="1980" y="838"/>
                  </a:lnTo>
                  <a:lnTo>
                    <a:pt x="1997" y="854"/>
                  </a:lnTo>
                  <a:lnTo>
                    <a:pt x="2020" y="854"/>
                  </a:lnTo>
                  <a:lnTo>
                    <a:pt x="2037" y="838"/>
                  </a:lnTo>
                  <a:lnTo>
                    <a:pt x="2058" y="815"/>
                  </a:lnTo>
                  <a:lnTo>
                    <a:pt x="2081" y="800"/>
                  </a:lnTo>
                </a:path>
              </a:pathLst>
            </a:custGeom>
            <a:noFill/>
            <a:ln w="255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075360" y="5392440"/>
              <a:ext cx="3240" cy="12708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099120" y="5403600"/>
              <a:ext cx="3240" cy="1303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129360" y="5416200"/>
              <a:ext cx="3240" cy="1256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154560" y="5422680"/>
              <a:ext cx="1800" cy="128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184800" y="5452920"/>
              <a:ext cx="1800" cy="10620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211800" y="5483160"/>
              <a:ext cx="3240" cy="87120"/>
            </a:xfrm>
            <a:prstGeom prst="line">
              <a:avLst/>
            </a:prstGeom>
            <a:ln w="1440">
              <a:solidFill>
                <a:srgbClr val="808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6" name=""/>
            <p:cNvSpPr/>
            <p:nvPr/>
          </p:nvSpPr>
          <p:spPr>
            <a:xfrm>
              <a:off x="6237360" y="5511600"/>
              <a:ext cx="1440" cy="76320"/>
            </a:xfrm>
            <a:prstGeom prst="line">
              <a:avLst/>
            </a:prstGeom>
            <a:ln w="1440">
              <a:solidFill>
                <a:srgbClr val="8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7" name=""/>
            <p:cNvSpPr/>
            <p:nvPr/>
          </p:nvSpPr>
          <p:spPr>
            <a:xfrm>
              <a:off x="6267600" y="5551200"/>
              <a:ext cx="1440" cy="44640"/>
            </a:xfrm>
            <a:prstGeom prst="line">
              <a:avLst/>
            </a:prstGeom>
            <a:ln w="1440">
              <a:solidFill>
                <a:srgbClr val="80808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8" name=""/>
            <p:cNvSpPr/>
            <p:nvPr/>
          </p:nvSpPr>
          <p:spPr>
            <a:xfrm>
              <a:off x="6288120" y="5578200"/>
              <a:ext cx="3240" cy="31680"/>
            </a:xfrm>
            <a:prstGeom prst="line">
              <a:avLst/>
            </a:prstGeom>
            <a:ln w="144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9" name=""/>
            <p:cNvSpPr/>
            <p:nvPr/>
          </p:nvSpPr>
          <p:spPr>
            <a:xfrm>
              <a:off x="6321600" y="5595840"/>
              <a:ext cx="2880" cy="29880"/>
            </a:xfrm>
            <a:prstGeom prst="line">
              <a:avLst/>
            </a:prstGeom>
            <a:ln w="14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0" name=""/>
            <p:cNvSpPr/>
            <p:nvPr/>
          </p:nvSpPr>
          <p:spPr>
            <a:xfrm>
              <a:off x="6351480" y="5609880"/>
              <a:ext cx="1800" cy="27000"/>
            </a:xfrm>
            <a:prstGeom prst="line">
              <a:avLst/>
            </a:prstGeom>
            <a:ln w="14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6375240" y="5655960"/>
              <a:ext cx="3240" cy="1800"/>
            </a:xfrm>
            <a:prstGeom prst="line">
              <a:avLst/>
            </a:prstGeom>
            <a:ln w="14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flipV="1">
              <a:off x="6405480" y="5676840"/>
              <a:ext cx="3240" cy="18720"/>
            </a:xfrm>
            <a:prstGeom prst="line">
              <a:avLst/>
            </a:prstGeom>
            <a:ln w="1440">
              <a:solidFill>
                <a:srgbClr val="80808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3" name=""/>
            <p:cNvSpPr/>
            <p:nvPr/>
          </p:nvSpPr>
          <p:spPr>
            <a:xfrm flipV="1">
              <a:off x="6435720" y="5694120"/>
              <a:ext cx="3240" cy="36720"/>
            </a:xfrm>
            <a:prstGeom prst="line">
              <a:avLst/>
            </a:prstGeom>
            <a:ln w="1440">
              <a:solidFill>
                <a:srgbClr val="808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4" name=""/>
            <p:cNvSpPr/>
            <p:nvPr/>
          </p:nvSpPr>
          <p:spPr>
            <a:xfrm flipV="1">
              <a:off x="6459480" y="5714640"/>
              <a:ext cx="1800" cy="20880"/>
            </a:xfrm>
            <a:prstGeom prst="line">
              <a:avLst/>
            </a:prstGeom>
            <a:ln w="1440">
              <a:solidFill>
                <a:srgbClr val="80808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5" name=""/>
            <p:cNvSpPr/>
            <p:nvPr/>
          </p:nvSpPr>
          <p:spPr>
            <a:xfrm flipV="1">
              <a:off x="6488280" y="5722560"/>
              <a:ext cx="2880" cy="12960"/>
            </a:xfrm>
            <a:prstGeom prst="line">
              <a:avLst/>
            </a:prstGeom>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6" name=""/>
            <p:cNvSpPr/>
            <p:nvPr/>
          </p:nvSpPr>
          <p:spPr>
            <a:xfrm flipV="1">
              <a:off x="6513480" y="5730480"/>
              <a:ext cx="1800" cy="4680"/>
            </a:xfrm>
            <a:prstGeom prst="line">
              <a:avLst/>
            </a:prstGeom>
            <a:ln w="144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a:off x="6541920" y="5743440"/>
              <a:ext cx="3240" cy="3240"/>
            </a:xfrm>
            <a:prstGeom prst="line">
              <a:avLst/>
            </a:prstGeom>
            <a:ln w="14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8" name=""/>
            <p:cNvSpPr/>
            <p:nvPr/>
          </p:nvSpPr>
          <p:spPr>
            <a:xfrm flipV="1">
              <a:off x="6572160" y="5752800"/>
              <a:ext cx="3240" cy="36720"/>
            </a:xfrm>
            <a:prstGeom prst="line">
              <a:avLst/>
            </a:prstGeom>
            <a:ln w="1440">
              <a:solidFill>
                <a:srgbClr val="808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9" name=""/>
            <p:cNvSpPr/>
            <p:nvPr/>
          </p:nvSpPr>
          <p:spPr>
            <a:xfrm flipV="1">
              <a:off x="6594480" y="5766840"/>
              <a:ext cx="3240" cy="10620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6626160" y="5766840"/>
              <a:ext cx="3240" cy="13500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V="1">
              <a:off x="6651720" y="5766840"/>
              <a:ext cx="3240" cy="9828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678720" y="5771520"/>
              <a:ext cx="3240" cy="25560"/>
            </a:xfrm>
            <a:prstGeom prst="line">
              <a:avLst/>
            </a:prstGeom>
            <a:ln w="144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3" name=""/>
            <p:cNvSpPr/>
            <p:nvPr/>
          </p:nvSpPr>
          <p:spPr>
            <a:xfrm flipV="1">
              <a:off x="6713640" y="5771520"/>
              <a:ext cx="3240" cy="17640"/>
            </a:xfrm>
            <a:prstGeom prst="line">
              <a:avLst/>
            </a:prstGeom>
            <a:ln w="144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4" name=""/>
            <p:cNvSpPr/>
            <p:nvPr/>
          </p:nvSpPr>
          <p:spPr>
            <a:xfrm flipV="1">
              <a:off x="6730920" y="5771520"/>
              <a:ext cx="3240" cy="57240"/>
            </a:xfrm>
            <a:prstGeom prst="line">
              <a:avLst/>
            </a:prstGeom>
            <a:ln w="1440">
              <a:solidFill>
                <a:srgbClr val="808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5" name=""/>
            <p:cNvSpPr/>
            <p:nvPr/>
          </p:nvSpPr>
          <p:spPr>
            <a:xfrm flipV="1">
              <a:off x="6764400" y="5781240"/>
              <a:ext cx="3240" cy="8388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6" name=""/>
            <p:cNvSpPr/>
            <p:nvPr/>
          </p:nvSpPr>
          <p:spPr>
            <a:xfrm flipV="1">
              <a:off x="6788160" y="5781240"/>
              <a:ext cx="3240" cy="5868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7" name=""/>
            <p:cNvSpPr/>
            <p:nvPr/>
          </p:nvSpPr>
          <p:spPr>
            <a:xfrm flipV="1">
              <a:off x="6818400" y="5789160"/>
              <a:ext cx="3240" cy="14040"/>
            </a:xfrm>
            <a:prstGeom prst="line">
              <a:avLst/>
            </a:prstGeom>
            <a:ln w="1440">
              <a:solidFill>
                <a:srgbClr val="80808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8" name=""/>
            <p:cNvSpPr/>
            <p:nvPr/>
          </p:nvSpPr>
          <p:spPr>
            <a:xfrm>
              <a:off x="6848640" y="5789520"/>
              <a:ext cx="2880" cy="1440"/>
            </a:xfrm>
            <a:prstGeom prst="line">
              <a:avLst/>
            </a:prstGeom>
            <a:ln w="14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6870600" y="5789520"/>
              <a:ext cx="1800" cy="7920"/>
            </a:xfrm>
            <a:prstGeom prst="line">
              <a:avLst/>
            </a:prstGeom>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 name=""/>
            <p:cNvSpPr/>
            <p:nvPr/>
          </p:nvSpPr>
          <p:spPr>
            <a:xfrm>
              <a:off x="6902280" y="5789520"/>
              <a:ext cx="3240" cy="7920"/>
            </a:xfrm>
            <a:prstGeom prst="line">
              <a:avLst/>
            </a:prstGeom>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6924600" y="5789520"/>
              <a:ext cx="3240" cy="14040"/>
            </a:xfrm>
            <a:prstGeom prst="line">
              <a:avLst/>
            </a:prstGeom>
            <a:ln w="1440">
              <a:solidFill>
                <a:srgbClr val="80808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2" name=""/>
            <p:cNvSpPr/>
            <p:nvPr/>
          </p:nvSpPr>
          <p:spPr>
            <a:xfrm>
              <a:off x="6956280" y="5803560"/>
              <a:ext cx="3240" cy="3240"/>
            </a:xfrm>
            <a:prstGeom prst="line">
              <a:avLst/>
            </a:prstGeom>
            <a:ln w="14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3" name=""/>
            <p:cNvSpPr/>
            <p:nvPr/>
          </p:nvSpPr>
          <p:spPr>
            <a:xfrm flipV="1">
              <a:off x="6983280" y="5803560"/>
              <a:ext cx="1800" cy="74880"/>
            </a:xfrm>
            <a:prstGeom prst="line">
              <a:avLst/>
            </a:prstGeom>
            <a:ln w="1440">
              <a:solidFill>
                <a:srgbClr val="80808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4" name=""/>
            <p:cNvSpPr/>
            <p:nvPr/>
          </p:nvSpPr>
          <p:spPr>
            <a:xfrm flipV="1">
              <a:off x="7007400" y="5803560"/>
              <a:ext cx="2880" cy="1526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7040520" y="5797440"/>
              <a:ext cx="1800" cy="1857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7068960" y="5797440"/>
              <a:ext cx="3240" cy="1267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a:off x="7094520" y="5803560"/>
              <a:ext cx="3240" cy="74880"/>
            </a:xfrm>
            <a:prstGeom prst="line">
              <a:avLst/>
            </a:prstGeom>
            <a:ln w="1440">
              <a:solidFill>
                <a:srgbClr val="80808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8" name=""/>
            <p:cNvSpPr/>
            <p:nvPr/>
          </p:nvSpPr>
          <p:spPr>
            <a:xfrm flipV="1">
              <a:off x="7121520" y="5803560"/>
              <a:ext cx="3240" cy="84240"/>
            </a:xfrm>
            <a:prstGeom prst="line">
              <a:avLst/>
            </a:prstGeom>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 name=""/>
            <p:cNvSpPr/>
            <p:nvPr/>
          </p:nvSpPr>
          <p:spPr>
            <a:xfrm flipV="1">
              <a:off x="7145280" y="5803200"/>
              <a:ext cx="3240" cy="1047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7178760" y="5803560"/>
              <a:ext cx="3240" cy="61920"/>
            </a:xfrm>
            <a:prstGeom prst="line">
              <a:avLst/>
            </a:prstGeom>
            <a:ln w="144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1" name=""/>
            <p:cNvSpPr/>
            <p:nvPr/>
          </p:nvSpPr>
          <p:spPr>
            <a:xfrm>
              <a:off x="7209000" y="5789520"/>
              <a:ext cx="1440" cy="7920"/>
            </a:xfrm>
            <a:prstGeom prst="line">
              <a:avLst/>
            </a:prstGeom>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 name=""/>
            <p:cNvSpPr/>
            <p:nvPr/>
          </p:nvSpPr>
          <p:spPr>
            <a:xfrm>
              <a:off x="7230960" y="5762520"/>
              <a:ext cx="3240" cy="27000"/>
            </a:xfrm>
            <a:prstGeom prst="line">
              <a:avLst/>
            </a:prstGeom>
            <a:ln w="14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a:off x="7261200" y="5781600"/>
              <a:ext cx="3240" cy="1440"/>
            </a:xfrm>
            <a:prstGeom prst="line">
              <a:avLst/>
            </a:prstGeom>
            <a:ln w="14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flipV="1">
              <a:off x="7283520" y="5771520"/>
              <a:ext cx="1440" cy="57240"/>
            </a:xfrm>
            <a:prstGeom prst="line">
              <a:avLst/>
            </a:prstGeom>
            <a:ln w="1440">
              <a:solidFill>
                <a:srgbClr val="808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5" name=""/>
            <p:cNvSpPr/>
            <p:nvPr/>
          </p:nvSpPr>
          <p:spPr>
            <a:xfrm flipV="1">
              <a:off x="7313760" y="5781600"/>
              <a:ext cx="1440" cy="47520"/>
            </a:xfrm>
            <a:prstGeom prst="line">
              <a:avLst/>
            </a:prstGeom>
            <a:ln w="144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6" name=""/>
            <p:cNvSpPr/>
            <p:nvPr/>
          </p:nvSpPr>
          <p:spPr>
            <a:xfrm>
              <a:off x="7345440" y="5781600"/>
              <a:ext cx="3240" cy="1440"/>
            </a:xfrm>
            <a:prstGeom prst="line">
              <a:avLst/>
            </a:prstGeom>
            <a:ln w="14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7370640" y="5743440"/>
              <a:ext cx="1800" cy="28440"/>
            </a:xfrm>
            <a:prstGeom prst="line">
              <a:avLst/>
            </a:prstGeom>
            <a:ln w="144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8" name=""/>
            <p:cNvSpPr/>
            <p:nvPr/>
          </p:nvSpPr>
          <p:spPr>
            <a:xfrm>
              <a:off x="7399440" y="5752800"/>
              <a:ext cx="32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 name=""/>
            <p:cNvSpPr/>
            <p:nvPr/>
          </p:nvSpPr>
          <p:spPr>
            <a:xfrm flipV="1">
              <a:off x="7421400" y="5762160"/>
              <a:ext cx="324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0" name=""/>
            <p:cNvSpPr/>
            <p:nvPr/>
          </p:nvSpPr>
          <p:spPr>
            <a:xfrm flipV="1">
              <a:off x="7451640" y="5762520"/>
              <a:ext cx="3240" cy="77760"/>
            </a:xfrm>
            <a:prstGeom prst="line">
              <a:avLst/>
            </a:prstGeom>
            <a:ln w="1440">
              <a:solidFill>
                <a:srgbClr val="808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1" name=""/>
            <p:cNvSpPr/>
            <p:nvPr/>
          </p:nvSpPr>
          <p:spPr>
            <a:xfrm flipV="1">
              <a:off x="7485120" y="5752440"/>
              <a:ext cx="1440" cy="12060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7504200" y="5735160"/>
              <a:ext cx="3240" cy="1429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7534440" y="5735160"/>
              <a:ext cx="2880" cy="1047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V="1">
              <a:off x="7561440" y="5730480"/>
              <a:ext cx="2880" cy="50760"/>
            </a:xfrm>
            <a:prstGeom prst="line">
              <a:avLst/>
            </a:prstGeom>
            <a:ln w="144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5" name=""/>
            <p:cNvSpPr/>
            <p:nvPr/>
          </p:nvSpPr>
          <p:spPr>
            <a:xfrm flipV="1">
              <a:off x="7588080" y="5714640"/>
              <a:ext cx="3240" cy="7920"/>
            </a:xfrm>
            <a:prstGeom prst="line">
              <a:avLst/>
            </a:prstGeom>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 name=""/>
            <p:cNvSpPr/>
            <p:nvPr/>
          </p:nvSpPr>
          <p:spPr>
            <a:xfrm>
              <a:off x="7621560" y="5676840"/>
              <a:ext cx="3240" cy="28440"/>
            </a:xfrm>
            <a:prstGeom prst="line">
              <a:avLst/>
            </a:prstGeom>
            <a:ln w="144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7" name=""/>
            <p:cNvSpPr/>
            <p:nvPr/>
          </p:nvSpPr>
          <p:spPr>
            <a:xfrm>
              <a:off x="7643880" y="5655960"/>
              <a:ext cx="1440" cy="38160"/>
            </a:xfrm>
            <a:prstGeom prst="line">
              <a:avLst/>
            </a:prstGeom>
            <a:ln w="14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8" name=""/>
            <p:cNvSpPr/>
            <p:nvPr/>
          </p:nvSpPr>
          <p:spPr>
            <a:xfrm>
              <a:off x="7675560" y="5644800"/>
              <a:ext cx="3240" cy="27000"/>
            </a:xfrm>
            <a:prstGeom prst="line">
              <a:avLst/>
            </a:prstGeom>
            <a:ln w="14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9" name=""/>
            <p:cNvSpPr/>
            <p:nvPr/>
          </p:nvSpPr>
          <p:spPr>
            <a:xfrm flipV="1">
              <a:off x="7702560" y="5644440"/>
              <a:ext cx="3240" cy="27000"/>
            </a:xfrm>
            <a:prstGeom prst="line">
              <a:avLst/>
            </a:prstGeom>
            <a:ln w="14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flipV="1">
              <a:off x="7728120" y="5625720"/>
              <a:ext cx="1440" cy="46080"/>
            </a:xfrm>
            <a:prstGeom prst="line">
              <a:avLst/>
            </a:prstGeom>
            <a:ln w="144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flipV="1">
              <a:off x="7758000" y="5604840"/>
              <a:ext cx="3240" cy="12600"/>
            </a:xfrm>
            <a:prstGeom prst="line">
              <a:avLst/>
            </a:prstGeom>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2" name=""/>
            <p:cNvSpPr/>
            <p:nvPr/>
          </p:nvSpPr>
          <p:spPr>
            <a:xfrm>
              <a:off x="7780320" y="5559120"/>
              <a:ext cx="3240" cy="11160"/>
            </a:xfrm>
            <a:prstGeom prst="line">
              <a:avLst/>
            </a:prstGeom>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3" name=""/>
            <p:cNvSpPr/>
            <p:nvPr/>
          </p:nvSpPr>
          <p:spPr>
            <a:xfrm>
              <a:off x="7812000" y="5503680"/>
              <a:ext cx="3240" cy="38160"/>
            </a:xfrm>
            <a:prstGeom prst="line">
              <a:avLst/>
            </a:prstGeom>
            <a:ln w="14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4" name=""/>
            <p:cNvSpPr/>
            <p:nvPr/>
          </p:nvSpPr>
          <p:spPr>
            <a:xfrm>
              <a:off x="7840800" y="5470200"/>
              <a:ext cx="1440" cy="33480"/>
            </a:xfrm>
            <a:prstGeom prst="line">
              <a:avLst/>
            </a:prstGeom>
            <a:ln w="144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5" name=""/>
            <p:cNvSpPr/>
            <p:nvPr/>
          </p:nvSpPr>
          <p:spPr>
            <a:xfrm>
              <a:off x="7864560" y="5435280"/>
              <a:ext cx="324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6" name=""/>
            <p:cNvSpPr/>
            <p:nvPr/>
          </p:nvSpPr>
          <p:spPr>
            <a:xfrm>
              <a:off x="7894800" y="5403600"/>
              <a:ext cx="2880" cy="31680"/>
            </a:xfrm>
            <a:prstGeom prst="line">
              <a:avLst/>
            </a:prstGeom>
            <a:ln w="144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7" name=""/>
            <p:cNvSpPr/>
            <p:nvPr/>
          </p:nvSpPr>
          <p:spPr>
            <a:xfrm>
              <a:off x="7918560" y="5360760"/>
              <a:ext cx="3240" cy="31680"/>
            </a:xfrm>
            <a:prstGeom prst="line">
              <a:avLst/>
            </a:prstGeom>
            <a:ln w="144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8" name=""/>
            <p:cNvSpPr/>
            <p:nvPr/>
          </p:nvSpPr>
          <p:spPr>
            <a:xfrm>
              <a:off x="7951680" y="5281560"/>
              <a:ext cx="3240" cy="72720"/>
            </a:xfrm>
            <a:prstGeom prst="line">
              <a:avLst/>
            </a:prstGeom>
            <a:ln w="1440">
              <a:solidFill>
                <a:srgbClr val="80808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9" name=""/>
            <p:cNvSpPr/>
            <p:nvPr/>
          </p:nvSpPr>
          <p:spPr>
            <a:xfrm>
              <a:off x="7978680" y="5175000"/>
              <a:ext cx="3240" cy="150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001000" y="5057640"/>
              <a:ext cx="3240" cy="244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8031240" y="4951080"/>
              <a:ext cx="3240" cy="33048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8056440" y="4890960"/>
              <a:ext cx="1800" cy="3855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088480" y="4871880"/>
              <a:ext cx="2880" cy="39528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8118360" y="4863960"/>
              <a:ext cx="3240" cy="40320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140680" y="4883040"/>
              <a:ext cx="1440" cy="398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170920" y="4930560"/>
              <a:ext cx="1440" cy="379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8194680" y="5018040"/>
              <a:ext cx="3240" cy="3301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8224920" y="5108400"/>
              <a:ext cx="3240" cy="2840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256600" y="5206680"/>
              <a:ext cx="1440" cy="22860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277120" y="5310000"/>
              <a:ext cx="3240" cy="1839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307360" y="5470200"/>
              <a:ext cx="3240" cy="81000"/>
            </a:xfrm>
            <a:prstGeom prst="line">
              <a:avLst/>
            </a:prstGeom>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2" name=""/>
            <p:cNvSpPr/>
            <p:nvPr/>
          </p:nvSpPr>
          <p:spPr>
            <a:xfrm flipV="1">
              <a:off x="8331120" y="5609880"/>
              <a:ext cx="3240" cy="61920"/>
            </a:xfrm>
            <a:prstGeom prst="line">
              <a:avLst/>
            </a:prstGeom>
            <a:ln w="144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3" name=""/>
            <p:cNvSpPr/>
            <p:nvPr/>
          </p:nvSpPr>
          <p:spPr>
            <a:xfrm flipV="1">
              <a:off x="8361360" y="5663880"/>
              <a:ext cx="3240" cy="209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8391600" y="5714640"/>
              <a:ext cx="3240" cy="2606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8416800" y="5762160"/>
              <a:ext cx="1800" cy="2523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V="1">
              <a:off x="8445600" y="5803200"/>
              <a:ext cx="3240" cy="2192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V="1">
              <a:off x="8478720" y="5840280"/>
              <a:ext cx="3240" cy="20160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V="1">
              <a:off x="8501040" y="5878440"/>
              <a:ext cx="1440" cy="163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V="1">
              <a:off x="8528040" y="5901840"/>
              <a:ext cx="3240" cy="12060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8553600" y="5924160"/>
              <a:ext cx="2880" cy="986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8583480" y="5932440"/>
              <a:ext cx="1800" cy="1029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V="1">
              <a:off x="8613720" y="5932440"/>
              <a:ext cx="1800" cy="1267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8637480" y="5932440"/>
              <a:ext cx="3240" cy="1267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V="1">
              <a:off x="8670960" y="5932440"/>
              <a:ext cx="1440" cy="109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8690040" y="5932080"/>
              <a:ext cx="1440" cy="90360"/>
            </a:xfrm>
            <a:prstGeom prst="line">
              <a:avLst/>
            </a:prstGeom>
            <a:ln w="14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6" name=""/>
            <p:cNvSpPr/>
            <p:nvPr/>
          </p:nvSpPr>
          <p:spPr>
            <a:xfrm flipV="1">
              <a:off x="8721720" y="5932080"/>
              <a:ext cx="3240" cy="90360"/>
            </a:xfrm>
            <a:prstGeom prst="line">
              <a:avLst/>
            </a:prstGeom>
            <a:ln w="14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7" name=""/>
            <p:cNvSpPr/>
            <p:nvPr/>
          </p:nvSpPr>
          <p:spPr>
            <a:xfrm flipV="1">
              <a:off x="8751960" y="5932440"/>
              <a:ext cx="3240" cy="1029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V="1">
              <a:off x="8774280" y="5932440"/>
              <a:ext cx="2880" cy="1267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V="1">
              <a:off x="8804160" y="5932440"/>
              <a:ext cx="3240" cy="1267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8826480" y="5932440"/>
              <a:ext cx="3240" cy="1029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8858160" y="5923800"/>
              <a:ext cx="3240" cy="81000"/>
            </a:xfrm>
            <a:prstGeom prst="line">
              <a:avLst/>
            </a:prstGeom>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2" name=""/>
            <p:cNvSpPr/>
            <p:nvPr/>
          </p:nvSpPr>
          <p:spPr>
            <a:xfrm flipV="1">
              <a:off x="8888400" y="5924160"/>
              <a:ext cx="3240" cy="59040"/>
            </a:xfrm>
            <a:prstGeom prst="line">
              <a:avLst/>
            </a:prstGeom>
            <a:ln w="144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3" name=""/>
            <p:cNvSpPr/>
            <p:nvPr/>
          </p:nvSpPr>
          <p:spPr>
            <a:xfrm>
              <a:off x="7212240" y="6059160"/>
              <a:ext cx="92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a:t>
              </a:r>
              <a:r>
                <a:rPr b="0" i="1" lang="en-US" sz="2400" spc="-1" strike="noStrike">
                  <a:solidFill>
                    <a:srgbClr val="000000"/>
                  </a:solidFill>
                  <a:latin typeface="Times New Roman"/>
                </a:rPr>
                <a:t>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pic>
        <p:nvPicPr>
          <p:cNvPr id="474" name="" descr=""/>
          <p:cNvPicPr/>
          <p:nvPr/>
        </p:nvPicPr>
        <p:blipFill>
          <a:blip r:embed="rId1"/>
          <a:stretch/>
        </p:blipFill>
        <p:spPr>
          <a:xfrm>
            <a:off x="4070520" y="2843280"/>
            <a:ext cx="1562040" cy="1285920"/>
          </a:xfrm>
          <a:prstGeom prst="rect">
            <a:avLst/>
          </a:prstGeom>
          <a:ln w="0">
            <a:noFill/>
          </a:ln>
        </p:spPr>
      </p:pic>
      <p:sp>
        <p:nvSpPr>
          <p:cNvPr id="475" name=""/>
          <p:cNvSpPr/>
          <p:nvPr/>
        </p:nvSpPr>
        <p:spPr>
          <a:xfrm>
            <a:off x="4022640" y="2533680"/>
            <a:ext cx="1743120" cy="17049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372440" y="5589720"/>
            <a:ext cx="388800" cy="380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flipV="1">
            <a:off x="5079960" y="4240080"/>
            <a:ext cx="2301840" cy="146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flipV="1">
            <a:off x="5786280" y="3500280"/>
            <a:ext cx="1710000" cy="20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79" name=""/>
              <p:cNvSpPr txBox="1"/>
              <p:nvPr/>
            </p:nvSpPr>
            <p:spPr>
              <a:xfrm>
                <a:off x="423720" y="5559480"/>
                <a:ext cx="3684600" cy="1047600"/>
              </a:xfrm>
              <a:prstGeom prst="rect">
                <a:avLst/>
              </a:prstGeom>
            </p:spPr>
            <p:txBody>
              <a:bodyPr/>
              <a:p>
                <a14:m>
                  <m:oMath xmlns:m="http://schemas.openxmlformats.org/officeDocument/2006/math">
                    <m:r>
                      <m:t xml:space="preserve">D</m:t>
                    </m:r>
                    <m:d>
                      <m:dPr>
                        <m:begChr m:val="("/>
                        <m:endChr m:val=")"/>
                      </m:dPr>
                      <m:e>
                        <m:r>
                          <m:t xml:space="preserve">Q</m:t>
                        </m:r>
                        <m:r>
                          <m:t xml:space="preserve">,</m:t>
                        </m:r>
                        <m:r>
                          <m:t xml:space="preserve">C</m:t>
                        </m:r>
                      </m:e>
                    </m:d>
                    <m:r>
                      <m:t xml:space="preserve"> </m:t>
                    </m:r>
                    <m:r>
                      <m:t xml:space="preserve">≡</m:t>
                    </m:r>
                    <m:rad>
                      <m:radPr>
                        <m:degHide m:val="1"/>
                      </m:radPr>
                      <m:deg/>
                      <m:e>
                        <m:nary>
                          <m:naryPr>
                            <m:chr m:val="∑"/>
                          </m:naryPr>
                          <m:sub>
                            <m:r>
                              <m:t xml:space="preserve">i</m:t>
                            </m:r>
                            <m:r>
                              <m:t xml:space="preserve">=</m:t>
                            </m:r>
                            <m:r>
                              <m:t xml:space="preserve">1</m:t>
                            </m:r>
                          </m:sub>
                          <m:sup>
                            <m:r>
                              <m:t xml:space="preserve">n</m:t>
                            </m:r>
                          </m:sup>
                          <m:e>
                            <m:sSup>
                              <m:e>
                                <m:d>
                                  <m:dPr>
                                    <m:begChr m:val="("/>
                                    <m:endChr m:val=")"/>
                                  </m:dPr>
                                  <m:e>
                                    <m:sSub>
                                      <m:e>
                                        <m:r>
                                          <m:t xml:space="preserve">q</m:t>
                                        </m:r>
                                      </m:e>
                                      <m:sub>
                                        <m:r>
                                          <m:t xml:space="preserve">i</m:t>
                                        </m:r>
                                      </m:sub>
                                    </m:sSub>
                                    <m:r>
                                      <m:t xml:space="preserve"> </m:t>
                                    </m:r>
                                    <m:r>
                                      <m:t xml:space="preserve">−</m:t>
                                    </m:r>
                                    <m:sSub>
                                      <m:e>
                                        <m:r>
                                          <m:t xml:space="preserve">c</m:t>
                                        </m:r>
                                      </m:e>
                                      <m:sub>
                                        <m:r>
                                          <m:t xml:space="preserve">i</m:t>
                                        </m:r>
                                      </m:sub>
                                    </m:sSub>
                                  </m:e>
                                </m:d>
                              </m:e>
                              <m:sup>
                                <m:r>
                                  <m:t xml:space="preserve"> </m:t>
                                </m:r>
                                <m:r>
                                  <m:t xml:space="preserve">2</m:t>
                                </m:r>
                              </m:sup>
                            </m:sSup>
                          </m:e>
                        </m:nary>
                      </m:e>
                    </m:rad>
                  </m:oMath>
                </a14:m>
              </a:p>
            </p:txBody>
          </p:sp>
        </mc:Choice>
        <mc:Fallback/>
      </mc:AlternateContent>
      <p:sp>
        <p:nvSpPr>
          <p:cNvPr id="480" name=""/>
          <p:cNvSpPr/>
          <p:nvPr/>
        </p:nvSpPr>
        <p:spPr>
          <a:xfrm>
            <a:off x="150840" y="1657440"/>
            <a:ext cx="4572000" cy="3958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wo time ser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 = </a:t>
            </a:r>
            <a:r>
              <a:rPr b="0" i="1" lang="en-US" sz="2800" spc="-1" strike="noStrike">
                <a:solidFill>
                  <a:srgbClr val="000000"/>
                </a:solidFill>
                <a:latin typeface="Times New Roman"/>
              </a:rPr>
              <a:t>q</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q</a:t>
            </a:r>
            <a:r>
              <a:rPr b="0" i="1" lang="en-US" sz="2800" spc="-1" strike="noStrike" baseline="-25000">
                <a:solidFill>
                  <a:srgbClr val="000000"/>
                </a:solidFill>
                <a:latin typeface="Times New Roman"/>
              </a:rPr>
              <a:t>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Euclidean distance is defined 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58840" y="1185840"/>
            <a:ext cx="8642160" cy="3948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Create an </a:t>
            </a:r>
            <a:r>
              <a:rPr b="0" i="1" lang="en-US" sz="2500" spc="-1" strike="noStrike">
                <a:solidFill>
                  <a:srgbClr val="000000"/>
                </a:solidFill>
                <a:latin typeface="Times New Roman"/>
                <a:ea typeface="Times New Roman"/>
              </a:rPr>
              <a:t>approximation</a:t>
            </a:r>
            <a:r>
              <a:rPr b="0" lang="en-US" sz="2500" spc="-1" strike="noStrike">
                <a:solidFill>
                  <a:srgbClr val="000000"/>
                </a:solidFill>
                <a:latin typeface="Times New Roman"/>
                <a:ea typeface="Times New Roman"/>
              </a:rPr>
              <a:t> of the data, which will fit in main memory, yet retains the essential features of interest</a:t>
            </a:r>
            <a:endParaRPr b="0" lang="en-US" sz="2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Approximately solve the problem at hand in main memory</a:t>
            </a:r>
            <a:endParaRPr b="0" lang="en-US" sz="2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Make (hopefully very few) accesses to the original data on disk to confirm the solution obtained in Step 2, or to modify the solution so it agrees with the solution we would have obtained on the original data</a:t>
            </a:r>
            <a:endParaRPr b="0" lang="en-US" sz="2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82" name=""/>
          <p:cNvSpPr/>
          <p:nvPr/>
        </p:nvSpPr>
        <p:spPr>
          <a:xfrm>
            <a:off x="1145520" y="366840"/>
            <a:ext cx="6662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Generic Data Mining Algorithm</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83" name="homersmile" descr=""/>
          <p:cNvPicPr/>
          <p:nvPr/>
        </p:nvPicPr>
        <p:blipFill>
          <a:blip r:embed="rId1"/>
          <a:stretch/>
        </p:blipFill>
        <p:spPr>
          <a:xfrm>
            <a:off x="7170840" y="4675320"/>
            <a:ext cx="1828800" cy="2182680"/>
          </a:xfrm>
          <a:prstGeom prst="rect">
            <a:avLst/>
          </a:prstGeom>
          <a:ln w="0">
            <a:noFill/>
          </a:ln>
        </p:spPr>
      </p:pic>
      <p:sp>
        <p:nvSpPr>
          <p:cNvPr id="484" name=""/>
          <p:cNvSpPr/>
          <p:nvPr/>
        </p:nvSpPr>
        <p:spPr>
          <a:xfrm>
            <a:off x="1353960" y="5635800"/>
            <a:ext cx="5413680" cy="1044360"/>
          </a:xfrm>
          <a:prstGeom prst="wedgeRoundRectCallout">
            <a:avLst>
              <a:gd name="adj1" fmla="val 61643"/>
              <a:gd name="adj2" fmla="val -21578"/>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which </a:t>
            </a:r>
            <a:r>
              <a:rPr b="0" i="1" lang="en-US" sz="2800" spc="-1" strike="noStrike">
                <a:solidFill>
                  <a:srgbClr val="000000"/>
                </a:solidFill>
                <a:latin typeface="Comic Sans MS"/>
              </a:rPr>
              <a:t>approximation</a:t>
            </a:r>
            <a:r>
              <a:rPr b="0" lang="en-US" sz="2800" spc="-1" strike="noStrike">
                <a:solidFill>
                  <a:srgbClr val="000000"/>
                </a:solidFill>
                <a:latin typeface="Comic Sans MS"/>
              </a:rPr>
              <a:t> should we u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5" name=""/>
          <p:cNvGrpSpPr/>
          <p:nvPr/>
        </p:nvGrpSpPr>
        <p:grpSpPr>
          <a:xfrm>
            <a:off x="379440" y="515880"/>
            <a:ext cx="8237160" cy="3214080"/>
            <a:chOff x="379440" y="515880"/>
            <a:chExt cx="8237160" cy="3214080"/>
          </a:xfrm>
        </p:grpSpPr>
        <p:sp>
          <p:nvSpPr>
            <p:cNvPr id="486" name=""/>
            <p:cNvSpPr/>
            <p:nvPr/>
          </p:nvSpPr>
          <p:spPr>
            <a:xfrm>
              <a:off x="415440" y="52128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487" name=""/>
            <p:cNvSpPr/>
            <p:nvPr/>
          </p:nvSpPr>
          <p:spPr>
            <a:xfrm>
              <a:off x="3566520" y="515880"/>
              <a:ext cx="2019960" cy="80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938760" y="525240"/>
              <a:ext cx="14774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ime Series </a:t>
              </a:r>
              <a:endParaRPr b="0" lang="en-US" sz="2300" spc="-1" strike="noStrike">
                <a:solidFill>
                  <a:srgbClr val="000000"/>
                </a:solidFill>
                <a:latin typeface="Times New Roman"/>
              </a:endParaRPr>
            </a:p>
          </p:txBody>
        </p:sp>
        <p:sp>
          <p:nvSpPr>
            <p:cNvPr id="489" name=""/>
            <p:cNvSpPr/>
            <p:nvPr/>
          </p:nvSpPr>
          <p:spPr>
            <a:xfrm>
              <a:off x="3713400" y="822600"/>
              <a:ext cx="18676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presentations</a:t>
              </a:r>
              <a:endParaRPr b="0" lang="en-US" sz="2300" spc="-1" strike="noStrike">
                <a:solidFill>
                  <a:srgbClr val="000000"/>
                </a:solidFill>
                <a:latin typeface="Times New Roman"/>
              </a:endParaRPr>
            </a:p>
          </p:txBody>
        </p:sp>
        <p:sp>
          <p:nvSpPr>
            <p:cNvPr id="490" name=""/>
            <p:cNvSpPr/>
            <p:nvPr/>
          </p:nvSpPr>
          <p:spPr>
            <a:xfrm>
              <a:off x="5475240" y="82260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491" name=""/>
            <p:cNvSpPr/>
            <p:nvPr/>
          </p:nvSpPr>
          <p:spPr>
            <a:xfrm>
              <a:off x="3603960" y="111240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492" name=""/>
            <p:cNvSpPr/>
            <p:nvPr/>
          </p:nvSpPr>
          <p:spPr>
            <a:xfrm>
              <a:off x="2014560" y="1339200"/>
              <a:ext cx="2061360" cy="4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361240" y="1347480"/>
              <a:ext cx="14788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Adaptive</a:t>
              </a:r>
              <a:endParaRPr b="0" lang="en-US" sz="2000" spc="-1" strike="noStrike">
                <a:solidFill>
                  <a:srgbClr val="000000"/>
                </a:solidFill>
                <a:latin typeface="Times New Roman"/>
              </a:endParaRPr>
            </a:p>
          </p:txBody>
        </p:sp>
        <p:sp>
          <p:nvSpPr>
            <p:cNvPr id="494" name=""/>
            <p:cNvSpPr/>
            <p:nvPr/>
          </p:nvSpPr>
          <p:spPr>
            <a:xfrm>
              <a:off x="3761640" y="1347480"/>
              <a:ext cx="648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95" name=""/>
            <p:cNvSpPr/>
            <p:nvPr/>
          </p:nvSpPr>
          <p:spPr>
            <a:xfrm>
              <a:off x="5375160" y="1339200"/>
              <a:ext cx="1924920" cy="43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405040" y="1347480"/>
              <a:ext cx="19836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Data Adaptive</a:t>
              </a:r>
              <a:endParaRPr b="0" lang="en-US" sz="2000" spc="-1" strike="noStrike">
                <a:solidFill>
                  <a:srgbClr val="000000"/>
                </a:solidFill>
                <a:latin typeface="Times New Roman"/>
              </a:endParaRPr>
            </a:p>
          </p:txBody>
        </p:sp>
        <p:sp>
          <p:nvSpPr>
            <p:cNvPr id="497" name=""/>
            <p:cNvSpPr/>
            <p:nvPr/>
          </p:nvSpPr>
          <p:spPr>
            <a:xfrm>
              <a:off x="7284960" y="1347480"/>
              <a:ext cx="648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98" name=""/>
            <p:cNvSpPr/>
            <p:nvPr/>
          </p:nvSpPr>
          <p:spPr>
            <a:xfrm>
              <a:off x="6890400" y="2061360"/>
              <a:ext cx="778680" cy="25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035120" y="2067120"/>
              <a:ext cx="58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tral</a:t>
              </a:r>
              <a:endParaRPr b="0" lang="en-US" sz="1400" spc="-1" strike="noStrike">
                <a:solidFill>
                  <a:srgbClr val="000000"/>
                </a:solidFill>
                <a:latin typeface="Times New Roman"/>
              </a:endParaRPr>
            </a:p>
          </p:txBody>
        </p:sp>
        <p:sp>
          <p:nvSpPr>
            <p:cNvPr id="500" name=""/>
            <p:cNvSpPr/>
            <p:nvPr/>
          </p:nvSpPr>
          <p:spPr>
            <a:xfrm>
              <a:off x="7587360" y="203868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01" name=""/>
            <p:cNvSpPr/>
            <p:nvPr/>
          </p:nvSpPr>
          <p:spPr>
            <a:xfrm>
              <a:off x="5075640" y="2061360"/>
              <a:ext cx="1284120" cy="25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437080" y="2067120"/>
              <a:ext cx="66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velets</a:t>
              </a:r>
              <a:endParaRPr b="0" lang="en-US" sz="1400" spc="-1" strike="noStrike">
                <a:solidFill>
                  <a:srgbClr val="000000"/>
                </a:solidFill>
                <a:latin typeface="Times New Roman"/>
              </a:endParaRPr>
            </a:p>
          </p:txBody>
        </p:sp>
        <p:sp>
          <p:nvSpPr>
            <p:cNvPr id="503" name=""/>
            <p:cNvSpPr/>
            <p:nvPr/>
          </p:nvSpPr>
          <p:spPr>
            <a:xfrm>
              <a:off x="6063840" y="203868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04" name=""/>
            <p:cNvSpPr/>
            <p:nvPr/>
          </p:nvSpPr>
          <p:spPr>
            <a:xfrm>
              <a:off x="7506000" y="2061360"/>
              <a:ext cx="1110600" cy="50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823160" y="2064240"/>
              <a:ext cx="5630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Piecewise</a:t>
              </a:r>
              <a:endParaRPr b="0" lang="en-US" sz="1100" spc="-1" strike="noStrike">
                <a:solidFill>
                  <a:srgbClr val="000000"/>
                </a:solidFill>
                <a:latin typeface="Times New Roman"/>
              </a:endParaRPr>
            </a:p>
          </p:txBody>
        </p:sp>
        <p:sp>
          <p:nvSpPr>
            <p:cNvPr id="506" name=""/>
            <p:cNvSpPr/>
            <p:nvPr/>
          </p:nvSpPr>
          <p:spPr>
            <a:xfrm>
              <a:off x="8352720" y="206424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07" name=""/>
            <p:cNvSpPr/>
            <p:nvPr/>
          </p:nvSpPr>
          <p:spPr>
            <a:xfrm>
              <a:off x="7812720" y="2211120"/>
              <a:ext cx="586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Aggregate</a:t>
              </a:r>
              <a:endParaRPr b="0" lang="en-US" sz="1100" spc="-1" strike="noStrike">
                <a:solidFill>
                  <a:srgbClr val="000000"/>
                </a:solidFill>
                <a:latin typeface="Times New Roman"/>
              </a:endParaRPr>
            </a:p>
          </p:txBody>
        </p:sp>
        <p:sp>
          <p:nvSpPr>
            <p:cNvPr id="508" name=""/>
            <p:cNvSpPr/>
            <p:nvPr/>
          </p:nvSpPr>
          <p:spPr>
            <a:xfrm>
              <a:off x="8363880" y="221112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09" name=""/>
            <p:cNvSpPr/>
            <p:nvPr/>
          </p:nvSpPr>
          <p:spPr>
            <a:xfrm>
              <a:off x="7691400" y="2364120"/>
              <a:ext cx="8434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Approximation</a:t>
              </a:r>
              <a:endParaRPr b="0" lang="en-US" sz="1100" spc="-1" strike="noStrike">
                <a:solidFill>
                  <a:srgbClr val="000000"/>
                </a:solidFill>
                <a:latin typeface="Times New Roman"/>
              </a:endParaRPr>
            </a:p>
          </p:txBody>
        </p:sp>
        <p:sp>
          <p:nvSpPr>
            <p:cNvPr id="510" name=""/>
            <p:cNvSpPr/>
            <p:nvPr/>
          </p:nvSpPr>
          <p:spPr>
            <a:xfrm>
              <a:off x="8485920" y="236412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11" name=""/>
            <p:cNvSpPr/>
            <p:nvPr/>
          </p:nvSpPr>
          <p:spPr>
            <a:xfrm>
              <a:off x="1496160" y="2061360"/>
              <a:ext cx="941400" cy="42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663560" y="2064240"/>
              <a:ext cx="7596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ecewise </a:t>
              </a:r>
              <a:endParaRPr b="0" lang="en-US" sz="1400" spc="-1" strike="noStrike">
                <a:solidFill>
                  <a:srgbClr val="000000"/>
                </a:solidFill>
                <a:latin typeface="Times New Roman"/>
              </a:endParaRPr>
            </a:p>
          </p:txBody>
        </p:sp>
        <p:sp>
          <p:nvSpPr>
            <p:cNvPr id="513" name=""/>
            <p:cNvSpPr/>
            <p:nvPr/>
          </p:nvSpPr>
          <p:spPr>
            <a:xfrm>
              <a:off x="1610280" y="2252520"/>
              <a:ext cx="828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lynomial</a:t>
              </a:r>
              <a:endParaRPr b="0" lang="en-US" sz="1400" spc="-1" strike="noStrike">
                <a:solidFill>
                  <a:srgbClr val="000000"/>
                </a:solidFill>
                <a:latin typeface="Times New Roman"/>
              </a:endParaRPr>
            </a:p>
          </p:txBody>
        </p:sp>
        <p:sp>
          <p:nvSpPr>
            <p:cNvPr id="514" name=""/>
            <p:cNvSpPr/>
            <p:nvPr/>
          </p:nvSpPr>
          <p:spPr>
            <a:xfrm>
              <a:off x="2382120" y="223956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15" name=""/>
            <p:cNvSpPr/>
            <p:nvPr/>
          </p:nvSpPr>
          <p:spPr>
            <a:xfrm>
              <a:off x="3175560" y="2061360"/>
              <a:ext cx="804960" cy="31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287160" y="2067120"/>
              <a:ext cx="687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mbolic</a:t>
              </a:r>
              <a:endParaRPr b="0" lang="en-US" sz="1400" spc="-1" strike="noStrike">
                <a:solidFill>
                  <a:srgbClr val="000000"/>
                </a:solidFill>
                <a:latin typeface="Times New Roman"/>
              </a:endParaRPr>
            </a:p>
          </p:txBody>
        </p:sp>
        <p:sp>
          <p:nvSpPr>
            <p:cNvPr id="517" name=""/>
            <p:cNvSpPr/>
            <p:nvPr/>
          </p:nvSpPr>
          <p:spPr>
            <a:xfrm>
              <a:off x="3931560" y="203868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18" name=""/>
            <p:cNvSpPr/>
            <p:nvPr/>
          </p:nvSpPr>
          <p:spPr>
            <a:xfrm>
              <a:off x="2151360" y="2061360"/>
              <a:ext cx="1407600" cy="70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652840" y="2050200"/>
              <a:ext cx="485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Singular</a:t>
              </a:r>
              <a:endParaRPr b="0" lang="en-US" sz="1100" spc="-1" strike="noStrike">
                <a:solidFill>
                  <a:srgbClr val="000000"/>
                </a:solidFill>
                <a:latin typeface="Times New Roman"/>
              </a:endParaRPr>
            </a:p>
          </p:txBody>
        </p:sp>
        <p:sp>
          <p:nvSpPr>
            <p:cNvPr id="520" name=""/>
            <p:cNvSpPr/>
            <p:nvPr/>
          </p:nvSpPr>
          <p:spPr>
            <a:xfrm>
              <a:off x="3111120" y="205020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21" name=""/>
            <p:cNvSpPr/>
            <p:nvPr/>
          </p:nvSpPr>
          <p:spPr>
            <a:xfrm>
              <a:off x="2727000" y="2179800"/>
              <a:ext cx="328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Value</a:t>
              </a:r>
              <a:endParaRPr b="0" lang="en-US" sz="1100" spc="-1" strike="noStrike">
                <a:solidFill>
                  <a:srgbClr val="000000"/>
                </a:solidFill>
                <a:latin typeface="Times New Roman"/>
              </a:endParaRPr>
            </a:p>
          </p:txBody>
        </p:sp>
        <p:sp>
          <p:nvSpPr>
            <p:cNvPr id="522" name=""/>
            <p:cNvSpPr/>
            <p:nvPr/>
          </p:nvSpPr>
          <p:spPr>
            <a:xfrm>
              <a:off x="3038040" y="217980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23" name=""/>
            <p:cNvSpPr/>
            <p:nvPr/>
          </p:nvSpPr>
          <p:spPr>
            <a:xfrm>
              <a:off x="2482560" y="2306880"/>
              <a:ext cx="8510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Decomposition</a:t>
              </a:r>
              <a:endParaRPr b="0" lang="en-US" sz="1100" spc="-1" strike="noStrike">
                <a:solidFill>
                  <a:srgbClr val="000000"/>
                </a:solidFill>
                <a:latin typeface="Times New Roman"/>
              </a:endParaRPr>
            </a:p>
          </p:txBody>
        </p:sp>
        <p:sp>
          <p:nvSpPr>
            <p:cNvPr id="524" name=""/>
            <p:cNvSpPr/>
            <p:nvPr/>
          </p:nvSpPr>
          <p:spPr>
            <a:xfrm>
              <a:off x="3293640" y="224856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25" name=""/>
            <p:cNvSpPr/>
            <p:nvPr/>
          </p:nvSpPr>
          <p:spPr>
            <a:xfrm>
              <a:off x="6036840" y="2061360"/>
              <a:ext cx="1001880" cy="53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345360" y="2064240"/>
              <a:ext cx="4669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Random</a:t>
              </a:r>
              <a:endParaRPr b="0" lang="en-US" sz="1100" spc="-1" strike="noStrike">
                <a:solidFill>
                  <a:srgbClr val="000000"/>
                </a:solidFill>
                <a:latin typeface="Times New Roman"/>
              </a:endParaRPr>
            </a:p>
          </p:txBody>
        </p:sp>
        <p:sp>
          <p:nvSpPr>
            <p:cNvPr id="527" name=""/>
            <p:cNvSpPr/>
            <p:nvPr/>
          </p:nvSpPr>
          <p:spPr>
            <a:xfrm>
              <a:off x="6787440" y="206424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28" name=""/>
            <p:cNvSpPr/>
            <p:nvPr/>
          </p:nvSpPr>
          <p:spPr>
            <a:xfrm>
              <a:off x="6299280" y="2214000"/>
              <a:ext cx="5630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Mappings</a:t>
              </a:r>
              <a:endParaRPr b="0" lang="en-US" sz="1100" spc="-1" strike="noStrike">
                <a:solidFill>
                  <a:srgbClr val="000000"/>
                </a:solidFill>
                <a:latin typeface="Times New Roman"/>
              </a:endParaRPr>
            </a:p>
          </p:txBody>
        </p:sp>
        <p:sp>
          <p:nvSpPr>
            <p:cNvPr id="529" name=""/>
            <p:cNvSpPr/>
            <p:nvPr/>
          </p:nvSpPr>
          <p:spPr>
            <a:xfrm>
              <a:off x="6839640" y="215568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30" name=""/>
            <p:cNvSpPr/>
            <p:nvPr/>
          </p:nvSpPr>
          <p:spPr>
            <a:xfrm>
              <a:off x="601200" y="2803680"/>
              <a:ext cx="1395720" cy="49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019520" y="2785320"/>
              <a:ext cx="608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ecewise</a:t>
              </a:r>
              <a:endParaRPr b="0" lang="en-US" sz="1200" spc="-1" strike="noStrike">
                <a:solidFill>
                  <a:srgbClr val="000000"/>
                </a:solidFill>
                <a:latin typeface="Times New Roman"/>
              </a:endParaRPr>
            </a:p>
          </p:txBody>
        </p:sp>
        <p:sp>
          <p:nvSpPr>
            <p:cNvPr id="532" name=""/>
            <p:cNvSpPr/>
            <p:nvPr/>
          </p:nvSpPr>
          <p:spPr>
            <a:xfrm>
              <a:off x="1605960" y="27853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33" name=""/>
            <p:cNvSpPr/>
            <p:nvPr/>
          </p:nvSpPr>
          <p:spPr>
            <a:xfrm>
              <a:off x="1126800" y="2913840"/>
              <a:ext cx="397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a:t>
              </a:r>
              <a:endParaRPr b="0" lang="en-US" sz="1200" spc="-1" strike="noStrike">
                <a:solidFill>
                  <a:srgbClr val="000000"/>
                </a:solidFill>
                <a:latin typeface="Times New Roman"/>
              </a:endParaRPr>
            </a:p>
          </p:txBody>
        </p:sp>
        <p:sp>
          <p:nvSpPr>
            <p:cNvPr id="534" name=""/>
            <p:cNvSpPr/>
            <p:nvPr/>
          </p:nvSpPr>
          <p:spPr>
            <a:xfrm>
              <a:off x="1508760" y="29138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35" name=""/>
            <p:cNvSpPr/>
            <p:nvPr/>
          </p:nvSpPr>
          <p:spPr>
            <a:xfrm>
              <a:off x="860760" y="3043440"/>
              <a:ext cx="932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ion</a:t>
              </a:r>
              <a:endParaRPr b="0" lang="en-US" sz="1200" spc="-1" strike="noStrike">
                <a:solidFill>
                  <a:srgbClr val="000000"/>
                </a:solidFill>
                <a:latin typeface="Times New Roman"/>
              </a:endParaRPr>
            </a:p>
          </p:txBody>
        </p:sp>
        <p:sp>
          <p:nvSpPr>
            <p:cNvPr id="536" name=""/>
            <p:cNvSpPr/>
            <p:nvPr/>
          </p:nvSpPr>
          <p:spPr>
            <a:xfrm>
              <a:off x="1764720" y="301932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37" name=""/>
            <p:cNvSpPr/>
            <p:nvPr/>
          </p:nvSpPr>
          <p:spPr>
            <a:xfrm>
              <a:off x="2016360" y="2836800"/>
              <a:ext cx="860760" cy="58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238120" y="2823840"/>
              <a:ext cx="5007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Adaptive</a:t>
              </a:r>
              <a:endParaRPr b="0" lang="en-US" sz="1100" spc="-1" strike="noStrike">
                <a:solidFill>
                  <a:srgbClr val="000000"/>
                </a:solidFill>
                <a:latin typeface="Times New Roman"/>
              </a:endParaRPr>
            </a:p>
          </p:txBody>
        </p:sp>
        <p:sp>
          <p:nvSpPr>
            <p:cNvPr id="539" name=""/>
            <p:cNvSpPr/>
            <p:nvPr/>
          </p:nvSpPr>
          <p:spPr>
            <a:xfrm>
              <a:off x="2709720" y="282384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40" name=""/>
            <p:cNvSpPr/>
            <p:nvPr/>
          </p:nvSpPr>
          <p:spPr>
            <a:xfrm>
              <a:off x="2210040" y="2952360"/>
              <a:ext cx="5630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Piecewise</a:t>
              </a:r>
              <a:endParaRPr b="0" lang="en-US" sz="1100" spc="-1" strike="noStrike">
                <a:solidFill>
                  <a:srgbClr val="000000"/>
                </a:solidFill>
                <a:latin typeface="Times New Roman"/>
              </a:endParaRPr>
            </a:p>
          </p:txBody>
        </p:sp>
        <p:sp>
          <p:nvSpPr>
            <p:cNvPr id="541" name=""/>
            <p:cNvSpPr/>
            <p:nvPr/>
          </p:nvSpPr>
          <p:spPr>
            <a:xfrm>
              <a:off x="2739600" y="295236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42" name=""/>
            <p:cNvSpPr/>
            <p:nvPr/>
          </p:nvSpPr>
          <p:spPr>
            <a:xfrm>
              <a:off x="2234520" y="3081960"/>
              <a:ext cx="508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Constant</a:t>
              </a:r>
              <a:endParaRPr b="0" lang="en-US" sz="1100" spc="-1" strike="noStrike">
                <a:solidFill>
                  <a:srgbClr val="000000"/>
                </a:solidFill>
                <a:latin typeface="Times New Roman"/>
              </a:endParaRPr>
            </a:p>
          </p:txBody>
        </p:sp>
        <p:sp>
          <p:nvSpPr>
            <p:cNvPr id="543" name=""/>
            <p:cNvSpPr/>
            <p:nvPr/>
          </p:nvSpPr>
          <p:spPr>
            <a:xfrm>
              <a:off x="2714040" y="308196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44" name=""/>
            <p:cNvSpPr/>
            <p:nvPr/>
          </p:nvSpPr>
          <p:spPr>
            <a:xfrm>
              <a:off x="2079000" y="3210480"/>
              <a:ext cx="66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Approximat</a:t>
              </a:r>
              <a:endParaRPr b="0" lang="en-US" sz="1100" spc="-1" strike="noStrike">
                <a:solidFill>
                  <a:srgbClr val="000000"/>
                </a:solidFill>
                <a:latin typeface="Times New Roman"/>
              </a:endParaRPr>
            </a:p>
          </p:txBody>
        </p:sp>
        <p:sp>
          <p:nvSpPr>
            <p:cNvPr id="545" name=""/>
            <p:cNvSpPr/>
            <p:nvPr/>
          </p:nvSpPr>
          <p:spPr>
            <a:xfrm>
              <a:off x="2702520" y="3210480"/>
              <a:ext cx="1807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ion</a:t>
              </a:r>
              <a:endParaRPr b="0" lang="en-US" sz="1100" spc="-1" strike="noStrike">
                <a:solidFill>
                  <a:srgbClr val="000000"/>
                </a:solidFill>
                <a:latin typeface="Times New Roman"/>
              </a:endParaRPr>
            </a:p>
          </p:txBody>
        </p:sp>
        <p:sp>
          <p:nvSpPr>
            <p:cNvPr id="546" name=""/>
            <p:cNvSpPr/>
            <p:nvPr/>
          </p:nvSpPr>
          <p:spPr>
            <a:xfrm>
              <a:off x="2872800" y="321048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47" name=""/>
            <p:cNvSpPr/>
            <p:nvPr/>
          </p:nvSpPr>
          <p:spPr>
            <a:xfrm>
              <a:off x="2483640" y="328032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48" name=""/>
            <p:cNvSpPr/>
            <p:nvPr/>
          </p:nvSpPr>
          <p:spPr>
            <a:xfrm>
              <a:off x="6702120" y="2836800"/>
              <a:ext cx="727200" cy="47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869520" y="2837880"/>
              <a:ext cx="4777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Discrete</a:t>
              </a:r>
              <a:endParaRPr b="0" lang="en-US" sz="1100" spc="-1" strike="noStrike">
                <a:solidFill>
                  <a:srgbClr val="000000"/>
                </a:solidFill>
                <a:latin typeface="Times New Roman"/>
              </a:endParaRPr>
            </a:p>
          </p:txBody>
        </p:sp>
        <p:sp>
          <p:nvSpPr>
            <p:cNvPr id="550" name=""/>
            <p:cNvSpPr/>
            <p:nvPr/>
          </p:nvSpPr>
          <p:spPr>
            <a:xfrm>
              <a:off x="7318080" y="283788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51" name=""/>
            <p:cNvSpPr/>
            <p:nvPr/>
          </p:nvSpPr>
          <p:spPr>
            <a:xfrm>
              <a:off x="6888240" y="2986560"/>
              <a:ext cx="4381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Fourier</a:t>
              </a:r>
              <a:endParaRPr b="0" lang="en-US" sz="1100" spc="-1" strike="noStrike">
                <a:solidFill>
                  <a:srgbClr val="000000"/>
                </a:solidFill>
                <a:latin typeface="Times New Roman"/>
              </a:endParaRPr>
            </a:p>
          </p:txBody>
        </p:sp>
        <p:sp>
          <p:nvSpPr>
            <p:cNvPr id="552" name=""/>
            <p:cNvSpPr/>
            <p:nvPr/>
          </p:nvSpPr>
          <p:spPr>
            <a:xfrm>
              <a:off x="7300080" y="298656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53" name=""/>
            <p:cNvSpPr/>
            <p:nvPr/>
          </p:nvSpPr>
          <p:spPr>
            <a:xfrm>
              <a:off x="6814440" y="3137760"/>
              <a:ext cx="593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Transform</a:t>
              </a:r>
              <a:endParaRPr b="0" lang="en-US" sz="1100" spc="-1" strike="noStrike">
                <a:solidFill>
                  <a:srgbClr val="000000"/>
                </a:solidFill>
                <a:latin typeface="Times New Roman"/>
              </a:endParaRPr>
            </a:p>
          </p:txBody>
        </p:sp>
        <p:sp>
          <p:nvSpPr>
            <p:cNvPr id="554" name=""/>
            <p:cNvSpPr/>
            <p:nvPr/>
          </p:nvSpPr>
          <p:spPr>
            <a:xfrm>
              <a:off x="7382880" y="307764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55" name=""/>
            <p:cNvSpPr/>
            <p:nvPr/>
          </p:nvSpPr>
          <p:spPr>
            <a:xfrm>
              <a:off x="7422120" y="2836800"/>
              <a:ext cx="753480" cy="47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602840" y="2837880"/>
              <a:ext cx="4777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Discrete</a:t>
              </a:r>
              <a:endParaRPr b="0" lang="en-US" sz="1100" spc="-1" strike="noStrike">
                <a:solidFill>
                  <a:srgbClr val="000000"/>
                </a:solidFill>
                <a:latin typeface="Times New Roman"/>
              </a:endParaRPr>
            </a:p>
          </p:txBody>
        </p:sp>
        <p:sp>
          <p:nvSpPr>
            <p:cNvPr id="557" name=""/>
            <p:cNvSpPr/>
            <p:nvPr/>
          </p:nvSpPr>
          <p:spPr>
            <a:xfrm>
              <a:off x="8051040" y="283788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58" name=""/>
            <p:cNvSpPr/>
            <p:nvPr/>
          </p:nvSpPr>
          <p:spPr>
            <a:xfrm>
              <a:off x="7643160" y="2986560"/>
              <a:ext cx="3909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Cosine</a:t>
              </a:r>
              <a:endParaRPr b="0" lang="en-US" sz="1100" spc="-1" strike="noStrike">
                <a:solidFill>
                  <a:srgbClr val="000000"/>
                </a:solidFill>
                <a:latin typeface="Times New Roman"/>
              </a:endParaRPr>
            </a:p>
          </p:txBody>
        </p:sp>
        <p:sp>
          <p:nvSpPr>
            <p:cNvPr id="559" name=""/>
            <p:cNvSpPr/>
            <p:nvPr/>
          </p:nvSpPr>
          <p:spPr>
            <a:xfrm>
              <a:off x="8011440" y="298656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60" name=""/>
            <p:cNvSpPr/>
            <p:nvPr/>
          </p:nvSpPr>
          <p:spPr>
            <a:xfrm>
              <a:off x="7548120" y="3137760"/>
              <a:ext cx="593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Transform</a:t>
              </a:r>
              <a:endParaRPr b="0" lang="en-US" sz="1100" spc="-1" strike="noStrike">
                <a:solidFill>
                  <a:srgbClr val="000000"/>
                </a:solidFill>
                <a:latin typeface="Times New Roman"/>
              </a:endParaRPr>
            </a:p>
          </p:txBody>
        </p:sp>
        <p:sp>
          <p:nvSpPr>
            <p:cNvPr id="561" name=""/>
            <p:cNvSpPr/>
            <p:nvPr/>
          </p:nvSpPr>
          <p:spPr>
            <a:xfrm>
              <a:off x="8113680" y="309492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62" name=""/>
            <p:cNvSpPr/>
            <p:nvPr/>
          </p:nvSpPr>
          <p:spPr>
            <a:xfrm>
              <a:off x="4493520" y="3376080"/>
              <a:ext cx="633240" cy="25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699080" y="3380400"/>
              <a:ext cx="29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Haar</a:t>
              </a:r>
              <a:endParaRPr b="0" lang="en-US" sz="1100" spc="-1" strike="noStrike">
                <a:solidFill>
                  <a:srgbClr val="000000"/>
                </a:solidFill>
                <a:latin typeface="Times New Roman"/>
              </a:endParaRPr>
            </a:p>
          </p:txBody>
        </p:sp>
        <p:sp>
          <p:nvSpPr>
            <p:cNvPr id="564" name=""/>
            <p:cNvSpPr/>
            <p:nvPr/>
          </p:nvSpPr>
          <p:spPr>
            <a:xfrm>
              <a:off x="4978440" y="338040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65" name=""/>
            <p:cNvSpPr/>
            <p:nvPr/>
          </p:nvSpPr>
          <p:spPr>
            <a:xfrm>
              <a:off x="4947840" y="3376080"/>
              <a:ext cx="899280" cy="34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112360" y="3377520"/>
              <a:ext cx="66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Daubechies</a:t>
              </a:r>
              <a:endParaRPr b="0" lang="en-US" sz="1100" spc="-1" strike="noStrike">
                <a:solidFill>
                  <a:srgbClr val="000000"/>
                </a:solidFill>
                <a:latin typeface="Times New Roman"/>
              </a:endParaRPr>
            </a:p>
          </p:txBody>
        </p:sp>
        <p:sp>
          <p:nvSpPr>
            <p:cNvPr id="567" name=""/>
            <p:cNvSpPr/>
            <p:nvPr/>
          </p:nvSpPr>
          <p:spPr>
            <a:xfrm>
              <a:off x="5736960" y="337752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68" name=""/>
            <p:cNvSpPr/>
            <p:nvPr/>
          </p:nvSpPr>
          <p:spPr>
            <a:xfrm>
              <a:off x="5135400" y="3528720"/>
              <a:ext cx="621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dbn   n &gt; 1</a:t>
              </a:r>
              <a:endParaRPr b="0" lang="en-US" sz="1100" spc="-1" strike="noStrike">
                <a:solidFill>
                  <a:srgbClr val="000000"/>
                </a:solidFill>
                <a:latin typeface="Times New Roman"/>
              </a:endParaRPr>
            </a:p>
          </p:txBody>
        </p:sp>
        <p:sp>
          <p:nvSpPr>
            <p:cNvPr id="569" name=""/>
            <p:cNvSpPr/>
            <p:nvPr/>
          </p:nvSpPr>
          <p:spPr>
            <a:xfrm>
              <a:off x="5727240" y="347040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70" name=""/>
            <p:cNvSpPr/>
            <p:nvPr/>
          </p:nvSpPr>
          <p:spPr>
            <a:xfrm>
              <a:off x="5623560" y="3376080"/>
              <a:ext cx="847800" cy="25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866920" y="3380400"/>
              <a:ext cx="4395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Coiflets</a:t>
              </a:r>
              <a:endParaRPr b="0" lang="en-US" sz="1100" spc="-1" strike="noStrike">
                <a:solidFill>
                  <a:srgbClr val="000000"/>
                </a:solidFill>
                <a:latin typeface="Times New Roman"/>
              </a:endParaRPr>
            </a:p>
          </p:txBody>
        </p:sp>
        <p:sp>
          <p:nvSpPr>
            <p:cNvPr id="572" name=""/>
            <p:cNvSpPr/>
            <p:nvPr/>
          </p:nvSpPr>
          <p:spPr>
            <a:xfrm>
              <a:off x="6282000" y="338040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73" name=""/>
            <p:cNvSpPr/>
            <p:nvPr/>
          </p:nvSpPr>
          <p:spPr>
            <a:xfrm>
              <a:off x="6256800" y="3376080"/>
              <a:ext cx="727200" cy="25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445800" y="3380400"/>
              <a:ext cx="4305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Symlets</a:t>
              </a:r>
              <a:endParaRPr b="0" lang="en-US" sz="1100" spc="-1" strike="noStrike">
                <a:solidFill>
                  <a:srgbClr val="000000"/>
                </a:solidFill>
                <a:latin typeface="Times New Roman"/>
              </a:endParaRPr>
            </a:p>
          </p:txBody>
        </p:sp>
        <p:sp>
          <p:nvSpPr>
            <p:cNvPr id="575" name=""/>
            <p:cNvSpPr/>
            <p:nvPr/>
          </p:nvSpPr>
          <p:spPr>
            <a:xfrm>
              <a:off x="6851160" y="338040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76" name=""/>
            <p:cNvSpPr/>
            <p:nvPr/>
          </p:nvSpPr>
          <p:spPr>
            <a:xfrm>
              <a:off x="546840" y="2061360"/>
              <a:ext cx="95184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874800" y="2064240"/>
              <a:ext cx="4032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Sorted </a:t>
              </a:r>
              <a:endParaRPr b="0" lang="en-US" sz="1100" spc="-1" strike="noStrike">
                <a:solidFill>
                  <a:srgbClr val="000000"/>
                </a:solidFill>
                <a:latin typeface="Times New Roman"/>
              </a:endParaRPr>
            </a:p>
          </p:txBody>
        </p:sp>
        <p:sp>
          <p:nvSpPr>
            <p:cNvPr id="578" name=""/>
            <p:cNvSpPr/>
            <p:nvPr/>
          </p:nvSpPr>
          <p:spPr>
            <a:xfrm>
              <a:off x="731520" y="2214000"/>
              <a:ext cx="674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Coefficients</a:t>
              </a:r>
              <a:endParaRPr b="0" lang="en-US" sz="1100" spc="-1" strike="noStrike">
                <a:solidFill>
                  <a:srgbClr val="000000"/>
                </a:solidFill>
                <a:latin typeface="Times New Roman"/>
              </a:endParaRPr>
            </a:p>
          </p:txBody>
        </p:sp>
        <p:sp>
          <p:nvSpPr>
            <p:cNvPr id="579" name=""/>
            <p:cNvSpPr/>
            <p:nvPr/>
          </p:nvSpPr>
          <p:spPr>
            <a:xfrm>
              <a:off x="1366560" y="221400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80" name=""/>
            <p:cNvSpPr/>
            <p:nvPr/>
          </p:nvSpPr>
          <p:spPr>
            <a:xfrm>
              <a:off x="4570200" y="2836800"/>
              <a:ext cx="1103040" cy="25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735440" y="2840760"/>
              <a:ext cx="851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rthonormal</a:t>
              </a:r>
              <a:endParaRPr b="0" lang="en-US" sz="1300" spc="-1" strike="noStrike">
                <a:solidFill>
                  <a:srgbClr val="000000"/>
                </a:solidFill>
                <a:latin typeface="Times New Roman"/>
              </a:endParaRPr>
            </a:p>
          </p:txBody>
        </p:sp>
        <p:sp>
          <p:nvSpPr>
            <p:cNvPr id="582" name=""/>
            <p:cNvSpPr/>
            <p:nvPr/>
          </p:nvSpPr>
          <p:spPr>
            <a:xfrm>
              <a:off x="5542200" y="279648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83" name=""/>
            <p:cNvSpPr/>
            <p:nvPr/>
          </p:nvSpPr>
          <p:spPr>
            <a:xfrm>
              <a:off x="5686920" y="2836800"/>
              <a:ext cx="1240200" cy="25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709960" y="2840760"/>
              <a:ext cx="156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a:t>
              </a:r>
              <a:endParaRPr b="0" lang="en-US" sz="1300" spc="-1" strike="noStrike">
                <a:solidFill>
                  <a:srgbClr val="000000"/>
                </a:solidFill>
                <a:latin typeface="Times New Roman"/>
              </a:endParaRPr>
            </a:p>
          </p:txBody>
        </p:sp>
        <p:sp>
          <p:nvSpPr>
            <p:cNvPr id="585" name=""/>
            <p:cNvSpPr/>
            <p:nvPr/>
          </p:nvSpPr>
          <p:spPr>
            <a:xfrm>
              <a:off x="5854320" y="284076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586" name=""/>
            <p:cNvSpPr/>
            <p:nvPr/>
          </p:nvSpPr>
          <p:spPr>
            <a:xfrm>
              <a:off x="5874480" y="2840760"/>
              <a:ext cx="851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rthonormal</a:t>
              </a:r>
              <a:endParaRPr b="0" lang="en-US" sz="1300" spc="-1" strike="noStrike">
                <a:solidFill>
                  <a:srgbClr val="000000"/>
                </a:solidFill>
                <a:latin typeface="Times New Roman"/>
              </a:endParaRPr>
            </a:p>
          </p:txBody>
        </p:sp>
        <p:sp>
          <p:nvSpPr>
            <p:cNvPr id="587" name=""/>
            <p:cNvSpPr/>
            <p:nvPr/>
          </p:nvSpPr>
          <p:spPr>
            <a:xfrm>
              <a:off x="6683760" y="279648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88" name=""/>
            <p:cNvSpPr/>
            <p:nvPr/>
          </p:nvSpPr>
          <p:spPr>
            <a:xfrm>
              <a:off x="379440" y="3376080"/>
              <a:ext cx="1062000" cy="25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86800" y="3380400"/>
              <a:ext cx="7444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Interpolation</a:t>
              </a:r>
              <a:endParaRPr b="0" lang="en-US" sz="1100" spc="-1" strike="noStrike">
                <a:solidFill>
                  <a:srgbClr val="000000"/>
                </a:solidFill>
                <a:latin typeface="Times New Roman"/>
              </a:endParaRPr>
            </a:p>
          </p:txBody>
        </p:sp>
        <p:sp>
          <p:nvSpPr>
            <p:cNvPr id="590" name=""/>
            <p:cNvSpPr/>
            <p:nvPr/>
          </p:nvSpPr>
          <p:spPr>
            <a:xfrm>
              <a:off x="1309320" y="336636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591" name=""/>
            <p:cNvSpPr/>
            <p:nvPr/>
          </p:nvSpPr>
          <p:spPr>
            <a:xfrm>
              <a:off x="1221480" y="3376080"/>
              <a:ext cx="950400" cy="25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427040" y="3380400"/>
              <a:ext cx="6256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Regression</a:t>
              </a:r>
              <a:endParaRPr b="0" lang="en-US" sz="1100" spc="-1" strike="noStrike">
                <a:solidFill>
                  <a:srgbClr val="000000"/>
                </a:solidFill>
                <a:latin typeface="Times New Roman"/>
              </a:endParaRPr>
            </a:p>
          </p:txBody>
        </p:sp>
        <p:sp>
          <p:nvSpPr>
            <p:cNvPr id="593" name=""/>
            <p:cNvSpPr/>
            <p:nvPr/>
          </p:nvSpPr>
          <p:spPr>
            <a:xfrm>
              <a:off x="2017800" y="338040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94" name=""/>
            <p:cNvSpPr/>
            <p:nvPr/>
          </p:nvSpPr>
          <p:spPr>
            <a:xfrm>
              <a:off x="3776400" y="2061360"/>
              <a:ext cx="918360" cy="308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115880" y="2067120"/>
              <a:ext cx="3132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Trees</a:t>
              </a:r>
              <a:endParaRPr b="0" lang="en-US" sz="1100" spc="-1" strike="noStrike">
                <a:solidFill>
                  <a:srgbClr val="000000"/>
                </a:solidFill>
                <a:latin typeface="Times New Roman"/>
              </a:endParaRPr>
            </a:p>
          </p:txBody>
        </p:sp>
        <p:sp>
          <p:nvSpPr>
            <p:cNvPr id="596" name=""/>
            <p:cNvSpPr/>
            <p:nvPr/>
          </p:nvSpPr>
          <p:spPr>
            <a:xfrm>
              <a:off x="4410000" y="206712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97" name=""/>
            <p:cNvSpPr/>
            <p:nvPr/>
          </p:nvSpPr>
          <p:spPr>
            <a:xfrm>
              <a:off x="2981880" y="2836800"/>
              <a:ext cx="709560" cy="42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156480" y="2837880"/>
              <a:ext cx="4730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Natural </a:t>
              </a:r>
              <a:endParaRPr b="0" lang="en-US" sz="1100" spc="-1" strike="noStrike">
                <a:solidFill>
                  <a:srgbClr val="000000"/>
                </a:solidFill>
                <a:latin typeface="Times New Roman"/>
              </a:endParaRPr>
            </a:p>
          </p:txBody>
        </p:sp>
        <p:sp>
          <p:nvSpPr>
            <p:cNvPr id="599" name=""/>
            <p:cNvSpPr/>
            <p:nvPr/>
          </p:nvSpPr>
          <p:spPr>
            <a:xfrm>
              <a:off x="3099240" y="2989440"/>
              <a:ext cx="5616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Language</a:t>
              </a:r>
              <a:endParaRPr b="0" lang="en-US" sz="1100" spc="-1" strike="noStrike">
                <a:solidFill>
                  <a:srgbClr val="000000"/>
                </a:solidFill>
                <a:latin typeface="Times New Roman"/>
              </a:endParaRPr>
            </a:p>
          </p:txBody>
        </p:sp>
        <p:sp>
          <p:nvSpPr>
            <p:cNvPr id="600" name=""/>
            <p:cNvSpPr/>
            <p:nvPr/>
          </p:nvSpPr>
          <p:spPr>
            <a:xfrm>
              <a:off x="3635280" y="29592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1" name=""/>
            <p:cNvSpPr/>
            <p:nvPr/>
          </p:nvSpPr>
          <p:spPr>
            <a:xfrm>
              <a:off x="3529800" y="2836800"/>
              <a:ext cx="898920" cy="25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16360" y="2840760"/>
              <a:ext cx="3999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rings</a:t>
              </a:r>
              <a:endParaRPr b="0" lang="en-US" sz="1100" spc="-1" strike="noStrike">
                <a:solidFill>
                  <a:srgbClr val="000000"/>
                </a:solidFill>
                <a:latin typeface="Times New Roman"/>
              </a:endParaRPr>
            </a:p>
          </p:txBody>
        </p:sp>
        <p:sp>
          <p:nvSpPr>
            <p:cNvPr id="603" name=""/>
            <p:cNvSpPr/>
            <p:nvPr/>
          </p:nvSpPr>
          <p:spPr>
            <a:xfrm>
              <a:off x="4193640" y="282672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grpSp>
          <p:nvGrpSpPr>
            <p:cNvPr id="604" name=""/>
            <p:cNvGrpSpPr/>
            <p:nvPr/>
          </p:nvGrpSpPr>
          <p:grpSpPr>
            <a:xfrm>
              <a:off x="3338640" y="1096560"/>
              <a:ext cx="2439000" cy="234000"/>
              <a:chOff x="3338640" y="1096560"/>
              <a:chExt cx="2439000" cy="234000"/>
            </a:xfrm>
          </p:grpSpPr>
          <p:sp>
            <p:nvSpPr>
              <p:cNvPr id="605" name=""/>
              <p:cNvSpPr/>
              <p:nvPr/>
            </p:nvSpPr>
            <p:spPr>
              <a:xfrm>
                <a:off x="3338640" y="1096560"/>
                <a:ext cx="593640" cy="234000"/>
              </a:xfrm>
              <a:custGeom>
                <a:avLst/>
                <a:gdLst/>
                <a:ahLst/>
                <a:rect l="l" t="t" r="r" b="b"/>
                <a:pathLst>
                  <a:path w="807" h="327">
                    <a:moveTo>
                      <a:pt x="807" y="31"/>
                    </a:moveTo>
                    <a:lnTo>
                      <a:pt x="795" y="0"/>
                    </a:lnTo>
                    <a:lnTo>
                      <a:pt x="0" y="296"/>
                    </a:lnTo>
                    <a:lnTo>
                      <a:pt x="12" y="327"/>
                    </a:lnTo>
                    <a:lnTo>
                      <a:pt x="807"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184000" y="1096560"/>
                <a:ext cx="593640" cy="234000"/>
              </a:xfrm>
              <a:custGeom>
                <a:avLst/>
                <a:gdLst/>
                <a:ahLst/>
                <a:rect l="l" t="t" r="r" b="b"/>
                <a:pathLst>
                  <a:path w="808" h="327">
                    <a:moveTo>
                      <a:pt x="12" y="0"/>
                    </a:moveTo>
                    <a:lnTo>
                      <a:pt x="0" y="31"/>
                    </a:lnTo>
                    <a:lnTo>
                      <a:pt x="796" y="327"/>
                    </a:lnTo>
                    <a:lnTo>
                      <a:pt x="808" y="296"/>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
            <p:cNvSpPr/>
            <p:nvPr/>
          </p:nvSpPr>
          <p:spPr>
            <a:xfrm flipH="1">
              <a:off x="1031400" y="1617480"/>
              <a:ext cx="1350360" cy="43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575160" y="1623240"/>
              <a:ext cx="648000" cy="428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332880" y="1617480"/>
              <a:ext cx="80280" cy="43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H="1">
              <a:off x="1989360" y="1623240"/>
              <a:ext cx="633240" cy="426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H="1">
              <a:off x="2828880" y="1617480"/>
              <a:ext cx="111600" cy="43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flipH="1">
              <a:off x="5603040" y="1617480"/>
              <a:ext cx="149760" cy="43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119720" y="1617480"/>
              <a:ext cx="866520" cy="44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846120" y="1623240"/>
              <a:ext cx="273240" cy="43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306840" y="1623240"/>
              <a:ext cx="147960" cy="43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V="1">
              <a:off x="1288800" y="2443680"/>
              <a:ext cx="495000" cy="345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H="1" flipV="1">
              <a:off x="2039400" y="2437920"/>
              <a:ext cx="353880" cy="368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a:off x="3253680" y="2255760"/>
              <a:ext cx="199440" cy="543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07640" y="2255760"/>
              <a:ext cx="186480" cy="543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flipH="1">
              <a:off x="5118120" y="2261520"/>
              <a:ext cx="466920" cy="537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814720" y="2261520"/>
              <a:ext cx="442080" cy="537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H="1">
              <a:off x="7163640" y="2255760"/>
              <a:ext cx="155520" cy="543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511760" y="2266920"/>
              <a:ext cx="155520" cy="543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4" name=""/>
            <p:cNvGrpSpPr/>
            <p:nvPr/>
          </p:nvGrpSpPr>
          <p:grpSpPr>
            <a:xfrm>
              <a:off x="765720" y="3219120"/>
              <a:ext cx="961920" cy="159480"/>
              <a:chOff x="765720" y="3219120"/>
              <a:chExt cx="961920" cy="159480"/>
            </a:xfrm>
          </p:grpSpPr>
          <p:sp>
            <p:nvSpPr>
              <p:cNvPr id="625" name=""/>
              <p:cNvSpPr/>
              <p:nvPr/>
            </p:nvSpPr>
            <p:spPr>
              <a:xfrm flipH="1">
                <a:off x="765720" y="3219120"/>
                <a:ext cx="488880" cy="159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337040" y="3219120"/>
                <a:ext cx="390600" cy="159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flipH="1">
              <a:off x="4794840" y="3012120"/>
              <a:ext cx="193680" cy="373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217840" y="3016440"/>
              <a:ext cx="192600" cy="374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5995080" y="3012120"/>
              <a:ext cx="192600" cy="373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417360" y="3016440"/>
              <a:ext cx="193680" cy="374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0" y="4156200"/>
            <a:ext cx="9143280" cy="2887560"/>
            <a:chOff x="0" y="4156200"/>
            <a:chExt cx="9143280" cy="2887560"/>
          </a:xfrm>
        </p:grpSpPr>
        <p:grpSp>
          <p:nvGrpSpPr>
            <p:cNvPr id="632" name=""/>
            <p:cNvGrpSpPr/>
            <p:nvPr/>
          </p:nvGrpSpPr>
          <p:grpSpPr>
            <a:xfrm>
              <a:off x="0" y="4156200"/>
              <a:ext cx="7783200" cy="2887560"/>
              <a:chOff x="0" y="4156200"/>
              <a:chExt cx="7783200" cy="2887560"/>
            </a:xfrm>
          </p:grpSpPr>
          <p:sp>
            <p:nvSpPr>
              <p:cNvPr id="633" name=""/>
              <p:cNvSpPr/>
              <p:nvPr/>
            </p:nvSpPr>
            <p:spPr>
              <a:xfrm>
                <a:off x="5301720" y="4156200"/>
                <a:ext cx="1317240" cy="2887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632320" y="4156200"/>
                <a:ext cx="1325520" cy="2887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0" y="4156200"/>
                <a:ext cx="1325520" cy="2887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111600" y="4629960"/>
                <a:ext cx="1082520" cy="237240"/>
              </a:xfrm>
              <a:custGeom>
                <a:avLst/>
                <a:gdLst/>
                <a:ahLst/>
                <a:rect l="l" t="t" r="r" b="b"/>
                <a:pathLst>
                  <a:path w="5896" h="1201">
                    <a:moveTo>
                      <a:pt x="0" y="855"/>
                    </a:moveTo>
                    <a:lnTo>
                      <a:pt x="45" y="930"/>
                    </a:lnTo>
                    <a:lnTo>
                      <a:pt x="90" y="990"/>
                    </a:lnTo>
                    <a:lnTo>
                      <a:pt x="135" y="1035"/>
                    </a:lnTo>
                    <a:lnTo>
                      <a:pt x="180" y="1096"/>
                    </a:lnTo>
                    <a:lnTo>
                      <a:pt x="240" y="1126"/>
                    </a:lnTo>
                    <a:lnTo>
                      <a:pt x="285" y="1156"/>
                    </a:lnTo>
                    <a:lnTo>
                      <a:pt x="330" y="1186"/>
                    </a:lnTo>
                    <a:lnTo>
                      <a:pt x="375" y="1201"/>
                    </a:lnTo>
                    <a:lnTo>
                      <a:pt x="420" y="1201"/>
                    </a:lnTo>
                    <a:lnTo>
                      <a:pt x="465" y="1201"/>
                    </a:lnTo>
                    <a:lnTo>
                      <a:pt x="510" y="1186"/>
                    </a:lnTo>
                    <a:lnTo>
                      <a:pt x="555" y="1171"/>
                    </a:lnTo>
                    <a:lnTo>
                      <a:pt x="600" y="1141"/>
                    </a:lnTo>
                    <a:lnTo>
                      <a:pt x="645" y="1126"/>
                    </a:lnTo>
                    <a:lnTo>
                      <a:pt x="690" y="1081"/>
                    </a:lnTo>
                    <a:lnTo>
                      <a:pt x="750" y="1050"/>
                    </a:lnTo>
                    <a:lnTo>
                      <a:pt x="795" y="1005"/>
                    </a:lnTo>
                    <a:lnTo>
                      <a:pt x="840" y="960"/>
                    </a:lnTo>
                    <a:lnTo>
                      <a:pt x="885" y="930"/>
                    </a:lnTo>
                    <a:lnTo>
                      <a:pt x="930" y="885"/>
                    </a:lnTo>
                    <a:lnTo>
                      <a:pt x="975" y="840"/>
                    </a:lnTo>
                    <a:lnTo>
                      <a:pt x="1020" y="810"/>
                    </a:lnTo>
                    <a:lnTo>
                      <a:pt x="1065" y="780"/>
                    </a:lnTo>
                    <a:lnTo>
                      <a:pt x="1110" y="750"/>
                    </a:lnTo>
                    <a:lnTo>
                      <a:pt x="1155" y="735"/>
                    </a:lnTo>
                    <a:lnTo>
                      <a:pt x="1215" y="705"/>
                    </a:lnTo>
                    <a:lnTo>
                      <a:pt x="1260" y="690"/>
                    </a:lnTo>
                    <a:lnTo>
                      <a:pt x="1305" y="690"/>
                    </a:lnTo>
                    <a:lnTo>
                      <a:pt x="1350" y="675"/>
                    </a:lnTo>
                    <a:lnTo>
                      <a:pt x="1395" y="675"/>
                    </a:lnTo>
                    <a:lnTo>
                      <a:pt x="1440" y="675"/>
                    </a:lnTo>
                    <a:lnTo>
                      <a:pt x="1485" y="675"/>
                    </a:lnTo>
                    <a:lnTo>
                      <a:pt x="1530" y="675"/>
                    </a:lnTo>
                    <a:lnTo>
                      <a:pt x="1575" y="675"/>
                    </a:lnTo>
                    <a:lnTo>
                      <a:pt x="1620" y="675"/>
                    </a:lnTo>
                    <a:lnTo>
                      <a:pt x="1665" y="675"/>
                    </a:lnTo>
                    <a:lnTo>
                      <a:pt x="1725" y="675"/>
                    </a:lnTo>
                    <a:lnTo>
                      <a:pt x="1770" y="675"/>
                    </a:lnTo>
                    <a:lnTo>
                      <a:pt x="1815" y="675"/>
                    </a:lnTo>
                    <a:lnTo>
                      <a:pt x="1860" y="660"/>
                    </a:lnTo>
                    <a:lnTo>
                      <a:pt x="1905" y="660"/>
                    </a:lnTo>
                    <a:lnTo>
                      <a:pt x="1950" y="645"/>
                    </a:lnTo>
                    <a:lnTo>
                      <a:pt x="1995" y="630"/>
                    </a:lnTo>
                    <a:lnTo>
                      <a:pt x="2040" y="600"/>
                    </a:lnTo>
                    <a:lnTo>
                      <a:pt x="2085" y="585"/>
                    </a:lnTo>
                    <a:lnTo>
                      <a:pt x="2130" y="570"/>
                    </a:lnTo>
                    <a:lnTo>
                      <a:pt x="2175" y="540"/>
                    </a:lnTo>
                    <a:lnTo>
                      <a:pt x="2235" y="525"/>
                    </a:lnTo>
                    <a:lnTo>
                      <a:pt x="2280" y="495"/>
                    </a:lnTo>
                    <a:lnTo>
                      <a:pt x="2325" y="480"/>
                    </a:lnTo>
                    <a:lnTo>
                      <a:pt x="2370" y="465"/>
                    </a:lnTo>
                    <a:lnTo>
                      <a:pt x="2415" y="450"/>
                    </a:lnTo>
                    <a:lnTo>
                      <a:pt x="2460" y="435"/>
                    </a:lnTo>
                    <a:lnTo>
                      <a:pt x="2505" y="420"/>
                    </a:lnTo>
                    <a:lnTo>
                      <a:pt x="2550" y="405"/>
                    </a:lnTo>
                    <a:lnTo>
                      <a:pt x="2595" y="405"/>
                    </a:lnTo>
                    <a:lnTo>
                      <a:pt x="2640" y="405"/>
                    </a:lnTo>
                    <a:lnTo>
                      <a:pt x="2685" y="405"/>
                    </a:lnTo>
                    <a:lnTo>
                      <a:pt x="2745" y="420"/>
                    </a:lnTo>
                    <a:lnTo>
                      <a:pt x="2790" y="435"/>
                    </a:lnTo>
                    <a:lnTo>
                      <a:pt x="2836" y="450"/>
                    </a:lnTo>
                    <a:lnTo>
                      <a:pt x="2881" y="465"/>
                    </a:lnTo>
                    <a:lnTo>
                      <a:pt x="2926" y="480"/>
                    </a:lnTo>
                    <a:lnTo>
                      <a:pt x="2971" y="495"/>
                    </a:lnTo>
                    <a:lnTo>
                      <a:pt x="3016" y="510"/>
                    </a:lnTo>
                    <a:lnTo>
                      <a:pt x="3061" y="540"/>
                    </a:lnTo>
                    <a:lnTo>
                      <a:pt x="3106" y="555"/>
                    </a:lnTo>
                    <a:lnTo>
                      <a:pt x="3151" y="570"/>
                    </a:lnTo>
                    <a:lnTo>
                      <a:pt x="3211" y="585"/>
                    </a:lnTo>
                    <a:lnTo>
                      <a:pt x="3256" y="585"/>
                    </a:lnTo>
                    <a:lnTo>
                      <a:pt x="3301" y="600"/>
                    </a:lnTo>
                    <a:lnTo>
                      <a:pt x="3346" y="600"/>
                    </a:lnTo>
                    <a:lnTo>
                      <a:pt x="3391" y="600"/>
                    </a:lnTo>
                    <a:lnTo>
                      <a:pt x="3436" y="600"/>
                    </a:lnTo>
                    <a:lnTo>
                      <a:pt x="3481" y="585"/>
                    </a:lnTo>
                    <a:lnTo>
                      <a:pt x="3526" y="585"/>
                    </a:lnTo>
                    <a:lnTo>
                      <a:pt x="3571" y="570"/>
                    </a:lnTo>
                    <a:lnTo>
                      <a:pt x="3616" y="555"/>
                    </a:lnTo>
                    <a:lnTo>
                      <a:pt x="3661" y="525"/>
                    </a:lnTo>
                    <a:lnTo>
                      <a:pt x="3721" y="510"/>
                    </a:lnTo>
                    <a:lnTo>
                      <a:pt x="3766" y="480"/>
                    </a:lnTo>
                    <a:lnTo>
                      <a:pt x="3811" y="465"/>
                    </a:lnTo>
                    <a:lnTo>
                      <a:pt x="3856" y="435"/>
                    </a:lnTo>
                    <a:lnTo>
                      <a:pt x="3901" y="405"/>
                    </a:lnTo>
                    <a:lnTo>
                      <a:pt x="3946" y="390"/>
                    </a:lnTo>
                    <a:lnTo>
                      <a:pt x="3991" y="360"/>
                    </a:lnTo>
                    <a:lnTo>
                      <a:pt x="4036" y="330"/>
                    </a:lnTo>
                    <a:lnTo>
                      <a:pt x="4081" y="315"/>
                    </a:lnTo>
                    <a:lnTo>
                      <a:pt x="4126" y="300"/>
                    </a:lnTo>
                    <a:lnTo>
                      <a:pt x="4171" y="270"/>
                    </a:lnTo>
                    <a:lnTo>
                      <a:pt x="4231" y="255"/>
                    </a:lnTo>
                    <a:lnTo>
                      <a:pt x="4276" y="240"/>
                    </a:lnTo>
                    <a:lnTo>
                      <a:pt x="4321" y="225"/>
                    </a:lnTo>
                    <a:lnTo>
                      <a:pt x="4366" y="210"/>
                    </a:lnTo>
                    <a:lnTo>
                      <a:pt x="4411" y="195"/>
                    </a:lnTo>
                    <a:lnTo>
                      <a:pt x="4456" y="180"/>
                    </a:lnTo>
                    <a:lnTo>
                      <a:pt x="4501" y="165"/>
                    </a:lnTo>
                    <a:lnTo>
                      <a:pt x="4546" y="150"/>
                    </a:lnTo>
                    <a:lnTo>
                      <a:pt x="4591" y="135"/>
                    </a:lnTo>
                    <a:lnTo>
                      <a:pt x="4636" y="120"/>
                    </a:lnTo>
                    <a:lnTo>
                      <a:pt x="4681" y="105"/>
                    </a:lnTo>
                    <a:lnTo>
                      <a:pt x="4741" y="90"/>
                    </a:lnTo>
                    <a:lnTo>
                      <a:pt x="4786" y="75"/>
                    </a:lnTo>
                    <a:lnTo>
                      <a:pt x="4831" y="60"/>
                    </a:lnTo>
                    <a:lnTo>
                      <a:pt x="4876" y="45"/>
                    </a:lnTo>
                    <a:lnTo>
                      <a:pt x="4921" y="30"/>
                    </a:lnTo>
                    <a:lnTo>
                      <a:pt x="4966" y="15"/>
                    </a:lnTo>
                    <a:lnTo>
                      <a:pt x="5011" y="0"/>
                    </a:lnTo>
                    <a:lnTo>
                      <a:pt x="5056" y="0"/>
                    </a:lnTo>
                    <a:lnTo>
                      <a:pt x="5101" y="0"/>
                    </a:lnTo>
                    <a:lnTo>
                      <a:pt x="5146" y="0"/>
                    </a:lnTo>
                    <a:lnTo>
                      <a:pt x="5191" y="15"/>
                    </a:lnTo>
                    <a:lnTo>
                      <a:pt x="5251" y="30"/>
                    </a:lnTo>
                    <a:lnTo>
                      <a:pt x="5296" y="45"/>
                    </a:lnTo>
                    <a:lnTo>
                      <a:pt x="5341" y="75"/>
                    </a:lnTo>
                    <a:lnTo>
                      <a:pt x="5386" y="105"/>
                    </a:lnTo>
                    <a:lnTo>
                      <a:pt x="5431" y="150"/>
                    </a:lnTo>
                    <a:lnTo>
                      <a:pt x="5476" y="195"/>
                    </a:lnTo>
                    <a:lnTo>
                      <a:pt x="5521" y="240"/>
                    </a:lnTo>
                    <a:lnTo>
                      <a:pt x="5566" y="300"/>
                    </a:lnTo>
                    <a:lnTo>
                      <a:pt x="5611" y="360"/>
                    </a:lnTo>
                    <a:lnTo>
                      <a:pt x="5656" y="435"/>
                    </a:lnTo>
                    <a:lnTo>
                      <a:pt x="5716" y="495"/>
                    </a:lnTo>
                    <a:lnTo>
                      <a:pt x="5761" y="570"/>
                    </a:lnTo>
                    <a:lnTo>
                      <a:pt x="5806" y="645"/>
                    </a:lnTo>
                    <a:lnTo>
                      <a:pt x="5851" y="720"/>
                    </a:lnTo>
                    <a:lnTo>
                      <a:pt x="5896" y="795"/>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08720" y="5047560"/>
                <a:ext cx="1080000" cy="88920"/>
              </a:xfrm>
              <a:custGeom>
                <a:avLst/>
                <a:gdLst/>
                <a:ahLst/>
                <a:rect l="l" t="t" r="r" b="b"/>
                <a:pathLst>
                  <a:path w="5896" h="4186">
                    <a:moveTo>
                      <a:pt x="0" y="2715"/>
                    </a:moveTo>
                    <a:lnTo>
                      <a:pt x="45" y="2820"/>
                    </a:lnTo>
                    <a:lnTo>
                      <a:pt x="90" y="2910"/>
                    </a:lnTo>
                    <a:lnTo>
                      <a:pt x="135" y="3000"/>
                    </a:lnTo>
                    <a:lnTo>
                      <a:pt x="180" y="3090"/>
                    </a:lnTo>
                    <a:lnTo>
                      <a:pt x="240" y="3180"/>
                    </a:lnTo>
                    <a:lnTo>
                      <a:pt x="285" y="3270"/>
                    </a:lnTo>
                    <a:lnTo>
                      <a:pt x="330" y="3360"/>
                    </a:lnTo>
                    <a:lnTo>
                      <a:pt x="375" y="3435"/>
                    </a:lnTo>
                    <a:lnTo>
                      <a:pt x="420" y="3510"/>
                    </a:lnTo>
                    <a:lnTo>
                      <a:pt x="465" y="3585"/>
                    </a:lnTo>
                    <a:lnTo>
                      <a:pt x="510" y="3660"/>
                    </a:lnTo>
                    <a:lnTo>
                      <a:pt x="555" y="3720"/>
                    </a:lnTo>
                    <a:lnTo>
                      <a:pt x="600" y="3780"/>
                    </a:lnTo>
                    <a:lnTo>
                      <a:pt x="645" y="3840"/>
                    </a:lnTo>
                    <a:lnTo>
                      <a:pt x="690" y="3900"/>
                    </a:lnTo>
                    <a:lnTo>
                      <a:pt x="750" y="3946"/>
                    </a:lnTo>
                    <a:lnTo>
                      <a:pt x="795" y="3991"/>
                    </a:lnTo>
                    <a:lnTo>
                      <a:pt x="840" y="4036"/>
                    </a:lnTo>
                    <a:lnTo>
                      <a:pt x="885" y="4081"/>
                    </a:lnTo>
                    <a:lnTo>
                      <a:pt x="930" y="4111"/>
                    </a:lnTo>
                    <a:lnTo>
                      <a:pt x="975" y="4126"/>
                    </a:lnTo>
                    <a:lnTo>
                      <a:pt x="1020" y="4156"/>
                    </a:lnTo>
                    <a:lnTo>
                      <a:pt x="1065" y="4171"/>
                    </a:lnTo>
                    <a:lnTo>
                      <a:pt x="1110" y="4186"/>
                    </a:lnTo>
                    <a:lnTo>
                      <a:pt x="1155" y="4186"/>
                    </a:lnTo>
                    <a:lnTo>
                      <a:pt x="1215" y="4186"/>
                    </a:lnTo>
                    <a:lnTo>
                      <a:pt x="1260" y="4186"/>
                    </a:lnTo>
                    <a:lnTo>
                      <a:pt x="1305" y="4186"/>
                    </a:lnTo>
                    <a:lnTo>
                      <a:pt x="1350" y="4171"/>
                    </a:lnTo>
                    <a:lnTo>
                      <a:pt x="1395" y="4141"/>
                    </a:lnTo>
                    <a:lnTo>
                      <a:pt x="1440" y="4126"/>
                    </a:lnTo>
                    <a:lnTo>
                      <a:pt x="1485" y="4096"/>
                    </a:lnTo>
                    <a:lnTo>
                      <a:pt x="1530" y="4066"/>
                    </a:lnTo>
                    <a:lnTo>
                      <a:pt x="1575" y="4021"/>
                    </a:lnTo>
                    <a:lnTo>
                      <a:pt x="1620" y="3991"/>
                    </a:lnTo>
                    <a:lnTo>
                      <a:pt x="1665" y="3931"/>
                    </a:lnTo>
                    <a:lnTo>
                      <a:pt x="1725" y="3885"/>
                    </a:lnTo>
                    <a:lnTo>
                      <a:pt x="1770" y="3825"/>
                    </a:lnTo>
                    <a:lnTo>
                      <a:pt x="1815" y="3765"/>
                    </a:lnTo>
                    <a:lnTo>
                      <a:pt x="1860" y="3705"/>
                    </a:lnTo>
                    <a:lnTo>
                      <a:pt x="1905" y="3630"/>
                    </a:lnTo>
                    <a:lnTo>
                      <a:pt x="1950" y="3570"/>
                    </a:lnTo>
                    <a:lnTo>
                      <a:pt x="1995" y="3495"/>
                    </a:lnTo>
                    <a:lnTo>
                      <a:pt x="2040" y="3405"/>
                    </a:lnTo>
                    <a:lnTo>
                      <a:pt x="2085" y="3330"/>
                    </a:lnTo>
                    <a:lnTo>
                      <a:pt x="2130" y="3240"/>
                    </a:lnTo>
                    <a:lnTo>
                      <a:pt x="2175" y="3165"/>
                    </a:lnTo>
                    <a:lnTo>
                      <a:pt x="2235" y="3075"/>
                    </a:lnTo>
                    <a:lnTo>
                      <a:pt x="2280" y="2970"/>
                    </a:lnTo>
                    <a:lnTo>
                      <a:pt x="2325" y="2880"/>
                    </a:lnTo>
                    <a:lnTo>
                      <a:pt x="2370" y="2790"/>
                    </a:lnTo>
                    <a:lnTo>
                      <a:pt x="2415" y="2685"/>
                    </a:lnTo>
                    <a:lnTo>
                      <a:pt x="2460" y="2580"/>
                    </a:lnTo>
                    <a:lnTo>
                      <a:pt x="2505" y="2490"/>
                    </a:lnTo>
                    <a:lnTo>
                      <a:pt x="2550" y="2385"/>
                    </a:lnTo>
                    <a:lnTo>
                      <a:pt x="2595" y="2280"/>
                    </a:lnTo>
                    <a:lnTo>
                      <a:pt x="2640" y="2175"/>
                    </a:lnTo>
                    <a:lnTo>
                      <a:pt x="2685" y="2070"/>
                    </a:lnTo>
                    <a:lnTo>
                      <a:pt x="2745" y="1980"/>
                    </a:lnTo>
                    <a:lnTo>
                      <a:pt x="2790" y="1875"/>
                    </a:lnTo>
                    <a:lnTo>
                      <a:pt x="2836" y="1770"/>
                    </a:lnTo>
                    <a:lnTo>
                      <a:pt x="2881" y="1665"/>
                    </a:lnTo>
                    <a:lnTo>
                      <a:pt x="2926" y="1575"/>
                    </a:lnTo>
                    <a:lnTo>
                      <a:pt x="2971" y="1470"/>
                    </a:lnTo>
                    <a:lnTo>
                      <a:pt x="3016" y="1365"/>
                    </a:lnTo>
                    <a:lnTo>
                      <a:pt x="3061" y="1275"/>
                    </a:lnTo>
                    <a:lnTo>
                      <a:pt x="3106" y="1185"/>
                    </a:lnTo>
                    <a:lnTo>
                      <a:pt x="3151" y="1095"/>
                    </a:lnTo>
                    <a:lnTo>
                      <a:pt x="3211" y="1005"/>
                    </a:lnTo>
                    <a:lnTo>
                      <a:pt x="3256" y="915"/>
                    </a:lnTo>
                    <a:lnTo>
                      <a:pt x="3301" y="825"/>
                    </a:lnTo>
                    <a:lnTo>
                      <a:pt x="3346" y="750"/>
                    </a:lnTo>
                    <a:lnTo>
                      <a:pt x="3391" y="675"/>
                    </a:lnTo>
                    <a:lnTo>
                      <a:pt x="3436" y="600"/>
                    </a:lnTo>
                    <a:lnTo>
                      <a:pt x="3481" y="525"/>
                    </a:lnTo>
                    <a:lnTo>
                      <a:pt x="3526" y="465"/>
                    </a:lnTo>
                    <a:lnTo>
                      <a:pt x="3571" y="405"/>
                    </a:lnTo>
                    <a:lnTo>
                      <a:pt x="3616" y="345"/>
                    </a:lnTo>
                    <a:lnTo>
                      <a:pt x="3661" y="285"/>
                    </a:lnTo>
                    <a:lnTo>
                      <a:pt x="3721" y="240"/>
                    </a:lnTo>
                    <a:lnTo>
                      <a:pt x="3766" y="195"/>
                    </a:lnTo>
                    <a:lnTo>
                      <a:pt x="3811" y="150"/>
                    </a:lnTo>
                    <a:lnTo>
                      <a:pt x="3856" y="105"/>
                    </a:lnTo>
                    <a:lnTo>
                      <a:pt x="3901" y="75"/>
                    </a:lnTo>
                    <a:lnTo>
                      <a:pt x="3946" y="60"/>
                    </a:lnTo>
                    <a:lnTo>
                      <a:pt x="3991" y="30"/>
                    </a:lnTo>
                    <a:lnTo>
                      <a:pt x="4036" y="15"/>
                    </a:lnTo>
                    <a:lnTo>
                      <a:pt x="4081" y="0"/>
                    </a:lnTo>
                    <a:lnTo>
                      <a:pt x="4126" y="0"/>
                    </a:lnTo>
                    <a:lnTo>
                      <a:pt x="4171" y="0"/>
                    </a:lnTo>
                    <a:lnTo>
                      <a:pt x="4231" y="0"/>
                    </a:lnTo>
                    <a:lnTo>
                      <a:pt x="4276" y="0"/>
                    </a:lnTo>
                    <a:lnTo>
                      <a:pt x="4321" y="15"/>
                    </a:lnTo>
                    <a:lnTo>
                      <a:pt x="4366" y="45"/>
                    </a:lnTo>
                    <a:lnTo>
                      <a:pt x="4411" y="60"/>
                    </a:lnTo>
                    <a:lnTo>
                      <a:pt x="4456" y="90"/>
                    </a:lnTo>
                    <a:lnTo>
                      <a:pt x="4501" y="120"/>
                    </a:lnTo>
                    <a:lnTo>
                      <a:pt x="4546" y="165"/>
                    </a:lnTo>
                    <a:lnTo>
                      <a:pt x="4591" y="195"/>
                    </a:lnTo>
                    <a:lnTo>
                      <a:pt x="4636" y="255"/>
                    </a:lnTo>
                    <a:lnTo>
                      <a:pt x="4681" y="300"/>
                    </a:lnTo>
                    <a:lnTo>
                      <a:pt x="4741" y="360"/>
                    </a:lnTo>
                    <a:lnTo>
                      <a:pt x="4786" y="420"/>
                    </a:lnTo>
                    <a:lnTo>
                      <a:pt x="4831" y="480"/>
                    </a:lnTo>
                    <a:lnTo>
                      <a:pt x="4876" y="555"/>
                    </a:lnTo>
                    <a:lnTo>
                      <a:pt x="4921" y="615"/>
                    </a:lnTo>
                    <a:lnTo>
                      <a:pt x="4966" y="690"/>
                    </a:lnTo>
                    <a:lnTo>
                      <a:pt x="5011" y="780"/>
                    </a:lnTo>
                    <a:lnTo>
                      <a:pt x="5056" y="855"/>
                    </a:lnTo>
                    <a:lnTo>
                      <a:pt x="5101" y="945"/>
                    </a:lnTo>
                    <a:lnTo>
                      <a:pt x="5146" y="1020"/>
                    </a:lnTo>
                    <a:lnTo>
                      <a:pt x="5191" y="1110"/>
                    </a:lnTo>
                    <a:lnTo>
                      <a:pt x="5251" y="1215"/>
                    </a:lnTo>
                    <a:lnTo>
                      <a:pt x="5296" y="1305"/>
                    </a:lnTo>
                    <a:lnTo>
                      <a:pt x="5341" y="1395"/>
                    </a:lnTo>
                    <a:lnTo>
                      <a:pt x="5386" y="1500"/>
                    </a:lnTo>
                    <a:lnTo>
                      <a:pt x="5431" y="1605"/>
                    </a:lnTo>
                    <a:lnTo>
                      <a:pt x="5476" y="1695"/>
                    </a:lnTo>
                    <a:lnTo>
                      <a:pt x="5521" y="1800"/>
                    </a:lnTo>
                    <a:lnTo>
                      <a:pt x="5566" y="1905"/>
                    </a:lnTo>
                    <a:lnTo>
                      <a:pt x="5611" y="2010"/>
                    </a:lnTo>
                    <a:lnTo>
                      <a:pt x="5656" y="2115"/>
                    </a:lnTo>
                    <a:lnTo>
                      <a:pt x="5716" y="2205"/>
                    </a:lnTo>
                    <a:lnTo>
                      <a:pt x="5761" y="2310"/>
                    </a:lnTo>
                    <a:lnTo>
                      <a:pt x="5806" y="2415"/>
                    </a:lnTo>
                    <a:lnTo>
                      <a:pt x="5851" y="2520"/>
                    </a:lnTo>
                    <a:lnTo>
                      <a:pt x="5896" y="2610"/>
                    </a:lnTo>
                  </a:path>
                </a:pathLst>
              </a:custGeom>
              <a:noFill/>
              <a:ln w="1908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8" name=""/>
              <p:cNvSpPr/>
              <p:nvPr/>
            </p:nvSpPr>
            <p:spPr>
              <a:xfrm>
                <a:off x="108720" y="5505840"/>
                <a:ext cx="1080000" cy="97920"/>
              </a:xfrm>
              <a:custGeom>
                <a:avLst/>
                <a:gdLst/>
                <a:ahLst/>
                <a:rect l="l" t="t" r="r" b="b"/>
                <a:pathLst>
                  <a:path w="5896" h="4606">
                    <a:moveTo>
                      <a:pt x="0" y="3330"/>
                    </a:moveTo>
                    <a:lnTo>
                      <a:pt x="45" y="3540"/>
                    </a:lnTo>
                    <a:lnTo>
                      <a:pt x="90" y="3720"/>
                    </a:lnTo>
                    <a:lnTo>
                      <a:pt x="135" y="3885"/>
                    </a:lnTo>
                    <a:lnTo>
                      <a:pt x="180" y="4050"/>
                    </a:lnTo>
                    <a:lnTo>
                      <a:pt x="240" y="4186"/>
                    </a:lnTo>
                    <a:lnTo>
                      <a:pt x="285" y="4306"/>
                    </a:lnTo>
                    <a:lnTo>
                      <a:pt x="330" y="4411"/>
                    </a:lnTo>
                    <a:lnTo>
                      <a:pt x="375" y="4501"/>
                    </a:lnTo>
                    <a:lnTo>
                      <a:pt x="420" y="4561"/>
                    </a:lnTo>
                    <a:lnTo>
                      <a:pt x="465" y="4591"/>
                    </a:lnTo>
                    <a:lnTo>
                      <a:pt x="510" y="4606"/>
                    </a:lnTo>
                    <a:lnTo>
                      <a:pt x="555" y="4606"/>
                    </a:lnTo>
                    <a:lnTo>
                      <a:pt x="600" y="4576"/>
                    </a:lnTo>
                    <a:lnTo>
                      <a:pt x="645" y="4531"/>
                    </a:lnTo>
                    <a:lnTo>
                      <a:pt x="690" y="4456"/>
                    </a:lnTo>
                    <a:lnTo>
                      <a:pt x="750" y="4366"/>
                    </a:lnTo>
                    <a:lnTo>
                      <a:pt x="795" y="4261"/>
                    </a:lnTo>
                    <a:lnTo>
                      <a:pt x="840" y="4126"/>
                    </a:lnTo>
                    <a:lnTo>
                      <a:pt x="885" y="3975"/>
                    </a:lnTo>
                    <a:lnTo>
                      <a:pt x="930" y="3810"/>
                    </a:lnTo>
                    <a:lnTo>
                      <a:pt x="975" y="3630"/>
                    </a:lnTo>
                    <a:lnTo>
                      <a:pt x="1020" y="3450"/>
                    </a:lnTo>
                    <a:lnTo>
                      <a:pt x="1065" y="3240"/>
                    </a:lnTo>
                    <a:lnTo>
                      <a:pt x="1110" y="3030"/>
                    </a:lnTo>
                    <a:lnTo>
                      <a:pt x="1155" y="2820"/>
                    </a:lnTo>
                    <a:lnTo>
                      <a:pt x="1215" y="2595"/>
                    </a:lnTo>
                    <a:lnTo>
                      <a:pt x="1260" y="2370"/>
                    </a:lnTo>
                    <a:lnTo>
                      <a:pt x="1305" y="2145"/>
                    </a:lnTo>
                    <a:lnTo>
                      <a:pt x="1350" y="1920"/>
                    </a:lnTo>
                    <a:lnTo>
                      <a:pt x="1395" y="1695"/>
                    </a:lnTo>
                    <a:lnTo>
                      <a:pt x="1440" y="1470"/>
                    </a:lnTo>
                    <a:lnTo>
                      <a:pt x="1485" y="1275"/>
                    </a:lnTo>
                    <a:lnTo>
                      <a:pt x="1530" y="1065"/>
                    </a:lnTo>
                    <a:lnTo>
                      <a:pt x="1575" y="885"/>
                    </a:lnTo>
                    <a:lnTo>
                      <a:pt x="1620" y="720"/>
                    </a:lnTo>
                    <a:lnTo>
                      <a:pt x="1665" y="555"/>
                    </a:lnTo>
                    <a:lnTo>
                      <a:pt x="1725" y="420"/>
                    </a:lnTo>
                    <a:lnTo>
                      <a:pt x="1770" y="300"/>
                    </a:lnTo>
                    <a:lnTo>
                      <a:pt x="1815" y="195"/>
                    </a:lnTo>
                    <a:lnTo>
                      <a:pt x="1860" y="105"/>
                    </a:lnTo>
                    <a:lnTo>
                      <a:pt x="1905" y="45"/>
                    </a:lnTo>
                    <a:lnTo>
                      <a:pt x="1950" y="15"/>
                    </a:lnTo>
                    <a:lnTo>
                      <a:pt x="1995" y="0"/>
                    </a:lnTo>
                    <a:lnTo>
                      <a:pt x="2040" y="0"/>
                    </a:lnTo>
                    <a:lnTo>
                      <a:pt x="2085" y="30"/>
                    </a:lnTo>
                    <a:lnTo>
                      <a:pt x="2130" y="75"/>
                    </a:lnTo>
                    <a:lnTo>
                      <a:pt x="2175" y="150"/>
                    </a:lnTo>
                    <a:lnTo>
                      <a:pt x="2235" y="240"/>
                    </a:lnTo>
                    <a:lnTo>
                      <a:pt x="2280" y="345"/>
                    </a:lnTo>
                    <a:lnTo>
                      <a:pt x="2325" y="480"/>
                    </a:lnTo>
                    <a:lnTo>
                      <a:pt x="2370" y="630"/>
                    </a:lnTo>
                    <a:lnTo>
                      <a:pt x="2415" y="795"/>
                    </a:lnTo>
                    <a:lnTo>
                      <a:pt x="2460" y="975"/>
                    </a:lnTo>
                    <a:lnTo>
                      <a:pt x="2505" y="1155"/>
                    </a:lnTo>
                    <a:lnTo>
                      <a:pt x="2550" y="1365"/>
                    </a:lnTo>
                    <a:lnTo>
                      <a:pt x="2595" y="1575"/>
                    </a:lnTo>
                    <a:lnTo>
                      <a:pt x="2640" y="1785"/>
                    </a:lnTo>
                    <a:lnTo>
                      <a:pt x="2685" y="2010"/>
                    </a:lnTo>
                    <a:lnTo>
                      <a:pt x="2745" y="2235"/>
                    </a:lnTo>
                    <a:lnTo>
                      <a:pt x="2790" y="2460"/>
                    </a:lnTo>
                    <a:lnTo>
                      <a:pt x="2836" y="2685"/>
                    </a:lnTo>
                    <a:lnTo>
                      <a:pt x="2881" y="2910"/>
                    </a:lnTo>
                    <a:lnTo>
                      <a:pt x="2926" y="3135"/>
                    </a:lnTo>
                    <a:lnTo>
                      <a:pt x="2971" y="3330"/>
                    </a:lnTo>
                    <a:lnTo>
                      <a:pt x="3016" y="3540"/>
                    </a:lnTo>
                    <a:lnTo>
                      <a:pt x="3061" y="3720"/>
                    </a:lnTo>
                    <a:lnTo>
                      <a:pt x="3106" y="3885"/>
                    </a:lnTo>
                    <a:lnTo>
                      <a:pt x="3151" y="4050"/>
                    </a:lnTo>
                    <a:lnTo>
                      <a:pt x="3211" y="4186"/>
                    </a:lnTo>
                    <a:lnTo>
                      <a:pt x="3256" y="4306"/>
                    </a:lnTo>
                    <a:lnTo>
                      <a:pt x="3301" y="4411"/>
                    </a:lnTo>
                    <a:lnTo>
                      <a:pt x="3346" y="4501"/>
                    </a:lnTo>
                    <a:lnTo>
                      <a:pt x="3391" y="4561"/>
                    </a:lnTo>
                    <a:lnTo>
                      <a:pt x="3436" y="4591"/>
                    </a:lnTo>
                    <a:lnTo>
                      <a:pt x="3481" y="4606"/>
                    </a:lnTo>
                    <a:lnTo>
                      <a:pt x="3526" y="4606"/>
                    </a:lnTo>
                    <a:lnTo>
                      <a:pt x="3571" y="4576"/>
                    </a:lnTo>
                    <a:lnTo>
                      <a:pt x="3616" y="4531"/>
                    </a:lnTo>
                    <a:lnTo>
                      <a:pt x="3661" y="4456"/>
                    </a:lnTo>
                    <a:lnTo>
                      <a:pt x="3721" y="4366"/>
                    </a:lnTo>
                    <a:lnTo>
                      <a:pt x="3766" y="4261"/>
                    </a:lnTo>
                    <a:lnTo>
                      <a:pt x="3811" y="4126"/>
                    </a:lnTo>
                    <a:lnTo>
                      <a:pt x="3856" y="3975"/>
                    </a:lnTo>
                    <a:lnTo>
                      <a:pt x="3901" y="3810"/>
                    </a:lnTo>
                    <a:lnTo>
                      <a:pt x="3946" y="3630"/>
                    </a:lnTo>
                    <a:lnTo>
                      <a:pt x="3991" y="3450"/>
                    </a:lnTo>
                    <a:lnTo>
                      <a:pt x="4036" y="3240"/>
                    </a:lnTo>
                    <a:lnTo>
                      <a:pt x="4081" y="3030"/>
                    </a:lnTo>
                    <a:lnTo>
                      <a:pt x="4126" y="2820"/>
                    </a:lnTo>
                    <a:lnTo>
                      <a:pt x="4171" y="2595"/>
                    </a:lnTo>
                    <a:lnTo>
                      <a:pt x="4231" y="2370"/>
                    </a:lnTo>
                    <a:lnTo>
                      <a:pt x="4276" y="2145"/>
                    </a:lnTo>
                    <a:lnTo>
                      <a:pt x="4321" y="1920"/>
                    </a:lnTo>
                    <a:lnTo>
                      <a:pt x="4366" y="1695"/>
                    </a:lnTo>
                    <a:lnTo>
                      <a:pt x="4411" y="1470"/>
                    </a:lnTo>
                    <a:lnTo>
                      <a:pt x="4456" y="1275"/>
                    </a:lnTo>
                    <a:lnTo>
                      <a:pt x="4501" y="1065"/>
                    </a:lnTo>
                    <a:lnTo>
                      <a:pt x="4546" y="885"/>
                    </a:lnTo>
                    <a:lnTo>
                      <a:pt x="4591" y="720"/>
                    </a:lnTo>
                    <a:lnTo>
                      <a:pt x="4636" y="555"/>
                    </a:lnTo>
                    <a:lnTo>
                      <a:pt x="4681" y="420"/>
                    </a:lnTo>
                    <a:lnTo>
                      <a:pt x="4741" y="300"/>
                    </a:lnTo>
                    <a:lnTo>
                      <a:pt x="4786" y="195"/>
                    </a:lnTo>
                    <a:lnTo>
                      <a:pt x="4831" y="105"/>
                    </a:lnTo>
                    <a:lnTo>
                      <a:pt x="4876" y="45"/>
                    </a:lnTo>
                    <a:lnTo>
                      <a:pt x="4921" y="15"/>
                    </a:lnTo>
                    <a:lnTo>
                      <a:pt x="4966" y="0"/>
                    </a:lnTo>
                    <a:lnTo>
                      <a:pt x="5011" y="0"/>
                    </a:lnTo>
                    <a:lnTo>
                      <a:pt x="5056" y="30"/>
                    </a:lnTo>
                    <a:lnTo>
                      <a:pt x="5101" y="75"/>
                    </a:lnTo>
                    <a:lnTo>
                      <a:pt x="5146" y="150"/>
                    </a:lnTo>
                    <a:lnTo>
                      <a:pt x="5191" y="240"/>
                    </a:lnTo>
                    <a:lnTo>
                      <a:pt x="5251" y="345"/>
                    </a:lnTo>
                    <a:lnTo>
                      <a:pt x="5296" y="480"/>
                    </a:lnTo>
                    <a:lnTo>
                      <a:pt x="5341" y="630"/>
                    </a:lnTo>
                    <a:lnTo>
                      <a:pt x="5386" y="795"/>
                    </a:lnTo>
                    <a:lnTo>
                      <a:pt x="5431" y="975"/>
                    </a:lnTo>
                    <a:lnTo>
                      <a:pt x="5476" y="1155"/>
                    </a:lnTo>
                    <a:lnTo>
                      <a:pt x="5521" y="1365"/>
                    </a:lnTo>
                    <a:lnTo>
                      <a:pt x="5566" y="1575"/>
                    </a:lnTo>
                    <a:lnTo>
                      <a:pt x="5611" y="1785"/>
                    </a:lnTo>
                    <a:lnTo>
                      <a:pt x="5656" y="2010"/>
                    </a:lnTo>
                    <a:lnTo>
                      <a:pt x="5716" y="2235"/>
                    </a:lnTo>
                    <a:lnTo>
                      <a:pt x="5761" y="2460"/>
                    </a:lnTo>
                    <a:lnTo>
                      <a:pt x="5806" y="2685"/>
                    </a:lnTo>
                    <a:lnTo>
                      <a:pt x="5851" y="2910"/>
                    </a:lnTo>
                    <a:lnTo>
                      <a:pt x="5896" y="3135"/>
                    </a:lnTo>
                  </a:path>
                </a:pathLst>
              </a:custGeom>
              <a:noFill/>
              <a:ln w="1908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08720" y="5906880"/>
                <a:ext cx="1080000" cy="91440"/>
              </a:xfrm>
              <a:custGeom>
                <a:avLst/>
                <a:gdLst/>
                <a:ahLst/>
                <a:rect l="l" t="t" r="r" b="b"/>
                <a:pathLst>
                  <a:path w="5896" h="4306">
                    <a:moveTo>
                      <a:pt x="0" y="3900"/>
                    </a:moveTo>
                    <a:lnTo>
                      <a:pt x="45" y="4066"/>
                    </a:lnTo>
                    <a:lnTo>
                      <a:pt x="90" y="4201"/>
                    </a:lnTo>
                    <a:lnTo>
                      <a:pt x="135" y="4276"/>
                    </a:lnTo>
                    <a:lnTo>
                      <a:pt x="180" y="4306"/>
                    </a:lnTo>
                    <a:lnTo>
                      <a:pt x="240" y="4291"/>
                    </a:lnTo>
                    <a:lnTo>
                      <a:pt x="285" y="4231"/>
                    </a:lnTo>
                    <a:lnTo>
                      <a:pt x="330" y="4126"/>
                    </a:lnTo>
                    <a:lnTo>
                      <a:pt x="375" y="3991"/>
                    </a:lnTo>
                    <a:lnTo>
                      <a:pt x="420" y="3795"/>
                    </a:lnTo>
                    <a:lnTo>
                      <a:pt x="465" y="3570"/>
                    </a:lnTo>
                    <a:lnTo>
                      <a:pt x="510" y="3315"/>
                    </a:lnTo>
                    <a:lnTo>
                      <a:pt x="555" y="3045"/>
                    </a:lnTo>
                    <a:lnTo>
                      <a:pt x="600" y="2745"/>
                    </a:lnTo>
                    <a:lnTo>
                      <a:pt x="645" y="2430"/>
                    </a:lnTo>
                    <a:lnTo>
                      <a:pt x="690" y="2115"/>
                    </a:lnTo>
                    <a:lnTo>
                      <a:pt x="750" y="1800"/>
                    </a:lnTo>
                    <a:lnTo>
                      <a:pt x="795" y="1485"/>
                    </a:lnTo>
                    <a:lnTo>
                      <a:pt x="840" y="1200"/>
                    </a:lnTo>
                    <a:lnTo>
                      <a:pt x="885" y="930"/>
                    </a:lnTo>
                    <a:lnTo>
                      <a:pt x="930" y="675"/>
                    </a:lnTo>
                    <a:lnTo>
                      <a:pt x="975" y="465"/>
                    </a:lnTo>
                    <a:lnTo>
                      <a:pt x="1020" y="285"/>
                    </a:lnTo>
                    <a:lnTo>
                      <a:pt x="1065" y="150"/>
                    </a:lnTo>
                    <a:lnTo>
                      <a:pt x="1110" y="60"/>
                    </a:lnTo>
                    <a:lnTo>
                      <a:pt x="1155" y="0"/>
                    </a:lnTo>
                    <a:lnTo>
                      <a:pt x="1215" y="0"/>
                    </a:lnTo>
                    <a:lnTo>
                      <a:pt x="1260" y="45"/>
                    </a:lnTo>
                    <a:lnTo>
                      <a:pt x="1305" y="135"/>
                    </a:lnTo>
                    <a:lnTo>
                      <a:pt x="1350" y="270"/>
                    </a:lnTo>
                    <a:lnTo>
                      <a:pt x="1395" y="435"/>
                    </a:lnTo>
                    <a:lnTo>
                      <a:pt x="1440" y="660"/>
                    </a:lnTo>
                    <a:lnTo>
                      <a:pt x="1485" y="900"/>
                    </a:lnTo>
                    <a:lnTo>
                      <a:pt x="1530" y="1170"/>
                    </a:lnTo>
                    <a:lnTo>
                      <a:pt x="1575" y="1455"/>
                    </a:lnTo>
                    <a:lnTo>
                      <a:pt x="1620" y="1770"/>
                    </a:lnTo>
                    <a:lnTo>
                      <a:pt x="1665" y="2085"/>
                    </a:lnTo>
                    <a:lnTo>
                      <a:pt x="1725" y="2400"/>
                    </a:lnTo>
                    <a:lnTo>
                      <a:pt x="1770" y="2715"/>
                    </a:lnTo>
                    <a:lnTo>
                      <a:pt x="1815" y="3015"/>
                    </a:lnTo>
                    <a:lnTo>
                      <a:pt x="1860" y="3285"/>
                    </a:lnTo>
                    <a:lnTo>
                      <a:pt x="1905" y="3555"/>
                    </a:lnTo>
                    <a:lnTo>
                      <a:pt x="1950" y="3780"/>
                    </a:lnTo>
                    <a:lnTo>
                      <a:pt x="1995" y="3960"/>
                    </a:lnTo>
                    <a:lnTo>
                      <a:pt x="2040" y="4111"/>
                    </a:lnTo>
                    <a:lnTo>
                      <a:pt x="2085" y="4231"/>
                    </a:lnTo>
                    <a:lnTo>
                      <a:pt x="2130" y="4291"/>
                    </a:lnTo>
                    <a:lnTo>
                      <a:pt x="2175" y="4306"/>
                    </a:lnTo>
                    <a:lnTo>
                      <a:pt x="2235" y="4276"/>
                    </a:lnTo>
                    <a:lnTo>
                      <a:pt x="2280" y="4201"/>
                    </a:lnTo>
                    <a:lnTo>
                      <a:pt x="2325" y="4081"/>
                    </a:lnTo>
                    <a:lnTo>
                      <a:pt x="2370" y="3930"/>
                    </a:lnTo>
                    <a:lnTo>
                      <a:pt x="2415" y="3720"/>
                    </a:lnTo>
                    <a:lnTo>
                      <a:pt x="2460" y="3495"/>
                    </a:lnTo>
                    <a:lnTo>
                      <a:pt x="2505" y="3225"/>
                    </a:lnTo>
                    <a:lnTo>
                      <a:pt x="2550" y="2940"/>
                    </a:lnTo>
                    <a:lnTo>
                      <a:pt x="2595" y="2640"/>
                    </a:lnTo>
                    <a:lnTo>
                      <a:pt x="2640" y="2325"/>
                    </a:lnTo>
                    <a:lnTo>
                      <a:pt x="2685" y="2010"/>
                    </a:lnTo>
                    <a:lnTo>
                      <a:pt x="2745" y="1695"/>
                    </a:lnTo>
                    <a:lnTo>
                      <a:pt x="2790" y="1395"/>
                    </a:lnTo>
                    <a:lnTo>
                      <a:pt x="2836" y="1110"/>
                    </a:lnTo>
                    <a:lnTo>
                      <a:pt x="2881" y="840"/>
                    </a:lnTo>
                    <a:lnTo>
                      <a:pt x="2926" y="600"/>
                    </a:lnTo>
                    <a:lnTo>
                      <a:pt x="2971" y="405"/>
                    </a:lnTo>
                    <a:lnTo>
                      <a:pt x="3016" y="240"/>
                    </a:lnTo>
                    <a:lnTo>
                      <a:pt x="3061" y="105"/>
                    </a:lnTo>
                    <a:lnTo>
                      <a:pt x="3106" y="30"/>
                    </a:lnTo>
                    <a:lnTo>
                      <a:pt x="3151" y="0"/>
                    </a:lnTo>
                    <a:lnTo>
                      <a:pt x="3211" y="15"/>
                    </a:lnTo>
                    <a:lnTo>
                      <a:pt x="3256" y="75"/>
                    </a:lnTo>
                    <a:lnTo>
                      <a:pt x="3301" y="180"/>
                    </a:lnTo>
                    <a:lnTo>
                      <a:pt x="3346" y="315"/>
                    </a:lnTo>
                    <a:lnTo>
                      <a:pt x="3391" y="510"/>
                    </a:lnTo>
                    <a:lnTo>
                      <a:pt x="3436" y="735"/>
                    </a:lnTo>
                    <a:lnTo>
                      <a:pt x="3481" y="990"/>
                    </a:lnTo>
                    <a:lnTo>
                      <a:pt x="3526" y="1260"/>
                    </a:lnTo>
                    <a:lnTo>
                      <a:pt x="3571" y="1560"/>
                    </a:lnTo>
                    <a:lnTo>
                      <a:pt x="3616" y="1875"/>
                    </a:lnTo>
                    <a:lnTo>
                      <a:pt x="3661" y="2190"/>
                    </a:lnTo>
                    <a:lnTo>
                      <a:pt x="3721" y="2505"/>
                    </a:lnTo>
                    <a:lnTo>
                      <a:pt x="3766" y="2820"/>
                    </a:lnTo>
                    <a:lnTo>
                      <a:pt x="3811" y="3105"/>
                    </a:lnTo>
                    <a:lnTo>
                      <a:pt x="3856" y="3375"/>
                    </a:lnTo>
                    <a:lnTo>
                      <a:pt x="3901" y="3630"/>
                    </a:lnTo>
                    <a:lnTo>
                      <a:pt x="3946" y="3840"/>
                    </a:lnTo>
                    <a:lnTo>
                      <a:pt x="3991" y="4021"/>
                    </a:lnTo>
                    <a:lnTo>
                      <a:pt x="4036" y="4156"/>
                    </a:lnTo>
                    <a:lnTo>
                      <a:pt x="4081" y="4246"/>
                    </a:lnTo>
                    <a:lnTo>
                      <a:pt x="4126" y="4306"/>
                    </a:lnTo>
                    <a:lnTo>
                      <a:pt x="4171" y="4306"/>
                    </a:lnTo>
                    <a:lnTo>
                      <a:pt x="4231" y="4261"/>
                    </a:lnTo>
                    <a:lnTo>
                      <a:pt x="4276" y="4171"/>
                    </a:lnTo>
                    <a:lnTo>
                      <a:pt x="4321" y="4036"/>
                    </a:lnTo>
                    <a:lnTo>
                      <a:pt x="4366" y="3870"/>
                    </a:lnTo>
                    <a:lnTo>
                      <a:pt x="4411" y="3645"/>
                    </a:lnTo>
                    <a:lnTo>
                      <a:pt x="4456" y="3405"/>
                    </a:lnTo>
                    <a:lnTo>
                      <a:pt x="4501" y="3135"/>
                    </a:lnTo>
                    <a:lnTo>
                      <a:pt x="4546" y="2850"/>
                    </a:lnTo>
                    <a:lnTo>
                      <a:pt x="4591" y="2535"/>
                    </a:lnTo>
                    <a:lnTo>
                      <a:pt x="4636" y="2220"/>
                    </a:lnTo>
                    <a:lnTo>
                      <a:pt x="4681" y="1905"/>
                    </a:lnTo>
                    <a:lnTo>
                      <a:pt x="4741" y="1590"/>
                    </a:lnTo>
                    <a:lnTo>
                      <a:pt x="4786" y="1290"/>
                    </a:lnTo>
                    <a:lnTo>
                      <a:pt x="4831" y="1020"/>
                    </a:lnTo>
                    <a:lnTo>
                      <a:pt x="4876" y="750"/>
                    </a:lnTo>
                    <a:lnTo>
                      <a:pt x="4921" y="525"/>
                    </a:lnTo>
                    <a:lnTo>
                      <a:pt x="4966" y="345"/>
                    </a:lnTo>
                    <a:lnTo>
                      <a:pt x="5011" y="195"/>
                    </a:lnTo>
                    <a:lnTo>
                      <a:pt x="5056" y="75"/>
                    </a:lnTo>
                    <a:lnTo>
                      <a:pt x="5101" y="15"/>
                    </a:lnTo>
                    <a:lnTo>
                      <a:pt x="5146" y="0"/>
                    </a:lnTo>
                    <a:lnTo>
                      <a:pt x="5191" y="30"/>
                    </a:lnTo>
                    <a:lnTo>
                      <a:pt x="5251" y="105"/>
                    </a:lnTo>
                    <a:lnTo>
                      <a:pt x="5296" y="225"/>
                    </a:lnTo>
                    <a:lnTo>
                      <a:pt x="5341" y="375"/>
                    </a:lnTo>
                    <a:lnTo>
                      <a:pt x="5386" y="585"/>
                    </a:lnTo>
                    <a:lnTo>
                      <a:pt x="5431" y="810"/>
                    </a:lnTo>
                    <a:lnTo>
                      <a:pt x="5476" y="1080"/>
                    </a:lnTo>
                    <a:lnTo>
                      <a:pt x="5521" y="1365"/>
                    </a:lnTo>
                    <a:lnTo>
                      <a:pt x="5566" y="1665"/>
                    </a:lnTo>
                    <a:lnTo>
                      <a:pt x="5611" y="1980"/>
                    </a:lnTo>
                    <a:lnTo>
                      <a:pt x="5656" y="2295"/>
                    </a:lnTo>
                    <a:lnTo>
                      <a:pt x="5716" y="2610"/>
                    </a:lnTo>
                    <a:lnTo>
                      <a:pt x="5761" y="2910"/>
                    </a:lnTo>
                    <a:lnTo>
                      <a:pt x="5806" y="3195"/>
                    </a:lnTo>
                    <a:lnTo>
                      <a:pt x="5851" y="3465"/>
                    </a:lnTo>
                    <a:lnTo>
                      <a:pt x="5896" y="3705"/>
                    </a:lnTo>
                  </a:path>
                </a:pathLst>
              </a:custGeom>
              <a:noFill/>
              <a:ln w="19080">
                <a:solidFill>
                  <a:srgbClr val="333333"/>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0" name=""/>
              <p:cNvSpPr/>
              <p:nvPr/>
            </p:nvSpPr>
            <p:spPr>
              <a:xfrm>
                <a:off x="108720" y="6304680"/>
                <a:ext cx="1080000" cy="92160"/>
              </a:xfrm>
              <a:custGeom>
                <a:avLst/>
                <a:gdLst/>
                <a:ahLst/>
                <a:rect l="l" t="t" r="r" b="b"/>
                <a:pathLst>
                  <a:path w="5896" h="4335">
                    <a:moveTo>
                      <a:pt x="0" y="2505"/>
                    </a:moveTo>
                    <a:lnTo>
                      <a:pt x="45" y="2925"/>
                    </a:lnTo>
                    <a:lnTo>
                      <a:pt x="90" y="3300"/>
                    </a:lnTo>
                    <a:lnTo>
                      <a:pt x="135" y="3645"/>
                    </a:lnTo>
                    <a:lnTo>
                      <a:pt x="180" y="3915"/>
                    </a:lnTo>
                    <a:lnTo>
                      <a:pt x="240" y="4140"/>
                    </a:lnTo>
                    <a:lnTo>
                      <a:pt x="285" y="4275"/>
                    </a:lnTo>
                    <a:lnTo>
                      <a:pt x="330" y="4335"/>
                    </a:lnTo>
                    <a:lnTo>
                      <a:pt x="375" y="4305"/>
                    </a:lnTo>
                    <a:lnTo>
                      <a:pt x="420" y="4200"/>
                    </a:lnTo>
                    <a:lnTo>
                      <a:pt x="465" y="4005"/>
                    </a:lnTo>
                    <a:lnTo>
                      <a:pt x="510" y="3750"/>
                    </a:lnTo>
                    <a:lnTo>
                      <a:pt x="555" y="3435"/>
                    </a:lnTo>
                    <a:lnTo>
                      <a:pt x="600" y="3060"/>
                    </a:lnTo>
                    <a:lnTo>
                      <a:pt x="645" y="2655"/>
                    </a:lnTo>
                    <a:lnTo>
                      <a:pt x="690" y="2235"/>
                    </a:lnTo>
                    <a:lnTo>
                      <a:pt x="750" y="1815"/>
                    </a:lnTo>
                    <a:lnTo>
                      <a:pt x="795" y="1410"/>
                    </a:lnTo>
                    <a:lnTo>
                      <a:pt x="840" y="1020"/>
                    </a:lnTo>
                    <a:lnTo>
                      <a:pt x="885" y="690"/>
                    </a:lnTo>
                    <a:lnTo>
                      <a:pt x="930" y="405"/>
                    </a:lnTo>
                    <a:lnTo>
                      <a:pt x="975" y="195"/>
                    </a:lnTo>
                    <a:lnTo>
                      <a:pt x="1020" y="45"/>
                    </a:lnTo>
                    <a:lnTo>
                      <a:pt x="1065" y="0"/>
                    </a:lnTo>
                    <a:lnTo>
                      <a:pt x="1110" y="15"/>
                    </a:lnTo>
                    <a:lnTo>
                      <a:pt x="1155" y="135"/>
                    </a:lnTo>
                    <a:lnTo>
                      <a:pt x="1215" y="315"/>
                    </a:lnTo>
                    <a:lnTo>
                      <a:pt x="1260" y="570"/>
                    </a:lnTo>
                    <a:lnTo>
                      <a:pt x="1305" y="885"/>
                    </a:lnTo>
                    <a:lnTo>
                      <a:pt x="1350" y="1260"/>
                    </a:lnTo>
                    <a:lnTo>
                      <a:pt x="1395" y="1665"/>
                    </a:lnTo>
                    <a:lnTo>
                      <a:pt x="1440" y="2085"/>
                    </a:lnTo>
                    <a:lnTo>
                      <a:pt x="1485" y="2505"/>
                    </a:lnTo>
                    <a:lnTo>
                      <a:pt x="1530" y="2925"/>
                    </a:lnTo>
                    <a:lnTo>
                      <a:pt x="1575" y="3300"/>
                    </a:lnTo>
                    <a:lnTo>
                      <a:pt x="1620" y="3645"/>
                    </a:lnTo>
                    <a:lnTo>
                      <a:pt x="1665" y="3915"/>
                    </a:lnTo>
                    <a:lnTo>
                      <a:pt x="1725" y="4140"/>
                    </a:lnTo>
                    <a:lnTo>
                      <a:pt x="1770" y="4275"/>
                    </a:lnTo>
                    <a:lnTo>
                      <a:pt x="1815" y="4335"/>
                    </a:lnTo>
                    <a:lnTo>
                      <a:pt x="1860" y="4305"/>
                    </a:lnTo>
                    <a:lnTo>
                      <a:pt x="1905" y="4200"/>
                    </a:lnTo>
                    <a:lnTo>
                      <a:pt x="1950" y="4005"/>
                    </a:lnTo>
                    <a:lnTo>
                      <a:pt x="1995" y="3750"/>
                    </a:lnTo>
                    <a:lnTo>
                      <a:pt x="2040" y="3435"/>
                    </a:lnTo>
                    <a:lnTo>
                      <a:pt x="2085" y="3060"/>
                    </a:lnTo>
                    <a:lnTo>
                      <a:pt x="2130" y="2655"/>
                    </a:lnTo>
                    <a:lnTo>
                      <a:pt x="2175" y="2235"/>
                    </a:lnTo>
                    <a:lnTo>
                      <a:pt x="2235" y="1815"/>
                    </a:lnTo>
                    <a:lnTo>
                      <a:pt x="2280" y="1410"/>
                    </a:lnTo>
                    <a:lnTo>
                      <a:pt x="2325" y="1020"/>
                    </a:lnTo>
                    <a:lnTo>
                      <a:pt x="2370" y="690"/>
                    </a:lnTo>
                    <a:lnTo>
                      <a:pt x="2415" y="405"/>
                    </a:lnTo>
                    <a:lnTo>
                      <a:pt x="2460" y="195"/>
                    </a:lnTo>
                    <a:lnTo>
                      <a:pt x="2505" y="45"/>
                    </a:lnTo>
                    <a:lnTo>
                      <a:pt x="2550" y="0"/>
                    </a:lnTo>
                    <a:lnTo>
                      <a:pt x="2595" y="15"/>
                    </a:lnTo>
                    <a:lnTo>
                      <a:pt x="2640" y="135"/>
                    </a:lnTo>
                    <a:lnTo>
                      <a:pt x="2685" y="315"/>
                    </a:lnTo>
                    <a:lnTo>
                      <a:pt x="2745" y="570"/>
                    </a:lnTo>
                    <a:lnTo>
                      <a:pt x="2790" y="885"/>
                    </a:lnTo>
                    <a:lnTo>
                      <a:pt x="2836" y="1260"/>
                    </a:lnTo>
                    <a:lnTo>
                      <a:pt x="2881" y="1665"/>
                    </a:lnTo>
                    <a:lnTo>
                      <a:pt x="2926" y="2085"/>
                    </a:lnTo>
                    <a:lnTo>
                      <a:pt x="2971" y="2505"/>
                    </a:lnTo>
                    <a:lnTo>
                      <a:pt x="3016" y="2925"/>
                    </a:lnTo>
                    <a:lnTo>
                      <a:pt x="3061" y="3300"/>
                    </a:lnTo>
                    <a:lnTo>
                      <a:pt x="3106" y="3645"/>
                    </a:lnTo>
                    <a:lnTo>
                      <a:pt x="3151" y="3915"/>
                    </a:lnTo>
                    <a:lnTo>
                      <a:pt x="3211" y="4140"/>
                    </a:lnTo>
                    <a:lnTo>
                      <a:pt x="3256" y="4275"/>
                    </a:lnTo>
                    <a:lnTo>
                      <a:pt x="3301" y="4335"/>
                    </a:lnTo>
                    <a:lnTo>
                      <a:pt x="3346" y="4305"/>
                    </a:lnTo>
                    <a:lnTo>
                      <a:pt x="3391" y="4200"/>
                    </a:lnTo>
                    <a:lnTo>
                      <a:pt x="3436" y="4005"/>
                    </a:lnTo>
                    <a:lnTo>
                      <a:pt x="3481" y="3750"/>
                    </a:lnTo>
                    <a:lnTo>
                      <a:pt x="3526" y="3435"/>
                    </a:lnTo>
                    <a:lnTo>
                      <a:pt x="3571" y="3060"/>
                    </a:lnTo>
                    <a:lnTo>
                      <a:pt x="3616" y="2655"/>
                    </a:lnTo>
                    <a:lnTo>
                      <a:pt x="3661" y="2235"/>
                    </a:lnTo>
                    <a:lnTo>
                      <a:pt x="3721" y="1815"/>
                    </a:lnTo>
                    <a:lnTo>
                      <a:pt x="3766" y="1410"/>
                    </a:lnTo>
                    <a:lnTo>
                      <a:pt x="3811" y="1020"/>
                    </a:lnTo>
                    <a:lnTo>
                      <a:pt x="3856" y="690"/>
                    </a:lnTo>
                    <a:lnTo>
                      <a:pt x="3901" y="405"/>
                    </a:lnTo>
                    <a:lnTo>
                      <a:pt x="3946" y="195"/>
                    </a:lnTo>
                    <a:lnTo>
                      <a:pt x="3991" y="45"/>
                    </a:lnTo>
                    <a:lnTo>
                      <a:pt x="4036" y="0"/>
                    </a:lnTo>
                    <a:lnTo>
                      <a:pt x="4081" y="15"/>
                    </a:lnTo>
                    <a:lnTo>
                      <a:pt x="4126" y="135"/>
                    </a:lnTo>
                    <a:lnTo>
                      <a:pt x="4171" y="315"/>
                    </a:lnTo>
                    <a:lnTo>
                      <a:pt x="4231" y="570"/>
                    </a:lnTo>
                    <a:lnTo>
                      <a:pt x="4276" y="885"/>
                    </a:lnTo>
                    <a:lnTo>
                      <a:pt x="4321" y="1260"/>
                    </a:lnTo>
                    <a:lnTo>
                      <a:pt x="4366" y="1665"/>
                    </a:lnTo>
                    <a:lnTo>
                      <a:pt x="4411" y="2085"/>
                    </a:lnTo>
                    <a:lnTo>
                      <a:pt x="4456" y="2505"/>
                    </a:lnTo>
                    <a:lnTo>
                      <a:pt x="4501" y="2925"/>
                    </a:lnTo>
                    <a:lnTo>
                      <a:pt x="4546" y="3300"/>
                    </a:lnTo>
                    <a:lnTo>
                      <a:pt x="4591" y="3645"/>
                    </a:lnTo>
                    <a:lnTo>
                      <a:pt x="4636" y="3915"/>
                    </a:lnTo>
                    <a:lnTo>
                      <a:pt x="4681" y="4140"/>
                    </a:lnTo>
                    <a:lnTo>
                      <a:pt x="4741" y="4275"/>
                    </a:lnTo>
                    <a:lnTo>
                      <a:pt x="4786" y="4335"/>
                    </a:lnTo>
                    <a:lnTo>
                      <a:pt x="4831" y="4305"/>
                    </a:lnTo>
                    <a:lnTo>
                      <a:pt x="4876" y="4200"/>
                    </a:lnTo>
                    <a:lnTo>
                      <a:pt x="4921" y="4005"/>
                    </a:lnTo>
                    <a:lnTo>
                      <a:pt x="4966" y="3750"/>
                    </a:lnTo>
                    <a:lnTo>
                      <a:pt x="5011" y="3435"/>
                    </a:lnTo>
                    <a:lnTo>
                      <a:pt x="5056" y="3060"/>
                    </a:lnTo>
                    <a:lnTo>
                      <a:pt x="5101" y="2655"/>
                    </a:lnTo>
                    <a:lnTo>
                      <a:pt x="5146" y="2235"/>
                    </a:lnTo>
                    <a:lnTo>
                      <a:pt x="5191" y="1815"/>
                    </a:lnTo>
                    <a:lnTo>
                      <a:pt x="5251" y="1410"/>
                    </a:lnTo>
                    <a:lnTo>
                      <a:pt x="5296" y="1020"/>
                    </a:lnTo>
                    <a:lnTo>
                      <a:pt x="5341" y="690"/>
                    </a:lnTo>
                    <a:lnTo>
                      <a:pt x="5386" y="405"/>
                    </a:lnTo>
                    <a:lnTo>
                      <a:pt x="5431" y="195"/>
                    </a:lnTo>
                    <a:lnTo>
                      <a:pt x="5476" y="45"/>
                    </a:lnTo>
                    <a:lnTo>
                      <a:pt x="5521" y="0"/>
                    </a:lnTo>
                    <a:lnTo>
                      <a:pt x="5566" y="15"/>
                    </a:lnTo>
                    <a:lnTo>
                      <a:pt x="5611" y="135"/>
                    </a:lnTo>
                    <a:lnTo>
                      <a:pt x="5656" y="315"/>
                    </a:lnTo>
                    <a:lnTo>
                      <a:pt x="5716" y="570"/>
                    </a:lnTo>
                    <a:lnTo>
                      <a:pt x="5761" y="885"/>
                    </a:lnTo>
                    <a:lnTo>
                      <a:pt x="5806" y="1260"/>
                    </a:lnTo>
                    <a:lnTo>
                      <a:pt x="5851" y="1665"/>
                    </a:lnTo>
                    <a:lnTo>
                      <a:pt x="5896" y="2085"/>
                    </a:lnTo>
                  </a:path>
                </a:pathLst>
              </a:custGeom>
              <a:noFill/>
              <a:ln w="19080">
                <a:solidFill>
                  <a:srgbClr val="333333"/>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
              <p:cNvSpPr/>
              <p:nvPr/>
            </p:nvSpPr>
            <p:spPr>
              <a:xfrm>
                <a:off x="99360" y="4907520"/>
                <a:ext cx="11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99360" y="4423320"/>
                <a:ext cx="0" cy="48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V="1">
                <a:off x="99360" y="4893480"/>
                <a:ext cx="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44" name=""/>
              <p:cNvSpPr/>
              <p:nvPr/>
            </p:nvSpPr>
            <p:spPr>
              <a:xfrm>
                <a:off x="90360" y="491832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645" name=""/>
              <p:cNvSpPr/>
              <p:nvPr/>
            </p:nvSpPr>
            <p:spPr>
              <a:xfrm flipV="1">
                <a:off x="266400" y="4893480"/>
                <a:ext cx="108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46" name=""/>
              <p:cNvSpPr/>
              <p:nvPr/>
            </p:nvSpPr>
            <p:spPr>
              <a:xfrm>
                <a:off x="244440" y="49183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a:t>
                </a:r>
                <a:endParaRPr b="0" lang="en-US" sz="700" spc="-1" strike="noStrike">
                  <a:solidFill>
                    <a:srgbClr val="000000"/>
                  </a:solidFill>
                  <a:latin typeface="Times New Roman"/>
                </a:endParaRPr>
              </a:p>
            </p:txBody>
          </p:sp>
          <p:sp>
            <p:nvSpPr>
              <p:cNvPr id="647" name=""/>
              <p:cNvSpPr/>
              <p:nvPr/>
            </p:nvSpPr>
            <p:spPr>
              <a:xfrm flipV="1">
                <a:off x="433440" y="4893480"/>
                <a:ext cx="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48" name=""/>
              <p:cNvSpPr/>
              <p:nvPr/>
            </p:nvSpPr>
            <p:spPr>
              <a:xfrm>
                <a:off x="414000" y="49183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0</a:t>
                </a:r>
                <a:endParaRPr b="0" lang="en-US" sz="700" spc="-1" strike="noStrike">
                  <a:solidFill>
                    <a:srgbClr val="000000"/>
                  </a:solidFill>
                  <a:latin typeface="Times New Roman"/>
                </a:endParaRPr>
              </a:p>
            </p:txBody>
          </p:sp>
          <p:sp>
            <p:nvSpPr>
              <p:cNvPr id="649" name=""/>
              <p:cNvSpPr/>
              <p:nvPr/>
            </p:nvSpPr>
            <p:spPr>
              <a:xfrm flipV="1">
                <a:off x="600480" y="4893480"/>
                <a:ext cx="144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50" name=""/>
              <p:cNvSpPr/>
              <p:nvPr/>
            </p:nvSpPr>
            <p:spPr>
              <a:xfrm>
                <a:off x="580320" y="49183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0</a:t>
                </a:r>
                <a:endParaRPr b="0" lang="en-US" sz="700" spc="-1" strike="noStrike">
                  <a:solidFill>
                    <a:srgbClr val="000000"/>
                  </a:solidFill>
                  <a:latin typeface="Times New Roman"/>
                </a:endParaRPr>
              </a:p>
            </p:txBody>
          </p:sp>
          <p:sp>
            <p:nvSpPr>
              <p:cNvPr id="651" name=""/>
              <p:cNvSpPr/>
              <p:nvPr/>
            </p:nvSpPr>
            <p:spPr>
              <a:xfrm flipV="1">
                <a:off x="766080" y="4893480"/>
                <a:ext cx="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52" name=""/>
              <p:cNvSpPr/>
              <p:nvPr/>
            </p:nvSpPr>
            <p:spPr>
              <a:xfrm>
                <a:off x="745560" y="49183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0</a:t>
                </a:r>
                <a:endParaRPr b="0" lang="en-US" sz="700" spc="-1" strike="noStrike">
                  <a:solidFill>
                    <a:srgbClr val="000000"/>
                  </a:solidFill>
                  <a:latin typeface="Times New Roman"/>
                </a:endParaRPr>
              </a:p>
            </p:txBody>
          </p:sp>
          <p:sp>
            <p:nvSpPr>
              <p:cNvPr id="653" name=""/>
              <p:cNvSpPr/>
              <p:nvPr/>
            </p:nvSpPr>
            <p:spPr>
              <a:xfrm flipV="1">
                <a:off x="933480" y="4893480"/>
                <a:ext cx="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54" name=""/>
              <p:cNvSpPr/>
              <p:nvPr/>
            </p:nvSpPr>
            <p:spPr>
              <a:xfrm>
                <a:off x="907200" y="491832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a:t>
                </a:r>
                <a:endParaRPr b="0" lang="en-US" sz="700" spc="-1" strike="noStrike">
                  <a:solidFill>
                    <a:srgbClr val="000000"/>
                  </a:solidFill>
                  <a:latin typeface="Times New Roman"/>
                </a:endParaRPr>
              </a:p>
            </p:txBody>
          </p:sp>
          <p:sp>
            <p:nvSpPr>
              <p:cNvPr id="655" name=""/>
              <p:cNvSpPr/>
              <p:nvPr/>
            </p:nvSpPr>
            <p:spPr>
              <a:xfrm flipV="1">
                <a:off x="1101960" y="4893480"/>
                <a:ext cx="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56" name=""/>
              <p:cNvSpPr/>
              <p:nvPr/>
            </p:nvSpPr>
            <p:spPr>
              <a:xfrm>
                <a:off x="1074600" y="491832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0</a:t>
                </a:r>
                <a:endParaRPr b="0" lang="en-US" sz="700" spc="-1" strike="noStrike">
                  <a:solidFill>
                    <a:srgbClr val="000000"/>
                  </a:solidFill>
                  <a:latin typeface="Times New Roman"/>
                </a:endParaRPr>
              </a:p>
            </p:txBody>
          </p:sp>
          <p:sp>
            <p:nvSpPr>
              <p:cNvPr id="657" name=""/>
              <p:cNvSpPr/>
              <p:nvPr/>
            </p:nvSpPr>
            <p:spPr>
              <a:xfrm>
                <a:off x="99360" y="4907520"/>
                <a:ext cx="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04760" y="4332240"/>
                <a:ext cx="1070280" cy="273960"/>
              </a:xfrm>
              <a:custGeom>
                <a:avLst/>
                <a:gdLst/>
                <a:ahLst/>
                <a:rect l="l" t="t" r="r" b="b"/>
                <a:pathLst>
                  <a:path w="5941" h="1275">
                    <a:moveTo>
                      <a:pt x="0" y="1275"/>
                    </a:moveTo>
                    <a:lnTo>
                      <a:pt x="45" y="1245"/>
                    </a:lnTo>
                    <a:lnTo>
                      <a:pt x="90" y="1230"/>
                    </a:lnTo>
                    <a:lnTo>
                      <a:pt x="135" y="1230"/>
                    </a:lnTo>
                    <a:lnTo>
                      <a:pt x="180" y="1230"/>
                    </a:lnTo>
                    <a:lnTo>
                      <a:pt x="240" y="1230"/>
                    </a:lnTo>
                    <a:lnTo>
                      <a:pt x="285" y="1245"/>
                    </a:lnTo>
                    <a:lnTo>
                      <a:pt x="330" y="1245"/>
                    </a:lnTo>
                    <a:lnTo>
                      <a:pt x="375" y="1230"/>
                    </a:lnTo>
                    <a:lnTo>
                      <a:pt x="420" y="1215"/>
                    </a:lnTo>
                    <a:lnTo>
                      <a:pt x="465" y="1200"/>
                    </a:lnTo>
                    <a:lnTo>
                      <a:pt x="510" y="1185"/>
                    </a:lnTo>
                    <a:lnTo>
                      <a:pt x="555" y="1170"/>
                    </a:lnTo>
                    <a:lnTo>
                      <a:pt x="600" y="1155"/>
                    </a:lnTo>
                    <a:lnTo>
                      <a:pt x="645" y="1140"/>
                    </a:lnTo>
                    <a:lnTo>
                      <a:pt x="690" y="1095"/>
                    </a:lnTo>
                    <a:lnTo>
                      <a:pt x="750" y="1050"/>
                    </a:lnTo>
                    <a:lnTo>
                      <a:pt x="795" y="990"/>
                    </a:lnTo>
                    <a:lnTo>
                      <a:pt x="840" y="960"/>
                    </a:lnTo>
                    <a:lnTo>
                      <a:pt x="885" y="915"/>
                    </a:lnTo>
                    <a:lnTo>
                      <a:pt x="930" y="870"/>
                    </a:lnTo>
                    <a:lnTo>
                      <a:pt x="975" y="825"/>
                    </a:lnTo>
                    <a:lnTo>
                      <a:pt x="1020" y="780"/>
                    </a:lnTo>
                    <a:lnTo>
                      <a:pt x="1065" y="750"/>
                    </a:lnTo>
                    <a:lnTo>
                      <a:pt x="1110" y="720"/>
                    </a:lnTo>
                    <a:lnTo>
                      <a:pt x="1155" y="690"/>
                    </a:lnTo>
                    <a:lnTo>
                      <a:pt x="1215" y="675"/>
                    </a:lnTo>
                    <a:lnTo>
                      <a:pt x="1260" y="690"/>
                    </a:lnTo>
                    <a:lnTo>
                      <a:pt x="1305" y="690"/>
                    </a:lnTo>
                    <a:lnTo>
                      <a:pt x="1350" y="720"/>
                    </a:lnTo>
                    <a:lnTo>
                      <a:pt x="1395" y="750"/>
                    </a:lnTo>
                    <a:lnTo>
                      <a:pt x="1440" y="750"/>
                    </a:lnTo>
                    <a:lnTo>
                      <a:pt x="1485" y="750"/>
                    </a:lnTo>
                    <a:lnTo>
                      <a:pt x="1530" y="750"/>
                    </a:lnTo>
                    <a:lnTo>
                      <a:pt x="1575" y="750"/>
                    </a:lnTo>
                    <a:lnTo>
                      <a:pt x="1620" y="735"/>
                    </a:lnTo>
                    <a:lnTo>
                      <a:pt x="1665" y="720"/>
                    </a:lnTo>
                    <a:lnTo>
                      <a:pt x="1725" y="705"/>
                    </a:lnTo>
                    <a:lnTo>
                      <a:pt x="1770" y="690"/>
                    </a:lnTo>
                    <a:lnTo>
                      <a:pt x="1815" y="675"/>
                    </a:lnTo>
                    <a:lnTo>
                      <a:pt x="1860" y="645"/>
                    </a:lnTo>
                    <a:lnTo>
                      <a:pt x="1905" y="615"/>
                    </a:lnTo>
                    <a:lnTo>
                      <a:pt x="1950" y="585"/>
                    </a:lnTo>
                    <a:lnTo>
                      <a:pt x="1995" y="555"/>
                    </a:lnTo>
                    <a:lnTo>
                      <a:pt x="2040" y="540"/>
                    </a:lnTo>
                    <a:lnTo>
                      <a:pt x="2085" y="525"/>
                    </a:lnTo>
                    <a:lnTo>
                      <a:pt x="2130" y="510"/>
                    </a:lnTo>
                    <a:lnTo>
                      <a:pt x="2175" y="510"/>
                    </a:lnTo>
                    <a:lnTo>
                      <a:pt x="2235" y="510"/>
                    </a:lnTo>
                    <a:lnTo>
                      <a:pt x="2280" y="510"/>
                    </a:lnTo>
                    <a:lnTo>
                      <a:pt x="2325" y="495"/>
                    </a:lnTo>
                    <a:lnTo>
                      <a:pt x="2370" y="465"/>
                    </a:lnTo>
                    <a:lnTo>
                      <a:pt x="2415" y="435"/>
                    </a:lnTo>
                    <a:lnTo>
                      <a:pt x="2460" y="435"/>
                    </a:lnTo>
                    <a:lnTo>
                      <a:pt x="2505" y="450"/>
                    </a:lnTo>
                    <a:lnTo>
                      <a:pt x="2550" y="450"/>
                    </a:lnTo>
                    <a:lnTo>
                      <a:pt x="2595" y="450"/>
                    </a:lnTo>
                    <a:lnTo>
                      <a:pt x="2640" y="465"/>
                    </a:lnTo>
                    <a:lnTo>
                      <a:pt x="2685" y="465"/>
                    </a:lnTo>
                    <a:lnTo>
                      <a:pt x="2745" y="465"/>
                    </a:lnTo>
                    <a:lnTo>
                      <a:pt x="2790" y="450"/>
                    </a:lnTo>
                    <a:lnTo>
                      <a:pt x="2836" y="450"/>
                    </a:lnTo>
                    <a:lnTo>
                      <a:pt x="2881" y="435"/>
                    </a:lnTo>
                    <a:lnTo>
                      <a:pt x="2926" y="450"/>
                    </a:lnTo>
                    <a:lnTo>
                      <a:pt x="2971" y="465"/>
                    </a:lnTo>
                    <a:lnTo>
                      <a:pt x="3016" y="495"/>
                    </a:lnTo>
                    <a:lnTo>
                      <a:pt x="3061" y="510"/>
                    </a:lnTo>
                    <a:lnTo>
                      <a:pt x="3106" y="540"/>
                    </a:lnTo>
                    <a:lnTo>
                      <a:pt x="3151" y="540"/>
                    </a:lnTo>
                    <a:lnTo>
                      <a:pt x="3211" y="555"/>
                    </a:lnTo>
                    <a:lnTo>
                      <a:pt x="3256" y="540"/>
                    </a:lnTo>
                    <a:lnTo>
                      <a:pt x="3301" y="525"/>
                    </a:lnTo>
                    <a:lnTo>
                      <a:pt x="3346" y="525"/>
                    </a:lnTo>
                    <a:lnTo>
                      <a:pt x="3391" y="540"/>
                    </a:lnTo>
                    <a:lnTo>
                      <a:pt x="3436" y="555"/>
                    </a:lnTo>
                    <a:lnTo>
                      <a:pt x="3481" y="570"/>
                    </a:lnTo>
                    <a:lnTo>
                      <a:pt x="3526" y="585"/>
                    </a:lnTo>
                    <a:lnTo>
                      <a:pt x="3571" y="585"/>
                    </a:lnTo>
                    <a:lnTo>
                      <a:pt x="3616" y="570"/>
                    </a:lnTo>
                    <a:lnTo>
                      <a:pt x="3661" y="540"/>
                    </a:lnTo>
                    <a:lnTo>
                      <a:pt x="3721" y="510"/>
                    </a:lnTo>
                    <a:lnTo>
                      <a:pt x="3766" y="495"/>
                    </a:lnTo>
                    <a:lnTo>
                      <a:pt x="3811" y="480"/>
                    </a:lnTo>
                    <a:lnTo>
                      <a:pt x="3856" y="465"/>
                    </a:lnTo>
                    <a:lnTo>
                      <a:pt x="3901" y="465"/>
                    </a:lnTo>
                    <a:lnTo>
                      <a:pt x="3946" y="465"/>
                    </a:lnTo>
                    <a:lnTo>
                      <a:pt x="3991" y="450"/>
                    </a:lnTo>
                    <a:lnTo>
                      <a:pt x="4036" y="420"/>
                    </a:lnTo>
                    <a:lnTo>
                      <a:pt x="4081" y="375"/>
                    </a:lnTo>
                    <a:lnTo>
                      <a:pt x="4126" y="345"/>
                    </a:lnTo>
                    <a:lnTo>
                      <a:pt x="4171" y="315"/>
                    </a:lnTo>
                    <a:lnTo>
                      <a:pt x="4231" y="285"/>
                    </a:lnTo>
                    <a:lnTo>
                      <a:pt x="4276" y="255"/>
                    </a:lnTo>
                    <a:lnTo>
                      <a:pt x="4321" y="210"/>
                    </a:lnTo>
                    <a:lnTo>
                      <a:pt x="4366" y="195"/>
                    </a:lnTo>
                    <a:lnTo>
                      <a:pt x="4411" y="180"/>
                    </a:lnTo>
                    <a:lnTo>
                      <a:pt x="4456" y="165"/>
                    </a:lnTo>
                    <a:lnTo>
                      <a:pt x="4501" y="165"/>
                    </a:lnTo>
                    <a:lnTo>
                      <a:pt x="4546" y="135"/>
                    </a:lnTo>
                    <a:lnTo>
                      <a:pt x="4591" y="105"/>
                    </a:lnTo>
                    <a:lnTo>
                      <a:pt x="4636" y="75"/>
                    </a:lnTo>
                    <a:lnTo>
                      <a:pt x="4681" y="60"/>
                    </a:lnTo>
                    <a:lnTo>
                      <a:pt x="4741" y="45"/>
                    </a:lnTo>
                    <a:lnTo>
                      <a:pt x="4786" y="30"/>
                    </a:lnTo>
                    <a:lnTo>
                      <a:pt x="4831" y="15"/>
                    </a:lnTo>
                    <a:lnTo>
                      <a:pt x="4876" y="30"/>
                    </a:lnTo>
                    <a:lnTo>
                      <a:pt x="4921" y="15"/>
                    </a:lnTo>
                    <a:lnTo>
                      <a:pt x="4966" y="0"/>
                    </a:lnTo>
                    <a:lnTo>
                      <a:pt x="5011" y="0"/>
                    </a:lnTo>
                    <a:lnTo>
                      <a:pt x="5056" y="15"/>
                    </a:lnTo>
                    <a:lnTo>
                      <a:pt x="5101" y="15"/>
                    </a:lnTo>
                    <a:lnTo>
                      <a:pt x="5146" y="30"/>
                    </a:lnTo>
                    <a:lnTo>
                      <a:pt x="5191" y="60"/>
                    </a:lnTo>
                    <a:lnTo>
                      <a:pt x="5251" y="90"/>
                    </a:lnTo>
                    <a:lnTo>
                      <a:pt x="5296" y="120"/>
                    </a:lnTo>
                    <a:lnTo>
                      <a:pt x="5341" y="150"/>
                    </a:lnTo>
                    <a:lnTo>
                      <a:pt x="5386" y="165"/>
                    </a:lnTo>
                    <a:lnTo>
                      <a:pt x="5431" y="195"/>
                    </a:lnTo>
                    <a:lnTo>
                      <a:pt x="5476" y="225"/>
                    </a:lnTo>
                    <a:lnTo>
                      <a:pt x="5521" y="270"/>
                    </a:lnTo>
                    <a:lnTo>
                      <a:pt x="5566" y="285"/>
                    </a:lnTo>
                    <a:lnTo>
                      <a:pt x="5611" y="315"/>
                    </a:lnTo>
                    <a:lnTo>
                      <a:pt x="5656" y="300"/>
                    </a:lnTo>
                    <a:lnTo>
                      <a:pt x="5716" y="300"/>
                    </a:lnTo>
                    <a:lnTo>
                      <a:pt x="5761" y="300"/>
                    </a:lnTo>
                    <a:lnTo>
                      <a:pt x="5806" y="300"/>
                    </a:lnTo>
                    <a:lnTo>
                      <a:pt x="5851" y="300"/>
                    </a:lnTo>
                    <a:lnTo>
                      <a:pt x="5896" y="315"/>
                    </a:lnTo>
                    <a:lnTo>
                      <a:pt x="5941" y="315"/>
                    </a:ln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803520" y="4712400"/>
                <a:ext cx="18360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flipV="1">
                <a:off x="1187280" y="4893480"/>
                <a:ext cx="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1" name=""/>
              <p:cNvSpPr/>
              <p:nvPr/>
            </p:nvSpPr>
            <p:spPr>
              <a:xfrm>
                <a:off x="1409760" y="4907520"/>
                <a:ext cx="116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1409760" y="4423320"/>
                <a:ext cx="0" cy="48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1409760" y="4894920"/>
                <a:ext cx="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4" name=""/>
              <p:cNvSpPr/>
              <p:nvPr/>
            </p:nvSpPr>
            <p:spPr>
              <a:xfrm>
                <a:off x="1401480" y="492192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665" name=""/>
              <p:cNvSpPr/>
              <p:nvPr/>
            </p:nvSpPr>
            <p:spPr>
              <a:xfrm flipV="1">
                <a:off x="1577160" y="4894920"/>
                <a:ext cx="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6" name=""/>
              <p:cNvSpPr/>
              <p:nvPr/>
            </p:nvSpPr>
            <p:spPr>
              <a:xfrm>
                <a:off x="1554840" y="49219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a:t>
                </a:r>
                <a:endParaRPr b="0" lang="en-US" sz="700" spc="-1" strike="noStrike">
                  <a:solidFill>
                    <a:srgbClr val="000000"/>
                  </a:solidFill>
                  <a:latin typeface="Times New Roman"/>
                </a:endParaRPr>
              </a:p>
            </p:txBody>
          </p:sp>
          <p:sp>
            <p:nvSpPr>
              <p:cNvPr id="667" name=""/>
              <p:cNvSpPr/>
              <p:nvPr/>
            </p:nvSpPr>
            <p:spPr>
              <a:xfrm flipV="1">
                <a:off x="1742760" y="4894920"/>
                <a:ext cx="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8" name=""/>
              <p:cNvSpPr/>
              <p:nvPr/>
            </p:nvSpPr>
            <p:spPr>
              <a:xfrm>
                <a:off x="1723680" y="49219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0</a:t>
                </a:r>
                <a:endParaRPr b="0" lang="en-US" sz="700" spc="-1" strike="noStrike">
                  <a:solidFill>
                    <a:srgbClr val="000000"/>
                  </a:solidFill>
                  <a:latin typeface="Times New Roman"/>
                </a:endParaRPr>
              </a:p>
            </p:txBody>
          </p:sp>
          <p:sp>
            <p:nvSpPr>
              <p:cNvPr id="669" name=""/>
              <p:cNvSpPr/>
              <p:nvPr/>
            </p:nvSpPr>
            <p:spPr>
              <a:xfrm flipV="1">
                <a:off x="1911240" y="4894920"/>
                <a:ext cx="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70" name=""/>
              <p:cNvSpPr/>
              <p:nvPr/>
            </p:nvSpPr>
            <p:spPr>
              <a:xfrm>
                <a:off x="1890360" y="49219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0</a:t>
                </a:r>
                <a:endParaRPr b="0" lang="en-US" sz="700" spc="-1" strike="noStrike">
                  <a:solidFill>
                    <a:srgbClr val="000000"/>
                  </a:solidFill>
                  <a:latin typeface="Times New Roman"/>
                </a:endParaRPr>
              </a:p>
            </p:txBody>
          </p:sp>
          <p:sp>
            <p:nvSpPr>
              <p:cNvPr id="671" name=""/>
              <p:cNvSpPr/>
              <p:nvPr/>
            </p:nvSpPr>
            <p:spPr>
              <a:xfrm flipV="1">
                <a:off x="2073960" y="4894920"/>
                <a:ext cx="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72" name=""/>
              <p:cNvSpPr/>
              <p:nvPr/>
            </p:nvSpPr>
            <p:spPr>
              <a:xfrm>
                <a:off x="2053440" y="49219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0</a:t>
                </a:r>
                <a:endParaRPr b="0" lang="en-US" sz="700" spc="-1" strike="noStrike">
                  <a:solidFill>
                    <a:srgbClr val="000000"/>
                  </a:solidFill>
                  <a:latin typeface="Times New Roman"/>
                </a:endParaRPr>
              </a:p>
            </p:txBody>
          </p:sp>
          <p:sp>
            <p:nvSpPr>
              <p:cNvPr id="673" name=""/>
              <p:cNvSpPr/>
              <p:nvPr/>
            </p:nvSpPr>
            <p:spPr>
              <a:xfrm flipV="1">
                <a:off x="2241360" y="4894920"/>
                <a:ext cx="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74" name=""/>
              <p:cNvSpPr/>
              <p:nvPr/>
            </p:nvSpPr>
            <p:spPr>
              <a:xfrm>
                <a:off x="2216160" y="492192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a:t>
                </a:r>
                <a:endParaRPr b="0" lang="en-US" sz="700" spc="-1" strike="noStrike">
                  <a:solidFill>
                    <a:srgbClr val="000000"/>
                  </a:solidFill>
                  <a:latin typeface="Times New Roman"/>
                </a:endParaRPr>
              </a:p>
            </p:txBody>
          </p:sp>
          <p:sp>
            <p:nvSpPr>
              <p:cNvPr id="675" name=""/>
              <p:cNvSpPr/>
              <p:nvPr/>
            </p:nvSpPr>
            <p:spPr>
              <a:xfrm flipV="1">
                <a:off x="2408400" y="4894920"/>
                <a:ext cx="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76" name=""/>
              <p:cNvSpPr/>
              <p:nvPr/>
            </p:nvSpPr>
            <p:spPr>
              <a:xfrm>
                <a:off x="2384640" y="492192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0</a:t>
                </a:r>
                <a:endParaRPr b="0" lang="en-US" sz="700" spc="-1" strike="noStrike">
                  <a:solidFill>
                    <a:srgbClr val="000000"/>
                  </a:solidFill>
                  <a:latin typeface="Times New Roman"/>
                </a:endParaRPr>
              </a:p>
            </p:txBody>
          </p:sp>
          <p:sp>
            <p:nvSpPr>
              <p:cNvPr id="677" name=""/>
              <p:cNvSpPr/>
              <p:nvPr/>
            </p:nvSpPr>
            <p:spPr>
              <a:xfrm>
                <a:off x="1409760" y="4907520"/>
                <a:ext cx="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419480" y="4627440"/>
                <a:ext cx="1059120" cy="248400"/>
              </a:xfrm>
              <a:custGeom>
                <a:avLst/>
                <a:gdLst/>
                <a:ahLst/>
                <a:rect l="l" t="t" r="r" b="b"/>
                <a:pathLst>
                  <a:path w="5896" h="1155">
                    <a:moveTo>
                      <a:pt x="0" y="1155"/>
                    </a:moveTo>
                    <a:lnTo>
                      <a:pt x="45" y="1155"/>
                    </a:lnTo>
                    <a:lnTo>
                      <a:pt x="90" y="1155"/>
                    </a:lnTo>
                    <a:lnTo>
                      <a:pt x="135" y="1155"/>
                    </a:lnTo>
                    <a:lnTo>
                      <a:pt x="180" y="1155"/>
                    </a:lnTo>
                    <a:lnTo>
                      <a:pt x="240" y="1155"/>
                    </a:lnTo>
                    <a:lnTo>
                      <a:pt x="285" y="1155"/>
                    </a:lnTo>
                    <a:lnTo>
                      <a:pt x="330" y="1155"/>
                    </a:lnTo>
                    <a:lnTo>
                      <a:pt x="375" y="1155"/>
                    </a:lnTo>
                    <a:lnTo>
                      <a:pt x="420" y="1155"/>
                    </a:lnTo>
                    <a:lnTo>
                      <a:pt x="465" y="1155"/>
                    </a:lnTo>
                    <a:lnTo>
                      <a:pt x="510" y="1155"/>
                    </a:lnTo>
                    <a:lnTo>
                      <a:pt x="555" y="1155"/>
                    </a:lnTo>
                    <a:lnTo>
                      <a:pt x="600" y="1155"/>
                    </a:lnTo>
                    <a:lnTo>
                      <a:pt x="645" y="1155"/>
                    </a:lnTo>
                    <a:lnTo>
                      <a:pt x="690" y="1155"/>
                    </a:lnTo>
                    <a:lnTo>
                      <a:pt x="750" y="735"/>
                    </a:lnTo>
                    <a:lnTo>
                      <a:pt x="795" y="735"/>
                    </a:lnTo>
                    <a:lnTo>
                      <a:pt x="840" y="735"/>
                    </a:lnTo>
                    <a:lnTo>
                      <a:pt x="885" y="735"/>
                    </a:lnTo>
                    <a:lnTo>
                      <a:pt x="930" y="735"/>
                    </a:lnTo>
                    <a:lnTo>
                      <a:pt x="975" y="735"/>
                    </a:lnTo>
                    <a:lnTo>
                      <a:pt x="1020" y="735"/>
                    </a:lnTo>
                    <a:lnTo>
                      <a:pt x="1065" y="735"/>
                    </a:lnTo>
                    <a:lnTo>
                      <a:pt x="1110" y="735"/>
                    </a:lnTo>
                    <a:lnTo>
                      <a:pt x="1155" y="735"/>
                    </a:lnTo>
                    <a:lnTo>
                      <a:pt x="1215" y="735"/>
                    </a:lnTo>
                    <a:lnTo>
                      <a:pt x="1260" y="735"/>
                    </a:lnTo>
                    <a:lnTo>
                      <a:pt x="1305" y="735"/>
                    </a:lnTo>
                    <a:lnTo>
                      <a:pt x="1350" y="735"/>
                    </a:lnTo>
                    <a:lnTo>
                      <a:pt x="1395" y="735"/>
                    </a:lnTo>
                    <a:lnTo>
                      <a:pt x="1440" y="735"/>
                    </a:lnTo>
                    <a:lnTo>
                      <a:pt x="1485" y="585"/>
                    </a:lnTo>
                    <a:lnTo>
                      <a:pt x="1530" y="585"/>
                    </a:lnTo>
                    <a:lnTo>
                      <a:pt x="1575" y="585"/>
                    </a:lnTo>
                    <a:lnTo>
                      <a:pt x="1620" y="585"/>
                    </a:lnTo>
                    <a:lnTo>
                      <a:pt x="1665" y="585"/>
                    </a:lnTo>
                    <a:lnTo>
                      <a:pt x="1725" y="585"/>
                    </a:lnTo>
                    <a:lnTo>
                      <a:pt x="1770" y="585"/>
                    </a:lnTo>
                    <a:lnTo>
                      <a:pt x="1815" y="585"/>
                    </a:lnTo>
                    <a:lnTo>
                      <a:pt x="1860" y="585"/>
                    </a:lnTo>
                    <a:lnTo>
                      <a:pt x="1905" y="585"/>
                    </a:lnTo>
                    <a:lnTo>
                      <a:pt x="1950" y="585"/>
                    </a:lnTo>
                    <a:lnTo>
                      <a:pt x="1995" y="585"/>
                    </a:lnTo>
                    <a:lnTo>
                      <a:pt x="2040" y="585"/>
                    </a:lnTo>
                    <a:lnTo>
                      <a:pt x="2085" y="585"/>
                    </a:lnTo>
                    <a:lnTo>
                      <a:pt x="2130" y="585"/>
                    </a:lnTo>
                    <a:lnTo>
                      <a:pt x="2175" y="585"/>
                    </a:lnTo>
                    <a:lnTo>
                      <a:pt x="2235" y="420"/>
                    </a:lnTo>
                    <a:lnTo>
                      <a:pt x="2280" y="420"/>
                    </a:lnTo>
                    <a:lnTo>
                      <a:pt x="2325" y="420"/>
                    </a:lnTo>
                    <a:lnTo>
                      <a:pt x="2370" y="420"/>
                    </a:lnTo>
                    <a:lnTo>
                      <a:pt x="2415" y="420"/>
                    </a:lnTo>
                    <a:lnTo>
                      <a:pt x="2460" y="420"/>
                    </a:lnTo>
                    <a:lnTo>
                      <a:pt x="2505" y="420"/>
                    </a:lnTo>
                    <a:lnTo>
                      <a:pt x="2550" y="420"/>
                    </a:lnTo>
                    <a:lnTo>
                      <a:pt x="2595" y="420"/>
                    </a:lnTo>
                    <a:lnTo>
                      <a:pt x="2640" y="420"/>
                    </a:lnTo>
                    <a:lnTo>
                      <a:pt x="2685" y="420"/>
                    </a:lnTo>
                    <a:lnTo>
                      <a:pt x="2745" y="420"/>
                    </a:lnTo>
                    <a:lnTo>
                      <a:pt x="2790" y="420"/>
                    </a:lnTo>
                    <a:lnTo>
                      <a:pt x="2836" y="420"/>
                    </a:lnTo>
                    <a:lnTo>
                      <a:pt x="2881" y="420"/>
                    </a:lnTo>
                    <a:lnTo>
                      <a:pt x="2926" y="420"/>
                    </a:lnTo>
                    <a:lnTo>
                      <a:pt x="2971" y="495"/>
                    </a:lnTo>
                    <a:lnTo>
                      <a:pt x="3016" y="495"/>
                    </a:lnTo>
                    <a:lnTo>
                      <a:pt x="3061" y="495"/>
                    </a:lnTo>
                    <a:lnTo>
                      <a:pt x="3106" y="495"/>
                    </a:lnTo>
                    <a:lnTo>
                      <a:pt x="3151" y="495"/>
                    </a:lnTo>
                    <a:lnTo>
                      <a:pt x="3211" y="495"/>
                    </a:lnTo>
                    <a:lnTo>
                      <a:pt x="3256" y="495"/>
                    </a:lnTo>
                    <a:lnTo>
                      <a:pt x="3301" y="495"/>
                    </a:lnTo>
                    <a:lnTo>
                      <a:pt x="3346" y="495"/>
                    </a:lnTo>
                    <a:lnTo>
                      <a:pt x="3391" y="495"/>
                    </a:lnTo>
                    <a:lnTo>
                      <a:pt x="3436" y="495"/>
                    </a:lnTo>
                    <a:lnTo>
                      <a:pt x="3481" y="495"/>
                    </a:lnTo>
                    <a:lnTo>
                      <a:pt x="3526" y="495"/>
                    </a:lnTo>
                    <a:lnTo>
                      <a:pt x="3571" y="495"/>
                    </a:lnTo>
                    <a:lnTo>
                      <a:pt x="3616" y="495"/>
                    </a:lnTo>
                    <a:lnTo>
                      <a:pt x="3661" y="495"/>
                    </a:lnTo>
                    <a:lnTo>
                      <a:pt x="3721" y="300"/>
                    </a:lnTo>
                    <a:lnTo>
                      <a:pt x="3766" y="300"/>
                    </a:lnTo>
                    <a:lnTo>
                      <a:pt x="3811" y="300"/>
                    </a:lnTo>
                    <a:lnTo>
                      <a:pt x="3856" y="300"/>
                    </a:lnTo>
                    <a:lnTo>
                      <a:pt x="3901" y="300"/>
                    </a:lnTo>
                    <a:lnTo>
                      <a:pt x="3946" y="300"/>
                    </a:lnTo>
                    <a:lnTo>
                      <a:pt x="3991" y="300"/>
                    </a:lnTo>
                    <a:lnTo>
                      <a:pt x="4036" y="300"/>
                    </a:lnTo>
                    <a:lnTo>
                      <a:pt x="4081" y="300"/>
                    </a:lnTo>
                    <a:lnTo>
                      <a:pt x="4126" y="300"/>
                    </a:lnTo>
                    <a:lnTo>
                      <a:pt x="4171" y="300"/>
                    </a:lnTo>
                    <a:lnTo>
                      <a:pt x="4231" y="300"/>
                    </a:lnTo>
                    <a:lnTo>
                      <a:pt x="4276" y="300"/>
                    </a:lnTo>
                    <a:lnTo>
                      <a:pt x="4321" y="300"/>
                    </a:lnTo>
                    <a:lnTo>
                      <a:pt x="4366" y="300"/>
                    </a:lnTo>
                    <a:lnTo>
                      <a:pt x="4411" y="300"/>
                    </a:lnTo>
                    <a:lnTo>
                      <a:pt x="4456" y="0"/>
                    </a:lnTo>
                    <a:lnTo>
                      <a:pt x="4501" y="0"/>
                    </a:lnTo>
                    <a:lnTo>
                      <a:pt x="4546" y="0"/>
                    </a:lnTo>
                    <a:lnTo>
                      <a:pt x="4591" y="0"/>
                    </a:lnTo>
                    <a:lnTo>
                      <a:pt x="4636" y="0"/>
                    </a:lnTo>
                    <a:lnTo>
                      <a:pt x="4681" y="0"/>
                    </a:lnTo>
                    <a:lnTo>
                      <a:pt x="4741" y="0"/>
                    </a:lnTo>
                    <a:lnTo>
                      <a:pt x="4786" y="0"/>
                    </a:lnTo>
                    <a:lnTo>
                      <a:pt x="4831" y="0"/>
                    </a:lnTo>
                    <a:lnTo>
                      <a:pt x="4876" y="0"/>
                    </a:lnTo>
                    <a:lnTo>
                      <a:pt x="4921" y="0"/>
                    </a:lnTo>
                    <a:lnTo>
                      <a:pt x="4966" y="0"/>
                    </a:lnTo>
                    <a:lnTo>
                      <a:pt x="5011" y="0"/>
                    </a:lnTo>
                    <a:lnTo>
                      <a:pt x="5056" y="0"/>
                    </a:lnTo>
                    <a:lnTo>
                      <a:pt x="5101" y="0"/>
                    </a:lnTo>
                    <a:lnTo>
                      <a:pt x="5146" y="0"/>
                    </a:lnTo>
                    <a:lnTo>
                      <a:pt x="5191" y="210"/>
                    </a:lnTo>
                    <a:lnTo>
                      <a:pt x="5251" y="210"/>
                    </a:lnTo>
                    <a:lnTo>
                      <a:pt x="5296" y="210"/>
                    </a:lnTo>
                    <a:lnTo>
                      <a:pt x="5341" y="210"/>
                    </a:lnTo>
                    <a:lnTo>
                      <a:pt x="5386" y="210"/>
                    </a:lnTo>
                    <a:lnTo>
                      <a:pt x="5431" y="210"/>
                    </a:lnTo>
                    <a:lnTo>
                      <a:pt x="5476" y="210"/>
                    </a:lnTo>
                    <a:lnTo>
                      <a:pt x="5521" y="210"/>
                    </a:lnTo>
                    <a:lnTo>
                      <a:pt x="5566" y="210"/>
                    </a:lnTo>
                    <a:lnTo>
                      <a:pt x="5611" y="210"/>
                    </a:lnTo>
                    <a:lnTo>
                      <a:pt x="5656" y="210"/>
                    </a:lnTo>
                    <a:lnTo>
                      <a:pt x="5716" y="210"/>
                    </a:lnTo>
                    <a:lnTo>
                      <a:pt x="5761" y="210"/>
                    </a:lnTo>
                    <a:lnTo>
                      <a:pt x="5806" y="210"/>
                    </a:lnTo>
                    <a:lnTo>
                      <a:pt x="5851" y="210"/>
                    </a:lnTo>
                    <a:lnTo>
                      <a:pt x="5896" y="21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414080" y="5088960"/>
                <a:ext cx="106416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0" name=""/>
              <p:cNvGrpSpPr/>
              <p:nvPr/>
            </p:nvGrpSpPr>
            <p:grpSpPr>
              <a:xfrm>
                <a:off x="1414080" y="5130360"/>
                <a:ext cx="1064160" cy="149040"/>
                <a:chOff x="1414080" y="5130360"/>
                <a:chExt cx="1064160" cy="149040"/>
              </a:xfrm>
            </p:grpSpPr>
            <p:sp>
              <p:nvSpPr>
                <p:cNvPr id="681" name=""/>
                <p:cNvSpPr/>
                <p:nvPr/>
              </p:nvSpPr>
              <p:spPr>
                <a:xfrm>
                  <a:off x="1414080" y="5130360"/>
                  <a:ext cx="53208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946160" y="5279400"/>
                  <a:ext cx="53208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946160" y="5130360"/>
                  <a:ext cx="0" cy="14904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4" name=""/>
              <p:cNvGrpSpPr/>
              <p:nvPr/>
            </p:nvGrpSpPr>
            <p:grpSpPr>
              <a:xfrm>
                <a:off x="1414080" y="5320800"/>
                <a:ext cx="1064160" cy="149040"/>
                <a:chOff x="1414080" y="5320800"/>
                <a:chExt cx="1064160" cy="149040"/>
              </a:xfrm>
            </p:grpSpPr>
            <p:sp>
              <p:nvSpPr>
                <p:cNvPr id="685" name=""/>
                <p:cNvSpPr/>
                <p:nvPr/>
              </p:nvSpPr>
              <p:spPr>
                <a:xfrm>
                  <a:off x="1946160" y="5395320"/>
                  <a:ext cx="53208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414080" y="5320800"/>
                  <a:ext cx="26604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1680120" y="5320800"/>
                  <a:ext cx="0" cy="14904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80120" y="5469840"/>
                  <a:ext cx="26604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V="1">
                  <a:off x="1946160" y="5394960"/>
                  <a:ext cx="0" cy="74520"/>
                </a:xfrm>
                <a:prstGeom prst="line">
                  <a:avLst/>
                </a:prstGeom>
                <a:ln w="17640">
                  <a:solidFill>
                    <a:srgbClr val="333333"/>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690" name=""/>
              <p:cNvGrpSpPr/>
              <p:nvPr/>
            </p:nvGrpSpPr>
            <p:grpSpPr>
              <a:xfrm>
                <a:off x="1414080" y="5512320"/>
                <a:ext cx="1064160" cy="148320"/>
                <a:chOff x="1414080" y="5512320"/>
                <a:chExt cx="1064160" cy="148320"/>
              </a:xfrm>
            </p:grpSpPr>
            <p:sp>
              <p:nvSpPr>
                <p:cNvPr id="691" name=""/>
                <p:cNvSpPr/>
                <p:nvPr/>
              </p:nvSpPr>
              <p:spPr>
                <a:xfrm flipH="1">
                  <a:off x="1414080" y="5586480"/>
                  <a:ext cx="53208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H="1">
                  <a:off x="2212200" y="5512320"/>
                  <a:ext cx="26604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V="1">
                  <a:off x="2212200" y="5512320"/>
                  <a:ext cx="0" cy="14832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a:off x="1946160" y="5660640"/>
                  <a:ext cx="26604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1946160" y="5586480"/>
                  <a:ext cx="0" cy="74160"/>
                </a:xfrm>
                <a:prstGeom prst="line">
                  <a:avLst/>
                </a:prstGeom>
                <a:ln w="17640">
                  <a:solidFill>
                    <a:srgbClr val="333333"/>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696" name=""/>
              <p:cNvGrpSpPr/>
              <p:nvPr/>
            </p:nvGrpSpPr>
            <p:grpSpPr>
              <a:xfrm>
                <a:off x="1413720" y="5703120"/>
                <a:ext cx="1064160" cy="149040"/>
                <a:chOff x="1413720" y="5703120"/>
                <a:chExt cx="1064160" cy="149040"/>
              </a:xfrm>
            </p:grpSpPr>
            <p:sp>
              <p:nvSpPr>
                <p:cNvPr id="697" name=""/>
                <p:cNvSpPr/>
                <p:nvPr/>
              </p:nvSpPr>
              <p:spPr>
                <a:xfrm flipH="1">
                  <a:off x="1679760" y="5777640"/>
                  <a:ext cx="79812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H="1">
                  <a:off x="1413720" y="5703120"/>
                  <a:ext cx="13284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flipV="1">
                  <a:off x="1546920" y="5703120"/>
                  <a:ext cx="0" cy="14904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1546560" y="5852160"/>
                  <a:ext cx="13284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V="1">
                  <a:off x="1680120" y="5777280"/>
                  <a:ext cx="0" cy="74520"/>
                </a:xfrm>
                <a:prstGeom prst="line">
                  <a:avLst/>
                </a:prstGeom>
                <a:ln w="17640">
                  <a:solidFill>
                    <a:srgbClr val="333333"/>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702" name=""/>
              <p:cNvGrpSpPr/>
              <p:nvPr/>
            </p:nvGrpSpPr>
            <p:grpSpPr>
              <a:xfrm>
                <a:off x="1413720" y="5894280"/>
                <a:ext cx="1064520" cy="149400"/>
                <a:chOff x="1413720" y="5894280"/>
                <a:chExt cx="1064520" cy="149400"/>
              </a:xfrm>
            </p:grpSpPr>
            <p:sp>
              <p:nvSpPr>
                <p:cNvPr id="703" name=""/>
                <p:cNvSpPr/>
                <p:nvPr/>
              </p:nvSpPr>
              <p:spPr>
                <a:xfrm flipH="1">
                  <a:off x="1946160" y="5969160"/>
                  <a:ext cx="53208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H="1">
                  <a:off x="1679760" y="5894640"/>
                  <a:ext cx="13284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flipV="1">
                  <a:off x="1812960" y="5894640"/>
                  <a:ext cx="0" cy="14904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1812600" y="6043680"/>
                  <a:ext cx="13284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V="1">
                  <a:off x="1946160" y="5968800"/>
                  <a:ext cx="0" cy="74520"/>
                </a:xfrm>
                <a:prstGeom prst="line">
                  <a:avLst/>
                </a:prstGeom>
                <a:ln w="17640">
                  <a:solidFill>
                    <a:srgbClr val="333333"/>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8" name=""/>
                <p:cNvSpPr/>
                <p:nvPr/>
              </p:nvSpPr>
              <p:spPr>
                <a:xfrm flipV="1">
                  <a:off x="1680120" y="5894280"/>
                  <a:ext cx="0" cy="74520"/>
                </a:xfrm>
                <a:prstGeom prst="line">
                  <a:avLst/>
                </a:prstGeom>
                <a:ln w="17640">
                  <a:solidFill>
                    <a:srgbClr val="333333"/>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9" name=""/>
                <p:cNvSpPr/>
                <p:nvPr/>
              </p:nvSpPr>
              <p:spPr>
                <a:xfrm flipH="1">
                  <a:off x="1413720" y="5969160"/>
                  <a:ext cx="26604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0" name=""/>
              <p:cNvGrpSpPr/>
              <p:nvPr/>
            </p:nvGrpSpPr>
            <p:grpSpPr>
              <a:xfrm>
                <a:off x="1414080" y="6086520"/>
                <a:ext cx="1064520" cy="149400"/>
                <a:chOff x="1414080" y="6086520"/>
                <a:chExt cx="1064520" cy="149400"/>
              </a:xfrm>
            </p:grpSpPr>
            <p:sp>
              <p:nvSpPr>
                <p:cNvPr id="711" name=""/>
                <p:cNvSpPr/>
                <p:nvPr/>
              </p:nvSpPr>
              <p:spPr>
                <a:xfrm>
                  <a:off x="1414080" y="6161040"/>
                  <a:ext cx="53208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079720" y="6235560"/>
                  <a:ext cx="13284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079360" y="6086520"/>
                  <a:ext cx="0" cy="14904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946880" y="6086520"/>
                  <a:ext cx="13284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946160" y="6086880"/>
                  <a:ext cx="0" cy="74520"/>
                </a:xfrm>
                <a:prstGeom prst="line">
                  <a:avLst/>
                </a:prstGeom>
                <a:ln w="17640">
                  <a:solidFill>
                    <a:srgbClr val="333333"/>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6" name=""/>
                <p:cNvSpPr/>
                <p:nvPr/>
              </p:nvSpPr>
              <p:spPr>
                <a:xfrm>
                  <a:off x="2212200" y="6161400"/>
                  <a:ext cx="0" cy="74520"/>
                </a:xfrm>
                <a:prstGeom prst="line">
                  <a:avLst/>
                </a:prstGeom>
                <a:ln w="17640">
                  <a:solidFill>
                    <a:srgbClr val="333333"/>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7" name=""/>
                <p:cNvSpPr/>
                <p:nvPr/>
              </p:nvSpPr>
              <p:spPr>
                <a:xfrm>
                  <a:off x="2212560" y="6161040"/>
                  <a:ext cx="26604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1414440" y="6277680"/>
                <a:ext cx="1064160" cy="148320"/>
                <a:chOff x="1414440" y="6277680"/>
                <a:chExt cx="1064160" cy="148320"/>
              </a:xfrm>
            </p:grpSpPr>
            <p:sp>
              <p:nvSpPr>
                <p:cNvPr id="719" name=""/>
                <p:cNvSpPr/>
                <p:nvPr/>
              </p:nvSpPr>
              <p:spPr>
                <a:xfrm>
                  <a:off x="1414440" y="6351840"/>
                  <a:ext cx="79812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345760" y="6425640"/>
                  <a:ext cx="13284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2345400" y="6278040"/>
                  <a:ext cx="0" cy="14796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212920" y="6277680"/>
                  <a:ext cx="132840" cy="0"/>
                </a:xfrm>
                <a:prstGeom prst="line">
                  <a:avLst/>
                </a:prstGeom>
                <a:ln w="176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212200" y="6278400"/>
                  <a:ext cx="0" cy="73800"/>
                </a:xfrm>
                <a:prstGeom prst="line">
                  <a:avLst/>
                </a:prstGeom>
                <a:ln w="17640">
                  <a:solidFill>
                    <a:srgbClr val="333333"/>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724" name=""/>
              <p:cNvSpPr/>
              <p:nvPr/>
            </p:nvSpPr>
            <p:spPr>
              <a:xfrm>
                <a:off x="2150280" y="4667400"/>
                <a:ext cx="183240" cy="45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5" name=""/>
              <p:cNvSpPr/>
              <p:nvPr/>
            </p:nvSpPr>
            <p:spPr>
              <a:xfrm>
                <a:off x="2767320" y="4907520"/>
                <a:ext cx="115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V="1">
                <a:off x="3926160" y="4894920"/>
                <a:ext cx="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27" name=""/>
              <p:cNvSpPr/>
              <p:nvPr/>
            </p:nvSpPr>
            <p:spPr>
              <a:xfrm flipV="1">
                <a:off x="2581200" y="4894920"/>
                <a:ext cx="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28" name=""/>
              <p:cNvSpPr/>
              <p:nvPr/>
            </p:nvSpPr>
            <p:spPr>
              <a:xfrm>
                <a:off x="2779920" y="4641120"/>
                <a:ext cx="1053360" cy="224640"/>
              </a:xfrm>
              <a:custGeom>
                <a:avLst/>
                <a:gdLst/>
                <a:ahLst/>
                <a:rect l="l" t="t" r="r" b="b"/>
                <a:pathLst>
                  <a:path w="3760" h="820">
                    <a:moveTo>
                      <a:pt x="0" y="820"/>
                    </a:moveTo>
                    <a:cubicBezTo>
                      <a:pt x="40" y="814"/>
                      <a:pt x="194" y="789"/>
                      <a:pt x="238" y="783"/>
                    </a:cubicBezTo>
                    <a:cubicBezTo>
                      <a:pt x="282" y="777"/>
                      <a:pt x="257" y="785"/>
                      <a:pt x="267" y="783"/>
                    </a:cubicBezTo>
                    <a:cubicBezTo>
                      <a:pt x="277" y="781"/>
                      <a:pt x="287" y="776"/>
                      <a:pt x="297" y="773"/>
                    </a:cubicBezTo>
                    <a:lnTo>
                      <a:pt x="326" y="763"/>
                    </a:lnTo>
                    <a:lnTo>
                      <a:pt x="355" y="744"/>
                    </a:lnTo>
                    <a:lnTo>
                      <a:pt x="385" y="734"/>
                    </a:lnTo>
                    <a:lnTo>
                      <a:pt x="414" y="705"/>
                    </a:lnTo>
                    <a:lnTo>
                      <a:pt x="453" y="685"/>
                    </a:lnTo>
                    <a:lnTo>
                      <a:pt x="482" y="655"/>
                    </a:lnTo>
                    <a:lnTo>
                      <a:pt x="512" y="626"/>
                    </a:lnTo>
                    <a:lnTo>
                      <a:pt x="541" y="606"/>
                    </a:lnTo>
                    <a:lnTo>
                      <a:pt x="570" y="577"/>
                    </a:lnTo>
                    <a:lnTo>
                      <a:pt x="600" y="548"/>
                    </a:lnTo>
                    <a:lnTo>
                      <a:pt x="629" y="528"/>
                    </a:lnTo>
                    <a:lnTo>
                      <a:pt x="659" y="509"/>
                    </a:lnTo>
                    <a:lnTo>
                      <a:pt x="688" y="489"/>
                    </a:lnTo>
                    <a:lnTo>
                      <a:pt x="717" y="479"/>
                    </a:lnTo>
                    <a:lnTo>
                      <a:pt x="756" y="460"/>
                    </a:lnTo>
                    <a:lnTo>
                      <a:pt x="786" y="450"/>
                    </a:lnTo>
                    <a:lnTo>
                      <a:pt x="815" y="450"/>
                    </a:lnTo>
                    <a:lnTo>
                      <a:pt x="844" y="440"/>
                    </a:lnTo>
                    <a:lnTo>
                      <a:pt x="874" y="440"/>
                    </a:lnTo>
                    <a:lnTo>
                      <a:pt x="903" y="440"/>
                    </a:lnTo>
                    <a:lnTo>
                      <a:pt x="932" y="440"/>
                    </a:lnTo>
                    <a:lnTo>
                      <a:pt x="962" y="440"/>
                    </a:lnTo>
                    <a:lnTo>
                      <a:pt x="991" y="440"/>
                    </a:lnTo>
                    <a:lnTo>
                      <a:pt x="1020" y="440"/>
                    </a:lnTo>
                    <a:lnTo>
                      <a:pt x="1050" y="440"/>
                    </a:lnTo>
                    <a:lnTo>
                      <a:pt x="1089" y="440"/>
                    </a:lnTo>
                    <a:lnTo>
                      <a:pt x="1118" y="440"/>
                    </a:lnTo>
                    <a:lnTo>
                      <a:pt x="1148" y="440"/>
                    </a:lnTo>
                    <a:lnTo>
                      <a:pt x="1177" y="430"/>
                    </a:lnTo>
                    <a:lnTo>
                      <a:pt x="1206" y="430"/>
                    </a:lnTo>
                    <a:lnTo>
                      <a:pt x="1236" y="421"/>
                    </a:lnTo>
                    <a:lnTo>
                      <a:pt x="1265" y="411"/>
                    </a:lnTo>
                    <a:lnTo>
                      <a:pt x="1294" y="391"/>
                    </a:lnTo>
                    <a:lnTo>
                      <a:pt x="1324" y="381"/>
                    </a:lnTo>
                    <a:lnTo>
                      <a:pt x="1353" y="372"/>
                    </a:lnTo>
                    <a:lnTo>
                      <a:pt x="1382" y="352"/>
                    </a:lnTo>
                    <a:lnTo>
                      <a:pt x="1422" y="342"/>
                    </a:lnTo>
                    <a:lnTo>
                      <a:pt x="1451" y="323"/>
                    </a:lnTo>
                    <a:lnTo>
                      <a:pt x="1480" y="313"/>
                    </a:lnTo>
                    <a:lnTo>
                      <a:pt x="1510" y="303"/>
                    </a:lnTo>
                    <a:lnTo>
                      <a:pt x="1539" y="293"/>
                    </a:lnTo>
                    <a:lnTo>
                      <a:pt x="1568" y="284"/>
                    </a:lnTo>
                    <a:lnTo>
                      <a:pt x="1598" y="274"/>
                    </a:lnTo>
                    <a:lnTo>
                      <a:pt x="1627" y="264"/>
                    </a:lnTo>
                    <a:lnTo>
                      <a:pt x="1656" y="264"/>
                    </a:lnTo>
                    <a:lnTo>
                      <a:pt x="1686" y="264"/>
                    </a:lnTo>
                    <a:lnTo>
                      <a:pt x="1715" y="264"/>
                    </a:lnTo>
                    <a:lnTo>
                      <a:pt x="1754" y="274"/>
                    </a:lnTo>
                    <a:lnTo>
                      <a:pt x="1783" y="284"/>
                    </a:lnTo>
                    <a:lnTo>
                      <a:pt x="1813" y="293"/>
                    </a:lnTo>
                    <a:lnTo>
                      <a:pt x="1843" y="303"/>
                    </a:lnTo>
                    <a:lnTo>
                      <a:pt x="1872" y="313"/>
                    </a:lnTo>
                    <a:lnTo>
                      <a:pt x="1901" y="323"/>
                    </a:lnTo>
                    <a:lnTo>
                      <a:pt x="1931" y="332"/>
                    </a:lnTo>
                    <a:lnTo>
                      <a:pt x="1960" y="352"/>
                    </a:lnTo>
                    <a:lnTo>
                      <a:pt x="1990" y="362"/>
                    </a:lnTo>
                    <a:lnTo>
                      <a:pt x="2019" y="372"/>
                    </a:lnTo>
                    <a:lnTo>
                      <a:pt x="2058" y="381"/>
                    </a:lnTo>
                    <a:lnTo>
                      <a:pt x="2087" y="381"/>
                    </a:lnTo>
                    <a:lnTo>
                      <a:pt x="2117" y="391"/>
                    </a:lnTo>
                    <a:lnTo>
                      <a:pt x="2146" y="391"/>
                    </a:lnTo>
                    <a:lnTo>
                      <a:pt x="2175" y="391"/>
                    </a:lnTo>
                    <a:lnTo>
                      <a:pt x="2205" y="391"/>
                    </a:lnTo>
                    <a:lnTo>
                      <a:pt x="2234" y="381"/>
                    </a:lnTo>
                    <a:lnTo>
                      <a:pt x="2263" y="381"/>
                    </a:lnTo>
                    <a:lnTo>
                      <a:pt x="2293" y="372"/>
                    </a:lnTo>
                    <a:lnTo>
                      <a:pt x="2322" y="362"/>
                    </a:lnTo>
                    <a:lnTo>
                      <a:pt x="2351" y="342"/>
                    </a:lnTo>
                    <a:lnTo>
                      <a:pt x="2391" y="332"/>
                    </a:lnTo>
                    <a:lnTo>
                      <a:pt x="2420" y="313"/>
                    </a:lnTo>
                    <a:lnTo>
                      <a:pt x="2449" y="303"/>
                    </a:lnTo>
                    <a:lnTo>
                      <a:pt x="2479" y="284"/>
                    </a:lnTo>
                    <a:lnTo>
                      <a:pt x="2508" y="264"/>
                    </a:lnTo>
                    <a:lnTo>
                      <a:pt x="2537" y="254"/>
                    </a:lnTo>
                    <a:lnTo>
                      <a:pt x="2567" y="235"/>
                    </a:lnTo>
                    <a:lnTo>
                      <a:pt x="2596" y="215"/>
                    </a:lnTo>
                    <a:lnTo>
                      <a:pt x="2625" y="205"/>
                    </a:lnTo>
                    <a:lnTo>
                      <a:pt x="2655" y="196"/>
                    </a:lnTo>
                    <a:lnTo>
                      <a:pt x="2684" y="176"/>
                    </a:lnTo>
                    <a:lnTo>
                      <a:pt x="2723" y="166"/>
                    </a:lnTo>
                    <a:lnTo>
                      <a:pt x="2753" y="156"/>
                    </a:lnTo>
                    <a:lnTo>
                      <a:pt x="2782" y="147"/>
                    </a:lnTo>
                    <a:lnTo>
                      <a:pt x="2811" y="137"/>
                    </a:lnTo>
                    <a:lnTo>
                      <a:pt x="2841" y="127"/>
                    </a:lnTo>
                    <a:lnTo>
                      <a:pt x="2870" y="117"/>
                    </a:lnTo>
                    <a:lnTo>
                      <a:pt x="2899" y="108"/>
                    </a:lnTo>
                    <a:lnTo>
                      <a:pt x="2929" y="98"/>
                    </a:lnTo>
                    <a:lnTo>
                      <a:pt x="2958" y="88"/>
                    </a:lnTo>
                    <a:lnTo>
                      <a:pt x="2987" y="78"/>
                    </a:lnTo>
                    <a:lnTo>
                      <a:pt x="3017" y="68"/>
                    </a:lnTo>
                    <a:lnTo>
                      <a:pt x="3056" y="59"/>
                    </a:lnTo>
                    <a:lnTo>
                      <a:pt x="3085" y="49"/>
                    </a:lnTo>
                    <a:lnTo>
                      <a:pt x="3114" y="39"/>
                    </a:lnTo>
                    <a:lnTo>
                      <a:pt x="3144" y="29"/>
                    </a:lnTo>
                    <a:lnTo>
                      <a:pt x="3173" y="20"/>
                    </a:lnTo>
                    <a:lnTo>
                      <a:pt x="3203" y="10"/>
                    </a:lnTo>
                    <a:lnTo>
                      <a:pt x="3232" y="0"/>
                    </a:lnTo>
                    <a:lnTo>
                      <a:pt x="3261" y="0"/>
                    </a:lnTo>
                    <a:lnTo>
                      <a:pt x="3291" y="0"/>
                    </a:lnTo>
                    <a:lnTo>
                      <a:pt x="3320" y="0"/>
                    </a:lnTo>
                    <a:lnTo>
                      <a:pt x="3349" y="10"/>
                    </a:lnTo>
                    <a:lnTo>
                      <a:pt x="3388" y="20"/>
                    </a:lnTo>
                    <a:lnTo>
                      <a:pt x="3418" y="29"/>
                    </a:lnTo>
                    <a:lnTo>
                      <a:pt x="3447" y="49"/>
                    </a:lnTo>
                    <a:lnTo>
                      <a:pt x="3476" y="68"/>
                    </a:lnTo>
                    <a:cubicBezTo>
                      <a:pt x="3492" y="76"/>
                      <a:pt x="3525" y="91"/>
                      <a:pt x="3545" y="100"/>
                    </a:cubicBezTo>
                    <a:cubicBezTo>
                      <a:pt x="3565" y="109"/>
                      <a:pt x="3559" y="115"/>
                      <a:pt x="3595" y="125"/>
                    </a:cubicBezTo>
                    <a:cubicBezTo>
                      <a:pt x="3631" y="135"/>
                      <a:pt x="3726" y="153"/>
                      <a:pt x="3760" y="160"/>
                    </a:cubicBez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2767320" y="4471560"/>
                <a:ext cx="0" cy="43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2767320" y="4894920"/>
                <a:ext cx="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31" name=""/>
              <p:cNvSpPr/>
              <p:nvPr/>
            </p:nvSpPr>
            <p:spPr>
              <a:xfrm>
                <a:off x="2758320" y="491832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732" name=""/>
              <p:cNvSpPr/>
              <p:nvPr/>
            </p:nvSpPr>
            <p:spPr>
              <a:xfrm flipV="1">
                <a:off x="2933280" y="4894920"/>
                <a:ext cx="144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33" name=""/>
              <p:cNvSpPr/>
              <p:nvPr/>
            </p:nvSpPr>
            <p:spPr>
              <a:xfrm>
                <a:off x="2914200" y="49183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a:t>
                </a:r>
                <a:endParaRPr b="0" lang="en-US" sz="700" spc="-1" strike="noStrike">
                  <a:solidFill>
                    <a:srgbClr val="000000"/>
                  </a:solidFill>
                  <a:latin typeface="Times New Roman"/>
                </a:endParaRPr>
              </a:p>
            </p:txBody>
          </p:sp>
          <p:sp>
            <p:nvSpPr>
              <p:cNvPr id="734" name=""/>
              <p:cNvSpPr/>
              <p:nvPr/>
            </p:nvSpPr>
            <p:spPr>
              <a:xfrm flipV="1">
                <a:off x="3097440" y="4894920"/>
                <a:ext cx="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35" name=""/>
              <p:cNvSpPr/>
              <p:nvPr/>
            </p:nvSpPr>
            <p:spPr>
              <a:xfrm>
                <a:off x="3079800" y="49183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0</a:t>
                </a:r>
                <a:endParaRPr b="0" lang="en-US" sz="700" spc="-1" strike="noStrike">
                  <a:solidFill>
                    <a:srgbClr val="000000"/>
                  </a:solidFill>
                  <a:latin typeface="Times New Roman"/>
                </a:endParaRPr>
              </a:p>
            </p:txBody>
          </p:sp>
          <p:sp>
            <p:nvSpPr>
              <p:cNvPr id="736" name=""/>
              <p:cNvSpPr/>
              <p:nvPr/>
            </p:nvSpPr>
            <p:spPr>
              <a:xfrm flipV="1">
                <a:off x="3264840" y="4894920"/>
                <a:ext cx="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37" name=""/>
              <p:cNvSpPr/>
              <p:nvPr/>
            </p:nvSpPr>
            <p:spPr>
              <a:xfrm>
                <a:off x="3244320" y="49183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0</a:t>
                </a:r>
                <a:endParaRPr b="0" lang="en-US" sz="700" spc="-1" strike="noStrike">
                  <a:solidFill>
                    <a:srgbClr val="000000"/>
                  </a:solidFill>
                  <a:latin typeface="Times New Roman"/>
                </a:endParaRPr>
              </a:p>
            </p:txBody>
          </p:sp>
          <p:sp>
            <p:nvSpPr>
              <p:cNvPr id="738" name=""/>
              <p:cNvSpPr/>
              <p:nvPr/>
            </p:nvSpPr>
            <p:spPr>
              <a:xfrm flipV="1">
                <a:off x="3429000" y="4894920"/>
                <a:ext cx="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39" name=""/>
              <p:cNvSpPr/>
              <p:nvPr/>
            </p:nvSpPr>
            <p:spPr>
              <a:xfrm>
                <a:off x="3407040" y="49183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0</a:t>
                </a:r>
                <a:endParaRPr b="0" lang="en-US" sz="700" spc="-1" strike="noStrike">
                  <a:solidFill>
                    <a:srgbClr val="000000"/>
                  </a:solidFill>
                  <a:latin typeface="Times New Roman"/>
                </a:endParaRPr>
              </a:p>
            </p:txBody>
          </p:sp>
          <p:sp>
            <p:nvSpPr>
              <p:cNvPr id="740" name=""/>
              <p:cNvSpPr/>
              <p:nvPr/>
            </p:nvSpPr>
            <p:spPr>
              <a:xfrm flipV="1">
                <a:off x="3593160" y="4894920"/>
                <a:ext cx="144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41" name=""/>
              <p:cNvSpPr/>
              <p:nvPr/>
            </p:nvSpPr>
            <p:spPr>
              <a:xfrm>
                <a:off x="3569040" y="491832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a:t>
                </a:r>
                <a:endParaRPr b="0" lang="en-US" sz="700" spc="-1" strike="noStrike">
                  <a:solidFill>
                    <a:srgbClr val="000000"/>
                  </a:solidFill>
                  <a:latin typeface="Times New Roman"/>
                </a:endParaRPr>
              </a:p>
            </p:txBody>
          </p:sp>
          <p:sp>
            <p:nvSpPr>
              <p:cNvPr id="742" name=""/>
              <p:cNvSpPr/>
              <p:nvPr/>
            </p:nvSpPr>
            <p:spPr>
              <a:xfrm flipV="1">
                <a:off x="3759120" y="4894920"/>
                <a:ext cx="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43" name=""/>
              <p:cNvSpPr/>
              <p:nvPr/>
            </p:nvSpPr>
            <p:spPr>
              <a:xfrm>
                <a:off x="3728880" y="491832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0</a:t>
                </a:r>
                <a:endParaRPr b="0" lang="en-US" sz="700" spc="-1" strike="noStrike">
                  <a:solidFill>
                    <a:srgbClr val="000000"/>
                  </a:solidFill>
                  <a:latin typeface="Times New Roman"/>
                </a:endParaRPr>
              </a:p>
            </p:txBody>
          </p:sp>
          <p:sp>
            <p:nvSpPr>
              <p:cNvPr id="744" name=""/>
              <p:cNvSpPr/>
              <p:nvPr/>
            </p:nvSpPr>
            <p:spPr>
              <a:xfrm>
                <a:off x="2767320" y="4907520"/>
                <a:ext cx="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783880" y="5078880"/>
                <a:ext cx="1046880" cy="193680"/>
              </a:xfrm>
              <a:custGeom>
                <a:avLst/>
                <a:gdLst/>
                <a:ahLst/>
                <a:rect l="l" t="t" r="r" b="b"/>
                <a:pathLst>
                  <a:path w="5896" h="525">
                    <a:moveTo>
                      <a:pt x="0" y="525"/>
                    </a:moveTo>
                    <a:lnTo>
                      <a:pt x="45" y="525"/>
                    </a:lnTo>
                    <a:lnTo>
                      <a:pt x="90" y="510"/>
                    </a:lnTo>
                    <a:lnTo>
                      <a:pt x="135" y="510"/>
                    </a:lnTo>
                    <a:lnTo>
                      <a:pt x="180" y="510"/>
                    </a:lnTo>
                    <a:lnTo>
                      <a:pt x="240" y="510"/>
                    </a:lnTo>
                    <a:lnTo>
                      <a:pt x="285" y="510"/>
                    </a:lnTo>
                    <a:lnTo>
                      <a:pt x="330" y="510"/>
                    </a:lnTo>
                    <a:lnTo>
                      <a:pt x="375" y="510"/>
                    </a:lnTo>
                    <a:lnTo>
                      <a:pt x="420" y="510"/>
                    </a:lnTo>
                    <a:lnTo>
                      <a:pt x="465" y="495"/>
                    </a:lnTo>
                    <a:lnTo>
                      <a:pt x="510" y="495"/>
                    </a:lnTo>
                    <a:lnTo>
                      <a:pt x="555" y="495"/>
                    </a:lnTo>
                    <a:lnTo>
                      <a:pt x="600" y="495"/>
                    </a:lnTo>
                    <a:lnTo>
                      <a:pt x="645" y="495"/>
                    </a:lnTo>
                    <a:lnTo>
                      <a:pt x="690" y="480"/>
                    </a:lnTo>
                    <a:lnTo>
                      <a:pt x="750" y="480"/>
                    </a:lnTo>
                    <a:lnTo>
                      <a:pt x="795" y="480"/>
                    </a:lnTo>
                    <a:lnTo>
                      <a:pt x="840" y="480"/>
                    </a:lnTo>
                    <a:lnTo>
                      <a:pt x="885" y="480"/>
                    </a:lnTo>
                    <a:lnTo>
                      <a:pt x="930" y="465"/>
                    </a:lnTo>
                    <a:lnTo>
                      <a:pt x="975" y="465"/>
                    </a:lnTo>
                    <a:lnTo>
                      <a:pt x="1020" y="465"/>
                    </a:lnTo>
                    <a:lnTo>
                      <a:pt x="1065" y="465"/>
                    </a:lnTo>
                    <a:lnTo>
                      <a:pt x="1110" y="450"/>
                    </a:lnTo>
                    <a:lnTo>
                      <a:pt x="1155" y="450"/>
                    </a:lnTo>
                    <a:lnTo>
                      <a:pt x="1215" y="450"/>
                    </a:lnTo>
                    <a:lnTo>
                      <a:pt x="1260" y="450"/>
                    </a:lnTo>
                    <a:lnTo>
                      <a:pt x="1305" y="435"/>
                    </a:lnTo>
                    <a:lnTo>
                      <a:pt x="1350" y="435"/>
                    </a:lnTo>
                    <a:lnTo>
                      <a:pt x="1395" y="435"/>
                    </a:lnTo>
                    <a:lnTo>
                      <a:pt x="1440" y="435"/>
                    </a:lnTo>
                    <a:lnTo>
                      <a:pt x="1485" y="420"/>
                    </a:lnTo>
                    <a:lnTo>
                      <a:pt x="1530" y="420"/>
                    </a:lnTo>
                    <a:lnTo>
                      <a:pt x="1575" y="420"/>
                    </a:lnTo>
                    <a:lnTo>
                      <a:pt x="1620" y="405"/>
                    </a:lnTo>
                    <a:lnTo>
                      <a:pt x="1665" y="405"/>
                    </a:lnTo>
                    <a:lnTo>
                      <a:pt x="1725" y="405"/>
                    </a:lnTo>
                    <a:lnTo>
                      <a:pt x="1770" y="390"/>
                    </a:lnTo>
                    <a:lnTo>
                      <a:pt x="1815" y="390"/>
                    </a:lnTo>
                    <a:lnTo>
                      <a:pt x="1860" y="390"/>
                    </a:lnTo>
                    <a:lnTo>
                      <a:pt x="1905" y="375"/>
                    </a:lnTo>
                    <a:lnTo>
                      <a:pt x="1950" y="375"/>
                    </a:lnTo>
                    <a:lnTo>
                      <a:pt x="1995" y="375"/>
                    </a:lnTo>
                    <a:lnTo>
                      <a:pt x="2040" y="360"/>
                    </a:lnTo>
                    <a:lnTo>
                      <a:pt x="2085" y="360"/>
                    </a:lnTo>
                    <a:lnTo>
                      <a:pt x="2130" y="360"/>
                    </a:lnTo>
                    <a:lnTo>
                      <a:pt x="2175" y="345"/>
                    </a:lnTo>
                    <a:lnTo>
                      <a:pt x="2235" y="345"/>
                    </a:lnTo>
                    <a:lnTo>
                      <a:pt x="2280" y="345"/>
                    </a:lnTo>
                    <a:lnTo>
                      <a:pt x="2325" y="330"/>
                    </a:lnTo>
                    <a:lnTo>
                      <a:pt x="2370" y="330"/>
                    </a:lnTo>
                    <a:lnTo>
                      <a:pt x="2415" y="330"/>
                    </a:lnTo>
                    <a:lnTo>
                      <a:pt x="2460" y="315"/>
                    </a:lnTo>
                    <a:lnTo>
                      <a:pt x="2505" y="315"/>
                    </a:lnTo>
                    <a:lnTo>
                      <a:pt x="2550" y="315"/>
                    </a:lnTo>
                    <a:lnTo>
                      <a:pt x="2595" y="300"/>
                    </a:lnTo>
                    <a:lnTo>
                      <a:pt x="2640" y="300"/>
                    </a:lnTo>
                    <a:lnTo>
                      <a:pt x="2685" y="300"/>
                    </a:lnTo>
                    <a:lnTo>
                      <a:pt x="2745" y="285"/>
                    </a:lnTo>
                    <a:lnTo>
                      <a:pt x="2790" y="285"/>
                    </a:lnTo>
                    <a:lnTo>
                      <a:pt x="2836" y="270"/>
                    </a:lnTo>
                    <a:lnTo>
                      <a:pt x="2881" y="270"/>
                    </a:lnTo>
                    <a:lnTo>
                      <a:pt x="2926" y="270"/>
                    </a:lnTo>
                    <a:lnTo>
                      <a:pt x="2971" y="255"/>
                    </a:lnTo>
                    <a:lnTo>
                      <a:pt x="3016" y="255"/>
                    </a:lnTo>
                    <a:lnTo>
                      <a:pt x="3061" y="255"/>
                    </a:lnTo>
                    <a:lnTo>
                      <a:pt x="3106" y="240"/>
                    </a:lnTo>
                    <a:lnTo>
                      <a:pt x="3151" y="240"/>
                    </a:lnTo>
                    <a:lnTo>
                      <a:pt x="3211" y="240"/>
                    </a:lnTo>
                    <a:lnTo>
                      <a:pt x="3256" y="225"/>
                    </a:lnTo>
                    <a:lnTo>
                      <a:pt x="3301" y="225"/>
                    </a:lnTo>
                    <a:lnTo>
                      <a:pt x="3346" y="225"/>
                    </a:lnTo>
                    <a:lnTo>
                      <a:pt x="3391" y="210"/>
                    </a:lnTo>
                    <a:lnTo>
                      <a:pt x="3436" y="210"/>
                    </a:lnTo>
                    <a:lnTo>
                      <a:pt x="3481" y="195"/>
                    </a:lnTo>
                    <a:lnTo>
                      <a:pt x="3526" y="195"/>
                    </a:lnTo>
                    <a:lnTo>
                      <a:pt x="3571" y="195"/>
                    </a:lnTo>
                    <a:lnTo>
                      <a:pt x="3616" y="180"/>
                    </a:lnTo>
                    <a:lnTo>
                      <a:pt x="3661" y="180"/>
                    </a:lnTo>
                    <a:lnTo>
                      <a:pt x="3721" y="180"/>
                    </a:lnTo>
                    <a:lnTo>
                      <a:pt x="3766" y="165"/>
                    </a:lnTo>
                    <a:lnTo>
                      <a:pt x="3811" y="165"/>
                    </a:lnTo>
                    <a:lnTo>
                      <a:pt x="3856" y="165"/>
                    </a:lnTo>
                    <a:lnTo>
                      <a:pt x="3901" y="150"/>
                    </a:lnTo>
                    <a:lnTo>
                      <a:pt x="3946" y="150"/>
                    </a:lnTo>
                    <a:lnTo>
                      <a:pt x="3991" y="150"/>
                    </a:lnTo>
                    <a:lnTo>
                      <a:pt x="4036" y="135"/>
                    </a:lnTo>
                    <a:lnTo>
                      <a:pt x="4081" y="135"/>
                    </a:lnTo>
                    <a:lnTo>
                      <a:pt x="4126" y="135"/>
                    </a:lnTo>
                    <a:lnTo>
                      <a:pt x="4171" y="120"/>
                    </a:lnTo>
                    <a:lnTo>
                      <a:pt x="4231" y="120"/>
                    </a:lnTo>
                    <a:lnTo>
                      <a:pt x="4276" y="120"/>
                    </a:lnTo>
                    <a:lnTo>
                      <a:pt x="4321" y="105"/>
                    </a:lnTo>
                    <a:lnTo>
                      <a:pt x="4366" y="105"/>
                    </a:lnTo>
                    <a:lnTo>
                      <a:pt x="4411" y="105"/>
                    </a:lnTo>
                    <a:lnTo>
                      <a:pt x="4456" y="105"/>
                    </a:lnTo>
                    <a:lnTo>
                      <a:pt x="4501" y="90"/>
                    </a:lnTo>
                    <a:lnTo>
                      <a:pt x="4546" y="90"/>
                    </a:lnTo>
                    <a:lnTo>
                      <a:pt x="4591" y="90"/>
                    </a:lnTo>
                    <a:lnTo>
                      <a:pt x="4636" y="75"/>
                    </a:lnTo>
                    <a:lnTo>
                      <a:pt x="4681" y="75"/>
                    </a:lnTo>
                    <a:lnTo>
                      <a:pt x="4741" y="75"/>
                    </a:lnTo>
                    <a:lnTo>
                      <a:pt x="4786" y="75"/>
                    </a:lnTo>
                    <a:lnTo>
                      <a:pt x="4831" y="60"/>
                    </a:lnTo>
                    <a:lnTo>
                      <a:pt x="4876" y="60"/>
                    </a:lnTo>
                    <a:lnTo>
                      <a:pt x="4921" y="60"/>
                    </a:lnTo>
                    <a:lnTo>
                      <a:pt x="4966" y="60"/>
                    </a:lnTo>
                    <a:lnTo>
                      <a:pt x="5011" y="45"/>
                    </a:lnTo>
                    <a:lnTo>
                      <a:pt x="5056" y="45"/>
                    </a:lnTo>
                    <a:lnTo>
                      <a:pt x="5101" y="45"/>
                    </a:lnTo>
                    <a:lnTo>
                      <a:pt x="5146" y="45"/>
                    </a:lnTo>
                    <a:lnTo>
                      <a:pt x="5191" y="30"/>
                    </a:lnTo>
                    <a:lnTo>
                      <a:pt x="5251" y="30"/>
                    </a:lnTo>
                    <a:lnTo>
                      <a:pt x="5296" y="30"/>
                    </a:lnTo>
                    <a:lnTo>
                      <a:pt x="5341" y="30"/>
                    </a:lnTo>
                    <a:lnTo>
                      <a:pt x="5386" y="30"/>
                    </a:lnTo>
                    <a:lnTo>
                      <a:pt x="5431" y="15"/>
                    </a:lnTo>
                    <a:lnTo>
                      <a:pt x="5476" y="15"/>
                    </a:lnTo>
                    <a:lnTo>
                      <a:pt x="5521" y="15"/>
                    </a:lnTo>
                    <a:lnTo>
                      <a:pt x="5566" y="15"/>
                    </a:lnTo>
                    <a:lnTo>
                      <a:pt x="5611" y="15"/>
                    </a:lnTo>
                    <a:lnTo>
                      <a:pt x="5656" y="15"/>
                    </a:lnTo>
                    <a:lnTo>
                      <a:pt x="5716" y="0"/>
                    </a:lnTo>
                    <a:lnTo>
                      <a:pt x="5761" y="0"/>
                    </a:lnTo>
                    <a:lnTo>
                      <a:pt x="5806" y="0"/>
                    </a:lnTo>
                    <a:lnTo>
                      <a:pt x="5851" y="0"/>
                    </a:lnTo>
                    <a:lnTo>
                      <a:pt x="5896" y="0"/>
                    </a:lnTo>
                  </a:path>
                </a:pathLst>
              </a:custGeom>
              <a:noFill/>
              <a:ln w="147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783880" y="5358600"/>
                <a:ext cx="1046880" cy="55440"/>
              </a:xfrm>
              <a:custGeom>
                <a:avLst/>
                <a:gdLst/>
                <a:ahLst/>
                <a:rect l="l" t="t" r="r" b="b"/>
                <a:pathLst>
                  <a:path w="5896" h="150">
                    <a:moveTo>
                      <a:pt x="0" y="150"/>
                    </a:moveTo>
                    <a:lnTo>
                      <a:pt x="45" y="150"/>
                    </a:lnTo>
                    <a:lnTo>
                      <a:pt x="90" y="150"/>
                    </a:lnTo>
                    <a:lnTo>
                      <a:pt x="135" y="150"/>
                    </a:lnTo>
                    <a:lnTo>
                      <a:pt x="180" y="150"/>
                    </a:lnTo>
                    <a:lnTo>
                      <a:pt x="240" y="150"/>
                    </a:lnTo>
                    <a:lnTo>
                      <a:pt x="285" y="150"/>
                    </a:lnTo>
                    <a:lnTo>
                      <a:pt x="330" y="150"/>
                    </a:lnTo>
                    <a:lnTo>
                      <a:pt x="375" y="150"/>
                    </a:lnTo>
                    <a:lnTo>
                      <a:pt x="420" y="150"/>
                    </a:lnTo>
                    <a:lnTo>
                      <a:pt x="465" y="150"/>
                    </a:lnTo>
                    <a:lnTo>
                      <a:pt x="510" y="150"/>
                    </a:lnTo>
                    <a:lnTo>
                      <a:pt x="555" y="150"/>
                    </a:lnTo>
                    <a:lnTo>
                      <a:pt x="600" y="150"/>
                    </a:lnTo>
                    <a:lnTo>
                      <a:pt x="645" y="150"/>
                    </a:lnTo>
                    <a:lnTo>
                      <a:pt x="690" y="150"/>
                    </a:lnTo>
                    <a:lnTo>
                      <a:pt x="750" y="150"/>
                    </a:lnTo>
                    <a:lnTo>
                      <a:pt x="795" y="135"/>
                    </a:lnTo>
                    <a:lnTo>
                      <a:pt x="840" y="135"/>
                    </a:lnTo>
                    <a:lnTo>
                      <a:pt x="885" y="135"/>
                    </a:lnTo>
                    <a:lnTo>
                      <a:pt x="930" y="135"/>
                    </a:lnTo>
                    <a:lnTo>
                      <a:pt x="975" y="135"/>
                    </a:lnTo>
                    <a:lnTo>
                      <a:pt x="1020" y="135"/>
                    </a:lnTo>
                    <a:lnTo>
                      <a:pt x="1065" y="120"/>
                    </a:lnTo>
                    <a:lnTo>
                      <a:pt x="1110" y="120"/>
                    </a:lnTo>
                    <a:lnTo>
                      <a:pt x="1155" y="120"/>
                    </a:lnTo>
                    <a:lnTo>
                      <a:pt x="1215" y="120"/>
                    </a:lnTo>
                    <a:lnTo>
                      <a:pt x="1260" y="105"/>
                    </a:lnTo>
                    <a:lnTo>
                      <a:pt x="1305" y="105"/>
                    </a:lnTo>
                    <a:lnTo>
                      <a:pt x="1350" y="105"/>
                    </a:lnTo>
                    <a:lnTo>
                      <a:pt x="1395" y="105"/>
                    </a:lnTo>
                    <a:lnTo>
                      <a:pt x="1440" y="90"/>
                    </a:lnTo>
                    <a:lnTo>
                      <a:pt x="1485" y="90"/>
                    </a:lnTo>
                    <a:lnTo>
                      <a:pt x="1530" y="90"/>
                    </a:lnTo>
                    <a:lnTo>
                      <a:pt x="1575" y="90"/>
                    </a:lnTo>
                    <a:lnTo>
                      <a:pt x="1620" y="75"/>
                    </a:lnTo>
                    <a:lnTo>
                      <a:pt x="1665" y="75"/>
                    </a:lnTo>
                    <a:lnTo>
                      <a:pt x="1725" y="75"/>
                    </a:lnTo>
                    <a:lnTo>
                      <a:pt x="1770" y="60"/>
                    </a:lnTo>
                    <a:lnTo>
                      <a:pt x="1815" y="60"/>
                    </a:lnTo>
                    <a:lnTo>
                      <a:pt x="1860" y="60"/>
                    </a:lnTo>
                    <a:lnTo>
                      <a:pt x="1905" y="60"/>
                    </a:lnTo>
                    <a:lnTo>
                      <a:pt x="1950" y="45"/>
                    </a:lnTo>
                    <a:lnTo>
                      <a:pt x="1995" y="45"/>
                    </a:lnTo>
                    <a:lnTo>
                      <a:pt x="2040" y="45"/>
                    </a:lnTo>
                    <a:lnTo>
                      <a:pt x="2085" y="30"/>
                    </a:lnTo>
                    <a:lnTo>
                      <a:pt x="2130" y="30"/>
                    </a:lnTo>
                    <a:lnTo>
                      <a:pt x="2175" y="30"/>
                    </a:lnTo>
                    <a:lnTo>
                      <a:pt x="2235" y="30"/>
                    </a:lnTo>
                    <a:lnTo>
                      <a:pt x="2280" y="15"/>
                    </a:lnTo>
                    <a:lnTo>
                      <a:pt x="2325" y="15"/>
                    </a:lnTo>
                    <a:lnTo>
                      <a:pt x="2370" y="15"/>
                    </a:lnTo>
                    <a:lnTo>
                      <a:pt x="2415" y="15"/>
                    </a:lnTo>
                    <a:lnTo>
                      <a:pt x="2460" y="15"/>
                    </a:lnTo>
                    <a:lnTo>
                      <a:pt x="2505" y="15"/>
                    </a:lnTo>
                    <a:lnTo>
                      <a:pt x="2550" y="0"/>
                    </a:lnTo>
                    <a:lnTo>
                      <a:pt x="2595" y="0"/>
                    </a:lnTo>
                    <a:lnTo>
                      <a:pt x="2640" y="0"/>
                    </a:lnTo>
                    <a:lnTo>
                      <a:pt x="2685" y="0"/>
                    </a:lnTo>
                    <a:lnTo>
                      <a:pt x="2745" y="0"/>
                    </a:lnTo>
                    <a:lnTo>
                      <a:pt x="2790" y="0"/>
                    </a:lnTo>
                    <a:lnTo>
                      <a:pt x="2836" y="0"/>
                    </a:lnTo>
                    <a:lnTo>
                      <a:pt x="2881" y="0"/>
                    </a:lnTo>
                    <a:lnTo>
                      <a:pt x="2926" y="0"/>
                    </a:lnTo>
                    <a:lnTo>
                      <a:pt x="2971" y="0"/>
                    </a:lnTo>
                    <a:lnTo>
                      <a:pt x="3016" y="0"/>
                    </a:lnTo>
                    <a:lnTo>
                      <a:pt x="3061" y="0"/>
                    </a:lnTo>
                    <a:lnTo>
                      <a:pt x="3106" y="0"/>
                    </a:lnTo>
                    <a:lnTo>
                      <a:pt x="3151" y="0"/>
                    </a:lnTo>
                    <a:lnTo>
                      <a:pt x="3211" y="0"/>
                    </a:lnTo>
                    <a:lnTo>
                      <a:pt x="3256" y="0"/>
                    </a:lnTo>
                    <a:lnTo>
                      <a:pt x="3301" y="0"/>
                    </a:lnTo>
                    <a:lnTo>
                      <a:pt x="3346" y="0"/>
                    </a:lnTo>
                    <a:lnTo>
                      <a:pt x="3391" y="0"/>
                    </a:lnTo>
                    <a:lnTo>
                      <a:pt x="3436" y="15"/>
                    </a:lnTo>
                    <a:lnTo>
                      <a:pt x="3481" y="15"/>
                    </a:lnTo>
                    <a:lnTo>
                      <a:pt x="3526" y="15"/>
                    </a:lnTo>
                    <a:lnTo>
                      <a:pt x="3571" y="15"/>
                    </a:lnTo>
                    <a:lnTo>
                      <a:pt x="3616" y="15"/>
                    </a:lnTo>
                    <a:lnTo>
                      <a:pt x="3661" y="30"/>
                    </a:lnTo>
                    <a:lnTo>
                      <a:pt x="3721" y="30"/>
                    </a:lnTo>
                    <a:lnTo>
                      <a:pt x="3766" y="30"/>
                    </a:lnTo>
                    <a:lnTo>
                      <a:pt x="3811" y="30"/>
                    </a:lnTo>
                    <a:lnTo>
                      <a:pt x="3856" y="45"/>
                    </a:lnTo>
                    <a:lnTo>
                      <a:pt x="3901" y="45"/>
                    </a:lnTo>
                    <a:lnTo>
                      <a:pt x="3946" y="45"/>
                    </a:lnTo>
                    <a:lnTo>
                      <a:pt x="3991" y="45"/>
                    </a:lnTo>
                    <a:lnTo>
                      <a:pt x="4036" y="60"/>
                    </a:lnTo>
                    <a:lnTo>
                      <a:pt x="4081" y="60"/>
                    </a:lnTo>
                    <a:lnTo>
                      <a:pt x="4126" y="60"/>
                    </a:lnTo>
                    <a:lnTo>
                      <a:pt x="4171" y="75"/>
                    </a:lnTo>
                    <a:lnTo>
                      <a:pt x="4231" y="75"/>
                    </a:lnTo>
                    <a:lnTo>
                      <a:pt x="4276" y="75"/>
                    </a:lnTo>
                    <a:lnTo>
                      <a:pt x="4321" y="90"/>
                    </a:lnTo>
                    <a:lnTo>
                      <a:pt x="4366" y="90"/>
                    </a:lnTo>
                    <a:lnTo>
                      <a:pt x="4411" y="90"/>
                    </a:lnTo>
                    <a:lnTo>
                      <a:pt x="4456" y="90"/>
                    </a:lnTo>
                    <a:lnTo>
                      <a:pt x="4501" y="105"/>
                    </a:lnTo>
                    <a:lnTo>
                      <a:pt x="4546" y="105"/>
                    </a:lnTo>
                    <a:lnTo>
                      <a:pt x="4591" y="105"/>
                    </a:lnTo>
                    <a:lnTo>
                      <a:pt x="4636" y="105"/>
                    </a:lnTo>
                    <a:lnTo>
                      <a:pt x="4681" y="120"/>
                    </a:lnTo>
                    <a:lnTo>
                      <a:pt x="4741" y="120"/>
                    </a:lnTo>
                    <a:lnTo>
                      <a:pt x="4786" y="120"/>
                    </a:lnTo>
                    <a:lnTo>
                      <a:pt x="4831" y="120"/>
                    </a:lnTo>
                    <a:lnTo>
                      <a:pt x="4876" y="135"/>
                    </a:lnTo>
                    <a:lnTo>
                      <a:pt x="4921" y="135"/>
                    </a:lnTo>
                    <a:lnTo>
                      <a:pt x="4966" y="135"/>
                    </a:lnTo>
                    <a:lnTo>
                      <a:pt x="5011" y="135"/>
                    </a:lnTo>
                    <a:lnTo>
                      <a:pt x="5056" y="135"/>
                    </a:lnTo>
                    <a:lnTo>
                      <a:pt x="5101" y="135"/>
                    </a:lnTo>
                    <a:lnTo>
                      <a:pt x="5146" y="150"/>
                    </a:lnTo>
                    <a:lnTo>
                      <a:pt x="5191" y="150"/>
                    </a:lnTo>
                    <a:lnTo>
                      <a:pt x="5251" y="150"/>
                    </a:lnTo>
                    <a:lnTo>
                      <a:pt x="5296" y="150"/>
                    </a:lnTo>
                    <a:lnTo>
                      <a:pt x="5341" y="150"/>
                    </a:lnTo>
                    <a:lnTo>
                      <a:pt x="5386" y="150"/>
                    </a:lnTo>
                    <a:lnTo>
                      <a:pt x="5431" y="150"/>
                    </a:lnTo>
                    <a:lnTo>
                      <a:pt x="5476" y="150"/>
                    </a:lnTo>
                    <a:lnTo>
                      <a:pt x="5521" y="150"/>
                    </a:lnTo>
                    <a:lnTo>
                      <a:pt x="5566" y="150"/>
                    </a:lnTo>
                    <a:lnTo>
                      <a:pt x="5611" y="150"/>
                    </a:lnTo>
                    <a:lnTo>
                      <a:pt x="5656" y="150"/>
                    </a:lnTo>
                    <a:lnTo>
                      <a:pt x="5716" y="150"/>
                    </a:lnTo>
                    <a:lnTo>
                      <a:pt x="5761" y="150"/>
                    </a:lnTo>
                    <a:lnTo>
                      <a:pt x="5806" y="150"/>
                    </a:lnTo>
                    <a:lnTo>
                      <a:pt x="5851" y="150"/>
                    </a:lnTo>
                    <a:lnTo>
                      <a:pt x="5896" y="150"/>
                    </a:lnTo>
                  </a:path>
                </a:pathLst>
              </a:custGeom>
              <a:noFill/>
              <a:ln w="14760">
                <a:solidFill>
                  <a:srgbClr val="333333"/>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7" name=""/>
              <p:cNvSpPr/>
              <p:nvPr/>
            </p:nvSpPr>
            <p:spPr>
              <a:xfrm>
                <a:off x="2783880" y="5500440"/>
                <a:ext cx="1046880" cy="204840"/>
              </a:xfrm>
              <a:custGeom>
                <a:avLst/>
                <a:gdLst/>
                <a:ahLst/>
                <a:rect l="l" t="t" r="r" b="b"/>
                <a:pathLst>
                  <a:path w="5896" h="555">
                    <a:moveTo>
                      <a:pt x="0" y="0"/>
                    </a:moveTo>
                    <a:lnTo>
                      <a:pt x="45" y="15"/>
                    </a:lnTo>
                    <a:lnTo>
                      <a:pt x="90" y="15"/>
                    </a:lnTo>
                    <a:lnTo>
                      <a:pt x="135" y="30"/>
                    </a:lnTo>
                    <a:lnTo>
                      <a:pt x="180" y="30"/>
                    </a:lnTo>
                    <a:lnTo>
                      <a:pt x="240" y="45"/>
                    </a:lnTo>
                    <a:lnTo>
                      <a:pt x="285" y="60"/>
                    </a:lnTo>
                    <a:lnTo>
                      <a:pt x="330" y="75"/>
                    </a:lnTo>
                    <a:lnTo>
                      <a:pt x="375" y="90"/>
                    </a:lnTo>
                    <a:lnTo>
                      <a:pt x="420" y="105"/>
                    </a:lnTo>
                    <a:lnTo>
                      <a:pt x="465" y="105"/>
                    </a:lnTo>
                    <a:lnTo>
                      <a:pt x="510" y="120"/>
                    </a:lnTo>
                    <a:lnTo>
                      <a:pt x="555" y="150"/>
                    </a:lnTo>
                    <a:lnTo>
                      <a:pt x="600" y="165"/>
                    </a:lnTo>
                    <a:lnTo>
                      <a:pt x="645" y="180"/>
                    </a:lnTo>
                    <a:lnTo>
                      <a:pt x="690" y="195"/>
                    </a:lnTo>
                    <a:lnTo>
                      <a:pt x="750" y="210"/>
                    </a:lnTo>
                    <a:lnTo>
                      <a:pt x="795" y="225"/>
                    </a:lnTo>
                    <a:lnTo>
                      <a:pt x="840" y="240"/>
                    </a:lnTo>
                    <a:lnTo>
                      <a:pt x="885" y="270"/>
                    </a:lnTo>
                    <a:lnTo>
                      <a:pt x="930" y="285"/>
                    </a:lnTo>
                    <a:lnTo>
                      <a:pt x="975" y="300"/>
                    </a:lnTo>
                    <a:lnTo>
                      <a:pt x="1020" y="315"/>
                    </a:lnTo>
                    <a:lnTo>
                      <a:pt x="1065" y="345"/>
                    </a:lnTo>
                    <a:lnTo>
                      <a:pt x="1110" y="360"/>
                    </a:lnTo>
                    <a:lnTo>
                      <a:pt x="1155" y="375"/>
                    </a:lnTo>
                    <a:lnTo>
                      <a:pt x="1215" y="390"/>
                    </a:lnTo>
                    <a:lnTo>
                      <a:pt x="1260" y="405"/>
                    </a:lnTo>
                    <a:lnTo>
                      <a:pt x="1305" y="420"/>
                    </a:lnTo>
                    <a:lnTo>
                      <a:pt x="1350" y="435"/>
                    </a:lnTo>
                    <a:lnTo>
                      <a:pt x="1395" y="450"/>
                    </a:lnTo>
                    <a:lnTo>
                      <a:pt x="1440" y="465"/>
                    </a:lnTo>
                    <a:lnTo>
                      <a:pt x="1485" y="480"/>
                    </a:lnTo>
                    <a:lnTo>
                      <a:pt x="1530" y="495"/>
                    </a:lnTo>
                    <a:lnTo>
                      <a:pt x="1575" y="495"/>
                    </a:lnTo>
                    <a:lnTo>
                      <a:pt x="1620" y="510"/>
                    </a:lnTo>
                    <a:lnTo>
                      <a:pt x="1665" y="525"/>
                    </a:lnTo>
                    <a:lnTo>
                      <a:pt x="1725" y="525"/>
                    </a:lnTo>
                    <a:lnTo>
                      <a:pt x="1770" y="540"/>
                    </a:lnTo>
                    <a:lnTo>
                      <a:pt x="1815" y="540"/>
                    </a:lnTo>
                    <a:lnTo>
                      <a:pt x="1860" y="540"/>
                    </a:lnTo>
                    <a:lnTo>
                      <a:pt x="1905" y="540"/>
                    </a:lnTo>
                    <a:lnTo>
                      <a:pt x="1950" y="540"/>
                    </a:lnTo>
                    <a:lnTo>
                      <a:pt x="1995" y="540"/>
                    </a:lnTo>
                    <a:lnTo>
                      <a:pt x="2040" y="540"/>
                    </a:lnTo>
                    <a:lnTo>
                      <a:pt x="2085" y="540"/>
                    </a:lnTo>
                    <a:lnTo>
                      <a:pt x="2130" y="540"/>
                    </a:lnTo>
                    <a:lnTo>
                      <a:pt x="2175" y="525"/>
                    </a:lnTo>
                    <a:lnTo>
                      <a:pt x="2235" y="525"/>
                    </a:lnTo>
                    <a:lnTo>
                      <a:pt x="2280" y="510"/>
                    </a:lnTo>
                    <a:lnTo>
                      <a:pt x="2325" y="510"/>
                    </a:lnTo>
                    <a:lnTo>
                      <a:pt x="2370" y="495"/>
                    </a:lnTo>
                    <a:lnTo>
                      <a:pt x="2415" y="480"/>
                    </a:lnTo>
                    <a:lnTo>
                      <a:pt x="2460" y="465"/>
                    </a:lnTo>
                    <a:lnTo>
                      <a:pt x="2505" y="450"/>
                    </a:lnTo>
                    <a:lnTo>
                      <a:pt x="2550" y="435"/>
                    </a:lnTo>
                    <a:lnTo>
                      <a:pt x="2595" y="420"/>
                    </a:lnTo>
                    <a:lnTo>
                      <a:pt x="2640" y="405"/>
                    </a:lnTo>
                    <a:lnTo>
                      <a:pt x="2685" y="390"/>
                    </a:lnTo>
                    <a:lnTo>
                      <a:pt x="2745" y="375"/>
                    </a:lnTo>
                    <a:lnTo>
                      <a:pt x="2790" y="345"/>
                    </a:lnTo>
                    <a:lnTo>
                      <a:pt x="2836" y="330"/>
                    </a:lnTo>
                    <a:lnTo>
                      <a:pt x="2881" y="315"/>
                    </a:lnTo>
                    <a:lnTo>
                      <a:pt x="2926" y="300"/>
                    </a:lnTo>
                    <a:lnTo>
                      <a:pt x="2971" y="270"/>
                    </a:lnTo>
                    <a:lnTo>
                      <a:pt x="3016" y="255"/>
                    </a:lnTo>
                    <a:lnTo>
                      <a:pt x="3061" y="240"/>
                    </a:lnTo>
                    <a:lnTo>
                      <a:pt x="3106" y="210"/>
                    </a:lnTo>
                    <a:lnTo>
                      <a:pt x="3151" y="195"/>
                    </a:lnTo>
                    <a:lnTo>
                      <a:pt x="3211" y="180"/>
                    </a:lnTo>
                    <a:lnTo>
                      <a:pt x="3256" y="165"/>
                    </a:lnTo>
                    <a:lnTo>
                      <a:pt x="3301" y="150"/>
                    </a:lnTo>
                    <a:lnTo>
                      <a:pt x="3346" y="135"/>
                    </a:lnTo>
                    <a:lnTo>
                      <a:pt x="3391" y="120"/>
                    </a:lnTo>
                    <a:lnTo>
                      <a:pt x="3436" y="105"/>
                    </a:lnTo>
                    <a:lnTo>
                      <a:pt x="3481" y="90"/>
                    </a:lnTo>
                    <a:lnTo>
                      <a:pt x="3526" y="75"/>
                    </a:lnTo>
                    <a:lnTo>
                      <a:pt x="3571" y="60"/>
                    </a:lnTo>
                    <a:lnTo>
                      <a:pt x="3616" y="60"/>
                    </a:lnTo>
                    <a:lnTo>
                      <a:pt x="3661" y="45"/>
                    </a:lnTo>
                    <a:lnTo>
                      <a:pt x="3721" y="45"/>
                    </a:lnTo>
                    <a:lnTo>
                      <a:pt x="3766" y="30"/>
                    </a:lnTo>
                    <a:lnTo>
                      <a:pt x="3811" y="30"/>
                    </a:lnTo>
                    <a:lnTo>
                      <a:pt x="3856" y="30"/>
                    </a:lnTo>
                    <a:lnTo>
                      <a:pt x="3901" y="15"/>
                    </a:lnTo>
                    <a:lnTo>
                      <a:pt x="3946" y="15"/>
                    </a:lnTo>
                    <a:lnTo>
                      <a:pt x="3991" y="15"/>
                    </a:lnTo>
                    <a:lnTo>
                      <a:pt x="4036" y="15"/>
                    </a:lnTo>
                    <a:lnTo>
                      <a:pt x="4081" y="30"/>
                    </a:lnTo>
                    <a:lnTo>
                      <a:pt x="4126" y="30"/>
                    </a:lnTo>
                    <a:lnTo>
                      <a:pt x="4171" y="30"/>
                    </a:lnTo>
                    <a:lnTo>
                      <a:pt x="4231" y="45"/>
                    </a:lnTo>
                    <a:lnTo>
                      <a:pt x="4276" y="45"/>
                    </a:lnTo>
                    <a:lnTo>
                      <a:pt x="4321" y="60"/>
                    </a:lnTo>
                    <a:lnTo>
                      <a:pt x="4366" y="75"/>
                    </a:lnTo>
                    <a:lnTo>
                      <a:pt x="4411" y="75"/>
                    </a:lnTo>
                    <a:lnTo>
                      <a:pt x="4456" y="90"/>
                    </a:lnTo>
                    <a:lnTo>
                      <a:pt x="4501" y="105"/>
                    </a:lnTo>
                    <a:lnTo>
                      <a:pt x="4546" y="120"/>
                    </a:lnTo>
                    <a:lnTo>
                      <a:pt x="4591" y="135"/>
                    </a:lnTo>
                    <a:lnTo>
                      <a:pt x="4636" y="150"/>
                    </a:lnTo>
                    <a:lnTo>
                      <a:pt x="4681" y="165"/>
                    </a:lnTo>
                    <a:lnTo>
                      <a:pt x="4741" y="180"/>
                    </a:lnTo>
                    <a:lnTo>
                      <a:pt x="4786" y="210"/>
                    </a:lnTo>
                    <a:lnTo>
                      <a:pt x="4831" y="225"/>
                    </a:lnTo>
                    <a:lnTo>
                      <a:pt x="4876" y="240"/>
                    </a:lnTo>
                    <a:lnTo>
                      <a:pt x="4921" y="255"/>
                    </a:lnTo>
                    <a:lnTo>
                      <a:pt x="4966" y="285"/>
                    </a:lnTo>
                    <a:lnTo>
                      <a:pt x="5011" y="300"/>
                    </a:lnTo>
                    <a:lnTo>
                      <a:pt x="5056" y="315"/>
                    </a:lnTo>
                    <a:lnTo>
                      <a:pt x="5101" y="330"/>
                    </a:lnTo>
                    <a:lnTo>
                      <a:pt x="5146" y="360"/>
                    </a:lnTo>
                    <a:lnTo>
                      <a:pt x="5191" y="375"/>
                    </a:lnTo>
                    <a:lnTo>
                      <a:pt x="5251" y="390"/>
                    </a:lnTo>
                    <a:lnTo>
                      <a:pt x="5296" y="405"/>
                    </a:lnTo>
                    <a:lnTo>
                      <a:pt x="5341" y="420"/>
                    </a:lnTo>
                    <a:lnTo>
                      <a:pt x="5386" y="435"/>
                    </a:lnTo>
                    <a:lnTo>
                      <a:pt x="5431" y="450"/>
                    </a:lnTo>
                    <a:lnTo>
                      <a:pt x="5476" y="465"/>
                    </a:lnTo>
                    <a:lnTo>
                      <a:pt x="5521" y="480"/>
                    </a:lnTo>
                    <a:lnTo>
                      <a:pt x="5566" y="495"/>
                    </a:lnTo>
                    <a:lnTo>
                      <a:pt x="5611" y="510"/>
                    </a:lnTo>
                    <a:lnTo>
                      <a:pt x="5656" y="525"/>
                    </a:lnTo>
                    <a:lnTo>
                      <a:pt x="5716" y="525"/>
                    </a:lnTo>
                    <a:lnTo>
                      <a:pt x="5761" y="540"/>
                    </a:lnTo>
                    <a:lnTo>
                      <a:pt x="5806" y="540"/>
                    </a:lnTo>
                    <a:lnTo>
                      <a:pt x="5851" y="555"/>
                    </a:lnTo>
                    <a:lnTo>
                      <a:pt x="5896" y="555"/>
                    </a:lnTo>
                  </a:path>
                </a:pathLst>
              </a:custGeom>
              <a:noFill/>
              <a:ln w="147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2783880" y="6302520"/>
                <a:ext cx="1028520" cy="94320"/>
              </a:xfrm>
              <a:custGeom>
                <a:avLst/>
                <a:gdLst/>
                <a:ahLst/>
                <a:rect l="l" t="t" r="r" b="b"/>
                <a:pathLst>
                  <a:path w="5896" h="0">
                    <a:moveTo>
                      <a:pt x="0" y="0"/>
                    </a:moveTo>
                    <a:lnTo>
                      <a:pt x="45" y="0"/>
                    </a:lnTo>
                    <a:lnTo>
                      <a:pt x="90" y="0"/>
                    </a:lnTo>
                    <a:lnTo>
                      <a:pt x="135" y="0"/>
                    </a:lnTo>
                    <a:lnTo>
                      <a:pt x="180" y="0"/>
                    </a:lnTo>
                    <a:lnTo>
                      <a:pt x="240" y="0"/>
                    </a:lnTo>
                    <a:lnTo>
                      <a:pt x="285" y="0"/>
                    </a:lnTo>
                    <a:lnTo>
                      <a:pt x="330" y="0"/>
                    </a:lnTo>
                    <a:lnTo>
                      <a:pt x="375" y="0"/>
                    </a:lnTo>
                    <a:lnTo>
                      <a:pt x="420" y="0"/>
                    </a:lnTo>
                    <a:lnTo>
                      <a:pt x="465" y="0"/>
                    </a:lnTo>
                    <a:lnTo>
                      <a:pt x="510" y="0"/>
                    </a:lnTo>
                    <a:lnTo>
                      <a:pt x="555" y="0"/>
                    </a:lnTo>
                    <a:lnTo>
                      <a:pt x="600" y="0"/>
                    </a:lnTo>
                    <a:lnTo>
                      <a:pt x="645" y="0"/>
                    </a:lnTo>
                    <a:lnTo>
                      <a:pt x="690" y="0"/>
                    </a:lnTo>
                    <a:lnTo>
                      <a:pt x="750" y="0"/>
                    </a:lnTo>
                    <a:lnTo>
                      <a:pt x="795" y="0"/>
                    </a:lnTo>
                    <a:lnTo>
                      <a:pt x="840" y="0"/>
                    </a:lnTo>
                    <a:lnTo>
                      <a:pt x="885" y="0"/>
                    </a:lnTo>
                    <a:lnTo>
                      <a:pt x="930" y="0"/>
                    </a:lnTo>
                    <a:lnTo>
                      <a:pt x="975" y="0"/>
                    </a:lnTo>
                    <a:lnTo>
                      <a:pt x="1020" y="0"/>
                    </a:lnTo>
                    <a:lnTo>
                      <a:pt x="1065" y="0"/>
                    </a:lnTo>
                    <a:lnTo>
                      <a:pt x="1110" y="0"/>
                    </a:lnTo>
                    <a:lnTo>
                      <a:pt x="1155" y="0"/>
                    </a:lnTo>
                    <a:lnTo>
                      <a:pt x="1215" y="0"/>
                    </a:lnTo>
                    <a:lnTo>
                      <a:pt x="1260" y="0"/>
                    </a:lnTo>
                    <a:lnTo>
                      <a:pt x="1305" y="0"/>
                    </a:lnTo>
                    <a:lnTo>
                      <a:pt x="1350" y="0"/>
                    </a:lnTo>
                    <a:lnTo>
                      <a:pt x="1395" y="0"/>
                    </a:lnTo>
                    <a:lnTo>
                      <a:pt x="1440" y="0"/>
                    </a:lnTo>
                    <a:lnTo>
                      <a:pt x="1485" y="0"/>
                    </a:lnTo>
                    <a:lnTo>
                      <a:pt x="1530" y="0"/>
                    </a:lnTo>
                    <a:lnTo>
                      <a:pt x="1575" y="0"/>
                    </a:lnTo>
                    <a:lnTo>
                      <a:pt x="1620" y="0"/>
                    </a:lnTo>
                    <a:lnTo>
                      <a:pt x="1665" y="0"/>
                    </a:lnTo>
                    <a:lnTo>
                      <a:pt x="1725" y="0"/>
                    </a:lnTo>
                    <a:lnTo>
                      <a:pt x="1770" y="0"/>
                    </a:lnTo>
                    <a:lnTo>
                      <a:pt x="1815" y="0"/>
                    </a:lnTo>
                    <a:lnTo>
                      <a:pt x="1860" y="0"/>
                    </a:lnTo>
                    <a:lnTo>
                      <a:pt x="1905" y="0"/>
                    </a:lnTo>
                    <a:lnTo>
                      <a:pt x="1950" y="0"/>
                    </a:lnTo>
                    <a:lnTo>
                      <a:pt x="1995" y="0"/>
                    </a:lnTo>
                    <a:lnTo>
                      <a:pt x="2040" y="0"/>
                    </a:lnTo>
                    <a:lnTo>
                      <a:pt x="2085" y="0"/>
                    </a:lnTo>
                    <a:lnTo>
                      <a:pt x="2130" y="0"/>
                    </a:lnTo>
                    <a:lnTo>
                      <a:pt x="2175" y="0"/>
                    </a:lnTo>
                    <a:lnTo>
                      <a:pt x="2235" y="0"/>
                    </a:lnTo>
                    <a:lnTo>
                      <a:pt x="2280" y="0"/>
                    </a:lnTo>
                    <a:lnTo>
                      <a:pt x="2325" y="0"/>
                    </a:lnTo>
                    <a:lnTo>
                      <a:pt x="2370" y="0"/>
                    </a:lnTo>
                    <a:lnTo>
                      <a:pt x="2415" y="0"/>
                    </a:lnTo>
                    <a:lnTo>
                      <a:pt x="2460" y="0"/>
                    </a:lnTo>
                    <a:lnTo>
                      <a:pt x="2505" y="0"/>
                    </a:lnTo>
                    <a:lnTo>
                      <a:pt x="2550" y="0"/>
                    </a:lnTo>
                    <a:lnTo>
                      <a:pt x="2595" y="0"/>
                    </a:lnTo>
                    <a:lnTo>
                      <a:pt x="2640" y="0"/>
                    </a:lnTo>
                    <a:lnTo>
                      <a:pt x="2685" y="0"/>
                    </a:lnTo>
                    <a:lnTo>
                      <a:pt x="2745" y="0"/>
                    </a:lnTo>
                    <a:lnTo>
                      <a:pt x="2790" y="0"/>
                    </a:lnTo>
                    <a:lnTo>
                      <a:pt x="2836" y="0"/>
                    </a:lnTo>
                    <a:lnTo>
                      <a:pt x="2881" y="0"/>
                    </a:lnTo>
                    <a:lnTo>
                      <a:pt x="2926" y="0"/>
                    </a:lnTo>
                    <a:lnTo>
                      <a:pt x="2971" y="0"/>
                    </a:lnTo>
                    <a:lnTo>
                      <a:pt x="3016" y="0"/>
                    </a:lnTo>
                    <a:lnTo>
                      <a:pt x="3061" y="0"/>
                    </a:lnTo>
                    <a:lnTo>
                      <a:pt x="3106" y="0"/>
                    </a:lnTo>
                    <a:lnTo>
                      <a:pt x="3151" y="0"/>
                    </a:lnTo>
                    <a:lnTo>
                      <a:pt x="3211" y="0"/>
                    </a:lnTo>
                    <a:lnTo>
                      <a:pt x="3256" y="0"/>
                    </a:lnTo>
                    <a:lnTo>
                      <a:pt x="3301" y="0"/>
                    </a:lnTo>
                    <a:lnTo>
                      <a:pt x="3346" y="0"/>
                    </a:lnTo>
                    <a:lnTo>
                      <a:pt x="3391" y="0"/>
                    </a:lnTo>
                    <a:lnTo>
                      <a:pt x="3436" y="0"/>
                    </a:lnTo>
                    <a:lnTo>
                      <a:pt x="3481" y="0"/>
                    </a:lnTo>
                    <a:lnTo>
                      <a:pt x="3526" y="0"/>
                    </a:lnTo>
                    <a:lnTo>
                      <a:pt x="3571" y="0"/>
                    </a:lnTo>
                    <a:lnTo>
                      <a:pt x="3616" y="0"/>
                    </a:lnTo>
                    <a:lnTo>
                      <a:pt x="3661" y="0"/>
                    </a:lnTo>
                    <a:lnTo>
                      <a:pt x="3721" y="0"/>
                    </a:lnTo>
                    <a:lnTo>
                      <a:pt x="3766" y="0"/>
                    </a:lnTo>
                    <a:lnTo>
                      <a:pt x="3811" y="0"/>
                    </a:lnTo>
                    <a:lnTo>
                      <a:pt x="3856" y="0"/>
                    </a:lnTo>
                    <a:lnTo>
                      <a:pt x="3901" y="0"/>
                    </a:lnTo>
                    <a:lnTo>
                      <a:pt x="3946" y="0"/>
                    </a:lnTo>
                    <a:lnTo>
                      <a:pt x="3991" y="0"/>
                    </a:lnTo>
                    <a:lnTo>
                      <a:pt x="4036" y="0"/>
                    </a:lnTo>
                    <a:lnTo>
                      <a:pt x="4081" y="0"/>
                    </a:lnTo>
                    <a:lnTo>
                      <a:pt x="4126" y="0"/>
                    </a:lnTo>
                    <a:lnTo>
                      <a:pt x="4171" y="0"/>
                    </a:lnTo>
                    <a:lnTo>
                      <a:pt x="4231" y="0"/>
                    </a:lnTo>
                    <a:lnTo>
                      <a:pt x="4276" y="0"/>
                    </a:lnTo>
                    <a:lnTo>
                      <a:pt x="4321" y="0"/>
                    </a:lnTo>
                    <a:lnTo>
                      <a:pt x="4366" y="0"/>
                    </a:lnTo>
                    <a:lnTo>
                      <a:pt x="4411" y="0"/>
                    </a:lnTo>
                    <a:lnTo>
                      <a:pt x="4456" y="0"/>
                    </a:lnTo>
                    <a:lnTo>
                      <a:pt x="4501" y="0"/>
                    </a:lnTo>
                    <a:lnTo>
                      <a:pt x="4546" y="0"/>
                    </a:lnTo>
                    <a:lnTo>
                      <a:pt x="4591" y="0"/>
                    </a:lnTo>
                    <a:lnTo>
                      <a:pt x="4636" y="0"/>
                    </a:lnTo>
                    <a:lnTo>
                      <a:pt x="4681" y="0"/>
                    </a:lnTo>
                    <a:lnTo>
                      <a:pt x="4741" y="0"/>
                    </a:lnTo>
                    <a:lnTo>
                      <a:pt x="4786" y="0"/>
                    </a:lnTo>
                    <a:lnTo>
                      <a:pt x="4831" y="0"/>
                    </a:lnTo>
                    <a:lnTo>
                      <a:pt x="4876" y="0"/>
                    </a:lnTo>
                    <a:lnTo>
                      <a:pt x="4921" y="0"/>
                    </a:lnTo>
                    <a:lnTo>
                      <a:pt x="4966" y="0"/>
                    </a:lnTo>
                    <a:lnTo>
                      <a:pt x="5011" y="0"/>
                    </a:lnTo>
                    <a:lnTo>
                      <a:pt x="5056" y="0"/>
                    </a:lnTo>
                    <a:lnTo>
                      <a:pt x="5101" y="0"/>
                    </a:lnTo>
                    <a:lnTo>
                      <a:pt x="5146" y="0"/>
                    </a:lnTo>
                    <a:lnTo>
                      <a:pt x="5191" y="0"/>
                    </a:lnTo>
                    <a:lnTo>
                      <a:pt x="5251" y="0"/>
                    </a:lnTo>
                    <a:lnTo>
                      <a:pt x="5296" y="0"/>
                    </a:lnTo>
                    <a:lnTo>
                      <a:pt x="5341" y="0"/>
                    </a:lnTo>
                    <a:lnTo>
                      <a:pt x="5386" y="0"/>
                    </a:lnTo>
                    <a:lnTo>
                      <a:pt x="5431" y="0"/>
                    </a:lnTo>
                    <a:lnTo>
                      <a:pt x="5476" y="0"/>
                    </a:lnTo>
                    <a:lnTo>
                      <a:pt x="5521" y="0"/>
                    </a:lnTo>
                    <a:lnTo>
                      <a:pt x="5566" y="0"/>
                    </a:lnTo>
                    <a:lnTo>
                      <a:pt x="5611" y="0"/>
                    </a:lnTo>
                    <a:lnTo>
                      <a:pt x="5656" y="0"/>
                    </a:lnTo>
                    <a:lnTo>
                      <a:pt x="5716" y="0"/>
                    </a:lnTo>
                    <a:lnTo>
                      <a:pt x="5761" y="0"/>
                    </a:lnTo>
                    <a:lnTo>
                      <a:pt x="5806" y="0"/>
                    </a:lnTo>
                    <a:lnTo>
                      <a:pt x="5851" y="0"/>
                    </a:lnTo>
                    <a:lnTo>
                      <a:pt x="5896" y="0"/>
                    </a:lnTo>
                  </a:path>
                </a:pathLst>
              </a:custGeom>
              <a:noFill/>
              <a:ln w="147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783880" y="5902200"/>
                <a:ext cx="1046880" cy="33480"/>
              </a:xfrm>
              <a:custGeom>
                <a:avLst/>
                <a:gdLst/>
                <a:ahLst/>
                <a:rect l="l" t="t" r="r" b="b"/>
                <a:pathLst>
                  <a:path w="5896" h="90">
                    <a:moveTo>
                      <a:pt x="0" y="0"/>
                    </a:moveTo>
                    <a:lnTo>
                      <a:pt x="45" y="0"/>
                    </a:lnTo>
                    <a:lnTo>
                      <a:pt x="90" y="15"/>
                    </a:lnTo>
                    <a:lnTo>
                      <a:pt x="135" y="15"/>
                    </a:lnTo>
                    <a:lnTo>
                      <a:pt x="180" y="15"/>
                    </a:lnTo>
                    <a:lnTo>
                      <a:pt x="240" y="15"/>
                    </a:lnTo>
                    <a:lnTo>
                      <a:pt x="285" y="30"/>
                    </a:lnTo>
                    <a:lnTo>
                      <a:pt x="330" y="30"/>
                    </a:lnTo>
                    <a:lnTo>
                      <a:pt x="375" y="30"/>
                    </a:lnTo>
                    <a:lnTo>
                      <a:pt x="420" y="45"/>
                    </a:lnTo>
                    <a:lnTo>
                      <a:pt x="465" y="45"/>
                    </a:lnTo>
                    <a:lnTo>
                      <a:pt x="510" y="45"/>
                    </a:lnTo>
                    <a:lnTo>
                      <a:pt x="555" y="60"/>
                    </a:lnTo>
                    <a:lnTo>
                      <a:pt x="600" y="60"/>
                    </a:lnTo>
                    <a:lnTo>
                      <a:pt x="645" y="60"/>
                    </a:lnTo>
                    <a:lnTo>
                      <a:pt x="690" y="75"/>
                    </a:lnTo>
                    <a:lnTo>
                      <a:pt x="750" y="75"/>
                    </a:lnTo>
                    <a:lnTo>
                      <a:pt x="795" y="75"/>
                    </a:lnTo>
                    <a:lnTo>
                      <a:pt x="840" y="75"/>
                    </a:lnTo>
                    <a:lnTo>
                      <a:pt x="885" y="75"/>
                    </a:lnTo>
                    <a:lnTo>
                      <a:pt x="930" y="75"/>
                    </a:lnTo>
                    <a:lnTo>
                      <a:pt x="975" y="75"/>
                    </a:lnTo>
                    <a:lnTo>
                      <a:pt x="1020" y="75"/>
                    </a:lnTo>
                    <a:lnTo>
                      <a:pt x="1065" y="75"/>
                    </a:lnTo>
                    <a:lnTo>
                      <a:pt x="1110" y="75"/>
                    </a:lnTo>
                    <a:lnTo>
                      <a:pt x="1155" y="75"/>
                    </a:lnTo>
                    <a:lnTo>
                      <a:pt x="1215" y="75"/>
                    </a:lnTo>
                    <a:lnTo>
                      <a:pt x="1260" y="75"/>
                    </a:lnTo>
                    <a:lnTo>
                      <a:pt x="1305" y="75"/>
                    </a:lnTo>
                    <a:lnTo>
                      <a:pt x="1350" y="75"/>
                    </a:lnTo>
                    <a:lnTo>
                      <a:pt x="1395" y="60"/>
                    </a:lnTo>
                    <a:lnTo>
                      <a:pt x="1440" y="60"/>
                    </a:lnTo>
                    <a:lnTo>
                      <a:pt x="1485" y="60"/>
                    </a:lnTo>
                    <a:lnTo>
                      <a:pt x="1530" y="60"/>
                    </a:lnTo>
                    <a:lnTo>
                      <a:pt x="1575" y="45"/>
                    </a:lnTo>
                    <a:lnTo>
                      <a:pt x="1620" y="45"/>
                    </a:lnTo>
                    <a:lnTo>
                      <a:pt x="1665" y="45"/>
                    </a:lnTo>
                    <a:lnTo>
                      <a:pt x="1725" y="45"/>
                    </a:lnTo>
                    <a:lnTo>
                      <a:pt x="1770" y="45"/>
                    </a:lnTo>
                    <a:lnTo>
                      <a:pt x="1815" y="30"/>
                    </a:lnTo>
                    <a:lnTo>
                      <a:pt x="1860" y="30"/>
                    </a:lnTo>
                    <a:lnTo>
                      <a:pt x="1905" y="30"/>
                    </a:lnTo>
                    <a:lnTo>
                      <a:pt x="1950" y="30"/>
                    </a:lnTo>
                    <a:lnTo>
                      <a:pt x="1995" y="30"/>
                    </a:lnTo>
                    <a:lnTo>
                      <a:pt x="2040" y="30"/>
                    </a:lnTo>
                    <a:lnTo>
                      <a:pt x="2085" y="30"/>
                    </a:lnTo>
                    <a:lnTo>
                      <a:pt x="2130" y="30"/>
                    </a:lnTo>
                    <a:lnTo>
                      <a:pt x="2175" y="30"/>
                    </a:lnTo>
                    <a:lnTo>
                      <a:pt x="2235" y="30"/>
                    </a:lnTo>
                    <a:lnTo>
                      <a:pt x="2280" y="30"/>
                    </a:lnTo>
                    <a:lnTo>
                      <a:pt x="2325" y="30"/>
                    </a:lnTo>
                    <a:lnTo>
                      <a:pt x="2370" y="30"/>
                    </a:lnTo>
                    <a:lnTo>
                      <a:pt x="2415" y="30"/>
                    </a:lnTo>
                    <a:lnTo>
                      <a:pt x="2460" y="30"/>
                    </a:lnTo>
                    <a:lnTo>
                      <a:pt x="2505" y="30"/>
                    </a:lnTo>
                    <a:lnTo>
                      <a:pt x="2550" y="30"/>
                    </a:lnTo>
                    <a:lnTo>
                      <a:pt x="2595" y="30"/>
                    </a:lnTo>
                    <a:lnTo>
                      <a:pt x="2640" y="30"/>
                    </a:lnTo>
                    <a:lnTo>
                      <a:pt x="2685" y="30"/>
                    </a:lnTo>
                    <a:lnTo>
                      <a:pt x="2745" y="30"/>
                    </a:lnTo>
                    <a:lnTo>
                      <a:pt x="2790" y="30"/>
                    </a:lnTo>
                    <a:lnTo>
                      <a:pt x="2836" y="45"/>
                    </a:lnTo>
                    <a:lnTo>
                      <a:pt x="2881" y="45"/>
                    </a:lnTo>
                    <a:lnTo>
                      <a:pt x="2926" y="45"/>
                    </a:lnTo>
                    <a:lnTo>
                      <a:pt x="2971" y="45"/>
                    </a:lnTo>
                    <a:lnTo>
                      <a:pt x="3016" y="45"/>
                    </a:lnTo>
                    <a:lnTo>
                      <a:pt x="3061" y="45"/>
                    </a:lnTo>
                    <a:lnTo>
                      <a:pt x="3106" y="60"/>
                    </a:lnTo>
                    <a:lnTo>
                      <a:pt x="3151" y="60"/>
                    </a:lnTo>
                    <a:lnTo>
                      <a:pt x="3211" y="60"/>
                    </a:lnTo>
                    <a:lnTo>
                      <a:pt x="3256" y="60"/>
                    </a:lnTo>
                    <a:lnTo>
                      <a:pt x="3301" y="60"/>
                    </a:lnTo>
                    <a:lnTo>
                      <a:pt x="3346" y="60"/>
                    </a:lnTo>
                    <a:lnTo>
                      <a:pt x="3391" y="60"/>
                    </a:lnTo>
                    <a:lnTo>
                      <a:pt x="3436" y="75"/>
                    </a:lnTo>
                    <a:lnTo>
                      <a:pt x="3481" y="75"/>
                    </a:lnTo>
                    <a:lnTo>
                      <a:pt x="3526" y="75"/>
                    </a:lnTo>
                    <a:lnTo>
                      <a:pt x="3571" y="75"/>
                    </a:lnTo>
                    <a:lnTo>
                      <a:pt x="3616" y="75"/>
                    </a:lnTo>
                    <a:lnTo>
                      <a:pt x="3661" y="75"/>
                    </a:lnTo>
                    <a:lnTo>
                      <a:pt x="3721" y="75"/>
                    </a:lnTo>
                    <a:lnTo>
                      <a:pt x="3766" y="75"/>
                    </a:lnTo>
                    <a:lnTo>
                      <a:pt x="3811" y="75"/>
                    </a:lnTo>
                    <a:lnTo>
                      <a:pt x="3856" y="75"/>
                    </a:lnTo>
                    <a:lnTo>
                      <a:pt x="3901" y="75"/>
                    </a:lnTo>
                    <a:lnTo>
                      <a:pt x="3946" y="60"/>
                    </a:lnTo>
                    <a:lnTo>
                      <a:pt x="3991" y="60"/>
                    </a:lnTo>
                    <a:lnTo>
                      <a:pt x="4036" y="60"/>
                    </a:lnTo>
                    <a:lnTo>
                      <a:pt x="4081" y="60"/>
                    </a:lnTo>
                    <a:lnTo>
                      <a:pt x="4126" y="60"/>
                    </a:lnTo>
                    <a:lnTo>
                      <a:pt x="4171" y="60"/>
                    </a:lnTo>
                    <a:lnTo>
                      <a:pt x="4231" y="45"/>
                    </a:lnTo>
                    <a:lnTo>
                      <a:pt x="4276" y="45"/>
                    </a:lnTo>
                    <a:lnTo>
                      <a:pt x="4321" y="45"/>
                    </a:lnTo>
                    <a:lnTo>
                      <a:pt x="4366" y="45"/>
                    </a:lnTo>
                    <a:lnTo>
                      <a:pt x="4411" y="30"/>
                    </a:lnTo>
                    <a:lnTo>
                      <a:pt x="4456" y="30"/>
                    </a:lnTo>
                    <a:lnTo>
                      <a:pt x="4501" y="30"/>
                    </a:lnTo>
                    <a:lnTo>
                      <a:pt x="4546" y="30"/>
                    </a:lnTo>
                    <a:lnTo>
                      <a:pt x="4591" y="30"/>
                    </a:lnTo>
                    <a:lnTo>
                      <a:pt x="4636" y="15"/>
                    </a:lnTo>
                    <a:lnTo>
                      <a:pt x="4681" y="15"/>
                    </a:lnTo>
                    <a:lnTo>
                      <a:pt x="4741" y="15"/>
                    </a:lnTo>
                    <a:lnTo>
                      <a:pt x="4786" y="15"/>
                    </a:lnTo>
                    <a:lnTo>
                      <a:pt x="4831" y="15"/>
                    </a:lnTo>
                    <a:lnTo>
                      <a:pt x="4876" y="15"/>
                    </a:lnTo>
                    <a:lnTo>
                      <a:pt x="4921" y="15"/>
                    </a:lnTo>
                    <a:lnTo>
                      <a:pt x="4966" y="15"/>
                    </a:lnTo>
                    <a:lnTo>
                      <a:pt x="5011" y="15"/>
                    </a:lnTo>
                    <a:lnTo>
                      <a:pt x="5056" y="15"/>
                    </a:lnTo>
                    <a:lnTo>
                      <a:pt x="5101" y="15"/>
                    </a:lnTo>
                    <a:lnTo>
                      <a:pt x="5146" y="30"/>
                    </a:lnTo>
                    <a:lnTo>
                      <a:pt x="5191" y="30"/>
                    </a:lnTo>
                    <a:lnTo>
                      <a:pt x="5251" y="30"/>
                    </a:lnTo>
                    <a:lnTo>
                      <a:pt x="5296" y="30"/>
                    </a:lnTo>
                    <a:lnTo>
                      <a:pt x="5341" y="45"/>
                    </a:lnTo>
                    <a:lnTo>
                      <a:pt x="5386" y="45"/>
                    </a:lnTo>
                    <a:lnTo>
                      <a:pt x="5431" y="45"/>
                    </a:lnTo>
                    <a:lnTo>
                      <a:pt x="5476" y="60"/>
                    </a:lnTo>
                    <a:lnTo>
                      <a:pt x="5521" y="60"/>
                    </a:lnTo>
                    <a:lnTo>
                      <a:pt x="5566" y="60"/>
                    </a:lnTo>
                    <a:lnTo>
                      <a:pt x="5611" y="75"/>
                    </a:lnTo>
                    <a:lnTo>
                      <a:pt x="5656" y="75"/>
                    </a:lnTo>
                    <a:lnTo>
                      <a:pt x="5716" y="75"/>
                    </a:lnTo>
                    <a:lnTo>
                      <a:pt x="5761" y="75"/>
                    </a:lnTo>
                    <a:lnTo>
                      <a:pt x="5806" y="90"/>
                    </a:lnTo>
                    <a:lnTo>
                      <a:pt x="5851" y="90"/>
                    </a:lnTo>
                    <a:lnTo>
                      <a:pt x="5896" y="90"/>
                    </a:lnTo>
                  </a:path>
                </a:pathLst>
              </a:custGeom>
              <a:noFill/>
              <a:ln w="14760">
                <a:solidFill>
                  <a:srgbClr val="333333"/>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50" name=""/>
              <p:cNvSpPr/>
              <p:nvPr/>
            </p:nvSpPr>
            <p:spPr>
              <a:xfrm>
                <a:off x="2783880" y="6021720"/>
                <a:ext cx="1046880" cy="47880"/>
              </a:xfrm>
              <a:custGeom>
                <a:avLst/>
                <a:gdLst/>
                <a:ahLst/>
                <a:rect l="l" t="t" r="r" b="b"/>
                <a:pathLst>
                  <a:path w="5896" h="135">
                    <a:moveTo>
                      <a:pt x="0" y="120"/>
                    </a:moveTo>
                    <a:lnTo>
                      <a:pt x="45" y="120"/>
                    </a:lnTo>
                    <a:lnTo>
                      <a:pt x="90" y="105"/>
                    </a:lnTo>
                    <a:lnTo>
                      <a:pt x="135" y="105"/>
                    </a:lnTo>
                    <a:lnTo>
                      <a:pt x="180" y="90"/>
                    </a:lnTo>
                    <a:lnTo>
                      <a:pt x="240" y="75"/>
                    </a:lnTo>
                    <a:lnTo>
                      <a:pt x="285" y="75"/>
                    </a:lnTo>
                    <a:lnTo>
                      <a:pt x="330" y="60"/>
                    </a:lnTo>
                    <a:lnTo>
                      <a:pt x="375" y="60"/>
                    </a:lnTo>
                    <a:lnTo>
                      <a:pt x="420" y="45"/>
                    </a:lnTo>
                    <a:lnTo>
                      <a:pt x="465" y="45"/>
                    </a:lnTo>
                    <a:lnTo>
                      <a:pt x="510" y="30"/>
                    </a:lnTo>
                    <a:lnTo>
                      <a:pt x="555" y="30"/>
                    </a:lnTo>
                    <a:lnTo>
                      <a:pt x="600" y="30"/>
                    </a:lnTo>
                    <a:lnTo>
                      <a:pt x="645" y="30"/>
                    </a:lnTo>
                    <a:lnTo>
                      <a:pt x="690" y="30"/>
                    </a:lnTo>
                    <a:lnTo>
                      <a:pt x="750" y="30"/>
                    </a:lnTo>
                    <a:lnTo>
                      <a:pt x="795" y="30"/>
                    </a:lnTo>
                    <a:lnTo>
                      <a:pt x="840" y="30"/>
                    </a:lnTo>
                    <a:lnTo>
                      <a:pt x="885" y="45"/>
                    </a:lnTo>
                    <a:lnTo>
                      <a:pt x="930" y="45"/>
                    </a:lnTo>
                    <a:lnTo>
                      <a:pt x="975" y="45"/>
                    </a:lnTo>
                    <a:lnTo>
                      <a:pt x="1020" y="60"/>
                    </a:lnTo>
                    <a:lnTo>
                      <a:pt x="1065" y="60"/>
                    </a:lnTo>
                    <a:lnTo>
                      <a:pt x="1110" y="75"/>
                    </a:lnTo>
                    <a:lnTo>
                      <a:pt x="1155" y="75"/>
                    </a:lnTo>
                    <a:lnTo>
                      <a:pt x="1215" y="90"/>
                    </a:lnTo>
                    <a:lnTo>
                      <a:pt x="1260" y="90"/>
                    </a:lnTo>
                    <a:lnTo>
                      <a:pt x="1305" y="90"/>
                    </a:lnTo>
                    <a:lnTo>
                      <a:pt x="1350" y="90"/>
                    </a:lnTo>
                    <a:lnTo>
                      <a:pt x="1395" y="90"/>
                    </a:lnTo>
                    <a:lnTo>
                      <a:pt x="1440" y="90"/>
                    </a:lnTo>
                    <a:lnTo>
                      <a:pt x="1485" y="90"/>
                    </a:lnTo>
                    <a:lnTo>
                      <a:pt x="1530" y="90"/>
                    </a:lnTo>
                    <a:lnTo>
                      <a:pt x="1575" y="75"/>
                    </a:lnTo>
                    <a:lnTo>
                      <a:pt x="1620" y="75"/>
                    </a:lnTo>
                    <a:lnTo>
                      <a:pt x="1665" y="75"/>
                    </a:lnTo>
                    <a:lnTo>
                      <a:pt x="1725" y="75"/>
                    </a:lnTo>
                    <a:lnTo>
                      <a:pt x="1770" y="60"/>
                    </a:lnTo>
                    <a:lnTo>
                      <a:pt x="1815" y="60"/>
                    </a:lnTo>
                    <a:lnTo>
                      <a:pt x="1860" y="60"/>
                    </a:lnTo>
                    <a:lnTo>
                      <a:pt x="1905" y="45"/>
                    </a:lnTo>
                    <a:lnTo>
                      <a:pt x="1950" y="45"/>
                    </a:lnTo>
                    <a:lnTo>
                      <a:pt x="1995" y="45"/>
                    </a:lnTo>
                    <a:lnTo>
                      <a:pt x="2040" y="45"/>
                    </a:lnTo>
                    <a:lnTo>
                      <a:pt x="2085" y="45"/>
                    </a:lnTo>
                    <a:lnTo>
                      <a:pt x="2130" y="45"/>
                    </a:lnTo>
                    <a:lnTo>
                      <a:pt x="2175" y="60"/>
                    </a:lnTo>
                    <a:lnTo>
                      <a:pt x="2235" y="60"/>
                    </a:lnTo>
                    <a:lnTo>
                      <a:pt x="2280" y="60"/>
                    </a:lnTo>
                    <a:lnTo>
                      <a:pt x="2325" y="75"/>
                    </a:lnTo>
                    <a:lnTo>
                      <a:pt x="2370" y="75"/>
                    </a:lnTo>
                    <a:lnTo>
                      <a:pt x="2415" y="75"/>
                    </a:lnTo>
                    <a:lnTo>
                      <a:pt x="2460" y="90"/>
                    </a:lnTo>
                    <a:lnTo>
                      <a:pt x="2505" y="90"/>
                    </a:lnTo>
                    <a:lnTo>
                      <a:pt x="2550" y="90"/>
                    </a:lnTo>
                    <a:lnTo>
                      <a:pt x="2595" y="90"/>
                    </a:lnTo>
                    <a:lnTo>
                      <a:pt x="2640" y="105"/>
                    </a:lnTo>
                    <a:lnTo>
                      <a:pt x="2685" y="105"/>
                    </a:lnTo>
                    <a:lnTo>
                      <a:pt x="2745" y="105"/>
                    </a:lnTo>
                    <a:lnTo>
                      <a:pt x="2790" y="90"/>
                    </a:lnTo>
                    <a:lnTo>
                      <a:pt x="2836" y="90"/>
                    </a:lnTo>
                    <a:lnTo>
                      <a:pt x="2881" y="90"/>
                    </a:lnTo>
                    <a:lnTo>
                      <a:pt x="2926" y="75"/>
                    </a:lnTo>
                    <a:lnTo>
                      <a:pt x="2971" y="75"/>
                    </a:lnTo>
                    <a:lnTo>
                      <a:pt x="3016" y="60"/>
                    </a:lnTo>
                    <a:lnTo>
                      <a:pt x="3061" y="60"/>
                    </a:lnTo>
                    <a:lnTo>
                      <a:pt x="3106" y="45"/>
                    </a:lnTo>
                    <a:lnTo>
                      <a:pt x="3151" y="30"/>
                    </a:lnTo>
                    <a:lnTo>
                      <a:pt x="3211" y="30"/>
                    </a:lnTo>
                    <a:lnTo>
                      <a:pt x="3256" y="15"/>
                    </a:lnTo>
                    <a:lnTo>
                      <a:pt x="3301" y="15"/>
                    </a:lnTo>
                    <a:lnTo>
                      <a:pt x="3346" y="0"/>
                    </a:lnTo>
                    <a:lnTo>
                      <a:pt x="3391" y="0"/>
                    </a:lnTo>
                    <a:lnTo>
                      <a:pt x="3436" y="0"/>
                    </a:lnTo>
                    <a:lnTo>
                      <a:pt x="3481" y="0"/>
                    </a:lnTo>
                    <a:lnTo>
                      <a:pt x="3526" y="0"/>
                    </a:lnTo>
                    <a:lnTo>
                      <a:pt x="3571" y="15"/>
                    </a:lnTo>
                    <a:lnTo>
                      <a:pt x="3616" y="15"/>
                    </a:lnTo>
                    <a:lnTo>
                      <a:pt x="3661" y="30"/>
                    </a:lnTo>
                    <a:lnTo>
                      <a:pt x="3721" y="30"/>
                    </a:lnTo>
                    <a:lnTo>
                      <a:pt x="3766" y="45"/>
                    </a:lnTo>
                    <a:lnTo>
                      <a:pt x="3811" y="60"/>
                    </a:lnTo>
                    <a:lnTo>
                      <a:pt x="3856" y="75"/>
                    </a:lnTo>
                    <a:lnTo>
                      <a:pt x="3901" y="90"/>
                    </a:lnTo>
                    <a:lnTo>
                      <a:pt x="3946" y="105"/>
                    </a:lnTo>
                    <a:lnTo>
                      <a:pt x="3991" y="105"/>
                    </a:lnTo>
                    <a:lnTo>
                      <a:pt x="4036" y="120"/>
                    </a:lnTo>
                    <a:lnTo>
                      <a:pt x="4081" y="120"/>
                    </a:lnTo>
                    <a:lnTo>
                      <a:pt x="4126" y="135"/>
                    </a:lnTo>
                    <a:lnTo>
                      <a:pt x="4171" y="135"/>
                    </a:lnTo>
                    <a:lnTo>
                      <a:pt x="4231" y="135"/>
                    </a:lnTo>
                    <a:lnTo>
                      <a:pt x="4276" y="135"/>
                    </a:lnTo>
                    <a:lnTo>
                      <a:pt x="4321" y="135"/>
                    </a:lnTo>
                    <a:lnTo>
                      <a:pt x="4366" y="135"/>
                    </a:lnTo>
                    <a:lnTo>
                      <a:pt x="4411" y="120"/>
                    </a:lnTo>
                    <a:lnTo>
                      <a:pt x="4456" y="120"/>
                    </a:lnTo>
                    <a:lnTo>
                      <a:pt x="4501" y="105"/>
                    </a:lnTo>
                    <a:lnTo>
                      <a:pt x="4546" y="90"/>
                    </a:lnTo>
                    <a:lnTo>
                      <a:pt x="4591" y="90"/>
                    </a:lnTo>
                    <a:lnTo>
                      <a:pt x="4636" y="75"/>
                    </a:lnTo>
                    <a:lnTo>
                      <a:pt x="4681" y="60"/>
                    </a:lnTo>
                    <a:lnTo>
                      <a:pt x="4741" y="45"/>
                    </a:lnTo>
                    <a:lnTo>
                      <a:pt x="4786" y="45"/>
                    </a:lnTo>
                    <a:lnTo>
                      <a:pt x="4831" y="30"/>
                    </a:lnTo>
                    <a:lnTo>
                      <a:pt x="4876" y="15"/>
                    </a:lnTo>
                    <a:lnTo>
                      <a:pt x="4921" y="15"/>
                    </a:lnTo>
                    <a:lnTo>
                      <a:pt x="4966" y="15"/>
                    </a:lnTo>
                    <a:lnTo>
                      <a:pt x="5011" y="0"/>
                    </a:lnTo>
                    <a:lnTo>
                      <a:pt x="5056" y="0"/>
                    </a:lnTo>
                    <a:lnTo>
                      <a:pt x="5101" y="0"/>
                    </a:lnTo>
                    <a:lnTo>
                      <a:pt x="5146" y="0"/>
                    </a:lnTo>
                    <a:lnTo>
                      <a:pt x="5191" y="0"/>
                    </a:lnTo>
                    <a:lnTo>
                      <a:pt x="5251" y="15"/>
                    </a:lnTo>
                    <a:lnTo>
                      <a:pt x="5296" y="15"/>
                    </a:lnTo>
                    <a:lnTo>
                      <a:pt x="5341" y="30"/>
                    </a:lnTo>
                    <a:lnTo>
                      <a:pt x="5386" y="30"/>
                    </a:lnTo>
                    <a:lnTo>
                      <a:pt x="5431" y="45"/>
                    </a:lnTo>
                    <a:lnTo>
                      <a:pt x="5476" y="60"/>
                    </a:lnTo>
                    <a:lnTo>
                      <a:pt x="5521" y="60"/>
                    </a:lnTo>
                    <a:lnTo>
                      <a:pt x="5566" y="75"/>
                    </a:lnTo>
                    <a:lnTo>
                      <a:pt x="5611" y="90"/>
                    </a:lnTo>
                    <a:lnTo>
                      <a:pt x="5656" y="90"/>
                    </a:lnTo>
                    <a:lnTo>
                      <a:pt x="5716" y="105"/>
                    </a:lnTo>
                    <a:lnTo>
                      <a:pt x="5761" y="105"/>
                    </a:lnTo>
                    <a:lnTo>
                      <a:pt x="5806" y="120"/>
                    </a:lnTo>
                    <a:lnTo>
                      <a:pt x="5851" y="120"/>
                    </a:lnTo>
                    <a:lnTo>
                      <a:pt x="5896" y="120"/>
                    </a:lnTo>
                  </a:path>
                </a:pathLst>
              </a:custGeom>
              <a:noFill/>
              <a:ln w="14760">
                <a:solidFill>
                  <a:srgbClr val="333333"/>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1" name=""/>
              <p:cNvSpPr/>
              <p:nvPr/>
            </p:nvSpPr>
            <p:spPr>
              <a:xfrm>
                <a:off x="2783880" y="6154200"/>
                <a:ext cx="1046880" cy="61200"/>
              </a:xfrm>
              <a:custGeom>
                <a:avLst/>
                <a:gdLst/>
                <a:ahLst/>
                <a:rect l="l" t="t" r="r" b="b"/>
                <a:pathLst>
                  <a:path w="5896" h="165">
                    <a:moveTo>
                      <a:pt x="0" y="75"/>
                    </a:moveTo>
                    <a:lnTo>
                      <a:pt x="45" y="75"/>
                    </a:lnTo>
                    <a:lnTo>
                      <a:pt x="90" y="75"/>
                    </a:lnTo>
                    <a:lnTo>
                      <a:pt x="135" y="75"/>
                    </a:lnTo>
                    <a:lnTo>
                      <a:pt x="180" y="75"/>
                    </a:lnTo>
                    <a:lnTo>
                      <a:pt x="240" y="75"/>
                    </a:lnTo>
                    <a:lnTo>
                      <a:pt x="285" y="75"/>
                    </a:lnTo>
                    <a:lnTo>
                      <a:pt x="330" y="75"/>
                    </a:lnTo>
                    <a:lnTo>
                      <a:pt x="375" y="75"/>
                    </a:lnTo>
                    <a:lnTo>
                      <a:pt x="420" y="90"/>
                    </a:lnTo>
                    <a:lnTo>
                      <a:pt x="465" y="90"/>
                    </a:lnTo>
                    <a:lnTo>
                      <a:pt x="510" y="90"/>
                    </a:lnTo>
                    <a:lnTo>
                      <a:pt x="555" y="105"/>
                    </a:lnTo>
                    <a:lnTo>
                      <a:pt x="600" y="105"/>
                    </a:lnTo>
                    <a:lnTo>
                      <a:pt x="645" y="105"/>
                    </a:lnTo>
                    <a:lnTo>
                      <a:pt x="690" y="120"/>
                    </a:lnTo>
                    <a:lnTo>
                      <a:pt x="750" y="120"/>
                    </a:lnTo>
                    <a:lnTo>
                      <a:pt x="795" y="120"/>
                    </a:lnTo>
                    <a:lnTo>
                      <a:pt x="840" y="120"/>
                    </a:lnTo>
                    <a:lnTo>
                      <a:pt x="885" y="120"/>
                    </a:lnTo>
                    <a:lnTo>
                      <a:pt x="930" y="105"/>
                    </a:lnTo>
                    <a:lnTo>
                      <a:pt x="975" y="105"/>
                    </a:lnTo>
                    <a:lnTo>
                      <a:pt x="1020" y="105"/>
                    </a:lnTo>
                    <a:lnTo>
                      <a:pt x="1065" y="90"/>
                    </a:lnTo>
                    <a:lnTo>
                      <a:pt x="1110" y="75"/>
                    </a:lnTo>
                    <a:lnTo>
                      <a:pt x="1155" y="75"/>
                    </a:lnTo>
                    <a:lnTo>
                      <a:pt x="1215" y="60"/>
                    </a:lnTo>
                    <a:lnTo>
                      <a:pt x="1260" y="60"/>
                    </a:lnTo>
                    <a:lnTo>
                      <a:pt x="1305" y="45"/>
                    </a:lnTo>
                    <a:lnTo>
                      <a:pt x="1350" y="30"/>
                    </a:lnTo>
                    <a:lnTo>
                      <a:pt x="1395" y="30"/>
                    </a:lnTo>
                    <a:lnTo>
                      <a:pt x="1440" y="30"/>
                    </a:lnTo>
                    <a:lnTo>
                      <a:pt x="1485" y="15"/>
                    </a:lnTo>
                    <a:lnTo>
                      <a:pt x="1530" y="15"/>
                    </a:lnTo>
                    <a:lnTo>
                      <a:pt x="1575" y="15"/>
                    </a:lnTo>
                    <a:lnTo>
                      <a:pt x="1620" y="30"/>
                    </a:lnTo>
                    <a:lnTo>
                      <a:pt x="1665" y="30"/>
                    </a:lnTo>
                    <a:lnTo>
                      <a:pt x="1725" y="30"/>
                    </a:lnTo>
                    <a:lnTo>
                      <a:pt x="1770" y="45"/>
                    </a:lnTo>
                    <a:lnTo>
                      <a:pt x="1815" y="60"/>
                    </a:lnTo>
                    <a:lnTo>
                      <a:pt x="1860" y="75"/>
                    </a:lnTo>
                    <a:lnTo>
                      <a:pt x="1905" y="90"/>
                    </a:lnTo>
                    <a:lnTo>
                      <a:pt x="1950" y="90"/>
                    </a:lnTo>
                    <a:lnTo>
                      <a:pt x="1995" y="105"/>
                    </a:lnTo>
                    <a:lnTo>
                      <a:pt x="2040" y="120"/>
                    </a:lnTo>
                    <a:lnTo>
                      <a:pt x="2085" y="135"/>
                    </a:lnTo>
                    <a:lnTo>
                      <a:pt x="2130" y="150"/>
                    </a:lnTo>
                    <a:lnTo>
                      <a:pt x="2175" y="150"/>
                    </a:lnTo>
                    <a:lnTo>
                      <a:pt x="2235" y="165"/>
                    </a:lnTo>
                    <a:lnTo>
                      <a:pt x="2280" y="165"/>
                    </a:lnTo>
                    <a:lnTo>
                      <a:pt x="2325" y="165"/>
                    </a:lnTo>
                    <a:lnTo>
                      <a:pt x="2370" y="165"/>
                    </a:lnTo>
                    <a:lnTo>
                      <a:pt x="2415" y="165"/>
                    </a:lnTo>
                    <a:lnTo>
                      <a:pt x="2460" y="150"/>
                    </a:lnTo>
                    <a:lnTo>
                      <a:pt x="2505" y="135"/>
                    </a:lnTo>
                    <a:lnTo>
                      <a:pt x="2550" y="135"/>
                    </a:lnTo>
                    <a:lnTo>
                      <a:pt x="2595" y="120"/>
                    </a:lnTo>
                    <a:lnTo>
                      <a:pt x="2640" y="105"/>
                    </a:lnTo>
                    <a:lnTo>
                      <a:pt x="2685" y="90"/>
                    </a:lnTo>
                    <a:lnTo>
                      <a:pt x="2745" y="75"/>
                    </a:lnTo>
                    <a:lnTo>
                      <a:pt x="2790" y="60"/>
                    </a:lnTo>
                    <a:lnTo>
                      <a:pt x="2836" y="45"/>
                    </a:lnTo>
                    <a:lnTo>
                      <a:pt x="2881" y="30"/>
                    </a:lnTo>
                    <a:lnTo>
                      <a:pt x="2926" y="15"/>
                    </a:lnTo>
                    <a:lnTo>
                      <a:pt x="2971" y="15"/>
                    </a:lnTo>
                    <a:lnTo>
                      <a:pt x="3016" y="0"/>
                    </a:lnTo>
                    <a:lnTo>
                      <a:pt x="3061" y="0"/>
                    </a:lnTo>
                    <a:lnTo>
                      <a:pt x="3106" y="0"/>
                    </a:lnTo>
                    <a:lnTo>
                      <a:pt x="3151" y="0"/>
                    </a:lnTo>
                    <a:lnTo>
                      <a:pt x="3211" y="15"/>
                    </a:lnTo>
                    <a:lnTo>
                      <a:pt x="3256" y="15"/>
                    </a:lnTo>
                    <a:lnTo>
                      <a:pt x="3301" y="30"/>
                    </a:lnTo>
                    <a:lnTo>
                      <a:pt x="3346" y="30"/>
                    </a:lnTo>
                    <a:lnTo>
                      <a:pt x="3391" y="45"/>
                    </a:lnTo>
                    <a:lnTo>
                      <a:pt x="3436" y="60"/>
                    </a:lnTo>
                    <a:lnTo>
                      <a:pt x="3481" y="75"/>
                    </a:lnTo>
                    <a:lnTo>
                      <a:pt x="3526" y="90"/>
                    </a:lnTo>
                    <a:lnTo>
                      <a:pt x="3571" y="105"/>
                    </a:lnTo>
                    <a:lnTo>
                      <a:pt x="3616" y="105"/>
                    </a:lnTo>
                    <a:lnTo>
                      <a:pt x="3661" y="120"/>
                    </a:lnTo>
                    <a:lnTo>
                      <a:pt x="3721" y="135"/>
                    </a:lnTo>
                    <a:lnTo>
                      <a:pt x="3766" y="135"/>
                    </a:lnTo>
                    <a:lnTo>
                      <a:pt x="3811" y="135"/>
                    </a:lnTo>
                    <a:lnTo>
                      <a:pt x="3856" y="150"/>
                    </a:lnTo>
                    <a:lnTo>
                      <a:pt x="3901" y="150"/>
                    </a:lnTo>
                    <a:lnTo>
                      <a:pt x="3946" y="150"/>
                    </a:lnTo>
                    <a:lnTo>
                      <a:pt x="3991" y="135"/>
                    </a:lnTo>
                    <a:lnTo>
                      <a:pt x="4036" y="135"/>
                    </a:lnTo>
                    <a:lnTo>
                      <a:pt x="4081" y="135"/>
                    </a:lnTo>
                    <a:lnTo>
                      <a:pt x="4126" y="120"/>
                    </a:lnTo>
                    <a:lnTo>
                      <a:pt x="4171" y="105"/>
                    </a:lnTo>
                    <a:lnTo>
                      <a:pt x="4231" y="105"/>
                    </a:lnTo>
                    <a:lnTo>
                      <a:pt x="4276" y="90"/>
                    </a:lnTo>
                    <a:lnTo>
                      <a:pt x="4321" y="75"/>
                    </a:lnTo>
                    <a:lnTo>
                      <a:pt x="4366" y="75"/>
                    </a:lnTo>
                    <a:lnTo>
                      <a:pt x="4411" y="60"/>
                    </a:lnTo>
                    <a:lnTo>
                      <a:pt x="4456" y="60"/>
                    </a:lnTo>
                    <a:lnTo>
                      <a:pt x="4501" y="45"/>
                    </a:lnTo>
                    <a:lnTo>
                      <a:pt x="4546" y="45"/>
                    </a:lnTo>
                    <a:lnTo>
                      <a:pt x="4591" y="45"/>
                    </a:lnTo>
                    <a:lnTo>
                      <a:pt x="4636" y="45"/>
                    </a:lnTo>
                    <a:lnTo>
                      <a:pt x="4681" y="45"/>
                    </a:lnTo>
                    <a:lnTo>
                      <a:pt x="4741" y="45"/>
                    </a:lnTo>
                    <a:lnTo>
                      <a:pt x="4786" y="45"/>
                    </a:lnTo>
                    <a:lnTo>
                      <a:pt x="4831" y="60"/>
                    </a:lnTo>
                    <a:lnTo>
                      <a:pt x="4876" y="60"/>
                    </a:lnTo>
                    <a:lnTo>
                      <a:pt x="4921" y="60"/>
                    </a:lnTo>
                    <a:lnTo>
                      <a:pt x="4966" y="75"/>
                    </a:lnTo>
                    <a:lnTo>
                      <a:pt x="5011" y="75"/>
                    </a:lnTo>
                    <a:lnTo>
                      <a:pt x="5056" y="90"/>
                    </a:lnTo>
                    <a:lnTo>
                      <a:pt x="5101" y="90"/>
                    </a:lnTo>
                    <a:lnTo>
                      <a:pt x="5146" y="90"/>
                    </a:lnTo>
                    <a:lnTo>
                      <a:pt x="5191" y="105"/>
                    </a:lnTo>
                    <a:lnTo>
                      <a:pt x="5251" y="105"/>
                    </a:lnTo>
                    <a:lnTo>
                      <a:pt x="5296" y="105"/>
                    </a:lnTo>
                    <a:lnTo>
                      <a:pt x="5341" y="105"/>
                    </a:lnTo>
                    <a:lnTo>
                      <a:pt x="5386" y="105"/>
                    </a:lnTo>
                    <a:lnTo>
                      <a:pt x="5431" y="105"/>
                    </a:lnTo>
                    <a:lnTo>
                      <a:pt x="5476" y="105"/>
                    </a:lnTo>
                    <a:lnTo>
                      <a:pt x="5521" y="105"/>
                    </a:lnTo>
                    <a:lnTo>
                      <a:pt x="5566" y="90"/>
                    </a:lnTo>
                    <a:lnTo>
                      <a:pt x="5611" y="90"/>
                    </a:lnTo>
                    <a:lnTo>
                      <a:pt x="5656" y="90"/>
                    </a:lnTo>
                    <a:lnTo>
                      <a:pt x="5716" y="75"/>
                    </a:lnTo>
                    <a:lnTo>
                      <a:pt x="5761" y="75"/>
                    </a:lnTo>
                    <a:lnTo>
                      <a:pt x="5806" y="75"/>
                    </a:lnTo>
                    <a:lnTo>
                      <a:pt x="5851" y="60"/>
                    </a:lnTo>
                    <a:lnTo>
                      <a:pt x="5896" y="60"/>
                    </a:lnTo>
                  </a:path>
                </a:pathLst>
              </a:custGeom>
              <a:noFill/>
              <a:ln w="14760">
                <a:solidFill>
                  <a:srgbClr val="333333"/>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52" name=""/>
              <p:cNvSpPr/>
              <p:nvPr/>
            </p:nvSpPr>
            <p:spPr>
              <a:xfrm>
                <a:off x="2783880" y="5790960"/>
                <a:ext cx="1046880" cy="26640"/>
              </a:xfrm>
              <a:custGeom>
                <a:avLst/>
                <a:gdLst/>
                <a:ahLst/>
                <a:rect l="l" t="t" r="r" b="b"/>
                <a:pathLst>
                  <a:path w="5896" h="75">
                    <a:moveTo>
                      <a:pt x="0" y="15"/>
                    </a:moveTo>
                    <a:lnTo>
                      <a:pt x="45" y="15"/>
                    </a:lnTo>
                    <a:lnTo>
                      <a:pt x="90" y="30"/>
                    </a:lnTo>
                    <a:lnTo>
                      <a:pt x="135" y="30"/>
                    </a:lnTo>
                    <a:lnTo>
                      <a:pt x="180" y="30"/>
                    </a:lnTo>
                    <a:lnTo>
                      <a:pt x="240" y="30"/>
                    </a:lnTo>
                    <a:lnTo>
                      <a:pt x="285" y="30"/>
                    </a:lnTo>
                    <a:lnTo>
                      <a:pt x="330" y="30"/>
                    </a:lnTo>
                    <a:lnTo>
                      <a:pt x="375" y="30"/>
                    </a:lnTo>
                    <a:lnTo>
                      <a:pt x="420" y="30"/>
                    </a:lnTo>
                    <a:lnTo>
                      <a:pt x="465" y="45"/>
                    </a:lnTo>
                    <a:lnTo>
                      <a:pt x="510" y="45"/>
                    </a:lnTo>
                    <a:lnTo>
                      <a:pt x="555" y="45"/>
                    </a:lnTo>
                    <a:lnTo>
                      <a:pt x="600" y="45"/>
                    </a:lnTo>
                    <a:lnTo>
                      <a:pt x="645" y="45"/>
                    </a:lnTo>
                    <a:lnTo>
                      <a:pt x="690" y="60"/>
                    </a:lnTo>
                    <a:lnTo>
                      <a:pt x="750" y="60"/>
                    </a:lnTo>
                    <a:lnTo>
                      <a:pt x="795" y="60"/>
                    </a:lnTo>
                    <a:lnTo>
                      <a:pt x="840" y="60"/>
                    </a:lnTo>
                    <a:lnTo>
                      <a:pt x="885" y="60"/>
                    </a:lnTo>
                    <a:lnTo>
                      <a:pt x="930" y="60"/>
                    </a:lnTo>
                    <a:lnTo>
                      <a:pt x="975" y="60"/>
                    </a:lnTo>
                    <a:lnTo>
                      <a:pt x="1020" y="60"/>
                    </a:lnTo>
                    <a:lnTo>
                      <a:pt x="1065" y="60"/>
                    </a:lnTo>
                    <a:lnTo>
                      <a:pt x="1110" y="60"/>
                    </a:lnTo>
                    <a:lnTo>
                      <a:pt x="1155" y="60"/>
                    </a:lnTo>
                    <a:lnTo>
                      <a:pt x="1215" y="60"/>
                    </a:lnTo>
                    <a:lnTo>
                      <a:pt x="1260" y="60"/>
                    </a:lnTo>
                    <a:lnTo>
                      <a:pt x="1305" y="45"/>
                    </a:lnTo>
                    <a:lnTo>
                      <a:pt x="1350" y="45"/>
                    </a:lnTo>
                    <a:lnTo>
                      <a:pt x="1395" y="45"/>
                    </a:lnTo>
                    <a:lnTo>
                      <a:pt x="1440" y="30"/>
                    </a:lnTo>
                    <a:lnTo>
                      <a:pt x="1485" y="30"/>
                    </a:lnTo>
                    <a:lnTo>
                      <a:pt x="1530" y="30"/>
                    </a:lnTo>
                    <a:lnTo>
                      <a:pt x="1575" y="15"/>
                    </a:lnTo>
                    <a:lnTo>
                      <a:pt x="1620" y="15"/>
                    </a:lnTo>
                    <a:lnTo>
                      <a:pt x="1665" y="15"/>
                    </a:lnTo>
                    <a:lnTo>
                      <a:pt x="1725" y="15"/>
                    </a:lnTo>
                    <a:lnTo>
                      <a:pt x="1770" y="0"/>
                    </a:lnTo>
                    <a:lnTo>
                      <a:pt x="1815" y="0"/>
                    </a:lnTo>
                    <a:lnTo>
                      <a:pt x="1860" y="0"/>
                    </a:lnTo>
                    <a:lnTo>
                      <a:pt x="1905" y="0"/>
                    </a:lnTo>
                    <a:lnTo>
                      <a:pt x="1950" y="0"/>
                    </a:lnTo>
                    <a:lnTo>
                      <a:pt x="1995" y="15"/>
                    </a:lnTo>
                    <a:lnTo>
                      <a:pt x="2040" y="15"/>
                    </a:lnTo>
                    <a:lnTo>
                      <a:pt x="2085" y="15"/>
                    </a:lnTo>
                    <a:lnTo>
                      <a:pt x="2130" y="15"/>
                    </a:lnTo>
                    <a:lnTo>
                      <a:pt x="2175" y="30"/>
                    </a:lnTo>
                    <a:lnTo>
                      <a:pt x="2235" y="30"/>
                    </a:lnTo>
                    <a:lnTo>
                      <a:pt x="2280" y="45"/>
                    </a:lnTo>
                    <a:lnTo>
                      <a:pt x="2325" y="45"/>
                    </a:lnTo>
                    <a:lnTo>
                      <a:pt x="2370" y="45"/>
                    </a:lnTo>
                    <a:lnTo>
                      <a:pt x="2415" y="60"/>
                    </a:lnTo>
                    <a:lnTo>
                      <a:pt x="2460" y="60"/>
                    </a:lnTo>
                    <a:lnTo>
                      <a:pt x="2505" y="60"/>
                    </a:lnTo>
                    <a:lnTo>
                      <a:pt x="2550" y="75"/>
                    </a:lnTo>
                    <a:lnTo>
                      <a:pt x="2595" y="75"/>
                    </a:lnTo>
                    <a:lnTo>
                      <a:pt x="2640" y="75"/>
                    </a:lnTo>
                    <a:lnTo>
                      <a:pt x="2685" y="75"/>
                    </a:lnTo>
                    <a:lnTo>
                      <a:pt x="2745" y="75"/>
                    </a:lnTo>
                    <a:lnTo>
                      <a:pt x="2790" y="75"/>
                    </a:lnTo>
                    <a:lnTo>
                      <a:pt x="2836" y="75"/>
                    </a:lnTo>
                    <a:lnTo>
                      <a:pt x="2881" y="60"/>
                    </a:lnTo>
                    <a:lnTo>
                      <a:pt x="2926" y="60"/>
                    </a:lnTo>
                    <a:lnTo>
                      <a:pt x="2971" y="60"/>
                    </a:lnTo>
                    <a:lnTo>
                      <a:pt x="3016" y="60"/>
                    </a:lnTo>
                    <a:lnTo>
                      <a:pt x="3061" y="45"/>
                    </a:lnTo>
                    <a:lnTo>
                      <a:pt x="3106" y="45"/>
                    </a:lnTo>
                    <a:lnTo>
                      <a:pt x="3151" y="45"/>
                    </a:lnTo>
                    <a:lnTo>
                      <a:pt x="3211" y="45"/>
                    </a:lnTo>
                    <a:lnTo>
                      <a:pt x="3256" y="30"/>
                    </a:lnTo>
                    <a:lnTo>
                      <a:pt x="3301" y="30"/>
                    </a:lnTo>
                    <a:lnTo>
                      <a:pt x="3346" y="30"/>
                    </a:lnTo>
                    <a:lnTo>
                      <a:pt x="3391" y="30"/>
                    </a:lnTo>
                    <a:lnTo>
                      <a:pt x="3436" y="30"/>
                    </a:lnTo>
                    <a:lnTo>
                      <a:pt x="3481" y="30"/>
                    </a:lnTo>
                    <a:lnTo>
                      <a:pt x="3526" y="15"/>
                    </a:lnTo>
                    <a:lnTo>
                      <a:pt x="3571" y="15"/>
                    </a:lnTo>
                    <a:lnTo>
                      <a:pt x="3616" y="15"/>
                    </a:lnTo>
                    <a:lnTo>
                      <a:pt x="3661" y="15"/>
                    </a:lnTo>
                    <a:lnTo>
                      <a:pt x="3721" y="15"/>
                    </a:lnTo>
                    <a:lnTo>
                      <a:pt x="3766" y="15"/>
                    </a:lnTo>
                    <a:lnTo>
                      <a:pt x="3811" y="30"/>
                    </a:lnTo>
                    <a:lnTo>
                      <a:pt x="3856" y="30"/>
                    </a:lnTo>
                    <a:lnTo>
                      <a:pt x="3901" y="30"/>
                    </a:lnTo>
                    <a:lnTo>
                      <a:pt x="3946" y="30"/>
                    </a:lnTo>
                    <a:lnTo>
                      <a:pt x="3991" y="30"/>
                    </a:lnTo>
                    <a:lnTo>
                      <a:pt x="4036" y="30"/>
                    </a:lnTo>
                    <a:lnTo>
                      <a:pt x="4081" y="30"/>
                    </a:lnTo>
                    <a:lnTo>
                      <a:pt x="4126" y="30"/>
                    </a:lnTo>
                    <a:lnTo>
                      <a:pt x="4171" y="30"/>
                    </a:lnTo>
                    <a:lnTo>
                      <a:pt x="4231" y="45"/>
                    </a:lnTo>
                    <a:lnTo>
                      <a:pt x="4276" y="45"/>
                    </a:lnTo>
                    <a:lnTo>
                      <a:pt x="4321" y="45"/>
                    </a:lnTo>
                    <a:lnTo>
                      <a:pt x="4366" y="45"/>
                    </a:lnTo>
                    <a:lnTo>
                      <a:pt x="4411" y="45"/>
                    </a:lnTo>
                    <a:lnTo>
                      <a:pt x="4456" y="45"/>
                    </a:lnTo>
                    <a:lnTo>
                      <a:pt x="4501" y="45"/>
                    </a:lnTo>
                    <a:lnTo>
                      <a:pt x="4546" y="45"/>
                    </a:lnTo>
                    <a:lnTo>
                      <a:pt x="4591" y="45"/>
                    </a:lnTo>
                    <a:lnTo>
                      <a:pt x="4636" y="45"/>
                    </a:lnTo>
                    <a:lnTo>
                      <a:pt x="4681" y="45"/>
                    </a:lnTo>
                    <a:lnTo>
                      <a:pt x="4741" y="45"/>
                    </a:lnTo>
                    <a:lnTo>
                      <a:pt x="4786" y="45"/>
                    </a:lnTo>
                    <a:lnTo>
                      <a:pt x="4831" y="45"/>
                    </a:lnTo>
                    <a:lnTo>
                      <a:pt x="4876" y="45"/>
                    </a:lnTo>
                    <a:lnTo>
                      <a:pt x="4921" y="45"/>
                    </a:lnTo>
                    <a:lnTo>
                      <a:pt x="4966" y="45"/>
                    </a:lnTo>
                    <a:lnTo>
                      <a:pt x="5011" y="45"/>
                    </a:lnTo>
                    <a:lnTo>
                      <a:pt x="5056" y="45"/>
                    </a:lnTo>
                    <a:lnTo>
                      <a:pt x="5101" y="45"/>
                    </a:lnTo>
                    <a:lnTo>
                      <a:pt x="5146" y="45"/>
                    </a:lnTo>
                    <a:lnTo>
                      <a:pt x="5191" y="45"/>
                    </a:lnTo>
                    <a:lnTo>
                      <a:pt x="5251" y="45"/>
                    </a:lnTo>
                    <a:lnTo>
                      <a:pt x="5296" y="45"/>
                    </a:lnTo>
                    <a:lnTo>
                      <a:pt x="5341" y="45"/>
                    </a:lnTo>
                    <a:lnTo>
                      <a:pt x="5386" y="45"/>
                    </a:lnTo>
                    <a:lnTo>
                      <a:pt x="5431" y="45"/>
                    </a:lnTo>
                    <a:lnTo>
                      <a:pt x="5476" y="45"/>
                    </a:lnTo>
                    <a:lnTo>
                      <a:pt x="5521" y="45"/>
                    </a:lnTo>
                    <a:lnTo>
                      <a:pt x="5566" y="30"/>
                    </a:lnTo>
                    <a:lnTo>
                      <a:pt x="5611" y="30"/>
                    </a:lnTo>
                    <a:lnTo>
                      <a:pt x="5656" y="30"/>
                    </a:lnTo>
                    <a:lnTo>
                      <a:pt x="5716" y="30"/>
                    </a:lnTo>
                    <a:lnTo>
                      <a:pt x="5761" y="30"/>
                    </a:lnTo>
                    <a:lnTo>
                      <a:pt x="5806" y="30"/>
                    </a:lnTo>
                    <a:lnTo>
                      <a:pt x="5851" y="30"/>
                    </a:lnTo>
                    <a:lnTo>
                      <a:pt x="5896" y="15"/>
                    </a:lnTo>
                  </a:path>
                </a:pathLst>
              </a:custGeom>
              <a:noFill/>
              <a:ln w="14760">
                <a:solidFill>
                  <a:srgbClr val="333333"/>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53" name=""/>
              <p:cNvSpPr/>
              <p:nvPr/>
            </p:nvSpPr>
            <p:spPr>
              <a:xfrm>
                <a:off x="3507840" y="4695480"/>
                <a:ext cx="183240" cy="45792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54" name=""/>
              <p:cNvSpPr/>
              <p:nvPr/>
            </p:nvSpPr>
            <p:spPr>
              <a:xfrm>
                <a:off x="5398560" y="4901760"/>
                <a:ext cx="10922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55" name=""/>
              <p:cNvSpPr/>
              <p:nvPr/>
            </p:nvSpPr>
            <p:spPr>
              <a:xfrm flipV="1">
                <a:off x="5398560" y="4451040"/>
                <a:ext cx="1080" cy="45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5398560" y="4890240"/>
                <a:ext cx="10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7" name=""/>
              <p:cNvSpPr/>
              <p:nvPr/>
            </p:nvSpPr>
            <p:spPr>
              <a:xfrm>
                <a:off x="5391720" y="4914000"/>
                <a:ext cx="49320" cy="48960"/>
              </a:xfrm>
              <a:prstGeom prst="rect">
                <a:avLst/>
              </a:pr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8" name=""/>
              <p:cNvSpPr/>
              <p:nvPr/>
            </p:nvSpPr>
            <p:spPr>
              <a:xfrm>
                <a:off x="5392080" y="491292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759" name=""/>
              <p:cNvSpPr/>
              <p:nvPr/>
            </p:nvSpPr>
            <p:spPr>
              <a:xfrm flipV="1">
                <a:off x="5555880" y="4890240"/>
                <a:ext cx="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0" name=""/>
              <p:cNvSpPr/>
              <p:nvPr/>
            </p:nvSpPr>
            <p:spPr>
              <a:xfrm>
                <a:off x="5537880" y="4914000"/>
                <a:ext cx="75960" cy="48960"/>
              </a:xfrm>
              <a:prstGeom prst="rect">
                <a:avLst/>
              </a:pr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61" name=""/>
              <p:cNvSpPr/>
              <p:nvPr/>
            </p:nvSpPr>
            <p:spPr>
              <a:xfrm>
                <a:off x="5537160" y="49129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a:t>
                </a:r>
                <a:endParaRPr b="0" lang="en-US" sz="700" spc="-1" strike="noStrike">
                  <a:solidFill>
                    <a:srgbClr val="000000"/>
                  </a:solidFill>
                  <a:latin typeface="Times New Roman"/>
                </a:endParaRPr>
              </a:p>
            </p:txBody>
          </p:sp>
          <p:sp>
            <p:nvSpPr>
              <p:cNvPr id="762" name=""/>
              <p:cNvSpPr/>
              <p:nvPr/>
            </p:nvSpPr>
            <p:spPr>
              <a:xfrm flipV="1">
                <a:off x="5710320" y="4890240"/>
                <a:ext cx="14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3" name=""/>
              <p:cNvSpPr/>
              <p:nvPr/>
            </p:nvSpPr>
            <p:spPr>
              <a:xfrm>
                <a:off x="5693760" y="4914000"/>
                <a:ext cx="75960" cy="48960"/>
              </a:xfrm>
              <a:prstGeom prst="rect">
                <a:avLst/>
              </a:pr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64" name=""/>
              <p:cNvSpPr/>
              <p:nvPr/>
            </p:nvSpPr>
            <p:spPr>
              <a:xfrm>
                <a:off x="5695920" y="49129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0</a:t>
                </a:r>
                <a:endParaRPr b="0" lang="en-US" sz="700" spc="-1" strike="noStrike">
                  <a:solidFill>
                    <a:srgbClr val="000000"/>
                  </a:solidFill>
                  <a:latin typeface="Times New Roman"/>
                </a:endParaRPr>
              </a:p>
            </p:txBody>
          </p:sp>
          <p:sp>
            <p:nvSpPr>
              <p:cNvPr id="765" name=""/>
              <p:cNvSpPr/>
              <p:nvPr/>
            </p:nvSpPr>
            <p:spPr>
              <a:xfrm flipV="1">
                <a:off x="5868000" y="4890240"/>
                <a:ext cx="10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6" name=""/>
              <p:cNvSpPr/>
              <p:nvPr/>
            </p:nvSpPr>
            <p:spPr>
              <a:xfrm>
                <a:off x="5850000" y="4914000"/>
                <a:ext cx="75600" cy="48960"/>
              </a:xfrm>
              <a:prstGeom prst="rect">
                <a:avLst/>
              </a:pr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67" name=""/>
              <p:cNvSpPr/>
              <p:nvPr/>
            </p:nvSpPr>
            <p:spPr>
              <a:xfrm>
                <a:off x="5850000" y="49129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0</a:t>
                </a:r>
                <a:endParaRPr b="0" lang="en-US" sz="700" spc="-1" strike="noStrike">
                  <a:solidFill>
                    <a:srgbClr val="000000"/>
                  </a:solidFill>
                  <a:latin typeface="Times New Roman"/>
                </a:endParaRPr>
              </a:p>
            </p:txBody>
          </p:sp>
          <p:sp>
            <p:nvSpPr>
              <p:cNvPr id="768" name=""/>
              <p:cNvSpPr/>
              <p:nvPr/>
            </p:nvSpPr>
            <p:spPr>
              <a:xfrm flipV="1">
                <a:off x="6019920" y="4890240"/>
                <a:ext cx="10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9" name=""/>
              <p:cNvSpPr/>
              <p:nvPr/>
            </p:nvSpPr>
            <p:spPr>
              <a:xfrm>
                <a:off x="6004440" y="4914000"/>
                <a:ext cx="75960" cy="48960"/>
              </a:xfrm>
              <a:prstGeom prst="rect">
                <a:avLst/>
              </a:pr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0" name=""/>
              <p:cNvSpPr/>
              <p:nvPr/>
            </p:nvSpPr>
            <p:spPr>
              <a:xfrm>
                <a:off x="6006240" y="49129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0</a:t>
                </a:r>
                <a:endParaRPr b="0" lang="en-US" sz="700" spc="-1" strike="noStrike">
                  <a:solidFill>
                    <a:srgbClr val="000000"/>
                  </a:solidFill>
                  <a:latin typeface="Times New Roman"/>
                </a:endParaRPr>
              </a:p>
            </p:txBody>
          </p:sp>
          <p:sp>
            <p:nvSpPr>
              <p:cNvPr id="771" name=""/>
              <p:cNvSpPr/>
              <p:nvPr/>
            </p:nvSpPr>
            <p:spPr>
              <a:xfrm flipV="1">
                <a:off x="6178680" y="4890240"/>
                <a:ext cx="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6152400" y="4914000"/>
                <a:ext cx="104760" cy="48960"/>
              </a:xfrm>
              <a:prstGeom prst="rect">
                <a:avLst/>
              </a:pr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3" name=""/>
              <p:cNvSpPr/>
              <p:nvPr/>
            </p:nvSpPr>
            <p:spPr>
              <a:xfrm>
                <a:off x="6152400" y="491292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a:t>
                </a:r>
                <a:endParaRPr b="0" lang="en-US" sz="700" spc="-1" strike="noStrike">
                  <a:solidFill>
                    <a:srgbClr val="000000"/>
                  </a:solidFill>
                  <a:latin typeface="Times New Roman"/>
                </a:endParaRPr>
              </a:p>
            </p:txBody>
          </p:sp>
          <p:sp>
            <p:nvSpPr>
              <p:cNvPr id="774" name=""/>
              <p:cNvSpPr/>
              <p:nvPr/>
            </p:nvSpPr>
            <p:spPr>
              <a:xfrm flipV="1">
                <a:off x="6333480" y="4890240"/>
                <a:ext cx="10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6308640" y="4914000"/>
                <a:ext cx="107640" cy="48960"/>
              </a:xfrm>
              <a:prstGeom prst="rect">
                <a:avLst/>
              </a:pr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6" name=""/>
              <p:cNvSpPr/>
              <p:nvPr/>
            </p:nvSpPr>
            <p:spPr>
              <a:xfrm>
                <a:off x="6308280" y="491292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0</a:t>
                </a:r>
                <a:endParaRPr b="0" lang="en-US" sz="700" spc="-1" strike="noStrike">
                  <a:solidFill>
                    <a:srgbClr val="000000"/>
                  </a:solidFill>
                  <a:latin typeface="Times New Roman"/>
                </a:endParaRPr>
              </a:p>
            </p:txBody>
          </p:sp>
          <p:sp>
            <p:nvSpPr>
              <p:cNvPr id="777" name=""/>
              <p:cNvSpPr/>
              <p:nvPr/>
            </p:nvSpPr>
            <p:spPr>
              <a:xfrm flipV="1">
                <a:off x="6490800" y="4890240"/>
                <a:ext cx="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6464520" y="4914000"/>
                <a:ext cx="105840" cy="48960"/>
              </a:xfrm>
              <a:prstGeom prst="rect">
                <a:avLst/>
              </a:pr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9" name=""/>
              <p:cNvSpPr/>
              <p:nvPr/>
            </p:nvSpPr>
            <p:spPr>
              <a:xfrm>
                <a:off x="5398560" y="4901760"/>
                <a:ext cx="10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80" name=""/>
              <p:cNvSpPr/>
              <p:nvPr/>
            </p:nvSpPr>
            <p:spPr>
              <a:xfrm>
                <a:off x="5409360" y="4641120"/>
                <a:ext cx="990000" cy="231480"/>
              </a:xfrm>
              <a:custGeom>
                <a:avLst/>
                <a:gdLst/>
                <a:ahLst/>
                <a:rect l="l" t="t" r="r" b="b"/>
                <a:pathLst>
                  <a:path w="3009" h="656">
                    <a:moveTo>
                      <a:pt x="0" y="656"/>
                    </a:moveTo>
                    <a:lnTo>
                      <a:pt x="23" y="656"/>
                    </a:lnTo>
                    <a:lnTo>
                      <a:pt x="46" y="656"/>
                    </a:lnTo>
                    <a:lnTo>
                      <a:pt x="69" y="656"/>
                    </a:lnTo>
                    <a:lnTo>
                      <a:pt x="92" y="656"/>
                    </a:lnTo>
                    <a:lnTo>
                      <a:pt x="122" y="656"/>
                    </a:lnTo>
                    <a:lnTo>
                      <a:pt x="145" y="656"/>
                    </a:lnTo>
                    <a:lnTo>
                      <a:pt x="168" y="656"/>
                    </a:lnTo>
                    <a:lnTo>
                      <a:pt x="191" y="656"/>
                    </a:lnTo>
                    <a:lnTo>
                      <a:pt x="214" y="656"/>
                    </a:lnTo>
                    <a:lnTo>
                      <a:pt x="237" y="656"/>
                    </a:lnTo>
                    <a:lnTo>
                      <a:pt x="260" y="656"/>
                    </a:lnTo>
                    <a:lnTo>
                      <a:pt x="283" y="656"/>
                    </a:lnTo>
                    <a:lnTo>
                      <a:pt x="306" y="656"/>
                    </a:lnTo>
                    <a:lnTo>
                      <a:pt x="329" y="656"/>
                    </a:lnTo>
                    <a:lnTo>
                      <a:pt x="352" y="656"/>
                    </a:lnTo>
                    <a:lnTo>
                      <a:pt x="383" y="417"/>
                    </a:lnTo>
                    <a:lnTo>
                      <a:pt x="405" y="417"/>
                    </a:lnTo>
                    <a:lnTo>
                      <a:pt x="428" y="417"/>
                    </a:lnTo>
                    <a:lnTo>
                      <a:pt x="451" y="417"/>
                    </a:lnTo>
                    <a:lnTo>
                      <a:pt x="474" y="417"/>
                    </a:lnTo>
                    <a:lnTo>
                      <a:pt x="497" y="417"/>
                    </a:lnTo>
                    <a:lnTo>
                      <a:pt x="520" y="417"/>
                    </a:lnTo>
                    <a:lnTo>
                      <a:pt x="543" y="417"/>
                    </a:lnTo>
                    <a:lnTo>
                      <a:pt x="566" y="417"/>
                    </a:lnTo>
                    <a:lnTo>
                      <a:pt x="589" y="417"/>
                    </a:lnTo>
                    <a:lnTo>
                      <a:pt x="620" y="417"/>
                    </a:lnTo>
                    <a:lnTo>
                      <a:pt x="643" y="417"/>
                    </a:lnTo>
                    <a:lnTo>
                      <a:pt x="666" y="417"/>
                    </a:lnTo>
                    <a:lnTo>
                      <a:pt x="689" y="417"/>
                    </a:lnTo>
                    <a:lnTo>
                      <a:pt x="712" y="417"/>
                    </a:lnTo>
                    <a:lnTo>
                      <a:pt x="735" y="417"/>
                    </a:lnTo>
                    <a:lnTo>
                      <a:pt x="758" y="333"/>
                    </a:lnTo>
                    <a:lnTo>
                      <a:pt x="781" y="333"/>
                    </a:lnTo>
                    <a:lnTo>
                      <a:pt x="804" y="333"/>
                    </a:lnTo>
                    <a:lnTo>
                      <a:pt x="827" y="333"/>
                    </a:lnTo>
                    <a:lnTo>
                      <a:pt x="850" y="333"/>
                    </a:lnTo>
                    <a:lnTo>
                      <a:pt x="880" y="333"/>
                    </a:lnTo>
                    <a:lnTo>
                      <a:pt x="903" y="333"/>
                    </a:lnTo>
                    <a:lnTo>
                      <a:pt x="926" y="333"/>
                    </a:lnTo>
                    <a:lnTo>
                      <a:pt x="949" y="333"/>
                    </a:lnTo>
                    <a:lnTo>
                      <a:pt x="972" y="333"/>
                    </a:lnTo>
                    <a:lnTo>
                      <a:pt x="995" y="333"/>
                    </a:lnTo>
                    <a:lnTo>
                      <a:pt x="1018" y="333"/>
                    </a:lnTo>
                    <a:lnTo>
                      <a:pt x="1041" y="333"/>
                    </a:lnTo>
                    <a:lnTo>
                      <a:pt x="1064" y="333"/>
                    </a:lnTo>
                    <a:lnTo>
                      <a:pt x="1087" y="333"/>
                    </a:lnTo>
                    <a:lnTo>
                      <a:pt x="1110" y="333"/>
                    </a:lnTo>
                    <a:lnTo>
                      <a:pt x="1141" y="239"/>
                    </a:lnTo>
                    <a:lnTo>
                      <a:pt x="1164" y="239"/>
                    </a:lnTo>
                    <a:lnTo>
                      <a:pt x="1187" y="239"/>
                    </a:lnTo>
                    <a:lnTo>
                      <a:pt x="1210" y="239"/>
                    </a:lnTo>
                    <a:lnTo>
                      <a:pt x="1233" y="239"/>
                    </a:lnTo>
                    <a:lnTo>
                      <a:pt x="1256" y="239"/>
                    </a:lnTo>
                    <a:lnTo>
                      <a:pt x="1279" y="239"/>
                    </a:lnTo>
                    <a:lnTo>
                      <a:pt x="1302" y="239"/>
                    </a:lnTo>
                    <a:lnTo>
                      <a:pt x="1324" y="239"/>
                    </a:lnTo>
                    <a:lnTo>
                      <a:pt x="1347" y="239"/>
                    </a:lnTo>
                    <a:lnTo>
                      <a:pt x="1370" y="239"/>
                    </a:lnTo>
                    <a:lnTo>
                      <a:pt x="1401" y="239"/>
                    </a:lnTo>
                    <a:lnTo>
                      <a:pt x="1424" y="239"/>
                    </a:lnTo>
                    <a:lnTo>
                      <a:pt x="1449" y="239"/>
                    </a:lnTo>
                    <a:lnTo>
                      <a:pt x="1472" y="239"/>
                    </a:lnTo>
                    <a:lnTo>
                      <a:pt x="1495" y="239"/>
                    </a:lnTo>
                    <a:lnTo>
                      <a:pt x="1518" y="281"/>
                    </a:lnTo>
                    <a:lnTo>
                      <a:pt x="1541" y="281"/>
                    </a:lnTo>
                    <a:lnTo>
                      <a:pt x="1564" y="281"/>
                    </a:lnTo>
                    <a:lnTo>
                      <a:pt x="1587" y="281"/>
                    </a:lnTo>
                    <a:lnTo>
                      <a:pt x="1610" y="281"/>
                    </a:lnTo>
                    <a:lnTo>
                      <a:pt x="1640" y="281"/>
                    </a:lnTo>
                    <a:lnTo>
                      <a:pt x="1663" y="281"/>
                    </a:lnTo>
                    <a:lnTo>
                      <a:pt x="1686" y="281"/>
                    </a:lnTo>
                    <a:lnTo>
                      <a:pt x="1709" y="281"/>
                    </a:lnTo>
                    <a:lnTo>
                      <a:pt x="1732" y="281"/>
                    </a:lnTo>
                    <a:lnTo>
                      <a:pt x="1755" y="281"/>
                    </a:lnTo>
                    <a:lnTo>
                      <a:pt x="1778" y="281"/>
                    </a:lnTo>
                    <a:lnTo>
                      <a:pt x="1801" y="281"/>
                    </a:lnTo>
                    <a:lnTo>
                      <a:pt x="1824" y="281"/>
                    </a:lnTo>
                    <a:lnTo>
                      <a:pt x="1847" y="281"/>
                    </a:lnTo>
                    <a:lnTo>
                      <a:pt x="1870" y="281"/>
                    </a:lnTo>
                    <a:lnTo>
                      <a:pt x="1901" y="170"/>
                    </a:lnTo>
                    <a:lnTo>
                      <a:pt x="1924" y="170"/>
                    </a:lnTo>
                    <a:lnTo>
                      <a:pt x="1947" y="170"/>
                    </a:lnTo>
                    <a:lnTo>
                      <a:pt x="1970" y="170"/>
                    </a:lnTo>
                    <a:lnTo>
                      <a:pt x="1993" y="170"/>
                    </a:lnTo>
                    <a:lnTo>
                      <a:pt x="2016" y="170"/>
                    </a:lnTo>
                    <a:lnTo>
                      <a:pt x="2039" y="170"/>
                    </a:lnTo>
                    <a:lnTo>
                      <a:pt x="2062" y="170"/>
                    </a:lnTo>
                    <a:lnTo>
                      <a:pt x="2085" y="170"/>
                    </a:lnTo>
                    <a:lnTo>
                      <a:pt x="2108" y="170"/>
                    </a:lnTo>
                    <a:lnTo>
                      <a:pt x="2131" y="170"/>
                    </a:lnTo>
                    <a:lnTo>
                      <a:pt x="2161" y="170"/>
                    </a:lnTo>
                    <a:lnTo>
                      <a:pt x="2184" y="170"/>
                    </a:lnTo>
                    <a:lnTo>
                      <a:pt x="2207" y="170"/>
                    </a:lnTo>
                    <a:lnTo>
                      <a:pt x="2230" y="170"/>
                    </a:lnTo>
                    <a:lnTo>
                      <a:pt x="2253" y="170"/>
                    </a:lnTo>
                    <a:lnTo>
                      <a:pt x="2276" y="0"/>
                    </a:lnTo>
                    <a:lnTo>
                      <a:pt x="2299" y="0"/>
                    </a:lnTo>
                    <a:lnTo>
                      <a:pt x="2322" y="0"/>
                    </a:lnTo>
                    <a:lnTo>
                      <a:pt x="2345" y="0"/>
                    </a:lnTo>
                    <a:lnTo>
                      <a:pt x="2368" y="0"/>
                    </a:lnTo>
                    <a:lnTo>
                      <a:pt x="2391" y="0"/>
                    </a:lnTo>
                    <a:lnTo>
                      <a:pt x="2422" y="0"/>
                    </a:lnTo>
                    <a:lnTo>
                      <a:pt x="2445" y="0"/>
                    </a:lnTo>
                    <a:lnTo>
                      <a:pt x="2467" y="0"/>
                    </a:lnTo>
                    <a:lnTo>
                      <a:pt x="2490" y="0"/>
                    </a:lnTo>
                    <a:lnTo>
                      <a:pt x="2513" y="0"/>
                    </a:lnTo>
                    <a:lnTo>
                      <a:pt x="2536" y="0"/>
                    </a:lnTo>
                    <a:lnTo>
                      <a:pt x="2559" y="0"/>
                    </a:lnTo>
                    <a:lnTo>
                      <a:pt x="2582" y="0"/>
                    </a:lnTo>
                    <a:lnTo>
                      <a:pt x="2605" y="0"/>
                    </a:lnTo>
                    <a:lnTo>
                      <a:pt x="2628" y="0"/>
                    </a:lnTo>
                    <a:lnTo>
                      <a:pt x="2651" y="120"/>
                    </a:lnTo>
                    <a:lnTo>
                      <a:pt x="2682" y="120"/>
                    </a:lnTo>
                    <a:lnTo>
                      <a:pt x="2705" y="120"/>
                    </a:lnTo>
                    <a:lnTo>
                      <a:pt x="2728" y="120"/>
                    </a:lnTo>
                    <a:lnTo>
                      <a:pt x="2751" y="120"/>
                    </a:lnTo>
                    <a:lnTo>
                      <a:pt x="2774" y="120"/>
                    </a:lnTo>
                    <a:lnTo>
                      <a:pt x="2797" y="120"/>
                    </a:lnTo>
                    <a:lnTo>
                      <a:pt x="2820" y="120"/>
                    </a:lnTo>
                    <a:lnTo>
                      <a:pt x="2843" y="120"/>
                    </a:lnTo>
                    <a:lnTo>
                      <a:pt x="2866" y="120"/>
                    </a:lnTo>
                    <a:lnTo>
                      <a:pt x="2889" y="120"/>
                    </a:lnTo>
                    <a:lnTo>
                      <a:pt x="2919" y="120"/>
                    </a:lnTo>
                    <a:lnTo>
                      <a:pt x="2942" y="120"/>
                    </a:lnTo>
                    <a:lnTo>
                      <a:pt x="2965" y="120"/>
                    </a:lnTo>
                    <a:lnTo>
                      <a:pt x="2988" y="120"/>
                    </a:lnTo>
                    <a:lnTo>
                      <a:pt x="3009" y="12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6454800" y="4501440"/>
                <a:ext cx="69120" cy="52560"/>
              </a:xfrm>
              <a:prstGeom prst="rect">
                <a:avLst/>
              </a:prstGeom>
              <a:no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2" name=""/>
              <p:cNvSpPr/>
              <p:nvPr/>
            </p:nvSpPr>
            <p:spPr>
              <a:xfrm>
                <a:off x="6454800" y="4659840"/>
                <a:ext cx="69120" cy="52200"/>
              </a:xfrm>
              <a:prstGeom prst="rect">
                <a:avLst/>
              </a:prstGeom>
              <a:no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783" name=""/>
              <p:cNvGrpSpPr/>
              <p:nvPr/>
            </p:nvGrpSpPr>
            <p:grpSpPr>
              <a:xfrm>
                <a:off x="5413680" y="5005440"/>
                <a:ext cx="995400" cy="64080"/>
                <a:chOff x="5413680" y="5005440"/>
                <a:chExt cx="995400" cy="64080"/>
              </a:xfrm>
            </p:grpSpPr>
            <p:sp>
              <p:nvSpPr>
                <p:cNvPr id="784" name=""/>
                <p:cNvSpPr/>
                <p:nvPr/>
              </p:nvSpPr>
              <p:spPr>
                <a:xfrm flipV="1">
                  <a:off x="5413680" y="5005440"/>
                  <a:ext cx="1080" cy="63360"/>
                </a:xfrm>
                <a:prstGeom prst="line">
                  <a:avLst/>
                </a:prstGeom>
                <a:ln w="14400">
                  <a:solidFill>
                    <a:srgbClr val="333333"/>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5" name=""/>
                <p:cNvSpPr/>
                <p:nvPr/>
              </p:nvSpPr>
              <p:spPr>
                <a:xfrm>
                  <a:off x="5413680" y="5005440"/>
                  <a:ext cx="124200" cy="720"/>
                </a:xfrm>
                <a:prstGeom prst="line">
                  <a:avLst/>
                </a:prstGeom>
                <a:ln w="14400">
                  <a:solidFill>
                    <a:srgbClr val="333333"/>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86" name=""/>
                <p:cNvSpPr/>
                <p:nvPr/>
              </p:nvSpPr>
              <p:spPr>
                <a:xfrm>
                  <a:off x="5537880" y="5005440"/>
                  <a:ext cx="1080" cy="63360"/>
                </a:xfrm>
                <a:prstGeom prst="line">
                  <a:avLst/>
                </a:prstGeom>
                <a:ln w="14400">
                  <a:solidFill>
                    <a:srgbClr val="333333"/>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7" name=""/>
                <p:cNvSpPr/>
                <p:nvPr/>
              </p:nvSpPr>
              <p:spPr>
                <a:xfrm>
                  <a:off x="5537880" y="5068800"/>
                  <a:ext cx="871200" cy="720"/>
                </a:xfrm>
                <a:prstGeom prst="line">
                  <a:avLst/>
                </a:prstGeom>
                <a:ln w="14400">
                  <a:solidFill>
                    <a:srgbClr val="333333"/>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788" name=""/>
              <p:cNvGrpSpPr/>
              <p:nvPr/>
            </p:nvGrpSpPr>
            <p:grpSpPr>
              <a:xfrm>
                <a:off x="5413680" y="5188320"/>
                <a:ext cx="995400" cy="66240"/>
                <a:chOff x="5413680" y="5188320"/>
                <a:chExt cx="995400" cy="66240"/>
              </a:xfrm>
            </p:grpSpPr>
            <p:grpSp>
              <p:nvGrpSpPr>
                <p:cNvPr id="789" name=""/>
                <p:cNvGrpSpPr/>
                <p:nvPr/>
              </p:nvGrpSpPr>
              <p:grpSpPr>
                <a:xfrm>
                  <a:off x="5413680" y="5188320"/>
                  <a:ext cx="249480" cy="66240"/>
                  <a:chOff x="5413680" y="5188320"/>
                  <a:chExt cx="249480" cy="66240"/>
                </a:xfrm>
              </p:grpSpPr>
              <p:sp>
                <p:nvSpPr>
                  <p:cNvPr id="790" name=""/>
                  <p:cNvSpPr/>
                  <p:nvPr/>
                </p:nvSpPr>
                <p:spPr>
                  <a:xfrm>
                    <a:off x="5413680" y="5253840"/>
                    <a:ext cx="124200" cy="720"/>
                  </a:xfrm>
                  <a:prstGeom prst="line">
                    <a:avLst/>
                  </a:prstGeom>
                  <a:ln w="14400">
                    <a:solidFill>
                      <a:srgbClr val="333333"/>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91" name=""/>
                  <p:cNvSpPr/>
                  <p:nvPr/>
                </p:nvSpPr>
                <p:spPr>
                  <a:xfrm flipV="1">
                    <a:off x="5537880" y="5188320"/>
                    <a:ext cx="1080" cy="65520"/>
                  </a:xfrm>
                  <a:prstGeom prst="line">
                    <a:avLst/>
                  </a:prstGeom>
                  <a:ln w="14400">
                    <a:solidFill>
                      <a:srgbClr val="333333"/>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92" name=""/>
                  <p:cNvSpPr/>
                  <p:nvPr/>
                </p:nvSpPr>
                <p:spPr>
                  <a:xfrm>
                    <a:off x="5537880" y="5188320"/>
                    <a:ext cx="124200" cy="1800"/>
                  </a:xfrm>
                  <a:prstGeom prst="line">
                    <a:avLst/>
                  </a:prstGeom>
                  <a:ln w="14400">
                    <a:solidFill>
                      <a:srgbClr val="33333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3" name=""/>
                  <p:cNvSpPr/>
                  <p:nvPr/>
                </p:nvSpPr>
                <p:spPr>
                  <a:xfrm>
                    <a:off x="5662080" y="5188320"/>
                    <a:ext cx="1080" cy="65520"/>
                  </a:xfrm>
                  <a:prstGeom prst="line">
                    <a:avLst/>
                  </a:prstGeom>
                  <a:ln w="14400">
                    <a:solidFill>
                      <a:srgbClr val="333333"/>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794" name=""/>
                <p:cNvSpPr/>
                <p:nvPr/>
              </p:nvSpPr>
              <p:spPr>
                <a:xfrm>
                  <a:off x="5662080" y="5253840"/>
                  <a:ext cx="747000" cy="720"/>
                </a:xfrm>
                <a:prstGeom prst="line">
                  <a:avLst/>
                </a:prstGeom>
                <a:ln w="14400">
                  <a:solidFill>
                    <a:srgbClr val="333333"/>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795" name=""/>
              <p:cNvGrpSpPr/>
              <p:nvPr/>
            </p:nvGrpSpPr>
            <p:grpSpPr>
              <a:xfrm>
                <a:off x="5413680" y="5371560"/>
                <a:ext cx="995760" cy="68040"/>
                <a:chOff x="5413680" y="5371560"/>
                <a:chExt cx="995760" cy="68040"/>
              </a:xfrm>
            </p:grpSpPr>
            <p:sp>
              <p:nvSpPr>
                <p:cNvPr id="796" name=""/>
                <p:cNvSpPr/>
                <p:nvPr/>
              </p:nvSpPr>
              <p:spPr>
                <a:xfrm>
                  <a:off x="5413680" y="5438520"/>
                  <a:ext cx="248400" cy="1080"/>
                </a:xfrm>
                <a:prstGeom prst="line">
                  <a:avLst/>
                </a:prstGeom>
                <a:ln w="14400">
                  <a:solidFill>
                    <a:srgbClr val="333333"/>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7" name=""/>
                <p:cNvSpPr/>
                <p:nvPr/>
              </p:nvSpPr>
              <p:spPr>
                <a:xfrm flipV="1">
                  <a:off x="5662080" y="5371560"/>
                  <a:ext cx="1080" cy="66600"/>
                </a:xfrm>
                <a:prstGeom prst="line">
                  <a:avLst/>
                </a:prstGeom>
                <a:ln w="14400">
                  <a:solidFill>
                    <a:srgbClr val="333333"/>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a:off x="5662080" y="5371920"/>
                  <a:ext cx="124200" cy="1800"/>
                </a:xfrm>
                <a:prstGeom prst="line">
                  <a:avLst/>
                </a:prstGeom>
                <a:ln w="14400">
                  <a:solidFill>
                    <a:srgbClr val="33333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9" name=""/>
                <p:cNvSpPr/>
                <p:nvPr/>
              </p:nvSpPr>
              <p:spPr>
                <a:xfrm>
                  <a:off x="5786640" y="5371920"/>
                  <a:ext cx="1080" cy="66600"/>
                </a:xfrm>
                <a:prstGeom prst="line">
                  <a:avLst/>
                </a:prstGeom>
                <a:ln w="14400">
                  <a:solidFill>
                    <a:srgbClr val="333333"/>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0" name=""/>
                <p:cNvSpPr/>
                <p:nvPr/>
              </p:nvSpPr>
              <p:spPr>
                <a:xfrm>
                  <a:off x="5786640" y="5438520"/>
                  <a:ext cx="622800" cy="1080"/>
                </a:xfrm>
                <a:prstGeom prst="line">
                  <a:avLst/>
                </a:prstGeom>
                <a:ln w="14400">
                  <a:solidFill>
                    <a:srgbClr val="333333"/>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801" name=""/>
              <p:cNvGrpSpPr/>
              <p:nvPr/>
            </p:nvGrpSpPr>
            <p:grpSpPr>
              <a:xfrm>
                <a:off x="5413680" y="5556600"/>
                <a:ext cx="995400" cy="68040"/>
                <a:chOff x="5413680" y="5556600"/>
                <a:chExt cx="995400" cy="68040"/>
              </a:xfrm>
            </p:grpSpPr>
            <p:sp>
              <p:nvSpPr>
                <p:cNvPr id="802" name=""/>
                <p:cNvSpPr/>
                <p:nvPr/>
              </p:nvSpPr>
              <p:spPr>
                <a:xfrm>
                  <a:off x="5413680" y="5623560"/>
                  <a:ext cx="372960" cy="1080"/>
                </a:xfrm>
                <a:prstGeom prst="line">
                  <a:avLst/>
                </a:prstGeom>
                <a:ln w="14400">
                  <a:solidFill>
                    <a:srgbClr val="333333"/>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3" name=""/>
                <p:cNvSpPr/>
                <p:nvPr/>
              </p:nvSpPr>
              <p:spPr>
                <a:xfrm flipV="1">
                  <a:off x="5786640" y="5556600"/>
                  <a:ext cx="1080" cy="66600"/>
                </a:xfrm>
                <a:prstGeom prst="line">
                  <a:avLst/>
                </a:prstGeom>
                <a:ln w="14400">
                  <a:solidFill>
                    <a:srgbClr val="333333"/>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4" name=""/>
                <p:cNvSpPr/>
                <p:nvPr/>
              </p:nvSpPr>
              <p:spPr>
                <a:xfrm>
                  <a:off x="5786640" y="5556960"/>
                  <a:ext cx="125280" cy="1800"/>
                </a:xfrm>
                <a:prstGeom prst="line">
                  <a:avLst/>
                </a:prstGeom>
                <a:ln w="14400">
                  <a:solidFill>
                    <a:srgbClr val="33333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5" name=""/>
                <p:cNvSpPr/>
                <p:nvPr/>
              </p:nvSpPr>
              <p:spPr>
                <a:xfrm>
                  <a:off x="5911920" y="5556960"/>
                  <a:ext cx="0" cy="66600"/>
                </a:xfrm>
                <a:prstGeom prst="line">
                  <a:avLst/>
                </a:prstGeom>
                <a:ln w="14400">
                  <a:solidFill>
                    <a:srgbClr val="333333"/>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6" name=""/>
                <p:cNvSpPr/>
                <p:nvPr/>
              </p:nvSpPr>
              <p:spPr>
                <a:xfrm>
                  <a:off x="5911920" y="5623560"/>
                  <a:ext cx="497160" cy="1080"/>
                </a:xfrm>
                <a:prstGeom prst="line">
                  <a:avLst/>
                </a:prstGeom>
                <a:ln w="14400">
                  <a:solidFill>
                    <a:srgbClr val="333333"/>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807" name=""/>
              <p:cNvGrpSpPr/>
              <p:nvPr/>
            </p:nvGrpSpPr>
            <p:grpSpPr>
              <a:xfrm>
                <a:off x="5413680" y="6296040"/>
                <a:ext cx="996840" cy="66600"/>
                <a:chOff x="5413680" y="6296040"/>
                <a:chExt cx="996840" cy="66600"/>
              </a:xfrm>
            </p:grpSpPr>
            <p:sp>
              <p:nvSpPr>
                <p:cNvPr id="808" name=""/>
                <p:cNvSpPr/>
                <p:nvPr/>
              </p:nvSpPr>
              <p:spPr>
                <a:xfrm flipV="1">
                  <a:off x="6409800" y="6296040"/>
                  <a:ext cx="720" cy="65520"/>
                </a:xfrm>
                <a:prstGeom prst="line">
                  <a:avLst/>
                </a:prstGeom>
                <a:ln w="14400">
                  <a:solidFill>
                    <a:srgbClr val="333333"/>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09" name=""/>
                <p:cNvSpPr/>
                <p:nvPr/>
              </p:nvSpPr>
              <p:spPr>
                <a:xfrm>
                  <a:off x="6284880" y="6296040"/>
                  <a:ext cx="124560" cy="1440"/>
                </a:xfrm>
                <a:prstGeom prst="line">
                  <a:avLst/>
                </a:prstGeom>
                <a:ln w="14400">
                  <a:solidFill>
                    <a:srgbClr val="3333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0" name=""/>
                <p:cNvSpPr/>
                <p:nvPr/>
              </p:nvSpPr>
              <p:spPr>
                <a:xfrm>
                  <a:off x="6284880" y="6296040"/>
                  <a:ext cx="360" cy="65520"/>
                </a:xfrm>
                <a:prstGeom prst="line">
                  <a:avLst/>
                </a:prstGeom>
                <a:ln w="14400">
                  <a:solidFill>
                    <a:srgbClr val="333333"/>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11" name=""/>
                <p:cNvSpPr/>
                <p:nvPr/>
              </p:nvSpPr>
              <p:spPr>
                <a:xfrm>
                  <a:off x="5413680" y="6361560"/>
                  <a:ext cx="871200" cy="1080"/>
                </a:xfrm>
                <a:prstGeom prst="line">
                  <a:avLst/>
                </a:prstGeom>
                <a:ln w="14400">
                  <a:solidFill>
                    <a:srgbClr val="333333"/>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812" name=""/>
              <p:cNvGrpSpPr/>
              <p:nvPr/>
            </p:nvGrpSpPr>
            <p:grpSpPr>
              <a:xfrm>
                <a:off x="5413680" y="6111000"/>
                <a:ext cx="995400" cy="65160"/>
                <a:chOff x="5413680" y="6111000"/>
                <a:chExt cx="995400" cy="65160"/>
              </a:xfrm>
            </p:grpSpPr>
            <p:sp>
              <p:nvSpPr>
                <p:cNvPr id="813" name=""/>
                <p:cNvSpPr/>
                <p:nvPr/>
              </p:nvSpPr>
              <p:spPr>
                <a:xfrm>
                  <a:off x="6284520" y="6175080"/>
                  <a:ext cx="124560" cy="1080"/>
                </a:xfrm>
                <a:prstGeom prst="line">
                  <a:avLst/>
                </a:prstGeom>
                <a:ln w="14400">
                  <a:solidFill>
                    <a:srgbClr val="333333"/>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4" name=""/>
                <p:cNvSpPr/>
                <p:nvPr/>
              </p:nvSpPr>
              <p:spPr>
                <a:xfrm flipV="1">
                  <a:off x="6284520" y="6111000"/>
                  <a:ext cx="360" cy="64080"/>
                </a:xfrm>
                <a:prstGeom prst="line">
                  <a:avLst/>
                </a:prstGeom>
                <a:ln w="14400">
                  <a:solidFill>
                    <a:srgbClr val="333333"/>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15" name=""/>
                <p:cNvSpPr/>
                <p:nvPr/>
              </p:nvSpPr>
              <p:spPr>
                <a:xfrm>
                  <a:off x="6161040" y="6111000"/>
                  <a:ext cx="123480" cy="1080"/>
                </a:xfrm>
                <a:prstGeom prst="line">
                  <a:avLst/>
                </a:prstGeom>
                <a:ln w="14400">
                  <a:solidFill>
                    <a:srgbClr val="333333"/>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6" name=""/>
                <p:cNvSpPr/>
                <p:nvPr/>
              </p:nvSpPr>
              <p:spPr>
                <a:xfrm>
                  <a:off x="6161040" y="6111000"/>
                  <a:ext cx="360" cy="64080"/>
                </a:xfrm>
                <a:prstGeom prst="line">
                  <a:avLst/>
                </a:prstGeom>
                <a:ln w="14400">
                  <a:solidFill>
                    <a:srgbClr val="333333"/>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17" name=""/>
                <p:cNvSpPr/>
                <p:nvPr/>
              </p:nvSpPr>
              <p:spPr>
                <a:xfrm>
                  <a:off x="5413680" y="6175080"/>
                  <a:ext cx="747360" cy="1080"/>
                </a:xfrm>
                <a:prstGeom prst="line">
                  <a:avLst/>
                </a:prstGeom>
                <a:ln w="14400">
                  <a:solidFill>
                    <a:srgbClr val="333333"/>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818" name=""/>
              <p:cNvGrpSpPr/>
              <p:nvPr/>
            </p:nvGrpSpPr>
            <p:grpSpPr>
              <a:xfrm>
                <a:off x="5413680" y="5927760"/>
                <a:ext cx="995760" cy="65520"/>
                <a:chOff x="5413680" y="5927760"/>
                <a:chExt cx="995760" cy="65520"/>
              </a:xfrm>
            </p:grpSpPr>
            <p:sp>
              <p:nvSpPr>
                <p:cNvPr id="819" name=""/>
                <p:cNvSpPr/>
                <p:nvPr/>
              </p:nvSpPr>
              <p:spPr>
                <a:xfrm>
                  <a:off x="6161040" y="5991840"/>
                  <a:ext cx="248400" cy="1440"/>
                </a:xfrm>
                <a:prstGeom prst="line">
                  <a:avLst/>
                </a:prstGeom>
                <a:ln w="14400">
                  <a:solidFill>
                    <a:srgbClr val="3333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flipV="1">
                  <a:off x="6161040" y="5927760"/>
                  <a:ext cx="360" cy="63720"/>
                </a:xfrm>
                <a:prstGeom prst="line">
                  <a:avLst/>
                </a:prstGeom>
                <a:ln w="14400">
                  <a:solidFill>
                    <a:srgbClr val="333333"/>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1" name=""/>
                <p:cNvSpPr/>
                <p:nvPr/>
              </p:nvSpPr>
              <p:spPr>
                <a:xfrm>
                  <a:off x="6035760" y="5928120"/>
                  <a:ext cx="124920" cy="1080"/>
                </a:xfrm>
                <a:prstGeom prst="line">
                  <a:avLst/>
                </a:prstGeom>
                <a:ln w="14400">
                  <a:solidFill>
                    <a:srgbClr val="333333"/>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2" name=""/>
                <p:cNvSpPr/>
                <p:nvPr/>
              </p:nvSpPr>
              <p:spPr>
                <a:xfrm>
                  <a:off x="6035760" y="5928120"/>
                  <a:ext cx="360" cy="63720"/>
                </a:xfrm>
                <a:prstGeom prst="line">
                  <a:avLst/>
                </a:prstGeom>
                <a:ln w="14400">
                  <a:solidFill>
                    <a:srgbClr val="333333"/>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3" name=""/>
                <p:cNvSpPr/>
                <p:nvPr/>
              </p:nvSpPr>
              <p:spPr>
                <a:xfrm>
                  <a:off x="5413680" y="5991840"/>
                  <a:ext cx="622080" cy="1440"/>
                </a:xfrm>
                <a:prstGeom prst="line">
                  <a:avLst/>
                </a:prstGeom>
                <a:ln w="14400">
                  <a:solidFill>
                    <a:srgbClr val="3333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824" name=""/>
              <p:cNvGrpSpPr/>
              <p:nvPr/>
            </p:nvGrpSpPr>
            <p:grpSpPr>
              <a:xfrm>
                <a:off x="5413680" y="5743080"/>
                <a:ext cx="995400" cy="67320"/>
                <a:chOff x="5413680" y="5743080"/>
                <a:chExt cx="995400" cy="67320"/>
              </a:xfrm>
            </p:grpSpPr>
            <p:sp>
              <p:nvSpPr>
                <p:cNvPr id="825" name=""/>
                <p:cNvSpPr/>
                <p:nvPr/>
              </p:nvSpPr>
              <p:spPr>
                <a:xfrm>
                  <a:off x="6035760" y="5809320"/>
                  <a:ext cx="373320" cy="1080"/>
                </a:xfrm>
                <a:prstGeom prst="line">
                  <a:avLst/>
                </a:prstGeom>
                <a:ln w="14400">
                  <a:solidFill>
                    <a:srgbClr val="333333"/>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6" name=""/>
                <p:cNvSpPr/>
                <p:nvPr/>
              </p:nvSpPr>
              <p:spPr>
                <a:xfrm flipV="1">
                  <a:off x="6035760" y="5743080"/>
                  <a:ext cx="360" cy="66240"/>
                </a:xfrm>
                <a:prstGeom prst="line">
                  <a:avLst/>
                </a:prstGeom>
                <a:ln w="14400">
                  <a:solidFill>
                    <a:srgbClr val="333333"/>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7" name=""/>
                <p:cNvSpPr/>
                <p:nvPr/>
              </p:nvSpPr>
              <p:spPr>
                <a:xfrm>
                  <a:off x="5911560" y="5743080"/>
                  <a:ext cx="124200" cy="1440"/>
                </a:xfrm>
                <a:prstGeom prst="line">
                  <a:avLst/>
                </a:prstGeom>
                <a:ln w="14400">
                  <a:solidFill>
                    <a:srgbClr val="3333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a:off x="5911560" y="5743080"/>
                  <a:ext cx="720" cy="66240"/>
                </a:xfrm>
                <a:prstGeom prst="line">
                  <a:avLst/>
                </a:prstGeom>
                <a:ln w="14400">
                  <a:solidFill>
                    <a:srgbClr val="333333"/>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9" name=""/>
                <p:cNvSpPr/>
                <p:nvPr/>
              </p:nvSpPr>
              <p:spPr>
                <a:xfrm>
                  <a:off x="5413680" y="5809320"/>
                  <a:ext cx="497880" cy="1080"/>
                </a:xfrm>
                <a:prstGeom prst="line">
                  <a:avLst/>
                </a:prstGeom>
                <a:ln w="14400">
                  <a:solidFill>
                    <a:srgbClr val="333333"/>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830" name=""/>
              <p:cNvSpPr/>
              <p:nvPr/>
            </p:nvSpPr>
            <p:spPr>
              <a:xfrm>
                <a:off x="4074120" y="4914000"/>
                <a:ext cx="1162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31" name=""/>
              <p:cNvSpPr/>
              <p:nvPr/>
            </p:nvSpPr>
            <p:spPr>
              <a:xfrm flipV="1">
                <a:off x="4074120" y="4476600"/>
                <a:ext cx="0" cy="43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flipV="1">
                <a:off x="4074120" y="4903920"/>
                <a:ext cx="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3" name=""/>
              <p:cNvSpPr/>
              <p:nvPr/>
            </p:nvSpPr>
            <p:spPr>
              <a:xfrm>
                <a:off x="4065480" y="4926240"/>
                <a:ext cx="53640" cy="47520"/>
              </a:xfrm>
              <a:prstGeom prst="rect">
                <a:avLst/>
              </a:pr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4" name=""/>
              <p:cNvSpPr/>
              <p:nvPr/>
            </p:nvSpPr>
            <p:spPr>
              <a:xfrm>
                <a:off x="4068360" y="49240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835" name=""/>
              <p:cNvSpPr/>
              <p:nvPr/>
            </p:nvSpPr>
            <p:spPr>
              <a:xfrm flipV="1">
                <a:off x="4239720" y="4903920"/>
                <a:ext cx="108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6" name=""/>
              <p:cNvSpPr/>
              <p:nvPr/>
            </p:nvSpPr>
            <p:spPr>
              <a:xfrm>
                <a:off x="4221720" y="4926240"/>
                <a:ext cx="81360" cy="47520"/>
              </a:xfrm>
              <a:prstGeom prst="rect">
                <a:avLst/>
              </a:pr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7" name=""/>
              <p:cNvSpPr/>
              <p:nvPr/>
            </p:nvSpPr>
            <p:spPr>
              <a:xfrm>
                <a:off x="4223160" y="49240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a:t>
                </a:r>
                <a:endParaRPr b="0" lang="en-US" sz="700" spc="-1" strike="noStrike">
                  <a:solidFill>
                    <a:srgbClr val="000000"/>
                  </a:solidFill>
                  <a:latin typeface="Times New Roman"/>
                </a:endParaRPr>
              </a:p>
            </p:txBody>
          </p:sp>
          <p:sp>
            <p:nvSpPr>
              <p:cNvPr id="838" name=""/>
              <p:cNvSpPr/>
              <p:nvPr/>
            </p:nvSpPr>
            <p:spPr>
              <a:xfrm flipV="1">
                <a:off x="4406760" y="4903920"/>
                <a:ext cx="144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9" name=""/>
              <p:cNvSpPr/>
              <p:nvPr/>
            </p:nvSpPr>
            <p:spPr>
              <a:xfrm>
                <a:off x="4387680" y="4926240"/>
                <a:ext cx="82440" cy="47520"/>
              </a:xfrm>
              <a:prstGeom prst="rect">
                <a:avLst/>
              </a:pr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0" name=""/>
              <p:cNvSpPr/>
              <p:nvPr/>
            </p:nvSpPr>
            <p:spPr>
              <a:xfrm>
                <a:off x="4388760" y="49240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0</a:t>
                </a:r>
                <a:endParaRPr b="0" lang="en-US" sz="700" spc="-1" strike="noStrike">
                  <a:solidFill>
                    <a:srgbClr val="000000"/>
                  </a:solidFill>
                  <a:latin typeface="Times New Roman"/>
                </a:endParaRPr>
              </a:p>
            </p:txBody>
          </p:sp>
          <p:sp>
            <p:nvSpPr>
              <p:cNvPr id="841" name=""/>
              <p:cNvSpPr/>
              <p:nvPr/>
            </p:nvSpPr>
            <p:spPr>
              <a:xfrm flipV="1">
                <a:off x="4572720" y="4903920"/>
                <a:ext cx="108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2" name=""/>
              <p:cNvSpPr/>
              <p:nvPr/>
            </p:nvSpPr>
            <p:spPr>
              <a:xfrm>
                <a:off x="4554360" y="4926240"/>
                <a:ext cx="79920" cy="47520"/>
              </a:xfrm>
              <a:prstGeom prst="rect">
                <a:avLst/>
              </a:pr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3" name=""/>
              <p:cNvSpPr/>
              <p:nvPr/>
            </p:nvSpPr>
            <p:spPr>
              <a:xfrm>
                <a:off x="4557600" y="49240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0</a:t>
                </a:r>
                <a:endParaRPr b="0" lang="en-US" sz="700" spc="-1" strike="noStrike">
                  <a:solidFill>
                    <a:srgbClr val="000000"/>
                  </a:solidFill>
                  <a:latin typeface="Times New Roman"/>
                </a:endParaRPr>
              </a:p>
            </p:txBody>
          </p:sp>
          <p:sp>
            <p:nvSpPr>
              <p:cNvPr id="844" name=""/>
              <p:cNvSpPr/>
              <p:nvPr/>
            </p:nvSpPr>
            <p:spPr>
              <a:xfrm flipV="1">
                <a:off x="4736880" y="4903920"/>
                <a:ext cx="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5" name=""/>
              <p:cNvSpPr/>
              <p:nvPr/>
            </p:nvSpPr>
            <p:spPr>
              <a:xfrm>
                <a:off x="4718880" y="4926240"/>
                <a:ext cx="79920" cy="47520"/>
              </a:xfrm>
              <a:prstGeom prst="rect">
                <a:avLst/>
              </a:pr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6" name=""/>
              <p:cNvSpPr/>
              <p:nvPr/>
            </p:nvSpPr>
            <p:spPr>
              <a:xfrm>
                <a:off x="4718880" y="49240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0</a:t>
                </a:r>
                <a:endParaRPr b="0" lang="en-US" sz="700" spc="-1" strike="noStrike">
                  <a:solidFill>
                    <a:srgbClr val="000000"/>
                  </a:solidFill>
                  <a:latin typeface="Times New Roman"/>
                </a:endParaRPr>
              </a:p>
            </p:txBody>
          </p:sp>
          <p:sp>
            <p:nvSpPr>
              <p:cNvPr id="847" name=""/>
              <p:cNvSpPr/>
              <p:nvPr/>
            </p:nvSpPr>
            <p:spPr>
              <a:xfrm flipV="1">
                <a:off x="4903920" y="4903920"/>
                <a:ext cx="108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8" name=""/>
              <p:cNvSpPr/>
              <p:nvPr/>
            </p:nvSpPr>
            <p:spPr>
              <a:xfrm>
                <a:off x="4876560" y="4926240"/>
                <a:ext cx="113040" cy="47520"/>
              </a:xfrm>
              <a:prstGeom prst="rect">
                <a:avLst/>
              </a:pr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9" name=""/>
              <p:cNvSpPr/>
              <p:nvPr/>
            </p:nvSpPr>
            <p:spPr>
              <a:xfrm>
                <a:off x="4876920" y="492408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a:t>
                </a:r>
                <a:endParaRPr b="0" lang="en-US" sz="700" spc="-1" strike="noStrike">
                  <a:solidFill>
                    <a:srgbClr val="000000"/>
                  </a:solidFill>
                  <a:latin typeface="Times New Roman"/>
                </a:endParaRPr>
              </a:p>
            </p:txBody>
          </p:sp>
          <p:sp>
            <p:nvSpPr>
              <p:cNvPr id="850" name=""/>
              <p:cNvSpPr/>
              <p:nvPr/>
            </p:nvSpPr>
            <p:spPr>
              <a:xfrm flipV="1">
                <a:off x="5069520" y="4903920"/>
                <a:ext cx="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1" name=""/>
              <p:cNvSpPr/>
              <p:nvPr/>
            </p:nvSpPr>
            <p:spPr>
              <a:xfrm>
                <a:off x="5042160" y="4926240"/>
                <a:ext cx="114480" cy="47520"/>
              </a:xfrm>
              <a:prstGeom prst="rect">
                <a:avLst/>
              </a:pr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2" name=""/>
              <p:cNvSpPr/>
              <p:nvPr/>
            </p:nvSpPr>
            <p:spPr>
              <a:xfrm>
                <a:off x="5041800" y="492408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0</a:t>
                </a:r>
                <a:endParaRPr b="0" lang="en-US" sz="700" spc="-1" strike="noStrike">
                  <a:solidFill>
                    <a:srgbClr val="000000"/>
                  </a:solidFill>
                  <a:latin typeface="Times New Roman"/>
                </a:endParaRPr>
              </a:p>
            </p:txBody>
          </p:sp>
          <p:sp>
            <p:nvSpPr>
              <p:cNvPr id="853" name=""/>
              <p:cNvSpPr/>
              <p:nvPr/>
            </p:nvSpPr>
            <p:spPr>
              <a:xfrm flipV="1">
                <a:off x="5236920" y="4903920"/>
                <a:ext cx="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4" name=""/>
              <p:cNvSpPr/>
              <p:nvPr/>
            </p:nvSpPr>
            <p:spPr>
              <a:xfrm>
                <a:off x="5209200" y="4926240"/>
                <a:ext cx="113040" cy="47520"/>
              </a:xfrm>
              <a:prstGeom prst="rect">
                <a:avLst/>
              </a:pr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5" name=""/>
              <p:cNvSpPr/>
              <p:nvPr/>
            </p:nvSpPr>
            <p:spPr>
              <a:xfrm>
                <a:off x="4074120" y="4914000"/>
                <a:ext cx="10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nvGrpSpPr>
              <p:cNvPr id="856" name=""/>
              <p:cNvGrpSpPr/>
              <p:nvPr/>
            </p:nvGrpSpPr>
            <p:grpSpPr>
              <a:xfrm>
                <a:off x="4084920" y="4672080"/>
                <a:ext cx="1060200" cy="181440"/>
                <a:chOff x="4084920" y="4672080"/>
                <a:chExt cx="1060200" cy="181440"/>
              </a:xfrm>
            </p:grpSpPr>
            <p:sp>
              <p:nvSpPr>
                <p:cNvPr id="857" name=""/>
                <p:cNvSpPr/>
                <p:nvPr/>
              </p:nvSpPr>
              <p:spPr>
                <a:xfrm>
                  <a:off x="4254840" y="4768200"/>
                  <a:ext cx="5864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084920" y="4853160"/>
                  <a:ext cx="161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857480" y="4673880"/>
                  <a:ext cx="209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5080320" y="4704840"/>
                  <a:ext cx="64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4242960" y="4767120"/>
                  <a:ext cx="13680" cy="86400"/>
                </a:xfrm>
                <a:prstGeom prst="line">
                  <a:avLst/>
                </a:prstGeom>
                <a:ln w="19080">
                  <a:solidFill>
                    <a:srgbClr val="0000ff"/>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862" name=""/>
                <p:cNvSpPr/>
                <p:nvPr/>
              </p:nvSpPr>
              <p:spPr>
                <a:xfrm flipH="1">
                  <a:off x="4839480" y="4673520"/>
                  <a:ext cx="20880" cy="95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067000" y="4672080"/>
                  <a:ext cx="14400" cy="32760"/>
                </a:xfrm>
                <a:prstGeom prst="line">
                  <a:avLst/>
                </a:prstGeom>
                <a:ln w="19080">
                  <a:solidFill>
                    <a:srgbClr val="0000ff"/>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864" name=""/>
              <p:cNvGrpSpPr/>
              <p:nvPr/>
            </p:nvGrpSpPr>
            <p:grpSpPr>
              <a:xfrm>
                <a:off x="4090680" y="5060880"/>
                <a:ext cx="1056960" cy="63000"/>
                <a:chOff x="4090680" y="5060880"/>
                <a:chExt cx="1056960" cy="63000"/>
              </a:xfrm>
            </p:grpSpPr>
            <p:sp>
              <p:nvSpPr>
                <p:cNvPr id="865" name=""/>
                <p:cNvSpPr/>
                <p:nvPr/>
              </p:nvSpPr>
              <p:spPr>
                <a:xfrm flipV="1">
                  <a:off x="4091760" y="5060880"/>
                  <a:ext cx="720" cy="62640"/>
                </a:xfrm>
                <a:prstGeom prst="line">
                  <a:avLst/>
                </a:prstGeom>
                <a:ln w="1440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66" name=""/>
                <p:cNvSpPr/>
                <p:nvPr/>
              </p:nvSpPr>
              <p:spPr>
                <a:xfrm>
                  <a:off x="4248000" y="5061600"/>
                  <a:ext cx="360" cy="62280"/>
                </a:xfrm>
                <a:prstGeom prst="line">
                  <a:avLst/>
                </a:prstGeom>
                <a:ln w="1440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67" name=""/>
                <p:cNvSpPr/>
                <p:nvPr/>
              </p:nvSpPr>
              <p:spPr>
                <a:xfrm>
                  <a:off x="4248720" y="5120640"/>
                  <a:ext cx="898920" cy="720"/>
                </a:xfrm>
                <a:prstGeom prst="line">
                  <a:avLst/>
                </a:prstGeom>
                <a:ln w="144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68" name=""/>
                <p:cNvSpPr/>
                <p:nvPr/>
              </p:nvSpPr>
              <p:spPr>
                <a:xfrm>
                  <a:off x="4090680" y="5061240"/>
                  <a:ext cx="161640" cy="0"/>
                </a:xfrm>
                <a:prstGeom prst="line">
                  <a:avLst/>
                </a:prstGeom>
                <a:ln w="14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9" name=""/>
              <p:cNvGrpSpPr/>
              <p:nvPr/>
            </p:nvGrpSpPr>
            <p:grpSpPr>
              <a:xfrm>
                <a:off x="4087800" y="6294960"/>
                <a:ext cx="1065600" cy="62280"/>
                <a:chOff x="4087800" y="6294960"/>
                <a:chExt cx="1065600" cy="62280"/>
              </a:xfrm>
            </p:grpSpPr>
            <p:sp>
              <p:nvSpPr>
                <p:cNvPr id="870" name=""/>
                <p:cNvSpPr/>
                <p:nvPr/>
              </p:nvSpPr>
              <p:spPr>
                <a:xfrm flipH="1">
                  <a:off x="5088240" y="6296400"/>
                  <a:ext cx="65160" cy="0"/>
                </a:xfrm>
                <a:prstGeom prst="line">
                  <a:avLst/>
                </a:prstGeom>
                <a:ln w="14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5090760" y="6295320"/>
                  <a:ext cx="360" cy="61920"/>
                </a:xfrm>
                <a:prstGeom prst="line">
                  <a:avLst/>
                </a:prstGeom>
                <a:ln w="144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2" name=""/>
                <p:cNvSpPr/>
                <p:nvPr/>
              </p:nvSpPr>
              <p:spPr>
                <a:xfrm>
                  <a:off x="5150160" y="6294960"/>
                  <a:ext cx="720" cy="61920"/>
                </a:xfrm>
                <a:prstGeom prst="line">
                  <a:avLst/>
                </a:prstGeom>
                <a:ln w="144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3" name=""/>
                <p:cNvSpPr/>
                <p:nvPr/>
              </p:nvSpPr>
              <p:spPr>
                <a:xfrm>
                  <a:off x="4087800" y="6355440"/>
                  <a:ext cx="1002960" cy="360"/>
                </a:xfrm>
                <a:prstGeom prst="line">
                  <a:avLst/>
                </a:prstGeom>
                <a:ln w="144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874" name=""/>
              <p:cNvGrpSpPr/>
              <p:nvPr/>
            </p:nvGrpSpPr>
            <p:grpSpPr>
              <a:xfrm>
                <a:off x="4087800" y="5881320"/>
                <a:ext cx="1055880" cy="65520"/>
                <a:chOff x="4087800" y="5881320"/>
                <a:chExt cx="1055880" cy="65520"/>
              </a:xfrm>
            </p:grpSpPr>
            <p:sp>
              <p:nvSpPr>
                <p:cNvPr id="875" name=""/>
                <p:cNvSpPr/>
                <p:nvPr/>
              </p:nvSpPr>
              <p:spPr>
                <a:xfrm>
                  <a:off x="4863600" y="5883840"/>
                  <a:ext cx="210240" cy="0"/>
                </a:xfrm>
                <a:prstGeom prst="line">
                  <a:avLst/>
                </a:prstGeom>
                <a:ln w="14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4864320" y="5881320"/>
                  <a:ext cx="720" cy="63360"/>
                </a:xfrm>
                <a:prstGeom prst="line">
                  <a:avLst/>
                </a:prstGeom>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7" name=""/>
                <p:cNvSpPr/>
                <p:nvPr/>
              </p:nvSpPr>
              <p:spPr>
                <a:xfrm>
                  <a:off x="5070600" y="5883120"/>
                  <a:ext cx="360" cy="63720"/>
                </a:xfrm>
                <a:prstGeom prst="line">
                  <a:avLst/>
                </a:prstGeom>
                <a:ln w="1440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8" name=""/>
                <p:cNvSpPr/>
                <p:nvPr/>
              </p:nvSpPr>
              <p:spPr>
                <a:xfrm>
                  <a:off x="4087800" y="5942880"/>
                  <a:ext cx="777240" cy="720"/>
                </a:xfrm>
                <a:prstGeom prst="line">
                  <a:avLst/>
                </a:prstGeom>
                <a:ln w="144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9" name=""/>
                <p:cNvSpPr/>
                <p:nvPr/>
              </p:nvSpPr>
              <p:spPr>
                <a:xfrm>
                  <a:off x="5069520" y="5944680"/>
                  <a:ext cx="741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4087800" y="5471280"/>
                <a:ext cx="1056240" cy="63000"/>
                <a:chOff x="4087800" y="5471280"/>
                <a:chExt cx="1056240" cy="63000"/>
              </a:xfrm>
            </p:grpSpPr>
            <p:sp>
              <p:nvSpPr>
                <p:cNvPr id="881" name=""/>
                <p:cNvSpPr/>
                <p:nvPr/>
              </p:nvSpPr>
              <p:spPr>
                <a:xfrm>
                  <a:off x="4260240" y="5472720"/>
                  <a:ext cx="587160" cy="0"/>
                </a:xfrm>
                <a:prstGeom prst="line">
                  <a:avLst/>
                </a:prstGeom>
                <a:ln w="14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V="1">
                  <a:off x="4261680" y="5471280"/>
                  <a:ext cx="360" cy="62640"/>
                </a:xfrm>
                <a:prstGeom prst="line">
                  <a:avLst/>
                </a:prstGeom>
                <a:ln w="1440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83" name=""/>
                <p:cNvSpPr/>
                <p:nvPr/>
              </p:nvSpPr>
              <p:spPr>
                <a:xfrm>
                  <a:off x="4844160" y="5472000"/>
                  <a:ext cx="360" cy="62280"/>
                </a:xfrm>
                <a:prstGeom prst="line">
                  <a:avLst/>
                </a:prstGeom>
                <a:ln w="1440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84" name=""/>
                <p:cNvSpPr/>
                <p:nvPr/>
              </p:nvSpPr>
              <p:spPr>
                <a:xfrm>
                  <a:off x="4844160" y="5532120"/>
                  <a:ext cx="299880" cy="360"/>
                </a:xfrm>
                <a:prstGeom prst="line">
                  <a:avLst/>
                </a:prstGeom>
                <a:ln w="144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5" name=""/>
                <p:cNvSpPr/>
                <p:nvPr/>
              </p:nvSpPr>
              <p:spPr>
                <a:xfrm>
                  <a:off x="4087800" y="5532120"/>
                  <a:ext cx="176760" cy="360"/>
                </a:xfrm>
                <a:prstGeom prst="line">
                  <a:avLst/>
                </a:prstGeom>
                <a:ln w="144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886" name=""/>
              <p:cNvSpPr/>
              <p:nvPr/>
            </p:nvSpPr>
            <p:spPr>
              <a:xfrm>
                <a:off x="4758840" y="4826160"/>
                <a:ext cx="183240" cy="3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1419480" y="4344480"/>
                <a:ext cx="1070280" cy="273600"/>
              </a:xfrm>
              <a:custGeom>
                <a:avLst/>
                <a:gdLst/>
                <a:ahLst/>
                <a:rect l="l" t="t" r="r" b="b"/>
                <a:pathLst>
                  <a:path w="5941" h="1275">
                    <a:moveTo>
                      <a:pt x="0" y="1275"/>
                    </a:moveTo>
                    <a:lnTo>
                      <a:pt x="45" y="1245"/>
                    </a:lnTo>
                    <a:lnTo>
                      <a:pt x="90" y="1230"/>
                    </a:lnTo>
                    <a:lnTo>
                      <a:pt x="135" y="1230"/>
                    </a:lnTo>
                    <a:lnTo>
                      <a:pt x="180" y="1230"/>
                    </a:lnTo>
                    <a:lnTo>
                      <a:pt x="240" y="1230"/>
                    </a:lnTo>
                    <a:lnTo>
                      <a:pt x="285" y="1245"/>
                    </a:lnTo>
                    <a:lnTo>
                      <a:pt x="330" y="1245"/>
                    </a:lnTo>
                    <a:lnTo>
                      <a:pt x="375" y="1230"/>
                    </a:lnTo>
                    <a:lnTo>
                      <a:pt x="420" y="1215"/>
                    </a:lnTo>
                    <a:lnTo>
                      <a:pt x="465" y="1200"/>
                    </a:lnTo>
                    <a:lnTo>
                      <a:pt x="510" y="1185"/>
                    </a:lnTo>
                    <a:lnTo>
                      <a:pt x="555" y="1170"/>
                    </a:lnTo>
                    <a:lnTo>
                      <a:pt x="600" y="1155"/>
                    </a:lnTo>
                    <a:lnTo>
                      <a:pt x="645" y="1140"/>
                    </a:lnTo>
                    <a:lnTo>
                      <a:pt x="690" y="1095"/>
                    </a:lnTo>
                    <a:lnTo>
                      <a:pt x="750" y="1050"/>
                    </a:lnTo>
                    <a:lnTo>
                      <a:pt x="795" y="990"/>
                    </a:lnTo>
                    <a:lnTo>
                      <a:pt x="840" y="960"/>
                    </a:lnTo>
                    <a:lnTo>
                      <a:pt x="885" y="915"/>
                    </a:lnTo>
                    <a:lnTo>
                      <a:pt x="930" y="870"/>
                    </a:lnTo>
                    <a:lnTo>
                      <a:pt x="975" y="825"/>
                    </a:lnTo>
                    <a:lnTo>
                      <a:pt x="1020" y="780"/>
                    </a:lnTo>
                    <a:lnTo>
                      <a:pt x="1065" y="750"/>
                    </a:lnTo>
                    <a:lnTo>
                      <a:pt x="1110" y="720"/>
                    </a:lnTo>
                    <a:lnTo>
                      <a:pt x="1155" y="690"/>
                    </a:lnTo>
                    <a:lnTo>
                      <a:pt x="1215" y="675"/>
                    </a:lnTo>
                    <a:lnTo>
                      <a:pt x="1260" y="690"/>
                    </a:lnTo>
                    <a:lnTo>
                      <a:pt x="1305" y="690"/>
                    </a:lnTo>
                    <a:lnTo>
                      <a:pt x="1350" y="720"/>
                    </a:lnTo>
                    <a:lnTo>
                      <a:pt x="1395" y="750"/>
                    </a:lnTo>
                    <a:lnTo>
                      <a:pt x="1440" y="750"/>
                    </a:lnTo>
                    <a:lnTo>
                      <a:pt x="1485" y="750"/>
                    </a:lnTo>
                    <a:lnTo>
                      <a:pt x="1530" y="750"/>
                    </a:lnTo>
                    <a:lnTo>
                      <a:pt x="1575" y="750"/>
                    </a:lnTo>
                    <a:lnTo>
                      <a:pt x="1620" y="735"/>
                    </a:lnTo>
                    <a:lnTo>
                      <a:pt x="1665" y="720"/>
                    </a:lnTo>
                    <a:lnTo>
                      <a:pt x="1725" y="705"/>
                    </a:lnTo>
                    <a:lnTo>
                      <a:pt x="1770" y="690"/>
                    </a:lnTo>
                    <a:lnTo>
                      <a:pt x="1815" y="675"/>
                    </a:lnTo>
                    <a:lnTo>
                      <a:pt x="1860" y="645"/>
                    </a:lnTo>
                    <a:lnTo>
                      <a:pt x="1905" y="615"/>
                    </a:lnTo>
                    <a:lnTo>
                      <a:pt x="1950" y="585"/>
                    </a:lnTo>
                    <a:lnTo>
                      <a:pt x="1995" y="555"/>
                    </a:lnTo>
                    <a:lnTo>
                      <a:pt x="2040" y="540"/>
                    </a:lnTo>
                    <a:lnTo>
                      <a:pt x="2085" y="525"/>
                    </a:lnTo>
                    <a:lnTo>
                      <a:pt x="2130" y="510"/>
                    </a:lnTo>
                    <a:lnTo>
                      <a:pt x="2175" y="510"/>
                    </a:lnTo>
                    <a:lnTo>
                      <a:pt x="2235" y="510"/>
                    </a:lnTo>
                    <a:lnTo>
                      <a:pt x="2280" y="510"/>
                    </a:lnTo>
                    <a:lnTo>
                      <a:pt x="2325" y="495"/>
                    </a:lnTo>
                    <a:lnTo>
                      <a:pt x="2370" y="465"/>
                    </a:lnTo>
                    <a:lnTo>
                      <a:pt x="2415" y="435"/>
                    </a:lnTo>
                    <a:lnTo>
                      <a:pt x="2460" y="435"/>
                    </a:lnTo>
                    <a:lnTo>
                      <a:pt x="2505" y="450"/>
                    </a:lnTo>
                    <a:lnTo>
                      <a:pt x="2550" y="450"/>
                    </a:lnTo>
                    <a:lnTo>
                      <a:pt x="2595" y="450"/>
                    </a:lnTo>
                    <a:lnTo>
                      <a:pt x="2640" y="465"/>
                    </a:lnTo>
                    <a:lnTo>
                      <a:pt x="2685" y="465"/>
                    </a:lnTo>
                    <a:lnTo>
                      <a:pt x="2745" y="465"/>
                    </a:lnTo>
                    <a:lnTo>
                      <a:pt x="2790" y="450"/>
                    </a:lnTo>
                    <a:lnTo>
                      <a:pt x="2836" y="450"/>
                    </a:lnTo>
                    <a:lnTo>
                      <a:pt x="2881" y="435"/>
                    </a:lnTo>
                    <a:lnTo>
                      <a:pt x="2926" y="450"/>
                    </a:lnTo>
                    <a:lnTo>
                      <a:pt x="2971" y="465"/>
                    </a:lnTo>
                    <a:lnTo>
                      <a:pt x="3016" y="495"/>
                    </a:lnTo>
                    <a:lnTo>
                      <a:pt x="3061" y="510"/>
                    </a:lnTo>
                    <a:lnTo>
                      <a:pt x="3106" y="540"/>
                    </a:lnTo>
                    <a:lnTo>
                      <a:pt x="3151" y="540"/>
                    </a:lnTo>
                    <a:lnTo>
                      <a:pt x="3211" y="555"/>
                    </a:lnTo>
                    <a:lnTo>
                      <a:pt x="3256" y="540"/>
                    </a:lnTo>
                    <a:lnTo>
                      <a:pt x="3301" y="525"/>
                    </a:lnTo>
                    <a:lnTo>
                      <a:pt x="3346" y="525"/>
                    </a:lnTo>
                    <a:lnTo>
                      <a:pt x="3391" y="540"/>
                    </a:lnTo>
                    <a:lnTo>
                      <a:pt x="3436" y="555"/>
                    </a:lnTo>
                    <a:lnTo>
                      <a:pt x="3481" y="570"/>
                    </a:lnTo>
                    <a:lnTo>
                      <a:pt x="3526" y="585"/>
                    </a:lnTo>
                    <a:lnTo>
                      <a:pt x="3571" y="585"/>
                    </a:lnTo>
                    <a:lnTo>
                      <a:pt x="3616" y="570"/>
                    </a:lnTo>
                    <a:lnTo>
                      <a:pt x="3661" y="540"/>
                    </a:lnTo>
                    <a:lnTo>
                      <a:pt x="3721" y="510"/>
                    </a:lnTo>
                    <a:lnTo>
                      <a:pt x="3766" y="495"/>
                    </a:lnTo>
                    <a:lnTo>
                      <a:pt x="3811" y="480"/>
                    </a:lnTo>
                    <a:lnTo>
                      <a:pt x="3856" y="465"/>
                    </a:lnTo>
                    <a:lnTo>
                      <a:pt x="3901" y="465"/>
                    </a:lnTo>
                    <a:lnTo>
                      <a:pt x="3946" y="465"/>
                    </a:lnTo>
                    <a:lnTo>
                      <a:pt x="3991" y="450"/>
                    </a:lnTo>
                    <a:lnTo>
                      <a:pt x="4036" y="420"/>
                    </a:lnTo>
                    <a:lnTo>
                      <a:pt x="4081" y="375"/>
                    </a:lnTo>
                    <a:lnTo>
                      <a:pt x="4126" y="345"/>
                    </a:lnTo>
                    <a:lnTo>
                      <a:pt x="4171" y="315"/>
                    </a:lnTo>
                    <a:lnTo>
                      <a:pt x="4231" y="285"/>
                    </a:lnTo>
                    <a:lnTo>
                      <a:pt x="4276" y="255"/>
                    </a:lnTo>
                    <a:lnTo>
                      <a:pt x="4321" y="210"/>
                    </a:lnTo>
                    <a:lnTo>
                      <a:pt x="4366" y="195"/>
                    </a:lnTo>
                    <a:lnTo>
                      <a:pt x="4411" y="180"/>
                    </a:lnTo>
                    <a:lnTo>
                      <a:pt x="4456" y="165"/>
                    </a:lnTo>
                    <a:lnTo>
                      <a:pt x="4501" y="165"/>
                    </a:lnTo>
                    <a:lnTo>
                      <a:pt x="4546" y="135"/>
                    </a:lnTo>
                    <a:lnTo>
                      <a:pt x="4591" y="105"/>
                    </a:lnTo>
                    <a:lnTo>
                      <a:pt x="4636" y="75"/>
                    </a:lnTo>
                    <a:lnTo>
                      <a:pt x="4681" y="60"/>
                    </a:lnTo>
                    <a:lnTo>
                      <a:pt x="4741" y="45"/>
                    </a:lnTo>
                    <a:lnTo>
                      <a:pt x="4786" y="30"/>
                    </a:lnTo>
                    <a:lnTo>
                      <a:pt x="4831" y="15"/>
                    </a:lnTo>
                    <a:lnTo>
                      <a:pt x="4876" y="30"/>
                    </a:lnTo>
                    <a:lnTo>
                      <a:pt x="4921" y="15"/>
                    </a:lnTo>
                    <a:lnTo>
                      <a:pt x="4966" y="0"/>
                    </a:lnTo>
                    <a:lnTo>
                      <a:pt x="5011" y="0"/>
                    </a:lnTo>
                    <a:lnTo>
                      <a:pt x="5056" y="15"/>
                    </a:lnTo>
                    <a:lnTo>
                      <a:pt x="5101" y="15"/>
                    </a:lnTo>
                    <a:lnTo>
                      <a:pt x="5146" y="30"/>
                    </a:lnTo>
                    <a:lnTo>
                      <a:pt x="5191" y="60"/>
                    </a:lnTo>
                    <a:lnTo>
                      <a:pt x="5251" y="90"/>
                    </a:lnTo>
                    <a:lnTo>
                      <a:pt x="5296" y="120"/>
                    </a:lnTo>
                    <a:lnTo>
                      <a:pt x="5341" y="150"/>
                    </a:lnTo>
                    <a:lnTo>
                      <a:pt x="5386" y="165"/>
                    </a:lnTo>
                    <a:lnTo>
                      <a:pt x="5431" y="195"/>
                    </a:lnTo>
                    <a:lnTo>
                      <a:pt x="5476" y="225"/>
                    </a:lnTo>
                    <a:lnTo>
                      <a:pt x="5521" y="270"/>
                    </a:lnTo>
                    <a:lnTo>
                      <a:pt x="5566" y="285"/>
                    </a:lnTo>
                    <a:lnTo>
                      <a:pt x="5611" y="315"/>
                    </a:lnTo>
                    <a:lnTo>
                      <a:pt x="5656" y="300"/>
                    </a:lnTo>
                    <a:lnTo>
                      <a:pt x="5716" y="300"/>
                    </a:lnTo>
                    <a:lnTo>
                      <a:pt x="5761" y="300"/>
                    </a:lnTo>
                    <a:lnTo>
                      <a:pt x="5806" y="300"/>
                    </a:lnTo>
                    <a:lnTo>
                      <a:pt x="5851" y="300"/>
                    </a:lnTo>
                    <a:lnTo>
                      <a:pt x="5896" y="315"/>
                    </a:lnTo>
                    <a:lnTo>
                      <a:pt x="5941" y="315"/>
                    </a:ln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778480" y="4344480"/>
                <a:ext cx="1070280" cy="273600"/>
              </a:xfrm>
              <a:custGeom>
                <a:avLst/>
                <a:gdLst/>
                <a:ahLst/>
                <a:rect l="l" t="t" r="r" b="b"/>
                <a:pathLst>
                  <a:path w="5941" h="1275">
                    <a:moveTo>
                      <a:pt x="0" y="1275"/>
                    </a:moveTo>
                    <a:lnTo>
                      <a:pt x="45" y="1245"/>
                    </a:lnTo>
                    <a:lnTo>
                      <a:pt x="90" y="1230"/>
                    </a:lnTo>
                    <a:lnTo>
                      <a:pt x="135" y="1230"/>
                    </a:lnTo>
                    <a:lnTo>
                      <a:pt x="180" y="1230"/>
                    </a:lnTo>
                    <a:lnTo>
                      <a:pt x="240" y="1230"/>
                    </a:lnTo>
                    <a:lnTo>
                      <a:pt x="285" y="1245"/>
                    </a:lnTo>
                    <a:lnTo>
                      <a:pt x="330" y="1245"/>
                    </a:lnTo>
                    <a:lnTo>
                      <a:pt x="375" y="1230"/>
                    </a:lnTo>
                    <a:lnTo>
                      <a:pt x="420" y="1215"/>
                    </a:lnTo>
                    <a:lnTo>
                      <a:pt x="465" y="1200"/>
                    </a:lnTo>
                    <a:lnTo>
                      <a:pt x="510" y="1185"/>
                    </a:lnTo>
                    <a:lnTo>
                      <a:pt x="555" y="1170"/>
                    </a:lnTo>
                    <a:lnTo>
                      <a:pt x="600" y="1155"/>
                    </a:lnTo>
                    <a:lnTo>
                      <a:pt x="645" y="1140"/>
                    </a:lnTo>
                    <a:lnTo>
                      <a:pt x="690" y="1095"/>
                    </a:lnTo>
                    <a:lnTo>
                      <a:pt x="750" y="1050"/>
                    </a:lnTo>
                    <a:lnTo>
                      <a:pt x="795" y="990"/>
                    </a:lnTo>
                    <a:lnTo>
                      <a:pt x="840" y="960"/>
                    </a:lnTo>
                    <a:lnTo>
                      <a:pt x="885" y="915"/>
                    </a:lnTo>
                    <a:lnTo>
                      <a:pt x="930" y="870"/>
                    </a:lnTo>
                    <a:lnTo>
                      <a:pt x="975" y="825"/>
                    </a:lnTo>
                    <a:lnTo>
                      <a:pt x="1020" y="780"/>
                    </a:lnTo>
                    <a:lnTo>
                      <a:pt x="1065" y="750"/>
                    </a:lnTo>
                    <a:lnTo>
                      <a:pt x="1110" y="720"/>
                    </a:lnTo>
                    <a:lnTo>
                      <a:pt x="1155" y="690"/>
                    </a:lnTo>
                    <a:lnTo>
                      <a:pt x="1215" y="675"/>
                    </a:lnTo>
                    <a:lnTo>
                      <a:pt x="1260" y="690"/>
                    </a:lnTo>
                    <a:lnTo>
                      <a:pt x="1305" y="690"/>
                    </a:lnTo>
                    <a:lnTo>
                      <a:pt x="1350" y="720"/>
                    </a:lnTo>
                    <a:lnTo>
                      <a:pt x="1395" y="750"/>
                    </a:lnTo>
                    <a:lnTo>
                      <a:pt x="1440" y="750"/>
                    </a:lnTo>
                    <a:lnTo>
                      <a:pt x="1485" y="750"/>
                    </a:lnTo>
                    <a:lnTo>
                      <a:pt x="1530" y="750"/>
                    </a:lnTo>
                    <a:lnTo>
                      <a:pt x="1575" y="750"/>
                    </a:lnTo>
                    <a:lnTo>
                      <a:pt x="1620" y="735"/>
                    </a:lnTo>
                    <a:lnTo>
                      <a:pt x="1665" y="720"/>
                    </a:lnTo>
                    <a:lnTo>
                      <a:pt x="1725" y="705"/>
                    </a:lnTo>
                    <a:lnTo>
                      <a:pt x="1770" y="690"/>
                    </a:lnTo>
                    <a:lnTo>
                      <a:pt x="1815" y="675"/>
                    </a:lnTo>
                    <a:lnTo>
                      <a:pt x="1860" y="645"/>
                    </a:lnTo>
                    <a:lnTo>
                      <a:pt x="1905" y="615"/>
                    </a:lnTo>
                    <a:lnTo>
                      <a:pt x="1950" y="585"/>
                    </a:lnTo>
                    <a:lnTo>
                      <a:pt x="1995" y="555"/>
                    </a:lnTo>
                    <a:lnTo>
                      <a:pt x="2040" y="540"/>
                    </a:lnTo>
                    <a:lnTo>
                      <a:pt x="2085" y="525"/>
                    </a:lnTo>
                    <a:lnTo>
                      <a:pt x="2130" y="510"/>
                    </a:lnTo>
                    <a:lnTo>
                      <a:pt x="2175" y="510"/>
                    </a:lnTo>
                    <a:lnTo>
                      <a:pt x="2235" y="510"/>
                    </a:lnTo>
                    <a:lnTo>
                      <a:pt x="2280" y="510"/>
                    </a:lnTo>
                    <a:lnTo>
                      <a:pt x="2325" y="495"/>
                    </a:lnTo>
                    <a:lnTo>
                      <a:pt x="2370" y="465"/>
                    </a:lnTo>
                    <a:lnTo>
                      <a:pt x="2415" y="435"/>
                    </a:lnTo>
                    <a:lnTo>
                      <a:pt x="2460" y="435"/>
                    </a:lnTo>
                    <a:lnTo>
                      <a:pt x="2505" y="450"/>
                    </a:lnTo>
                    <a:lnTo>
                      <a:pt x="2550" y="450"/>
                    </a:lnTo>
                    <a:lnTo>
                      <a:pt x="2595" y="450"/>
                    </a:lnTo>
                    <a:lnTo>
                      <a:pt x="2640" y="465"/>
                    </a:lnTo>
                    <a:lnTo>
                      <a:pt x="2685" y="465"/>
                    </a:lnTo>
                    <a:lnTo>
                      <a:pt x="2745" y="465"/>
                    </a:lnTo>
                    <a:lnTo>
                      <a:pt x="2790" y="450"/>
                    </a:lnTo>
                    <a:lnTo>
                      <a:pt x="2836" y="450"/>
                    </a:lnTo>
                    <a:lnTo>
                      <a:pt x="2881" y="435"/>
                    </a:lnTo>
                    <a:lnTo>
                      <a:pt x="2926" y="450"/>
                    </a:lnTo>
                    <a:lnTo>
                      <a:pt x="2971" y="465"/>
                    </a:lnTo>
                    <a:lnTo>
                      <a:pt x="3016" y="495"/>
                    </a:lnTo>
                    <a:lnTo>
                      <a:pt x="3061" y="510"/>
                    </a:lnTo>
                    <a:lnTo>
                      <a:pt x="3106" y="540"/>
                    </a:lnTo>
                    <a:lnTo>
                      <a:pt x="3151" y="540"/>
                    </a:lnTo>
                    <a:lnTo>
                      <a:pt x="3211" y="555"/>
                    </a:lnTo>
                    <a:lnTo>
                      <a:pt x="3256" y="540"/>
                    </a:lnTo>
                    <a:lnTo>
                      <a:pt x="3301" y="525"/>
                    </a:lnTo>
                    <a:lnTo>
                      <a:pt x="3346" y="525"/>
                    </a:lnTo>
                    <a:lnTo>
                      <a:pt x="3391" y="540"/>
                    </a:lnTo>
                    <a:lnTo>
                      <a:pt x="3436" y="555"/>
                    </a:lnTo>
                    <a:lnTo>
                      <a:pt x="3481" y="570"/>
                    </a:lnTo>
                    <a:lnTo>
                      <a:pt x="3526" y="585"/>
                    </a:lnTo>
                    <a:lnTo>
                      <a:pt x="3571" y="585"/>
                    </a:lnTo>
                    <a:lnTo>
                      <a:pt x="3616" y="570"/>
                    </a:lnTo>
                    <a:lnTo>
                      <a:pt x="3661" y="540"/>
                    </a:lnTo>
                    <a:lnTo>
                      <a:pt x="3721" y="510"/>
                    </a:lnTo>
                    <a:lnTo>
                      <a:pt x="3766" y="495"/>
                    </a:lnTo>
                    <a:lnTo>
                      <a:pt x="3811" y="480"/>
                    </a:lnTo>
                    <a:lnTo>
                      <a:pt x="3856" y="465"/>
                    </a:lnTo>
                    <a:lnTo>
                      <a:pt x="3901" y="465"/>
                    </a:lnTo>
                    <a:lnTo>
                      <a:pt x="3946" y="465"/>
                    </a:lnTo>
                    <a:lnTo>
                      <a:pt x="3991" y="450"/>
                    </a:lnTo>
                    <a:lnTo>
                      <a:pt x="4036" y="420"/>
                    </a:lnTo>
                    <a:lnTo>
                      <a:pt x="4081" y="375"/>
                    </a:lnTo>
                    <a:lnTo>
                      <a:pt x="4126" y="345"/>
                    </a:lnTo>
                    <a:lnTo>
                      <a:pt x="4171" y="315"/>
                    </a:lnTo>
                    <a:lnTo>
                      <a:pt x="4231" y="285"/>
                    </a:lnTo>
                    <a:lnTo>
                      <a:pt x="4276" y="255"/>
                    </a:lnTo>
                    <a:lnTo>
                      <a:pt x="4321" y="210"/>
                    </a:lnTo>
                    <a:lnTo>
                      <a:pt x="4366" y="195"/>
                    </a:lnTo>
                    <a:lnTo>
                      <a:pt x="4411" y="180"/>
                    </a:lnTo>
                    <a:lnTo>
                      <a:pt x="4456" y="165"/>
                    </a:lnTo>
                    <a:lnTo>
                      <a:pt x="4501" y="165"/>
                    </a:lnTo>
                    <a:lnTo>
                      <a:pt x="4546" y="135"/>
                    </a:lnTo>
                    <a:lnTo>
                      <a:pt x="4591" y="105"/>
                    </a:lnTo>
                    <a:lnTo>
                      <a:pt x="4636" y="75"/>
                    </a:lnTo>
                    <a:lnTo>
                      <a:pt x="4681" y="60"/>
                    </a:lnTo>
                    <a:lnTo>
                      <a:pt x="4741" y="45"/>
                    </a:lnTo>
                    <a:lnTo>
                      <a:pt x="4786" y="30"/>
                    </a:lnTo>
                    <a:lnTo>
                      <a:pt x="4831" y="15"/>
                    </a:lnTo>
                    <a:lnTo>
                      <a:pt x="4876" y="30"/>
                    </a:lnTo>
                    <a:lnTo>
                      <a:pt x="4921" y="15"/>
                    </a:lnTo>
                    <a:lnTo>
                      <a:pt x="4966" y="0"/>
                    </a:lnTo>
                    <a:lnTo>
                      <a:pt x="5011" y="0"/>
                    </a:lnTo>
                    <a:lnTo>
                      <a:pt x="5056" y="15"/>
                    </a:lnTo>
                    <a:lnTo>
                      <a:pt x="5101" y="15"/>
                    </a:lnTo>
                    <a:lnTo>
                      <a:pt x="5146" y="30"/>
                    </a:lnTo>
                    <a:lnTo>
                      <a:pt x="5191" y="60"/>
                    </a:lnTo>
                    <a:lnTo>
                      <a:pt x="5251" y="90"/>
                    </a:lnTo>
                    <a:lnTo>
                      <a:pt x="5296" y="120"/>
                    </a:lnTo>
                    <a:lnTo>
                      <a:pt x="5341" y="150"/>
                    </a:lnTo>
                    <a:lnTo>
                      <a:pt x="5386" y="165"/>
                    </a:lnTo>
                    <a:lnTo>
                      <a:pt x="5431" y="195"/>
                    </a:lnTo>
                    <a:lnTo>
                      <a:pt x="5476" y="225"/>
                    </a:lnTo>
                    <a:lnTo>
                      <a:pt x="5521" y="270"/>
                    </a:lnTo>
                    <a:lnTo>
                      <a:pt x="5566" y="285"/>
                    </a:lnTo>
                    <a:lnTo>
                      <a:pt x="5611" y="315"/>
                    </a:lnTo>
                    <a:lnTo>
                      <a:pt x="5656" y="300"/>
                    </a:lnTo>
                    <a:lnTo>
                      <a:pt x="5716" y="300"/>
                    </a:lnTo>
                    <a:lnTo>
                      <a:pt x="5761" y="300"/>
                    </a:lnTo>
                    <a:lnTo>
                      <a:pt x="5806" y="300"/>
                    </a:lnTo>
                    <a:lnTo>
                      <a:pt x="5851" y="300"/>
                    </a:lnTo>
                    <a:lnTo>
                      <a:pt x="5896" y="315"/>
                    </a:lnTo>
                    <a:lnTo>
                      <a:pt x="5941" y="315"/>
                    </a:ln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4079520" y="4344480"/>
                <a:ext cx="1070280" cy="273600"/>
              </a:xfrm>
              <a:custGeom>
                <a:avLst/>
                <a:gdLst/>
                <a:ahLst/>
                <a:rect l="l" t="t" r="r" b="b"/>
                <a:pathLst>
                  <a:path w="5941" h="1275">
                    <a:moveTo>
                      <a:pt x="0" y="1275"/>
                    </a:moveTo>
                    <a:lnTo>
                      <a:pt x="45" y="1245"/>
                    </a:lnTo>
                    <a:lnTo>
                      <a:pt x="90" y="1230"/>
                    </a:lnTo>
                    <a:lnTo>
                      <a:pt x="135" y="1230"/>
                    </a:lnTo>
                    <a:lnTo>
                      <a:pt x="180" y="1230"/>
                    </a:lnTo>
                    <a:lnTo>
                      <a:pt x="240" y="1230"/>
                    </a:lnTo>
                    <a:lnTo>
                      <a:pt x="285" y="1245"/>
                    </a:lnTo>
                    <a:lnTo>
                      <a:pt x="330" y="1245"/>
                    </a:lnTo>
                    <a:lnTo>
                      <a:pt x="375" y="1230"/>
                    </a:lnTo>
                    <a:lnTo>
                      <a:pt x="420" y="1215"/>
                    </a:lnTo>
                    <a:lnTo>
                      <a:pt x="465" y="1200"/>
                    </a:lnTo>
                    <a:lnTo>
                      <a:pt x="510" y="1185"/>
                    </a:lnTo>
                    <a:lnTo>
                      <a:pt x="555" y="1170"/>
                    </a:lnTo>
                    <a:lnTo>
                      <a:pt x="600" y="1155"/>
                    </a:lnTo>
                    <a:lnTo>
                      <a:pt x="645" y="1140"/>
                    </a:lnTo>
                    <a:lnTo>
                      <a:pt x="690" y="1095"/>
                    </a:lnTo>
                    <a:lnTo>
                      <a:pt x="750" y="1050"/>
                    </a:lnTo>
                    <a:lnTo>
                      <a:pt x="795" y="990"/>
                    </a:lnTo>
                    <a:lnTo>
                      <a:pt x="840" y="960"/>
                    </a:lnTo>
                    <a:lnTo>
                      <a:pt x="885" y="915"/>
                    </a:lnTo>
                    <a:lnTo>
                      <a:pt x="930" y="870"/>
                    </a:lnTo>
                    <a:lnTo>
                      <a:pt x="975" y="825"/>
                    </a:lnTo>
                    <a:lnTo>
                      <a:pt x="1020" y="780"/>
                    </a:lnTo>
                    <a:lnTo>
                      <a:pt x="1065" y="750"/>
                    </a:lnTo>
                    <a:lnTo>
                      <a:pt x="1110" y="720"/>
                    </a:lnTo>
                    <a:lnTo>
                      <a:pt x="1155" y="690"/>
                    </a:lnTo>
                    <a:lnTo>
                      <a:pt x="1215" y="675"/>
                    </a:lnTo>
                    <a:lnTo>
                      <a:pt x="1260" y="690"/>
                    </a:lnTo>
                    <a:lnTo>
                      <a:pt x="1305" y="690"/>
                    </a:lnTo>
                    <a:lnTo>
                      <a:pt x="1350" y="720"/>
                    </a:lnTo>
                    <a:lnTo>
                      <a:pt x="1395" y="750"/>
                    </a:lnTo>
                    <a:lnTo>
                      <a:pt x="1440" y="750"/>
                    </a:lnTo>
                    <a:lnTo>
                      <a:pt x="1485" y="750"/>
                    </a:lnTo>
                    <a:lnTo>
                      <a:pt x="1530" y="750"/>
                    </a:lnTo>
                    <a:lnTo>
                      <a:pt x="1575" y="750"/>
                    </a:lnTo>
                    <a:lnTo>
                      <a:pt x="1620" y="735"/>
                    </a:lnTo>
                    <a:lnTo>
                      <a:pt x="1665" y="720"/>
                    </a:lnTo>
                    <a:lnTo>
                      <a:pt x="1725" y="705"/>
                    </a:lnTo>
                    <a:lnTo>
                      <a:pt x="1770" y="690"/>
                    </a:lnTo>
                    <a:lnTo>
                      <a:pt x="1815" y="675"/>
                    </a:lnTo>
                    <a:lnTo>
                      <a:pt x="1860" y="645"/>
                    </a:lnTo>
                    <a:lnTo>
                      <a:pt x="1905" y="615"/>
                    </a:lnTo>
                    <a:lnTo>
                      <a:pt x="1950" y="585"/>
                    </a:lnTo>
                    <a:lnTo>
                      <a:pt x="1995" y="555"/>
                    </a:lnTo>
                    <a:lnTo>
                      <a:pt x="2040" y="540"/>
                    </a:lnTo>
                    <a:lnTo>
                      <a:pt x="2085" y="525"/>
                    </a:lnTo>
                    <a:lnTo>
                      <a:pt x="2130" y="510"/>
                    </a:lnTo>
                    <a:lnTo>
                      <a:pt x="2175" y="510"/>
                    </a:lnTo>
                    <a:lnTo>
                      <a:pt x="2235" y="510"/>
                    </a:lnTo>
                    <a:lnTo>
                      <a:pt x="2280" y="510"/>
                    </a:lnTo>
                    <a:lnTo>
                      <a:pt x="2325" y="495"/>
                    </a:lnTo>
                    <a:lnTo>
                      <a:pt x="2370" y="465"/>
                    </a:lnTo>
                    <a:lnTo>
                      <a:pt x="2415" y="435"/>
                    </a:lnTo>
                    <a:lnTo>
                      <a:pt x="2460" y="435"/>
                    </a:lnTo>
                    <a:lnTo>
                      <a:pt x="2505" y="450"/>
                    </a:lnTo>
                    <a:lnTo>
                      <a:pt x="2550" y="450"/>
                    </a:lnTo>
                    <a:lnTo>
                      <a:pt x="2595" y="450"/>
                    </a:lnTo>
                    <a:lnTo>
                      <a:pt x="2640" y="465"/>
                    </a:lnTo>
                    <a:lnTo>
                      <a:pt x="2685" y="465"/>
                    </a:lnTo>
                    <a:lnTo>
                      <a:pt x="2745" y="465"/>
                    </a:lnTo>
                    <a:lnTo>
                      <a:pt x="2790" y="450"/>
                    </a:lnTo>
                    <a:lnTo>
                      <a:pt x="2836" y="450"/>
                    </a:lnTo>
                    <a:lnTo>
                      <a:pt x="2881" y="435"/>
                    </a:lnTo>
                    <a:lnTo>
                      <a:pt x="2926" y="450"/>
                    </a:lnTo>
                    <a:lnTo>
                      <a:pt x="2971" y="465"/>
                    </a:lnTo>
                    <a:lnTo>
                      <a:pt x="3016" y="495"/>
                    </a:lnTo>
                    <a:lnTo>
                      <a:pt x="3061" y="510"/>
                    </a:lnTo>
                    <a:lnTo>
                      <a:pt x="3106" y="540"/>
                    </a:lnTo>
                    <a:lnTo>
                      <a:pt x="3151" y="540"/>
                    </a:lnTo>
                    <a:lnTo>
                      <a:pt x="3211" y="555"/>
                    </a:lnTo>
                    <a:lnTo>
                      <a:pt x="3256" y="540"/>
                    </a:lnTo>
                    <a:lnTo>
                      <a:pt x="3301" y="525"/>
                    </a:lnTo>
                    <a:lnTo>
                      <a:pt x="3346" y="525"/>
                    </a:lnTo>
                    <a:lnTo>
                      <a:pt x="3391" y="540"/>
                    </a:lnTo>
                    <a:lnTo>
                      <a:pt x="3436" y="555"/>
                    </a:lnTo>
                    <a:lnTo>
                      <a:pt x="3481" y="570"/>
                    </a:lnTo>
                    <a:lnTo>
                      <a:pt x="3526" y="585"/>
                    </a:lnTo>
                    <a:lnTo>
                      <a:pt x="3571" y="585"/>
                    </a:lnTo>
                    <a:lnTo>
                      <a:pt x="3616" y="570"/>
                    </a:lnTo>
                    <a:lnTo>
                      <a:pt x="3661" y="540"/>
                    </a:lnTo>
                    <a:lnTo>
                      <a:pt x="3721" y="510"/>
                    </a:lnTo>
                    <a:lnTo>
                      <a:pt x="3766" y="495"/>
                    </a:lnTo>
                    <a:lnTo>
                      <a:pt x="3811" y="480"/>
                    </a:lnTo>
                    <a:lnTo>
                      <a:pt x="3856" y="465"/>
                    </a:lnTo>
                    <a:lnTo>
                      <a:pt x="3901" y="465"/>
                    </a:lnTo>
                    <a:lnTo>
                      <a:pt x="3946" y="465"/>
                    </a:lnTo>
                    <a:lnTo>
                      <a:pt x="3991" y="450"/>
                    </a:lnTo>
                    <a:lnTo>
                      <a:pt x="4036" y="420"/>
                    </a:lnTo>
                    <a:lnTo>
                      <a:pt x="4081" y="375"/>
                    </a:lnTo>
                    <a:lnTo>
                      <a:pt x="4126" y="345"/>
                    </a:lnTo>
                    <a:lnTo>
                      <a:pt x="4171" y="315"/>
                    </a:lnTo>
                    <a:lnTo>
                      <a:pt x="4231" y="285"/>
                    </a:lnTo>
                    <a:lnTo>
                      <a:pt x="4276" y="255"/>
                    </a:lnTo>
                    <a:lnTo>
                      <a:pt x="4321" y="210"/>
                    </a:lnTo>
                    <a:lnTo>
                      <a:pt x="4366" y="195"/>
                    </a:lnTo>
                    <a:lnTo>
                      <a:pt x="4411" y="180"/>
                    </a:lnTo>
                    <a:lnTo>
                      <a:pt x="4456" y="165"/>
                    </a:lnTo>
                    <a:lnTo>
                      <a:pt x="4501" y="165"/>
                    </a:lnTo>
                    <a:lnTo>
                      <a:pt x="4546" y="135"/>
                    </a:lnTo>
                    <a:lnTo>
                      <a:pt x="4591" y="105"/>
                    </a:lnTo>
                    <a:lnTo>
                      <a:pt x="4636" y="75"/>
                    </a:lnTo>
                    <a:lnTo>
                      <a:pt x="4681" y="60"/>
                    </a:lnTo>
                    <a:lnTo>
                      <a:pt x="4741" y="45"/>
                    </a:lnTo>
                    <a:lnTo>
                      <a:pt x="4786" y="30"/>
                    </a:lnTo>
                    <a:lnTo>
                      <a:pt x="4831" y="15"/>
                    </a:lnTo>
                    <a:lnTo>
                      <a:pt x="4876" y="30"/>
                    </a:lnTo>
                    <a:lnTo>
                      <a:pt x="4921" y="15"/>
                    </a:lnTo>
                    <a:lnTo>
                      <a:pt x="4966" y="0"/>
                    </a:lnTo>
                    <a:lnTo>
                      <a:pt x="5011" y="0"/>
                    </a:lnTo>
                    <a:lnTo>
                      <a:pt x="5056" y="15"/>
                    </a:lnTo>
                    <a:lnTo>
                      <a:pt x="5101" y="15"/>
                    </a:lnTo>
                    <a:lnTo>
                      <a:pt x="5146" y="30"/>
                    </a:lnTo>
                    <a:lnTo>
                      <a:pt x="5191" y="60"/>
                    </a:lnTo>
                    <a:lnTo>
                      <a:pt x="5251" y="90"/>
                    </a:lnTo>
                    <a:lnTo>
                      <a:pt x="5296" y="120"/>
                    </a:lnTo>
                    <a:lnTo>
                      <a:pt x="5341" y="150"/>
                    </a:lnTo>
                    <a:lnTo>
                      <a:pt x="5386" y="165"/>
                    </a:lnTo>
                    <a:lnTo>
                      <a:pt x="5431" y="195"/>
                    </a:lnTo>
                    <a:lnTo>
                      <a:pt x="5476" y="225"/>
                    </a:lnTo>
                    <a:lnTo>
                      <a:pt x="5521" y="270"/>
                    </a:lnTo>
                    <a:lnTo>
                      <a:pt x="5566" y="285"/>
                    </a:lnTo>
                    <a:lnTo>
                      <a:pt x="5611" y="315"/>
                    </a:lnTo>
                    <a:lnTo>
                      <a:pt x="5656" y="300"/>
                    </a:lnTo>
                    <a:lnTo>
                      <a:pt x="5716" y="300"/>
                    </a:lnTo>
                    <a:lnTo>
                      <a:pt x="5761" y="300"/>
                    </a:lnTo>
                    <a:lnTo>
                      <a:pt x="5806" y="300"/>
                    </a:lnTo>
                    <a:lnTo>
                      <a:pt x="5851" y="300"/>
                    </a:lnTo>
                    <a:lnTo>
                      <a:pt x="5896" y="315"/>
                    </a:lnTo>
                    <a:lnTo>
                      <a:pt x="5941" y="315"/>
                    </a:ln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5401080" y="4344480"/>
                <a:ext cx="1070280" cy="273600"/>
              </a:xfrm>
              <a:custGeom>
                <a:avLst/>
                <a:gdLst/>
                <a:ahLst/>
                <a:rect l="l" t="t" r="r" b="b"/>
                <a:pathLst>
                  <a:path w="5941" h="1275">
                    <a:moveTo>
                      <a:pt x="0" y="1275"/>
                    </a:moveTo>
                    <a:lnTo>
                      <a:pt x="45" y="1245"/>
                    </a:lnTo>
                    <a:lnTo>
                      <a:pt x="90" y="1230"/>
                    </a:lnTo>
                    <a:lnTo>
                      <a:pt x="135" y="1230"/>
                    </a:lnTo>
                    <a:lnTo>
                      <a:pt x="180" y="1230"/>
                    </a:lnTo>
                    <a:lnTo>
                      <a:pt x="240" y="1230"/>
                    </a:lnTo>
                    <a:lnTo>
                      <a:pt x="285" y="1245"/>
                    </a:lnTo>
                    <a:lnTo>
                      <a:pt x="330" y="1245"/>
                    </a:lnTo>
                    <a:lnTo>
                      <a:pt x="375" y="1230"/>
                    </a:lnTo>
                    <a:lnTo>
                      <a:pt x="420" y="1215"/>
                    </a:lnTo>
                    <a:lnTo>
                      <a:pt x="465" y="1200"/>
                    </a:lnTo>
                    <a:lnTo>
                      <a:pt x="510" y="1185"/>
                    </a:lnTo>
                    <a:lnTo>
                      <a:pt x="555" y="1170"/>
                    </a:lnTo>
                    <a:lnTo>
                      <a:pt x="600" y="1155"/>
                    </a:lnTo>
                    <a:lnTo>
                      <a:pt x="645" y="1140"/>
                    </a:lnTo>
                    <a:lnTo>
                      <a:pt x="690" y="1095"/>
                    </a:lnTo>
                    <a:lnTo>
                      <a:pt x="750" y="1050"/>
                    </a:lnTo>
                    <a:lnTo>
                      <a:pt x="795" y="990"/>
                    </a:lnTo>
                    <a:lnTo>
                      <a:pt x="840" y="960"/>
                    </a:lnTo>
                    <a:lnTo>
                      <a:pt x="885" y="915"/>
                    </a:lnTo>
                    <a:lnTo>
                      <a:pt x="930" y="870"/>
                    </a:lnTo>
                    <a:lnTo>
                      <a:pt x="975" y="825"/>
                    </a:lnTo>
                    <a:lnTo>
                      <a:pt x="1020" y="780"/>
                    </a:lnTo>
                    <a:lnTo>
                      <a:pt x="1065" y="750"/>
                    </a:lnTo>
                    <a:lnTo>
                      <a:pt x="1110" y="720"/>
                    </a:lnTo>
                    <a:lnTo>
                      <a:pt x="1155" y="690"/>
                    </a:lnTo>
                    <a:lnTo>
                      <a:pt x="1215" y="675"/>
                    </a:lnTo>
                    <a:lnTo>
                      <a:pt x="1260" y="690"/>
                    </a:lnTo>
                    <a:lnTo>
                      <a:pt x="1305" y="690"/>
                    </a:lnTo>
                    <a:lnTo>
                      <a:pt x="1350" y="720"/>
                    </a:lnTo>
                    <a:lnTo>
                      <a:pt x="1395" y="750"/>
                    </a:lnTo>
                    <a:lnTo>
                      <a:pt x="1440" y="750"/>
                    </a:lnTo>
                    <a:lnTo>
                      <a:pt x="1485" y="750"/>
                    </a:lnTo>
                    <a:lnTo>
                      <a:pt x="1530" y="750"/>
                    </a:lnTo>
                    <a:lnTo>
                      <a:pt x="1575" y="750"/>
                    </a:lnTo>
                    <a:lnTo>
                      <a:pt x="1620" y="735"/>
                    </a:lnTo>
                    <a:lnTo>
                      <a:pt x="1665" y="720"/>
                    </a:lnTo>
                    <a:lnTo>
                      <a:pt x="1725" y="705"/>
                    </a:lnTo>
                    <a:lnTo>
                      <a:pt x="1770" y="690"/>
                    </a:lnTo>
                    <a:lnTo>
                      <a:pt x="1815" y="675"/>
                    </a:lnTo>
                    <a:lnTo>
                      <a:pt x="1860" y="645"/>
                    </a:lnTo>
                    <a:lnTo>
                      <a:pt x="1905" y="615"/>
                    </a:lnTo>
                    <a:lnTo>
                      <a:pt x="1950" y="585"/>
                    </a:lnTo>
                    <a:lnTo>
                      <a:pt x="1995" y="555"/>
                    </a:lnTo>
                    <a:lnTo>
                      <a:pt x="2040" y="540"/>
                    </a:lnTo>
                    <a:lnTo>
                      <a:pt x="2085" y="525"/>
                    </a:lnTo>
                    <a:lnTo>
                      <a:pt x="2130" y="510"/>
                    </a:lnTo>
                    <a:lnTo>
                      <a:pt x="2175" y="510"/>
                    </a:lnTo>
                    <a:lnTo>
                      <a:pt x="2235" y="510"/>
                    </a:lnTo>
                    <a:lnTo>
                      <a:pt x="2280" y="510"/>
                    </a:lnTo>
                    <a:lnTo>
                      <a:pt x="2325" y="495"/>
                    </a:lnTo>
                    <a:lnTo>
                      <a:pt x="2370" y="465"/>
                    </a:lnTo>
                    <a:lnTo>
                      <a:pt x="2415" y="435"/>
                    </a:lnTo>
                    <a:lnTo>
                      <a:pt x="2460" y="435"/>
                    </a:lnTo>
                    <a:lnTo>
                      <a:pt x="2505" y="450"/>
                    </a:lnTo>
                    <a:lnTo>
                      <a:pt x="2550" y="450"/>
                    </a:lnTo>
                    <a:lnTo>
                      <a:pt x="2595" y="450"/>
                    </a:lnTo>
                    <a:lnTo>
                      <a:pt x="2640" y="465"/>
                    </a:lnTo>
                    <a:lnTo>
                      <a:pt x="2685" y="465"/>
                    </a:lnTo>
                    <a:lnTo>
                      <a:pt x="2745" y="465"/>
                    </a:lnTo>
                    <a:lnTo>
                      <a:pt x="2790" y="450"/>
                    </a:lnTo>
                    <a:lnTo>
                      <a:pt x="2836" y="450"/>
                    </a:lnTo>
                    <a:lnTo>
                      <a:pt x="2881" y="435"/>
                    </a:lnTo>
                    <a:lnTo>
                      <a:pt x="2926" y="450"/>
                    </a:lnTo>
                    <a:lnTo>
                      <a:pt x="2971" y="465"/>
                    </a:lnTo>
                    <a:lnTo>
                      <a:pt x="3016" y="495"/>
                    </a:lnTo>
                    <a:lnTo>
                      <a:pt x="3061" y="510"/>
                    </a:lnTo>
                    <a:lnTo>
                      <a:pt x="3106" y="540"/>
                    </a:lnTo>
                    <a:lnTo>
                      <a:pt x="3151" y="540"/>
                    </a:lnTo>
                    <a:lnTo>
                      <a:pt x="3211" y="555"/>
                    </a:lnTo>
                    <a:lnTo>
                      <a:pt x="3256" y="540"/>
                    </a:lnTo>
                    <a:lnTo>
                      <a:pt x="3301" y="525"/>
                    </a:lnTo>
                    <a:lnTo>
                      <a:pt x="3346" y="525"/>
                    </a:lnTo>
                    <a:lnTo>
                      <a:pt x="3391" y="540"/>
                    </a:lnTo>
                    <a:lnTo>
                      <a:pt x="3436" y="555"/>
                    </a:lnTo>
                    <a:lnTo>
                      <a:pt x="3481" y="570"/>
                    </a:lnTo>
                    <a:lnTo>
                      <a:pt x="3526" y="585"/>
                    </a:lnTo>
                    <a:lnTo>
                      <a:pt x="3571" y="585"/>
                    </a:lnTo>
                    <a:lnTo>
                      <a:pt x="3616" y="570"/>
                    </a:lnTo>
                    <a:lnTo>
                      <a:pt x="3661" y="540"/>
                    </a:lnTo>
                    <a:lnTo>
                      <a:pt x="3721" y="510"/>
                    </a:lnTo>
                    <a:lnTo>
                      <a:pt x="3766" y="495"/>
                    </a:lnTo>
                    <a:lnTo>
                      <a:pt x="3811" y="480"/>
                    </a:lnTo>
                    <a:lnTo>
                      <a:pt x="3856" y="465"/>
                    </a:lnTo>
                    <a:lnTo>
                      <a:pt x="3901" y="465"/>
                    </a:lnTo>
                    <a:lnTo>
                      <a:pt x="3946" y="465"/>
                    </a:lnTo>
                    <a:lnTo>
                      <a:pt x="3991" y="450"/>
                    </a:lnTo>
                    <a:lnTo>
                      <a:pt x="4036" y="420"/>
                    </a:lnTo>
                    <a:lnTo>
                      <a:pt x="4081" y="375"/>
                    </a:lnTo>
                    <a:lnTo>
                      <a:pt x="4126" y="345"/>
                    </a:lnTo>
                    <a:lnTo>
                      <a:pt x="4171" y="315"/>
                    </a:lnTo>
                    <a:lnTo>
                      <a:pt x="4231" y="285"/>
                    </a:lnTo>
                    <a:lnTo>
                      <a:pt x="4276" y="255"/>
                    </a:lnTo>
                    <a:lnTo>
                      <a:pt x="4321" y="210"/>
                    </a:lnTo>
                    <a:lnTo>
                      <a:pt x="4366" y="195"/>
                    </a:lnTo>
                    <a:lnTo>
                      <a:pt x="4411" y="180"/>
                    </a:lnTo>
                    <a:lnTo>
                      <a:pt x="4456" y="165"/>
                    </a:lnTo>
                    <a:lnTo>
                      <a:pt x="4501" y="165"/>
                    </a:lnTo>
                    <a:lnTo>
                      <a:pt x="4546" y="135"/>
                    </a:lnTo>
                    <a:lnTo>
                      <a:pt x="4591" y="105"/>
                    </a:lnTo>
                    <a:lnTo>
                      <a:pt x="4636" y="75"/>
                    </a:lnTo>
                    <a:lnTo>
                      <a:pt x="4681" y="60"/>
                    </a:lnTo>
                    <a:lnTo>
                      <a:pt x="4741" y="45"/>
                    </a:lnTo>
                    <a:lnTo>
                      <a:pt x="4786" y="30"/>
                    </a:lnTo>
                    <a:lnTo>
                      <a:pt x="4831" y="15"/>
                    </a:lnTo>
                    <a:lnTo>
                      <a:pt x="4876" y="30"/>
                    </a:lnTo>
                    <a:lnTo>
                      <a:pt x="4921" y="15"/>
                    </a:lnTo>
                    <a:lnTo>
                      <a:pt x="4966" y="0"/>
                    </a:lnTo>
                    <a:lnTo>
                      <a:pt x="5011" y="0"/>
                    </a:lnTo>
                    <a:lnTo>
                      <a:pt x="5056" y="15"/>
                    </a:lnTo>
                    <a:lnTo>
                      <a:pt x="5101" y="15"/>
                    </a:lnTo>
                    <a:lnTo>
                      <a:pt x="5146" y="30"/>
                    </a:lnTo>
                    <a:lnTo>
                      <a:pt x="5191" y="60"/>
                    </a:lnTo>
                    <a:lnTo>
                      <a:pt x="5251" y="90"/>
                    </a:lnTo>
                    <a:lnTo>
                      <a:pt x="5296" y="120"/>
                    </a:lnTo>
                    <a:lnTo>
                      <a:pt x="5341" y="150"/>
                    </a:lnTo>
                    <a:lnTo>
                      <a:pt x="5386" y="165"/>
                    </a:lnTo>
                    <a:lnTo>
                      <a:pt x="5431" y="195"/>
                    </a:lnTo>
                    <a:lnTo>
                      <a:pt x="5476" y="225"/>
                    </a:lnTo>
                    <a:lnTo>
                      <a:pt x="5521" y="270"/>
                    </a:lnTo>
                    <a:lnTo>
                      <a:pt x="5566" y="285"/>
                    </a:lnTo>
                    <a:lnTo>
                      <a:pt x="5611" y="315"/>
                    </a:lnTo>
                    <a:lnTo>
                      <a:pt x="5656" y="300"/>
                    </a:lnTo>
                    <a:lnTo>
                      <a:pt x="5716" y="300"/>
                    </a:lnTo>
                    <a:lnTo>
                      <a:pt x="5761" y="300"/>
                    </a:lnTo>
                    <a:lnTo>
                      <a:pt x="5806" y="300"/>
                    </a:lnTo>
                    <a:lnTo>
                      <a:pt x="5851" y="300"/>
                    </a:lnTo>
                    <a:lnTo>
                      <a:pt x="5896" y="315"/>
                    </a:lnTo>
                    <a:lnTo>
                      <a:pt x="5941" y="315"/>
                    </a:ln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659280" y="4899600"/>
                <a:ext cx="11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6659280" y="446580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V="1">
                <a:off x="6659280" y="4888440"/>
                <a:ext cx="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4" name=""/>
              <p:cNvSpPr/>
              <p:nvPr/>
            </p:nvSpPr>
            <p:spPr>
              <a:xfrm>
                <a:off x="6652440" y="49118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895" name=""/>
              <p:cNvSpPr/>
              <p:nvPr/>
            </p:nvSpPr>
            <p:spPr>
              <a:xfrm flipV="1">
                <a:off x="6818040" y="4888440"/>
                <a:ext cx="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6" name=""/>
              <p:cNvSpPr/>
              <p:nvPr/>
            </p:nvSpPr>
            <p:spPr>
              <a:xfrm>
                <a:off x="6798600" y="491184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a:t>
                </a:r>
                <a:endParaRPr b="0" lang="en-US" sz="700" spc="-1" strike="noStrike">
                  <a:solidFill>
                    <a:srgbClr val="000000"/>
                  </a:solidFill>
                  <a:latin typeface="Times New Roman"/>
                </a:endParaRPr>
              </a:p>
            </p:txBody>
          </p:sp>
          <p:sp>
            <p:nvSpPr>
              <p:cNvPr id="897" name=""/>
              <p:cNvSpPr/>
              <p:nvPr/>
            </p:nvSpPr>
            <p:spPr>
              <a:xfrm flipV="1">
                <a:off x="6976800" y="4888440"/>
                <a:ext cx="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8" name=""/>
              <p:cNvSpPr/>
              <p:nvPr/>
            </p:nvSpPr>
            <p:spPr>
              <a:xfrm>
                <a:off x="6959520" y="491184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0</a:t>
                </a:r>
                <a:endParaRPr b="0" lang="en-US" sz="700" spc="-1" strike="noStrike">
                  <a:solidFill>
                    <a:srgbClr val="000000"/>
                  </a:solidFill>
                  <a:latin typeface="Times New Roman"/>
                </a:endParaRPr>
              </a:p>
            </p:txBody>
          </p:sp>
          <p:sp>
            <p:nvSpPr>
              <p:cNvPr id="899" name=""/>
              <p:cNvSpPr/>
              <p:nvPr/>
            </p:nvSpPr>
            <p:spPr>
              <a:xfrm flipV="1">
                <a:off x="7135920" y="4888440"/>
                <a:ext cx="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0" name=""/>
              <p:cNvSpPr/>
              <p:nvPr/>
            </p:nvSpPr>
            <p:spPr>
              <a:xfrm>
                <a:off x="7116840" y="491184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0</a:t>
                </a:r>
                <a:endParaRPr b="0" lang="en-US" sz="700" spc="-1" strike="noStrike">
                  <a:solidFill>
                    <a:srgbClr val="000000"/>
                  </a:solidFill>
                  <a:latin typeface="Times New Roman"/>
                </a:endParaRPr>
              </a:p>
            </p:txBody>
          </p:sp>
          <p:sp>
            <p:nvSpPr>
              <p:cNvPr id="901" name=""/>
              <p:cNvSpPr/>
              <p:nvPr/>
            </p:nvSpPr>
            <p:spPr>
              <a:xfrm flipV="1">
                <a:off x="7293240" y="4888440"/>
                <a:ext cx="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2" name=""/>
              <p:cNvSpPr/>
              <p:nvPr/>
            </p:nvSpPr>
            <p:spPr>
              <a:xfrm>
                <a:off x="7275240" y="491184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0</a:t>
                </a:r>
                <a:endParaRPr b="0" lang="en-US" sz="700" spc="-1" strike="noStrike">
                  <a:solidFill>
                    <a:srgbClr val="000000"/>
                  </a:solidFill>
                  <a:latin typeface="Times New Roman"/>
                </a:endParaRPr>
              </a:p>
            </p:txBody>
          </p:sp>
          <p:sp>
            <p:nvSpPr>
              <p:cNvPr id="903" name=""/>
              <p:cNvSpPr/>
              <p:nvPr/>
            </p:nvSpPr>
            <p:spPr>
              <a:xfrm flipV="1">
                <a:off x="7452000" y="4888440"/>
                <a:ext cx="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4" name=""/>
              <p:cNvSpPr/>
              <p:nvPr/>
            </p:nvSpPr>
            <p:spPr>
              <a:xfrm>
                <a:off x="7427520" y="491184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a:t>
                </a:r>
                <a:endParaRPr b="0" lang="en-US" sz="700" spc="-1" strike="noStrike">
                  <a:solidFill>
                    <a:srgbClr val="000000"/>
                  </a:solidFill>
                  <a:latin typeface="Times New Roman"/>
                </a:endParaRPr>
              </a:p>
            </p:txBody>
          </p:sp>
          <p:sp>
            <p:nvSpPr>
              <p:cNvPr id="905" name=""/>
              <p:cNvSpPr/>
              <p:nvPr/>
            </p:nvSpPr>
            <p:spPr>
              <a:xfrm flipV="1">
                <a:off x="7610760" y="4888440"/>
                <a:ext cx="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6" name=""/>
              <p:cNvSpPr/>
              <p:nvPr/>
            </p:nvSpPr>
            <p:spPr>
              <a:xfrm>
                <a:off x="7584840" y="491184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0</a:t>
                </a:r>
                <a:endParaRPr b="0" lang="en-US" sz="700" spc="-1" strike="noStrike">
                  <a:solidFill>
                    <a:srgbClr val="000000"/>
                  </a:solidFill>
                  <a:latin typeface="Times New Roman"/>
                </a:endParaRPr>
              </a:p>
            </p:txBody>
          </p:sp>
          <p:sp>
            <p:nvSpPr>
              <p:cNvPr id="907" name=""/>
              <p:cNvSpPr/>
              <p:nvPr/>
            </p:nvSpPr>
            <p:spPr>
              <a:xfrm flipV="1">
                <a:off x="7769520" y="4888440"/>
                <a:ext cx="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8" name=""/>
              <p:cNvSpPr/>
              <p:nvPr/>
            </p:nvSpPr>
            <p:spPr>
              <a:xfrm>
                <a:off x="6659280" y="4899600"/>
                <a:ext cx="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9" name=""/>
              <p:cNvGrpSpPr/>
              <p:nvPr/>
            </p:nvGrpSpPr>
            <p:grpSpPr>
              <a:xfrm>
                <a:off x="6680160" y="4604040"/>
                <a:ext cx="1013760" cy="251280"/>
                <a:chOff x="6680160" y="4604040"/>
                <a:chExt cx="1013760" cy="251280"/>
              </a:xfrm>
            </p:grpSpPr>
            <p:sp>
              <p:nvSpPr>
                <p:cNvPr id="910" name=""/>
                <p:cNvSpPr/>
                <p:nvPr/>
              </p:nvSpPr>
              <p:spPr>
                <a:xfrm flipV="1">
                  <a:off x="7646760" y="4667400"/>
                  <a:ext cx="4716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1" name=""/>
                <p:cNvSpPr/>
                <p:nvPr/>
              </p:nvSpPr>
              <p:spPr>
                <a:xfrm>
                  <a:off x="7533000" y="4604040"/>
                  <a:ext cx="105480" cy="69120"/>
                </a:xfrm>
                <a:prstGeom prst="line">
                  <a:avLst/>
                </a:prstGeom>
                <a:ln w="19080">
                  <a:solidFill>
                    <a:srgbClr val="0000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12" name=""/>
                <p:cNvSpPr/>
                <p:nvPr/>
              </p:nvSpPr>
              <p:spPr>
                <a:xfrm flipV="1">
                  <a:off x="6798600" y="4736880"/>
                  <a:ext cx="79560" cy="84960"/>
                </a:xfrm>
                <a:prstGeom prst="line">
                  <a:avLst/>
                </a:prstGeom>
                <a:ln w="1908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 name=""/>
                <p:cNvSpPr/>
                <p:nvPr/>
              </p:nvSpPr>
              <p:spPr>
                <a:xfrm>
                  <a:off x="7095600" y="4694760"/>
                  <a:ext cx="208800" cy="28440"/>
                </a:xfrm>
                <a:prstGeom prst="line">
                  <a:avLst/>
                </a:prstGeom>
                <a:ln w="1908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4" name=""/>
                <p:cNvSpPr/>
                <p:nvPr/>
              </p:nvSpPr>
              <p:spPr>
                <a:xfrm flipV="1">
                  <a:off x="7312680" y="4608720"/>
                  <a:ext cx="212040" cy="109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V="1">
                  <a:off x="6921720" y="4698720"/>
                  <a:ext cx="166320" cy="59400"/>
                </a:xfrm>
                <a:prstGeom prst="line">
                  <a:avLst/>
                </a:prstGeom>
                <a:ln w="19080">
                  <a:solidFill>
                    <a:srgbClr val="0000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16" name=""/>
                <p:cNvSpPr/>
                <p:nvPr/>
              </p:nvSpPr>
              <p:spPr>
                <a:xfrm flipV="1">
                  <a:off x="6680160" y="4828320"/>
                  <a:ext cx="111600" cy="27000"/>
                </a:xfrm>
                <a:prstGeom prst="line">
                  <a:avLst/>
                </a:prstGeom>
                <a:ln w="1908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6887520" y="4734720"/>
                  <a:ext cx="24840" cy="18000"/>
                </a:xfrm>
                <a:prstGeom prst="line">
                  <a:avLst/>
                </a:prstGeom>
                <a:ln w="1908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918" name=""/>
              <p:cNvSpPr/>
              <p:nvPr/>
            </p:nvSpPr>
            <p:spPr>
              <a:xfrm flipV="1">
                <a:off x="7736400" y="6371640"/>
                <a:ext cx="46800" cy="2160"/>
              </a:xfrm>
              <a:prstGeom prst="line">
                <a:avLst/>
              </a:prstGeom>
              <a:ln w="158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9" name=""/>
              <p:cNvSpPr/>
              <p:nvPr/>
            </p:nvSpPr>
            <p:spPr>
              <a:xfrm>
                <a:off x="7623360" y="6171120"/>
                <a:ext cx="104760" cy="70200"/>
              </a:xfrm>
              <a:prstGeom prst="line">
                <a:avLst/>
              </a:prstGeom>
              <a:ln w="158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20" name=""/>
              <p:cNvSpPr/>
              <p:nvPr/>
            </p:nvSpPr>
            <p:spPr>
              <a:xfrm flipV="1">
                <a:off x="6863760" y="5222520"/>
                <a:ext cx="78840" cy="846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1" name=""/>
              <p:cNvSpPr/>
              <p:nvPr/>
            </p:nvSpPr>
            <p:spPr>
              <a:xfrm>
                <a:off x="7160400" y="5773320"/>
                <a:ext cx="208440" cy="28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2" name=""/>
              <p:cNvSpPr/>
              <p:nvPr/>
            </p:nvSpPr>
            <p:spPr>
              <a:xfrm flipV="1">
                <a:off x="7377480" y="5931360"/>
                <a:ext cx="212400" cy="110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V="1">
                <a:off x="6987960" y="5582160"/>
                <a:ext cx="165600" cy="60120"/>
              </a:xfrm>
              <a:prstGeom prst="line">
                <a:avLst/>
              </a:prstGeom>
              <a:ln w="158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4" name=""/>
              <p:cNvSpPr/>
              <p:nvPr/>
            </p:nvSpPr>
            <p:spPr>
              <a:xfrm flipV="1">
                <a:off x="6744960" y="5066640"/>
                <a:ext cx="111600" cy="26640"/>
              </a:xfrm>
              <a:prstGeom prst="line">
                <a:avLst/>
              </a:prstGeom>
              <a:ln w="158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5" name=""/>
              <p:cNvSpPr/>
              <p:nvPr/>
            </p:nvSpPr>
            <p:spPr>
              <a:xfrm>
                <a:off x="6952320" y="5436720"/>
                <a:ext cx="25920" cy="16560"/>
              </a:xfrm>
              <a:prstGeom prst="line">
                <a:avLst/>
              </a:prstGeom>
              <a:ln w="158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26" name=""/>
              <p:cNvSpPr/>
              <p:nvPr/>
            </p:nvSpPr>
            <p:spPr>
              <a:xfrm>
                <a:off x="6674400" y="4344480"/>
                <a:ext cx="1070280" cy="273600"/>
              </a:xfrm>
              <a:custGeom>
                <a:avLst/>
                <a:gdLst/>
                <a:ahLst/>
                <a:rect l="l" t="t" r="r" b="b"/>
                <a:pathLst>
                  <a:path w="5941" h="1275">
                    <a:moveTo>
                      <a:pt x="0" y="1275"/>
                    </a:moveTo>
                    <a:lnTo>
                      <a:pt x="45" y="1245"/>
                    </a:lnTo>
                    <a:lnTo>
                      <a:pt x="90" y="1230"/>
                    </a:lnTo>
                    <a:lnTo>
                      <a:pt x="135" y="1230"/>
                    </a:lnTo>
                    <a:lnTo>
                      <a:pt x="180" y="1230"/>
                    </a:lnTo>
                    <a:lnTo>
                      <a:pt x="240" y="1230"/>
                    </a:lnTo>
                    <a:lnTo>
                      <a:pt x="285" y="1245"/>
                    </a:lnTo>
                    <a:lnTo>
                      <a:pt x="330" y="1245"/>
                    </a:lnTo>
                    <a:lnTo>
                      <a:pt x="375" y="1230"/>
                    </a:lnTo>
                    <a:lnTo>
                      <a:pt x="420" y="1215"/>
                    </a:lnTo>
                    <a:lnTo>
                      <a:pt x="465" y="1200"/>
                    </a:lnTo>
                    <a:lnTo>
                      <a:pt x="510" y="1185"/>
                    </a:lnTo>
                    <a:lnTo>
                      <a:pt x="555" y="1170"/>
                    </a:lnTo>
                    <a:lnTo>
                      <a:pt x="600" y="1155"/>
                    </a:lnTo>
                    <a:lnTo>
                      <a:pt x="645" y="1140"/>
                    </a:lnTo>
                    <a:lnTo>
                      <a:pt x="690" y="1095"/>
                    </a:lnTo>
                    <a:lnTo>
                      <a:pt x="750" y="1050"/>
                    </a:lnTo>
                    <a:lnTo>
                      <a:pt x="795" y="990"/>
                    </a:lnTo>
                    <a:lnTo>
                      <a:pt x="840" y="960"/>
                    </a:lnTo>
                    <a:lnTo>
                      <a:pt x="885" y="915"/>
                    </a:lnTo>
                    <a:lnTo>
                      <a:pt x="930" y="870"/>
                    </a:lnTo>
                    <a:lnTo>
                      <a:pt x="975" y="825"/>
                    </a:lnTo>
                    <a:lnTo>
                      <a:pt x="1020" y="780"/>
                    </a:lnTo>
                    <a:lnTo>
                      <a:pt x="1065" y="750"/>
                    </a:lnTo>
                    <a:lnTo>
                      <a:pt x="1110" y="720"/>
                    </a:lnTo>
                    <a:lnTo>
                      <a:pt x="1155" y="690"/>
                    </a:lnTo>
                    <a:lnTo>
                      <a:pt x="1215" y="675"/>
                    </a:lnTo>
                    <a:lnTo>
                      <a:pt x="1260" y="690"/>
                    </a:lnTo>
                    <a:lnTo>
                      <a:pt x="1305" y="690"/>
                    </a:lnTo>
                    <a:lnTo>
                      <a:pt x="1350" y="720"/>
                    </a:lnTo>
                    <a:lnTo>
                      <a:pt x="1395" y="750"/>
                    </a:lnTo>
                    <a:lnTo>
                      <a:pt x="1440" y="750"/>
                    </a:lnTo>
                    <a:lnTo>
                      <a:pt x="1485" y="750"/>
                    </a:lnTo>
                    <a:lnTo>
                      <a:pt x="1530" y="750"/>
                    </a:lnTo>
                    <a:lnTo>
                      <a:pt x="1575" y="750"/>
                    </a:lnTo>
                    <a:lnTo>
                      <a:pt x="1620" y="735"/>
                    </a:lnTo>
                    <a:lnTo>
                      <a:pt x="1665" y="720"/>
                    </a:lnTo>
                    <a:lnTo>
                      <a:pt x="1725" y="705"/>
                    </a:lnTo>
                    <a:lnTo>
                      <a:pt x="1770" y="690"/>
                    </a:lnTo>
                    <a:lnTo>
                      <a:pt x="1815" y="675"/>
                    </a:lnTo>
                    <a:lnTo>
                      <a:pt x="1860" y="645"/>
                    </a:lnTo>
                    <a:lnTo>
                      <a:pt x="1905" y="615"/>
                    </a:lnTo>
                    <a:lnTo>
                      <a:pt x="1950" y="585"/>
                    </a:lnTo>
                    <a:lnTo>
                      <a:pt x="1995" y="555"/>
                    </a:lnTo>
                    <a:lnTo>
                      <a:pt x="2040" y="540"/>
                    </a:lnTo>
                    <a:lnTo>
                      <a:pt x="2085" y="525"/>
                    </a:lnTo>
                    <a:lnTo>
                      <a:pt x="2130" y="510"/>
                    </a:lnTo>
                    <a:lnTo>
                      <a:pt x="2175" y="510"/>
                    </a:lnTo>
                    <a:lnTo>
                      <a:pt x="2235" y="510"/>
                    </a:lnTo>
                    <a:lnTo>
                      <a:pt x="2280" y="510"/>
                    </a:lnTo>
                    <a:lnTo>
                      <a:pt x="2325" y="495"/>
                    </a:lnTo>
                    <a:lnTo>
                      <a:pt x="2370" y="465"/>
                    </a:lnTo>
                    <a:lnTo>
                      <a:pt x="2415" y="435"/>
                    </a:lnTo>
                    <a:lnTo>
                      <a:pt x="2460" y="435"/>
                    </a:lnTo>
                    <a:lnTo>
                      <a:pt x="2505" y="450"/>
                    </a:lnTo>
                    <a:lnTo>
                      <a:pt x="2550" y="450"/>
                    </a:lnTo>
                    <a:lnTo>
                      <a:pt x="2595" y="450"/>
                    </a:lnTo>
                    <a:lnTo>
                      <a:pt x="2640" y="465"/>
                    </a:lnTo>
                    <a:lnTo>
                      <a:pt x="2685" y="465"/>
                    </a:lnTo>
                    <a:lnTo>
                      <a:pt x="2745" y="465"/>
                    </a:lnTo>
                    <a:lnTo>
                      <a:pt x="2790" y="450"/>
                    </a:lnTo>
                    <a:lnTo>
                      <a:pt x="2836" y="450"/>
                    </a:lnTo>
                    <a:lnTo>
                      <a:pt x="2881" y="435"/>
                    </a:lnTo>
                    <a:lnTo>
                      <a:pt x="2926" y="450"/>
                    </a:lnTo>
                    <a:lnTo>
                      <a:pt x="2971" y="465"/>
                    </a:lnTo>
                    <a:lnTo>
                      <a:pt x="3016" y="495"/>
                    </a:lnTo>
                    <a:lnTo>
                      <a:pt x="3061" y="510"/>
                    </a:lnTo>
                    <a:lnTo>
                      <a:pt x="3106" y="540"/>
                    </a:lnTo>
                    <a:lnTo>
                      <a:pt x="3151" y="540"/>
                    </a:lnTo>
                    <a:lnTo>
                      <a:pt x="3211" y="555"/>
                    </a:lnTo>
                    <a:lnTo>
                      <a:pt x="3256" y="540"/>
                    </a:lnTo>
                    <a:lnTo>
                      <a:pt x="3301" y="525"/>
                    </a:lnTo>
                    <a:lnTo>
                      <a:pt x="3346" y="525"/>
                    </a:lnTo>
                    <a:lnTo>
                      <a:pt x="3391" y="540"/>
                    </a:lnTo>
                    <a:lnTo>
                      <a:pt x="3436" y="555"/>
                    </a:lnTo>
                    <a:lnTo>
                      <a:pt x="3481" y="570"/>
                    </a:lnTo>
                    <a:lnTo>
                      <a:pt x="3526" y="585"/>
                    </a:lnTo>
                    <a:lnTo>
                      <a:pt x="3571" y="585"/>
                    </a:lnTo>
                    <a:lnTo>
                      <a:pt x="3616" y="570"/>
                    </a:lnTo>
                    <a:lnTo>
                      <a:pt x="3661" y="540"/>
                    </a:lnTo>
                    <a:lnTo>
                      <a:pt x="3721" y="510"/>
                    </a:lnTo>
                    <a:lnTo>
                      <a:pt x="3766" y="495"/>
                    </a:lnTo>
                    <a:lnTo>
                      <a:pt x="3811" y="480"/>
                    </a:lnTo>
                    <a:lnTo>
                      <a:pt x="3856" y="465"/>
                    </a:lnTo>
                    <a:lnTo>
                      <a:pt x="3901" y="465"/>
                    </a:lnTo>
                    <a:lnTo>
                      <a:pt x="3946" y="465"/>
                    </a:lnTo>
                    <a:lnTo>
                      <a:pt x="3991" y="450"/>
                    </a:lnTo>
                    <a:lnTo>
                      <a:pt x="4036" y="420"/>
                    </a:lnTo>
                    <a:lnTo>
                      <a:pt x="4081" y="375"/>
                    </a:lnTo>
                    <a:lnTo>
                      <a:pt x="4126" y="345"/>
                    </a:lnTo>
                    <a:lnTo>
                      <a:pt x="4171" y="315"/>
                    </a:lnTo>
                    <a:lnTo>
                      <a:pt x="4231" y="285"/>
                    </a:lnTo>
                    <a:lnTo>
                      <a:pt x="4276" y="255"/>
                    </a:lnTo>
                    <a:lnTo>
                      <a:pt x="4321" y="210"/>
                    </a:lnTo>
                    <a:lnTo>
                      <a:pt x="4366" y="195"/>
                    </a:lnTo>
                    <a:lnTo>
                      <a:pt x="4411" y="180"/>
                    </a:lnTo>
                    <a:lnTo>
                      <a:pt x="4456" y="165"/>
                    </a:lnTo>
                    <a:lnTo>
                      <a:pt x="4501" y="165"/>
                    </a:lnTo>
                    <a:lnTo>
                      <a:pt x="4546" y="135"/>
                    </a:lnTo>
                    <a:lnTo>
                      <a:pt x="4591" y="105"/>
                    </a:lnTo>
                    <a:lnTo>
                      <a:pt x="4636" y="75"/>
                    </a:lnTo>
                    <a:lnTo>
                      <a:pt x="4681" y="60"/>
                    </a:lnTo>
                    <a:lnTo>
                      <a:pt x="4741" y="45"/>
                    </a:lnTo>
                    <a:lnTo>
                      <a:pt x="4786" y="30"/>
                    </a:lnTo>
                    <a:lnTo>
                      <a:pt x="4831" y="15"/>
                    </a:lnTo>
                    <a:lnTo>
                      <a:pt x="4876" y="30"/>
                    </a:lnTo>
                    <a:lnTo>
                      <a:pt x="4921" y="15"/>
                    </a:lnTo>
                    <a:lnTo>
                      <a:pt x="4966" y="0"/>
                    </a:lnTo>
                    <a:lnTo>
                      <a:pt x="5011" y="0"/>
                    </a:lnTo>
                    <a:lnTo>
                      <a:pt x="5056" y="15"/>
                    </a:lnTo>
                    <a:lnTo>
                      <a:pt x="5101" y="15"/>
                    </a:lnTo>
                    <a:lnTo>
                      <a:pt x="5146" y="30"/>
                    </a:lnTo>
                    <a:lnTo>
                      <a:pt x="5191" y="60"/>
                    </a:lnTo>
                    <a:lnTo>
                      <a:pt x="5251" y="90"/>
                    </a:lnTo>
                    <a:lnTo>
                      <a:pt x="5296" y="120"/>
                    </a:lnTo>
                    <a:lnTo>
                      <a:pt x="5341" y="150"/>
                    </a:lnTo>
                    <a:lnTo>
                      <a:pt x="5386" y="165"/>
                    </a:lnTo>
                    <a:lnTo>
                      <a:pt x="5431" y="195"/>
                    </a:lnTo>
                    <a:lnTo>
                      <a:pt x="5476" y="225"/>
                    </a:lnTo>
                    <a:lnTo>
                      <a:pt x="5521" y="270"/>
                    </a:lnTo>
                    <a:lnTo>
                      <a:pt x="5566" y="285"/>
                    </a:lnTo>
                    <a:lnTo>
                      <a:pt x="5611" y="315"/>
                    </a:lnTo>
                    <a:lnTo>
                      <a:pt x="5656" y="300"/>
                    </a:lnTo>
                    <a:lnTo>
                      <a:pt x="5716" y="300"/>
                    </a:lnTo>
                    <a:lnTo>
                      <a:pt x="5761" y="300"/>
                    </a:lnTo>
                    <a:lnTo>
                      <a:pt x="5806" y="300"/>
                    </a:lnTo>
                    <a:lnTo>
                      <a:pt x="5851" y="300"/>
                    </a:lnTo>
                    <a:lnTo>
                      <a:pt x="5896" y="315"/>
                    </a:lnTo>
                    <a:lnTo>
                      <a:pt x="5941" y="315"/>
                    </a:ln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229680" y="6476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FT</a:t>
                </a:r>
                <a:endParaRPr b="0" lang="en-US" sz="2000" spc="-1" strike="noStrike">
                  <a:solidFill>
                    <a:srgbClr val="000000"/>
                  </a:solidFill>
                  <a:latin typeface="Times New Roman"/>
                </a:endParaRPr>
              </a:p>
            </p:txBody>
          </p:sp>
          <p:sp>
            <p:nvSpPr>
              <p:cNvPr id="928" name=""/>
              <p:cNvSpPr/>
              <p:nvPr/>
            </p:nvSpPr>
            <p:spPr>
              <a:xfrm>
                <a:off x="1443240" y="647640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WT</a:t>
                </a:r>
                <a:endParaRPr b="0" lang="en-US" sz="2000" spc="-1" strike="noStrike">
                  <a:solidFill>
                    <a:srgbClr val="000000"/>
                  </a:solidFill>
                  <a:latin typeface="Times New Roman"/>
                </a:endParaRPr>
              </a:p>
            </p:txBody>
          </p:sp>
          <p:sp>
            <p:nvSpPr>
              <p:cNvPr id="929" name=""/>
              <p:cNvSpPr/>
              <p:nvPr/>
            </p:nvSpPr>
            <p:spPr>
              <a:xfrm>
                <a:off x="2752200" y="647640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VD</a:t>
                </a:r>
                <a:endParaRPr b="0" lang="en-US" sz="2000" spc="-1" strike="noStrike">
                  <a:solidFill>
                    <a:srgbClr val="000000"/>
                  </a:solidFill>
                  <a:latin typeface="Times New Roman"/>
                </a:endParaRPr>
              </a:p>
            </p:txBody>
          </p:sp>
          <p:sp>
            <p:nvSpPr>
              <p:cNvPr id="930" name=""/>
              <p:cNvSpPr/>
              <p:nvPr/>
            </p:nvSpPr>
            <p:spPr>
              <a:xfrm>
                <a:off x="4000680" y="64764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CA</a:t>
                </a:r>
                <a:endParaRPr b="0" lang="en-US" sz="2000" spc="-1" strike="noStrike">
                  <a:solidFill>
                    <a:srgbClr val="000000"/>
                  </a:solidFill>
                  <a:latin typeface="Times New Roman"/>
                </a:endParaRPr>
              </a:p>
            </p:txBody>
          </p:sp>
          <p:sp>
            <p:nvSpPr>
              <p:cNvPr id="931" name=""/>
              <p:cNvSpPr/>
              <p:nvPr/>
            </p:nvSpPr>
            <p:spPr>
              <a:xfrm>
                <a:off x="5393880" y="647640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A</a:t>
                </a:r>
                <a:endParaRPr b="0" lang="en-US" sz="2000" spc="-1" strike="noStrike">
                  <a:solidFill>
                    <a:srgbClr val="000000"/>
                  </a:solidFill>
                  <a:latin typeface="Times New Roman"/>
                </a:endParaRPr>
              </a:p>
            </p:txBody>
          </p:sp>
          <p:sp>
            <p:nvSpPr>
              <p:cNvPr id="932" name=""/>
              <p:cNvSpPr/>
              <p:nvPr/>
            </p:nvSpPr>
            <p:spPr>
              <a:xfrm>
                <a:off x="6639480" y="6476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a:t>
                </a:r>
                <a:endParaRPr b="0" lang="en-US" sz="2000" spc="-1" strike="noStrike">
                  <a:solidFill>
                    <a:srgbClr val="000000"/>
                  </a:solidFill>
                  <a:latin typeface="Times New Roman"/>
                </a:endParaRPr>
              </a:p>
            </p:txBody>
          </p:sp>
        </p:grpSp>
        <p:grpSp>
          <p:nvGrpSpPr>
            <p:cNvPr id="933" name=""/>
            <p:cNvGrpSpPr/>
            <p:nvPr/>
          </p:nvGrpSpPr>
          <p:grpSpPr>
            <a:xfrm>
              <a:off x="7733520" y="4156200"/>
              <a:ext cx="1409760" cy="2887560"/>
              <a:chOff x="7733520" y="4156200"/>
              <a:chExt cx="1409760" cy="2887560"/>
            </a:xfrm>
          </p:grpSpPr>
          <p:sp>
            <p:nvSpPr>
              <p:cNvPr id="934" name=""/>
              <p:cNvSpPr/>
              <p:nvPr/>
            </p:nvSpPr>
            <p:spPr>
              <a:xfrm>
                <a:off x="7826040" y="4156200"/>
                <a:ext cx="1317240" cy="2887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7921800" y="4902120"/>
                <a:ext cx="109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flipV="1">
                <a:off x="7921800" y="4451400"/>
                <a:ext cx="1800" cy="45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flipV="1">
                <a:off x="7921800" y="4890600"/>
                <a:ext cx="18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8" name=""/>
              <p:cNvSpPr/>
              <p:nvPr/>
            </p:nvSpPr>
            <p:spPr>
              <a:xfrm>
                <a:off x="7916760" y="4913280"/>
                <a:ext cx="48960" cy="49320"/>
              </a:xfrm>
              <a:prstGeom prst="rect">
                <a:avLst/>
              </a:pr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9" name=""/>
              <p:cNvSpPr/>
              <p:nvPr/>
            </p:nvSpPr>
            <p:spPr>
              <a:xfrm>
                <a:off x="7916760" y="49132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940" name=""/>
              <p:cNvSpPr/>
              <p:nvPr/>
            </p:nvSpPr>
            <p:spPr>
              <a:xfrm flipV="1">
                <a:off x="8081280" y="4890600"/>
                <a:ext cx="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1" name=""/>
              <p:cNvSpPr/>
              <p:nvPr/>
            </p:nvSpPr>
            <p:spPr>
              <a:xfrm>
                <a:off x="8061840" y="4913280"/>
                <a:ext cx="76680" cy="49320"/>
              </a:xfrm>
              <a:prstGeom prst="rect">
                <a:avLst/>
              </a:pr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2" name=""/>
              <p:cNvSpPr/>
              <p:nvPr/>
            </p:nvSpPr>
            <p:spPr>
              <a:xfrm>
                <a:off x="8061480" y="49132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a:t>
                </a:r>
                <a:endParaRPr b="0" lang="en-US" sz="700" spc="-1" strike="noStrike">
                  <a:solidFill>
                    <a:srgbClr val="000000"/>
                  </a:solidFill>
                  <a:latin typeface="Times New Roman"/>
                </a:endParaRPr>
              </a:p>
            </p:txBody>
          </p:sp>
          <p:sp>
            <p:nvSpPr>
              <p:cNvPr id="943" name=""/>
              <p:cNvSpPr/>
              <p:nvPr/>
            </p:nvSpPr>
            <p:spPr>
              <a:xfrm flipV="1">
                <a:off x="8235000" y="4890600"/>
                <a:ext cx="14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4" name=""/>
              <p:cNvSpPr/>
              <p:nvPr/>
            </p:nvSpPr>
            <p:spPr>
              <a:xfrm>
                <a:off x="8219160" y="4913280"/>
                <a:ext cx="75240" cy="49320"/>
              </a:xfrm>
              <a:prstGeom prst="rect">
                <a:avLst/>
              </a:pr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5" name=""/>
              <p:cNvSpPr/>
              <p:nvPr/>
            </p:nvSpPr>
            <p:spPr>
              <a:xfrm>
                <a:off x="8218800" y="49132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0</a:t>
                </a:r>
                <a:endParaRPr b="0" lang="en-US" sz="700" spc="-1" strike="noStrike">
                  <a:solidFill>
                    <a:srgbClr val="000000"/>
                  </a:solidFill>
                  <a:latin typeface="Times New Roman"/>
                </a:endParaRPr>
              </a:p>
            </p:txBody>
          </p:sp>
          <p:sp>
            <p:nvSpPr>
              <p:cNvPr id="946" name=""/>
              <p:cNvSpPr/>
              <p:nvPr/>
            </p:nvSpPr>
            <p:spPr>
              <a:xfrm flipV="1">
                <a:off x="8392320" y="4890600"/>
                <a:ext cx="14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7" name=""/>
              <p:cNvSpPr/>
              <p:nvPr/>
            </p:nvSpPr>
            <p:spPr>
              <a:xfrm>
                <a:off x="8374320" y="4913280"/>
                <a:ext cx="75240" cy="49320"/>
              </a:xfrm>
              <a:prstGeom prst="rect">
                <a:avLst/>
              </a:pr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8" name=""/>
              <p:cNvSpPr/>
              <p:nvPr/>
            </p:nvSpPr>
            <p:spPr>
              <a:xfrm>
                <a:off x="8373960" y="49132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0</a:t>
                </a:r>
                <a:endParaRPr b="0" lang="en-US" sz="700" spc="-1" strike="noStrike">
                  <a:solidFill>
                    <a:srgbClr val="000000"/>
                  </a:solidFill>
                  <a:latin typeface="Times New Roman"/>
                </a:endParaRPr>
              </a:p>
            </p:txBody>
          </p:sp>
          <p:sp>
            <p:nvSpPr>
              <p:cNvPr id="949" name=""/>
              <p:cNvSpPr/>
              <p:nvPr/>
            </p:nvSpPr>
            <p:spPr>
              <a:xfrm flipV="1">
                <a:off x="8543880" y="4890600"/>
                <a:ext cx="18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0" name=""/>
              <p:cNvSpPr/>
              <p:nvPr/>
            </p:nvSpPr>
            <p:spPr>
              <a:xfrm>
                <a:off x="8528040" y="4913280"/>
                <a:ext cx="76680" cy="49320"/>
              </a:xfrm>
              <a:prstGeom prst="rect">
                <a:avLst/>
              </a:pr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1" name=""/>
              <p:cNvSpPr/>
              <p:nvPr/>
            </p:nvSpPr>
            <p:spPr>
              <a:xfrm>
                <a:off x="8527680" y="49132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0</a:t>
                </a:r>
                <a:endParaRPr b="0" lang="en-US" sz="700" spc="-1" strike="noStrike">
                  <a:solidFill>
                    <a:srgbClr val="000000"/>
                  </a:solidFill>
                  <a:latin typeface="Times New Roman"/>
                </a:endParaRPr>
              </a:p>
            </p:txBody>
          </p:sp>
          <p:sp>
            <p:nvSpPr>
              <p:cNvPr id="952" name=""/>
              <p:cNvSpPr/>
              <p:nvPr/>
            </p:nvSpPr>
            <p:spPr>
              <a:xfrm flipV="1">
                <a:off x="8703000" y="4890600"/>
                <a:ext cx="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3" name=""/>
              <p:cNvSpPr/>
              <p:nvPr/>
            </p:nvSpPr>
            <p:spPr>
              <a:xfrm>
                <a:off x="8676720" y="4913280"/>
                <a:ext cx="104760" cy="49320"/>
              </a:xfrm>
              <a:prstGeom prst="rect">
                <a:avLst/>
              </a:pr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4" name=""/>
              <p:cNvSpPr/>
              <p:nvPr/>
            </p:nvSpPr>
            <p:spPr>
              <a:xfrm>
                <a:off x="8676720" y="491328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a:t>
                </a:r>
                <a:endParaRPr b="0" lang="en-US" sz="700" spc="-1" strike="noStrike">
                  <a:solidFill>
                    <a:srgbClr val="000000"/>
                  </a:solidFill>
                  <a:latin typeface="Times New Roman"/>
                </a:endParaRPr>
              </a:p>
            </p:txBody>
          </p:sp>
          <p:sp>
            <p:nvSpPr>
              <p:cNvPr id="955" name=""/>
              <p:cNvSpPr/>
              <p:nvPr/>
            </p:nvSpPr>
            <p:spPr>
              <a:xfrm flipV="1">
                <a:off x="8856720" y="4890600"/>
                <a:ext cx="18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6" name=""/>
              <p:cNvSpPr/>
              <p:nvPr/>
            </p:nvSpPr>
            <p:spPr>
              <a:xfrm>
                <a:off x="8832240" y="4913280"/>
                <a:ext cx="108000" cy="49320"/>
              </a:xfrm>
              <a:prstGeom prst="rect">
                <a:avLst/>
              </a:pr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7" name=""/>
              <p:cNvSpPr/>
              <p:nvPr/>
            </p:nvSpPr>
            <p:spPr>
              <a:xfrm>
                <a:off x="8832240" y="491328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0</a:t>
                </a:r>
                <a:endParaRPr b="0" lang="en-US" sz="700" spc="-1" strike="noStrike">
                  <a:solidFill>
                    <a:srgbClr val="000000"/>
                  </a:solidFill>
                  <a:latin typeface="Times New Roman"/>
                </a:endParaRPr>
              </a:p>
            </p:txBody>
          </p:sp>
          <p:sp>
            <p:nvSpPr>
              <p:cNvPr id="958" name=""/>
              <p:cNvSpPr/>
              <p:nvPr/>
            </p:nvSpPr>
            <p:spPr>
              <a:xfrm flipV="1">
                <a:off x="9014040" y="4890600"/>
                <a:ext cx="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9" name=""/>
              <p:cNvSpPr/>
              <p:nvPr/>
            </p:nvSpPr>
            <p:spPr>
              <a:xfrm>
                <a:off x="8987760" y="4913280"/>
                <a:ext cx="106560" cy="49320"/>
              </a:xfrm>
              <a:prstGeom prst="rect">
                <a:avLst/>
              </a:pr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0" name=""/>
              <p:cNvSpPr/>
              <p:nvPr/>
            </p:nvSpPr>
            <p:spPr>
              <a:xfrm>
                <a:off x="7921800" y="4902120"/>
                <a:ext cx="1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8979120" y="4502160"/>
                <a:ext cx="68040" cy="52200"/>
              </a:xfrm>
              <a:prstGeom prst="rect">
                <a:avLst/>
              </a:prstGeom>
              <a:no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2" name=""/>
              <p:cNvSpPr/>
              <p:nvPr/>
            </p:nvSpPr>
            <p:spPr>
              <a:xfrm>
                <a:off x="8979120" y="4659480"/>
                <a:ext cx="68040" cy="52200"/>
              </a:xfrm>
              <a:prstGeom prst="rect">
                <a:avLst/>
              </a:prstGeom>
              <a:no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3" name=""/>
              <p:cNvSpPr/>
              <p:nvPr/>
            </p:nvSpPr>
            <p:spPr>
              <a:xfrm>
                <a:off x="7733520" y="4925880"/>
                <a:ext cx="113400" cy="47880"/>
              </a:xfrm>
              <a:prstGeom prst="rect">
                <a:avLst/>
              </a:prstGeom>
              <a:no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64" name=""/>
              <p:cNvSpPr/>
              <p:nvPr/>
            </p:nvSpPr>
            <p:spPr>
              <a:xfrm>
                <a:off x="7925400" y="4344840"/>
                <a:ext cx="1069200" cy="273240"/>
              </a:xfrm>
              <a:custGeom>
                <a:avLst/>
                <a:gdLst/>
                <a:ahLst/>
                <a:rect l="l" t="t" r="r" b="b"/>
                <a:pathLst>
                  <a:path w="5941" h="1275">
                    <a:moveTo>
                      <a:pt x="0" y="1275"/>
                    </a:moveTo>
                    <a:lnTo>
                      <a:pt x="45" y="1245"/>
                    </a:lnTo>
                    <a:lnTo>
                      <a:pt x="90" y="1230"/>
                    </a:lnTo>
                    <a:lnTo>
                      <a:pt x="135" y="1230"/>
                    </a:lnTo>
                    <a:lnTo>
                      <a:pt x="180" y="1230"/>
                    </a:lnTo>
                    <a:lnTo>
                      <a:pt x="240" y="1230"/>
                    </a:lnTo>
                    <a:lnTo>
                      <a:pt x="285" y="1245"/>
                    </a:lnTo>
                    <a:lnTo>
                      <a:pt x="330" y="1245"/>
                    </a:lnTo>
                    <a:lnTo>
                      <a:pt x="375" y="1230"/>
                    </a:lnTo>
                    <a:lnTo>
                      <a:pt x="420" y="1215"/>
                    </a:lnTo>
                    <a:lnTo>
                      <a:pt x="465" y="1200"/>
                    </a:lnTo>
                    <a:lnTo>
                      <a:pt x="510" y="1185"/>
                    </a:lnTo>
                    <a:lnTo>
                      <a:pt x="555" y="1170"/>
                    </a:lnTo>
                    <a:lnTo>
                      <a:pt x="600" y="1155"/>
                    </a:lnTo>
                    <a:lnTo>
                      <a:pt x="645" y="1140"/>
                    </a:lnTo>
                    <a:lnTo>
                      <a:pt x="690" y="1095"/>
                    </a:lnTo>
                    <a:lnTo>
                      <a:pt x="750" y="1050"/>
                    </a:lnTo>
                    <a:lnTo>
                      <a:pt x="795" y="990"/>
                    </a:lnTo>
                    <a:lnTo>
                      <a:pt x="840" y="960"/>
                    </a:lnTo>
                    <a:lnTo>
                      <a:pt x="885" y="915"/>
                    </a:lnTo>
                    <a:lnTo>
                      <a:pt x="930" y="870"/>
                    </a:lnTo>
                    <a:lnTo>
                      <a:pt x="975" y="825"/>
                    </a:lnTo>
                    <a:lnTo>
                      <a:pt x="1020" y="780"/>
                    </a:lnTo>
                    <a:lnTo>
                      <a:pt x="1065" y="750"/>
                    </a:lnTo>
                    <a:lnTo>
                      <a:pt x="1110" y="720"/>
                    </a:lnTo>
                    <a:lnTo>
                      <a:pt x="1155" y="690"/>
                    </a:lnTo>
                    <a:lnTo>
                      <a:pt x="1215" y="675"/>
                    </a:lnTo>
                    <a:lnTo>
                      <a:pt x="1260" y="690"/>
                    </a:lnTo>
                    <a:lnTo>
                      <a:pt x="1305" y="690"/>
                    </a:lnTo>
                    <a:lnTo>
                      <a:pt x="1350" y="720"/>
                    </a:lnTo>
                    <a:lnTo>
                      <a:pt x="1395" y="750"/>
                    </a:lnTo>
                    <a:lnTo>
                      <a:pt x="1440" y="750"/>
                    </a:lnTo>
                    <a:lnTo>
                      <a:pt x="1485" y="750"/>
                    </a:lnTo>
                    <a:lnTo>
                      <a:pt x="1530" y="750"/>
                    </a:lnTo>
                    <a:lnTo>
                      <a:pt x="1575" y="750"/>
                    </a:lnTo>
                    <a:lnTo>
                      <a:pt x="1620" y="735"/>
                    </a:lnTo>
                    <a:lnTo>
                      <a:pt x="1665" y="720"/>
                    </a:lnTo>
                    <a:lnTo>
                      <a:pt x="1725" y="705"/>
                    </a:lnTo>
                    <a:lnTo>
                      <a:pt x="1770" y="690"/>
                    </a:lnTo>
                    <a:lnTo>
                      <a:pt x="1815" y="675"/>
                    </a:lnTo>
                    <a:lnTo>
                      <a:pt x="1860" y="645"/>
                    </a:lnTo>
                    <a:lnTo>
                      <a:pt x="1905" y="615"/>
                    </a:lnTo>
                    <a:lnTo>
                      <a:pt x="1950" y="585"/>
                    </a:lnTo>
                    <a:lnTo>
                      <a:pt x="1995" y="555"/>
                    </a:lnTo>
                    <a:lnTo>
                      <a:pt x="2040" y="540"/>
                    </a:lnTo>
                    <a:lnTo>
                      <a:pt x="2085" y="525"/>
                    </a:lnTo>
                    <a:lnTo>
                      <a:pt x="2130" y="510"/>
                    </a:lnTo>
                    <a:lnTo>
                      <a:pt x="2175" y="510"/>
                    </a:lnTo>
                    <a:lnTo>
                      <a:pt x="2235" y="510"/>
                    </a:lnTo>
                    <a:lnTo>
                      <a:pt x="2280" y="510"/>
                    </a:lnTo>
                    <a:lnTo>
                      <a:pt x="2325" y="495"/>
                    </a:lnTo>
                    <a:lnTo>
                      <a:pt x="2370" y="465"/>
                    </a:lnTo>
                    <a:lnTo>
                      <a:pt x="2415" y="435"/>
                    </a:lnTo>
                    <a:lnTo>
                      <a:pt x="2460" y="435"/>
                    </a:lnTo>
                    <a:lnTo>
                      <a:pt x="2505" y="450"/>
                    </a:lnTo>
                    <a:lnTo>
                      <a:pt x="2550" y="450"/>
                    </a:lnTo>
                    <a:lnTo>
                      <a:pt x="2595" y="450"/>
                    </a:lnTo>
                    <a:lnTo>
                      <a:pt x="2640" y="465"/>
                    </a:lnTo>
                    <a:lnTo>
                      <a:pt x="2685" y="465"/>
                    </a:lnTo>
                    <a:lnTo>
                      <a:pt x="2745" y="465"/>
                    </a:lnTo>
                    <a:lnTo>
                      <a:pt x="2790" y="450"/>
                    </a:lnTo>
                    <a:lnTo>
                      <a:pt x="2836" y="450"/>
                    </a:lnTo>
                    <a:lnTo>
                      <a:pt x="2881" y="435"/>
                    </a:lnTo>
                    <a:lnTo>
                      <a:pt x="2926" y="450"/>
                    </a:lnTo>
                    <a:lnTo>
                      <a:pt x="2971" y="465"/>
                    </a:lnTo>
                    <a:lnTo>
                      <a:pt x="3016" y="495"/>
                    </a:lnTo>
                    <a:lnTo>
                      <a:pt x="3061" y="510"/>
                    </a:lnTo>
                    <a:lnTo>
                      <a:pt x="3106" y="540"/>
                    </a:lnTo>
                    <a:lnTo>
                      <a:pt x="3151" y="540"/>
                    </a:lnTo>
                    <a:lnTo>
                      <a:pt x="3211" y="555"/>
                    </a:lnTo>
                    <a:lnTo>
                      <a:pt x="3256" y="540"/>
                    </a:lnTo>
                    <a:lnTo>
                      <a:pt x="3301" y="525"/>
                    </a:lnTo>
                    <a:lnTo>
                      <a:pt x="3346" y="525"/>
                    </a:lnTo>
                    <a:lnTo>
                      <a:pt x="3391" y="540"/>
                    </a:lnTo>
                    <a:lnTo>
                      <a:pt x="3436" y="555"/>
                    </a:lnTo>
                    <a:lnTo>
                      <a:pt x="3481" y="570"/>
                    </a:lnTo>
                    <a:lnTo>
                      <a:pt x="3526" y="585"/>
                    </a:lnTo>
                    <a:lnTo>
                      <a:pt x="3571" y="585"/>
                    </a:lnTo>
                    <a:lnTo>
                      <a:pt x="3616" y="570"/>
                    </a:lnTo>
                    <a:lnTo>
                      <a:pt x="3661" y="540"/>
                    </a:lnTo>
                    <a:lnTo>
                      <a:pt x="3721" y="510"/>
                    </a:lnTo>
                    <a:lnTo>
                      <a:pt x="3766" y="495"/>
                    </a:lnTo>
                    <a:lnTo>
                      <a:pt x="3811" y="480"/>
                    </a:lnTo>
                    <a:lnTo>
                      <a:pt x="3856" y="465"/>
                    </a:lnTo>
                    <a:lnTo>
                      <a:pt x="3901" y="465"/>
                    </a:lnTo>
                    <a:lnTo>
                      <a:pt x="3946" y="465"/>
                    </a:lnTo>
                    <a:lnTo>
                      <a:pt x="3991" y="450"/>
                    </a:lnTo>
                    <a:lnTo>
                      <a:pt x="4036" y="420"/>
                    </a:lnTo>
                    <a:lnTo>
                      <a:pt x="4081" y="375"/>
                    </a:lnTo>
                    <a:lnTo>
                      <a:pt x="4126" y="345"/>
                    </a:lnTo>
                    <a:lnTo>
                      <a:pt x="4171" y="315"/>
                    </a:lnTo>
                    <a:lnTo>
                      <a:pt x="4231" y="285"/>
                    </a:lnTo>
                    <a:lnTo>
                      <a:pt x="4276" y="255"/>
                    </a:lnTo>
                    <a:lnTo>
                      <a:pt x="4321" y="210"/>
                    </a:lnTo>
                    <a:lnTo>
                      <a:pt x="4366" y="195"/>
                    </a:lnTo>
                    <a:lnTo>
                      <a:pt x="4411" y="180"/>
                    </a:lnTo>
                    <a:lnTo>
                      <a:pt x="4456" y="165"/>
                    </a:lnTo>
                    <a:lnTo>
                      <a:pt x="4501" y="165"/>
                    </a:lnTo>
                    <a:lnTo>
                      <a:pt x="4546" y="135"/>
                    </a:lnTo>
                    <a:lnTo>
                      <a:pt x="4591" y="105"/>
                    </a:lnTo>
                    <a:lnTo>
                      <a:pt x="4636" y="75"/>
                    </a:lnTo>
                    <a:lnTo>
                      <a:pt x="4681" y="60"/>
                    </a:lnTo>
                    <a:lnTo>
                      <a:pt x="4741" y="45"/>
                    </a:lnTo>
                    <a:lnTo>
                      <a:pt x="4786" y="30"/>
                    </a:lnTo>
                    <a:lnTo>
                      <a:pt x="4831" y="15"/>
                    </a:lnTo>
                    <a:lnTo>
                      <a:pt x="4876" y="30"/>
                    </a:lnTo>
                    <a:lnTo>
                      <a:pt x="4921" y="15"/>
                    </a:lnTo>
                    <a:lnTo>
                      <a:pt x="4966" y="0"/>
                    </a:lnTo>
                    <a:lnTo>
                      <a:pt x="5011" y="0"/>
                    </a:lnTo>
                    <a:lnTo>
                      <a:pt x="5056" y="15"/>
                    </a:lnTo>
                    <a:lnTo>
                      <a:pt x="5101" y="15"/>
                    </a:lnTo>
                    <a:lnTo>
                      <a:pt x="5146" y="30"/>
                    </a:lnTo>
                    <a:lnTo>
                      <a:pt x="5191" y="60"/>
                    </a:lnTo>
                    <a:lnTo>
                      <a:pt x="5251" y="90"/>
                    </a:lnTo>
                    <a:lnTo>
                      <a:pt x="5296" y="120"/>
                    </a:lnTo>
                    <a:lnTo>
                      <a:pt x="5341" y="150"/>
                    </a:lnTo>
                    <a:lnTo>
                      <a:pt x="5386" y="165"/>
                    </a:lnTo>
                    <a:lnTo>
                      <a:pt x="5431" y="195"/>
                    </a:lnTo>
                    <a:lnTo>
                      <a:pt x="5476" y="225"/>
                    </a:lnTo>
                    <a:lnTo>
                      <a:pt x="5521" y="270"/>
                    </a:lnTo>
                    <a:lnTo>
                      <a:pt x="5566" y="285"/>
                    </a:lnTo>
                    <a:lnTo>
                      <a:pt x="5611" y="315"/>
                    </a:lnTo>
                    <a:lnTo>
                      <a:pt x="5656" y="300"/>
                    </a:lnTo>
                    <a:lnTo>
                      <a:pt x="5716" y="300"/>
                    </a:lnTo>
                    <a:lnTo>
                      <a:pt x="5761" y="300"/>
                    </a:lnTo>
                    <a:lnTo>
                      <a:pt x="5806" y="300"/>
                    </a:lnTo>
                    <a:lnTo>
                      <a:pt x="5851" y="300"/>
                    </a:lnTo>
                    <a:lnTo>
                      <a:pt x="5896" y="315"/>
                    </a:lnTo>
                    <a:lnTo>
                      <a:pt x="5941" y="315"/>
                    </a:ln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7917480" y="64771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a:t>
                </a:r>
                <a:endParaRPr b="0" lang="en-US" sz="2000" spc="-1" strike="noStrike">
                  <a:solidFill>
                    <a:srgbClr val="000000"/>
                  </a:solidFill>
                  <a:latin typeface="Times New Roman"/>
                </a:endParaRPr>
              </a:p>
            </p:txBody>
          </p:sp>
          <p:sp>
            <p:nvSpPr>
              <p:cNvPr id="966" name=""/>
              <p:cNvSpPr/>
              <p:nvPr/>
            </p:nvSpPr>
            <p:spPr>
              <a:xfrm>
                <a:off x="7971120" y="4646520"/>
                <a:ext cx="87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UUCUCUCD</a:t>
                </a:r>
                <a:endParaRPr b="0" lang="en-US" sz="1200" spc="-1" strike="noStrike">
                  <a:solidFill>
                    <a:srgbClr val="000000"/>
                  </a:solidFill>
                  <a:latin typeface="Times New Roman"/>
                </a:endParaRPr>
              </a:p>
            </p:txBody>
          </p:sp>
          <p:grpSp>
            <p:nvGrpSpPr>
              <p:cNvPr id="967" name=""/>
              <p:cNvGrpSpPr/>
              <p:nvPr/>
            </p:nvGrpSpPr>
            <p:grpSpPr>
              <a:xfrm>
                <a:off x="7951680" y="5084640"/>
                <a:ext cx="1053000" cy="1249920"/>
                <a:chOff x="7951680" y="5084640"/>
                <a:chExt cx="1053000" cy="1249920"/>
              </a:xfrm>
            </p:grpSpPr>
            <p:sp>
              <p:nvSpPr>
                <p:cNvPr id="968" name=""/>
                <p:cNvSpPr/>
                <p:nvPr/>
              </p:nvSpPr>
              <p:spPr>
                <a:xfrm>
                  <a:off x="7951680" y="5084640"/>
                  <a:ext cx="17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U</a:t>
                  </a:r>
                  <a:endParaRPr b="0" lang="en-US" sz="1200" spc="-1" strike="noStrike">
                    <a:solidFill>
                      <a:srgbClr val="000000"/>
                    </a:solidFill>
                    <a:latin typeface="Times New Roman"/>
                  </a:endParaRPr>
                </a:p>
              </p:txBody>
            </p:sp>
            <p:sp>
              <p:nvSpPr>
                <p:cNvPr id="969" name=""/>
                <p:cNvSpPr/>
                <p:nvPr/>
              </p:nvSpPr>
              <p:spPr>
                <a:xfrm>
                  <a:off x="8077320" y="5237280"/>
                  <a:ext cx="17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U</a:t>
                  </a:r>
                  <a:endParaRPr b="0" lang="en-US" sz="1200" spc="-1" strike="noStrike">
                    <a:solidFill>
                      <a:srgbClr val="000000"/>
                    </a:solidFill>
                    <a:latin typeface="Times New Roman"/>
                  </a:endParaRPr>
                </a:p>
              </p:txBody>
            </p:sp>
            <p:sp>
              <p:nvSpPr>
                <p:cNvPr id="970" name=""/>
                <p:cNvSpPr/>
                <p:nvPr/>
              </p:nvSpPr>
              <p:spPr>
                <a:xfrm>
                  <a:off x="8203320" y="5389560"/>
                  <a:ext cx="17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C</a:t>
                  </a:r>
                  <a:endParaRPr b="0" lang="en-US" sz="1200" spc="-1" strike="noStrike">
                    <a:solidFill>
                      <a:srgbClr val="000000"/>
                    </a:solidFill>
                    <a:latin typeface="Times New Roman"/>
                  </a:endParaRPr>
                </a:p>
              </p:txBody>
            </p:sp>
            <p:sp>
              <p:nvSpPr>
                <p:cNvPr id="971" name=""/>
                <p:cNvSpPr/>
                <p:nvPr/>
              </p:nvSpPr>
              <p:spPr>
                <a:xfrm>
                  <a:off x="8328960" y="5541840"/>
                  <a:ext cx="17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U</a:t>
                  </a:r>
                  <a:endParaRPr b="0" lang="en-US" sz="1200" spc="-1" strike="noStrike">
                    <a:solidFill>
                      <a:srgbClr val="000000"/>
                    </a:solidFill>
                    <a:latin typeface="Times New Roman"/>
                  </a:endParaRPr>
                </a:p>
              </p:txBody>
            </p:sp>
            <p:sp>
              <p:nvSpPr>
                <p:cNvPr id="972" name=""/>
                <p:cNvSpPr/>
                <p:nvPr/>
              </p:nvSpPr>
              <p:spPr>
                <a:xfrm>
                  <a:off x="8454600" y="5694480"/>
                  <a:ext cx="17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C</a:t>
                  </a:r>
                  <a:endParaRPr b="0" lang="en-US" sz="1200" spc="-1" strike="noStrike">
                    <a:solidFill>
                      <a:srgbClr val="000000"/>
                    </a:solidFill>
                    <a:latin typeface="Times New Roman"/>
                  </a:endParaRPr>
                </a:p>
              </p:txBody>
            </p:sp>
            <p:sp>
              <p:nvSpPr>
                <p:cNvPr id="973" name=""/>
                <p:cNvSpPr/>
                <p:nvPr/>
              </p:nvSpPr>
              <p:spPr>
                <a:xfrm>
                  <a:off x="8580600" y="5846760"/>
                  <a:ext cx="17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U</a:t>
                  </a:r>
                  <a:endParaRPr b="0" lang="en-US" sz="1200" spc="-1" strike="noStrike">
                    <a:solidFill>
                      <a:srgbClr val="000000"/>
                    </a:solidFill>
                    <a:latin typeface="Times New Roman"/>
                  </a:endParaRPr>
                </a:p>
              </p:txBody>
            </p:sp>
            <p:sp>
              <p:nvSpPr>
                <p:cNvPr id="974" name=""/>
                <p:cNvSpPr/>
                <p:nvPr/>
              </p:nvSpPr>
              <p:spPr>
                <a:xfrm>
                  <a:off x="8706240" y="5999040"/>
                  <a:ext cx="17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D</a:t>
                  </a:r>
                  <a:endParaRPr b="0" lang="en-US" sz="1200" spc="-1" strike="noStrike">
                    <a:solidFill>
                      <a:srgbClr val="000000"/>
                    </a:solidFill>
                    <a:latin typeface="Times New Roman"/>
                  </a:endParaRPr>
                </a:p>
              </p:txBody>
            </p:sp>
            <p:sp>
              <p:nvSpPr>
                <p:cNvPr id="975" name=""/>
                <p:cNvSpPr/>
                <p:nvPr/>
              </p:nvSpPr>
              <p:spPr>
                <a:xfrm>
                  <a:off x="8831880" y="6151680"/>
                  <a:ext cx="17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D</a:t>
                  </a:r>
                  <a:endParaRPr b="0" lang="en-US" sz="1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258840" y="1185840"/>
            <a:ext cx="8642160" cy="3948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Create an </a:t>
            </a:r>
            <a:r>
              <a:rPr b="0" i="1" lang="en-US" sz="2500" spc="-1" strike="noStrike">
                <a:solidFill>
                  <a:srgbClr val="000000"/>
                </a:solidFill>
                <a:latin typeface="Times New Roman"/>
                <a:ea typeface="Times New Roman"/>
              </a:rPr>
              <a:t>approximation</a:t>
            </a:r>
            <a:r>
              <a:rPr b="0" lang="en-US" sz="2500" spc="-1" strike="noStrike">
                <a:solidFill>
                  <a:srgbClr val="000000"/>
                </a:solidFill>
                <a:latin typeface="Times New Roman"/>
                <a:ea typeface="Times New Roman"/>
              </a:rPr>
              <a:t> of the data, which will fit in main memory, yet retains the essential features of interest</a:t>
            </a:r>
            <a:endParaRPr b="0" lang="en-US" sz="2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Approximately solve the problem at hand in main memory</a:t>
            </a:r>
            <a:endParaRPr b="0" lang="en-US" sz="2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Make (hopefully very few) accesses to the original data on disk to confirm the solution obtained in Step 2, or to modify the solution so it agrees with the solution we would have obtained on the original data</a:t>
            </a:r>
            <a:endParaRPr b="0" lang="en-US" sz="2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977" name=""/>
          <p:cNvSpPr/>
          <p:nvPr/>
        </p:nvSpPr>
        <p:spPr>
          <a:xfrm>
            <a:off x="475200" y="365040"/>
            <a:ext cx="85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Generic Data Mining Algorithm (revisited) </a:t>
            </a:r>
            <a:endParaRPr b="0" lang="en-US" sz="3200" spc="-1" strike="noStrike">
              <a:solidFill>
                <a:srgbClr val="000000"/>
              </a:solidFill>
              <a:latin typeface="Times New Roman"/>
            </a:endParaRPr>
          </a:p>
        </p:txBody>
      </p:sp>
      <p:pic>
        <p:nvPicPr>
          <p:cNvPr id="978" name="homer_pointing" descr=""/>
          <p:cNvPicPr/>
          <p:nvPr/>
        </p:nvPicPr>
        <p:blipFill>
          <a:blip r:embed="rId1"/>
          <a:stretch/>
        </p:blipFill>
        <p:spPr>
          <a:xfrm>
            <a:off x="6087960" y="4587840"/>
            <a:ext cx="2743200" cy="2270160"/>
          </a:xfrm>
          <a:prstGeom prst="rect">
            <a:avLst/>
          </a:prstGeom>
          <a:ln w="0">
            <a:noFill/>
          </a:ln>
        </p:spPr>
      </p:pic>
      <p:sp>
        <p:nvSpPr>
          <p:cNvPr id="979" name=""/>
          <p:cNvSpPr/>
          <p:nvPr/>
        </p:nvSpPr>
        <p:spPr>
          <a:xfrm>
            <a:off x="925560" y="5072040"/>
            <a:ext cx="4271760" cy="1590840"/>
          </a:xfrm>
          <a:prstGeom prst="wedgeRoundRectCallout">
            <a:avLst>
              <a:gd name="adj1" fmla="val 68879"/>
              <a:gd name="adj2" fmla="val -30240"/>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a:t>
            </a:r>
            <a:r>
              <a:rPr b="0" i="1" lang="en-US" sz="2800" spc="-1" strike="noStrike">
                <a:solidFill>
                  <a:srgbClr val="000000"/>
                </a:solidFill>
                <a:latin typeface="Comic Sans MS"/>
              </a:rPr>
              <a:t>only</a:t>
            </a:r>
            <a:r>
              <a:rPr b="0" lang="en-US" sz="2800" spc="-1" strike="noStrike">
                <a:solidFill>
                  <a:srgbClr val="000000"/>
                </a:solidFill>
                <a:latin typeface="Comic Sans MS"/>
              </a:rPr>
              <a:t> works if the approximation allows </a:t>
            </a:r>
            <a:r>
              <a:rPr b="1" lang="en-US" sz="2800" spc="-1" strike="noStrike">
                <a:solidFill>
                  <a:srgbClr val="000000"/>
                </a:solidFill>
                <a:latin typeface="Comic Sans MS"/>
              </a:rPr>
              <a:t>lower bound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0" y="5603760"/>
            <a:ext cx="9144000" cy="1254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1" name=""/>
          <p:cNvGrpSpPr/>
          <p:nvPr/>
        </p:nvGrpSpPr>
        <p:grpSpPr>
          <a:xfrm>
            <a:off x="4763880" y="4425840"/>
            <a:ext cx="3592800" cy="1106640"/>
            <a:chOff x="4763880" y="4425840"/>
            <a:chExt cx="3592800" cy="1106640"/>
          </a:xfrm>
        </p:grpSpPr>
        <mc:AlternateContent>
          <mc:Choice xmlns:a14="http://schemas.microsoft.com/office/drawing/2010/main" Requires="a14">
            <p:sp>
              <p:nvSpPr>
                <p:cNvPr id="982" name=""/>
                <p:cNvSpPr txBox="1"/>
                <p:nvPr/>
              </p:nvSpPr>
              <p:spPr>
                <a:xfrm>
                  <a:off x="4862520" y="4844880"/>
                  <a:ext cx="3494160" cy="687600"/>
                </a:xfrm>
                <a:prstGeom prst="rect">
                  <a:avLst/>
                </a:prstGeom>
              </p:spPr>
              <p:txBody>
                <a:bodyPr/>
                <a:p>
                  <a14:m>
                    <m:oMath xmlns:m="http://schemas.openxmlformats.org/officeDocument/2006/math">
                      <m:rad>
                        <m:radPr>
                          <m:degHide m:val="1"/>
                        </m:radPr>
                        <m:deg/>
                        <m:e>
                          <m:nary>
                            <m:naryPr>
                              <m:chr m:val="∑"/>
                              <m:subHide m:val="1"/>
                              <m:supHide m:val="1"/>
                            </m:naryPr>
                            <m:sub/>
                            <m:sup/>
                            <m:e>
                              <m:r>
                                <m:t xml:space="preserve">(</m:t>
                              </m:r>
                              <m:sSub>
                                <m:e>
                                  <m:r>
                                    <m:rPr>
                                      <m:lit/>
                                      <m:nor/>
                                    </m:rPr>
                                    <m:t xml:space="preserve">sr</m:t>
                                  </m:r>
                                </m:e>
                                <m:sub>
                                  <m:r>
                                    <m:t xml:space="preserve">i</m:t>
                                  </m:r>
                                </m:sub>
                              </m:sSub>
                              <m:r>
                                <m:t xml:space="preserve">−</m:t>
                              </m:r>
                              <m:sSub>
                                <m:e>
                                  <m:r>
                                    <m:rPr>
                                      <m:lit/>
                                      <m:nor/>
                                    </m:rPr>
                                    <m:t xml:space="preserve">sr</m:t>
                                  </m:r>
                                </m:e>
                                <m:sub>
                                  <m:r>
                                    <m:t xml:space="preserve">i</m:t>
                                  </m:r>
                                  <m:r>
                                    <m:t xml:space="preserve">−</m:t>
                                  </m:r>
                                  <m:r>
                                    <m:t xml:space="preserve">1</m:t>
                                  </m:r>
                                </m:sub>
                              </m:sSub>
                              <m:r>
                                <m:t xml:space="preserve">)</m:t>
                              </m:r>
                              <m:r>
                                <m:t xml:space="preserve">(</m:t>
                              </m:r>
                              <m:sSub>
                                <m:e>
                                  <m:r>
                                    <m:rPr>
                                      <m:lit/>
                                      <m:nor/>
                                    </m:rPr>
                                    <m:t xml:space="preserve">qv</m:t>
                                  </m:r>
                                </m:e>
                                <m:sub>
                                  <m:r>
                                    <m:t xml:space="preserve">i</m:t>
                                  </m:r>
                                </m:sub>
                              </m:sSub>
                              <m:r>
                                <m:t xml:space="preserve">−</m:t>
                              </m:r>
                              <m:sSub>
                                <m:e>
                                  <m:r>
                                    <m:rPr>
                                      <m:lit/>
                                      <m:nor/>
                                    </m:rPr>
                                    <m:t xml:space="preserve">sv</m:t>
                                  </m:r>
                                </m:e>
                                <m:sub>
                                  <m:r>
                                    <m:t xml:space="preserve">i</m:t>
                                  </m:r>
                                </m:sub>
                              </m:sSub>
                              <m:sSup>
                                <m:e>
                                  <m:r>
                                    <m:t xml:space="preserve">)</m:t>
                                  </m:r>
                                </m:e>
                                <m:sup>
                                  <m:r>
                                    <m:t xml:space="preserve">2</m:t>
                                  </m:r>
                                </m:sup>
                              </m:sSup>
                            </m:e>
                          </m:nary>
                        </m:e>
                      </m:rad>
                    </m:oMath>
                  </a14:m>
                </a:p>
              </p:txBody>
            </p:sp>
          </mc:Choice>
          <mc:Fallback/>
        </mc:AlternateContent>
        <p:sp>
          <p:nvSpPr>
            <p:cNvPr id="983" name=""/>
            <p:cNvSpPr/>
            <p:nvPr/>
          </p:nvSpPr>
          <p:spPr>
            <a:xfrm>
              <a:off x="4763880" y="4425840"/>
              <a:ext cx="1267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r>
                <a:rPr b="0" i="1" lang="en-US" sz="2000" spc="-1" strike="noStrike" baseline="-25000">
                  <a:solidFill>
                    <a:srgbClr val="000000"/>
                  </a:solidFill>
                  <a:latin typeface="Arial"/>
                </a:rPr>
                <a:t>LB</a:t>
              </a:r>
              <a:r>
                <a:rPr b="0" lang="en-US" sz="2000" spc="-1" strike="noStrike">
                  <a:solidFill>
                    <a:srgbClr val="000000"/>
                  </a:solidFill>
                  <a:latin typeface="Arial"/>
                </a:rPr>
                <a:t>(</a:t>
              </a:r>
              <a:r>
                <a:rPr b="0" i="1" lang="en-US" sz="2000" spc="-1" strike="noStrike">
                  <a:solidFill>
                    <a:srgbClr val="000000"/>
                  </a:solidFill>
                  <a:latin typeface="Arial"/>
                </a:rPr>
                <a:t>Q</a:t>
              </a:r>
              <a:r>
                <a:rPr b="0" lang="en-US" sz="2000" spc="-1" strike="noStrike">
                  <a:solidFill>
                    <a:srgbClr val="000000"/>
                  </a:solidFill>
                  <a:latin typeface="Arial"/>
                </a:rPr>
                <a:t>’,S’)</a:t>
              </a:r>
              <a:endParaRPr b="0" lang="en-US" sz="2000" spc="-1" strike="noStrike">
                <a:solidFill>
                  <a:srgbClr val="000000"/>
                </a:solidFill>
                <a:latin typeface="Times New Roman"/>
              </a:endParaRPr>
            </a:p>
          </p:txBody>
        </p:sp>
      </p:grpSp>
      <p:grpSp>
        <p:nvGrpSpPr>
          <p:cNvPr id="984" name=""/>
          <p:cNvGrpSpPr/>
          <p:nvPr/>
        </p:nvGrpSpPr>
        <p:grpSpPr>
          <a:xfrm>
            <a:off x="5052960" y="3540240"/>
            <a:ext cx="2463840" cy="870840"/>
            <a:chOff x="5052960" y="3540240"/>
            <a:chExt cx="2463840" cy="870840"/>
          </a:xfrm>
        </p:grpSpPr>
        <p:sp>
          <p:nvSpPr>
            <p:cNvPr id="985" name=""/>
            <p:cNvSpPr/>
            <p:nvPr/>
          </p:nvSpPr>
          <p:spPr>
            <a:xfrm>
              <a:off x="5148360" y="3792600"/>
              <a:ext cx="1440" cy="28440"/>
            </a:xfrm>
            <a:prstGeom prst="line">
              <a:avLst/>
            </a:prstGeom>
            <a:ln w="792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6" name=""/>
            <p:cNvSpPr/>
            <p:nvPr/>
          </p:nvSpPr>
          <p:spPr>
            <a:xfrm>
              <a:off x="5878440" y="3983040"/>
              <a:ext cx="0" cy="19080"/>
            </a:xfrm>
            <a:prstGeom prst="line">
              <a:avLst/>
            </a:prstGeom>
            <a:ln w="7920">
              <a:solidFill>
                <a:srgbClr val="808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7" name=""/>
            <p:cNvSpPr/>
            <p:nvPr/>
          </p:nvSpPr>
          <p:spPr>
            <a:xfrm>
              <a:off x="6703920" y="3546360"/>
              <a:ext cx="1440" cy="98640"/>
            </a:xfrm>
            <a:prstGeom prst="line">
              <a:avLst/>
            </a:prstGeom>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7197480" y="4067280"/>
              <a:ext cx="1800" cy="48960"/>
            </a:xfrm>
            <a:prstGeom prst="line">
              <a:avLst/>
            </a:prstGeom>
            <a:ln w="7920">
              <a:solidFill>
                <a:srgbClr val="80808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9" name=""/>
            <p:cNvSpPr/>
            <p:nvPr/>
          </p:nvSpPr>
          <p:spPr>
            <a:xfrm>
              <a:off x="5546520" y="3970440"/>
              <a:ext cx="1267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r>
                <a:rPr b="0" i="1" lang="en-US" sz="2000" spc="-1" strike="noStrike" baseline="-25000">
                  <a:solidFill>
                    <a:srgbClr val="000000"/>
                  </a:solidFill>
                  <a:latin typeface="Arial"/>
                </a:rPr>
                <a:t>LB</a:t>
              </a:r>
              <a:r>
                <a:rPr b="0" lang="en-US" sz="2000" spc="-1" strike="noStrike">
                  <a:solidFill>
                    <a:srgbClr val="000000"/>
                  </a:solidFill>
                  <a:latin typeface="Arial"/>
                </a:rPr>
                <a:t>(</a:t>
              </a:r>
              <a:r>
                <a:rPr b="0" i="1" lang="en-US" sz="2000" spc="-1" strike="noStrike">
                  <a:solidFill>
                    <a:srgbClr val="000000"/>
                  </a:solidFill>
                  <a:latin typeface="Arial"/>
                </a:rPr>
                <a:t>Q</a:t>
              </a:r>
              <a:r>
                <a:rPr b="0" lang="en-US" sz="2000" spc="-1" strike="noStrike">
                  <a:solidFill>
                    <a:srgbClr val="000000"/>
                  </a:solidFill>
                  <a:latin typeface="Arial"/>
                </a:rPr>
                <a:t>’,S’)</a:t>
              </a:r>
              <a:endParaRPr b="0" lang="en-US" sz="2000" spc="-1" strike="noStrike">
                <a:solidFill>
                  <a:srgbClr val="000000"/>
                </a:solidFill>
                <a:latin typeface="Times New Roman"/>
              </a:endParaRPr>
            </a:p>
          </p:txBody>
        </p:sp>
        <p:sp>
          <p:nvSpPr>
            <p:cNvPr id="990" name=""/>
            <p:cNvSpPr/>
            <p:nvPr/>
          </p:nvSpPr>
          <p:spPr>
            <a:xfrm>
              <a:off x="5052960" y="3540240"/>
              <a:ext cx="2463840" cy="571320"/>
            </a:xfrm>
            <a:custGeom>
              <a:avLst/>
              <a:gdLst/>
              <a:ahLst/>
              <a:rect l="l" t="t" r="r" b="b"/>
              <a:pathLst>
                <a:path w="1552" h="360">
                  <a:moveTo>
                    <a:pt x="0" y="144"/>
                  </a:moveTo>
                  <a:lnTo>
                    <a:pt x="160" y="144"/>
                  </a:lnTo>
                  <a:lnTo>
                    <a:pt x="160" y="280"/>
                  </a:lnTo>
                  <a:lnTo>
                    <a:pt x="912" y="280"/>
                  </a:lnTo>
                  <a:lnTo>
                    <a:pt x="912" y="0"/>
                  </a:lnTo>
                  <a:lnTo>
                    <a:pt x="1184" y="0"/>
                  </a:lnTo>
                  <a:lnTo>
                    <a:pt x="1184" y="360"/>
                  </a:lnTo>
                  <a:lnTo>
                    <a:pt x="1552" y="360"/>
                  </a:lnTo>
                </a:path>
              </a:pathLst>
            </a:custGeom>
            <a:noFill/>
            <a:ln w="3816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065560" y="3632040"/>
              <a:ext cx="2413080" cy="444600"/>
            </a:xfrm>
            <a:custGeom>
              <a:avLst/>
              <a:gdLst/>
              <a:ahLst/>
              <a:rect l="l" t="t" r="r" b="b"/>
              <a:pathLst>
                <a:path w="1520" h="280">
                  <a:moveTo>
                    <a:pt x="0" y="120"/>
                  </a:moveTo>
                  <a:lnTo>
                    <a:pt x="152" y="120"/>
                  </a:lnTo>
                  <a:lnTo>
                    <a:pt x="152" y="216"/>
                  </a:lnTo>
                  <a:lnTo>
                    <a:pt x="912" y="216"/>
                  </a:lnTo>
                  <a:lnTo>
                    <a:pt x="912" y="0"/>
                  </a:lnTo>
                  <a:lnTo>
                    <a:pt x="1176" y="0"/>
                  </a:lnTo>
                  <a:lnTo>
                    <a:pt x="1176" y="280"/>
                  </a:lnTo>
                  <a:lnTo>
                    <a:pt x="1520" y="280"/>
                  </a:lnTo>
                </a:path>
              </a:pathLst>
            </a:custGeom>
            <a:noFill/>
            <a:ln w="38160">
              <a:solidFill>
                <a:srgbClr val="99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2" name=""/>
          <p:cNvSpPr/>
          <p:nvPr/>
        </p:nvSpPr>
        <p:spPr>
          <a:xfrm>
            <a:off x="723960" y="1181160"/>
            <a:ext cx="2422440" cy="577800"/>
          </a:xfrm>
          <a:custGeom>
            <a:avLst/>
            <a:gdLst/>
            <a:ahLst/>
            <a:rect l="l" t="t" r="r" b="b"/>
            <a:pathLst>
              <a:path w="2081" h="596">
                <a:moveTo>
                  <a:pt x="0" y="227"/>
                </a:moveTo>
                <a:lnTo>
                  <a:pt x="17" y="240"/>
                </a:lnTo>
                <a:lnTo>
                  <a:pt x="40" y="248"/>
                </a:lnTo>
                <a:lnTo>
                  <a:pt x="57" y="254"/>
                </a:lnTo>
                <a:lnTo>
                  <a:pt x="80" y="262"/>
                </a:lnTo>
                <a:lnTo>
                  <a:pt x="101" y="275"/>
                </a:lnTo>
                <a:lnTo>
                  <a:pt x="119" y="288"/>
                </a:lnTo>
                <a:lnTo>
                  <a:pt x="142" y="294"/>
                </a:lnTo>
                <a:lnTo>
                  <a:pt x="159" y="308"/>
                </a:lnTo>
                <a:lnTo>
                  <a:pt x="182" y="321"/>
                </a:lnTo>
                <a:lnTo>
                  <a:pt x="203" y="335"/>
                </a:lnTo>
                <a:lnTo>
                  <a:pt x="221" y="348"/>
                </a:lnTo>
                <a:lnTo>
                  <a:pt x="244" y="367"/>
                </a:lnTo>
                <a:lnTo>
                  <a:pt x="267" y="381"/>
                </a:lnTo>
                <a:lnTo>
                  <a:pt x="284" y="402"/>
                </a:lnTo>
                <a:lnTo>
                  <a:pt x="305" y="408"/>
                </a:lnTo>
                <a:lnTo>
                  <a:pt x="322" y="415"/>
                </a:lnTo>
                <a:lnTo>
                  <a:pt x="345" y="429"/>
                </a:lnTo>
                <a:lnTo>
                  <a:pt x="368" y="434"/>
                </a:lnTo>
                <a:lnTo>
                  <a:pt x="386" y="448"/>
                </a:lnTo>
                <a:lnTo>
                  <a:pt x="407" y="448"/>
                </a:lnTo>
                <a:lnTo>
                  <a:pt x="424" y="448"/>
                </a:lnTo>
                <a:lnTo>
                  <a:pt x="447" y="456"/>
                </a:lnTo>
                <a:lnTo>
                  <a:pt x="470" y="456"/>
                </a:lnTo>
                <a:lnTo>
                  <a:pt x="487" y="456"/>
                </a:lnTo>
                <a:lnTo>
                  <a:pt x="509" y="461"/>
                </a:lnTo>
                <a:lnTo>
                  <a:pt x="526" y="461"/>
                </a:lnTo>
                <a:lnTo>
                  <a:pt x="549" y="469"/>
                </a:lnTo>
                <a:lnTo>
                  <a:pt x="572" y="469"/>
                </a:lnTo>
                <a:lnTo>
                  <a:pt x="589" y="475"/>
                </a:lnTo>
                <a:lnTo>
                  <a:pt x="610" y="475"/>
                </a:lnTo>
                <a:lnTo>
                  <a:pt x="628" y="481"/>
                </a:lnTo>
                <a:lnTo>
                  <a:pt x="651" y="481"/>
                </a:lnTo>
                <a:lnTo>
                  <a:pt x="674" y="481"/>
                </a:lnTo>
                <a:lnTo>
                  <a:pt x="691" y="481"/>
                </a:lnTo>
                <a:lnTo>
                  <a:pt x="712" y="475"/>
                </a:lnTo>
                <a:lnTo>
                  <a:pt x="735" y="475"/>
                </a:lnTo>
                <a:lnTo>
                  <a:pt x="752" y="481"/>
                </a:lnTo>
                <a:lnTo>
                  <a:pt x="775" y="481"/>
                </a:lnTo>
                <a:lnTo>
                  <a:pt x="793" y="481"/>
                </a:lnTo>
                <a:lnTo>
                  <a:pt x="814" y="481"/>
                </a:lnTo>
                <a:lnTo>
                  <a:pt x="837" y="475"/>
                </a:lnTo>
                <a:lnTo>
                  <a:pt x="854" y="469"/>
                </a:lnTo>
                <a:lnTo>
                  <a:pt x="877" y="461"/>
                </a:lnTo>
                <a:lnTo>
                  <a:pt x="894" y="456"/>
                </a:lnTo>
                <a:lnTo>
                  <a:pt x="916" y="461"/>
                </a:lnTo>
                <a:lnTo>
                  <a:pt x="939" y="461"/>
                </a:lnTo>
                <a:lnTo>
                  <a:pt x="956" y="456"/>
                </a:lnTo>
                <a:lnTo>
                  <a:pt x="979" y="442"/>
                </a:lnTo>
                <a:lnTo>
                  <a:pt x="996" y="442"/>
                </a:lnTo>
                <a:lnTo>
                  <a:pt x="1017" y="442"/>
                </a:lnTo>
                <a:lnTo>
                  <a:pt x="1040" y="434"/>
                </a:lnTo>
                <a:lnTo>
                  <a:pt x="1058" y="421"/>
                </a:lnTo>
                <a:lnTo>
                  <a:pt x="1081" y="421"/>
                </a:lnTo>
                <a:lnTo>
                  <a:pt x="1098" y="415"/>
                </a:lnTo>
                <a:lnTo>
                  <a:pt x="1121" y="402"/>
                </a:lnTo>
                <a:lnTo>
                  <a:pt x="1142" y="394"/>
                </a:lnTo>
                <a:lnTo>
                  <a:pt x="1159" y="381"/>
                </a:lnTo>
                <a:lnTo>
                  <a:pt x="1183" y="361"/>
                </a:lnTo>
                <a:lnTo>
                  <a:pt x="1206" y="340"/>
                </a:lnTo>
                <a:lnTo>
                  <a:pt x="1223" y="321"/>
                </a:lnTo>
                <a:lnTo>
                  <a:pt x="1244" y="302"/>
                </a:lnTo>
                <a:lnTo>
                  <a:pt x="1261" y="275"/>
                </a:lnTo>
                <a:lnTo>
                  <a:pt x="1284" y="248"/>
                </a:lnTo>
                <a:lnTo>
                  <a:pt x="1307" y="213"/>
                </a:lnTo>
                <a:lnTo>
                  <a:pt x="1325" y="181"/>
                </a:lnTo>
                <a:lnTo>
                  <a:pt x="1346" y="154"/>
                </a:lnTo>
                <a:lnTo>
                  <a:pt x="1363" y="114"/>
                </a:lnTo>
                <a:lnTo>
                  <a:pt x="1386" y="81"/>
                </a:lnTo>
                <a:lnTo>
                  <a:pt x="1409" y="54"/>
                </a:lnTo>
                <a:lnTo>
                  <a:pt x="1426" y="33"/>
                </a:lnTo>
                <a:lnTo>
                  <a:pt x="1448" y="14"/>
                </a:lnTo>
                <a:lnTo>
                  <a:pt x="1465" y="8"/>
                </a:lnTo>
                <a:lnTo>
                  <a:pt x="1488" y="0"/>
                </a:lnTo>
                <a:lnTo>
                  <a:pt x="1511" y="0"/>
                </a:lnTo>
                <a:lnTo>
                  <a:pt x="1528" y="14"/>
                </a:lnTo>
                <a:lnTo>
                  <a:pt x="1549" y="41"/>
                </a:lnTo>
                <a:lnTo>
                  <a:pt x="1567" y="73"/>
                </a:lnTo>
                <a:lnTo>
                  <a:pt x="1590" y="114"/>
                </a:lnTo>
                <a:lnTo>
                  <a:pt x="1613" y="154"/>
                </a:lnTo>
                <a:lnTo>
                  <a:pt x="1630" y="208"/>
                </a:lnTo>
                <a:lnTo>
                  <a:pt x="1651" y="254"/>
                </a:lnTo>
                <a:lnTo>
                  <a:pt x="1668" y="308"/>
                </a:lnTo>
                <a:lnTo>
                  <a:pt x="1691" y="356"/>
                </a:lnTo>
                <a:lnTo>
                  <a:pt x="1714" y="402"/>
                </a:lnTo>
                <a:lnTo>
                  <a:pt x="1732" y="442"/>
                </a:lnTo>
                <a:lnTo>
                  <a:pt x="1753" y="481"/>
                </a:lnTo>
                <a:lnTo>
                  <a:pt x="1776" y="515"/>
                </a:lnTo>
                <a:lnTo>
                  <a:pt x="1793" y="548"/>
                </a:lnTo>
                <a:lnTo>
                  <a:pt x="1816" y="569"/>
                </a:lnTo>
                <a:lnTo>
                  <a:pt x="1833" y="588"/>
                </a:lnTo>
                <a:lnTo>
                  <a:pt x="1855" y="596"/>
                </a:lnTo>
                <a:lnTo>
                  <a:pt x="1878" y="596"/>
                </a:lnTo>
                <a:lnTo>
                  <a:pt x="1895" y="596"/>
                </a:lnTo>
                <a:lnTo>
                  <a:pt x="1918" y="596"/>
                </a:lnTo>
                <a:lnTo>
                  <a:pt x="1935" y="596"/>
                </a:lnTo>
                <a:lnTo>
                  <a:pt x="1956" y="596"/>
                </a:lnTo>
                <a:lnTo>
                  <a:pt x="1979" y="596"/>
                </a:lnTo>
                <a:lnTo>
                  <a:pt x="1997" y="596"/>
                </a:lnTo>
                <a:lnTo>
                  <a:pt x="2020" y="596"/>
                </a:lnTo>
                <a:lnTo>
                  <a:pt x="2037" y="596"/>
                </a:lnTo>
                <a:lnTo>
                  <a:pt x="2058" y="588"/>
                </a:lnTo>
                <a:lnTo>
                  <a:pt x="2081" y="588"/>
                </a:lnTo>
              </a:path>
            </a:pathLst>
          </a:custGeom>
          <a:noFill/>
          <a:ln w="381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723960" y="1986120"/>
            <a:ext cx="2422440" cy="828360"/>
          </a:xfrm>
          <a:custGeom>
            <a:avLst/>
            <a:gdLst/>
            <a:ahLst/>
            <a:rect l="l" t="t" r="r" b="b"/>
            <a:pathLst>
              <a:path w="2081" h="853">
                <a:moveTo>
                  <a:pt x="0" y="378"/>
                </a:moveTo>
                <a:lnTo>
                  <a:pt x="17" y="384"/>
                </a:lnTo>
                <a:lnTo>
                  <a:pt x="40" y="394"/>
                </a:lnTo>
                <a:lnTo>
                  <a:pt x="57" y="399"/>
                </a:lnTo>
                <a:lnTo>
                  <a:pt x="80" y="421"/>
                </a:lnTo>
                <a:lnTo>
                  <a:pt x="101" y="442"/>
                </a:lnTo>
                <a:lnTo>
                  <a:pt x="119" y="463"/>
                </a:lnTo>
                <a:lnTo>
                  <a:pt x="142" y="490"/>
                </a:lnTo>
                <a:lnTo>
                  <a:pt x="159" y="511"/>
                </a:lnTo>
                <a:lnTo>
                  <a:pt x="182" y="522"/>
                </a:lnTo>
                <a:lnTo>
                  <a:pt x="203" y="532"/>
                </a:lnTo>
                <a:lnTo>
                  <a:pt x="221" y="565"/>
                </a:lnTo>
                <a:lnTo>
                  <a:pt x="244" y="597"/>
                </a:lnTo>
                <a:lnTo>
                  <a:pt x="267" y="618"/>
                </a:lnTo>
                <a:lnTo>
                  <a:pt x="284" y="624"/>
                </a:lnTo>
                <a:lnTo>
                  <a:pt x="305" y="624"/>
                </a:lnTo>
                <a:lnTo>
                  <a:pt x="322" y="624"/>
                </a:lnTo>
                <a:lnTo>
                  <a:pt x="345" y="628"/>
                </a:lnTo>
                <a:lnTo>
                  <a:pt x="368" y="661"/>
                </a:lnTo>
                <a:lnTo>
                  <a:pt x="386" y="720"/>
                </a:lnTo>
                <a:lnTo>
                  <a:pt x="407" y="741"/>
                </a:lnTo>
                <a:lnTo>
                  <a:pt x="424" y="715"/>
                </a:lnTo>
                <a:lnTo>
                  <a:pt x="447" y="667"/>
                </a:lnTo>
                <a:lnTo>
                  <a:pt x="470" y="661"/>
                </a:lnTo>
                <a:lnTo>
                  <a:pt x="487" y="688"/>
                </a:lnTo>
                <a:lnTo>
                  <a:pt x="509" y="715"/>
                </a:lnTo>
                <a:lnTo>
                  <a:pt x="526" y="697"/>
                </a:lnTo>
                <a:lnTo>
                  <a:pt x="549" y="672"/>
                </a:lnTo>
                <a:lnTo>
                  <a:pt x="572" y="661"/>
                </a:lnTo>
                <a:lnTo>
                  <a:pt x="589" y="661"/>
                </a:lnTo>
                <a:lnTo>
                  <a:pt x="610" y="661"/>
                </a:lnTo>
                <a:lnTo>
                  <a:pt x="628" y="661"/>
                </a:lnTo>
                <a:lnTo>
                  <a:pt x="651" y="672"/>
                </a:lnTo>
                <a:lnTo>
                  <a:pt x="674" y="724"/>
                </a:lnTo>
                <a:lnTo>
                  <a:pt x="691" y="778"/>
                </a:lnTo>
                <a:lnTo>
                  <a:pt x="712" y="799"/>
                </a:lnTo>
                <a:lnTo>
                  <a:pt x="735" y="757"/>
                </a:lnTo>
                <a:lnTo>
                  <a:pt x="752" y="724"/>
                </a:lnTo>
                <a:lnTo>
                  <a:pt x="775" y="730"/>
                </a:lnTo>
                <a:lnTo>
                  <a:pt x="793" y="745"/>
                </a:lnTo>
                <a:lnTo>
                  <a:pt x="814" y="715"/>
                </a:lnTo>
                <a:lnTo>
                  <a:pt x="837" y="661"/>
                </a:lnTo>
                <a:lnTo>
                  <a:pt x="854" y="640"/>
                </a:lnTo>
                <a:lnTo>
                  <a:pt x="877" y="655"/>
                </a:lnTo>
                <a:lnTo>
                  <a:pt x="894" y="688"/>
                </a:lnTo>
                <a:lnTo>
                  <a:pt x="916" y="688"/>
                </a:lnTo>
                <a:lnTo>
                  <a:pt x="939" y="655"/>
                </a:lnTo>
                <a:lnTo>
                  <a:pt x="956" y="628"/>
                </a:lnTo>
                <a:lnTo>
                  <a:pt x="979" y="634"/>
                </a:lnTo>
                <a:lnTo>
                  <a:pt x="996" y="667"/>
                </a:lnTo>
                <a:lnTo>
                  <a:pt x="1017" y="697"/>
                </a:lnTo>
                <a:lnTo>
                  <a:pt x="1040" y="720"/>
                </a:lnTo>
                <a:lnTo>
                  <a:pt x="1058" y="724"/>
                </a:lnTo>
                <a:lnTo>
                  <a:pt x="1081" y="697"/>
                </a:lnTo>
                <a:lnTo>
                  <a:pt x="1098" y="655"/>
                </a:lnTo>
                <a:lnTo>
                  <a:pt x="1121" y="613"/>
                </a:lnTo>
                <a:lnTo>
                  <a:pt x="1142" y="580"/>
                </a:lnTo>
                <a:lnTo>
                  <a:pt x="1159" y="565"/>
                </a:lnTo>
                <a:lnTo>
                  <a:pt x="1183" y="559"/>
                </a:lnTo>
                <a:lnTo>
                  <a:pt x="1206" y="576"/>
                </a:lnTo>
                <a:lnTo>
                  <a:pt x="1223" y="576"/>
                </a:lnTo>
                <a:lnTo>
                  <a:pt x="1244" y="538"/>
                </a:lnTo>
                <a:lnTo>
                  <a:pt x="1261" y="496"/>
                </a:lnTo>
                <a:lnTo>
                  <a:pt x="1284" y="459"/>
                </a:lnTo>
                <a:lnTo>
                  <a:pt x="1307" y="432"/>
                </a:lnTo>
                <a:lnTo>
                  <a:pt x="1325" y="411"/>
                </a:lnTo>
                <a:lnTo>
                  <a:pt x="1346" y="384"/>
                </a:lnTo>
                <a:lnTo>
                  <a:pt x="1363" y="357"/>
                </a:lnTo>
                <a:lnTo>
                  <a:pt x="1386" y="298"/>
                </a:lnTo>
                <a:lnTo>
                  <a:pt x="1409" y="223"/>
                </a:lnTo>
                <a:lnTo>
                  <a:pt x="1426" y="138"/>
                </a:lnTo>
                <a:lnTo>
                  <a:pt x="1448" y="63"/>
                </a:lnTo>
                <a:lnTo>
                  <a:pt x="1465" y="21"/>
                </a:lnTo>
                <a:lnTo>
                  <a:pt x="1488" y="5"/>
                </a:lnTo>
                <a:lnTo>
                  <a:pt x="1511" y="0"/>
                </a:lnTo>
                <a:lnTo>
                  <a:pt x="1528" y="15"/>
                </a:lnTo>
                <a:lnTo>
                  <a:pt x="1549" y="48"/>
                </a:lnTo>
                <a:lnTo>
                  <a:pt x="1567" y="111"/>
                </a:lnTo>
                <a:lnTo>
                  <a:pt x="1590" y="176"/>
                </a:lnTo>
                <a:lnTo>
                  <a:pt x="1613" y="244"/>
                </a:lnTo>
                <a:lnTo>
                  <a:pt x="1630" y="319"/>
                </a:lnTo>
                <a:lnTo>
                  <a:pt x="1651" y="432"/>
                </a:lnTo>
                <a:lnTo>
                  <a:pt x="1668" y="576"/>
                </a:lnTo>
                <a:lnTo>
                  <a:pt x="1691" y="720"/>
                </a:lnTo>
                <a:lnTo>
                  <a:pt x="1714" y="793"/>
                </a:lnTo>
                <a:lnTo>
                  <a:pt x="1732" y="820"/>
                </a:lnTo>
                <a:lnTo>
                  <a:pt x="1753" y="826"/>
                </a:lnTo>
                <a:lnTo>
                  <a:pt x="1776" y="843"/>
                </a:lnTo>
                <a:lnTo>
                  <a:pt x="1793" y="843"/>
                </a:lnTo>
                <a:lnTo>
                  <a:pt x="1816" y="826"/>
                </a:lnTo>
                <a:lnTo>
                  <a:pt x="1833" y="826"/>
                </a:lnTo>
                <a:lnTo>
                  <a:pt x="1855" y="838"/>
                </a:lnTo>
                <a:lnTo>
                  <a:pt x="1878" y="853"/>
                </a:lnTo>
                <a:lnTo>
                  <a:pt x="1895" y="853"/>
                </a:lnTo>
                <a:lnTo>
                  <a:pt x="1918" y="843"/>
                </a:lnTo>
                <a:lnTo>
                  <a:pt x="1935" y="826"/>
                </a:lnTo>
                <a:lnTo>
                  <a:pt x="1956" y="826"/>
                </a:lnTo>
                <a:lnTo>
                  <a:pt x="1979" y="838"/>
                </a:lnTo>
                <a:lnTo>
                  <a:pt x="1997" y="853"/>
                </a:lnTo>
                <a:lnTo>
                  <a:pt x="2020" y="853"/>
                </a:lnTo>
                <a:lnTo>
                  <a:pt x="2037" y="838"/>
                </a:lnTo>
                <a:lnTo>
                  <a:pt x="2058" y="816"/>
                </a:lnTo>
                <a:lnTo>
                  <a:pt x="2081" y="79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498680" y="225432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Times New Roman"/>
            </a:endParaRPr>
          </a:p>
        </p:txBody>
      </p:sp>
      <p:sp>
        <p:nvSpPr>
          <p:cNvPr id="995" name=""/>
          <p:cNvSpPr/>
          <p:nvPr/>
        </p:nvSpPr>
        <p:spPr>
          <a:xfrm>
            <a:off x="1535760" y="1246320"/>
            <a:ext cx="19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000000"/>
              </a:solidFill>
              <a:latin typeface="Times New Roman"/>
            </a:endParaRPr>
          </a:p>
        </p:txBody>
      </p:sp>
      <p:grpSp>
        <p:nvGrpSpPr>
          <p:cNvPr id="996" name=""/>
          <p:cNvGrpSpPr/>
          <p:nvPr/>
        </p:nvGrpSpPr>
        <p:grpSpPr>
          <a:xfrm>
            <a:off x="708120" y="3040200"/>
            <a:ext cx="2425680" cy="1132200"/>
            <a:chOff x="708120" y="3040200"/>
            <a:chExt cx="2425680" cy="1132200"/>
          </a:xfrm>
        </p:grpSpPr>
        <p:sp>
          <p:nvSpPr>
            <p:cNvPr id="997" name=""/>
            <p:cNvSpPr/>
            <p:nvPr/>
          </p:nvSpPr>
          <p:spPr>
            <a:xfrm>
              <a:off x="708120" y="3319560"/>
              <a:ext cx="2422440" cy="460080"/>
            </a:xfrm>
            <a:custGeom>
              <a:avLst/>
              <a:gdLst/>
              <a:ahLst/>
              <a:rect l="l" t="t" r="r" b="b"/>
              <a:pathLst>
                <a:path w="2081" h="474">
                  <a:moveTo>
                    <a:pt x="0" y="180"/>
                  </a:moveTo>
                  <a:lnTo>
                    <a:pt x="17" y="192"/>
                  </a:lnTo>
                  <a:lnTo>
                    <a:pt x="40" y="196"/>
                  </a:lnTo>
                  <a:lnTo>
                    <a:pt x="56" y="201"/>
                  </a:lnTo>
                  <a:lnTo>
                    <a:pt x="79" y="207"/>
                  </a:lnTo>
                  <a:lnTo>
                    <a:pt x="102" y="217"/>
                  </a:lnTo>
                  <a:lnTo>
                    <a:pt x="119" y="228"/>
                  </a:lnTo>
                  <a:lnTo>
                    <a:pt x="142" y="234"/>
                  </a:lnTo>
                  <a:lnTo>
                    <a:pt x="157" y="244"/>
                  </a:lnTo>
                  <a:lnTo>
                    <a:pt x="180" y="255"/>
                  </a:lnTo>
                  <a:lnTo>
                    <a:pt x="203" y="265"/>
                  </a:lnTo>
                  <a:lnTo>
                    <a:pt x="221" y="276"/>
                  </a:lnTo>
                  <a:lnTo>
                    <a:pt x="244" y="292"/>
                  </a:lnTo>
                  <a:lnTo>
                    <a:pt x="265" y="303"/>
                  </a:lnTo>
                  <a:lnTo>
                    <a:pt x="282" y="319"/>
                  </a:lnTo>
                  <a:lnTo>
                    <a:pt x="305" y="324"/>
                  </a:lnTo>
                  <a:lnTo>
                    <a:pt x="322" y="330"/>
                  </a:lnTo>
                  <a:lnTo>
                    <a:pt x="346" y="340"/>
                  </a:lnTo>
                  <a:lnTo>
                    <a:pt x="367" y="345"/>
                  </a:lnTo>
                  <a:lnTo>
                    <a:pt x="384" y="357"/>
                  </a:lnTo>
                  <a:lnTo>
                    <a:pt x="407" y="357"/>
                  </a:lnTo>
                  <a:lnTo>
                    <a:pt x="424" y="357"/>
                  </a:lnTo>
                  <a:lnTo>
                    <a:pt x="447" y="361"/>
                  </a:lnTo>
                  <a:lnTo>
                    <a:pt x="468" y="361"/>
                  </a:lnTo>
                  <a:lnTo>
                    <a:pt x="486" y="361"/>
                  </a:lnTo>
                  <a:lnTo>
                    <a:pt x="509" y="367"/>
                  </a:lnTo>
                  <a:lnTo>
                    <a:pt x="526" y="367"/>
                  </a:lnTo>
                  <a:lnTo>
                    <a:pt x="549" y="372"/>
                  </a:lnTo>
                  <a:lnTo>
                    <a:pt x="572" y="372"/>
                  </a:lnTo>
                  <a:lnTo>
                    <a:pt x="587" y="378"/>
                  </a:lnTo>
                  <a:lnTo>
                    <a:pt x="611" y="378"/>
                  </a:lnTo>
                  <a:lnTo>
                    <a:pt x="628" y="382"/>
                  </a:lnTo>
                  <a:lnTo>
                    <a:pt x="651" y="382"/>
                  </a:lnTo>
                  <a:lnTo>
                    <a:pt x="674" y="382"/>
                  </a:lnTo>
                  <a:lnTo>
                    <a:pt x="689" y="382"/>
                  </a:lnTo>
                  <a:lnTo>
                    <a:pt x="712" y="378"/>
                  </a:lnTo>
                  <a:lnTo>
                    <a:pt x="735" y="378"/>
                  </a:lnTo>
                  <a:lnTo>
                    <a:pt x="753" y="382"/>
                  </a:lnTo>
                  <a:lnTo>
                    <a:pt x="776" y="382"/>
                  </a:lnTo>
                  <a:lnTo>
                    <a:pt x="791" y="382"/>
                  </a:lnTo>
                  <a:lnTo>
                    <a:pt x="814" y="382"/>
                  </a:lnTo>
                  <a:lnTo>
                    <a:pt x="837" y="378"/>
                  </a:lnTo>
                  <a:lnTo>
                    <a:pt x="854" y="372"/>
                  </a:lnTo>
                  <a:lnTo>
                    <a:pt x="877" y="367"/>
                  </a:lnTo>
                  <a:lnTo>
                    <a:pt x="893" y="361"/>
                  </a:lnTo>
                  <a:lnTo>
                    <a:pt x="916" y="367"/>
                  </a:lnTo>
                  <a:lnTo>
                    <a:pt x="939" y="367"/>
                  </a:lnTo>
                  <a:lnTo>
                    <a:pt x="956" y="361"/>
                  </a:lnTo>
                  <a:lnTo>
                    <a:pt x="979" y="351"/>
                  </a:lnTo>
                  <a:lnTo>
                    <a:pt x="995" y="351"/>
                  </a:lnTo>
                  <a:lnTo>
                    <a:pt x="1018" y="351"/>
                  </a:lnTo>
                  <a:lnTo>
                    <a:pt x="1041" y="345"/>
                  </a:lnTo>
                  <a:lnTo>
                    <a:pt x="1058" y="336"/>
                  </a:lnTo>
                  <a:lnTo>
                    <a:pt x="1081" y="336"/>
                  </a:lnTo>
                  <a:lnTo>
                    <a:pt x="1098" y="330"/>
                  </a:lnTo>
                  <a:lnTo>
                    <a:pt x="1119" y="319"/>
                  </a:lnTo>
                  <a:lnTo>
                    <a:pt x="1142" y="313"/>
                  </a:lnTo>
                  <a:lnTo>
                    <a:pt x="1160" y="303"/>
                  </a:lnTo>
                  <a:lnTo>
                    <a:pt x="1183" y="288"/>
                  </a:lnTo>
                  <a:lnTo>
                    <a:pt x="1206" y="270"/>
                  </a:lnTo>
                  <a:lnTo>
                    <a:pt x="1221" y="255"/>
                  </a:lnTo>
                  <a:lnTo>
                    <a:pt x="1244" y="240"/>
                  </a:lnTo>
                  <a:lnTo>
                    <a:pt x="1261" y="217"/>
                  </a:lnTo>
                  <a:lnTo>
                    <a:pt x="1285" y="196"/>
                  </a:lnTo>
                  <a:lnTo>
                    <a:pt x="1308" y="171"/>
                  </a:lnTo>
                  <a:lnTo>
                    <a:pt x="1323" y="144"/>
                  </a:lnTo>
                  <a:lnTo>
                    <a:pt x="1346" y="122"/>
                  </a:lnTo>
                  <a:lnTo>
                    <a:pt x="1363" y="90"/>
                  </a:lnTo>
                  <a:lnTo>
                    <a:pt x="1386" y="63"/>
                  </a:lnTo>
                  <a:lnTo>
                    <a:pt x="1409" y="42"/>
                  </a:lnTo>
                  <a:lnTo>
                    <a:pt x="1425" y="26"/>
                  </a:lnTo>
                  <a:lnTo>
                    <a:pt x="1448" y="9"/>
                  </a:lnTo>
                  <a:lnTo>
                    <a:pt x="1465" y="5"/>
                  </a:lnTo>
                  <a:lnTo>
                    <a:pt x="1488" y="0"/>
                  </a:lnTo>
                  <a:lnTo>
                    <a:pt x="1511" y="0"/>
                  </a:lnTo>
                  <a:lnTo>
                    <a:pt x="1528" y="9"/>
                  </a:lnTo>
                  <a:lnTo>
                    <a:pt x="1550" y="30"/>
                  </a:lnTo>
                  <a:lnTo>
                    <a:pt x="1567" y="57"/>
                  </a:lnTo>
                  <a:lnTo>
                    <a:pt x="1590" y="90"/>
                  </a:lnTo>
                  <a:lnTo>
                    <a:pt x="1613" y="122"/>
                  </a:lnTo>
                  <a:lnTo>
                    <a:pt x="1630" y="165"/>
                  </a:lnTo>
                  <a:lnTo>
                    <a:pt x="1651" y="201"/>
                  </a:lnTo>
                  <a:lnTo>
                    <a:pt x="1669" y="244"/>
                  </a:lnTo>
                  <a:lnTo>
                    <a:pt x="1692" y="282"/>
                  </a:lnTo>
                  <a:lnTo>
                    <a:pt x="1715" y="319"/>
                  </a:lnTo>
                  <a:lnTo>
                    <a:pt x="1732" y="351"/>
                  </a:lnTo>
                  <a:lnTo>
                    <a:pt x="1753" y="382"/>
                  </a:lnTo>
                  <a:lnTo>
                    <a:pt x="1776" y="409"/>
                  </a:lnTo>
                  <a:lnTo>
                    <a:pt x="1793" y="436"/>
                  </a:lnTo>
                  <a:lnTo>
                    <a:pt x="1816" y="453"/>
                  </a:lnTo>
                  <a:lnTo>
                    <a:pt x="1834" y="468"/>
                  </a:lnTo>
                  <a:lnTo>
                    <a:pt x="1855" y="474"/>
                  </a:lnTo>
                  <a:lnTo>
                    <a:pt x="1878" y="474"/>
                  </a:lnTo>
                  <a:lnTo>
                    <a:pt x="1895" y="474"/>
                  </a:lnTo>
                  <a:lnTo>
                    <a:pt x="1918" y="474"/>
                  </a:lnTo>
                  <a:lnTo>
                    <a:pt x="1935" y="474"/>
                  </a:lnTo>
                  <a:lnTo>
                    <a:pt x="1957" y="474"/>
                  </a:lnTo>
                  <a:lnTo>
                    <a:pt x="1980" y="474"/>
                  </a:lnTo>
                  <a:lnTo>
                    <a:pt x="1997" y="474"/>
                  </a:lnTo>
                  <a:lnTo>
                    <a:pt x="2020" y="474"/>
                  </a:lnTo>
                  <a:lnTo>
                    <a:pt x="2037" y="474"/>
                  </a:lnTo>
                  <a:lnTo>
                    <a:pt x="2058" y="468"/>
                  </a:lnTo>
                  <a:lnTo>
                    <a:pt x="2081" y="468"/>
                  </a:lnTo>
                </a:path>
              </a:pathLst>
            </a:custGeom>
            <a:noFill/>
            <a:ln w="381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708120" y="3040200"/>
              <a:ext cx="2422440" cy="826920"/>
            </a:xfrm>
            <a:custGeom>
              <a:avLst/>
              <a:gdLst/>
              <a:ahLst/>
              <a:rect l="l" t="t" r="r" b="b"/>
              <a:pathLst>
                <a:path w="2081" h="854">
                  <a:moveTo>
                    <a:pt x="0" y="379"/>
                  </a:moveTo>
                  <a:lnTo>
                    <a:pt x="17" y="385"/>
                  </a:lnTo>
                  <a:lnTo>
                    <a:pt x="40" y="394"/>
                  </a:lnTo>
                  <a:lnTo>
                    <a:pt x="56" y="400"/>
                  </a:lnTo>
                  <a:lnTo>
                    <a:pt x="79" y="421"/>
                  </a:lnTo>
                  <a:lnTo>
                    <a:pt x="102" y="442"/>
                  </a:lnTo>
                  <a:lnTo>
                    <a:pt x="119" y="463"/>
                  </a:lnTo>
                  <a:lnTo>
                    <a:pt x="142" y="490"/>
                  </a:lnTo>
                  <a:lnTo>
                    <a:pt x="157" y="511"/>
                  </a:lnTo>
                  <a:lnTo>
                    <a:pt x="180" y="523"/>
                  </a:lnTo>
                  <a:lnTo>
                    <a:pt x="203" y="533"/>
                  </a:lnTo>
                  <a:lnTo>
                    <a:pt x="221" y="565"/>
                  </a:lnTo>
                  <a:lnTo>
                    <a:pt x="244" y="598"/>
                  </a:lnTo>
                  <a:lnTo>
                    <a:pt x="265" y="619"/>
                  </a:lnTo>
                  <a:lnTo>
                    <a:pt x="282" y="623"/>
                  </a:lnTo>
                  <a:lnTo>
                    <a:pt x="305" y="623"/>
                  </a:lnTo>
                  <a:lnTo>
                    <a:pt x="322" y="623"/>
                  </a:lnTo>
                  <a:lnTo>
                    <a:pt x="346" y="629"/>
                  </a:lnTo>
                  <a:lnTo>
                    <a:pt x="367" y="661"/>
                  </a:lnTo>
                  <a:lnTo>
                    <a:pt x="384" y="721"/>
                  </a:lnTo>
                  <a:lnTo>
                    <a:pt x="407" y="742"/>
                  </a:lnTo>
                  <a:lnTo>
                    <a:pt x="424" y="715"/>
                  </a:lnTo>
                  <a:lnTo>
                    <a:pt x="447" y="667"/>
                  </a:lnTo>
                  <a:lnTo>
                    <a:pt x="468" y="661"/>
                  </a:lnTo>
                  <a:lnTo>
                    <a:pt x="486" y="688"/>
                  </a:lnTo>
                  <a:lnTo>
                    <a:pt x="509" y="715"/>
                  </a:lnTo>
                  <a:lnTo>
                    <a:pt x="526" y="698"/>
                  </a:lnTo>
                  <a:lnTo>
                    <a:pt x="549" y="671"/>
                  </a:lnTo>
                  <a:lnTo>
                    <a:pt x="572" y="661"/>
                  </a:lnTo>
                  <a:lnTo>
                    <a:pt x="587" y="661"/>
                  </a:lnTo>
                  <a:lnTo>
                    <a:pt x="611" y="661"/>
                  </a:lnTo>
                  <a:lnTo>
                    <a:pt x="628" y="661"/>
                  </a:lnTo>
                  <a:lnTo>
                    <a:pt x="651" y="671"/>
                  </a:lnTo>
                  <a:lnTo>
                    <a:pt x="674" y="725"/>
                  </a:lnTo>
                  <a:lnTo>
                    <a:pt x="689" y="779"/>
                  </a:lnTo>
                  <a:lnTo>
                    <a:pt x="712" y="800"/>
                  </a:lnTo>
                  <a:lnTo>
                    <a:pt x="735" y="757"/>
                  </a:lnTo>
                  <a:lnTo>
                    <a:pt x="753" y="725"/>
                  </a:lnTo>
                  <a:lnTo>
                    <a:pt x="776" y="731"/>
                  </a:lnTo>
                  <a:lnTo>
                    <a:pt x="791" y="746"/>
                  </a:lnTo>
                  <a:lnTo>
                    <a:pt x="814" y="715"/>
                  </a:lnTo>
                  <a:lnTo>
                    <a:pt x="837" y="661"/>
                  </a:lnTo>
                  <a:lnTo>
                    <a:pt x="854" y="640"/>
                  </a:lnTo>
                  <a:lnTo>
                    <a:pt x="877" y="656"/>
                  </a:lnTo>
                  <a:lnTo>
                    <a:pt x="893" y="688"/>
                  </a:lnTo>
                  <a:lnTo>
                    <a:pt x="916" y="688"/>
                  </a:lnTo>
                  <a:lnTo>
                    <a:pt x="939" y="656"/>
                  </a:lnTo>
                  <a:lnTo>
                    <a:pt x="956" y="629"/>
                  </a:lnTo>
                  <a:lnTo>
                    <a:pt x="979" y="634"/>
                  </a:lnTo>
                  <a:lnTo>
                    <a:pt x="995" y="667"/>
                  </a:lnTo>
                  <a:lnTo>
                    <a:pt x="1018" y="698"/>
                  </a:lnTo>
                  <a:lnTo>
                    <a:pt x="1041" y="721"/>
                  </a:lnTo>
                  <a:lnTo>
                    <a:pt x="1058" y="725"/>
                  </a:lnTo>
                  <a:lnTo>
                    <a:pt x="1081" y="698"/>
                  </a:lnTo>
                  <a:lnTo>
                    <a:pt x="1098" y="656"/>
                  </a:lnTo>
                  <a:lnTo>
                    <a:pt x="1119" y="613"/>
                  </a:lnTo>
                  <a:lnTo>
                    <a:pt x="1142" y="581"/>
                  </a:lnTo>
                  <a:lnTo>
                    <a:pt x="1160" y="565"/>
                  </a:lnTo>
                  <a:lnTo>
                    <a:pt x="1183" y="559"/>
                  </a:lnTo>
                  <a:lnTo>
                    <a:pt x="1206" y="577"/>
                  </a:lnTo>
                  <a:lnTo>
                    <a:pt x="1221" y="577"/>
                  </a:lnTo>
                  <a:lnTo>
                    <a:pt x="1244" y="538"/>
                  </a:lnTo>
                  <a:lnTo>
                    <a:pt x="1261" y="496"/>
                  </a:lnTo>
                  <a:lnTo>
                    <a:pt x="1285" y="458"/>
                  </a:lnTo>
                  <a:lnTo>
                    <a:pt x="1308" y="431"/>
                  </a:lnTo>
                  <a:lnTo>
                    <a:pt x="1323" y="411"/>
                  </a:lnTo>
                  <a:lnTo>
                    <a:pt x="1346" y="385"/>
                  </a:lnTo>
                  <a:lnTo>
                    <a:pt x="1363" y="358"/>
                  </a:lnTo>
                  <a:lnTo>
                    <a:pt x="1386" y="298"/>
                  </a:lnTo>
                  <a:lnTo>
                    <a:pt x="1409" y="223"/>
                  </a:lnTo>
                  <a:lnTo>
                    <a:pt x="1425" y="139"/>
                  </a:lnTo>
                  <a:lnTo>
                    <a:pt x="1448" y="64"/>
                  </a:lnTo>
                  <a:lnTo>
                    <a:pt x="1465" y="21"/>
                  </a:lnTo>
                  <a:lnTo>
                    <a:pt x="1488" y="4"/>
                  </a:lnTo>
                  <a:lnTo>
                    <a:pt x="1511" y="0"/>
                  </a:lnTo>
                  <a:lnTo>
                    <a:pt x="1528" y="16"/>
                  </a:lnTo>
                  <a:lnTo>
                    <a:pt x="1550" y="48"/>
                  </a:lnTo>
                  <a:lnTo>
                    <a:pt x="1567" y="112"/>
                  </a:lnTo>
                  <a:lnTo>
                    <a:pt x="1590" y="175"/>
                  </a:lnTo>
                  <a:lnTo>
                    <a:pt x="1613" y="244"/>
                  </a:lnTo>
                  <a:lnTo>
                    <a:pt x="1630" y="319"/>
                  </a:lnTo>
                  <a:lnTo>
                    <a:pt x="1651" y="431"/>
                  </a:lnTo>
                  <a:lnTo>
                    <a:pt x="1669" y="577"/>
                  </a:lnTo>
                  <a:lnTo>
                    <a:pt x="1692" y="721"/>
                  </a:lnTo>
                  <a:lnTo>
                    <a:pt x="1715" y="794"/>
                  </a:lnTo>
                  <a:lnTo>
                    <a:pt x="1732" y="821"/>
                  </a:lnTo>
                  <a:lnTo>
                    <a:pt x="1753" y="827"/>
                  </a:lnTo>
                  <a:lnTo>
                    <a:pt x="1776" y="842"/>
                  </a:lnTo>
                  <a:lnTo>
                    <a:pt x="1793" y="842"/>
                  </a:lnTo>
                  <a:lnTo>
                    <a:pt x="1816" y="827"/>
                  </a:lnTo>
                  <a:lnTo>
                    <a:pt x="1834" y="827"/>
                  </a:lnTo>
                  <a:lnTo>
                    <a:pt x="1855" y="838"/>
                  </a:lnTo>
                  <a:lnTo>
                    <a:pt x="1878" y="854"/>
                  </a:lnTo>
                  <a:lnTo>
                    <a:pt x="1895" y="854"/>
                  </a:lnTo>
                  <a:lnTo>
                    <a:pt x="1918" y="842"/>
                  </a:lnTo>
                  <a:lnTo>
                    <a:pt x="1935" y="827"/>
                  </a:lnTo>
                  <a:lnTo>
                    <a:pt x="1957" y="827"/>
                  </a:lnTo>
                  <a:lnTo>
                    <a:pt x="1980" y="838"/>
                  </a:lnTo>
                  <a:lnTo>
                    <a:pt x="1997" y="854"/>
                  </a:lnTo>
                  <a:lnTo>
                    <a:pt x="2020" y="854"/>
                  </a:lnTo>
                  <a:lnTo>
                    <a:pt x="2037" y="838"/>
                  </a:lnTo>
                  <a:lnTo>
                    <a:pt x="2058" y="815"/>
                  </a:lnTo>
                  <a:lnTo>
                    <a:pt x="2081" y="80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708120" y="3406680"/>
              <a:ext cx="3240" cy="87480"/>
            </a:xfrm>
            <a:prstGeom prst="line">
              <a:avLst/>
            </a:prstGeom>
            <a:ln w="144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0" name=""/>
            <p:cNvSpPr/>
            <p:nvPr/>
          </p:nvSpPr>
          <p:spPr>
            <a:xfrm>
              <a:off x="728640" y="3413160"/>
              <a:ext cx="3240" cy="90360"/>
            </a:xfrm>
            <a:prstGeom prst="line">
              <a:avLst/>
            </a:prstGeom>
            <a:ln w="14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1" name=""/>
            <p:cNvSpPr/>
            <p:nvPr/>
          </p:nvSpPr>
          <p:spPr>
            <a:xfrm>
              <a:off x="754200" y="3422520"/>
              <a:ext cx="3240" cy="87480"/>
            </a:xfrm>
            <a:prstGeom prst="line">
              <a:avLst/>
            </a:prstGeom>
            <a:ln w="144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2" name=""/>
            <p:cNvSpPr/>
            <p:nvPr/>
          </p:nvSpPr>
          <p:spPr>
            <a:xfrm>
              <a:off x="776520" y="3427200"/>
              <a:ext cx="1440" cy="87480"/>
            </a:xfrm>
            <a:prstGeom prst="line">
              <a:avLst/>
            </a:prstGeom>
            <a:ln w="144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3" name=""/>
            <p:cNvSpPr/>
            <p:nvPr/>
          </p:nvSpPr>
          <p:spPr>
            <a:xfrm>
              <a:off x="801720" y="3448080"/>
              <a:ext cx="1800" cy="7308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4" name=""/>
            <p:cNvSpPr/>
            <p:nvPr/>
          </p:nvSpPr>
          <p:spPr>
            <a:xfrm>
              <a:off x="825480" y="3468600"/>
              <a:ext cx="3240" cy="6048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05" name=""/>
            <p:cNvSpPr/>
            <p:nvPr/>
          </p:nvSpPr>
          <p:spPr>
            <a:xfrm>
              <a:off x="847800" y="3487680"/>
              <a:ext cx="1440" cy="54000"/>
            </a:xfrm>
            <a:prstGeom prst="line">
              <a:avLst/>
            </a:prstGeom>
            <a:ln w="14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6" name=""/>
            <p:cNvSpPr/>
            <p:nvPr/>
          </p:nvSpPr>
          <p:spPr>
            <a:xfrm>
              <a:off x="873360" y="3514680"/>
              <a:ext cx="1440" cy="31680"/>
            </a:xfrm>
            <a:prstGeom prst="line">
              <a:avLst/>
            </a:prstGeom>
            <a:ln w="144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7" name=""/>
            <p:cNvSpPr/>
            <p:nvPr/>
          </p:nvSpPr>
          <p:spPr>
            <a:xfrm>
              <a:off x="892440" y="3535200"/>
              <a:ext cx="1440" cy="20880"/>
            </a:xfrm>
            <a:prstGeom prst="line">
              <a:avLst/>
            </a:prstGeom>
            <a:ln w="1440">
              <a:solidFill>
                <a:srgbClr val="80808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8" name=""/>
            <p:cNvSpPr/>
            <p:nvPr/>
          </p:nvSpPr>
          <p:spPr>
            <a:xfrm>
              <a:off x="920880" y="3546360"/>
              <a:ext cx="1440" cy="20880"/>
            </a:xfrm>
            <a:prstGeom prst="line">
              <a:avLst/>
            </a:prstGeom>
            <a:ln w="1440">
              <a:solidFill>
                <a:srgbClr val="80808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9" name=""/>
            <p:cNvSpPr/>
            <p:nvPr/>
          </p:nvSpPr>
          <p:spPr>
            <a:xfrm>
              <a:off x="946080" y="3556080"/>
              <a:ext cx="1800" cy="19080"/>
            </a:xfrm>
            <a:prstGeom prst="line">
              <a:avLst/>
            </a:prstGeom>
            <a:ln w="1440">
              <a:solidFill>
                <a:srgbClr val="808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0" name=""/>
            <p:cNvSpPr/>
            <p:nvPr/>
          </p:nvSpPr>
          <p:spPr>
            <a:xfrm>
              <a:off x="966960" y="3587760"/>
              <a:ext cx="1440" cy="1440"/>
            </a:xfrm>
            <a:prstGeom prst="line">
              <a:avLst/>
            </a:prstGeom>
            <a:ln w="14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 name=""/>
            <p:cNvSpPr/>
            <p:nvPr/>
          </p:nvSpPr>
          <p:spPr>
            <a:xfrm flipV="1">
              <a:off x="992160" y="3601800"/>
              <a:ext cx="3240" cy="14040"/>
            </a:xfrm>
            <a:prstGeom prst="line">
              <a:avLst/>
            </a:prstGeom>
            <a:ln w="1440">
              <a:solidFill>
                <a:srgbClr val="80808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12" name=""/>
            <p:cNvSpPr/>
            <p:nvPr/>
          </p:nvSpPr>
          <p:spPr>
            <a:xfrm flipV="1">
              <a:off x="1017720" y="3614760"/>
              <a:ext cx="324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3" name=""/>
            <p:cNvSpPr/>
            <p:nvPr/>
          </p:nvSpPr>
          <p:spPr>
            <a:xfrm flipV="1">
              <a:off x="1038240" y="3628800"/>
              <a:ext cx="3240" cy="14040"/>
            </a:xfrm>
            <a:prstGeom prst="line">
              <a:avLst/>
            </a:prstGeom>
            <a:ln w="1440">
              <a:solidFill>
                <a:srgbClr val="80808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14" name=""/>
            <p:cNvSpPr/>
            <p:nvPr/>
          </p:nvSpPr>
          <p:spPr>
            <a:xfrm flipV="1">
              <a:off x="1063800" y="3633840"/>
              <a:ext cx="3240" cy="9360"/>
            </a:xfrm>
            <a:prstGeom prst="line">
              <a:avLst/>
            </a:prstGeom>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flipV="1">
              <a:off x="1086120" y="3639600"/>
              <a:ext cx="1440" cy="3240"/>
            </a:xfrm>
            <a:prstGeom prst="line">
              <a:avLst/>
            </a:prstGeom>
            <a:ln w="14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6" name=""/>
            <p:cNvSpPr/>
            <p:nvPr/>
          </p:nvSpPr>
          <p:spPr>
            <a:xfrm>
              <a:off x="1109880" y="3649680"/>
              <a:ext cx="2880" cy="1440"/>
            </a:xfrm>
            <a:prstGeom prst="line">
              <a:avLst/>
            </a:prstGeom>
            <a:ln w="14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 name=""/>
            <p:cNvSpPr/>
            <p:nvPr/>
          </p:nvSpPr>
          <p:spPr>
            <a:xfrm flipV="1">
              <a:off x="1136880" y="3654000"/>
              <a:ext cx="1440" cy="27000"/>
            </a:xfrm>
            <a:prstGeom prst="line">
              <a:avLst/>
            </a:prstGeom>
            <a:ln w="14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8" name=""/>
            <p:cNvSpPr/>
            <p:nvPr/>
          </p:nvSpPr>
          <p:spPr>
            <a:xfrm flipV="1">
              <a:off x="1155960" y="3665160"/>
              <a:ext cx="1440" cy="7308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9" name=""/>
            <p:cNvSpPr/>
            <p:nvPr/>
          </p:nvSpPr>
          <p:spPr>
            <a:xfrm flipV="1">
              <a:off x="1182960" y="3665520"/>
              <a:ext cx="1440" cy="92160"/>
            </a:xfrm>
            <a:prstGeom prst="line">
              <a:avLst/>
            </a:prstGeom>
            <a:ln w="14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
            <p:cNvSpPr/>
            <p:nvPr/>
          </p:nvSpPr>
          <p:spPr>
            <a:xfrm flipV="1">
              <a:off x="1203480" y="3665520"/>
              <a:ext cx="3240" cy="684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1" name=""/>
            <p:cNvSpPr/>
            <p:nvPr/>
          </p:nvSpPr>
          <p:spPr>
            <a:xfrm flipV="1">
              <a:off x="1227240" y="3668760"/>
              <a:ext cx="3240" cy="17280"/>
            </a:xfrm>
            <a:prstGeom prst="line">
              <a:avLst/>
            </a:prstGeom>
            <a:ln w="1440">
              <a:solidFill>
                <a:srgbClr val="8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2" name=""/>
            <p:cNvSpPr/>
            <p:nvPr/>
          </p:nvSpPr>
          <p:spPr>
            <a:xfrm flipV="1">
              <a:off x="1257480" y="3668400"/>
              <a:ext cx="1440" cy="12600"/>
            </a:xfrm>
            <a:prstGeom prst="line">
              <a:avLst/>
            </a:prstGeom>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3" name=""/>
            <p:cNvSpPr/>
            <p:nvPr/>
          </p:nvSpPr>
          <p:spPr>
            <a:xfrm flipV="1">
              <a:off x="1273320" y="3668760"/>
              <a:ext cx="3240" cy="39600"/>
            </a:xfrm>
            <a:prstGeom prst="line">
              <a:avLst/>
            </a:prstGeom>
            <a:ln w="14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4" name=""/>
            <p:cNvSpPr/>
            <p:nvPr/>
          </p:nvSpPr>
          <p:spPr>
            <a:xfrm flipV="1">
              <a:off x="1301760" y="3674880"/>
              <a:ext cx="3240" cy="59040"/>
            </a:xfrm>
            <a:prstGeom prst="line">
              <a:avLst/>
            </a:prstGeom>
            <a:ln w="144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25" name=""/>
            <p:cNvSpPr/>
            <p:nvPr/>
          </p:nvSpPr>
          <p:spPr>
            <a:xfrm flipV="1">
              <a:off x="1322640" y="3674520"/>
              <a:ext cx="2880" cy="41400"/>
            </a:xfrm>
            <a:prstGeom prst="line">
              <a:avLst/>
            </a:prstGeom>
            <a:ln w="144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6" name=""/>
            <p:cNvSpPr/>
            <p:nvPr/>
          </p:nvSpPr>
          <p:spPr>
            <a:xfrm flipV="1">
              <a:off x="1347840" y="3681360"/>
              <a:ext cx="3240" cy="7920"/>
            </a:xfrm>
            <a:prstGeom prst="line">
              <a:avLst/>
            </a:prstGeom>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7" name=""/>
            <p:cNvSpPr/>
            <p:nvPr/>
          </p:nvSpPr>
          <p:spPr>
            <a:xfrm>
              <a:off x="1373400" y="3681360"/>
              <a:ext cx="2880" cy="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392480" y="3681360"/>
              <a:ext cx="1440" cy="4680"/>
            </a:xfrm>
            <a:prstGeom prst="line">
              <a:avLst/>
            </a:prstGeom>
            <a:ln w="144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9" name=""/>
            <p:cNvSpPr/>
            <p:nvPr/>
          </p:nvSpPr>
          <p:spPr>
            <a:xfrm>
              <a:off x="1419480" y="3681360"/>
              <a:ext cx="2880" cy="4680"/>
            </a:xfrm>
            <a:prstGeom prst="line">
              <a:avLst/>
            </a:prstGeom>
            <a:ln w="144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0" name=""/>
            <p:cNvSpPr/>
            <p:nvPr/>
          </p:nvSpPr>
          <p:spPr>
            <a:xfrm>
              <a:off x="1438200" y="3681360"/>
              <a:ext cx="3240" cy="7920"/>
            </a:xfrm>
            <a:prstGeom prst="line">
              <a:avLst/>
            </a:prstGeom>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1" name=""/>
            <p:cNvSpPr/>
            <p:nvPr/>
          </p:nvSpPr>
          <p:spPr>
            <a:xfrm>
              <a:off x="1467000" y="3689280"/>
              <a:ext cx="1440" cy="3240"/>
            </a:xfrm>
            <a:prstGeom prst="line">
              <a:avLst/>
            </a:prstGeom>
            <a:ln w="14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2" name=""/>
            <p:cNvSpPr/>
            <p:nvPr/>
          </p:nvSpPr>
          <p:spPr>
            <a:xfrm flipV="1">
              <a:off x="1490760" y="3689280"/>
              <a:ext cx="1440" cy="52560"/>
            </a:xfrm>
            <a:prstGeom prst="line">
              <a:avLst/>
            </a:prstGeom>
            <a:ln w="1440">
              <a:solidFill>
                <a:srgbClr val="808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3" name=""/>
            <p:cNvSpPr/>
            <p:nvPr/>
          </p:nvSpPr>
          <p:spPr>
            <a:xfrm flipV="1">
              <a:off x="1511280" y="3689280"/>
              <a:ext cx="3240" cy="1065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flipV="1">
              <a:off x="1540080" y="3685680"/>
              <a:ext cx="1440" cy="128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V="1">
              <a:off x="1563840" y="3685680"/>
              <a:ext cx="3240" cy="87480"/>
            </a:xfrm>
            <a:prstGeom prst="line">
              <a:avLst/>
            </a:prstGeom>
            <a:ln w="144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6" name=""/>
            <p:cNvSpPr/>
            <p:nvPr/>
          </p:nvSpPr>
          <p:spPr>
            <a:xfrm flipV="1">
              <a:off x="1586160" y="3689280"/>
              <a:ext cx="2880" cy="52560"/>
            </a:xfrm>
            <a:prstGeom prst="line">
              <a:avLst/>
            </a:prstGeom>
            <a:ln w="1440">
              <a:solidFill>
                <a:srgbClr val="808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7" name=""/>
            <p:cNvSpPr/>
            <p:nvPr/>
          </p:nvSpPr>
          <p:spPr>
            <a:xfrm flipV="1">
              <a:off x="1608120" y="3689280"/>
              <a:ext cx="3240" cy="6048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8" name=""/>
            <p:cNvSpPr/>
            <p:nvPr/>
          </p:nvSpPr>
          <p:spPr>
            <a:xfrm flipV="1">
              <a:off x="1629000" y="3688920"/>
              <a:ext cx="2880" cy="7308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9" name=""/>
            <p:cNvSpPr/>
            <p:nvPr/>
          </p:nvSpPr>
          <p:spPr>
            <a:xfrm flipV="1">
              <a:off x="1657440" y="3689280"/>
              <a:ext cx="3240" cy="44640"/>
            </a:xfrm>
            <a:prstGeom prst="line">
              <a:avLst/>
            </a:prstGeom>
            <a:ln w="1440">
              <a:solidFill>
                <a:srgbClr val="80808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40" name=""/>
            <p:cNvSpPr/>
            <p:nvPr/>
          </p:nvSpPr>
          <p:spPr>
            <a:xfrm>
              <a:off x="1684440" y="3681360"/>
              <a:ext cx="0" cy="4680"/>
            </a:xfrm>
            <a:prstGeom prst="line">
              <a:avLst/>
            </a:prstGeom>
            <a:ln w="144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1" name=""/>
            <p:cNvSpPr/>
            <p:nvPr/>
          </p:nvSpPr>
          <p:spPr>
            <a:xfrm>
              <a:off x="1703520" y="3662280"/>
              <a:ext cx="3240" cy="19080"/>
            </a:xfrm>
            <a:prstGeom prst="line">
              <a:avLst/>
            </a:prstGeom>
            <a:ln w="1440">
              <a:solidFill>
                <a:srgbClr val="808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2" name=""/>
            <p:cNvSpPr/>
            <p:nvPr/>
          </p:nvSpPr>
          <p:spPr>
            <a:xfrm>
              <a:off x="1730520" y="3674880"/>
              <a:ext cx="1440" cy="1800"/>
            </a:xfrm>
            <a:prstGeom prst="line">
              <a:avLst/>
            </a:prstGeom>
            <a:ln w="14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flipV="1">
              <a:off x="1749600" y="3668760"/>
              <a:ext cx="0" cy="39600"/>
            </a:xfrm>
            <a:prstGeom prst="line">
              <a:avLst/>
            </a:prstGeom>
            <a:ln w="14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4" name=""/>
            <p:cNvSpPr/>
            <p:nvPr/>
          </p:nvSpPr>
          <p:spPr>
            <a:xfrm flipV="1">
              <a:off x="1774800" y="3674520"/>
              <a:ext cx="1800" cy="33480"/>
            </a:xfrm>
            <a:prstGeom prst="line">
              <a:avLst/>
            </a:prstGeom>
            <a:ln w="144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45" name=""/>
            <p:cNvSpPr/>
            <p:nvPr/>
          </p:nvSpPr>
          <p:spPr>
            <a:xfrm>
              <a:off x="1801800" y="3674880"/>
              <a:ext cx="3240" cy="1800"/>
            </a:xfrm>
            <a:prstGeom prst="line">
              <a:avLst/>
            </a:prstGeom>
            <a:ln w="14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6" name=""/>
            <p:cNvSpPr/>
            <p:nvPr/>
          </p:nvSpPr>
          <p:spPr>
            <a:xfrm>
              <a:off x="1824120" y="3649680"/>
              <a:ext cx="1440" cy="19080"/>
            </a:xfrm>
            <a:prstGeom prst="line">
              <a:avLst/>
            </a:prstGeom>
            <a:ln w="1440">
              <a:solidFill>
                <a:srgbClr val="808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7" name=""/>
            <p:cNvSpPr/>
            <p:nvPr/>
          </p:nvSpPr>
          <p:spPr>
            <a:xfrm>
              <a:off x="1847880" y="3654360"/>
              <a:ext cx="3240" cy="7920"/>
            </a:xfrm>
            <a:prstGeom prst="line">
              <a:avLst/>
            </a:prstGeom>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8" name=""/>
            <p:cNvSpPr/>
            <p:nvPr/>
          </p:nvSpPr>
          <p:spPr>
            <a:xfrm flipV="1">
              <a:off x="1866960" y="3662280"/>
              <a:ext cx="324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9" name=""/>
            <p:cNvSpPr/>
            <p:nvPr/>
          </p:nvSpPr>
          <p:spPr>
            <a:xfrm flipV="1">
              <a:off x="1892520" y="3662280"/>
              <a:ext cx="2880" cy="54000"/>
            </a:xfrm>
            <a:prstGeom prst="line">
              <a:avLst/>
            </a:prstGeom>
            <a:ln w="14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0" name=""/>
            <p:cNvSpPr/>
            <p:nvPr/>
          </p:nvSpPr>
          <p:spPr>
            <a:xfrm flipV="1">
              <a:off x="1920960" y="3654360"/>
              <a:ext cx="1440" cy="84240"/>
            </a:xfrm>
            <a:prstGeom prst="line">
              <a:avLst/>
            </a:prstGeom>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1" name=""/>
            <p:cNvSpPr/>
            <p:nvPr/>
          </p:nvSpPr>
          <p:spPr>
            <a:xfrm flipV="1">
              <a:off x="1938600" y="3643200"/>
              <a:ext cx="2880" cy="986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flipV="1">
              <a:off x="1965240" y="3642840"/>
              <a:ext cx="1800" cy="7308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3" name=""/>
            <p:cNvSpPr/>
            <p:nvPr/>
          </p:nvSpPr>
          <p:spPr>
            <a:xfrm flipV="1">
              <a:off x="1987560" y="3639600"/>
              <a:ext cx="324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4" name=""/>
            <p:cNvSpPr/>
            <p:nvPr/>
          </p:nvSpPr>
          <p:spPr>
            <a:xfrm flipV="1">
              <a:off x="2011320" y="3628800"/>
              <a:ext cx="1800" cy="4680"/>
            </a:xfrm>
            <a:prstGeom prst="line">
              <a:avLst/>
            </a:prstGeom>
            <a:ln w="144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5" name=""/>
            <p:cNvSpPr/>
            <p:nvPr/>
          </p:nvSpPr>
          <p:spPr>
            <a:xfrm>
              <a:off x="2040120" y="3602160"/>
              <a:ext cx="144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6" name=""/>
            <p:cNvSpPr/>
            <p:nvPr/>
          </p:nvSpPr>
          <p:spPr>
            <a:xfrm>
              <a:off x="2059200" y="3587760"/>
              <a:ext cx="1440" cy="27000"/>
            </a:xfrm>
            <a:prstGeom prst="line">
              <a:avLst/>
            </a:prstGeom>
            <a:ln w="14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7" name=""/>
            <p:cNvSpPr/>
            <p:nvPr/>
          </p:nvSpPr>
          <p:spPr>
            <a:xfrm>
              <a:off x="2086200" y="3581280"/>
              <a:ext cx="2880" cy="17640"/>
            </a:xfrm>
            <a:prstGeom prst="line">
              <a:avLst/>
            </a:prstGeom>
            <a:ln w="144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8" name=""/>
            <p:cNvSpPr/>
            <p:nvPr/>
          </p:nvSpPr>
          <p:spPr>
            <a:xfrm flipV="1">
              <a:off x="2108160" y="3580920"/>
              <a:ext cx="3240" cy="17640"/>
            </a:xfrm>
            <a:prstGeom prst="line">
              <a:avLst/>
            </a:prstGeom>
            <a:ln w="144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9" name=""/>
            <p:cNvSpPr/>
            <p:nvPr/>
          </p:nvSpPr>
          <p:spPr>
            <a:xfrm flipV="1">
              <a:off x="2130480" y="3567240"/>
              <a:ext cx="1800" cy="31680"/>
            </a:xfrm>
            <a:prstGeom prst="line">
              <a:avLst/>
            </a:prstGeom>
            <a:ln w="144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60" name=""/>
            <p:cNvSpPr/>
            <p:nvPr/>
          </p:nvSpPr>
          <p:spPr>
            <a:xfrm flipV="1">
              <a:off x="2157480" y="3552840"/>
              <a:ext cx="3240" cy="9360"/>
            </a:xfrm>
            <a:prstGeom prst="line">
              <a:avLst/>
            </a:prstGeom>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1" name=""/>
            <p:cNvSpPr/>
            <p:nvPr/>
          </p:nvSpPr>
          <p:spPr>
            <a:xfrm>
              <a:off x="2176560" y="3521160"/>
              <a:ext cx="3240" cy="7920"/>
            </a:xfrm>
            <a:prstGeom prst="line">
              <a:avLst/>
            </a:prstGeom>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2" name=""/>
            <p:cNvSpPr/>
            <p:nvPr/>
          </p:nvSpPr>
          <p:spPr>
            <a:xfrm>
              <a:off x="2203560" y="3483000"/>
              <a:ext cx="3240" cy="27000"/>
            </a:xfrm>
            <a:prstGeom prst="line">
              <a:avLst/>
            </a:prstGeom>
            <a:ln w="14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3" name=""/>
            <p:cNvSpPr/>
            <p:nvPr/>
          </p:nvSpPr>
          <p:spPr>
            <a:xfrm>
              <a:off x="2229120" y="3459240"/>
              <a:ext cx="144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4" name=""/>
            <p:cNvSpPr/>
            <p:nvPr/>
          </p:nvSpPr>
          <p:spPr>
            <a:xfrm>
              <a:off x="2249640" y="3435480"/>
              <a:ext cx="144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5" name=""/>
            <p:cNvSpPr/>
            <p:nvPr/>
          </p:nvSpPr>
          <p:spPr>
            <a:xfrm>
              <a:off x="2274840" y="3413160"/>
              <a:ext cx="32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6" name=""/>
            <p:cNvSpPr/>
            <p:nvPr/>
          </p:nvSpPr>
          <p:spPr>
            <a:xfrm>
              <a:off x="2295720" y="3384360"/>
              <a:ext cx="1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7" name=""/>
            <p:cNvSpPr/>
            <p:nvPr/>
          </p:nvSpPr>
          <p:spPr>
            <a:xfrm>
              <a:off x="2324160" y="3328920"/>
              <a:ext cx="1800" cy="50760"/>
            </a:xfrm>
            <a:prstGeom prst="line">
              <a:avLst/>
            </a:prstGeom>
            <a:ln w="144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8" name=""/>
            <p:cNvSpPr/>
            <p:nvPr/>
          </p:nvSpPr>
          <p:spPr>
            <a:xfrm>
              <a:off x="2346480" y="3255840"/>
              <a:ext cx="3240" cy="1047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2367000" y="3173400"/>
              <a:ext cx="3240" cy="1699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2392560" y="3100320"/>
              <a:ext cx="3240" cy="22860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414520" y="3058920"/>
              <a:ext cx="1800" cy="2667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441520" y="3046320"/>
              <a:ext cx="3240" cy="273240"/>
            </a:xfrm>
            <a:prstGeom prst="line">
              <a:avLst/>
            </a:prstGeom>
            <a:ln w="18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467080" y="3040200"/>
              <a:ext cx="3240" cy="2793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486160" y="3054240"/>
              <a:ext cx="1440" cy="27468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2513160" y="3085920"/>
              <a:ext cx="0" cy="26208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2532240" y="3146400"/>
              <a:ext cx="3240" cy="2300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559240" y="3208320"/>
              <a:ext cx="1440" cy="1983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586240" y="3276720"/>
              <a:ext cx="3240" cy="1587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2605320" y="3348000"/>
              <a:ext cx="2880" cy="128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2630520" y="3459240"/>
              <a:ext cx="3240" cy="55440"/>
            </a:xfrm>
            <a:prstGeom prst="line">
              <a:avLst/>
            </a:prstGeom>
            <a:ln w="14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81" name=""/>
            <p:cNvSpPr/>
            <p:nvPr/>
          </p:nvSpPr>
          <p:spPr>
            <a:xfrm flipV="1">
              <a:off x="2651040" y="3555720"/>
              <a:ext cx="3240" cy="42840"/>
            </a:xfrm>
            <a:prstGeom prst="line">
              <a:avLst/>
            </a:prstGeom>
            <a:ln w="144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2" name=""/>
            <p:cNvSpPr/>
            <p:nvPr/>
          </p:nvSpPr>
          <p:spPr>
            <a:xfrm flipV="1">
              <a:off x="2676600" y="3593880"/>
              <a:ext cx="3240" cy="1443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flipV="1">
              <a:off x="2702160" y="3629160"/>
              <a:ext cx="2880" cy="17928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flipV="1">
              <a:off x="2724120" y="3661920"/>
              <a:ext cx="1800" cy="17460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flipV="1">
              <a:off x="2749680" y="3688920"/>
              <a:ext cx="1440" cy="15228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2776680" y="3716280"/>
              <a:ext cx="3240" cy="13968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flipV="1">
              <a:off x="2795760" y="3741480"/>
              <a:ext cx="1440" cy="1141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V="1">
              <a:off x="2820960" y="3757320"/>
              <a:ext cx="3240" cy="8388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9" name=""/>
            <p:cNvSpPr/>
            <p:nvPr/>
          </p:nvSpPr>
          <p:spPr>
            <a:xfrm flipV="1">
              <a:off x="2843280" y="3773160"/>
              <a:ext cx="1440" cy="68040"/>
            </a:xfrm>
            <a:prstGeom prst="line">
              <a:avLst/>
            </a:prstGeom>
            <a:ln w="144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90" name=""/>
            <p:cNvSpPr/>
            <p:nvPr/>
          </p:nvSpPr>
          <p:spPr>
            <a:xfrm flipV="1">
              <a:off x="2868840" y="3779280"/>
              <a:ext cx="1440" cy="7164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1" name=""/>
            <p:cNvSpPr/>
            <p:nvPr/>
          </p:nvSpPr>
          <p:spPr>
            <a:xfrm flipV="1">
              <a:off x="2894040" y="3779280"/>
              <a:ext cx="1800" cy="87480"/>
            </a:xfrm>
            <a:prstGeom prst="line">
              <a:avLst/>
            </a:prstGeom>
            <a:ln w="144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2" name=""/>
            <p:cNvSpPr/>
            <p:nvPr/>
          </p:nvSpPr>
          <p:spPr>
            <a:xfrm flipV="1">
              <a:off x="2914920" y="3779280"/>
              <a:ext cx="2880" cy="87480"/>
            </a:xfrm>
            <a:prstGeom prst="line">
              <a:avLst/>
            </a:prstGeom>
            <a:ln w="144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3" name=""/>
            <p:cNvSpPr/>
            <p:nvPr/>
          </p:nvSpPr>
          <p:spPr>
            <a:xfrm flipV="1">
              <a:off x="2943360" y="3779640"/>
              <a:ext cx="1440" cy="76320"/>
            </a:xfrm>
            <a:prstGeom prst="line">
              <a:avLst/>
            </a:prstGeom>
            <a:ln w="1440">
              <a:solidFill>
                <a:srgbClr val="8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4" name=""/>
            <p:cNvSpPr/>
            <p:nvPr/>
          </p:nvSpPr>
          <p:spPr>
            <a:xfrm flipV="1">
              <a:off x="2959200" y="3779640"/>
              <a:ext cx="1440" cy="61920"/>
            </a:xfrm>
            <a:prstGeom prst="line">
              <a:avLst/>
            </a:prstGeom>
            <a:ln w="144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5" name=""/>
            <p:cNvSpPr/>
            <p:nvPr/>
          </p:nvSpPr>
          <p:spPr>
            <a:xfrm flipV="1">
              <a:off x="2986200" y="3779640"/>
              <a:ext cx="3240" cy="61920"/>
            </a:xfrm>
            <a:prstGeom prst="line">
              <a:avLst/>
            </a:prstGeom>
            <a:ln w="144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6" name=""/>
            <p:cNvSpPr/>
            <p:nvPr/>
          </p:nvSpPr>
          <p:spPr>
            <a:xfrm flipV="1">
              <a:off x="3013200" y="3779280"/>
              <a:ext cx="1440" cy="7164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7" name=""/>
            <p:cNvSpPr/>
            <p:nvPr/>
          </p:nvSpPr>
          <p:spPr>
            <a:xfrm flipV="1">
              <a:off x="3032280" y="3779280"/>
              <a:ext cx="3240" cy="87480"/>
            </a:xfrm>
            <a:prstGeom prst="line">
              <a:avLst/>
            </a:prstGeom>
            <a:ln w="144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8" name=""/>
            <p:cNvSpPr/>
            <p:nvPr/>
          </p:nvSpPr>
          <p:spPr>
            <a:xfrm flipV="1">
              <a:off x="3059280" y="3779280"/>
              <a:ext cx="1440" cy="87480"/>
            </a:xfrm>
            <a:prstGeom prst="line">
              <a:avLst/>
            </a:prstGeom>
            <a:ln w="144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9" name=""/>
            <p:cNvSpPr/>
            <p:nvPr/>
          </p:nvSpPr>
          <p:spPr>
            <a:xfrm flipV="1">
              <a:off x="3078360" y="3779280"/>
              <a:ext cx="1440" cy="7164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00" name=""/>
            <p:cNvSpPr/>
            <p:nvPr/>
          </p:nvSpPr>
          <p:spPr>
            <a:xfrm flipV="1">
              <a:off x="3105360" y="3773520"/>
              <a:ext cx="1440" cy="55440"/>
            </a:xfrm>
            <a:prstGeom prst="line">
              <a:avLst/>
            </a:prstGeom>
            <a:ln w="14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1" name=""/>
            <p:cNvSpPr/>
            <p:nvPr/>
          </p:nvSpPr>
          <p:spPr>
            <a:xfrm flipV="1">
              <a:off x="3130560" y="3773520"/>
              <a:ext cx="3240" cy="41040"/>
            </a:xfrm>
            <a:prstGeom prst="line">
              <a:avLst/>
            </a:prstGeom>
            <a:ln w="1440">
              <a:solidFill>
                <a:srgbClr val="808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2" name=""/>
            <p:cNvSpPr/>
            <p:nvPr/>
          </p:nvSpPr>
          <p:spPr>
            <a:xfrm>
              <a:off x="1979280" y="386712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r>
                <a:rPr b="0" lang="en-US" sz="2000" spc="-1" strike="noStrike">
                  <a:solidFill>
                    <a:srgbClr val="000000"/>
                  </a:solidFill>
                  <a:latin typeface="Arial"/>
                </a:rPr>
                <a:t>(Q,S)</a:t>
              </a:r>
              <a:endParaRPr b="0" lang="en-US" sz="2000" spc="-1" strike="noStrike">
                <a:solidFill>
                  <a:srgbClr val="000000"/>
                </a:solidFill>
                <a:latin typeface="Times New Roman"/>
              </a:endParaRPr>
            </a:p>
          </p:txBody>
        </p:sp>
      </p:grpSp>
      <mc:AlternateContent>
        <mc:Choice xmlns:a14="http://schemas.microsoft.com/office/drawing/2010/main" Requires="a14">
          <p:sp>
            <p:nvSpPr>
              <p:cNvPr id="1103" name=""/>
              <p:cNvSpPr txBox="1"/>
              <p:nvPr/>
            </p:nvSpPr>
            <p:spPr>
              <a:xfrm>
                <a:off x="1069920" y="4700520"/>
                <a:ext cx="2139840" cy="833400"/>
              </a:xfrm>
              <a:prstGeom prst="rect">
                <a:avLst/>
              </a:prstGeom>
            </p:spPr>
            <p:txBody>
              <a:bodyPr/>
              <a:p>
                <a14:m>
                  <m:oMath xmlns:m="http://schemas.openxmlformats.org/officeDocument/2006/math">
                    <m:r>
                      <m:t xml:space="preserve"> </m:t>
                    </m:r>
                    <m:r>
                      <m:t xml:space="preserve">≡</m:t>
                    </m:r>
                    <m:rad>
                      <m:radPr>
                        <m:degHide m:val="1"/>
                      </m:radPr>
                      <m:deg/>
                      <m:e>
                        <m:nary>
                          <m:naryPr>
                            <m:chr m:val="∑"/>
                          </m:naryPr>
                          <m:sub>
                            <m:r>
                              <m:t xml:space="preserve">i</m:t>
                            </m:r>
                            <m:r>
                              <m:t xml:space="preserve">=</m:t>
                            </m:r>
                            <m:r>
                              <m:t xml:space="preserve">1</m:t>
                            </m:r>
                          </m:sub>
                          <m:sup>
                            <m:r>
                              <m:t xml:space="preserve">n</m:t>
                            </m:r>
                          </m:sup>
                          <m:e>
                            <m:sSup>
                              <m:e>
                                <m:d>
                                  <m:dPr>
                                    <m:begChr m:val="("/>
                                    <m:endChr m:val=")"/>
                                  </m:dPr>
                                  <m:e>
                                    <m:sSub>
                                      <m:e>
                                        <m:r>
                                          <m:t xml:space="preserve">q</m:t>
                                        </m:r>
                                      </m:e>
                                      <m:sub>
                                        <m:r>
                                          <m:t xml:space="preserve">i</m:t>
                                        </m:r>
                                      </m:sub>
                                    </m:sSub>
                                    <m:r>
                                      <m:t xml:space="preserve"> </m:t>
                                    </m:r>
                                    <m:r>
                                      <m:t xml:space="preserve">−</m:t>
                                    </m:r>
                                    <m:sSub>
                                      <m:e>
                                        <m:r>
                                          <m:t xml:space="preserve">s</m:t>
                                        </m:r>
                                      </m:e>
                                      <m:sub>
                                        <m:r>
                                          <m:t xml:space="preserve">i</m:t>
                                        </m:r>
                                      </m:sub>
                                    </m:sSub>
                                  </m:e>
                                </m:d>
                              </m:e>
                              <m:sup>
                                <m:r>
                                  <m:t xml:space="preserve"> </m:t>
                                </m:r>
                                <m:r>
                                  <m:t xml:space="preserve">2</m:t>
                                </m:r>
                              </m:sup>
                            </m:sSup>
                          </m:e>
                        </m:nary>
                      </m:e>
                    </m:rad>
                  </m:oMath>
                </a14:m>
              </a:p>
            </p:txBody>
          </p:sp>
        </mc:Choice>
        <mc:Fallback/>
      </mc:AlternateContent>
      <p:sp>
        <p:nvSpPr>
          <p:cNvPr id="1104" name=""/>
          <p:cNvSpPr/>
          <p:nvPr/>
        </p:nvSpPr>
        <p:spPr>
          <a:xfrm>
            <a:off x="1094040" y="4395960"/>
            <a:ext cx="78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r>
              <a:rPr b="0" lang="en-US" sz="2000" spc="-1" strike="noStrike">
                <a:solidFill>
                  <a:srgbClr val="000000"/>
                </a:solidFill>
                <a:latin typeface="Arial"/>
              </a:rPr>
              <a:t>(Q,S</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105" name=""/>
          <p:cNvSpPr/>
          <p:nvPr/>
        </p:nvSpPr>
        <p:spPr>
          <a:xfrm>
            <a:off x="351000" y="785880"/>
            <a:ext cx="405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Exact (Euclidean) distance D(Q,S)</a:t>
            </a:r>
            <a:endParaRPr b="0" lang="en-US" sz="2000" spc="-1" strike="noStrike">
              <a:solidFill>
                <a:srgbClr val="000000"/>
              </a:solidFill>
              <a:latin typeface="Times New Roman"/>
            </a:endParaRPr>
          </a:p>
        </p:txBody>
      </p:sp>
      <p:sp>
        <p:nvSpPr>
          <p:cNvPr id="1106" name=""/>
          <p:cNvSpPr/>
          <p:nvPr/>
        </p:nvSpPr>
        <p:spPr>
          <a:xfrm>
            <a:off x="4791600" y="804960"/>
            <a:ext cx="4057920" cy="7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Lower bounding distance </a:t>
            </a:r>
            <a:r>
              <a:rPr b="0" i="1" lang="en-US" sz="2000" spc="-1" strike="noStrike">
                <a:solidFill>
                  <a:srgbClr val="0099ff"/>
                </a:solidFill>
                <a:latin typeface="Arial"/>
              </a:rPr>
              <a:t>D</a:t>
            </a:r>
            <a:r>
              <a:rPr b="0" i="1" lang="en-US" sz="2000" spc="-1" strike="noStrike" baseline="-25000">
                <a:solidFill>
                  <a:srgbClr val="0099ff"/>
                </a:solidFill>
                <a:latin typeface="Arial"/>
              </a:rPr>
              <a:t>LB</a:t>
            </a:r>
            <a:r>
              <a:rPr b="0" lang="en-US" sz="2000" spc="-1" strike="noStrike">
                <a:solidFill>
                  <a:srgbClr val="0099ff"/>
                </a:solidFill>
                <a:latin typeface="Arial"/>
              </a:rPr>
              <a:t>(</a:t>
            </a:r>
            <a:r>
              <a:rPr b="0" i="1" lang="en-US" sz="2000" spc="-1" strike="noStrike">
                <a:solidFill>
                  <a:srgbClr val="0099ff"/>
                </a:solidFill>
                <a:latin typeface="Arial"/>
              </a:rPr>
              <a:t>Q</a:t>
            </a:r>
            <a:r>
              <a:rPr b="0" lang="en-US" sz="2000" spc="-1" strike="noStrike">
                <a:solidFill>
                  <a:srgbClr val="0099ff"/>
                </a:solidFill>
                <a:latin typeface="Arial"/>
              </a:rPr>
              <a: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7" name=""/>
          <p:cNvSpPr/>
          <p:nvPr/>
        </p:nvSpPr>
        <p:spPr>
          <a:xfrm>
            <a:off x="5019840" y="2309760"/>
            <a:ext cx="2463480" cy="571680"/>
          </a:xfrm>
          <a:custGeom>
            <a:avLst/>
            <a:gdLst/>
            <a:ahLst/>
            <a:rect l="l" t="t" r="r" b="b"/>
            <a:pathLst>
              <a:path w="1552" h="360">
                <a:moveTo>
                  <a:pt x="0" y="144"/>
                </a:moveTo>
                <a:lnTo>
                  <a:pt x="160" y="144"/>
                </a:lnTo>
                <a:lnTo>
                  <a:pt x="160" y="280"/>
                </a:lnTo>
                <a:lnTo>
                  <a:pt x="912" y="280"/>
                </a:lnTo>
                <a:lnTo>
                  <a:pt x="912" y="0"/>
                </a:lnTo>
                <a:lnTo>
                  <a:pt x="1184" y="0"/>
                </a:lnTo>
                <a:lnTo>
                  <a:pt x="1184" y="360"/>
                </a:lnTo>
                <a:lnTo>
                  <a:pt x="1552" y="360"/>
                </a:lnTo>
              </a:path>
            </a:pathLst>
          </a:custGeom>
          <a:noFill/>
          <a:ln w="3816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011560" y="2108160"/>
            <a:ext cx="2422800" cy="828720"/>
          </a:xfrm>
          <a:custGeom>
            <a:avLst/>
            <a:gdLst/>
            <a:ahLst/>
            <a:rect l="l" t="t" r="r" b="b"/>
            <a:pathLst>
              <a:path w="2081" h="853">
                <a:moveTo>
                  <a:pt x="0" y="378"/>
                </a:moveTo>
                <a:lnTo>
                  <a:pt x="17" y="384"/>
                </a:lnTo>
                <a:lnTo>
                  <a:pt x="40" y="394"/>
                </a:lnTo>
                <a:lnTo>
                  <a:pt x="57" y="399"/>
                </a:lnTo>
                <a:lnTo>
                  <a:pt x="80" y="421"/>
                </a:lnTo>
                <a:lnTo>
                  <a:pt x="101" y="442"/>
                </a:lnTo>
                <a:lnTo>
                  <a:pt x="119" y="463"/>
                </a:lnTo>
                <a:lnTo>
                  <a:pt x="142" y="490"/>
                </a:lnTo>
                <a:lnTo>
                  <a:pt x="159" y="511"/>
                </a:lnTo>
                <a:lnTo>
                  <a:pt x="182" y="522"/>
                </a:lnTo>
                <a:lnTo>
                  <a:pt x="203" y="532"/>
                </a:lnTo>
                <a:lnTo>
                  <a:pt x="221" y="565"/>
                </a:lnTo>
                <a:lnTo>
                  <a:pt x="244" y="597"/>
                </a:lnTo>
                <a:lnTo>
                  <a:pt x="267" y="618"/>
                </a:lnTo>
                <a:lnTo>
                  <a:pt x="284" y="624"/>
                </a:lnTo>
                <a:lnTo>
                  <a:pt x="305" y="624"/>
                </a:lnTo>
                <a:lnTo>
                  <a:pt x="322" y="624"/>
                </a:lnTo>
                <a:lnTo>
                  <a:pt x="345" y="628"/>
                </a:lnTo>
                <a:lnTo>
                  <a:pt x="368" y="661"/>
                </a:lnTo>
                <a:lnTo>
                  <a:pt x="386" y="720"/>
                </a:lnTo>
                <a:lnTo>
                  <a:pt x="407" y="741"/>
                </a:lnTo>
                <a:lnTo>
                  <a:pt x="424" y="715"/>
                </a:lnTo>
                <a:lnTo>
                  <a:pt x="447" y="667"/>
                </a:lnTo>
                <a:lnTo>
                  <a:pt x="470" y="661"/>
                </a:lnTo>
                <a:lnTo>
                  <a:pt x="487" y="688"/>
                </a:lnTo>
                <a:lnTo>
                  <a:pt x="509" y="715"/>
                </a:lnTo>
                <a:lnTo>
                  <a:pt x="526" y="697"/>
                </a:lnTo>
                <a:lnTo>
                  <a:pt x="549" y="672"/>
                </a:lnTo>
                <a:lnTo>
                  <a:pt x="572" y="661"/>
                </a:lnTo>
                <a:lnTo>
                  <a:pt x="589" y="661"/>
                </a:lnTo>
                <a:lnTo>
                  <a:pt x="610" y="661"/>
                </a:lnTo>
                <a:lnTo>
                  <a:pt x="628" y="661"/>
                </a:lnTo>
                <a:lnTo>
                  <a:pt x="651" y="672"/>
                </a:lnTo>
                <a:lnTo>
                  <a:pt x="674" y="724"/>
                </a:lnTo>
                <a:lnTo>
                  <a:pt x="691" y="778"/>
                </a:lnTo>
                <a:lnTo>
                  <a:pt x="712" y="799"/>
                </a:lnTo>
                <a:lnTo>
                  <a:pt x="735" y="757"/>
                </a:lnTo>
                <a:lnTo>
                  <a:pt x="752" y="724"/>
                </a:lnTo>
                <a:lnTo>
                  <a:pt x="775" y="730"/>
                </a:lnTo>
                <a:lnTo>
                  <a:pt x="793" y="745"/>
                </a:lnTo>
                <a:lnTo>
                  <a:pt x="814" y="715"/>
                </a:lnTo>
                <a:lnTo>
                  <a:pt x="837" y="661"/>
                </a:lnTo>
                <a:lnTo>
                  <a:pt x="854" y="640"/>
                </a:lnTo>
                <a:lnTo>
                  <a:pt x="877" y="655"/>
                </a:lnTo>
                <a:lnTo>
                  <a:pt x="894" y="688"/>
                </a:lnTo>
                <a:lnTo>
                  <a:pt x="916" y="688"/>
                </a:lnTo>
                <a:lnTo>
                  <a:pt x="939" y="655"/>
                </a:lnTo>
                <a:lnTo>
                  <a:pt x="956" y="628"/>
                </a:lnTo>
                <a:lnTo>
                  <a:pt x="979" y="634"/>
                </a:lnTo>
                <a:lnTo>
                  <a:pt x="996" y="667"/>
                </a:lnTo>
                <a:lnTo>
                  <a:pt x="1017" y="697"/>
                </a:lnTo>
                <a:lnTo>
                  <a:pt x="1040" y="720"/>
                </a:lnTo>
                <a:lnTo>
                  <a:pt x="1058" y="724"/>
                </a:lnTo>
                <a:lnTo>
                  <a:pt x="1081" y="697"/>
                </a:lnTo>
                <a:lnTo>
                  <a:pt x="1098" y="655"/>
                </a:lnTo>
                <a:lnTo>
                  <a:pt x="1121" y="613"/>
                </a:lnTo>
                <a:lnTo>
                  <a:pt x="1142" y="580"/>
                </a:lnTo>
                <a:lnTo>
                  <a:pt x="1159" y="565"/>
                </a:lnTo>
                <a:lnTo>
                  <a:pt x="1183" y="559"/>
                </a:lnTo>
                <a:lnTo>
                  <a:pt x="1206" y="576"/>
                </a:lnTo>
                <a:lnTo>
                  <a:pt x="1223" y="576"/>
                </a:lnTo>
                <a:lnTo>
                  <a:pt x="1244" y="538"/>
                </a:lnTo>
                <a:lnTo>
                  <a:pt x="1261" y="496"/>
                </a:lnTo>
                <a:lnTo>
                  <a:pt x="1284" y="459"/>
                </a:lnTo>
                <a:lnTo>
                  <a:pt x="1307" y="432"/>
                </a:lnTo>
                <a:lnTo>
                  <a:pt x="1325" y="411"/>
                </a:lnTo>
                <a:lnTo>
                  <a:pt x="1346" y="384"/>
                </a:lnTo>
                <a:lnTo>
                  <a:pt x="1363" y="357"/>
                </a:lnTo>
                <a:lnTo>
                  <a:pt x="1386" y="298"/>
                </a:lnTo>
                <a:lnTo>
                  <a:pt x="1409" y="223"/>
                </a:lnTo>
                <a:lnTo>
                  <a:pt x="1426" y="138"/>
                </a:lnTo>
                <a:lnTo>
                  <a:pt x="1448" y="63"/>
                </a:lnTo>
                <a:lnTo>
                  <a:pt x="1465" y="21"/>
                </a:lnTo>
                <a:lnTo>
                  <a:pt x="1488" y="5"/>
                </a:lnTo>
                <a:lnTo>
                  <a:pt x="1511" y="0"/>
                </a:lnTo>
                <a:lnTo>
                  <a:pt x="1528" y="15"/>
                </a:lnTo>
                <a:lnTo>
                  <a:pt x="1549" y="48"/>
                </a:lnTo>
                <a:lnTo>
                  <a:pt x="1567" y="111"/>
                </a:lnTo>
                <a:lnTo>
                  <a:pt x="1590" y="176"/>
                </a:lnTo>
                <a:lnTo>
                  <a:pt x="1613" y="244"/>
                </a:lnTo>
                <a:lnTo>
                  <a:pt x="1630" y="319"/>
                </a:lnTo>
                <a:lnTo>
                  <a:pt x="1651" y="432"/>
                </a:lnTo>
                <a:lnTo>
                  <a:pt x="1668" y="576"/>
                </a:lnTo>
                <a:lnTo>
                  <a:pt x="1691" y="720"/>
                </a:lnTo>
                <a:lnTo>
                  <a:pt x="1714" y="793"/>
                </a:lnTo>
                <a:lnTo>
                  <a:pt x="1732" y="820"/>
                </a:lnTo>
                <a:lnTo>
                  <a:pt x="1753" y="826"/>
                </a:lnTo>
                <a:lnTo>
                  <a:pt x="1776" y="843"/>
                </a:lnTo>
                <a:lnTo>
                  <a:pt x="1793" y="843"/>
                </a:lnTo>
                <a:lnTo>
                  <a:pt x="1816" y="826"/>
                </a:lnTo>
                <a:lnTo>
                  <a:pt x="1833" y="826"/>
                </a:lnTo>
                <a:lnTo>
                  <a:pt x="1855" y="838"/>
                </a:lnTo>
                <a:lnTo>
                  <a:pt x="1878" y="853"/>
                </a:lnTo>
                <a:lnTo>
                  <a:pt x="1895" y="853"/>
                </a:lnTo>
                <a:lnTo>
                  <a:pt x="1918" y="843"/>
                </a:lnTo>
                <a:lnTo>
                  <a:pt x="1935" y="826"/>
                </a:lnTo>
                <a:lnTo>
                  <a:pt x="1956" y="826"/>
                </a:lnTo>
                <a:lnTo>
                  <a:pt x="1979" y="838"/>
                </a:lnTo>
                <a:lnTo>
                  <a:pt x="1997" y="853"/>
                </a:lnTo>
                <a:lnTo>
                  <a:pt x="2020" y="853"/>
                </a:lnTo>
                <a:lnTo>
                  <a:pt x="2037" y="838"/>
                </a:lnTo>
                <a:lnTo>
                  <a:pt x="2058" y="816"/>
                </a:lnTo>
                <a:lnTo>
                  <a:pt x="2081" y="79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5579640" y="1300320"/>
            <a:ext cx="255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110" name=""/>
          <p:cNvSpPr/>
          <p:nvPr/>
        </p:nvSpPr>
        <p:spPr>
          <a:xfrm>
            <a:off x="5032440" y="1355760"/>
            <a:ext cx="2427120" cy="444600"/>
          </a:xfrm>
          <a:custGeom>
            <a:avLst/>
            <a:gdLst/>
            <a:ahLst/>
            <a:rect l="l" t="t" r="r" b="b"/>
            <a:pathLst>
              <a:path w="1520" h="280">
                <a:moveTo>
                  <a:pt x="0" y="120"/>
                </a:moveTo>
                <a:lnTo>
                  <a:pt x="152" y="120"/>
                </a:lnTo>
                <a:lnTo>
                  <a:pt x="152" y="216"/>
                </a:lnTo>
                <a:lnTo>
                  <a:pt x="912" y="216"/>
                </a:lnTo>
                <a:lnTo>
                  <a:pt x="912" y="0"/>
                </a:lnTo>
                <a:lnTo>
                  <a:pt x="1176" y="0"/>
                </a:lnTo>
                <a:lnTo>
                  <a:pt x="1176" y="280"/>
                </a:lnTo>
                <a:lnTo>
                  <a:pt x="1520" y="280"/>
                </a:lnTo>
              </a:path>
            </a:pathLst>
          </a:custGeom>
          <a:noFill/>
          <a:ln w="38160">
            <a:solidFill>
              <a:srgbClr val="99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021280" y="1268280"/>
            <a:ext cx="2422440" cy="578160"/>
          </a:xfrm>
          <a:custGeom>
            <a:avLst/>
            <a:gdLst/>
            <a:ahLst/>
            <a:rect l="l" t="t" r="r" b="b"/>
            <a:pathLst>
              <a:path w="2081" h="596">
                <a:moveTo>
                  <a:pt x="0" y="227"/>
                </a:moveTo>
                <a:lnTo>
                  <a:pt x="17" y="240"/>
                </a:lnTo>
                <a:lnTo>
                  <a:pt x="40" y="248"/>
                </a:lnTo>
                <a:lnTo>
                  <a:pt x="57" y="254"/>
                </a:lnTo>
                <a:lnTo>
                  <a:pt x="80" y="262"/>
                </a:lnTo>
                <a:lnTo>
                  <a:pt x="101" y="275"/>
                </a:lnTo>
                <a:lnTo>
                  <a:pt x="119" y="288"/>
                </a:lnTo>
                <a:lnTo>
                  <a:pt x="142" y="294"/>
                </a:lnTo>
                <a:lnTo>
                  <a:pt x="159" y="308"/>
                </a:lnTo>
                <a:lnTo>
                  <a:pt x="182" y="321"/>
                </a:lnTo>
                <a:lnTo>
                  <a:pt x="203" y="335"/>
                </a:lnTo>
                <a:lnTo>
                  <a:pt x="221" y="348"/>
                </a:lnTo>
                <a:lnTo>
                  <a:pt x="244" y="367"/>
                </a:lnTo>
                <a:lnTo>
                  <a:pt x="267" y="381"/>
                </a:lnTo>
                <a:lnTo>
                  <a:pt x="284" y="402"/>
                </a:lnTo>
                <a:lnTo>
                  <a:pt x="305" y="408"/>
                </a:lnTo>
                <a:lnTo>
                  <a:pt x="322" y="415"/>
                </a:lnTo>
                <a:lnTo>
                  <a:pt x="345" y="429"/>
                </a:lnTo>
                <a:lnTo>
                  <a:pt x="368" y="434"/>
                </a:lnTo>
                <a:lnTo>
                  <a:pt x="386" y="448"/>
                </a:lnTo>
                <a:lnTo>
                  <a:pt x="407" y="448"/>
                </a:lnTo>
                <a:lnTo>
                  <a:pt x="424" y="448"/>
                </a:lnTo>
                <a:lnTo>
                  <a:pt x="447" y="456"/>
                </a:lnTo>
                <a:lnTo>
                  <a:pt x="470" y="456"/>
                </a:lnTo>
                <a:lnTo>
                  <a:pt x="487" y="456"/>
                </a:lnTo>
                <a:lnTo>
                  <a:pt x="509" y="461"/>
                </a:lnTo>
                <a:lnTo>
                  <a:pt x="526" y="461"/>
                </a:lnTo>
                <a:lnTo>
                  <a:pt x="549" y="469"/>
                </a:lnTo>
                <a:lnTo>
                  <a:pt x="572" y="469"/>
                </a:lnTo>
                <a:lnTo>
                  <a:pt x="589" y="475"/>
                </a:lnTo>
                <a:lnTo>
                  <a:pt x="610" y="475"/>
                </a:lnTo>
                <a:lnTo>
                  <a:pt x="628" y="481"/>
                </a:lnTo>
                <a:lnTo>
                  <a:pt x="651" y="481"/>
                </a:lnTo>
                <a:lnTo>
                  <a:pt x="674" y="481"/>
                </a:lnTo>
                <a:lnTo>
                  <a:pt x="691" y="481"/>
                </a:lnTo>
                <a:lnTo>
                  <a:pt x="712" y="475"/>
                </a:lnTo>
                <a:lnTo>
                  <a:pt x="735" y="475"/>
                </a:lnTo>
                <a:lnTo>
                  <a:pt x="752" y="481"/>
                </a:lnTo>
                <a:lnTo>
                  <a:pt x="775" y="481"/>
                </a:lnTo>
                <a:lnTo>
                  <a:pt x="793" y="481"/>
                </a:lnTo>
                <a:lnTo>
                  <a:pt x="814" y="481"/>
                </a:lnTo>
                <a:lnTo>
                  <a:pt x="837" y="475"/>
                </a:lnTo>
                <a:lnTo>
                  <a:pt x="854" y="469"/>
                </a:lnTo>
                <a:lnTo>
                  <a:pt x="877" y="461"/>
                </a:lnTo>
                <a:lnTo>
                  <a:pt x="894" y="456"/>
                </a:lnTo>
                <a:lnTo>
                  <a:pt x="916" y="461"/>
                </a:lnTo>
                <a:lnTo>
                  <a:pt x="939" y="461"/>
                </a:lnTo>
                <a:lnTo>
                  <a:pt x="956" y="456"/>
                </a:lnTo>
                <a:lnTo>
                  <a:pt x="979" y="442"/>
                </a:lnTo>
                <a:lnTo>
                  <a:pt x="996" y="442"/>
                </a:lnTo>
                <a:lnTo>
                  <a:pt x="1017" y="442"/>
                </a:lnTo>
                <a:lnTo>
                  <a:pt x="1040" y="434"/>
                </a:lnTo>
                <a:lnTo>
                  <a:pt x="1058" y="421"/>
                </a:lnTo>
                <a:lnTo>
                  <a:pt x="1081" y="421"/>
                </a:lnTo>
                <a:lnTo>
                  <a:pt x="1098" y="415"/>
                </a:lnTo>
                <a:lnTo>
                  <a:pt x="1121" y="402"/>
                </a:lnTo>
                <a:lnTo>
                  <a:pt x="1142" y="394"/>
                </a:lnTo>
                <a:lnTo>
                  <a:pt x="1159" y="381"/>
                </a:lnTo>
                <a:lnTo>
                  <a:pt x="1183" y="361"/>
                </a:lnTo>
                <a:lnTo>
                  <a:pt x="1206" y="340"/>
                </a:lnTo>
                <a:lnTo>
                  <a:pt x="1223" y="321"/>
                </a:lnTo>
                <a:lnTo>
                  <a:pt x="1244" y="302"/>
                </a:lnTo>
                <a:lnTo>
                  <a:pt x="1261" y="275"/>
                </a:lnTo>
                <a:lnTo>
                  <a:pt x="1284" y="248"/>
                </a:lnTo>
                <a:lnTo>
                  <a:pt x="1307" y="213"/>
                </a:lnTo>
                <a:lnTo>
                  <a:pt x="1325" y="181"/>
                </a:lnTo>
                <a:lnTo>
                  <a:pt x="1346" y="154"/>
                </a:lnTo>
                <a:lnTo>
                  <a:pt x="1363" y="114"/>
                </a:lnTo>
                <a:lnTo>
                  <a:pt x="1386" y="81"/>
                </a:lnTo>
                <a:lnTo>
                  <a:pt x="1409" y="54"/>
                </a:lnTo>
                <a:lnTo>
                  <a:pt x="1426" y="33"/>
                </a:lnTo>
                <a:lnTo>
                  <a:pt x="1448" y="14"/>
                </a:lnTo>
                <a:lnTo>
                  <a:pt x="1465" y="8"/>
                </a:lnTo>
                <a:lnTo>
                  <a:pt x="1488" y="0"/>
                </a:lnTo>
                <a:lnTo>
                  <a:pt x="1511" y="0"/>
                </a:lnTo>
                <a:lnTo>
                  <a:pt x="1528" y="14"/>
                </a:lnTo>
                <a:lnTo>
                  <a:pt x="1549" y="41"/>
                </a:lnTo>
                <a:lnTo>
                  <a:pt x="1567" y="73"/>
                </a:lnTo>
                <a:lnTo>
                  <a:pt x="1590" y="114"/>
                </a:lnTo>
                <a:lnTo>
                  <a:pt x="1613" y="154"/>
                </a:lnTo>
                <a:lnTo>
                  <a:pt x="1630" y="208"/>
                </a:lnTo>
                <a:lnTo>
                  <a:pt x="1651" y="254"/>
                </a:lnTo>
                <a:lnTo>
                  <a:pt x="1668" y="308"/>
                </a:lnTo>
                <a:lnTo>
                  <a:pt x="1691" y="356"/>
                </a:lnTo>
                <a:lnTo>
                  <a:pt x="1714" y="402"/>
                </a:lnTo>
                <a:lnTo>
                  <a:pt x="1732" y="442"/>
                </a:lnTo>
                <a:lnTo>
                  <a:pt x="1753" y="481"/>
                </a:lnTo>
                <a:lnTo>
                  <a:pt x="1776" y="515"/>
                </a:lnTo>
                <a:lnTo>
                  <a:pt x="1793" y="548"/>
                </a:lnTo>
                <a:lnTo>
                  <a:pt x="1816" y="569"/>
                </a:lnTo>
                <a:lnTo>
                  <a:pt x="1833" y="588"/>
                </a:lnTo>
                <a:lnTo>
                  <a:pt x="1855" y="596"/>
                </a:lnTo>
                <a:lnTo>
                  <a:pt x="1878" y="596"/>
                </a:lnTo>
                <a:lnTo>
                  <a:pt x="1895" y="596"/>
                </a:lnTo>
                <a:lnTo>
                  <a:pt x="1918" y="596"/>
                </a:lnTo>
                <a:lnTo>
                  <a:pt x="1935" y="596"/>
                </a:lnTo>
                <a:lnTo>
                  <a:pt x="1956" y="596"/>
                </a:lnTo>
                <a:lnTo>
                  <a:pt x="1979" y="596"/>
                </a:lnTo>
                <a:lnTo>
                  <a:pt x="1997" y="596"/>
                </a:lnTo>
                <a:lnTo>
                  <a:pt x="2020" y="596"/>
                </a:lnTo>
                <a:lnTo>
                  <a:pt x="2037" y="596"/>
                </a:lnTo>
                <a:lnTo>
                  <a:pt x="2058" y="588"/>
                </a:lnTo>
                <a:lnTo>
                  <a:pt x="2081" y="588"/>
                </a:lnTo>
              </a:path>
            </a:pathLst>
          </a:custGeom>
          <a:noFill/>
          <a:ln w="381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5695920" y="2305080"/>
            <a:ext cx="3873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t>
            </a:r>
            <a:endParaRPr b="0" lang="en-US" sz="2000" spc="-1" strike="noStrike">
              <a:solidFill>
                <a:srgbClr val="000000"/>
              </a:solidFill>
              <a:latin typeface="Times New Roman"/>
            </a:endParaRPr>
          </a:p>
        </p:txBody>
      </p:sp>
      <p:sp>
        <p:nvSpPr>
          <p:cNvPr id="1113" name=""/>
          <p:cNvSpPr/>
          <p:nvPr/>
        </p:nvSpPr>
        <p:spPr>
          <a:xfrm>
            <a:off x="223560" y="5667480"/>
            <a:ext cx="804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bounding means that for all Q and S, we have…</a:t>
            </a:r>
            <a:endParaRPr b="0" lang="en-US" sz="2800" spc="-1" strike="noStrike">
              <a:solidFill>
                <a:srgbClr val="000000"/>
              </a:solidFill>
              <a:latin typeface="Times New Roman"/>
            </a:endParaRPr>
          </a:p>
        </p:txBody>
      </p:sp>
      <p:sp>
        <p:nvSpPr>
          <p:cNvPr id="1114" name=""/>
          <p:cNvSpPr/>
          <p:nvPr/>
        </p:nvSpPr>
        <p:spPr>
          <a:xfrm>
            <a:off x="5557680" y="6249960"/>
            <a:ext cx="3041640" cy="91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a:t>
            </a:r>
            <a:r>
              <a:rPr b="0" i="1" lang="en-US" sz="2800" spc="-1" strike="noStrike" baseline="-25000">
                <a:solidFill>
                  <a:srgbClr val="000000"/>
                </a:solidFill>
                <a:latin typeface="Arial"/>
              </a:rPr>
              <a:t>LB</a:t>
            </a:r>
            <a:r>
              <a:rPr b="0" lang="en-US" sz="2800" spc="-1" strike="noStrike">
                <a:solidFill>
                  <a:srgbClr val="000000"/>
                </a:solidFill>
                <a:latin typeface="Arial"/>
              </a:rPr>
              <a:t>(</a:t>
            </a:r>
            <a:r>
              <a:rPr b="0" i="1" lang="en-US" sz="2800" spc="-1" strike="noStrike">
                <a:solidFill>
                  <a:srgbClr val="000000"/>
                </a:solidFill>
                <a:latin typeface="Arial"/>
              </a:rPr>
              <a:t>Q</a:t>
            </a:r>
            <a:r>
              <a:rPr b="0" lang="en-US" sz="2800" spc="-1" strike="noStrike">
                <a:solidFill>
                  <a:srgbClr val="000000"/>
                </a:solidFill>
                <a:latin typeface="Arial"/>
              </a:rPr>
              <a:t>’,S’)</a:t>
            </a:r>
            <a:r>
              <a:rPr b="0" i="1" lang="en-US" sz="2800" spc="-1" strike="noStrike">
                <a:solidFill>
                  <a:srgbClr val="000000"/>
                </a:solidFill>
                <a:latin typeface="Arial"/>
              </a:rPr>
              <a:t> </a:t>
            </a:r>
            <a:r>
              <a:rPr b="1" lang="en-US" sz="2800" spc="-1" strike="noStrike">
                <a:solidFill>
                  <a:srgbClr val="000000"/>
                </a:solidFill>
                <a:latin typeface="Symbol"/>
                <a:ea typeface="Symbol"/>
              </a:rPr>
              <a:t></a:t>
            </a:r>
            <a:r>
              <a:rPr b="0" i="1" lang="en-US" sz="2800" spc="-1" strike="noStrike">
                <a:solidFill>
                  <a:srgbClr val="000000"/>
                </a:solidFill>
                <a:latin typeface="Arial"/>
              </a:rPr>
              <a:t> D</a:t>
            </a:r>
            <a:r>
              <a:rPr b="0" lang="en-US" sz="2800" spc="-1" strike="noStrike">
                <a:solidFill>
                  <a:srgbClr val="000000"/>
                </a:solidFill>
                <a:latin typeface="Arial"/>
              </a:rPr>
              <a:t>(Q,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115" name=""/>
          <p:cNvSpPr/>
          <p:nvPr/>
        </p:nvSpPr>
        <p:spPr>
          <a:xfrm>
            <a:off x="0" y="0"/>
            <a:ext cx="9144000" cy="760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39400" y="123840"/>
            <a:ext cx="376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lower boun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
          <p:cNvSpPr/>
          <p:nvPr/>
        </p:nvSpPr>
        <p:spPr>
          <a:xfrm>
            <a:off x="217440" y="3292560"/>
            <a:ext cx="8620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live without “</a:t>
            </a:r>
            <a:r>
              <a:rPr b="0" i="1" lang="en-US" sz="2400" spc="-1" strike="noStrike">
                <a:solidFill>
                  <a:srgbClr val="000000"/>
                </a:solidFill>
                <a:latin typeface="Times New Roman"/>
              </a:rPr>
              <a:t>trees</a:t>
            </a:r>
            <a:r>
              <a:rPr b="0" lang="en-US" sz="2400" spc="-1" strike="noStrike">
                <a:solidFill>
                  <a:srgbClr val="000000"/>
                </a:solidFill>
                <a:latin typeface="Times New Roman"/>
              </a:rPr>
              <a:t>”, “</a:t>
            </a:r>
            <a:r>
              <a:rPr b="0" i="1" lang="en-US" sz="2400" spc="-1" strike="noStrike">
                <a:solidFill>
                  <a:srgbClr val="000000"/>
                </a:solidFill>
                <a:latin typeface="Times New Roman"/>
              </a:rPr>
              <a:t>random mappings</a:t>
            </a:r>
            <a:r>
              <a:rPr b="0" lang="en-US" sz="2400" spc="-1" strike="noStrike">
                <a:solidFill>
                  <a:srgbClr val="000000"/>
                </a:solidFill>
                <a:latin typeface="Times New Roman"/>
              </a:rPr>
              <a:t>” and “</a:t>
            </a:r>
            <a:r>
              <a:rPr b="0" i="1" lang="en-US" sz="2400" spc="-1" strike="noStrike">
                <a:solidFill>
                  <a:srgbClr val="000000"/>
                </a:solidFill>
                <a:latin typeface="Times New Roman"/>
              </a:rPr>
              <a:t>natural language</a:t>
            </a:r>
            <a:r>
              <a:rPr b="0" lang="en-US" sz="2400" spc="-1" strike="noStrike">
                <a:solidFill>
                  <a:srgbClr val="000000"/>
                </a:solidFill>
                <a:latin typeface="Times New Roman"/>
              </a:rPr>
              <a:t>”, but it would be nice if we could lower bound </a:t>
            </a:r>
            <a:r>
              <a:rPr b="0" i="1" lang="en-US" sz="2400" spc="-1" strike="noStrike">
                <a:solidFill>
                  <a:srgbClr val="000000"/>
                </a:solidFill>
                <a:latin typeface="Times New Roman"/>
              </a:rPr>
              <a:t>strings (symbolic or discrete approximatio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wer bounding symbolic approach would allow data miner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suffix trees, hashing, markov models etc</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text processing and bioinformatic algorithm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18" name=""/>
          <p:cNvGraphicFramePr/>
          <p:nvPr/>
        </p:nvGraphicFramePr>
        <p:xfrm>
          <a:off x="466560" y="1417680"/>
          <a:ext cx="8141040" cy="1887480"/>
        </p:xfrm>
        <a:graphic>
          <a:graphicData uri="http://schemas.openxmlformats.org/presentationml/2006/ole">
            <p:oleObj r:id="rId1" spid="">
              <p:embed/>
              <p:pic>
                <p:nvPicPr>
                  <p:cNvPr id="1119" name="" descr=""/>
                  <p:cNvPicPr/>
                  <p:nvPr/>
                </p:nvPicPr>
                <p:blipFill>
                  <a:blip r:embed="rId2"/>
                  <a:stretch/>
                </p:blipFill>
                <p:spPr>
                  <a:xfrm>
                    <a:off x="466560" y="1417680"/>
                    <a:ext cx="8141040" cy="1887480"/>
                  </a:xfrm>
                  <a:prstGeom prst="rect">
                    <a:avLst/>
                  </a:prstGeom>
                  <a:ln w="0">
                    <a:noFill/>
                  </a:ln>
                </p:spPr>
              </p:pic>
            </p:oleObj>
          </a:graphicData>
        </a:graphic>
      </p:graphicFrame>
      <p:grpSp>
        <p:nvGrpSpPr>
          <p:cNvPr id="1120" name=""/>
          <p:cNvGrpSpPr/>
          <p:nvPr/>
        </p:nvGrpSpPr>
        <p:grpSpPr>
          <a:xfrm>
            <a:off x="320760" y="104760"/>
            <a:ext cx="8237160" cy="3214080"/>
            <a:chOff x="320760" y="104760"/>
            <a:chExt cx="8237160" cy="3214080"/>
          </a:xfrm>
        </p:grpSpPr>
        <p:sp>
          <p:nvSpPr>
            <p:cNvPr id="1121" name=""/>
            <p:cNvSpPr/>
            <p:nvPr/>
          </p:nvSpPr>
          <p:spPr>
            <a:xfrm>
              <a:off x="356760" y="11016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122" name=""/>
            <p:cNvSpPr/>
            <p:nvPr/>
          </p:nvSpPr>
          <p:spPr>
            <a:xfrm>
              <a:off x="3507840" y="104760"/>
              <a:ext cx="2019960" cy="80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880080" y="114120"/>
              <a:ext cx="14774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ime Series </a:t>
              </a:r>
              <a:endParaRPr b="0" lang="en-US" sz="2300" spc="-1" strike="noStrike">
                <a:solidFill>
                  <a:srgbClr val="000000"/>
                </a:solidFill>
                <a:latin typeface="Times New Roman"/>
              </a:endParaRPr>
            </a:p>
          </p:txBody>
        </p:sp>
        <p:sp>
          <p:nvSpPr>
            <p:cNvPr id="1124" name=""/>
            <p:cNvSpPr/>
            <p:nvPr/>
          </p:nvSpPr>
          <p:spPr>
            <a:xfrm>
              <a:off x="3654720" y="411480"/>
              <a:ext cx="18676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presentations</a:t>
              </a:r>
              <a:endParaRPr b="0" lang="en-US" sz="2300" spc="-1" strike="noStrike">
                <a:solidFill>
                  <a:srgbClr val="000000"/>
                </a:solidFill>
                <a:latin typeface="Times New Roman"/>
              </a:endParaRPr>
            </a:p>
          </p:txBody>
        </p:sp>
        <p:sp>
          <p:nvSpPr>
            <p:cNvPr id="1125" name=""/>
            <p:cNvSpPr/>
            <p:nvPr/>
          </p:nvSpPr>
          <p:spPr>
            <a:xfrm>
              <a:off x="5416560" y="41148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126" name=""/>
            <p:cNvSpPr/>
            <p:nvPr/>
          </p:nvSpPr>
          <p:spPr>
            <a:xfrm>
              <a:off x="3545280" y="70128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127" name=""/>
            <p:cNvSpPr/>
            <p:nvPr/>
          </p:nvSpPr>
          <p:spPr>
            <a:xfrm>
              <a:off x="1955880" y="928080"/>
              <a:ext cx="2061360" cy="4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2302560" y="936360"/>
              <a:ext cx="14788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Adaptive</a:t>
              </a:r>
              <a:endParaRPr b="0" lang="en-US" sz="2000" spc="-1" strike="noStrike">
                <a:solidFill>
                  <a:srgbClr val="000000"/>
                </a:solidFill>
                <a:latin typeface="Times New Roman"/>
              </a:endParaRPr>
            </a:p>
          </p:txBody>
        </p:sp>
        <p:sp>
          <p:nvSpPr>
            <p:cNvPr id="1129" name=""/>
            <p:cNvSpPr/>
            <p:nvPr/>
          </p:nvSpPr>
          <p:spPr>
            <a:xfrm>
              <a:off x="3702960" y="936360"/>
              <a:ext cx="648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30" name=""/>
            <p:cNvSpPr/>
            <p:nvPr/>
          </p:nvSpPr>
          <p:spPr>
            <a:xfrm>
              <a:off x="5316480" y="928080"/>
              <a:ext cx="1924920" cy="43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5346360" y="936360"/>
              <a:ext cx="19836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Data Adaptive</a:t>
              </a:r>
              <a:endParaRPr b="0" lang="en-US" sz="2000" spc="-1" strike="noStrike">
                <a:solidFill>
                  <a:srgbClr val="000000"/>
                </a:solidFill>
                <a:latin typeface="Times New Roman"/>
              </a:endParaRPr>
            </a:p>
          </p:txBody>
        </p:sp>
        <p:sp>
          <p:nvSpPr>
            <p:cNvPr id="1132" name=""/>
            <p:cNvSpPr/>
            <p:nvPr/>
          </p:nvSpPr>
          <p:spPr>
            <a:xfrm>
              <a:off x="7226280" y="936360"/>
              <a:ext cx="648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33" name=""/>
            <p:cNvSpPr/>
            <p:nvPr/>
          </p:nvSpPr>
          <p:spPr>
            <a:xfrm>
              <a:off x="6831720" y="1650240"/>
              <a:ext cx="778680" cy="25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6976440" y="1656000"/>
              <a:ext cx="587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tral</a:t>
              </a:r>
              <a:endParaRPr b="0" lang="en-US" sz="1400" spc="-1" strike="noStrike">
                <a:solidFill>
                  <a:srgbClr val="000000"/>
                </a:solidFill>
                <a:latin typeface="Times New Roman"/>
              </a:endParaRPr>
            </a:p>
          </p:txBody>
        </p:sp>
        <p:sp>
          <p:nvSpPr>
            <p:cNvPr id="1135" name=""/>
            <p:cNvSpPr/>
            <p:nvPr/>
          </p:nvSpPr>
          <p:spPr>
            <a:xfrm>
              <a:off x="7528680" y="162756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136" name=""/>
            <p:cNvSpPr/>
            <p:nvPr/>
          </p:nvSpPr>
          <p:spPr>
            <a:xfrm>
              <a:off x="5016960" y="1650240"/>
              <a:ext cx="1284120" cy="25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5378400" y="1656000"/>
              <a:ext cx="66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velets</a:t>
              </a:r>
              <a:endParaRPr b="0" lang="en-US" sz="1400" spc="-1" strike="noStrike">
                <a:solidFill>
                  <a:srgbClr val="000000"/>
                </a:solidFill>
                <a:latin typeface="Times New Roman"/>
              </a:endParaRPr>
            </a:p>
          </p:txBody>
        </p:sp>
        <p:sp>
          <p:nvSpPr>
            <p:cNvPr id="1138" name=""/>
            <p:cNvSpPr/>
            <p:nvPr/>
          </p:nvSpPr>
          <p:spPr>
            <a:xfrm>
              <a:off x="6005160" y="162756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139" name=""/>
            <p:cNvSpPr/>
            <p:nvPr/>
          </p:nvSpPr>
          <p:spPr>
            <a:xfrm>
              <a:off x="7447320" y="1650240"/>
              <a:ext cx="1110600" cy="50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7764480" y="1653120"/>
              <a:ext cx="5630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Piecewise</a:t>
              </a:r>
              <a:endParaRPr b="0" lang="en-US" sz="1100" spc="-1" strike="noStrike">
                <a:solidFill>
                  <a:srgbClr val="000000"/>
                </a:solidFill>
                <a:latin typeface="Times New Roman"/>
              </a:endParaRPr>
            </a:p>
          </p:txBody>
        </p:sp>
        <p:sp>
          <p:nvSpPr>
            <p:cNvPr id="1141" name=""/>
            <p:cNvSpPr/>
            <p:nvPr/>
          </p:nvSpPr>
          <p:spPr>
            <a:xfrm>
              <a:off x="8294040" y="165312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42" name=""/>
            <p:cNvSpPr/>
            <p:nvPr/>
          </p:nvSpPr>
          <p:spPr>
            <a:xfrm>
              <a:off x="7754040" y="1800000"/>
              <a:ext cx="586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Aggregate</a:t>
              </a:r>
              <a:endParaRPr b="0" lang="en-US" sz="1100" spc="-1" strike="noStrike">
                <a:solidFill>
                  <a:srgbClr val="000000"/>
                </a:solidFill>
                <a:latin typeface="Times New Roman"/>
              </a:endParaRPr>
            </a:p>
          </p:txBody>
        </p:sp>
        <p:sp>
          <p:nvSpPr>
            <p:cNvPr id="1143" name=""/>
            <p:cNvSpPr/>
            <p:nvPr/>
          </p:nvSpPr>
          <p:spPr>
            <a:xfrm>
              <a:off x="8305200" y="180000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44" name=""/>
            <p:cNvSpPr/>
            <p:nvPr/>
          </p:nvSpPr>
          <p:spPr>
            <a:xfrm>
              <a:off x="7632720" y="1953000"/>
              <a:ext cx="8434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Approximation</a:t>
              </a:r>
              <a:endParaRPr b="0" lang="en-US" sz="1100" spc="-1" strike="noStrike">
                <a:solidFill>
                  <a:srgbClr val="000000"/>
                </a:solidFill>
                <a:latin typeface="Times New Roman"/>
              </a:endParaRPr>
            </a:p>
          </p:txBody>
        </p:sp>
        <p:sp>
          <p:nvSpPr>
            <p:cNvPr id="1145" name=""/>
            <p:cNvSpPr/>
            <p:nvPr/>
          </p:nvSpPr>
          <p:spPr>
            <a:xfrm>
              <a:off x="8427240" y="195300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46" name=""/>
            <p:cNvSpPr/>
            <p:nvPr/>
          </p:nvSpPr>
          <p:spPr>
            <a:xfrm>
              <a:off x="1437480" y="1650240"/>
              <a:ext cx="941400" cy="42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04880" y="1653120"/>
              <a:ext cx="7596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ecewise </a:t>
              </a:r>
              <a:endParaRPr b="0" lang="en-US" sz="1400" spc="-1" strike="noStrike">
                <a:solidFill>
                  <a:srgbClr val="000000"/>
                </a:solidFill>
                <a:latin typeface="Times New Roman"/>
              </a:endParaRPr>
            </a:p>
          </p:txBody>
        </p:sp>
        <p:sp>
          <p:nvSpPr>
            <p:cNvPr id="1148" name=""/>
            <p:cNvSpPr/>
            <p:nvPr/>
          </p:nvSpPr>
          <p:spPr>
            <a:xfrm>
              <a:off x="1551600" y="1841400"/>
              <a:ext cx="828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lynomial</a:t>
              </a:r>
              <a:endParaRPr b="0" lang="en-US" sz="1400" spc="-1" strike="noStrike">
                <a:solidFill>
                  <a:srgbClr val="000000"/>
                </a:solidFill>
                <a:latin typeface="Times New Roman"/>
              </a:endParaRPr>
            </a:p>
          </p:txBody>
        </p:sp>
        <p:sp>
          <p:nvSpPr>
            <p:cNvPr id="1149" name=""/>
            <p:cNvSpPr/>
            <p:nvPr/>
          </p:nvSpPr>
          <p:spPr>
            <a:xfrm>
              <a:off x="2323440" y="182844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150" name=""/>
            <p:cNvSpPr/>
            <p:nvPr/>
          </p:nvSpPr>
          <p:spPr>
            <a:xfrm>
              <a:off x="3116880" y="1650240"/>
              <a:ext cx="804960" cy="31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228480" y="1656000"/>
              <a:ext cx="687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mbolic</a:t>
              </a:r>
              <a:endParaRPr b="0" lang="en-US" sz="1400" spc="-1" strike="noStrike">
                <a:solidFill>
                  <a:srgbClr val="000000"/>
                </a:solidFill>
                <a:latin typeface="Times New Roman"/>
              </a:endParaRPr>
            </a:p>
          </p:txBody>
        </p:sp>
        <p:sp>
          <p:nvSpPr>
            <p:cNvPr id="1152" name=""/>
            <p:cNvSpPr/>
            <p:nvPr/>
          </p:nvSpPr>
          <p:spPr>
            <a:xfrm>
              <a:off x="3872880" y="162756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153" name=""/>
            <p:cNvSpPr/>
            <p:nvPr/>
          </p:nvSpPr>
          <p:spPr>
            <a:xfrm>
              <a:off x="2092680" y="1650240"/>
              <a:ext cx="1407600" cy="70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2594160" y="1639080"/>
              <a:ext cx="485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Singular</a:t>
              </a:r>
              <a:endParaRPr b="0" lang="en-US" sz="1100" spc="-1" strike="noStrike">
                <a:solidFill>
                  <a:srgbClr val="000000"/>
                </a:solidFill>
                <a:latin typeface="Times New Roman"/>
              </a:endParaRPr>
            </a:p>
          </p:txBody>
        </p:sp>
        <p:sp>
          <p:nvSpPr>
            <p:cNvPr id="1155" name=""/>
            <p:cNvSpPr/>
            <p:nvPr/>
          </p:nvSpPr>
          <p:spPr>
            <a:xfrm>
              <a:off x="3052440" y="163908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56" name=""/>
            <p:cNvSpPr/>
            <p:nvPr/>
          </p:nvSpPr>
          <p:spPr>
            <a:xfrm>
              <a:off x="2668320" y="1768680"/>
              <a:ext cx="328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Value</a:t>
              </a:r>
              <a:endParaRPr b="0" lang="en-US" sz="1100" spc="-1" strike="noStrike">
                <a:solidFill>
                  <a:srgbClr val="000000"/>
                </a:solidFill>
                <a:latin typeface="Times New Roman"/>
              </a:endParaRPr>
            </a:p>
          </p:txBody>
        </p:sp>
        <p:sp>
          <p:nvSpPr>
            <p:cNvPr id="1157" name=""/>
            <p:cNvSpPr/>
            <p:nvPr/>
          </p:nvSpPr>
          <p:spPr>
            <a:xfrm>
              <a:off x="2979360" y="176868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58" name=""/>
            <p:cNvSpPr/>
            <p:nvPr/>
          </p:nvSpPr>
          <p:spPr>
            <a:xfrm>
              <a:off x="2423880" y="1895760"/>
              <a:ext cx="8510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Decomposition</a:t>
              </a:r>
              <a:endParaRPr b="0" lang="en-US" sz="1100" spc="-1" strike="noStrike">
                <a:solidFill>
                  <a:srgbClr val="000000"/>
                </a:solidFill>
                <a:latin typeface="Times New Roman"/>
              </a:endParaRPr>
            </a:p>
          </p:txBody>
        </p:sp>
        <p:sp>
          <p:nvSpPr>
            <p:cNvPr id="1159" name=""/>
            <p:cNvSpPr/>
            <p:nvPr/>
          </p:nvSpPr>
          <p:spPr>
            <a:xfrm>
              <a:off x="3234960" y="183744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160" name=""/>
            <p:cNvSpPr/>
            <p:nvPr/>
          </p:nvSpPr>
          <p:spPr>
            <a:xfrm>
              <a:off x="5978160" y="1650240"/>
              <a:ext cx="1001880" cy="53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286680" y="1653120"/>
              <a:ext cx="4669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Random</a:t>
              </a:r>
              <a:endParaRPr b="0" lang="en-US" sz="1100" spc="-1" strike="noStrike">
                <a:solidFill>
                  <a:srgbClr val="000000"/>
                </a:solidFill>
                <a:latin typeface="Times New Roman"/>
              </a:endParaRPr>
            </a:p>
          </p:txBody>
        </p:sp>
        <p:sp>
          <p:nvSpPr>
            <p:cNvPr id="1162" name=""/>
            <p:cNvSpPr/>
            <p:nvPr/>
          </p:nvSpPr>
          <p:spPr>
            <a:xfrm>
              <a:off x="6728760" y="165312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63" name=""/>
            <p:cNvSpPr/>
            <p:nvPr/>
          </p:nvSpPr>
          <p:spPr>
            <a:xfrm>
              <a:off x="6240600" y="1802880"/>
              <a:ext cx="5630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Mappings</a:t>
              </a:r>
              <a:endParaRPr b="0" lang="en-US" sz="1100" spc="-1" strike="noStrike">
                <a:solidFill>
                  <a:srgbClr val="000000"/>
                </a:solidFill>
                <a:latin typeface="Times New Roman"/>
              </a:endParaRPr>
            </a:p>
          </p:txBody>
        </p:sp>
        <p:sp>
          <p:nvSpPr>
            <p:cNvPr id="1164" name=""/>
            <p:cNvSpPr/>
            <p:nvPr/>
          </p:nvSpPr>
          <p:spPr>
            <a:xfrm>
              <a:off x="6780960" y="174456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165" name=""/>
            <p:cNvSpPr/>
            <p:nvPr/>
          </p:nvSpPr>
          <p:spPr>
            <a:xfrm>
              <a:off x="542520" y="2392560"/>
              <a:ext cx="1395720" cy="49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960840" y="2374200"/>
              <a:ext cx="608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ecewise</a:t>
              </a:r>
              <a:endParaRPr b="0" lang="en-US" sz="1200" spc="-1" strike="noStrike">
                <a:solidFill>
                  <a:srgbClr val="000000"/>
                </a:solidFill>
                <a:latin typeface="Times New Roman"/>
              </a:endParaRPr>
            </a:p>
          </p:txBody>
        </p:sp>
        <p:sp>
          <p:nvSpPr>
            <p:cNvPr id="1167" name=""/>
            <p:cNvSpPr/>
            <p:nvPr/>
          </p:nvSpPr>
          <p:spPr>
            <a:xfrm>
              <a:off x="1547280" y="23742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68" name=""/>
            <p:cNvSpPr/>
            <p:nvPr/>
          </p:nvSpPr>
          <p:spPr>
            <a:xfrm>
              <a:off x="1068120" y="2502720"/>
              <a:ext cx="397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a:t>
              </a:r>
              <a:endParaRPr b="0" lang="en-US" sz="1200" spc="-1" strike="noStrike">
                <a:solidFill>
                  <a:srgbClr val="000000"/>
                </a:solidFill>
                <a:latin typeface="Times New Roman"/>
              </a:endParaRPr>
            </a:p>
          </p:txBody>
        </p:sp>
        <p:sp>
          <p:nvSpPr>
            <p:cNvPr id="1169" name=""/>
            <p:cNvSpPr/>
            <p:nvPr/>
          </p:nvSpPr>
          <p:spPr>
            <a:xfrm>
              <a:off x="1450080" y="25027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70" name=""/>
            <p:cNvSpPr/>
            <p:nvPr/>
          </p:nvSpPr>
          <p:spPr>
            <a:xfrm>
              <a:off x="802080" y="2632320"/>
              <a:ext cx="932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ion</a:t>
              </a:r>
              <a:endParaRPr b="0" lang="en-US" sz="1200" spc="-1" strike="noStrike">
                <a:solidFill>
                  <a:srgbClr val="000000"/>
                </a:solidFill>
                <a:latin typeface="Times New Roman"/>
              </a:endParaRPr>
            </a:p>
          </p:txBody>
        </p:sp>
        <p:sp>
          <p:nvSpPr>
            <p:cNvPr id="1171" name=""/>
            <p:cNvSpPr/>
            <p:nvPr/>
          </p:nvSpPr>
          <p:spPr>
            <a:xfrm>
              <a:off x="1706040" y="26082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172" name=""/>
            <p:cNvSpPr/>
            <p:nvPr/>
          </p:nvSpPr>
          <p:spPr>
            <a:xfrm>
              <a:off x="1957680" y="2425680"/>
              <a:ext cx="860760" cy="58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179440" y="2412720"/>
              <a:ext cx="5007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Adaptive</a:t>
              </a:r>
              <a:endParaRPr b="0" lang="en-US" sz="1100" spc="-1" strike="noStrike">
                <a:solidFill>
                  <a:srgbClr val="000000"/>
                </a:solidFill>
                <a:latin typeface="Times New Roman"/>
              </a:endParaRPr>
            </a:p>
          </p:txBody>
        </p:sp>
        <p:sp>
          <p:nvSpPr>
            <p:cNvPr id="1174" name=""/>
            <p:cNvSpPr/>
            <p:nvPr/>
          </p:nvSpPr>
          <p:spPr>
            <a:xfrm>
              <a:off x="2651040" y="241272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75" name=""/>
            <p:cNvSpPr/>
            <p:nvPr/>
          </p:nvSpPr>
          <p:spPr>
            <a:xfrm>
              <a:off x="2151360" y="2541240"/>
              <a:ext cx="5630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Piecewise</a:t>
              </a:r>
              <a:endParaRPr b="0" lang="en-US" sz="1100" spc="-1" strike="noStrike">
                <a:solidFill>
                  <a:srgbClr val="000000"/>
                </a:solidFill>
                <a:latin typeface="Times New Roman"/>
              </a:endParaRPr>
            </a:p>
          </p:txBody>
        </p:sp>
        <p:sp>
          <p:nvSpPr>
            <p:cNvPr id="1176" name=""/>
            <p:cNvSpPr/>
            <p:nvPr/>
          </p:nvSpPr>
          <p:spPr>
            <a:xfrm>
              <a:off x="2680920" y="254124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77" name=""/>
            <p:cNvSpPr/>
            <p:nvPr/>
          </p:nvSpPr>
          <p:spPr>
            <a:xfrm>
              <a:off x="2175840" y="2670840"/>
              <a:ext cx="508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Constant</a:t>
              </a:r>
              <a:endParaRPr b="0" lang="en-US" sz="1100" spc="-1" strike="noStrike">
                <a:solidFill>
                  <a:srgbClr val="000000"/>
                </a:solidFill>
                <a:latin typeface="Times New Roman"/>
              </a:endParaRPr>
            </a:p>
          </p:txBody>
        </p:sp>
        <p:sp>
          <p:nvSpPr>
            <p:cNvPr id="1178" name=""/>
            <p:cNvSpPr/>
            <p:nvPr/>
          </p:nvSpPr>
          <p:spPr>
            <a:xfrm>
              <a:off x="2655360" y="267084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79" name=""/>
            <p:cNvSpPr/>
            <p:nvPr/>
          </p:nvSpPr>
          <p:spPr>
            <a:xfrm>
              <a:off x="2020320" y="2799360"/>
              <a:ext cx="66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Approximat</a:t>
              </a:r>
              <a:endParaRPr b="0" lang="en-US" sz="1100" spc="-1" strike="noStrike">
                <a:solidFill>
                  <a:srgbClr val="000000"/>
                </a:solidFill>
                <a:latin typeface="Times New Roman"/>
              </a:endParaRPr>
            </a:p>
          </p:txBody>
        </p:sp>
        <p:sp>
          <p:nvSpPr>
            <p:cNvPr id="1180" name=""/>
            <p:cNvSpPr/>
            <p:nvPr/>
          </p:nvSpPr>
          <p:spPr>
            <a:xfrm>
              <a:off x="2643840" y="2799360"/>
              <a:ext cx="1807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ion</a:t>
              </a:r>
              <a:endParaRPr b="0" lang="en-US" sz="1100" spc="-1" strike="noStrike">
                <a:solidFill>
                  <a:srgbClr val="000000"/>
                </a:solidFill>
                <a:latin typeface="Times New Roman"/>
              </a:endParaRPr>
            </a:p>
          </p:txBody>
        </p:sp>
        <p:sp>
          <p:nvSpPr>
            <p:cNvPr id="1181" name=""/>
            <p:cNvSpPr/>
            <p:nvPr/>
          </p:nvSpPr>
          <p:spPr>
            <a:xfrm>
              <a:off x="2814120" y="279936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82" name=""/>
            <p:cNvSpPr/>
            <p:nvPr/>
          </p:nvSpPr>
          <p:spPr>
            <a:xfrm>
              <a:off x="2424960" y="286920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183" name=""/>
            <p:cNvSpPr/>
            <p:nvPr/>
          </p:nvSpPr>
          <p:spPr>
            <a:xfrm>
              <a:off x="6643440" y="2425680"/>
              <a:ext cx="727200" cy="47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810840" y="2426760"/>
              <a:ext cx="4777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Discrete</a:t>
              </a:r>
              <a:endParaRPr b="0" lang="en-US" sz="1100" spc="-1" strike="noStrike">
                <a:solidFill>
                  <a:srgbClr val="000000"/>
                </a:solidFill>
                <a:latin typeface="Times New Roman"/>
              </a:endParaRPr>
            </a:p>
          </p:txBody>
        </p:sp>
        <p:sp>
          <p:nvSpPr>
            <p:cNvPr id="1185" name=""/>
            <p:cNvSpPr/>
            <p:nvPr/>
          </p:nvSpPr>
          <p:spPr>
            <a:xfrm>
              <a:off x="7259400" y="242676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86" name=""/>
            <p:cNvSpPr/>
            <p:nvPr/>
          </p:nvSpPr>
          <p:spPr>
            <a:xfrm>
              <a:off x="6829560" y="2575440"/>
              <a:ext cx="4381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Fourier</a:t>
              </a:r>
              <a:endParaRPr b="0" lang="en-US" sz="1100" spc="-1" strike="noStrike">
                <a:solidFill>
                  <a:srgbClr val="000000"/>
                </a:solidFill>
                <a:latin typeface="Times New Roman"/>
              </a:endParaRPr>
            </a:p>
          </p:txBody>
        </p:sp>
        <p:sp>
          <p:nvSpPr>
            <p:cNvPr id="1187" name=""/>
            <p:cNvSpPr/>
            <p:nvPr/>
          </p:nvSpPr>
          <p:spPr>
            <a:xfrm>
              <a:off x="7241400" y="257544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88" name=""/>
            <p:cNvSpPr/>
            <p:nvPr/>
          </p:nvSpPr>
          <p:spPr>
            <a:xfrm>
              <a:off x="6755760" y="2726640"/>
              <a:ext cx="593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Transform</a:t>
              </a:r>
              <a:endParaRPr b="0" lang="en-US" sz="1100" spc="-1" strike="noStrike">
                <a:solidFill>
                  <a:srgbClr val="000000"/>
                </a:solidFill>
                <a:latin typeface="Times New Roman"/>
              </a:endParaRPr>
            </a:p>
          </p:txBody>
        </p:sp>
        <p:sp>
          <p:nvSpPr>
            <p:cNvPr id="1189" name=""/>
            <p:cNvSpPr/>
            <p:nvPr/>
          </p:nvSpPr>
          <p:spPr>
            <a:xfrm>
              <a:off x="7324200" y="266652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190" name=""/>
            <p:cNvSpPr/>
            <p:nvPr/>
          </p:nvSpPr>
          <p:spPr>
            <a:xfrm>
              <a:off x="7363440" y="2425680"/>
              <a:ext cx="753480" cy="47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7544160" y="2426760"/>
              <a:ext cx="4777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Discrete</a:t>
              </a:r>
              <a:endParaRPr b="0" lang="en-US" sz="1100" spc="-1" strike="noStrike">
                <a:solidFill>
                  <a:srgbClr val="000000"/>
                </a:solidFill>
                <a:latin typeface="Times New Roman"/>
              </a:endParaRPr>
            </a:p>
          </p:txBody>
        </p:sp>
        <p:sp>
          <p:nvSpPr>
            <p:cNvPr id="1192" name=""/>
            <p:cNvSpPr/>
            <p:nvPr/>
          </p:nvSpPr>
          <p:spPr>
            <a:xfrm>
              <a:off x="7992360" y="242676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93" name=""/>
            <p:cNvSpPr/>
            <p:nvPr/>
          </p:nvSpPr>
          <p:spPr>
            <a:xfrm>
              <a:off x="7584480" y="2575440"/>
              <a:ext cx="3909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Cosine</a:t>
              </a:r>
              <a:endParaRPr b="0" lang="en-US" sz="1100" spc="-1" strike="noStrike">
                <a:solidFill>
                  <a:srgbClr val="000000"/>
                </a:solidFill>
                <a:latin typeface="Times New Roman"/>
              </a:endParaRPr>
            </a:p>
          </p:txBody>
        </p:sp>
        <p:sp>
          <p:nvSpPr>
            <p:cNvPr id="1194" name=""/>
            <p:cNvSpPr/>
            <p:nvPr/>
          </p:nvSpPr>
          <p:spPr>
            <a:xfrm>
              <a:off x="7952760" y="257544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95" name=""/>
            <p:cNvSpPr/>
            <p:nvPr/>
          </p:nvSpPr>
          <p:spPr>
            <a:xfrm>
              <a:off x="7489440" y="2726640"/>
              <a:ext cx="593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Transform</a:t>
              </a:r>
              <a:endParaRPr b="0" lang="en-US" sz="1100" spc="-1" strike="noStrike">
                <a:solidFill>
                  <a:srgbClr val="000000"/>
                </a:solidFill>
                <a:latin typeface="Times New Roman"/>
              </a:endParaRPr>
            </a:p>
          </p:txBody>
        </p:sp>
        <p:sp>
          <p:nvSpPr>
            <p:cNvPr id="1196" name=""/>
            <p:cNvSpPr/>
            <p:nvPr/>
          </p:nvSpPr>
          <p:spPr>
            <a:xfrm>
              <a:off x="8055000" y="268380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197" name=""/>
            <p:cNvSpPr/>
            <p:nvPr/>
          </p:nvSpPr>
          <p:spPr>
            <a:xfrm>
              <a:off x="4434840" y="2964960"/>
              <a:ext cx="633240" cy="25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640400" y="2969280"/>
              <a:ext cx="29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Haar</a:t>
              </a:r>
              <a:endParaRPr b="0" lang="en-US" sz="1100" spc="-1" strike="noStrike">
                <a:solidFill>
                  <a:srgbClr val="000000"/>
                </a:solidFill>
                <a:latin typeface="Times New Roman"/>
              </a:endParaRPr>
            </a:p>
          </p:txBody>
        </p:sp>
        <p:sp>
          <p:nvSpPr>
            <p:cNvPr id="1199" name=""/>
            <p:cNvSpPr/>
            <p:nvPr/>
          </p:nvSpPr>
          <p:spPr>
            <a:xfrm>
              <a:off x="4919760" y="296928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00" name=""/>
            <p:cNvSpPr/>
            <p:nvPr/>
          </p:nvSpPr>
          <p:spPr>
            <a:xfrm>
              <a:off x="4889160" y="2964960"/>
              <a:ext cx="899280" cy="34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5053680" y="2966400"/>
              <a:ext cx="66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Daubechies</a:t>
              </a:r>
              <a:endParaRPr b="0" lang="en-US" sz="1100" spc="-1" strike="noStrike">
                <a:solidFill>
                  <a:srgbClr val="000000"/>
                </a:solidFill>
                <a:latin typeface="Times New Roman"/>
              </a:endParaRPr>
            </a:p>
          </p:txBody>
        </p:sp>
        <p:sp>
          <p:nvSpPr>
            <p:cNvPr id="1202" name=""/>
            <p:cNvSpPr/>
            <p:nvPr/>
          </p:nvSpPr>
          <p:spPr>
            <a:xfrm>
              <a:off x="5678280" y="296640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03" name=""/>
            <p:cNvSpPr/>
            <p:nvPr/>
          </p:nvSpPr>
          <p:spPr>
            <a:xfrm>
              <a:off x="5076720" y="3117600"/>
              <a:ext cx="621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dbn   n &gt; 1</a:t>
              </a:r>
              <a:endParaRPr b="0" lang="en-US" sz="1100" spc="-1" strike="noStrike">
                <a:solidFill>
                  <a:srgbClr val="000000"/>
                </a:solidFill>
                <a:latin typeface="Times New Roman"/>
              </a:endParaRPr>
            </a:p>
          </p:txBody>
        </p:sp>
        <p:sp>
          <p:nvSpPr>
            <p:cNvPr id="1204" name=""/>
            <p:cNvSpPr/>
            <p:nvPr/>
          </p:nvSpPr>
          <p:spPr>
            <a:xfrm>
              <a:off x="5668560" y="305928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205" name=""/>
            <p:cNvSpPr/>
            <p:nvPr/>
          </p:nvSpPr>
          <p:spPr>
            <a:xfrm>
              <a:off x="5564880" y="2964960"/>
              <a:ext cx="847800" cy="25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5808240" y="2969280"/>
              <a:ext cx="4395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Coiflets</a:t>
              </a:r>
              <a:endParaRPr b="0" lang="en-US" sz="1100" spc="-1" strike="noStrike">
                <a:solidFill>
                  <a:srgbClr val="000000"/>
                </a:solidFill>
                <a:latin typeface="Times New Roman"/>
              </a:endParaRPr>
            </a:p>
          </p:txBody>
        </p:sp>
        <p:sp>
          <p:nvSpPr>
            <p:cNvPr id="1207" name=""/>
            <p:cNvSpPr/>
            <p:nvPr/>
          </p:nvSpPr>
          <p:spPr>
            <a:xfrm>
              <a:off x="6223320" y="296928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08" name=""/>
            <p:cNvSpPr/>
            <p:nvPr/>
          </p:nvSpPr>
          <p:spPr>
            <a:xfrm>
              <a:off x="6198120" y="2964960"/>
              <a:ext cx="727200" cy="25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6387120" y="2969280"/>
              <a:ext cx="4305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Symlets</a:t>
              </a:r>
              <a:endParaRPr b="0" lang="en-US" sz="1100" spc="-1" strike="noStrike">
                <a:solidFill>
                  <a:srgbClr val="000000"/>
                </a:solidFill>
                <a:latin typeface="Times New Roman"/>
              </a:endParaRPr>
            </a:p>
          </p:txBody>
        </p:sp>
        <p:sp>
          <p:nvSpPr>
            <p:cNvPr id="1210" name=""/>
            <p:cNvSpPr/>
            <p:nvPr/>
          </p:nvSpPr>
          <p:spPr>
            <a:xfrm>
              <a:off x="6792480" y="296928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11" name=""/>
            <p:cNvSpPr/>
            <p:nvPr/>
          </p:nvSpPr>
          <p:spPr>
            <a:xfrm>
              <a:off x="488160" y="1650240"/>
              <a:ext cx="95184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816120" y="1653120"/>
              <a:ext cx="4032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Sorted </a:t>
              </a:r>
              <a:endParaRPr b="0" lang="en-US" sz="1100" spc="-1" strike="noStrike">
                <a:solidFill>
                  <a:srgbClr val="000000"/>
                </a:solidFill>
                <a:latin typeface="Times New Roman"/>
              </a:endParaRPr>
            </a:p>
          </p:txBody>
        </p:sp>
        <p:sp>
          <p:nvSpPr>
            <p:cNvPr id="1213" name=""/>
            <p:cNvSpPr/>
            <p:nvPr/>
          </p:nvSpPr>
          <p:spPr>
            <a:xfrm>
              <a:off x="672840" y="1802880"/>
              <a:ext cx="674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Coefficients</a:t>
              </a:r>
              <a:endParaRPr b="0" lang="en-US" sz="1100" spc="-1" strike="noStrike">
                <a:solidFill>
                  <a:srgbClr val="000000"/>
                </a:solidFill>
                <a:latin typeface="Times New Roman"/>
              </a:endParaRPr>
            </a:p>
          </p:txBody>
        </p:sp>
        <p:sp>
          <p:nvSpPr>
            <p:cNvPr id="1214" name=""/>
            <p:cNvSpPr/>
            <p:nvPr/>
          </p:nvSpPr>
          <p:spPr>
            <a:xfrm>
              <a:off x="1307880" y="180288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15" name=""/>
            <p:cNvSpPr/>
            <p:nvPr/>
          </p:nvSpPr>
          <p:spPr>
            <a:xfrm>
              <a:off x="4511520" y="2425680"/>
              <a:ext cx="1103040" cy="25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676760" y="2429640"/>
              <a:ext cx="851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rthonormal</a:t>
              </a:r>
              <a:endParaRPr b="0" lang="en-US" sz="1300" spc="-1" strike="noStrike">
                <a:solidFill>
                  <a:srgbClr val="000000"/>
                </a:solidFill>
                <a:latin typeface="Times New Roman"/>
              </a:endParaRPr>
            </a:p>
          </p:txBody>
        </p:sp>
        <p:sp>
          <p:nvSpPr>
            <p:cNvPr id="1217" name=""/>
            <p:cNvSpPr/>
            <p:nvPr/>
          </p:nvSpPr>
          <p:spPr>
            <a:xfrm>
              <a:off x="5483520" y="238536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218" name=""/>
            <p:cNvSpPr/>
            <p:nvPr/>
          </p:nvSpPr>
          <p:spPr>
            <a:xfrm>
              <a:off x="5628240" y="2425680"/>
              <a:ext cx="1240200" cy="25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651280" y="2429640"/>
              <a:ext cx="156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a:t>
              </a:r>
              <a:endParaRPr b="0" lang="en-US" sz="1300" spc="-1" strike="noStrike">
                <a:solidFill>
                  <a:srgbClr val="000000"/>
                </a:solidFill>
                <a:latin typeface="Times New Roman"/>
              </a:endParaRPr>
            </a:p>
          </p:txBody>
        </p:sp>
        <p:sp>
          <p:nvSpPr>
            <p:cNvPr id="1220" name=""/>
            <p:cNvSpPr/>
            <p:nvPr/>
          </p:nvSpPr>
          <p:spPr>
            <a:xfrm>
              <a:off x="5795640" y="242964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221" name=""/>
            <p:cNvSpPr/>
            <p:nvPr/>
          </p:nvSpPr>
          <p:spPr>
            <a:xfrm>
              <a:off x="5815800" y="2429640"/>
              <a:ext cx="851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rthonormal</a:t>
              </a:r>
              <a:endParaRPr b="0" lang="en-US" sz="1300" spc="-1" strike="noStrike">
                <a:solidFill>
                  <a:srgbClr val="000000"/>
                </a:solidFill>
                <a:latin typeface="Times New Roman"/>
              </a:endParaRPr>
            </a:p>
          </p:txBody>
        </p:sp>
        <p:sp>
          <p:nvSpPr>
            <p:cNvPr id="1222" name=""/>
            <p:cNvSpPr/>
            <p:nvPr/>
          </p:nvSpPr>
          <p:spPr>
            <a:xfrm>
              <a:off x="6625080" y="238536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223" name=""/>
            <p:cNvSpPr/>
            <p:nvPr/>
          </p:nvSpPr>
          <p:spPr>
            <a:xfrm>
              <a:off x="320760" y="2964960"/>
              <a:ext cx="1062000" cy="25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28120" y="2969280"/>
              <a:ext cx="7444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Interpolation</a:t>
              </a:r>
              <a:endParaRPr b="0" lang="en-US" sz="1100" spc="-1" strike="noStrike">
                <a:solidFill>
                  <a:srgbClr val="000000"/>
                </a:solidFill>
                <a:latin typeface="Times New Roman"/>
              </a:endParaRPr>
            </a:p>
          </p:txBody>
        </p:sp>
        <p:sp>
          <p:nvSpPr>
            <p:cNvPr id="1225" name=""/>
            <p:cNvSpPr/>
            <p:nvPr/>
          </p:nvSpPr>
          <p:spPr>
            <a:xfrm>
              <a:off x="1250640" y="29552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226" name=""/>
            <p:cNvSpPr/>
            <p:nvPr/>
          </p:nvSpPr>
          <p:spPr>
            <a:xfrm>
              <a:off x="1162800" y="2964960"/>
              <a:ext cx="950400" cy="25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1368360" y="2969280"/>
              <a:ext cx="6256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Regression</a:t>
              </a:r>
              <a:endParaRPr b="0" lang="en-US" sz="1100" spc="-1" strike="noStrike">
                <a:solidFill>
                  <a:srgbClr val="000000"/>
                </a:solidFill>
                <a:latin typeface="Times New Roman"/>
              </a:endParaRPr>
            </a:p>
          </p:txBody>
        </p:sp>
        <p:sp>
          <p:nvSpPr>
            <p:cNvPr id="1228" name=""/>
            <p:cNvSpPr/>
            <p:nvPr/>
          </p:nvSpPr>
          <p:spPr>
            <a:xfrm>
              <a:off x="1959120" y="296928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29" name=""/>
            <p:cNvSpPr/>
            <p:nvPr/>
          </p:nvSpPr>
          <p:spPr>
            <a:xfrm>
              <a:off x="3717720" y="1650240"/>
              <a:ext cx="918360" cy="308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4057200" y="1656000"/>
              <a:ext cx="3132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Trees</a:t>
              </a:r>
              <a:endParaRPr b="0" lang="en-US" sz="1100" spc="-1" strike="noStrike">
                <a:solidFill>
                  <a:srgbClr val="000000"/>
                </a:solidFill>
                <a:latin typeface="Times New Roman"/>
              </a:endParaRPr>
            </a:p>
          </p:txBody>
        </p:sp>
        <p:sp>
          <p:nvSpPr>
            <p:cNvPr id="1231" name=""/>
            <p:cNvSpPr/>
            <p:nvPr/>
          </p:nvSpPr>
          <p:spPr>
            <a:xfrm>
              <a:off x="4351320" y="1656000"/>
              <a:ext cx="3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32" name=""/>
            <p:cNvSpPr/>
            <p:nvPr/>
          </p:nvSpPr>
          <p:spPr>
            <a:xfrm>
              <a:off x="2923200" y="2425680"/>
              <a:ext cx="709560" cy="42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097800" y="2426760"/>
              <a:ext cx="4730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Natural </a:t>
              </a:r>
              <a:endParaRPr b="0" lang="en-US" sz="1100" spc="-1" strike="noStrike">
                <a:solidFill>
                  <a:srgbClr val="000000"/>
                </a:solidFill>
                <a:latin typeface="Times New Roman"/>
              </a:endParaRPr>
            </a:p>
          </p:txBody>
        </p:sp>
        <p:sp>
          <p:nvSpPr>
            <p:cNvPr id="1234" name=""/>
            <p:cNvSpPr/>
            <p:nvPr/>
          </p:nvSpPr>
          <p:spPr>
            <a:xfrm>
              <a:off x="3040560" y="2578320"/>
              <a:ext cx="5616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Language</a:t>
              </a:r>
              <a:endParaRPr b="0" lang="en-US" sz="1100" spc="-1" strike="noStrike">
                <a:solidFill>
                  <a:srgbClr val="000000"/>
                </a:solidFill>
                <a:latin typeface="Times New Roman"/>
              </a:endParaRPr>
            </a:p>
          </p:txBody>
        </p:sp>
        <p:sp>
          <p:nvSpPr>
            <p:cNvPr id="1235" name=""/>
            <p:cNvSpPr/>
            <p:nvPr/>
          </p:nvSpPr>
          <p:spPr>
            <a:xfrm>
              <a:off x="3576600" y="254808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36" name=""/>
            <p:cNvSpPr/>
            <p:nvPr/>
          </p:nvSpPr>
          <p:spPr>
            <a:xfrm>
              <a:off x="3471120" y="2425680"/>
              <a:ext cx="898920" cy="25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3757680" y="2429640"/>
              <a:ext cx="3999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rings</a:t>
              </a:r>
              <a:endParaRPr b="0" lang="en-US" sz="1100" spc="-1" strike="noStrike">
                <a:solidFill>
                  <a:srgbClr val="000000"/>
                </a:solidFill>
                <a:latin typeface="Times New Roman"/>
              </a:endParaRPr>
            </a:p>
          </p:txBody>
        </p:sp>
        <p:sp>
          <p:nvSpPr>
            <p:cNvPr id="1238" name=""/>
            <p:cNvSpPr/>
            <p:nvPr/>
          </p:nvSpPr>
          <p:spPr>
            <a:xfrm>
              <a:off x="4134960" y="24156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grpSp>
          <p:nvGrpSpPr>
            <p:cNvPr id="1239" name=""/>
            <p:cNvGrpSpPr/>
            <p:nvPr/>
          </p:nvGrpSpPr>
          <p:grpSpPr>
            <a:xfrm>
              <a:off x="3279960" y="685440"/>
              <a:ext cx="2439000" cy="234000"/>
              <a:chOff x="3279960" y="685440"/>
              <a:chExt cx="2439000" cy="234000"/>
            </a:xfrm>
          </p:grpSpPr>
          <p:sp>
            <p:nvSpPr>
              <p:cNvPr id="1240" name=""/>
              <p:cNvSpPr/>
              <p:nvPr/>
            </p:nvSpPr>
            <p:spPr>
              <a:xfrm>
                <a:off x="3279960" y="685440"/>
                <a:ext cx="593640" cy="234000"/>
              </a:xfrm>
              <a:custGeom>
                <a:avLst/>
                <a:gdLst/>
                <a:ahLst/>
                <a:rect l="l" t="t" r="r" b="b"/>
                <a:pathLst>
                  <a:path w="807" h="327">
                    <a:moveTo>
                      <a:pt x="807" y="31"/>
                    </a:moveTo>
                    <a:lnTo>
                      <a:pt x="795" y="0"/>
                    </a:lnTo>
                    <a:lnTo>
                      <a:pt x="0" y="296"/>
                    </a:lnTo>
                    <a:lnTo>
                      <a:pt x="12" y="327"/>
                    </a:lnTo>
                    <a:lnTo>
                      <a:pt x="807"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5125320" y="685440"/>
                <a:ext cx="593640" cy="234000"/>
              </a:xfrm>
              <a:custGeom>
                <a:avLst/>
                <a:gdLst/>
                <a:ahLst/>
                <a:rect l="l" t="t" r="r" b="b"/>
                <a:pathLst>
                  <a:path w="808" h="327">
                    <a:moveTo>
                      <a:pt x="12" y="0"/>
                    </a:moveTo>
                    <a:lnTo>
                      <a:pt x="0" y="31"/>
                    </a:lnTo>
                    <a:lnTo>
                      <a:pt x="796" y="327"/>
                    </a:lnTo>
                    <a:lnTo>
                      <a:pt x="808" y="296"/>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2" name=""/>
            <p:cNvSpPr/>
            <p:nvPr/>
          </p:nvSpPr>
          <p:spPr>
            <a:xfrm flipH="1">
              <a:off x="972720" y="1206360"/>
              <a:ext cx="1350360" cy="43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516480" y="1212120"/>
              <a:ext cx="648000" cy="428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274200" y="1206360"/>
              <a:ext cx="80280" cy="43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flipH="1">
              <a:off x="1930680" y="1212120"/>
              <a:ext cx="633240" cy="426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flipH="1">
              <a:off x="2770200" y="1206360"/>
              <a:ext cx="111600" cy="43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flipH="1">
              <a:off x="5544360" y="1206360"/>
              <a:ext cx="149760" cy="43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061040" y="1206360"/>
              <a:ext cx="866520" cy="44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787440" y="1212120"/>
              <a:ext cx="273240" cy="43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6248160" y="1212120"/>
              <a:ext cx="147960" cy="43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flipV="1">
              <a:off x="1230120" y="2032560"/>
              <a:ext cx="495000" cy="345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flipH="1" flipV="1">
              <a:off x="1980720" y="2026800"/>
              <a:ext cx="353880" cy="368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3195000" y="1844640"/>
              <a:ext cx="199440" cy="543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3648960" y="1844640"/>
              <a:ext cx="186480" cy="543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5059440" y="1850400"/>
              <a:ext cx="466920" cy="537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756040" y="1850400"/>
              <a:ext cx="442080" cy="537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flipH="1">
              <a:off x="7104960" y="1844640"/>
              <a:ext cx="155520" cy="543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7453080" y="1855800"/>
              <a:ext cx="155520" cy="543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9" name=""/>
            <p:cNvGrpSpPr/>
            <p:nvPr/>
          </p:nvGrpSpPr>
          <p:grpSpPr>
            <a:xfrm>
              <a:off x="707040" y="2808000"/>
              <a:ext cx="961920" cy="159480"/>
              <a:chOff x="707040" y="2808000"/>
              <a:chExt cx="961920" cy="159480"/>
            </a:xfrm>
          </p:grpSpPr>
          <p:sp>
            <p:nvSpPr>
              <p:cNvPr id="1260" name=""/>
              <p:cNvSpPr/>
              <p:nvPr/>
            </p:nvSpPr>
            <p:spPr>
              <a:xfrm flipH="1">
                <a:off x="707040" y="2808000"/>
                <a:ext cx="488880" cy="159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1278360" y="2808000"/>
                <a:ext cx="390600" cy="159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2" name=""/>
            <p:cNvSpPr/>
            <p:nvPr/>
          </p:nvSpPr>
          <p:spPr>
            <a:xfrm flipH="1">
              <a:off x="4736160" y="2601000"/>
              <a:ext cx="193680" cy="373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5159160" y="2605320"/>
              <a:ext cx="192600" cy="374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H="1">
              <a:off x="5936400" y="2601000"/>
              <a:ext cx="192600" cy="373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6358680" y="2605320"/>
              <a:ext cx="193680" cy="374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50640" y="188640"/>
            <a:ext cx="8258040" cy="235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e have created the first symbolic representation of time series, that allows…</a:t>
            </a:r>
            <a:endParaRPr b="0" lang="en-US" sz="4800" spc="-1" strike="noStrike">
              <a:solidFill>
                <a:srgbClr val="000000"/>
              </a:solidFill>
              <a:latin typeface="Times New Roman"/>
            </a:endParaRPr>
          </a:p>
        </p:txBody>
      </p:sp>
      <p:sp>
        <p:nvSpPr>
          <p:cNvPr id="1267" name=""/>
          <p:cNvSpPr/>
          <p:nvPr/>
        </p:nvSpPr>
        <p:spPr>
          <a:xfrm>
            <a:off x="1165680" y="3591000"/>
            <a:ext cx="6746040" cy="1556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ower bounding of Euclidean distance</a:t>
            </a:r>
            <a:endParaRPr b="0" lang="en-US" sz="3200" spc="-1" strike="noStrike">
              <a:solidFill>
                <a:srgbClr val="000000"/>
              </a:solidFill>
              <a:latin typeface="Times New Roman"/>
            </a:endParaRPr>
          </a:p>
          <a:p>
            <a:pPr>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 </a:t>
            </a:r>
            <a:r>
              <a:rPr b="0" lang="en-US" sz="3200" spc="-1" strike="noStrike">
                <a:solidFill>
                  <a:srgbClr val="000000"/>
                </a:solidFill>
                <a:latin typeface="Times New Roman"/>
              </a:rPr>
              <a:t>Dimensionality Reduction</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umerosity Reduc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08000" y="374400"/>
            <a:ext cx="90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call our representation SAX</a:t>
            </a:r>
            <a:br>
              <a:rPr sz="4400"/>
            </a:br>
            <a:r>
              <a:rPr b="1" lang="en-US" sz="4400" spc="-1" strike="noStrike">
                <a:solidFill>
                  <a:srgbClr val="000000"/>
                </a:solidFill>
                <a:latin typeface="Times New Roman"/>
              </a:rPr>
              <a:t>S</a:t>
            </a:r>
            <a:r>
              <a:rPr b="0" lang="en-US" sz="4400" spc="-1" strike="noStrike">
                <a:solidFill>
                  <a:srgbClr val="000000"/>
                </a:solidFill>
                <a:latin typeface="Times New Roman"/>
              </a:rPr>
              <a:t>ymbolic </a:t>
            </a:r>
            <a:r>
              <a:rPr b="1" lang="en-US" sz="4800" spc="-1" strike="noStrike">
                <a:solidFill>
                  <a:srgbClr val="000000"/>
                </a:solidFill>
                <a:latin typeface="Times New Roman"/>
              </a:rPr>
              <a:t>A</a:t>
            </a:r>
            <a:r>
              <a:rPr b="0" lang="en-US" sz="4400" spc="-1" strike="noStrike">
                <a:solidFill>
                  <a:srgbClr val="000000"/>
                </a:solidFill>
                <a:latin typeface="Times New Roman"/>
              </a:rPr>
              <a:t>ggregate Appro</a:t>
            </a:r>
            <a:r>
              <a:rPr b="1" lang="en-US" sz="4400" spc="-1" strike="noStrike">
                <a:solidFill>
                  <a:srgbClr val="000000"/>
                </a:solidFill>
                <a:latin typeface="Times New Roman"/>
              </a:rPr>
              <a:t>X</a:t>
            </a:r>
            <a:r>
              <a:rPr b="0" lang="en-US" sz="4400" spc="-1" strike="noStrike">
                <a:solidFill>
                  <a:srgbClr val="000000"/>
                </a:solidFill>
                <a:latin typeface="Times New Roman"/>
              </a:rPr>
              <a:t>imation</a:t>
            </a:r>
            <a:endParaRPr b="0" lang="en-US" sz="4400" spc="-1" strike="noStrike">
              <a:solidFill>
                <a:srgbClr val="000000"/>
              </a:solidFill>
              <a:latin typeface="Times New Roman"/>
            </a:endParaRPr>
          </a:p>
        </p:txBody>
      </p:sp>
      <p:pic>
        <p:nvPicPr>
          <p:cNvPr id="1269" name="lisa_sax" descr=""/>
          <p:cNvPicPr/>
          <p:nvPr/>
        </p:nvPicPr>
        <p:blipFill>
          <a:blip r:embed="rId1"/>
          <a:stretch/>
        </p:blipFill>
        <p:spPr>
          <a:xfrm>
            <a:off x="406440" y="2295360"/>
            <a:ext cx="2701800" cy="3799080"/>
          </a:xfrm>
          <a:prstGeom prst="rect">
            <a:avLst/>
          </a:prstGeom>
          <a:ln w="0">
            <a:noFill/>
          </a:ln>
        </p:spPr>
      </p:pic>
      <p:sp>
        <p:nvSpPr>
          <p:cNvPr id="1270" name=""/>
          <p:cNvSpPr/>
          <p:nvPr/>
        </p:nvSpPr>
        <p:spPr>
          <a:xfrm>
            <a:off x="4983120" y="2903400"/>
            <a:ext cx="2220840" cy="1109880"/>
          </a:xfrm>
          <a:custGeom>
            <a:avLst/>
            <a:gdLst/>
            <a:ahLst/>
            <a:rect l="l" t="t" r="r" b="b"/>
            <a:pathLst>
              <a:path w="4198" h="2098">
                <a:moveTo>
                  <a:pt x="0" y="727"/>
                </a:moveTo>
                <a:lnTo>
                  <a:pt x="31" y="683"/>
                </a:lnTo>
                <a:lnTo>
                  <a:pt x="63" y="663"/>
                </a:lnTo>
                <a:lnTo>
                  <a:pt x="95" y="643"/>
                </a:lnTo>
                <a:lnTo>
                  <a:pt x="126" y="650"/>
                </a:lnTo>
                <a:lnTo>
                  <a:pt x="159" y="676"/>
                </a:lnTo>
                <a:lnTo>
                  <a:pt x="191" y="727"/>
                </a:lnTo>
                <a:lnTo>
                  <a:pt x="223" y="805"/>
                </a:lnTo>
                <a:lnTo>
                  <a:pt x="254" y="870"/>
                </a:lnTo>
                <a:lnTo>
                  <a:pt x="299" y="922"/>
                </a:lnTo>
                <a:lnTo>
                  <a:pt x="331" y="968"/>
                </a:lnTo>
                <a:lnTo>
                  <a:pt x="362" y="1033"/>
                </a:lnTo>
                <a:lnTo>
                  <a:pt x="394" y="1098"/>
                </a:lnTo>
                <a:lnTo>
                  <a:pt x="427" y="1162"/>
                </a:lnTo>
                <a:lnTo>
                  <a:pt x="459" y="1229"/>
                </a:lnTo>
                <a:lnTo>
                  <a:pt x="491" y="1293"/>
                </a:lnTo>
                <a:lnTo>
                  <a:pt x="522" y="1358"/>
                </a:lnTo>
                <a:lnTo>
                  <a:pt x="554" y="1403"/>
                </a:lnTo>
                <a:lnTo>
                  <a:pt x="587" y="1462"/>
                </a:lnTo>
                <a:lnTo>
                  <a:pt x="629" y="1532"/>
                </a:lnTo>
                <a:lnTo>
                  <a:pt x="661" y="1612"/>
                </a:lnTo>
                <a:lnTo>
                  <a:pt x="692" y="1676"/>
                </a:lnTo>
                <a:lnTo>
                  <a:pt x="725" y="1728"/>
                </a:lnTo>
                <a:lnTo>
                  <a:pt x="757" y="1761"/>
                </a:lnTo>
                <a:lnTo>
                  <a:pt x="789" y="1780"/>
                </a:lnTo>
                <a:lnTo>
                  <a:pt x="822" y="1832"/>
                </a:lnTo>
                <a:lnTo>
                  <a:pt x="854" y="1891"/>
                </a:lnTo>
                <a:lnTo>
                  <a:pt x="887" y="1923"/>
                </a:lnTo>
                <a:lnTo>
                  <a:pt x="918" y="1962"/>
                </a:lnTo>
                <a:lnTo>
                  <a:pt x="960" y="1988"/>
                </a:lnTo>
                <a:lnTo>
                  <a:pt x="992" y="2015"/>
                </a:lnTo>
                <a:lnTo>
                  <a:pt x="1025" y="2034"/>
                </a:lnTo>
                <a:lnTo>
                  <a:pt x="1057" y="2047"/>
                </a:lnTo>
                <a:lnTo>
                  <a:pt x="1088" y="2073"/>
                </a:lnTo>
                <a:lnTo>
                  <a:pt x="1120" y="2093"/>
                </a:lnTo>
                <a:lnTo>
                  <a:pt x="1153" y="2098"/>
                </a:lnTo>
                <a:lnTo>
                  <a:pt x="1185" y="2093"/>
                </a:lnTo>
                <a:lnTo>
                  <a:pt x="1217" y="2065"/>
                </a:lnTo>
                <a:lnTo>
                  <a:pt x="1248" y="2039"/>
                </a:lnTo>
                <a:lnTo>
                  <a:pt x="1292" y="2015"/>
                </a:lnTo>
                <a:lnTo>
                  <a:pt x="1325" y="1988"/>
                </a:lnTo>
                <a:lnTo>
                  <a:pt x="1356" y="1956"/>
                </a:lnTo>
                <a:lnTo>
                  <a:pt x="1388" y="1917"/>
                </a:lnTo>
                <a:lnTo>
                  <a:pt x="1420" y="1864"/>
                </a:lnTo>
                <a:lnTo>
                  <a:pt x="1453" y="1826"/>
                </a:lnTo>
                <a:lnTo>
                  <a:pt x="1485" y="1767"/>
                </a:lnTo>
                <a:lnTo>
                  <a:pt x="1516" y="1715"/>
                </a:lnTo>
                <a:lnTo>
                  <a:pt x="1548" y="1651"/>
                </a:lnTo>
                <a:lnTo>
                  <a:pt x="1580" y="1573"/>
                </a:lnTo>
                <a:lnTo>
                  <a:pt x="1623" y="1501"/>
                </a:lnTo>
                <a:lnTo>
                  <a:pt x="1655" y="1429"/>
                </a:lnTo>
                <a:lnTo>
                  <a:pt x="1688" y="1345"/>
                </a:lnTo>
                <a:lnTo>
                  <a:pt x="1719" y="1280"/>
                </a:lnTo>
                <a:lnTo>
                  <a:pt x="1752" y="1229"/>
                </a:lnTo>
                <a:lnTo>
                  <a:pt x="1784" y="1170"/>
                </a:lnTo>
                <a:lnTo>
                  <a:pt x="1816" y="1092"/>
                </a:lnTo>
                <a:lnTo>
                  <a:pt x="1848" y="1007"/>
                </a:lnTo>
                <a:lnTo>
                  <a:pt x="1879" y="897"/>
                </a:lnTo>
                <a:lnTo>
                  <a:pt x="1912" y="779"/>
                </a:lnTo>
                <a:lnTo>
                  <a:pt x="1954" y="655"/>
                </a:lnTo>
                <a:lnTo>
                  <a:pt x="1986" y="546"/>
                </a:lnTo>
                <a:lnTo>
                  <a:pt x="2017" y="467"/>
                </a:lnTo>
                <a:lnTo>
                  <a:pt x="2051" y="396"/>
                </a:lnTo>
                <a:lnTo>
                  <a:pt x="2082" y="330"/>
                </a:lnTo>
                <a:lnTo>
                  <a:pt x="2114" y="259"/>
                </a:lnTo>
                <a:lnTo>
                  <a:pt x="2146" y="187"/>
                </a:lnTo>
                <a:lnTo>
                  <a:pt x="2179" y="136"/>
                </a:lnTo>
                <a:lnTo>
                  <a:pt x="2210" y="104"/>
                </a:lnTo>
                <a:lnTo>
                  <a:pt x="2244" y="78"/>
                </a:lnTo>
                <a:lnTo>
                  <a:pt x="2285" y="52"/>
                </a:lnTo>
                <a:lnTo>
                  <a:pt x="2317" y="20"/>
                </a:lnTo>
                <a:lnTo>
                  <a:pt x="2350" y="0"/>
                </a:lnTo>
                <a:lnTo>
                  <a:pt x="2382" y="13"/>
                </a:lnTo>
                <a:lnTo>
                  <a:pt x="2414" y="20"/>
                </a:lnTo>
                <a:lnTo>
                  <a:pt x="2445" y="52"/>
                </a:lnTo>
                <a:lnTo>
                  <a:pt x="2478" y="85"/>
                </a:lnTo>
                <a:lnTo>
                  <a:pt x="2510" y="110"/>
                </a:lnTo>
                <a:lnTo>
                  <a:pt x="2542" y="117"/>
                </a:lnTo>
                <a:lnTo>
                  <a:pt x="2573" y="98"/>
                </a:lnTo>
                <a:lnTo>
                  <a:pt x="2618" y="104"/>
                </a:lnTo>
                <a:lnTo>
                  <a:pt x="2650" y="130"/>
                </a:lnTo>
                <a:lnTo>
                  <a:pt x="2681" y="176"/>
                </a:lnTo>
                <a:lnTo>
                  <a:pt x="2713" y="234"/>
                </a:lnTo>
                <a:lnTo>
                  <a:pt x="2745" y="298"/>
                </a:lnTo>
                <a:lnTo>
                  <a:pt x="2778" y="376"/>
                </a:lnTo>
                <a:lnTo>
                  <a:pt x="2810" y="429"/>
                </a:lnTo>
                <a:lnTo>
                  <a:pt x="2841" y="461"/>
                </a:lnTo>
                <a:lnTo>
                  <a:pt x="2873" y="494"/>
                </a:lnTo>
                <a:lnTo>
                  <a:pt x="2906" y="532"/>
                </a:lnTo>
                <a:lnTo>
                  <a:pt x="2948" y="578"/>
                </a:lnTo>
                <a:lnTo>
                  <a:pt x="2980" y="618"/>
                </a:lnTo>
                <a:lnTo>
                  <a:pt x="3011" y="663"/>
                </a:lnTo>
                <a:lnTo>
                  <a:pt x="3043" y="696"/>
                </a:lnTo>
                <a:lnTo>
                  <a:pt x="3076" y="727"/>
                </a:lnTo>
                <a:lnTo>
                  <a:pt x="3109" y="733"/>
                </a:lnTo>
                <a:lnTo>
                  <a:pt x="3141" y="774"/>
                </a:lnTo>
                <a:lnTo>
                  <a:pt x="3173" y="792"/>
                </a:lnTo>
                <a:lnTo>
                  <a:pt x="3206" y="812"/>
                </a:lnTo>
                <a:lnTo>
                  <a:pt x="3237" y="825"/>
                </a:lnTo>
                <a:lnTo>
                  <a:pt x="3279" y="805"/>
                </a:lnTo>
                <a:lnTo>
                  <a:pt x="3311" y="774"/>
                </a:lnTo>
                <a:lnTo>
                  <a:pt x="3344" y="748"/>
                </a:lnTo>
                <a:lnTo>
                  <a:pt x="3376" y="740"/>
                </a:lnTo>
                <a:lnTo>
                  <a:pt x="3407" y="753"/>
                </a:lnTo>
                <a:lnTo>
                  <a:pt x="3439" y="748"/>
                </a:lnTo>
                <a:lnTo>
                  <a:pt x="3471" y="733"/>
                </a:lnTo>
                <a:lnTo>
                  <a:pt x="3504" y="707"/>
                </a:lnTo>
                <a:lnTo>
                  <a:pt x="3536" y="676"/>
                </a:lnTo>
                <a:lnTo>
                  <a:pt x="3567" y="631"/>
                </a:lnTo>
                <a:lnTo>
                  <a:pt x="3611" y="604"/>
                </a:lnTo>
                <a:lnTo>
                  <a:pt x="3644" y="596"/>
                </a:lnTo>
                <a:lnTo>
                  <a:pt x="3675" y="596"/>
                </a:lnTo>
                <a:lnTo>
                  <a:pt x="3707" y="604"/>
                </a:lnTo>
                <a:lnTo>
                  <a:pt x="3739" y="604"/>
                </a:lnTo>
                <a:lnTo>
                  <a:pt x="3770" y="591"/>
                </a:lnTo>
                <a:lnTo>
                  <a:pt x="3804" y="559"/>
                </a:lnTo>
                <a:lnTo>
                  <a:pt x="3835" y="513"/>
                </a:lnTo>
                <a:lnTo>
                  <a:pt x="3867" y="474"/>
                </a:lnTo>
                <a:lnTo>
                  <a:pt x="3899" y="435"/>
                </a:lnTo>
                <a:lnTo>
                  <a:pt x="3942" y="416"/>
                </a:lnTo>
                <a:lnTo>
                  <a:pt x="3975" y="383"/>
                </a:lnTo>
                <a:lnTo>
                  <a:pt x="4007" y="357"/>
                </a:lnTo>
                <a:lnTo>
                  <a:pt x="4038" y="344"/>
                </a:lnTo>
                <a:lnTo>
                  <a:pt x="4070" y="352"/>
                </a:lnTo>
                <a:lnTo>
                  <a:pt x="4103" y="383"/>
                </a:lnTo>
                <a:lnTo>
                  <a:pt x="4135" y="422"/>
                </a:lnTo>
                <a:lnTo>
                  <a:pt x="4167" y="454"/>
                </a:lnTo>
                <a:lnTo>
                  <a:pt x="4198" y="494"/>
                </a:lnTo>
              </a:path>
            </a:pathLst>
          </a:custGeom>
          <a:noFill/>
          <a:ln w="316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4873680" y="5129280"/>
            <a:ext cx="3070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abccbc</a:t>
            </a:r>
            <a:endParaRPr b="0" lang="en-US" sz="4400" spc="-1" strike="noStrike">
              <a:solidFill>
                <a:srgbClr val="000000"/>
              </a:solidFill>
              <a:latin typeface="Times New Roman"/>
            </a:endParaRPr>
          </a:p>
        </p:txBody>
      </p:sp>
      <p:sp>
        <p:nvSpPr>
          <p:cNvPr id="1272" name=""/>
          <p:cNvSpPr/>
          <p:nvPr/>
        </p:nvSpPr>
        <p:spPr>
          <a:xfrm flipV="1">
            <a:off x="5932440" y="4352760"/>
            <a:ext cx="544680" cy="579600"/>
          </a:xfrm>
          <a:prstGeom prst="upArrow">
            <a:avLst>
              <a:gd name="adj1" fmla="val 50000"/>
              <a:gd name="adj2" fmla="val 26603"/>
            </a:avLst>
          </a:prstGeom>
          <a:solidFill>
            <a:srgbClr val="ff00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1877760" y="-360"/>
            <a:ext cx="696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we obtain SAX?</a:t>
            </a:r>
            <a:endParaRPr b="0" lang="en-US" sz="4400" spc="-1" strike="noStrike">
              <a:solidFill>
                <a:srgbClr val="000000"/>
              </a:solidFill>
              <a:latin typeface="Times New Roman"/>
            </a:endParaRPr>
          </a:p>
        </p:txBody>
      </p:sp>
      <p:sp>
        <p:nvSpPr>
          <p:cNvPr id="1274" name=""/>
          <p:cNvSpPr/>
          <p:nvPr/>
        </p:nvSpPr>
        <p:spPr>
          <a:xfrm>
            <a:off x="3855960" y="1244520"/>
            <a:ext cx="4206960" cy="1414440"/>
          </a:xfrm>
          <a:prstGeom prst="rect">
            <a:avLst/>
          </a:prstGeom>
          <a:noFill/>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3854520" y="2658960"/>
            <a:ext cx="42084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6" name=""/>
          <p:cNvSpPr/>
          <p:nvPr/>
        </p:nvSpPr>
        <p:spPr>
          <a:xfrm flipV="1">
            <a:off x="3854520" y="1244160"/>
            <a:ext cx="1440" cy="14144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854520" y="2658960"/>
            <a:ext cx="42084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8" name=""/>
          <p:cNvSpPr/>
          <p:nvPr/>
        </p:nvSpPr>
        <p:spPr>
          <a:xfrm flipV="1">
            <a:off x="3854520" y="1244160"/>
            <a:ext cx="1440" cy="14144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flipV="1">
            <a:off x="3854520" y="2638080"/>
            <a:ext cx="144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0" name=""/>
          <p:cNvSpPr/>
          <p:nvPr/>
        </p:nvSpPr>
        <p:spPr>
          <a:xfrm>
            <a:off x="3827520" y="2689200"/>
            <a:ext cx="14616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3858840" y="26906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282" name=""/>
          <p:cNvSpPr/>
          <p:nvPr/>
        </p:nvSpPr>
        <p:spPr>
          <a:xfrm>
            <a:off x="3911040" y="2690640"/>
            <a:ext cx="205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sp>
        <p:nvSpPr>
          <p:cNvPr id="1283" name=""/>
          <p:cNvSpPr/>
          <p:nvPr/>
        </p:nvSpPr>
        <p:spPr>
          <a:xfrm flipV="1">
            <a:off x="4456080" y="263808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4" name=""/>
          <p:cNvSpPr/>
          <p:nvPr/>
        </p:nvSpPr>
        <p:spPr>
          <a:xfrm>
            <a:off x="4387680" y="2689200"/>
            <a:ext cx="23508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4429080" y="269064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Times New Roman"/>
            </a:endParaRPr>
          </a:p>
        </p:txBody>
      </p:sp>
      <p:sp>
        <p:nvSpPr>
          <p:cNvPr id="1286" name=""/>
          <p:cNvSpPr/>
          <p:nvPr/>
        </p:nvSpPr>
        <p:spPr>
          <a:xfrm>
            <a:off x="4573440" y="25938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87" name=""/>
          <p:cNvSpPr/>
          <p:nvPr/>
        </p:nvSpPr>
        <p:spPr>
          <a:xfrm flipV="1">
            <a:off x="5056200" y="2638080"/>
            <a:ext cx="144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8" name=""/>
          <p:cNvSpPr/>
          <p:nvPr/>
        </p:nvSpPr>
        <p:spPr>
          <a:xfrm>
            <a:off x="4991040" y="2689200"/>
            <a:ext cx="23328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5032440" y="269064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0</a:t>
            </a:r>
            <a:endParaRPr b="0" lang="en-US" sz="600" spc="-1" strike="noStrike">
              <a:solidFill>
                <a:srgbClr val="000000"/>
              </a:solidFill>
              <a:latin typeface="Times New Roman"/>
            </a:endParaRPr>
          </a:p>
        </p:txBody>
      </p:sp>
      <p:sp>
        <p:nvSpPr>
          <p:cNvPr id="1290" name=""/>
          <p:cNvSpPr/>
          <p:nvPr/>
        </p:nvSpPr>
        <p:spPr>
          <a:xfrm>
            <a:off x="5139720" y="2690640"/>
            <a:ext cx="21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291" name=""/>
          <p:cNvSpPr/>
          <p:nvPr/>
        </p:nvSpPr>
        <p:spPr>
          <a:xfrm flipV="1">
            <a:off x="5657760" y="263808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2" name=""/>
          <p:cNvSpPr/>
          <p:nvPr/>
        </p:nvSpPr>
        <p:spPr>
          <a:xfrm>
            <a:off x="5591160" y="2689200"/>
            <a:ext cx="23328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5632560" y="269064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0</a:t>
            </a:r>
            <a:endParaRPr b="0" lang="en-US" sz="600" spc="-1" strike="noStrike">
              <a:solidFill>
                <a:srgbClr val="000000"/>
              </a:solidFill>
              <a:latin typeface="Times New Roman"/>
            </a:endParaRPr>
          </a:p>
        </p:txBody>
      </p:sp>
      <p:sp>
        <p:nvSpPr>
          <p:cNvPr id="1294" name=""/>
          <p:cNvSpPr/>
          <p:nvPr/>
        </p:nvSpPr>
        <p:spPr>
          <a:xfrm>
            <a:off x="5775120" y="25938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95" name=""/>
          <p:cNvSpPr/>
          <p:nvPr/>
        </p:nvSpPr>
        <p:spPr>
          <a:xfrm flipV="1">
            <a:off x="6259680" y="2638080"/>
            <a:ext cx="288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6" name=""/>
          <p:cNvSpPr/>
          <p:nvPr/>
        </p:nvSpPr>
        <p:spPr>
          <a:xfrm>
            <a:off x="6192720" y="2689200"/>
            <a:ext cx="23364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6234120" y="269064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0</a:t>
            </a:r>
            <a:endParaRPr b="0" lang="en-US" sz="600" spc="-1" strike="noStrike">
              <a:solidFill>
                <a:srgbClr val="000000"/>
              </a:solidFill>
              <a:latin typeface="Times New Roman"/>
            </a:endParaRPr>
          </a:p>
        </p:txBody>
      </p:sp>
      <p:sp>
        <p:nvSpPr>
          <p:cNvPr id="1298" name=""/>
          <p:cNvSpPr/>
          <p:nvPr/>
        </p:nvSpPr>
        <p:spPr>
          <a:xfrm>
            <a:off x="6341400" y="2690640"/>
            <a:ext cx="21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299" name=""/>
          <p:cNvSpPr/>
          <p:nvPr/>
        </p:nvSpPr>
        <p:spPr>
          <a:xfrm flipV="1">
            <a:off x="6861240" y="2638080"/>
            <a:ext cx="144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0" name=""/>
          <p:cNvSpPr/>
          <p:nvPr/>
        </p:nvSpPr>
        <p:spPr>
          <a:xfrm>
            <a:off x="6764400" y="2689200"/>
            <a:ext cx="30960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6813720" y="2690640"/>
            <a:ext cx="1288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0</a:t>
            </a:r>
            <a:endParaRPr b="0" lang="en-US" sz="600" spc="-1" strike="noStrike">
              <a:solidFill>
                <a:srgbClr val="000000"/>
              </a:solidFill>
              <a:latin typeface="Times New Roman"/>
            </a:endParaRPr>
          </a:p>
        </p:txBody>
      </p:sp>
      <p:sp>
        <p:nvSpPr>
          <p:cNvPr id="1302" name=""/>
          <p:cNvSpPr/>
          <p:nvPr/>
        </p:nvSpPr>
        <p:spPr>
          <a:xfrm>
            <a:off x="6971760" y="2690640"/>
            <a:ext cx="21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303" name=""/>
          <p:cNvSpPr/>
          <p:nvPr/>
        </p:nvSpPr>
        <p:spPr>
          <a:xfrm flipV="1">
            <a:off x="7461360" y="2638080"/>
            <a:ext cx="324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4" name=""/>
          <p:cNvSpPr/>
          <p:nvPr/>
        </p:nvSpPr>
        <p:spPr>
          <a:xfrm>
            <a:off x="7364520" y="2689200"/>
            <a:ext cx="31248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413480" y="2690640"/>
            <a:ext cx="1288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0</a:t>
            </a:r>
            <a:endParaRPr b="0" lang="en-US" sz="600" spc="-1" strike="noStrike">
              <a:solidFill>
                <a:srgbClr val="000000"/>
              </a:solidFill>
              <a:latin typeface="Times New Roman"/>
            </a:endParaRPr>
          </a:p>
        </p:txBody>
      </p:sp>
      <p:sp>
        <p:nvSpPr>
          <p:cNvPr id="1306" name=""/>
          <p:cNvSpPr/>
          <p:nvPr/>
        </p:nvSpPr>
        <p:spPr>
          <a:xfrm>
            <a:off x="7573320" y="2690640"/>
            <a:ext cx="21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307" name=""/>
          <p:cNvSpPr/>
          <p:nvPr/>
        </p:nvSpPr>
        <p:spPr>
          <a:xfrm flipV="1">
            <a:off x="8062920" y="2638080"/>
            <a:ext cx="144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8" name=""/>
          <p:cNvSpPr/>
          <p:nvPr/>
        </p:nvSpPr>
        <p:spPr>
          <a:xfrm>
            <a:off x="3854520" y="2658960"/>
            <a:ext cx="396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9" name=""/>
          <p:cNvSpPr/>
          <p:nvPr/>
        </p:nvSpPr>
        <p:spPr>
          <a:xfrm flipH="1">
            <a:off x="8015400" y="2658960"/>
            <a:ext cx="475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0" name=""/>
          <p:cNvSpPr/>
          <p:nvPr/>
        </p:nvSpPr>
        <p:spPr>
          <a:xfrm>
            <a:off x="3854520" y="2455920"/>
            <a:ext cx="396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1" name=""/>
          <p:cNvSpPr/>
          <p:nvPr/>
        </p:nvSpPr>
        <p:spPr>
          <a:xfrm>
            <a:off x="3513240" y="2411280"/>
            <a:ext cx="32040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3765240" y="231624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13" name=""/>
          <p:cNvSpPr/>
          <p:nvPr/>
        </p:nvSpPr>
        <p:spPr>
          <a:xfrm>
            <a:off x="3854520" y="2252520"/>
            <a:ext cx="396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4" name=""/>
          <p:cNvSpPr/>
          <p:nvPr/>
        </p:nvSpPr>
        <p:spPr>
          <a:xfrm>
            <a:off x="3682800" y="211464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15" name=""/>
          <p:cNvSpPr/>
          <p:nvPr/>
        </p:nvSpPr>
        <p:spPr>
          <a:xfrm>
            <a:off x="3854520" y="2050920"/>
            <a:ext cx="396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6" name=""/>
          <p:cNvSpPr/>
          <p:nvPr/>
        </p:nvSpPr>
        <p:spPr>
          <a:xfrm>
            <a:off x="3513240" y="2006640"/>
            <a:ext cx="32040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3765240" y="191124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18" name=""/>
          <p:cNvSpPr/>
          <p:nvPr/>
        </p:nvSpPr>
        <p:spPr>
          <a:xfrm>
            <a:off x="3854520" y="1847880"/>
            <a:ext cx="396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
          <p:cNvSpPr/>
          <p:nvPr/>
        </p:nvSpPr>
        <p:spPr>
          <a:xfrm>
            <a:off x="3686040" y="17082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20" name=""/>
          <p:cNvSpPr/>
          <p:nvPr/>
        </p:nvSpPr>
        <p:spPr>
          <a:xfrm>
            <a:off x="3854520" y="1644480"/>
            <a:ext cx="396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1" name=""/>
          <p:cNvSpPr/>
          <p:nvPr/>
        </p:nvSpPr>
        <p:spPr>
          <a:xfrm>
            <a:off x="3552840" y="1600200"/>
            <a:ext cx="27288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3767040" y="15048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23" name=""/>
          <p:cNvSpPr/>
          <p:nvPr/>
        </p:nvSpPr>
        <p:spPr>
          <a:xfrm>
            <a:off x="3854520" y="1442880"/>
            <a:ext cx="396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4" name=""/>
          <p:cNvSpPr/>
          <p:nvPr/>
        </p:nvSpPr>
        <p:spPr>
          <a:xfrm>
            <a:off x="3686040" y="13032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25" name=""/>
          <p:cNvSpPr/>
          <p:nvPr/>
        </p:nvSpPr>
        <p:spPr>
          <a:xfrm>
            <a:off x="3552840" y="1200240"/>
            <a:ext cx="27288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3767040" y="110484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27" name=""/>
          <p:cNvSpPr/>
          <p:nvPr/>
        </p:nvSpPr>
        <p:spPr>
          <a:xfrm>
            <a:off x="3854520" y="2658960"/>
            <a:ext cx="42084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8" name=""/>
          <p:cNvSpPr/>
          <p:nvPr/>
        </p:nvSpPr>
        <p:spPr>
          <a:xfrm flipV="1">
            <a:off x="3854520" y="1244160"/>
            <a:ext cx="1440" cy="14144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3886200" y="1311120"/>
            <a:ext cx="3808440" cy="1206720"/>
          </a:xfrm>
          <a:custGeom>
            <a:avLst/>
            <a:gdLst/>
            <a:ahLst/>
            <a:rect l="l" t="t" r="r" b="b"/>
            <a:pathLst>
              <a:path w="4798" h="1520">
                <a:moveTo>
                  <a:pt x="0" y="636"/>
                </a:moveTo>
                <a:lnTo>
                  <a:pt x="0" y="665"/>
                </a:lnTo>
                <a:lnTo>
                  <a:pt x="36" y="665"/>
                </a:lnTo>
                <a:lnTo>
                  <a:pt x="73" y="665"/>
                </a:lnTo>
                <a:lnTo>
                  <a:pt x="109" y="665"/>
                </a:lnTo>
                <a:lnTo>
                  <a:pt x="145" y="665"/>
                </a:lnTo>
                <a:lnTo>
                  <a:pt x="183" y="665"/>
                </a:lnTo>
                <a:lnTo>
                  <a:pt x="219" y="665"/>
                </a:lnTo>
                <a:lnTo>
                  <a:pt x="255" y="665"/>
                </a:lnTo>
                <a:lnTo>
                  <a:pt x="291" y="665"/>
                </a:lnTo>
                <a:lnTo>
                  <a:pt x="342" y="665"/>
                </a:lnTo>
                <a:lnTo>
                  <a:pt x="379" y="665"/>
                </a:lnTo>
                <a:lnTo>
                  <a:pt x="415" y="665"/>
                </a:lnTo>
                <a:lnTo>
                  <a:pt x="451" y="665"/>
                </a:lnTo>
                <a:lnTo>
                  <a:pt x="489" y="665"/>
                </a:lnTo>
                <a:lnTo>
                  <a:pt x="525" y="665"/>
                </a:lnTo>
                <a:lnTo>
                  <a:pt x="561" y="665"/>
                </a:lnTo>
                <a:lnTo>
                  <a:pt x="561" y="650"/>
                </a:lnTo>
                <a:lnTo>
                  <a:pt x="543" y="656"/>
                </a:lnTo>
                <a:lnTo>
                  <a:pt x="547" y="660"/>
                </a:lnTo>
                <a:lnTo>
                  <a:pt x="553" y="663"/>
                </a:lnTo>
                <a:lnTo>
                  <a:pt x="542" y="651"/>
                </a:lnTo>
                <a:lnTo>
                  <a:pt x="578" y="1344"/>
                </a:lnTo>
                <a:lnTo>
                  <a:pt x="579" y="1349"/>
                </a:lnTo>
                <a:lnTo>
                  <a:pt x="583" y="1353"/>
                </a:lnTo>
                <a:lnTo>
                  <a:pt x="589" y="1356"/>
                </a:lnTo>
                <a:lnTo>
                  <a:pt x="598" y="1358"/>
                </a:lnTo>
                <a:lnTo>
                  <a:pt x="634" y="1358"/>
                </a:lnTo>
                <a:lnTo>
                  <a:pt x="672" y="1358"/>
                </a:lnTo>
                <a:lnTo>
                  <a:pt x="719" y="1358"/>
                </a:lnTo>
                <a:lnTo>
                  <a:pt x="756" y="1358"/>
                </a:lnTo>
                <a:lnTo>
                  <a:pt x="792" y="1358"/>
                </a:lnTo>
                <a:lnTo>
                  <a:pt x="830" y="1358"/>
                </a:lnTo>
                <a:lnTo>
                  <a:pt x="866" y="1358"/>
                </a:lnTo>
                <a:lnTo>
                  <a:pt x="902" y="1358"/>
                </a:lnTo>
                <a:lnTo>
                  <a:pt x="940" y="1358"/>
                </a:lnTo>
                <a:lnTo>
                  <a:pt x="976" y="1358"/>
                </a:lnTo>
                <a:lnTo>
                  <a:pt x="1014" y="1358"/>
                </a:lnTo>
                <a:lnTo>
                  <a:pt x="1050" y="1358"/>
                </a:lnTo>
                <a:lnTo>
                  <a:pt x="1098" y="1358"/>
                </a:lnTo>
                <a:lnTo>
                  <a:pt x="1134" y="1358"/>
                </a:lnTo>
                <a:lnTo>
                  <a:pt x="1172" y="1358"/>
                </a:lnTo>
                <a:lnTo>
                  <a:pt x="1172" y="1343"/>
                </a:lnTo>
                <a:lnTo>
                  <a:pt x="1154" y="1349"/>
                </a:lnTo>
                <a:lnTo>
                  <a:pt x="1157" y="1353"/>
                </a:lnTo>
                <a:lnTo>
                  <a:pt x="1164" y="1356"/>
                </a:lnTo>
                <a:lnTo>
                  <a:pt x="1152" y="1345"/>
                </a:lnTo>
                <a:lnTo>
                  <a:pt x="1189" y="1507"/>
                </a:lnTo>
                <a:lnTo>
                  <a:pt x="1190" y="1510"/>
                </a:lnTo>
                <a:lnTo>
                  <a:pt x="1193" y="1515"/>
                </a:lnTo>
                <a:lnTo>
                  <a:pt x="1200" y="1517"/>
                </a:lnTo>
                <a:lnTo>
                  <a:pt x="1208" y="1520"/>
                </a:lnTo>
                <a:lnTo>
                  <a:pt x="1244" y="1520"/>
                </a:lnTo>
                <a:lnTo>
                  <a:pt x="1281" y="1520"/>
                </a:lnTo>
                <a:lnTo>
                  <a:pt x="1319" y="1520"/>
                </a:lnTo>
                <a:lnTo>
                  <a:pt x="1355" y="1520"/>
                </a:lnTo>
                <a:lnTo>
                  <a:pt x="1391" y="1520"/>
                </a:lnTo>
                <a:lnTo>
                  <a:pt x="1427" y="1520"/>
                </a:lnTo>
                <a:lnTo>
                  <a:pt x="1477" y="1520"/>
                </a:lnTo>
                <a:lnTo>
                  <a:pt x="1514" y="1520"/>
                </a:lnTo>
                <a:lnTo>
                  <a:pt x="1551" y="1520"/>
                </a:lnTo>
                <a:lnTo>
                  <a:pt x="1587" y="1520"/>
                </a:lnTo>
                <a:lnTo>
                  <a:pt x="1623" y="1520"/>
                </a:lnTo>
                <a:lnTo>
                  <a:pt x="1661" y="1520"/>
                </a:lnTo>
                <a:lnTo>
                  <a:pt x="1697" y="1520"/>
                </a:lnTo>
                <a:lnTo>
                  <a:pt x="1733" y="1520"/>
                </a:lnTo>
                <a:lnTo>
                  <a:pt x="1770" y="1520"/>
                </a:lnTo>
                <a:lnTo>
                  <a:pt x="1770" y="1518"/>
                </a:lnTo>
                <a:lnTo>
                  <a:pt x="1778" y="1517"/>
                </a:lnTo>
                <a:lnTo>
                  <a:pt x="1784" y="1515"/>
                </a:lnTo>
                <a:lnTo>
                  <a:pt x="1788" y="1510"/>
                </a:lnTo>
                <a:lnTo>
                  <a:pt x="1791" y="1506"/>
                </a:lnTo>
                <a:lnTo>
                  <a:pt x="1827" y="729"/>
                </a:lnTo>
                <a:lnTo>
                  <a:pt x="1806" y="727"/>
                </a:lnTo>
                <a:lnTo>
                  <a:pt x="1806" y="741"/>
                </a:lnTo>
                <a:lnTo>
                  <a:pt x="1814" y="740"/>
                </a:lnTo>
                <a:lnTo>
                  <a:pt x="1821" y="738"/>
                </a:lnTo>
                <a:lnTo>
                  <a:pt x="1824" y="733"/>
                </a:lnTo>
                <a:lnTo>
                  <a:pt x="1806" y="742"/>
                </a:lnTo>
                <a:lnTo>
                  <a:pt x="1855" y="742"/>
                </a:lnTo>
                <a:lnTo>
                  <a:pt x="1891" y="742"/>
                </a:lnTo>
                <a:lnTo>
                  <a:pt x="1929" y="742"/>
                </a:lnTo>
                <a:lnTo>
                  <a:pt x="1965" y="742"/>
                </a:lnTo>
                <a:lnTo>
                  <a:pt x="2003" y="742"/>
                </a:lnTo>
                <a:lnTo>
                  <a:pt x="2039" y="742"/>
                </a:lnTo>
                <a:lnTo>
                  <a:pt x="2076" y="742"/>
                </a:lnTo>
                <a:lnTo>
                  <a:pt x="2112" y="742"/>
                </a:lnTo>
                <a:lnTo>
                  <a:pt x="2148" y="742"/>
                </a:lnTo>
                <a:lnTo>
                  <a:pt x="2186" y="742"/>
                </a:lnTo>
                <a:lnTo>
                  <a:pt x="2234" y="742"/>
                </a:lnTo>
                <a:lnTo>
                  <a:pt x="2270" y="742"/>
                </a:lnTo>
                <a:lnTo>
                  <a:pt x="2306" y="742"/>
                </a:lnTo>
                <a:lnTo>
                  <a:pt x="2344" y="742"/>
                </a:lnTo>
                <a:lnTo>
                  <a:pt x="2380" y="742"/>
                </a:lnTo>
                <a:lnTo>
                  <a:pt x="2380" y="741"/>
                </a:lnTo>
                <a:lnTo>
                  <a:pt x="2388" y="740"/>
                </a:lnTo>
                <a:lnTo>
                  <a:pt x="2395" y="738"/>
                </a:lnTo>
                <a:lnTo>
                  <a:pt x="2398" y="733"/>
                </a:lnTo>
                <a:lnTo>
                  <a:pt x="2402" y="729"/>
                </a:lnTo>
                <a:lnTo>
                  <a:pt x="2438" y="15"/>
                </a:lnTo>
                <a:lnTo>
                  <a:pt x="2416" y="14"/>
                </a:lnTo>
                <a:lnTo>
                  <a:pt x="2416" y="28"/>
                </a:lnTo>
                <a:lnTo>
                  <a:pt x="2425" y="26"/>
                </a:lnTo>
                <a:lnTo>
                  <a:pt x="2431" y="24"/>
                </a:lnTo>
                <a:lnTo>
                  <a:pt x="2435" y="20"/>
                </a:lnTo>
                <a:lnTo>
                  <a:pt x="2416" y="29"/>
                </a:lnTo>
                <a:lnTo>
                  <a:pt x="2453" y="29"/>
                </a:lnTo>
                <a:lnTo>
                  <a:pt x="2490" y="29"/>
                </a:lnTo>
                <a:lnTo>
                  <a:pt x="2527" y="29"/>
                </a:lnTo>
                <a:lnTo>
                  <a:pt x="2565" y="29"/>
                </a:lnTo>
                <a:lnTo>
                  <a:pt x="2612" y="29"/>
                </a:lnTo>
                <a:lnTo>
                  <a:pt x="2648" y="29"/>
                </a:lnTo>
                <a:lnTo>
                  <a:pt x="2686" y="29"/>
                </a:lnTo>
                <a:lnTo>
                  <a:pt x="2723" y="29"/>
                </a:lnTo>
                <a:lnTo>
                  <a:pt x="2759" y="29"/>
                </a:lnTo>
                <a:lnTo>
                  <a:pt x="2795" y="29"/>
                </a:lnTo>
                <a:lnTo>
                  <a:pt x="2833" y="29"/>
                </a:lnTo>
                <a:lnTo>
                  <a:pt x="2869" y="29"/>
                </a:lnTo>
                <a:lnTo>
                  <a:pt x="2905" y="29"/>
                </a:lnTo>
                <a:lnTo>
                  <a:pt x="2941" y="29"/>
                </a:lnTo>
                <a:lnTo>
                  <a:pt x="2993" y="29"/>
                </a:lnTo>
                <a:lnTo>
                  <a:pt x="2993" y="14"/>
                </a:lnTo>
                <a:lnTo>
                  <a:pt x="2974" y="20"/>
                </a:lnTo>
                <a:lnTo>
                  <a:pt x="2978" y="24"/>
                </a:lnTo>
                <a:lnTo>
                  <a:pt x="2984" y="26"/>
                </a:lnTo>
                <a:lnTo>
                  <a:pt x="2973" y="15"/>
                </a:lnTo>
                <a:lnTo>
                  <a:pt x="3009" y="338"/>
                </a:lnTo>
                <a:lnTo>
                  <a:pt x="3011" y="343"/>
                </a:lnTo>
                <a:lnTo>
                  <a:pt x="3014" y="347"/>
                </a:lnTo>
                <a:lnTo>
                  <a:pt x="3020" y="350"/>
                </a:lnTo>
                <a:lnTo>
                  <a:pt x="3029" y="352"/>
                </a:lnTo>
                <a:lnTo>
                  <a:pt x="3065" y="352"/>
                </a:lnTo>
                <a:lnTo>
                  <a:pt x="3101" y="352"/>
                </a:lnTo>
                <a:lnTo>
                  <a:pt x="3137" y="352"/>
                </a:lnTo>
                <a:lnTo>
                  <a:pt x="3175" y="352"/>
                </a:lnTo>
                <a:lnTo>
                  <a:pt x="3211" y="352"/>
                </a:lnTo>
                <a:lnTo>
                  <a:pt x="3248" y="352"/>
                </a:lnTo>
                <a:lnTo>
                  <a:pt x="3284" y="352"/>
                </a:lnTo>
                <a:lnTo>
                  <a:pt x="3322" y="352"/>
                </a:lnTo>
                <a:lnTo>
                  <a:pt x="3369" y="352"/>
                </a:lnTo>
                <a:lnTo>
                  <a:pt x="3406" y="352"/>
                </a:lnTo>
                <a:lnTo>
                  <a:pt x="3442" y="352"/>
                </a:lnTo>
                <a:lnTo>
                  <a:pt x="3478" y="352"/>
                </a:lnTo>
                <a:lnTo>
                  <a:pt x="3516" y="352"/>
                </a:lnTo>
                <a:lnTo>
                  <a:pt x="3554" y="352"/>
                </a:lnTo>
                <a:lnTo>
                  <a:pt x="3590" y="352"/>
                </a:lnTo>
                <a:lnTo>
                  <a:pt x="3590" y="337"/>
                </a:lnTo>
                <a:lnTo>
                  <a:pt x="3572" y="343"/>
                </a:lnTo>
                <a:lnTo>
                  <a:pt x="3575" y="347"/>
                </a:lnTo>
                <a:lnTo>
                  <a:pt x="3582" y="350"/>
                </a:lnTo>
                <a:lnTo>
                  <a:pt x="3570" y="339"/>
                </a:lnTo>
                <a:lnTo>
                  <a:pt x="3606" y="521"/>
                </a:lnTo>
                <a:lnTo>
                  <a:pt x="3608" y="524"/>
                </a:lnTo>
                <a:lnTo>
                  <a:pt x="3611" y="529"/>
                </a:lnTo>
                <a:lnTo>
                  <a:pt x="3618" y="531"/>
                </a:lnTo>
                <a:lnTo>
                  <a:pt x="3626" y="533"/>
                </a:lnTo>
                <a:lnTo>
                  <a:pt x="3664" y="533"/>
                </a:lnTo>
                <a:lnTo>
                  <a:pt x="3700" y="533"/>
                </a:lnTo>
                <a:lnTo>
                  <a:pt x="3748" y="533"/>
                </a:lnTo>
                <a:lnTo>
                  <a:pt x="3784" y="533"/>
                </a:lnTo>
                <a:lnTo>
                  <a:pt x="3822" y="533"/>
                </a:lnTo>
                <a:lnTo>
                  <a:pt x="3858" y="533"/>
                </a:lnTo>
                <a:lnTo>
                  <a:pt x="3894" y="533"/>
                </a:lnTo>
                <a:lnTo>
                  <a:pt x="3931" y="533"/>
                </a:lnTo>
                <a:lnTo>
                  <a:pt x="3967" y="533"/>
                </a:lnTo>
                <a:lnTo>
                  <a:pt x="4005" y="533"/>
                </a:lnTo>
                <a:lnTo>
                  <a:pt x="4041" y="533"/>
                </a:lnTo>
                <a:lnTo>
                  <a:pt x="4077" y="533"/>
                </a:lnTo>
                <a:lnTo>
                  <a:pt x="4127" y="533"/>
                </a:lnTo>
                <a:lnTo>
                  <a:pt x="4164" y="533"/>
                </a:lnTo>
                <a:lnTo>
                  <a:pt x="4201" y="533"/>
                </a:lnTo>
                <a:lnTo>
                  <a:pt x="4201" y="532"/>
                </a:lnTo>
                <a:lnTo>
                  <a:pt x="4209" y="531"/>
                </a:lnTo>
                <a:lnTo>
                  <a:pt x="4215" y="529"/>
                </a:lnTo>
                <a:lnTo>
                  <a:pt x="4219" y="524"/>
                </a:lnTo>
                <a:lnTo>
                  <a:pt x="4220" y="521"/>
                </a:lnTo>
                <a:lnTo>
                  <a:pt x="4257" y="313"/>
                </a:lnTo>
                <a:lnTo>
                  <a:pt x="4237" y="311"/>
                </a:lnTo>
                <a:lnTo>
                  <a:pt x="4237" y="324"/>
                </a:lnTo>
                <a:lnTo>
                  <a:pt x="4245" y="323"/>
                </a:lnTo>
                <a:lnTo>
                  <a:pt x="4252" y="321"/>
                </a:lnTo>
                <a:lnTo>
                  <a:pt x="4255" y="316"/>
                </a:lnTo>
                <a:lnTo>
                  <a:pt x="4237" y="326"/>
                </a:lnTo>
                <a:lnTo>
                  <a:pt x="4273" y="326"/>
                </a:lnTo>
                <a:lnTo>
                  <a:pt x="4309" y="326"/>
                </a:lnTo>
                <a:lnTo>
                  <a:pt x="4347" y="326"/>
                </a:lnTo>
                <a:lnTo>
                  <a:pt x="4383" y="326"/>
                </a:lnTo>
                <a:lnTo>
                  <a:pt x="4420" y="326"/>
                </a:lnTo>
                <a:lnTo>
                  <a:pt x="4456" y="326"/>
                </a:lnTo>
                <a:lnTo>
                  <a:pt x="4505" y="326"/>
                </a:lnTo>
                <a:lnTo>
                  <a:pt x="4543" y="326"/>
                </a:lnTo>
                <a:lnTo>
                  <a:pt x="4579" y="326"/>
                </a:lnTo>
                <a:lnTo>
                  <a:pt x="4615" y="326"/>
                </a:lnTo>
                <a:lnTo>
                  <a:pt x="4652" y="326"/>
                </a:lnTo>
                <a:lnTo>
                  <a:pt x="4690" y="326"/>
                </a:lnTo>
                <a:lnTo>
                  <a:pt x="4726" y="326"/>
                </a:lnTo>
                <a:lnTo>
                  <a:pt x="4762" y="326"/>
                </a:lnTo>
                <a:lnTo>
                  <a:pt x="4798" y="326"/>
                </a:lnTo>
                <a:lnTo>
                  <a:pt x="4798" y="297"/>
                </a:lnTo>
                <a:lnTo>
                  <a:pt x="4762" y="297"/>
                </a:lnTo>
                <a:lnTo>
                  <a:pt x="4726" y="297"/>
                </a:lnTo>
                <a:lnTo>
                  <a:pt x="4690" y="297"/>
                </a:lnTo>
                <a:lnTo>
                  <a:pt x="4652" y="297"/>
                </a:lnTo>
                <a:lnTo>
                  <a:pt x="4615" y="297"/>
                </a:lnTo>
                <a:lnTo>
                  <a:pt x="4579" y="297"/>
                </a:lnTo>
                <a:lnTo>
                  <a:pt x="4543" y="297"/>
                </a:lnTo>
                <a:lnTo>
                  <a:pt x="4505" y="297"/>
                </a:lnTo>
                <a:lnTo>
                  <a:pt x="4456" y="297"/>
                </a:lnTo>
                <a:lnTo>
                  <a:pt x="4420" y="297"/>
                </a:lnTo>
                <a:lnTo>
                  <a:pt x="4383" y="297"/>
                </a:lnTo>
                <a:lnTo>
                  <a:pt x="4347" y="297"/>
                </a:lnTo>
                <a:lnTo>
                  <a:pt x="4309" y="297"/>
                </a:lnTo>
                <a:lnTo>
                  <a:pt x="4273" y="297"/>
                </a:lnTo>
                <a:lnTo>
                  <a:pt x="4237" y="297"/>
                </a:lnTo>
                <a:lnTo>
                  <a:pt x="4237" y="297"/>
                </a:lnTo>
                <a:lnTo>
                  <a:pt x="4229" y="298"/>
                </a:lnTo>
                <a:lnTo>
                  <a:pt x="4222" y="300"/>
                </a:lnTo>
                <a:lnTo>
                  <a:pt x="4219" y="305"/>
                </a:lnTo>
                <a:lnTo>
                  <a:pt x="4217" y="311"/>
                </a:lnTo>
                <a:lnTo>
                  <a:pt x="4217" y="309"/>
                </a:lnTo>
                <a:lnTo>
                  <a:pt x="4181" y="517"/>
                </a:lnTo>
                <a:lnTo>
                  <a:pt x="4201" y="505"/>
                </a:lnTo>
                <a:lnTo>
                  <a:pt x="4192" y="506"/>
                </a:lnTo>
                <a:lnTo>
                  <a:pt x="4186" y="508"/>
                </a:lnTo>
                <a:lnTo>
                  <a:pt x="4183" y="513"/>
                </a:lnTo>
                <a:lnTo>
                  <a:pt x="4181" y="518"/>
                </a:lnTo>
                <a:lnTo>
                  <a:pt x="4201" y="518"/>
                </a:lnTo>
                <a:lnTo>
                  <a:pt x="4201" y="505"/>
                </a:lnTo>
                <a:lnTo>
                  <a:pt x="4164" y="505"/>
                </a:lnTo>
                <a:lnTo>
                  <a:pt x="4127" y="505"/>
                </a:lnTo>
                <a:lnTo>
                  <a:pt x="4077" y="505"/>
                </a:lnTo>
                <a:lnTo>
                  <a:pt x="4041" y="505"/>
                </a:lnTo>
                <a:lnTo>
                  <a:pt x="4005" y="505"/>
                </a:lnTo>
                <a:lnTo>
                  <a:pt x="3967" y="505"/>
                </a:lnTo>
                <a:lnTo>
                  <a:pt x="3931" y="505"/>
                </a:lnTo>
                <a:lnTo>
                  <a:pt x="3894" y="505"/>
                </a:lnTo>
                <a:lnTo>
                  <a:pt x="3858" y="505"/>
                </a:lnTo>
                <a:lnTo>
                  <a:pt x="3822" y="505"/>
                </a:lnTo>
                <a:lnTo>
                  <a:pt x="3784" y="505"/>
                </a:lnTo>
                <a:lnTo>
                  <a:pt x="3748" y="505"/>
                </a:lnTo>
                <a:lnTo>
                  <a:pt x="3700" y="505"/>
                </a:lnTo>
                <a:lnTo>
                  <a:pt x="3664" y="505"/>
                </a:lnTo>
                <a:lnTo>
                  <a:pt x="3626" y="505"/>
                </a:lnTo>
                <a:lnTo>
                  <a:pt x="3644" y="513"/>
                </a:lnTo>
                <a:lnTo>
                  <a:pt x="3641" y="508"/>
                </a:lnTo>
                <a:lnTo>
                  <a:pt x="3634" y="506"/>
                </a:lnTo>
                <a:lnTo>
                  <a:pt x="3626" y="518"/>
                </a:lnTo>
                <a:lnTo>
                  <a:pt x="3646" y="517"/>
                </a:lnTo>
                <a:lnTo>
                  <a:pt x="3610" y="336"/>
                </a:lnTo>
                <a:lnTo>
                  <a:pt x="3608" y="331"/>
                </a:lnTo>
                <a:lnTo>
                  <a:pt x="3605" y="327"/>
                </a:lnTo>
                <a:lnTo>
                  <a:pt x="3598" y="324"/>
                </a:lnTo>
                <a:lnTo>
                  <a:pt x="3590" y="323"/>
                </a:lnTo>
                <a:lnTo>
                  <a:pt x="3554" y="323"/>
                </a:lnTo>
                <a:lnTo>
                  <a:pt x="3516" y="323"/>
                </a:lnTo>
                <a:lnTo>
                  <a:pt x="3478" y="323"/>
                </a:lnTo>
                <a:lnTo>
                  <a:pt x="3442" y="323"/>
                </a:lnTo>
                <a:lnTo>
                  <a:pt x="3406" y="323"/>
                </a:lnTo>
                <a:lnTo>
                  <a:pt x="3369" y="323"/>
                </a:lnTo>
                <a:lnTo>
                  <a:pt x="3322" y="323"/>
                </a:lnTo>
                <a:lnTo>
                  <a:pt x="3284" y="323"/>
                </a:lnTo>
                <a:lnTo>
                  <a:pt x="3248" y="323"/>
                </a:lnTo>
                <a:lnTo>
                  <a:pt x="3211" y="323"/>
                </a:lnTo>
                <a:lnTo>
                  <a:pt x="3175" y="323"/>
                </a:lnTo>
                <a:lnTo>
                  <a:pt x="3137" y="323"/>
                </a:lnTo>
                <a:lnTo>
                  <a:pt x="3101" y="323"/>
                </a:lnTo>
                <a:lnTo>
                  <a:pt x="3065" y="323"/>
                </a:lnTo>
                <a:lnTo>
                  <a:pt x="3029" y="323"/>
                </a:lnTo>
                <a:lnTo>
                  <a:pt x="3047" y="331"/>
                </a:lnTo>
                <a:lnTo>
                  <a:pt x="3044" y="327"/>
                </a:lnTo>
                <a:lnTo>
                  <a:pt x="3037" y="324"/>
                </a:lnTo>
                <a:lnTo>
                  <a:pt x="3029" y="337"/>
                </a:lnTo>
                <a:lnTo>
                  <a:pt x="3050" y="336"/>
                </a:lnTo>
                <a:lnTo>
                  <a:pt x="3014" y="13"/>
                </a:lnTo>
                <a:lnTo>
                  <a:pt x="3011" y="8"/>
                </a:lnTo>
                <a:lnTo>
                  <a:pt x="3007" y="3"/>
                </a:lnTo>
                <a:lnTo>
                  <a:pt x="3001" y="1"/>
                </a:lnTo>
                <a:lnTo>
                  <a:pt x="2993" y="0"/>
                </a:lnTo>
                <a:lnTo>
                  <a:pt x="2941" y="0"/>
                </a:lnTo>
                <a:lnTo>
                  <a:pt x="2905" y="0"/>
                </a:lnTo>
                <a:lnTo>
                  <a:pt x="2869" y="0"/>
                </a:lnTo>
                <a:lnTo>
                  <a:pt x="2833" y="0"/>
                </a:lnTo>
                <a:lnTo>
                  <a:pt x="2795" y="0"/>
                </a:lnTo>
                <a:lnTo>
                  <a:pt x="2759" y="0"/>
                </a:lnTo>
                <a:lnTo>
                  <a:pt x="2723" y="0"/>
                </a:lnTo>
                <a:lnTo>
                  <a:pt x="2686" y="0"/>
                </a:lnTo>
                <a:lnTo>
                  <a:pt x="2648" y="0"/>
                </a:lnTo>
                <a:lnTo>
                  <a:pt x="2612" y="0"/>
                </a:lnTo>
                <a:lnTo>
                  <a:pt x="2565" y="0"/>
                </a:lnTo>
                <a:lnTo>
                  <a:pt x="2527" y="0"/>
                </a:lnTo>
                <a:lnTo>
                  <a:pt x="2490" y="0"/>
                </a:lnTo>
                <a:lnTo>
                  <a:pt x="2453" y="0"/>
                </a:lnTo>
                <a:lnTo>
                  <a:pt x="2416" y="0"/>
                </a:lnTo>
                <a:lnTo>
                  <a:pt x="2416" y="0"/>
                </a:lnTo>
                <a:lnTo>
                  <a:pt x="2408" y="1"/>
                </a:lnTo>
                <a:lnTo>
                  <a:pt x="2402" y="3"/>
                </a:lnTo>
                <a:lnTo>
                  <a:pt x="2398" y="8"/>
                </a:lnTo>
                <a:lnTo>
                  <a:pt x="2397" y="14"/>
                </a:lnTo>
                <a:lnTo>
                  <a:pt x="2397" y="14"/>
                </a:lnTo>
                <a:lnTo>
                  <a:pt x="2360" y="727"/>
                </a:lnTo>
                <a:lnTo>
                  <a:pt x="2380" y="714"/>
                </a:lnTo>
                <a:lnTo>
                  <a:pt x="2372" y="715"/>
                </a:lnTo>
                <a:lnTo>
                  <a:pt x="2365" y="717"/>
                </a:lnTo>
                <a:lnTo>
                  <a:pt x="2362" y="722"/>
                </a:lnTo>
                <a:lnTo>
                  <a:pt x="2360" y="727"/>
                </a:lnTo>
                <a:lnTo>
                  <a:pt x="2380" y="727"/>
                </a:lnTo>
                <a:lnTo>
                  <a:pt x="2380" y="714"/>
                </a:lnTo>
                <a:lnTo>
                  <a:pt x="2344" y="714"/>
                </a:lnTo>
                <a:lnTo>
                  <a:pt x="2306" y="714"/>
                </a:lnTo>
                <a:lnTo>
                  <a:pt x="2270" y="714"/>
                </a:lnTo>
                <a:lnTo>
                  <a:pt x="2234" y="714"/>
                </a:lnTo>
                <a:lnTo>
                  <a:pt x="2186" y="714"/>
                </a:lnTo>
                <a:lnTo>
                  <a:pt x="2148" y="714"/>
                </a:lnTo>
                <a:lnTo>
                  <a:pt x="2112" y="714"/>
                </a:lnTo>
                <a:lnTo>
                  <a:pt x="2076" y="714"/>
                </a:lnTo>
                <a:lnTo>
                  <a:pt x="2039" y="714"/>
                </a:lnTo>
                <a:lnTo>
                  <a:pt x="2003" y="714"/>
                </a:lnTo>
                <a:lnTo>
                  <a:pt x="1965" y="714"/>
                </a:lnTo>
                <a:lnTo>
                  <a:pt x="1929" y="714"/>
                </a:lnTo>
                <a:lnTo>
                  <a:pt x="1891" y="714"/>
                </a:lnTo>
                <a:lnTo>
                  <a:pt x="1855" y="714"/>
                </a:lnTo>
                <a:lnTo>
                  <a:pt x="1806" y="714"/>
                </a:lnTo>
                <a:lnTo>
                  <a:pt x="1806" y="714"/>
                </a:lnTo>
                <a:lnTo>
                  <a:pt x="1798" y="715"/>
                </a:lnTo>
                <a:lnTo>
                  <a:pt x="1791" y="717"/>
                </a:lnTo>
                <a:lnTo>
                  <a:pt x="1788" y="722"/>
                </a:lnTo>
                <a:lnTo>
                  <a:pt x="1786" y="727"/>
                </a:lnTo>
                <a:lnTo>
                  <a:pt x="1786" y="727"/>
                </a:lnTo>
                <a:lnTo>
                  <a:pt x="1750" y="1505"/>
                </a:lnTo>
                <a:lnTo>
                  <a:pt x="1770" y="1491"/>
                </a:lnTo>
                <a:lnTo>
                  <a:pt x="1761" y="1492"/>
                </a:lnTo>
                <a:lnTo>
                  <a:pt x="1755" y="1494"/>
                </a:lnTo>
                <a:lnTo>
                  <a:pt x="1751" y="1499"/>
                </a:lnTo>
                <a:lnTo>
                  <a:pt x="1750" y="1505"/>
                </a:lnTo>
                <a:lnTo>
                  <a:pt x="1770" y="1505"/>
                </a:lnTo>
                <a:lnTo>
                  <a:pt x="1770" y="1491"/>
                </a:lnTo>
                <a:lnTo>
                  <a:pt x="1733" y="1491"/>
                </a:lnTo>
                <a:lnTo>
                  <a:pt x="1697" y="1491"/>
                </a:lnTo>
                <a:lnTo>
                  <a:pt x="1661" y="1491"/>
                </a:lnTo>
                <a:lnTo>
                  <a:pt x="1623" y="1491"/>
                </a:lnTo>
                <a:lnTo>
                  <a:pt x="1587" y="1491"/>
                </a:lnTo>
                <a:lnTo>
                  <a:pt x="1551" y="1491"/>
                </a:lnTo>
                <a:lnTo>
                  <a:pt x="1514" y="1491"/>
                </a:lnTo>
                <a:lnTo>
                  <a:pt x="1477" y="1491"/>
                </a:lnTo>
                <a:lnTo>
                  <a:pt x="1427" y="1491"/>
                </a:lnTo>
                <a:lnTo>
                  <a:pt x="1391" y="1491"/>
                </a:lnTo>
                <a:lnTo>
                  <a:pt x="1355" y="1491"/>
                </a:lnTo>
                <a:lnTo>
                  <a:pt x="1319" y="1491"/>
                </a:lnTo>
                <a:lnTo>
                  <a:pt x="1281" y="1491"/>
                </a:lnTo>
                <a:lnTo>
                  <a:pt x="1244" y="1491"/>
                </a:lnTo>
                <a:lnTo>
                  <a:pt x="1208" y="1491"/>
                </a:lnTo>
                <a:lnTo>
                  <a:pt x="1226" y="1499"/>
                </a:lnTo>
                <a:lnTo>
                  <a:pt x="1223" y="1494"/>
                </a:lnTo>
                <a:lnTo>
                  <a:pt x="1216" y="1492"/>
                </a:lnTo>
                <a:lnTo>
                  <a:pt x="1208" y="1505"/>
                </a:lnTo>
                <a:lnTo>
                  <a:pt x="1228" y="1502"/>
                </a:lnTo>
                <a:lnTo>
                  <a:pt x="1192" y="1341"/>
                </a:lnTo>
                <a:lnTo>
                  <a:pt x="1190" y="1337"/>
                </a:lnTo>
                <a:lnTo>
                  <a:pt x="1187" y="1333"/>
                </a:lnTo>
                <a:lnTo>
                  <a:pt x="1180" y="1330"/>
                </a:lnTo>
                <a:lnTo>
                  <a:pt x="1172" y="1329"/>
                </a:lnTo>
                <a:lnTo>
                  <a:pt x="1134" y="1329"/>
                </a:lnTo>
                <a:lnTo>
                  <a:pt x="1098" y="1329"/>
                </a:lnTo>
                <a:lnTo>
                  <a:pt x="1050" y="1329"/>
                </a:lnTo>
                <a:lnTo>
                  <a:pt x="1014" y="1329"/>
                </a:lnTo>
                <a:lnTo>
                  <a:pt x="976" y="1329"/>
                </a:lnTo>
                <a:lnTo>
                  <a:pt x="940" y="1329"/>
                </a:lnTo>
                <a:lnTo>
                  <a:pt x="902" y="1329"/>
                </a:lnTo>
                <a:lnTo>
                  <a:pt x="866" y="1329"/>
                </a:lnTo>
                <a:lnTo>
                  <a:pt x="830" y="1329"/>
                </a:lnTo>
                <a:lnTo>
                  <a:pt x="792" y="1329"/>
                </a:lnTo>
                <a:lnTo>
                  <a:pt x="756" y="1329"/>
                </a:lnTo>
                <a:lnTo>
                  <a:pt x="719" y="1329"/>
                </a:lnTo>
                <a:lnTo>
                  <a:pt x="672" y="1329"/>
                </a:lnTo>
                <a:lnTo>
                  <a:pt x="634" y="1329"/>
                </a:lnTo>
                <a:lnTo>
                  <a:pt x="598" y="1329"/>
                </a:lnTo>
                <a:lnTo>
                  <a:pt x="616" y="1337"/>
                </a:lnTo>
                <a:lnTo>
                  <a:pt x="612" y="1333"/>
                </a:lnTo>
                <a:lnTo>
                  <a:pt x="606" y="1330"/>
                </a:lnTo>
                <a:lnTo>
                  <a:pt x="598" y="1343"/>
                </a:lnTo>
                <a:lnTo>
                  <a:pt x="619" y="1343"/>
                </a:lnTo>
                <a:lnTo>
                  <a:pt x="583" y="650"/>
                </a:lnTo>
                <a:lnTo>
                  <a:pt x="579" y="644"/>
                </a:lnTo>
                <a:lnTo>
                  <a:pt x="576" y="640"/>
                </a:lnTo>
                <a:lnTo>
                  <a:pt x="570" y="637"/>
                </a:lnTo>
                <a:lnTo>
                  <a:pt x="561" y="636"/>
                </a:lnTo>
                <a:lnTo>
                  <a:pt x="525" y="636"/>
                </a:lnTo>
                <a:lnTo>
                  <a:pt x="489" y="636"/>
                </a:lnTo>
                <a:lnTo>
                  <a:pt x="451" y="636"/>
                </a:lnTo>
                <a:lnTo>
                  <a:pt x="415" y="636"/>
                </a:lnTo>
                <a:lnTo>
                  <a:pt x="379" y="636"/>
                </a:lnTo>
                <a:lnTo>
                  <a:pt x="342" y="636"/>
                </a:lnTo>
                <a:lnTo>
                  <a:pt x="291" y="636"/>
                </a:lnTo>
                <a:lnTo>
                  <a:pt x="255" y="636"/>
                </a:lnTo>
                <a:lnTo>
                  <a:pt x="219" y="636"/>
                </a:lnTo>
                <a:lnTo>
                  <a:pt x="183" y="636"/>
                </a:lnTo>
                <a:lnTo>
                  <a:pt x="145" y="636"/>
                </a:lnTo>
                <a:lnTo>
                  <a:pt x="109" y="636"/>
                </a:lnTo>
                <a:lnTo>
                  <a:pt x="73" y="636"/>
                </a:lnTo>
                <a:lnTo>
                  <a:pt x="36" y="636"/>
                </a:lnTo>
                <a:lnTo>
                  <a:pt x="0" y="636"/>
                </a:lnTo>
                <a:close/>
              </a:path>
            </a:pathLst>
          </a:custGeom>
          <a:solidFill>
            <a:srgbClr val="c0c0c0"/>
          </a:solidFill>
          <a:ln w="316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5837400" y="2044800"/>
            <a:ext cx="53964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5883120" y="2050920"/>
            <a:ext cx="20340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32" name=""/>
          <p:cNvSpPr/>
          <p:nvPr/>
        </p:nvSpPr>
        <p:spPr>
          <a:xfrm>
            <a:off x="6076800" y="205092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33" name=""/>
          <p:cNvSpPr/>
          <p:nvPr/>
        </p:nvSpPr>
        <p:spPr>
          <a:xfrm>
            <a:off x="4881600" y="1517760"/>
            <a:ext cx="317520" cy="249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4818240" y="1498680"/>
            <a:ext cx="1699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335" name=""/>
          <p:cNvSpPr/>
          <p:nvPr/>
        </p:nvSpPr>
        <p:spPr>
          <a:xfrm>
            <a:off x="5119560" y="152388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36" name=""/>
          <p:cNvSpPr/>
          <p:nvPr/>
        </p:nvSpPr>
        <p:spPr>
          <a:xfrm>
            <a:off x="4830840" y="1533600"/>
            <a:ext cx="129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37" name=""/>
          <p:cNvGrpSpPr/>
          <p:nvPr/>
        </p:nvGrpSpPr>
        <p:grpSpPr>
          <a:xfrm>
            <a:off x="5045040" y="1701720"/>
            <a:ext cx="220680" cy="160560"/>
            <a:chOff x="5045040" y="1701720"/>
            <a:chExt cx="220680" cy="160560"/>
          </a:xfrm>
        </p:grpSpPr>
        <p:sp>
          <p:nvSpPr>
            <p:cNvPr id="1338" name=""/>
            <p:cNvSpPr/>
            <p:nvPr/>
          </p:nvSpPr>
          <p:spPr>
            <a:xfrm>
              <a:off x="5045040" y="1701720"/>
              <a:ext cx="171360" cy="123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5149800" y="1778040"/>
              <a:ext cx="115920" cy="84240"/>
            </a:xfrm>
            <a:custGeom>
              <a:avLst/>
              <a:gdLst/>
              <a:ahLst/>
              <a:rect l="l" t="t" r="r" b="b"/>
              <a:pathLst>
                <a:path w="147" h="106">
                  <a:moveTo>
                    <a:pt x="0" y="68"/>
                  </a:moveTo>
                  <a:lnTo>
                    <a:pt x="147" y="106"/>
                  </a:lnTo>
                  <a:lnTo>
                    <a:pt x="102" y="0"/>
                  </a:lnTo>
                  <a:lnTo>
                    <a:pt x="81" y="56"/>
                  </a:lnTo>
                  <a:lnTo>
                    <a:pt x="0" y="6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340" name=""/>
          <p:cNvGrpSpPr/>
          <p:nvPr/>
        </p:nvGrpSpPr>
        <p:grpSpPr>
          <a:xfrm>
            <a:off x="5446800" y="2089080"/>
            <a:ext cx="334080" cy="76320"/>
            <a:chOff x="5446800" y="2089080"/>
            <a:chExt cx="334080" cy="76320"/>
          </a:xfrm>
        </p:grpSpPr>
        <p:sp>
          <p:nvSpPr>
            <p:cNvPr id="1341" name=""/>
            <p:cNvSpPr/>
            <p:nvPr/>
          </p:nvSpPr>
          <p:spPr>
            <a:xfrm flipH="1" flipV="1">
              <a:off x="5517720" y="2122200"/>
              <a:ext cx="263160" cy="27000"/>
            </a:xfrm>
            <a:prstGeom prst="line">
              <a:avLst/>
            </a:prstGeom>
            <a:ln w="158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2" name=""/>
            <p:cNvSpPr/>
            <p:nvPr/>
          </p:nvSpPr>
          <p:spPr>
            <a:xfrm>
              <a:off x="5446800" y="2089080"/>
              <a:ext cx="120240" cy="76320"/>
            </a:xfrm>
            <a:custGeom>
              <a:avLst/>
              <a:gdLst/>
              <a:ahLst/>
              <a:rect l="l" t="t" r="r" b="b"/>
              <a:pathLst>
                <a:path w="151" h="97">
                  <a:moveTo>
                    <a:pt x="151" y="0"/>
                  </a:moveTo>
                  <a:lnTo>
                    <a:pt x="0" y="32"/>
                  </a:lnTo>
                  <a:lnTo>
                    <a:pt x="128" y="97"/>
                  </a:lnTo>
                  <a:lnTo>
                    <a:pt x="96" y="44"/>
                  </a:lnTo>
                  <a:lnTo>
                    <a:pt x="151"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343" name=""/>
          <p:cNvSpPr/>
          <p:nvPr/>
        </p:nvSpPr>
        <p:spPr>
          <a:xfrm>
            <a:off x="2759040" y="6423120"/>
            <a:ext cx="15228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3338640" y="6423120"/>
            <a:ext cx="2444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3960720" y="6423120"/>
            <a:ext cx="2444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4581360" y="6423120"/>
            <a:ext cx="2430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5203800" y="6423120"/>
            <a:ext cx="2430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5794200" y="6423120"/>
            <a:ext cx="32076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6415200" y="6423120"/>
            <a:ext cx="3222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2759040" y="6194520"/>
            <a:ext cx="15228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3338640" y="6194520"/>
            <a:ext cx="2444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960720" y="6194520"/>
            <a:ext cx="2444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4581360" y="6194520"/>
            <a:ext cx="2430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5203800" y="6194520"/>
            <a:ext cx="2430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5794200" y="6194520"/>
            <a:ext cx="32076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6415200" y="6194520"/>
            <a:ext cx="3222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7" name=""/>
          <p:cNvGrpSpPr/>
          <p:nvPr/>
        </p:nvGrpSpPr>
        <p:grpSpPr>
          <a:xfrm>
            <a:off x="2363040" y="3236760"/>
            <a:ext cx="5750280" cy="2420280"/>
            <a:chOff x="2363040" y="3236760"/>
            <a:chExt cx="5750280" cy="2420280"/>
          </a:xfrm>
        </p:grpSpPr>
        <p:sp>
          <p:nvSpPr>
            <p:cNvPr id="1358" name=""/>
            <p:cNvSpPr/>
            <p:nvPr/>
          </p:nvSpPr>
          <p:spPr>
            <a:xfrm>
              <a:off x="2367720" y="330696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359" name=""/>
            <p:cNvSpPr/>
            <p:nvPr/>
          </p:nvSpPr>
          <p:spPr>
            <a:xfrm>
              <a:off x="2653920" y="3428280"/>
              <a:ext cx="17388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2367720" y="343656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361" name=""/>
            <p:cNvSpPr/>
            <p:nvPr/>
          </p:nvSpPr>
          <p:spPr>
            <a:xfrm>
              <a:off x="2434320" y="343656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362" name=""/>
            <p:cNvSpPr/>
            <p:nvPr/>
          </p:nvSpPr>
          <p:spPr>
            <a:xfrm>
              <a:off x="3836880" y="3474000"/>
              <a:ext cx="4258080" cy="1931040"/>
            </a:xfrm>
            <a:prstGeom prst="rect">
              <a:avLst/>
            </a:prstGeom>
            <a:noFill/>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133440" y="5475600"/>
              <a:ext cx="110736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1364" name=""/>
            <p:cNvSpPr/>
            <p:nvPr/>
          </p:nvSpPr>
          <p:spPr>
            <a:xfrm>
              <a:off x="3717000" y="3501720"/>
              <a:ext cx="276480" cy="19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544560" y="3375720"/>
              <a:ext cx="24372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2874600" y="330984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4007520" y="3933720"/>
              <a:ext cx="34020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4153680" y="3943440"/>
              <a:ext cx="18036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5521320" y="3994200"/>
              <a:ext cx="341640" cy="36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5521320" y="4051080"/>
              <a:ext cx="26100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5668920" y="4003920"/>
              <a:ext cx="17856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5983200" y="3565080"/>
              <a:ext cx="339840" cy="36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5983200" y="3574440"/>
              <a:ext cx="23148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6101280" y="3574440"/>
              <a:ext cx="17856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6487920" y="3598200"/>
              <a:ext cx="340200" cy="36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6604920" y="3605040"/>
              <a:ext cx="178560" cy="33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7498080" y="3559680"/>
              <a:ext cx="341640" cy="36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7614720" y="3567600"/>
              <a:ext cx="18000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717000" y="3501720"/>
              <a:ext cx="276480" cy="19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3092400" y="4057920"/>
              <a:ext cx="50115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1" name=""/>
            <p:cNvSpPr/>
            <p:nvPr/>
          </p:nvSpPr>
          <p:spPr>
            <a:xfrm>
              <a:off x="3098520" y="4519080"/>
              <a:ext cx="501480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2" name=""/>
            <p:cNvSpPr/>
            <p:nvPr/>
          </p:nvSpPr>
          <p:spPr>
            <a:xfrm>
              <a:off x="2367720" y="350712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383" name=""/>
            <p:cNvSpPr/>
            <p:nvPr/>
          </p:nvSpPr>
          <p:spPr>
            <a:xfrm>
              <a:off x="2874600" y="350856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2367720" y="350712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385" name=""/>
            <p:cNvSpPr/>
            <p:nvPr/>
          </p:nvSpPr>
          <p:spPr>
            <a:xfrm>
              <a:off x="2874600" y="350856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2994480" y="3479400"/>
              <a:ext cx="1080" cy="1929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flipV="1">
              <a:off x="2994480" y="3479400"/>
              <a:ext cx="1080" cy="1929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flipV="1">
              <a:off x="2994480" y="5381640"/>
              <a:ext cx="10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89" name=""/>
            <p:cNvSpPr/>
            <p:nvPr/>
          </p:nvSpPr>
          <p:spPr>
            <a:xfrm>
              <a:off x="2994480" y="513180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0" name=""/>
            <p:cNvSpPr/>
            <p:nvPr/>
          </p:nvSpPr>
          <p:spPr>
            <a:xfrm>
              <a:off x="2649600" y="5070960"/>
              <a:ext cx="324360" cy="20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2649600" y="5075280"/>
              <a:ext cx="10224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2363040" y="5079240"/>
              <a:ext cx="107676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1393" name=""/>
            <p:cNvSpPr/>
            <p:nvPr/>
          </p:nvSpPr>
          <p:spPr>
            <a:xfrm>
              <a:off x="2692800" y="5075280"/>
              <a:ext cx="24408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2877840" y="4961880"/>
              <a:ext cx="172440" cy="33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2994480" y="485568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6" name=""/>
            <p:cNvSpPr/>
            <p:nvPr/>
          </p:nvSpPr>
          <p:spPr>
            <a:xfrm>
              <a:off x="2658600" y="4796280"/>
              <a:ext cx="197280" cy="19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2657160" y="4800240"/>
              <a:ext cx="10224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2700360" y="4800240"/>
              <a:ext cx="13392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2775240" y="468720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2994480" y="457956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1" name=""/>
            <p:cNvSpPr/>
            <p:nvPr/>
          </p:nvSpPr>
          <p:spPr>
            <a:xfrm>
              <a:off x="2649600" y="4520160"/>
              <a:ext cx="324360" cy="19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2649600" y="4521600"/>
              <a:ext cx="10224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2692800" y="4521600"/>
              <a:ext cx="24408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2877840" y="4409640"/>
              <a:ext cx="17244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2994480" y="430344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6" name=""/>
            <p:cNvSpPr/>
            <p:nvPr/>
          </p:nvSpPr>
          <p:spPr>
            <a:xfrm>
              <a:off x="2697840" y="4244040"/>
              <a:ext cx="150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2697840" y="4244040"/>
              <a:ext cx="13356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2772000" y="413244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994480" y="4025880"/>
              <a:ext cx="385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0" name=""/>
            <p:cNvSpPr/>
            <p:nvPr/>
          </p:nvSpPr>
          <p:spPr>
            <a:xfrm>
              <a:off x="2689920" y="3965400"/>
              <a:ext cx="276120" cy="20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2689920" y="3967920"/>
              <a:ext cx="24372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2874600" y="385632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2994480" y="375156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4" name=""/>
            <p:cNvSpPr/>
            <p:nvPr/>
          </p:nvSpPr>
          <p:spPr>
            <a:xfrm>
              <a:off x="2697840" y="3689280"/>
              <a:ext cx="150480" cy="20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2697840" y="3693600"/>
              <a:ext cx="13356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2484360" y="358416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417" name=""/>
            <p:cNvSpPr/>
            <p:nvPr/>
          </p:nvSpPr>
          <p:spPr>
            <a:xfrm>
              <a:off x="2772000" y="3581640"/>
              <a:ext cx="17244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flipV="1">
              <a:off x="2994480" y="3479400"/>
              <a:ext cx="1080" cy="1929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050640" y="3492000"/>
              <a:ext cx="545040" cy="1907280"/>
            </a:xfrm>
            <a:custGeom>
              <a:avLst/>
              <a:gdLst/>
              <a:ahLst/>
              <a:rect l="l" t="t" r="r" b="b"/>
              <a:pathLst>
                <a:path w="700" h="2765">
                  <a:moveTo>
                    <a:pt x="156" y="0"/>
                  </a:moveTo>
                  <a:lnTo>
                    <a:pt x="199" y="77"/>
                  </a:lnTo>
                  <a:lnTo>
                    <a:pt x="241" y="153"/>
                  </a:lnTo>
                  <a:lnTo>
                    <a:pt x="287" y="236"/>
                  </a:lnTo>
                  <a:lnTo>
                    <a:pt x="335" y="312"/>
                  </a:lnTo>
                  <a:lnTo>
                    <a:pt x="382" y="395"/>
                  </a:lnTo>
                  <a:lnTo>
                    <a:pt x="435" y="471"/>
                  </a:lnTo>
                  <a:lnTo>
                    <a:pt x="479" y="547"/>
                  </a:lnTo>
                  <a:lnTo>
                    <a:pt x="522" y="631"/>
                  </a:lnTo>
                  <a:lnTo>
                    <a:pt x="571" y="707"/>
                  </a:lnTo>
                  <a:lnTo>
                    <a:pt x="607" y="790"/>
                  </a:lnTo>
                  <a:lnTo>
                    <a:pt x="639" y="866"/>
                  </a:lnTo>
                  <a:lnTo>
                    <a:pt x="665" y="942"/>
                  </a:lnTo>
                  <a:lnTo>
                    <a:pt x="683" y="1026"/>
                  </a:lnTo>
                  <a:lnTo>
                    <a:pt x="695" y="1102"/>
                  </a:lnTo>
                  <a:lnTo>
                    <a:pt x="700" y="1185"/>
                  </a:lnTo>
                  <a:lnTo>
                    <a:pt x="695" y="1261"/>
                  </a:lnTo>
                  <a:lnTo>
                    <a:pt x="683" y="1337"/>
                  </a:lnTo>
                  <a:lnTo>
                    <a:pt x="665" y="1421"/>
                  </a:lnTo>
                  <a:lnTo>
                    <a:pt x="639" y="1497"/>
                  </a:lnTo>
                  <a:lnTo>
                    <a:pt x="607" y="1580"/>
                  </a:lnTo>
                  <a:lnTo>
                    <a:pt x="571" y="1658"/>
                  </a:lnTo>
                  <a:lnTo>
                    <a:pt x="522" y="1732"/>
                  </a:lnTo>
                  <a:lnTo>
                    <a:pt x="479" y="1815"/>
                  </a:lnTo>
                  <a:lnTo>
                    <a:pt x="435" y="1893"/>
                  </a:lnTo>
                  <a:lnTo>
                    <a:pt x="382" y="1975"/>
                  </a:lnTo>
                  <a:lnTo>
                    <a:pt x="335" y="2051"/>
                  </a:lnTo>
                  <a:lnTo>
                    <a:pt x="287" y="2129"/>
                  </a:lnTo>
                  <a:lnTo>
                    <a:pt x="241" y="2210"/>
                  </a:lnTo>
                  <a:lnTo>
                    <a:pt x="199" y="2286"/>
                  </a:lnTo>
                  <a:lnTo>
                    <a:pt x="156" y="2370"/>
                  </a:lnTo>
                  <a:lnTo>
                    <a:pt x="114" y="2446"/>
                  </a:lnTo>
                  <a:lnTo>
                    <a:pt x="83" y="2522"/>
                  </a:lnTo>
                  <a:lnTo>
                    <a:pt x="53" y="2605"/>
                  </a:lnTo>
                  <a:lnTo>
                    <a:pt x="25" y="2681"/>
                  </a:lnTo>
                  <a:lnTo>
                    <a:pt x="0" y="276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2367720" y="350712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421" name=""/>
            <p:cNvSpPr/>
            <p:nvPr/>
          </p:nvSpPr>
          <p:spPr>
            <a:xfrm>
              <a:off x="2874600" y="350856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2367720" y="350712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423" name=""/>
            <p:cNvSpPr/>
            <p:nvPr/>
          </p:nvSpPr>
          <p:spPr>
            <a:xfrm>
              <a:off x="2874600" y="350856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flipV="1">
              <a:off x="2994480" y="3479400"/>
              <a:ext cx="1080" cy="1929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flipV="1">
              <a:off x="2994480" y="3479400"/>
              <a:ext cx="1080" cy="1929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flipV="1">
              <a:off x="2994480" y="5381640"/>
              <a:ext cx="10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7" name=""/>
            <p:cNvSpPr/>
            <p:nvPr/>
          </p:nvSpPr>
          <p:spPr>
            <a:xfrm>
              <a:off x="2994480" y="513180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8" name=""/>
            <p:cNvSpPr/>
            <p:nvPr/>
          </p:nvSpPr>
          <p:spPr>
            <a:xfrm>
              <a:off x="2649600" y="5070960"/>
              <a:ext cx="324360" cy="20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2649600" y="5075280"/>
              <a:ext cx="10224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2363040" y="5079240"/>
              <a:ext cx="107676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1431" name=""/>
            <p:cNvSpPr/>
            <p:nvPr/>
          </p:nvSpPr>
          <p:spPr>
            <a:xfrm>
              <a:off x="2692800" y="5075280"/>
              <a:ext cx="24408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2877840" y="4961880"/>
              <a:ext cx="172440" cy="33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2994480" y="485568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34" name=""/>
            <p:cNvSpPr/>
            <p:nvPr/>
          </p:nvSpPr>
          <p:spPr>
            <a:xfrm>
              <a:off x="2658600" y="4796280"/>
              <a:ext cx="197280" cy="19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2657160" y="4800240"/>
              <a:ext cx="10224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2700360" y="4800240"/>
              <a:ext cx="13392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775240" y="468720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2994480" y="457956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39" name=""/>
            <p:cNvSpPr/>
            <p:nvPr/>
          </p:nvSpPr>
          <p:spPr>
            <a:xfrm>
              <a:off x="2649600" y="4520160"/>
              <a:ext cx="324360" cy="19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2649600" y="4521600"/>
              <a:ext cx="10224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2692800" y="4521600"/>
              <a:ext cx="24408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2877840" y="4409640"/>
              <a:ext cx="17244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2994480" y="430344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4" name=""/>
            <p:cNvSpPr/>
            <p:nvPr/>
          </p:nvSpPr>
          <p:spPr>
            <a:xfrm>
              <a:off x="2697840" y="4244040"/>
              <a:ext cx="150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697840" y="4244040"/>
              <a:ext cx="13356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2772000" y="413244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2994480" y="4025880"/>
              <a:ext cx="385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8" name=""/>
            <p:cNvSpPr/>
            <p:nvPr/>
          </p:nvSpPr>
          <p:spPr>
            <a:xfrm>
              <a:off x="2689920" y="3965400"/>
              <a:ext cx="276120" cy="20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2689920" y="3967920"/>
              <a:ext cx="24372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2874600" y="385632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2994480" y="375156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52" name=""/>
            <p:cNvSpPr/>
            <p:nvPr/>
          </p:nvSpPr>
          <p:spPr>
            <a:xfrm>
              <a:off x="2697840" y="3689280"/>
              <a:ext cx="150480" cy="20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2697840" y="3693600"/>
              <a:ext cx="13356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2484360" y="358416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455" name=""/>
            <p:cNvSpPr/>
            <p:nvPr/>
          </p:nvSpPr>
          <p:spPr>
            <a:xfrm>
              <a:off x="2772000" y="3581640"/>
              <a:ext cx="17244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flipV="1">
              <a:off x="2994480" y="3479400"/>
              <a:ext cx="1080" cy="1929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050640" y="3492000"/>
              <a:ext cx="545040" cy="1907280"/>
            </a:xfrm>
            <a:custGeom>
              <a:avLst/>
              <a:gdLst/>
              <a:ahLst/>
              <a:rect l="l" t="t" r="r" b="b"/>
              <a:pathLst>
                <a:path w="700" h="2765">
                  <a:moveTo>
                    <a:pt x="156" y="0"/>
                  </a:moveTo>
                  <a:lnTo>
                    <a:pt x="199" y="77"/>
                  </a:lnTo>
                  <a:lnTo>
                    <a:pt x="241" y="153"/>
                  </a:lnTo>
                  <a:lnTo>
                    <a:pt x="287" y="236"/>
                  </a:lnTo>
                  <a:lnTo>
                    <a:pt x="335" y="312"/>
                  </a:lnTo>
                  <a:lnTo>
                    <a:pt x="382" y="395"/>
                  </a:lnTo>
                  <a:lnTo>
                    <a:pt x="435" y="471"/>
                  </a:lnTo>
                  <a:lnTo>
                    <a:pt x="479" y="547"/>
                  </a:lnTo>
                  <a:lnTo>
                    <a:pt x="522" y="631"/>
                  </a:lnTo>
                  <a:lnTo>
                    <a:pt x="571" y="707"/>
                  </a:lnTo>
                  <a:lnTo>
                    <a:pt x="607" y="790"/>
                  </a:lnTo>
                  <a:lnTo>
                    <a:pt x="639" y="866"/>
                  </a:lnTo>
                  <a:lnTo>
                    <a:pt x="665" y="942"/>
                  </a:lnTo>
                  <a:lnTo>
                    <a:pt x="683" y="1026"/>
                  </a:lnTo>
                  <a:lnTo>
                    <a:pt x="695" y="1102"/>
                  </a:lnTo>
                  <a:lnTo>
                    <a:pt x="700" y="1185"/>
                  </a:lnTo>
                  <a:lnTo>
                    <a:pt x="695" y="1261"/>
                  </a:lnTo>
                  <a:lnTo>
                    <a:pt x="683" y="1337"/>
                  </a:lnTo>
                  <a:lnTo>
                    <a:pt x="665" y="1421"/>
                  </a:lnTo>
                  <a:lnTo>
                    <a:pt x="639" y="1497"/>
                  </a:lnTo>
                  <a:lnTo>
                    <a:pt x="607" y="1580"/>
                  </a:lnTo>
                  <a:lnTo>
                    <a:pt x="571" y="1658"/>
                  </a:lnTo>
                  <a:lnTo>
                    <a:pt x="522" y="1732"/>
                  </a:lnTo>
                  <a:lnTo>
                    <a:pt x="479" y="1815"/>
                  </a:lnTo>
                  <a:lnTo>
                    <a:pt x="435" y="1893"/>
                  </a:lnTo>
                  <a:lnTo>
                    <a:pt x="382" y="1975"/>
                  </a:lnTo>
                  <a:lnTo>
                    <a:pt x="335" y="2051"/>
                  </a:lnTo>
                  <a:lnTo>
                    <a:pt x="287" y="2129"/>
                  </a:lnTo>
                  <a:lnTo>
                    <a:pt x="241" y="2210"/>
                  </a:lnTo>
                  <a:lnTo>
                    <a:pt x="199" y="2286"/>
                  </a:lnTo>
                  <a:lnTo>
                    <a:pt x="156" y="2370"/>
                  </a:lnTo>
                  <a:lnTo>
                    <a:pt x="114" y="2446"/>
                  </a:lnTo>
                  <a:lnTo>
                    <a:pt x="83" y="2522"/>
                  </a:lnTo>
                  <a:lnTo>
                    <a:pt x="53" y="2605"/>
                  </a:lnTo>
                  <a:lnTo>
                    <a:pt x="25" y="2681"/>
                  </a:lnTo>
                  <a:lnTo>
                    <a:pt x="0" y="276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3133440" y="5475600"/>
              <a:ext cx="110736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1459" name=""/>
            <p:cNvSpPr/>
            <p:nvPr/>
          </p:nvSpPr>
          <p:spPr>
            <a:xfrm>
              <a:off x="3864600" y="3556800"/>
              <a:ext cx="3852720" cy="1646640"/>
            </a:xfrm>
            <a:custGeom>
              <a:avLst/>
              <a:gdLst/>
              <a:ahLst/>
              <a:rect l="l" t="t" r="r" b="b"/>
              <a:pathLst>
                <a:path w="4956" h="2385">
                  <a:moveTo>
                    <a:pt x="0" y="1000"/>
                  </a:moveTo>
                  <a:lnTo>
                    <a:pt x="0" y="1045"/>
                  </a:lnTo>
                  <a:lnTo>
                    <a:pt x="39" y="1045"/>
                  </a:lnTo>
                  <a:lnTo>
                    <a:pt x="76" y="1045"/>
                  </a:lnTo>
                  <a:lnTo>
                    <a:pt x="113" y="1045"/>
                  </a:lnTo>
                  <a:lnTo>
                    <a:pt x="153" y="1045"/>
                  </a:lnTo>
                  <a:lnTo>
                    <a:pt x="192" y="1045"/>
                  </a:lnTo>
                  <a:lnTo>
                    <a:pt x="229" y="1045"/>
                  </a:lnTo>
                  <a:lnTo>
                    <a:pt x="266" y="1045"/>
                  </a:lnTo>
                  <a:lnTo>
                    <a:pt x="304" y="1045"/>
                  </a:lnTo>
                  <a:lnTo>
                    <a:pt x="355" y="1045"/>
                  </a:lnTo>
                  <a:lnTo>
                    <a:pt x="391" y="1045"/>
                  </a:lnTo>
                  <a:lnTo>
                    <a:pt x="430" y="1045"/>
                  </a:lnTo>
                  <a:lnTo>
                    <a:pt x="467" y="1045"/>
                  </a:lnTo>
                  <a:lnTo>
                    <a:pt x="506" y="1045"/>
                  </a:lnTo>
                  <a:lnTo>
                    <a:pt x="544" y="1045"/>
                  </a:lnTo>
                  <a:lnTo>
                    <a:pt x="581" y="1045"/>
                  </a:lnTo>
                  <a:lnTo>
                    <a:pt x="581" y="1019"/>
                  </a:lnTo>
                  <a:lnTo>
                    <a:pt x="561" y="1029"/>
                  </a:lnTo>
                  <a:lnTo>
                    <a:pt x="566" y="1038"/>
                  </a:lnTo>
                  <a:lnTo>
                    <a:pt x="573" y="1039"/>
                  </a:lnTo>
                  <a:lnTo>
                    <a:pt x="561" y="1021"/>
                  </a:lnTo>
                  <a:lnTo>
                    <a:pt x="598" y="2108"/>
                  </a:lnTo>
                  <a:lnTo>
                    <a:pt x="600" y="2115"/>
                  </a:lnTo>
                  <a:lnTo>
                    <a:pt x="603" y="2124"/>
                  </a:lnTo>
                  <a:lnTo>
                    <a:pt x="610" y="2126"/>
                  </a:lnTo>
                  <a:lnTo>
                    <a:pt x="618" y="2132"/>
                  </a:lnTo>
                  <a:lnTo>
                    <a:pt x="654" y="2132"/>
                  </a:lnTo>
                  <a:lnTo>
                    <a:pt x="695" y="2132"/>
                  </a:lnTo>
                  <a:lnTo>
                    <a:pt x="746" y="2132"/>
                  </a:lnTo>
                  <a:lnTo>
                    <a:pt x="782" y="2132"/>
                  </a:lnTo>
                  <a:lnTo>
                    <a:pt x="821" y="2132"/>
                  </a:lnTo>
                  <a:lnTo>
                    <a:pt x="858" y="2132"/>
                  </a:lnTo>
                  <a:lnTo>
                    <a:pt x="897" y="2132"/>
                  </a:lnTo>
                  <a:lnTo>
                    <a:pt x="935" y="2132"/>
                  </a:lnTo>
                  <a:lnTo>
                    <a:pt x="972" y="2132"/>
                  </a:lnTo>
                  <a:lnTo>
                    <a:pt x="1010" y="2132"/>
                  </a:lnTo>
                  <a:lnTo>
                    <a:pt x="1049" y="2132"/>
                  </a:lnTo>
                  <a:lnTo>
                    <a:pt x="1086" y="2132"/>
                  </a:lnTo>
                  <a:lnTo>
                    <a:pt x="1137" y="2132"/>
                  </a:lnTo>
                  <a:lnTo>
                    <a:pt x="1173" y="2132"/>
                  </a:lnTo>
                  <a:lnTo>
                    <a:pt x="1214" y="2132"/>
                  </a:lnTo>
                  <a:lnTo>
                    <a:pt x="1214" y="2106"/>
                  </a:lnTo>
                  <a:lnTo>
                    <a:pt x="1195" y="2115"/>
                  </a:lnTo>
                  <a:lnTo>
                    <a:pt x="1198" y="2124"/>
                  </a:lnTo>
                  <a:lnTo>
                    <a:pt x="1205" y="2126"/>
                  </a:lnTo>
                  <a:lnTo>
                    <a:pt x="1193" y="2112"/>
                  </a:lnTo>
                  <a:lnTo>
                    <a:pt x="1231" y="2365"/>
                  </a:lnTo>
                  <a:lnTo>
                    <a:pt x="1232" y="2369"/>
                  </a:lnTo>
                  <a:lnTo>
                    <a:pt x="1236" y="2378"/>
                  </a:lnTo>
                  <a:lnTo>
                    <a:pt x="1241" y="2380"/>
                  </a:lnTo>
                  <a:lnTo>
                    <a:pt x="1249" y="2385"/>
                  </a:lnTo>
                  <a:lnTo>
                    <a:pt x="1288" y="2385"/>
                  </a:lnTo>
                  <a:lnTo>
                    <a:pt x="1326" y="2385"/>
                  </a:lnTo>
                  <a:lnTo>
                    <a:pt x="1365" y="2385"/>
                  </a:lnTo>
                  <a:lnTo>
                    <a:pt x="1402" y="2385"/>
                  </a:lnTo>
                  <a:lnTo>
                    <a:pt x="1440" y="2385"/>
                  </a:lnTo>
                  <a:lnTo>
                    <a:pt x="1477" y="2385"/>
                  </a:lnTo>
                  <a:lnTo>
                    <a:pt x="1526" y="2385"/>
                  </a:lnTo>
                  <a:lnTo>
                    <a:pt x="1564" y="2385"/>
                  </a:lnTo>
                  <a:lnTo>
                    <a:pt x="1603" y="2385"/>
                  </a:lnTo>
                  <a:lnTo>
                    <a:pt x="1640" y="2385"/>
                  </a:lnTo>
                  <a:lnTo>
                    <a:pt x="1678" y="2385"/>
                  </a:lnTo>
                  <a:lnTo>
                    <a:pt x="1717" y="2385"/>
                  </a:lnTo>
                  <a:lnTo>
                    <a:pt x="1754" y="2385"/>
                  </a:lnTo>
                  <a:lnTo>
                    <a:pt x="1792" y="2385"/>
                  </a:lnTo>
                  <a:lnTo>
                    <a:pt x="1831" y="2385"/>
                  </a:lnTo>
                  <a:lnTo>
                    <a:pt x="1831" y="2383"/>
                  </a:lnTo>
                  <a:lnTo>
                    <a:pt x="1839" y="2380"/>
                  </a:lnTo>
                  <a:lnTo>
                    <a:pt x="1844" y="2378"/>
                  </a:lnTo>
                  <a:lnTo>
                    <a:pt x="1850" y="2369"/>
                  </a:lnTo>
                  <a:lnTo>
                    <a:pt x="1853" y="2362"/>
                  </a:lnTo>
                  <a:lnTo>
                    <a:pt x="1890" y="1144"/>
                  </a:lnTo>
                  <a:lnTo>
                    <a:pt x="1868" y="1141"/>
                  </a:lnTo>
                  <a:lnTo>
                    <a:pt x="1868" y="1164"/>
                  </a:lnTo>
                  <a:lnTo>
                    <a:pt x="1877" y="1163"/>
                  </a:lnTo>
                  <a:lnTo>
                    <a:pt x="1884" y="1157"/>
                  </a:lnTo>
                  <a:lnTo>
                    <a:pt x="1887" y="1150"/>
                  </a:lnTo>
                  <a:lnTo>
                    <a:pt x="1868" y="1164"/>
                  </a:lnTo>
                  <a:lnTo>
                    <a:pt x="1919" y="1164"/>
                  </a:lnTo>
                  <a:lnTo>
                    <a:pt x="1955" y="1164"/>
                  </a:lnTo>
                  <a:lnTo>
                    <a:pt x="1994" y="1164"/>
                  </a:lnTo>
                  <a:lnTo>
                    <a:pt x="2031" y="1164"/>
                  </a:lnTo>
                  <a:lnTo>
                    <a:pt x="2071" y="1164"/>
                  </a:lnTo>
                  <a:lnTo>
                    <a:pt x="2108" y="1164"/>
                  </a:lnTo>
                  <a:lnTo>
                    <a:pt x="2145" y="1164"/>
                  </a:lnTo>
                  <a:lnTo>
                    <a:pt x="2183" y="1164"/>
                  </a:lnTo>
                  <a:lnTo>
                    <a:pt x="2218" y="1164"/>
                  </a:lnTo>
                  <a:lnTo>
                    <a:pt x="2259" y="1164"/>
                  </a:lnTo>
                  <a:lnTo>
                    <a:pt x="2310" y="1164"/>
                  </a:lnTo>
                  <a:lnTo>
                    <a:pt x="2346" y="1164"/>
                  </a:lnTo>
                  <a:lnTo>
                    <a:pt x="2385" y="1164"/>
                  </a:lnTo>
                  <a:lnTo>
                    <a:pt x="2423" y="1164"/>
                  </a:lnTo>
                  <a:lnTo>
                    <a:pt x="2462" y="1164"/>
                  </a:lnTo>
                  <a:lnTo>
                    <a:pt x="2462" y="1164"/>
                  </a:lnTo>
                  <a:lnTo>
                    <a:pt x="2470" y="1163"/>
                  </a:lnTo>
                  <a:lnTo>
                    <a:pt x="2477" y="1157"/>
                  </a:lnTo>
                  <a:lnTo>
                    <a:pt x="2480" y="1150"/>
                  </a:lnTo>
                  <a:lnTo>
                    <a:pt x="2482" y="1144"/>
                  </a:lnTo>
                  <a:lnTo>
                    <a:pt x="2521" y="23"/>
                  </a:lnTo>
                  <a:lnTo>
                    <a:pt x="2499" y="23"/>
                  </a:lnTo>
                  <a:lnTo>
                    <a:pt x="2499" y="43"/>
                  </a:lnTo>
                  <a:lnTo>
                    <a:pt x="2508" y="41"/>
                  </a:lnTo>
                  <a:lnTo>
                    <a:pt x="2514" y="40"/>
                  </a:lnTo>
                  <a:lnTo>
                    <a:pt x="2516" y="32"/>
                  </a:lnTo>
                  <a:lnTo>
                    <a:pt x="2499" y="45"/>
                  </a:lnTo>
                  <a:lnTo>
                    <a:pt x="2536" y="45"/>
                  </a:lnTo>
                  <a:lnTo>
                    <a:pt x="2576" y="45"/>
                  </a:lnTo>
                  <a:lnTo>
                    <a:pt x="2613" y="45"/>
                  </a:lnTo>
                  <a:lnTo>
                    <a:pt x="2650" y="45"/>
                  </a:lnTo>
                  <a:lnTo>
                    <a:pt x="2700" y="45"/>
                  </a:lnTo>
                  <a:lnTo>
                    <a:pt x="2737" y="45"/>
                  </a:lnTo>
                  <a:lnTo>
                    <a:pt x="2776" y="45"/>
                  </a:lnTo>
                  <a:lnTo>
                    <a:pt x="2814" y="45"/>
                  </a:lnTo>
                  <a:lnTo>
                    <a:pt x="2853" y="45"/>
                  </a:lnTo>
                  <a:lnTo>
                    <a:pt x="2890" y="45"/>
                  </a:lnTo>
                  <a:lnTo>
                    <a:pt x="2929" y="45"/>
                  </a:lnTo>
                  <a:lnTo>
                    <a:pt x="2967" y="45"/>
                  </a:lnTo>
                  <a:lnTo>
                    <a:pt x="3004" y="45"/>
                  </a:lnTo>
                  <a:lnTo>
                    <a:pt x="3041" y="45"/>
                  </a:lnTo>
                  <a:lnTo>
                    <a:pt x="3092" y="45"/>
                  </a:lnTo>
                  <a:lnTo>
                    <a:pt x="3092" y="23"/>
                  </a:lnTo>
                  <a:lnTo>
                    <a:pt x="3074" y="32"/>
                  </a:lnTo>
                  <a:lnTo>
                    <a:pt x="3077" y="40"/>
                  </a:lnTo>
                  <a:lnTo>
                    <a:pt x="3084" y="41"/>
                  </a:lnTo>
                  <a:lnTo>
                    <a:pt x="3072" y="23"/>
                  </a:lnTo>
                  <a:lnTo>
                    <a:pt x="3109" y="530"/>
                  </a:lnTo>
                  <a:lnTo>
                    <a:pt x="3111" y="539"/>
                  </a:lnTo>
                  <a:lnTo>
                    <a:pt x="3115" y="547"/>
                  </a:lnTo>
                  <a:lnTo>
                    <a:pt x="3120" y="549"/>
                  </a:lnTo>
                  <a:lnTo>
                    <a:pt x="3128" y="552"/>
                  </a:lnTo>
                  <a:lnTo>
                    <a:pt x="3167" y="552"/>
                  </a:lnTo>
                  <a:lnTo>
                    <a:pt x="3205" y="552"/>
                  </a:lnTo>
                  <a:lnTo>
                    <a:pt x="3242" y="552"/>
                  </a:lnTo>
                  <a:lnTo>
                    <a:pt x="3281" y="552"/>
                  </a:lnTo>
                  <a:lnTo>
                    <a:pt x="3319" y="552"/>
                  </a:lnTo>
                  <a:lnTo>
                    <a:pt x="3356" y="552"/>
                  </a:lnTo>
                  <a:lnTo>
                    <a:pt x="3392" y="552"/>
                  </a:lnTo>
                  <a:lnTo>
                    <a:pt x="3433" y="552"/>
                  </a:lnTo>
                  <a:lnTo>
                    <a:pt x="3484" y="552"/>
                  </a:lnTo>
                  <a:lnTo>
                    <a:pt x="3519" y="552"/>
                  </a:lnTo>
                  <a:lnTo>
                    <a:pt x="3558" y="552"/>
                  </a:lnTo>
                  <a:lnTo>
                    <a:pt x="3596" y="552"/>
                  </a:lnTo>
                  <a:lnTo>
                    <a:pt x="3635" y="552"/>
                  </a:lnTo>
                  <a:lnTo>
                    <a:pt x="3672" y="552"/>
                  </a:lnTo>
                  <a:lnTo>
                    <a:pt x="3710" y="552"/>
                  </a:lnTo>
                  <a:lnTo>
                    <a:pt x="3710" y="530"/>
                  </a:lnTo>
                  <a:lnTo>
                    <a:pt x="3689" y="539"/>
                  </a:lnTo>
                  <a:lnTo>
                    <a:pt x="3694" y="547"/>
                  </a:lnTo>
                  <a:lnTo>
                    <a:pt x="3701" y="549"/>
                  </a:lnTo>
                  <a:lnTo>
                    <a:pt x="3689" y="532"/>
                  </a:lnTo>
                  <a:lnTo>
                    <a:pt x="3727" y="818"/>
                  </a:lnTo>
                  <a:lnTo>
                    <a:pt x="3728" y="822"/>
                  </a:lnTo>
                  <a:lnTo>
                    <a:pt x="3732" y="829"/>
                  </a:lnTo>
                  <a:lnTo>
                    <a:pt x="3739" y="833"/>
                  </a:lnTo>
                  <a:lnTo>
                    <a:pt x="3747" y="838"/>
                  </a:lnTo>
                  <a:lnTo>
                    <a:pt x="3786" y="838"/>
                  </a:lnTo>
                  <a:lnTo>
                    <a:pt x="3824" y="838"/>
                  </a:lnTo>
                  <a:lnTo>
                    <a:pt x="3875" y="838"/>
                  </a:lnTo>
                  <a:lnTo>
                    <a:pt x="3910" y="838"/>
                  </a:lnTo>
                  <a:lnTo>
                    <a:pt x="3951" y="838"/>
                  </a:lnTo>
                  <a:lnTo>
                    <a:pt x="3987" y="838"/>
                  </a:lnTo>
                  <a:lnTo>
                    <a:pt x="4026" y="838"/>
                  </a:lnTo>
                  <a:lnTo>
                    <a:pt x="4063" y="838"/>
                  </a:lnTo>
                  <a:lnTo>
                    <a:pt x="4101" y="838"/>
                  </a:lnTo>
                  <a:lnTo>
                    <a:pt x="4140" y="838"/>
                  </a:lnTo>
                  <a:lnTo>
                    <a:pt x="4177" y="838"/>
                  </a:lnTo>
                  <a:lnTo>
                    <a:pt x="4215" y="838"/>
                  </a:lnTo>
                  <a:lnTo>
                    <a:pt x="4264" y="838"/>
                  </a:lnTo>
                  <a:lnTo>
                    <a:pt x="4301" y="838"/>
                  </a:lnTo>
                  <a:lnTo>
                    <a:pt x="4341" y="838"/>
                  </a:lnTo>
                  <a:lnTo>
                    <a:pt x="4341" y="837"/>
                  </a:lnTo>
                  <a:lnTo>
                    <a:pt x="4349" y="833"/>
                  </a:lnTo>
                  <a:lnTo>
                    <a:pt x="4356" y="829"/>
                  </a:lnTo>
                  <a:lnTo>
                    <a:pt x="4359" y="822"/>
                  </a:lnTo>
                  <a:lnTo>
                    <a:pt x="4361" y="818"/>
                  </a:lnTo>
                  <a:lnTo>
                    <a:pt x="4398" y="492"/>
                  </a:lnTo>
                  <a:lnTo>
                    <a:pt x="4378" y="487"/>
                  </a:lnTo>
                  <a:lnTo>
                    <a:pt x="4378" y="510"/>
                  </a:lnTo>
                  <a:lnTo>
                    <a:pt x="4386" y="507"/>
                  </a:lnTo>
                  <a:lnTo>
                    <a:pt x="4393" y="503"/>
                  </a:lnTo>
                  <a:lnTo>
                    <a:pt x="4395" y="496"/>
                  </a:lnTo>
                  <a:lnTo>
                    <a:pt x="4378" y="512"/>
                  </a:lnTo>
                  <a:lnTo>
                    <a:pt x="4415" y="512"/>
                  </a:lnTo>
                  <a:lnTo>
                    <a:pt x="4454" y="512"/>
                  </a:lnTo>
                  <a:lnTo>
                    <a:pt x="4492" y="512"/>
                  </a:lnTo>
                  <a:lnTo>
                    <a:pt x="4531" y="512"/>
                  </a:lnTo>
                  <a:lnTo>
                    <a:pt x="4568" y="512"/>
                  </a:lnTo>
                  <a:lnTo>
                    <a:pt x="4606" y="512"/>
                  </a:lnTo>
                  <a:lnTo>
                    <a:pt x="4657" y="512"/>
                  </a:lnTo>
                  <a:lnTo>
                    <a:pt x="4693" y="512"/>
                  </a:lnTo>
                  <a:lnTo>
                    <a:pt x="4732" y="512"/>
                  </a:lnTo>
                  <a:lnTo>
                    <a:pt x="4769" y="512"/>
                  </a:lnTo>
                  <a:lnTo>
                    <a:pt x="4806" y="512"/>
                  </a:lnTo>
                  <a:lnTo>
                    <a:pt x="4846" y="512"/>
                  </a:lnTo>
                  <a:lnTo>
                    <a:pt x="4883" y="512"/>
                  </a:lnTo>
                  <a:lnTo>
                    <a:pt x="4920" y="512"/>
                  </a:lnTo>
                  <a:lnTo>
                    <a:pt x="4956" y="512"/>
                  </a:lnTo>
                  <a:lnTo>
                    <a:pt x="4956" y="467"/>
                  </a:lnTo>
                  <a:lnTo>
                    <a:pt x="4920" y="467"/>
                  </a:lnTo>
                  <a:lnTo>
                    <a:pt x="4883" y="467"/>
                  </a:lnTo>
                  <a:lnTo>
                    <a:pt x="4846" y="467"/>
                  </a:lnTo>
                  <a:lnTo>
                    <a:pt x="4806" y="467"/>
                  </a:lnTo>
                  <a:lnTo>
                    <a:pt x="4769" y="467"/>
                  </a:lnTo>
                  <a:lnTo>
                    <a:pt x="4732" y="467"/>
                  </a:lnTo>
                  <a:lnTo>
                    <a:pt x="4693" y="467"/>
                  </a:lnTo>
                  <a:lnTo>
                    <a:pt x="4657" y="467"/>
                  </a:lnTo>
                  <a:lnTo>
                    <a:pt x="4606" y="467"/>
                  </a:lnTo>
                  <a:lnTo>
                    <a:pt x="4568" y="467"/>
                  </a:lnTo>
                  <a:lnTo>
                    <a:pt x="4531" y="467"/>
                  </a:lnTo>
                  <a:lnTo>
                    <a:pt x="4492" y="467"/>
                  </a:lnTo>
                  <a:lnTo>
                    <a:pt x="4454" y="467"/>
                  </a:lnTo>
                  <a:lnTo>
                    <a:pt x="4415" y="467"/>
                  </a:lnTo>
                  <a:lnTo>
                    <a:pt x="4378" y="467"/>
                  </a:lnTo>
                  <a:lnTo>
                    <a:pt x="4369" y="467"/>
                  </a:lnTo>
                  <a:lnTo>
                    <a:pt x="4361" y="471"/>
                  </a:lnTo>
                  <a:lnTo>
                    <a:pt x="4359" y="478"/>
                  </a:lnTo>
                  <a:lnTo>
                    <a:pt x="4358" y="487"/>
                  </a:lnTo>
                  <a:lnTo>
                    <a:pt x="4358" y="485"/>
                  </a:lnTo>
                  <a:lnTo>
                    <a:pt x="4318" y="811"/>
                  </a:lnTo>
                  <a:lnTo>
                    <a:pt x="4341" y="793"/>
                  </a:lnTo>
                  <a:lnTo>
                    <a:pt x="4332" y="793"/>
                  </a:lnTo>
                  <a:lnTo>
                    <a:pt x="4325" y="797"/>
                  </a:lnTo>
                  <a:lnTo>
                    <a:pt x="4322" y="804"/>
                  </a:lnTo>
                  <a:lnTo>
                    <a:pt x="4318" y="813"/>
                  </a:lnTo>
                  <a:lnTo>
                    <a:pt x="4341" y="813"/>
                  </a:lnTo>
                  <a:lnTo>
                    <a:pt x="4341" y="793"/>
                  </a:lnTo>
                  <a:lnTo>
                    <a:pt x="4301" y="793"/>
                  </a:lnTo>
                  <a:lnTo>
                    <a:pt x="4264" y="793"/>
                  </a:lnTo>
                  <a:lnTo>
                    <a:pt x="4215" y="793"/>
                  </a:lnTo>
                  <a:lnTo>
                    <a:pt x="4177" y="793"/>
                  </a:lnTo>
                  <a:lnTo>
                    <a:pt x="4140" y="793"/>
                  </a:lnTo>
                  <a:lnTo>
                    <a:pt x="4101" y="793"/>
                  </a:lnTo>
                  <a:lnTo>
                    <a:pt x="4063" y="793"/>
                  </a:lnTo>
                  <a:lnTo>
                    <a:pt x="4026" y="793"/>
                  </a:lnTo>
                  <a:lnTo>
                    <a:pt x="3987" y="793"/>
                  </a:lnTo>
                  <a:lnTo>
                    <a:pt x="3951" y="793"/>
                  </a:lnTo>
                  <a:lnTo>
                    <a:pt x="3910" y="793"/>
                  </a:lnTo>
                  <a:lnTo>
                    <a:pt x="3875" y="793"/>
                  </a:lnTo>
                  <a:lnTo>
                    <a:pt x="3824" y="793"/>
                  </a:lnTo>
                  <a:lnTo>
                    <a:pt x="3786" y="793"/>
                  </a:lnTo>
                  <a:lnTo>
                    <a:pt x="3747" y="793"/>
                  </a:lnTo>
                  <a:lnTo>
                    <a:pt x="3766" y="804"/>
                  </a:lnTo>
                  <a:lnTo>
                    <a:pt x="3762" y="797"/>
                  </a:lnTo>
                  <a:lnTo>
                    <a:pt x="3756" y="793"/>
                  </a:lnTo>
                  <a:lnTo>
                    <a:pt x="3747" y="813"/>
                  </a:lnTo>
                  <a:lnTo>
                    <a:pt x="3766" y="811"/>
                  </a:lnTo>
                  <a:lnTo>
                    <a:pt x="3730" y="529"/>
                  </a:lnTo>
                  <a:lnTo>
                    <a:pt x="3728" y="521"/>
                  </a:lnTo>
                  <a:lnTo>
                    <a:pt x="3723" y="512"/>
                  </a:lnTo>
                  <a:lnTo>
                    <a:pt x="3718" y="510"/>
                  </a:lnTo>
                  <a:lnTo>
                    <a:pt x="3710" y="507"/>
                  </a:lnTo>
                  <a:lnTo>
                    <a:pt x="3672" y="507"/>
                  </a:lnTo>
                  <a:lnTo>
                    <a:pt x="3635" y="507"/>
                  </a:lnTo>
                  <a:lnTo>
                    <a:pt x="3596" y="507"/>
                  </a:lnTo>
                  <a:lnTo>
                    <a:pt x="3558" y="507"/>
                  </a:lnTo>
                  <a:lnTo>
                    <a:pt x="3519" y="507"/>
                  </a:lnTo>
                  <a:lnTo>
                    <a:pt x="3484" y="507"/>
                  </a:lnTo>
                  <a:lnTo>
                    <a:pt x="3433" y="507"/>
                  </a:lnTo>
                  <a:lnTo>
                    <a:pt x="3392" y="507"/>
                  </a:lnTo>
                  <a:lnTo>
                    <a:pt x="3356" y="507"/>
                  </a:lnTo>
                  <a:lnTo>
                    <a:pt x="3319" y="507"/>
                  </a:lnTo>
                  <a:lnTo>
                    <a:pt x="3281" y="507"/>
                  </a:lnTo>
                  <a:lnTo>
                    <a:pt x="3242" y="507"/>
                  </a:lnTo>
                  <a:lnTo>
                    <a:pt x="3205" y="507"/>
                  </a:lnTo>
                  <a:lnTo>
                    <a:pt x="3167" y="507"/>
                  </a:lnTo>
                  <a:lnTo>
                    <a:pt x="3128" y="507"/>
                  </a:lnTo>
                  <a:lnTo>
                    <a:pt x="3149" y="521"/>
                  </a:lnTo>
                  <a:lnTo>
                    <a:pt x="3145" y="512"/>
                  </a:lnTo>
                  <a:lnTo>
                    <a:pt x="3137" y="510"/>
                  </a:lnTo>
                  <a:lnTo>
                    <a:pt x="3128" y="530"/>
                  </a:lnTo>
                  <a:lnTo>
                    <a:pt x="3152" y="529"/>
                  </a:lnTo>
                  <a:lnTo>
                    <a:pt x="3115" y="21"/>
                  </a:lnTo>
                  <a:lnTo>
                    <a:pt x="3111" y="14"/>
                  </a:lnTo>
                  <a:lnTo>
                    <a:pt x="3108" y="5"/>
                  </a:lnTo>
                  <a:lnTo>
                    <a:pt x="3101" y="3"/>
                  </a:lnTo>
                  <a:lnTo>
                    <a:pt x="3092" y="0"/>
                  </a:lnTo>
                  <a:lnTo>
                    <a:pt x="3041" y="0"/>
                  </a:lnTo>
                  <a:lnTo>
                    <a:pt x="3004" y="0"/>
                  </a:lnTo>
                  <a:lnTo>
                    <a:pt x="2967" y="0"/>
                  </a:lnTo>
                  <a:lnTo>
                    <a:pt x="2929" y="0"/>
                  </a:lnTo>
                  <a:lnTo>
                    <a:pt x="2890" y="0"/>
                  </a:lnTo>
                  <a:lnTo>
                    <a:pt x="2853" y="0"/>
                  </a:lnTo>
                  <a:lnTo>
                    <a:pt x="2814" y="0"/>
                  </a:lnTo>
                  <a:lnTo>
                    <a:pt x="2776" y="0"/>
                  </a:lnTo>
                  <a:lnTo>
                    <a:pt x="2737" y="0"/>
                  </a:lnTo>
                  <a:lnTo>
                    <a:pt x="2700" y="0"/>
                  </a:lnTo>
                  <a:lnTo>
                    <a:pt x="2650" y="0"/>
                  </a:lnTo>
                  <a:lnTo>
                    <a:pt x="2613" y="0"/>
                  </a:lnTo>
                  <a:lnTo>
                    <a:pt x="2576" y="0"/>
                  </a:lnTo>
                  <a:lnTo>
                    <a:pt x="2536" y="0"/>
                  </a:lnTo>
                  <a:lnTo>
                    <a:pt x="2499" y="0"/>
                  </a:lnTo>
                  <a:lnTo>
                    <a:pt x="2491" y="3"/>
                  </a:lnTo>
                  <a:lnTo>
                    <a:pt x="2482" y="5"/>
                  </a:lnTo>
                  <a:lnTo>
                    <a:pt x="2480" y="14"/>
                  </a:lnTo>
                  <a:lnTo>
                    <a:pt x="2479" y="23"/>
                  </a:lnTo>
                  <a:lnTo>
                    <a:pt x="2440" y="1141"/>
                  </a:lnTo>
                  <a:lnTo>
                    <a:pt x="2462" y="1119"/>
                  </a:lnTo>
                  <a:lnTo>
                    <a:pt x="2453" y="1121"/>
                  </a:lnTo>
                  <a:lnTo>
                    <a:pt x="2446" y="1126"/>
                  </a:lnTo>
                  <a:lnTo>
                    <a:pt x="2443" y="1132"/>
                  </a:lnTo>
                  <a:lnTo>
                    <a:pt x="2440" y="1141"/>
                  </a:lnTo>
                  <a:lnTo>
                    <a:pt x="2462" y="1141"/>
                  </a:lnTo>
                  <a:lnTo>
                    <a:pt x="2462" y="1119"/>
                  </a:lnTo>
                  <a:lnTo>
                    <a:pt x="2423" y="1119"/>
                  </a:lnTo>
                  <a:lnTo>
                    <a:pt x="2385" y="1119"/>
                  </a:lnTo>
                  <a:lnTo>
                    <a:pt x="2346" y="1119"/>
                  </a:lnTo>
                  <a:lnTo>
                    <a:pt x="2310" y="1119"/>
                  </a:lnTo>
                  <a:lnTo>
                    <a:pt x="2259" y="1119"/>
                  </a:lnTo>
                  <a:lnTo>
                    <a:pt x="2218" y="1119"/>
                  </a:lnTo>
                  <a:lnTo>
                    <a:pt x="2183" y="1119"/>
                  </a:lnTo>
                  <a:lnTo>
                    <a:pt x="2145" y="1119"/>
                  </a:lnTo>
                  <a:lnTo>
                    <a:pt x="2108" y="1119"/>
                  </a:lnTo>
                  <a:lnTo>
                    <a:pt x="2071" y="1119"/>
                  </a:lnTo>
                  <a:lnTo>
                    <a:pt x="2031" y="1119"/>
                  </a:lnTo>
                  <a:lnTo>
                    <a:pt x="1994" y="1119"/>
                  </a:lnTo>
                  <a:lnTo>
                    <a:pt x="1955" y="1119"/>
                  </a:lnTo>
                  <a:lnTo>
                    <a:pt x="1919" y="1119"/>
                  </a:lnTo>
                  <a:lnTo>
                    <a:pt x="1868" y="1119"/>
                  </a:lnTo>
                  <a:lnTo>
                    <a:pt x="1860" y="1121"/>
                  </a:lnTo>
                  <a:lnTo>
                    <a:pt x="1853" y="1126"/>
                  </a:lnTo>
                  <a:lnTo>
                    <a:pt x="1850" y="1132"/>
                  </a:lnTo>
                  <a:lnTo>
                    <a:pt x="1848" y="1141"/>
                  </a:lnTo>
                  <a:lnTo>
                    <a:pt x="1810" y="2360"/>
                  </a:lnTo>
                  <a:lnTo>
                    <a:pt x="1831" y="2340"/>
                  </a:lnTo>
                  <a:lnTo>
                    <a:pt x="1822" y="2342"/>
                  </a:lnTo>
                  <a:lnTo>
                    <a:pt x="1816" y="2344"/>
                  </a:lnTo>
                  <a:lnTo>
                    <a:pt x="1810" y="2351"/>
                  </a:lnTo>
                  <a:lnTo>
                    <a:pt x="1810" y="2360"/>
                  </a:lnTo>
                  <a:lnTo>
                    <a:pt x="1831" y="2360"/>
                  </a:lnTo>
                  <a:lnTo>
                    <a:pt x="1831" y="2340"/>
                  </a:lnTo>
                  <a:lnTo>
                    <a:pt x="1792" y="2340"/>
                  </a:lnTo>
                  <a:lnTo>
                    <a:pt x="1754" y="2340"/>
                  </a:lnTo>
                  <a:lnTo>
                    <a:pt x="1717" y="2340"/>
                  </a:lnTo>
                  <a:lnTo>
                    <a:pt x="1678" y="2340"/>
                  </a:lnTo>
                  <a:lnTo>
                    <a:pt x="1640" y="2340"/>
                  </a:lnTo>
                  <a:lnTo>
                    <a:pt x="1603" y="2340"/>
                  </a:lnTo>
                  <a:lnTo>
                    <a:pt x="1564" y="2340"/>
                  </a:lnTo>
                  <a:lnTo>
                    <a:pt x="1526" y="2340"/>
                  </a:lnTo>
                  <a:lnTo>
                    <a:pt x="1477" y="2340"/>
                  </a:lnTo>
                  <a:lnTo>
                    <a:pt x="1440" y="2340"/>
                  </a:lnTo>
                  <a:lnTo>
                    <a:pt x="1402" y="2340"/>
                  </a:lnTo>
                  <a:lnTo>
                    <a:pt x="1365" y="2340"/>
                  </a:lnTo>
                  <a:lnTo>
                    <a:pt x="1326" y="2340"/>
                  </a:lnTo>
                  <a:lnTo>
                    <a:pt x="1288" y="2340"/>
                  </a:lnTo>
                  <a:lnTo>
                    <a:pt x="1249" y="2340"/>
                  </a:lnTo>
                  <a:lnTo>
                    <a:pt x="1270" y="2351"/>
                  </a:lnTo>
                  <a:lnTo>
                    <a:pt x="1266" y="2344"/>
                  </a:lnTo>
                  <a:lnTo>
                    <a:pt x="1258" y="2342"/>
                  </a:lnTo>
                  <a:lnTo>
                    <a:pt x="1249" y="2360"/>
                  </a:lnTo>
                  <a:lnTo>
                    <a:pt x="1271" y="2358"/>
                  </a:lnTo>
                  <a:lnTo>
                    <a:pt x="1232" y="2104"/>
                  </a:lnTo>
                  <a:lnTo>
                    <a:pt x="1232" y="2097"/>
                  </a:lnTo>
                  <a:lnTo>
                    <a:pt x="1229" y="2090"/>
                  </a:lnTo>
                  <a:lnTo>
                    <a:pt x="1222" y="2088"/>
                  </a:lnTo>
                  <a:lnTo>
                    <a:pt x="1214" y="2086"/>
                  </a:lnTo>
                  <a:lnTo>
                    <a:pt x="1173" y="2086"/>
                  </a:lnTo>
                  <a:lnTo>
                    <a:pt x="1137" y="2086"/>
                  </a:lnTo>
                  <a:lnTo>
                    <a:pt x="1086" y="2086"/>
                  </a:lnTo>
                  <a:lnTo>
                    <a:pt x="1049" y="2086"/>
                  </a:lnTo>
                  <a:lnTo>
                    <a:pt x="1010" y="2086"/>
                  </a:lnTo>
                  <a:lnTo>
                    <a:pt x="972" y="2086"/>
                  </a:lnTo>
                  <a:lnTo>
                    <a:pt x="935" y="2086"/>
                  </a:lnTo>
                  <a:lnTo>
                    <a:pt x="897" y="2086"/>
                  </a:lnTo>
                  <a:lnTo>
                    <a:pt x="858" y="2086"/>
                  </a:lnTo>
                  <a:lnTo>
                    <a:pt x="821" y="2086"/>
                  </a:lnTo>
                  <a:lnTo>
                    <a:pt x="782" y="2086"/>
                  </a:lnTo>
                  <a:lnTo>
                    <a:pt x="746" y="2086"/>
                  </a:lnTo>
                  <a:lnTo>
                    <a:pt x="695" y="2086"/>
                  </a:lnTo>
                  <a:lnTo>
                    <a:pt x="654" y="2086"/>
                  </a:lnTo>
                  <a:lnTo>
                    <a:pt x="618" y="2086"/>
                  </a:lnTo>
                  <a:lnTo>
                    <a:pt x="637" y="2097"/>
                  </a:lnTo>
                  <a:lnTo>
                    <a:pt x="634" y="2090"/>
                  </a:lnTo>
                  <a:lnTo>
                    <a:pt x="627" y="2088"/>
                  </a:lnTo>
                  <a:lnTo>
                    <a:pt x="618" y="2106"/>
                  </a:lnTo>
                  <a:lnTo>
                    <a:pt x="641" y="2106"/>
                  </a:lnTo>
                  <a:lnTo>
                    <a:pt x="603" y="1019"/>
                  </a:lnTo>
                  <a:lnTo>
                    <a:pt x="600" y="1010"/>
                  </a:lnTo>
                  <a:lnTo>
                    <a:pt x="595" y="1003"/>
                  </a:lnTo>
                  <a:lnTo>
                    <a:pt x="590" y="1001"/>
                  </a:lnTo>
                  <a:lnTo>
                    <a:pt x="581" y="1000"/>
                  </a:lnTo>
                  <a:lnTo>
                    <a:pt x="544" y="1000"/>
                  </a:lnTo>
                  <a:lnTo>
                    <a:pt x="506" y="1000"/>
                  </a:lnTo>
                  <a:lnTo>
                    <a:pt x="467" y="1000"/>
                  </a:lnTo>
                  <a:lnTo>
                    <a:pt x="430" y="1000"/>
                  </a:lnTo>
                  <a:lnTo>
                    <a:pt x="391" y="1000"/>
                  </a:lnTo>
                  <a:lnTo>
                    <a:pt x="355" y="1000"/>
                  </a:lnTo>
                  <a:lnTo>
                    <a:pt x="304" y="1000"/>
                  </a:lnTo>
                  <a:lnTo>
                    <a:pt x="266" y="1000"/>
                  </a:lnTo>
                  <a:lnTo>
                    <a:pt x="229" y="1000"/>
                  </a:lnTo>
                  <a:lnTo>
                    <a:pt x="192" y="1000"/>
                  </a:lnTo>
                  <a:lnTo>
                    <a:pt x="153" y="1000"/>
                  </a:lnTo>
                  <a:lnTo>
                    <a:pt x="113" y="1000"/>
                  </a:lnTo>
                  <a:lnTo>
                    <a:pt x="76" y="1000"/>
                  </a:lnTo>
                  <a:lnTo>
                    <a:pt x="39" y="1000"/>
                  </a:lnTo>
                  <a:lnTo>
                    <a:pt x="0" y="100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3836880" y="5402160"/>
              <a:ext cx="4255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1" name=""/>
            <p:cNvSpPr/>
            <p:nvPr/>
          </p:nvSpPr>
          <p:spPr>
            <a:xfrm>
              <a:off x="3836880" y="5402160"/>
              <a:ext cx="4255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2" name=""/>
            <p:cNvSpPr/>
            <p:nvPr/>
          </p:nvSpPr>
          <p:spPr>
            <a:xfrm>
              <a:off x="3807000" y="5445000"/>
              <a:ext cx="13356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flipV="1">
              <a:off x="4444200" y="5374800"/>
              <a:ext cx="1080" cy="27360"/>
            </a:xfrm>
            <a:prstGeom prst="line">
              <a:avLst/>
            </a:prstGeom>
            <a:ln w="14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4" name=""/>
            <p:cNvSpPr/>
            <p:nvPr/>
          </p:nvSpPr>
          <p:spPr>
            <a:xfrm>
              <a:off x="4374720" y="5445000"/>
              <a:ext cx="20628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3652200" y="5489280"/>
              <a:ext cx="118512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1466" name=""/>
            <p:cNvSpPr/>
            <p:nvPr/>
          </p:nvSpPr>
          <p:spPr>
            <a:xfrm flipV="1">
              <a:off x="5051880" y="5374800"/>
              <a:ext cx="1440" cy="27360"/>
            </a:xfrm>
            <a:prstGeom prst="line">
              <a:avLst/>
            </a:prstGeom>
            <a:ln w="14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7" name=""/>
            <p:cNvSpPr/>
            <p:nvPr/>
          </p:nvSpPr>
          <p:spPr>
            <a:xfrm>
              <a:off x="4983480" y="5445000"/>
              <a:ext cx="20808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4248000" y="5475600"/>
              <a:ext cx="118512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Times New Roman"/>
              </a:endParaRPr>
            </a:p>
          </p:txBody>
        </p:sp>
        <p:sp>
          <p:nvSpPr>
            <p:cNvPr id="1469" name=""/>
            <p:cNvSpPr/>
            <p:nvPr/>
          </p:nvSpPr>
          <p:spPr>
            <a:xfrm flipV="1">
              <a:off x="5661360" y="5374800"/>
              <a:ext cx="1080" cy="27360"/>
            </a:xfrm>
            <a:prstGeom prst="line">
              <a:avLst/>
            </a:prstGeom>
            <a:ln w="14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0" name=""/>
            <p:cNvSpPr/>
            <p:nvPr/>
          </p:nvSpPr>
          <p:spPr>
            <a:xfrm>
              <a:off x="5591160" y="5445000"/>
              <a:ext cx="20520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4847760" y="5475600"/>
              <a:ext cx="118512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Times New Roman"/>
              </a:endParaRPr>
            </a:p>
          </p:txBody>
        </p:sp>
        <p:sp>
          <p:nvSpPr>
            <p:cNvPr id="1472" name=""/>
            <p:cNvSpPr/>
            <p:nvPr/>
          </p:nvSpPr>
          <p:spPr>
            <a:xfrm flipV="1">
              <a:off x="6269040" y="5374800"/>
              <a:ext cx="1440" cy="27360"/>
            </a:xfrm>
            <a:prstGeom prst="line">
              <a:avLst/>
            </a:prstGeom>
            <a:ln w="14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3" name=""/>
            <p:cNvSpPr/>
            <p:nvPr/>
          </p:nvSpPr>
          <p:spPr>
            <a:xfrm>
              <a:off x="6200640" y="5445000"/>
              <a:ext cx="20664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5445000" y="5475600"/>
              <a:ext cx="118512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Times New Roman"/>
              </a:endParaRPr>
            </a:p>
          </p:txBody>
        </p:sp>
        <p:sp>
          <p:nvSpPr>
            <p:cNvPr id="1475" name=""/>
            <p:cNvSpPr/>
            <p:nvPr/>
          </p:nvSpPr>
          <p:spPr>
            <a:xfrm flipV="1">
              <a:off x="6876360" y="5374800"/>
              <a:ext cx="1440" cy="27360"/>
            </a:xfrm>
            <a:prstGeom prst="line">
              <a:avLst/>
            </a:prstGeom>
            <a:ln w="14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6" name=""/>
            <p:cNvSpPr/>
            <p:nvPr/>
          </p:nvSpPr>
          <p:spPr>
            <a:xfrm>
              <a:off x="6777000" y="5445000"/>
              <a:ext cx="28116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6041520" y="5475600"/>
              <a:ext cx="126288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Times New Roman"/>
              </a:endParaRPr>
            </a:p>
          </p:txBody>
        </p:sp>
        <p:sp>
          <p:nvSpPr>
            <p:cNvPr id="1478" name=""/>
            <p:cNvSpPr/>
            <p:nvPr/>
          </p:nvSpPr>
          <p:spPr>
            <a:xfrm flipV="1">
              <a:off x="7484400" y="5374800"/>
              <a:ext cx="1080" cy="27360"/>
            </a:xfrm>
            <a:prstGeom prst="line">
              <a:avLst/>
            </a:prstGeom>
            <a:ln w="14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9" name=""/>
            <p:cNvSpPr/>
            <p:nvPr/>
          </p:nvSpPr>
          <p:spPr>
            <a:xfrm>
              <a:off x="7384680" y="5445000"/>
              <a:ext cx="28116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638040" y="5475600"/>
              <a:ext cx="126288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p:txBody>
        </p:sp>
        <p:sp>
          <p:nvSpPr>
            <p:cNvPr id="1481" name=""/>
            <p:cNvSpPr/>
            <p:nvPr/>
          </p:nvSpPr>
          <p:spPr>
            <a:xfrm flipV="1">
              <a:off x="8092080" y="5374800"/>
              <a:ext cx="1080" cy="27360"/>
            </a:xfrm>
            <a:prstGeom prst="line">
              <a:avLst/>
            </a:prstGeom>
            <a:ln w="14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82" name=""/>
            <p:cNvSpPr/>
            <p:nvPr/>
          </p:nvSpPr>
          <p:spPr>
            <a:xfrm flipH="1">
              <a:off x="8043840" y="5402160"/>
              <a:ext cx="482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83" name=""/>
            <p:cNvSpPr/>
            <p:nvPr/>
          </p:nvSpPr>
          <p:spPr>
            <a:xfrm>
              <a:off x="3836880" y="5402160"/>
              <a:ext cx="4255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84" name=""/>
            <p:cNvSpPr/>
            <p:nvPr/>
          </p:nvSpPr>
          <p:spPr>
            <a:xfrm>
              <a:off x="3807000" y="5445000"/>
              <a:ext cx="13356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866400" y="3529080"/>
              <a:ext cx="3813480" cy="1761120"/>
            </a:xfrm>
            <a:custGeom>
              <a:avLst/>
              <a:gdLst/>
              <a:ahLst/>
              <a:rect l="l" t="t" r="r" b="b"/>
              <a:pathLst>
                <a:path w="4198" h="2098">
                  <a:moveTo>
                    <a:pt x="0" y="727"/>
                  </a:moveTo>
                  <a:lnTo>
                    <a:pt x="31" y="683"/>
                  </a:lnTo>
                  <a:lnTo>
                    <a:pt x="63" y="663"/>
                  </a:lnTo>
                  <a:lnTo>
                    <a:pt x="95" y="643"/>
                  </a:lnTo>
                  <a:lnTo>
                    <a:pt x="126" y="650"/>
                  </a:lnTo>
                  <a:lnTo>
                    <a:pt x="159" y="676"/>
                  </a:lnTo>
                  <a:lnTo>
                    <a:pt x="191" y="727"/>
                  </a:lnTo>
                  <a:lnTo>
                    <a:pt x="223" y="805"/>
                  </a:lnTo>
                  <a:lnTo>
                    <a:pt x="254" y="870"/>
                  </a:lnTo>
                  <a:lnTo>
                    <a:pt x="299" y="922"/>
                  </a:lnTo>
                  <a:lnTo>
                    <a:pt x="331" y="968"/>
                  </a:lnTo>
                  <a:lnTo>
                    <a:pt x="362" y="1033"/>
                  </a:lnTo>
                  <a:lnTo>
                    <a:pt x="394" y="1098"/>
                  </a:lnTo>
                  <a:lnTo>
                    <a:pt x="427" y="1162"/>
                  </a:lnTo>
                  <a:lnTo>
                    <a:pt x="459" y="1229"/>
                  </a:lnTo>
                  <a:lnTo>
                    <a:pt x="491" y="1293"/>
                  </a:lnTo>
                  <a:lnTo>
                    <a:pt x="522" y="1358"/>
                  </a:lnTo>
                  <a:lnTo>
                    <a:pt x="554" y="1403"/>
                  </a:lnTo>
                  <a:lnTo>
                    <a:pt x="587" y="1462"/>
                  </a:lnTo>
                  <a:lnTo>
                    <a:pt x="629" y="1532"/>
                  </a:lnTo>
                  <a:lnTo>
                    <a:pt x="661" y="1612"/>
                  </a:lnTo>
                  <a:lnTo>
                    <a:pt x="692" y="1676"/>
                  </a:lnTo>
                  <a:lnTo>
                    <a:pt x="725" y="1728"/>
                  </a:lnTo>
                  <a:lnTo>
                    <a:pt x="757" y="1761"/>
                  </a:lnTo>
                  <a:lnTo>
                    <a:pt x="789" y="1780"/>
                  </a:lnTo>
                  <a:lnTo>
                    <a:pt x="822" y="1832"/>
                  </a:lnTo>
                  <a:lnTo>
                    <a:pt x="854" y="1891"/>
                  </a:lnTo>
                  <a:lnTo>
                    <a:pt x="887" y="1923"/>
                  </a:lnTo>
                  <a:lnTo>
                    <a:pt x="918" y="1962"/>
                  </a:lnTo>
                  <a:lnTo>
                    <a:pt x="960" y="1988"/>
                  </a:lnTo>
                  <a:lnTo>
                    <a:pt x="992" y="2015"/>
                  </a:lnTo>
                  <a:lnTo>
                    <a:pt x="1025" y="2034"/>
                  </a:lnTo>
                  <a:lnTo>
                    <a:pt x="1057" y="2047"/>
                  </a:lnTo>
                  <a:lnTo>
                    <a:pt x="1088" y="2073"/>
                  </a:lnTo>
                  <a:lnTo>
                    <a:pt x="1120" y="2093"/>
                  </a:lnTo>
                  <a:lnTo>
                    <a:pt x="1153" y="2098"/>
                  </a:lnTo>
                  <a:lnTo>
                    <a:pt x="1185" y="2093"/>
                  </a:lnTo>
                  <a:lnTo>
                    <a:pt x="1217" y="2065"/>
                  </a:lnTo>
                  <a:lnTo>
                    <a:pt x="1248" y="2039"/>
                  </a:lnTo>
                  <a:lnTo>
                    <a:pt x="1292" y="2015"/>
                  </a:lnTo>
                  <a:lnTo>
                    <a:pt x="1325" y="1988"/>
                  </a:lnTo>
                  <a:lnTo>
                    <a:pt x="1356" y="1956"/>
                  </a:lnTo>
                  <a:lnTo>
                    <a:pt x="1388" y="1917"/>
                  </a:lnTo>
                  <a:lnTo>
                    <a:pt x="1420" y="1864"/>
                  </a:lnTo>
                  <a:lnTo>
                    <a:pt x="1453" y="1826"/>
                  </a:lnTo>
                  <a:lnTo>
                    <a:pt x="1485" y="1767"/>
                  </a:lnTo>
                  <a:lnTo>
                    <a:pt x="1516" y="1715"/>
                  </a:lnTo>
                  <a:lnTo>
                    <a:pt x="1548" y="1651"/>
                  </a:lnTo>
                  <a:lnTo>
                    <a:pt x="1580" y="1573"/>
                  </a:lnTo>
                  <a:lnTo>
                    <a:pt x="1623" y="1501"/>
                  </a:lnTo>
                  <a:lnTo>
                    <a:pt x="1655" y="1429"/>
                  </a:lnTo>
                  <a:lnTo>
                    <a:pt x="1688" y="1345"/>
                  </a:lnTo>
                  <a:lnTo>
                    <a:pt x="1719" y="1280"/>
                  </a:lnTo>
                  <a:lnTo>
                    <a:pt x="1752" y="1229"/>
                  </a:lnTo>
                  <a:lnTo>
                    <a:pt x="1784" y="1170"/>
                  </a:lnTo>
                  <a:lnTo>
                    <a:pt x="1816" y="1092"/>
                  </a:lnTo>
                  <a:lnTo>
                    <a:pt x="1848" y="1007"/>
                  </a:lnTo>
                  <a:lnTo>
                    <a:pt x="1879" y="897"/>
                  </a:lnTo>
                  <a:lnTo>
                    <a:pt x="1912" y="779"/>
                  </a:lnTo>
                  <a:lnTo>
                    <a:pt x="1954" y="655"/>
                  </a:lnTo>
                  <a:lnTo>
                    <a:pt x="1986" y="546"/>
                  </a:lnTo>
                  <a:lnTo>
                    <a:pt x="2017" y="467"/>
                  </a:lnTo>
                  <a:lnTo>
                    <a:pt x="2051" y="396"/>
                  </a:lnTo>
                  <a:lnTo>
                    <a:pt x="2082" y="330"/>
                  </a:lnTo>
                  <a:lnTo>
                    <a:pt x="2114" y="259"/>
                  </a:lnTo>
                  <a:lnTo>
                    <a:pt x="2146" y="187"/>
                  </a:lnTo>
                  <a:lnTo>
                    <a:pt x="2179" y="136"/>
                  </a:lnTo>
                  <a:lnTo>
                    <a:pt x="2210" y="104"/>
                  </a:lnTo>
                  <a:lnTo>
                    <a:pt x="2244" y="78"/>
                  </a:lnTo>
                  <a:lnTo>
                    <a:pt x="2285" y="52"/>
                  </a:lnTo>
                  <a:lnTo>
                    <a:pt x="2317" y="20"/>
                  </a:lnTo>
                  <a:lnTo>
                    <a:pt x="2350" y="0"/>
                  </a:lnTo>
                  <a:lnTo>
                    <a:pt x="2382" y="13"/>
                  </a:lnTo>
                  <a:lnTo>
                    <a:pt x="2414" y="20"/>
                  </a:lnTo>
                  <a:lnTo>
                    <a:pt x="2445" y="52"/>
                  </a:lnTo>
                  <a:lnTo>
                    <a:pt x="2478" y="85"/>
                  </a:lnTo>
                  <a:lnTo>
                    <a:pt x="2510" y="110"/>
                  </a:lnTo>
                  <a:lnTo>
                    <a:pt x="2542" y="117"/>
                  </a:lnTo>
                  <a:lnTo>
                    <a:pt x="2573" y="98"/>
                  </a:lnTo>
                  <a:lnTo>
                    <a:pt x="2618" y="104"/>
                  </a:lnTo>
                  <a:lnTo>
                    <a:pt x="2650" y="130"/>
                  </a:lnTo>
                  <a:lnTo>
                    <a:pt x="2681" y="176"/>
                  </a:lnTo>
                  <a:lnTo>
                    <a:pt x="2713" y="234"/>
                  </a:lnTo>
                  <a:lnTo>
                    <a:pt x="2745" y="298"/>
                  </a:lnTo>
                  <a:lnTo>
                    <a:pt x="2778" y="376"/>
                  </a:lnTo>
                  <a:lnTo>
                    <a:pt x="2810" y="429"/>
                  </a:lnTo>
                  <a:lnTo>
                    <a:pt x="2841" y="461"/>
                  </a:lnTo>
                  <a:lnTo>
                    <a:pt x="2873" y="494"/>
                  </a:lnTo>
                  <a:lnTo>
                    <a:pt x="2906" y="532"/>
                  </a:lnTo>
                  <a:lnTo>
                    <a:pt x="2948" y="578"/>
                  </a:lnTo>
                  <a:lnTo>
                    <a:pt x="2980" y="618"/>
                  </a:lnTo>
                  <a:lnTo>
                    <a:pt x="3011" y="663"/>
                  </a:lnTo>
                  <a:lnTo>
                    <a:pt x="3043" y="696"/>
                  </a:lnTo>
                  <a:lnTo>
                    <a:pt x="3076" y="727"/>
                  </a:lnTo>
                  <a:lnTo>
                    <a:pt x="3109" y="733"/>
                  </a:lnTo>
                  <a:lnTo>
                    <a:pt x="3141" y="774"/>
                  </a:lnTo>
                  <a:lnTo>
                    <a:pt x="3173" y="792"/>
                  </a:lnTo>
                  <a:lnTo>
                    <a:pt x="3206" y="812"/>
                  </a:lnTo>
                  <a:lnTo>
                    <a:pt x="3237" y="825"/>
                  </a:lnTo>
                  <a:lnTo>
                    <a:pt x="3279" y="805"/>
                  </a:lnTo>
                  <a:lnTo>
                    <a:pt x="3311" y="774"/>
                  </a:lnTo>
                  <a:lnTo>
                    <a:pt x="3344" y="748"/>
                  </a:lnTo>
                  <a:lnTo>
                    <a:pt x="3376" y="740"/>
                  </a:lnTo>
                  <a:lnTo>
                    <a:pt x="3407" y="753"/>
                  </a:lnTo>
                  <a:lnTo>
                    <a:pt x="3439" y="748"/>
                  </a:lnTo>
                  <a:lnTo>
                    <a:pt x="3471" y="733"/>
                  </a:lnTo>
                  <a:lnTo>
                    <a:pt x="3504" y="707"/>
                  </a:lnTo>
                  <a:lnTo>
                    <a:pt x="3536" y="676"/>
                  </a:lnTo>
                  <a:lnTo>
                    <a:pt x="3567" y="631"/>
                  </a:lnTo>
                  <a:lnTo>
                    <a:pt x="3611" y="604"/>
                  </a:lnTo>
                  <a:lnTo>
                    <a:pt x="3644" y="596"/>
                  </a:lnTo>
                  <a:lnTo>
                    <a:pt x="3675" y="596"/>
                  </a:lnTo>
                  <a:lnTo>
                    <a:pt x="3707" y="604"/>
                  </a:lnTo>
                  <a:lnTo>
                    <a:pt x="3739" y="604"/>
                  </a:lnTo>
                  <a:lnTo>
                    <a:pt x="3770" y="591"/>
                  </a:lnTo>
                  <a:lnTo>
                    <a:pt x="3804" y="559"/>
                  </a:lnTo>
                  <a:lnTo>
                    <a:pt x="3835" y="513"/>
                  </a:lnTo>
                  <a:lnTo>
                    <a:pt x="3867" y="474"/>
                  </a:lnTo>
                  <a:lnTo>
                    <a:pt x="3899" y="435"/>
                  </a:lnTo>
                  <a:lnTo>
                    <a:pt x="3942" y="416"/>
                  </a:lnTo>
                  <a:lnTo>
                    <a:pt x="3975" y="383"/>
                  </a:lnTo>
                  <a:lnTo>
                    <a:pt x="4007" y="357"/>
                  </a:lnTo>
                  <a:lnTo>
                    <a:pt x="4038" y="344"/>
                  </a:lnTo>
                  <a:lnTo>
                    <a:pt x="4070" y="352"/>
                  </a:lnTo>
                  <a:lnTo>
                    <a:pt x="4103" y="383"/>
                  </a:lnTo>
                  <a:lnTo>
                    <a:pt x="4135" y="422"/>
                  </a:lnTo>
                  <a:lnTo>
                    <a:pt x="4167" y="454"/>
                  </a:lnTo>
                  <a:lnTo>
                    <a:pt x="4198" y="494"/>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6190200" y="4096440"/>
              <a:ext cx="119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b</a:t>
              </a:r>
              <a:endParaRPr b="0" lang="en-US" sz="2300" spc="-1" strike="noStrike">
                <a:solidFill>
                  <a:srgbClr val="000000"/>
                </a:solidFill>
                <a:latin typeface="Times New Roman"/>
              </a:endParaRPr>
            </a:p>
          </p:txBody>
        </p:sp>
        <p:sp>
          <p:nvSpPr>
            <p:cNvPr id="1487" name=""/>
            <p:cNvSpPr/>
            <p:nvPr/>
          </p:nvSpPr>
          <p:spPr>
            <a:xfrm>
              <a:off x="6781680" y="4084200"/>
              <a:ext cx="452520" cy="61920"/>
            </a:xfrm>
            <a:prstGeom prst="rect">
              <a:avLst/>
            </a:pr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1488" name=""/>
            <p:cNvGrpSpPr/>
            <p:nvPr/>
          </p:nvGrpSpPr>
          <p:grpSpPr>
            <a:xfrm>
              <a:off x="3057840" y="3236760"/>
              <a:ext cx="4831200" cy="2121120"/>
              <a:chOff x="3057840" y="3236760"/>
              <a:chExt cx="4831200" cy="2121120"/>
            </a:xfrm>
          </p:grpSpPr>
          <p:sp>
            <p:nvSpPr>
              <p:cNvPr id="1489" name=""/>
              <p:cNvSpPr/>
              <p:nvPr/>
            </p:nvSpPr>
            <p:spPr>
              <a:xfrm>
                <a:off x="3864240" y="4227480"/>
                <a:ext cx="453600" cy="62280"/>
              </a:xfrm>
              <a:prstGeom prst="rect">
                <a:avLst/>
              </a:prstGeom>
              <a:solidFill>
                <a:srgbClr val="ff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90" name=""/>
              <p:cNvSpPr/>
              <p:nvPr/>
            </p:nvSpPr>
            <p:spPr>
              <a:xfrm>
                <a:off x="7274160" y="3862080"/>
                <a:ext cx="451800" cy="61920"/>
              </a:xfrm>
              <a:prstGeom prst="rect">
                <a:avLst/>
              </a:prstGeom>
              <a:solidFill>
                <a:srgbClr val="00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1491" name=""/>
              <p:cNvGrpSpPr/>
              <p:nvPr/>
            </p:nvGrpSpPr>
            <p:grpSpPr>
              <a:xfrm>
                <a:off x="3057840" y="3236760"/>
                <a:ext cx="4831200" cy="2121120"/>
                <a:chOff x="3057840" y="3236760"/>
                <a:chExt cx="4831200" cy="2121120"/>
              </a:xfrm>
            </p:grpSpPr>
            <p:sp>
              <p:nvSpPr>
                <p:cNvPr id="1492" name=""/>
                <p:cNvSpPr/>
                <p:nvPr/>
              </p:nvSpPr>
              <p:spPr>
                <a:xfrm>
                  <a:off x="3057840" y="4230360"/>
                  <a:ext cx="147852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b</a:t>
                  </a:r>
                  <a:endParaRPr b="0" lang="en-US" sz="2300" spc="-1" strike="noStrike">
                    <a:solidFill>
                      <a:srgbClr val="000000"/>
                    </a:solidFill>
                    <a:latin typeface="Times New Roman"/>
                  </a:endParaRPr>
                </a:p>
              </p:txBody>
            </p:sp>
            <p:sp>
              <p:nvSpPr>
                <p:cNvPr id="1493" name=""/>
                <p:cNvSpPr/>
                <p:nvPr/>
              </p:nvSpPr>
              <p:spPr>
                <a:xfrm>
                  <a:off x="4477320" y="4031640"/>
                  <a:ext cx="147852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b</a:t>
                  </a:r>
                  <a:endParaRPr b="0" lang="en-US" sz="2300" spc="-1" strike="noStrike">
                    <a:solidFill>
                      <a:srgbClr val="000000"/>
                    </a:solidFill>
                    <a:latin typeface="Times New Roman"/>
                  </a:endParaRPr>
                </a:p>
              </p:txBody>
            </p:sp>
            <p:grpSp>
              <p:nvGrpSpPr>
                <p:cNvPr id="1494" name=""/>
                <p:cNvGrpSpPr/>
                <p:nvPr/>
              </p:nvGrpSpPr>
              <p:grpSpPr>
                <a:xfrm>
                  <a:off x="3972240" y="3236760"/>
                  <a:ext cx="3916800" cy="2121120"/>
                  <a:chOff x="3972240" y="3236760"/>
                  <a:chExt cx="3916800" cy="2121120"/>
                </a:xfrm>
              </p:grpSpPr>
              <p:sp>
                <p:nvSpPr>
                  <p:cNvPr id="1495" name=""/>
                  <p:cNvSpPr/>
                  <p:nvPr/>
                </p:nvSpPr>
                <p:spPr>
                  <a:xfrm>
                    <a:off x="4367880" y="4979520"/>
                    <a:ext cx="451800" cy="63360"/>
                  </a:xfrm>
                  <a:prstGeom prst="rect">
                    <a:avLst/>
                  </a:prstGeom>
                  <a:solidFill>
                    <a:srgbClr val="00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96" name=""/>
                  <p:cNvSpPr/>
                  <p:nvPr/>
                </p:nvSpPr>
                <p:spPr>
                  <a:xfrm>
                    <a:off x="4857480" y="5152320"/>
                    <a:ext cx="450360" cy="63360"/>
                  </a:xfrm>
                  <a:prstGeom prst="rect">
                    <a:avLst/>
                  </a:prstGeom>
                  <a:solidFill>
                    <a:srgbClr val="00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97" name=""/>
                  <p:cNvSpPr/>
                  <p:nvPr/>
                </p:nvSpPr>
                <p:spPr>
                  <a:xfrm>
                    <a:off x="5344920" y="4317480"/>
                    <a:ext cx="451800" cy="63360"/>
                  </a:xfrm>
                  <a:prstGeom prst="rect">
                    <a:avLst/>
                  </a:pr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98" name=""/>
                  <p:cNvSpPr/>
                  <p:nvPr/>
                </p:nvSpPr>
                <p:spPr>
                  <a:xfrm>
                    <a:off x="5829840" y="3540240"/>
                    <a:ext cx="453600" cy="62280"/>
                  </a:xfrm>
                  <a:prstGeom prst="rect">
                    <a:avLst/>
                  </a:prstGeom>
                  <a:solidFill>
                    <a:srgbClr val="00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99" name=""/>
                  <p:cNvSpPr/>
                  <p:nvPr/>
                </p:nvSpPr>
                <p:spPr>
                  <a:xfrm>
                    <a:off x="6322680" y="3879720"/>
                    <a:ext cx="451800" cy="63360"/>
                  </a:xfrm>
                  <a:prstGeom prst="rect">
                    <a:avLst/>
                  </a:prstGeom>
                  <a:solidFill>
                    <a:srgbClr val="00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0" name=""/>
                  <p:cNvSpPr/>
                  <p:nvPr/>
                </p:nvSpPr>
                <p:spPr>
                  <a:xfrm>
                    <a:off x="4024440" y="4238640"/>
                    <a:ext cx="26100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529160" y="4956480"/>
                    <a:ext cx="34020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4527720" y="5019840"/>
                    <a:ext cx="24516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3972240" y="4825440"/>
                    <a:ext cx="146160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a</a:t>
                    </a:r>
                    <a:endParaRPr b="0" lang="en-US" sz="2300" spc="-1" strike="noStrike">
                      <a:solidFill>
                        <a:srgbClr val="000000"/>
                      </a:solidFill>
                      <a:latin typeface="Times New Roman"/>
                    </a:endParaRPr>
                  </a:p>
                </p:txBody>
              </p:sp>
              <p:sp>
                <p:nvSpPr>
                  <p:cNvPr id="1504" name=""/>
                  <p:cNvSpPr/>
                  <p:nvPr/>
                </p:nvSpPr>
                <p:spPr>
                  <a:xfrm>
                    <a:off x="5034240" y="4861080"/>
                    <a:ext cx="340200" cy="36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5034240" y="4873680"/>
                    <a:ext cx="24552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166360" y="4873680"/>
                    <a:ext cx="17856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5713560" y="3583080"/>
                    <a:ext cx="115920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Times New Roman"/>
                    </a:endParaRPr>
                  </a:p>
                </p:txBody>
              </p:sp>
              <p:sp>
                <p:nvSpPr>
                  <p:cNvPr id="1508" name=""/>
                  <p:cNvSpPr/>
                  <p:nvPr/>
                </p:nvSpPr>
                <p:spPr>
                  <a:xfrm>
                    <a:off x="5015880" y="3236760"/>
                    <a:ext cx="144504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c</a:t>
                    </a:r>
                    <a:endParaRPr b="0" lang="en-US" sz="2300" spc="-1" strike="noStrike">
                      <a:solidFill>
                        <a:srgbClr val="000000"/>
                      </a:solidFill>
                      <a:latin typeface="Times New Roman"/>
                    </a:endParaRPr>
                  </a:p>
                </p:txBody>
              </p:sp>
              <p:sp>
                <p:nvSpPr>
                  <p:cNvPr id="1509" name=""/>
                  <p:cNvSpPr/>
                  <p:nvPr/>
                </p:nvSpPr>
                <p:spPr>
                  <a:xfrm>
                    <a:off x="7009560" y="4143240"/>
                    <a:ext cx="340200" cy="36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7009560" y="4154400"/>
                    <a:ext cx="25920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7155720" y="4154400"/>
                    <a:ext cx="18000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7512840" y="3567600"/>
                    <a:ext cx="23148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6729840" y="3567600"/>
                    <a:ext cx="115920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Times New Roman"/>
                    </a:endParaRPr>
                  </a:p>
                </p:txBody>
              </p:sp>
            </p:grpSp>
            <p:sp>
              <p:nvSpPr>
                <p:cNvPr id="1514" name=""/>
                <p:cNvSpPr/>
                <p:nvPr/>
              </p:nvSpPr>
              <p:spPr>
                <a:xfrm>
                  <a:off x="3506040" y="4959000"/>
                  <a:ext cx="146160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a</a:t>
                  </a:r>
                  <a:endParaRPr b="0" lang="en-US" sz="2300" spc="-1" strike="noStrike">
                    <a:solidFill>
                      <a:srgbClr val="000000"/>
                    </a:solidFill>
                    <a:latin typeface="Times New Roman"/>
                  </a:endParaRPr>
                </a:p>
              </p:txBody>
            </p:sp>
          </p:grpSp>
        </p:grpSp>
      </p:grpSp>
      <p:sp>
        <p:nvSpPr>
          <p:cNvPr id="1515" name=""/>
          <p:cNvSpPr/>
          <p:nvPr/>
        </p:nvSpPr>
        <p:spPr>
          <a:xfrm>
            <a:off x="4411800" y="6095880"/>
            <a:ext cx="3070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abccbc</a:t>
            </a:r>
            <a:endParaRPr b="0" lang="en-US" sz="4400" spc="-1" strike="noStrike">
              <a:solidFill>
                <a:srgbClr val="000000"/>
              </a:solidFill>
              <a:latin typeface="Times New Roman"/>
            </a:endParaRPr>
          </a:p>
        </p:txBody>
      </p:sp>
      <p:sp>
        <p:nvSpPr>
          <p:cNvPr id="1516" name=""/>
          <p:cNvSpPr/>
          <p:nvPr/>
        </p:nvSpPr>
        <p:spPr>
          <a:xfrm>
            <a:off x="130320" y="3251160"/>
            <a:ext cx="2720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convert the time series to PAA representation, then convert the PAA to symbo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take linear time</a:t>
            </a:r>
            <a:endParaRPr b="0" lang="en-US" sz="2000" spc="-1" strike="noStrike">
              <a:solidFill>
                <a:srgbClr val="000000"/>
              </a:solidFill>
              <a:latin typeface="Times New Roman"/>
            </a:endParaRPr>
          </a:p>
        </p:txBody>
      </p:sp>
      <p:pic>
        <p:nvPicPr>
          <p:cNvPr id="1517" name="lisasax3" descr=""/>
          <p:cNvPicPr/>
          <p:nvPr/>
        </p:nvPicPr>
        <p:blipFill>
          <a:blip r:embed="rId1"/>
          <a:stretch/>
        </p:blipFill>
        <p:spPr>
          <a:xfrm>
            <a:off x="198360" y="366840"/>
            <a:ext cx="2060640" cy="2033640"/>
          </a:xfrm>
          <a:prstGeom prst="rect">
            <a:avLst/>
          </a:prstGeom>
          <a:ln w="0">
            <a:noFill/>
          </a:ln>
        </p:spPr>
      </p:pic>
      <p:sp>
        <p:nvSpPr>
          <p:cNvPr id="1518" name=""/>
          <p:cNvSpPr/>
          <p:nvPr/>
        </p:nvSpPr>
        <p:spPr>
          <a:xfrm>
            <a:off x="3886200" y="1265400"/>
            <a:ext cx="3808440" cy="1334880"/>
          </a:xfrm>
          <a:custGeom>
            <a:avLst/>
            <a:gdLst/>
            <a:ahLst/>
            <a:rect l="l" t="t" r="r" b="b"/>
            <a:pathLst>
              <a:path w="4798" h="1683">
                <a:moveTo>
                  <a:pt x="0" y="583"/>
                </a:moveTo>
                <a:lnTo>
                  <a:pt x="36" y="547"/>
                </a:lnTo>
                <a:lnTo>
                  <a:pt x="73" y="531"/>
                </a:lnTo>
                <a:lnTo>
                  <a:pt x="109" y="515"/>
                </a:lnTo>
                <a:lnTo>
                  <a:pt x="145" y="521"/>
                </a:lnTo>
                <a:lnTo>
                  <a:pt x="183" y="542"/>
                </a:lnTo>
                <a:lnTo>
                  <a:pt x="219" y="583"/>
                </a:lnTo>
                <a:lnTo>
                  <a:pt x="255" y="646"/>
                </a:lnTo>
                <a:lnTo>
                  <a:pt x="291" y="697"/>
                </a:lnTo>
                <a:lnTo>
                  <a:pt x="342" y="739"/>
                </a:lnTo>
                <a:lnTo>
                  <a:pt x="379" y="776"/>
                </a:lnTo>
                <a:lnTo>
                  <a:pt x="415" y="828"/>
                </a:lnTo>
                <a:lnTo>
                  <a:pt x="451" y="880"/>
                </a:lnTo>
                <a:lnTo>
                  <a:pt x="489" y="932"/>
                </a:lnTo>
                <a:lnTo>
                  <a:pt x="525" y="985"/>
                </a:lnTo>
                <a:lnTo>
                  <a:pt x="561" y="1037"/>
                </a:lnTo>
                <a:lnTo>
                  <a:pt x="598" y="1089"/>
                </a:lnTo>
                <a:lnTo>
                  <a:pt x="634" y="1125"/>
                </a:lnTo>
                <a:lnTo>
                  <a:pt x="672" y="1172"/>
                </a:lnTo>
                <a:lnTo>
                  <a:pt x="719" y="1229"/>
                </a:lnTo>
                <a:lnTo>
                  <a:pt x="756" y="1292"/>
                </a:lnTo>
                <a:lnTo>
                  <a:pt x="792" y="1344"/>
                </a:lnTo>
                <a:lnTo>
                  <a:pt x="830" y="1386"/>
                </a:lnTo>
                <a:lnTo>
                  <a:pt x="866" y="1412"/>
                </a:lnTo>
                <a:lnTo>
                  <a:pt x="902" y="1427"/>
                </a:lnTo>
                <a:lnTo>
                  <a:pt x="940" y="1469"/>
                </a:lnTo>
                <a:lnTo>
                  <a:pt x="976" y="1516"/>
                </a:lnTo>
                <a:lnTo>
                  <a:pt x="1014" y="1542"/>
                </a:lnTo>
                <a:lnTo>
                  <a:pt x="1050" y="1573"/>
                </a:lnTo>
                <a:lnTo>
                  <a:pt x="1098" y="1594"/>
                </a:lnTo>
                <a:lnTo>
                  <a:pt x="1134" y="1616"/>
                </a:lnTo>
                <a:lnTo>
                  <a:pt x="1172" y="1631"/>
                </a:lnTo>
                <a:lnTo>
                  <a:pt x="1208" y="1641"/>
                </a:lnTo>
                <a:lnTo>
                  <a:pt x="1244" y="1662"/>
                </a:lnTo>
                <a:lnTo>
                  <a:pt x="1281" y="1678"/>
                </a:lnTo>
                <a:lnTo>
                  <a:pt x="1319" y="1683"/>
                </a:lnTo>
                <a:lnTo>
                  <a:pt x="1355" y="1678"/>
                </a:lnTo>
                <a:lnTo>
                  <a:pt x="1391" y="1656"/>
                </a:lnTo>
                <a:lnTo>
                  <a:pt x="1427" y="1635"/>
                </a:lnTo>
                <a:lnTo>
                  <a:pt x="1477" y="1616"/>
                </a:lnTo>
                <a:lnTo>
                  <a:pt x="1514" y="1594"/>
                </a:lnTo>
                <a:lnTo>
                  <a:pt x="1551" y="1568"/>
                </a:lnTo>
                <a:lnTo>
                  <a:pt x="1587" y="1537"/>
                </a:lnTo>
                <a:lnTo>
                  <a:pt x="1623" y="1494"/>
                </a:lnTo>
                <a:lnTo>
                  <a:pt x="1661" y="1464"/>
                </a:lnTo>
                <a:lnTo>
                  <a:pt x="1697" y="1417"/>
                </a:lnTo>
                <a:lnTo>
                  <a:pt x="1733" y="1375"/>
                </a:lnTo>
                <a:lnTo>
                  <a:pt x="1770" y="1323"/>
                </a:lnTo>
                <a:lnTo>
                  <a:pt x="1806" y="1261"/>
                </a:lnTo>
                <a:lnTo>
                  <a:pt x="1855" y="1203"/>
                </a:lnTo>
                <a:lnTo>
                  <a:pt x="1891" y="1146"/>
                </a:lnTo>
                <a:lnTo>
                  <a:pt x="1929" y="1079"/>
                </a:lnTo>
                <a:lnTo>
                  <a:pt x="1965" y="1027"/>
                </a:lnTo>
                <a:lnTo>
                  <a:pt x="2003" y="985"/>
                </a:lnTo>
                <a:lnTo>
                  <a:pt x="2039" y="938"/>
                </a:lnTo>
                <a:lnTo>
                  <a:pt x="2076" y="875"/>
                </a:lnTo>
                <a:lnTo>
                  <a:pt x="2112" y="807"/>
                </a:lnTo>
                <a:lnTo>
                  <a:pt x="2148" y="719"/>
                </a:lnTo>
                <a:lnTo>
                  <a:pt x="2186" y="625"/>
                </a:lnTo>
                <a:lnTo>
                  <a:pt x="2234" y="525"/>
                </a:lnTo>
                <a:lnTo>
                  <a:pt x="2270" y="438"/>
                </a:lnTo>
                <a:lnTo>
                  <a:pt x="2306" y="374"/>
                </a:lnTo>
                <a:lnTo>
                  <a:pt x="2344" y="318"/>
                </a:lnTo>
                <a:lnTo>
                  <a:pt x="2380" y="264"/>
                </a:lnTo>
                <a:lnTo>
                  <a:pt x="2416" y="208"/>
                </a:lnTo>
                <a:lnTo>
                  <a:pt x="2453" y="150"/>
                </a:lnTo>
                <a:lnTo>
                  <a:pt x="2490" y="109"/>
                </a:lnTo>
                <a:lnTo>
                  <a:pt x="2527" y="83"/>
                </a:lnTo>
                <a:lnTo>
                  <a:pt x="2565" y="62"/>
                </a:lnTo>
                <a:lnTo>
                  <a:pt x="2612" y="42"/>
                </a:lnTo>
                <a:lnTo>
                  <a:pt x="2648" y="16"/>
                </a:lnTo>
                <a:lnTo>
                  <a:pt x="2686" y="0"/>
                </a:lnTo>
                <a:lnTo>
                  <a:pt x="2723" y="10"/>
                </a:lnTo>
                <a:lnTo>
                  <a:pt x="2759" y="16"/>
                </a:lnTo>
                <a:lnTo>
                  <a:pt x="2795" y="42"/>
                </a:lnTo>
                <a:lnTo>
                  <a:pt x="2833" y="68"/>
                </a:lnTo>
                <a:lnTo>
                  <a:pt x="2869" y="88"/>
                </a:lnTo>
                <a:lnTo>
                  <a:pt x="2905" y="94"/>
                </a:lnTo>
                <a:lnTo>
                  <a:pt x="2941" y="79"/>
                </a:lnTo>
                <a:lnTo>
                  <a:pt x="2993" y="83"/>
                </a:lnTo>
                <a:lnTo>
                  <a:pt x="3029" y="104"/>
                </a:lnTo>
                <a:lnTo>
                  <a:pt x="3065" y="141"/>
                </a:lnTo>
                <a:lnTo>
                  <a:pt x="3101" y="187"/>
                </a:lnTo>
                <a:lnTo>
                  <a:pt x="3137" y="239"/>
                </a:lnTo>
                <a:lnTo>
                  <a:pt x="3175" y="301"/>
                </a:lnTo>
                <a:lnTo>
                  <a:pt x="3211" y="344"/>
                </a:lnTo>
                <a:lnTo>
                  <a:pt x="3248" y="370"/>
                </a:lnTo>
                <a:lnTo>
                  <a:pt x="3284" y="396"/>
                </a:lnTo>
                <a:lnTo>
                  <a:pt x="3322" y="426"/>
                </a:lnTo>
                <a:lnTo>
                  <a:pt x="3369" y="463"/>
                </a:lnTo>
                <a:lnTo>
                  <a:pt x="3406" y="495"/>
                </a:lnTo>
                <a:lnTo>
                  <a:pt x="3442" y="531"/>
                </a:lnTo>
                <a:lnTo>
                  <a:pt x="3478" y="558"/>
                </a:lnTo>
                <a:lnTo>
                  <a:pt x="3516" y="583"/>
                </a:lnTo>
                <a:lnTo>
                  <a:pt x="3554" y="588"/>
                </a:lnTo>
                <a:lnTo>
                  <a:pt x="3590" y="620"/>
                </a:lnTo>
                <a:lnTo>
                  <a:pt x="3626" y="635"/>
                </a:lnTo>
                <a:lnTo>
                  <a:pt x="3664" y="651"/>
                </a:lnTo>
                <a:lnTo>
                  <a:pt x="3700" y="662"/>
                </a:lnTo>
                <a:lnTo>
                  <a:pt x="3748" y="646"/>
                </a:lnTo>
                <a:lnTo>
                  <a:pt x="3784" y="620"/>
                </a:lnTo>
                <a:lnTo>
                  <a:pt x="3822" y="599"/>
                </a:lnTo>
                <a:lnTo>
                  <a:pt x="3858" y="594"/>
                </a:lnTo>
                <a:lnTo>
                  <a:pt x="3894" y="604"/>
                </a:lnTo>
                <a:lnTo>
                  <a:pt x="3931" y="599"/>
                </a:lnTo>
                <a:lnTo>
                  <a:pt x="3967" y="588"/>
                </a:lnTo>
                <a:lnTo>
                  <a:pt x="4005" y="567"/>
                </a:lnTo>
                <a:lnTo>
                  <a:pt x="4041" y="542"/>
                </a:lnTo>
                <a:lnTo>
                  <a:pt x="4077" y="506"/>
                </a:lnTo>
                <a:lnTo>
                  <a:pt x="4127" y="484"/>
                </a:lnTo>
                <a:lnTo>
                  <a:pt x="4164" y="478"/>
                </a:lnTo>
                <a:lnTo>
                  <a:pt x="4201" y="478"/>
                </a:lnTo>
                <a:lnTo>
                  <a:pt x="4237" y="484"/>
                </a:lnTo>
                <a:lnTo>
                  <a:pt x="4273" y="484"/>
                </a:lnTo>
                <a:lnTo>
                  <a:pt x="4309" y="473"/>
                </a:lnTo>
                <a:lnTo>
                  <a:pt x="4347" y="448"/>
                </a:lnTo>
                <a:lnTo>
                  <a:pt x="4383" y="411"/>
                </a:lnTo>
                <a:lnTo>
                  <a:pt x="4420" y="380"/>
                </a:lnTo>
                <a:lnTo>
                  <a:pt x="4456" y="349"/>
                </a:lnTo>
                <a:lnTo>
                  <a:pt x="4505" y="334"/>
                </a:lnTo>
                <a:lnTo>
                  <a:pt x="4543" y="307"/>
                </a:lnTo>
                <a:lnTo>
                  <a:pt x="4579" y="286"/>
                </a:lnTo>
                <a:lnTo>
                  <a:pt x="4615" y="276"/>
                </a:lnTo>
                <a:lnTo>
                  <a:pt x="4652" y="282"/>
                </a:lnTo>
                <a:lnTo>
                  <a:pt x="4690" y="307"/>
                </a:lnTo>
                <a:lnTo>
                  <a:pt x="4726" y="338"/>
                </a:lnTo>
                <a:lnTo>
                  <a:pt x="4762" y="364"/>
                </a:lnTo>
                <a:lnTo>
                  <a:pt x="4798" y="396"/>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4556160" y="3146400"/>
            <a:ext cx="419040" cy="343080"/>
          </a:xfrm>
          <a:prstGeom prst="downArrow">
            <a:avLst>
              <a:gd name="adj1" fmla="val 50000"/>
              <a:gd name="adj2" fmla="val 25000"/>
            </a:avLst>
          </a:prstGeom>
          <a:solidFill>
            <a:srgbClr val="ff00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5783400" y="5773680"/>
            <a:ext cx="419040" cy="343080"/>
          </a:xfrm>
          <a:prstGeom prst="downArrow">
            <a:avLst>
              <a:gd name="adj1" fmla="val 50000"/>
              <a:gd name="adj2" fmla="val 25000"/>
            </a:avLst>
          </a:prstGeom>
          <a:solidFill>
            <a:srgbClr val="ff00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V="1">
            <a:off x="3052800" y="3224160"/>
            <a:ext cx="544320" cy="1906560"/>
          </a:xfrm>
          <a:custGeom>
            <a:avLst/>
            <a:gdLst/>
            <a:ahLst/>
            <a:rect l="l" t="t" r="r" b="b"/>
            <a:pathLst>
              <a:path w="700" h="2765">
                <a:moveTo>
                  <a:pt x="156" y="0"/>
                </a:moveTo>
                <a:lnTo>
                  <a:pt x="199" y="77"/>
                </a:lnTo>
                <a:lnTo>
                  <a:pt x="241" y="153"/>
                </a:lnTo>
                <a:lnTo>
                  <a:pt x="287" y="236"/>
                </a:lnTo>
                <a:lnTo>
                  <a:pt x="335" y="312"/>
                </a:lnTo>
                <a:lnTo>
                  <a:pt x="382" y="395"/>
                </a:lnTo>
                <a:lnTo>
                  <a:pt x="435" y="471"/>
                </a:lnTo>
                <a:lnTo>
                  <a:pt x="479" y="547"/>
                </a:lnTo>
                <a:lnTo>
                  <a:pt x="522" y="631"/>
                </a:lnTo>
                <a:lnTo>
                  <a:pt x="571" y="707"/>
                </a:lnTo>
                <a:lnTo>
                  <a:pt x="607" y="790"/>
                </a:lnTo>
                <a:lnTo>
                  <a:pt x="639" y="866"/>
                </a:lnTo>
                <a:lnTo>
                  <a:pt x="665" y="942"/>
                </a:lnTo>
                <a:lnTo>
                  <a:pt x="683" y="1026"/>
                </a:lnTo>
                <a:lnTo>
                  <a:pt x="695" y="1102"/>
                </a:lnTo>
                <a:lnTo>
                  <a:pt x="700" y="1185"/>
                </a:lnTo>
                <a:lnTo>
                  <a:pt x="695" y="1261"/>
                </a:lnTo>
                <a:lnTo>
                  <a:pt x="683" y="1337"/>
                </a:lnTo>
                <a:lnTo>
                  <a:pt x="665" y="1421"/>
                </a:lnTo>
                <a:lnTo>
                  <a:pt x="639" y="1497"/>
                </a:lnTo>
                <a:lnTo>
                  <a:pt x="607" y="1580"/>
                </a:lnTo>
                <a:lnTo>
                  <a:pt x="571" y="1658"/>
                </a:lnTo>
                <a:lnTo>
                  <a:pt x="522" y="1732"/>
                </a:lnTo>
                <a:lnTo>
                  <a:pt x="479" y="1815"/>
                </a:lnTo>
                <a:lnTo>
                  <a:pt x="435" y="1893"/>
                </a:lnTo>
                <a:lnTo>
                  <a:pt x="382" y="1975"/>
                </a:lnTo>
                <a:lnTo>
                  <a:pt x="335" y="2051"/>
                </a:lnTo>
                <a:lnTo>
                  <a:pt x="287" y="2129"/>
                </a:lnTo>
                <a:lnTo>
                  <a:pt x="241" y="2210"/>
                </a:lnTo>
                <a:lnTo>
                  <a:pt x="199" y="2286"/>
                </a:lnTo>
                <a:lnTo>
                  <a:pt x="156" y="2370"/>
                </a:lnTo>
                <a:lnTo>
                  <a:pt x="114" y="2446"/>
                </a:lnTo>
                <a:lnTo>
                  <a:pt x="83" y="2522"/>
                </a:lnTo>
                <a:lnTo>
                  <a:pt x="53" y="2605"/>
                </a:lnTo>
                <a:lnTo>
                  <a:pt x="25" y="2681"/>
                </a:lnTo>
                <a:lnTo>
                  <a:pt x="0" y="276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flipV="1">
            <a:off x="2986200" y="3220560"/>
            <a:ext cx="9360" cy="93996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
          <p:cNvSpPr/>
          <p:nvPr/>
        </p:nvSpPr>
        <p:spPr>
          <a:xfrm>
            <a:off x="0" y="2473200"/>
            <a:ext cx="5905440" cy="3810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series subsequences tend to have a highly Gaussian distribution</a:t>
            </a:r>
            <a:endParaRPr b="0" lang="en-US" sz="2400" spc="-1" strike="noStrike">
              <a:solidFill>
                <a:srgbClr val="000000"/>
              </a:solidFill>
              <a:latin typeface="Times New Roman"/>
            </a:endParaRPr>
          </a:p>
        </p:txBody>
      </p:sp>
      <p:pic>
        <p:nvPicPr>
          <p:cNvPr id="1524" name="" descr=""/>
          <p:cNvPicPr/>
          <p:nvPr/>
        </p:nvPicPr>
        <p:blipFill>
          <a:blip r:embed="rId1"/>
          <a:stretch/>
        </p:blipFill>
        <p:spPr>
          <a:xfrm>
            <a:off x="406440" y="3257640"/>
            <a:ext cx="4952880" cy="2895480"/>
          </a:xfrm>
          <a:prstGeom prst="rect">
            <a:avLst/>
          </a:prstGeom>
          <a:ln w="9360">
            <a:solidFill>
              <a:srgbClr val="000000"/>
            </a:solidFill>
            <a:miter/>
          </a:ln>
        </p:spPr>
      </p:pic>
      <p:graphicFrame>
        <p:nvGraphicFramePr>
          <p:cNvPr id="1525" name=""/>
          <p:cNvGraphicFramePr/>
          <p:nvPr/>
        </p:nvGraphicFramePr>
        <p:xfrm>
          <a:off x="3208320" y="4576680"/>
          <a:ext cx="3108240" cy="547560"/>
        </p:xfrm>
        <a:graphic>
          <a:graphicData uri="http://schemas.openxmlformats.org/drawingml/2006/table">
            <a:tbl>
              <a:tblPr/>
              <a:tblGrid>
                <a:gridCol w="3108240"/>
              </a:tblGrid>
              <a:tr h="547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526" name=""/>
          <p:cNvSpPr/>
          <p:nvPr/>
        </p:nvSpPr>
        <p:spPr>
          <a:xfrm>
            <a:off x="-523800" y="6156360"/>
            <a:ext cx="6621480" cy="67320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600" spc="-1" strike="noStrike">
                <a:solidFill>
                  <a:srgbClr val="000000"/>
                </a:solidFill>
                <a:latin typeface="Arial"/>
              </a:rPr>
              <a:t>A normal probability plot of the (cumulative) distribution of values from subsequences of length 128.</a:t>
            </a:r>
            <a:r>
              <a:rPr b="0" lang="en-US" sz="2000" spc="-1" strike="noStrike">
                <a:solidFill>
                  <a:srgbClr val="00ffff"/>
                </a:solidFill>
                <a:latin typeface="Arial"/>
              </a:rPr>
              <a:t> </a:t>
            </a:r>
            <a:endParaRPr b="0" lang="en-US" sz="2000" spc="-1" strike="noStrike">
              <a:solidFill>
                <a:srgbClr val="000000"/>
              </a:solidFill>
              <a:latin typeface="Times New Roman"/>
            </a:endParaRPr>
          </a:p>
        </p:txBody>
      </p:sp>
      <p:grpSp>
        <p:nvGrpSpPr>
          <p:cNvPr id="1527" name=""/>
          <p:cNvGrpSpPr/>
          <p:nvPr/>
        </p:nvGrpSpPr>
        <p:grpSpPr>
          <a:xfrm>
            <a:off x="5218920" y="108000"/>
            <a:ext cx="5750280" cy="2420280"/>
            <a:chOff x="5218920" y="108000"/>
            <a:chExt cx="5750280" cy="2420280"/>
          </a:xfrm>
        </p:grpSpPr>
        <p:sp>
          <p:nvSpPr>
            <p:cNvPr id="1528" name=""/>
            <p:cNvSpPr/>
            <p:nvPr/>
          </p:nvSpPr>
          <p:spPr>
            <a:xfrm>
              <a:off x="5223600" y="17820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529" name=""/>
            <p:cNvSpPr/>
            <p:nvPr/>
          </p:nvSpPr>
          <p:spPr>
            <a:xfrm>
              <a:off x="5509800" y="299520"/>
              <a:ext cx="17388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5223600" y="30780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531" name=""/>
            <p:cNvSpPr/>
            <p:nvPr/>
          </p:nvSpPr>
          <p:spPr>
            <a:xfrm>
              <a:off x="5290200" y="30780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532" name=""/>
            <p:cNvSpPr/>
            <p:nvPr/>
          </p:nvSpPr>
          <p:spPr>
            <a:xfrm>
              <a:off x="6692760" y="345240"/>
              <a:ext cx="4258080" cy="1931040"/>
            </a:xfrm>
            <a:prstGeom prst="rect">
              <a:avLst/>
            </a:prstGeom>
            <a:noFill/>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5989320" y="2346840"/>
              <a:ext cx="110736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1534" name=""/>
            <p:cNvSpPr/>
            <p:nvPr/>
          </p:nvSpPr>
          <p:spPr>
            <a:xfrm>
              <a:off x="6572880" y="372960"/>
              <a:ext cx="276480" cy="19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6400440" y="246960"/>
              <a:ext cx="24372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5730480" y="18108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6863400" y="804960"/>
              <a:ext cx="34020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7009560" y="814680"/>
              <a:ext cx="18036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8377200" y="865440"/>
              <a:ext cx="341640" cy="36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8377200" y="922320"/>
              <a:ext cx="26100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524800" y="875160"/>
              <a:ext cx="17856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8839080" y="436320"/>
              <a:ext cx="339840" cy="36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8839080" y="445680"/>
              <a:ext cx="23148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8957160" y="445680"/>
              <a:ext cx="17856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9343800" y="469440"/>
              <a:ext cx="340200" cy="36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9460800" y="476280"/>
              <a:ext cx="178560" cy="33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10353960" y="430920"/>
              <a:ext cx="341640" cy="36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10470600" y="438840"/>
              <a:ext cx="18000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6572880" y="372960"/>
              <a:ext cx="276480" cy="19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5948280" y="929160"/>
              <a:ext cx="50115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5954400" y="1390320"/>
              <a:ext cx="501480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2" name=""/>
            <p:cNvSpPr/>
            <p:nvPr/>
          </p:nvSpPr>
          <p:spPr>
            <a:xfrm>
              <a:off x="5223600" y="37836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553" name=""/>
            <p:cNvSpPr/>
            <p:nvPr/>
          </p:nvSpPr>
          <p:spPr>
            <a:xfrm>
              <a:off x="5730480" y="37980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5223600" y="37836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555" name=""/>
            <p:cNvSpPr/>
            <p:nvPr/>
          </p:nvSpPr>
          <p:spPr>
            <a:xfrm>
              <a:off x="5730480" y="37980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V="1">
              <a:off x="5850360" y="350640"/>
              <a:ext cx="1080" cy="1929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flipV="1">
              <a:off x="5850360" y="350640"/>
              <a:ext cx="1080" cy="1929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flipV="1">
              <a:off x="5850360" y="2252880"/>
              <a:ext cx="10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9" name=""/>
            <p:cNvSpPr/>
            <p:nvPr/>
          </p:nvSpPr>
          <p:spPr>
            <a:xfrm>
              <a:off x="5850360" y="200304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0" name=""/>
            <p:cNvSpPr/>
            <p:nvPr/>
          </p:nvSpPr>
          <p:spPr>
            <a:xfrm>
              <a:off x="5505480" y="1942200"/>
              <a:ext cx="324360" cy="20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505480" y="1946520"/>
              <a:ext cx="10224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5218920" y="1950480"/>
              <a:ext cx="107676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1563" name=""/>
            <p:cNvSpPr/>
            <p:nvPr/>
          </p:nvSpPr>
          <p:spPr>
            <a:xfrm>
              <a:off x="5548680" y="1946520"/>
              <a:ext cx="24408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5733720" y="1833120"/>
              <a:ext cx="172440" cy="33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5850360" y="172692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6" name=""/>
            <p:cNvSpPr/>
            <p:nvPr/>
          </p:nvSpPr>
          <p:spPr>
            <a:xfrm>
              <a:off x="5514480" y="1667520"/>
              <a:ext cx="197280" cy="19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5513040" y="1671480"/>
              <a:ext cx="10224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5556240" y="1671480"/>
              <a:ext cx="13392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5631120" y="155844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5850360" y="145080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1" name=""/>
            <p:cNvSpPr/>
            <p:nvPr/>
          </p:nvSpPr>
          <p:spPr>
            <a:xfrm>
              <a:off x="5505480" y="1391400"/>
              <a:ext cx="324360" cy="19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5505480" y="1392840"/>
              <a:ext cx="10224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5548680" y="1392840"/>
              <a:ext cx="24408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5733720" y="1280880"/>
              <a:ext cx="17244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5850360" y="117468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6" name=""/>
            <p:cNvSpPr/>
            <p:nvPr/>
          </p:nvSpPr>
          <p:spPr>
            <a:xfrm>
              <a:off x="5553720" y="1115280"/>
              <a:ext cx="150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5553720" y="1115280"/>
              <a:ext cx="13356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5627880" y="100368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5850360" y="897120"/>
              <a:ext cx="385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0" name=""/>
            <p:cNvSpPr/>
            <p:nvPr/>
          </p:nvSpPr>
          <p:spPr>
            <a:xfrm>
              <a:off x="5545800" y="836640"/>
              <a:ext cx="276120" cy="20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5545800" y="839160"/>
              <a:ext cx="24372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5730480" y="72756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5850360" y="62280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4" name=""/>
            <p:cNvSpPr/>
            <p:nvPr/>
          </p:nvSpPr>
          <p:spPr>
            <a:xfrm>
              <a:off x="5553720" y="560520"/>
              <a:ext cx="150480" cy="20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5553720" y="564840"/>
              <a:ext cx="13356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5340240" y="45540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587" name=""/>
            <p:cNvSpPr/>
            <p:nvPr/>
          </p:nvSpPr>
          <p:spPr>
            <a:xfrm>
              <a:off x="5627880" y="452880"/>
              <a:ext cx="17244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flipV="1">
              <a:off x="5850360" y="350640"/>
              <a:ext cx="1080" cy="1929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5906520" y="363240"/>
              <a:ext cx="545040" cy="1907280"/>
            </a:xfrm>
            <a:custGeom>
              <a:avLst/>
              <a:gdLst/>
              <a:ahLst/>
              <a:rect l="l" t="t" r="r" b="b"/>
              <a:pathLst>
                <a:path w="700" h="2765">
                  <a:moveTo>
                    <a:pt x="156" y="0"/>
                  </a:moveTo>
                  <a:lnTo>
                    <a:pt x="199" y="77"/>
                  </a:lnTo>
                  <a:lnTo>
                    <a:pt x="241" y="153"/>
                  </a:lnTo>
                  <a:lnTo>
                    <a:pt x="287" y="236"/>
                  </a:lnTo>
                  <a:lnTo>
                    <a:pt x="335" y="312"/>
                  </a:lnTo>
                  <a:lnTo>
                    <a:pt x="382" y="395"/>
                  </a:lnTo>
                  <a:lnTo>
                    <a:pt x="435" y="471"/>
                  </a:lnTo>
                  <a:lnTo>
                    <a:pt x="479" y="547"/>
                  </a:lnTo>
                  <a:lnTo>
                    <a:pt x="522" y="631"/>
                  </a:lnTo>
                  <a:lnTo>
                    <a:pt x="571" y="707"/>
                  </a:lnTo>
                  <a:lnTo>
                    <a:pt x="607" y="790"/>
                  </a:lnTo>
                  <a:lnTo>
                    <a:pt x="639" y="866"/>
                  </a:lnTo>
                  <a:lnTo>
                    <a:pt x="665" y="942"/>
                  </a:lnTo>
                  <a:lnTo>
                    <a:pt x="683" y="1026"/>
                  </a:lnTo>
                  <a:lnTo>
                    <a:pt x="695" y="1102"/>
                  </a:lnTo>
                  <a:lnTo>
                    <a:pt x="700" y="1185"/>
                  </a:lnTo>
                  <a:lnTo>
                    <a:pt x="695" y="1261"/>
                  </a:lnTo>
                  <a:lnTo>
                    <a:pt x="683" y="1337"/>
                  </a:lnTo>
                  <a:lnTo>
                    <a:pt x="665" y="1421"/>
                  </a:lnTo>
                  <a:lnTo>
                    <a:pt x="639" y="1497"/>
                  </a:lnTo>
                  <a:lnTo>
                    <a:pt x="607" y="1580"/>
                  </a:lnTo>
                  <a:lnTo>
                    <a:pt x="571" y="1658"/>
                  </a:lnTo>
                  <a:lnTo>
                    <a:pt x="522" y="1732"/>
                  </a:lnTo>
                  <a:lnTo>
                    <a:pt x="479" y="1815"/>
                  </a:lnTo>
                  <a:lnTo>
                    <a:pt x="435" y="1893"/>
                  </a:lnTo>
                  <a:lnTo>
                    <a:pt x="382" y="1975"/>
                  </a:lnTo>
                  <a:lnTo>
                    <a:pt x="335" y="2051"/>
                  </a:lnTo>
                  <a:lnTo>
                    <a:pt x="287" y="2129"/>
                  </a:lnTo>
                  <a:lnTo>
                    <a:pt x="241" y="2210"/>
                  </a:lnTo>
                  <a:lnTo>
                    <a:pt x="199" y="2286"/>
                  </a:lnTo>
                  <a:lnTo>
                    <a:pt x="156" y="2370"/>
                  </a:lnTo>
                  <a:lnTo>
                    <a:pt x="114" y="2446"/>
                  </a:lnTo>
                  <a:lnTo>
                    <a:pt x="83" y="2522"/>
                  </a:lnTo>
                  <a:lnTo>
                    <a:pt x="53" y="2605"/>
                  </a:lnTo>
                  <a:lnTo>
                    <a:pt x="25" y="2681"/>
                  </a:lnTo>
                  <a:lnTo>
                    <a:pt x="0" y="276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5223600" y="37836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591" name=""/>
            <p:cNvSpPr/>
            <p:nvPr/>
          </p:nvSpPr>
          <p:spPr>
            <a:xfrm>
              <a:off x="5730480" y="37980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5223600" y="37836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593" name=""/>
            <p:cNvSpPr/>
            <p:nvPr/>
          </p:nvSpPr>
          <p:spPr>
            <a:xfrm>
              <a:off x="5730480" y="37980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flipV="1">
              <a:off x="5850360" y="350640"/>
              <a:ext cx="1080" cy="1929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flipV="1">
              <a:off x="5850360" y="350640"/>
              <a:ext cx="1080" cy="1929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flipV="1">
              <a:off x="5850360" y="2252880"/>
              <a:ext cx="10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7" name=""/>
            <p:cNvSpPr/>
            <p:nvPr/>
          </p:nvSpPr>
          <p:spPr>
            <a:xfrm>
              <a:off x="5850360" y="200304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8" name=""/>
            <p:cNvSpPr/>
            <p:nvPr/>
          </p:nvSpPr>
          <p:spPr>
            <a:xfrm>
              <a:off x="5505480" y="1942200"/>
              <a:ext cx="324360" cy="20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5505480" y="1946520"/>
              <a:ext cx="10224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5218920" y="1950480"/>
              <a:ext cx="107676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1601" name=""/>
            <p:cNvSpPr/>
            <p:nvPr/>
          </p:nvSpPr>
          <p:spPr>
            <a:xfrm>
              <a:off x="5548680" y="1946520"/>
              <a:ext cx="24408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5733720" y="1833120"/>
              <a:ext cx="172440" cy="33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5850360" y="172692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5514480" y="1667520"/>
              <a:ext cx="197280" cy="19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5513040" y="1671480"/>
              <a:ext cx="10224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5556240" y="1671480"/>
              <a:ext cx="13392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5631120" y="155844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5850360" y="145080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5505480" y="1391400"/>
              <a:ext cx="324360" cy="19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5505480" y="1392840"/>
              <a:ext cx="10224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5548680" y="1392840"/>
              <a:ext cx="24408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5733720" y="1280880"/>
              <a:ext cx="17244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5850360" y="117468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553720" y="1115280"/>
              <a:ext cx="150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5553720" y="1115280"/>
              <a:ext cx="13356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5627880" y="100368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5850360" y="897120"/>
              <a:ext cx="385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8" name=""/>
            <p:cNvSpPr/>
            <p:nvPr/>
          </p:nvSpPr>
          <p:spPr>
            <a:xfrm>
              <a:off x="5545800" y="836640"/>
              <a:ext cx="276120" cy="20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545800" y="839160"/>
              <a:ext cx="24372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5730480" y="727560"/>
              <a:ext cx="172440" cy="33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5850360" y="622800"/>
              <a:ext cx="385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5553720" y="560520"/>
              <a:ext cx="150480" cy="20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553720" y="564840"/>
              <a:ext cx="13356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340240" y="455400"/>
              <a:ext cx="110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625" name=""/>
            <p:cNvSpPr/>
            <p:nvPr/>
          </p:nvSpPr>
          <p:spPr>
            <a:xfrm>
              <a:off x="5627880" y="452880"/>
              <a:ext cx="17244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flipV="1">
              <a:off x="5850360" y="350640"/>
              <a:ext cx="1080" cy="1929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5906520" y="363240"/>
              <a:ext cx="545040" cy="1907280"/>
            </a:xfrm>
            <a:custGeom>
              <a:avLst/>
              <a:gdLst/>
              <a:ahLst/>
              <a:rect l="l" t="t" r="r" b="b"/>
              <a:pathLst>
                <a:path w="700" h="2765">
                  <a:moveTo>
                    <a:pt x="156" y="0"/>
                  </a:moveTo>
                  <a:lnTo>
                    <a:pt x="199" y="77"/>
                  </a:lnTo>
                  <a:lnTo>
                    <a:pt x="241" y="153"/>
                  </a:lnTo>
                  <a:lnTo>
                    <a:pt x="287" y="236"/>
                  </a:lnTo>
                  <a:lnTo>
                    <a:pt x="335" y="312"/>
                  </a:lnTo>
                  <a:lnTo>
                    <a:pt x="382" y="395"/>
                  </a:lnTo>
                  <a:lnTo>
                    <a:pt x="435" y="471"/>
                  </a:lnTo>
                  <a:lnTo>
                    <a:pt x="479" y="547"/>
                  </a:lnTo>
                  <a:lnTo>
                    <a:pt x="522" y="631"/>
                  </a:lnTo>
                  <a:lnTo>
                    <a:pt x="571" y="707"/>
                  </a:lnTo>
                  <a:lnTo>
                    <a:pt x="607" y="790"/>
                  </a:lnTo>
                  <a:lnTo>
                    <a:pt x="639" y="866"/>
                  </a:lnTo>
                  <a:lnTo>
                    <a:pt x="665" y="942"/>
                  </a:lnTo>
                  <a:lnTo>
                    <a:pt x="683" y="1026"/>
                  </a:lnTo>
                  <a:lnTo>
                    <a:pt x="695" y="1102"/>
                  </a:lnTo>
                  <a:lnTo>
                    <a:pt x="700" y="1185"/>
                  </a:lnTo>
                  <a:lnTo>
                    <a:pt x="695" y="1261"/>
                  </a:lnTo>
                  <a:lnTo>
                    <a:pt x="683" y="1337"/>
                  </a:lnTo>
                  <a:lnTo>
                    <a:pt x="665" y="1421"/>
                  </a:lnTo>
                  <a:lnTo>
                    <a:pt x="639" y="1497"/>
                  </a:lnTo>
                  <a:lnTo>
                    <a:pt x="607" y="1580"/>
                  </a:lnTo>
                  <a:lnTo>
                    <a:pt x="571" y="1658"/>
                  </a:lnTo>
                  <a:lnTo>
                    <a:pt x="522" y="1732"/>
                  </a:lnTo>
                  <a:lnTo>
                    <a:pt x="479" y="1815"/>
                  </a:lnTo>
                  <a:lnTo>
                    <a:pt x="435" y="1893"/>
                  </a:lnTo>
                  <a:lnTo>
                    <a:pt x="382" y="1975"/>
                  </a:lnTo>
                  <a:lnTo>
                    <a:pt x="335" y="2051"/>
                  </a:lnTo>
                  <a:lnTo>
                    <a:pt x="287" y="2129"/>
                  </a:lnTo>
                  <a:lnTo>
                    <a:pt x="241" y="2210"/>
                  </a:lnTo>
                  <a:lnTo>
                    <a:pt x="199" y="2286"/>
                  </a:lnTo>
                  <a:lnTo>
                    <a:pt x="156" y="2370"/>
                  </a:lnTo>
                  <a:lnTo>
                    <a:pt x="114" y="2446"/>
                  </a:lnTo>
                  <a:lnTo>
                    <a:pt x="83" y="2522"/>
                  </a:lnTo>
                  <a:lnTo>
                    <a:pt x="53" y="2605"/>
                  </a:lnTo>
                  <a:lnTo>
                    <a:pt x="25" y="2681"/>
                  </a:lnTo>
                  <a:lnTo>
                    <a:pt x="0" y="276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5989320" y="2346840"/>
              <a:ext cx="110736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1629" name=""/>
            <p:cNvSpPr/>
            <p:nvPr/>
          </p:nvSpPr>
          <p:spPr>
            <a:xfrm>
              <a:off x="6720480" y="428040"/>
              <a:ext cx="3852720" cy="1646640"/>
            </a:xfrm>
            <a:custGeom>
              <a:avLst/>
              <a:gdLst/>
              <a:ahLst/>
              <a:rect l="l" t="t" r="r" b="b"/>
              <a:pathLst>
                <a:path w="4956" h="2385">
                  <a:moveTo>
                    <a:pt x="0" y="1000"/>
                  </a:moveTo>
                  <a:lnTo>
                    <a:pt x="0" y="1045"/>
                  </a:lnTo>
                  <a:lnTo>
                    <a:pt x="39" y="1045"/>
                  </a:lnTo>
                  <a:lnTo>
                    <a:pt x="76" y="1045"/>
                  </a:lnTo>
                  <a:lnTo>
                    <a:pt x="113" y="1045"/>
                  </a:lnTo>
                  <a:lnTo>
                    <a:pt x="153" y="1045"/>
                  </a:lnTo>
                  <a:lnTo>
                    <a:pt x="192" y="1045"/>
                  </a:lnTo>
                  <a:lnTo>
                    <a:pt x="229" y="1045"/>
                  </a:lnTo>
                  <a:lnTo>
                    <a:pt x="266" y="1045"/>
                  </a:lnTo>
                  <a:lnTo>
                    <a:pt x="304" y="1045"/>
                  </a:lnTo>
                  <a:lnTo>
                    <a:pt x="355" y="1045"/>
                  </a:lnTo>
                  <a:lnTo>
                    <a:pt x="391" y="1045"/>
                  </a:lnTo>
                  <a:lnTo>
                    <a:pt x="430" y="1045"/>
                  </a:lnTo>
                  <a:lnTo>
                    <a:pt x="467" y="1045"/>
                  </a:lnTo>
                  <a:lnTo>
                    <a:pt x="506" y="1045"/>
                  </a:lnTo>
                  <a:lnTo>
                    <a:pt x="544" y="1045"/>
                  </a:lnTo>
                  <a:lnTo>
                    <a:pt x="581" y="1045"/>
                  </a:lnTo>
                  <a:lnTo>
                    <a:pt x="581" y="1019"/>
                  </a:lnTo>
                  <a:lnTo>
                    <a:pt x="561" y="1029"/>
                  </a:lnTo>
                  <a:lnTo>
                    <a:pt x="566" y="1038"/>
                  </a:lnTo>
                  <a:lnTo>
                    <a:pt x="573" y="1039"/>
                  </a:lnTo>
                  <a:lnTo>
                    <a:pt x="561" y="1021"/>
                  </a:lnTo>
                  <a:lnTo>
                    <a:pt x="598" y="2108"/>
                  </a:lnTo>
                  <a:lnTo>
                    <a:pt x="600" y="2115"/>
                  </a:lnTo>
                  <a:lnTo>
                    <a:pt x="603" y="2124"/>
                  </a:lnTo>
                  <a:lnTo>
                    <a:pt x="610" y="2126"/>
                  </a:lnTo>
                  <a:lnTo>
                    <a:pt x="618" y="2132"/>
                  </a:lnTo>
                  <a:lnTo>
                    <a:pt x="654" y="2132"/>
                  </a:lnTo>
                  <a:lnTo>
                    <a:pt x="695" y="2132"/>
                  </a:lnTo>
                  <a:lnTo>
                    <a:pt x="746" y="2132"/>
                  </a:lnTo>
                  <a:lnTo>
                    <a:pt x="782" y="2132"/>
                  </a:lnTo>
                  <a:lnTo>
                    <a:pt x="821" y="2132"/>
                  </a:lnTo>
                  <a:lnTo>
                    <a:pt x="858" y="2132"/>
                  </a:lnTo>
                  <a:lnTo>
                    <a:pt x="897" y="2132"/>
                  </a:lnTo>
                  <a:lnTo>
                    <a:pt x="935" y="2132"/>
                  </a:lnTo>
                  <a:lnTo>
                    <a:pt x="972" y="2132"/>
                  </a:lnTo>
                  <a:lnTo>
                    <a:pt x="1010" y="2132"/>
                  </a:lnTo>
                  <a:lnTo>
                    <a:pt x="1049" y="2132"/>
                  </a:lnTo>
                  <a:lnTo>
                    <a:pt x="1086" y="2132"/>
                  </a:lnTo>
                  <a:lnTo>
                    <a:pt x="1137" y="2132"/>
                  </a:lnTo>
                  <a:lnTo>
                    <a:pt x="1173" y="2132"/>
                  </a:lnTo>
                  <a:lnTo>
                    <a:pt x="1214" y="2132"/>
                  </a:lnTo>
                  <a:lnTo>
                    <a:pt x="1214" y="2106"/>
                  </a:lnTo>
                  <a:lnTo>
                    <a:pt x="1195" y="2115"/>
                  </a:lnTo>
                  <a:lnTo>
                    <a:pt x="1198" y="2124"/>
                  </a:lnTo>
                  <a:lnTo>
                    <a:pt x="1205" y="2126"/>
                  </a:lnTo>
                  <a:lnTo>
                    <a:pt x="1193" y="2112"/>
                  </a:lnTo>
                  <a:lnTo>
                    <a:pt x="1231" y="2365"/>
                  </a:lnTo>
                  <a:lnTo>
                    <a:pt x="1232" y="2369"/>
                  </a:lnTo>
                  <a:lnTo>
                    <a:pt x="1236" y="2378"/>
                  </a:lnTo>
                  <a:lnTo>
                    <a:pt x="1241" y="2380"/>
                  </a:lnTo>
                  <a:lnTo>
                    <a:pt x="1249" y="2385"/>
                  </a:lnTo>
                  <a:lnTo>
                    <a:pt x="1288" y="2385"/>
                  </a:lnTo>
                  <a:lnTo>
                    <a:pt x="1326" y="2385"/>
                  </a:lnTo>
                  <a:lnTo>
                    <a:pt x="1365" y="2385"/>
                  </a:lnTo>
                  <a:lnTo>
                    <a:pt x="1402" y="2385"/>
                  </a:lnTo>
                  <a:lnTo>
                    <a:pt x="1440" y="2385"/>
                  </a:lnTo>
                  <a:lnTo>
                    <a:pt x="1477" y="2385"/>
                  </a:lnTo>
                  <a:lnTo>
                    <a:pt x="1526" y="2385"/>
                  </a:lnTo>
                  <a:lnTo>
                    <a:pt x="1564" y="2385"/>
                  </a:lnTo>
                  <a:lnTo>
                    <a:pt x="1603" y="2385"/>
                  </a:lnTo>
                  <a:lnTo>
                    <a:pt x="1640" y="2385"/>
                  </a:lnTo>
                  <a:lnTo>
                    <a:pt x="1678" y="2385"/>
                  </a:lnTo>
                  <a:lnTo>
                    <a:pt x="1717" y="2385"/>
                  </a:lnTo>
                  <a:lnTo>
                    <a:pt x="1754" y="2385"/>
                  </a:lnTo>
                  <a:lnTo>
                    <a:pt x="1792" y="2385"/>
                  </a:lnTo>
                  <a:lnTo>
                    <a:pt x="1831" y="2385"/>
                  </a:lnTo>
                  <a:lnTo>
                    <a:pt x="1831" y="2383"/>
                  </a:lnTo>
                  <a:lnTo>
                    <a:pt x="1839" y="2380"/>
                  </a:lnTo>
                  <a:lnTo>
                    <a:pt x="1844" y="2378"/>
                  </a:lnTo>
                  <a:lnTo>
                    <a:pt x="1850" y="2369"/>
                  </a:lnTo>
                  <a:lnTo>
                    <a:pt x="1853" y="2362"/>
                  </a:lnTo>
                  <a:lnTo>
                    <a:pt x="1890" y="1144"/>
                  </a:lnTo>
                  <a:lnTo>
                    <a:pt x="1868" y="1141"/>
                  </a:lnTo>
                  <a:lnTo>
                    <a:pt x="1868" y="1164"/>
                  </a:lnTo>
                  <a:lnTo>
                    <a:pt x="1877" y="1163"/>
                  </a:lnTo>
                  <a:lnTo>
                    <a:pt x="1884" y="1157"/>
                  </a:lnTo>
                  <a:lnTo>
                    <a:pt x="1887" y="1150"/>
                  </a:lnTo>
                  <a:lnTo>
                    <a:pt x="1868" y="1164"/>
                  </a:lnTo>
                  <a:lnTo>
                    <a:pt x="1919" y="1164"/>
                  </a:lnTo>
                  <a:lnTo>
                    <a:pt x="1955" y="1164"/>
                  </a:lnTo>
                  <a:lnTo>
                    <a:pt x="1994" y="1164"/>
                  </a:lnTo>
                  <a:lnTo>
                    <a:pt x="2031" y="1164"/>
                  </a:lnTo>
                  <a:lnTo>
                    <a:pt x="2071" y="1164"/>
                  </a:lnTo>
                  <a:lnTo>
                    <a:pt x="2108" y="1164"/>
                  </a:lnTo>
                  <a:lnTo>
                    <a:pt x="2145" y="1164"/>
                  </a:lnTo>
                  <a:lnTo>
                    <a:pt x="2183" y="1164"/>
                  </a:lnTo>
                  <a:lnTo>
                    <a:pt x="2218" y="1164"/>
                  </a:lnTo>
                  <a:lnTo>
                    <a:pt x="2259" y="1164"/>
                  </a:lnTo>
                  <a:lnTo>
                    <a:pt x="2310" y="1164"/>
                  </a:lnTo>
                  <a:lnTo>
                    <a:pt x="2346" y="1164"/>
                  </a:lnTo>
                  <a:lnTo>
                    <a:pt x="2385" y="1164"/>
                  </a:lnTo>
                  <a:lnTo>
                    <a:pt x="2423" y="1164"/>
                  </a:lnTo>
                  <a:lnTo>
                    <a:pt x="2462" y="1164"/>
                  </a:lnTo>
                  <a:lnTo>
                    <a:pt x="2462" y="1164"/>
                  </a:lnTo>
                  <a:lnTo>
                    <a:pt x="2470" y="1163"/>
                  </a:lnTo>
                  <a:lnTo>
                    <a:pt x="2477" y="1157"/>
                  </a:lnTo>
                  <a:lnTo>
                    <a:pt x="2480" y="1150"/>
                  </a:lnTo>
                  <a:lnTo>
                    <a:pt x="2482" y="1144"/>
                  </a:lnTo>
                  <a:lnTo>
                    <a:pt x="2521" y="23"/>
                  </a:lnTo>
                  <a:lnTo>
                    <a:pt x="2499" y="23"/>
                  </a:lnTo>
                  <a:lnTo>
                    <a:pt x="2499" y="43"/>
                  </a:lnTo>
                  <a:lnTo>
                    <a:pt x="2508" y="41"/>
                  </a:lnTo>
                  <a:lnTo>
                    <a:pt x="2514" y="40"/>
                  </a:lnTo>
                  <a:lnTo>
                    <a:pt x="2516" y="32"/>
                  </a:lnTo>
                  <a:lnTo>
                    <a:pt x="2499" y="45"/>
                  </a:lnTo>
                  <a:lnTo>
                    <a:pt x="2536" y="45"/>
                  </a:lnTo>
                  <a:lnTo>
                    <a:pt x="2576" y="45"/>
                  </a:lnTo>
                  <a:lnTo>
                    <a:pt x="2613" y="45"/>
                  </a:lnTo>
                  <a:lnTo>
                    <a:pt x="2650" y="45"/>
                  </a:lnTo>
                  <a:lnTo>
                    <a:pt x="2700" y="45"/>
                  </a:lnTo>
                  <a:lnTo>
                    <a:pt x="2737" y="45"/>
                  </a:lnTo>
                  <a:lnTo>
                    <a:pt x="2776" y="45"/>
                  </a:lnTo>
                  <a:lnTo>
                    <a:pt x="2814" y="45"/>
                  </a:lnTo>
                  <a:lnTo>
                    <a:pt x="2853" y="45"/>
                  </a:lnTo>
                  <a:lnTo>
                    <a:pt x="2890" y="45"/>
                  </a:lnTo>
                  <a:lnTo>
                    <a:pt x="2929" y="45"/>
                  </a:lnTo>
                  <a:lnTo>
                    <a:pt x="2967" y="45"/>
                  </a:lnTo>
                  <a:lnTo>
                    <a:pt x="3004" y="45"/>
                  </a:lnTo>
                  <a:lnTo>
                    <a:pt x="3041" y="45"/>
                  </a:lnTo>
                  <a:lnTo>
                    <a:pt x="3092" y="45"/>
                  </a:lnTo>
                  <a:lnTo>
                    <a:pt x="3092" y="23"/>
                  </a:lnTo>
                  <a:lnTo>
                    <a:pt x="3074" y="32"/>
                  </a:lnTo>
                  <a:lnTo>
                    <a:pt x="3077" y="40"/>
                  </a:lnTo>
                  <a:lnTo>
                    <a:pt x="3084" y="41"/>
                  </a:lnTo>
                  <a:lnTo>
                    <a:pt x="3072" y="23"/>
                  </a:lnTo>
                  <a:lnTo>
                    <a:pt x="3109" y="530"/>
                  </a:lnTo>
                  <a:lnTo>
                    <a:pt x="3111" y="539"/>
                  </a:lnTo>
                  <a:lnTo>
                    <a:pt x="3115" y="547"/>
                  </a:lnTo>
                  <a:lnTo>
                    <a:pt x="3120" y="549"/>
                  </a:lnTo>
                  <a:lnTo>
                    <a:pt x="3128" y="552"/>
                  </a:lnTo>
                  <a:lnTo>
                    <a:pt x="3167" y="552"/>
                  </a:lnTo>
                  <a:lnTo>
                    <a:pt x="3205" y="552"/>
                  </a:lnTo>
                  <a:lnTo>
                    <a:pt x="3242" y="552"/>
                  </a:lnTo>
                  <a:lnTo>
                    <a:pt x="3281" y="552"/>
                  </a:lnTo>
                  <a:lnTo>
                    <a:pt x="3319" y="552"/>
                  </a:lnTo>
                  <a:lnTo>
                    <a:pt x="3356" y="552"/>
                  </a:lnTo>
                  <a:lnTo>
                    <a:pt x="3392" y="552"/>
                  </a:lnTo>
                  <a:lnTo>
                    <a:pt x="3433" y="552"/>
                  </a:lnTo>
                  <a:lnTo>
                    <a:pt x="3484" y="552"/>
                  </a:lnTo>
                  <a:lnTo>
                    <a:pt x="3519" y="552"/>
                  </a:lnTo>
                  <a:lnTo>
                    <a:pt x="3558" y="552"/>
                  </a:lnTo>
                  <a:lnTo>
                    <a:pt x="3596" y="552"/>
                  </a:lnTo>
                  <a:lnTo>
                    <a:pt x="3635" y="552"/>
                  </a:lnTo>
                  <a:lnTo>
                    <a:pt x="3672" y="552"/>
                  </a:lnTo>
                  <a:lnTo>
                    <a:pt x="3710" y="552"/>
                  </a:lnTo>
                  <a:lnTo>
                    <a:pt x="3710" y="530"/>
                  </a:lnTo>
                  <a:lnTo>
                    <a:pt x="3689" y="539"/>
                  </a:lnTo>
                  <a:lnTo>
                    <a:pt x="3694" y="547"/>
                  </a:lnTo>
                  <a:lnTo>
                    <a:pt x="3701" y="549"/>
                  </a:lnTo>
                  <a:lnTo>
                    <a:pt x="3689" y="532"/>
                  </a:lnTo>
                  <a:lnTo>
                    <a:pt x="3727" y="818"/>
                  </a:lnTo>
                  <a:lnTo>
                    <a:pt x="3728" y="822"/>
                  </a:lnTo>
                  <a:lnTo>
                    <a:pt x="3732" y="829"/>
                  </a:lnTo>
                  <a:lnTo>
                    <a:pt x="3739" y="833"/>
                  </a:lnTo>
                  <a:lnTo>
                    <a:pt x="3747" y="838"/>
                  </a:lnTo>
                  <a:lnTo>
                    <a:pt x="3786" y="838"/>
                  </a:lnTo>
                  <a:lnTo>
                    <a:pt x="3824" y="838"/>
                  </a:lnTo>
                  <a:lnTo>
                    <a:pt x="3875" y="838"/>
                  </a:lnTo>
                  <a:lnTo>
                    <a:pt x="3910" y="838"/>
                  </a:lnTo>
                  <a:lnTo>
                    <a:pt x="3951" y="838"/>
                  </a:lnTo>
                  <a:lnTo>
                    <a:pt x="3987" y="838"/>
                  </a:lnTo>
                  <a:lnTo>
                    <a:pt x="4026" y="838"/>
                  </a:lnTo>
                  <a:lnTo>
                    <a:pt x="4063" y="838"/>
                  </a:lnTo>
                  <a:lnTo>
                    <a:pt x="4101" y="838"/>
                  </a:lnTo>
                  <a:lnTo>
                    <a:pt x="4140" y="838"/>
                  </a:lnTo>
                  <a:lnTo>
                    <a:pt x="4177" y="838"/>
                  </a:lnTo>
                  <a:lnTo>
                    <a:pt x="4215" y="838"/>
                  </a:lnTo>
                  <a:lnTo>
                    <a:pt x="4264" y="838"/>
                  </a:lnTo>
                  <a:lnTo>
                    <a:pt x="4301" y="838"/>
                  </a:lnTo>
                  <a:lnTo>
                    <a:pt x="4341" y="838"/>
                  </a:lnTo>
                  <a:lnTo>
                    <a:pt x="4341" y="837"/>
                  </a:lnTo>
                  <a:lnTo>
                    <a:pt x="4349" y="833"/>
                  </a:lnTo>
                  <a:lnTo>
                    <a:pt x="4356" y="829"/>
                  </a:lnTo>
                  <a:lnTo>
                    <a:pt x="4359" y="822"/>
                  </a:lnTo>
                  <a:lnTo>
                    <a:pt x="4361" y="818"/>
                  </a:lnTo>
                  <a:lnTo>
                    <a:pt x="4398" y="492"/>
                  </a:lnTo>
                  <a:lnTo>
                    <a:pt x="4378" y="487"/>
                  </a:lnTo>
                  <a:lnTo>
                    <a:pt x="4378" y="510"/>
                  </a:lnTo>
                  <a:lnTo>
                    <a:pt x="4386" y="507"/>
                  </a:lnTo>
                  <a:lnTo>
                    <a:pt x="4393" y="503"/>
                  </a:lnTo>
                  <a:lnTo>
                    <a:pt x="4395" y="496"/>
                  </a:lnTo>
                  <a:lnTo>
                    <a:pt x="4378" y="512"/>
                  </a:lnTo>
                  <a:lnTo>
                    <a:pt x="4415" y="512"/>
                  </a:lnTo>
                  <a:lnTo>
                    <a:pt x="4454" y="512"/>
                  </a:lnTo>
                  <a:lnTo>
                    <a:pt x="4492" y="512"/>
                  </a:lnTo>
                  <a:lnTo>
                    <a:pt x="4531" y="512"/>
                  </a:lnTo>
                  <a:lnTo>
                    <a:pt x="4568" y="512"/>
                  </a:lnTo>
                  <a:lnTo>
                    <a:pt x="4606" y="512"/>
                  </a:lnTo>
                  <a:lnTo>
                    <a:pt x="4657" y="512"/>
                  </a:lnTo>
                  <a:lnTo>
                    <a:pt x="4693" y="512"/>
                  </a:lnTo>
                  <a:lnTo>
                    <a:pt x="4732" y="512"/>
                  </a:lnTo>
                  <a:lnTo>
                    <a:pt x="4769" y="512"/>
                  </a:lnTo>
                  <a:lnTo>
                    <a:pt x="4806" y="512"/>
                  </a:lnTo>
                  <a:lnTo>
                    <a:pt x="4846" y="512"/>
                  </a:lnTo>
                  <a:lnTo>
                    <a:pt x="4883" y="512"/>
                  </a:lnTo>
                  <a:lnTo>
                    <a:pt x="4920" y="512"/>
                  </a:lnTo>
                  <a:lnTo>
                    <a:pt x="4956" y="512"/>
                  </a:lnTo>
                  <a:lnTo>
                    <a:pt x="4956" y="467"/>
                  </a:lnTo>
                  <a:lnTo>
                    <a:pt x="4920" y="467"/>
                  </a:lnTo>
                  <a:lnTo>
                    <a:pt x="4883" y="467"/>
                  </a:lnTo>
                  <a:lnTo>
                    <a:pt x="4846" y="467"/>
                  </a:lnTo>
                  <a:lnTo>
                    <a:pt x="4806" y="467"/>
                  </a:lnTo>
                  <a:lnTo>
                    <a:pt x="4769" y="467"/>
                  </a:lnTo>
                  <a:lnTo>
                    <a:pt x="4732" y="467"/>
                  </a:lnTo>
                  <a:lnTo>
                    <a:pt x="4693" y="467"/>
                  </a:lnTo>
                  <a:lnTo>
                    <a:pt x="4657" y="467"/>
                  </a:lnTo>
                  <a:lnTo>
                    <a:pt x="4606" y="467"/>
                  </a:lnTo>
                  <a:lnTo>
                    <a:pt x="4568" y="467"/>
                  </a:lnTo>
                  <a:lnTo>
                    <a:pt x="4531" y="467"/>
                  </a:lnTo>
                  <a:lnTo>
                    <a:pt x="4492" y="467"/>
                  </a:lnTo>
                  <a:lnTo>
                    <a:pt x="4454" y="467"/>
                  </a:lnTo>
                  <a:lnTo>
                    <a:pt x="4415" y="467"/>
                  </a:lnTo>
                  <a:lnTo>
                    <a:pt x="4378" y="467"/>
                  </a:lnTo>
                  <a:lnTo>
                    <a:pt x="4369" y="467"/>
                  </a:lnTo>
                  <a:lnTo>
                    <a:pt x="4361" y="471"/>
                  </a:lnTo>
                  <a:lnTo>
                    <a:pt x="4359" y="478"/>
                  </a:lnTo>
                  <a:lnTo>
                    <a:pt x="4358" y="487"/>
                  </a:lnTo>
                  <a:lnTo>
                    <a:pt x="4358" y="485"/>
                  </a:lnTo>
                  <a:lnTo>
                    <a:pt x="4318" y="811"/>
                  </a:lnTo>
                  <a:lnTo>
                    <a:pt x="4341" y="793"/>
                  </a:lnTo>
                  <a:lnTo>
                    <a:pt x="4332" y="793"/>
                  </a:lnTo>
                  <a:lnTo>
                    <a:pt x="4325" y="797"/>
                  </a:lnTo>
                  <a:lnTo>
                    <a:pt x="4322" y="804"/>
                  </a:lnTo>
                  <a:lnTo>
                    <a:pt x="4318" y="813"/>
                  </a:lnTo>
                  <a:lnTo>
                    <a:pt x="4341" y="813"/>
                  </a:lnTo>
                  <a:lnTo>
                    <a:pt x="4341" y="793"/>
                  </a:lnTo>
                  <a:lnTo>
                    <a:pt x="4301" y="793"/>
                  </a:lnTo>
                  <a:lnTo>
                    <a:pt x="4264" y="793"/>
                  </a:lnTo>
                  <a:lnTo>
                    <a:pt x="4215" y="793"/>
                  </a:lnTo>
                  <a:lnTo>
                    <a:pt x="4177" y="793"/>
                  </a:lnTo>
                  <a:lnTo>
                    <a:pt x="4140" y="793"/>
                  </a:lnTo>
                  <a:lnTo>
                    <a:pt x="4101" y="793"/>
                  </a:lnTo>
                  <a:lnTo>
                    <a:pt x="4063" y="793"/>
                  </a:lnTo>
                  <a:lnTo>
                    <a:pt x="4026" y="793"/>
                  </a:lnTo>
                  <a:lnTo>
                    <a:pt x="3987" y="793"/>
                  </a:lnTo>
                  <a:lnTo>
                    <a:pt x="3951" y="793"/>
                  </a:lnTo>
                  <a:lnTo>
                    <a:pt x="3910" y="793"/>
                  </a:lnTo>
                  <a:lnTo>
                    <a:pt x="3875" y="793"/>
                  </a:lnTo>
                  <a:lnTo>
                    <a:pt x="3824" y="793"/>
                  </a:lnTo>
                  <a:lnTo>
                    <a:pt x="3786" y="793"/>
                  </a:lnTo>
                  <a:lnTo>
                    <a:pt x="3747" y="793"/>
                  </a:lnTo>
                  <a:lnTo>
                    <a:pt x="3766" y="804"/>
                  </a:lnTo>
                  <a:lnTo>
                    <a:pt x="3762" y="797"/>
                  </a:lnTo>
                  <a:lnTo>
                    <a:pt x="3756" y="793"/>
                  </a:lnTo>
                  <a:lnTo>
                    <a:pt x="3747" y="813"/>
                  </a:lnTo>
                  <a:lnTo>
                    <a:pt x="3766" y="811"/>
                  </a:lnTo>
                  <a:lnTo>
                    <a:pt x="3730" y="529"/>
                  </a:lnTo>
                  <a:lnTo>
                    <a:pt x="3728" y="521"/>
                  </a:lnTo>
                  <a:lnTo>
                    <a:pt x="3723" y="512"/>
                  </a:lnTo>
                  <a:lnTo>
                    <a:pt x="3718" y="510"/>
                  </a:lnTo>
                  <a:lnTo>
                    <a:pt x="3710" y="507"/>
                  </a:lnTo>
                  <a:lnTo>
                    <a:pt x="3672" y="507"/>
                  </a:lnTo>
                  <a:lnTo>
                    <a:pt x="3635" y="507"/>
                  </a:lnTo>
                  <a:lnTo>
                    <a:pt x="3596" y="507"/>
                  </a:lnTo>
                  <a:lnTo>
                    <a:pt x="3558" y="507"/>
                  </a:lnTo>
                  <a:lnTo>
                    <a:pt x="3519" y="507"/>
                  </a:lnTo>
                  <a:lnTo>
                    <a:pt x="3484" y="507"/>
                  </a:lnTo>
                  <a:lnTo>
                    <a:pt x="3433" y="507"/>
                  </a:lnTo>
                  <a:lnTo>
                    <a:pt x="3392" y="507"/>
                  </a:lnTo>
                  <a:lnTo>
                    <a:pt x="3356" y="507"/>
                  </a:lnTo>
                  <a:lnTo>
                    <a:pt x="3319" y="507"/>
                  </a:lnTo>
                  <a:lnTo>
                    <a:pt x="3281" y="507"/>
                  </a:lnTo>
                  <a:lnTo>
                    <a:pt x="3242" y="507"/>
                  </a:lnTo>
                  <a:lnTo>
                    <a:pt x="3205" y="507"/>
                  </a:lnTo>
                  <a:lnTo>
                    <a:pt x="3167" y="507"/>
                  </a:lnTo>
                  <a:lnTo>
                    <a:pt x="3128" y="507"/>
                  </a:lnTo>
                  <a:lnTo>
                    <a:pt x="3149" y="521"/>
                  </a:lnTo>
                  <a:lnTo>
                    <a:pt x="3145" y="512"/>
                  </a:lnTo>
                  <a:lnTo>
                    <a:pt x="3137" y="510"/>
                  </a:lnTo>
                  <a:lnTo>
                    <a:pt x="3128" y="530"/>
                  </a:lnTo>
                  <a:lnTo>
                    <a:pt x="3152" y="529"/>
                  </a:lnTo>
                  <a:lnTo>
                    <a:pt x="3115" y="21"/>
                  </a:lnTo>
                  <a:lnTo>
                    <a:pt x="3111" y="14"/>
                  </a:lnTo>
                  <a:lnTo>
                    <a:pt x="3108" y="5"/>
                  </a:lnTo>
                  <a:lnTo>
                    <a:pt x="3101" y="3"/>
                  </a:lnTo>
                  <a:lnTo>
                    <a:pt x="3092" y="0"/>
                  </a:lnTo>
                  <a:lnTo>
                    <a:pt x="3041" y="0"/>
                  </a:lnTo>
                  <a:lnTo>
                    <a:pt x="3004" y="0"/>
                  </a:lnTo>
                  <a:lnTo>
                    <a:pt x="2967" y="0"/>
                  </a:lnTo>
                  <a:lnTo>
                    <a:pt x="2929" y="0"/>
                  </a:lnTo>
                  <a:lnTo>
                    <a:pt x="2890" y="0"/>
                  </a:lnTo>
                  <a:lnTo>
                    <a:pt x="2853" y="0"/>
                  </a:lnTo>
                  <a:lnTo>
                    <a:pt x="2814" y="0"/>
                  </a:lnTo>
                  <a:lnTo>
                    <a:pt x="2776" y="0"/>
                  </a:lnTo>
                  <a:lnTo>
                    <a:pt x="2737" y="0"/>
                  </a:lnTo>
                  <a:lnTo>
                    <a:pt x="2700" y="0"/>
                  </a:lnTo>
                  <a:lnTo>
                    <a:pt x="2650" y="0"/>
                  </a:lnTo>
                  <a:lnTo>
                    <a:pt x="2613" y="0"/>
                  </a:lnTo>
                  <a:lnTo>
                    <a:pt x="2576" y="0"/>
                  </a:lnTo>
                  <a:lnTo>
                    <a:pt x="2536" y="0"/>
                  </a:lnTo>
                  <a:lnTo>
                    <a:pt x="2499" y="0"/>
                  </a:lnTo>
                  <a:lnTo>
                    <a:pt x="2491" y="3"/>
                  </a:lnTo>
                  <a:lnTo>
                    <a:pt x="2482" y="5"/>
                  </a:lnTo>
                  <a:lnTo>
                    <a:pt x="2480" y="14"/>
                  </a:lnTo>
                  <a:lnTo>
                    <a:pt x="2479" y="23"/>
                  </a:lnTo>
                  <a:lnTo>
                    <a:pt x="2440" y="1141"/>
                  </a:lnTo>
                  <a:lnTo>
                    <a:pt x="2462" y="1119"/>
                  </a:lnTo>
                  <a:lnTo>
                    <a:pt x="2453" y="1121"/>
                  </a:lnTo>
                  <a:lnTo>
                    <a:pt x="2446" y="1126"/>
                  </a:lnTo>
                  <a:lnTo>
                    <a:pt x="2443" y="1132"/>
                  </a:lnTo>
                  <a:lnTo>
                    <a:pt x="2440" y="1141"/>
                  </a:lnTo>
                  <a:lnTo>
                    <a:pt x="2462" y="1141"/>
                  </a:lnTo>
                  <a:lnTo>
                    <a:pt x="2462" y="1119"/>
                  </a:lnTo>
                  <a:lnTo>
                    <a:pt x="2423" y="1119"/>
                  </a:lnTo>
                  <a:lnTo>
                    <a:pt x="2385" y="1119"/>
                  </a:lnTo>
                  <a:lnTo>
                    <a:pt x="2346" y="1119"/>
                  </a:lnTo>
                  <a:lnTo>
                    <a:pt x="2310" y="1119"/>
                  </a:lnTo>
                  <a:lnTo>
                    <a:pt x="2259" y="1119"/>
                  </a:lnTo>
                  <a:lnTo>
                    <a:pt x="2218" y="1119"/>
                  </a:lnTo>
                  <a:lnTo>
                    <a:pt x="2183" y="1119"/>
                  </a:lnTo>
                  <a:lnTo>
                    <a:pt x="2145" y="1119"/>
                  </a:lnTo>
                  <a:lnTo>
                    <a:pt x="2108" y="1119"/>
                  </a:lnTo>
                  <a:lnTo>
                    <a:pt x="2071" y="1119"/>
                  </a:lnTo>
                  <a:lnTo>
                    <a:pt x="2031" y="1119"/>
                  </a:lnTo>
                  <a:lnTo>
                    <a:pt x="1994" y="1119"/>
                  </a:lnTo>
                  <a:lnTo>
                    <a:pt x="1955" y="1119"/>
                  </a:lnTo>
                  <a:lnTo>
                    <a:pt x="1919" y="1119"/>
                  </a:lnTo>
                  <a:lnTo>
                    <a:pt x="1868" y="1119"/>
                  </a:lnTo>
                  <a:lnTo>
                    <a:pt x="1860" y="1121"/>
                  </a:lnTo>
                  <a:lnTo>
                    <a:pt x="1853" y="1126"/>
                  </a:lnTo>
                  <a:lnTo>
                    <a:pt x="1850" y="1132"/>
                  </a:lnTo>
                  <a:lnTo>
                    <a:pt x="1848" y="1141"/>
                  </a:lnTo>
                  <a:lnTo>
                    <a:pt x="1810" y="2360"/>
                  </a:lnTo>
                  <a:lnTo>
                    <a:pt x="1831" y="2340"/>
                  </a:lnTo>
                  <a:lnTo>
                    <a:pt x="1822" y="2342"/>
                  </a:lnTo>
                  <a:lnTo>
                    <a:pt x="1816" y="2344"/>
                  </a:lnTo>
                  <a:lnTo>
                    <a:pt x="1810" y="2351"/>
                  </a:lnTo>
                  <a:lnTo>
                    <a:pt x="1810" y="2360"/>
                  </a:lnTo>
                  <a:lnTo>
                    <a:pt x="1831" y="2360"/>
                  </a:lnTo>
                  <a:lnTo>
                    <a:pt x="1831" y="2340"/>
                  </a:lnTo>
                  <a:lnTo>
                    <a:pt x="1792" y="2340"/>
                  </a:lnTo>
                  <a:lnTo>
                    <a:pt x="1754" y="2340"/>
                  </a:lnTo>
                  <a:lnTo>
                    <a:pt x="1717" y="2340"/>
                  </a:lnTo>
                  <a:lnTo>
                    <a:pt x="1678" y="2340"/>
                  </a:lnTo>
                  <a:lnTo>
                    <a:pt x="1640" y="2340"/>
                  </a:lnTo>
                  <a:lnTo>
                    <a:pt x="1603" y="2340"/>
                  </a:lnTo>
                  <a:lnTo>
                    <a:pt x="1564" y="2340"/>
                  </a:lnTo>
                  <a:lnTo>
                    <a:pt x="1526" y="2340"/>
                  </a:lnTo>
                  <a:lnTo>
                    <a:pt x="1477" y="2340"/>
                  </a:lnTo>
                  <a:lnTo>
                    <a:pt x="1440" y="2340"/>
                  </a:lnTo>
                  <a:lnTo>
                    <a:pt x="1402" y="2340"/>
                  </a:lnTo>
                  <a:lnTo>
                    <a:pt x="1365" y="2340"/>
                  </a:lnTo>
                  <a:lnTo>
                    <a:pt x="1326" y="2340"/>
                  </a:lnTo>
                  <a:lnTo>
                    <a:pt x="1288" y="2340"/>
                  </a:lnTo>
                  <a:lnTo>
                    <a:pt x="1249" y="2340"/>
                  </a:lnTo>
                  <a:lnTo>
                    <a:pt x="1270" y="2351"/>
                  </a:lnTo>
                  <a:lnTo>
                    <a:pt x="1266" y="2344"/>
                  </a:lnTo>
                  <a:lnTo>
                    <a:pt x="1258" y="2342"/>
                  </a:lnTo>
                  <a:lnTo>
                    <a:pt x="1249" y="2360"/>
                  </a:lnTo>
                  <a:lnTo>
                    <a:pt x="1271" y="2358"/>
                  </a:lnTo>
                  <a:lnTo>
                    <a:pt x="1232" y="2104"/>
                  </a:lnTo>
                  <a:lnTo>
                    <a:pt x="1232" y="2097"/>
                  </a:lnTo>
                  <a:lnTo>
                    <a:pt x="1229" y="2090"/>
                  </a:lnTo>
                  <a:lnTo>
                    <a:pt x="1222" y="2088"/>
                  </a:lnTo>
                  <a:lnTo>
                    <a:pt x="1214" y="2086"/>
                  </a:lnTo>
                  <a:lnTo>
                    <a:pt x="1173" y="2086"/>
                  </a:lnTo>
                  <a:lnTo>
                    <a:pt x="1137" y="2086"/>
                  </a:lnTo>
                  <a:lnTo>
                    <a:pt x="1086" y="2086"/>
                  </a:lnTo>
                  <a:lnTo>
                    <a:pt x="1049" y="2086"/>
                  </a:lnTo>
                  <a:lnTo>
                    <a:pt x="1010" y="2086"/>
                  </a:lnTo>
                  <a:lnTo>
                    <a:pt x="972" y="2086"/>
                  </a:lnTo>
                  <a:lnTo>
                    <a:pt x="935" y="2086"/>
                  </a:lnTo>
                  <a:lnTo>
                    <a:pt x="897" y="2086"/>
                  </a:lnTo>
                  <a:lnTo>
                    <a:pt x="858" y="2086"/>
                  </a:lnTo>
                  <a:lnTo>
                    <a:pt x="821" y="2086"/>
                  </a:lnTo>
                  <a:lnTo>
                    <a:pt x="782" y="2086"/>
                  </a:lnTo>
                  <a:lnTo>
                    <a:pt x="746" y="2086"/>
                  </a:lnTo>
                  <a:lnTo>
                    <a:pt x="695" y="2086"/>
                  </a:lnTo>
                  <a:lnTo>
                    <a:pt x="654" y="2086"/>
                  </a:lnTo>
                  <a:lnTo>
                    <a:pt x="618" y="2086"/>
                  </a:lnTo>
                  <a:lnTo>
                    <a:pt x="637" y="2097"/>
                  </a:lnTo>
                  <a:lnTo>
                    <a:pt x="634" y="2090"/>
                  </a:lnTo>
                  <a:lnTo>
                    <a:pt x="627" y="2088"/>
                  </a:lnTo>
                  <a:lnTo>
                    <a:pt x="618" y="2106"/>
                  </a:lnTo>
                  <a:lnTo>
                    <a:pt x="641" y="2106"/>
                  </a:lnTo>
                  <a:lnTo>
                    <a:pt x="603" y="1019"/>
                  </a:lnTo>
                  <a:lnTo>
                    <a:pt x="600" y="1010"/>
                  </a:lnTo>
                  <a:lnTo>
                    <a:pt x="595" y="1003"/>
                  </a:lnTo>
                  <a:lnTo>
                    <a:pt x="590" y="1001"/>
                  </a:lnTo>
                  <a:lnTo>
                    <a:pt x="581" y="1000"/>
                  </a:lnTo>
                  <a:lnTo>
                    <a:pt x="544" y="1000"/>
                  </a:lnTo>
                  <a:lnTo>
                    <a:pt x="506" y="1000"/>
                  </a:lnTo>
                  <a:lnTo>
                    <a:pt x="467" y="1000"/>
                  </a:lnTo>
                  <a:lnTo>
                    <a:pt x="430" y="1000"/>
                  </a:lnTo>
                  <a:lnTo>
                    <a:pt x="391" y="1000"/>
                  </a:lnTo>
                  <a:lnTo>
                    <a:pt x="355" y="1000"/>
                  </a:lnTo>
                  <a:lnTo>
                    <a:pt x="304" y="1000"/>
                  </a:lnTo>
                  <a:lnTo>
                    <a:pt x="266" y="1000"/>
                  </a:lnTo>
                  <a:lnTo>
                    <a:pt x="229" y="1000"/>
                  </a:lnTo>
                  <a:lnTo>
                    <a:pt x="192" y="1000"/>
                  </a:lnTo>
                  <a:lnTo>
                    <a:pt x="153" y="1000"/>
                  </a:lnTo>
                  <a:lnTo>
                    <a:pt x="113" y="1000"/>
                  </a:lnTo>
                  <a:lnTo>
                    <a:pt x="76" y="1000"/>
                  </a:lnTo>
                  <a:lnTo>
                    <a:pt x="39" y="1000"/>
                  </a:lnTo>
                  <a:lnTo>
                    <a:pt x="0" y="100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6692760" y="2273400"/>
              <a:ext cx="4255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1" name=""/>
            <p:cNvSpPr/>
            <p:nvPr/>
          </p:nvSpPr>
          <p:spPr>
            <a:xfrm>
              <a:off x="6692760" y="2273400"/>
              <a:ext cx="4255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6662880" y="2316240"/>
              <a:ext cx="13356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flipV="1">
              <a:off x="7300080" y="2246040"/>
              <a:ext cx="1080" cy="27360"/>
            </a:xfrm>
            <a:prstGeom prst="line">
              <a:avLst/>
            </a:prstGeom>
            <a:ln w="14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4" name=""/>
            <p:cNvSpPr/>
            <p:nvPr/>
          </p:nvSpPr>
          <p:spPr>
            <a:xfrm>
              <a:off x="7230600" y="2316240"/>
              <a:ext cx="20628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6508080" y="2360520"/>
              <a:ext cx="118512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1636" name=""/>
            <p:cNvSpPr/>
            <p:nvPr/>
          </p:nvSpPr>
          <p:spPr>
            <a:xfrm flipV="1">
              <a:off x="7907760" y="2246040"/>
              <a:ext cx="1440" cy="27360"/>
            </a:xfrm>
            <a:prstGeom prst="line">
              <a:avLst/>
            </a:prstGeom>
            <a:ln w="14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7" name=""/>
            <p:cNvSpPr/>
            <p:nvPr/>
          </p:nvSpPr>
          <p:spPr>
            <a:xfrm>
              <a:off x="7839360" y="2316240"/>
              <a:ext cx="20808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7103880" y="2346840"/>
              <a:ext cx="118512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Times New Roman"/>
              </a:endParaRPr>
            </a:p>
          </p:txBody>
        </p:sp>
        <p:sp>
          <p:nvSpPr>
            <p:cNvPr id="1639" name=""/>
            <p:cNvSpPr/>
            <p:nvPr/>
          </p:nvSpPr>
          <p:spPr>
            <a:xfrm flipV="1">
              <a:off x="8517240" y="2246040"/>
              <a:ext cx="1080" cy="27360"/>
            </a:xfrm>
            <a:prstGeom prst="line">
              <a:avLst/>
            </a:prstGeom>
            <a:ln w="14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0" name=""/>
            <p:cNvSpPr/>
            <p:nvPr/>
          </p:nvSpPr>
          <p:spPr>
            <a:xfrm>
              <a:off x="8447040" y="2316240"/>
              <a:ext cx="20520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7703640" y="2346840"/>
              <a:ext cx="118512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Times New Roman"/>
              </a:endParaRPr>
            </a:p>
          </p:txBody>
        </p:sp>
        <p:sp>
          <p:nvSpPr>
            <p:cNvPr id="1642" name=""/>
            <p:cNvSpPr/>
            <p:nvPr/>
          </p:nvSpPr>
          <p:spPr>
            <a:xfrm flipV="1">
              <a:off x="9124920" y="2246040"/>
              <a:ext cx="1440" cy="27360"/>
            </a:xfrm>
            <a:prstGeom prst="line">
              <a:avLst/>
            </a:prstGeom>
            <a:ln w="14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3" name=""/>
            <p:cNvSpPr/>
            <p:nvPr/>
          </p:nvSpPr>
          <p:spPr>
            <a:xfrm>
              <a:off x="9056520" y="2316240"/>
              <a:ext cx="20664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8300880" y="2346840"/>
              <a:ext cx="118512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Times New Roman"/>
              </a:endParaRPr>
            </a:p>
          </p:txBody>
        </p:sp>
        <p:sp>
          <p:nvSpPr>
            <p:cNvPr id="1645" name=""/>
            <p:cNvSpPr/>
            <p:nvPr/>
          </p:nvSpPr>
          <p:spPr>
            <a:xfrm flipV="1">
              <a:off x="9732240" y="2246040"/>
              <a:ext cx="1440" cy="27360"/>
            </a:xfrm>
            <a:prstGeom prst="line">
              <a:avLst/>
            </a:prstGeom>
            <a:ln w="14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6" name=""/>
            <p:cNvSpPr/>
            <p:nvPr/>
          </p:nvSpPr>
          <p:spPr>
            <a:xfrm>
              <a:off x="9632880" y="2316240"/>
              <a:ext cx="28116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8897400" y="2346840"/>
              <a:ext cx="126288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Times New Roman"/>
              </a:endParaRPr>
            </a:p>
          </p:txBody>
        </p:sp>
        <p:sp>
          <p:nvSpPr>
            <p:cNvPr id="1648" name=""/>
            <p:cNvSpPr/>
            <p:nvPr/>
          </p:nvSpPr>
          <p:spPr>
            <a:xfrm flipV="1">
              <a:off x="10340280" y="2246040"/>
              <a:ext cx="1080" cy="27360"/>
            </a:xfrm>
            <a:prstGeom prst="line">
              <a:avLst/>
            </a:prstGeom>
            <a:ln w="14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9" name=""/>
            <p:cNvSpPr/>
            <p:nvPr/>
          </p:nvSpPr>
          <p:spPr>
            <a:xfrm>
              <a:off x="10240560" y="2316240"/>
              <a:ext cx="28116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9493920" y="2346840"/>
              <a:ext cx="1262880" cy="167760"/>
            </a:xfrm>
            <a:prstGeom prst="rect">
              <a:avLst/>
            </a:prstGeom>
            <a:noFill/>
            <a:ln w="0">
              <a:noFill/>
            </a:ln>
          </p:spPr>
          <p:style>
            <a:lnRef idx="0"/>
            <a:fillRef idx="0"/>
            <a:effectRef idx="0"/>
            <a:fontRef idx="minor"/>
          </p:style>
          <p:txBody>
            <a:bodyPr wrap="none" lIns="0" rIns="0" tIns="0" bIns="0" anchor="t">
              <a:spAutoFit/>
            </a:bodyPr>
            <a:p>
              <a:pPr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p:txBody>
        </p:sp>
        <p:sp>
          <p:nvSpPr>
            <p:cNvPr id="1651" name=""/>
            <p:cNvSpPr/>
            <p:nvPr/>
          </p:nvSpPr>
          <p:spPr>
            <a:xfrm flipV="1">
              <a:off x="10947960" y="2246040"/>
              <a:ext cx="1080" cy="27360"/>
            </a:xfrm>
            <a:prstGeom prst="line">
              <a:avLst/>
            </a:prstGeom>
            <a:ln w="14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52" name=""/>
            <p:cNvSpPr/>
            <p:nvPr/>
          </p:nvSpPr>
          <p:spPr>
            <a:xfrm flipH="1">
              <a:off x="10899720" y="2273400"/>
              <a:ext cx="482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53" name=""/>
            <p:cNvSpPr/>
            <p:nvPr/>
          </p:nvSpPr>
          <p:spPr>
            <a:xfrm>
              <a:off x="6692760" y="2273400"/>
              <a:ext cx="4255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54" name=""/>
            <p:cNvSpPr/>
            <p:nvPr/>
          </p:nvSpPr>
          <p:spPr>
            <a:xfrm>
              <a:off x="6662880" y="2316240"/>
              <a:ext cx="13356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6722280" y="400320"/>
              <a:ext cx="3813480" cy="1761120"/>
            </a:xfrm>
            <a:custGeom>
              <a:avLst/>
              <a:gdLst/>
              <a:ahLst/>
              <a:rect l="l" t="t" r="r" b="b"/>
              <a:pathLst>
                <a:path w="4198" h="2098">
                  <a:moveTo>
                    <a:pt x="0" y="727"/>
                  </a:moveTo>
                  <a:lnTo>
                    <a:pt x="31" y="683"/>
                  </a:lnTo>
                  <a:lnTo>
                    <a:pt x="63" y="663"/>
                  </a:lnTo>
                  <a:lnTo>
                    <a:pt x="95" y="643"/>
                  </a:lnTo>
                  <a:lnTo>
                    <a:pt x="126" y="650"/>
                  </a:lnTo>
                  <a:lnTo>
                    <a:pt x="159" y="676"/>
                  </a:lnTo>
                  <a:lnTo>
                    <a:pt x="191" y="727"/>
                  </a:lnTo>
                  <a:lnTo>
                    <a:pt x="223" y="805"/>
                  </a:lnTo>
                  <a:lnTo>
                    <a:pt x="254" y="870"/>
                  </a:lnTo>
                  <a:lnTo>
                    <a:pt x="299" y="922"/>
                  </a:lnTo>
                  <a:lnTo>
                    <a:pt x="331" y="968"/>
                  </a:lnTo>
                  <a:lnTo>
                    <a:pt x="362" y="1033"/>
                  </a:lnTo>
                  <a:lnTo>
                    <a:pt x="394" y="1098"/>
                  </a:lnTo>
                  <a:lnTo>
                    <a:pt x="427" y="1162"/>
                  </a:lnTo>
                  <a:lnTo>
                    <a:pt x="459" y="1229"/>
                  </a:lnTo>
                  <a:lnTo>
                    <a:pt x="491" y="1293"/>
                  </a:lnTo>
                  <a:lnTo>
                    <a:pt x="522" y="1358"/>
                  </a:lnTo>
                  <a:lnTo>
                    <a:pt x="554" y="1403"/>
                  </a:lnTo>
                  <a:lnTo>
                    <a:pt x="587" y="1462"/>
                  </a:lnTo>
                  <a:lnTo>
                    <a:pt x="629" y="1532"/>
                  </a:lnTo>
                  <a:lnTo>
                    <a:pt x="661" y="1612"/>
                  </a:lnTo>
                  <a:lnTo>
                    <a:pt x="692" y="1676"/>
                  </a:lnTo>
                  <a:lnTo>
                    <a:pt x="725" y="1728"/>
                  </a:lnTo>
                  <a:lnTo>
                    <a:pt x="757" y="1761"/>
                  </a:lnTo>
                  <a:lnTo>
                    <a:pt x="789" y="1780"/>
                  </a:lnTo>
                  <a:lnTo>
                    <a:pt x="822" y="1832"/>
                  </a:lnTo>
                  <a:lnTo>
                    <a:pt x="854" y="1891"/>
                  </a:lnTo>
                  <a:lnTo>
                    <a:pt x="887" y="1923"/>
                  </a:lnTo>
                  <a:lnTo>
                    <a:pt x="918" y="1962"/>
                  </a:lnTo>
                  <a:lnTo>
                    <a:pt x="960" y="1988"/>
                  </a:lnTo>
                  <a:lnTo>
                    <a:pt x="992" y="2015"/>
                  </a:lnTo>
                  <a:lnTo>
                    <a:pt x="1025" y="2034"/>
                  </a:lnTo>
                  <a:lnTo>
                    <a:pt x="1057" y="2047"/>
                  </a:lnTo>
                  <a:lnTo>
                    <a:pt x="1088" y="2073"/>
                  </a:lnTo>
                  <a:lnTo>
                    <a:pt x="1120" y="2093"/>
                  </a:lnTo>
                  <a:lnTo>
                    <a:pt x="1153" y="2098"/>
                  </a:lnTo>
                  <a:lnTo>
                    <a:pt x="1185" y="2093"/>
                  </a:lnTo>
                  <a:lnTo>
                    <a:pt x="1217" y="2065"/>
                  </a:lnTo>
                  <a:lnTo>
                    <a:pt x="1248" y="2039"/>
                  </a:lnTo>
                  <a:lnTo>
                    <a:pt x="1292" y="2015"/>
                  </a:lnTo>
                  <a:lnTo>
                    <a:pt x="1325" y="1988"/>
                  </a:lnTo>
                  <a:lnTo>
                    <a:pt x="1356" y="1956"/>
                  </a:lnTo>
                  <a:lnTo>
                    <a:pt x="1388" y="1917"/>
                  </a:lnTo>
                  <a:lnTo>
                    <a:pt x="1420" y="1864"/>
                  </a:lnTo>
                  <a:lnTo>
                    <a:pt x="1453" y="1826"/>
                  </a:lnTo>
                  <a:lnTo>
                    <a:pt x="1485" y="1767"/>
                  </a:lnTo>
                  <a:lnTo>
                    <a:pt x="1516" y="1715"/>
                  </a:lnTo>
                  <a:lnTo>
                    <a:pt x="1548" y="1651"/>
                  </a:lnTo>
                  <a:lnTo>
                    <a:pt x="1580" y="1573"/>
                  </a:lnTo>
                  <a:lnTo>
                    <a:pt x="1623" y="1501"/>
                  </a:lnTo>
                  <a:lnTo>
                    <a:pt x="1655" y="1429"/>
                  </a:lnTo>
                  <a:lnTo>
                    <a:pt x="1688" y="1345"/>
                  </a:lnTo>
                  <a:lnTo>
                    <a:pt x="1719" y="1280"/>
                  </a:lnTo>
                  <a:lnTo>
                    <a:pt x="1752" y="1229"/>
                  </a:lnTo>
                  <a:lnTo>
                    <a:pt x="1784" y="1170"/>
                  </a:lnTo>
                  <a:lnTo>
                    <a:pt x="1816" y="1092"/>
                  </a:lnTo>
                  <a:lnTo>
                    <a:pt x="1848" y="1007"/>
                  </a:lnTo>
                  <a:lnTo>
                    <a:pt x="1879" y="897"/>
                  </a:lnTo>
                  <a:lnTo>
                    <a:pt x="1912" y="779"/>
                  </a:lnTo>
                  <a:lnTo>
                    <a:pt x="1954" y="655"/>
                  </a:lnTo>
                  <a:lnTo>
                    <a:pt x="1986" y="546"/>
                  </a:lnTo>
                  <a:lnTo>
                    <a:pt x="2017" y="467"/>
                  </a:lnTo>
                  <a:lnTo>
                    <a:pt x="2051" y="396"/>
                  </a:lnTo>
                  <a:lnTo>
                    <a:pt x="2082" y="330"/>
                  </a:lnTo>
                  <a:lnTo>
                    <a:pt x="2114" y="259"/>
                  </a:lnTo>
                  <a:lnTo>
                    <a:pt x="2146" y="187"/>
                  </a:lnTo>
                  <a:lnTo>
                    <a:pt x="2179" y="136"/>
                  </a:lnTo>
                  <a:lnTo>
                    <a:pt x="2210" y="104"/>
                  </a:lnTo>
                  <a:lnTo>
                    <a:pt x="2244" y="78"/>
                  </a:lnTo>
                  <a:lnTo>
                    <a:pt x="2285" y="52"/>
                  </a:lnTo>
                  <a:lnTo>
                    <a:pt x="2317" y="20"/>
                  </a:lnTo>
                  <a:lnTo>
                    <a:pt x="2350" y="0"/>
                  </a:lnTo>
                  <a:lnTo>
                    <a:pt x="2382" y="13"/>
                  </a:lnTo>
                  <a:lnTo>
                    <a:pt x="2414" y="20"/>
                  </a:lnTo>
                  <a:lnTo>
                    <a:pt x="2445" y="52"/>
                  </a:lnTo>
                  <a:lnTo>
                    <a:pt x="2478" y="85"/>
                  </a:lnTo>
                  <a:lnTo>
                    <a:pt x="2510" y="110"/>
                  </a:lnTo>
                  <a:lnTo>
                    <a:pt x="2542" y="117"/>
                  </a:lnTo>
                  <a:lnTo>
                    <a:pt x="2573" y="98"/>
                  </a:lnTo>
                  <a:lnTo>
                    <a:pt x="2618" y="104"/>
                  </a:lnTo>
                  <a:lnTo>
                    <a:pt x="2650" y="130"/>
                  </a:lnTo>
                  <a:lnTo>
                    <a:pt x="2681" y="176"/>
                  </a:lnTo>
                  <a:lnTo>
                    <a:pt x="2713" y="234"/>
                  </a:lnTo>
                  <a:lnTo>
                    <a:pt x="2745" y="298"/>
                  </a:lnTo>
                  <a:lnTo>
                    <a:pt x="2778" y="376"/>
                  </a:lnTo>
                  <a:lnTo>
                    <a:pt x="2810" y="429"/>
                  </a:lnTo>
                  <a:lnTo>
                    <a:pt x="2841" y="461"/>
                  </a:lnTo>
                  <a:lnTo>
                    <a:pt x="2873" y="494"/>
                  </a:lnTo>
                  <a:lnTo>
                    <a:pt x="2906" y="532"/>
                  </a:lnTo>
                  <a:lnTo>
                    <a:pt x="2948" y="578"/>
                  </a:lnTo>
                  <a:lnTo>
                    <a:pt x="2980" y="618"/>
                  </a:lnTo>
                  <a:lnTo>
                    <a:pt x="3011" y="663"/>
                  </a:lnTo>
                  <a:lnTo>
                    <a:pt x="3043" y="696"/>
                  </a:lnTo>
                  <a:lnTo>
                    <a:pt x="3076" y="727"/>
                  </a:lnTo>
                  <a:lnTo>
                    <a:pt x="3109" y="733"/>
                  </a:lnTo>
                  <a:lnTo>
                    <a:pt x="3141" y="774"/>
                  </a:lnTo>
                  <a:lnTo>
                    <a:pt x="3173" y="792"/>
                  </a:lnTo>
                  <a:lnTo>
                    <a:pt x="3206" y="812"/>
                  </a:lnTo>
                  <a:lnTo>
                    <a:pt x="3237" y="825"/>
                  </a:lnTo>
                  <a:lnTo>
                    <a:pt x="3279" y="805"/>
                  </a:lnTo>
                  <a:lnTo>
                    <a:pt x="3311" y="774"/>
                  </a:lnTo>
                  <a:lnTo>
                    <a:pt x="3344" y="748"/>
                  </a:lnTo>
                  <a:lnTo>
                    <a:pt x="3376" y="740"/>
                  </a:lnTo>
                  <a:lnTo>
                    <a:pt x="3407" y="753"/>
                  </a:lnTo>
                  <a:lnTo>
                    <a:pt x="3439" y="748"/>
                  </a:lnTo>
                  <a:lnTo>
                    <a:pt x="3471" y="733"/>
                  </a:lnTo>
                  <a:lnTo>
                    <a:pt x="3504" y="707"/>
                  </a:lnTo>
                  <a:lnTo>
                    <a:pt x="3536" y="676"/>
                  </a:lnTo>
                  <a:lnTo>
                    <a:pt x="3567" y="631"/>
                  </a:lnTo>
                  <a:lnTo>
                    <a:pt x="3611" y="604"/>
                  </a:lnTo>
                  <a:lnTo>
                    <a:pt x="3644" y="596"/>
                  </a:lnTo>
                  <a:lnTo>
                    <a:pt x="3675" y="596"/>
                  </a:lnTo>
                  <a:lnTo>
                    <a:pt x="3707" y="604"/>
                  </a:lnTo>
                  <a:lnTo>
                    <a:pt x="3739" y="604"/>
                  </a:lnTo>
                  <a:lnTo>
                    <a:pt x="3770" y="591"/>
                  </a:lnTo>
                  <a:lnTo>
                    <a:pt x="3804" y="559"/>
                  </a:lnTo>
                  <a:lnTo>
                    <a:pt x="3835" y="513"/>
                  </a:lnTo>
                  <a:lnTo>
                    <a:pt x="3867" y="474"/>
                  </a:lnTo>
                  <a:lnTo>
                    <a:pt x="3899" y="435"/>
                  </a:lnTo>
                  <a:lnTo>
                    <a:pt x="3942" y="416"/>
                  </a:lnTo>
                  <a:lnTo>
                    <a:pt x="3975" y="383"/>
                  </a:lnTo>
                  <a:lnTo>
                    <a:pt x="4007" y="357"/>
                  </a:lnTo>
                  <a:lnTo>
                    <a:pt x="4038" y="344"/>
                  </a:lnTo>
                  <a:lnTo>
                    <a:pt x="4070" y="352"/>
                  </a:lnTo>
                  <a:lnTo>
                    <a:pt x="4103" y="383"/>
                  </a:lnTo>
                  <a:lnTo>
                    <a:pt x="4135" y="422"/>
                  </a:lnTo>
                  <a:lnTo>
                    <a:pt x="4167" y="454"/>
                  </a:lnTo>
                  <a:lnTo>
                    <a:pt x="4198" y="494"/>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9046080" y="967680"/>
              <a:ext cx="119268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b</a:t>
              </a:r>
              <a:endParaRPr b="0" lang="en-US" sz="2300" spc="-1" strike="noStrike">
                <a:solidFill>
                  <a:srgbClr val="000000"/>
                </a:solidFill>
                <a:latin typeface="Times New Roman"/>
              </a:endParaRPr>
            </a:p>
          </p:txBody>
        </p:sp>
        <p:sp>
          <p:nvSpPr>
            <p:cNvPr id="1657" name=""/>
            <p:cNvSpPr/>
            <p:nvPr/>
          </p:nvSpPr>
          <p:spPr>
            <a:xfrm>
              <a:off x="9637560" y="955440"/>
              <a:ext cx="452520" cy="61920"/>
            </a:xfrm>
            <a:prstGeom prst="rect">
              <a:avLst/>
            </a:pr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1658" name=""/>
            <p:cNvGrpSpPr/>
            <p:nvPr/>
          </p:nvGrpSpPr>
          <p:grpSpPr>
            <a:xfrm>
              <a:off x="5913720" y="108000"/>
              <a:ext cx="4831200" cy="2121120"/>
              <a:chOff x="5913720" y="108000"/>
              <a:chExt cx="4831200" cy="2121120"/>
            </a:xfrm>
          </p:grpSpPr>
          <p:sp>
            <p:nvSpPr>
              <p:cNvPr id="1659" name=""/>
              <p:cNvSpPr/>
              <p:nvPr/>
            </p:nvSpPr>
            <p:spPr>
              <a:xfrm>
                <a:off x="6720120" y="1098720"/>
                <a:ext cx="453600" cy="62280"/>
              </a:xfrm>
              <a:prstGeom prst="rect">
                <a:avLst/>
              </a:prstGeom>
              <a:solidFill>
                <a:srgbClr val="ff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60" name=""/>
              <p:cNvSpPr/>
              <p:nvPr/>
            </p:nvSpPr>
            <p:spPr>
              <a:xfrm>
                <a:off x="10130040" y="733320"/>
                <a:ext cx="451800" cy="61920"/>
              </a:xfrm>
              <a:prstGeom prst="rect">
                <a:avLst/>
              </a:prstGeom>
              <a:solidFill>
                <a:srgbClr val="00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1661" name=""/>
              <p:cNvGrpSpPr/>
              <p:nvPr/>
            </p:nvGrpSpPr>
            <p:grpSpPr>
              <a:xfrm>
                <a:off x="5913720" y="108000"/>
                <a:ext cx="4831200" cy="2121120"/>
                <a:chOff x="5913720" y="108000"/>
                <a:chExt cx="4831200" cy="2121120"/>
              </a:xfrm>
            </p:grpSpPr>
            <p:sp>
              <p:nvSpPr>
                <p:cNvPr id="1662" name=""/>
                <p:cNvSpPr/>
                <p:nvPr/>
              </p:nvSpPr>
              <p:spPr>
                <a:xfrm>
                  <a:off x="5913720" y="1101600"/>
                  <a:ext cx="147852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b</a:t>
                  </a:r>
                  <a:endParaRPr b="0" lang="en-US" sz="2300" spc="-1" strike="noStrike">
                    <a:solidFill>
                      <a:srgbClr val="000000"/>
                    </a:solidFill>
                    <a:latin typeface="Times New Roman"/>
                  </a:endParaRPr>
                </a:p>
              </p:txBody>
            </p:sp>
            <p:sp>
              <p:nvSpPr>
                <p:cNvPr id="1663" name=""/>
                <p:cNvSpPr/>
                <p:nvPr/>
              </p:nvSpPr>
              <p:spPr>
                <a:xfrm>
                  <a:off x="7333200" y="902880"/>
                  <a:ext cx="147852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b</a:t>
                  </a:r>
                  <a:endParaRPr b="0" lang="en-US" sz="2300" spc="-1" strike="noStrike">
                    <a:solidFill>
                      <a:srgbClr val="000000"/>
                    </a:solidFill>
                    <a:latin typeface="Times New Roman"/>
                  </a:endParaRPr>
                </a:p>
              </p:txBody>
            </p:sp>
            <p:grpSp>
              <p:nvGrpSpPr>
                <p:cNvPr id="1664" name=""/>
                <p:cNvGrpSpPr/>
                <p:nvPr/>
              </p:nvGrpSpPr>
              <p:grpSpPr>
                <a:xfrm>
                  <a:off x="6828120" y="108000"/>
                  <a:ext cx="3916800" cy="2121120"/>
                  <a:chOff x="6828120" y="108000"/>
                  <a:chExt cx="3916800" cy="2121120"/>
                </a:xfrm>
              </p:grpSpPr>
              <p:sp>
                <p:nvSpPr>
                  <p:cNvPr id="1665" name=""/>
                  <p:cNvSpPr/>
                  <p:nvPr/>
                </p:nvSpPr>
                <p:spPr>
                  <a:xfrm>
                    <a:off x="7223760" y="1850760"/>
                    <a:ext cx="451800" cy="63360"/>
                  </a:xfrm>
                  <a:prstGeom prst="rect">
                    <a:avLst/>
                  </a:prstGeom>
                  <a:solidFill>
                    <a:srgbClr val="00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6" name=""/>
                  <p:cNvSpPr/>
                  <p:nvPr/>
                </p:nvSpPr>
                <p:spPr>
                  <a:xfrm>
                    <a:off x="7713360" y="2023560"/>
                    <a:ext cx="450360" cy="63360"/>
                  </a:xfrm>
                  <a:prstGeom prst="rect">
                    <a:avLst/>
                  </a:prstGeom>
                  <a:solidFill>
                    <a:srgbClr val="00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7" name=""/>
                  <p:cNvSpPr/>
                  <p:nvPr/>
                </p:nvSpPr>
                <p:spPr>
                  <a:xfrm>
                    <a:off x="8200800" y="1188720"/>
                    <a:ext cx="451800" cy="63360"/>
                  </a:xfrm>
                  <a:prstGeom prst="rect">
                    <a:avLst/>
                  </a:pr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8" name=""/>
                  <p:cNvSpPr/>
                  <p:nvPr/>
                </p:nvSpPr>
                <p:spPr>
                  <a:xfrm>
                    <a:off x="8685720" y="411480"/>
                    <a:ext cx="453600" cy="62280"/>
                  </a:xfrm>
                  <a:prstGeom prst="rect">
                    <a:avLst/>
                  </a:prstGeom>
                  <a:solidFill>
                    <a:srgbClr val="00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69" name=""/>
                  <p:cNvSpPr/>
                  <p:nvPr/>
                </p:nvSpPr>
                <p:spPr>
                  <a:xfrm>
                    <a:off x="9178560" y="750960"/>
                    <a:ext cx="451800" cy="63360"/>
                  </a:xfrm>
                  <a:prstGeom prst="rect">
                    <a:avLst/>
                  </a:prstGeom>
                  <a:solidFill>
                    <a:srgbClr val="00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0" name=""/>
                  <p:cNvSpPr/>
                  <p:nvPr/>
                </p:nvSpPr>
                <p:spPr>
                  <a:xfrm>
                    <a:off x="6880320" y="1109880"/>
                    <a:ext cx="26100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7385040" y="1827720"/>
                    <a:ext cx="34020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7383600" y="1891080"/>
                    <a:ext cx="24516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6828120" y="1696680"/>
                    <a:ext cx="146160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a</a:t>
                    </a:r>
                    <a:endParaRPr b="0" lang="en-US" sz="2300" spc="-1" strike="noStrike">
                      <a:solidFill>
                        <a:srgbClr val="000000"/>
                      </a:solidFill>
                      <a:latin typeface="Times New Roman"/>
                    </a:endParaRPr>
                  </a:p>
                </p:txBody>
              </p:sp>
              <p:sp>
                <p:nvSpPr>
                  <p:cNvPr id="1674" name=""/>
                  <p:cNvSpPr/>
                  <p:nvPr/>
                </p:nvSpPr>
                <p:spPr>
                  <a:xfrm>
                    <a:off x="7890120" y="1732320"/>
                    <a:ext cx="340200" cy="36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7890120" y="1744920"/>
                    <a:ext cx="24552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8022240" y="1744920"/>
                    <a:ext cx="17856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8569440" y="454320"/>
                    <a:ext cx="115920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Times New Roman"/>
                    </a:endParaRPr>
                  </a:p>
                </p:txBody>
              </p:sp>
              <p:sp>
                <p:nvSpPr>
                  <p:cNvPr id="1678" name=""/>
                  <p:cNvSpPr/>
                  <p:nvPr/>
                </p:nvSpPr>
                <p:spPr>
                  <a:xfrm>
                    <a:off x="7871760" y="108000"/>
                    <a:ext cx="144504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c</a:t>
                    </a:r>
                    <a:endParaRPr b="0" lang="en-US" sz="2300" spc="-1" strike="noStrike">
                      <a:solidFill>
                        <a:srgbClr val="000000"/>
                      </a:solidFill>
                      <a:latin typeface="Times New Roman"/>
                    </a:endParaRPr>
                  </a:p>
                </p:txBody>
              </p:sp>
              <p:sp>
                <p:nvSpPr>
                  <p:cNvPr id="1679" name=""/>
                  <p:cNvSpPr/>
                  <p:nvPr/>
                </p:nvSpPr>
                <p:spPr>
                  <a:xfrm>
                    <a:off x="9865440" y="1014480"/>
                    <a:ext cx="340200" cy="36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9865440" y="1025640"/>
                    <a:ext cx="25920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10011600" y="1025640"/>
                    <a:ext cx="18000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10368720" y="438840"/>
                    <a:ext cx="23148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9585720" y="438840"/>
                    <a:ext cx="115920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Times New Roman"/>
                    </a:endParaRPr>
                  </a:p>
                </p:txBody>
              </p:sp>
            </p:grpSp>
            <p:sp>
              <p:nvSpPr>
                <p:cNvPr id="1684" name=""/>
                <p:cNvSpPr/>
                <p:nvPr/>
              </p:nvSpPr>
              <p:spPr>
                <a:xfrm>
                  <a:off x="6361920" y="1830240"/>
                  <a:ext cx="1461600" cy="350640"/>
                </a:xfrm>
                <a:prstGeom prst="rect">
                  <a:avLst/>
                </a:prstGeom>
                <a:noFill/>
                <a:ln w="0">
                  <a:noFill/>
                </a:ln>
              </p:spPr>
              <p:style>
                <a:lnRef idx="0"/>
                <a:fillRef idx="0"/>
                <a:effectRef idx="0"/>
                <a:fontRef idx="minor"/>
              </p:style>
              <p:txBody>
                <a:bodyPr wrap="none" lIns="0" rIns="0" tIns="0" bIns="0" anchor="t">
                  <a:spAutoFit/>
                </a:bodyPr>
                <a:p>
                  <a:pPr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a</a:t>
                  </a:r>
                  <a:endParaRPr b="0" lang="en-US" sz="2300" spc="-1" strike="noStrike">
                    <a:solidFill>
                      <a:srgbClr val="000000"/>
                    </a:solidFill>
                    <a:latin typeface="Times New Roman"/>
                  </a:endParaRPr>
                </a:p>
              </p:txBody>
            </p:sp>
          </p:grpSp>
        </p:grpSp>
      </p:grpSp>
      <p:pic>
        <p:nvPicPr>
          <p:cNvPr id="1685" name="lisa027" descr=""/>
          <p:cNvPicPr/>
          <p:nvPr/>
        </p:nvPicPr>
        <p:blipFill>
          <a:blip r:embed="rId2"/>
          <a:stretch/>
        </p:blipFill>
        <p:spPr>
          <a:xfrm>
            <a:off x="7932600" y="4286160"/>
            <a:ext cx="1086120" cy="2419560"/>
          </a:xfrm>
          <a:prstGeom prst="rect">
            <a:avLst/>
          </a:prstGeom>
          <a:ln w="0">
            <a:noFill/>
          </a:ln>
        </p:spPr>
      </p:pic>
      <p:sp>
        <p:nvSpPr>
          <p:cNvPr id="1686" name=""/>
          <p:cNvSpPr/>
          <p:nvPr/>
        </p:nvSpPr>
        <p:spPr>
          <a:xfrm>
            <a:off x="5900760" y="2735280"/>
            <a:ext cx="2376360" cy="1042920"/>
          </a:xfrm>
          <a:prstGeom prst="wedgeRoundRectCallout">
            <a:avLst>
              <a:gd name="adj1" fmla="val 27421"/>
              <a:gd name="adj2" fmla="val 150152"/>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a Gaussi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857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Read This!</a:t>
            </a:r>
            <a:endParaRPr b="0" lang="en-US" sz="4400" spc="-1" strike="noStrike">
              <a:solidFill>
                <a:srgbClr val="000000"/>
              </a:solidFill>
              <a:latin typeface="Times New Roman"/>
            </a:endParaRPr>
          </a:p>
        </p:txBody>
      </p:sp>
      <p:sp>
        <p:nvSpPr>
          <p:cNvPr id="51" name=""/>
          <p:cNvSpPr/>
          <p:nvPr/>
        </p:nvSpPr>
        <p:spPr>
          <a:xfrm>
            <a:off x="101520" y="979560"/>
            <a:ext cx="9042480" cy="567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slides are from an early talk about SAX, some slides will make little sense out of context, but are provided here to give a quick intro to the utility of SAX. Read [1] for more detai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ay use these slides for any teaching purpose, so long as they are clearly identified as being created by Jessica Lin and Eamonn Keog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ay not use the text and images in a paper or tutorial without express prior permission from Dr. Keog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 Lin, J., Keogh, E., Lonardi, S. &amp; Chiu, B. (2003). </a:t>
            </a:r>
            <a:r>
              <a:rPr b="1" lang="en-US" sz="1400" spc="-1" strike="noStrike">
                <a:solidFill>
                  <a:srgbClr val="cc3300"/>
                </a:solidFill>
                <a:latin typeface="Verdana"/>
              </a:rPr>
              <a:t>A Symbolic Representation of Time Series, with Implications for Streaming Algorithms</a:t>
            </a:r>
            <a:r>
              <a:rPr b="1" lang="en-US" sz="1400" spc="-1" strike="noStrike">
                <a:solidFill>
                  <a:srgbClr val="000000"/>
                </a:solidFill>
                <a:latin typeface="Verdana"/>
              </a:rPr>
              <a:t>. In</a:t>
            </a:r>
            <a:r>
              <a:rPr b="1" i="1" lang="en-US" sz="1400" spc="-1" strike="noStrike">
                <a:solidFill>
                  <a:srgbClr val="000000"/>
                </a:solidFill>
                <a:latin typeface="Verdana"/>
              </a:rPr>
              <a:t> proceedings of the 8</a:t>
            </a:r>
            <a:r>
              <a:rPr b="1" i="1" lang="en-US" sz="1400" spc="-1" strike="noStrike" baseline="30000">
                <a:solidFill>
                  <a:srgbClr val="000000"/>
                </a:solidFill>
                <a:latin typeface="Verdana"/>
              </a:rPr>
              <a:t>th</a:t>
            </a:r>
            <a:r>
              <a:rPr b="1" i="1" lang="en-US" sz="1400" spc="-1" strike="noStrike">
                <a:solidFill>
                  <a:srgbClr val="000000"/>
                </a:solidFill>
                <a:latin typeface="Verdana"/>
              </a:rPr>
              <a:t> ACM SIGMOD Workshop on Research Issues in Data Mining and Knowledge Discovery.</a:t>
            </a:r>
            <a:r>
              <a:rPr b="1" lang="en-US" sz="1400" spc="-1" strike="noStrike">
                <a:solidFill>
                  <a:srgbClr val="000000"/>
                </a:solidFill>
                <a:latin typeface="Verdana"/>
              </a:rPr>
              <a:t> San Diego, CA. June 13.</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7" name="lisasax5" descr=""/>
          <p:cNvPicPr/>
          <p:nvPr/>
        </p:nvPicPr>
        <p:blipFill>
          <a:blip r:embed="rId1"/>
          <a:stretch/>
        </p:blipFill>
        <p:spPr>
          <a:xfrm>
            <a:off x="108000" y="109440"/>
            <a:ext cx="1515960" cy="1644840"/>
          </a:xfrm>
          <a:prstGeom prst="rect">
            <a:avLst/>
          </a:prstGeom>
          <a:ln w="0">
            <a:noFill/>
          </a:ln>
        </p:spPr>
      </p:pic>
      <p:sp>
        <p:nvSpPr>
          <p:cNvPr id="1688" name=""/>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Comparison</a:t>
            </a:r>
            <a:endParaRPr b="0" lang="en-US" sz="4400" spc="-1" strike="noStrike">
              <a:solidFill>
                <a:srgbClr val="000000"/>
              </a:solidFill>
              <a:latin typeface="Times New Roman"/>
            </a:endParaRPr>
          </a:p>
        </p:txBody>
      </p:sp>
      <p:sp>
        <p:nvSpPr>
          <p:cNvPr id="1689" name=""/>
          <p:cNvSpPr/>
          <p:nvPr/>
        </p:nvSpPr>
        <p:spPr>
          <a:xfrm>
            <a:off x="195120" y="4807080"/>
            <a:ext cx="8651880" cy="216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aw time series of length 128 is transformed into the word “</a:t>
            </a:r>
            <a:r>
              <a:rPr b="1" lang="en-US" sz="2800" spc="-1" strike="noStrike">
                <a:solidFill>
                  <a:srgbClr val="000000"/>
                </a:solidFill>
                <a:latin typeface="Times New Roman"/>
              </a:rPr>
              <a:t>ffffffeeeddcbaabceedcbaaaaacdde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use more symbols to represent the time series since each symbol requires fewer bits than real-numbers (float, double)</a:t>
            </a:r>
            <a:endParaRPr b="0" lang="en-US" sz="2000" spc="-1" strike="noStrike">
              <a:solidFill>
                <a:srgbClr val="000000"/>
              </a:solidFill>
              <a:latin typeface="Times New Roman"/>
            </a:endParaRPr>
          </a:p>
        </p:txBody>
      </p:sp>
      <p:pic>
        <p:nvPicPr>
          <p:cNvPr id="1690" name="" descr=""/>
          <p:cNvPicPr/>
          <p:nvPr/>
        </p:nvPicPr>
        <p:blipFill>
          <a:blip r:embed="rId2"/>
          <a:stretch/>
        </p:blipFill>
        <p:spPr>
          <a:xfrm>
            <a:off x="536400" y="2063880"/>
            <a:ext cx="8232840" cy="236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1" name=""/>
          <p:cNvGraphicFramePr/>
          <p:nvPr/>
        </p:nvGraphicFramePr>
        <p:xfrm>
          <a:off x="-1758960" y="-50760"/>
          <a:ext cx="10902960" cy="6908760"/>
        </p:xfrm>
        <a:graphic>
          <a:graphicData uri="http://schemas.openxmlformats.org/presentationml/2006/ole">
            <p:oleObj r:id="rId1" spid="">
              <p:embed/>
              <p:pic>
                <p:nvPicPr>
                  <p:cNvPr id="1692" name="" descr=""/>
                  <p:cNvPicPr/>
                  <p:nvPr/>
                </p:nvPicPr>
                <p:blipFill>
                  <a:blip r:embed="rId2"/>
                  <a:stretch/>
                </p:blipFill>
                <p:spPr>
                  <a:xfrm>
                    <a:off x="-1758960" y="-50760"/>
                    <a:ext cx="10902960" cy="6908760"/>
                  </a:xfrm>
                  <a:prstGeom prst="rect">
                    <a:avLst/>
                  </a:prstGeom>
                  <a:ln w="0">
                    <a:noFill/>
                  </a:ln>
                </p:spPr>
              </p:pic>
            </p:oleObj>
          </a:graphicData>
        </a:graphic>
      </p:graphicFrame>
      <p:sp>
        <p:nvSpPr>
          <p:cNvPr id="1693" name=""/>
          <p:cNvSpPr/>
          <p:nvPr/>
        </p:nvSpPr>
        <p:spPr>
          <a:xfrm>
            <a:off x="10380600" y="571680"/>
            <a:ext cx="3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4" name=""/>
          <p:cNvSpPr/>
          <p:nvPr/>
        </p:nvSpPr>
        <p:spPr>
          <a:xfrm>
            <a:off x="3503520" y="3602160"/>
            <a:ext cx="1747800" cy="10652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PAA distance lower-bounds the Euclidean Distance</a:t>
            </a:r>
            <a:endParaRPr b="0" lang="en-US" sz="1600" spc="-1" strike="noStrike">
              <a:solidFill>
                <a:srgbClr val="000000"/>
              </a:solidFill>
              <a:latin typeface="Times New Roman"/>
            </a:endParaRPr>
          </a:p>
        </p:txBody>
      </p:sp>
      <p:sp>
        <p:nvSpPr>
          <p:cNvPr id="1695" name=""/>
          <p:cNvSpPr/>
          <p:nvPr/>
        </p:nvSpPr>
        <p:spPr>
          <a:xfrm>
            <a:off x="328680" y="2324160"/>
            <a:ext cx="3470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6" name=""/>
          <p:cNvSpPr/>
          <p:nvPr/>
        </p:nvSpPr>
        <p:spPr>
          <a:xfrm>
            <a:off x="328680" y="2324160"/>
            <a:ext cx="3470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7" name=""/>
          <p:cNvSpPr/>
          <p:nvPr/>
        </p:nvSpPr>
        <p:spPr>
          <a:xfrm flipV="1">
            <a:off x="3798720" y="2244600"/>
            <a:ext cx="1800" cy="20880"/>
          </a:xfrm>
          <a:prstGeom prst="line">
            <a:avLst/>
          </a:prstGeom>
          <a:ln w="1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98" name=""/>
          <p:cNvSpPr/>
          <p:nvPr/>
        </p:nvSpPr>
        <p:spPr>
          <a:xfrm flipH="1">
            <a:off x="3759120" y="2265480"/>
            <a:ext cx="396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9" name=""/>
          <p:cNvSpPr/>
          <p:nvPr/>
        </p:nvSpPr>
        <p:spPr>
          <a:xfrm>
            <a:off x="328680" y="2324160"/>
            <a:ext cx="3470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700" name=""/>
          <p:cNvGrpSpPr/>
          <p:nvPr/>
        </p:nvGrpSpPr>
        <p:grpSpPr>
          <a:xfrm>
            <a:off x="46080" y="754200"/>
            <a:ext cx="3581640" cy="1782720"/>
            <a:chOff x="46080" y="754200"/>
            <a:chExt cx="3581640" cy="1782720"/>
          </a:xfrm>
        </p:grpSpPr>
        <p:sp>
          <p:nvSpPr>
            <p:cNvPr id="1701" name=""/>
            <p:cNvSpPr/>
            <p:nvPr/>
          </p:nvSpPr>
          <p:spPr>
            <a:xfrm>
              <a:off x="46080" y="8398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702" name=""/>
            <p:cNvSpPr/>
            <p:nvPr/>
          </p:nvSpPr>
          <p:spPr>
            <a:xfrm flipV="1">
              <a:off x="382320" y="1409760"/>
              <a:ext cx="1440" cy="5461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flipV="1">
              <a:off x="428400" y="1370160"/>
              <a:ext cx="1080" cy="495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flipV="1">
              <a:off x="473040" y="1358640"/>
              <a:ext cx="1080" cy="3891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flipV="1">
              <a:off x="517320" y="1409760"/>
              <a:ext cx="1080" cy="338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flipV="1">
              <a:off x="560160" y="1501560"/>
              <a:ext cx="1080" cy="2206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flipV="1">
              <a:off x="614160" y="1567080"/>
              <a:ext cx="1080" cy="233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flipV="1">
              <a:off x="657000" y="1644480"/>
              <a:ext cx="1080" cy="3114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flipV="1">
              <a:off x="701640" y="1735200"/>
              <a:ext cx="1080" cy="2984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flipV="1">
              <a:off x="747360" y="1812960"/>
              <a:ext cx="1440" cy="245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flipV="1">
              <a:off x="792000" y="1878120"/>
              <a:ext cx="1080" cy="2844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flipV="1">
              <a:off x="842760" y="1981080"/>
              <a:ext cx="1080" cy="1810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flipV="1">
              <a:off x="887040" y="2046600"/>
              <a:ext cx="1440" cy="39600"/>
            </a:xfrm>
            <a:prstGeom prst="line">
              <a:avLst/>
            </a:prstGeom>
            <a:ln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14" name=""/>
            <p:cNvSpPr/>
            <p:nvPr/>
          </p:nvSpPr>
          <p:spPr>
            <a:xfrm>
              <a:off x="903240" y="2059200"/>
              <a:ext cx="13680" cy="27000"/>
            </a:xfrm>
            <a:prstGeom prst="ellipse">
              <a:avLst/>
            </a:prstGeom>
            <a:solidFill>
              <a:srgbClr val="80808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5" name=""/>
            <p:cNvSpPr/>
            <p:nvPr/>
          </p:nvSpPr>
          <p:spPr>
            <a:xfrm flipV="1">
              <a:off x="931680" y="2086200"/>
              <a:ext cx="1080" cy="38160"/>
            </a:xfrm>
            <a:prstGeom prst="line">
              <a:avLst/>
            </a:prstGeom>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6" name=""/>
            <p:cNvSpPr/>
            <p:nvPr/>
          </p:nvSpPr>
          <p:spPr>
            <a:xfrm flipV="1">
              <a:off x="954000" y="2111760"/>
              <a:ext cx="108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17" name=""/>
            <p:cNvSpPr/>
            <p:nvPr/>
          </p:nvSpPr>
          <p:spPr>
            <a:xfrm>
              <a:off x="975960" y="2136960"/>
              <a:ext cx="1440" cy="14400"/>
            </a:xfrm>
            <a:prstGeom prst="line">
              <a:avLst/>
            </a:prstGeom>
            <a:ln w="1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8" name=""/>
            <p:cNvSpPr/>
            <p:nvPr/>
          </p:nvSpPr>
          <p:spPr>
            <a:xfrm>
              <a:off x="992160" y="2162520"/>
              <a:ext cx="15480" cy="27000"/>
            </a:xfrm>
            <a:prstGeom prst="ellipse">
              <a:avLst/>
            </a:prstGeom>
            <a:solidFill>
              <a:srgbClr val="80808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9" name=""/>
            <p:cNvSpPr/>
            <p:nvPr/>
          </p:nvSpPr>
          <p:spPr>
            <a:xfrm>
              <a:off x="1050840" y="2046600"/>
              <a:ext cx="1080" cy="1681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1095120" y="2059200"/>
              <a:ext cx="1440" cy="1810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1139760" y="2059200"/>
              <a:ext cx="1080" cy="2080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1184040" y="1968840"/>
              <a:ext cx="1440" cy="323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1228680" y="1889280"/>
              <a:ext cx="1080" cy="378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1280880" y="1903680"/>
              <a:ext cx="1440" cy="3254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1325520" y="1683000"/>
              <a:ext cx="1080" cy="5065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1369800" y="1708560"/>
              <a:ext cx="1080" cy="4284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1412640" y="1656000"/>
              <a:ext cx="1440" cy="415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1458720" y="1552680"/>
              <a:ext cx="1080" cy="441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1509480" y="1462320"/>
              <a:ext cx="1440" cy="441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1554120" y="1410120"/>
              <a:ext cx="1080" cy="4032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1598400" y="1306800"/>
              <a:ext cx="1080" cy="4287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1643040" y="1176480"/>
              <a:ext cx="1080" cy="468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1687320" y="1241640"/>
              <a:ext cx="1080" cy="285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1709640" y="1384560"/>
              <a:ext cx="1080" cy="6516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35" name=""/>
            <p:cNvSpPr/>
            <p:nvPr/>
          </p:nvSpPr>
          <p:spPr>
            <a:xfrm flipV="1">
              <a:off x="1739880" y="1369800"/>
              <a:ext cx="1080" cy="6516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36" name=""/>
            <p:cNvSpPr/>
            <p:nvPr/>
          </p:nvSpPr>
          <p:spPr>
            <a:xfrm flipV="1">
              <a:off x="1761840" y="1292400"/>
              <a:ext cx="1440" cy="2476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flipV="1">
              <a:off x="1806480" y="1202040"/>
              <a:ext cx="1080" cy="350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flipV="1">
              <a:off x="1850760" y="1111680"/>
              <a:ext cx="1440" cy="5191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flipV="1">
              <a:off x="1896840" y="1033560"/>
              <a:ext cx="1080" cy="7797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flipV="1">
              <a:off x="1939680" y="993960"/>
              <a:ext cx="1440" cy="1013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flipV="1">
              <a:off x="1992240" y="955440"/>
              <a:ext cx="1080" cy="1273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flipV="1">
              <a:off x="2036520" y="955440"/>
              <a:ext cx="1440" cy="12337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flipV="1">
              <a:off x="2081160" y="981000"/>
              <a:ext cx="1080" cy="1025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flipV="1">
              <a:off x="2124000" y="1019520"/>
              <a:ext cx="1080" cy="846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flipV="1">
              <a:off x="2170080" y="1008000"/>
              <a:ext cx="1080" cy="569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flipV="1">
              <a:off x="2222280" y="1033560"/>
              <a:ext cx="1080" cy="3765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flipV="1">
              <a:off x="2265120" y="1098720"/>
              <a:ext cx="1440" cy="1555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2354040" y="1098720"/>
              <a:ext cx="1080" cy="1429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2400120" y="1059120"/>
              <a:ext cx="1080" cy="233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2430360" y="1019520"/>
              <a:ext cx="1080" cy="299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2473200" y="993960"/>
              <a:ext cx="1080" cy="3762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2517480" y="1098720"/>
              <a:ext cx="1440" cy="3114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2562120" y="1111680"/>
              <a:ext cx="1080" cy="323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2608200" y="1111680"/>
              <a:ext cx="1080" cy="350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2658960" y="1098720"/>
              <a:ext cx="1080" cy="3636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2703240" y="1163880"/>
              <a:ext cx="1440" cy="258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2747880" y="1241640"/>
              <a:ext cx="1080" cy="1810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2768400" y="1359000"/>
              <a:ext cx="1080" cy="63720"/>
            </a:xfrm>
            <a:prstGeom prst="line">
              <a:avLst/>
            </a:prstGeom>
            <a:ln w="14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59" name=""/>
            <p:cNvSpPr/>
            <p:nvPr/>
          </p:nvSpPr>
          <p:spPr>
            <a:xfrm flipV="1">
              <a:off x="2792160" y="1410120"/>
              <a:ext cx="1440" cy="39600"/>
            </a:xfrm>
            <a:prstGeom prst="line">
              <a:avLst/>
            </a:prstGeom>
            <a:ln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60" name=""/>
            <p:cNvSpPr/>
            <p:nvPr/>
          </p:nvSpPr>
          <p:spPr>
            <a:xfrm flipV="1">
              <a:off x="2814480" y="1396800"/>
              <a:ext cx="1080" cy="6516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1" name=""/>
            <p:cNvSpPr/>
            <p:nvPr/>
          </p:nvSpPr>
          <p:spPr>
            <a:xfrm flipV="1">
              <a:off x="2858760" y="1344960"/>
              <a:ext cx="1440" cy="3254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flipV="1">
              <a:off x="2909520" y="1332360"/>
              <a:ext cx="1440" cy="3902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flipV="1">
              <a:off x="2955600" y="1332000"/>
              <a:ext cx="1440" cy="571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flipV="1">
              <a:off x="3000240" y="1332360"/>
              <a:ext cx="1080" cy="792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flipV="1">
              <a:off x="3044520" y="1280880"/>
              <a:ext cx="1440" cy="10112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flipV="1">
              <a:off x="3087360" y="1229040"/>
              <a:ext cx="1440" cy="10382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flipV="1">
              <a:off x="3141360" y="1189080"/>
              <a:ext cx="1440" cy="10904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flipV="1">
              <a:off x="3184200" y="1163520"/>
              <a:ext cx="1440" cy="9874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flipV="1">
              <a:off x="3228840" y="1189080"/>
              <a:ext cx="1080" cy="8046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flipV="1">
              <a:off x="3273120" y="1241280"/>
              <a:ext cx="1440" cy="647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72960" y="945000"/>
              <a:ext cx="2931480" cy="1358640"/>
            </a:xfrm>
            <a:custGeom>
              <a:avLst/>
              <a:gdLst/>
              <a:ahLst/>
              <a:rect l="l" t="t" r="r" b="b"/>
              <a:pathLst>
                <a:path w="3694" h="1710">
                  <a:moveTo>
                    <a:pt x="0" y="577"/>
                  </a:moveTo>
                  <a:lnTo>
                    <a:pt x="24" y="593"/>
                  </a:lnTo>
                  <a:lnTo>
                    <a:pt x="53" y="561"/>
                  </a:lnTo>
                  <a:lnTo>
                    <a:pt x="40" y="553"/>
                  </a:lnTo>
                  <a:lnTo>
                    <a:pt x="50" y="564"/>
                  </a:lnTo>
                  <a:lnTo>
                    <a:pt x="78" y="546"/>
                  </a:lnTo>
                  <a:lnTo>
                    <a:pt x="69" y="535"/>
                  </a:lnTo>
                  <a:lnTo>
                    <a:pt x="77" y="547"/>
                  </a:lnTo>
                  <a:lnTo>
                    <a:pt x="104" y="532"/>
                  </a:lnTo>
                  <a:lnTo>
                    <a:pt x="96" y="520"/>
                  </a:lnTo>
                  <a:lnTo>
                    <a:pt x="96" y="534"/>
                  </a:lnTo>
                  <a:lnTo>
                    <a:pt x="125" y="534"/>
                  </a:lnTo>
                  <a:lnTo>
                    <a:pt x="125" y="520"/>
                  </a:lnTo>
                  <a:lnTo>
                    <a:pt x="114" y="529"/>
                  </a:lnTo>
                  <a:lnTo>
                    <a:pt x="119" y="533"/>
                  </a:lnTo>
                  <a:lnTo>
                    <a:pt x="112" y="528"/>
                  </a:lnTo>
                  <a:lnTo>
                    <a:pt x="141" y="561"/>
                  </a:lnTo>
                  <a:lnTo>
                    <a:pt x="153" y="553"/>
                  </a:lnTo>
                  <a:lnTo>
                    <a:pt x="141" y="561"/>
                  </a:lnTo>
                  <a:lnTo>
                    <a:pt x="168" y="593"/>
                  </a:lnTo>
                  <a:lnTo>
                    <a:pt x="180" y="585"/>
                  </a:lnTo>
                  <a:lnTo>
                    <a:pt x="167" y="589"/>
                  </a:lnTo>
                  <a:lnTo>
                    <a:pt x="194" y="655"/>
                  </a:lnTo>
                  <a:lnTo>
                    <a:pt x="194" y="657"/>
                  </a:lnTo>
                  <a:lnTo>
                    <a:pt x="222" y="706"/>
                  </a:lnTo>
                  <a:lnTo>
                    <a:pt x="224" y="708"/>
                  </a:lnTo>
                  <a:lnTo>
                    <a:pt x="262" y="757"/>
                  </a:lnTo>
                  <a:lnTo>
                    <a:pt x="262" y="757"/>
                  </a:lnTo>
                  <a:lnTo>
                    <a:pt x="290" y="791"/>
                  </a:lnTo>
                  <a:lnTo>
                    <a:pt x="302" y="783"/>
                  </a:lnTo>
                  <a:lnTo>
                    <a:pt x="289" y="788"/>
                  </a:lnTo>
                  <a:lnTo>
                    <a:pt x="316" y="837"/>
                  </a:lnTo>
                  <a:lnTo>
                    <a:pt x="330" y="831"/>
                  </a:lnTo>
                  <a:lnTo>
                    <a:pt x="316" y="837"/>
                  </a:lnTo>
                  <a:lnTo>
                    <a:pt x="343" y="886"/>
                  </a:lnTo>
                  <a:lnTo>
                    <a:pt x="343" y="886"/>
                  </a:lnTo>
                  <a:lnTo>
                    <a:pt x="372" y="936"/>
                  </a:lnTo>
                  <a:lnTo>
                    <a:pt x="385" y="930"/>
                  </a:lnTo>
                  <a:lnTo>
                    <a:pt x="372" y="934"/>
                  </a:lnTo>
                  <a:lnTo>
                    <a:pt x="400" y="999"/>
                  </a:lnTo>
                  <a:lnTo>
                    <a:pt x="400" y="1000"/>
                  </a:lnTo>
                  <a:lnTo>
                    <a:pt x="429" y="1049"/>
                  </a:lnTo>
                  <a:lnTo>
                    <a:pt x="457" y="1098"/>
                  </a:lnTo>
                  <a:lnTo>
                    <a:pt x="459" y="1100"/>
                  </a:lnTo>
                  <a:lnTo>
                    <a:pt x="486" y="1133"/>
                  </a:lnTo>
                  <a:lnTo>
                    <a:pt x="498" y="1125"/>
                  </a:lnTo>
                  <a:lnTo>
                    <a:pt x="484" y="1131"/>
                  </a:lnTo>
                  <a:lnTo>
                    <a:pt x="513" y="1181"/>
                  </a:lnTo>
                  <a:lnTo>
                    <a:pt x="550" y="1245"/>
                  </a:lnTo>
                  <a:lnTo>
                    <a:pt x="563" y="1239"/>
                  </a:lnTo>
                  <a:lnTo>
                    <a:pt x="550" y="1244"/>
                  </a:lnTo>
                  <a:lnTo>
                    <a:pt x="578" y="1310"/>
                  </a:lnTo>
                  <a:lnTo>
                    <a:pt x="578" y="1311"/>
                  </a:lnTo>
                  <a:lnTo>
                    <a:pt x="607" y="1360"/>
                  </a:lnTo>
                  <a:lnTo>
                    <a:pt x="608" y="1362"/>
                  </a:lnTo>
                  <a:lnTo>
                    <a:pt x="635" y="1395"/>
                  </a:lnTo>
                  <a:lnTo>
                    <a:pt x="635" y="1395"/>
                  </a:lnTo>
                  <a:lnTo>
                    <a:pt x="664" y="1428"/>
                  </a:lnTo>
                  <a:lnTo>
                    <a:pt x="668" y="1430"/>
                  </a:lnTo>
                  <a:lnTo>
                    <a:pt x="695" y="1447"/>
                  </a:lnTo>
                  <a:lnTo>
                    <a:pt x="703" y="1436"/>
                  </a:lnTo>
                  <a:lnTo>
                    <a:pt x="691" y="1444"/>
                  </a:lnTo>
                  <a:lnTo>
                    <a:pt x="719" y="1477"/>
                  </a:lnTo>
                  <a:lnTo>
                    <a:pt x="732" y="1469"/>
                  </a:lnTo>
                  <a:lnTo>
                    <a:pt x="718" y="1475"/>
                  </a:lnTo>
                  <a:lnTo>
                    <a:pt x="745" y="1524"/>
                  </a:lnTo>
                  <a:lnTo>
                    <a:pt x="746" y="1527"/>
                  </a:lnTo>
                  <a:lnTo>
                    <a:pt x="775" y="1559"/>
                  </a:lnTo>
                  <a:lnTo>
                    <a:pt x="803" y="1591"/>
                  </a:lnTo>
                  <a:lnTo>
                    <a:pt x="805" y="1593"/>
                  </a:lnTo>
                  <a:lnTo>
                    <a:pt x="809" y="1595"/>
                  </a:lnTo>
                  <a:lnTo>
                    <a:pt x="846" y="1612"/>
                  </a:lnTo>
                  <a:lnTo>
                    <a:pt x="852" y="1600"/>
                  </a:lnTo>
                  <a:lnTo>
                    <a:pt x="844" y="1612"/>
                  </a:lnTo>
                  <a:lnTo>
                    <a:pt x="873" y="1628"/>
                  </a:lnTo>
                  <a:lnTo>
                    <a:pt x="900" y="1643"/>
                  </a:lnTo>
                  <a:lnTo>
                    <a:pt x="928" y="1660"/>
                  </a:lnTo>
                  <a:lnTo>
                    <a:pt x="937" y="1648"/>
                  </a:lnTo>
                  <a:lnTo>
                    <a:pt x="928" y="1659"/>
                  </a:lnTo>
                  <a:lnTo>
                    <a:pt x="957" y="1676"/>
                  </a:lnTo>
                  <a:lnTo>
                    <a:pt x="957" y="1677"/>
                  </a:lnTo>
                  <a:lnTo>
                    <a:pt x="985" y="1693"/>
                  </a:lnTo>
                  <a:lnTo>
                    <a:pt x="994" y="1681"/>
                  </a:lnTo>
                  <a:lnTo>
                    <a:pt x="985" y="1692"/>
                  </a:lnTo>
                  <a:lnTo>
                    <a:pt x="1013" y="1708"/>
                  </a:lnTo>
                  <a:lnTo>
                    <a:pt x="1015" y="1710"/>
                  </a:lnTo>
                  <a:lnTo>
                    <a:pt x="1021" y="1710"/>
                  </a:lnTo>
                  <a:lnTo>
                    <a:pt x="1026" y="1710"/>
                  </a:lnTo>
                  <a:lnTo>
                    <a:pt x="1029" y="1709"/>
                  </a:lnTo>
                  <a:lnTo>
                    <a:pt x="1057" y="1693"/>
                  </a:lnTo>
                  <a:lnTo>
                    <a:pt x="1085" y="1677"/>
                  </a:lnTo>
                  <a:lnTo>
                    <a:pt x="1086" y="1676"/>
                  </a:lnTo>
                  <a:lnTo>
                    <a:pt x="1114" y="1659"/>
                  </a:lnTo>
                  <a:lnTo>
                    <a:pt x="1116" y="1657"/>
                  </a:lnTo>
                  <a:lnTo>
                    <a:pt x="1154" y="1626"/>
                  </a:lnTo>
                  <a:lnTo>
                    <a:pt x="1143" y="1616"/>
                  </a:lnTo>
                  <a:lnTo>
                    <a:pt x="1152" y="1627"/>
                  </a:lnTo>
                  <a:lnTo>
                    <a:pt x="1180" y="1610"/>
                  </a:lnTo>
                  <a:lnTo>
                    <a:pt x="1182" y="1608"/>
                  </a:lnTo>
                  <a:lnTo>
                    <a:pt x="1211" y="1575"/>
                  </a:lnTo>
                  <a:lnTo>
                    <a:pt x="1211" y="1575"/>
                  </a:lnTo>
                  <a:lnTo>
                    <a:pt x="1238" y="1542"/>
                  </a:lnTo>
                  <a:lnTo>
                    <a:pt x="1226" y="1534"/>
                  </a:lnTo>
                  <a:lnTo>
                    <a:pt x="1238" y="1542"/>
                  </a:lnTo>
                  <a:lnTo>
                    <a:pt x="1266" y="1509"/>
                  </a:lnTo>
                  <a:lnTo>
                    <a:pt x="1266" y="1509"/>
                  </a:lnTo>
                  <a:lnTo>
                    <a:pt x="1294" y="1477"/>
                  </a:lnTo>
                  <a:lnTo>
                    <a:pt x="1295" y="1475"/>
                  </a:lnTo>
                  <a:lnTo>
                    <a:pt x="1323" y="1425"/>
                  </a:lnTo>
                  <a:lnTo>
                    <a:pt x="1310" y="1420"/>
                  </a:lnTo>
                  <a:lnTo>
                    <a:pt x="1322" y="1428"/>
                  </a:lnTo>
                  <a:lnTo>
                    <a:pt x="1351" y="1395"/>
                  </a:lnTo>
                  <a:lnTo>
                    <a:pt x="1353" y="1391"/>
                  </a:lnTo>
                  <a:lnTo>
                    <a:pt x="1353" y="1391"/>
                  </a:lnTo>
                  <a:lnTo>
                    <a:pt x="1382" y="1327"/>
                  </a:lnTo>
                  <a:lnTo>
                    <a:pt x="1367" y="1322"/>
                  </a:lnTo>
                  <a:lnTo>
                    <a:pt x="1382" y="1328"/>
                  </a:lnTo>
                  <a:lnTo>
                    <a:pt x="1409" y="1278"/>
                  </a:lnTo>
                  <a:lnTo>
                    <a:pt x="1446" y="1212"/>
                  </a:lnTo>
                  <a:lnTo>
                    <a:pt x="1431" y="1206"/>
                  </a:lnTo>
                  <a:lnTo>
                    <a:pt x="1444" y="1212"/>
                  </a:lnTo>
                  <a:lnTo>
                    <a:pt x="1473" y="1164"/>
                  </a:lnTo>
                  <a:lnTo>
                    <a:pt x="1474" y="1163"/>
                  </a:lnTo>
                  <a:lnTo>
                    <a:pt x="1503" y="1097"/>
                  </a:lnTo>
                  <a:lnTo>
                    <a:pt x="1531" y="1032"/>
                  </a:lnTo>
                  <a:lnTo>
                    <a:pt x="1516" y="1027"/>
                  </a:lnTo>
                  <a:lnTo>
                    <a:pt x="1528" y="1036"/>
                  </a:lnTo>
                  <a:lnTo>
                    <a:pt x="1556" y="1003"/>
                  </a:lnTo>
                  <a:lnTo>
                    <a:pt x="1557" y="1000"/>
                  </a:lnTo>
                  <a:lnTo>
                    <a:pt x="1586" y="951"/>
                  </a:lnTo>
                  <a:lnTo>
                    <a:pt x="1587" y="950"/>
                  </a:lnTo>
                  <a:lnTo>
                    <a:pt x="1614" y="885"/>
                  </a:lnTo>
                  <a:lnTo>
                    <a:pt x="1643" y="819"/>
                  </a:lnTo>
                  <a:lnTo>
                    <a:pt x="1643" y="818"/>
                  </a:lnTo>
                  <a:lnTo>
                    <a:pt x="1670" y="737"/>
                  </a:lnTo>
                  <a:lnTo>
                    <a:pt x="1698" y="639"/>
                  </a:lnTo>
                  <a:lnTo>
                    <a:pt x="1683" y="635"/>
                  </a:lnTo>
                  <a:lnTo>
                    <a:pt x="1698" y="640"/>
                  </a:lnTo>
                  <a:lnTo>
                    <a:pt x="1736" y="540"/>
                  </a:lnTo>
                  <a:lnTo>
                    <a:pt x="1736" y="539"/>
                  </a:lnTo>
                  <a:lnTo>
                    <a:pt x="1763" y="441"/>
                  </a:lnTo>
                  <a:lnTo>
                    <a:pt x="1748" y="438"/>
                  </a:lnTo>
                  <a:lnTo>
                    <a:pt x="1763" y="442"/>
                  </a:lnTo>
                  <a:lnTo>
                    <a:pt x="1792" y="378"/>
                  </a:lnTo>
                  <a:lnTo>
                    <a:pt x="1777" y="373"/>
                  </a:lnTo>
                  <a:lnTo>
                    <a:pt x="1791" y="379"/>
                  </a:lnTo>
                  <a:lnTo>
                    <a:pt x="1819" y="329"/>
                  </a:lnTo>
                  <a:lnTo>
                    <a:pt x="1846" y="281"/>
                  </a:lnTo>
                  <a:lnTo>
                    <a:pt x="1848" y="280"/>
                  </a:lnTo>
                  <a:lnTo>
                    <a:pt x="1876" y="214"/>
                  </a:lnTo>
                  <a:lnTo>
                    <a:pt x="1861" y="209"/>
                  </a:lnTo>
                  <a:lnTo>
                    <a:pt x="1875" y="215"/>
                  </a:lnTo>
                  <a:lnTo>
                    <a:pt x="1903" y="166"/>
                  </a:lnTo>
                  <a:lnTo>
                    <a:pt x="1932" y="117"/>
                  </a:lnTo>
                  <a:lnTo>
                    <a:pt x="1918" y="111"/>
                  </a:lnTo>
                  <a:lnTo>
                    <a:pt x="1928" y="122"/>
                  </a:lnTo>
                  <a:lnTo>
                    <a:pt x="1955" y="104"/>
                  </a:lnTo>
                  <a:lnTo>
                    <a:pt x="1958" y="102"/>
                  </a:lnTo>
                  <a:lnTo>
                    <a:pt x="1985" y="70"/>
                  </a:lnTo>
                  <a:lnTo>
                    <a:pt x="1972" y="62"/>
                  </a:lnTo>
                  <a:lnTo>
                    <a:pt x="1979" y="74"/>
                  </a:lnTo>
                  <a:lnTo>
                    <a:pt x="2017" y="57"/>
                  </a:lnTo>
                  <a:lnTo>
                    <a:pt x="2021" y="55"/>
                  </a:lnTo>
                  <a:lnTo>
                    <a:pt x="2023" y="54"/>
                  </a:lnTo>
                  <a:lnTo>
                    <a:pt x="2051" y="21"/>
                  </a:lnTo>
                  <a:lnTo>
                    <a:pt x="2039" y="13"/>
                  </a:lnTo>
                  <a:lnTo>
                    <a:pt x="2039" y="25"/>
                  </a:lnTo>
                  <a:lnTo>
                    <a:pt x="2044" y="25"/>
                  </a:lnTo>
                  <a:lnTo>
                    <a:pt x="2050" y="22"/>
                  </a:lnTo>
                  <a:lnTo>
                    <a:pt x="2039" y="27"/>
                  </a:lnTo>
                  <a:lnTo>
                    <a:pt x="2067" y="27"/>
                  </a:lnTo>
                  <a:lnTo>
                    <a:pt x="2095" y="27"/>
                  </a:lnTo>
                  <a:lnTo>
                    <a:pt x="2095" y="13"/>
                  </a:lnTo>
                  <a:lnTo>
                    <a:pt x="2089" y="25"/>
                  </a:lnTo>
                  <a:lnTo>
                    <a:pt x="2086" y="23"/>
                  </a:lnTo>
                  <a:lnTo>
                    <a:pt x="2114" y="40"/>
                  </a:lnTo>
                  <a:lnTo>
                    <a:pt x="2114" y="41"/>
                  </a:lnTo>
                  <a:lnTo>
                    <a:pt x="2142" y="57"/>
                  </a:lnTo>
                  <a:lnTo>
                    <a:pt x="2150" y="46"/>
                  </a:lnTo>
                  <a:lnTo>
                    <a:pt x="2138" y="54"/>
                  </a:lnTo>
                  <a:lnTo>
                    <a:pt x="2167" y="87"/>
                  </a:lnTo>
                  <a:lnTo>
                    <a:pt x="2168" y="88"/>
                  </a:lnTo>
                  <a:lnTo>
                    <a:pt x="2171" y="90"/>
                  </a:lnTo>
                  <a:lnTo>
                    <a:pt x="2198" y="106"/>
                  </a:lnTo>
                  <a:lnTo>
                    <a:pt x="2201" y="107"/>
                  </a:lnTo>
                  <a:lnTo>
                    <a:pt x="2206" y="108"/>
                  </a:lnTo>
                  <a:lnTo>
                    <a:pt x="2234" y="108"/>
                  </a:lnTo>
                  <a:lnTo>
                    <a:pt x="2234" y="107"/>
                  </a:lnTo>
                  <a:lnTo>
                    <a:pt x="2240" y="107"/>
                  </a:lnTo>
                  <a:lnTo>
                    <a:pt x="2243" y="106"/>
                  </a:lnTo>
                  <a:lnTo>
                    <a:pt x="2271" y="90"/>
                  </a:lnTo>
                  <a:lnTo>
                    <a:pt x="2263" y="78"/>
                  </a:lnTo>
                  <a:lnTo>
                    <a:pt x="2263" y="93"/>
                  </a:lnTo>
                  <a:lnTo>
                    <a:pt x="2300" y="93"/>
                  </a:lnTo>
                  <a:lnTo>
                    <a:pt x="2300" y="78"/>
                  </a:lnTo>
                  <a:lnTo>
                    <a:pt x="2289" y="88"/>
                  </a:lnTo>
                  <a:lnTo>
                    <a:pt x="2294" y="91"/>
                  </a:lnTo>
                  <a:lnTo>
                    <a:pt x="2287" y="87"/>
                  </a:lnTo>
                  <a:lnTo>
                    <a:pt x="2316" y="120"/>
                  </a:lnTo>
                  <a:lnTo>
                    <a:pt x="2328" y="111"/>
                  </a:lnTo>
                  <a:lnTo>
                    <a:pt x="2316" y="120"/>
                  </a:lnTo>
                  <a:lnTo>
                    <a:pt x="2343" y="151"/>
                  </a:lnTo>
                  <a:lnTo>
                    <a:pt x="2355" y="143"/>
                  </a:lnTo>
                  <a:lnTo>
                    <a:pt x="2342" y="149"/>
                  </a:lnTo>
                  <a:lnTo>
                    <a:pt x="2370" y="199"/>
                  </a:lnTo>
                  <a:lnTo>
                    <a:pt x="2399" y="247"/>
                  </a:lnTo>
                  <a:lnTo>
                    <a:pt x="2412" y="241"/>
                  </a:lnTo>
                  <a:lnTo>
                    <a:pt x="2399" y="246"/>
                  </a:lnTo>
                  <a:lnTo>
                    <a:pt x="2427" y="312"/>
                  </a:lnTo>
                  <a:lnTo>
                    <a:pt x="2427" y="313"/>
                  </a:lnTo>
                  <a:lnTo>
                    <a:pt x="2454" y="362"/>
                  </a:lnTo>
                  <a:lnTo>
                    <a:pt x="2457" y="366"/>
                  </a:lnTo>
                  <a:lnTo>
                    <a:pt x="2460" y="367"/>
                  </a:lnTo>
                  <a:lnTo>
                    <a:pt x="2487" y="383"/>
                  </a:lnTo>
                  <a:lnTo>
                    <a:pt x="2495" y="373"/>
                  </a:lnTo>
                  <a:lnTo>
                    <a:pt x="2483" y="381"/>
                  </a:lnTo>
                  <a:lnTo>
                    <a:pt x="2511" y="414"/>
                  </a:lnTo>
                  <a:lnTo>
                    <a:pt x="2540" y="446"/>
                  </a:lnTo>
                  <a:lnTo>
                    <a:pt x="2541" y="447"/>
                  </a:lnTo>
                  <a:lnTo>
                    <a:pt x="2579" y="480"/>
                  </a:lnTo>
                  <a:lnTo>
                    <a:pt x="2590" y="471"/>
                  </a:lnTo>
                  <a:lnTo>
                    <a:pt x="2578" y="479"/>
                  </a:lnTo>
                  <a:lnTo>
                    <a:pt x="2605" y="512"/>
                  </a:lnTo>
                  <a:lnTo>
                    <a:pt x="2632" y="544"/>
                  </a:lnTo>
                  <a:lnTo>
                    <a:pt x="2661" y="578"/>
                  </a:lnTo>
                  <a:lnTo>
                    <a:pt x="2662" y="579"/>
                  </a:lnTo>
                  <a:lnTo>
                    <a:pt x="2665" y="581"/>
                  </a:lnTo>
                  <a:lnTo>
                    <a:pt x="2693" y="597"/>
                  </a:lnTo>
                  <a:lnTo>
                    <a:pt x="2702" y="585"/>
                  </a:lnTo>
                  <a:lnTo>
                    <a:pt x="2693" y="595"/>
                  </a:lnTo>
                  <a:lnTo>
                    <a:pt x="2721" y="612"/>
                  </a:lnTo>
                  <a:lnTo>
                    <a:pt x="2721" y="613"/>
                  </a:lnTo>
                  <a:lnTo>
                    <a:pt x="2749" y="630"/>
                  </a:lnTo>
                  <a:lnTo>
                    <a:pt x="2757" y="618"/>
                  </a:lnTo>
                  <a:lnTo>
                    <a:pt x="2749" y="628"/>
                  </a:lnTo>
                  <a:lnTo>
                    <a:pt x="2778" y="646"/>
                  </a:lnTo>
                  <a:lnTo>
                    <a:pt x="2778" y="647"/>
                  </a:lnTo>
                  <a:lnTo>
                    <a:pt x="2806" y="662"/>
                  </a:lnTo>
                  <a:lnTo>
                    <a:pt x="2814" y="651"/>
                  </a:lnTo>
                  <a:lnTo>
                    <a:pt x="2806" y="661"/>
                  </a:lnTo>
                  <a:lnTo>
                    <a:pt x="2833" y="678"/>
                  </a:lnTo>
                  <a:lnTo>
                    <a:pt x="2836" y="680"/>
                  </a:lnTo>
                  <a:lnTo>
                    <a:pt x="2841" y="680"/>
                  </a:lnTo>
                  <a:lnTo>
                    <a:pt x="2847" y="680"/>
                  </a:lnTo>
                  <a:lnTo>
                    <a:pt x="2848" y="679"/>
                  </a:lnTo>
                  <a:lnTo>
                    <a:pt x="2885" y="662"/>
                  </a:lnTo>
                  <a:lnTo>
                    <a:pt x="2889" y="660"/>
                  </a:lnTo>
                  <a:lnTo>
                    <a:pt x="2890" y="659"/>
                  </a:lnTo>
                  <a:lnTo>
                    <a:pt x="2919" y="626"/>
                  </a:lnTo>
                  <a:lnTo>
                    <a:pt x="2907" y="618"/>
                  </a:lnTo>
                  <a:lnTo>
                    <a:pt x="2915" y="630"/>
                  </a:lnTo>
                  <a:lnTo>
                    <a:pt x="2943" y="613"/>
                  </a:lnTo>
                  <a:lnTo>
                    <a:pt x="2935" y="601"/>
                  </a:lnTo>
                  <a:lnTo>
                    <a:pt x="2935" y="615"/>
                  </a:lnTo>
                  <a:lnTo>
                    <a:pt x="2964" y="615"/>
                  </a:lnTo>
                  <a:lnTo>
                    <a:pt x="2991" y="615"/>
                  </a:lnTo>
                  <a:lnTo>
                    <a:pt x="3018" y="615"/>
                  </a:lnTo>
                  <a:lnTo>
                    <a:pt x="3018" y="614"/>
                  </a:lnTo>
                  <a:lnTo>
                    <a:pt x="3023" y="614"/>
                  </a:lnTo>
                  <a:lnTo>
                    <a:pt x="3026" y="613"/>
                  </a:lnTo>
                  <a:lnTo>
                    <a:pt x="3055" y="597"/>
                  </a:lnTo>
                  <a:lnTo>
                    <a:pt x="3083" y="581"/>
                  </a:lnTo>
                  <a:lnTo>
                    <a:pt x="3112" y="565"/>
                  </a:lnTo>
                  <a:lnTo>
                    <a:pt x="3114" y="562"/>
                  </a:lnTo>
                  <a:lnTo>
                    <a:pt x="3118" y="559"/>
                  </a:lnTo>
                  <a:lnTo>
                    <a:pt x="3145" y="509"/>
                  </a:lnTo>
                  <a:lnTo>
                    <a:pt x="3131" y="504"/>
                  </a:lnTo>
                  <a:lnTo>
                    <a:pt x="3141" y="513"/>
                  </a:lnTo>
                  <a:lnTo>
                    <a:pt x="3137" y="515"/>
                  </a:lnTo>
                  <a:lnTo>
                    <a:pt x="3174" y="499"/>
                  </a:lnTo>
                  <a:lnTo>
                    <a:pt x="3167" y="487"/>
                  </a:lnTo>
                  <a:lnTo>
                    <a:pt x="3167" y="501"/>
                  </a:lnTo>
                  <a:lnTo>
                    <a:pt x="3196" y="501"/>
                  </a:lnTo>
                  <a:lnTo>
                    <a:pt x="3224" y="501"/>
                  </a:lnTo>
                  <a:lnTo>
                    <a:pt x="3253" y="501"/>
                  </a:lnTo>
                  <a:lnTo>
                    <a:pt x="3280" y="501"/>
                  </a:lnTo>
                  <a:lnTo>
                    <a:pt x="3308" y="501"/>
                  </a:lnTo>
                  <a:lnTo>
                    <a:pt x="3308" y="500"/>
                  </a:lnTo>
                  <a:lnTo>
                    <a:pt x="3314" y="500"/>
                  </a:lnTo>
                  <a:lnTo>
                    <a:pt x="3319" y="496"/>
                  </a:lnTo>
                  <a:lnTo>
                    <a:pt x="3321" y="495"/>
                  </a:lnTo>
                  <a:lnTo>
                    <a:pt x="3349" y="462"/>
                  </a:lnTo>
                  <a:lnTo>
                    <a:pt x="3349" y="462"/>
                  </a:lnTo>
                  <a:lnTo>
                    <a:pt x="3376" y="431"/>
                  </a:lnTo>
                  <a:lnTo>
                    <a:pt x="3378" y="431"/>
                  </a:lnTo>
                  <a:lnTo>
                    <a:pt x="3405" y="396"/>
                  </a:lnTo>
                  <a:lnTo>
                    <a:pt x="3391" y="388"/>
                  </a:lnTo>
                  <a:lnTo>
                    <a:pt x="3403" y="396"/>
                  </a:lnTo>
                  <a:lnTo>
                    <a:pt x="3432" y="365"/>
                  </a:lnTo>
                  <a:lnTo>
                    <a:pt x="3420" y="356"/>
                  </a:lnTo>
                  <a:lnTo>
                    <a:pt x="3427" y="368"/>
                  </a:lnTo>
                  <a:lnTo>
                    <a:pt x="3465" y="352"/>
                  </a:lnTo>
                  <a:lnTo>
                    <a:pt x="3469" y="349"/>
                  </a:lnTo>
                  <a:lnTo>
                    <a:pt x="3470" y="348"/>
                  </a:lnTo>
                  <a:lnTo>
                    <a:pt x="3498" y="315"/>
                  </a:lnTo>
                  <a:lnTo>
                    <a:pt x="3486" y="307"/>
                  </a:lnTo>
                  <a:lnTo>
                    <a:pt x="3496" y="317"/>
                  </a:lnTo>
                  <a:lnTo>
                    <a:pt x="3523" y="301"/>
                  </a:lnTo>
                  <a:lnTo>
                    <a:pt x="3513" y="290"/>
                  </a:lnTo>
                  <a:lnTo>
                    <a:pt x="3522" y="302"/>
                  </a:lnTo>
                  <a:lnTo>
                    <a:pt x="3549" y="287"/>
                  </a:lnTo>
                  <a:lnTo>
                    <a:pt x="3541" y="275"/>
                  </a:lnTo>
                  <a:lnTo>
                    <a:pt x="3535" y="288"/>
                  </a:lnTo>
                  <a:lnTo>
                    <a:pt x="3541" y="288"/>
                  </a:lnTo>
                  <a:lnTo>
                    <a:pt x="3546" y="288"/>
                  </a:lnTo>
                  <a:lnTo>
                    <a:pt x="3532" y="287"/>
                  </a:lnTo>
                  <a:lnTo>
                    <a:pt x="3561" y="302"/>
                  </a:lnTo>
                  <a:lnTo>
                    <a:pt x="3589" y="319"/>
                  </a:lnTo>
                  <a:lnTo>
                    <a:pt x="3598" y="307"/>
                  </a:lnTo>
                  <a:lnTo>
                    <a:pt x="3585" y="315"/>
                  </a:lnTo>
                  <a:lnTo>
                    <a:pt x="3614" y="348"/>
                  </a:lnTo>
                  <a:lnTo>
                    <a:pt x="3626" y="340"/>
                  </a:lnTo>
                  <a:lnTo>
                    <a:pt x="3614" y="348"/>
                  </a:lnTo>
                  <a:lnTo>
                    <a:pt x="3641" y="381"/>
                  </a:lnTo>
                  <a:lnTo>
                    <a:pt x="3641" y="381"/>
                  </a:lnTo>
                  <a:lnTo>
                    <a:pt x="3670" y="414"/>
                  </a:lnTo>
                  <a:lnTo>
                    <a:pt x="3694" y="398"/>
                  </a:lnTo>
                  <a:lnTo>
                    <a:pt x="3665" y="365"/>
                  </a:lnTo>
                  <a:lnTo>
                    <a:pt x="3653" y="373"/>
                  </a:lnTo>
                  <a:lnTo>
                    <a:pt x="3665" y="366"/>
                  </a:lnTo>
                  <a:lnTo>
                    <a:pt x="3638" y="333"/>
                  </a:lnTo>
                  <a:lnTo>
                    <a:pt x="3638" y="332"/>
                  </a:lnTo>
                  <a:lnTo>
                    <a:pt x="3610" y="299"/>
                  </a:lnTo>
                  <a:lnTo>
                    <a:pt x="3608" y="297"/>
                  </a:lnTo>
                  <a:lnTo>
                    <a:pt x="3606" y="296"/>
                  </a:lnTo>
                  <a:lnTo>
                    <a:pt x="3577" y="280"/>
                  </a:lnTo>
                  <a:lnTo>
                    <a:pt x="3549" y="265"/>
                  </a:lnTo>
                  <a:lnTo>
                    <a:pt x="3546" y="263"/>
                  </a:lnTo>
                  <a:lnTo>
                    <a:pt x="3541" y="262"/>
                  </a:lnTo>
                  <a:lnTo>
                    <a:pt x="3535" y="263"/>
                  </a:lnTo>
                  <a:lnTo>
                    <a:pt x="3532" y="265"/>
                  </a:lnTo>
                  <a:lnTo>
                    <a:pt x="3505" y="280"/>
                  </a:lnTo>
                  <a:lnTo>
                    <a:pt x="3505" y="280"/>
                  </a:lnTo>
                  <a:lnTo>
                    <a:pt x="3478" y="296"/>
                  </a:lnTo>
                  <a:lnTo>
                    <a:pt x="3474" y="299"/>
                  </a:lnTo>
                  <a:lnTo>
                    <a:pt x="3446" y="332"/>
                  </a:lnTo>
                  <a:lnTo>
                    <a:pt x="3458" y="340"/>
                  </a:lnTo>
                  <a:lnTo>
                    <a:pt x="3451" y="328"/>
                  </a:lnTo>
                  <a:lnTo>
                    <a:pt x="3413" y="345"/>
                  </a:lnTo>
                  <a:lnTo>
                    <a:pt x="3409" y="347"/>
                  </a:lnTo>
                  <a:lnTo>
                    <a:pt x="3408" y="348"/>
                  </a:lnTo>
                  <a:lnTo>
                    <a:pt x="3379" y="380"/>
                  </a:lnTo>
                  <a:lnTo>
                    <a:pt x="3379" y="381"/>
                  </a:lnTo>
                  <a:lnTo>
                    <a:pt x="3352" y="415"/>
                  </a:lnTo>
                  <a:lnTo>
                    <a:pt x="3364" y="422"/>
                  </a:lnTo>
                  <a:lnTo>
                    <a:pt x="3352" y="415"/>
                  </a:lnTo>
                  <a:lnTo>
                    <a:pt x="3325" y="447"/>
                  </a:lnTo>
                  <a:lnTo>
                    <a:pt x="3337" y="454"/>
                  </a:lnTo>
                  <a:lnTo>
                    <a:pt x="3325" y="446"/>
                  </a:lnTo>
                  <a:lnTo>
                    <a:pt x="3296" y="479"/>
                  </a:lnTo>
                  <a:lnTo>
                    <a:pt x="3308" y="474"/>
                  </a:lnTo>
                  <a:lnTo>
                    <a:pt x="3303" y="475"/>
                  </a:lnTo>
                  <a:lnTo>
                    <a:pt x="3298" y="478"/>
                  </a:lnTo>
                  <a:lnTo>
                    <a:pt x="3308" y="487"/>
                  </a:lnTo>
                  <a:lnTo>
                    <a:pt x="3308" y="474"/>
                  </a:lnTo>
                  <a:lnTo>
                    <a:pt x="3280" y="474"/>
                  </a:lnTo>
                  <a:lnTo>
                    <a:pt x="3253" y="474"/>
                  </a:lnTo>
                  <a:lnTo>
                    <a:pt x="3224" y="474"/>
                  </a:lnTo>
                  <a:lnTo>
                    <a:pt x="3196" y="474"/>
                  </a:lnTo>
                  <a:lnTo>
                    <a:pt x="3167" y="474"/>
                  </a:lnTo>
                  <a:lnTo>
                    <a:pt x="3167" y="474"/>
                  </a:lnTo>
                  <a:lnTo>
                    <a:pt x="3162" y="475"/>
                  </a:lnTo>
                  <a:lnTo>
                    <a:pt x="3160" y="475"/>
                  </a:lnTo>
                  <a:lnTo>
                    <a:pt x="3124" y="492"/>
                  </a:lnTo>
                  <a:lnTo>
                    <a:pt x="3120" y="494"/>
                  </a:lnTo>
                  <a:lnTo>
                    <a:pt x="3117" y="498"/>
                  </a:lnTo>
                  <a:lnTo>
                    <a:pt x="3090" y="547"/>
                  </a:lnTo>
                  <a:lnTo>
                    <a:pt x="3093" y="544"/>
                  </a:lnTo>
                  <a:lnTo>
                    <a:pt x="3103" y="553"/>
                  </a:lnTo>
                  <a:lnTo>
                    <a:pt x="3095" y="542"/>
                  </a:lnTo>
                  <a:lnTo>
                    <a:pt x="3067" y="559"/>
                  </a:lnTo>
                  <a:lnTo>
                    <a:pt x="3038" y="574"/>
                  </a:lnTo>
                  <a:lnTo>
                    <a:pt x="3010" y="591"/>
                  </a:lnTo>
                  <a:lnTo>
                    <a:pt x="3018" y="601"/>
                  </a:lnTo>
                  <a:lnTo>
                    <a:pt x="3018" y="588"/>
                  </a:lnTo>
                  <a:lnTo>
                    <a:pt x="2991" y="588"/>
                  </a:lnTo>
                  <a:lnTo>
                    <a:pt x="2964" y="588"/>
                  </a:lnTo>
                  <a:lnTo>
                    <a:pt x="2935" y="588"/>
                  </a:lnTo>
                  <a:lnTo>
                    <a:pt x="2935" y="588"/>
                  </a:lnTo>
                  <a:lnTo>
                    <a:pt x="2930" y="589"/>
                  </a:lnTo>
                  <a:lnTo>
                    <a:pt x="2927" y="591"/>
                  </a:lnTo>
                  <a:lnTo>
                    <a:pt x="2898" y="607"/>
                  </a:lnTo>
                  <a:lnTo>
                    <a:pt x="2896" y="608"/>
                  </a:lnTo>
                  <a:lnTo>
                    <a:pt x="2894" y="610"/>
                  </a:lnTo>
                  <a:lnTo>
                    <a:pt x="2866" y="642"/>
                  </a:lnTo>
                  <a:lnTo>
                    <a:pt x="2878" y="651"/>
                  </a:lnTo>
                  <a:lnTo>
                    <a:pt x="2871" y="639"/>
                  </a:lnTo>
                  <a:lnTo>
                    <a:pt x="2835" y="655"/>
                  </a:lnTo>
                  <a:lnTo>
                    <a:pt x="2847" y="655"/>
                  </a:lnTo>
                  <a:lnTo>
                    <a:pt x="2841" y="654"/>
                  </a:lnTo>
                  <a:lnTo>
                    <a:pt x="2836" y="655"/>
                  </a:lnTo>
                  <a:lnTo>
                    <a:pt x="2841" y="667"/>
                  </a:lnTo>
                  <a:lnTo>
                    <a:pt x="2851" y="657"/>
                  </a:lnTo>
                  <a:lnTo>
                    <a:pt x="2824" y="640"/>
                  </a:lnTo>
                  <a:lnTo>
                    <a:pt x="2822" y="640"/>
                  </a:lnTo>
                  <a:lnTo>
                    <a:pt x="2794" y="625"/>
                  </a:lnTo>
                  <a:lnTo>
                    <a:pt x="2786" y="635"/>
                  </a:lnTo>
                  <a:lnTo>
                    <a:pt x="2795" y="625"/>
                  </a:lnTo>
                  <a:lnTo>
                    <a:pt x="2767" y="607"/>
                  </a:lnTo>
                  <a:lnTo>
                    <a:pt x="2765" y="607"/>
                  </a:lnTo>
                  <a:lnTo>
                    <a:pt x="2737" y="591"/>
                  </a:lnTo>
                  <a:lnTo>
                    <a:pt x="2729" y="601"/>
                  </a:lnTo>
                  <a:lnTo>
                    <a:pt x="2738" y="591"/>
                  </a:lnTo>
                  <a:lnTo>
                    <a:pt x="2711" y="574"/>
                  </a:lnTo>
                  <a:lnTo>
                    <a:pt x="2710" y="574"/>
                  </a:lnTo>
                  <a:lnTo>
                    <a:pt x="2681" y="559"/>
                  </a:lnTo>
                  <a:lnTo>
                    <a:pt x="2673" y="569"/>
                  </a:lnTo>
                  <a:lnTo>
                    <a:pt x="2685" y="562"/>
                  </a:lnTo>
                  <a:lnTo>
                    <a:pt x="2657" y="528"/>
                  </a:lnTo>
                  <a:lnTo>
                    <a:pt x="2630" y="496"/>
                  </a:lnTo>
                  <a:lnTo>
                    <a:pt x="2602" y="463"/>
                  </a:lnTo>
                  <a:lnTo>
                    <a:pt x="2601" y="461"/>
                  </a:lnTo>
                  <a:lnTo>
                    <a:pt x="2563" y="428"/>
                  </a:lnTo>
                  <a:lnTo>
                    <a:pt x="2552" y="438"/>
                  </a:lnTo>
                  <a:lnTo>
                    <a:pt x="2564" y="429"/>
                  </a:lnTo>
                  <a:lnTo>
                    <a:pt x="2536" y="398"/>
                  </a:lnTo>
                  <a:lnTo>
                    <a:pt x="2507" y="365"/>
                  </a:lnTo>
                  <a:lnTo>
                    <a:pt x="2505" y="362"/>
                  </a:lnTo>
                  <a:lnTo>
                    <a:pt x="2478" y="346"/>
                  </a:lnTo>
                  <a:lnTo>
                    <a:pt x="2468" y="356"/>
                  </a:lnTo>
                  <a:lnTo>
                    <a:pt x="2483" y="350"/>
                  </a:lnTo>
                  <a:lnTo>
                    <a:pt x="2456" y="301"/>
                  </a:lnTo>
                  <a:lnTo>
                    <a:pt x="2441" y="307"/>
                  </a:lnTo>
                  <a:lnTo>
                    <a:pt x="2456" y="302"/>
                  </a:lnTo>
                  <a:lnTo>
                    <a:pt x="2427" y="236"/>
                  </a:lnTo>
                  <a:lnTo>
                    <a:pt x="2426" y="235"/>
                  </a:lnTo>
                  <a:lnTo>
                    <a:pt x="2397" y="187"/>
                  </a:lnTo>
                  <a:lnTo>
                    <a:pt x="2369" y="137"/>
                  </a:lnTo>
                  <a:lnTo>
                    <a:pt x="2368" y="136"/>
                  </a:lnTo>
                  <a:lnTo>
                    <a:pt x="2340" y="104"/>
                  </a:lnTo>
                  <a:lnTo>
                    <a:pt x="2340" y="103"/>
                  </a:lnTo>
                  <a:lnTo>
                    <a:pt x="2312" y="70"/>
                  </a:lnTo>
                  <a:lnTo>
                    <a:pt x="2311" y="69"/>
                  </a:lnTo>
                  <a:lnTo>
                    <a:pt x="2305" y="67"/>
                  </a:lnTo>
                  <a:lnTo>
                    <a:pt x="2300" y="66"/>
                  </a:lnTo>
                  <a:lnTo>
                    <a:pt x="2263" y="66"/>
                  </a:lnTo>
                  <a:lnTo>
                    <a:pt x="2263" y="66"/>
                  </a:lnTo>
                  <a:lnTo>
                    <a:pt x="2258" y="67"/>
                  </a:lnTo>
                  <a:lnTo>
                    <a:pt x="2255" y="68"/>
                  </a:lnTo>
                  <a:lnTo>
                    <a:pt x="2226" y="83"/>
                  </a:lnTo>
                  <a:lnTo>
                    <a:pt x="2234" y="94"/>
                  </a:lnTo>
                  <a:lnTo>
                    <a:pt x="2234" y="81"/>
                  </a:lnTo>
                  <a:lnTo>
                    <a:pt x="2206" y="81"/>
                  </a:lnTo>
                  <a:lnTo>
                    <a:pt x="2206" y="94"/>
                  </a:lnTo>
                  <a:lnTo>
                    <a:pt x="2214" y="83"/>
                  </a:lnTo>
                  <a:lnTo>
                    <a:pt x="2187" y="68"/>
                  </a:lnTo>
                  <a:lnTo>
                    <a:pt x="2179" y="78"/>
                  </a:lnTo>
                  <a:lnTo>
                    <a:pt x="2191" y="70"/>
                  </a:lnTo>
                  <a:lnTo>
                    <a:pt x="2163" y="37"/>
                  </a:lnTo>
                  <a:lnTo>
                    <a:pt x="2161" y="36"/>
                  </a:lnTo>
                  <a:lnTo>
                    <a:pt x="2158" y="35"/>
                  </a:lnTo>
                  <a:lnTo>
                    <a:pt x="2130" y="18"/>
                  </a:lnTo>
                  <a:lnTo>
                    <a:pt x="2122" y="29"/>
                  </a:lnTo>
                  <a:lnTo>
                    <a:pt x="2131" y="18"/>
                  </a:lnTo>
                  <a:lnTo>
                    <a:pt x="2104" y="2"/>
                  </a:lnTo>
                  <a:lnTo>
                    <a:pt x="2100" y="1"/>
                  </a:lnTo>
                  <a:lnTo>
                    <a:pt x="2095" y="0"/>
                  </a:lnTo>
                  <a:lnTo>
                    <a:pt x="2067" y="0"/>
                  </a:lnTo>
                  <a:lnTo>
                    <a:pt x="2039" y="0"/>
                  </a:lnTo>
                  <a:lnTo>
                    <a:pt x="2039" y="0"/>
                  </a:lnTo>
                  <a:lnTo>
                    <a:pt x="2034" y="1"/>
                  </a:lnTo>
                  <a:lnTo>
                    <a:pt x="2028" y="3"/>
                  </a:lnTo>
                  <a:lnTo>
                    <a:pt x="2027" y="4"/>
                  </a:lnTo>
                  <a:lnTo>
                    <a:pt x="1998" y="37"/>
                  </a:lnTo>
                  <a:lnTo>
                    <a:pt x="2010" y="46"/>
                  </a:lnTo>
                  <a:lnTo>
                    <a:pt x="2004" y="34"/>
                  </a:lnTo>
                  <a:lnTo>
                    <a:pt x="1966" y="50"/>
                  </a:lnTo>
                  <a:lnTo>
                    <a:pt x="1962" y="53"/>
                  </a:lnTo>
                  <a:lnTo>
                    <a:pt x="1960" y="55"/>
                  </a:lnTo>
                  <a:lnTo>
                    <a:pt x="1933" y="87"/>
                  </a:lnTo>
                  <a:lnTo>
                    <a:pt x="1945" y="94"/>
                  </a:lnTo>
                  <a:lnTo>
                    <a:pt x="1936" y="83"/>
                  </a:lnTo>
                  <a:lnTo>
                    <a:pt x="1909" y="101"/>
                  </a:lnTo>
                  <a:lnTo>
                    <a:pt x="1907" y="102"/>
                  </a:lnTo>
                  <a:lnTo>
                    <a:pt x="1905" y="106"/>
                  </a:lnTo>
                  <a:lnTo>
                    <a:pt x="1876" y="154"/>
                  </a:lnTo>
                  <a:lnTo>
                    <a:pt x="1848" y="203"/>
                  </a:lnTo>
                  <a:lnTo>
                    <a:pt x="1848" y="204"/>
                  </a:lnTo>
                  <a:lnTo>
                    <a:pt x="1819" y="270"/>
                  </a:lnTo>
                  <a:lnTo>
                    <a:pt x="1833" y="275"/>
                  </a:lnTo>
                  <a:lnTo>
                    <a:pt x="1819" y="269"/>
                  </a:lnTo>
                  <a:lnTo>
                    <a:pt x="1792" y="317"/>
                  </a:lnTo>
                  <a:lnTo>
                    <a:pt x="1763" y="367"/>
                  </a:lnTo>
                  <a:lnTo>
                    <a:pt x="1763" y="368"/>
                  </a:lnTo>
                  <a:lnTo>
                    <a:pt x="1735" y="433"/>
                  </a:lnTo>
                  <a:lnTo>
                    <a:pt x="1733" y="435"/>
                  </a:lnTo>
                  <a:lnTo>
                    <a:pt x="1706" y="533"/>
                  </a:lnTo>
                  <a:lnTo>
                    <a:pt x="1721" y="535"/>
                  </a:lnTo>
                  <a:lnTo>
                    <a:pt x="1706" y="532"/>
                  </a:lnTo>
                  <a:lnTo>
                    <a:pt x="1668" y="632"/>
                  </a:lnTo>
                  <a:lnTo>
                    <a:pt x="1668" y="632"/>
                  </a:lnTo>
                  <a:lnTo>
                    <a:pt x="1640" y="730"/>
                  </a:lnTo>
                  <a:lnTo>
                    <a:pt x="1613" y="811"/>
                  </a:lnTo>
                  <a:lnTo>
                    <a:pt x="1628" y="814"/>
                  </a:lnTo>
                  <a:lnTo>
                    <a:pt x="1614" y="810"/>
                  </a:lnTo>
                  <a:lnTo>
                    <a:pt x="1586" y="876"/>
                  </a:lnTo>
                  <a:lnTo>
                    <a:pt x="1558" y="940"/>
                  </a:lnTo>
                  <a:lnTo>
                    <a:pt x="1572" y="945"/>
                  </a:lnTo>
                  <a:lnTo>
                    <a:pt x="1558" y="939"/>
                  </a:lnTo>
                  <a:lnTo>
                    <a:pt x="1530" y="989"/>
                  </a:lnTo>
                  <a:lnTo>
                    <a:pt x="1543" y="995"/>
                  </a:lnTo>
                  <a:lnTo>
                    <a:pt x="1531" y="987"/>
                  </a:lnTo>
                  <a:lnTo>
                    <a:pt x="1504" y="1020"/>
                  </a:lnTo>
                  <a:lnTo>
                    <a:pt x="1501" y="1023"/>
                  </a:lnTo>
                  <a:lnTo>
                    <a:pt x="1503" y="1023"/>
                  </a:lnTo>
                  <a:lnTo>
                    <a:pt x="1474" y="1088"/>
                  </a:lnTo>
                  <a:lnTo>
                    <a:pt x="1446" y="1153"/>
                  </a:lnTo>
                  <a:lnTo>
                    <a:pt x="1459" y="1158"/>
                  </a:lnTo>
                  <a:lnTo>
                    <a:pt x="1446" y="1152"/>
                  </a:lnTo>
                  <a:lnTo>
                    <a:pt x="1417" y="1201"/>
                  </a:lnTo>
                  <a:lnTo>
                    <a:pt x="1417" y="1201"/>
                  </a:lnTo>
                  <a:lnTo>
                    <a:pt x="1380" y="1267"/>
                  </a:lnTo>
                  <a:lnTo>
                    <a:pt x="1353" y="1316"/>
                  </a:lnTo>
                  <a:lnTo>
                    <a:pt x="1353" y="1317"/>
                  </a:lnTo>
                  <a:lnTo>
                    <a:pt x="1325" y="1382"/>
                  </a:lnTo>
                  <a:lnTo>
                    <a:pt x="1338" y="1387"/>
                  </a:lnTo>
                  <a:lnTo>
                    <a:pt x="1326" y="1378"/>
                  </a:lnTo>
                  <a:lnTo>
                    <a:pt x="1298" y="1411"/>
                  </a:lnTo>
                  <a:lnTo>
                    <a:pt x="1296" y="1414"/>
                  </a:lnTo>
                  <a:lnTo>
                    <a:pt x="1268" y="1463"/>
                  </a:lnTo>
                  <a:lnTo>
                    <a:pt x="1281" y="1469"/>
                  </a:lnTo>
                  <a:lnTo>
                    <a:pt x="1269" y="1462"/>
                  </a:lnTo>
                  <a:lnTo>
                    <a:pt x="1242" y="1494"/>
                  </a:lnTo>
                  <a:lnTo>
                    <a:pt x="1254" y="1501"/>
                  </a:lnTo>
                  <a:lnTo>
                    <a:pt x="1242" y="1493"/>
                  </a:lnTo>
                  <a:lnTo>
                    <a:pt x="1214" y="1526"/>
                  </a:lnTo>
                  <a:lnTo>
                    <a:pt x="1214" y="1527"/>
                  </a:lnTo>
                  <a:lnTo>
                    <a:pt x="1186" y="1560"/>
                  </a:lnTo>
                  <a:lnTo>
                    <a:pt x="1199" y="1567"/>
                  </a:lnTo>
                  <a:lnTo>
                    <a:pt x="1186" y="1559"/>
                  </a:lnTo>
                  <a:lnTo>
                    <a:pt x="1158" y="1591"/>
                  </a:lnTo>
                  <a:lnTo>
                    <a:pt x="1170" y="1600"/>
                  </a:lnTo>
                  <a:lnTo>
                    <a:pt x="1162" y="1589"/>
                  </a:lnTo>
                  <a:lnTo>
                    <a:pt x="1135" y="1606"/>
                  </a:lnTo>
                  <a:lnTo>
                    <a:pt x="1132" y="1607"/>
                  </a:lnTo>
                  <a:lnTo>
                    <a:pt x="1094" y="1639"/>
                  </a:lnTo>
                  <a:lnTo>
                    <a:pt x="1105" y="1648"/>
                  </a:lnTo>
                  <a:lnTo>
                    <a:pt x="1097" y="1637"/>
                  </a:lnTo>
                  <a:lnTo>
                    <a:pt x="1068" y="1655"/>
                  </a:lnTo>
                  <a:lnTo>
                    <a:pt x="1076" y="1666"/>
                  </a:lnTo>
                  <a:lnTo>
                    <a:pt x="1068" y="1655"/>
                  </a:lnTo>
                  <a:lnTo>
                    <a:pt x="1041" y="1670"/>
                  </a:lnTo>
                  <a:lnTo>
                    <a:pt x="1013" y="1687"/>
                  </a:lnTo>
                  <a:lnTo>
                    <a:pt x="1026" y="1686"/>
                  </a:lnTo>
                  <a:lnTo>
                    <a:pt x="1021" y="1685"/>
                  </a:lnTo>
                  <a:lnTo>
                    <a:pt x="1015" y="1686"/>
                  </a:lnTo>
                  <a:lnTo>
                    <a:pt x="1021" y="1697"/>
                  </a:lnTo>
                  <a:lnTo>
                    <a:pt x="1030" y="1687"/>
                  </a:lnTo>
                  <a:lnTo>
                    <a:pt x="1003" y="1670"/>
                  </a:lnTo>
                  <a:lnTo>
                    <a:pt x="1002" y="1670"/>
                  </a:lnTo>
                  <a:lnTo>
                    <a:pt x="973" y="1655"/>
                  </a:lnTo>
                  <a:lnTo>
                    <a:pt x="965" y="1666"/>
                  </a:lnTo>
                  <a:lnTo>
                    <a:pt x="975" y="1655"/>
                  </a:lnTo>
                  <a:lnTo>
                    <a:pt x="946" y="1637"/>
                  </a:lnTo>
                  <a:lnTo>
                    <a:pt x="945" y="1637"/>
                  </a:lnTo>
                  <a:lnTo>
                    <a:pt x="916" y="1621"/>
                  </a:lnTo>
                  <a:lnTo>
                    <a:pt x="889" y="1606"/>
                  </a:lnTo>
                  <a:lnTo>
                    <a:pt x="861" y="1589"/>
                  </a:lnTo>
                  <a:lnTo>
                    <a:pt x="859" y="1588"/>
                  </a:lnTo>
                  <a:lnTo>
                    <a:pt x="822" y="1571"/>
                  </a:lnTo>
                  <a:lnTo>
                    <a:pt x="816" y="1583"/>
                  </a:lnTo>
                  <a:lnTo>
                    <a:pt x="828" y="1575"/>
                  </a:lnTo>
                  <a:lnTo>
                    <a:pt x="799" y="1542"/>
                  </a:lnTo>
                  <a:lnTo>
                    <a:pt x="771" y="1510"/>
                  </a:lnTo>
                  <a:lnTo>
                    <a:pt x="759" y="1518"/>
                  </a:lnTo>
                  <a:lnTo>
                    <a:pt x="774" y="1513"/>
                  </a:lnTo>
                  <a:lnTo>
                    <a:pt x="746" y="1463"/>
                  </a:lnTo>
                  <a:lnTo>
                    <a:pt x="744" y="1461"/>
                  </a:lnTo>
                  <a:lnTo>
                    <a:pt x="715" y="1428"/>
                  </a:lnTo>
                  <a:lnTo>
                    <a:pt x="713" y="1425"/>
                  </a:lnTo>
                  <a:lnTo>
                    <a:pt x="685" y="1409"/>
                  </a:lnTo>
                  <a:lnTo>
                    <a:pt x="676" y="1420"/>
                  </a:lnTo>
                  <a:lnTo>
                    <a:pt x="688" y="1411"/>
                  </a:lnTo>
                  <a:lnTo>
                    <a:pt x="660" y="1378"/>
                  </a:lnTo>
                  <a:lnTo>
                    <a:pt x="647" y="1387"/>
                  </a:lnTo>
                  <a:lnTo>
                    <a:pt x="660" y="1380"/>
                  </a:lnTo>
                  <a:lnTo>
                    <a:pt x="632" y="1347"/>
                  </a:lnTo>
                  <a:lnTo>
                    <a:pt x="620" y="1354"/>
                  </a:lnTo>
                  <a:lnTo>
                    <a:pt x="634" y="1348"/>
                  </a:lnTo>
                  <a:lnTo>
                    <a:pt x="605" y="1299"/>
                  </a:lnTo>
                  <a:lnTo>
                    <a:pt x="592" y="1305"/>
                  </a:lnTo>
                  <a:lnTo>
                    <a:pt x="607" y="1301"/>
                  </a:lnTo>
                  <a:lnTo>
                    <a:pt x="578" y="1235"/>
                  </a:lnTo>
                  <a:lnTo>
                    <a:pt x="577" y="1234"/>
                  </a:lnTo>
                  <a:lnTo>
                    <a:pt x="540" y="1169"/>
                  </a:lnTo>
                  <a:lnTo>
                    <a:pt x="512" y="1119"/>
                  </a:lnTo>
                  <a:lnTo>
                    <a:pt x="510" y="1118"/>
                  </a:lnTo>
                  <a:lnTo>
                    <a:pt x="483" y="1085"/>
                  </a:lnTo>
                  <a:lnTo>
                    <a:pt x="471" y="1092"/>
                  </a:lnTo>
                  <a:lnTo>
                    <a:pt x="484" y="1086"/>
                  </a:lnTo>
                  <a:lnTo>
                    <a:pt x="456" y="1037"/>
                  </a:lnTo>
                  <a:lnTo>
                    <a:pt x="427" y="989"/>
                  </a:lnTo>
                  <a:lnTo>
                    <a:pt x="414" y="995"/>
                  </a:lnTo>
                  <a:lnTo>
                    <a:pt x="429" y="990"/>
                  </a:lnTo>
                  <a:lnTo>
                    <a:pt x="400" y="925"/>
                  </a:lnTo>
                  <a:lnTo>
                    <a:pt x="399" y="924"/>
                  </a:lnTo>
                  <a:lnTo>
                    <a:pt x="370" y="874"/>
                  </a:lnTo>
                  <a:lnTo>
                    <a:pt x="357" y="880"/>
                  </a:lnTo>
                  <a:lnTo>
                    <a:pt x="372" y="874"/>
                  </a:lnTo>
                  <a:lnTo>
                    <a:pt x="345" y="825"/>
                  </a:lnTo>
                  <a:lnTo>
                    <a:pt x="343" y="825"/>
                  </a:lnTo>
                  <a:lnTo>
                    <a:pt x="316" y="777"/>
                  </a:lnTo>
                  <a:lnTo>
                    <a:pt x="315" y="776"/>
                  </a:lnTo>
                  <a:lnTo>
                    <a:pt x="286" y="741"/>
                  </a:lnTo>
                  <a:lnTo>
                    <a:pt x="274" y="748"/>
                  </a:lnTo>
                  <a:lnTo>
                    <a:pt x="288" y="741"/>
                  </a:lnTo>
                  <a:lnTo>
                    <a:pt x="250" y="693"/>
                  </a:lnTo>
                  <a:lnTo>
                    <a:pt x="236" y="700"/>
                  </a:lnTo>
                  <a:lnTo>
                    <a:pt x="250" y="694"/>
                  </a:lnTo>
                  <a:lnTo>
                    <a:pt x="221" y="645"/>
                  </a:lnTo>
                  <a:lnTo>
                    <a:pt x="207" y="651"/>
                  </a:lnTo>
                  <a:lnTo>
                    <a:pt x="222" y="646"/>
                  </a:lnTo>
                  <a:lnTo>
                    <a:pt x="195" y="580"/>
                  </a:lnTo>
                  <a:lnTo>
                    <a:pt x="195" y="580"/>
                  </a:lnTo>
                  <a:lnTo>
                    <a:pt x="193" y="578"/>
                  </a:lnTo>
                  <a:lnTo>
                    <a:pt x="165" y="546"/>
                  </a:lnTo>
                  <a:lnTo>
                    <a:pt x="165" y="545"/>
                  </a:lnTo>
                  <a:lnTo>
                    <a:pt x="137" y="512"/>
                  </a:lnTo>
                  <a:lnTo>
                    <a:pt x="136" y="511"/>
                  </a:lnTo>
                  <a:lnTo>
                    <a:pt x="130" y="508"/>
                  </a:lnTo>
                  <a:lnTo>
                    <a:pt x="125" y="507"/>
                  </a:lnTo>
                  <a:lnTo>
                    <a:pt x="96" y="507"/>
                  </a:lnTo>
                  <a:lnTo>
                    <a:pt x="96" y="507"/>
                  </a:lnTo>
                  <a:lnTo>
                    <a:pt x="91" y="508"/>
                  </a:lnTo>
                  <a:lnTo>
                    <a:pt x="88" y="509"/>
                  </a:lnTo>
                  <a:lnTo>
                    <a:pt x="61" y="525"/>
                  </a:lnTo>
                  <a:lnTo>
                    <a:pt x="61" y="525"/>
                  </a:lnTo>
                  <a:lnTo>
                    <a:pt x="32" y="542"/>
                  </a:lnTo>
                  <a:lnTo>
                    <a:pt x="28" y="545"/>
                  </a:lnTo>
                  <a:lnTo>
                    <a:pt x="0" y="57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71160" y="945000"/>
              <a:ext cx="2930400" cy="1358640"/>
            </a:xfrm>
            <a:custGeom>
              <a:avLst/>
              <a:gdLst/>
              <a:ahLst/>
              <a:rect l="l" t="t" r="r" b="b"/>
              <a:pathLst>
                <a:path w="3693" h="1710">
                  <a:moveTo>
                    <a:pt x="0" y="1269"/>
                  </a:moveTo>
                  <a:lnTo>
                    <a:pt x="30" y="1277"/>
                  </a:lnTo>
                  <a:lnTo>
                    <a:pt x="58" y="1195"/>
                  </a:lnTo>
                  <a:lnTo>
                    <a:pt x="43" y="1190"/>
                  </a:lnTo>
                  <a:lnTo>
                    <a:pt x="56" y="1198"/>
                  </a:lnTo>
                  <a:lnTo>
                    <a:pt x="84" y="1166"/>
                  </a:lnTo>
                  <a:lnTo>
                    <a:pt x="72" y="1158"/>
                  </a:lnTo>
                  <a:lnTo>
                    <a:pt x="81" y="1169"/>
                  </a:lnTo>
                  <a:lnTo>
                    <a:pt x="109" y="1152"/>
                  </a:lnTo>
                  <a:lnTo>
                    <a:pt x="110" y="1151"/>
                  </a:lnTo>
                  <a:lnTo>
                    <a:pt x="114" y="1146"/>
                  </a:lnTo>
                  <a:lnTo>
                    <a:pt x="114" y="1144"/>
                  </a:lnTo>
                  <a:lnTo>
                    <a:pt x="143" y="1013"/>
                  </a:lnTo>
                  <a:lnTo>
                    <a:pt x="128" y="1011"/>
                  </a:lnTo>
                  <a:lnTo>
                    <a:pt x="139" y="1020"/>
                  </a:lnTo>
                  <a:lnTo>
                    <a:pt x="143" y="1016"/>
                  </a:lnTo>
                  <a:lnTo>
                    <a:pt x="136" y="1023"/>
                  </a:lnTo>
                  <a:lnTo>
                    <a:pt x="164" y="1006"/>
                  </a:lnTo>
                  <a:lnTo>
                    <a:pt x="156" y="995"/>
                  </a:lnTo>
                  <a:lnTo>
                    <a:pt x="151" y="1007"/>
                  </a:lnTo>
                  <a:lnTo>
                    <a:pt x="156" y="1007"/>
                  </a:lnTo>
                  <a:lnTo>
                    <a:pt x="162" y="1007"/>
                  </a:lnTo>
                  <a:lnTo>
                    <a:pt x="148" y="1005"/>
                  </a:lnTo>
                  <a:lnTo>
                    <a:pt x="175" y="1022"/>
                  </a:lnTo>
                  <a:lnTo>
                    <a:pt x="178" y="1024"/>
                  </a:lnTo>
                  <a:lnTo>
                    <a:pt x="183" y="1024"/>
                  </a:lnTo>
                  <a:lnTo>
                    <a:pt x="189" y="1024"/>
                  </a:lnTo>
                  <a:lnTo>
                    <a:pt x="193" y="1022"/>
                  </a:lnTo>
                  <a:lnTo>
                    <a:pt x="220" y="1005"/>
                  </a:lnTo>
                  <a:lnTo>
                    <a:pt x="210" y="995"/>
                  </a:lnTo>
                  <a:lnTo>
                    <a:pt x="219" y="1006"/>
                  </a:lnTo>
                  <a:lnTo>
                    <a:pt x="247" y="990"/>
                  </a:lnTo>
                  <a:lnTo>
                    <a:pt x="239" y="978"/>
                  </a:lnTo>
                  <a:lnTo>
                    <a:pt x="224" y="983"/>
                  </a:lnTo>
                  <a:lnTo>
                    <a:pt x="228" y="987"/>
                  </a:lnTo>
                  <a:lnTo>
                    <a:pt x="234" y="991"/>
                  </a:lnTo>
                  <a:lnTo>
                    <a:pt x="239" y="991"/>
                  </a:lnTo>
                  <a:lnTo>
                    <a:pt x="244" y="991"/>
                  </a:lnTo>
                  <a:lnTo>
                    <a:pt x="225" y="984"/>
                  </a:lnTo>
                  <a:lnTo>
                    <a:pt x="263" y="1065"/>
                  </a:lnTo>
                  <a:lnTo>
                    <a:pt x="262" y="1064"/>
                  </a:lnTo>
                  <a:lnTo>
                    <a:pt x="266" y="1069"/>
                  </a:lnTo>
                  <a:lnTo>
                    <a:pt x="269" y="1070"/>
                  </a:lnTo>
                  <a:lnTo>
                    <a:pt x="297" y="1088"/>
                  </a:lnTo>
                  <a:lnTo>
                    <a:pt x="305" y="1077"/>
                  </a:lnTo>
                  <a:lnTo>
                    <a:pt x="291" y="1080"/>
                  </a:lnTo>
                  <a:lnTo>
                    <a:pt x="318" y="1194"/>
                  </a:lnTo>
                  <a:lnTo>
                    <a:pt x="318" y="1194"/>
                  </a:lnTo>
                  <a:lnTo>
                    <a:pt x="345" y="1276"/>
                  </a:lnTo>
                  <a:lnTo>
                    <a:pt x="345" y="1277"/>
                  </a:lnTo>
                  <a:lnTo>
                    <a:pt x="349" y="1282"/>
                  </a:lnTo>
                  <a:lnTo>
                    <a:pt x="354" y="1285"/>
                  </a:lnTo>
                  <a:lnTo>
                    <a:pt x="360" y="1287"/>
                  </a:lnTo>
                  <a:lnTo>
                    <a:pt x="388" y="1287"/>
                  </a:lnTo>
                  <a:lnTo>
                    <a:pt x="388" y="1272"/>
                  </a:lnTo>
                  <a:lnTo>
                    <a:pt x="373" y="1277"/>
                  </a:lnTo>
                  <a:lnTo>
                    <a:pt x="377" y="1282"/>
                  </a:lnTo>
                  <a:lnTo>
                    <a:pt x="383" y="1285"/>
                  </a:lnTo>
                  <a:lnTo>
                    <a:pt x="373" y="1276"/>
                  </a:lnTo>
                  <a:lnTo>
                    <a:pt x="402" y="1375"/>
                  </a:lnTo>
                  <a:lnTo>
                    <a:pt x="402" y="1376"/>
                  </a:lnTo>
                  <a:lnTo>
                    <a:pt x="406" y="1381"/>
                  </a:lnTo>
                  <a:lnTo>
                    <a:pt x="409" y="1383"/>
                  </a:lnTo>
                  <a:lnTo>
                    <a:pt x="437" y="1398"/>
                  </a:lnTo>
                  <a:lnTo>
                    <a:pt x="466" y="1415"/>
                  </a:lnTo>
                  <a:lnTo>
                    <a:pt x="474" y="1403"/>
                  </a:lnTo>
                  <a:lnTo>
                    <a:pt x="462" y="1411"/>
                  </a:lnTo>
                  <a:lnTo>
                    <a:pt x="489" y="1444"/>
                  </a:lnTo>
                  <a:lnTo>
                    <a:pt x="501" y="1436"/>
                  </a:lnTo>
                  <a:lnTo>
                    <a:pt x="486" y="1440"/>
                  </a:lnTo>
                  <a:lnTo>
                    <a:pt x="515" y="1537"/>
                  </a:lnTo>
                  <a:lnTo>
                    <a:pt x="515" y="1539"/>
                  </a:lnTo>
                  <a:lnTo>
                    <a:pt x="519" y="1543"/>
                  </a:lnTo>
                  <a:lnTo>
                    <a:pt x="524" y="1547"/>
                  </a:lnTo>
                  <a:lnTo>
                    <a:pt x="530" y="1547"/>
                  </a:lnTo>
                  <a:lnTo>
                    <a:pt x="535" y="1547"/>
                  </a:lnTo>
                  <a:lnTo>
                    <a:pt x="536" y="1546"/>
                  </a:lnTo>
                  <a:lnTo>
                    <a:pt x="573" y="1530"/>
                  </a:lnTo>
                  <a:lnTo>
                    <a:pt x="566" y="1518"/>
                  </a:lnTo>
                  <a:lnTo>
                    <a:pt x="561" y="1531"/>
                  </a:lnTo>
                  <a:lnTo>
                    <a:pt x="566" y="1531"/>
                  </a:lnTo>
                  <a:lnTo>
                    <a:pt x="572" y="1531"/>
                  </a:lnTo>
                  <a:lnTo>
                    <a:pt x="558" y="1530"/>
                  </a:lnTo>
                  <a:lnTo>
                    <a:pt x="587" y="1546"/>
                  </a:lnTo>
                  <a:lnTo>
                    <a:pt x="589" y="1547"/>
                  </a:lnTo>
                  <a:lnTo>
                    <a:pt x="595" y="1547"/>
                  </a:lnTo>
                  <a:lnTo>
                    <a:pt x="600" y="1547"/>
                  </a:lnTo>
                  <a:lnTo>
                    <a:pt x="603" y="1546"/>
                  </a:lnTo>
                  <a:lnTo>
                    <a:pt x="631" y="1530"/>
                  </a:lnTo>
                  <a:lnTo>
                    <a:pt x="634" y="1528"/>
                  </a:lnTo>
                  <a:lnTo>
                    <a:pt x="638" y="1523"/>
                  </a:lnTo>
                  <a:lnTo>
                    <a:pt x="638" y="1522"/>
                  </a:lnTo>
                  <a:lnTo>
                    <a:pt x="665" y="1440"/>
                  </a:lnTo>
                  <a:lnTo>
                    <a:pt x="650" y="1436"/>
                  </a:lnTo>
                  <a:lnTo>
                    <a:pt x="661" y="1445"/>
                  </a:lnTo>
                  <a:lnTo>
                    <a:pt x="665" y="1441"/>
                  </a:lnTo>
                  <a:lnTo>
                    <a:pt x="658" y="1448"/>
                  </a:lnTo>
                  <a:lnTo>
                    <a:pt x="687" y="1431"/>
                  </a:lnTo>
                  <a:lnTo>
                    <a:pt x="679" y="1420"/>
                  </a:lnTo>
                  <a:lnTo>
                    <a:pt x="664" y="1424"/>
                  </a:lnTo>
                  <a:lnTo>
                    <a:pt x="668" y="1429"/>
                  </a:lnTo>
                  <a:lnTo>
                    <a:pt x="673" y="1433"/>
                  </a:lnTo>
                  <a:lnTo>
                    <a:pt x="679" y="1433"/>
                  </a:lnTo>
                  <a:lnTo>
                    <a:pt x="684" y="1433"/>
                  </a:lnTo>
                  <a:lnTo>
                    <a:pt x="665" y="1424"/>
                  </a:lnTo>
                  <a:lnTo>
                    <a:pt x="692" y="1489"/>
                  </a:lnTo>
                  <a:lnTo>
                    <a:pt x="691" y="1489"/>
                  </a:lnTo>
                  <a:lnTo>
                    <a:pt x="695" y="1494"/>
                  </a:lnTo>
                  <a:lnTo>
                    <a:pt x="698" y="1496"/>
                  </a:lnTo>
                  <a:lnTo>
                    <a:pt x="726" y="1513"/>
                  </a:lnTo>
                  <a:lnTo>
                    <a:pt x="729" y="1514"/>
                  </a:lnTo>
                  <a:lnTo>
                    <a:pt x="735" y="1515"/>
                  </a:lnTo>
                  <a:lnTo>
                    <a:pt x="762" y="1515"/>
                  </a:lnTo>
                  <a:lnTo>
                    <a:pt x="762" y="1501"/>
                  </a:lnTo>
                  <a:lnTo>
                    <a:pt x="751" y="1510"/>
                  </a:lnTo>
                  <a:lnTo>
                    <a:pt x="756" y="1514"/>
                  </a:lnTo>
                  <a:lnTo>
                    <a:pt x="748" y="1507"/>
                  </a:lnTo>
                  <a:lnTo>
                    <a:pt x="777" y="1556"/>
                  </a:lnTo>
                  <a:lnTo>
                    <a:pt x="779" y="1560"/>
                  </a:lnTo>
                  <a:lnTo>
                    <a:pt x="785" y="1563"/>
                  </a:lnTo>
                  <a:lnTo>
                    <a:pt x="790" y="1563"/>
                  </a:lnTo>
                  <a:lnTo>
                    <a:pt x="796" y="1563"/>
                  </a:lnTo>
                  <a:lnTo>
                    <a:pt x="801" y="1560"/>
                  </a:lnTo>
                  <a:lnTo>
                    <a:pt x="802" y="1559"/>
                  </a:lnTo>
                  <a:lnTo>
                    <a:pt x="831" y="1527"/>
                  </a:lnTo>
                  <a:lnTo>
                    <a:pt x="834" y="1523"/>
                  </a:lnTo>
                  <a:lnTo>
                    <a:pt x="834" y="1522"/>
                  </a:lnTo>
                  <a:lnTo>
                    <a:pt x="870" y="1390"/>
                  </a:lnTo>
                  <a:lnTo>
                    <a:pt x="855" y="1387"/>
                  </a:lnTo>
                  <a:lnTo>
                    <a:pt x="844" y="1396"/>
                  </a:lnTo>
                  <a:lnTo>
                    <a:pt x="850" y="1400"/>
                  </a:lnTo>
                  <a:lnTo>
                    <a:pt x="855" y="1400"/>
                  </a:lnTo>
                  <a:lnTo>
                    <a:pt x="861" y="1400"/>
                  </a:lnTo>
                  <a:lnTo>
                    <a:pt x="866" y="1396"/>
                  </a:lnTo>
                  <a:lnTo>
                    <a:pt x="870" y="1391"/>
                  </a:lnTo>
                  <a:lnTo>
                    <a:pt x="843" y="1395"/>
                  </a:lnTo>
                  <a:lnTo>
                    <a:pt x="872" y="1428"/>
                  </a:lnTo>
                  <a:lnTo>
                    <a:pt x="873" y="1429"/>
                  </a:lnTo>
                  <a:lnTo>
                    <a:pt x="878" y="1433"/>
                  </a:lnTo>
                  <a:lnTo>
                    <a:pt x="884" y="1433"/>
                  </a:lnTo>
                  <a:lnTo>
                    <a:pt x="889" y="1433"/>
                  </a:lnTo>
                  <a:lnTo>
                    <a:pt x="893" y="1430"/>
                  </a:lnTo>
                  <a:lnTo>
                    <a:pt x="921" y="1414"/>
                  </a:lnTo>
                  <a:lnTo>
                    <a:pt x="911" y="1403"/>
                  </a:lnTo>
                  <a:lnTo>
                    <a:pt x="919" y="1415"/>
                  </a:lnTo>
                  <a:lnTo>
                    <a:pt x="948" y="1398"/>
                  </a:lnTo>
                  <a:lnTo>
                    <a:pt x="940" y="1387"/>
                  </a:lnTo>
                  <a:lnTo>
                    <a:pt x="934" y="1400"/>
                  </a:lnTo>
                  <a:lnTo>
                    <a:pt x="940" y="1400"/>
                  </a:lnTo>
                  <a:lnTo>
                    <a:pt x="945" y="1400"/>
                  </a:lnTo>
                  <a:lnTo>
                    <a:pt x="931" y="1398"/>
                  </a:lnTo>
                  <a:lnTo>
                    <a:pt x="960" y="1415"/>
                  </a:lnTo>
                  <a:lnTo>
                    <a:pt x="963" y="1416"/>
                  </a:lnTo>
                  <a:lnTo>
                    <a:pt x="968" y="1416"/>
                  </a:lnTo>
                  <a:lnTo>
                    <a:pt x="973" y="1416"/>
                  </a:lnTo>
                  <a:lnTo>
                    <a:pt x="979" y="1413"/>
                  </a:lnTo>
                  <a:lnTo>
                    <a:pt x="983" y="1408"/>
                  </a:lnTo>
                  <a:lnTo>
                    <a:pt x="983" y="1408"/>
                  </a:lnTo>
                  <a:lnTo>
                    <a:pt x="1011" y="1342"/>
                  </a:lnTo>
                  <a:lnTo>
                    <a:pt x="997" y="1337"/>
                  </a:lnTo>
                  <a:lnTo>
                    <a:pt x="1010" y="1343"/>
                  </a:lnTo>
                  <a:lnTo>
                    <a:pt x="1037" y="1295"/>
                  </a:lnTo>
                  <a:lnTo>
                    <a:pt x="1024" y="1289"/>
                  </a:lnTo>
                  <a:lnTo>
                    <a:pt x="1013" y="1298"/>
                  </a:lnTo>
                  <a:lnTo>
                    <a:pt x="1018" y="1302"/>
                  </a:lnTo>
                  <a:lnTo>
                    <a:pt x="1024" y="1302"/>
                  </a:lnTo>
                  <a:lnTo>
                    <a:pt x="1029" y="1302"/>
                  </a:lnTo>
                  <a:lnTo>
                    <a:pt x="1035" y="1298"/>
                  </a:lnTo>
                  <a:lnTo>
                    <a:pt x="1011" y="1297"/>
                  </a:lnTo>
                  <a:lnTo>
                    <a:pt x="1040" y="1330"/>
                  </a:lnTo>
                  <a:lnTo>
                    <a:pt x="1041" y="1331"/>
                  </a:lnTo>
                  <a:lnTo>
                    <a:pt x="1047" y="1335"/>
                  </a:lnTo>
                  <a:lnTo>
                    <a:pt x="1052" y="1335"/>
                  </a:lnTo>
                  <a:lnTo>
                    <a:pt x="1058" y="1335"/>
                  </a:lnTo>
                  <a:lnTo>
                    <a:pt x="1063" y="1331"/>
                  </a:lnTo>
                  <a:lnTo>
                    <a:pt x="1067" y="1327"/>
                  </a:lnTo>
                  <a:lnTo>
                    <a:pt x="1067" y="1324"/>
                  </a:lnTo>
                  <a:lnTo>
                    <a:pt x="1094" y="1192"/>
                  </a:lnTo>
                  <a:lnTo>
                    <a:pt x="1079" y="1190"/>
                  </a:lnTo>
                  <a:lnTo>
                    <a:pt x="1094" y="1195"/>
                  </a:lnTo>
                  <a:lnTo>
                    <a:pt x="1123" y="1113"/>
                  </a:lnTo>
                  <a:lnTo>
                    <a:pt x="1108" y="1109"/>
                  </a:lnTo>
                  <a:lnTo>
                    <a:pt x="1093" y="1113"/>
                  </a:lnTo>
                  <a:lnTo>
                    <a:pt x="1097" y="1118"/>
                  </a:lnTo>
                  <a:lnTo>
                    <a:pt x="1102" y="1122"/>
                  </a:lnTo>
                  <a:lnTo>
                    <a:pt x="1108" y="1122"/>
                  </a:lnTo>
                  <a:lnTo>
                    <a:pt x="1113" y="1122"/>
                  </a:lnTo>
                  <a:lnTo>
                    <a:pt x="1119" y="1118"/>
                  </a:lnTo>
                  <a:lnTo>
                    <a:pt x="1123" y="1113"/>
                  </a:lnTo>
                  <a:lnTo>
                    <a:pt x="1094" y="1113"/>
                  </a:lnTo>
                  <a:lnTo>
                    <a:pt x="1132" y="1211"/>
                  </a:lnTo>
                  <a:lnTo>
                    <a:pt x="1131" y="1211"/>
                  </a:lnTo>
                  <a:lnTo>
                    <a:pt x="1135" y="1216"/>
                  </a:lnTo>
                  <a:lnTo>
                    <a:pt x="1140" y="1219"/>
                  </a:lnTo>
                  <a:lnTo>
                    <a:pt x="1146" y="1219"/>
                  </a:lnTo>
                  <a:lnTo>
                    <a:pt x="1151" y="1219"/>
                  </a:lnTo>
                  <a:lnTo>
                    <a:pt x="1157" y="1216"/>
                  </a:lnTo>
                  <a:lnTo>
                    <a:pt x="1161" y="1211"/>
                  </a:lnTo>
                  <a:lnTo>
                    <a:pt x="1161" y="1210"/>
                  </a:lnTo>
                  <a:lnTo>
                    <a:pt x="1188" y="1112"/>
                  </a:lnTo>
                  <a:lnTo>
                    <a:pt x="1188" y="1111"/>
                  </a:lnTo>
                  <a:lnTo>
                    <a:pt x="1217" y="932"/>
                  </a:lnTo>
                  <a:lnTo>
                    <a:pt x="1202" y="930"/>
                  </a:lnTo>
                  <a:lnTo>
                    <a:pt x="1187" y="934"/>
                  </a:lnTo>
                  <a:lnTo>
                    <a:pt x="1191" y="939"/>
                  </a:lnTo>
                  <a:lnTo>
                    <a:pt x="1196" y="943"/>
                  </a:lnTo>
                  <a:lnTo>
                    <a:pt x="1202" y="943"/>
                  </a:lnTo>
                  <a:lnTo>
                    <a:pt x="1207" y="943"/>
                  </a:lnTo>
                  <a:lnTo>
                    <a:pt x="1212" y="939"/>
                  </a:lnTo>
                  <a:lnTo>
                    <a:pt x="1217" y="934"/>
                  </a:lnTo>
                  <a:lnTo>
                    <a:pt x="1188" y="934"/>
                  </a:lnTo>
                  <a:lnTo>
                    <a:pt x="1215" y="999"/>
                  </a:lnTo>
                  <a:lnTo>
                    <a:pt x="1214" y="999"/>
                  </a:lnTo>
                  <a:lnTo>
                    <a:pt x="1218" y="1004"/>
                  </a:lnTo>
                  <a:lnTo>
                    <a:pt x="1223" y="1007"/>
                  </a:lnTo>
                  <a:lnTo>
                    <a:pt x="1229" y="1007"/>
                  </a:lnTo>
                  <a:lnTo>
                    <a:pt x="1234" y="1007"/>
                  </a:lnTo>
                  <a:lnTo>
                    <a:pt x="1240" y="1004"/>
                  </a:lnTo>
                  <a:lnTo>
                    <a:pt x="1241" y="1003"/>
                  </a:lnTo>
                  <a:lnTo>
                    <a:pt x="1269" y="970"/>
                  </a:lnTo>
                  <a:lnTo>
                    <a:pt x="1272" y="966"/>
                  </a:lnTo>
                  <a:lnTo>
                    <a:pt x="1272" y="965"/>
                  </a:lnTo>
                  <a:lnTo>
                    <a:pt x="1299" y="867"/>
                  </a:lnTo>
                  <a:lnTo>
                    <a:pt x="1284" y="864"/>
                  </a:lnTo>
                  <a:lnTo>
                    <a:pt x="1274" y="873"/>
                  </a:lnTo>
                  <a:lnTo>
                    <a:pt x="1279" y="877"/>
                  </a:lnTo>
                  <a:lnTo>
                    <a:pt x="1284" y="877"/>
                  </a:lnTo>
                  <a:lnTo>
                    <a:pt x="1290" y="877"/>
                  </a:lnTo>
                  <a:lnTo>
                    <a:pt x="1295" y="873"/>
                  </a:lnTo>
                  <a:lnTo>
                    <a:pt x="1299" y="869"/>
                  </a:lnTo>
                  <a:lnTo>
                    <a:pt x="1272" y="872"/>
                  </a:lnTo>
                  <a:lnTo>
                    <a:pt x="1301" y="904"/>
                  </a:lnTo>
                  <a:lnTo>
                    <a:pt x="1302" y="905"/>
                  </a:lnTo>
                  <a:lnTo>
                    <a:pt x="1307" y="909"/>
                  </a:lnTo>
                  <a:lnTo>
                    <a:pt x="1313" y="909"/>
                  </a:lnTo>
                  <a:lnTo>
                    <a:pt x="1318" y="909"/>
                  </a:lnTo>
                  <a:lnTo>
                    <a:pt x="1324" y="905"/>
                  </a:lnTo>
                  <a:lnTo>
                    <a:pt x="1326" y="902"/>
                  </a:lnTo>
                  <a:lnTo>
                    <a:pt x="1355" y="853"/>
                  </a:lnTo>
                  <a:lnTo>
                    <a:pt x="1356" y="852"/>
                  </a:lnTo>
                  <a:lnTo>
                    <a:pt x="1385" y="770"/>
                  </a:lnTo>
                  <a:lnTo>
                    <a:pt x="1385" y="768"/>
                  </a:lnTo>
                  <a:lnTo>
                    <a:pt x="1412" y="687"/>
                  </a:lnTo>
                  <a:lnTo>
                    <a:pt x="1397" y="684"/>
                  </a:lnTo>
                  <a:lnTo>
                    <a:pt x="1408" y="693"/>
                  </a:lnTo>
                  <a:lnTo>
                    <a:pt x="1445" y="660"/>
                  </a:lnTo>
                  <a:lnTo>
                    <a:pt x="1449" y="655"/>
                  </a:lnTo>
                  <a:lnTo>
                    <a:pt x="1449" y="655"/>
                  </a:lnTo>
                  <a:lnTo>
                    <a:pt x="1477" y="589"/>
                  </a:lnTo>
                  <a:lnTo>
                    <a:pt x="1462" y="585"/>
                  </a:lnTo>
                  <a:lnTo>
                    <a:pt x="1462" y="598"/>
                  </a:lnTo>
                  <a:lnTo>
                    <a:pt x="1468" y="598"/>
                  </a:lnTo>
                  <a:lnTo>
                    <a:pt x="1473" y="594"/>
                  </a:lnTo>
                  <a:lnTo>
                    <a:pt x="1477" y="589"/>
                  </a:lnTo>
                  <a:lnTo>
                    <a:pt x="1462" y="599"/>
                  </a:lnTo>
                  <a:lnTo>
                    <a:pt x="1491" y="599"/>
                  </a:lnTo>
                  <a:lnTo>
                    <a:pt x="1491" y="598"/>
                  </a:lnTo>
                  <a:lnTo>
                    <a:pt x="1496" y="598"/>
                  </a:lnTo>
                  <a:lnTo>
                    <a:pt x="1502" y="594"/>
                  </a:lnTo>
                  <a:lnTo>
                    <a:pt x="1504" y="591"/>
                  </a:lnTo>
                  <a:lnTo>
                    <a:pt x="1533" y="541"/>
                  </a:lnTo>
                  <a:lnTo>
                    <a:pt x="1534" y="539"/>
                  </a:lnTo>
                  <a:lnTo>
                    <a:pt x="1561" y="458"/>
                  </a:lnTo>
                  <a:lnTo>
                    <a:pt x="1546" y="454"/>
                  </a:lnTo>
                  <a:lnTo>
                    <a:pt x="1560" y="460"/>
                  </a:lnTo>
                  <a:lnTo>
                    <a:pt x="1589" y="412"/>
                  </a:lnTo>
                  <a:lnTo>
                    <a:pt x="1590" y="409"/>
                  </a:lnTo>
                  <a:lnTo>
                    <a:pt x="1617" y="294"/>
                  </a:lnTo>
                  <a:lnTo>
                    <a:pt x="1602" y="290"/>
                  </a:lnTo>
                  <a:lnTo>
                    <a:pt x="1614" y="299"/>
                  </a:lnTo>
                  <a:lnTo>
                    <a:pt x="1643" y="267"/>
                  </a:lnTo>
                  <a:lnTo>
                    <a:pt x="1631" y="259"/>
                  </a:lnTo>
                  <a:lnTo>
                    <a:pt x="1616" y="263"/>
                  </a:lnTo>
                  <a:lnTo>
                    <a:pt x="1620" y="268"/>
                  </a:lnTo>
                  <a:lnTo>
                    <a:pt x="1625" y="272"/>
                  </a:lnTo>
                  <a:lnTo>
                    <a:pt x="1631" y="272"/>
                  </a:lnTo>
                  <a:lnTo>
                    <a:pt x="1636" y="272"/>
                  </a:lnTo>
                  <a:lnTo>
                    <a:pt x="1641" y="268"/>
                  </a:lnTo>
                  <a:lnTo>
                    <a:pt x="1616" y="262"/>
                  </a:lnTo>
                  <a:lnTo>
                    <a:pt x="1643" y="376"/>
                  </a:lnTo>
                  <a:lnTo>
                    <a:pt x="1658" y="373"/>
                  </a:lnTo>
                  <a:lnTo>
                    <a:pt x="1643" y="375"/>
                  </a:lnTo>
                  <a:lnTo>
                    <a:pt x="1671" y="555"/>
                  </a:lnTo>
                  <a:lnTo>
                    <a:pt x="1671" y="558"/>
                  </a:lnTo>
                  <a:lnTo>
                    <a:pt x="1673" y="559"/>
                  </a:lnTo>
                  <a:lnTo>
                    <a:pt x="1711" y="624"/>
                  </a:lnTo>
                  <a:lnTo>
                    <a:pt x="1724" y="618"/>
                  </a:lnTo>
                  <a:lnTo>
                    <a:pt x="1709" y="620"/>
                  </a:lnTo>
                  <a:lnTo>
                    <a:pt x="1736" y="751"/>
                  </a:lnTo>
                  <a:lnTo>
                    <a:pt x="1736" y="752"/>
                  </a:lnTo>
                  <a:lnTo>
                    <a:pt x="1765" y="851"/>
                  </a:lnTo>
                  <a:lnTo>
                    <a:pt x="1765" y="852"/>
                  </a:lnTo>
                  <a:lnTo>
                    <a:pt x="1769" y="857"/>
                  </a:lnTo>
                  <a:lnTo>
                    <a:pt x="1775" y="860"/>
                  </a:lnTo>
                  <a:lnTo>
                    <a:pt x="1780" y="860"/>
                  </a:lnTo>
                  <a:lnTo>
                    <a:pt x="1785" y="860"/>
                  </a:lnTo>
                  <a:lnTo>
                    <a:pt x="1791" y="857"/>
                  </a:lnTo>
                  <a:lnTo>
                    <a:pt x="1795" y="852"/>
                  </a:lnTo>
                  <a:lnTo>
                    <a:pt x="1795" y="852"/>
                  </a:lnTo>
                  <a:lnTo>
                    <a:pt x="1823" y="770"/>
                  </a:lnTo>
                  <a:lnTo>
                    <a:pt x="1808" y="765"/>
                  </a:lnTo>
                  <a:lnTo>
                    <a:pt x="1803" y="778"/>
                  </a:lnTo>
                  <a:lnTo>
                    <a:pt x="1808" y="778"/>
                  </a:lnTo>
                  <a:lnTo>
                    <a:pt x="1814" y="778"/>
                  </a:lnTo>
                  <a:lnTo>
                    <a:pt x="1819" y="774"/>
                  </a:lnTo>
                  <a:lnTo>
                    <a:pt x="1823" y="770"/>
                  </a:lnTo>
                  <a:lnTo>
                    <a:pt x="1799" y="776"/>
                  </a:lnTo>
                  <a:lnTo>
                    <a:pt x="1826" y="793"/>
                  </a:lnTo>
                  <a:lnTo>
                    <a:pt x="1836" y="783"/>
                  </a:lnTo>
                  <a:lnTo>
                    <a:pt x="1821" y="787"/>
                  </a:lnTo>
                  <a:lnTo>
                    <a:pt x="1849" y="869"/>
                  </a:lnTo>
                  <a:lnTo>
                    <a:pt x="1864" y="864"/>
                  </a:lnTo>
                  <a:lnTo>
                    <a:pt x="1849" y="867"/>
                  </a:lnTo>
                  <a:lnTo>
                    <a:pt x="1878" y="982"/>
                  </a:lnTo>
                  <a:lnTo>
                    <a:pt x="1906" y="1096"/>
                  </a:lnTo>
                  <a:lnTo>
                    <a:pt x="1921" y="1092"/>
                  </a:lnTo>
                  <a:lnTo>
                    <a:pt x="1906" y="1095"/>
                  </a:lnTo>
                  <a:lnTo>
                    <a:pt x="1933" y="1275"/>
                  </a:lnTo>
                  <a:lnTo>
                    <a:pt x="1935" y="1277"/>
                  </a:lnTo>
                  <a:lnTo>
                    <a:pt x="1962" y="1342"/>
                  </a:lnTo>
                  <a:lnTo>
                    <a:pt x="1962" y="1343"/>
                  </a:lnTo>
                  <a:lnTo>
                    <a:pt x="2000" y="1425"/>
                  </a:lnTo>
                  <a:lnTo>
                    <a:pt x="2013" y="1420"/>
                  </a:lnTo>
                  <a:lnTo>
                    <a:pt x="1999" y="1422"/>
                  </a:lnTo>
                  <a:lnTo>
                    <a:pt x="2027" y="1619"/>
                  </a:lnTo>
                  <a:lnTo>
                    <a:pt x="2027" y="1621"/>
                  </a:lnTo>
                  <a:lnTo>
                    <a:pt x="2028" y="1622"/>
                  </a:lnTo>
                  <a:lnTo>
                    <a:pt x="2057" y="1672"/>
                  </a:lnTo>
                  <a:lnTo>
                    <a:pt x="2060" y="1675"/>
                  </a:lnTo>
                  <a:lnTo>
                    <a:pt x="2065" y="1679"/>
                  </a:lnTo>
                  <a:lnTo>
                    <a:pt x="2070" y="1679"/>
                  </a:lnTo>
                  <a:lnTo>
                    <a:pt x="2076" y="1679"/>
                  </a:lnTo>
                  <a:lnTo>
                    <a:pt x="2081" y="1675"/>
                  </a:lnTo>
                  <a:lnTo>
                    <a:pt x="2085" y="1670"/>
                  </a:lnTo>
                  <a:lnTo>
                    <a:pt x="2085" y="1669"/>
                  </a:lnTo>
                  <a:lnTo>
                    <a:pt x="2113" y="1570"/>
                  </a:lnTo>
                  <a:lnTo>
                    <a:pt x="2113" y="1569"/>
                  </a:lnTo>
                  <a:lnTo>
                    <a:pt x="2140" y="1422"/>
                  </a:lnTo>
                  <a:lnTo>
                    <a:pt x="2125" y="1420"/>
                  </a:lnTo>
                  <a:lnTo>
                    <a:pt x="2140" y="1424"/>
                  </a:lnTo>
                  <a:lnTo>
                    <a:pt x="2168" y="1342"/>
                  </a:lnTo>
                  <a:lnTo>
                    <a:pt x="2153" y="1337"/>
                  </a:lnTo>
                  <a:lnTo>
                    <a:pt x="2166" y="1345"/>
                  </a:lnTo>
                  <a:lnTo>
                    <a:pt x="2194" y="1314"/>
                  </a:lnTo>
                  <a:lnTo>
                    <a:pt x="2197" y="1310"/>
                  </a:lnTo>
                  <a:lnTo>
                    <a:pt x="2197" y="1308"/>
                  </a:lnTo>
                  <a:lnTo>
                    <a:pt x="2224" y="1161"/>
                  </a:lnTo>
                  <a:lnTo>
                    <a:pt x="2252" y="1013"/>
                  </a:lnTo>
                  <a:lnTo>
                    <a:pt x="2252" y="1013"/>
                  </a:lnTo>
                  <a:lnTo>
                    <a:pt x="2281" y="800"/>
                  </a:lnTo>
                  <a:lnTo>
                    <a:pt x="2266" y="798"/>
                  </a:lnTo>
                  <a:lnTo>
                    <a:pt x="2281" y="801"/>
                  </a:lnTo>
                  <a:lnTo>
                    <a:pt x="2318" y="687"/>
                  </a:lnTo>
                  <a:lnTo>
                    <a:pt x="2346" y="588"/>
                  </a:lnTo>
                  <a:lnTo>
                    <a:pt x="2373" y="507"/>
                  </a:lnTo>
                  <a:lnTo>
                    <a:pt x="2373" y="507"/>
                  </a:lnTo>
                  <a:lnTo>
                    <a:pt x="2402" y="392"/>
                  </a:lnTo>
                  <a:lnTo>
                    <a:pt x="2387" y="388"/>
                  </a:lnTo>
                  <a:lnTo>
                    <a:pt x="2398" y="398"/>
                  </a:lnTo>
                  <a:lnTo>
                    <a:pt x="2402" y="393"/>
                  </a:lnTo>
                  <a:lnTo>
                    <a:pt x="2395" y="400"/>
                  </a:lnTo>
                  <a:lnTo>
                    <a:pt x="2423" y="385"/>
                  </a:lnTo>
                  <a:lnTo>
                    <a:pt x="2426" y="382"/>
                  </a:lnTo>
                  <a:lnTo>
                    <a:pt x="2430" y="378"/>
                  </a:lnTo>
                  <a:lnTo>
                    <a:pt x="2430" y="376"/>
                  </a:lnTo>
                  <a:lnTo>
                    <a:pt x="2459" y="279"/>
                  </a:lnTo>
                  <a:lnTo>
                    <a:pt x="2444" y="275"/>
                  </a:lnTo>
                  <a:lnTo>
                    <a:pt x="2457" y="283"/>
                  </a:lnTo>
                  <a:lnTo>
                    <a:pt x="2485" y="249"/>
                  </a:lnTo>
                  <a:lnTo>
                    <a:pt x="2485" y="247"/>
                  </a:lnTo>
                  <a:lnTo>
                    <a:pt x="2512" y="199"/>
                  </a:lnTo>
                  <a:lnTo>
                    <a:pt x="2498" y="193"/>
                  </a:lnTo>
                  <a:lnTo>
                    <a:pt x="2510" y="201"/>
                  </a:lnTo>
                  <a:lnTo>
                    <a:pt x="2539" y="168"/>
                  </a:lnTo>
                  <a:lnTo>
                    <a:pt x="2527" y="160"/>
                  </a:lnTo>
                  <a:lnTo>
                    <a:pt x="2535" y="171"/>
                  </a:lnTo>
                  <a:lnTo>
                    <a:pt x="2563" y="155"/>
                  </a:lnTo>
                  <a:lnTo>
                    <a:pt x="2566" y="153"/>
                  </a:lnTo>
                  <a:lnTo>
                    <a:pt x="2569" y="150"/>
                  </a:lnTo>
                  <a:lnTo>
                    <a:pt x="2607" y="101"/>
                  </a:lnTo>
                  <a:lnTo>
                    <a:pt x="2608" y="97"/>
                  </a:lnTo>
                  <a:lnTo>
                    <a:pt x="2635" y="16"/>
                  </a:lnTo>
                  <a:lnTo>
                    <a:pt x="2620" y="13"/>
                  </a:lnTo>
                  <a:lnTo>
                    <a:pt x="2609" y="22"/>
                  </a:lnTo>
                  <a:lnTo>
                    <a:pt x="2615" y="25"/>
                  </a:lnTo>
                  <a:lnTo>
                    <a:pt x="2620" y="25"/>
                  </a:lnTo>
                  <a:lnTo>
                    <a:pt x="2626" y="25"/>
                  </a:lnTo>
                  <a:lnTo>
                    <a:pt x="2631" y="22"/>
                  </a:lnTo>
                  <a:lnTo>
                    <a:pt x="2635" y="17"/>
                  </a:lnTo>
                  <a:lnTo>
                    <a:pt x="2607" y="18"/>
                  </a:lnTo>
                  <a:lnTo>
                    <a:pt x="2634" y="68"/>
                  </a:lnTo>
                  <a:lnTo>
                    <a:pt x="2634" y="68"/>
                  </a:lnTo>
                  <a:lnTo>
                    <a:pt x="2662" y="117"/>
                  </a:lnTo>
                  <a:lnTo>
                    <a:pt x="2676" y="111"/>
                  </a:lnTo>
                  <a:lnTo>
                    <a:pt x="2661" y="116"/>
                  </a:lnTo>
                  <a:lnTo>
                    <a:pt x="2690" y="197"/>
                  </a:lnTo>
                  <a:lnTo>
                    <a:pt x="2690" y="197"/>
                  </a:lnTo>
                  <a:lnTo>
                    <a:pt x="2694" y="202"/>
                  </a:lnTo>
                  <a:lnTo>
                    <a:pt x="2699" y="206"/>
                  </a:lnTo>
                  <a:lnTo>
                    <a:pt x="2705" y="207"/>
                  </a:lnTo>
                  <a:lnTo>
                    <a:pt x="2732" y="207"/>
                  </a:lnTo>
                  <a:lnTo>
                    <a:pt x="2732" y="193"/>
                  </a:lnTo>
                  <a:lnTo>
                    <a:pt x="2724" y="204"/>
                  </a:lnTo>
                  <a:lnTo>
                    <a:pt x="2752" y="221"/>
                  </a:lnTo>
                  <a:lnTo>
                    <a:pt x="2755" y="222"/>
                  </a:lnTo>
                  <a:lnTo>
                    <a:pt x="2760" y="223"/>
                  </a:lnTo>
                  <a:lnTo>
                    <a:pt x="2789" y="223"/>
                  </a:lnTo>
                  <a:lnTo>
                    <a:pt x="2817" y="223"/>
                  </a:lnTo>
                  <a:lnTo>
                    <a:pt x="2817" y="222"/>
                  </a:lnTo>
                  <a:lnTo>
                    <a:pt x="2823" y="222"/>
                  </a:lnTo>
                  <a:lnTo>
                    <a:pt x="2828" y="219"/>
                  </a:lnTo>
                  <a:lnTo>
                    <a:pt x="2832" y="214"/>
                  </a:lnTo>
                  <a:lnTo>
                    <a:pt x="2832" y="214"/>
                  </a:lnTo>
                  <a:lnTo>
                    <a:pt x="2859" y="148"/>
                  </a:lnTo>
                  <a:lnTo>
                    <a:pt x="2844" y="143"/>
                  </a:lnTo>
                  <a:lnTo>
                    <a:pt x="2833" y="153"/>
                  </a:lnTo>
                  <a:lnTo>
                    <a:pt x="2839" y="156"/>
                  </a:lnTo>
                  <a:lnTo>
                    <a:pt x="2844" y="156"/>
                  </a:lnTo>
                  <a:lnTo>
                    <a:pt x="2850" y="156"/>
                  </a:lnTo>
                  <a:lnTo>
                    <a:pt x="2855" y="153"/>
                  </a:lnTo>
                  <a:lnTo>
                    <a:pt x="2859" y="148"/>
                  </a:lnTo>
                  <a:lnTo>
                    <a:pt x="2832" y="150"/>
                  </a:lnTo>
                  <a:lnTo>
                    <a:pt x="2869" y="200"/>
                  </a:lnTo>
                  <a:lnTo>
                    <a:pt x="2870" y="202"/>
                  </a:lnTo>
                  <a:lnTo>
                    <a:pt x="2873" y="204"/>
                  </a:lnTo>
                  <a:lnTo>
                    <a:pt x="2901" y="221"/>
                  </a:lnTo>
                  <a:lnTo>
                    <a:pt x="2910" y="209"/>
                  </a:lnTo>
                  <a:lnTo>
                    <a:pt x="2895" y="214"/>
                  </a:lnTo>
                  <a:lnTo>
                    <a:pt x="2899" y="219"/>
                  </a:lnTo>
                  <a:lnTo>
                    <a:pt x="2896" y="214"/>
                  </a:lnTo>
                  <a:lnTo>
                    <a:pt x="2924" y="280"/>
                  </a:lnTo>
                  <a:lnTo>
                    <a:pt x="2923" y="280"/>
                  </a:lnTo>
                  <a:lnTo>
                    <a:pt x="2926" y="283"/>
                  </a:lnTo>
                  <a:lnTo>
                    <a:pt x="2954" y="315"/>
                  </a:lnTo>
                  <a:lnTo>
                    <a:pt x="2967" y="307"/>
                  </a:lnTo>
                  <a:lnTo>
                    <a:pt x="2953" y="312"/>
                  </a:lnTo>
                  <a:lnTo>
                    <a:pt x="2980" y="378"/>
                  </a:lnTo>
                  <a:lnTo>
                    <a:pt x="2994" y="373"/>
                  </a:lnTo>
                  <a:lnTo>
                    <a:pt x="2979" y="375"/>
                  </a:lnTo>
                  <a:lnTo>
                    <a:pt x="3006" y="522"/>
                  </a:lnTo>
                  <a:lnTo>
                    <a:pt x="3006" y="524"/>
                  </a:lnTo>
                  <a:lnTo>
                    <a:pt x="3034" y="639"/>
                  </a:lnTo>
                  <a:lnTo>
                    <a:pt x="3034" y="640"/>
                  </a:lnTo>
                  <a:lnTo>
                    <a:pt x="3039" y="645"/>
                  </a:lnTo>
                  <a:lnTo>
                    <a:pt x="3041" y="647"/>
                  </a:lnTo>
                  <a:lnTo>
                    <a:pt x="3070" y="662"/>
                  </a:lnTo>
                  <a:lnTo>
                    <a:pt x="3078" y="651"/>
                  </a:lnTo>
                  <a:lnTo>
                    <a:pt x="3063" y="655"/>
                  </a:lnTo>
                  <a:lnTo>
                    <a:pt x="3067" y="660"/>
                  </a:lnTo>
                  <a:lnTo>
                    <a:pt x="3063" y="655"/>
                  </a:lnTo>
                  <a:lnTo>
                    <a:pt x="3091" y="738"/>
                  </a:lnTo>
                  <a:lnTo>
                    <a:pt x="3106" y="733"/>
                  </a:lnTo>
                  <a:lnTo>
                    <a:pt x="3091" y="735"/>
                  </a:lnTo>
                  <a:lnTo>
                    <a:pt x="3119" y="914"/>
                  </a:lnTo>
                  <a:lnTo>
                    <a:pt x="3119" y="917"/>
                  </a:lnTo>
                  <a:lnTo>
                    <a:pt x="3123" y="922"/>
                  </a:lnTo>
                  <a:lnTo>
                    <a:pt x="3128" y="925"/>
                  </a:lnTo>
                  <a:lnTo>
                    <a:pt x="3134" y="926"/>
                  </a:lnTo>
                  <a:lnTo>
                    <a:pt x="3170" y="926"/>
                  </a:lnTo>
                  <a:lnTo>
                    <a:pt x="3170" y="912"/>
                  </a:lnTo>
                  <a:lnTo>
                    <a:pt x="3155" y="917"/>
                  </a:lnTo>
                  <a:lnTo>
                    <a:pt x="3159" y="922"/>
                  </a:lnTo>
                  <a:lnTo>
                    <a:pt x="3165" y="925"/>
                  </a:lnTo>
                  <a:lnTo>
                    <a:pt x="3157" y="917"/>
                  </a:lnTo>
                  <a:lnTo>
                    <a:pt x="3185" y="983"/>
                  </a:lnTo>
                  <a:lnTo>
                    <a:pt x="3184" y="983"/>
                  </a:lnTo>
                  <a:lnTo>
                    <a:pt x="3186" y="986"/>
                  </a:lnTo>
                  <a:lnTo>
                    <a:pt x="3215" y="1019"/>
                  </a:lnTo>
                  <a:lnTo>
                    <a:pt x="3227" y="1011"/>
                  </a:lnTo>
                  <a:lnTo>
                    <a:pt x="3212" y="1016"/>
                  </a:lnTo>
                  <a:lnTo>
                    <a:pt x="3212" y="1013"/>
                  </a:lnTo>
                  <a:lnTo>
                    <a:pt x="3241" y="1209"/>
                  </a:lnTo>
                  <a:lnTo>
                    <a:pt x="3241" y="1210"/>
                  </a:lnTo>
                  <a:lnTo>
                    <a:pt x="3268" y="1325"/>
                  </a:lnTo>
                  <a:lnTo>
                    <a:pt x="3283" y="1322"/>
                  </a:lnTo>
                  <a:lnTo>
                    <a:pt x="3268" y="1324"/>
                  </a:lnTo>
                  <a:lnTo>
                    <a:pt x="3296" y="1487"/>
                  </a:lnTo>
                  <a:lnTo>
                    <a:pt x="3296" y="1489"/>
                  </a:lnTo>
                  <a:lnTo>
                    <a:pt x="3325" y="1571"/>
                  </a:lnTo>
                  <a:lnTo>
                    <a:pt x="3340" y="1567"/>
                  </a:lnTo>
                  <a:lnTo>
                    <a:pt x="3325" y="1569"/>
                  </a:lnTo>
                  <a:lnTo>
                    <a:pt x="3352" y="1700"/>
                  </a:lnTo>
                  <a:lnTo>
                    <a:pt x="3352" y="1702"/>
                  </a:lnTo>
                  <a:lnTo>
                    <a:pt x="3356" y="1707"/>
                  </a:lnTo>
                  <a:lnTo>
                    <a:pt x="3362" y="1710"/>
                  </a:lnTo>
                  <a:lnTo>
                    <a:pt x="3367" y="1710"/>
                  </a:lnTo>
                  <a:lnTo>
                    <a:pt x="3372" y="1710"/>
                  </a:lnTo>
                  <a:lnTo>
                    <a:pt x="3377" y="1708"/>
                  </a:lnTo>
                  <a:lnTo>
                    <a:pt x="3404" y="1692"/>
                  </a:lnTo>
                  <a:lnTo>
                    <a:pt x="3394" y="1681"/>
                  </a:lnTo>
                  <a:lnTo>
                    <a:pt x="3402" y="1693"/>
                  </a:lnTo>
                  <a:lnTo>
                    <a:pt x="3431" y="1677"/>
                  </a:lnTo>
                  <a:lnTo>
                    <a:pt x="3434" y="1675"/>
                  </a:lnTo>
                  <a:lnTo>
                    <a:pt x="3434" y="1675"/>
                  </a:lnTo>
                  <a:lnTo>
                    <a:pt x="3472" y="1641"/>
                  </a:lnTo>
                  <a:lnTo>
                    <a:pt x="3461" y="1632"/>
                  </a:lnTo>
                  <a:lnTo>
                    <a:pt x="3450" y="1641"/>
                  </a:lnTo>
                  <a:lnTo>
                    <a:pt x="3455" y="1644"/>
                  </a:lnTo>
                  <a:lnTo>
                    <a:pt x="3461" y="1644"/>
                  </a:lnTo>
                  <a:lnTo>
                    <a:pt x="3466" y="1644"/>
                  </a:lnTo>
                  <a:lnTo>
                    <a:pt x="3472" y="1641"/>
                  </a:lnTo>
                  <a:lnTo>
                    <a:pt x="3447" y="1637"/>
                  </a:lnTo>
                  <a:lnTo>
                    <a:pt x="3476" y="1687"/>
                  </a:lnTo>
                  <a:lnTo>
                    <a:pt x="3478" y="1690"/>
                  </a:lnTo>
                  <a:lnTo>
                    <a:pt x="3484" y="1694"/>
                  </a:lnTo>
                  <a:lnTo>
                    <a:pt x="3489" y="1694"/>
                  </a:lnTo>
                  <a:lnTo>
                    <a:pt x="3495" y="1694"/>
                  </a:lnTo>
                  <a:lnTo>
                    <a:pt x="3500" y="1690"/>
                  </a:lnTo>
                  <a:lnTo>
                    <a:pt x="3501" y="1689"/>
                  </a:lnTo>
                  <a:lnTo>
                    <a:pt x="3529" y="1656"/>
                  </a:lnTo>
                  <a:lnTo>
                    <a:pt x="3531" y="1653"/>
                  </a:lnTo>
                  <a:lnTo>
                    <a:pt x="3531" y="1650"/>
                  </a:lnTo>
                  <a:lnTo>
                    <a:pt x="3559" y="1521"/>
                  </a:lnTo>
                  <a:lnTo>
                    <a:pt x="3587" y="1389"/>
                  </a:lnTo>
                  <a:lnTo>
                    <a:pt x="3572" y="1387"/>
                  </a:lnTo>
                  <a:lnTo>
                    <a:pt x="3587" y="1391"/>
                  </a:lnTo>
                  <a:lnTo>
                    <a:pt x="3616" y="1327"/>
                  </a:lnTo>
                  <a:lnTo>
                    <a:pt x="3601" y="1322"/>
                  </a:lnTo>
                  <a:lnTo>
                    <a:pt x="3614" y="1328"/>
                  </a:lnTo>
                  <a:lnTo>
                    <a:pt x="3643" y="1278"/>
                  </a:lnTo>
                  <a:lnTo>
                    <a:pt x="3644" y="1276"/>
                  </a:lnTo>
                  <a:lnTo>
                    <a:pt x="3671" y="1194"/>
                  </a:lnTo>
                  <a:lnTo>
                    <a:pt x="3656" y="1190"/>
                  </a:lnTo>
                  <a:lnTo>
                    <a:pt x="3651" y="1203"/>
                  </a:lnTo>
                  <a:lnTo>
                    <a:pt x="3656" y="1203"/>
                  </a:lnTo>
                  <a:lnTo>
                    <a:pt x="3662" y="1203"/>
                  </a:lnTo>
                  <a:lnTo>
                    <a:pt x="3667" y="1199"/>
                  </a:lnTo>
                  <a:lnTo>
                    <a:pt x="3671" y="1195"/>
                  </a:lnTo>
                  <a:lnTo>
                    <a:pt x="3648" y="1202"/>
                  </a:lnTo>
                  <a:lnTo>
                    <a:pt x="3677" y="1218"/>
                  </a:lnTo>
                  <a:lnTo>
                    <a:pt x="3693" y="1196"/>
                  </a:lnTo>
                  <a:lnTo>
                    <a:pt x="3664" y="1179"/>
                  </a:lnTo>
                  <a:lnTo>
                    <a:pt x="3662" y="1178"/>
                  </a:lnTo>
                  <a:lnTo>
                    <a:pt x="3656" y="1177"/>
                  </a:lnTo>
                  <a:lnTo>
                    <a:pt x="3651" y="1178"/>
                  </a:lnTo>
                  <a:lnTo>
                    <a:pt x="3645" y="1181"/>
                  </a:lnTo>
                  <a:lnTo>
                    <a:pt x="3641" y="1185"/>
                  </a:lnTo>
                  <a:lnTo>
                    <a:pt x="3641" y="1186"/>
                  </a:lnTo>
                  <a:lnTo>
                    <a:pt x="3614" y="1269"/>
                  </a:lnTo>
                  <a:lnTo>
                    <a:pt x="3629" y="1272"/>
                  </a:lnTo>
                  <a:lnTo>
                    <a:pt x="3616" y="1267"/>
                  </a:lnTo>
                  <a:lnTo>
                    <a:pt x="3587" y="1316"/>
                  </a:lnTo>
                  <a:lnTo>
                    <a:pt x="3587" y="1317"/>
                  </a:lnTo>
                  <a:lnTo>
                    <a:pt x="3559" y="1382"/>
                  </a:lnTo>
                  <a:lnTo>
                    <a:pt x="3557" y="1387"/>
                  </a:lnTo>
                  <a:lnTo>
                    <a:pt x="3557" y="1384"/>
                  </a:lnTo>
                  <a:lnTo>
                    <a:pt x="3529" y="1516"/>
                  </a:lnTo>
                  <a:lnTo>
                    <a:pt x="3501" y="1646"/>
                  </a:lnTo>
                  <a:lnTo>
                    <a:pt x="3501" y="1643"/>
                  </a:lnTo>
                  <a:lnTo>
                    <a:pt x="3501" y="1648"/>
                  </a:lnTo>
                  <a:lnTo>
                    <a:pt x="3516" y="1648"/>
                  </a:lnTo>
                  <a:lnTo>
                    <a:pt x="3504" y="1641"/>
                  </a:lnTo>
                  <a:lnTo>
                    <a:pt x="3477" y="1674"/>
                  </a:lnTo>
                  <a:lnTo>
                    <a:pt x="3500" y="1672"/>
                  </a:lnTo>
                  <a:lnTo>
                    <a:pt x="3495" y="1669"/>
                  </a:lnTo>
                  <a:lnTo>
                    <a:pt x="3489" y="1668"/>
                  </a:lnTo>
                  <a:lnTo>
                    <a:pt x="3484" y="1669"/>
                  </a:lnTo>
                  <a:lnTo>
                    <a:pt x="3478" y="1672"/>
                  </a:lnTo>
                  <a:lnTo>
                    <a:pt x="3489" y="1681"/>
                  </a:lnTo>
                  <a:lnTo>
                    <a:pt x="3503" y="1675"/>
                  </a:lnTo>
                  <a:lnTo>
                    <a:pt x="3474" y="1626"/>
                  </a:lnTo>
                  <a:lnTo>
                    <a:pt x="3472" y="1622"/>
                  </a:lnTo>
                  <a:lnTo>
                    <a:pt x="3466" y="1620"/>
                  </a:lnTo>
                  <a:lnTo>
                    <a:pt x="3461" y="1619"/>
                  </a:lnTo>
                  <a:lnTo>
                    <a:pt x="3455" y="1620"/>
                  </a:lnTo>
                  <a:lnTo>
                    <a:pt x="3450" y="1622"/>
                  </a:lnTo>
                  <a:lnTo>
                    <a:pt x="3450" y="1622"/>
                  </a:lnTo>
                  <a:lnTo>
                    <a:pt x="3412" y="1656"/>
                  </a:lnTo>
                  <a:lnTo>
                    <a:pt x="3423" y="1666"/>
                  </a:lnTo>
                  <a:lnTo>
                    <a:pt x="3415" y="1655"/>
                  </a:lnTo>
                  <a:lnTo>
                    <a:pt x="3386" y="1670"/>
                  </a:lnTo>
                  <a:lnTo>
                    <a:pt x="3386" y="1670"/>
                  </a:lnTo>
                  <a:lnTo>
                    <a:pt x="3359" y="1687"/>
                  </a:lnTo>
                  <a:lnTo>
                    <a:pt x="3382" y="1693"/>
                  </a:lnTo>
                  <a:lnTo>
                    <a:pt x="3378" y="1688"/>
                  </a:lnTo>
                  <a:lnTo>
                    <a:pt x="3372" y="1686"/>
                  </a:lnTo>
                  <a:lnTo>
                    <a:pt x="3367" y="1685"/>
                  </a:lnTo>
                  <a:lnTo>
                    <a:pt x="3362" y="1686"/>
                  </a:lnTo>
                  <a:lnTo>
                    <a:pt x="3367" y="1697"/>
                  </a:lnTo>
                  <a:lnTo>
                    <a:pt x="3382" y="1695"/>
                  </a:lnTo>
                  <a:lnTo>
                    <a:pt x="3355" y="1564"/>
                  </a:lnTo>
                  <a:lnTo>
                    <a:pt x="3355" y="1563"/>
                  </a:lnTo>
                  <a:lnTo>
                    <a:pt x="3326" y="1481"/>
                  </a:lnTo>
                  <a:lnTo>
                    <a:pt x="3311" y="1484"/>
                  </a:lnTo>
                  <a:lnTo>
                    <a:pt x="3326" y="1483"/>
                  </a:lnTo>
                  <a:lnTo>
                    <a:pt x="3298" y="1321"/>
                  </a:lnTo>
                  <a:lnTo>
                    <a:pt x="3298" y="1320"/>
                  </a:lnTo>
                  <a:lnTo>
                    <a:pt x="3271" y="1204"/>
                  </a:lnTo>
                  <a:lnTo>
                    <a:pt x="3256" y="1206"/>
                  </a:lnTo>
                  <a:lnTo>
                    <a:pt x="3271" y="1205"/>
                  </a:lnTo>
                  <a:lnTo>
                    <a:pt x="3242" y="1010"/>
                  </a:lnTo>
                  <a:lnTo>
                    <a:pt x="3242" y="1006"/>
                  </a:lnTo>
                  <a:lnTo>
                    <a:pt x="3239" y="1003"/>
                  </a:lnTo>
                  <a:lnTo>
                    <a:pt x="3211" y="970"/>
                  </a:lnTo>
                  <a:lnTo>
                    <a:pt x="3199" y="978"/>
                  </a:lnTo>
                  <a:lnTo>
                    <a:pt x="3214" y="973"/>
                  </a:lnTo>
                  <a:lnTo>
                    <a:pt x="3185" y="907"/>
                  </a:lnTo>
                  <a:lnTo>
                    <a:pt x="3185" y="907"/>
                  </a:lnTo>
                  <a:lnTo>
                    <a:pt x="3181" y="903"/>
                  </a:lnTo>
                  <a:lnTo>
                    <a:pt x="3176" y="900"/>
                  </a:lnTo>
                  <a:lnTo>
                    <a:pt x="3170" y="899"/>
                  </a:lnTo>
                  <a:lnTo>
                    <a:pt x="3134" y="899"/>
                  </a:lnTo>
                  <a:lnTo>
                    <a:pt x="3148" y="907"/>
                  </a:lnTo>
                  <a:lnTo>
                    <a:pt x="3144" y="903"/>
                  </a:lnTo>
                  <a:lnTo>
                    <a:pt x="3139" y="900"/>
                  </a:lnTo>
                  <a:lnTo>
                    <a:pt x="3134" y="912"/>
                  </a:lnTo>
                  <a:lnTo>
                    <a:pt x="3148" y="911"/>
                  </a:lnTo>
                  <a:lnTo>
                    <a:pt x="3121" y="732"/>
                  </a:lnTo>
                  <a:lnTo>
                    <a:pt x="3121" y="730"/>
                  </a:lnTo>
                  <a:lnTo>
                    <a:pt x="3093" y="647"/>
                  </a:lnTo>
                  <a:lnTo>
                    <a:pt x="3093" y="646"/>
                  </a:lnTo>
                  <a:lnTo>
                    <a:pt x="3089" y="641"/>
                  </a:lnTo>
                  <a:lnTo>
                    <a:pt x="3086" y="640"/>
                  </a:lnTo>
                  <a:lnTo>
                    <a:pt x="3058" y="625"/>
                  </a:lnTo>
                  <a:lnTo>
                    <a:pt x="3064" y="631"/>
                  </a:lnTo>
                  <a:lnTo>
                    <a:pt x="3060" y="626"/>
                  </a:lnTo>
                  <a:lnTo>
                    <a:pt x="3049" y="635"/>
                  </a:lnTo>
                  <a:lnTo>
                    <a:pt x="3064" y="633"/>
                  </a:lnTo>
                  <a:lnTo>
                    <a:pt x="3036" y="518"/>
                  </a:lnTo>
                  <a:lnTo>
                    <a:pt x="3021" y="520"/>
                  </a:lnTo>
                  <a:lnTo>
                    <a:pt x="3036" y="518"/>
                  </a:lnTo>
                  <a:lnTo>
                    <a:pt x="3009" y="370"/>
                  </a:lnTo>
                  <a:lnTo>
                    <a:pt x="3009" y="368"/>
                  </a:lnTo>
                  <a:lnTo>
                    <a:pt x="2981" y="302"/>
                  </a:lnTo>
                  <a:lnTo>
                    <a:pt x="2981" y="302"/>
                  </a:lnTo>
                  <a:lnTo>
                    <a:pt x="2979" y="299"/>
                  </a:lnTo>
                  <a:lnTo>
                    <a:pt x="2950" y="267"/>
                  </a:lnTo>
                  <a:lnTo>
                    <a:pt x="2938" y="275"/>
                  </a:lnTo>
                  <a:lnTo>
                    <a:pt x="2953" y="270"/>
                  </a:lnTo>
                  <a:lnTo>
                    <a:pt x="2924" y="204"/>
                  </a:lnTo>
                  <a:lnTo>
                    <a:pt x="2924" y="204"/>
                  </a:lnTo>
                  <a:lnTo>
                    <a:pt x="2920" y="200"/>
                  </a:lnTo>
                  <a:lnTo>
                    <a:pt x="2918" y="199"/>
                  </a:lnTo>
                  <a:lnTo>
                    <a:pt x="2889" y="182"/>
                  </a:lnTo>
                  <a:lnTo>
                    <a:pt x="2892" y="183"/>
                  </a:lnTo>
                  <a:lnTo>
                    <a:pt x="2881" y="193"/>
                  </a:lnTo>
                  <a:lnTo>
                    <a:pt x="2895" y="186"/>
                  </a:lnTo>
                  <a:lnTo>
                    <a:pt x="2858" y="136"/>
                  </a:lnTo>
                  <a:lnTo>
                    <a:pt x="2855" y="134"/>
                  </a:lnTo>
                  <a:lnTo>
                    <a:pt x="2850" y="131"/>
                  </a:lnTo>
                  <a:lnTo>
                    <a:pt x="2844" y="130"/>
                  </a:lnTo>
                  <a:lnTo>
                    <a:pt x="2839" y="131"/>
                  </a:lnTo>
                  <a:lnTo>
                    <a:pt x="2833" y="134"/>
                  </a:lnTo>
                  <a:lnTo>
                    <a:pt x="2829" y="139"/>
                  </a:lnTo>
                  <a:lnTo>
                    <a:pt x="2831" y="139"/>
                  </a:lnTo>
                  <a:lnTo>
                    <a:pt x="2804" y="204"/>
                  </a:lnTo>
                  <a:lnTo>
                    <a:pt x="2817" y="196"/>
                  </a:lnTo>
                  <a:lnTo>
                    <a:pt x="2812" y="197"/>
                  </a:lnTo>
                  <a:lnTo>
                    <a:pt x="2806" y="200"/>
                  </a:lnTo>
                  <a:lnTo>
                    <a:pt x="2802" y="204"/>
                  </a:lnTo>
                  <a:lnTo>
                    <a:pt x="2817" y="209"/>
                  </a:lnTo>
                  <a:lnTo>
                    <a:pt x="2817" y="196"/>
                  </a:lnTo>
                  <a:lnTo>
                    <a:pt x="2789" y="196"/>
                  </a:lnTo>
                  <a:lnTo>
                    <a:pt x="2760" y="196"/>
                  </a:lnTo>
                  <a:lnTo>
                    <a:pt x="2760" y="209"/>
                  </a:lnTo>
                  <a:lnTo>
                    <a:pt x="2768" y="199"/>
                  </a:lnTo>
                  <a:lnTo>
                    <a:pt x="2740" y="182"/>
                  </a:lnTo>
                  <a:lnTo>
                    <a:pt x="2737" y="181"/>
                  </a:lnTo>
                  <a:lnTo>
                    <a:pt x="2732" y="180"/>
                  </a:lnTo>
                  <a:lnTo>
                    <a:pt x="2705" y="180"/>
                  </a:lnTo>
                  <a:lnTo>
                    <a:pt x="2719" y="188"/>
                  </a:lnTo>
                  <a:lnTo>
                    <a:pt x="2715" y="183"/>
                  </a:lnTo>
                  <a:lnTo>
                    <a:pt x="2710" y="181"/>
                  </a:lnTo>
                  <a:lnTo>
                    <a:pt x="2705" y="193"/>
                  </a:lnTo>
                  <a:lnTo>
                    <a:pt x="2719" y="189"/>
                  </a:lnTo>
                  <a:lnTo>
                    <a:pt x="2691" y="108"/>
                  </a:lnTo>
                  <a:lnTo>
                    <a:pt x="2690" y="106"/>
                  </a:lnTo>
                  <a:lnTo>
                    <a:pt x="2661" y="56"/>
                  </a:lnTo>
                  <a:lnTo>
                    <a:pt x="2647" y="62"/>
                  </a:lnTo>
                  <a:lnTo>
                    <a:pt x="2662" y="56"/>
                  </a:lnTo>
                  <a:lnTo>
                    <a:pt x="2635" y="7"/>
                  </a:lnTo>
                  <a:lnTo>
                    <a:pt x="2631" y="3"/>
                  </a:lnTo>
                  <a:lnTo>
                    <a:pt x="2626" y="1"/>
                  </a:lnTo>
                  <a:lnTo>
                    <a:pt x="2620" y="0"/>
                  </a:lnTo>
                  <a:lnTo>
                    <a:pt x="2615" y="1"/>
                  </a:lnTo>
                  <a:lnTo>
                    <a:pt x="2609" y="3"/>
                  </a:lnTo>
                  <a:lnTo>
                    <a:pt x="2605" y="8"/>
                  </a:lnTo>
                  <a:lnTo>
                    <a:pt x="2605" y="9"/>
                  </a:lnTo>
                  <a:lnTo>
                    <a:pt x="2578" y="90"/>
                  </a:lnTo>
                  <a:lnTo>
                    <a:pt x="2593" y="94"/>
                  </a:lnTo>
                  <a:lnTo>
                    <a:pt x="2581" y="87"/>
                  </a:lnTo>
                  <a:lnTo>
                    <a:pt x="2543" y="136"/>
                  </a:lnTo>
                  <a:lnTo>
                    <a:pt x="2544" y="134"/>
                  </a:lnTo>
                  <a:lnTo>
                    <a:pt x="2555" y="143"/>
                  </a:lnTo>
                  <a:lnTo>
                    <a:pt x="2547" y="133"/>
                  </a:lnTo>
                  <a:lnTo>
                    <a:pt x="2519" y="149"/>
                  </a:lnTo>
                  <a:lnTo>
                    <a:pt x="2516" y="150"/>
                  </a:lnTo>
                  <a:lnTo>
                    <a:pt x="2514" y="151"/>
                  </a:lnTo>
                  <a:lnTo>
                    <a:pt x="2486" y="184"/>
                  </a:lnTo>
                  <a:lnTo>
                    <a:pt x="2485" y="187"/>
                  </a:lnTo>
                  <a:lnTo>
                    <a:pt x="2457" y="235"/>
                  </a:lnTo>
                  <a:lnTo>
                    <a:pt x="2471" y="241"/>
                  </a:lnTo>
                  <a:lnTo>
                    <a:pt x="2459" y="234"/>
                  </a:lnTo>
                  <a:lnTo>
                    <a:pt x="2432" y="268"/>
                  </a:lnTo>
                  <a:lnTo>
                    <a:pt x="2429" y="270"/>
                  </a:lnTo>
                  <a:lnTo>
                    <a:pt x="2429" y="272"/>
                  </a:lnTo>
                  <a:lnTo>
                    <a:pt x="2400" y="369"/>
                  </a:lnTo>
                  <a:lnTo>
                    <a:pt x="2404" y="363"/>
                  </a:lnTo>
                  <a:lnTo>
                    <a:pt x="2400" y="368"/>
                  </a:lnTo>
                  <a:lnTo>
                    <a:pt x="2415" y="373"/>
                  </a:lnTo>
                  <a:lnTo>
                    <a:pt x="2407" y="362"/>
                  </a:lnTo>
                  <a:lnTo>
                    <a:pt x="2379" y="378"/>
                  </a:lnTo>
                  <a:lnTo>
                    <a:pt x="2376" y="379"/>
                  </a:lnTo>
                  <a:lnTo>
                    <a:pt x="2372" y="383"/>
                  </a:lnTo>
                  <a:lnTo>
                    <a:pt x="2372" y="386"/>
                  </a:lnTo>
                  <a:lnTo>
                    <a:pt x="2343" y="501"/>
                  </a:lnTo>
                  <a:lnTo>
                    <a:pt x="2358" y="504"/>
                  </a:lnTo>
                  <a:lnTo>
                    <a:pt x="2343" y="500"/>
                  </a:lnTo>
                  <a:lnTo>
                    <a:pt x="2316" y="581"/>
                  </a:lnTo>
                  <a:lnTo>
                    <a:pt x="2288" y="680"/>
                  </a:lnTo>
                  <a:lnTo>
                    <a:pt x="2251" y="794"/>
                  </a:lnTo>
                  <a:lnTo>
                    <a:pt x="2251" y="798"/>
                  </a:lnTo>
                  <a:lnTo>
                    <a:pt x="2251" y="797"/>
                  </a:lnTo>
                  <a:lnTo>
                    <a:pt x="2223" y="1010"/>
                  </a:lnTo>
                  <a:lnTo>
                    <a:pt x="2237" y="1011"/>
                  </a:lnTo>
                  <a:lnTo>
                    <a:pt x="2223" y="1009"/>
                  </a:lnTo>
                  <a:lnTo>
                    <a:pt x="2194" y="1156"/>
                  </a:lnTo>
                  <a:lnTo>
                    <a:pt x="2167" y="1303"/>
                  </a:lnTo>
                  <a:lnTo>
                    <a:pt x="2167" y="1301"/>
                  </a:lnTo>
                  <a:lnTo>
                    <a:pt x="2167" y="1305"/>
                  </a:lnTo>
                  <a:lnTo>
                    <a:pt x="2182" y="1305"/>
                  </a:lnTo>
                  <a:lnTo>
                    <a:pt x="2170" y="1297"/>
                  </a:lnTo>
                  <a:lnTo>
                    <a:pt x="2141" y="1329"/>
                  </a:lnTo>
                  <a:lnTo>
                    <a:pt x="2138" y="1332"/>
                  </a:lnTo>
                  <a:lnTo>
                    <a:pt x="2138" y="1334"/>
                  </a:lnTo>
                  <a:lnTo>
                    <a:pt x="2110" y="1416"/>
                  </a:lnTo>
                  <a:lnTo>
                    <a:pt x="2110" y="1420"/>
                  </a:lnTo>
                  <a:lnTo>
                    <a:pt x="2110" y="1417"/>
                  </a:lnTo>
                  <a:lnTo>
                    <a:pt x="2083" y="1564"/>
                  </a:lnTo>
                  <a:lnTo>
                    <a:pt x="2098" y="1567"/>
                  </a:lnTo>
                  <a:lnTo>
                    <a:pt x="2083" y="1564"/>
                  </a:lnTo>
                  <a:lnTo>
                    <a:pt x="2056" y="1663"/>
                  </a:lnTo>
                  <a:lnTo>
                    <a:pt x="2081" y="1656"/>
                  </a:lnTo>
                  <a:lnTo>
                    <a:pt x="2076" y="1654"/>
                  </a:lnTo>
                  <a:lnTo>
                    <a:pt x="2070" y="1653"/>
                  </a:lnTo>
                  <a:lnTo>
                    <a:pt x="2065" y="1654"/>
                  </a:lnTo>
                  <a:lnTo>
                    <a:pt x="2060" y="1656"/>
                  </a:lnTo>
                  <a:lnTo>
                    <a:pt x="2056" y="1661"/>
                  </a:lnTo>
                  <a:lnTo>
                    <a:pt x="2070" y="1666"/>
                  </a:lnTo>
                  <a:lnTo>
                    <a:pt x="2084" y="1660"/>
                  </a:lnTo>
                  <a:lnTo>
                    <a:pt x="2056" y="1610"/>
                  </a:lnTo>
                  <a:lnTo>
                    <a:pt x="2042" y="1616"/>
                  </a:lnTo>
                  <a:lnTo>
                    <a:pt x="2057" y="1615"/>
                  </a:lnTo>
                  <a:lnTo>
                    <a:pt x="2028" y="1418"/>
                  </a:lnTo>
                  <a:lnTo>
                    <a:pt x="2028" y="1415"/>
                  </a:lnTo>
                  <a:lnTo>
                    <a:pt x="1990" y="1332"/>
                  </a:lnTo>
                  <a:lnTo>
                    <a:pt x="1975" y="1337"/>
                  </a:lnTo>
                  <a:lnTo>
                    <a:pt x="1990" y="1332"/>
                  </a:lnTo>
                  <a:lnTo>
                    <a:pt x="1963" y="1268"/>
                  </a:lnTo>
                  <a:lnTo>
                    <a:pt x="1948" y="1272"/>
                  </a:lnTo>
                  <a:lnTo>
                    <a:pt x="1963" y="1271"/>
                  </a:lnTo>
                  <a:lnTo>
                    <a:pt x="1936" y="1091"/>
                  </a:lnTo>
                  <a:lnTo>
                    <a:pt x="1936" y="1090"/>
                  </a:lnTo>
                  <a:lnTo>
                    <a:pt x="1908" y="976"/>
                  </a:lnTo>
                  <a:lnTo>
                    <a:pt x="1879" y="861"/>
                  </a:lnTo>
                  <a:lnTo>
                    <a:pt x="1879" y="860"/>
                  </a:lnTo>
                  <a:lnTo>
                    <a:pt x="1851" y="779"/>
                  </a:lnTo>
                  <a:lnTo>
                    <a:pt x="1851" y="778"/>
                  </a:lnTo>
                  <a:lnTo>
                    <a:pt x="1846" y="773"/>
                  </a:lnTo>
                  <a:lnTo>
                    <a:pt x="1845" y="772"/>
                  </a:lnTo>
                  <a:lnTo>
                    <a:pt x="1818" y="754"/>
                  </a:lnTo>
                  <a:lnTo>
                    <a:pt x="1814" y="753"/>
                  </a:lnTo>
                  <a:lnTo>
                    <a:pt x="1808" y="752"/>
                  </a:lnTo>
                  <a:lnTo>
                    <a:pt x="1803" y="753"/>
                  </a:lnTo>
                  <a:lnTo>
                    <a:pt x="1798" y="756"/>
                  </a:lnTo>
                  <a:lnTo>
                    <a:pt x="1794" y="760"/>
                  </a:lnTo>
                  <a:lnTo>
                    <a:pt x="1794" y="761"/>
                  </a:lnTo>
                  <a:lnTo>
                    <a:pt x="1765" y="844"/>
                  </a:lnTo>
                  <a:lnTo>
                    <a:pt x="1795" y="843"/>
                  </a:lnTo>
                  <a:lnTo>
                    <a:pt x="1791" y="838"/>
                  </a:lnTo>
                  <a:lnTo>
                    <a:pt x="1785" y="836"/>
                  </a:lnTo>
                  <a:lnTo>
                    <a:pt x="1780" y="834"/>
                  </a:lnTo>
                  <a:lnTo>
                    <a:pt x="1775" y="836"/>
                  </a:lnTo>
                  <a:lnTo>
                    <a:pt x="1769" y="838"/>
                  </a:lnTo>
                  <a:lnTo>
                    <a:pt x="1765" y="843"/>
                  </a:lnTo>
                  <a:lnTo>
                    <a:pt x="1780" y="847"/>
                  </a:lnTo>
                  <a:lnTo>
                    <a:pt x="1795" y="844"/>
                  </a:lnTo>
                  <a:lnTo>
                    <a:pt x="1766" y="745"/>
                  </a:lnTo>
                  <a:lnTo>
                    <a:pt x="1751" y="748"/>
                  </a:lnTo>
                  <a:lnTo>
                    <a:pt x="1766" y="746"/>
                  </a:lnTo>
                  <a:lnTo>
                    <a:pt x="1739" y="615"/>
                  </a:lnTo>
                  <a:lnTo>
                    <a:pt x="1739" y="613"/>
                  </a:lnTo>
                  <a:lnTo>
                    <a:pt x="1738" y="612"/>
                  </a:lnTo>
                  <a:lnTo>
                    <a:pt x="1700" y="547"/>
                  </a:lnTo>
                  <a:lnTo>
                    <a:pt x="1686" y="553"/>
                  </a:lnTo>
                  <a:lnTo>
                    <a:pt x="1701" y="552"/>
                  </a:lnTo>
                  <a:lnTo>
                    <a:pt x="1673" y="372"/>
                  </a:lnTo>
                  <a:lnTo>
                    <a:pt x="1673" y="370"/>
                  </a:lnTo>
                  <a:lnTo>
                    <a:pt x="1646" y="256"/>
                  </a:lnTo>
                  <a:lnTo>
                    <a:pt x="1646" y="254"/>
                  </a:lnTo>
                  <a:lnTo>
                    <a:pt x="1641" y="249"/>
                  </a:lnTo>
                  <a:lnTo>
                    <a:pt x="1636" y="247"/>
                  </a:lnTo>
                  <a:lnTo>
                    <a:pt x="1631" y="246"/>
                  </a:lnTo>
                  <a:lnTo>
                    <a:pt x="1625" y="247"/>
                  </a:lnTo>
                  <a:lnTo>
                    <a:pt x="1620" y="249"/>
                  </a:lnTo>
                  <a:lnTo>
                    <a:pt x="1618" y="250"/>
                  </a:lnTo>
                  <a:lnTo>
                    <a:pt x="1590" y="282"/>
                  </a:lnTo>
                  <a:lnTo>
                    <a:pt x="1587" y="286"/>
                  </a:lnTo>
                  <a:lnTo>
                    <a:pt x="1587" y="288"/>
                  </a:lnTo>
                  <a:lnTo>
                    <a:pt x="1560" y="403"/>
                  </a:lnTo>
                  <a:lnTo>
                    <a:pt x="1575" y="406"/>
                  </a:lnTo>
                  <a:lnTo>
                    <a:pt x="1561" y="400"/>
                  </a:lnTo>
                  <a:lnTo>
                    <a:pt x="1533" y="448"/>
                  </a:lnTo>
                  <a:lnTo>
                    <a:pt x="1531" y="451"/>
                  </a:lnTo>
                  <a:lnTo>
                    <a:pt x="1504" y="532"/>
                  </a:lnTo>
                  <a:lnTo>
                    <a:pt x="1519" y="535"/>
                  </a:lnTo>
                  <a:lnTo>
                    <a:pt x="1506" y="529"/>
                  </a:lnTo>
                  <a:lnTo>
                    <a:pt x="1477" y="579"/>
                  </a:lnTo>
                  <a:lnTo>
                    <a:pt x="1491" y="572"/>
                  </a:lnTo>
                  <a:lnTo>
                    <a:pt x="1485" y="573"/>
                  </a:lnTo>
                  <a:lnTo>
                    <a:pt x="1480" y="575"/>
                  </a:lnTo>
                  <a:lnTo>
                    <a:pt x="1491" y="585"/>
                  </a:lnTo>
                  <a:lnTo>
                    <a:pt x="1491" y="572"/>
                  </a:lnTo>
                  <a:lnTo>
                    <a:pt x="1462" y="572"/>
                  </a:lnTo>
                  <a:lnTo>
                    <a:pt x="1462" y="572"/>
                  </a:lnTo>
                  <a:lnTo>
                    <a:pt x="1457" y="573"/>
                  </a:lnTo>
                  <a:lnTo>
                    <a:pt x="1451" y="575"/>
                  </a:lnTo>
                  <a:lnTo>
                    <a:pt x="1447" y="580"/>
                  </a:lnTo>
                  <a:lnTo>
                    <a:pt x="1449" y="580"/>
                  </a:lnTo>
                  <a:lnTo>
                    <a:pt x="1420" y="646"/>
                  </a:lnTo>
                  <a:lnTo>
                    <a:pt x="1434" y="651"/>
                  </a:lnTo>
                  <a:lnTo>
                    <a:pt x="1423" y="641"/>
                  </a:lnTo>
                  <a:lnTo>
                    <a:pt x="1386" y="674"/>
                  </a:lnTo>
                  <a:lnTo>
                    <a:pt x="1382" y="679"/>
                  </a:lnTo>
                  <a:lnTo>
                    <a:pt x="1382" y="680"/>
                  </a:lnTo>
                  <a:lnTo>
                    <a:pt x="1355" y="761"/>
                  </a:lnTo>
                  <a:lnTo>
                    <a:pt x="1370" y="765"/>
                  </a:lnTo>
                  <a:lnTo>
                    <a:pt x="1355" y="761"/>
                  </a:lnTo>
                  <a:lnTo>
                    <a:pt x="1326" y="844"/>
                  </a:lnTo>
                  <a:lnTo>
                    <a:pt x="1341" y="847"/>
                  </a:lnTo>
                  <a:lnTo>
                    <a:pt x="1328" y="841"/>
                  </a:lnTo>
                  <a:lnTo>
                    <a:pt x="1299" y="890"/>
                  </a:lnTo>
                  <a:lnTo>
                    <a:pt x="1324" y="886"/>
                  </a:lnTo>
                  <a:lnTo>
                    <a:pt x="1318" y="884"/>
                  </a:lnTo>
                  <a:lnTo>
                    <a:pt x="1313" y="883"/>
                  </a:lnTo>
                  <a:lnTo>
                    <a:pt x="1307" y="884"/>
                  </a:lnTo>
                  <a:lnTo>
                    <a:pt x="1302" y="886"/>
                  </a:lnTo>
                  <a:lnTo>
                    <a:pt x="1313" y="896"/>
                  </a:lnTo>
                  <a:lnTo>
                    <a:pt x="1325" y="887"/>
                  </a:lnTo>
                  <a:lnTo>
                    <a:pt x="1297" y="856"/>
                  </a:lnTo>
                  <a:lnTo>
                    <a:pt x="1295" y="854"/>
                  </a:lnTo>
                  <a:lnTo>
                    <a:pt x="1290" y="852"/>
                  </a:lnTo>
                  <a:lnTo>
                    <a:pt x="1284" y="851"/>
                  </a:lnTo>
                  <a:lnTo>
                    <a:pt x="1279" y="852"/>
                  </a:lnTo>
                  <a:lnTo>
                    <a:pt x="1274" y="854"/>
                  </a:lnTo>
                  <a:lnTo>
                    <a:pt x="1269" y="859"/>
                  </a:lnTo>
                  <a:lnTo>
                    <a:pt x="1269" y="861"/>
                  </a:lnTo>
                  <a:lnTo>
                    <a:pt x="1242" y="959"/>
                  </a:lnTo>
                  <a:lnTo>
                    <a:pt x="1257" y="962"/>
                  </a:lnTo>
                  <a:lnTo>
                    <a:pt x="1245" y="953"/>
                  </a:lnTo>
                  <a:lnTo>
                    <a:pt x="1217" y="986"/>
                  </a:lnTo>
                  <a:lnTo>
                    <a:pt x="1244" y="990"/>
                  </a:lnTo>
                  <a:lnTo>
                    <a:pt x="1240" y="985"/>
                  </a:lnTo>
                  <a:lnTo>
                    <a:pt x="1234" y="983"/>
                  </a:lnTo>
                  <a:lnTo>
                    <a:pt x="1229" y="982"/>
                  </a:lnTo>
                  <a:lnTo>
                    <a:pt x="1223" y="983"/>
                  </a:lnTo>
                  <a:lnTo>
                    <a:pt x="1218" y="985"/>
                  </a:lnTo>
                  <a:lnTo>
                    <a:pt x="1229" y="995"/>
                  </a:lnTo>
                  <a:lnTo>
                    <a:pt x="1244" y="990"/>
                  </a:lnTo>
                  <a:lnTo>
                    <a:pt x="1217" y="925"/>
                  </a:lnTo>
                  <a:lnTo>
                    <a:pt x="1217" y="925"/>
                  </a:lnTo>
                  <a:lnTo>
                    <a:pt x="1212" y="920"/>
                  </a:lnTo>
                  <a:lnTo>
                    <a:pt x="1207" y="918"/>
                  </a:lnTo>
                  <a:lnTo>
                    <a:pt x="1202" y="917"/>
                  </a:lnTo>
                  <a:lnTo>
                    <a:pt x="1196" y="918"/>
                  </a:lnTo>
                  <a:lnTo>
                    <a:pt x="1191" y="920"/>
                  </a:lnTo>
                  <a:lnTo>
                    <a:pt x="1187" y="925"/>
                  </a:lnTo>
                  <a:lnTo>
                    <a:pt x="1187" y="930"/>
                  </a:lnTo>
                  <a:lnTo>
                    <a:pt x="1187" y="929"/>
                  </a:lnTo>
                  <a:lnTo>
                    <a:pt x="1158" y="1108"/>
                  </a:lnTo>
                  <a:lnTo>
                    <a:pt x="1173" y="1109"/>
                  </a:lnTo>
                  <a:lnTo>
                    <a:pt x="1158" y="1106"/>
                  </a:lnTo>
                  <a:lnTo>
                    <a:pt x="1131" y="1204"/>
                  </a:lnTo>
                  <a:lnTo>
                    <a:pt x="1161" y="1202"/>
                  </a:lnTo>
                  <a:lnTo>
                    <a:pt x="1157" y="1197"/>
                  </a:lnTo>
                  <a:lnTo>
                    <a:pt x="1151" y="1195"/>
                  </a:lnTo>
                  <a:lnTo>
                    <a:pt x="1146" y="1194"/>
                  </a:lnTo>
                  <a:lnTo>
                    <a:pt x="1140" y="1195"/>
                  </a:lnTo>
                  <a:lnTo>
                    <a:pt x="1135" y="1197"/>
                  </a:lnTo>
                  <a:lnTo>
                    <a:pt x="1131" y="1202"/>
                  </a:lnTo>
                  <a:lnTo>
                    <a:pt x="1146" y="1206"/>
                  </a:lnTo>
                  <a:lnTo>
                    <a:pt x="1161" y="1203"/>
                  </a:lnTo>
                  <a:lnTo>
                    <a:pt x="1123" y="1105"/>
                  </a:lnTo>
                  <a:lnTo>
                    <a:pt x="1123" y="1104"/>
                  </a:lnTo>
                  <a:lnTo>
                    <a:pt x="1119" y="1099"/>
                  </a:lnTo>
                  <a:lnTo>
                    <a:pt x="1113" y="1097"/>
                  </a:lnTo>
                  <a:lnTo>
                    <a:pt x="1108" y="1096"/>
                  </a:lnTo>
                  <a:lnTo>
                    <a:pt x="1102" y="1097"/>
                  </a:lnTo>
                  <a:lnTo>
                    <a:pt x="1097" y="1099"/>
                  </a:lnTo>
                  <a:lnTo>
                    <a:pt x="1093" y="1104"/>
                  </a:lnTo>
                  <a:lnTo>
                    <a:pt x="1093" y="1105"/>
                  </a:lnTo>
                  <a:lnTo>
                    <a:pt x="1064" y="1186"/>
                  </a:lnTo>
                  <a:lnTo>
                    <a:pt x="1064" y="1190"/>
                  </a:lnTo>
                  <a:lnTo>
                    <a:pt x="1064" y="1188"/>
                  </a:lnTo>
                  <a:lnTo>
                    <a:pt x="1037" y="1320"/>
                  </a:lnTo>
                  <a:lnTo>
                    <a:pt x="1063" y="1312"/>
                  </a:lnTo>
                  <a:lnTo>
                    <a:pt x="1058" y="1310"/>
                  </a:lnTo>
                  <a:lnTo>
                    <a:pt x="1052" y="1309"/>
                  </a:lnTo>
                  <a:lnTo>
                    <a:pt x="1047" y="1310"/>
                  </a:lnTo>
                  <a:lnTo>
                    <a:pt x="1041" y="1312"/>
                  </a:lnTo>
                  <a:lnTo>
                    <a:pt x="1037" y="1317"/>
                  </a:lnTo>
                  <a:lnTo>
                    <a:pt x="1037" y="1322"/>
                  </a:lnTo>
                  <a:lnTo>
                    <a:pt x="1052" y="1322"/>
                  </a:lnTo>
                  <a:lnTo>
                    <a:pt x="1064" y="1314"/>
                  </a:lnTo>
                  <a:lnTo>
                    <a:pt x="1036" y="1281"/>
                  </a:lnTo>
                  <a:lnTo>
                    <a:pt x="1035" y="1279"/>
                  </a:lnTo>
                  <a:lnTo>
                    <a:pt x="1029" y="1277"/>
                  </a:lnTo>
                  <a:lnTo>
                    <a:pt x="1024" y="1276"/>
                  </a:lnTo>
                  <a:lnTo>
                    <a:pt x="1018" y="1277"/>
                  </a:lnTo>
                  <a:lnTo>
                    <a:pt x="1013" y="1279"/>
                  </a:lnTo>
                  <a:lnTo>
                    <a:pt x="1010" y="1283"/>
                  </a:lnTo>
                  <a:lnTo>
                    <a:pt x="983" y="1331"/>
                  </a:lnTo>
                  <a:lnTo>
                    <a:pt x="983" y="1332"/>
                  </a:lnTo>
                  <a:lnTo>
                    <a:pt x="954" y="1398"/>
                  </a:lnTo>
                  <a:lnTo>
                    <a:pt x="973" y="1391"/>
                  </a:lnTo>
                  <a:lnTo>
                    <a:pt x="968" y="1390"/>
                  </a:lnTo>
                  <a:lnTo>
                    <a:pt x="963" y="1391"/>
                  </a:lnTo>
                  <a:lnTo>
                    <a:pt x="957" y="1394"/>
                  </a:lnTo>
                  <a:lnTo>
                    <a:pt x="953" y="1398"/>
                  </a:lnTo>
                  <a:lnTo>
                    <a:pt x="968" y="1403"/>
                  </a:lnTo>
                  <a:lnTo>
                    <a:pt x="976" y="1393"/>
                  </a:lnTo>
                  <a:lnTo>
                    <a:pt x="948" y="1376"/>
                  </a:lnTo>
                  <a:lnTo>
                    <a:pt x="945" y="1375"/>
                  </a:lnTo>
                  <a:lnTo>
                    <a:pt x="940" y="1374"/>
                  </a:lnTo>
                  <a:lnTo>
                    <a:pt x="934" y="1375"/>
                  </a:lnTo>
                  <a:lnTo>
                    <a:pt x="931" y="1376"/>
                  </a:lnTo>
                  <a:lnTo>
                    <a:pt x="903" y="1393"/>
                  </a:lnTo>
                  <a:lnTo>
                    <a:pt x="903" y="1393"/>
                  </a:lnTo>
                  <a:lnTo>
                    <a:pt x="876" y="1409"/>
                  </a:lnTo>
                  <a:lnTo>
                    <a:pt x="895" y="1410"/>
                  </a:lnTo>
                  <a:lnTo>
                    <a:pt x="889" y="1408"/>
                  </a:lnTo>
                  <a:lnTo>
                    <a:pt x="884" y="1407"/>
                  </a:lnTo>
                  <a:lnTo>
                    <a:pt x="878" y="1408"/>
                  </a:lnTo>
                  <a:lnTo>
                    <a:pt x="884" y="1420"/>
                  </a:lnTo>
                  <a:lnTo>
                    <a:pt x="896" y="1411"/>
                  </a:lnTo>
                  <a:lnTo>
                    <a:pt x="868" y="1378"/>
                  </a:lnTo>
                  <a:lnTo>
                    <a:pt x="866" y="1377"/>
                  </a:lnTo>
                  <a:lnTo>
                    <a:pt x="861" y="1375"/>
                  </a:lnTo>
                  <a:lnTo>
                    <a:pt x="855" y="1374"/>
                  </a:lnTo>
                  <a:lnTo>
                    <a:pt x="850" y="1375"/>
                  </a:lnTo>
                  <a:lnTo>
                    <a:pt x="844" y="1377"/>
                  </a:lnTo>
                  <a:lnTo>
                    <a:pt x="840" y="1382"/>
                  </a:lnTo>
                  <a:lnTo>
                    <a:pt x="840" y="1384"/>
                  </a:lnTo>
                  <a:lnTo>
                    <a:pt x="804" y="1516"/>
                  </a:lnTo>
                  <a:lnTo>
                    <a:pt x="819" y="1518"/>
                  </a:lnTo>
                  <a:lnTo>
                    <a:pt x="806" y="1510"/>
                  </a:lnTo>
                  <a:lnTo>
                    <a:pt x="778" y="1542"/>
                  </a:lnTo>
                  <a:lnTo>
                    <a:pt x="801" y="1541"/>
                  </a:lnTo>
                  <a:lnTo>
                    <a:pt x="796" y="1539"/>
                  </a:lnTo>
                  <a:lnTo>
                    <a:pt x="790" y="1537"/>
                  </a:lnTo>
                  <a:lnTo>
                    <a:pt x="785" y="1539"/>
                  </a:lnTo>
                  <a:lnTo>
                    <a:pt x="779" y="1541"/>
                  </a:lnTo>
                  <a:lnTo>
                    <a:pt x="790" y="1550"/>
                  </a:lnTo>
                  <a:lnTo>
                    <a:pt x="804" y="1544"/>
                  </a:lnTo>
                  <a:lnTo>
                    <a:pt x="775" y="1495"/>
                  </a:lnTo>
                  <a:lnTo>
                    <a:pt x="773" y="1491"/>
                  </a:lnTo>
                  <a:lnTo>
                    <a:pt x="767" y="1489"/>
                  </a:lnTo>
                  <a:lnTo>
                    <a:pt x="762" y="1488"/>
                  </a:lnTo>
                  <a:lnTo>
                    <a:pt x="735" y="1488"/>
                  </a:lnTo>
                  <a:lnTo>
                    <a:pt x="735" y="1501"/>
                  </a:lnTo>
                  <a:lnTo>
                    <a:pt x="743" y="1490"/>
                  </a:lnTo>
                  <a:lnTo>
                    <a:pt x="714" y="1474"/>
                  </a:lnTo>
                  <a:lnTo>
                    <a:pt x="721" y="1480"/>
                  </a:lnTo>
                  <a:lnTo>
                    <a:pt x="717" y="1475"/>
                  </a:lnTo>
                  <a:lnTo>
                    <a:pt x="706" y="1484"/>
                  </a:lnTo>
                  <a:lnTo>
                    <a:pt x="721" y="1480"/>
                  </a:lnTo>
                  <a:lnTo>
                    <a:pt x="694" y="1415"/>
                  </a:lnTo>
                  <a:lnTo>
                    <a:pt x="694" y="1415"/>
                  </a:lnTo>
                  <a:lnTo>
                    <a:pt x="690" y="1410"/>
                  </a:lnTo>
                  <a:lnTo>
                    <a:pt x="684" y="1408"/>
                  </a:lnTo>
                  <a:lnTo>
                    <a:pt x="679" y="1407"/>
                  </a:lnTo>
                  <a:lnTo>
                    <a:pt x="673" y="1408"/>
                  </a:lnTo>
                  <a:lnTo>
                    <a:pt x="671" y="1409"/>
                  </a:lnTo>
                  <a:lnTo>
                    <a:pt x="642" y="1425"/>
                  </a:lnTo>
                  <a:lnTo>
                    <a:pt x="639" y="1427"/>
                  </a:lnTo>
                  <a:lnTo>
                    <a:pt x="635" y="1431"/>
                  </a:lnTo>
                  <a:lnTo>
                    <a:pt x="635" y="1433"/>
                  </a:lnTo>
                  <a:lnTo>
                    <a:pt x="608" y="1515"/>
                  </a:lnTo>
                  <a:lnTo>
                    <a:pt x="612" y="1509"/>
                  </a:lnTo>
                  <a:lnTo>
                    <a:pt x="608" y="1514"/>
                  </a:lnTo>
                  <a:lnTo>
                    <a:pt x="623" y="1518"/>
                  </a:lnTo>
                  <a:lnTo>
                    <a:pt x="615" y="1508"/>
                  </a:lnTo>
                  <a:lnTo>
                    <a:pt x="587" y="1523"/>
                  </a:lnTo>
                  <a:lnTo>
                    <a:pt x="600" y="1522"/>
                  </a:lnTo>
                  <a:lnTo>
                    <a:pt x="595" y="1521"/>
                  </a:lnTo>
                  <a:lnTo>
                    <a:pt x="589" y="1522"/>
                  </a:lnTo>
                  <a:lnTo>
                    <a:pt x="595" y="1534"/>
                  </a:lnTo>
                  <a:lnTo>
                    <a:pt x="603" y="1523"/>
                  </a:lnTo>
                  <a:lnTo>
                    <a:pt x="574" y="1508"/>
                  </a:lnTo>
                  <a:lnTo>
                    <a:pt x="572" y="1507"/>
                  </a:lnTo>
                  <a:lnTo>
                    <a:pt x="566" y="1506"/>
                  </a:lnTo>
                  <a:lnTo>
                    <a:pt x="561" y="1507"/>
                  </a:lnTo>
                  <a:lnTo>
                    <a:pt x="559" y="1507"/>
                  </a:lnTo>
                  <a:lnTo>
                    <a:pt x="523" y="1522"/>
                  </a:lnTo>
                  <a:lnTo>
                    <a:pt x="544" y="1529"/>
                  </a:lnTo>
                  <a:lnTo>
                    <a:pt x="540" y="1524"/>
                  </a:lnTo>
                  <a:lnTo>
                    <a:pt x="535" y="1522"/>
                  </a:lnTo>
                  <a:lnTo>
                    <a:pt x="530" y="1521"/>
                  </a:lnTo>
                  <a:lnTo>
                    <a:pt x="524" y="1522"/>
                  </a:lnTo>
                  <a:lnTo>
                    <a:pt x="530" y="1534"/>
                  </a:lnTo>
                  <a:lnTo>
                    <a:pt x="544" y="1530"/>
                  </a:lnTo>
                  <a:lnTo>
                    <a:pt x="516" y="1433"/>
                  </a:lnTo>
                  <a:lnTo>
                    <a:pt x="516" y="1431"/>
                  </a:lnTo>
                  <a:lnTo>
                    <a:pt x="513" y="1429"/>
                  </a:lnTo>
                  <a:lnTo>
                    <a:pt x="486" y="1396"/>
                  </a:lnTo>
                  <a:lnTo>
                    <a:pt x="485" y="1394"/>
                  </a:lnTo>
                  <a:lnTo>
                    <a:pt x="482" y="1393"/>
                  </a:lnTo>
                  <a:lnTo>
                    <a:pt x="453" y="1376"/>
                  </a:lnTo>
                  <a:lnTo>
                    <a:pt x="425" y="1361"/>
                  </a:lnTo>
                  <a:lnTo>
                    <a:pt x="432" y="1367"/>
                  </a:lnTo>
                  <a:lnTo>
                    <a:pt x="428" y="1362"/>
                  </a:lnTo>
                  <a:lnTo>
                    <a:pt x="417" y="1371"/>
                  </a:lnTo>
                  <a:lnTo>
                    <a:pt x="432" y="1368"/>
                  </a:lnTo>
                  <a:lnTo>
                    <a:pt x="403" y="1269"/>
                  </a:lnTo>
                  <a:lnTo>
                    <a:pt x="403" y="1268"/>
                  </a:lnTo>
                  <a:lnTo>
                    <a:pt x="399" y="1263"/>
                  </a:lnTo>
                  <a:lnTo>
                    <a:pt x="394" y="1261"/>
                  </a:lnTo>
                  <a:lnTo>
                    <a:pt x="388" y="1259"/>
                  </a:lnTo>
                  <a:lnTo>
                    <a:pt x="360" y="1259"/>
                  </a:lnTo>
                  <a:lnTo>
                    <a:pt x="375" y="1268"/>
                  </a:lnTo>
                  <a:lnTo>
                    <a:pt x="371" y="1263"/>
                  </a:lnTo>
                  <a:lnTo>
                    <a:pt x="365" y="1261"/>
                  </a:lnTo>
                  <a:lnTo>
                    <a:pt x="360" y="1272"/>
                  </a:lnTo>
                  <a:lnTo>
                    <a:pt x="375" y="1269"/>
                  </a:lnTo>
                  <a:lnTo>
                    <a:pt x="348" y="1186"/>
                  </a:lnTo>
                  <a:lnTo>
                    <a:pt x="333" y="1190"/>
                  </a:lnTo>
                  <a:lnTo>
                    <a:pt x="348" y="1188"/>
                  </a:lnTo>
                  <a:lnTo>
                    <a:pt x="320" y="1075"/>
                  </a:lnTo>
                  <a:lnTo>
                    <a:pt x="320" y="1072"/>
                  </a:lnTo>
                  <a:lnTo>
                    <a:pt x="316" y="1068"/>
                  </a:lnTo>
                  <a:lnTo>
                    <a:pt x="315" y="1066"/>
                  </a:lnTo>
                  <a:lnTo>
                    <a:pt x="286" y="1049"/>
                  </a:lnTo>
                  <a:lnTo>
                    <a:pt x="277" y="1059"/>
                  </a:lnTo>
                  <a:lnTo>
                    <a:pt x="292" y="1055"/>
                  </a:lnTo>
                  <a:lnTo>
                    <a:pt x="254" y="973"/>
                  </a:lnTo>
                  <a:lnTo>
                    <a:pt x="254" y="973"/>
                  </a:lnTo>
                  <a:lnTo>
                    <a:pt x="250" y="969"/>
                  </a:lnTo>
                  <a:lnTo>
                    <a:pt x="244" y="966"/>
                  </a:lnTo>
                  <a:lnTo>
                    <a:pt x="239" y="965"/>
                  </a:lnTo>
                  <a:lnTo>
                    <a:pt x="234" y="966"/>
                  </a:lnTo>
                  <a:lnTo>
                    <a:pt x="231" y="967"/>
                  </a:lnTo>
                  <a:lnTo>
                    <a:pt x="202" y="984"/>
                  </a:lnTo>
                  <a:lnTo>
                    <a:pt x="202" y="984"/>
                  </a:lnTo>
                  <a:lnTo>
                    <a:pt x="175" y="1000"/>
                  </a:lnTo>
                  <a:lnTo>
                    <a:pt x="189" y="999"/>
                  </a:lnTo>
                  <a:lnTo>
                    <a:pt x="183" y="998"/>
                  </a:lnTo>
                  <a:lnTo>
                    <a:pt x="178" y="999"/>
                  </a:lnTo>
                  <a:lnTo>
                    <a:pt x="183" y="1011"/>
                  </a:lnTo>
                  <a:lnTo>
                    <a:pt x="193" y="1000"/>
                  </a:lnTo>
                  <a:lnTo>
                    <a:pt x="166" y="984"/>
                  </a:lnTo>
                  <a:lnTo>
                    <a:pt x="162" y="983"/>
                  </a:lnTo>
                  <a:lnTo>
                    <a:pt x="156" y="982"/>
                  </a:lnTo>
                  <a:lnTo>
                    <a:pt x="151" y="983"/>
                  </a:lnTo>
                  <a:lnTo>
                    <a:pt x="148" y="984"/>
                  </a:lnTo>
                  <a:lnTo>
                    <a:pt x="119" y="1000"/>
                  </a:lnTo>
                  <a:lnTo>
                    <a:pt x="117" y="1002"/>
                  </a:lnTo>
                  <a:lnTo>
                    <a:pt x="113" y="1006"/>
                  </a:lnTo>
                  <a:lnTo>
                    <a:pt x="113" y="1011"/>
                  </a:lnTo>
                  <a:lnTo>
                    <a:pt x="113" y="1009"/>
                  </a:lnTo>
                  <a:lnTo>
                    <a:pt x="84" y="1139"/>
                  </a:lnTo>
                  <a:lnTo>
                    <a:pt x="88" y="1132"/>
                  </a:lnTo>
                  <a:lnTo>
                    <a:pt x="84" y="1137"/>
                  </a:lnTo>
                  <a:lnTo>
                    <a:pt x="84" y="1142"/>
                  </a:lnTo>
                  <a:lnTo>
                    <a:pt x="99" y="1142"/>
                  </a:lnTo>
                  <a:lnTo>
                    <a:pt x="91" y="1131"/>
                  </a:lnTo>
                  <a:lnTo>
                    <a:pt x="64" y="1148"/>
                  </a:lnTo>
                  <a:lnTo>
                    <a:pt x="60" y="1150"/>
                  </a:lnTo>
                  <a:lnTo>
                    <a:pt x="31" y="1182"/>
                  </a:lnTo>
                  <a:lnTo>
                    <a:pt x="29" y="1185"/>
                  </a:lnTo>
                  <a:lnTo>
                    <a:pt x="29" y="1186"/>
                  </a:lnTo>
                  <a:lnTo>
                    <a:pt x="0" y="12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flipV="1">
              <a:off x="328320" y="880920"/>
              <a:ext cx="1440" cy="14432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flipV="1">
              <a:off x="328320" y="880920"/>
              <a:ext cx="1440" cy="14432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flipV="1">
              <a:off x="328320" y="2303640"/>
              <a:ext cx="1440" cy="20880"/>
            </a:xfrm>
            <a:prstGeom prst="line">
              <a:avLst/>
            </a:prstGeom>
            <a:ln w="1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76" name=""/>
            <p:cNvSpPr/>
            <p:nvPr/>
          </p:nvSpPr>
          <p:spPr>
            <a:xfrm>
              <a:off x="304560" y="2354400"/>
              <a:ext cx="12024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304560" y="23562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1778" name=""/>
            <p:cNvSpPr/>
            <p:nvPr/>
          </p:nvSpPr>
          <p:spPr>
            <a:xfrm>
              <a:off x="364680" y="22719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779" name=""/>
            <p:cNvSpPr/>
            <p:nvPr/>
          </p:nvSpPr>
          <p:spPr>
            <a:xfrm flipV="1">
              <a:off x="823680" y="2303640"/>
              <a:ext cx="1440" cy="20880"/>
            </a:xfrm>
            <a:prstGeom prst="line">
              <a:avLst/>
            </a:prstGeom>
            <a:ln w="1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80" name=""/>
            <p:cNvSpPr/>
            <p:nvPr/>
          </p:nvSpPr>
          <p:spPr>
            <a:xfrm>
              <a:off x="768240" y="2354400"/>
              <a:ext cx="19152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768240" y="23562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a:t>
              </a:r>
              <a:endParaRPr b="0" lang="en-US" sz="700" spc="-1" strike="noStrike">
                <a:solidFill>
                  <a:srgbClr val="000000"/>
                </a:solidFill>
                <a:latin typeface="Times New Roman"/>
              </a:endParaRPr>
            </a:p>
          </p:txBody>
        </p:sp>
        <p:sp>
          <p:nvSpPr>
            <p:cNvPr id="1782" name=""/>
            <p:cNvSpPr/>
            <p:nvPr/>
          </p:nvSpPr>
          <p:spPr>
            <a:xfrm>
              <a:off x="888480" y="22719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783" name=""/>
            <p:cNvSpPr/>
            <p:nvPr/>
          </p:nvSpPr>
          <p:spPr>
            <a:xfrm flipV="1">
              <a:off x="1319040" y="2303640"/>
              <a:ext cx="1080" cy="20880"/>
            </a:xfrm>
            <a:prstGeom prst="line">
              <a:avLst/>
            </a:prstGeom>
            <a:ln w="1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84" name=""/>
            <p:cNvSpPr/>
            <p:nvPr/>
          </p:nvSpPr>
          <p:spPr>
            <a:xfrm>
              <a:off x="1265040" y="2354400"/>
              <a:ext cx="1918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1265040" y="23562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0</a:t>
              </a:r>
              <a:endParaRPr b="0" lang="en-US" sz="700" spc="-1" strike="noStrike">
                <a:solidFill>
                  <a:srgbClr val="000000"/>
                </a:solidFill>
                <a:latin typeface="Times New Roman"/>
              </a:endParaRPr>
            </a:p>
          </p:txBody>
        </p:sp>
        <p:sp>
          <p:nvSpPr>
            <p:cNvPr id="1786" name=""/>
            <p:cNvSpPr/>
            <p:nvPr/>
          </p:nvSpPr>
          <p:spPr>
            <a:xfrm>
              <a:off x="1385280" y="22719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787" name=""/>
            <p:cNvSpPr/>
            <p:nvPr/>
          </p:nvSpPr>
          <p:spPr>
            <a:xfrm flipV="1">
              <a:off x="1815840" y="2303640"/>
              <a:ext cx="1440" cy="20880"/>
            </a:xfrm>
            <a:prstGeom prst="line">
              <a:avLst/>
            </a:prstGeom>
            <a:ln w="1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88" name=""/>
            <p:cNvSpPr/>
            <p:nvPr/>
          </p:nvSpPr>
          <p:spPr>
            <a:xfrm>
              <a:off x="1758600" y="2354400"/>
              <a:ext cx="19332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1758600" y="23562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0</a:t>
              </a:r>
              <a:endParaRPr b="0" lang="en-US" sz="700" spc="-1" strike="noStrike">
                <a:solidFill>
                  <a:srgbClr val="000000"/>
                </a:solidFill>
                <a:latin typeface="Times New Roman"/>
              </a:endParaRPr>
            </a:p>
          </p:txBody>
        </p:sp>
        <p:sp>
          <p:nvSpPr>
            <p:cNvPr id="1790" name=""/>
            <p:cNvSpPr/>
            <p:nvPr/>
          </p:nvSpPr>
          <p:spPr>
            <a:xfrm>
              <a:off x="1879200" y="22719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791" name=""/>
            <p:cNvSpPr/>
            <p:nvPr/>
          </p:nvSpPr>
          <p:spPr>
            <a:xfrm flipV="1">
              <a:off x="2311200" y="2303640"/>
              <a:ext cx="1080" cy="20880"/>
            </a:xfrm>
            <a:prstGeom prst="line">
              <a:avLst/>
            </a:prstGeom>
            <a:ln w="1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92" name=""/>
            <p:cNvSpPr/>
            <p:nvPr/>
          </p:nvSpPr>
          <p:spPr>
            <a:xfrm>
              <a:off x="2255760" y="2354400"/>
              <a:ext cx="19332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2255760" y="23562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0</a:t>
              </a:r>
              <a:endParaRPr b="0" lang="en-US" sz="700" spc="-1" strike="noStrike">
                <a:solidFill>
                  <a:srgbClr val="000000"/>
                </a:solidFill>
                <a:latin typeface="Times New Roman"/>
              </a:endParaRPr>
            </a:p>
          </p:txBody>
        </p:sp>
        <p:sp>
          <p:nvSpPr>
            <p:cNvPr id="1794" name=""/>
            <p:cNvSpPr/>
            <p:nvPr/>
          </p:nvSpPr>
          <p:spPr>
            <a:xfrm>
              <a:off x="2376000" y="22719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795" name=""/>
            <p:cNvSpPr/>
            <p:nvPr/>
          </p:nvSpPr>
          <p:spPr>
            <a:xfrm flipV="1">
              <a:off x="2806560" y="2303640"/>
              <a:ext cx="1080" cy="20880"/>
            </a:xfrm>
            <a:prstGeom prst="line">
              <a:avLst/>
            </a:prstGeom>
            <a:ln w="1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96" name=""/>
            <p:cNvSpPr/>
            <p:nvPr/>
          </p:nvSpPr>
          <p:spPr>
            <a:xfrm>
              <a:off x="2727000" y="2354400"/>
              <a:ext cx="25704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2727000" y="235620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a:t>
              </a:r>
              <a:endParaRPr b="0" lang="en-US" sz="700" spc="-1" strike="noStrike">
                <a:solidFill>
                  <a:srgbClr val="000000"/>
                </a:solidFill>
                <a:latin typeface="Times New Roman"/>
              </a:endParaRPr>
            </a:p>
          </p:txBody>
        </p:sp>
        <p:sp>
          <p:nvSpPr>
            <p:cNvPr id="1798" name=""/>
            <p:cNvSpPr/>
            <p:nvPr/>
          </p:nvSpPr>
          <p:spPr>
            <a:xfrm>
              <a:off x="2907720" y="22719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799" name=""/>
            <p:cNvSpPr/>
            <p:nvPr/>
          </p:nvSpPr>
          <p:spPr>
            <a:xfrm flipV="1">
              <a:off x="3301920" y="2303640"/>
              <a:ext cx="2520" cy="20880"/>
            </a:xfrm>
            <a:prstGeom prst="line">
              <a:avLst/>
            </a:prstGeom>
            <a:ln w="1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00" name=""/>
            <p:cNvSpPr/>
            <p:nvPr/>
          </p:nvSpPr>
          <p:spPr>
            <a:xfrm>
              <a:off x="3222360" y="2354400"/>
              <a:ext cx="25704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3222360" y="235620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0</a:t>
              </a:r>
              <a:endParaRPr b="0" lang="en-US" sz="700" spc="-1" strike="noStrike">
                <a:solidFill>
                  <a:srgbClr val="000000"/>
                </a:solidFill>
                <a:latin typeface="Times New Roman"/>
              </a:endParaRPr>
            </a:p>
          </p:txBody>
        </p:sp>
        <p:sp>
          <p:nvSpPr>
            <p:cNvPr id="1802" name=""/>
            <p:cNvSpPr/>
            <p:nvPr/>
          </p:nvSpPr>
          <p:spPr>
            <a:xfrm>
              <a:off x="3403080" y="22719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03" name=""/>
            <p:cNvSpPr/>
            <p:nvPr/>
          </p:nvSpPr>
          <p:spPr>
            <a:xfrm>
              <a:off x="328320" y="2324520"/>
              <a:ext cx="31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4" name=""/>
            <p:cNvSpPr/>
            <p:nvPr/>
          </p:nvSpPr>
          <p:spPr>
            <a:xfrm>
              <a:off x="328320" y="2117880"/>
              <a:ext cx="313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46080" y="2071800"/>
              <a:ext cx="26316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46080" y="2073600"/>
              <a:ext cx="29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1807" name=""/>
            <p:cNvSpPr/>
            <p:nvPr/>
          </p:nvSpPr>
          <p:spPr>
            <a:xfrm>
              <a:off x="81000" y="2073600"/>
              <a:ext cx="12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5</a:t>
              </a:r>
              <a:endParaRPr b="0" lang="en-US" sz="700" spc="-1" strike="noStrike">
                <a:solidFill>
                  <a:srgbClr val="000000"/>
                </a:solidFill>
                <a:latin typeface="Times New Roman"/>
              </a:endParaRPr>
            </a:p>
          </p:txBody>
        </p:sp>
        <p:sp>
          <p:nvSpPr>
            <p:cNvPr id="1808" name=""/>
            <p:cNvSpPr/>
            <p:nvPr/>
          </p:nvSpPr>
          <p:spPr>
            <a:xfrm>
              <a:off x="231480" y="19893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09" name=""/>
            <p:cNvSpPr/>
            <p:nvPr/>
          </p:nvSpPr>
          <p:spPr>
            <a:xfrm>
              <a:off x="328320" y="1910160"/>
              <a:ext cx="31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0" name=""/>
            <p:cNvSpPr/>
            <p:nvPr/>
          </p:nvSpPr>
          <p:spPr>
            <a:xfrm>
              <a:off x="53640" y="1865520"/>
              <a:ext cx="16020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52200" y="1867320"/>
              <a:ext cx="29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1812" name=""/>
            <p:cNvSpPr/>
            <p:nvPr/>
          </p:nvSpPr>
          <p:spPr>
            <a:xfrm>
              <a:off x="87120" y="186732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Times New Roman"/>
              </a:endParaRPr>
            </a:p>
          </p:txBody>
        </p:sp>
        <p:sp>
          <p:nvSpPr>
            <p:cNvPr id="1813" name=""/>
            <p:cNvSpPr/>
            <p:nvPr/>
          </p:nvSpPr>
          <p:spPr>
            <a:xfrm>
              <a:off x="147240" y="17830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14" name=""/>
            <p:cNvSpPr/>
            <p:nvPr/>
          </p:nvSpPr>
          <p:spPr>
            <a:xfrm>
              <a:off x="328320" y="1703520"/>
              <a:ext cx="313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5" name=""/>
            <p:cNvSpPr/>
            <p:nvPr/>
          </p:nvSpPr>
          <p:spPr>
            <a:xfrm>
              <a:off x="46080" y="1659240"/>
              <a:ext cx="26316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46080" y="1660680"/>
              <a:ext cx="29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1817" name=""/>
            <p:cNvSpPr/>
            <p:nvPr/>
          </p:nvSpPr>
          <p:spPr>
            <a:xfrm>
              <a:off x="81000" y="1660680"/>
              <a:ext cx="12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5</a:t>
              </a:r>
              <a:endParaRPr b="0" lang="en-US" sz="700" spc="-1" strike="noStrike">
                <a:solidFill>
                  <a:srgbClr val="000000"/>
                </a:solidFill>
                <a:latin typeface="Times New Roman"/>
              </a:endParaRPr>
            </a:p>
          </p:txBody>
        </p:sp>
        <p:sp>
          <p:nvSpPr>
            <p:cNvPr id="1818" name=""/>
            <p:cNvSpPr/>
            <p:nvPr/>
          </p:nvSpPr>
          <p:spPr>
            <a:xfrm>
              <a:off x="231480" y="1576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19" name=""/>
            <p:cNvSpPr/>
            <p:nvPr/>
          </p:nvSpPr>
          <p:spPr>
            <a:xfrm>
              <a:off x="328320" y="1497240"/>
              <a:ext cx="313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0" name=""/>
            <p:cNvSpPr/>
            <p:nvPr/>
          </p:nvSpPr>
          <p:spPr>
            <a:xfrm>
              <a:off x="87120" y="1451160"/>
              <a:ext cx="118800" cy="15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85320" y="14544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1822" name=""/>
            <p:cNvSpPr/>
            <p:nvPr/>
          </p:nvSpPr>
          <p:spPr>
            <a:xfrm>
              <a:off x="145440" y="13701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23" name=""/>
            <p:cNvSpPr/>
            <p:nvPr/>
          </p:nvSpPr>
          <p:spPr>
            <a:xfrm>
              <a:off x="328320" y="1290960"/>
              <a:ext cx="31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4" name=""/>
            <p:cNvSpPr/>
            <p:nvPr/>
          </p:nvSpPr>
          <p:spPr>
            <a:xfrm>
              <a:off x="77760" y="1244880"/>
              <a:ext cx="22500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7760" y="1246320"/>
              <a:ext cx="12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5</a:t>
              </a:r>
              <a:endParaRPr b="0" lang="en-US" sz="700" spc="-1" strike="noStrike">
                <a:solidFill>
                  <a:srgbClr val="000000"/>
                </a:solidFill>
                <a:latin typeface="Times New Roman"/>
              </a:endParaRPr>
            </a:p>
          </p:txBody>
        </p:sp>
        <p:sp>
          <p:nvSpPr>
            <p:cNvPr id="1826" name=""/>
            <p:cNvSpPr/>
            <p:nvPr/>
          </p:nvSpPr>
          <p:spPr>
            <a:xfrm>
              <a:off x="228240" y="1162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27" name=""/>
            <p:cNvSpPr/>
            <p:nvPr/>
          </p:nvSpPr>
          <p:spPr>
            <a:xfrm>
              <a:off x="328320" y="1084680"/>
              <a:ext cx="31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8" name=""/>
            <p:cNvSpPr/>
            <p:nvPr/>
          </p:nvSpPr>
          <p:spPr>
            <a:xfrm>
              <a:off x="87120" y="1040040"/>
              <a:ext cx="11880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85320" y="10418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Times New Roman"/>
              </a:endParaRPr>
            </a:p>
          </p:txBody>
        </p:sp>
        <p:sp>
          <p:nvSpPr>
            <p:cNvPr id="1830" name=""/>
            <p:cNvSpPr/>
            <p:nvPr/>
          </p:nvSpPr>
          <p:spPr>
            <a:xfrm>
              <a:off x="145440" y="957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31" name=""/>
            <p:cNvSpPr/>
            <p:nvPr/>
          </p:nvSpPr>
          <p:spPr>
            <a:xfrm>
              <a:off x="77760" y="837000"/>
              <a:ext cx="22500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77760" y="838440"/>
              <a:ext cx="12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5</a:t>
              </a:r>
              <a:endParaRPr b="0" lang="en-US" sz="700" spc="-1" strike="noStrike">
                <a:solidFill>
                  <a:srgbClr val="000000"/>
                </a:solidFill>
                <a:latin typeface="Times New Roman"/>
              </a:endParaRPr>
            </a:p>
          </p:txBody>
        </p:sp>
        <p:sp>
          <p:nvSpPr>
            <p:cNvPr id="1833" name=""/>
            <p:cNvSpPr/>
            <p:nvPr/>
          </p:nvSpPr>
          <p:spPr>
            <a:xfrm>
              <a:off x="228240" y="75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34" name=""/>
            <p:cNvSpPr/>
            <p:nvPr/>
          </p:nvSpPr>
          <p:spPr>
            <a:xfrm flipV="1">
              <a:off x="328320" y="880920"/>
              <a:ext cx="1440" cy="14432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909360" y="866880"/>
              <a:ext cx="263160" cy="235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909360" y="87516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837" name=""/>
            <p:cNvSpPr/>
            <p:nvPr/>
          </p:nvSpPr>
          <p:spPr>
            <a:xfrm>
              <a:off x="1051920" y="8751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38" name=""/>
            <p:cNvSpPr/>
            <p:nvPr/>
          </p:nvSpPr>
          <p:spPr>
            <a:xfrm>
              <a:off x="2306520" y="1914840"/>
              <a:ext cx="263160" cy="23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306520" y="192276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Q</a:t>
              </a:r>
              <a:endParaRPr b="0" lang="en-US" sz="1500" spc="-1" strike="noStrike">
                <a:solidFill>
                  <a:srgbClr val="000000"/>
                </a:solidFill>
                <a:latin typeface="Times New Roman"/>
              </a:endParaRPr>
            </a:p>
          </p:txBody>
        </p:sp>
        <p:sp>
          <p:nvSpPr>
            <p:cNvPr id="1840" name=""/>
            <p:cNvSpPr/>
            <p:nvPr/>
          </p:nvSpPr>
          <p:spPr>
            <a:xfrm>
              <a:off x="2460240" y="19227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 </a:t>
              </a:r>
              <a:endParaRPr b="0" lang="en-US" sz="1500" spc="-1" strike="noStrike">
                <a:solidFill>
                  <a:srgbClr val="000000"/>
                </a:solidFill>
                <a:latin typeface="Times New Roman"/>
              </a:endParaRPr>
            </a:p>
          </p:txBody>
        </p:sp>
        <p:grpSp>
          <p:nvGrpSpPr>
            <p:cNvPr id="1841" name=""/>
            <p:cNvGrpSpPr/>
            <p:nvPr/>
          </p:nvGrpSpPr>
          <p:grpSpPr>
            <a:xfrm>
              <a:off x="1141200" y="939960"/>
              <a:ext cx="681840" cy="122400"/>
              <a:chOff x="1141200" y="939960"/>
              <a:chExt cx="681840" cy="122400"/>
            </a:xfrm>
          </p:grpSpPr>
          <p:sp>
            <p:nvSpPr>
              <p:cNvPr id="1842" name=""/>
              <p:cNvSpPr/>
              <p:nvPr/>
            </p:nvSpPr>
            <p:spPr>
              <a:xfrm>
                <a:off x="1141200" y="960840"/>
                <a:ext cx="54432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43" name=""/>
              <p:cNvSpPr/>
              <p:nvPr/>
            </p:nvSpPr>
            <p:spPr>
              <a:xfrm>
                <a:off x="1677600" y="939960"/>
                <a:ext cx="145440" cy="122400"/>
              </a:xfrm>
              <a:custGeom>
                <a:avLst/>
                <a:gdLst/>
                <a:ahLst/>
                <a:rect l="l" t="t" r="r" b="b"/>
                <a:pathLst>
                  <a:path w="184" h="154">
                    <a:moveTo>
                      <a:pt x="0" y="154"/>
                    </a:moveTo>
                    <a:lnTo>
                      <a:pt x="184" y="90"/>
                    </a:lnTo>
                    <a:lnTo>
                      <a:pt x="14" y="0"/>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4" name=""/>
            <p:cNvGrpSpPr/>
            <p:nvPr/>
          </p:nvGrpSpPr>
          <p:grpSpPr>
            <a:xfrm>
              <a:off x="2501640" y="1856160"/>
              <a:ext cx="389880" cy="151920"/>
              <a:chOff x="2501640" y="1856160"/>
              <a:chExt cx="389880" cy="151920"/>
            </a:xfrm>
          </p:grpSpPr>
          <p:sp>
            <p:nvSpPr>
              <p:cNvPr id="1845" name=""/>
              <p:cNvSpPr/>
              <p:nvPr/>
            </p:nvSpPr>
            <p:spPr>
              <a:xfrm flipV="1">
                <a:off x="2501640" y="1911240"/>
                <a:ext cx="26316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2734560" y="1856160"/>
                <a:ext cx="156960" cy="112680"/>
              </a:xfrm>
              <a:custGeom>
                <a:avLst/>
                <a:gdLst/>
                <a:ahLst/>
                <a:rect l="l" t="t" r="r" b="b"/>
                <a:pathLst>
                  <a:path w="198" h="143">
                    <a:moveTo>
                      <a:pt x="69" y="143"/>
                    </a:moveTo>
                    <a:lnTo>
                      <a:pt x="198" y="11"/>
                    </a:lnTo>
                    <a:lnTo>
                      <a:pt x="0" y="0"/>
                    </a:lnTo>
                    <a:lnTo>
                      <a:pt x="69"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7" name=""/>
            <p:cNvSpPr/>
            <p:nvPr/>
          </p:nvSpPr>
          <p:spPr>
            <a:xfrm>
              <a:off x="3554280" y="107172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
            <p:cNvSpPr/>
            <p:nvPr/>
          </p:nvSpPr>
          <p:spPr>
            <a:xfrm>
              <a:off x="3627360" y="10702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9" name=""/>
          <p:cNvSpPr/>
          <p:nvPr/>
        </p:nvSpPr>
        <p:spPr>
          <a:xfrm>
            <a:off x="3782880" y="107172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576600" y="30430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3649680" y="30402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2" name=""/>
          <p:cNvGrpSpPr/>
          <p:nvPr/>
        </p:nvGrpSpPr>
        <p:grpSpPr>
          <a:xfrm>
            <a:off x="0" y="3289320"/>
            <a:ext cx="3822840" cy="1783800"/>
            <a:chOff x="0" y="3289320"/>
            <a:chExt cx="3822840" cy="1783800"/>
          </a:xfrm>
        </p:grpSpPr>
        <p:sp>
          <p:nvSpPr>
            <p:cNvPr id="1853" name=""/>
            <p:cNvSpPr/>
            <p:nvPr/>
          </p:nvSpPr>
          <p:spPr>
            <a:xfrm>
              <a:off x="0" y="32893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54" name=""/>
            <p:cNvSpPr/>
            <p:nvPr/>
          </p:nvSpPr>
          <p:spPr>
            <a:xfrm>
              <a:off x="3327480" y="3605040"/>
              <a:ext cx="355680" cy="417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351000" y="4859280"/>
              <a:ext cx="34700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56" name=""/>
            <p:cNvSpPr/>
            <p:nvPr/>
          </p:nvSpPr>
          <p:spPr>
            <a:xfrm flipV="1">
              <a:off x="351000" y="3417480"/>
              <a:ext cx="1440" cy="14410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351000" y="4859280"/>
              <a:ext cx="34700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58" name=""/>
            <p:cNvSpPr/>
            <p:nvPr/>
          </p:nvSpPr>
          <p:spPr>
            <a:xfrm flipV="1">
              <a:off x="351000" y="3417480"/>
              <a:ext cx="1440" cy="14410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flipV="1">
              <a:off x="351000" y="4838040"/>
              <a:ext cx="144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60" name=""/>
            <p:cNvSpPr/>
            <p:nvPr/>
          </p:nvSpPr>
          <p:spPr>
            <a:xfrm>
              <a:off x="326880" y="4890960"/>
              <a:ext cx="120960" cy="18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326880" y="48924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1862" name=""/>
            <p:cNvSpPr/>
            <p:nvPr/>
          </p:nvSpPr>
          <p:spPr>
            <a:xfrm>
              <a:off x="387360" y="48085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63" name=""/>
            <p:cNvSpPr/>
            <p:nvPr/>
          </p:nvSpPr>
          <p:spPr>
            <a:xfrm flipV="1">
              <a:off x="846000" y="483804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64" name=""/>
            <p:cNvSpPr/>
            <p:nvPr/>
          </p:nvSpPr>
          <p:spPr>
            <a:xfrm>
              <a:off x="790560" y="4890960"/>
              <a:ext cx="192240" cy="18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790560" y="48924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a:t>
              </a:r>
              <a:endParaRPr b="0" lang="en-US" sz="700" spc="-1" strike="noStrike">
                <a:solidFill>
                  <a:srgbClr val="000000"/>
                </a:solidFill>
                <a:latin typeface="Times New Roman"/>
              </a:endParaRPr>
            </a:p>
          </p:txBody>
        </p:sp>
        <p:sp>
          <p:nvSpPr>
            <p:cNvPr id="1866" name=""/>
            <p:cNvSpPr/>
            <p:nvPr/>
          </p:nvSpPr>
          <p:spPr>
            <a:xfrm>
              <a:off x="911160" y="48085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67" name=""/>
            <p:cNvSpPr/>
            <p:nvPr/>
          </p:nvSpPr>
          <p:spPr>
            <a:xfrm flipV="1">
              <a:off x="1341360" y="483804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68" name=""/>
            <p:cNvSpPr/>
            <p:nvPr/>
          </p:nvSpPr>
          <p:spPr>
            <a:xfrm>
              <a:off x="1287360" y="4890960"/>
              <a:ext cx="192240" cy="18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1287360" y="48924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0</a:t>
              </a:r>
              <a:endParaRPr b="0" lang="en-US" sz="700" spc="-1" strike="noStrike">
                <a:solidFill>
                  <a:srgbClr val="000000"/>
                </a:solidFill>
                <a:latin typeface="Times New Roman"/>
              </a:endParaRPr>
            </a:p>
          </p:txBody>
        </p:sp>
        <p:sp>
          <p:nvSpPr>
            <p:cNvPr id="1870" name=""/>
            <p:cNvSpPr/>
            <p:nvPr/>
          </p:nvSpPr>
          <p:spPr>
            <a:xfrm>
              <a:off x="1407960" y="48085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71" name=""/>
            <p:cNvSpPr/>
            <p:nvPr/>
          </p:nvSpPr>
          <p:spPr>
            <a:xfrm flipV="1">
              <a:off x="1838160" y="483804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72" name=""/>
            <p:cNvSpPr/>
            <p:nvPr/>
          </p:nvSpPr>
          <p:spPr>
            <a:xfrm>
              <a:off x="1781280" y="4890960"/>
              <a:ext cx="193680" cy="18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1781280" y="48924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0</a:t>
              </a:r>
              <a:endParaRPr b="0" lang="en-US" sz="700" spc="-1" strike="noStrike">
                <a:solidFill>
                  <a:srgbClr val="000000"/>
                </a:solidFill>
                <a:latin typeface="Times New Roman"/>
              </a:endParaRPr>
            </a:p>
          </p:txBody>
        </p:sp>
        <p:sp>
          <p:nvSpPr>
            <p:cNvPr id="1874" name=""/>
            <p:cNvSpPr/>
            <p:nvPr/>
          </p:nvSpPr>
          <p:spPr>
            <a:xfrm>
              <a:off x="1901880" y="48085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75" name=""/>
            <p:cNvSpPr/>
            <p:nvPr/>
          </p:nvSpPr>
          <p:spPr>
            <a:xfrm flipV="1">
              <a:off x="2333520" y="483804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76" name=""/>
            <p:cNvSpPr/>
            <p:nvPr/>
          </p:nvSpPr>
          <p:spPr>
            <a:xfrm>
              <a:off x="2278080" y="4890960"/>
              <a:ext cx="193680" cy="18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78080" y="48924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0</a:t>
              </a:r>
              <a:endParaRPr b="0" lang="en-US" sz="700" spc="-1" strike="noStrike">
                <a:solidFill>
                  <a:srgbClr val="000000"/>
                </a:solidFill>
                <a:latin typeface="Times New Roman"/>
              </a:endParaRPr>
            </a:p>
          </p:txBody>
        </p:sp>
        <p:sp>
          <p:nvSpPr>
            <p:cNvPr id="1878" name=""/>
            <p:cNvSpPr/>
            <p:nvPr/>
          </p:nvSpPr>
          <p:spPr>
            <a:xfrm>
              <a:off x="2398680" y="48085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79" name=""/>
            <p:cNvSpPr/>
            <p:nvPr/>
          </p:nvSpPr>
          <p:spPr>
            <a:xfrm flipV="1">
              <a:off x="2828880" y="483804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0" name=""/>
            <p:cNvSpPr/>
            <p:nvPr/>
          </p:nvSpPr>
          <p:spPr>
            <a:xfrm>
              <a:off x="2749680" y="4890960"/>
              <a:ext cx="257040" cy="18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2750040" y="489240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a:t>
              </a:r>
              <a:endParaRPr b="0" lang="en-US" sz="700" spc="-1" strike="noStrike">
                <a:solidFill>
                  <a:srgbClr val="000000"/>
                </a:solidFill>
                <a:latin typeface="Times New Roman"/>
              </a:endParaRPr>
            </a:p>
          </p:txBody>
        </p:sp>
        <p:sp>
          <p:nvSpPr>
            <p:cNvPr id="1882" name=""/>
            <p:cNvSpPr/>
            <p:nvPr/>
          </p:nvSpPr>
          <p:spPr>
            <a:xfrm>
              <a:off x="2930400" y="48085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83" name=""/>
            <p:cNvSpPr/>
            <p:nvPr/>
          </p:nvSpPr>
          <p:spPr>
            <a:xfrm flipV="1">
              <a:off x="3324240" y="4838040"/>
              <a:ext cx="324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4" name=""/>
            <p:cNvSpPr/>
            <p:nvPr/>
          </p:nvSpPr>
          <p:spPr>
            <a:xfrm>
              <a:off x="3244680" y="4890960"/>
              <a:ext cx="257400" cy="18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245040" y="489240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0</a:t>
              </a:r>
              <a:endParaRPr b="0" lang="en-US" sz="700" spc="-1" strike="noStrike">
                <a:solidFill>
                  <a:srgbClr val="000000"/>
                </a:solidFill>
                <a:latin typeface="Times New Roman"/>
              </a:endParaRPr>
            </a:p>
          </p:txBody>
        </p:sp>
        <p:sp>
          <p:nvSpPr>
            <p:cNvPr id="1886" name=""/>
            <p:cNvSpPr/>
            <p:nvPr/>
          </p:nvSpPr>
          <p:spPr>
            <a:xfrm>
              <a:off x="3425760" y="48085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87" name=""/>
            <p:cNvSpPr/>
            <p:nvPr/>
          </p:nvSpPr>
          <p:spPr>
            <a:xfrm flipV="1">
              <a:off x="3821040" y="483804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8" name=""/>
            <p:cNvSpPr/>
            <p:nvPr/>
          </p:nvSpPr>
          <p:spPr>
            <a:xfrm>
              <a:off x="351000" y="4859280"/>
              <a:ext cx="31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89" name=""/>
            <p:cNvSpPr/>
            <p:nvPr/>
          </p:nvSpPr>
          <p:spPr>
            <a:xfrm flipH="1">
              <a:off x="3781440" y="4859280"/>
              <a:ext cx="396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90" name=""/>
            <p:cNvSpPr/>
            <p:nvPr/>
          </p:nvSpPr>
          <p:spPr>
            <a:xfrm>
              <a:off x="351000" y="4652640"/>
              <a:ext cx="31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68400" y="4606920"/>
              <a:ext cx="263520" cy="14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68400" y="4608360"/>
              <a:ext cx="29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1893" name=""/>
            <p:cNvSpPr/>
            <p:nvPr/>
          </p:nvSpPr>
          <p:spPr>
            <a:xfrm>
              <a:off x="103680" y="4608360"/>
              <a:ext cx="12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5</a:t>
              </a:r>
              <a:endParaRPr b="0" lang="en-US" sz="700" spc="-1" strike="noStrike">
                <a:solidFill>
                  <a:srgbClr val="000000"/>
                </a:solidFill>
                <a:latin typeface="Times New Roman"/>
              </a:endParaRPr>
            </a:p>
          </p:txBody>
        </p:sp>
        <p:sp>
          <p:nvSpPr>
            <p:cNvPr id="1894" name=""/>
            <p:cNvSpPr/>
            <p:nvPr/>
          </p:nvSpPr>
          <p:spPr>
            <a:xfrm>
              <a:off x="254160" y="45241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895" name=""/>
            <p:cNvSpPr/>
            <p:nvPr/>
          </p:nvSpPr>
          <p:spPr>
            <a:xfrm>
              <a:off x="351000" y="4446360"/>
              <a:ext cx="31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76320" y="4400280"/>
              <a:ext cx="16020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74880" y="4402080"/>
              <a:ext cx="29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1898" name=""/>
            <p:cNvSpPr/>
            <p:nvPr/>
          </p:nvSpPr>
          <p:spPr>
            <a:xfrm>
              <a:off x="109440" y="44020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Times New Roman"/>
              </a:endParaRPr>
            </a:p>
          </p:txBody>
        </p:sp>
        <p:sp>
          <p:nvSpPr>
            <p:cNvPr id="1899" name=""/>
            <p:cNvSpPr/>
            <p:nvPr/>
          </p:nvSpPr>
          <p:spPr>
            <a:xfrm>
              <a:off x="169920" y="4317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900" name=""/>
            <p:cNvSpPr/>
            <p:nvPr/>
          </p:nvSpPr>
          <p:spPr>
            <a:xfrm>
              <a:off x="351000" y="4240080"/>
              <a:ext cx="31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01" name=""/>
            <p:cNvSpPr/>
            <p:nvPr/>
          </p:nvSpPr>
          <p:spPr>
            <a:xfrm>
              <a:off x="68400" y="4195440"/>
              <a:ext cx="2635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68400" y="4195440"/>
              <a:ext cx="29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1903" name=""/>
            <p:cNvSpPr/>
            <p:nvPr/>
          </p:nvSpPr>
          <p:spPr>
            <a:xfrm>
              <a:off x="103680" y="4195440"/>
              <a:ext cx="12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5</a:t>
              </a:r>
              <a:endParaRPr b="0" lang="en-US" sz="700" spc="-1" strike="noStrike">
                <a:solidFill>
                  <a:srgbClr val="000000"/>
                </a:solidFill>
                <a:latin typeface="Times New Roman"/>
              </a:endParaRPr>
            </a:p>
          </p:txBody>
        </p:sp>
        <p:sp>
          <p:nvSpPr>
            <p:cNvPr id="1904" name=""/>
            <p:cNvSpPr/>
            <p:nvPr/>
          </p:nvSpPr>
          <p:spPr>
            <a:xfrm>
              <a:off x="254160" y="41115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905" name=""/>
            <p:cNvSpPr/>
            <p:nvPr/>
          </p:nvSpPr>
          <p:spPr>
            <a:xfrm>
              <a:off x="351000" y="4033800"/>
              <a:ext cx="31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06" name=""/>
            <p:cNvSpPr/>
            <p:nvPr/>
          </p:nvSpPr>
          <p:spPr>
            <a:xfrm>
              <a:off x="109440" y="3987720"/>
              <a:ext cx="119160" cy="147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108000" y="39891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1908" name=""/>
            <p:cNvSpPr/>
            <p:nvPr/>
          </p:nvSpPr>
          <p:spPr>
            <a:xfrm>
              <a:off x="168120" y="39049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909" name=""/>
            <p:cNvSpPr/>
            <p:nvPr/>
          </p:nvSpPr>
          <p:spPr>
            <a:xfrm>
              <a:off x="351000" y="3825720"/>
              <a:ext cx="31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10" name=""/>
            <p:cNvSpPr/>
            <p:nvPr/>
          </p:nvSpPr>
          <p:spPr>
            <a:xfrm>
              <a:off x="100080" y="3781080"/>
              <a:ext cx="2253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100440" y="3782880"/>
              <a:ext cx="12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5</a:t>
              </a:r>
              <a:endParaRPr b="0" lang="en-US" sz="700" spc="-1" strike="noStrike">
                <a:solidFill>
                  <a:srgbClr val="000000"/>
                </a:solidFill>
                <a:latin typeface="Times New Roman"/>
              </a:endParaRPr>
            </a:p>
          </p:txBody>
        </p:sp>
        <p:sp>
          <p:nvSpPr>
            <p:cNvPr id="1912" name=""/>
            <p:cNvSpPr/>
            <p:nvPr/>
          </p:nvSpPr>
          <p:spPr>
            <a:xfrm>
              <a:off x="250920" y="3698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913" name=""/>
            <p:cNvSpPr/>
            <p:nvPr/>
          </p:nvSpPr>
          <p:spPr>
            <a:xfrm>
              <a:off x="351000" y="3619440"/>
              <a:ext cx="31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14" name=""/>
            <p:cNvSpPr/>
            <p:nvPr/>
          </p:nvSpPr>
          <p:spPr>
            <a:xfrm>
              <a:off x="109440" y="3574800"/>
              <a:ext cx="11916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108000" y="35766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Times New Roman"/>
              </a:endParaRPr>
            </a:p>
          </p:txBody>
        </p:sp>
        <p:sp>
          <p:nvSpPr>
            <p:cNvPr id="1916" name=""/>
            <p:cNvSpPr/>
            <p:nvPr/>
          </p:nvSpPr>
          <p:spPr>
            <a:xfrm>
              <a:off x="168120" y="34923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917" name=""/>
            <p:cNvSpPr/>
            <p:nvPr/>
          </p:nvSpPr>
          <p:spPr>
            <a:xfrm>
              <a:off x="100080" y="3371760"/>
              <a:ext cx="225360" cy="14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100440" y="3373200"/>
              <a:ext cx="12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5</a:t>
              </a:r>
              <a:endParaRPr b="0" lang="en-US" sz="700" spc="-1" strike="noStrike">
                <a:solidFill>
                  <a:srgbClr val="000000"/>
                </a:solidFill>
                <a:latin typeface="Times New Roman"/>
              </a:endParaRPr>
            </a:p>
          </p:txBody>
        </p:sp>
        <p:sp>
          <p:nvSpPr>
            <p:cNvPr id="1919" name=""/>
            <p:cNvSpPr/>
            <p:nvPr/>
          </p:nvSpPr>
          <p:spPr>
            <a:xfrm>
              <a:off x="351000" y="4859280"/>
              <a:ext cx="34700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0" name=""/>
            <p:cNvSpPr/>
            <p:nvPr/>
          </p:nvSpPr>
          <p:spPr>
            <a:xfrm flipV="1">
              <a:off x="351000" y="3417480"/>
              <a:ext cx="1440" cy="14410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1" name=""/>
            <p:cNvGrpSpPr/>
            <p:nvPr/>
          </p:nvGrpSpPr>
          <p:grpSpPr>
            <a:xfrm>
              <a:off x="504720" y="4039920"/>
              <a:ext cx="92160" cy="195120"/>
              <a:chOff x="504720" y="4039920"/>
              <a:chExt cx="92160" cy="195120"/>
            </a:xfrm>
          </p:grpSpPr>
          <p:sp>
            <p:nvSpPr>
              <p:cNvPr id="1922" name=""/>
              <p:cNvSpPr/>
              <p:nvPr/>
            </p:nvSpPr>
            <p:spPr>
              <a:xfrm flipV="1">
                <a:off x="549000" y="4092480"/>
                <a:ext cx="1800" cy="8856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3" name=""/>
              <p:cNvSpPr/>
              <p:nvPr/>
            </p:nvSpPr>
            <p:spPr>
              <a:xfrm>
                <a:off x="504720" y="4154040"/>
                <a:ext cx="92160" cy="81000"/>
              </a:xfrm>
              <a:custGeom>
                <a:avLst/>
                <a:gdLst/>
                <a:ahLst/>
                <a:rect l="l" t="t" r="r" b="b"/>
                <a:pathLst>
                  <a:path w="115" h="101">
                    <a:moveTo>
                      <a:pt x="0" y="0"/>
                    </a:moveTo>
                    <a:lnTo>
                      <a:pt x="58" y="101"/>
                    </a:lnTo>
                    <a:lnTo>
                      <a:pt x="115" y="0"/>
                    </a:lnTo>
                    <a:lnTo>
                      <a:pt x="58" y="31"/>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24" name=""/>
              <p:cNvSpPr/>
              <p:nvPr/>
            </p:nvSpPr>
            <p:spPr>
              <a:xfrm>
                <a:off x="504720" y="4039920"/>
                <a:ext cx="92160" cy="79200"/>
              </a:xfrm>
              <a:custGeom>
                <a:avLst/>
                <a:gdLst/>
                <a:ahLst/>
                <a:rect l="l" t="t" r="r" b="b"/>
                <a:pathLst>
                  <a:path w="115" h="100">
                    <a:moveTo>
                      <a:pt x="115" y="100"/>
                    </a:moveTo>
                    <a:lnTo>
                      <a:pt x="58" y="0"/>
                    </a:lnTo>
                    <a:lnTo>
                      <a:pt x="0" y="100"/>
                    </a:lnTo>
                    <a:lnTo>
                      <a:pt x="58" y="68"/>
                    </a:lnTo>
                    <a:lnTo>
                      <a:pt x="115" y="10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925" name=""/>
            <p:cNvGrpSpPr/>
            <p:nvPr/>
          </p:nvGrpSpPr>
          <p:grpSpPr>
            <a:xfrm>
              <a:off x="882720" y="4527360"/>
              <a:ext cx="90360" cy="110880"/>
              <a:chOff x="882720" y="4527360"/>
              <a:chExt cx="90360" cy="110880"/>
            </a:xfrm>
          </p:grpSpPr>
          <p:sp>
            <p:nvSpPr>
              <p:cNvPr id="1926" name=""/>
              <p:cNvSpPr/>
              <p:nvPr/>
            </p:nvSpPr>
            <p:spPr>
              <a:xfrm flipV="1">
                <a:off x="927000" y="4578120"/>
                <a:ext cx="1440" cy="7920"/>
              </a:xfrm>
              <a:prstGeom prst="line">
                <a:avLst/>
              </a:prstGeom>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7" name=""/>
              <p:cNvSpPr/>
              <p:nvPr/>
            </p:nvSpPr>
            <p:spPr>
              <a:xfrm>
                <a:off x="882720" y="4559040"/>
                <a:ext cx="90360" cy="79200"/>
              </a:xfrm>
              <a:custGeom>
                <a:avLst/>
                <a:gdLst/>
                <a:ahLst/>
                <a:rect l="l" t="t" r="r" b="b"/>
                <a:pathLst>
                  <a:path w="115" h="101">
                    <a:moveTo>
                      <a:pt x="0" y="0"/>
                    </a:moveTo>
                    <a:lnTo>
                      <a:pt x="58" y="101"/>
                    </a:lnTo>
                    <a:lnTo>
                      <a:pt x="115" y="0"/>
                    </a:lnTo>
                    <a:lnTo>
                      <a:pt x="58" y="3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28" name=""/>
              <p:cNvSpPr/>
              <p:nvPr/>
            </p:nvSpPr>
            <p:spPr>
              <a:xfrm>
                <a:off x="882720" y="4527360"/>
                <a:ext cx="90360" cy="79200"/>
              </a:xfrm>
              <a:custGeom>
                <a:avLst/>
                <a:gdLst/>
                <a:ahLst/>
                <a:rect l="l" t="t" r="r" b="b"/>
                <a:pathLst>
                  <a:path w="115" h="100">
                    <a:moveTo>
                      <a:pt x="115" y="100"/>
                    </a:moveTo>
                    <a:lnTo>
                      <a:pt x="58" y="0"/>
                    </a:lnTo>
                    <a:lnTo>
                      <a:pt x="0" y="100"/>
                    </a:lnTo>
                    <a:lnTo>
                      <a:pt x="58" y="68"/>
                    </a:lnTo>
                    <a:lnTo>
                      <a:pt x="115" y="10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929" name=""/>
            <p:cNvGrpSpPr/>
            <p:nvPr/>
          </p:nvGrpSpPr>
          <p:grpSpPr>
            <a:xfrm>
              <a:off x="1258920" y="4187520"/>
              <a:ext cx="91800" cy="593640"/>
              <a:chOff x="1258920" y="4187520"/>
              <a:chExt cx="91800" cy="593640"/>
            </a:xfrm>
          </p:grpSpPr>
          <p:sp>
            <p:nvSpPr>
              <p:cNvPr id="1930" name=""/>
              <p:cNvSpPr/>
              <p:nvPr/>
            </p:nvSpPr>
            <p:spPr>
              <a:xfrm flipV="1">
                <a:off x="1305000" y="4240080"/>
                <a:ext cx="1440" cy="488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1258920" y="4701960"/>
                <a:ext cx="91800" cy="79200"/>
              </a:xfrm>
              <a:custGeom>
                <a:avLst/>
                <a:gdLst/>
                <a:ahLst/>
                <a:rect l="l" t="t" r="r" b="b"/>
                <a:pathLst>
                  <a:path w="116" h="100">
                    <a:moveTo>
                      <a:pt x="0" y="0"/>
                    </a:moveTo>
                    <a:lnTo>
                      <a:pt x="59" y="100"/>
                    </a:lnTo>
                    <a:lnTo>
                      <a:pt x="116" y="0"/>
                    </a:lnTo>
                    <a:lnTo>
                      <a:pt x="59" y="3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2" name=""/>
              <p:cNvSpPr/>
              <p:nvPr/>
            </p:nvSpPr>
            <p:spPr>
              <a:xfrm>
                <a:off x="1258920" y="4187520"/>
                <a:ext cx="91800" cy="79560"/>
              </a:xfrm>
              <a:custGeom>
                <a:avLst/>
                <a:gdLst/>
                <a:ahLst/>
                <a:rect l="l" t="t" r="r" b="b"/>
                <a:pathLst>
                  <a:path w="116" h="100">
                    <a:moveTo>
                      <a:pt x="116" y="100"/>
                    </a:moveTo>
                    <a:lnTo>
                      <a:pt x="59" y="0"/>
                    </a:lnTo>
                    <a:lnTo>
                      <a:pt x="0" y="100"/>
                    </a:lnTo>
                    <a:lnTo>
                      <a:pt x="59" y="68"/>
                    </a:lnTo>
                    <a:lnTo>
                      <a:pt x="116" y="10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933" name=""/>
            <p:cNvGrpSpPr/>
            <p:nvPr/>
          </p:nvGrpSpPr>
          <p:grpSpPr>
            <a:xfrm>
              <a:off x="1636560" y="3701880"/>
              <a:ext cx="90360" cy="410400"/>
              <a:chOff x="1636560" y="3701880"/>
              <a:chExt cx="90360" cy="410400"/>
            </a:xfrm>
          </p:grpSpPr>
          <p:sp>
            <p:nvSpPr>
              <p:cNvPr id="1934" name=""/>
              <p:cNvSpPr/>
              <p:nvPr/>
            </p:nvSpPr>
            <p:spPr>
              <a:xfrm flipV="1">
                <a:off x="1681200" y="3753720"/>
                <a:ext cx="1440" cy="306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636560" y="4033080"/>
                <a:ext cx="90360" cy="79200"/>
              </a:xfrm>
              <a:custGeom>
                <a:avLst/>
                <a:gdLst/>
                <a:ahLst/>
                <a:rect l="l" t="t" r="r" b="b"/>
                <a:pathLst>
                  <a:path w="116" h="102">
                    <a:moveTo>
                      <a:pt x="0" y="0"/>
                    </a:moveTo>
                    <a:lnTo>
                      <a:pt x="59" y="102"/>
                    </a:lnTo>
                    <a:lnTo>
                      <a:pt x="116" y="0"/>
                    </a:lnTo>
                    <a:lnTo>
                      <a:pt x="59" y="3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6" name=""/>
              <p:cNvSpPr/>
              <p:nvPr/>
            </p:nvSpPr>
            <p:spPr>
              <a:xfrm>
                <a:off x="1636560" y="3701880"/>
                <a:ext cx="90360" cy="78840"/>
              </a:xfrm>
              <a:custGeom>
                <a:avLst/>
                <a:gdLst/>
                <a:ahLst/>
                <a:rect l="l" t="t" r="r" b="b"/>
                <a:pathLst>
                  <a:path w="116" h="100">
                    <a:moveTo>
                      <a:pt x="116" y="100"/>
                    </a:moveTo>
                    <a:lnTo>
                      <a:pt x="59" y="0"/>
                    </a:lnTo>
                    <a:lnTo>
                      <a:pt x="0" y="100"/>
                    </a:lnTo>
                    <a:lnTo>
                      <a:pt x="59" y="68"/>
                    </a:lnTo>
                    <a:lnTo>
                      <a:pt x="116" y="10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937" name=""/>
            <p:cNvGrpSpPr/>
            <p:nvPr/>
          </p:nvGrpSpPr>
          <p:grpSpPr>
            <a:xfrm>
              <a:off x="2013120" y="3489120"/>
              <a:ext cx="91800" cy="807840"/>
              <a:chOff x="2013120" y="3489120"/>
              <a:chExt cx="91800" cy="807840"/>
            </a:xfrm>
          </p:grpSpPr>
          <p:sp>
            <p:nvSpPr>
              <p:cNvPr id="1938" name=""/>
              <p:cNvSpPr/>
              <p:nvPr/>
            </p:nvSpPr>
            <p:spPr>
              <a:xfrm flipV="1">
                <a:off x="2058840" y="3539880"/>
                <a:ext cx="1440" cy="704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013120" y="4217760"/>
                <a:ext cx="91800" cy="79200"/>
              </a:xfrm>
              <a:custGeom>
                <a:avLst/>
                <a:gdLst/>
                <a:ahLst/>
                <a:rect l="l" t="t" r="r" b="b"/>
                <a:pathLst>
                  <a:path w="115" h="100">
                    <a:moveTo>
                      <a:pt x="0" y="0"/>
                    </a:moveTo>
                    <a:lnTo>
                      <a:pt x="58" y="100"/>
                    </a:lnTo>
                    <a:lnTo>
                      <a:pt x="115" y="0"/>
                    </a:lnTo>
                    <a:lnTo>
                      <a:pt x="58" y="3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0" name=""/>
              <p:cNvSpPr/>
              <p:nvPr/>
            </p:nvSpPr>
            <p:spPr>
              <a:xfrm>
                <a:off x="2013120" y="3489120"/>
                <a:ext cx="91800" cy="79200"/>
              </a:xfrm>
              <a:custGeom>
                <a:avLst/>
                <a:gdLst/>
                <a:ahLst/>
                <a:rect l="l" t="t" r="r" b="b"/>
                <a:pathLst>
                  <a:path w="115" h="100">
                    <a:moveTo>
                      <a:pt x="115" y="100"/>
                    </a:moveTo>
                    <a:lnTo>
                      <a:pt x="58" y="0"/>
                    </a:lnTo>
                    <a:lnTo>
                      <a:pt x="0" y="100"/>
                    </a:lnTo>
                    <a:lnTo>
                      <a:pt x="58" y="68"/>
                    </a:lnTo>
                    <a:lnTo>
                      <a:pt x="115" y="10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941" name=""/>
            <p:cNvGrpSpPr/>
            <p:nvPr/>
          </p:nvGrpSpPr>
          <p:grpSpPr>
            <a:xfrm>
              <a:off x="2390760" y="3393720"/>
              <a:ext cx="92160" cy="377280"/>
              <a:chOff x="2390760" y="3393720"/>
              <a:chExt cx="92160" cy="377280"/>
            </a:xfrm>
          </p:grpSpPr>
          <p:sp>
            <p:nvSpPr>
              <p:cNvPr id="1942" name=""/>
              <p:cNvSpPr/>
              <p:nvPr/>
            </p:nvSpPr>
            <p:spPr>
              <a:xfrm flipV="1">
                <a:off x="2435040" y="3444120"/>
                <a:ext cx="1800" cy="274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2390760" y="3691800"/>
                <a:ext cx="92160" cy="79200"/>
              </a:xfrm>
              <a:custGeom>
                <a:avLst/>
                <a:gdLst/>
                <a:ahLst/>
                <a:rect l="l" t="t" r="r" b="b"/>
                <a:pathLst>
                  <a:path w="115" h="100">
                    <a:moveTo>
                      <a:pt x="0" y="0"/>
                    </a:moveTo>
                    <a:lnTo>
                      <a:pt x="58" y="100"/>
                    </a:lnTo>
                    <a:lnTo>
                      <a:pt x="115" y="0"/>
                    </a:lnTo>
                    <a:lnTo>
                      <a:pt x="58" y="31"/>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4" name=""/>
              <p:cNvSpPr/>
              <p:nvPr/>
            </p:nvSpPr>
            <p:spPr>
              <a:xfrm>
                <a:off x="2390760" y="3393720"/>
                <a:ext cx="92160" cy="79200"/>
              </a:xfrm>
              <a:custGeom>
                <a:avLst/>
                <a:gdLst/>
                <a:ahLst/>
                <a:rect l="l" t="t" r="r" b="b"/>
                <a:pathLst>
                  <a:path w="115" h="100">
                    <a:moveTo>
                      <a:pt x="115" y="100"/>
                    </a:moveTo>
                    <a:lnTo>
                      <a:pt x="58" y="0"/>
                    </a:lnTo>
                    <a:lnTo>
                      <a:pt x="0" y="100"/>
                    </a:lnTo>
                    <a:lnTo>
                      <a:pt x="58" y="68"/>
                    </a:lnTo>
                    <a:lnTo>
                      <a:pt x="115" y="10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945" name=""/>
            <p:cNvGrpSpPr/>
            <p:nvPr/>
          </p:nvGrpSpPr>
          <p:grpSpPr>
            <a:xfrm>
              <a:off x="2766960" y="3655800"/>
              <a:ext cx="92160" cy="261720"/>
              <a:chOff x="2766960" y="3655800"/>
              <a:chExt cx="92160" cy="261720"/>
            </a:xfrm>
          </p:grpSpPr>
          <p:sp>
            <p:nvSpPr>
              <p:cNvPr id="1946" name=""/>
              <p:cNvSpPr/>
              <p:nvPr/>
            </p:nvSpPr>
            <p:spPr>
              <a:xfrm flipV="1">
                <a:off x="2813040" y="3706200"/>
                <a:ext cx="1440" cy="157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2766960" y="3836880"/>
                <a:ext cx="92160" cy="80640"/>
              </a:xfrm>
              <a:custGeom>
                <a:avLst/>
                <a:gdLst/>
                <a:ahLst/>
                <a:rect l="l" t="t" r="r" b="b"/>
                <a:pathLst>
                  <a:path w="115" h="101">
                    <a:moveTo>
                      <a:pt x="0" y="0"/>
                    </a:moveTo>
                    <a:lnTo>
                      <a:pt x="58" y="101"/>
                    </a:lnTo>
                    <a:lnTo>
                      <a:pt x="115" y="0"/>
                    </a:lnTo>
                    <a:lnTo>
                      <a:pt x="58" y="32"/>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48" name=""/>
              <p:cNvSpPr/>
              <p:nvPr/>
            </p:nvSpPr>
            <p:spPr>
              <a:xfrm>
                <a:off x="2766960" y="3655800"/>
                <a:ext cx="92160" cy="79200"/>
              </a:xfrm>
              <a:custGeom>
                <a:avLst/>
                <a:gdLst/>
                <a:ahLst/>
                <a:rect l="l" t="t" r="r" b="b"/>
                <a:pathLst>
                  <a:path w="115" h="100">
                    <a:moveTo>
                      <a:pt x="115" y="100"/>
                    </a:moveTo>
                    <a:lnTo>
                      <a:pt x="58" y="0"/>
                    </a:lnTo>
                    <a:lnTo>
                      <a:pt x="0" y="100"/>
                    </a:lnTo>
                    <a:lnTo>
                      <a:pt x="58" y="68"/>
                    </a:lnTo>
                    <a:lnTo>
                      <a:pt x="115" y="10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949" name=""/>
            <p:cNvGrpSpPr/>
            <p:nvPr/>
          </p:nvGrpSpPr>
          <p:grpSpPr>
            <a:xfrm>
              <a:off x="3143160" y="3743280"/>
              <a:ext cx="93600" cy="784800"/>
              <a:chOff x="3143160" y="3743280"/>
              <a:chExt cx="93600" cy="784800"/>
            </a:xfrm>
          </p:grpSpPr>
          <p:sp>
            <p:nvSpPr>
              <p:cNvPr id="1950" name=""/>
              <p:cNvSpPr/>
              <p:nvPr/>
            </p:nvSpPr>
            <p:spPr>
              <a:xfrm flipV="1">
                <a:off x="3189240" y="3795480"/>
                <a:ext cx="1440" cy="6804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3143160" y="4449240"/>
                <a:ext cx="92160" cy="78840"/>
              </a:xfrm>
              <a:custGeom>
                <a:avLst/>
                <a:gdLst/>
                <a:ahLst/>
                <a:rect l="l" t="t" r="r" b="b"/>
                <a:pathLst>
                  <a:path w="115" h="100">
                    <a:moveTo>
                      <a:pt x="0" y="0"/>
                    </a:moveTo>
                    <a:lnTo>
                      <a:pt x="57" y="100"/>
                    </a:lnTo>
                    <a:lnTo>
                      <a:pt x="115" y="0"/>
                    </a:lnTo>
                    <a:lnTo>
                      <a:pt x="57" y="32"/>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52" name=""/>
              <p:cNvSpPr/>
              <p:nvPr/>
            </p:nvSpPr>
            <p:spPr>
              <a:xfrm>
                <a:off x="3144600" y="3743280"/>
                <a:ext cx="92160" cy="80640"/>
              </a:xfrm>
              <a:custGeom>
                <a:avLst/>
                <a:gdLst/>
                <a:ahLst/>
                <a:rect l="l" t="t" r="r" b="b"/>
                <a:pathLst>
                  <a:path w="116" h="102">
                    <a:moveTo>
                      <a:pt x="116" y="102"/>
                    </a:moveTo>
                    <a:lnTo>
                      <a:pt x="59" y="0"/>
                    </a:lnTo>
                    <a:lnTo>
                      <a:pt x="0" y="102"/>
                    </a:lnTo>
                    <a:lnTo>
                      <a:pt x="59" y="70"/>
                    </a:lnTo>
                    <a:lnTo>
                      <a:pt x="116"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953" name=""/>
            <p:cNvSpPr/>
            <p:nvPr/>
          </p:nvSpPr>
          <p:spPr>
            <a:xfrm>
              <a:off x="371520" y="3476520"/>
              <a:ext cx="2987640" cy="1321920"/>
            </a:xfrm>
            <a:custGeom>
              <a:avLst/>
              <a:gdLst/>
              <a:ahLst/>
              <a:rect l="l" t="t" r="r" b="b"/>
              <a:pathLst>
                <a:path w="3763" h="1667">
                  <a:moveTo>
                    <a:pt x="0" y="698"/>
                  </a:moveTo>
                  <a:lnTo>
                    <a:pt x="0" y="727"/>
                  </a:lnTo>
                  <a:lnTo>
                    <a:pt x="30" y="727"/>
                  </a:lnTo>
                  <a:lnTo>
                    <a:pt x="58" y="727"/>
                  </a:lnTo>
                  <a:lnTo>
                    <a:pt x="87" y="727"/>
                  </a:lnTo>
                  <a:lnTo>
                    <a:pt x="115" y="727"/>
                  </a:lnTo>
                  <a:lnTo>
                    <a:pt x="144" y="727"/>
                  </a:lnTo>
                  <a:lnTo>
                    <a:pt x="172" y="727"/>
                  </a:lnTo>
                  <a:lnTo>
                    <a:pt x="202" y="727"/>
                  </a:lnTo>
                  <a:lnTo>
                    <a:pt x="231" y="727"/>
                  </a:lnTo>
                  <a:lnTo>
                    <a:pt x="269" y="727"/>
                  </a:lnTo>
                  <a:lnTo>
                    <a:pt x="297" y="727"/>
                  </a:lnTo>
                  <a:lnTo>
                    <a:pt x="326" y="727"/>
                  </a:lnTo>
                  <a:lnTo>
                    <a:pt x="354" y="727"/>
                  </a:lnTo>
                  <a:lnTo>
                    <a:pt x="384" y="727"/>
                  </a:lnTo>
                  <a:lnTo>
                    <a:pt x="413" y="727"/>
                  </a:lnTo>
                  <a:lnTo>
                    <a:pt x="441" y="727"/>
                  </a:lnTo>
                  <a:lnTo>
                    <a:pt x="441" y="712"/>
                  </a:lnTo>
                  <a:lnTo>
                    <a:pt x="426" y="718"/>
                  </a:lnTo>
                  <a:lnTo>
                    <a:pt x="429" y="723"/>
                  </a:lnTo>
                  <a:lnTo>
                    <a:pt x="434" y="725"/>
                  </a:lnTo>
                  <a:lnTo>
                    <a:pt x="425" y="713"/>
                  </a:lnTo>
                  <a:lnTo>
                    <a:pt x="453" y="1470"/>
                  </a:lnTo>
                  <a:lnTo>
                    <a:pt x="455" y="1475"/>
                  </a:lnTo>
                  <a:lnTo>
                    <a:pt x="457" y="1480"/>
                  </a:lnTo>
                  <a:lnTo>
                    <a:pt x="463" y="1482"/>
                  </a:lnTo>
                  <a:lnTo>
                    <a:pt x="470" y="1484"/>
                  </a:lnTo>
                  <a:lnTo>
                    <a:pt x="498" y="1484"/>
                  </a:lnTo>
                  <a:lnTo>
                    <a:pt x="527" y="1484"/>
                  </a:lnTo>
                  <a:lnTo>
                    <a:pt x="566" y="1484"/>
                  </a:lnTo>
                  <a:lnTo>
                    <a:pt x="595" y="1484"/>
                  </a:lnTo>
                  <a:lnTo>
                    <a:pt x="623" y="1484"/>
                  </a:lnTo>
                  <a:lnTo>
                    <a:pt x="652" y="1484"/>
                  </a:lnTo>
                  <a:lnTo>
                    <a:pt x="680" y="1484"/>
                  </a:lnTo>
                  <a:lnTo>
                    <a:pt x="709" y="1484"/>
                  </a:lnTo>
                  <a:lnTo>
                    <a:pt x="737" y="1484"/>
                  </a:lnTo>
                  <a:lnTo>
                    <a:pt x="767" y="1484"/>
                  </a:lnTo>
                  <a:lnTo>
                    <a:pt x="795" y="1484"/>
                  </a:lnTo>
                  <a:lnTo>
                    <a:pt x="824" y="1484"/>
                  </a:lnTo>
                  <a:lnTo>
                    <a:pt x="862" y="1484"/>
                  </a:lnTo>
                  <a:lnTo>
                    <a:pt x="891" y="1484"/>
                  </a:lnTo>
                  <a:lnTo>
                    <a:pt x="919" y="1484"/>
                  </a:lnTo>
                  <a:lnTo>
                    <a:pt x="919" y="1469"/>
                  </a:lnTo>
                  <a:lnTo>
                    <a:pt x="904" y="1475"/>
                  </a:lnTo>
                  <a:lnTo>
                    <a:pt x="907" y="1480"/>
                  </a:lnTo>
                  <a:lnTo>
                    <a:pt x="912" y="1482"/>
                  </a:lnTo>
                  <a:lnTo>
                    <a:pt x="903" y="1472"/>
                  </a:lnTo>
                  <a:lnTo>
                    <a:pt x="933" y="1654"/>
                  </a:lnTo>
                  <a:lnTo>
                    <a:pt x="934" y="1658"/>
                  </a:lnTo>
                  <a:lnTo>
                    <a:pt x="937" y="1662"/>
                  </a:lnTo>
                  <a:lnTo>
                    <a:pt x="942" y="1665"/>
                  </a:lnTo>
                  <a:lnTo>
                    <a:pt x="949" y="1667"/>
                  </a:lnTo>
                  <a:lnTo>
                    <a:pt x="977" y="1667"/>
                  </a:lnTo>
                  <a:lnTo>
                    <a:pt x="1006" y="1667"/>
                  </a:lnTo>
                  <a:lnTo>
                    <a:pt x="1034" y="1667"/>
                  </a:lnTo>
                  <a:lnTo>
                    <a:pt x="1063" y="1667"/>
                  </a:lnTo>
                  <a:lnTo>
                    <a:pt x="1091" y="1667"/>
                  </a:lnTo>
                  <a:lnTo>
                    <a:pt x="1121" y="1667"/>
                  </a:lnTo>
                  <a:lnTo>
                    <a:pt x="1159" y="1667"/>
                  </a:lnTo>
                  <a:lnTo>
                    <a:pt x="1188" y="1667"/>
                  </a:lnTo>
                  <a:lnTo>
                    <a:pt x="1216" y="1667"/>
                  </a:lnTo>
                  <a:lnTo>
                    <a:pt x="1245" y="1667"/>
                  </a:lnTo>
                  <a:lnTo>
                    <a:pt x="1273" y="1667"/>
                  </a:lnTo>
                  <a:lnTo>
                    <a:pt x="1302" y="1667"/>
                  </a:lnTo>
                  <a:lnTo>
                    <a:pt x="1332" y="1667"/>
                  </a:lnTo>
                  <a:lnTo>
                    <a:pt x="1360" y="1667"/>
                  </a:lnTo>
                  <a:lnTo>
                    <a:pt x="1389" y="1667"/>
                  </a:lnTo>
                  <a:lnTo>
                    <a:pt x="1389" y="1666"/>
                  </a:lnTo>
                  <a:lnTo>
                    <a:pt x="1396" y="1665"/>
                  </a:lnTo>
                  <a:lnTo>
                    <a:pt x="1401" y="1662"/>
                  </a:lnTo>
                  <a:lnTo>
                    <a:pt x="1404" y="1658"/>
                  </a:lnTo>
                  <a:lnTo>
                    <a:pt x="1406" y="1653"/>
                  </a:lnTo>
                  <a:lnTo>
                    <a:pt x="1435" y="798"/>
                  </a:lnTo>
                  <a:lnTo>
                    <a:pt x="1417" y="797"/>
                  </a:lnTo>
                  <a:lnTo>
                    <a:pt x="1417" y="811"/>
                  </a:lnTo>
                  <a:lnTo>
                    <a:pt x="1424" y="810"/>
                  </a:lnTo>
                  <a:lnTo>
                    <a:pt x="1430" y="807"/>
                  </a:lnTo>
                  <a:lnTo>
                    <a:pt x="1432" y="803"/>
                  </a:lnTo>
                  <a:lnTo>
                    <a:pt x="1417" y="812"/>
                  </a:lnTo>
                  <a:lnTo>
                    <a:pt x="1455" y="812"/>
                  </a:lnTo>
                  <a:lnTo>
                    <a:pt x="1484" y="812"/>
                  </a:lnTo>
                  <a:lnTo>
                    <a:pt x="1514" y="812"/>
                  </a:lnTo>
                  <a:lnTo>
                    <a:pt x="1542" y="812"/>
                  </a:lnTo>
                  <a:lnTo>
                    <a:pt x="1571" y="812"/>
                  </a:lnTo>
                  <a:lnTo>
                    <a:pt x="1599" y="812"/>
                  </a:lnTo>
                  <a:lnTo>
                    <a:pt x="1628" y="812"/>
                  </a:lnTo>
                  <a:lnTo>
                    <a:pt x="1656" y="812"/>
                  </a:lnTo>
                  <a:lnTo>
                    <a:pt x="1686" y="812"/>
                  </a:lnTo>
                  <a:lnTo>
                    <a:pt x="1715" y="812"/>
                  </a:lnTo>
                  <a:lnTo>
                    <a:pt x="1753" y="812"/>
                  </a:lnTo>
                  <a:lnTo>
                    <a:pt x="1781" y="812"/>
                  </a:lnTo>
                  <a:lnTo>
                    <a:pt x="1811" y="812"/>
                  </a:lnTo>
                  <a:lnTo>
                    <a:pt x="1840" y="812"/>
                  </a:lnTo>
                  <a:lnTo>
                    <a:pt x="1868" y="812"/>
                  </a:lnTo>
                  <a:lnTo>
                    <a:pt x="1868" y="811"/>
                  </a:lnTo>
                  <a:lnTo>
                    <a:pt x="1875" y="810"/>
                  </a:lnTo>
                  <a:lnTo>
                    <a:pt x="1880" y="807"/>
                  </a:lnTo>
                  <a:lnTo>
                    <a:pt x="1883" y="803"/>
                  </a:lnTo>
                  <a:lnTo>
                    <a:pt x="1886" y="798"/>
                  </a:lnTo>
                  <a:lnTo>
                    <a:pt x="1914" y="15"/>
                  </a:lnTo>
                  <a:lnTo>
                    <a:pt x="1897" y="14"/>
                  </a:lnTo>
                  <a:lnTo>
                    <a:pt x="1897" y="28"/>
                  </a:lnTo>
                  <a:lnTo>
                    <a:pt x="1903" y="27"/>
                  </a:lnTo>
                  <a:lnTo>
                    <a:pt x="1909" y="24"/>
                  </a:lnTo>
                  <a:lnTo>
                    <a:pt x="1911" y="20"/>
                  </a:lnTo>
                  <a:lnTo>
                    <a:pt x="1897" y="29"/>
                  </a:lnTo>
                  <a:lnTo>
                    <a:pt x="1925" y="29"/>
                  </a:lnTo>
                  <a:lnTo>
                    <a:pt x="1954" y="29"/>
                  </a:lnTo>
                  <a:lnTo>
                    <a:pt x="1983" y="29"/>
                  </a:lnTo>
                  <a:lnTo>
                    <a:pt x="2012" y="29"/>
                  </a:lnTo>
                  <a:lnTo>
                    <a:pt x="2050" y="29"/>
                  </a:lnTo>
                  <a:lnTo>
                    <a:pt x="2078" y="29"/>
                  </a:lnTo>
                  <a:lnTo>
                    <a:pt x="2107" y="29"/>
                  </a:lnTo>
                  <a:lnTo>
                    <a:pt x="2135" y="29"/>
                  </a:lnTo>
                  <a:lnTo>
                    <a:pt x="2165" y="29"/>
                  </a:lnTo>
                  <a:lnTo>
                    <a:pt x="2194" y="29"/>
                  </a:lnTo>
                  <a:lnTo>
                    <a:pt x="2222" y="29"/>
                  </a:lnTo>
                  <a:lnTo>
                    <a:pt x="2251" y="29"/>
                  </a:lnTo>
                  <a:lnTo>
                    <a:pt x="2279" y="29"/>
                  </a:lnTo>
                  <a:lnTo>
                    <a:pt x="2308" y="29"/>
                  </a:lnTo>
                  <a:lnTo>
                    <a:pt x="2347" y="29"/>
                  </a:lnTo>
                  <a:lnTo>
                    <a:pt x="2347" y="14"/>
                  </a:lnTo>
                  <a:lnTo>
                    <a:pt x="2332" y="20"/>
                  </a:lnTo>
                  <a:lnTo>
                    <a:pt x="2335" y="24"/>
                  </a:lnTo>
                  <a:lnTo>
                    <a:pt x="2341" y="27"/>
                  </a:lnTo>
                  <a:lnTo>
                    <a:pt x="2331" y="15"/>
                  </a:lnTo>
                  <a:lnTo>
                    <a:pt x="2360" y="374"/>
                  </a:lnTo>
                  <a:lnTo>
                    <a:pt x="2361" y="379"/>
                  </a:lnTo>
                  <a:lnTo>
                    <a:pt x="2364" y="384"/>
                  </a:lnTo>
                  <a:lnTo>
                    <a:pt x="2369" y="386"/>
                  </a:lnTo>
                  <a:lnTo>
                    <a:pt x="2376" y="388"/>
                  </a:lnTo>
                  <a:lnTo>
                    <a:pt x="2404" y="388"/>
                  </a:lnTo>
                  <a:lnTo>
                    <a:pt x="2433" y="388"/>
                  </a:lnTo>
                  <a:lnTo>
                    <a:pt x="2461" y="388"/>
                  </a:lnTo>
                  <a:lnTo>
                    <a:pt x="2490" y="388"/>
                  </a:lnTo>
                  <a:lnTo>
                    <a:pt x="2518" y="388"/>
                  </a:lnTo>
                  <a:lnTo>
                    <a:pt x="2548" y="388"/>
                  </a:lnTo>
                  <a:lnTo>
                    <a:pt x="2577" y="388"/>
                  </a:lnTo>
                  <a:lnTo>
                    <a:pt x="2605" y="388"/>
                  </a:lnTo>
                  <a:lnTo>
                    <a:pt x="2643" y="388"/>
                  </a:lnTo>
                  <a:lnTo>
                    <a:pt x="2672" y="388"/>
                  </a:lnTo>
                  <a:lnTo>
                    <a:pt x="2700" y="388"/>
                  </a:lnTo>
                  <a:lnTo>
                    <a:pt x="2730" y="388"/>
                  </a:lnTo>
                  <a:lnTo>
                    <a:pt x="2759" y="388"/>
                  </a:lnTo>
                  <a:lnTo>
                    <a:pt x="2787" y="388"/>
                  </a:lnTo>
                  <a:lnTo>
                    <a:pt x="2816" y="388"/>
                  </a:lnTo>
                  <a:lnTo>
                    <a:pt x="2816" y="373"/>
                  </a:lnTo>
                  <a:lnTo>
                    <a:pt x="2801" y="379"/>
                  </a:lnTo>
                  <a:lnTo>
                    <a:pt x="2803" y="384"/>
                  </a:lnTo>
                  <a:lnTo>
                    <a:pt x="2809" y="386"/>
                  </a:lnTo>
                  <a:lnTo>
                    <a:pt x="2799" y="375"/>
                  </a:lnTo>
                  <a:lnTo>
                    <a:pt x="2828" y="571"/>
                  </a:lnTo>
                  <a:lnTo>
                    <a:pt x="2829" y="574"/>
                  </a:lnTo>
                  <a:lnTo>
                    <a:pt x="2832" y="579"/>
                  </a:lnTo>
                  <a:lnTo>
                    <a:pt x="2837" y="581"/>
                  </a:lnTo>
                  <a:lnTo>
                    <a:pt x="2844" y="584"/>
                  </a:lnTo>
                  <a:lnTo>
                    <a:pt x="2873" y="584"/>
                  </a:lnTo>
                  <a:lnTo>
                    <a:pt x="2903" y="584"/>
                  </a:lnTo>
                  <a:lnTo>
                    <a:pt x="2941" y="584"/>
                  </a:lnTo>
                  <a:lnTo>
                    <a:pt x="2969" y="584"/>
                  </a:lnTo>
                  <a:lnTo>
                    <a:pt x="2998" y="584"/>
                  </a:lnTo>
                  <a:lnTo>
                    <a:pt x="3026" y="584"/>
                  </a:lnTo>
                  <a:lnTo>
                    <a:pt x="3055" y="584"/>
                  </a:lnTo>
                  <a:lnTo>
                    <a:pt x="3085" y="584"/>
                  </a:lnTo>
                  <a:lnTo>
                    <a:pt x="3113" y="584"/>
                  </a:lnTo>
                  <a:lnTo>
                    <a:pt x="3142" y="584"/>
                  </a:lnTo>
                  <a:lnTo>
                    <a:pt x="3170" y="584"/>
                  </a:lnTo>
                  <a:lnTo>
                    <a:pt x="3199" y="584"/>
                  </a:lnTo>
                  <a:lnTo>
                    <a:pt x="3237" y="584"/>
                  </a:lnTo>
                  <a:lnTo>
                    <a:pt x="3265" y="584"/>
                  </a:lnTo>
                  <a:lnTo>
                    <a:pt x="3295" y="584"/>
                  </a:lnTo>
                  <a:lnTo>
                    <a:pt x="3295" y="583"/>
                  </a:lnTo>
                  <a:lnTo>
                    <a:pt x="3302" y="581"/>
                  </a:lnTo>
                  <a:lnTo>
                    <a:pt x="3307" y="579"/>
                  </a:lnTo>
                  <a:lnTo>
                    <a:pt x="3310" y="574"/>
                  </a:lnTo>
                  <a:lnTo>
                    <a:pt x="3311" y="571"/>
                  </a:lnTo>
                  <a:lnTo>
                    <a:pt x="3340" y="342"/>
                  </a:lnTo>
                  <a:lnTo>
                    <a:pt x="3323" y="340"/>
                  </a:lnTo>
                  <a:lnTo>
                    <a:pt x="3323" y="354"/>
                  </a:lnTo>
                  <a:lnTo>
                    <a:pt x="3330" y="353"/>
                  </a:lnTo>
                  <a:lnTo>
                    <a:pt x="3336" y="351"/>
                  </a:lnTo>
                  <a:lnTo>
                    <a:pt x="3338" y="346"/>
                  </a:lnTo>
                  <a:lnTo>
                    <a:pt x="3323" y="355"/>
                  </a:lnTo>
                  <a:lnTo>
                    <a:pt x="3352" y="355"/>
                  </a:lnTo>
                  <a:lnTo>
                    <a:pt x="3380" y="355"/>
                  </a:lnTo>
                  <a:lnTo>
                    <a:pt x="3409" y="355"/>
                  </a:lnTo>
                  <a:lnTo>
                    <a:pt x="3438" y="355"/>
                  </a:lnTo>
                  <a:lnTo>
                    <a:pt x="3467" y="355"/>
                  </a:lnTo>
                  <a:lnTo>
                    <a:pt x="3496" y="355"/>
                  </a:lnTo>
                  <a:lnTo>
                    <a:pt x="3534" y="355"/>
                  </a:lnTo>
                  <a:lnTo>
                    <a:pt x="3562" y="355"/>
                  </a:lnTo>
                  <a:lnTo>
                    <a:pt x="3591" y="355"/>
                  </a:lnTo>
                  <a:lnTo>
                    <a:pt x="3619" y="355"/>
                  </a:lnTo>
                  <a:lnTo>
                    <a:pt x="3649" y="355"/>
                  </a:lnTo>
                  <a:lnTo>
                    <a:pt x="3678" y="355"/>
                  </a:lnTo>
                  <a:lnTo>
                    <a:pt x="3706" y="355"/>
                  </a:lnTo>
                  <a:lnTo>
                    <a:pt x="3735" y="355"/>
                  </a:lnTo>
                  <a:lnTo>
                    <a:pt x="3763" y="355"/>
                  </a:lnTo>
                  <a:lnTo>
                    <a:pt x="3763" y="326"/>
                  </a:lnTo>
                  <a:lnTo>
                    <a:pt x="3735" y="326"/>
                  </a:lnTo>
                  <a:lnTo>
                    <a:pt x="3706" y="326"/>
                  </a:lnTo>
                  <a:lnTo>
                    <a:pt x="3678" y="326"/>
                  </a:lnTo>
                  <a:lnTo>
                    <a:pt x="3649" y="326"/>
                  </a:lnTo>
                  <a:lnTo>
                    <a:pt x="3619" y="326"/>
                  </a:lnTo>
                  <a:lnTo>
                    <a:pt x="3591" y="326"/>
                  </a:lnTo>
                  <a:lnTo>
                    <a:pt x="3562" y="326"/>
                  </a:lnTo>
                  <a:lnTo>
                    <a:pt x="3534" y="326"/>
                  </a:lnTo>
                  <a:lnTo>
                    <a:pt x="3496" y="326"/>
                  </a:lnTo>
                  <a:lnTo>
                    <a:pt x="3467" y="326"/>
                  </a:lnTo>
                  <a:lnTo>
                    <a:pt x="3438" y="326"/>
                  </a:lnTo>
                  <a:lnTo>
                    <a:pt x="3409" y="326"/>
                  </a:lnTo>
                  <a:lnTo>
                    <a:pt x="3380" y="326"/>
                  </a:lnTo>
                  <a:lnTo>
                    <a:pt x="3352" y="326"/>
                  </a:lnTo>
                  <a:lnTo>
                    <a:pt x="3323" y="326"/>
                  </a:lnTo>
                  <a:lnTo>
                    <a:pt x="3323" y="326"/>
                  </a:lnTo>
                  <a:lnTo>
                    <a:pt x="3317" y="327"/>
                  </a:lnTo>
                  <a:lnTo>
                    <a:pt x="3311" y="329"/>
                  </a:lnTo>
                  <a:lnTo>
                    <a:pt x="3309" y="334"/>
                  </a:lnTo>
                  <a:lnTo>
                    <a:pt x="3307" y="340"/>
                  </a:lnTo>
                  <a:lnTo>
                    <a:pt x="3307" y="339"/>
                  </a:lnTo>
                  <a:lnTo>
                    <a:pt x="3279" y="567"/>
                  </a:lnTo>
                  <a:lnTo>
                    <a:pt x="3295" y="554"/>
                  </a:lnTo>
                  <a:lnTo>
                    <a:pt x="3288" y="555"/>
                  </a:lnTo>
                  <a:lnTo>
                    <a:pt x="3283" y="558"/>
                  </a:lnTo>
                  <a:lnTo>
                    <a:pt x="3280" y="563"/>
                  </a:lnTo>
                  <a:lnTo>
                    <a:pt x="3279" y="568"/>
                  </a:lnTo>
                  <a:lnTo>
                    <a:pt x="3295" y="568"/>
                  </a:lnTo>
                  <a:lnTo>
                    <a:pt x="3295" y="554"/>
                  </a:lnTo>
                  <a:lnTo>
                    <a:pt x="3265" y="554"/>
                  </a:lnTo>
                  <a:lnTo>
                    <a:pt x="3237" y="554"/>
                  </a:lnTo>
                  <a:lnTo>
                    <a:pt x="3199" y="554"/>
                  </a:lnTo>
                  <a:lnTo>
                    <a:pt x="3170" y="554"/>
                  </a:lnTo>
                  <a:lnTo>
                    <a:pt x="3142" y="554"/>
                  </a:lnTo>
                  <a:lnTo>
                    <a:pt x="3113" y="554"/>
                  </a:lnTo>
                  <a:lnTo>
                    <a:pt x="3085" y="554"/>
                  </a:lnTo>
                  <a:lnTo>
                    <a:pt x="3055" y="554"/>
                  </a:lnTo>
                  <a:lnTo>
                    <a:pt x="3026" y="554"/>
                  </a:lnTo>
                  <a:lnTo>
                    <a:pt x="2998" y="554"/>
                  </a:lnTo>
                  <a:lnTo>
                    <a:pt x="2969" y="554"/>
                  </a:lnTo>
                  <a:lnTo>
                    <a:pt x="2941" y="554"/>
                  </a:lnTo>
                  <a:lnTo>
                    <a:pt x="2903" y="554"/>
                  </a:lnTo>
                  <a:lnTo>
                    <a:pt x="2873" y="554"/>
                  </a:lnTo>
                  <a:lnTo>
                    <a:pt x="2844" y="554"/>
                  </a:lnTo>
                  <a:lnTo>
                    <a:pt x="2859" y="563"/>
                  </a:lnTo>
                  <a:lnTo>
                    <a:pt x="2856" y="558"/>
                  </a:lnTo>
                  <a:lnTo>
                    <a:pt x="2851" y="555"/>
                  </a:lnTo>
                  <a:lnTo>
                    <a:pt x="2844" y="568"/>
                  </a:lnTo>
                  <a:lnTo>
                    <a:pt x="2860" y="567"/>
                  </a:lnTo>
                  <a:lnTo>
                    <a:pt x="2832" y="372"/>
                  </a:lnTo>
                  <a:lnTo>
                    <a:pt x="2831" y="367"/>
                  </a:lnTo>
                  <a:lnTo>
                    <a:pt x="2828" y="362"/>
                  </a:lnTo>
                  <a:lnTo>
                    <a:pt x="2822" y="360"/>
                  </a:lnTo>
                  <a:lnTo>
                    <a:pt x="2816" y="359"/>
                  </a:lnTo>
                  <a:lnTo>
                    <a:pt x="2787" y="359"/>
                  </a:lnTo>
                  <a:lnTo>
                    <a:pt x="2759" y="359"/>
                  </a:lnTo>
                  <a:lnTo>
                    <a:pt x="2730" y="359"/>
                  </a:lnTo>
                  <a:lnTo>
                    <a:pt x="2700" y="359"/>
                  </a:lnTo>
                  <a:lnTo>
                    <a:pt x="2672" y="359"/>
                  </a:lnTo>
                  <a:lnTo>
                    <a:pt x="2643" y="359"/>
                  </a:lnTo>
                  <a:lnTo>
                    <a:pt x="2605" y="359"/>
                  </a:lnTo>
                  <a:lnTo>
                    <a:pt x="2577" y="359"/>
                  </a:lnTo>
                  <a:lnTo>
                    <a:pt x="2548" y="359"/>
                  </a:lnTo>
                  <a:lnTo>
                    <a:pt x="2518" y="359"/>
                  </a:lnTo>
                  <a:lnTo>
                    <a:pt x="2490" y="359"/>
                  </a:lnTo>
                  <a:lnTo>
                    <a:pt x="2461" y="359"/>
                  </a:lnTo>
                  <a:lnTo>
                    <a:pt x="2433" y="359"/>
                  </a:lnTo>
                  <a:lnTo>
                    <a:pt x="2404" y="359"/>
                  </a:lnTo>
                  <a:lnTo>
                    <a:pt x="2376" y="359"/>
                  </a:lnTo>
                  <a:lnTo>
                    <a:pt x="2391" y="367"/>
                  </a:lnTo>
                  <a:lnTo>
                    <a:pt x="2388" y="362"/>
                  </a:lnTo>
                  <a:lnTo>
                    <a:pt x="2383" y="360"/>
                  </a:lnTo>
                  <a:lnTo>
                    <a:pt x="2376" y="373"/>
                  </a:lnTo>
                  <a:lnTo>
                    <a:pt x="2393" y="372"/>
                  </a:lnTo>
                  <a:lnTo>
                    <a:pt x="2365" y="13"/>
                  </a:lnTo>
                  <a:lnTo>
                    <a:pt x="2362" y="8"/>
                  </a:lnTo>
                  <a:lnTo>
                    <a:pt x="2360" y="3"/>
                  </a:lnTo>
                  <a:lnTo>
                    <a:pt x="2354" y="1"/>
                  </a:lnTo>
                  <a:lnTo>
                    <a:pt x="2347" y="0"/>
                  </a:lnTo>
                  <a:lnTo>
                    <a:pt x="2308" y="0"/>
                  </a:lnTo>
                  <a:lnTo>
                    <a:pt x="2279" y="0"/>
                  </a:lnTo>
                  <a:lnTo>
                    <a:pt x="2251" y="0"/>
                  </a:lnTo>
                  <a:lnTo>
                    <a:pt x="2222" y="0"/>
                  </a:lnTo>
                  <a:lnTo>
                    <a:pt x="2194" y="0"/>
                  </a:lnTo>
                  <a:lnTo>
                    <a:pt x="2165" y="0"/>
                  </a:lnTo>
                  <a:lnTo>
                    <a:pt x="2135" y="0"/>
                  </a:lnTo>
                  <a:lnTo>
                    <a:pt x="2107" y="0"/>
                  </a:lnTo>
                  <a:lnTo>
                    <a:pt x="2078" y="0"/>
                  </a:lnTo>
                  <a:lnTo>
                    <a:pt x="2050" y="0"/>
                  </a:lnTo>
                  <a:lnTo>
                    <a:pt x="2012" y="0"/>
                  </a:lnTo>
                  <a:lnTo>
                    <a:pt x="1983" y="0"/>
                  </a:lnTo>
                  <a:lnTo>
                    <a:pt x="1954" y="0"/>
                  </a:lnTo>
                  <a:lnTo>
                    <a:pt x="1925" y="0"/>
                  </a:lnTo>
                  <a:lnTo>
                    <a:pt x="1897" y="0"/>
                  </a:lnTo>
                  <a:lnTo>
                    <a:pt x="1897" y="0"/>
                  </a:lnTo>
                  <a:lnTo>
                    <a:pt x="1890" y="1"/>
                  </a:lnTo>
                  <a:lnTo>
                    <a:pt x="1884" y="3"/>
                  </a:lnTo>
                  <a:lnTo>
                    <a:pt x="1882" y="8"/>
                  </a:lnTo>
                  <a:lnTo>
                    <a:pt x="1880" y="14"/>
                  </a:lnTo>
                  <a:lnTo>
                    <a:pt x="1880" y="14"/>
                  </a:lnTo>
                  <a:lnTo>
                    <a:pt x="1852" y="797"/>
                  </a:lnTo>
                  <a:lnTo>
                    <a:pt x="1868" y="783"/>
                  </a:lnTo>
                  <a:lnTo>
                    <a:pt x="1861" y="784"/>
                  </a:lnTo>
                  <a:lnTo>
                    <a:pt x="1856" y="786"/>
                  </a:lnTo>
                  <a:lnTo>
                    <a:pt x="1853" y="791"/>
                  </a:lnTo>
                  <a:lnTo>
                    <a:pt x="1852" y="797"/>
                  </a:lnTo>
                  <a:lnTo>
                    <a:pt x="1868" y="797"/>
                  </a:lnTo>
                  <a:lnTo>
                    <a:pt x="1868" y="783"/>
                  </a:lnTo>
                  <a:lnTo>
                    <a:pt x="1840" y="783"/>
                  </a:lnTo>
                  <a:lnTo>
                    <a:pt x="1811" y="783"/>
                  </a:lnTo>
                  <a:lnTo>
                    <a:pt x="1781" y="783"/>
                  </a:lnTo>
                  <a:lnTo>
                    <a:pt x="1753" y="783"/>
                  </a:lnTo>
                  <a:lnTo>
                    <a:pt x="1715" y="783"/>
                  </a:lnTo>
                  <a:lnTo>
                    <a:pt x="1686" y="783"/>
                  </a:lnTo>
                  <a:lnTo>
                    <a:pt x="1656" y="783"/>
                  </a:lnTo>
                  <a:lnTo>
                    <a:pt x="1628" y="783"/>
                  </a:lnTo>
                  <a:lnTo>
                    <a:pt x="1599" y="783"/>
                  </a:lnTo>
                  <a:lnTo>
                    <a:pt x="1571" y="783"/>
                  </a:lnTo>
                  <a:lnTo>
                    <a:pt x="1542" y="783"/>
                  </a:lnTo>
                  <a:lnTo>
                    <a:pt x="1514" y="783"/>
                  </a:lnTo>
                  <a:lnTo>
                    <a:pt x="1484" y="783"/>
                  </a:lnTo>
                  <a:lnTo>
                    <a:pt x="1455" y="783"/>
                  </a:lnTo>
                  <a:lnTo>
                    <a:pt x="1417" y="783"/>
                  </a:lnTo>
                  <a:lnTo>
                    <a:pt x="1417" y="783"/>
                  </a:lnTo>
                  <a:lnTo>
                    <a:pt x="1410" y="784"/>
                  </a:lnTo>
                  <a:lnTo>
                    <a:pt x="1405" y="786"/>
                  </a:lnTo>
                  <a:lnTo>
                    <a:pt x="1402" y="791"/>
                  </a:lnTo>
                  <a:lnTo>
                    <a:pt x="1401" y="797"/>
                  </a:lnTo>
                  <a:lnTo>
                    <a:pt x="1401" y="797"/>
                  </a:lnTo>
                  <a:lnTo>
                    <a:pt x="1372" y="1652"/>
                  </a:lnTo>
                  <a:lnTo>
                    <a:pt x="1389" y="1638"/>
                  </a:lnTo>
                  <a:lnTo>
                    <a:pt x="1382" y="1639"/>
                  </a:lnTo>
                  <a:lnTo>
                    <a:pt x="1377" y="1641"/>
                  </a:lnTo>
                  <a:lnTo>
                    <a:pt x="1374" y="1646"/>
                  </a:lnTo>
                  <a:lnTo>
                    <a:pt x="1372" y="1652"/>
                  </a:lnTo>
                  <a:lnTo>
                    <a:pt x="1389" y="1652"/>
                  </a:lnTo>
                  <a:lnTo>
                    <a:pt x="1389" y="1638"/>
                  </a:lnTo>
                  <a:lnTo>
                    <a:pt x="1360" y="1638"/>
                  </a:lnTo>
                  <a:lnTo>
                    <a:pt x="1332" y="1638"/>
                  </a:lnTo>
                  <a:lnTo>
                    <a:pt x="1302" y="1638"/>
                  </a:lnTo>
                  <a:lnTo>
                    <a:pt x="1273" y="1638"/>
                  </a:lnTo>
                  <a:lnTo>
                    <a:pt x="1245" y="1638"/>
                  </a:lnTo>
                  <a:lnTo>
                    <a:pt x="1216" y="1638"/>
                  </a:lnTo>
                  <a:lnTo>
                    <a:pt x="1188" y="1638"/>
                  </a:lnTo>
                  <a:lnTo>
                    <a:pt x="1159" y="1638"/>
                  </a:lnTo>
                  <a:lnTo>
                    <a:pt x="1121" y="1638"/>
                  </a:lnTo>
                  <a:lnTo>
                    <a:pt x="1091" y="1638"/>
                  </a:lnTo>
                  <a:lnTo>
                    <a:pt x="1063" y="1638"/>
                  </a:lnTo>
                  <a:lnTo>
                    <a:pt x="1034" y="1638"/>
                  </a:lnTo>
                  <a:lnTo>
                    <a:pt x="1006" y="1638"/>
                  </a:lnTo>
                  <a:lnTo>
                    <a:pt x="977" y="1638"/>
                  </a:lnTo>
                  <a:lnTo>
                    <a:pt x="949" y="1638"/>
                  </a:lnTo>
                  <a:lnTo>
                    <a:pt x="964" y="1646"/>
                  </a:lnTo>
                  <a:lnTo>
                    <a:pt x="961" y="1641"/>
                  </a:lnTo>
                  <a:lnTo>
                    <a:pt x="956" y="1639"/>
                  </a:lnTo>
                  <a:lnTo>
                    <a:pt x="949" y="1652"/>
                  </a:lnTo>
                  <a:lnTo>
                    <a:pt x="965" y="1650"/>
                  </a:lnTo>
                  <a:lnTo>
                    <a:pt x="935" y="1468"/>
                  </a:lnTo>
                  <a:lnTo>
                    <a:pt x="934" y="1463"/>
                  </a:lnTo>
                  <a:lnTo>
                    <a:pt x="931" y="1459"/>
                  </a:lnTo>
                  <a:lnTo>
                    <a:pt x="926" y="1456"/>
                  </a:lnTo>
                  <a:lnTo>
                    <a:pt x="919" y="1455"/>
                  </a:lnTo>
                  <a:lnTo>
                    <a:pt x="891" y="1455"/>
                  </a:lnTo>
                  <a:lnTo>
                    <a:pt x="862" y="1455"/>
                  </a:lnTo>
                  <a:lnTo>
                    <a:pt x="824" y="1455"/>
                  </a:lnTo>
                  <a:lnTo>
                    <a:pt x="795" y="1455"/>
                  </a:lnTo>
                  <a:lnTo>
                    <a:pt x="767" y="1455"/>
                  </a:lnTo>
                  <a:lnTo>
                    <a:pt x="737" y="1455"/>
                  </a:lnTo>
                  <a:lnTo>
                    <a:pt x="709" y="1455"/>
                  </a:lnTo>
                  <a:lnTo>
                    <a:pt x="680" y="1455"/>
                  </a:lnTo>
                  <a:lnTo>
                    <a:pt x="652" y="1455"/>
                  </a:lnTo>
                  <a:lnTo>
                    <a:pt x="623" y="1455"/>
                  </a:lnTo>
                  <a:lnTo>
                    <a:pt x="595" y="1455"/>
                  </a:lnTo>
                  <a:lnTo>
                    <a:pt x="566" y="1455"/>
                  </a:lnTo>
                  <a:lnTo>
                    <a:pt x="527" y="1455"/>
                  </a:lnTo>
                  <a:lnTo>
                    <a:pt x="498" y="1455"/>
                  </a:lnTo>
                  <a:lnTo>
                    <a:pt x="470" y="1455"/>
                  </a:lnTo>
                  <a:lnTo>
                    <a:pt x="485" y="1463"/>
                  </a:lnTo>
                  <a:lnTo>
                    <a:pt x="482" y="1459"/>
                  </a:lnTo>
                  <a:lnTo>
                    <a:pt x="476" y="1456"/>
                  </a:lnTo>
                  <a:lnTo>
                    <a:pt x="470" y="1469"/>
                  </a:lnTo>
                  <a:lnTo>
                    <a:pt x="487" y="1469"/>
                  </a:lnTo>
                  <a:lnTo>
                    <a:pt x="459" y="712"/>
                  </a:lnTo>
                  <a:lnTo>
                    <a:pt x="456" y="706"/>
                  </a:lnTo>
                  <a:lnTo>
                    <a:pt x="453" y="701"/>
                  </a:lnTo>
                  <a:lnTo>
                    <a:pt x="448" y="699"/>
                  </a:lnTo>
                  <a:lnTo>
                    <a:pt x="441" y="698"/>
                  </a:lnTo>
                  <a:lnTo>
                    <a:pt x="413" y="698"/>
                  </a:lnTo>
                  <a:lnTo>
                    <a:pt x="384" y="698"/>
                  </a:lnTo>
                  <a:lnTo>
                    <a:pt x="354" y="698"/>
                  </a:lnTo>
                  <a:lnTo>
                    <a:pt x="326" y="698"/>
                  </a:lnTo>
                  <a:lnTo>
                    <a:pt x="297" y="698"/>
                  </a:lnTo>
                  <a:lnTo>
                    <a:pt x="269" y="698"/>
                  </a:lnTo>
                  <a:lnTo>
                    <a:pt x="231" y="698"/>
                  </a:lnTo>
                  <a:lnTo>
                    <a:pt x="202" y="698"/>
                  </a:lnTo>
                  <a:lnTo>
                    <a:pt x="172" y="698"/>
                  </a:lnTo>
                  <a:lnTo>
                    <a:pt x="144" y="698"/>
                  </a:lnTo>
                  <a:lnTo>
                    <a:pt x="115" y="698"/>
                  </a:lnTo>
                  <a:lnTo>
                    <a:pt x="87" y="698"/>
                  </a:lnTo>
                  <a:lnTo>
                    <a:pt x="58" y="698"/>
                  </a:lnTo>
                  <a:lnTo>
                    <a:pt x="30" y="698"/>
                  </a:lnTo>
                  <a:lnTo>
                    <a:pt x="0" y="69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371520" y="3382920"/>
              <a:ext cx="2987640" cy="1156680"/>
            </a:xfrm>
            <a:custGeom>
              <a:avLst/>
              <a:gdLst/>
              <a:ahLst/>
              <a:rect l="l" t="t" r="r" b="b"/>
              <a:pathLst>
                <a:path w="3763" h="1459">
                  <a:moveTo>
                    <a:pt x="0" y="1057"/>
                  </a:moveTo>
                  <a:lnTo>
                    <a:pt x="0" y="1087"/>
                  </a:lnTo>
                  <a:lnTo>
                    <a:pt x="30" y="1087"/>
                  </a:lnTo>
                  <a:lnTo>
                    <a:pt x="58" y="1087"/>
                  </a:lnTo>
                  <a:lnTo>
                    <a:pt x="87" y="1087"/>
                  </a:lnTo>
                  <a:lnTo>
                    <a:pt x="115" y="1087"/>
                  </a:lnTo>
                  <a:lnTo>
                    <a:pt x="144" y="1087"/>
                  </a:lnTo>
                  <a:lnTo>
                    <a:pt x="172" y="1087"/>
                  </a:lnTo>
                  <a:lnTo>
                    <a:pt x="202" y="1087"/>
                  </a:lnTo>
                  <a:lnTo>
                    <a:pt x="231" y="1087"/>
                  </a:lnTo>
                  <a:lnTo>
                    <a:pt x="269" y="1087"/>
                  </a:lnTo>
                  <a:lnTo>
                    <a:pt x="297" y="1087"/>
                  </a:lnTo>
                  <a:lnTo>
                    <a:pt x="326" y="1087"/>
                  </a:lnTo>
                  <a:lnTo>
                    <a:pt x="354" y="1087"/>
                  </a:lnTo>
                  <a:lnTo>
                    <a:pt x="384" y="1087"/>
                  </a:lnTo>
                  <a:lnTo>
                    <a:pt x="413" y="1087"/>
                  </a:lnTo>
                  <a:lnTo>
                    <a:pt x="441" y="1087"/>
                  </a:lnTo>
                  <a:lnTo>
                    <a:pt x="441" y="1071"/>
                  </a:lnTo>
                  <a:lnTo>
                    <a:pt x="426" y="1077"/>
                  </a:lnTo>
                  <a:lnTo>
                    <a:pt x="429" y="1082"/>
                  </a:lnTo>
                  <a:lnTo>
                    <a:pt x="434" y="1084"/>
                  </a:lnTo>
                  <a:lnTo>
                    <a:pt x="425" y="1073"/>
                  </a:lnTo>
                  <a:lnTo>
                    <a:pt x="453" y="1445"/>
                  </a:lnTo>
                  <a:lnTo>
                    <a:pt x="455" y="1449"/>
                  </a:lnTo>
                  <a:lnTo>
                    <a:pt x="457" y="1454"/>
                  </a:lnTo>
                  <a:lnTo>
                    <a:pt x="463" y="1456"/>
                  </a:lnTo>
                  <a:lnTo>
                    <a:pt x="470" y="1459"/>
                  </a:lnTo>
                  <a:lnTo>
                    <a:pt x="498" y="1459"/>
                  </a:lnTo>
                  <a:lnTo>
                    <a:pt x="527" y="1459"/>
                  </a:lnTo>
                  <a:lnTo>
                    <a:pt x="566" y="1459"/>
                  </a:lnTo>
                  <a:lnTo>
                    <a:pt x="595" y="1459"/>
                  </a:lnTo>
                  <a:lnTo>
                    <a:pt x="623" y="1459"/>
                  </a:lnTo>
                  <a:lnTo>
                    <a:pt x="652" y="1459"/>
                  </a:lnTo>
                  <a:lnTo>
                    <a:pt x="680" y="1459"/>
                  </a:lnTo>
                  <a:lnTo>
                    <a:pt x="709" y="1459"/>
                  </a:lnTo>
                  <a:lnTo>
                    <a:pt x="737" y="1459"/>
                  </a:lnTo>
                  <a:lnTo>
                    <a:pt x="767" y="1459"/>
                  </a:lnTo>
                  <a:lnTo>
                    <a:pt x="795" y="1459"/>
                  </a:lnTo>
                  <a:lnTo>
                    <a:pt x="824" y="1459"/>
                  </a:lnTo>
                  <a:lnTo>
                    <a:pt x="862" y="1459"/>
                  </a:lnTo>
                  <a:lnTo>
                    <a:pt x="891" y="1459"/>
                  </a:lnTo>
                  <a:lnTo>
                    <a:pt x="919" y="1459"/>
                  </a:lnTo>
                  <a:lnTo>
                    <a:pt x="919" y="1458"/>
                  </a:lnTo>
                  <a:lnTo>
                    <a:pt x="926" y="1456"/>
                  </a:lnTo>
                  <a:lnTo>
                    <a:pt x="931" y="1454"/>
                  </a:lnTo>
                  <a:lnTo>
                    <a:pt x="934" y="1449"/>
                  </a:lnTo>
                  <a:lnTo>
                    <a:pt x="937" y="1445"/>
                  </a:lnTo>
                  <a:lnTo>
                    <a:pt x="967" y="1014"/>
                  </a:lnTo>
                  <a:lnTo>
                    <a:pt x="949" y="1013"/>
                  </a:lnTo>
                  <a:lnTo>
                    <a:pt x="949" y="1027"/>
                  </a:lnTo>
                  <a:lnTo>
                    <a:pt x="956" y="1026"/>
                  </a:lnTo>
                  <a:lnTo>
                    <a:pt x="961" y="1023"/>
                  </a:lnTo>
                  <a:lnTo>
                    <a:pt x="964" y="1018"/>
                  </a:lnTo>
                  <a:lnTo>
                    <a:pt x="949" y="1028"/>
                  </a:lnTo>
                  <a:lnTo>
                    <a:pt x="977" y="1028"/>
                  </a:lnTo>
                  <a:lnTo>
                    <a:pt x="1006" y="1028"/>
                  </a:lnTo>
                  <a:lnTo>
                    <a:pt x="1034" y="1028"/>
                  </a:lnTo>
                  <a:lnTo>
                    <a:pt x="1063" y="1028"/>
                  </a:lnTo>
                  <a:lnTo>
                    <a:pt x="1091" y="1028"/>
                  </a:lnTo>
                  <a:lnTo>
                    <a:pt x="1121" y="1028"/>
                  </a:lnTo>
                  <a:lnTo>
                    <a:pt x="1159" y="1028"/>
                  </a:lnTo>
                  <a:lnTo>
                    <a:pt x="1188" y="1028"/>
                  </a:lnTo>
                  <a:lnTo>
                    <a:pt x="1216" y="1028"/>
                  </a:lnTo>
                  <a:lnTo>
                    <a:pt x="1245" y="1028"/>
                  </a:lnTo>
                  <a:lnTo>
                    <a:pt x="1273" y="1028"/>
                  </a:lnTo>
                  <a:lnTo>
                    <a:pt x="1302" y="1028"/>
                  </a:lnTo>
                  <a:lnTo>
                    <a:pt x="1332" y="1028"/>
                  </a:lnTo>
                  <a:lnTo>
                    <a:pt x="1360" y="1028"/>
                  </a:lnTo>
                  <a:lnTo>
                    <a:pt x="1389" y="1028"/>
                  </a:lnTo>
                  <a:lnTo>
                    <a:pt x="1389" y="1027"/>
                  </a:lnTo>
                  <a:lnTo>
                    <a:pt x="1396" y="1026"/>
                  </a:lnTo>
                  <a:lnTo>
                    <a:pt x="1401" y="1023"/>
                  </a:lnTo>
                  <a:lnTo>
                    <a:pt x="1404" y="1018"/>
                  </a:lnTo>
                  <a:lnTo>
                    <a:pt x="1406" y="1014"/>
                  </a:lnTo>
                  <a:lnTo>
                    <a:pt x="1435" y="400"/>
                  </a:lnTo>
                  <a:lnTo>
                    <a:pt x="1417" y="399"/>
                  </a:lnTo>
                  <a:lnTo>
                    <a:pt x="1417" y="413"/>
                  </a:lnTo>
                  <a:lnTo>
                    <a:pt x="1424" y="412"/>
                  </a:lnTo>
                  <a:lnTo>
                    <a:pt x="1430" y="410"/>
                  </a:lnTo>
                  <a:lnTo>
                    <a:pt x="1432" y="405"/>
                  </a:lnTo>
                  <a:lnTo>
                    <a:pt x="1417" y="414"/>
                  </a:lnTo>
                  <a:lnTo>
                    <a:pt x="1455" y="414"/>
                  </a:lnTo>
                  <a:lnTo>
                    <a:pt x="1484" y="414"/>
                  </a:lnTo>
                  <a:lnTo>
                    <a:pt x="1514" y="414"/>
                  </a:lnTo>
                  <a:lnTo>
                    <a:pt x="1542" y="414"/>
                  </a:lnTo>
                  <a:lnTo>
                    <a:pt x="1571" y="414"/>
                  </a:lnTo>
                  <a:lnTo>
                    <a:pt x="1599" y="414"/>
                  </a:lnTo>
                  <a:lnTo>
                    <a:pt x="1628" y="414"/>
                  </a:lnTo>
                  <a:lnTo>
                    <a:pt x="1656" y="414"/>
                  </a:lnTo>
                  <a:lnTo>
                    <a:pt x="1686" y="414"/>
                  </a:lnTo>
                  <a:lnTo>
                    <a:pt x="1715" y="414"/>
                  </a:lnTo>
                  <a:lnTo>
                    <a:pt x="1753" y="414"/>
                  </a:lnTo>
                  <a:lnTo>
                    <a:pt x="1781" y="414"/>
                  </a:lnTo>
                  <a:lnTo>
                    <a:pt x="1811" y="414"/>
                  </a:lnTo>
                  <a:lnTo>
                    <a:pt x="1840" y="414"/>
                  </a:lnTo>
                  <a:lnTo>
                    <a:pt x="1868" y="414"/>
                  </a:lnTo>
                  <a:lnTo>
                    <a:pt x="1868" y="399"/>
                  </a:lnTo>
                  <a:lnTo>
                    <a:pt x="1853" y="405"/>
                  </a:lnTo>
                  <a:lnTo>
                    <a:pt x="1856" y="410"/>
                  </a:lnTo>
                  <a:lnTo>
                    <a:pt x="1861" y="412"/>
                  </a:lnTo>
                  <a:lnTo>
                    <a:pt x="1852" y="400"/>
                  </a:lnTo>
                  <a:lnTo>
                    <a:pt x="1880" y="1157"/>
                  </a:lnTo>
                  <a:lnTo>
                    <a:pt x="1882" y="1162"/>
                  </a:lnTo>
                  <a:lnTo>
                    <a:pt x="1884" y="1167"/>
                  </a:lnTo>
                  <a:lnTo>
                    <a:pt x="1890" y="1169"/>
                  </a:lnTo>
                  <a:lnTo>
                    <a:pt x="1897" y="1172"/>
                  </a:lnTo>
                  <a:lnTo>
                    <a:pt x="1925" y="1172"/>
                  </a:lnTo>
                  <a:lnTo>
                    <a:pt x="1954" y="1172"/>
                  </a:lnTo>
                  <a:lnTo>
                    <a:pt x="1983" y="1172"/>
                  </a:lnTo>
                  <a:lnTo>
                    <a:pt x="2012" y="1172"/>
                  </a:lnTo>
                  <a:lnTo>
                    <a:pt x="2050" y="1172"/>
                  </a:lnTo>
                  <a:lnTo>
                    <a:pt x="2078" y="1172"/>
                  </a:lnTo>
                  <a:lnTo>
                    <a:pt x="2107" y="1172"/>
                  </a:lnTo>
                  <a:lnTo>
                    <a:pt x="2135" y="1172"/>
                  </a:lnTo>
                  <a:lnTo>
                    <a:pt x="2165" y="1172"/>
                  </a:lnTo>
                  <a:lnTo>
                    <a:pt x="2194" y="1172"/>
                  </a:lnTo>
                  <a:lnTo>
                    <a:pt x="2222" y="1172"/>
                  </a:lnTo>
                  <a:lnTo>
                    <a:pt x="2251" y="1172"/>
                  </a:lnTo>
                  <a:lnTo>
                    <a:pt x="2279" y="1172"/>
                  </a:lnTo>
                  <a:lnTo>
                    <a:pt x="2308" y="1172"/>
                  </a:lnTo>
                  <a:lnTo>
                    <a:pt x="2347" y="1172"/>
                  </a:lnTo>
                  <a:lnTo>
                    <a:pt x="2347" y="1170"/>
                  </a:lnTo>
                  <a:lnTo>
                    <a:pt x="2354" y="1169"/>
                  </a:lnTo>
                  <a:lnTo>
                    <a:pt x="2360" y="1167"/>
                  </a:lnTo>
                  <a:lnTo>
                    <a:pt x="2362" y="1162"/>
                  </a:lnTo>
                  <a:lnTo>
                    <a:pt x="2365" y="1157"/>
                  </a:lnTo>
                  <a:lnTo>
                    <a:pt x="2393" y="15"/>
                  </a:lnTo>
                  <a:lnTo>
                    <a:pt x="2376" y="14"/>
                  </a:lnTo>
                  <a:lnTo>
                    <a:pt x="2376" y="28"/>
                  </a:lnTo>
                  <a:lnTo>
                    <a:pt x="2383" y="27"/>
                  </a:lnTo>
                  <a:lnTo>
                    <a:pt x="2388" y="25"/>
                  </a:lnTo>
                  <a:lnTo>
                    <a:pt x="2391" y="20"/>
                  </a:lnTo>
                  <a:lnTo>
                    <a:pt x="2376" y="29"/>
                  </a:lnTo>
                  <a:lnTo>
                    <a:pt x="2404" y="29"/>
                  </a:lnTo>
                  <a:lnTo>
                    <a:pt x="2433" y="29"/>
                  </a:lnTo>
                  <a:lnTo>
                    <a:pt x="2461" y="29"/>
                  </a:lnTo>
                  <a:lnTo>
                    <a:pt x="2490" y="29"/>
                  </a:lnTo>
                  <a:lnTo>
                    <a:pt x="2518" y="29"/>
                  </a:lnTo>
                  <a:lnTo>
                    <a:pt x="2548" y="29"/>
                  </a:lnTo>
                  <a:lnTo>
                    <a:pt x="2577" y="29"/>
                  </a:lnTo>
                  <a:lnTo>
                    <a:pt x="2605" y="29"/>
                  </a:lnTo>
                  <a:lnTo>
                    <a:pt x="2643" y="29"/>
                  </a:lnTo>
                  <a:lnTo>
                    <a:pt x="2672" y="29"/>
                  </a:lnTo>
                  <a:lnTo>
                    <a:pt x="2700" y="29"/>
                  </a:lnTo>
                  <a:lnTo>
                    <a:pt x="2730" y="29"/>
                  </a:lnTo>
                  <a:lnTo>
                    <a:pt x="2759" y="29"/>
                  </a:lnTo>
                  <a:lnTo>
                    <a:pt x="2787" y="29"/>
                  </a:lnTo>
                  <a:lnTo>
                    <a:pt x="2816" y="29"/>
                  </a:lnTo>
                  <a:lnTo>
                    <a:pt x="2816" y="14"/>
                  </a:lnTo>
                  <a:lnTo>
                    <a:pt x="2801" y="20"/>
                  </a:lnTo>
                  <a:lnTo>
                    <a:pt x="2803" y="25"/>
                  </a:lnTo>
                  <a:lnTo>
                    <a:pt x="2809" y="27"/>
                  </a:lnTo>
                  <a:lnTo>
                    <a:pt x="2799" y="15"/>
                  </a:lnTo>
                  <a:lnTo>
                    <a:pt x="2828" y="341"/>
                  </a:lnTo>
                  <a:lnTo>
                    <a:pt x="2829" y="346"/>
                  </a:lnTo>
                  <a:lnTo>
                    <a:pt x="2832" y="351"/>
                  </a:lnTo>
                  <a:lnTo>
                    <a:pt x="2837" y="353"/>
                  </a:lnTo>
                  <a:lnTo>
                    <a:pt x="2844" y="356"/>
                  </a:lnTo>
                  <a:lnTo>
                    <a:pt x="2873" y="356"/>
                  </a:lnTo>
                  <a:lnTo>
                    <a:pt x="2903" y="356"/>
                  </a:lnTo>
                  <a:lnTo>
                    <a:pt x="2941" y="356"/>
                  </a:lnTo>
                  <a:lnTo>
                    <a:pt x="2969" y="356"/>
                  </a:lnTo>
                  <a:lnTo>
                    <a:pt x="2998" y="356"/>
                  </a:lnTo>
                  <a:lnTo>
                    <a:pt x="3026" y="356"/>
                  </a:lnTo>
                  <a:lnTo>
                    <a:pt x="3055" y="356"/>
                  </a:lnTo>
                  <a:lnTo>
                    <a:pt x="3085" y="356"/>
                  </a:lnTo>
                  <a:lnTo>
                    <a:pt x="3113" y="356"/>
                  </a:lnTo>
                  <a:lnTo>
                    <a:pt x="3142" y="356"/>
                  </a:lnTo>
                  <a:lnTo>
                    <a:pt x="3170" y="356"/>
                  </a:lnTo>
                  <a:lnTo>
                    <a:pt x="3199" y="356"/>
                  </a:lnTo>
                  <a:lnTo>
                    <a:pt x="3237" y="356"/>
                  </a:lnTo>
                  <a:lnTo>
                    <a:pt x="3265" y="356"/>
                  </a:lnTo>
                  <a:lnTo>
                    <a:pt x="3295" y="356"/>
                  </a:lnTo>
                  <a:lnTo>
                    <a:pt x="3295" y="340"/>
                  </a:lnTo>
                  <a:lnTo>
                    <a:pt x="3280" y="346"/>
                  </a:lnTo>
                  <a:lnTo>
                    <a:pt x="3283" y="351"/>
                  </a:lnTo>
                  <a:lnTo>
                    <a:pt x="3288" y="353"/>
                  </a:lnTo>
                  <a:lnTo>
                    <a:pt x="3279" y="341"/>
                  </a:lnTo>
                  <a:lnTo>
                    <a:pt x="3307" y="1445"/>
                  </a:lnTo>
                  <a:lnTo>
                    <a:pt x="3309" y="1449"/>
                  </a:lnTo>
                  <a:lnTo>
                    <a:pt x="3311" y="1454"/>
                  </a:lnTo>
                  <a:lnTo>
                    <a:pt x="3317" y="1456"/>
                  </a:lnTo>
                  <a:lnTo>
                    <a:pt x="3323" y="1459"/>
                  </a:lnTo>
                  <a:lnTo>
                    <a:pt x="3352" y="1459"/>
                  </a:lnTo>
                  <a:lnTo>
                    <a:pt x="3380" y="1459"/>
                  </a:lnTo>
                  <a:lnTo>
                    <a:pt x="3409" y="1459"/>
                  </a:lnTo>
                  <a:lnTo>
                    <a:pt x="3438" y="1459"/>
                  </a:lnTo>
                  <a:lnTo>
                    <a:pt x="3467" y="1459"/>
                  </a:lnTo>
                  <a:lnTo>
                    <a:pt x="3496" y="1459"/>
                  </a:lnTo>
                  <a:lnTo>
                    <a:pt x="3534" y="1459"/>
                  </a:lnTo>
                  <a:lnTo>
                    <a:pt x="3562" y="1459"/>
                  </a:lnTo>
                  <a:lnTo>
                    <a:pt x="3591" y="1459"/>
                  </a:lnTo>
                  <a:lnTo>
                    <a:pt x="3619" y="1459"/>
                  </a:lnTo>
                  <a:lnTo>
                    <a:pt x="3649" y="1459"/>
                  </a:lnTo>
                  <a:lnTo>
                    <a:pt x="3678" y="1459"/>
                  </a:lnTo>
                  <a:lnTo>
                    <a:pt x="3706" y="1459"/>
                  </a:lnTo>
                  <a:lnTo>
                    <a:pt x="3735" y="1459"/>
                  </a:lnTo>
                  <a:lnTo>
                    <a:pt x="3763" y="1459"/>
                  </a:lnTo>
                  <a:lnTo>
                    <a:pt x="3763" y="1429"/>
                  </a:lnTo>
                  <a:lnTo>
                    <a:pt x="3735" y="1429"/>
                  </a:lnTo>
                  <a:lnTo>
                    <a:pt x="3706" y="1429"/>
                  </a:lnTo>
                  <a:lnTo>
                    <a:pt x="3678" y="1429"/>
                  </a:lnTo>
                  <a:lnTo>
                    <a:pt x="3649" y="1429"/>
                  </a:lnTo>
                  <a:lnTo>
                    <a:pt x="3619" y="1429"/>
                  </a:lnTo>
                  <a:lnTo>
                    <a:pt x="3591" y="1429"/>
                  </a:lnTo>
                  <a:lnTo>
                    <a:pt x="3562" y="1429"/>
                  </a:lnTo>
                  <a:lnTo>
                    <a:pt x="3534" y="1429"/>
                  </a:lnTo>
                  <a:lnTo>
                    <a:pt x="3496" y="1429"/>
                  </a:lnTo>
                  <a:lnTo>
                    <a:pt x="3467" y="1429"/>
                  </a:lnTo>
                  <a:lnTo>
                    <a:pt x="3438" y="1429"/>
                  </a:lnTo>
                  <a:lnTo>
                    <a:pt x="3409" y="1429"/>
                  </a:lnTo>
                  <a:lnTo>
                    <a:pt x="3380" y="1429"/>
                  </a:lnTo>
                  <a:lnTo>
                    <a:pt x="3352" y="1429"/>
                  </a:lnTo>
                  <a:lnTo>
                    <a:pt x="3323" y="1429"/>
                  </a:lnTo>
                  <a:lnTo>
                    <a:pt x="3338" y="1438"/>
                  </a:lnTo>
                  <a:lnTo>
                    <a:pt x="3336" y="1433"/>
                  </a:lnTo>
                  <a:lnTo>
                    <a:pt x="3330" y="1431"/>
                  </a:lnTo>
                  <a:lnTo>
                    <a:pt x="3323" y="1443"/>
                  </a:lnTo>
                  <a:lnTo>
                    <a:pt x="3341" y="1443"/>
                  </a:lnTo>
                  <a:lnTo>
                    <a:pt x="3313" y="340"/>
                  </a:lnTo>
                  <a:lnTo>
                    <a:pt x="3310" y="334"/>
                  </a:lnTo>
                  <a:lnTo>
                    <a:pt x="3307" y="330"/>
                  </a:lnTo>
                  <a:lnTo>
                    <a:pt x="3302" y="327"/>
                  </a:lnTo>
                  <a:lnTo>
                    <a:pt x="3295" y="326"/>
                  </a:lnTo>
                  <a:lnTo>
                    <a:pt x="3265" y="326"/>
                  </a:lnTo>
                  <a:lnTo>
                    <a:pt x="3237" y="326"/>
                  </a:lnTo>
                  <a:lnTo>
                    <a:pt x="3199" y="326"/>
                  </a:lnTo>
                  <a:lnTo>
                    <a:pt x="3170" y="326"/>
                  </a:lnTo>
                  <a:lnTo>
                    <a:pt x="3142" y="326"/>
                  </a:lnTo>
                  <a:lnTo>
                    <a:pt x="3113" y="326"/>
                  </a:lnTo>
                  <a:lnTo>
                    <a:pt x="3085" y="326"/>
                  </a:lnTo>
                  <a:lnTo>
                    <a:pt x="3055" y="326"/>
                  </a:lnTo>
                  <a:lnTo>
                    <a:pt x="3026" y="326"/>
                  </a:lnTo>
                  <a:lnTo>
                    <a:pt x="2998" y="326"/>
                  </a:lnTo>
                  <a:lnTo>
                    <a:pt x="2969" y="326"/>
                  </a:lnTo>
                  <a:lnTo>
                    <a:pt x="2941" y="326"/>
                  </a:lnTo>
                  <a:lnTo>
                    <a:pt x="2903" y="326"/>
                  </a:lnTo>
                  <a:lnTo>
                    <a:pt x="2873" y="326"/>
                  </a:lnTo>
                  <a:lnTo>
                    <a:pt x="2844" y="326"/>
                  </a:lnTo>
                  <a:lnTo>
                    <a:pt x="2859" y="334"/>
                  </a:lnTo>
                  <a:lnTo>
                    <a:pt x="2856" y="330"/>
                  </a:lnTo>
                  <a:lnTo>
                    <a:pt x="2851" y="327"/>
                  </a:lnTo>
                  <a:lnTo>
                    <a:pt x="2844" y="340"/>
                  </a:lnTo>
                  <a:lnTo>
                    <a:pt x="2862" y="339"/>
                  </a:lnTo>
                  <a:lnTo>
                    <a:pt x="2833" y="13"/>
                  </a:lnTo>
                  <a:lnTo>
                    <a:pt x="2831" y="8"/>
                  </a:lnTo>
                  <a:lnTo>
                    <a:pt x="2828" y="3"/>
                  </a:lnTo>
                  <a:lnTo>
                    <a:pt x="2822" y="1"/>
                  </a:lnTo>
                  <a:lnTo>
                    <a:pt x="2816" y="0"/>
                  </a:lnTo>
                  <a:lnTo>
                    <a:pt x="2787" y="0"/>
                  </a:lnTo>
                  <a:lnTo>
                    <a:pt x="2759" y="0"/>
                  </a:lnTo>
                  <a:lnTo>
                    <a:pt x="2730" y="0"/>
                  </a:lnTo>
                  <a:lnTo>
                    <a:pt x="2700" y="0"/>
                  </a:lnTo>
                  <a:lnTo>
                    <a:pt x="2672" y="0"/>
                  </a:lnTo>
                  <a:lnTo>
                    <a:pt x="2643" y="0"/>
                  </a:lnTo>
                  <a:lnTo>
                    <a:pt x="2605" y="0"/>
                  </a:lnTo>
                  <a:lnTo>
                    <a:pt x="2577" y="0"/>
                  </a:lnTo>
                  <a:lnTo>
                    <a:pt x="2548" y="0"/>
                  </a:lnTo>
                  <a:lnTo>
                    <a:pt x="2518" y="0"/>
                  </a:lnTo>
                  <a:lnTo>
                    <a:pt x="2490" y="0"/>
                  </a:lnTo>
                  <a:lnTo>
                    <a:pt x="2461" y="0"/>
                  </a:lnTo>
                  <a:lnTo>
                    <a:pt x="2433" y="0"/>
                  </a:lnTo>
                  <a:lnTo>
                    <a:pt x="2404" y="0"/>
                  </a:lnTo>
                  <a:lnTo>
                    <a:pt x="2376" y="0"/>
                  </a:lnTo>
                  <a:lnTo>
                    <a:pt x="2376" y="0"/>
                  </a:lnTo>
                  <a:lnTo>
                    <a:pt x="2369" y="1"/>
                  </a:lnTo>
                  <a:lnTo>
                    <a:pt x="2364" y="3"/>
                  </a:lnTo>
                  <a:lnTo>
                    <a:pt x="2361" y="8"/>
                  </a:lnTo>
                  <a:lnTo>
                    <a:pt x="2360" y="14"/>
                  </a:lnTo>
                  <a:lnTo>
                    <a:pt x="2360" y="14"/>
                  </a:lnTo>
                  <a:lnTo>
                    <a:pt x="2331" y="1156"/>
                  </a:lnTo>
                  <a:lnTo>
                    <a:pt x="2347" y="1142"/>
                  </a:lnTo>
                  <a:lnTo>
                    <a:pt x="2341" y="1143"/>
                  </a:lnTo>
                  <a:lnTo>
                    <a:pt x="2335" y="1146"/>
                  </a:lnTo>
                  <a:lnTo>
                    <a:pt x="2332" y="1150"/>
                  </a:lnTo>
                  <a:lnTo>
                    <a:pt x="2331" y="1156"/>
                  </a:lnTo>
                  <a:lnTo>
                    <a:pt x="2347" y="1156"/>
                  </a:lnTo>
                  <a:lnTo>
                    <a:pt x="2347" y="1142"/>
                  </a:lnTo>
                  <a:lnTo>
                    <a:pt x="2308" y="1142"/>
                  </a:lnTo>
                  <a:lnTo>
                    <a:pt x="2279" y="1142"/>
                  </a:lnTo>
                  <a:lnTo>
                    <a:pt x="2251" y="1142"/>
                  </a:lnTo>
                  <a:lnTo>
                    <a:pt x="2222" y="1142"/>
                  </a:lnTo>
                  <a:lnTo>
                    <a:pt x="2194" y="1142"/>
                  </a:lnTo>
                  <a:lnTo>
                    <a:pt x="2165" y="1142"/>
                  </a:lnTo>
                  <a:lnTo>
                    <a:pt x="2135" y="1142"/>
                  </a:lnTo>
                  <a:lnTo>
                    <a:pt x="2107" y="1142"/>
                  </a:lnTo>
                  <a:lnTo>
                    <a:pt x="2078" y="1142"/>
                  </a:lnTo>
                  <a:lnTo>
                    <a:pt x="2050" y="1142"/>
                  </a:lnTo>
                  <a:lnTo>
                    <a:pt x="2012" y="1142"/>
                  </a:lnTo>
                  <a:lnTo>
                    <a:pt x="1983" y="1142"/>
                  </a:lnTo>
                  <a:lnTo>
                    <a:pt x="1954" y="1142"/>
                  </a:lnTo>
                  <a:lnTo>
                    <a:pt x="1925" y="1142"/>
                  </a:lnTo>
                  <a:lnTo>
                    <a:pt x="1897" y="1142"/>
                  </a:lnTo>
                  <a:lnTo>
                    <a:pt x="1911" y="1150"/>
                  </a:lnTo>
                  <a:lnTo>
                    <a:pt x="1909" y="1146"/>
                  </a:lnTo>
                  <a:lnTo>
                    <a:pt x="1903" y="1143"/>
                  </a:lnTo>
                  <a:lnTo>
                    <a:pt x="1897" y="1156"/>
                  </a:lnTo>
                  <a:lnTo>
                    <a:pt x="1914" y="1156"/>
                  </a:lnTo>
                  <a:lnTo>
                    <a:pt x="1886" y="399"/>
                  </a:lnTo>
                  <a:lnTo>
                    <a:pt x="1883" y="393"/>
                  </a:lnTo>
                  <a:lnTo>
                    <a:pt x="1880" y="389"/>
                  </a:lnTo>
                  <a:lnTo>
                    <a:pt x="1875" y="386"/>
                  </a:lnTo>
                  <a:lnTo>
                    <a:pt x="1868" y="385"/>
                  </a:lnTo>
                  <a:lnTo>
                    <a:pt x="1840" y="385"/>
                  </a:lnTo>
                  <a:lnTo>
                    <a:pt x="1811" y="385"/>
                  </a:lnTo>
                  <a:lnTo>
                    <a:pt x="1781" y="385"/>
                  </a:lnTo>
                  <a:lnTo>
                    <a:pt x="1753" y="385"/>
                  </a:lnTo>
                  <a:lnTo>
                    <a:pt x="1715" y="385"/>
                  </a:lnTo>
                  <a:lnTo>
                    <a:pt x="1686" y="385"/>
                  </a:lnTo>
                  <a:lnTo>
                    <a:pt x="1656" y="385"/>
                  </a:lnTo>
                  <a:lnTo>
                    <a:pt x="1628" y="385"/>
                  </a:lnTo>
                  <a:lnTo>
                    <a:pt x="1599" y="385"/>
                  </a:lnTo>
                  <a:lnTo>
                    <a:pt x="1571" y="385"/>
                  </a:lnTo>
                  <a:lnTo>
                    <a:pt x="1542" y="385"/>
                  </a:lnTo>
                  <a:lnTo>
                    <a:pt x="1514" y="385"/>
                  </a:lnTo>
                  <a:lnTo>
                    <a:pt x="1484" y="385"/>
                  </a:lnTo>
                  <a:lnTo>
                    <a:pt x="1455" y="385"/>
                  </a:lnTo>
                  <a:lnTo>
                    <a:pt x="1417" y="385"/>
                  </a:lnTo>
                  <a:lnTo>
                    <a:pt x="1417" y="385"/>
                  </a:lnTo>
                  <a:lnTo>
                    <a:pt x="1410" y="386"/>
                  </a:lnTo>
                  <a:lnTo>
                    <a:pt x="1405" y="389"/>
                  </a:lnTo>
                  <a:lnTo>
                    <a:pt x="1402" y="393"/>
                  </a:lnTo>
                  <a:lnTo>
                    <a:pt x="1401" y="399"/>
                  </a:lnTo>
                  <a:lnTo>
                    <a:pt x="1401" y="399"/>
                  </a:lnTo>
                  <a:lnTo>
                    <a:pt x="1372" y="1013"/>
                  </a:lnTo>
                  <a:lnTo>
                    <a:pt x="1389" y="998"/>
                  </a:lnTo>
                  <a:lnTo>
                    <a:pt x="1382" y="1000"/>
                  </a:lnTo>
                  <a:lnTo>
                    <a:pt x="1377" y="1002"/>
                  </a:lnTo>
                  <a:lnTo>
                    <a:pt x="1374" y="1007"/>
                  </a:lnTo>
                  <a:lnTo>
                    <a:pt x="1372" y="1013"/>
                  </a:lnTo>
                  <a:lnTo>
                    <a:pt x="1389" y="1013"/>
                  </a:lnTo>
                  <a:lnTo>
                    <a:pt x="1389" y="998"/>
                  </a:lnTo>
                  <a:lnTo>
                    <a:pt x="1360" y="998"/>
                  </a:lnTo>
                  <a:lnTo>
                    <a:pt x="1332" y="998"/>
                  </a:lnTo>
                  <a:lnTo>
                    <a:pt x="1302" y="998"/>
                  </a:lnTo>
                  <a:lnTo>
                    <a:pt x="1273" y="998"/>
                  </a:lnTo>
                  <a:lnTo>
                    <a:pt x="1245" y="998"/>
                  </a:lnTo>
                  <a:lnTo>
                    <a:pt x="1216" y="998"/>
                  </a:lnTo>
                  <a:lnTo>
                    <a:pt x="1188" y="998"/>
                  </a:lnTo>
                  <a:lnTo>
                    <a:pt x="1159" y="998"/>
                  </a:lnTo>
                  <a:lnTo>
                    <a:pt x="1121" y="998"/>
                  </a:lnTo>
                  <a:lnTo>
                    <a:pt x="1091" y="998"/>
                  </a:lnTo>
                  <a:lnTo>
                    <a:pt x="1063" y="998"/>
                  </a:lnTo>
                  <a:lnTo>
                    <a:pt x="1034" y="998"/>
                  </a:lnTo>
                  <a:lnTo>
                    <a:pt x="1006" y="998"/>
                  </a:lnTo>
                  <a:lnTo>
                    <a:pt x="977" y="998"/>
                  </a:lnTo>
                  <a:lnTo>
                    <a:pt x="949" y="998"/>
                  </a:lnTo>
                  <a:lnTo>
                    <a:pt x="949" y="998"/>
                  </a:lnTo>
                  <a:lnTo>
                    <a:pt x="942" y="1000"/>
                  </a:lnTo>
                  <a:lnTo>
                    <a:pt x="937" y="1002"/>
                  </a:lnTo>
                  <a:lnTo>
                    <a:pt x="934" y="1007"/>
                  </a:lnTo>
                  <a:lnTo>
                    <a:pt x="933" y="1013"/>
                  </a:lnTo>
                  <a:lnTo>
                    <a:pt x="933" y="1013"/>
                  </a:lnTo>
                  <a:lnTo>
                    <a:pt x="903" y="1443"/>
                  </a:lnTo>
                  <a:lnTo>
                    <a:pt x="919" y="1429"/>
                  </a:lnTo>
                  <a:lnTo>
                    <a:pt x="912" y="1431"/>
                  </a:lnTo>
                  <a:lnTo>
                    <a:pt x="907" y="1433"/>
                  </a:lnTo>
                  <a:lnTo>
                    <a:pt x="904" y="1438"/>
                  </a:lnTo>
                  <a:lnTo>
                    <a:pt x="903" y="1443"/>
                  </a:lnTo>
                  <a:lnTo>
                    <a:pt x="919" y="1443"/>
                  </a:lnTo>
                  <a:lnTo>
                    <a:pt x="919" y="1429"/>
                  </a:lnTo>
                  <a:lnTo>
                    <a:pt x="891" y="1429"/>
                  </a:lnTo>
                  <a:lnTo>
                    <a:pt x="862" y="1429"/>
                  </a:lnTo>
                  <a:lnTo>
                    <a:pt x="824" y="1429"/>
                  </a:lnTo>
                  <a:lnTo>
                    <a:pt x="795" y="1429"/>
                  </a:lnTo>
                  <a:lnTo>
                    <a:pt x="767" y="1429"/>
                  </a:lnTo>
                  <a:lnTo>
                    <a:pt x="737" y="1429"/>
                  </a:lnTo>
                  <a:lnTo>
                    <a:pt x="709" y="1429"/>
                  </a:lnTo>
                  <a:lnTo>
                    <a:pt x="680" y="1429"/>
                  </a:lnTo>
                  <a:lnTo>
                    <a:pt x="652" y="1429"/>
                  </a:lnTo>
                  <a:lnTo>
                    <a:pt x="623" y="1429"/>
                  </a:lnTo>
                  <a:lnTo>
                    <a:pt x="595" y="1429"/>
                  </a:lnTo>
                  <a:lnTo>
                    <a:pt x="566" y="1429"/>
                  </a:lnTo>
                  <a:lnTo>
                    <a:pt x="527" y="1429"/>
                  </a:lnTo>
                  <a:lnTo>
                    <a:pt x="498" y="1429"/>
                  </a:lnTo>
                  <a:lnTo>
                    <a:pt x="470" y="1429"/>
                  </a:lnTo>
                  <a:lnTo>
                    <a:pt x="485" y="1438"/>
                  </a:lnTo>
                  <a:lnTo>
                    <a:pt x="482" y="1433"/>
                  </a:lnTo>
                  <a:lnTo>
                    <a:pt x="476" y="1431"/>
                  </a:lnTo>
                  <a:lnTo>
                    <a:pt x="470" y="1443"/>
                  </a:lnTo>
                  <a:lnTo>
                    <a:pt x="487" y="1442"/>
                  </a:lnTo>
                  <a:lnTo>
                    <a:pt x="459" y="1070"/>
                  </a:lnTo>
                  <a:lnTo>
                    <a:pt x="456" y="1066"/>
                  </a:lnTo>
                  <a:lnTo>
                    <a:pt x="453" y="1061"/>
                  </a:lnTo>
                  <a:lnTo>
                    <a:pt x="448" y="1058"/>
                  </a:lnTo>
                  <a:lnTo>
                    <a:pt x="441" y="1057"/>
                  </a:lnTo>
                  <a:lnTo>
                    <a:pt x="413" y="1057"/>
                  </a:lnTo>
                  <a:lnTo>
                    <a:pt x="384" y="1057"/>
                  </a:lnTo>
                  <a:lnTo>
                    <a:pt x="354" y="1057"/>
                  </a:lnTo>
                  <a:lnTo>
                    <a:pt x="326" y="1057"/>
                  </a:lnTo>
                  <a:lnTo>
                    <a:pt x="297" y="1057"/>
                  </a:lnTo>
                  <a:lnTo>
                    <a:pt x="269" y="1057"/>
                  </a:lnTo>
                  <a:lnTo>
                    <a:pt x="231" y="1057"/>
                  </a:lnTo>
                  <a:lnTo>
                    <a:pt x="202" y="1057"/>
                  </a:lnTo>
                  <a:lnTo>
                    <a:pt x="172" y="1057"/>
                  </a:lnTo>
                  <a:lnTo>
                    <a:pt x="144" y="1057"/>
                  </a:lnTo>
                  <a:lnTo>
                    <a:pt x="115" y="1057"/>
                  </a:lnTo>
                  <a:lnTo>
                    <a:pt x="87" y="1057"/>
                  </a:lnTo>
                  <a:lnTo>
                    <a:pt x="58" y="1057"/>
                  </a:lnTo>
                  <a:lnTo>
                    <a:pt x="30" y="1057"/>
                  </a:lnTo>
                  <a:lnTo>
                    <a:pt x="0" y="105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932040" y="3429000"/>
              <a:ext cx="263520" cy="23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932040" y="343512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957" name=""/>
            <p:cNvSpPr/>
            <p:nvPr/>
          </p:nvSpPr>
          <p:spPr>
            <a:xfrm>
              <a:off x="1074600" y="34351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 </a:t>
              </a:r>
              <a:endParaRPr b="0" lang="en-US" sz="1500" spc="-1" strike="noStrike">
                <a:solidFill>
                  <a:srgbClr val="000000"/>
                </a:solidFill>
                <a:latin typeface="Times New Roman"/>
              </a:endParaRPr>
            </a:p>
          </p:txBody>
        </p:sp>
        <p:grpSp>
          <p:nvGrpSpPr>
            <p:cNvPr id="1958" name=""/>
            <p:cNvGrpSpPr/>
            <p:nvPr/>
          </p:nvGrpSpPr>
          <p:grpSpPr>
            <a:xfrm>
              <a:off x="1158840" y="3497040"/>
              <a:ext cx="646200" cy="122040"/>
              <a:chOff x="1158840" y="3497040"/>
              <a:chExt cx="646200" cy="122040"/>
            </a:xfrm>
          </p:grpSpPr>
          <p:sp>
            <p:nvSpPr>
              <p:cNvPr id="1959" name=""/>
              <p:cNvSpPr/>
              <p:nvPr/>
            </p:nvSpPr>
            <p:spPr>
              <a:xfrm>
                <a:off x="1158840" y="3520800"/>
                <a:ext cx="50796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60" name=""/>
              <p:cNvSpPr/>
              <p:nvPr/>
            </p:nvSpPr>
            <p:spPr>
              <a:xfrm>
                <a:off x="1658880" y="3497040"/>
                <a:ext cx="146160" cy="122040"/>
              </a:xfrm>
              <a:custGeom>
                <a:avLst/>
                <a:gdLst/>
                <a:ahLst/>
                <a:rect l="l" t="t" r="r" b="b"/>
                <a:pathLst>
                  <a:path w="185" h="154">
                    <a:moveTo>
                      <a:pt x="0" y="154"/>
                    </a:moveTo>
                    <a:lnTo>
                      <a:pt x="185" y="89"/>
                    </a:lnTo>
                    <a:lnTo>
                      <a:pt x="15" y="0"/>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1" name=""/>
            <p:cNvSpPr/>
            <p:nvPr/>
          </p:nvSpPr>
          <p:spPr>
            <a:xfrm>
              <a:off x="2351160" y="4449600"/>
              <a:ext cx="263520" cy="23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2351160" y="44560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Q</a:t>
              </a:r>
              <a:endParaRPr b="0" lang="en-US" sz="1500" spc="-1" strike="noStrike">
                <a:solidFill>
                  <a:srgbClr val="000000"/>
                </a:solidFill>
                <a:latin typeface="Times New Roman"/>
              </a:endParaRPr>
            </a:p>
          </p:txBody>
        </p:sp>
        <p:sp>
          <p:nvSpPr>
            <p:cNvPr id="1963" name=""/>
            <p:cNvSpPr/>
            <p:nvPr/>
          </p:nvSpPr>
          <p:spPr>
            <a:xfrm>
              <a:off x="2506680" y="44560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 </a:t>
              </a:r>
              <a:endParaRPr b="0" lang="en-US" sz="1500" spc="-1" strike="noStrike">
                <a:solidFill>
                  <a:srgbClr val="000000"/>
                </a:solidFill>
                <a:latin typeface="Times New Roman"/>
              </a:endParaRPr>
            </a:p>
          </p:txBody>
        </p:sp>
        <p:grpSp>
          <p:nvGrpSpPr>
            <p:cNvPr id="1964" name=""/>
            <p:cNvGrpSpPr/>
            <p:nvPr/>
          </p:nvGrpSpPr>
          <p:grpSpPr>
            <a:xfrm>
              <a:off x="2546280" y="4389120"/>
              <a:ext cx="390600" cy="151920"/>
              <a:chOff x="2546280" y="4389120"/>
              <a:chExt cx="390600" cy="151920"/>
            </a:xfrm>
          </p:grpSpPr>
          <p:sp>
            <p:nvSpPr>
              <p:cNvPr id="1965" name=""/>
              <p:cNvSpPr/>
              <p:nvPr/>
            </p:nvSpPr>
            <p:spPr>
              <a:xfrm flipV="1">
                <a:off x="2546280" y="4444200"/>
                <a:ext cx="26208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2779560" y="4389120"/>
                <a:ext cx="157320" cy="112680"/>
              </a:xfrm>
              <a:custGeom>
                <a:avLst/>
                <a:gdLst/>
                <a:ahLst/>
                <a:rect l="l" t="t" r="r" b="b"/>
                <a:pathLst>
                  <a:path w="198" h="143">
                    <a:moveTo>
                      <a:pt x="69" y="143"/>
                    </a:moveTo>
                    <a:lnTo>
                      <a:pt x="198" y="11"/>
                    </a:lnTo>
                    <a:lnTo>
                      <a:pt x="0" y="0"/>
                    </a:lnTo>
                    <a:lnTo>
                      <a:pt x="69"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7" name=""/>
            <p:cNvSpPr/>
            <p:nvPr/>
          </p:nvSpPr>
          <p:spPr>
            <a:xfrm>
              <a:off x="961920" y="3427200"/>
              <a:ext cx="125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8" name=""/>
            <p:cNvSpPr/>
            <p:nvPr/>
          </p:nvSpPr>
          <p:spPr>
            <a:xfrm>
              <a:off x="2381400" y="4451040"/>
              <a:ext cx="12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9" name=""/>
            <p:cNvSpPr/>
            <p:nvPr/>
          </p:nvSpPr>
          <p:spPr>
            <a:xfrm>
              <a:off x="3614760" y="3614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pSp>
      <p:sp>
        <p:nvSpPr>
          <p:cNvPr id="1970" name=""/>
          <p:cNvSpPr/>
          <p:nvPr/>
        </p:nvSpPr>
        <p:spPr>
          <a:xfrm>
            <a:off x="3438360" y="480960"/>
            <a:ext cx="2605320" cy="719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65040" y="5689440"/>
            <a:ext cx="1703520" cy="90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364320" y="5695920"/>
            <a:ext cx="130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73" name=""/>
          <p:cNvSpPr/>
          <p:nvPr/>
        </p:nvSpPr>
        <p:spPr>
          <a:xfrm>
            <a:off x="515160" y="56959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974" name=""/>
          <p:cNvSpPr/>
          <p:nvPr/>
        </p:nvSpPr>
        <p:spPr>
          <a:xfrm>
            <a:off x="584280" y="5692680"/>
            <a:ext cx="1117800" cy="670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baabccbc</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75" name=""/>
          <p:cNvSpPr/>
          <p:nvPr/>
        </p:nvSpPr>
        <p:spPr>
          <a:xfrm>
            <a:off x="733320" y="56926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
          <p:cNvSpPr/>
          <p:nvPr/>
        </p:nvSpPr>
        <p:spPr>
          <a:xfrm>
            <a:off x="1659960" y="56926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1977" name=""/>
          <p:cNvGrpSpPr/>
          <p:nvPr/>
        </p:nvGrpSpPr>
        <p:grpSpPr>
          <a:xfrm>
            <a:off x="51840" y="5661000"/>
            <a:ext cx="136440" cy="299520"/>
            <a:chOff x="51840" y="5661000"/>
            <a:chExt cx="136440" cy="299520"/>
          </a:xfrm>
        </p:grpSpPr>
        <p:sp>
          <p:nvSpPr>
            <p:cNvPr id="1978" name=""/>
            <p:cNvSpPr/>
            <p:nvPr/>
          </p:nvSpPr>
          <p:spPr>
            <a:xfrm>
              <a:off x="51840" y="571680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979" name=""/>
            <p:cNvSpPr/>
            <p:nvPr/>
          </p:nvSpPr>
          <p:spPr>
            <a:xfrm>
              <a:off x="117360" y="566100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ˆ</a:t>
              </a:r>
              <a:endParaRPr b="0" lang="en-US" sz="1600" spc="-1" strike="noStrike">
                <a:solidFill>
                  <a:srgbClr val="000000"/>
                </a:solidFill>
                <a:latin typeface="Times New Roman"/>
              </a:endParaRPr>
            </a:p>
          </p:txBody>
        </p:sp>
      </p:grpSp>
      <p:sp>
        <p:nvSpPr>
          <p:cNvPr id="1980" name=""/>
          <p:cNvSpPr/>
          <p:nvPr/>
        </p:nvSpPr>
        <p:spPr>
          <a:xfrm>
            <a:off x="2548080" y="5861160"/>
            <a:ext cx="355320" cy="41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2846520" y="58705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982" name=""/>
          <p:cNvSpPr/>
          <p:nvPr/>
        </p:nvSpPr>
        <p:spPr>
          <a:xfrm>
            <a:off x="340560" y="6234120"/>
            <a:ext cx="130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83" name=""/>
          <p:cNvSpPr/>
          <p:nvPr/>
        </p:nvSpPr>
        <p:spPr>
          <a:xfrm>
            <a:off x="491400" y="62294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984" name=""/>
          <p:cNvSpPr/>
          <p:nvPr/>
        </p:nvSpPr>
        <p:spPr>
          <a:xfrm>
            <a:off x="560160" y="6229440"/>
            <a:ext cx="11026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abcacca</a:t>
            </a:r>
            <a:endParaRPr b="0" lang="en-US" sz="2200" spc="-1" strike="noStrike">
              <a:solidFill>
                <a:srgbClr val="000000"/>
              </a:solidFill>
              <a:latin typeface="Times New Roman"/>
            </a:endParaRPr>
          </a:p>
        </p:txBody>
      </p:sp>
      <p:sp>
        <p:nvSpPr>
          <p:cNvPr id="1985" name=""/>
          <p:cNvSpPr/>
          <p:nvPr/>
        </p:nvSpPr>
        <p:spPr>
          <a:xfrm>
            <a:off x="1622520" y="62755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pSp>
        <p:nvGrpSpPr>
          <p:cNvPr id="1986" name=""/>
          <p:cNvGrpSpPr/>
          <p:nvPr/>
        </p:nvGrpSpPr>
        <p:grpSpPr>
          <a:xfrm>
            <a:off x="28080" y="6211800"/>
            <a:ext cx="146880" cy="299520"/>
            <a:chOff x="28080" y="6211800"/>
            <a:chExt cx="146880" cy="299520"/>
          </a:xfrm>
        </p:grpSpPr>
        <p:sp>
          <p:nvSpPr>
            <p:cNvPr id="1987" name=""/>
            <p:cNvSpPr/>
            <p:nvPr/>
          </p:nvSpPr>
          <p:spPr>
            <a:xfrm>
              <a:off x="28080" y="626760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1988" name=""/>
            <p:cNvSpPr/>
            <p:nvPr/>
          </p:nvSpPr>
          <p:spPr>
            <a:xfrm>
              <a:off x="95400" y="621180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ˆ</a:t>
              </a:r>
              <a:endParaRPr b="0" lang="en-US" sz="1600" spc="-1" strike="noStrike">
                <a:solidFill>
                  <a:srgbClr val="000000"/>
                </a:solidFill>
                <a:latin typeface="Times New Roman"/>
              </a:endParaRPr>
            </a:p>
          </p:txBody>
        </p:sp>
      </p:grpSp>
      <p:sp>
        <p:nvSpPr>
          <p:cNvPr id="1989" name=""/>
          <p:cNvSpPr/>
          <p:nvPr/>
        </p:nvSpPr>
        <p:spPr>
          <a:xfrm>
            <a:off x="2522520" y="587052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0" name=""/>
          <p:cNvSpPr/>
          <p:nvPr/>
        </p:nvSpPr>
        <p:spPr>
          <a:xfrm>
            <a:off x="2595600" y="58690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1" name=""/>
          <p:cNvSpPr/>
          <p:nvPr/>
        </p:nvSpPr>
        <p:spPr>
          <a:xfrm>
            <a:off x="2751120" y="587052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92" name=""/>
          <p:cNvGrpSpPr/>
          <p:nvPr/>
        </p:nvGrpSpPr>
        <p:grpSpPr>
          <a:xfrm>
            <a:off x="571680" y="6000840"/>
            <a:ext cx="1055160" cy="228600"/>
            <a:chOff x="571680" y="6000840"/>
            <a:chExt cx="1055160" cy="228600"/>
          </a:xfrm>
        </p:grpSpPr>
        <p:grpSp>
          <p:nvGrpSpPr>
            <p:cNvPr id="1993" name=""/>
            <p:cNvGrpSpPr/>
            <p:nvPr/>
          </p:nvGrpSpPr>
          <p:grpSpPr>
            <a:xfrm>
              <a:off x="571680" y="6000840"/>
              <a:ext cx="91800" cy="228600"/>
              <a:chOff x="571680" y="6000840"/>
              <a:chExt cx="91800" cy="228600"/>
            </a:xfrm>
          </p:grpSpPr>
          <p:sp>
            <p:nvSpPr>
              <p:cNvPr id="1994" name=""/>
              <p:cNvSpPr/>
              <p:nvPr/>
            </p:nvSpPr>
            <p:spPr>
              <a:xfrm>
                <a:off x="615960" y="6051600"/>
                <a:ext cx="1080" cy="12384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571680" y="6000840"/>
                <a:ext cx="91800" cy="79200"/>
              </a:xfrm>
              <a:custGeom>
                <a:avLst/>
                <a:gdLst/>
                <a:ahLst/>
                <a:rect l="l" t="t" r="r" b="b"/>
                <a:pathLst>
                  <a:path w="115" h="100">
                    <a:moveTo>
                      <a:pt x="115" y="100"/>
                    </a:moveTo>
                    <a:lnTo>
                      <a:pt x="58" y="0"/>
                    </a:lnTo>
                    <a:lnTo>
                      <a:pt x="0" y="100"/>
                    </a:lnTo>
                    <a:lnTo>
                      <a:pt x="58" y="68"/>
                    </a:lnTo>
                    <a:lnTo>
                      <a:pt x="115" y="10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6" name=""/>
              <p:cNvSpPr/>
              <p:nvPr/>
            </p:nvSpPr>
            <p:spPr>
              <a:xfrm>
                <a:off x="571680" y="6148440"/>
                <a:ext cx="91800" cy="81000"/>
              </a:xfrm>
              <a:custGeom>
                <a:avLst/>
                <a:gdLst/>
                <a:ahLst/>
                <a:rect l="l" t="t" r="r" b="b"/>
                <a:pathLst>
                  <a:path w="115" h="102">
                    <a:moveTo>
                      <a:pt x="0" y="0"/>
                    </a:moveTo>
                    <a:lnTo>
                      <a:pt x="58" y="102"/>
                    </a:lnTo>
                    <a:lnTo>
                      <a:pt x="115" y="0"/>
                    </a:lnTo>
                    <a:lnTo>
                      <a:pt x="58" y="32"/>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997" name=""/>
            <p:cNvGrpSpPr/>
            <p:nvPr/>
          </p:nvGrpSpPr>
          <p:grpSpPr>
            <a:xfrm>
              <a:off x="709560" y="6000840"/>
              <a:ext cx="91800" cy="228600"/>
              <a:chOff x="709560" y="6000840"/>
              <a:chExt cx="91800" cy="228600"/>
            </a:xfrm>
          </p:grpSpPr>
          <p:sp>
            <p:nvSpPr>
              <p:cNvPr id="1998" name=""/>
              <p:cNvSpPr/>
              <p:nvPr/>
            </p:nvSpPr>
            <p:spPr>
              <a:xfrm>
                <a:off x="753480" y="6051600"/>
                <a:ext cx="1440" cy="12384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709560" y="6000840"/>
                <a:ext cx="91800" cy="79200"/>
              </a:xfrm>
              <a:custGeom>
                <a:avLst/>
                <a:gdLst/>
                <a:ahLst/>
                <a:rect l="l" t="t" r="r" b="b"/>
                <a:pathLst>
                  <a:path w="115" h="100">
                    <a:moveTo>
                      <a:pt x="115" y="100"/>
                    </a:moveTo>
                    <a:lnTo>
                      <a:pt x="58" y="0"/>
                    </a:lnTo>
                    <a:lnTo>
                      <a:pt x="0" y="100"/>
                    </a:lnTo>
                    <a:lnTo>
                      <a:pt x="58" y="68"/>
                    </a:lnTo>
                    <a:lnTo>
                      <a:pt x="115" y="10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0" name=""/>
              <p:cNvSpPr/>
              <p:nvPr/>
            </p:nvSpPr>
            <p:spPr>
              <a:xfrm>
                <a:off x="709560" y="6148440"/>
                <a:ext cx="91800" cy="81000"/>
              </a:xfrm>
              <a:custGeom>
                <a:avLst/>
                <a:gdLst/>
                <a:ahLst/>
                <a:rect l="l" t="t" r="r" b="b"/>
                <a:pathLst>
                  <a:path w="115" h="102">
                    <a:moveTo>
                      <a:pt x="0" y="0"/>
                    </a:moveTo>
                    <a:lnTo>
                      <a:pt x="58" y="102"/>
                    </a:lnTo>
                    <a:lnTo>
                      <a:pt x="115" y="0"/>
                    </a:lnTo>
                    <a:lnTo>
                      <a:pt x="58" y="32"/>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001" name=""/>
            <p:cNvGrpSpPr/>
            <p:nvPr/>
          </p:nvGrpSpPr>
          <p:grpSpPr>
            <a:xfrm>
              <a:off x="846000" y="6000840"/>
              <a:ext cx="91800" cy="228600"/>
              <a:chOff x="846000" y="6000840"/>
              <a:chExt cx="91800" cy="228600"/>
            </a:xfrm>
          </p:grpSpPr>
          <p:sp>
            <p:nvSpPr>
              <p:cNvPr id="2002" name=""/>
              <p:cNvSpPr/>
              <p:nvPr/>
            </p:nvSpPr>
            <p:spPr>
              <a:xfrm>
                <a:off x="891720" y="6051600"/>
                <a:ext cx="1080" cy="12384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846000" y="6000840"/>
                <a:ext cx="91800" cy="79200"/>
              </a:xfrm>
              <a:custGeom>
                <a:avLst/>
                <a:gdLst/>
                <a:ahLst/>
                <a:rect l="l" t="t" r="r" b="b"/>
                <a:pathLst>
                  <a:path w="115" h="100">
                    <a:moveTo>
                      <a:pt x="115" y="100"/>
                    </a:moveTo>
                    <a:lnTo>
                      <a:pt x="57" y="0"/>
                    </a:lnTo>
                    <a:lnTo>
                      <a:pt x="0" y="100"/>
                    </a:lnTo>
                    <a:lnTo>
                      <a:pt x="57" y="68"/>
                    </a:lnTo>
                    <a:lnTo>
                      <a:pt x="115" y="10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4" name=""/>
              <p:cNvSpPr/>
              <p:nvPr/>
            </p:nvSpPr>
            <p:spPr>
              <a:xfrm>
                <a:off x="846000" y="6148440"/>
                <a:ext cx="91800" cy="81000"/>
              </a:xfrm>
              <a:custGeom>
                <a:avLst/>
                <a:gdLst/>
                <a:ahLst/>
                <a:rect l="l" t="t" r="r" b="b"/>
                <a:pathLst>
                  <a:path w="115" h="102">
                    <a:moveTo>
                      <a:pt x="0" y="0"/>
                    </a:moveTo>
                    <a:lnTo>
                      <a:pt x="57" y="102"/>
                    </a:lnTo>
                    <a:lnTo>
                      <a:pt x="115" y="0"/>
                    </a:lnTo>
                    <a:lnTo>
                      <a:pt x="57" y="32"/>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005" name=""/>
            <p:cNvGrpSpPr/>
            <p:nvPr/>
          </p:nvGrpSpPr>
          <p:grpSpPr>
            <a:xfrm>
              <a:off x="984240" y="6000840"/>
              <a:ext cx="91800" cy="228600"/>
              <a:chOff x="984240" y="6000840"/>
              <a:chExt cx="91800" cy="228600"/>
            </a:xfrm>
          </p:grpSpPr>
          <p:sp>
            <p:nvSpPr>
              <p:cNvPr id="2006" name=""/>
              <p:cNvSpPr/>
              <p:nvPr/>
            </p:nvSpPr>
            <p:spPr>
              <a:xfrm>
                <a:off x="1028160" y="6051600"/>
                <a:ext cx="1440" cy="12384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984240" y="6000840"/>
                <a:ext cx="91800" cy="79200"/>
              </a:xfrm>
              <a:custGeom>
                <a:avLst/>
                <a:gdLst/>
                <a:ahLst/>
                <a:rect l="l" t="t" r="r" b="b"/>
                <a:pathLst>
                  <a:path w="115" h="100">
                    <a:moveTo>
                      <a:pt x="115" y="100"/>
                    </a:moveTo>
                    <a:lnTo>
                      <a:pt x="57" y="0"/>
                    </a:lnTo>
                    <a:lnTo>
                      <a:pt x="0" y="100"/>
                    </a:lnTo>
                    <a:lnTo>
                      <a:pt x="57" y="68"/>
                    </a:lnTo>
                    <a:lnTo>
                      <a:pt x="115" y="10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8" name=""/>
              <p:cNvSpPr/>
              <p:nvPr/>
            </p:nvSpPr>
            <p:spPr>
              <a:xfrm>
                <a:off x="984240" y="6148440"/>
                <a:ext cx="91800" cy="81000"/>
              </a:xfrm>
              <a:custGeom>
                <a:avLst/>
                <a:gdLst/>
                <a:ahLst/>
                <a:rect l="l" t="t" r="r" b="b"/>
                <a:pathLst>
                  <a:path w="115" h="102">
                    <a:moveTo>
                      <a:pt x="0" y="0"/>
                    </a:moveTo>
                    <a:lnTo>
                      <a:pt x="57" y="102"/>
                    </a:lnTo>
                    <a:lnTo>
                      <a:pt x="115" y="0"/>
                    </a:lnTo>
                    <a:lnTo>
                      <a:pt x="57" y="32"/>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009" name=""/>
            <p:cNvGrpSpPr/>
            <p:nvPr/>
          </p:nvGrpSpPr>
          <p:grpSpPr>
            <a:xfrm>
              <a:off x="1122120" y="6000840"/>
              <a:ext cx="91800" cy="228600"/>
              <a:chOff x="1122120" y="6000840"/>
              <a:chExt cx="91800" cy="228600"/>
            </a:xfrm>
          </p:grpSpPr>
          <p:sp>
            <p:nvSpPr>
              <p:cNvPr id="2010" name=""/>
              <p:cNvSpPr/>
              <p:nvPr/>
            </p:nvSpPr>
            <p:spPr>
              <a:xfrm>
                <a:off x="1166400" y="6051600"/>
                <a:ext cx="1080" cy="12384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1122120" y="6000840"/>
                <a:ext cx="91800" cy="79200"/>
              </a:xfrm>
              <a:custGeom>
                <a:avLst/>
                <a:gdLst/>
                <a:ahLst/>
                <a:rect l="l" t="t" r="r" b="b"/>
                <a:pathLst>
                  <a:path w="115" h="100">
                    <a:moveTo>
                      <a:pt x="115" y="100"/>
                    </a:moveTo>
                    <a:lnTo>
                      <a:pt x="57" y="0"/>
                    </a:lnTo>
                    <a:lnTo>
                      <a:pt x="0" y="100"/>
                    </a:lnTo>
                    <a:lnTo>
                      <a:pt x="57" y="68"/>
                    </a:lnTo>
                    <a:lnTo>
                      <a:pt x="115" y="10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2" name=""/>
              <p:cNvSpPr/>
              <p:nvPr/>
            </p:nvSpPr>
            <p:spPr>
              <a:xfrm>
                <a:off x="1122120" y="6148440"/>
                <a:ext cx="91800" cy="81000"/>
              </a:xfrm>
              <a:custGeom>
                <a:avLst/>
                <a:gdLst/>
                <a:ahLst/>
                <a:rect l="l" t="t" r="r" b="b"/>
                <a:pathLst>
                  <a:path w="115" h="102">
                    <a:moveTo>
                      <a:pt x="0" y="0"/>
                    </a:moveTo>
                    <a:lnTo>
                      <a:pt x="57" y="102"/>
                    </a:lnTo>
                    <a:lnTo>
                      <a:pt x="115" y="0"/>
                    </a:lnTo>
                    <a:lnTo>
                      <a:pt x="57" y="32"/>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013" name=""/>
            <p:cNvGrpSpPr/>
            <p:nvPr/>
          </p:nvGrpSpPr>
          <p:grpSpPr>
            <a:xfrm>
              <a:off x="1260360" y="6000840"/>
              <a:ext cx="90000" cy="228600"/>
              <a:chOff x="1260360" y="6000840"/>
              <a:chExt cx="90000" cy="228600"/>
            </a:xfrm>
          </p:grpSpPr>
          <p:sp>
            <p:nvSpPr>
              <p:cNvPr id="2014" name=""/>
              <p:cNvSpPr/>
              <p:nvPr/>
            </p:nvSpPr>
            <p:spPr>
              <a:xfrm>
                <a:off x="1304640" y="6051600"/>
                <a:ext cx="1080" cy="12384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1260360" y="6000840"/>
                <a:ext cx="90000" cy="79200"/>
              </a:xfrm>
              <a:custGeom>
                <a:avLst/>
                <a:gdLst/>
                <a:ahLst/>
                <a:rect l="l" t="t" r="r" b="b"/>
                <a:pathLst>
                  <a:path w="116" h="100">
                    <a:moveTo>
                      <a:pt x="116" y="100"/>
                    </a:moveTo>
                    <a:lnTo>
                      <a:pt x="57" y="0"/>
                    </a:lnTo>
                    <a:lnTo>
                      <a:pt x="0" y="100"/>
                    </a:lnTo>
                    <a:lnTo>
                      <a:pt x="57" y="68"/>
                    </a:lnTo>
                    <a:lnTo>
                      <a:pt x="116" y="10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6" name=""/>
              <p:cNvSpPr/>
              <p:nvPr/>
            </p:nvSpPr>
            <p:spPr>
              <a:xfrm>
                <a:off x="1260360" y="6148440"/>
                <a:ext cx="90000" cy="81000"/>
              </a:xfrm>
              <a:custGeom>
                <a:avLst/>
                <a:gdLst/>
                <a:ahLst/>
                <a:rect l="l" t="t" r="r" b="b"/>
                <a:pathLst>
                  <a:path w="116" h="102">
                    <a:moveTo>
                      <a:pt x="0" y="0"/>
                    </a:moveTo>
                    <a:lnTo>
                      <a:pt x="57" y="102"/>
                    </a:lnTo>
                    <a:lnTo>
                      <a:pt x="116" y="0"/>
                    </a:lnTo>
                    <a:lnTo>
                      <a:pt x="57" y="32"/>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017" name=""/>
            <p:cNvGrpSpPr/>
            <p:nvPr/>
          </p:nvGrpSpPr>
          <p:grpSpPr>
            <a:xfrm>
              <a:off x="1396800" y="6000840"/>
              <a:ext cx="91800" cy="228600"/>
              <a:chOff x="1396800" y="6000840"/>
              <a:chExt cx="91800" cy="228600"/>
            </a:xfrm>
          </p:grpSpPr>
          <p:sp>
            <p:nvSpPr>
              <p:cNvPr id="2018" name=""/>
              <p:cNvSpPr/>
              <p:nvPr/>
            </p:nvSpPr>
            <p:spPr>
              <a:xfrm>
                <a:off x="1441080" y="6051600"/>
                <a:ext cx="1080" cy="12384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1396800" y="6000840"/>
                <a:ext cx="91800" cy="79200"/>
              </a:xfrm>
              <a:custGeom>
                <a:avLst/>
                <a:gdLst/>
                <a:ahLst/>
                <a:rect l="l" t="t" r="r" b="b"/>
                <a:pathLst>
                  <a:path w="115" h="100">
                    <a:moveTo>
                      <a:pt x="115" y="100"/>
                    </a:moveTo>
                    <a:lnTo>
                      <a:pt x="58" y="0"/>
                    </a:lnTo>
                    <a:lnTo>
                      <a:pt x="0" y="100"/>
                    </a:lnTo>
                    <a:lnTo>
                      <a:pt x="58" y="68"/>
                    </a:lnTo>
                    <a:lnTo>
                      <a:pt x="115" y="10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0" name=""/>
              <p:cNvSpPr/>
              <p:nvPr/>
            </p:nvSpPr>
            <p:spPr>
              <a:xfrm>
                <a:off x="1396800" y="6148440"/>
                <a:ext cx="91800" cy="81000"/>
              </a:xfrm>
              <a:custGeom>
                <a:avLst/>
                <a:gdLst/>
                <a:ahLst/>
                <a:rect l="l" t="t" r="r" b="b"/>
                <a:pathLst>
                  <a:path w="115" h="102">
                    <a:moveTo>
                      <a:pt x="0" y="0"/>
                    </a:moveTo>
                    <a:lnTo>
                      <a:pt x="58" y="102"/>
                    </a:lnTo>
                    <a:lnTo>
                      <a:pt x="115" y="0"/>
                    </a:lnTo>
                    <a:lnTo>
                      <a:pt x="58" y="32"/>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021" name=""/>
            <p:cNvGrpSpPr/>
            <p:nvPr/>
          </p:nvGrpSpPr>
          <p:grpSpPr>
            <a:xfrm>
              <a:off x="1535040" y="6000840"/>
              <a:ext cx="91800" cy="228600"/>
              <a:chOff x="1535040" y="6000840"/>
              <a:chExt cx="91800" cy="228600"/>
            </a:xfrm>
          </p:grpSpPr>
          <p:sp>
            <p:nvSpPr>
              <p:cNvPr id="2022" name=""/>
              <p:cNvSpPr/>
              <p:nvPr/>
            </p:nvSpPr>
            <p:spPr>
              <a:xfrm>
                <a:off x="1578960" y="6051600"/>
                <a:ext cx="1440" cy="12384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535040" y="6000840"/>
                <a:ext cx="91800" cy="79200"/>
              </a:xfrm>
              <a:custGeom>
                <a:avLst/>
                <a:gdLst/>
                <a:ahLst/>
                <a:rect l="l" t="t" r="r" b="b"/>
                <a:pathLst>
                  <a:path w="115" h="100">
                    <a:moveTo>
                      <a:pt x="115" y="100"/>
                    </a:moveTo>
                    <a:lnTo>
                      <a:pt x="58" y="0"/>
                    </a:lnTo>
                    <a:lnTo>
                      <a:pt x="0" y="100"/>
                    </a:lnTo>
                    <a:lnTo>
                      <a:pt x="58" y="68"/>
                    </a:lnTo>
                    <a:lnTo>
                      <a:pt x="115" y="10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4" name=""/>
              <p:cNvSpPr/>
              <p:nvPr/>
            </p:nvSpPr>
            <p:spPr>
              <a:xfrm>
                <a:off x="1535040" y="6148440"/>
                <a:ext cx="91800" cy="81000"/>
              </a:xfrm>
              <a:custGeom>
                <a:avLst/>
                <a:gdLst/>
                <a:ahLst/>
                <a:rect l="l" t="t" r="r" b="b"/>
                <a:pathLst>
                  <a:path w="115" h="102">
                    <a:moveTo>
                      <a:pt x="0" y="0"/>
                    </a:moveTo>
                    <a:lnTo>
                      <a:pt x="58" y="102"/>
                    </a:lnTo>
                    <a:lnTo>
                      <a:pt x="115" y="0"/>
                    </a:lnTo>
                    <a:lnTo>
                      <a:pt x="58" y="32"/>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2025" name=""/>
          <p:cNvSpPr/>
          <p:nvPr/>
        </p:nvSpPr>
        <p:spPr>
          <a:xfrm>
            <a:off x="2390760" y="2760840"/>
            <a:ext cx="2809800" cy="531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6" name=""/>
          <p:cNvGrpSpPr/>
          <p:nvPr/>
        </p:nvGrpSpPr>
        <p:grpSpPr>
          <a:xfrm>
            <a:off x="3379680" y="520560"/>
            <a:ext cx="2743200" cy="1096920"/>
            <a:chOff x="3379680" y="520560"/>
            <a:chExt cx="2743200" cy="1096920"/>
          </a:xfrm>
        </p:grpSpPr>
        <mc:AlternateContent>
          <mc:Choice xmlns:a14="http://schemas.microsoft.com/office/drawing/2010/main" Requires="a14">
            <p:sp>
              <p:nvSpPr>
                <p:cNvPr id="2027" name=""/>
                <p:cNvSpPr txBox="1"/>
                <p:nvPr/>
              </p:nvSpPr>
              <p:spPr>
                <a:xfrm>
                  <a:off x="3456000" y="520560"/>
                  <a:ext cx="2563920" cy="685800"/>
                </a:xfrm>
                <a:prstGeom prst="rect">
                  <a:avLst/>
                </a:prstGeom>
              </p:spPr>
              <p:txBody>
                <a:bodyPr/>
                <a:p>
                  <a14:m>
                    <m:oMath xmlns:m="http://schemas.openxmlformats.org/officeDocument/2006/math">
                      <m:r>
                        <m:t xml:space="preserve">D</m:t>
                      </m:r>
                      <m:d>
                        <m:dPr>
                          <m:begChr m:val="("/>
                          <m:endChr m:val=")"/>
                        </m:dPr>
                        <m:e>
                          <m:r>
                            <m:t xml:space="preserve">Q</m:t>
                          </m:r>
                          <m:r>
                            <m:t xml:space="preserve">,</m:t>
                          </m:r>
                          <m:r>
                            <m:t xml:space="preserve">C</m:t>
                          </m:r>
                        </m:e>
                      </m:d>
                      <m:r>
                        <m:t xml:space="preserve"> </m:t>
                      </m:r>
                      <m:r>
                        <m:t xml:space="preserve">≡</m:t>
                      </m:r>
                      <m:rad>
                        <m:radPr>
                          <m:degHide m:val="1"/>
                        </m:radPr>
                        <m:deg/>
                        <m:e>
                          <m:nary>
                            <m:naryPr>
                              <m:chr m:val="∑"/>
                            </m:naryPr>
                            <m:sub>
                              <m:r>
                                <m:t xml:space="preserve">i</m:t>
                              </m:r>
                              <m:r>
                                <m:t xml:space="preserve">=</m:t>
                              </m:r>
                              <m:r>
                                <m:t xml:space="preserve">1</m:t>
                              </m:r>
                            </m:sub>
                            <m:sup>
                              <m:r>
                                <m:t xml:space="preserve">n</m:t>
                              </m:r>
                            </m:sup>
                            <m:e>
                              <m:sSup>
                                <m:e>
                                  <m:d>
                                    <m:dPr>
                                      <m:begChr m:val="("/>
                                      <m:endChr m:val=")"/>
                                    </m:dPr>
                                    <m:e>
                                      <m:sSub>
                                        <m:e>
                                          <m:r>
                                            <m:t xml:space="preserve">q</m:t>
                                          </m:r>
                                        </m:e>
                                        <m:sub>
                                          <m:r>
                                            <m:t xml:space="preserve">i</m:t>
                                          </m:r>
                                        </m:sub>
                                      </m:sSub>
                                      <m:r>
                                        <m:t xml:space="preserve"> </m:t>
                                      </m:r>
                                      <m:r>
                                        <m:t xml:space="preserve">−</m:t>
                                      </m:r>
                                      <m:sSub>
                                        <m:e>
                                          <m:r>
                                            <m:t xml:space="preserve">c</m:t>
                                          </m:r>
                                        </m:e>
                                        <m:sub>
                                          <m:r>
                                            <m:t xml:space="preserve">i</m:t>
                                          </m:r>
                                        </m:sub>
                                      </m:sSub>
                                    </m:e>
                                  </m:d>
                                </m:e>
                                <m:sup>
                                  <m:r>
                                    <m:t xml:space="preserve"> </m:t>
                                  </m:r>
                                  <m:r>
                                    <m:t xml:space="preserve">2</m:t>
                                  </m:r>
                                </m:sup>
                              </m:sSup>
                            </m:e>
                          </m:nary>
                        </m:e>
                      </m:rad>
                    </m:oMath>
                  </a14:m>
                </a:p>
              </p:txBody>
            </p:sp>
          </mc:Choice>
          <mc:Fallback/>
        </mc:AlternateContent>
        <p:sp>
          <p:nvSpPr>
            <p:cNvPr id="2028" name=""/>
            <p:cNvSpPr/>
            <p:nvPr/>
          </p:nvSpPr>
          <p:spPr>
            <a:xfrm>
              <a:off x="3379680" y="1282320"/>
              <a:ext cx="274320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Euclidean Distance</a:t>
              </a:r>
              <a:endParaRPr b="0" lang="en-US" sz="1600" spc="-1" strike="noStrike">
                <a:solidFill>
                  <a:srgbClr val="000000"/>
                </a:solidFill>
                <a:latin typeface="Times New Roman"/>
              </a:endParaRPr>
            </a:p>
          </p:txBody>
        </p:sp>
      </p:grpSp>
      <mc:AlternateContent>
        <mc:Choice xmlns:a14="http://schemas.microsoft.com/office/drawing/2010/main" Requires="a14">
          <p:sp>
            <p:nvSpPr>
              <p:cNvPr id="2029" name=""/>
              <p:cNvSpPr txBox="1"/>
              <p:nvPr/>
            </p:nvSpPr>
            <p:spPr>
              <a:xfrm>
                <a:off x="2417760" y="2792520"/>
                <a:ext cx="2762280" cy="533160"/>
              </a:xfrm>
              <a:prstGeom prst="rect">
                <a:avLst/>
              </a:prstGeom>
            </p:spPr>
            <p:txBody>
              <a:bodyPr/>
              <a:p>
                <a14:m>
                  <m:oMath xmlns:m="http://schemas.openxmlformats.org/officeDocument/2006/math">
                    <m:r>
                      <m:rPr>
                        <m:lit/>
                        <m:nor/>
                      </m:rPr>
                      <m:t xml:space="preserve">DR</m:t>
                    </m:r>
                    <m:r>
                      <m:t xml:space="preserve">(</m:t>
                    </m:r>
                    <m:acc>
                      <m:accPr>
                        <m:chr m:val="¯"/>
                      </m:accPr>
                      <m:e>
                        <m:r>
                          <m:t xml:space="preserve">Q</m:t>
                        </m:r>
                      </m:e>
                    </m:acc>
                    <m:r>
                      <m:t xml:space="preserve">,</m:t>
                    </m:r>
                    <m:acc>
                      <m:accPr>
                        <m:chr m:val="¯"/>
                      </m:accPr>
                      <m:e>
                        <m:r>
                          <m:t xml:space="preserve">C</m:t>
                        </m:r>
                      </m:e>
                    </m:acc>
                    <m:r>
                      <m:t xml:space="preserve">)</m:t>
                    </m:r>
                    <m:r>
                      <m:t xml:space="preserve"> </m:t>
                    </m:r>
                    <m:r>
                      <m:t xml:space="preserve">≡</m:t>
                    </m:r>
                    <m:r>
                      <m:t xml:space="preserve"> </m:t>
                    </m:r>
                    <m:rad>
                      <m:radPr>
                        <m:degHide m:val="1"/>
                      </m:radPr>
                      <m:deg/>
                      <m:e>
                        <m:f>
                          <m:num>
                            <m:r>
                              <m:t xml:space="preserve">n</m:t>
                            </m:r>
                          </m:num>
                          <m:den>
                            <m:r>
                              <m:t xml:space="preserve">w</m:t>
                            </m:r>
                          </m:den>
                        </m:f>
                      </m:e>
                    </m:rad>
                    <m:rad>
                      <m:radPr>
                        <m:degHide m:val="1"/>
                      </m:radPr>
                      <m:deg/>
                      <m:e>
                        <m:nary>
                          <m:naryPr>
                            <m:chr m:val="∑"/>
                            <m:subHide m:val="1"/>
                            <m:supHide m:val="1"/>
                          </m:naryPr>
                          <m:sub/>
                          <m:sup/>
                          <m:e>
                            <m:sSup>
                              <m:e>
                                <m:d>
                                  <m:dPr>
                                    <m:begChr m:val="("/>
                                    <m:endChr m:val=")"/>
                                  </m:dPr>
                                  <m:e>
                                    <m:sSub>
                                      <m:e>
                                        <m:acc>
                                          <m:accPr>
                                            <m:chr m:val="¯"/>
                                          </m:accPr>
                                          <m:e>
                                            <m:r>
                                              <m:t xml:space="preserve">q</m:t>
                                            </m:r>
                                          </m:e>
                                        </m:acc>
                                      </m:e>
                                      <m:sub>
                                        <m:r>
                                          <m:t xml:space="preserve">i</m:t>
                                        </m:r>
                                      </m:sub>
                                    </m:sSub>
                                    <m:r>
                                      <m:t xml:space="preserve"> </m:t>
                                    </m:r>
                                    <m:r>
                                      <m:t xml:space="preserve">−</m:t>
                                    </m:r>
                                    <m:r>
                                      <m:t xml:space="preserve"> </m:t>
                                    </m:r>
                                    <m:sSub>
                                      <m:e>
                                        <m:acc>
                                          <m:accPr>
                                            <m:chr m:val="¯"/>
                                          </m:accPr>
                                          <m:e>
                                            <m:r>
                                              <m:t xml:space="preserve">c</m:t>
                                            </m:r>
                                          </m:e>
                                        </m:acc>
                                      </m:e>
                                      <m:sub>
                                        <m:r>
                                          <m:t xml:space="preserve">i</m:t>
                                        </m:r>
                                      </m:sub>
                                    </m:sSub>
                                  </m:e>
                                </m:d>
                              </m:e>
                              <m:sup>
                                <m:r>
                                  <m:t xml:space="preserve">2</m:t>
                                </m:r>
                              </m:sup>
                            </m:sSup>
                          </m:e>
                        </m:nary>
                      </m:e>
                    </m:rad>
                  </m:oMath>
                </a14:m>
              </a:p>
            </p:txBody>
          </p:sp>
        </mc:Choice>
        <mc:Fallback/>
      </mc:AlternateContent>
      <p:sp>
        <p:nvSpPr>
          <p:cNvPr id="2030" name=""/>
          <p:cNvSpPr/>
          <p:nvPr/>
        </p:nvSpPr>
        <p:spPr>
          <a:xfrm>
            <a:off x="1868400" y="5424480"/>
            <a:ext cx="3751200" cy="582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1" name=""/>
          <p:cNvGrpSpPr/>
          <p:nvPr/>
        </p:nvGrpSpPr>
        <p:grpSpPr>
          <a:xfrm>
            <a:off x="1895400" y="5454720"/>
            <a:ext cx="3917520" cy="1173600"/>
            <a:chOff x="1895400" y="5454720"/>
            <a:chExt cx="3917520" cy="1173600"/>
          </a:xfrm>
        </p:grpSpPr>
        <mc:AlternateContent>
          <mc:Choice xmlns:a14="http://schemas.microsoft.com/office/drawing/2010/main" Requires="a14">
            <p:sp>
              <p:nvSpPr>
                <p:cNvPr id="2032" name=""/>
                <p:cNvSpPr txBox="1"/>
                <p:nvPr/>
              </p:nvSpPr>
              <p:spPr>
                <a:xfrm>
                  <a:off x="1895400" y="5454720"/>
                  <a:ext cx="3750840" cy="533160"/>
                </a:xfrm>
                <a:prstGeom prst="rect">
                  <a:avLst/>
                </a:prstGeom>
              </p:spPr>
              <p:txBody>
                <a:bodyPr/>
                <a:p>
                  <a14:m>
                    <m:oMath xmlns:m="http://schemas.openxmlformats.org/officeDocument/2006/math">
                      <m:r>
                        <m:rPr>
                          <m:lit/>
                          <m:nor/>
                        </m:rPr>
                        <m:t xml:space="preserve">MINDIST</m:t>
                      </m:r>
                      <m:r>
                        <m:t xml:space="preserve">(</m:t>
                      </m:r>
                      <m:acc>
                        <m:accPr>
                          <m:chr m:val="^"/>
                        </m:accPr>
                        <m:e>
                          <m:r>
                            <m:t xml:space="preserve">Q</m:t>
                          </m:r>
                        </m:e>
                      </m:acc>
                      <m:r>
                        <m:t xml:space="preserve">,</m:t>
                      </m:r>
                      <m:acc>
                        <m:accPr>
                          <m:chr m:val="^"/>
                        </m:accPr>
                        <m:e>
                          <m:r>
                            <m:t xml:space="preserve">C</m:t>
                          </m:r>
                        </m:e>
                      </m:acc>
                      <m:r>
                        <m:t xml:space="preserve">)</m:t>
                      </m:r>
                      <m:r>
                        <m:t xml:space="preserve"> </m:t>
                      </m:r>
                      <m:r>
                        <m:t xml:space="preserve">≡</m:t>
                      </m:r>
                      <m:r>
                        <m:t xml:space="preserve"> </m:t>
                      </m:r>
                      <m:rad>
                        <m:radPr>
                          <m:degHide m:val="1"/>
                        </m:radPr>
                        <m:deg/>
                        <m:e>
                          <m:f>
                            <m:num>
                              <m:r>
                                <m:t xml:space="preserve">n</m:t>
                              </m:r>
                            </m:num>
                            <m:den>
                              <m:r>
                                <m:t xml:space="preserve">w</m:t>
                              </m:r>
                            </m:den>
                          </m:f>
                        </m:e>
                      </m:rad>
                      <m:rad>
                        <m:radPr>
                          <m:degHide m:val="1"/>
                        </m:radPr>
                        <m:deg/>
                        <m:e>
                          <m:nary>
                            <m:naryPr>
                              <m:chr m:val="∑"/>
                              <m:subHide m:val="1"/>
                              <m:supHide m:val="1"/>
                            </m:naryPr>
                            <m:sub/>
                            <m:sup/>
                            <m:e>
                              <m:sSup>
                                <m:e>
                                  <m:d>
                                    <m:dPr>
                                      <m:begChr m:val="("/>
                                      <m:endChr m:val=")"/>
                                    </m:dPr>
                                    <m:e>
                                      <m:r>
                                        <m:rPr>
                                          <m:lit/>
                                          <m:nor/>
                                        </m:rPr>
                                        <m:t xml:space="preserve">dist</m:t>
                                      </m:r>
                                      <m:r>
                                        <m:t xml:space="preserve">(</m:t>
                                      </m:r>
                                      <m:sSub>
                                        <m:e>
                                          <m:acc>
                                            <m:accPr>
                                              <m:chr m:val="^"/>
                                            </m:accPr>
                                            <m:e>
                                              <m:r>
                                                <m:t xml:space="preserve">q</m:t>
                                              </m:r>
                                            </m:e>
                                          </m:acc>
                                        </m:e>
                                        <m:sub>
                                          <m:r>
                                            <m:t xml:space="preserve">i</m:t>
                                          </m:r>
                                        </m:sub>
                                      </m:sSub>
                                      <m:r>
                                        <m:t xml:space="preserve"> </m:t>
                                      </m:r>
                                      <m:r>
                                        <m:t xml:space="preserve">,</m:t>
                                      </m:r>
                                      <m:r>
                                        <m:t xml:space="preserve"> </m:t>
                                      </m:r>
                                      <m:sSub>
                                        <m:e>
                                          <m:acc>
                                            <m:accPr>
                                              <m:chr m:val="^"/>
                                            </m:accPr>
                                            <m:e>
                                              <m:r>
                                                <m:t xml:space="preserve">c</m:t>
                                              </m:r>
                                            </m:e>
                                          </m:acc>
                                        </m:e>
                                        <m:sub>
                                          <m:r>
                                            <m:t xml:space="preserve">i</m:t>
                                          </m:r>
                                        </m:sub>
                                      </m:sSub>
                                      <m:r>
                                        <m:t xml:space="preserve">)</m:t>
                                      </m:r>
                                    </m:e>
                                  </m:d>
                                </m:e>
                                <m:sup>
                                  <m:r>
                                    <m:t xml:space="preserve">2</m:t>
                                  </m:r>
                                </m:sup>
                              </m:sSup>
                            </m:e>
                          </m:nary>
                        </m:e>
                      </m:rad>
                    </m:oMath>
                  </a14:m>
                </a:p>
              </p:txBody>
            </p:sp>
          </mc:Choice>
          <mc:Fallback/>
        </mc:AlternateContent>
        <p:sp>
          <p:nvSpPr>
            <p:cNvPr id="2033" name=""/>
            <p:cNvSpPr/>
            <p:nvPr/>
          </p:nvSpPr>
          <p:spPr>
            <a:xfrm>
              <a:off x="1895400" y="5987880"/>
              <a:ext cx="3917520" cy="64044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ist() can be implemented using a table looku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34" name=""/>
          <p:cNvGraphicFramePr/>
          <p:nvPr/>
        </p:nvGraphicFramePr>
        <p:xfrm>
          <a:off x="0" y="0"/>
          <a:ext cx="9144000" cy="6858000"/>
        </p:xfrm>
        <a:graphic>
          <a:graphicData uri="http://schemas.openxmlformats.org/presentationml/2006/ole">
            <p:oleObj r:id="rId1" spid="">
              <p:embed/>
              <p:pic>
                <p:nvPicPr>
                  <p:cNvPr id="2035" name="" descr=""/>
                  <p:cNvPicPr/>
                  <p:nvPr/>
                </p:nvPicPr>
                <p:blipFill>
                  <a:blip r:embed="rId2"/>
                  <a:stretch/>
                </p:blipFill>
                <p:spPr>
                  <a:xfrm>
                    <a:off x="0" y="0"/>
                    <a:ext cx="9144000" cy="6858000"/>
                  </a:xfrm>
                  <a:prstGeom prst="rect">
                    <a:avLst/>
                  </a:prstGeom>
                  <a:ln w="0">
                    <a:noFill/>
                  </a:ln>
                </p:spPr>
              </p:pic>
            </p:oleObj>
          </a:graphicData>
        </a:graphic>
      </p:graphicFrame>
      <p:sp>
        <p:nvSpPr>
          <p:cNvPr id="2036" name=""/>
          <p:cNvSpPr/>
          <p:nvPr/>
        </p:nvSpPr>
        <p:spPr>
          <a:xfrm>
            <a:off x="219240" y="0"/>
            <a:ext cx="4935240" cy="686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AX is just as good as other representations, or working on the raw data for most problems </a:t>
            </a:r>
            <a:r>
              <a:rPr b="1" lang="en-US" sz="2400" spc="-1" strike="noStrike">
                <a:solidFill>
                  <a:srgbClr val="ffff00"/>
                </a:solidFill>
                <a:latin typeface="Times New Roman"/>
              </a:rPr>
              <a:t>(Slides shown at the end of this pres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ow let us consider SAX for two hot problems, novelty detection and motif discovery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e will start with novelty detec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7" name="Hibbert" descr=""/>
          <p:cNvPicPr/>
          <p:nvPr/>
        </p:nvPicPr>
        <p:blipFill>
          <a:blip r:embed="rId1"/>
          <a:stretch/>
        </p:blipFill>
        <p:spPr>
          <a:xfrm>
            <a:off x="6464160" y="1889280"/>
            <a:ext cx="2473560" cy="2676240"/>
          </a:xfrm>
          <a:prstGeom prst="rect">
            <a:avLst/>
          </a:prstGeom>
          <a:ln w="0">
            <a:noFill/>
          </a:ln>
        </p:spPr>
      </p:pic>
      <p:sp>
        <p:nvSpPr>
          <p:cNvPr id="2038" name="PlaceHolder 1"/>
          <p:cNvSpPr>
            <a:spLocks noGrp="1"/>
          </p:cNvSpPr>
          <p:nvPr>
            <p:ph type="title"/>
          </p:nvPr>
        </p:nvSpPr>
        <p:spPr>
          <a:xfrm>
            <a:off x="104400" y="441000"/>
            <a:ext cx="90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Novelty Detection</a:t>
            </a:r>
            <a:br>
              <a:rPr sz="6600"/>
            </a:br>
            <a:endParaRPr b="0" lang="en-US" sz="6600" spc="-1" strike="noStrike">
              <a:solidFill>
                <a:srgbClr val="000000"/>
              </a:solidFill>
              <a:latin typeface="Times New Roman"/>
            </a:endParaRPr>
          </a:p>
        </p:txBody>
      </p:sp>
      <p:sp>
        <p:nvSpPr>
          <p:cNvPr id="2039" name=""/>
          <p:cNvSpPr/>
          <p:nvPr/>
        </p:nvSpPr>
        <p:spPr>
          <a:xfrm>
            <a:off x="274680" y="4421160"/>
            <a:ext cx="8637480" cy="124308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2613960" y="450216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grpSp>
        <p:nvGrpSpPr>
          <p:cNvPr id="2041" name=""/>
          <p:cNvGrpSpPr/>
          <p:nvPr/>
        </p:nvGrpSpPr>
        <p:grpSpPr>
          <a:xfrm>
            <a:off x="412920" y="4508640"/>
            <a:ext cx="8439840" cy="968400"/>
            <a:chOff x="412920" y="4508640"/>
            <a:chExt cx="8439840" cy="968400"/>
          </a:xfrm>
        </p:grpSpPr>
        <p:sp>
          <p:nvSpPr>
            <p:cNvPr id="2042" name=""/>
            <p:cNvSpPr/>
            <p:nvPr/>
          </p:nvSpPr>
          <p:spPr>
            <a:xfrm>
              <a:off x="412920" y="4529160"/>
              <a:ext cx="1821960" cy="916200"/>
            </a:xfrm>
            <a:custGeom>
              <a:avLst/>
              <a:gdLst/>
              <a:ahLst/>
              <a:rect l="l" t="t" r="r" b="b"/>
              <a:pathLst>
                <a:path w="1322" h="1154">
                  <a:moveTo>
                    <a:pt x="0" y="449"/>
                  </a:moveTo>
                  <a:lnTo>
                    <a:pt x="15" y="449"/>
                  </a:lnTo>
                  <a:lnTo>
                    <a:pt x="28" y="449"/>
                  </a:lnTo>
                  <a:lnTo>
                    <a:pt x="43" y="423"/>
                  </a:lnTo>
                  <a:lnTo>
                    <a:pt x="43" y="308"/>
                  </a:lnTo>
                  <a:lnTo>
                    <a:pt x="58" y="282"/>
                  </a:lnTo>
                  <a:lnTo>
                    <a:pt x="58" y="243"/>
                  </a:lnTo>
                  <a:lnTo>
                    <a:pt x="58" y="347"/>
                  </a:lnTo>
                  <a:lnTo>
                    <a:pt x="72" y="410"/>
                  </a:lnTo>
                  <a:lnTo>
                    <a:pt x="72" y="860"/>
                  </a:lnTo>
                  <a:lnTo>
                    <a:pt x="87" y="911"/>
                  </a:lnTo>
                  <a:lnTo>
                    <a:pt x="87" y="1142"/>
                  </a:lnTo>
                  <a:lnTo>
                    <a:pt x="102" y="1129"/>
                  </a:lnTo>
                  <a:lnTo>
                    <a:pt x="102" y="731"/>
                  </a:lnTo>
                  <a:lnTo>
                    <a:pt x="115" y="667"/>
                  </a:lnTo>
                  <a:lnTo>
                    <a:pt x="115" y="384"/>
                  </a:lnTo>
                  <a:lnTo>
                    <a:pt x="130" y="372"/>
                  </a:lnTo>
                  <a:lnTo>
                    <a:pt x="130" y="282"/>
                  </a:lnTo>
                  <a:lnTo>
                    <a:pt x="145" y="269"/>
                  </a:lnTo>
                  <a:lnTo>
                    <a:pt x="145" y="243"/>
                  </a:lnTo>
                  <a:lnTo>
                    <a:pt x="159" y="231"/>
                  </a:lnTo>
                  <a:lnTo>
                    <a:pt x="159" y="192"/>
                  </a:lnTo>
                  <a:lnTo>
                    <a:pt x="174" y="180"/>
                  </a:lnTo>
                  <a:lnTo>
                    <a:pt x="174" y="155"/>
                  </a:lnTo>
                  <a:lnTo>
                    <a:pt x="189" y="141"/>
                  </a:lnTo>
                  <a:lnTo>
                    <a:pt x="189" y="77"/>
                  </a:lnTo>
                  <a:lnTo>
                    <a:pt x="202" y="65"/>
                  </a:lnTo>
                  <a:lnTo>
                    <a:pt x="202" y="26"/>
                  </a:lnTo>
                  <a:lnTo>
                    <a:pt x="232" y="0"/>
                  </a:lnTo>
                  <a:lnTo>
                    <a:pt x="217" y="0"/>
                  </a:lnTo>
                  <a:lnTo>
                    <a:pt x="232" y="77"/>
                  </a:lnTo>
                  <a:lnTo>
                    <a:pt x="247" y="90"/>
                  </a:lnTo>
                  <a:lnTo>
                    <a:pt x="247" y="192"/>
                  </a:lnTo>
                  <a:lnTo>
                    <a:pt x="261" y="206"/>
                  </a:lnTo>
                  <a:lnTo>
                    <a:pt x="261" y="296"/>
                  </a:lnTo>
                  <a:lnTo>
                    <a:pt x="276" y="308"/>
                  </a:lnTo>
                  <a:lnTo>
                    <a:pt x="276" y="359"/>
                  </a:lnTo>
                  <a:lnTo>
                    <a:pt x="304" y="384"/>
                  </a:lnTo>
                  <a:lnTo>
                    <a:pt x="304" y="398"/>
                  </a:lnTo>
                  <a:lnTo>
                    <a:pt x="319" y="410"/>
                  </a:lnTo>
                  <a:lnTo>
                    <a:pt x="334" y="410"/>
                  </a:lnTo>
                  <a:lnTo>
                    <a:pt x="348" y="398"/>
                  </a:lnTo>
                  <a:lnTo>
                    <a:pt x="363" y="398"/>
                  </a:lnTo>
                  <a:lnTo>
                    <a:pt x="378" y="384"/>
                  </a:lnTo>
                  <a:lnTo>
                    <a:pt x="391" y="398"/>
                  </a:lnTo>
                  <a:lnTo>
                    <a:pt x="406" y="398"/>
                  </a:lnTo>
                  <a:lnTo>
                    <a:pt x="421" y="410"/>
                  </a:lnTo>
                  <a:lnTo>
                    <a:pt x="435" y="410"/>
                  </a:lnTo>
                  <a:lnTo>
                    <a:pt x="450" y="423"/>
                  </a:lnTo>
                  <a:lnTo>
                    <a:pt x="465" y="423"/>
                  </a:lnTo>
                  <a:lnTo>
                    <a:pt x="480" y="437"/>
                  </a:lnTo>
                  <a:lnTo>
                    <a:pt x="493" y="437"/>
                  </a:lnTo>
                  <a:lnTo>
                    <a:pt x="508" y="437"/>
                  </a:lnTo>
                  <a:lnTo>
                    <a:pt x="523" y="437"/>
                  </a:lnTo>
                  <a:lnTo>
                    <a:pt x="537" y="437"/>
                  </a:lnTo>
                  <a:lnTo>
                    <a:pt x="552" y="437"/>
                  </a:lnTo>
                  <a:lnTo>
                    <a:pt x="567" y="437"/>
                  </a:lnTo>
                  <a:lnTo>
                    <a:pt x="580" y="437"/>
                  </a:lnTo>
                  <a:lnTo>
                    <a:pt x="595" y="437"/>
                  </a:lnTo>
                  <a:lnTo>
                    <a:pt x="610" y="437"/>
                  </a:lnTo>
                  <a:lnTo>
                    <a:pt x="624" y="437"/>
                  </a:lnTo>
                  <a:lnTo>
                    <a:pt x="639" y="437"/>
                  </a:lnTo>
                  <a:lnTo>
                    <a:pt x="654" y="437"/>
                  </a:lnTo>
                  <a:lnTo>
                    <a:pt x="669" y="449"/>
                  </a:lnTo>
                  <a:lnTo>
                    <a:pt x="683" y="449"/>
                  </a:lnTo>
                  <a:lnTo>
                    <a:pt x="698" y="462"/>
                  </a:lnTo>
                  <a:lnTo>
                    <a:pt x="713" y="449"/>
                  </a:lnTo>
                  <a:lnTo>
                    <a:pt x="726" y="437"/>
                  </a:lnTo>
                  <a:lnTo>
                    <a:pt x="726" y="423"/>
                  </a:lnTo>
                  <a:lnTo>
                    <a:pt x="741" y="398"/>
                  </a:lnTo>
                  <a:lnTo>
                    <a:pt x="741" y="269"/>
                  </a:lnTo>
                  <a:lnTo>
                    <a:pt x="756" y="257"/>
                  </a:lnTo>
                  <a:lnTo>
                    <a:pt x="756" y="513"/>
                  </a:lnTo>
                  <a:lnTo>
                    <a:pt x="770" y="590"/>
                  </a:lnTo>
                  <a:lnTo>
                    <a:pt x="770" y="1013"/>
                  </a:lnTo>
                  <a:lnTo>
                    <a:pt x="785" y="1052"/>
                  </a:lnTo>
                  <a:lnTo>
                    <a:pt x="785" y="1154"/>
                  </a:lnTo>
                  <a:lnTo>
                    <a:pt x="785" y="1103"/>
                  </a:lnTo>
                  <a:lnTo>
                    <a:pt x="800" y="1064"/>
                  </a:lnTo>
                  <a:lnTo>
                    <a:pt x="800" y="590"/>
                  </a:lnTo>
                  <a:lnTo>
                    <a:pt x="813" y="539"/>
                  </a:lnTo>
                  <a:lnTo>
                    <a:pt x="813" y="333"/>
                  </a:lnTo>
                  <a:lnTo>
                    <a:pt x="828" y="321"/>
                  </a:lnTo>
                  <a:lnTo>
                    <a:pt x="828" y="269"/>
                  </a:lnTo>
                  <a:lnTo>
                    <a:pt x="843" y="257"/>
                  </a:lnTo>
                  <a:lnTo>
                    <a:pt x="843" y="231"/>
                  </a:lnTo>
                  <a:lnTo>
                    <a:pt x="857" y="218"/>
                  </a:lnTo>
                  <a:lnTo>
                    <a:pt x="857" y="180"/>
                  </a:lnTo>
                  <a:lnTo>
                    <a:pt x="872" y="167"/>
                  </a:lnTo>
                  <a:lnTo>
                    <a:pt x="872" y="128"/>
                  </a:lnTo>
                  <a:lnTo>
                    <a:pt x="887" y="116"/>
                  </a:lnTo>
                  <a:lnTo>
                    <a:pt x="887" y="65"/>
                  </a:lnTo>
                  <a:lnTo>
                    <a:pt x="902" y="51"/>
                  </a:lnTo>
                  <a:lnTo>
                    <a:pt x="902" y="26"/>
                  </a:lnTo>
                  <a:lnTo>
                    <a:pt x="915" y="14"/>
                  </a:lnTo>
                  <a:lnTo>
                    <a:pt x="915" y="26"/>
                  </a:lnTo>
                  <a:lnTo>
                    <a:pt x="930" y="39"/>
                  </a:lnTo>
                  <a:lnTo>
                    <a:pt x="930" y="102"/>
                  </a:lnTo>
                  <a:lnTo>
                    <a:pt x="945" y="116"/>
                  </a:lnTo>
                  <a:lnTo>
                    <a:pt x="945" y="218"/>
                  </a:lnTo>
                  <a:lnTo>
                    <a:pt x="959" y="231"/>
                  </a:lnTo>
                  <a:lnTo>
                    <a:pt x="959" y="321"/>
                  </a:lnTo>
                  <a:lnTo>
                    <a:pt x="974" y="333"/>
                  </a:lnTo>
                  <a:lnTo>
                    <a:pt x="974" y="359"/>
                  </a:lnTo>
                  <a:lnTo>
                    <a:pt x="1002" y="384"/>
                  </a:lnTo>
                  <a:lnTo>
                    <a:pt x="1002" y="398"/>
                  </a:lnTo>
                  <a:lnTo>
                    <a:pt x="1017" y="410"/>
                  </a:lnTo>
                  <a:lnTo>
                    <a:pt x="1032" y="410"/>
                  </a:lnTo>
                  <a:lnTo>
                    <a:pt x="1046" y="398"/>
                  </a:lnTo>
                  <a:lnTo>
                    <a:pt x="1061" y="398"/>
                  </a:lnTo>
                  <a:lnTo>
                    <a:pt x="1076" y="398"/>
                  </a:lnTo>
                  <a:lnTo>
                    <a:pt x="1089" y="398"/>
                  </a:lnTo>
                  <a:lnTo>
                    <a:pt x="1104" y="410"/>
                  </a:lnTo>
                  <a:lnTo>
                    <a:pt x="1119" y="410"/>
                  </a:lnTo>
                  <a:lnTo>
                    <a:pt x="1134" y="423"/>
                  </a:lnTo>
                  <a:lnTo>
                    <a:pt x="1148" y="423"/>
                  </a:lnTo>
                  <a:lnTo>
                    <a:pt x="1163" y="423"/>
                  </a:lnTo>
                  <a:lnTo>
                    <a:pt x="1178" y="437"/>
                  </a:lnTo>
                  <a:lnTo>
                    <a:pt x="1191" y="437"/>
                  </a:lnTo>
                  <a:lnTo>
                    <a:pt x="1206" y="437"/>
                  </a:lnTo>
                  <a:lnTo>
                    <a:pt x="1221" y="437"/>
                  </a:lnTo>
                  <a:lnTo>
                    <a:pt x="1235" y="437"/>
                  </a:lnTo>
                  <a:lnTo>
                    <a:pt x="1250" y="449"/>
                  </a:lnTo>
                  <a:lnTo>
                    <a:pt x="1265" y="449"/>
                  </a:lnTo>
                  <a:lnTo>
                    <a:pt x="1278" y="449"/>
                  </a:lnTo>
                  <a:lnTo>
                    <a:pt x="1293" y="449"/>
                  </a:lnTo>
                  <a:lnTo>
                    <a:pt x="1308" y="449"/>
                  </a:lnTo>
                  <a:lnTo>
                    <a:pt x="1322" y="437"/>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34880" y="4508640"/>
              <a:ext cx="1808280" cy="968400"/>
            </a:xfrm>
            <a:custGeom>
              <a:avLst/>
              <a:gdLst/>
              <a:ahLst/>
              <a:rect l="l" t="t" r="r" b="b"/>
              <a:pathLst>
                <a:path w="1310" h="1219">
                  <a:moveTo>
                    <a:pt x="0" y="460"/>
                  </a:moveTo>
                  <a:lnTo>
                    <a:pt x="15" y="460"/>
                  </a:lnTo>
                  <a:lnTo>
                    <a:pt x="30" y="474"/>
                  </a:lnTo>
                  <a:lnTo>
                    <a:pt x="45" y="486"/>
                  </a:lnTo>
                  <a:lnTo>
                    <a:pt x="59" y="486"/>
                  </a:lnTo>
                  <a:lnTo>
                    <a:pt x="74" y="486"/>
                  </a:lnTo>
                  <a:lnTo>
                    <a:pt x="89" y="474"/>
                  </a:lnTo>
                  <a:lnTo>
                    <a:pt x="102" y="460"/>
                  </a:lnTo>
                  <a:lnTo>
                    <a:pt x="102" y="358"/>
                  </a:lnTo>
                  <a:lnTo>
                    <a:pt x="117" y="345"/>
                  </a:lnTo>
                  <a:lnTo>
                    <a:pt x="117" y="294"/>
                  </a:lnTo>
                  <a:lnTo>
                    <a:pt x="117" y="358"/>
                  </a:lnTo>
                  <a:lnTo>
                    <a:pt x="132" y="409"/>
                  </a:lnTo>
                  <a:lnTo>
                    <a:pt x="132" y="936"/>
                  </a:lnTo>
                  <a:lnTo>
                    <a:pt x="146" y="987"/>
                  </a:lnTo>
                  <a:lnTo>
                    <a:pt x="146" y="1193"/>
                  </a:lnTo>
                  <a:lnTo>
                    <a:pt x="161" y="1205"/>
                  </a:lnTo>
                  <a:lnTo>
                    <a:pt x="161" y="846"/>
                  </a:lnTo>
                  <a:lnTo>
                    <a:pt x="176" y="770"/>
                  </a:lnTo>
                  <a:lnTo>
                    <a:pt x="176" y="423"/>
                  </a:lnTo>
                  <a:lnTo>
                    <a:pt x="191" y="397"/>
                  </a:lnTo>
                  <a:lnTo>
                    <a:pt x="191" y="307"/>
                  </a:lnTo>
                  <a:lnTo>
                    <a:pt x="204" y="294"/>
                  </a:lnTo>
                  <a:lnTo>
                    <a:pt x="204" y="268"/>
                  </a:lnTo>
                  <a:lnTo>
                    <a:pt x="219" y="256"/>
                  </a:lnTo>
                  <a:lnTo>
                    <a:pt x="219" y="217"/>
                  </a:lnTo>
                  <a:lnTo>
                    <a:pt x="234" y="204"/>
                  </a:lnTo>
                  <a:lnTo>
                    <a:pt x="234" y="166"/>
                  </a:lnTo>
                  <a:lnTo>
                    <a:pt x="248" y="153"/>
                  </a:lnTo>
                  <a:lnTo>
                    <a:pt x="248" y="102"/>
                  </a:lnTo>
                  <a:lnTo>
                    <a:pt x="263" y="88"/>
                  </a:lnTo>
                  <a:lnTo>
                    <a:pt x="263" y="37"/>
                  </a:lnTo>
                  <a:lnTo>
                    <a:pt x="278" y="25"/>
                  </a:lnTo>
                  <a:lnTo>
                    <a:pt x="278" y="0"/>
                  </a:lnTo>
                  <a:lnTo>
                    <a:pt x="291" y="12"/>
                  </a:lnTo>
                  <a:lnTo>
                    <a:pt x="291" y="51"/>
                  </a:lnTo>
                  <a:lnTo>
                    <a:pt x="306" y="63"/>
                  </a:lnTo>
                  <a:lnTo>
                    <a:pt x="306" y="178"/>
                  </a:lnTo>
                  <a:lnTo>
                    <a:pt x="321" y="192"/>
                  </a:lnTo>
                  <a:lnTo>
                    <a:pt x="321" y="307"/>
                  </a:lnTo>
                  <a:lnTo>
                    <a:pt x="335" y="319"/>
                  </a:lnTo>
                  <a:lnTo>
                    <a:pt x="335" y="372"/>
                  </a:lnTo>
                  <a:lnTo>
                    <a:pt x="350" y="384"/>
                  </a:lnTo>
                  <a:lnTo>
                    <a:pt x="350" y="397"/>
                  </a:lnTo>
                  <a:lnTo>
                    <a:pt x="380" y="423"/>
                  </a:lnTo>
                  <a:lnTo>
                    <a:pt x="365" y="423"/>
                  </a:lnTo>
                  <a:lnTo>
                    <a:pt x="380" y="423"/>
                  </a:lnTo>
                  <a:lnTo>
                    <a:pt x="393" y="423"/>
                  </a:lnTo>
                  <a:lnTo>
                    <a:pt x="408" y="423"/>
                  </a:lnTo>
                  <a:lnTo>
                    <a:pt x="423" y="423"/>
                  </a:lnTo>
                  <a:lnTo>
                    <a:pt x="437" y="409"/>
                  </a:lnTo>
                  <a:lnTo>
                    <a:pt x="452" y="409"/>
                  </a:lnTo>
                  <a:lnTo>
                    <a:pt x="467" y="423"/>
                  </a:lnTo>
                  <a:lnTo>
                    <a:pt x="480" y="435"/>
                  </a:lnTo>
                  <a:lnTo>
                    <a:pt x="495" y="435"/>
                  </a:lnTo>
                  <a:lnTo>
                    <a:pt x="510" y="448"/>
                  </a:lnTo>
                  <a:lnTo>
                    <a:pt x="524" y="448"/>
                  </a:lnTo>
                  <a:lnTo>
                    <a:pt x="539" y="460"/>
                  </a:lnTo>
                  <a:lnTo>
                    <a:pt x="554" y="460"/>
                  </a:lnTo>
                  <a:lnTo>
                    <a:pt x="569" y="460"/>
                  </a:lnTo>
                  <a:lnTo>
                    <a:pt x="582" y="460"/>
                  </a:lnTo>
                  <a:lnTo>
                    <a:pt x="597" y="460"/>
                  </a:lnTo>
                  <a:lnTo>
                    <a:pt x="612" y="460"/>
                  </a:lnTo>
                  <a:lnTo>
                    <a:pt x="626" y="460"/>
                  </a:lnTo>
                  <a:lnTo>
                    <a:pt x="641" y="460"/>
                  </a:lnTo>
                  <a:lnTo>
                    <a:pt x="656" y="460"/>
                  </a:lnTo>
                  <a:lnTo>
                    <a:pt x="669" y="474"/>
                  </a:lnTo>
                  <a:lnTo>
                    <a:pt x="684" y="460"/>
                  </a:lnTo>
                  <a:lnTo>
                    <a:pt x="699" y="460"/>
                  </a:lnTo>
                  <a:lnTo>
                    <a:pt x="714" y="460"/>
                  </a:lnTo>
                  <a:lnTo>
                    <a:pt x="728" y="460"/>
                  </a:lnTo>
                  <a:lnTo>
                    <a:pt x="743" y="474"/>
                  </a:lnTo>
                  <a:lnTo>
                    <a:pt x="758" y="486"/>
                  </a:lnTo>
                  <a:lnTo>
                    <a:pt x="772" y="474"/>
                  </a:lnTo>
                  <a:lnTo>
                    <a:pt x="787" y="474"/>
                  </a:lnTo>
                  <a:lnTo>
                    <a:pt x="802" y="448"/>
                  </a:lnTo>
                  <a:lnTo>
                    <a:pt x="802" y="345"/>
                  </a:lnTo>
                  <a:lnTo>
                    <a:pt x="815" y="333"/>
                  </a:lnTo>
                  <a:lnTo>
                    <a:pt x="815" y="282"/>
                  </a:lnTo>
                  <a:lnTo>
                    <a:pt x="815" y="423"/>
                  </a:lnTo>
                  <a:lnTo>
                    <a:pt x="830" y="486"/>
                  </a:lnTo>
                  <a:lnTo>
                    <a:pt x="830" y="962"/>
                  </a:lnTo>
                  <a:lnTo>
                    <a:pt x="845" y="1013"/>
                  </a:lnTo>
                  <a:lnTo>
                    <a:pt x="845" y="1219"/>
                  </a:lnTo>
                  <a:lnTo>
                    <a:pt x="859" y="1205"/>
                  </a:lnTo>
                  <a:lnTo>
                    <a:pt x="859" y="744"/>
                  </a:lnTo>
                  <a:lnTo>
                    <a:pt x="874" y="680"/>
                  </a:lnTo>
                  <a:lnTo>
                    <a:pt x="874" y="409"/>
                  </a:lnTo>
                  <a:lnTo>
                    <a:pt x="889" y="397"/>
                  </a:lnTo>
                  <a:lnTo>
                    <a:pt x="889" y="319"/>
                  </a:lnTo>
                  <a:lnTo>
                    <a:pt x="904" y="307"/>
                  </a:lnTo>
                  <a:lnTo>
                    <a:pt x="904" y="268"/>
                  </a:lnTo>
                  <a:lnTo>
                    <a:pt x="917" y="256"/>
                  </a:lnTo>
                  <a:lnTo>
                    <a:pt x="917" y="229"/>
                  </a:lnTo>
                  <a:lnTo>
                    <a:pt x="932" y="217"/>
                  </a:lnTo>
                  <a:lnTo>
                    <a:pt x="932" y="178"/>
                  </a:lnTo>
                  <a:lnTo>
                    <a:pt x="947" y="166"/>
                  </a:lnTo>
                  <a:lnTo>
                    <a:pt x="947" y="114"/>
                  </a:lnTo>
                  <a:lnTo>
                    <a:pt x="961" y="102"/>
                  </a:lnTo>
                  <a:lnTo>
                    <a:pt x="961" y="37"/>
                  </a:lnTo>
                  <a:lnTo>
                    <a:pt x="976" y="25"/>
                  </a:lnTo>
                  <a:lnTo>
                    <a:pt x="991" y="37"/>
                  </a:lnTo>
                  <a:lnTo>
                    <a:pt x="991" y="76"/>
                  </a:lnTo>
                  <a:lnTo>
                    <a:pt x="1004" y="88"/>
                  </a:lnTo>
                  <a:lnTo>
                    <a:pt x="1004" y="217"/>
                  </a:lnTo>
                  <a:lnTo>
                    <a:pt x="1019" y="229"/>
                  </a:lnTo>
                  <a:lnTo>
                    <a:pt x="1019" y="333"/>
                  </a:lnTo>
                  <a:lnTo>
                    <a:pt x="1034" y="345"/>
                  </a:lnTo>
                  <a:lnTo>
                    <a:pt x="1034" y="397"/>
                  </a:lnTo>
                  <a:lnTo>
                    <a:pt x="1063" y="423"/>
                  </a:lnTo>
                  <a:lnTo>
                    <a:pt x="1063" y="435"/>
                  </a:lnTo>
                  <a:lnTo>
                    <a:pt x="1078" y="448"/>
                  </a:lnTo>
                  <a:lnTo>
                    <a:pt x="1093" y="448"/>
                  </a:lnTo>
                  <a:lnTo>
                    <a:pt x="1106" y="435"/>
                  </a:lnTo>
                  <a:lnTo>
                    <a:pt x="1121" y="435"/>
                  </a:lnTo>
                  <a:lnTo>
                    <a:pt x="1136" y="423"/>
                  </a:lnTo>
                  <a:lnTo>
                    <a:pt x="1150" y="423"/>
                  </a:lnTo>
                  <a:lnTo>
                    <a:pt x="1165" y="435"/>
                  </a:lnTo>
                  <a:lnTo>
                    <a:pt x="1180" y="435"/>
                  </a:lnTo>
                  <a:lnTo>
                    <a:pt x="1193" y="448"/>
                  </a:lnTo>
                  <a:lnTo>
                    <a:pt x="1208" y="448"/>
                  </a:lnTo>
                  <a:lnTo>
                    <a:pt x="1223" y="460"/>
                  </a:lnTo>
                  <a:lnTo>
                    <a:pt x="1238" y="460"/>
                  </a:lnTo>
                  <a:lnTo>
                    <a:pt x="1252" y="460"/>
                  </a:lnTo>
                  <a:lnTo>
                    <a:pt x="1267" y="460"/>
                  </a:lnTo>
                  <a:lnTo>
                    <a:pt x="1282" y="460"/>
                  </a:lnTo>
                  <a:lnTo>
                    <a:pt x="1295" y="474"/>
                  </a:lnTo>
                  <a:lnTo>
                    <a:pt x="1310" y="474"/>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4043160" y="4538880"/>
              <a:ext cx="2125080" cy="906480"/>
            </a:xfrm>
            <a:custGeom>
              <a:avLst/>
              <a:gdLst/>
              <a:ahLst/>
              <a:rect l="l" t="t" r="r" b="b"/>
              <a:pathLst>
                <a:path w="1542" h="1142">
                  <a:moveTo>
                    <a:pt x="0" y="437"/>
                  </a:moveTo>
                  <a:lnTo>
                    <a:pt x="15" y="437"/>
                  </a:lnTo>
                  <a:lnTo>
                    <a:pt x="29" y="437"/>
                  </a:lnTo>
                  <a:lnTo>
                    <a:pt x="44" y="450"/>
                  </a:lnTo>
                  <a:lnTo>
                    <a:pt x="59" y="450"/>
                  </a:lnTo>
                  <a:lnTo>
                    <a:pt x="72" y="450"/>
                  </a:lnTo>
                  <a:lnTo>
                    <a:pt x="87" y="437"/>
                  </a:lnTo>
                  <a:lnTo>
                    <a:pt x="103" y="437"/>
                  </a:lnTo>
                  <a:lnTo>
                    <a:pt x="116" y="450"/>
                  </a:lnTo>
                  <a:lnTo>
                    <a:pt x="131" y="462"/>
                  </a:lnTo>
                  <a:lnTo>
                    <a:pt x="146" y="462"/>
                  </a:lnTo>
                  <a:lnTo>
                    <a:pt x="161" y="462"/>
                  </a:lnTo>
                  <a:lnTo>
                    <a:pt x="175" y="450"/>
                  </a:lnTo>
                  <a:lnTo>
                    <a:pt x="190" y="437"/>
                  </a:lnTo>
                  <a:lnTo>
                    <a:pt x="190" y="296"/>
                  </a:lnTo>
                  <a:lnTo>
                    <a:pt x="205" y="270"/>
                  </a:lnTo>
                  <a:lnTo>
                    <a:pt x="205" y="257"/>
                  </a:lnTo>
                  <a:lnTo>
                    <a:pt x="205" y="437"/>
                  </a:lnTo>
                  <a:lnTo>
                    <a:pt x="218" y="501"/>
                  </a:lnTo>
                  <a:lnTo>
                    <a:pt x="218" y="937"/>
                  </a:lnTo>
                  <a:lnTo>
                    <a:pt x="233" y="976"/>
                  </a:lnTo>
                  <a:lnTo>
                    <a:pt x="233" y="1142"/>
                  </a:lnTo>
                  <a:lnTo>
                    <a:pt x="233" y="1130"/>
                  </a:lnTo>
                  <a:lnTo>
                    <a:pt x="248" y="1105"/>
                  </a:lnTo>
                  <a:lnTo>
                    <a:pt x="248" y="655"/>
                  </a:lnTo>
                  <a:lnTo>
                    <a:pt x="262" y="592"/>
                  </a:lnTo>
                  <a:lnTo>
                    <a:pt x="262" y="372"/>
                  </a:lnTo>
                  <a:lnTo>
                    <a:pt x="277" y="360"/>
                  </a:lnTo>
                  <a:lnTo>
                    <a:pt x="277" y="282"/>
                  </a:lnTo>
                  <a:lnTo>
                    <a:pt x="292" y="270"/>
                  </a:lnTo>
                  <a:lnTo>
                    <a:pt x="292" y="245"/>
                  </a:lnTo>
                  <a:lnTo>
                    <a:pt x="305" y="231"/>
                  </a:lnTo>
                  <a:lnTo>
                    <a:pt x="305" y="206"/>
                  </a:lnTo>
                  <a:lnTo>
                    <a:pt x="320" y="194"/>
                  </a:lnTo>
                  <a:lnTo>
                    <a:pt x="320" y="155"/>
                  </a:lnTo>
                  <a:lnTo>
                    <a:pt x="335" y="141"/>
                  </a:lnTo>
                  <a:lnTo>
                    <a:pt x="335" y="78"/>
                  </a:lnTo>
                  <a:lnTo>
                    <a:pt x="349" y="65"/>
                  </a:lnTo>
                  <a:lnTo>
                    <a:pt x="349" y="26"/>
                  </a:lnTo>
                  <a:lnTo>
                    <a:pt x="364" y="14"/>
                  </a:lnTo>
                  <a:lnTo>
                    <a:pt x="364" y="0"/>
                  </a:lnTo>
                  <a:lnTo>
                    <a:pt x="364" y="14"/>
                  </a:lnTo>
                  <a:lnTo>
                    <a:pt x="379" y="26"/>
                  </a:lnTo>
                  <a:lnTo>
                    <a:pt x="379" y="90"/>
                  </a:lnTo>
                  <a:lnTo>
                    <a:pt x="394" y="104"/>
                  </a:lnTo>
                  <a:lnTo>
                    <a:pt x="394" y="219"/>
                  </a:lnTo>
                  <a:lnTo>
                    <a:pt x="407" y="231"/>
                  </a:lnTo>
                  <a:lnTo>
                    <a:pt x="407" y="309"/>
                  </a:lnTo>
                  <a:lnTo>
                    <a:pt x="422" y="321"/>
                  </a:lnTo>
                  <a:lnTo>
                    <a:pt x="422" y="372"/>
                  </a:lnTo>
                  <a:lnTo>
                    <a:pt x="452" y="398"/>
                  </a:lnTo>
                  <a:lnTo>
                    <a:pt x="437" y="398"/>
                  </a:lnTo>
                  <a:lnTo>
                    <a:pt x="452" y="398"/>
                  </a:lnTo>
                  <a:lnTo>
                    <a:pt x="467" y="411"/>
                  </a:lnTo>
                  <a:lnTo>
                    <a:pt x="481" y="411"/>
                  </a:lnTo>
                  <a:lnTo>
                    <a:pt x="496" y="411"/>
                  </a:lnTo>
                  <a:lnTo>
                    <a:pt x="511" y="398"/>
                  </a:lnTo>
                  <a:lnTo>
                    <a:pt x="524" y="398"/>
                  </a:lnTo>
                  <a:lnTo>
                    <a:pt x="539" y="411"/>
                  </a:lnTo>
                  <a:lnTo>
                    <a:pt x="554" y="411"/>
                  </a:lnTo>
                  <a:lnTo>
                    <a:pt x="568" y="423"/>
                  </a:lnTo>
                  <a:lnTo>
                    <a:pt x="583" y="423"/>
                  </a:lnTo>
                  <a:lnTo>
                    <a:pt x="598" y="437"/>
                  </a:lnTo>
                  <a:lnTo>
                    <a:pt x="613" y="437"/>
                  </a:lnTo>
                  <a:lnTo>
                    <a:pt x="626" y="437"/>
                  </a:lnTo>
                  <a:lnTo>
                    <a:pt x="641" y="437"/>
                  </a:lnTo>
                  <a:lnTo>
                    <a:pt x="656" y="437"/>
                  </a:lnTo>
                  <a:lnTo>
                    <a:pt x="670" y="437"/>
                  </a:lnTo>
                  <a:lnTo>
                    <a:pt x="685" y="437"/>
                  </a:lnTo>
                  <a:lnTo>
                    <a:pt x="700" y="437"/>
                  </a:lnTo>
                  <a:lnTo>
                    <a:pt x="713" y="437"/>
                  </a:lnTo>
                  <a:lnTo>
                    <a:pt x="728" y="437"/>
                  </a:lnTo>
                  <a:lnTo>
                    <a:pt x="743" y="437"/>
                  </a:lnTo>
                  <a:lnTo>
                    <a:pt x="757" y="437"/>
                  </a:lnTo>
                  <a:lnTo>
                    <a:pt x="772" y="437"/>
                  </a:lnTo>
                  <a:lnTo>
                    <a:pt x="787" y="437"/>
                  </a:lnTo>
                  <a:lnTo>
                    <a:pt x="801" y="437"/>
                  </a:lnTo>
                  <a:lnTo>
                    <a:pt x="816" y="437"/>
                  </a:lnTo>
                  <a:lnTo>
                    <a:pt x="831" y="437"/>
                  </a:lnTo>
                  <a:lnTo>
                    <a:pt x="846" y="437"/>
                  </a:lnTo>
                  <a:lnTo>
                    <a:pt x="859" y="437"/>
                  </a:lnTo>
                  <a:lnTo>
                    <a:pt x="874" y="437"/>
                  </a:lnTo>
                  <a:lnTo>
                    <a:pt x="889" y="437"/>
                  </a:lnTo>
                  <a:lnTo>
                    <a:pt x="903" y="437"/>
                  </a:lnTo>
                  <a:lnTo>
                    <a:pt x="918" y="437"/>
                  </a:lnTo>
                  <a:lnTo>
                    <a:pt x="933" y="437"/>
                  </a:lnTo>
                  <a:lnTo>
                    <a:pt x="946" y="437"/>
                  </a:lnTo>
                  <a:lnTo>
                    <a:pt x="961" y="437"/>
                  </a:lnTo>
                  <a:lnTo>
                    <a:pt x="976" y="437"/>
                  </a:lnTo>
                  <a:lnTo>
                    <a:pt x="990" y="437"/>
                  </a:lnTo>
                  <a:lnTo>
                    <a:pt x="1005" y="437"/>
                  </a:lnTo>
                  <a:lnTo>
                    <a:pt x="1020" y="437"/>
                  </a:lnTo>
                  <a:lnTo>
                    <a:pt x="1033" y="437"/>
                  </a:lnTo>
                  <a:lnTo>
                    <a:pt x="1048" y="437"/>
                  </a:lnTo>
                  <a:lnTo>
                    <a:pt x="1063" y="437"/>
                  </a:lnTo>
                  <a:lnTo>
                    <a:pt x="1078" y="437"/>
                  </a:lnTo>
                  <a:lnTo>
                    <a:pt x="1092" y="437"/>
                  </a:lnTo>
                  <a:lnTo>
                    <a:pt x="1107" y="437"/>
                  </a:lnTo>
                  <a:lnTo>
                    <a:pt x="1122" y="437"/>
                  </a:lnTo>
                  <a:lnTo>
                    <a:pt x="1135" y="437"/>
                  </a:lnTo>
                  <a:lnTo>
                    <a:pt x="1150" y="437"/>
                  </a:lnTo>
                  <a:lnTo>
                    <a:pt x="1165" y="437"/>
                  </a:lnTo>
                  <a:lnTo>
                    <a:pt x="1179" y="437"/>
                  </a:lnTo>
                  <a:lnTo>
                    <a:pt x="1194" y="437"/>
                  </a:lnTo>
                  <a:lnTo>
                    <a:pt x="1209" y="437"/>
                  </a:lnTo>
                  <a:lnTo>
                    <a:pt x="1222" y="437"/>
                  </a:lnTo>
                  <a:lnTo>
                    <a:pt x="1237" y="437"/>
                  </a:lnTo>
                  <a:lnTo>
                    <a:pt x="1252" y="437"/>
                  </a:lnTo>
                  <a:lnTo>
                    <a:pt x="1266" y="437"/>
                  </a:lnTo>
                  <a:lnTo>
                    <a:pt x="1281" y="437"/>
                  </a:lnTo>
                  <a:lnTo>
                    <a:pt x="1296" y="437"/>
                  </a:lnTo>
                  <a:lnTo>
                    <a:pt x="1311" y="437"/>
                  </a:lnTo>
                  <a:lnTo>
                    <a:pt x="1324" y="437"/>
                  </a:lnTo>
                  <a:lnTo>
                    <a:pt x="1339" y="437"/>
                  </a:lnTo>
                  <a:lnTo>
                    <a:pt x="1354" y="437"/>
                  </a:lnTo>
                  <a:lnTo>
                    <a:pt x="1368" y="437"/>
                  </a:lnTo>
                  <a:lnTo>
                    <a:pt x="1383" y="437"/>
                  </a:lnTo>
                  <a:lnTo>
                    <a:pt x="1398" y="437"/>
                  </a:lnTo>
                  <a:lnTo>
                    <a:pt x="1411" y="437"/>
                  </a:lnTo>
                  <a:lnTo>
                    <a:pt x="1426" y="437"/>
                  </a:lnTo>
                  <a:lnTo>
                    <a:pt x="1441" y="437"/>
                  </a:lnTo>
                  <a:lnTo>
                    <a:pt x="1455" y="437"/>
                  </a:lnTo>
                  <a:lnTo>
                    <a:pt x="1470" y="437"/>
                  </a:lnTo>
                  <a:lnTo>
                    <a:pt x="1485" y="437"/>
                  </a:lnTo>
                  <a:lnTo>
                    <a:pt x="1499" y="437"/>
                  </a:lnTo>
                  <a:lnTo>
                    <a:pt x="1514" y="437"/>
                  </a:lnTo>
                  <a:lnTo>
                    <a:pt x="1529" y="437"/>
                  </a:lnTo>
                  <a:lnTo>
                    <a:pt x="1542" y="437"/>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6168240" y="4559400"/>
              <a:ext cx="1863000" cy="885960"/>
            </a:xfrm>
            <a:custGeom>
              <a:avLst/>
              <a:gdLst/>
              <a:ahLst/>
              <a:rect l="l" t="t" r="r" b="b"/>
              <a:pathLst>
                <a:path w="1353" h="1116">
                  <a:moveTo>
                    <a:pt x="0" y="411"/>
                  </a:moveTo>
                  <a:lnTo>
                    <a:pt x="15" y="411"/>
                  </a:lnTo>
                  <a:lnTo>
                    <a:pt x="30" y="411"/>
                  </a:lnTo>
                  <a:lnTo>
                    <a:pt x="45" y="423"/>
                  </a:lnTo>
                  <a:lnTo>
                    <a:pt x="59" y="423"/>
                  </a:lnTo>
                  <a:lnTo>
                    <a:pt x="74" y="423"/>
                  </a:lnTo>
                  <a:lnTo>
                    <a:pt x="89" y="423"/>
                  </a:lnTo>
                  <a:lnTo>
                    <a:pt x="102" y="411"/>
                  </a:lnTo>
                  <a:lnTo>
                    <a:pt x="117" y="411"/>
                  </a:lnTo>
                  <a:lnTo>
                    <a:pt x="132" y="411"/>
                  </a:lnTo>
                  <a:lnTo>
                    <a:pt x="146" y="423"/>
                  </a:lnTo>
                  <a:lnTo>
                    <a:pt x="161" y="436"/>
                  </a:lnTo>
                  <a:lnTo>
                    <a:pt x="176" y="436"/>
                  </a:lnTo>
                  <a:lnTo>
                    <a:pt x="189" y="436"/>
                  </a:lnTo>
                  <a:lnTo>
                    <a:pt x="204" y="423"/>
                  </a:lnTo>
                  <a:lnTo>
                    <a:pt x="204" y="372"/>
                  </a:lnTo>
                  <a:lnTo>
                    <a:pt x="219" y="346"/>
                  </a:lnTo>
                  <a:lnTo>
                    <a:pt x="219" y="231"/>
                  </a:lnTo>
                  <a:lnTo>
                    <a:pt x="233" y="231"/>
                  </a:lnTo>
                  <a:lnTo>
                    <a:pt x="233" y="603"/>
                  </a:lnTo>
                  <a:lnTo>
                    <a:pt x="248" y="668"/>
                  </a:lnTo>
                  <a:lnTo>
                    <a:pt x="248" y="1014"/>
                  </a:lnTo>
                  <a:lnTo>
                    <a:pt x="263" y="1052"/>
                  </a:lnTo>
                  <a:lnTo>
                    <a:pt x="263" y="1091"/>
                  </a:lnTo>
                  <a:lnTo>
                    <a:pt x="263" y="975"/>
                  </a:lnTo>
                  <a:lnTo>
                    <a:pt x="278" y="911"/>
                  </a:lnTo>
                  <a:lnTo>
                    <a:pt x="278" y="474"/>
                  </a:lnTo>
                  <a:lnTo>
                    <a:pt x="291" y="448"/>
                  </a:lnTo>
                  <a:lnTo>
                    <a:pt x="291" y="295"/>
                  </a:lnTo>
                  <a:lnTo>
                    <a:pt x="306" y="282"/>
                  </a:lnTo>
                  <a:lnTo>
                    <a:pt x="306" y="244"/>
                  </a:lnTo>
                  <a:lnTo>
                    <a:pt x="321" y="231"/>
                  </a:lnTo>
                  <a:lnTo>
                    <a:pt x="321" y="205"/>
                  </a:lnTo>
                  <a:lnTo>
                    <a:pt x="335" y="192"/>
                  </a:lnTo>
                  <a:lnTo>
                    <a:pt x="335" y="166"/>
                  </a:lnTo>
                  <a:lnTo>
                    <a:pt x="350" y="154"/>
                  </a:lnTo>
                  <a:lnTo>
                    <a:pt x="350" y="102"/>
                  </a:lnTo>
                  <a:lnTo>
                    <a:pt x="365" y="90"/>
                  </a:lnTo>
                  <a:lnTo>
                    <a:pt x="365" y="39"/>
                  </a:lnTo>
                  <a:lnTo>
                    <a:pt x="378" y="25"/>
                  </a:lnTo>
                  <a:lnTo>
                    <a:pt x="378" y="0"/>
                  </a:lnTo>
                  <a:lnTo>
                    <a:pt x="408" y="25"/>
                  </a:lnTo>
                  <a:lnTo>
                    <a:pt x="408" y="115"/>
                  </a:lnTo>
                  <a:lnTo>
                    <a:pt x="422" y="141"/>
                  </a:lnTo>
                  <a:lnTo>
                    <a:pt x="422" y="244"/>
                  </a:lnTo>
                  <a:lnTo>
                    <a:pt x="437" y="256"/>
                  </a:lnTo>
                  <a:lnTo>
                    <a:pt x="437" y="321"/>
                  </a:lnTo>
                  <a:lnTo>
                    <a:pt x="452" y="333"/>
                  </a:lnTo>
                  <a:lnTo>
                    <a:pt x="452" y="360"/>
                  </a:lnTo>
                  <a:lnTo>
                    <a:pt x="465" y="372"/>
                  </a:lnTo>
                  <a:lnTo>
                    <a:pt x="480" y="385"/>
                  </a:lnTo>
                  <a:lnTo>
                    <a:pt x="495" y="397"/>
                  </a:lnTo>
                  <a:lnTo>
                    <a:pt x="510" y="397"/>
                  </a:lnTo>
                  <a:lnTo>
                    <a:pt x="524" y="385"/>
                  </a:lnTo>
                  <a:lnTo>
                    <a:pt x="539" y="385"/>
                  </a:lnTo>
                  <a:lnTo>
                    <a:pt x="554" y="385"/>
                  </a:lnTo>
                  <a:lnTo>
                    <a:pt x="567" y="385"/>
                  </a:lnTo>
                  <a:lnTo>
                    <a:pt x="582" y="397"/>
                  </a:lnTo>
                  <a:lnTo>
                    <a:pt x="597" y="411"/>
                  </a:lnTo>
                  <a:lnTo>
                    <a:pt x="611" y="411"/>
                  </a:lnTo>
                  <a:lnTo>
                    <a:pt x="626" y="411"/>
                  </a:lnTo>
                  <a:lnTo>
                    <a:pt x="641" y="423"/>
                  </a:lnTo>
                  <a:lnTo>
                    <a:pt x="655" y="423"/>
                  </a:lnTo>
                  <a:lnTo>
                    <a:pt x="670" y="423"/>
                  </a:lnTo>
                  <a:lnTo>
                    <a:pt x="685" y="423"/>
                  </a:lnTo>
                  <a:lnTo>
                    <a:pt x="698" y="423"/>
                  </a:lnTo>
                  <a:lnTo>
                    <a:pt x="713" y="423"/>
                  </a:lnTo>
                  <a:lnTo>
                    <a:pt x="728" y="423"/>
                  </a:lnTo>
                  <a:lnTo>
                    <a:pt x="743" y="436"/>
                  </a:lnTo>
                  <a:lnTo>
                    <a:pt x="757" y="436"/>
                  </a:lnTo>
                  <a:lnTo>
                    <a:pt x="772" y="436"/>
                  </a:lnTo>
                  <a:lnTo>
                    <a:pt x="787" y="423"/>
                  </a:lnTo>
                  <a:lnTo>
                    <a:pt x="800" y="423"/>
                  </a:lnTo>
                  <a:lnTo>
                    <a:pt x="815" y="423"/>
                  </a:lnTo>
                  <a:lnTo>
                    <a:pt x="830" y="423"/>
                  </a:lnTo>
                  <a:lnTo>
                    <a:pt x="844" y="436"/>
                  </a:lnTo>
                  <a:lnTo>
                    <a:pt x="859" y="436"/>
                  </a:lnTo>
                  <a:lnTo>
                    <a:pt x="874" y="436"/>
                  </a:lnTo>
                  <a:lnTo>
                    <a:pt x="887" y="423"/>
                  </a:lnTo>
                  <a:lnTo>
                    <a:pt x="902" y="411"/>
                  </a:lnTo>
                  <a:lnTo>
                    <a:pt x="902" y="295"/>
                  </a:lnTo>
                  <a:lnTo>
                    <a:pt x="917" y="270"/>
                  </a:lnTo>
                  <a:lnTo>
                    <a:pt x="917" y="231"/>
                  </a:lnTo>
                  <a:lnTo>
                    <a:pt x="917" y="321"/>
                  </a:lnTo>
                  <a:lnTo>
                    <a:pt x="931" y="385"/>
                  </a:lnTo>
                  <a:lnTo>
                    <a:pt x="931" y="885"/>
                  </a:lnTo>
                  <a:lnTo>
                    <a:pt x="946" y="924"/>
                  </a:lnTo>
                  <a:lnTo>
                    <a:pt x="946" y="1116"/>
                  </a:lnTo>
                  <a:lnTo>
                    <a:pt x="961" y="1116"/>
                  </a:lnTo>
                  <a:lnTo>
                    <a:pt x="961" y="732"/>
                  </a:lnTo>
                  <a:lnTo>
                    <a:pt x="974" y="654"/>
                  </a:lnTo>
                  <a:lnTo>
                    <a:pt x="974" y="360"/>
                  </a:lnTo>
                  <a:lnTo>
                    <a:pt x="989" y="346"/>
                  </a:lnTo>
                  <a:lnTo>
                    <a:pt x="989" y="270"/>
                  </a:lnTo>
                  <a:lnTo>
                    <a:pt x="1004" y="256"/>
                  </a:lnTo>
                  <a:lnTo>
                    <a:pt x="1004" y="231"/>
                  </a:lnTo>
                  <a:lnTo>
                    <a:pt x="1019" y="217"/>
                  </a:lnTo>
                  <a:lnTo>
                    <a:pt x="1019" y="180"/>
                  </a:lnTo>
                  <a:lnTo>
                    <a:pt x="1033" y="166"/>
                  </a:lnTo>
                  <a:lnTo>
                    <a:pt x="1033" y="129"/>
                  </a:lnTo>
                  <a:lnTo>
                    <a:pt x="1048" y="115"/>
                  </a:lnTo>
                  <a:lnTo>
                    <a:pt x="1048" y="64"/>
                  </a:lnTo>
                  <a:lnTo>
                    <a:pt x="1063" y="51"/>
                  </a:lnTo>
                  <a:lnTo>
                    <a:pt x="1063" y="13"/>
                  </a:lnTo>
                  <a:lnTo>
                    <a:pt x="1076" y="0"/>
                  </a:lnTo>
                  <a:lnTo>
                    <a:pt x="1091" y="13"/>
                  </a:lnTo>
                  <a:lnTo>
                    <a:pt x="1091" y="51"/>
                  </a:lnTo>
                  <a:lnTo>
                    <a:pt x="1106" y="64"/>
                  </a:lnTo>
                  <a:lnTo>
                    <a:pt x="1106" y="166"/>
                  </a:lnTo>
                  <a:lnTo>
                    <a:pt x="1120" y="180"/>
                  </a:lnTo>
                  <a:lnTo>
                    <a:pt x="1120" y="282"/>
                  </a:lnTo>
                  <a:lnTo>
                    <a:pt x="1135" y="295"/>
                  </a:lnTo>
                  <a:lnTo>
                    <a:pt x="1135" y="333"/>
                  </a:lnTo>
                  <a:lnTo>
                    <a:pt x="1163" y="360"/>
                  </a:lnTo>
                  <a:lnTo>
                    <a:pt x="1163" y="372"/>
                  </a:lnTo>
                  <a:lnTo>
                    <a:pt x="1178" y="372"/>
                  </a:lnTo>
                  <a:lnTo>
                    <a:pt x="1193" y="372"/>
                  </a:lnTo>
                  <a:lnTo>
                    <a:pt x="1207" y="372"/>
                  </a:lnTo>
                  <a:lnTo>
                    <a:pt x="1222" y="360"/>
                  </a:lnTo>
                  <a:lnTo>
                    <a:pt x="1237" y="360"/>
                  </a:lnTo>
                  <a:lnTo>
                    <a:pt x="1252" y="360"/>
                  </a:lnTo>
                  <a:lnTo>
                    <a:pt x="1265" y="372"/>
                  </a:lnTo>
                  <a:lnTo>
                    <a:pt x="1280" y="385"/>
                  </a:lnTo>
                  <a:lnTo>
                    <a:pt x="1296" y="385"/>
                  </a:lnTo>
                  <a:lnTo>
                    <a:pt x="1309" y="397"/>
                  </a:lnTo>
                  <a:lnTo>
                    <a:pt x="1324" y="397"/>
                  </a:lnTo>
                  <a:lnTo>
                    <a:pt x="1339" y="397"/>
                  </a:lnTo>
                  <a:lnTo>
                    <a:pt x="1353" y="411"/>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8031600" y="4538880"/>
              <a:ext cx="821160" cy="896760"/>
            </a:xfrm>
            <a:custGeom>
              <a:avLst/>
              <a:gdLst/>
              <a:ahLst/>
              <a:rect l="l" t="t" r="r" b="b"/>
              <a:pathLst>
                <a:path w="597" h="1130">
                  <a:moveTo>
                    <a:pt x="0" y="437"/>
                  </a:moveTo>
                  <a:lnTo>
                    <a:pt x="15" y="437"/>
                  </a:lnTo>
                  <a:lnTo>
                    <a:pt x="30" y="437"/>
                  </a:lnTo>
                  <a:lnTo>
                    <a:pt x="43" y="437"/>
                  </a:lnTo>
                  <a:lnTo>
                    <a:pt x="58" y="437"/>
                  </a:lnTo>
                  <a:lnTo>
                    <a:pt x="73" y="437"/>
                  </a:lnTo>
                  <a:lnTo>
                    <a:pt x="88" y="437"/>
                  </a:lnTo>
                  <a:lnTo>
                    <a:pt x="102" y="437"/>
                  </a:lnTo>
                  <a:lnTo>
                    <a:pt x="117" y="437"/>
                  </a:lnTo>
                  <a:lnTo>
                    <a:pt x="132" y="425"/>
                  </a:lnTo>
                  <a:lnTo>
                    <a:pt x="145" y="425"/>
                  </a:lnTo>
                  <a:lnTo>
                    <a:pt x="160" y="437"/>
                  </a:lnTo>
                  <a:lnTo>
                    <a:pt x="175" y="450"/>
                  </a:lnTo>
                  <a:lnTo>
                    <a:pt x="189" y="450"/>
                  </a:lnTo>
                  <a:lnTo>
                    <a:pt x="204" y="437"/>
                  </a:lnTo>
                  <a:lnTo>
                    <a:pt x="219" y="437"/>
                  </a:lnTo>
                  <a:lnTo>
                    <a:pt x="232" y="411"/>
                  </a:lnTo>
                  <a:lnTo>
                    <a:pt x="232" y="296"/>
                  </a:lnTo>
                  <a:lnTo>
                    <a:pt x="247" y="270"/>
                  </a:lnTo>
                  <a:lnTo>
                    <a:pt x="247" y="231"/>
                  </a:lnTo>
                  <a:lnTo>
                    <a:pt x="247" y="347"/>
                  </a:lnTo>
                  <a:lnTo>
                    <a:pt x="262" y="398"/>
                  </a:lnTo>
                  <a:lnTo>
                    <a:pt x="262" y="899"/>
                  </a:lnTo>
                  <a:lnTo>
                    <a:pt x="277" y="950"/>
                  </a:lnTo>
                  <a:lnTo>
                    <a:pt x="277" y="1130"/>
                  </a:lnTo>
                  <a:lnTo>
                    <a:pt x="291" y="1117"/>
                  </a:lnTo>
                  <a:lnTo>
                    <a:pt x="291" y="719"/>
                  </a:lnTo>
                  <a:lnTo>
                    <a:pt x="306" y="655"/>
                  </a:lnTo>
                  <a:lnTo>
                    <a:pt x="306" y="360"/>
                  </a:lnTo>
                  <a:lnTo>
                    <a:pt x="321" y="347"/>
                  </a:lnTo>
                  <a:lnTo>
                    <a:pt x="321" y="270"/>
                  </a:lnTo>
                  <a:lnTo>
                    <a:pt x="334" y="257"/>
                  </a:lnTo>
                  <a:lnTo>
                    <a:pt x="334" y="231"/>
                  </a:lnTo>
                  <a:lnTo>
                    <a:pt x="349" y="219"/>
                  </a:lnTo>
                  <a:lnTo>
                    <a:pt x="349" y="194"/>
                  </a:lnTo>
                  <a:lnTo>
                    <a:pt x="364" y="180"/>
                  </a:lnTo>
                  <a:lnTo>
                    <a:pt x="364" y="129"/>
                  </a:lnTo>
                  <a:lnTo>
                    <a:pt x="378" y="116"/>
                  </a:lnTo>
                  <a:lnTo>
                    <a:pt x="378" y="78"/>
                  </a:lnTo>
                  <a:lnTo>
                    <a:pt x="393" y="65"/>
                  </a:lnTo>
                  <a:lnTo>
                    <a:pt x="393" y="26"/>
                  </a:lnTo>
                  <a:lnTo>
                    <a:pt x="408" y="14"/>
                  </a:lnTo>
                  <a:lnTo>
                    <a:pt x="408" y="0"/>
                  </a:lnTo>
                  <a:lnTo>
                    <a:pt x="408" y="14"/>
                  </a:lnTo>
                  <a:lnTo>
                    <a:pt x="421" y="26"/>
                  </a:lnTo>
                  <a:lnTo>
                    <a:pt x="421" y="78"/>
                  </a:lnTo>
                  <a:lnTo>
                    <a:pt x="436" y="90"/>
                  </a:lnTo>
                  <a:lnTo>
                    <a:pt x="436" y="180"/>
                  </a:lnTo>
                  <a:lnTo>
                    <a:pt x="451" y="194"/>
                  </a:lnTo>
                  <a:lnTo>
                    <a:pt x="451" y="296"/>
                  </a:lnTo>
                  <a:lnTo>
                    <a:pt x="466" y="309"/>
                  </a:lnTo>
                  <a:lnTo>
                    <a:pt x="466" y="347"/>
                  </a:lnTo>
                  <a:lnTo>
                    <a:pt x="495" y="372"/>
                  </a:lnTo>
                  <a:lnTo>
                    <a:pt x="495" y="386"/>
                  </a:lnTo>
                  <a:lnTo>
                    <a:pt x="510" y="386"/>
                  </a:lnTo>
                  <a:lnTo>
                    <a:pt x="523" y="386"/>
                  </a:lnTo>
                  <a:lnTo>
                    <a:pt x="538" y="386"/>
                  </a:lnTo>
                  <a:lnTo>
                    <a:pt x="553" y="386"/>
                  </a:lnTo>
                  <a:lnTo>
                    <a:pt x="582" y="386"/>
                  </a:lnTo>
                  <a:lnTo>
                    <a:pt x="567" y="386"/>
                  </a:lnTo>
                  <a:lnTo>
                    <a:pt x="582" y="386"/>
                  </a:lnTo>
                  <a:lnTo>
                    <a:pt x="597" y="386"/>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7" name=""/>
          <p:cNvSpPr/>
          <p:nvPr/>
        </p:nvSpPr>
        <p:spPr>
          <a:xfrm>
            <a:off x="291960" y="1909800"/>
            <a:ext cx="8602920" cy="253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ult detection </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estingness detection</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omaly detection</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rprisingness detec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8" name="" descr=""/>
          <p:cNvPicPr/>
          <p:nvPr/>
        </p:nvPicPr>
        <p:blipFill>
          <a:blip r:embed="rId1"/>
          <a:stretch/>
        </p:blipFill>
        <p:spPr>
          <a:xfrm>
            <a:off x="-108000" y="158760"/>
            <a:ext cx="2346480" cy="2743200"/>
          </a:xfrm>
          <a:prstGeom prst="rect">
            <a:avLst/>
          </a:prstGeom>
          <a:ln w="0">
            <a:noFill/>
          </a:ln>
        </p:spPr>
      </p:pic>
      <p:sp>
        <p:nvSpPr>
          <p:cNvPr id="2049" name=""/>
          <p:cNvSpPr/>
          <p:nvPr/>
        </p:nvSpPr>
        <p:spPr>
          <a:xfrm>
            <a:off x="2057400" y="304920"/>
            <a:ext cx="6699240" cy="1676160"/>
          </a:xfrm>
          <a:prstGeom prst="wedgeRoundRectCallout">
            <a:avLst>
              <a:gd name="adj1" fmla="val -58509"/>
              <a:gd name="adj2" fmla="val 28976"/>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ote that this problem should not be confused with the relatively simple problem of outlier detection. Remember Hawkins famous definition of an outli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0" name="" descr=""/>
          <p:cNvPicPr/>
          <p:nvPr/>
        </p:nvPicPr>
        <p:blipFill>
          <a:blip r:embed="rId2"/>
          <a:stretch/>
        </p:blipFill>
        <p:spPr>
          <a:xfrm>
            <a:off x="-108000" y="5029200"/>
            <a:ext cx="1492200" cy="1828800"/>
          </a:xfrm>
          <a:prstGeom prst="rect">
            <a:avLst/>
          </a:prstGeom>
          <a:ln w="0">
            <a:noFill/>
          </a:ln>
        </p:spPr>
      </p:pic>
      <p:sp>
        <p:nvSpPr>
          <p:cNvPr id="2051" name=""/>
          <p:cNvSpPr/>
          <p:nvPr/>
        </p:nvSpPr>
        <p:spPr>
          <a:xfrm>
            <a:off x="1643040" y="4309920"/>
            <a:ext cx="5143680" cy="2435400"/>
          </a:xfrm>
          <a:prstGeom prst="wedgeRoundRectCallout">
            <a:avLst>
              <a:gd name="adj1" fmla="val -56513"/>
              <a:gd name="adj2" fmla="val 32527"/>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nks Doug, the check is in the ma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are </a:t>
            </a:r>
            <a:r>
              <a:rPr b="1" lang="en-US" sz="2400" spc="-1" strike="noStrike">
                <a:solidFill>
                  <a:srgbClr val="000000"/>
                </a:solidFill>
                <a:latin typeface="Comic Sans MS"/>
              </a:rPr>
              <a:t>not</a:t>
            </a:r>
            <a:r>
              <a:rPr b="0" lang="en-US" sz="2400" spc="-1" strike="noStrike">
                <a:solidFill>
                  <a:srgbClr val="000000"/>
                </a:solidFill>
                <a:latin typeface="Comic Sans MS"/>
              </a:rPr>
              <a:t> interested in finding individually surprising </a:t>
            </a:r>
            <a:r>
              <a:rPr b="0" i="1" lang="en-US" sz="2400" spc="-1" strike="noStrike">
                <a:solidFill>
                  <a:srgbClr val="000000"/>
                </a:solidFill>
                <a:latin typeface="Comic Sans MS"/>
              </a:rPr>
              <a:t>datapoints</a:t>
            </a:r>
            <a:r>
              <a:rPr b="0" lang="en-US" sz="2400" spc="-1" strike="noStrike">
                <a:solidFill>
                  <a:srgbClr val="000000"/>
                </a:solidFill>
                <a:latin typeface="Comic Sans MS"/>
              </a:rPr>
              <a:t>, we are interested in finding surprising </a:t>
            </a:r>
            <a:r>
              <a:rPr b="0" i="1" lang="en-US" sz="2400" spc="-1" strike="noStrike">
                <a:solidFill>
                  <a:srgbClr val="000000"/>
                </a:solidFill>
                <a:latin typeface="Comic Sans MS"/>
              </a:rPr>
              <a:t>pattern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pic>
        <p:nvPicPr>
          <p:cNvPr id="2052" name="" descr=""/>
          <p:cNvPicPr/>
          <p:nvPr/>
        </p:nvPicPr>
        <p:blipFill>
          <a:blip r:embed="rId3"/>
          <a:stretch/>
        </p:blipFill>
        <p:spPr>
          <a:xfrm>
            <a:off x="7242120" y="2117880"/>
            <a:ext cx="1901880" cy="2787480"/>
          </a:xfrm>
          <a:prstGeom prst="rect">
            <a:avLst/>
          </a:prstGeom>
          <a:ln w="0">
            <a:noFill/>
          </a:ln>
        </p:spPr>
      </p:pic>
      <p:sp>
        <p:nvSpPr>
          <p:cNvPr id="2053" name=""/>
          <p:cNvSpPr/>
          <p:nvPr/>
        </p:nvSpPr>
        <p:spPr>
          <a:xfrm>
            <a:off x="2144880" y="2195640"/>
            <a:ext cx="5141880" cy="1977840"/>
          </a:xfrm>
          <a:prstGeom prst="wedgeRoundRectCallout">
            <a:avLst>
              <a:gd name="adj1" fmla="val 56421"/>
              <a:gd name="adj2" fmla="val 33388"/>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n outlier is an observation that deviates so much from other observations as to arouse suspicion that it was generated from a different mechanis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4" name=""/>
          <p:cNvSpPr/>
          <p:nvPr/>
        </p:nvSpPr>
        <p:spPr>
          <a:xfrm>
            <a:off x="7086600" y="4962600"/>
            <a:ext cx="2057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uglas M. Hawki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
          <p:cNvSpPr/>
          <p:nvPr/>
        </p:nvSpPr>
        <p:spPr>
          <a:xfrm>
            <a:off x="5265720" y="4694400"/>
            <a:ext cx="3276720" cy="190476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6" name="ned31" descr=""/>
          <p:cNvPicPr/>
          <p:nvPr/>
        </p:nvPicPr>
        <p:blipFill>
          <a:blip r:embed="rId1"/>
          <a:stretch/>
        </p:blipFill>
        <p:spPr>
          <a:xfrm>
            <a:off x="103320" y="2608200"/>
            <a:ext cx="2184120" cy="4133880"/>
          </a:xfrm>
          <a:prstGeom prst="rect">
            <a:avLst/>
          </a:prstGeom>
          <a:ln w="0">
            <a:noFill/>
          </a:ln>
        </p:spPr>
      </p:pic>
      <p:sp>
        <p:nvSpPr>
          <p:cNvPr id="2057" name=""/>
          <p:cNvSpPr/>
          <p:nvPr/>
        </p:nvSpPr>
        <p:spPr>
          <a:xfrm>
            <a:off x="2300400" y="320760"/>
            <a:ext cx="6686280" cy="3876480"/>
          </a:xfrm>
          <a:prstGeom prst="wedgeRoundRectCallout">
            <a:avLst>
              <a:gd name="adj1" fmla="val -55865"/>
              <a:gd name="adj2" fmla="val 32638"/>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ts of good folks have worked on this, and closely related problem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referred to as the detection of “Aberrant Behavior</a:t>
            </a:r>
            <a:r>
              <a:rPr b="0" lang="en-US" sz="2800" spc="-1" strike="noStrike" baseline="30000">
                <a:solidFill>
                  <a:srgbClr val="000000"/>
                </a:solidFill>
                <a:latin typeface="Comic Sans MS"/>
              </a:rPr>
              <a:t>1</a:t>
            </a:r>
            <a:r>
              <a:rPr b="0" lang="en-US" sz="2800" spc="-1" strike="noStrike">
                <a:solidFill>
                  <a:srgbClr val="000000"/>
                </a:solidFill>
                <a:latin typeface="Comic Sans MS"/>
              </a:rPr>
              <a:t>”, “Novelties</a:t>
            </a:r>
            <a:r>
              <a:rPr b="0" lang="en-US" sz="2800" spc="-1" strike="noStrike" baseline="30000">
                <a:solidFill>
                  <a:srgbClr val="000000"/>
                </a:solidFill>
                <a:latin typeface="Comic Sans MS"/>
              </a:rPr>
              <a:t>2</a:t>
            </a:r>
            <a:r>
              <a:rPr b="0" lang="en-US" sz="2800" spc="-1" strike="noStrike">
                <a:solidFill>
                  <a:srgbClr val="000000"/>
                </a:solidFill>
                <a:latin typeface="Comic Sans MS"/>
              </a:rPr>
              <a:t>”, “Anomalies</a:t>
            </a:r>
            <a:r>
              <a:rPr b="0" lang="en-US" sz="2800" spc="-1" strike="noStrike" baseline="30000">
                <a:solidFill>
                  <a:srgbClr val="000000"/>
                </a:solidFill>
                <a:latin typeface="Comic Sans MS"/>
              </a:rPr>
              <a:t>3</a:t>
            </a:r>
            <a:r>
              <a:rPr b="0" lang="en-US" sz="2800" spc="-1" strike="noStrike">
                <a:solidFill>
                  <a:srgbClr val="000000"/>
                </a:solidFill>
                <a:latin typeface="Comic Sans MS"/>
              </a:rPr>
              <a:t>”, “Faults</a:t>
            </a:r>
            <a:r>
              <a:rPr b="0" lang="en-US" sz="2800" spc="-1" strike="noStrike" baseline="30000">
                <a:solidFill>
                  <a:srgbClr val="000000"/>
                </a:solidFill>
                <a:latin typeface="Comic Sans MS"/>
              </a:rPr>
              <a:t>4</a:t>
            </a:r>
            <a:r>
              <a:rPr b="0" lang="en-US" sz="2800" spc="-1" strike="noStrike">
                <a:solidFill>
                  <a:srgbClr val="000000"/>
                </a:solidFill>
                <a:latin typeface="Comic Sans MS"/>
              </a:rPr>
              <a:t>”, “Surprises</a:t>
            </a:r>
            <a:r>
              <a:rPr b="0" lang="en-US" sz="2800" spc="-1" strike="noStrike" baseline="30000">
                <a:solidFill>
                  <a:srgbClr val="000000"/>
                </a:solidFill>
                <a:latin typeface="Comic Sans MS"/>
              </a:rPr>
              <a:t>5</a:t>
            </a:r>
            <a:r>
              <a:rPr b="0" lang="en-US" sz="2800" spc="-1" strike="noStrike">
                <a:solidFill>
                  <a:srgbClr val="000000"/>
                </a:solidFill>
                <a:latin typeface="Comic Sans MS"/>
              </a:rPr>
              <a:t>”, “Deviants</a:t>
            </a:r>
            <a:r>
              <a:rPr b="0" lang="en-US" sz="2800" spc="-1" strike="noStrike" baseline="30000">
                <a:solidFill>
                  <a:srgbClr val="000000"/>
                </a:solidFill>
                <a:latin typeface="Comic Sans MS"/>
              </a:rPr>
              <a:t>6</a:t>
            </a:r>
            <a:r>
              <a:rPr b="0" lang="en-US" sz="2800" spc="-1" strike="noStrike">
                <a:solidFill>
                  <a:srgbClr val="000000"/>
                </a:solidFill>
                <a:latin typeface="Comic Sans MS"/>
              </a:rPr>
              <a:t>” ,“Temporal Change</a:t>
            </a:r>
            <a:r>
              <a:rPr b="0" lang="en-US" sz="2800" spc="-1" strike="noStrike" baseline="30000">
                <a:solidFill>
                  <a:srgbClr val="000000"/>
                </a:solidFill>
                <a:latin typeface="Comic Sans MS"/>
              </a:rPr>
              <a:t>7</a:t>
            </a:r>
            <a:r>
              <a:rPr b="0" lang="en-US" sz="2800" spc="-1" strike="noStrike">
                <a:solidFill>
                  <a:srgbClr val="000000"/>
                </a:solidFill>
                <a:latin typeface="Comic Sans MS"/>
              </a:rPr>
              <a:t>”, and “Outliers</a:t>
            </a:r>
            <a:r>
              <a:rPr b="0" lang="en-US" sz="2800" spc="-1" strike="noStrike" baseline="30000">
                <a:solidFill>
                  <a:srgbClr val="000000"/>
                </a:solidFill>
                <a:latin typeface="Comic Sans MS"/>
              </a:rPr>
              <a:t>8</a:t>
            </a: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058" name=""/>
          <p:cNvSpPr/>
          <p:nvPr/>
        </p:nvSpPr>
        <p:spPr>
          <a:xfrm>
            <a:off x="5265720" y="4770360"/>
            <a:ext cx="3352680" cy="179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rutlag, Kotsakis et. al.</a:t>
            </a:r>
            <a:endParaRPr b="0" lang="en-US" sz="14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spupta et. al., Borisyuk et. al.</a:t>
            </a:r>
            <a:endParaRPr b="0" lang="en-US" sz="14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hitehead et. al., Decoste</a:t>
            </a:r>
            <a:endParaRPr b="0" lang="en-US" sz="14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Yairi et. al.</a:t>
            </a:r>
            <a:endParaRPr b="0" lang="en-US" sz="14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habi, Chakrabarti</a:t>
            </a:r>
            <a:endParaRPr b="0" lang="en-US" sz="14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Jagadish et. al.</a:t>
            </a:r>
            <a:endParaRPr b="0" lang="en-US" sz="14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lockeel et. al., Fawcett et. al.</a:t>
            </a:r>
            <a:endParaRPr b="0" lang="en-US" sz="14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wki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
          <p:cNvSpPr/>
          <p:nvPr/>
        </p:nvSpPr>
        <p:spPr>
          <a:xfrm>
            <a:off x="441360" y="1668600"/>
            <a:ext cx="6583320" cy="213336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2115720" y="174960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grpSp>
        <p:nvGrpSpPr>
          <p:cNvPr id="2061" name=""/>
          <p:cNvGrpSpPr/>
          <p:nvPr/>
        </p:nvGrpSpPr>
        <p:grpSpPr>
          <a:xfrm>
            <a:off x="563400" y="1755720"/>
            <a:ext cx="6433920" cy="968400"/>
            <a:chOff x="563400" y="1755720"/>
            <a:chExt cx="6433920" cy="968400"/>
          </a:xfrm>
        </p:grpSpPr>
        <p:sp>
          <p:nvSpPr>
            <p:cNvPr id="2062" name=""/>
            <p:cNvSpPr/>
            <p:nvPr/>
          </p:nvSpPr>
          <p:spPr>
            <a:xfrm>
              <a:off x="563400" y="1776240"/>
              <a:ext cx="1388880" cy="916200"/>
            </a:xfrm>
            <a:custGeom>
              <a:avLst/>
              <a:gdLst/>
              <a:ahLst/>
              <a:rect l="l" t="t" r="r" b="b"/>
              <a:pathLst>
                <a:path w="1322" h="1154">
                  <a:moveTo>
                    <a:pt x="0" y="449"/>
                  </a:moveTo>
                  <a:lnTo>
                    <a:pt x="15" y="449"/>
                  </a:lnTo>
                  <a:lnTo>
                    <a:pt x="28" y="449"/>
                  </a:lnTo>
                  <a:lnTo>
                    <a:pt x="43" y="423"/>
                  </a:lnTo>
                  <a:lnTo>
                    <a:pt x="43" y="308"/>
                  </a:lnTo>
                  <a:lnTo>
                    <a:pt x="58" y="282"/>
                  </a:lnTo>
                  <a:lnTo>
                    <a:pt x="58" y="243"/>
                  </a:lnTo>
                  <a:lnTo>
                    <a:pt x="58" y="347"/>
                  </a:lnTo>
                  <a:lnTo>
                    <a:pt x="72" y="410"/>
                  </a:lnTo>
                  <a:lnTo>
                    <a:pt x="72" y="860"/>
                  </a:lnTo>
                  <a:lnTo>
                    <a:pt x="87" y="911"/>
                  </a:lnTo>
                  <a:lnTo>
                    <a:pt x="87" y="1142"/>
                  </a:lnTo>
                  <a:lnTo>
                    <a:pt x="102" y="1129"/>
                  </a:lnTo>
                  <a:lnTo>
                    <a:pt x="102" y="731"/>
                  </a:lnTo>
                  <a:lnTo>
                    <a:pt x="115" y="667"/>
                  </a:lnTo>
                  <a:lnTo>
                    <a:pt x="115" y="384"/>
                  </a:lnTo>
                  <a:lnTo>
                    <a:pt x="130" y="372"/>
                  </a:lnTo>
                  <a:lnTo>
                    <a:pt x="130" y="282"/>
                  </a:lnTo>
                  <a:lnTo>
                    <a:pt x="145" y="269"/>
                  </a:lnTo>
                  <a:lnTo>
                    <a:pt x="145" y="243"/>
                  </a:lnTo>
                  <a:lnTo>
                    <a:pt x="159" y="231"/>
                  </a:lnTo>
                  <a:lnTo>
                    <a:pt x="159" y="192"/>
                  </a:lnTo>
                  <a:lnTo>
                    <a:pt x="174" y="180"/>
                  </a:lnTo>
                  <a:lnTo>
                    <a:pt x="174" y="155"/>
                  </a:lnTo>
                  <a:lnTo>
                    <a:pt x="189" y="141"/>
                  </a:lnTo>
                  <a:lnTo>
                    <a:pt x="189" y="77"/>
                  </a:lnTo>
                  <a:lnTo>
                    <a:pt x="202" y="65"/>
                  </a:lnTo>
                  <a:lnTo>
                    <a:pt x="202" y="26"/>
                  </a:lnTo>
                  <a:lnTo>
                    <a:pt x="232" y="0"/>
                  </a:lnTo>
                  <a:lnTo>
                    <a:pt x="217" y="0"/>
                  </a:lnTo>
                  <a:lnTo>
                    <a:pt x="232" y="77"/>
                  </a:lnTo>
                  <a:lnTo>
                    <a:pt x="247" y="90"/>
                  </a:lnTo>
                  <a:lnTo>
                    <a:pt x="247" y="192"/>
                  </a:lnTo>
                  <a:lnTo>
                    <a:pt x="261" y="206"/>
                  </a:lnTo>
                  <a:lnTo>
                    <a:pt x="261" y="296"/>
                  </a:lnTo>
                  <a:lnTo>
                    <a:pt x="276" y="308"/>
                  </a:lnTo>
                  <a:lnTo>
                    <a:pt x="276" y="359"/>
                  </a:lnTo>
                  <a:lnTo>
                    <a:pt x="304" y="384"/>
                  </a:lnTo>
                  <a:lnTo>
                    <a:pt x="304" y="398"/>
                  </a:lnTo>
                  <a:lnTo>
                    <a:pt x="319" y="410"/>
                  </a:lnTo>
                  <a:lnTo>
                    <a:pt x="334" y="410"/>
                  </a:lnTo>
                  <a:lnTo>
                    <a:pt x="348" y="398"/>
                  </a:lnTo>
                  <a:lnTo>
                    <a:pt x="363" y="398"/>
                  </a:lnTo>
                  <a:lnTo>
                    <a:pt x="378" y="384"/>
                  </a:lnTo>
                  <a:lnTo>
                    <a:pt x="391" y="398"/>
                  </a:lnTo>
                  <a:lnTo>
                    <a:pt x="406" y="398"/>
                  </a:lnTo>
                  <a:lnTo>
                    <a:pt x="421" y="410"/>
                  </a:lnTo>
                  <a:lnTo>
                    <a:pt x="435" y="410"/>
                  </a:lnTo>
                  <a:lnTo>
                    <a:pt x="450" y="423"/>
                  </a:lnTo>
                  <a:lnTo>
                    <a:pt x="465" y="423"/>
                  </a:lnTo>
                  <a:lnTo>
                    <a:pt x="480" y="437"/>
                  </a:lnTo>
                  <a:lnTo>
                    <a:pt x="493" y="437"/>
                  </a:lnTo>
                  <a:lnTo>
                    <a:pt x="508" y="437"/>
                  </a:lnTo>
                  <a:lnTo>
                    <a:pt x="523" y="437"/>
                  </a:lnTo>
                  <a:lnTo>
                    <a:pt x="537" y="437"/>
                  </a:lnTo>
                  <a:lnTo>
                    <a:pt x="552" y="437"/>
                  </a:lnTo>
                  <a:lnTo>
                    <a:pt x="567" y="437"/>
                  </a:lnTo>
                  <a:lnTo>
                    <a:pt x="580" y="437"/>
                  </a:lnTo>
                  <a:lnTo>
                    <a:pt x="595" y="437"/>
                  </a:lnTo>
                  <a:lnTo>
                    <a:pt x="610" y="437"/>
                  </a:lnTo>
                  <a:lnTo>
                    <a:pt x="624" y="437"/>
                  </a:lnTo>
                  <a:lnTo>
                    <a:pt x="639" y="437"/>
                  </a:lnTo>
                  <a:lnTo>
                    <a:pt x="654" y="437"/>
                  </a:lnTo>
                  <a:lnTo>
                    <a:pt x="669" y="449"/>
                  </a:lnTo>
                  <a:lnTo>
                    <a:pt x="683" y="449"/>
                  </a:lnTo>
                  <a:lnTo>
                    <a:pt x="698" y="462"/>
                  </a:lnTo>
                  <a:lnTo>
                    <a:pt x="713" y="449"/>
                  </a:lnTo>
                  <a:lnTo>
                    <a:pt x="726" y="437"/>
                  </a:lnTo>
                  <a:lnTo>
                    <a:pt x="726" y="423"/>
                  </a:lnTo>
                  <a:lnTo>
                    <a:pt x="741" y="398"/>
                  </a:lnTo>
                  <a:lnTo>
                    <a:pt x="741" y="269"/>
                  </a:lnTo>
                  <a:lnTo>
                    <a:pt x="756" y="257"/>
                  </a:lnTo>
                  <a:lnTo>
                    <a:pt x="756" y="513"/>
                  </a:lnTo>
                  <a:lnTo>
                    <a:pt x="770" y="590"/>
                  </a:lnTo>
                  <a:lnTo>
                    <a:pt x="770" y="1013"/>
                  </a:lnTo>
                  <a:lnTo>
                    <a:pt x="785" y="1052"/>
                  </a:lnTo>
                  <a:lnTo>
                    <a:pt x="785" y="1154"/>
                  </a:lnTo>
                  <a:lnTo>
                    <a:pt x="785" y="1103"/>
                  </a:lnTo>
                  <a:lnTo>
                    <a:pt x="800" y="1064"/>
                  </a:lnTo>
                  <a:lnTo>
                    <a:pt x="800" y="590"/>
                  </a:lnTo>
                  <a:lnTo>
                    <a:pt x="813" y="539"/>
                  </a:lnTo>
                  <a:lnTo>
                    <a:pt x="813" y="333"/>
                  </a:lnTo>
                  <a:lnTo>
                    <a:pt x="828" y="321"/>
                  </a:lnTo>
                  <a:lnTo>
                    <a:pt x="828" y="269"/>
                  </a:lnTo>
                  <a:lnTo>
                    <a:pt x="843" y="257"/>
                  </a:lnTo>
                  <a:lnTo>
                    <a:pt x="843" y="231"/>
                  </a:lnTo>
                  <a:lnTo>
                    <a:pt x="857" y="218"/>
                  </a:lnTo>
                  <a:lnTo>
                    <a:pt x="857" y="180"/>
                  </a:lnTo>
                  <a:lnTo>
                    <a:pt x="872" y="167"/>
                  </a:lnTo>
                  <a:lnTo>
                    <a:pt x="872" y="128"/>
                  </a:lnTo>
                  <a:lnTo>
                    <a:pt x="887" y="116"/>
                  </a:lnTo>
                  <a:lnTo>
                    <a:pt x="887" y="65"/>
                  </a:lnTo>
                  <a:lnTo>
                    <a:pt x="902" y="51"/>
                  </a:lnTo>
                  <a:lnTo>
                    <a:pt x="902" y="26"/>
                  </a:lnTo>
                  <a:lnTo>
                    <a:pt x="915" y="14"/>
                  </a:lnTo>
                  <a:lnTo>
                    <a:pt x="915" y="26"/>
                  </a:lnTo>
                  <a:lnTo>
                    <a:pt x="930" y="39"/>
                  </a:lnTo>
                  <a:lnTo>
                    <a:pt x="930" y="102"/>
                  </a:lnTo>
                  <a:lnTo>
                    <a:pt x="945" y="116"/>
                  </a:lnTo>
                  <a:lnTo>
                    <a:pt x="945" y="218"/>
                  </a:lnTo>
                  <a:lnTo>
                    <a:pt x="959" y="231"/>
                  </a:lnTo>
                  <a:lnTo>
                    <a:pt x="959" y="321"/>
                  </a:lnTo>
                  <a:lnTo>
                    <a:pt x="974" y="333"/>
                  </a:lnTo>
                  <a:lnTo>
                    <a:pt x="974" y="359"/>
                  </a:lnTo>
                  <a:lnTo>
                    <a:pt x="1002" y="384"/>
                  </a:lnTo>
                  <a:lnTo>
                    <a:pt x="1002" y="398"/>
                  </a:lnTo>
                  <a:lnTo>
                    <a:pt x="1017" y="410"/>
                  </a:lnTo>
                  <a:lnTo>
                    <a:pt x="1032" y="410"/>
                  </a:lnTo>
                  <a:lnTo>
                    <a:pt x="1046" y="398"/>
                  </a:lnTo>
                  <a:lnTo>
                    <a:pt x="1061" y="398"/>
                  </a:lnTo>
                  <a:lnTo>
                    <a:pt x="1076" y="398"/>
                  </a:lnTo>
                  <a:lnTo>
                    <a:pt x="1089" y="398"/>
                  </a:lnTo>
                  <a:lnTo>
                    <a:pt x="1104" y="410"/>
                  </a:lnTo>
                  <a:lnTo>
                    <a:pt x="1119" y="410"/>
                  </a:lnTo>
                  <a:lnTo>
                    <a:pt x="1134" y="423"/>
                  </a:lnTo>
                  <a:lnTo>
                    <a:pt x="1148" y="423"/>
                  </a:lnTo>
                  <a:lnTo>
                    <a:pt x="1163" y="423"/>
                  </a:lnTo>
                  <a:lnTo>
                    <a:pt x="1178" y="437"/>
                  </a:lnTo>
                  <a:lnTo>
                    <a:pt x="1191" y="437"/>
                  </a:lnTo>
                  <a:lnTo>
                    <a:pt x="1206" y="437"/>
                  </a:lnTo>
                  <a:lnTo>
                    <a:pt x="1221" y="437"/>
                  </a:lnTo>
                  <a:lnTo>
                    <a:pt x="1235" y="437"/>
                  </a:lnTo>
                  <a:lnTo>
                    <a:pt x="1250" y="449"/>
                  </a:lnTo>
                  <a:lnTo>
                    <a:pt x="1265" y="449"/>
                  </a:lnTo>
                  <a:lnTo>
                    <a:pt x="1278" y="449"/>
                  </a:lnTo>
                  <a:lnTo>
                    <a:pt x="1293" y="449"/>
                  </a:lnTo>
                  <a:lnTo>
                    <a:pt x="1308" y="449"/>
                  </a:lnTo>
                  <a:lnTo>
                    <a:pt x="1322" y="437"/>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1952280" y="1755720"/>
              <a:ext cx="1378440" cy="968400"/>
            </a:xfrm>
            <a:custGeom>
              <a:avLst/>
              <a:gdLst/>
              <a:ahLst/>
              <a:rect l="l" t="t" r="r" b="b"/>
              <a:pathLst>
                <a:path w="1310" h="1219">
                  <a:moveTo>
                    <a:pt x="0" y="460"/>
                  </a:moveTo>
                  <a:lnTo>
                    <a:pt x="15" y="460"/>
                  </a:lnTo>
                  <a:lnTo>
                    <a:pt x="30" y="474"/>
                  </a:lnTo>
                  <a:lnTo>
                    <a:pt x="45" y="486"/>
                  </a:lnTo>
                  <a:lnTo>
                    <a:pt x="59" y="486"/>
                  </a:lnTo>
                  <a:lnTo>
                    <a:pt x="74" y="486"/>
                  </a:lnTo>
                  <a:lnTo>
                    <a:pt x="89" y="474"/>
                  </a:lnTo>
                  <a:lnTo>
                    <a:pt x="102" y="460"/>
                  </a:lnTo>
                  <a:lnTo>
                    <a:pt x="102" y="358"/>
                  </a:lnTo>
                  <a:lnTo>
                    <a:pt x="117" y="345"/>
                  </a:lnTo>
                  <a:lnTo>
                    <a:pt x="117" y="294"/>
                  </a:lnTo>
                  <a:lnTo>
                    <a:pt x="117" y="358"/>
                  </a:lnTo>
                  <a:lnTo>
                    <a:pt x="132" y="409"/>
                  </a:lnTo>
                  <a:lnTo>
                    <a:pt x="132" y="936"/>
                  </a:lnTo>
                  <a:lnTo>
                    <a:pt x="146" y="987"/>
                  </a:lnTo>
                  <a:lnTo>
                    <a:pt x="146" y="1193"/>
                  </a:lnTo>
                  <a:lnTo>
                    <a:pt x="161" y="1205"/>
                  </a:lnTo>
                  <a:lnTo>
                    <a:pt x="161" y="846"/>
                  </a:lnTo>
                  <a:lnTo>
                    <a:pt x="176" y="770"/>
                  </a:lnTo>
                  <a:lnTo>
                    <a:pt x="176" y="423"/>
                  </a:lnTo>
                  <a:lnTo>
                    <a:pt x="191" y="397"/>
                  </a:lnTo>
                  <a:lnTo>
                    <a:pt x="191" y="307"/>
                  </a:lnTo>
                  <a:lnTo>
                    <a:pt x="204" y="294"/>
                  </a:lnTo>
                  <a:lnTo>
                    <a:pt x="204" y="268"/>
                  </a:lnTo>
                  <a:lnTo>
                    <a:pt x="219" y="256"/>
                  </a:lnTo>
                  <a:lnTo>
                    <a:pt x="219" y="217"/>
                  </a:lnTo>
                  <a:lnTo>
                    <a:pt x="234" y="204"/>
                  </a:lnTo>
                  <a:lnTo>
                    <a:pt x="234" y="166"/>
                  </a:lnTo>
                  <a:lnTo>
                    <a:pt x="248" y="153"/>
                  </a:lnTo>
                  <a:lnTo>
                    <a:pt x="248" y="102"/>
                  </a:lnTo>
                  <a:lnTo>
                    <a:pt x="263" y="88"/>
                  </a:lnTo>
                  <a:lnTo>
                    <a:pt x="263" y="37"/>
                  </a:lnTo>
                  <a:lnTo>
                    <a:pt x="278" y="25"/>
                  </a:lnTo>
                  <a:lnTo>
                    <a:pt x="278" y="0"/>
                  </a:lnTo>
                  <a:lnTo>
                    <a:pt x="291" y="12"/>
                  </a:lnTo>
                  <a:lnTo>
                    <a:pt x="291" y="51"/>
                  </a:lnTo>
                  <a:lnTo>
                    <a:pt x="306" y="63"/>
                  </a:lnTo>
                  <a:lnTo>
                    <a:pt x="306" y="178"/>
                  </a:lnTo>
                  <a:lnTo>
                    <a:pt x="321" y="192"/>
                  </a:lnTo>
                  <a:lnTo>
                    <a:pt x="321" y="307"/>
                  </a:lnTo>
                  <a:lnTo>
                    <a:pt x="335" y="319"/>
                  </a:lnTo>
                  <a:lnTo>
                    <a:pt x="335" y="372"/>
                  </a:lnTo>
                  <a:lnTo>
                    <a:pt x="350" y="384"/>
                  </a:lnTo>
                  <a:lnTo>
                    <a:pt x="350" y="397"/>
                  </a:lnTo>
                  <a:lnTo>
                    <a:pt x="380" y="423"/>
                  </a:lnTo>
                  <a:lnTo>
                    <a:pt x="365" y="423"/>
                  </a:lnTo>
                  <a:lnTo>
                    <a:pt x="380" y="423"/>
                  </a:lnTo>
                  <a:lnTo>
                    <a:pt x="393" y="423"/>
                  </a:lnTo>
                  <a:lnTo>
                    <a:pt x="408" y="423"/>
                  </a:lnTo>
                  <a:lnTo>
                    <a:pt x="423" y="423"/>
                  </a:lnTo>
                  <a:lnTo>
                    <a:pt x="437" y="409"/>
                  </a:lnTo>
                  <a:lnTo>
                    <a:pt x="452" y="409"/>
                  </a:lnTo>
                  <a:lnTo>
                    <a:pt x="467" y="423"/>
                  </a:lnTo>
                  <a:lnTo>
                    <a:pt x="480" y="435"/>
                  </a:lnTo>
                  <a:lnTo>
                    <a:pt x="495" y="435"/>
                  </a:lnTo>
                  <a:lnTo>
                    <a:pt x="510" y="448"/>
                  </a:lnTo>
                  <a:lnTo>
                    <a:pt x="524" y="448"/>
                  </a:lnTo>
                  <a:lnTo>
                    <a:pt x="539" y="460"/>
                  </a:lnTo>
                  <a:lnTo>
                    <a:pt x="554" y="460"/>
                  </a:lnTo>
                  <a:lnTo>
                    <a:pt x="569" y="460"/>
                  </a:lnTo>
                  <a:lnTo>
                    <a:pt x="582" y="460"/>
                  </a:lnTo>
                  <a:lnTo>
                    <a:pt x="597" y="460"/>
                  </a:lnTo>
                  <a:lnTo>
                    <a:pt x="612" y="460"/>
                  </a:lnTo>
                  <a:lnTo>
                    <a:pt x="626" y="460"/>
                  </a:lnTo>
                  <a:lnTo>
                    <a:pt x="641" y="460"/>
                  </a:lnTo>
                  <a:lnTo>
                    <a:pt x="656" y="460"/>
                  </a:lnTo>
                  <a:lnTo>
                    <a:pt x="669" y="474"/>
                  </a:lnTo>
                  <a:lnTo>
                    <a:pt x="684" y="460"/>
                  </a:lnTo>
                  <a:lnTo>
                    <a:pt x="699" y="460"/>
                  </a:lnTo>
                  <a:lnTo>
                    <a:pt x="714" y="460"/>
                  </a:lnTo>
                  <a:lnTo>
                    <a:pt x="728" y="460"/>
                  </a:lnTo>
                  <a:lnTo>
                    <a:pt x="743" y="474"/>
                  </a:lnTo>
                  <a:lnTo>
                    <a:pt x="758" y="486"/>
                  </a:lnTo>
                  <a:lnTo>
                    <a:pt x="772" y="474"/>
                  </a:lnTo>
                  <a:lnTo>
                    <a:pt x="787" y="474"/>
                  </a:lnTo>
                  <a:lnTo>
                    <a:pt x="802" y="448"/>
                  </a:lnTo>
                  <a:lnTo>
                    <a:pt x="802" y="345"/>
                  </a:lnTo>
                  <a:lnTo>
                    <a:pt x="815" y="333"/>
                  </a:lnTo>
                  <a:lnTo>
                    <a:pt x="815" y="282"/>
                  </a:lnTo>
                  <a:lnTo>
                    <a:pt x="815" y="423"/>
                  </a:lnTo>
                  <a:lnTo>
                    <a:pt x="830" y="486"/>
                  </a:lnTo>
                  <a:lnTo>
                    <a:pt x="830" y="962"/>
                  </a:lnTo>
                  <a:lnTo>
                    <a:pt x="845" y="1013"/>
                  </a:lnTo>
                  <a:lnTo>
                    <a:pt x="845" y="1219"/>
                  </a:lnTo>
                  <a:lnTo>
                    <a:pt x="859" y="1205"/>
                  </a:lnTo>
                  <a:lnTo>
                    <a:pt x="859" y="744"/>
                  </a:lnTo>
                  <a:lnTo>
                    <a:pt x="874" y="680"/>
                  </a:lnTo>
                  <a:lnTo>
                    <a:pt x="874" y="409"/>
                  </a:lnTo>
                  <a:lnTo>
                    <a:pt x="889" y="397"/>
                  </a:lnTo>
                  <a:lnTo>
                    <a:pt x="889" y="319"/>
                  </a:lnTo>
                  <a:lnTo>
                    <a:pt x="904" y="307"/>
                  </a:lnTo>
                  <a:lnTo>
                    <a:pt x="904" y="268"/>
                  </a:lnTo>
                  <a:lnTo>
                    <a:pt x="917" y="256"/>
                  </a:lnTo>
                  <a:lnTo>
                    <a:pt x="917" y="229"/>
                  </a:lnTo>
                  <a:lnTo>
                    <a:pt x="932" y="217"/>
                  </a:lnTo>
                  <a:lnTo>
                    <a:pt x="932" y="178"/>
                  </a:lnTo>
                  <a:lnTo>
                    <a:pt x="947" y="166"/>
                  </a:lnTo>
                  <a:lnTo>
                    <a:pt x="947" y="114"/>
                  </a:lnTo>
                  <a:lnTo>
                    <a:pt x="961" y="102"/>
                  </a:lnTo>
                  <a:lnTo>
                    <a:pt x="961" y="37"/>
                  </a:lnTo>
                  <a:lnTo>
                    <a:pt x="976" y="25"/>
                  </a:lnTo>
                  <a:lnTo>
                    <a:pt x="991" y="37"/>
                  </a:lnTo>
                  <a:lnTo>
                    <a:pt x="991" y="76"/>
                  </a:lnTo>
                  <a:lnTo>
                    <a:pt x="1004" y="88"/>
                  </a:lnTo>
                  <a:lnTo>
                    <a:pt x="1004" y="217"/>
                  </a:lnTo>
                  <a:lnTo>
                    <a:pt x="1019" y="229"/>
                  </a:lnTo>
                  <a:lnTo>
                    <a:pt x="1019" y="333"/>
                  </a:lnTo>
                  <a:lnTo>
                    <a:pt x="1034" y="345"/>
                  </a:lnTo>
                  <a:lnTo>
                    <a:pt x="1034" y="397"/>
                  </a:lnTo>
                  <a:lnTo>
                    <a:pt x="1063" y="423"/>
                  </a:lnTo>
                  <a:lnTo>
                    <a:pt x="1063" y="435"/>
                  </a:lnTo>
                  <a:lnTo>
                    <a:pt x="1078" y="448"/>
                  </a:lnTo>
                  <a:lnTo>
                    <a:pt x="1093" y="448"/>
                  </a:lnTo>
                  <a:lnTo>
                    <a:pt x="1106" y="435"/>
                  </a:lnTo>
                  <a:lnTo>
                    <a:pt x="1121" y="435"/>
                  </a:lnTo>
                  <a:lnTo>
                    <a:pt x="1136" y="423"/>
                  </a:lnTo>
                  <a:lnTo>
                    <a:pt x="1150" y="423"/>
                  </a:lnTo>
                  <a:lnTo>
                    <a:pt x="1165" y="435"/>
                  </a:lnTo>
                  <a:lnTo>
                    <a:pt x="1180" y="435"/>
                  </a:lnTo>
                  <a:lnTo>
                    <a:pt x="1193" y="448"/>
                  </a:lnTo>
                  <a:lnTo>
                    <a:pt x="1208" y="448"/>
                  </a:lnTo>
                  <a:lnTo>
                    <a:pt x="1223" y="460"/>
                  </a:lnTo>
                  <a:lnTo>
                    <a:pt x="1238" y="460"/>
                  </a:lnTo>
                  <a:lnTo>
                    <a:pt x="1252" y="460"/>
                  </a:lnTo>
                  <a:lnTo>
                    <a:pt x="1267" y="460"/>
                  </a:lnTo>
                  <a:lnTo>
                    <a:pt x="1282" y="460"/>
                  </a:lnTo>
                  <a:lnTo>
                    <a:pt x="1295" y="474"/>
                  </a:lnTo>
                  <a:lnTo>
                    <a:pt x="1310" y="474"/>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3330720" y="1785960"/>
              <a:ext cx="1620000" cy="906480"/>
            </a:xfrm>
            <a:custGeom>
              <a:avLst/>
              <a:gdLst/>
              <a:ahLst/>
              <a:rect l="l" t="t" r="r" b="b"/>
              <a:pathLst>
                <a:path w="1542" h="1142">
                  <a:moveTo>
                    <a:pt x="0" y="437"/>
                  </a:moveTo>
                  <a:lnTo>
                    <a:pt x="15" y="437"/>
                  </a:lnTo>
                  <a:lnTo>
                    <a:pt x="29" y="437"/>
                  </a:lnTo>
                  <a:lnTo>
                    <a:pt x="44" y="450"/>
                  </a:lnTo>
                  <a:lnTo>
                    <a:pt x="59" y="450"/>
                  </a:lnTo>
                  <a:lnTo>
                    <a:pt x="72" y="450"/>
                  </a:lnTo>
                  <a:lnTo>
                    <a:pt x="87" y="437"/>
                  </a:lnTo>
                  <a:lnTo>
                    <a:pt x="103" y="437"/>
                  </a:lnTo>
                  <a:lnTo>
                    <a:pt x="116" y="450"/>
                  </a:lnTo>
                  <a:lnTo>
                    <a:pt x="131" y="462"/>
                  </a:lnTo>
                  <a:lnTo>
                    <a:pt x="146" y="462"/>
                  </a:lnTo>
                  <a:lnTo>
                    <a:pt x="161" y="462"/>
                  </a:lnTo>
                  <a:lnTo>
                    <a:pt x="175" y="450"/>
                  </a:lnTo>
                  <a:lnTo>
                    <a:pt x="190" y="437"/>
                  </a:lnTo>
                  <a:lnTo>
                    <a:pt x="190" y="296"/>
                  </a:lnTo>
                  <a:lnTo>
                    <a:pt x="205" y="270"/>
                  </a:lnTo>
                  <a:lnTo>
                    <a:pt x="205" y="257"/>
                  </a:lnTo>
                  <a:lnTo>
                    <a:pt x="205" y="437"/>
                  </a:lnTo>
                  <a:lnTo>
                    <a:pt x="218" y="501"/>
                  </a:lnTo>
                  <a:lnTo>
                    <a:pt x="218" y="937"/>
                  </a:lnTo>
                  <a:lnTo>
                    <a:pt x="233" y="976"/>
                  </a:lnTo>
                  <a:lnTo>
                    <a:pt x="233" y="1142"/>
                  </a:lnTo>
                  <a:lnTo>
                    <a:pt x="233" y="1130"/>
                  </a:lnTo>
                  <a:lnTo>
                    <a:pt x="248" y="1105"/>
                  </a:lnTo>
                  <a:lnTo>
                    <a:pt x="248" y="655"/>
                  </a:lnTo>
                  <a:lnTo>
                    <a:pt x="262" y="592"/>
                  </a:lnTo>
                  <a:lnTo>
                    <a:pt x="262" y="372"/>
                  </a:lnTo>
                  <a:lnTo>
                    <a:pt x="277" y="360"/>
                  </a:lnTo>
                  <a:lnTo>
                    <a:pt x="277" y="282"/>
                  </a:lnTo>
                  <a:lnTo>
                    <a:pt x="292" y="270"/>
                  </a:lnTo>
                  <a:lnTo>
                    <a:pt x="292" y="245"/>
                  </a:lnTo>
                  <a:lnTo>
                    <a:pt x="305" y="231"/>
                  </a:lnTo>
                  <a:lnTo>
                    <a:pt x="305" y="206"/>
                  </a:lnTo>
                  <a:lnTo>
                    <a:pt x="320" y="194"/>
                  </a:lnTo>
                  <a:lnTo>
                    <a:pt x="320" y="155"/>
                  </a:lnTo>
                  <a:lnTo>
                    <a:pt x="335" y="141"/>
                  </a:lnTo>
                  <a:lnTo>
                    <a:pt x="335" y="78"/>
                  </a:lnTo>
                  <a:lnTo>
                    <a:pt x="349" y="65"/>
                  </a:lnTo>
                  <a:lnTo>
                    <a:pt x="349" y="26"/>
                  </a:lnTo>
                  <a:lnTo>
                    <a:pt x="364" y="14"/>
                  </a:lnTo>
                  <a:lnTo>
                    <a:pt x="364" y="0"/>
                  </a:lnTo>
                  <a:lnTo>
                    <a:pt x="364" y="14"/>
                  </a:lnTo>
                  <a:lnTo>
                    <a:pt x="379" y="26"/>
                  </a:lnTo>
                  <a:lnTo>
                    <a:pt x="379" y="90"/>
                  </a:lnTo>
                  <a:lnTo>
                    <a:pt x="394" y="104"/>
                  </a:lnTo>
                  <a:lnTo>
                    <a:pt x="394" y="219"/>
                  </a:lnTo>
                  <a:lnTo>
                    <a:pt x="407" y="231"/>
                  </a:lnTo>
                  <a:lnTo>
                    <a:pt x="407" y="309"/>
                  </a:lnTo>
                  <a:lnTo>
                    <a:pt x="422" y="321"/>
                  </a:lnTo>
                  <a:lnTo>
                    <a:pt x="422" y="372"/>
                  </a:lnTo>
                  <a:lnTo>
                    <a:pt x="452" y="398"/>
                  </a:lnTo>
                  <a:lnTo>
                    <a:pt x="437" y="398"/>
                  </a:lnTo>
                  <a:lnTo>
                    <a:pt x="452" y="398"/>
                  </a:lnTo>
                  <a:lnTo>
                    <a:pt x="467" y="411"/>
                  </a:lnTo>
                  <a:lnTo>
                    <a:pt x="481" y="411"/>
                  </a:lnTo>
                  <a:lnTo>
                    <a:pt x="496" y="411"/>
                  </a:lnTo>
                  <a:lnTo>
                    <a:pt x="511" y="398"/>
                  </a:lnTo>
                  <a:lnTo>
                    <a:pt x="524" y="398"/>
                  </a:lnTo>
                  <a:lnTo>
                    <a:pt x="539" y="411"/>
                  </a:lnTo>
                  <a:lnTo>
                    <a:pt x="554" y="411"/>
                  </a:lnTo>
                  <a:lnTo>
                    <a:pt x="568" y="423"/>
                  </a:lnTo>
                  <a:lnTo>
                    <a:pt x="583" y="423"/>
                  </a:lnTo>
                  <a:lnTo>
                    <a:pt x="598" y="437"/>
                  </a:lnTo>
                  <a:lnTo>
                    <a:pt x="613" y="437"/>
                  </a:lnTo>
                  <a:lnTo>
                    <a:pt x="626" y="437"/>
                  </a:lnTo>
                  <a:lnTo>
                    <a:pt x="641" y="437"/>
                  </a:lnTo>
                  <a:lnTo>
                    <a:pt x="656" y="437"/>
                  </a:lnTo>
                  <a:lnTo>
                    <a:pt x="670" y="437"/>
                  </a:lnTo>
                  <a:lnTo>
                    <a:pt x="685" y="437"/>
                  </a:lnTo>
                  <a:lnTo>
                    <a:pt x="700" y="437"/>
                  </a:lnTo>
                  <a:lnTo>
                    <a:pt x="713" y="437"/>
                  </a:lnTo>
                  <a:lnTo>
                    <a:pt x="728" y="437"/>
                  </a:lnTo>
                  <a:lnTo>
                    <a:pt x="743" y="437"/>
                  </a:lnTo>
                  <a:lnTo>
                    <a:pt x="757" y="437"/>
                  </a:lnTo>
                  <a:lnTo>
                    <a:pt x="772" y="437"/>
                  </a:lnTo>
                  <a:lnTo>
                    <a:pt x="787" y="437"/>
                  </a:lnTo>
                  <a:lnTo>
                    <a:pt x="801" y="437"/>
                  </a:lnTo>
                  <a:lnTo>
                    <a:pt x="816" y="437"/>
                  </a:lnTo>
                  <a:lnTo>
                    <a:pt x="831" y="437"/>
                  </a:lnTo>
                  <a:lnTo>
                    <a:pt x="846" y="437"/>
                  </a:lnTo>
                  <a:lnTo>
                    <a:pt x="859" y="437"/>
                  </a:lnTo>
                  <a:lnTo>
                    <a:pt x="874" y="437"/>
                  </a:lnTo>
                  <a:lnTo>
                    <a:pt x="889" y="437"/>
                  </a:lnTo>
                  <a:lnTo>
                    <a:pt x="903" y="437"/>
                  </a:lnTo>
                  <a:lnTo>
                    <a:pt x="918" y="437"/>
                  </a:lnTo>
                  <a:lnTo>
                    <a:pt x="933" y="437"/>
                  </a:lnTo>
                  <a:lnTo>
                    <a:pt x="946" y="437"/>
                  </a:lnTo>
                  <a:lnTo>
                    <a:pt x="961" y="437"/>
                  </a:lnTo>
                  <a:lnTo>
                    <a:pt x="976" y="437"/>
                  </a:lnTo>
                  <a:lnTo>
                    <a:pt x="990" y="437"/>
                  </a:lnTo>
                  <a:lnTo>
                    <a:pt x="1005" y="437"/>
                  </a:lnTo>
                  <a:lnTo>
                    <a:pt x="1020" y="437"/>
                  </a:lnTo>
                  <a:lnTo>
                    <a:pt x="1033" y="437"/>
                  </a:lnTo>
                  <a:lnTo>
                    <a:pt x="1048" y="437"/>
                  </a:lnTo>
                  <a:lnTo>
                    <a:pt x="1063" y="437"/>
                  </a:lnTo>
                  <a:lnTo>
                    <a:pt x="1078" y="437"/>
                  </a:lnTo>
                  <a:lnTo>
                    <a:pt x="1092" y="437"/>
                  </a:lnTo>
                  <a:lnTo>
                    <a:pt x="1107" y="437"/>
                  </a:lnTo>
                  <a:lnTo>
                    <a:pt x="1122" y="437"/>
                  </a:lnTo>
                  <a:lnTo>
                    <a:pt x="1135" y="437"/>
                  </a:lnTo>
                  <a:lnTo>
                    <a:pt x="1150" y="437"/>
                  </a:lnTo>
                  <a:lnTo>
                    <a:pt x="1165" y="437"/>
                  </a:lnTo>
                  <a:lnTo>
                    <a:pt x="1179" y="437"/>
                  </a:lnTo>
                  <a:lnTo>
                    <a:pt x="1194" y="437"/>
                  </a:lnTo>
                  <a:lnTo>
                    <a:pt x="1209" y="437"/>
                  </a:lnTo>
                  <a:lnTo>
                    <a:pt x="1222" y="437"/>
                  </a:lnTo>
                  <a:lnTo>
                    <a:pt x="1237" y="437"/>
                  </a:lnTo>
                  <a:lnTo>
                    <a:pt x="1252" y="437"/>
                  </a:lnTo>
                  <a:lnTo>
                    <a:pt x="1266" y="437"/>
                  </a:lnTo>
                  <a:lnTo>
                    <a:pt x="1281" y="437"/>
                  </a:lnTo>
                  <a:lnTo>
                    <a:pt x="1296" y="437"/>
                  </a:lnTo>
                  <a:lnTo>
                    <a:pt x="1311" y="437"/>
                  </a:lnTo>
                  <a:lnTo>
                    <a:pt x="1324" y="437"/>
                  </a:lnTo>
                  <a:lnTo>
                    <a:pt x="1339" y="437"/>
                  </a:lnTo>
                  <a:lnTo>
                    <a:pt x="1354" y="437"/>
                  </a:lnTo>
                  <a:lnTo>
                    <a:pt x="1368" y="437"/>
                  </a:lnTo>
                  <a:lnTo>
                    <a:pt x="1383" y="437"/>
                  </a:lnTo>
                  <a:lnTo>
                    <a:pt x="1398" y="437"/>
                  </a:lnTo>
                  <a:lnTo>
                    <a:pt x="1411" y="437"/>
                  </a:lnTo>
                  <a:lnTo>
                    <a:pt x="1426" y="437"/>
                  </a:lnTo>
                  <a:lnTo>
                    <a:pt x="1441" y="437"/>
                  </a:lnTo>
                  <a:lnTo>
                    <a:pt x="1455" y="437"/>
                  </a:lnTo>
                  <a:lnTo>
                    <a:pt x="1470" y="437"/>
                  </a:lnTo>
                  <a:lnTo>
                    <a:pt x="1485" y="437"/>
                  </a:lnTo>
                  <a:lnTo>
                    <a:pt x="1499" y="437"/>
                  </a:lnTo>
                  <a:lnTo>
                    <a:pt x="1514" y="437"/>
                  </a:lnTo>
                  <a:lnTo>
                    <a:pt x="1529" y="437"/>
                  </a:lnTo>
                  <a:lnTo>
                    <a:pt x="1542" y="437"/>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4950720" y="1806480"/>
              <a:ext cx="1420200" cy="885960"/>
            </a:xfrm>
            <a:custGeom>
              <a:avLst/>
              <a:gdLst/>
              <a:ahLst/>
              <a:rect l="l" t="t" r="r" b="b"/>
              <a:pathLst>
                <a:path w="1353" h="1116">
                  <a:moveTo>
                    <a:pt x="0" y="411"/>
                  </a:moveTo>
                  <a:lnTo>
                    <a:pt x="15" y="411"/>
                  </a:lnTo>
                  <a:lnTo>
                    <a:pt x="30" y="411"/>
                  </a:lnTo>
                  <a:lnTo>
                    <a:pt x="45" y="423"/>
                  </a:lnTo>
                  <a:lnTo>
                    <a:pt x="59" y="423"/>
                  </a:lnTo>
                  <a:lnTo>
                    <a:pt x="74" y="423"/>
                  </a:lnTo>
                  <a:lnTo>
                    <a:pt x="89" y="423"/>
                  </a:lnTo>
                  <a:lnTo>
                    <a:pt x="102" y="411"/>
                  </a:lnTo>
                  <a:lnTo>
                    <a:pt x="117" y="411"/>
                  </a:lnTo>
                  <a:lnTo>
                    <a:pt x="132" y="411"/>
                  </a:lnTo>
                  <a:lnTo>
                    <a:pt x="146" y="423"/>
                  </a:lnTo>
                  <a:lnTo>
                    <a:pt x="161" y="436"/>
                  </a:lnTo>
                  <a:lnTo>
                    <a:pt x="176" y="436"/>
                  </a:lnTo>
                  <a:lnTo>
                    <a:pt x="189" y="436"/>
                  </a:lnTo>
                  <a:lnTo>
                    <a:pt x="204" y="423"/>
                  </a:lnTo>
                  <a:lnTo>
                    <a:pt x="204" y="372"/>
                  </a:lnTo>
                  <a:lnTo>
                    <a:pt x="219" y="346"/>
                  </a:lnTo>
                  <a:lnTo>
                    <a:pt x="219" y="231"/>
                  </a:lnTo>
                  <a:lnTo>
                    <a:pt x="233" y="231"/>
                  </a:lnTo>
                  <a:lnTo>
                    <a:pt x="233" y="603"/>
                  </a:lnTo>
                  <a:lnTo>
                    <a:pt x="248" y="668"/>
                  </a:lnTo>
                  <a:lnTo>
                    <a:pt x="248" y="1014"/>
                  </a:lnTo>
                  <a:lnTo>
                    <a:pt x="263" y="1052"/>
                  </a:lnTo>
                  <a:lnTo>
                    <a:pt x="263" y="1091"/>
                  </a:lnTo>
                  <a:lnTo>
                    <a:pt x="263" y="975"/>
                  </a:lnTo>
                  <a:lnTo>
                    <a:pt x="278" y="911"/>
                  </a:lnTo>
                  <a:lnTo>
                    <a:pt x="278" y="474"/>
                  </a:lnTo>
                  <a:lnTo>
                    <a:pt x="291" y="448"/>
                  </a:lnTo>
                  <a:lnTo>
                    <a:pt x="291" y="295"/>
                  </a:lnTo>
                  <a:lnTo>
                    <a:pt x="306" y="282"/>
                  </a:lnTo>
                  <a:lnTo>
                    <a:pt x="306" y="244"/>
                  </a:lnTo>
                  <a:lnTo>
                    <a:pt x="321" y="231"/>
                  </a:lnTo>
                  <a:lnTo>
                    <a:pt x="321" y="205"/>
                  </a:lnTo>
                  <a:lnTo>
                    <a:pt x="335" y="192"/>
                  </a:lnTo>
                  <a:lnTo>
                    <a:pt x="335" y="166"/>
                  </a:lnTo>
                  <a:lnTo>
                    <a:pt x="350" y="154"/>
                  </a:lnTo>
                  <a:lnTo>
                    <a:pt x="350" y="102"/>
                  </a:lnTo>
                  <a:lnTo>
                    <a:pt x="365" y="90"/>
                  </a:lnTo>
                  <a:lnTo>
                    <a:pt x="365" y="39"/>
                  </a:lnTo>
                  <a:lnTo>
                    <a:pt x="378" y="25"/>
                  </a:lnTo>
                  <a:lnTo>
                    <a:pt x="378" y="0"/>
                  </a:lnTo>
                  <a:lnTo>
                    <a:pt x="408" y="25"/>
                  </a:lnTo>
                  <a:lnTo>
                    <a:pt x="408" y="115"/>
                  </a:lnTo>
                  <a:lnTo>
                    <a:pt x="422" y="141"/>
                  </a:lnTo>
                  <a:lnTo>
                    <a:pt x="422" y="244"/>
                  </a:lnTo>
                  <a:lnTo>
                    <a:pt x="437" y="256"/>
                  </a:lnTo>
                  <a:lnTo>
                    <a:pt x="437" y="321"/>
                  </a:lnTo>
                  <a:lnTo>
                    <a:pt x="452" y="333"/>
                  </a:lnTo>
                  <a:lnTo>
                    <a:pt x="452" y="360"/>
                  </a:lnTo>
                  <a:lnTo>
                    <a:pt x="465" y="372"/>
                  </a:lnTo>
                  <a:lnTo>
                    <a:pt x="480" y="385"/>
                  </a:lnTo>
                  <a:lnTo>
                    <a:pt x="495" y="397"/>
                  </a:lnTo>
                  <a:lnTo>
                    <a:pt x="510" y="397"/>
                  </a:lnTo>
                  <a:lnTo>
                    <a:pt x="524" y="385"/>
                  </a:lnTo>
                  <a:lnTo>
                    <a:pt x="539" y="385"/>
                  </a:lnTo>
                  <a:lnTo>
                    <a:pt x="554" y="385"/>
                  </a:lnTo>
                  <a:lnTo>
                    <a:pt x="567" y="385"/>
                  </a:lnTo>
                  <a:lnTo>
                    <a:pt x="582" y="397"/>
                  </a:lnTo>
                  <a:lnTo>
                    <a:pt x="597" y="411"/>
                  </a:lnTo>
                  <a:lnTo>
                    <a:pt x="611" y="411"/>
                  </a:lnTo>
                  <a:lnTo>
                    <a:pt x="626" y="411"/>
                  </a:lnTo>
                  <a:lnTo>
                    <a:pt x="641" y="423"/>
                  </a:lnTo>
                  <a:lnTo>
                    <a:pt x="655" y="423"/>
                  </a:lnTo>
                  <a:lnTo>
                    <a:pt x="670" y="423"/>
                  </a:lnTo>
                  <a:lnTo>
                    <a:pt x="685" y="423"/>
                  </a:lnTo>
                  <a:lnTo>
                    <a:pt x="698" y="423"/>
                  </a:lnTo>
                  <a:lnTo>
                    <a:pt x="713" y="423"/>
                  </a:lnTo>
                  <a:lnTo>
                    <a:pt x="728" y="423"/>
                  </a:lnTo>
                  <a:lnTo>
                    <a:pt x="743" y="436"/>
                  </a:lnTo>
                  <a:lnTo>
                    <a:pt x="757" y="436"/>
                  </a:lnTo>
                  <a:lnTo>
                    <a:pt x="772" y="436"/>
                  </a:lnTo>
                  <a:lnTo>
                    <a:pt x="787" y="423"/>
                  </a:lnTo>
                  <a:lnTo>
                    <a:pt x="800" y="423"/>
                  </a:lnTo>
                  <a:lnTo>
                    <a:pt x="815" y="423"/>
                  </a:lnTo>
                  <a:lnTo>
                    <a:pt x="830" y="423"/>
                  </a:lnTo>
                  <a:lnTo>
                    <a:pt x="844" y="436"/>
                  </a:lnTo>
                  <a:lnTo>
                    <a:pt x="859" y="436"/>
                  </a:lnTo>
                  <a:lnTo>
                    <a:pt x="874" y="436"/>
                  </a:lnTo>
                  <a:lnTo>
                    <a:pt x="887" y="423"/>
                  </a:lnTo>
                  <a:lnTo>
                    <a:pt x="902" y="411"/>
                  </a:lnTo>
                  <a:lnTo>
                    <a:pt x="902" y="295"/>
                  </a:lnTo>
                  <a:lnTo>
                    <a:pt x="917" y="270"/>
                  </a:lnTo>
                  <a:lnTo>
                    <a:pt x="917" y="231"/>
                  </a:lnTo>
                  <a:lnTo>
                    <a:pt x="917" y="321"/>
                  </a:lnTo>
                  <a:lnTo>
                    <a:pt x="931" y="385"/>
                  </a:lnTo>
                  <a:lnTo>
                    <a:pt x="931" y="885"/>
                  </a:lnTo>
                  <a:lnTo>
                    <a:pt x="946" y="924"/>
                  </a:lnTo>
                  <a:lnTo>
                    <a:pt x="946" y="1116"/>
                  </a:lnTo>
                  <a:lnTo>
                    <a:pt x="961" y="1116"/>
                  </a:lnTo>
                  <a:lnTo>
                    <a:pt x="961" y="732"/>
                  </a:lnTo>
                  <a:lnTo>
                    <a:pt x="974" y="654"/>
                  </a:lnTo>
                  <a:lnTo>
                    <a:pt x="974" y="360"/>
                  </a:lnTo>
                  <a:lnTo>
                    <a:pt x="989" y="346"/>
                  </a:lnTo>
                  <a:lnTo>
                    <a:pt x="989" y="270"/>
                  </a:lnTo>
                  <a:lnTo>
                    <a:pt x="1004" y="256"/>
                  </a:lnTo>
                  <a:lnTo>
                    <a:pt x="1004" y="231"/>
                  </a:lnTo>
                  <a:lnTo>
                    <a:pt x="1019" y="217"/>
                  </a:lnTo>
                  <a:lnTo>
                    <a:pt x="1019" y="180"/>
                  </a:lnTo>
                  <a:lnTo>
                    <a:pt x="1033" y="166"/>
                  </a:lnTo>
                  <a:lnTo>
                    <a:pt x="1033" y="129"/>
                  </a:lnTo>
                  <a:lnTo>
                    <a:pt x="1048" y="115"/>
                  </a:lnTo>
                  <a:lnTo>
                    <a:pt x="1048" y="64"/>
                  </a:lnTo>
                  <a:lnTo>
                    <a:pt x="1063" y="51"/>
                  </a:lnTo>
                  <a:lnTo>
                    <a:pt x="1063" y="13"/>
                  </a:lnTo>
                  <a:lnTo>
                    <a:pt x="1076" y="0"/>
                  </a:lnTo>
                  <a:lnTo>
                    <a:pt x="1091" y="13"/>
                  </a:lnTo>
                  <a:lnTo>
                    <a:pt x="1091" y="51"/>
                  </a:lnTo>
                  <a:lnTo>
                    <a:pt x="1106" y="64"/>
                  </a:lnTo>
                  <a:lnTo>
                    <a:pt x="1106" y="166"/>
                  </a:lnTo>
                  <a:lnTo>
                    <a:pt x="1120" y="180"/>
                  </a:lnTo>
                  <a:lnTo>
                    <a:pt x="1120" y="282"/>
                  </a:lnTo>
                  <a:lnTo>
                    <a:pt x="1135" y="295"/>
                  </a:lnTo>
                  <a:lnTo>
                    <a:pt x="1135" y="333"/>
                  </a:lnTo>
                  <a:lnTo>
                    <a:pt x="1163" y="360"/>
                  </a:lnTo>
                  <a:lnTo>
                    <a:pt x="1163" y="372"/>
                  </a:lnTo>
                  <a:lnTo>
                    <a:pt x="1178" y="372"/>
                  </a:lnTo>
                  <a:lnTo>
                    <a:pt x="1193" y="372"/>
                  </a:lnTo>
                  <a:lnTo>
                    <a:pt x="1207" y="372"/>
                  </a:lnTo>
                  <a:lnTo>
                    <a:pt x="1222" y="360"/>
                  </a:lnTo>
                  <a:lnTo>
                    <a:pt x="1237" y="360"/>
                  </a:lnTo>
                  <a:lnTo>
                    <a:pt x="1252" y="360"/>
                  </a:lnTo>
                  <a:lnTo>
                    <a:pt x="1265" y="372"/>
                  </a:lnTo>
                  <a:lnTo>
                    <a:pt x="1280" y="385"/>
                  </a:lnTo>
                  <a:lnTo>
                    <a:pt x="1296" y="385"/>
                  </a:lnTo>
                  <a:lnTo>
                    <a:pt x="1309" y="397"/>
                  </a:lnTo>
                  <a:lnTo>
                    <a:pt x="1324" y="397"/>
                  </a:lnTo>
                  <a:lnTo>
                    <a:pt x="1339" y="397"/>
                  </a:lnTo>
                  <a:lnTo>
                    <a:pt x="1353" y="411"/>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6371280" y="1785960"/>
              <a:ext cx="626040" cy="896760"/>
            </a:xfrm>
            <a:custGeom>
              <a:avLst/>
              <a:gdLst/>
              <a:ahLst/>
              <a:rect l="l" t="t" r="r" b="b"/>
              <a:pathLst>
                <a:path w="597" h="1130">
                  <a:moveTo>
                    <a:pt x="0" y="437"/>
                  </a:moveTo>
                  <a:lnTo>
                    <a:pt x="15" y="437"/>
                  </a:lnTo>
                  <a:lnTo>
                    <a:pt x="30" y="437"/>
                  </a:lnTo>
                  <a:lnTo>
                    <a:pt x="43" y="437"/>
                  </a:lnTo>
                  <a:lnTo>
                    <a:pt x="58" y="437"/>
                  </a:lnTo>
                  <a:lnTo>
                    <a:pt x="73" y="437"/>
                  </a:lnTo>
                  <a:lnTo>
                    <a:pt x="88" y="437"/>
                  </a:lnTo>
                  <a:lnTo>
                    <a:pt x="102" y="437"/>
                  </a:lnTo>
                  <a:lnTo>
                    <a:pt x="117" y="437"/>
                  </a:lnTo>
                  <a:lnTo>
                    <a:pt x="132" y="425"/>
                  </a:lnTo>
                  <a:lnTo>
                    <a:pt x="145" y="425"/>
                  </a:lnTo>
                  <a:lnTo>
                    <a:pt x="160" y="437"/>
                  </a:lnTo>
                  <a:lnTo>
                    <a:pt x="175" y="450"/>
                  </a:lnTo>
                  <a:lnTo>
                    <a:pt x="189" y="450"/>
                  </a:lnTo>
                  <a:lnTo>
                    <a:pt x="204" y="437"/>
                  </a:lnTo>
                  <a:lnTo>
                    <a:pt x="219" y="437"/>
                  </a:lnTo>
                  <a:lnTo>
                    <a:pt x="232" y="411"/>
                  </a:lnTo>
                  <a:lnTo>
                    <a:pt x="232" y="296"/>
                  </a:lnTo>
                  <a:lnTo>
                    <a:pt x="247" y="270"/>
                  </a:lnTo>
                  <a:lnTo>
                    <a:pt x="247" y="231"/>
                  </a:lnTo>
                  <a:lnTo>
                    <a:pt x="247" y="347"/>
                  </a:lnTo>
                  <a:lnTo>
                    <a:pt x="262" y="398"/>
                  </a:lnTo>
                  <a:lnTo>
                    <a:pt x="262" y="899"/>
                  </a:lnTo>
                  <a:lnTo>
                    <a:pt x="277" y="950"/>
                  </a:lnTo>
                  <a:lnTo>
                    <a:pt x="277" y="1130"/>
                  </a:lnTo>
                  <a:lnTo>
                    <a:pt x="291" y="1117"/>
                  </a:lnTo>
                  <a:lnTo>
                    <a:pt x="291" y="719"/>
                  </a:lnTo>
                  <a:lnTo>
                    <a:pt x="306" y="655"/>
                  </a:lnTo>
                  <a:lnTo>
                    <a:pt x="306" y="360"/>
                  </a:lnTo>
                  <a:lnTo>
                    <a:pt x="321" y="347"/>
                  </a:lnTo>
                  <a:lnTo>
                    <a:pt x="321" y="270"/>
                  </a:lnTo>
                  <a:lnTo>
                    <a:pt x="334" y="257"/>
                  </a:lnTo>
                  <a:lnTo>
                    <a:pt x="334" y="231"/>
                  </a:lnTo>
                  <a:lnTo>
                    <a:pt x="349" y="219"/>
                  </a:lnTo>
                  <a:lnTo>
                    <a:pt x="349" y="194"/>
                  </a:lnTo>
                  <a:lnTo>
                    <a:pt x="364" y="180"/>
                  </a:lnTo>
                  <a:lnTo>
                    <a:pt x="364" y="129"/>
                  </a:lnTo>
                  <a:lnTo>
                    <a:pt x="378" y="116"/>
                  </a:lnTo>
                  <a:lnTo>
                    <a:pt x="378" y="78"/>
                  </a:lnTo>
                  <a:lnTo>
                    <a:pt x="393" y="65"/>
                  </a:lnTo>
                  <a:lnTo>
                    <a:pt x="393" y="26"/>
                  </a:lnTo>
                  <a:lnTo>
                    <a:pt x="408" y="14"/>
                  </a:lnTo>
                  <a:lnTo>
                    <a:pt x="408" y="0"/>
                  </a:lnTo>
                  <a:lnTo>
                    <a:pt x="408" y="14"/>
                  </a:lnTo>
                  <a:lnTo>
                    <a:pt x="421" y="26"/>
                  </a:lnTo>
                  <a:lnTo>
                    <a:pt x="421" y="78"/>
                  </a:lnTo>
                  <a:lnTo>
                    <a:pt x="436" y="90"/>
                  </a:lnTo>
                  <a:lnTo>
                    <a:pt x="436" y="180"/>
                  </a:lnTo>
                  <a:lnTo>
                    <a:pt x="451" y="194"/>
                  </a:lnTo>
                  <a:lnTo>
                    <a:pt x="451" y="296"/>
                  </a:lnTo>
                  <a:lnTo>
                    <a:pt x="466" y="309"/>
                  </a:lnTo>
                  <a:lnTo>
                    <a:pt x="466" y="347"/>
                  </a:lnTo>
                  <a:lnTo>
                    <a:pt x="495" y="372"/>
                  </a:lnTo>
                  <a:lnTo>
                    <a:pt x="495" y="386"/>
                  </a:lnTo>
                  <a:lnTo>
                    <a:pt x="510" y="386"/>
                  </a:lnTo>
                  <a:lnTo>
                    <a:pt x="523" y="386"/>
                  </a:lnTo>
                  <a:lnTo>
                    <a:pt x="538" y="386"/>
                  </a:lnTo>
                  <a:lnTo>
                    <a:pt x="553" y="386"/>
                  </a:lnTo>
                  <a:lnTo>
                    <a:pt x="582" y="386"/>
                  </a:lnTo>
                  <a:lnTo>
                    <a:pt x="567" y="386"/>
                  </a:lnTo>
                  <a:lnTo>
                    <a:pt x="582" y="386"/>
                  </a:lnTo>
                  <a:lnTo>
                    <a:pt x="597" y="386"/>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7" name=""/>
          <p:cNvSpPr/>
          <p:nvPr/>
        </p:nvSpPr>
        <p:spPr>
          <a:xfrm>
            <a:off x="595440" y="3108240"/>
            <a:ext cx="1266840" cy="547920"/>
          </a:xfrm>
          <a:custGeom>
            <a:avLst/>
            <a:gdLst/>
            <a:ahLst/>
            <a:rect l="l" t="t" r="r" b="b"/>
            <a:pathLst>
              <a:path w="1207" h="691">
                <a:moveTo>
                  <a:pt x="0" y="691"/>
                </a:moveTo>
                <a:lnTo>
                  <a:pt x="15" y="691"/>
                </a:lnTo>
                <a:lnTo>
                  <a:pt x="29" y="574"/>
                </a:lnTo>
                <a:lnTo>
                  <a:pt x="29" y="589"/>
                </a:lnTo>
                <a:lnTo>
                  <a:pt x="29" y="574"/>
                </a:lnTo>
                <a:lnTo>
                  <a:pt x="44" y="589"/>
                </a:lnTo>
                <a:lnTo>
                  <a:pt x="44" y="691"/>
                </a:lnTo>
                <a:lnTo>
                  <a:pt x="44" y="604"/>
                </a:lnTo>
                <a:lnTo>
                  <a:pt x="59" y="559"/>
                </a:lnTo>
                <a:lnTo>
                  <a:pt x="59" y="163"/>
                </a:lnTo>
                <a:lnTo>
                  <a:pt x="72" y="104"/>
                </a:lnTo>
                <a:lnTo>
                  <a:pt x="72" y="0"/>
                </a:lnTo>
                <a:lnTo>
                  <a:pt x="72" y="45"/>
                </a:lnTo>
                <a:lnTo>
                  <a:pt x="87" y="89"/>
                </a:lnTo>
                <a:lnTo>
                  <a:pt x="87" y="677"/>
                </a:lnTo>
                <a:lnTo>
                  <a:pt x="102" y="604"/>
                </a:lnTo>
                <a:lnTo>
                  <a:pt x="102" y="74"/>
                </a:lnTo>
                <a:lnTo>
                  <a:pt x="117" y="30"/>
                </a:lnTo>
                <a:lnTo>
                  <a:pt x="117" y="0"/>
                </a:lnTo>
                <a:lnTo>
                  <a:pt x="117" y="59"/>
                </a:lnTo>
                <a:lnTo>
                  <a:pt x="131" y="89"/>
                </a:lnTo>
                <a:lnTo>
                  <a:pt x="131" y="353"/>
                </a:lnTo>
                <a:lnTo>
                  <a:pt x="146" y="383"/>
                </a:lnTo>
                <a:lnTo>
                  <a:pt x="146" y="544"/>
                </a:lnTo>
                <a:lnTo>
                  <a:pt x="161" y="559"/>
                </a:lnTo>
                <a:lnTo>
                  <a:pt x="174" y="544"/>
                </a:lnTo>
                <a:lnTo>
                  <a:pt x="189" y="544"/>
                </a:lnTo>
                <a:lnTo>
                  <a:pt x="204" y="559"/>
                </a:lnTo>
                <a:lnTo>
                  <a:pt x="204" y="604"/>
                </a:lnTo>
                <a:lnTo>
                  <a:pt x="218" y="617"/>
                </a:lnTo>
                <a:lnTo>
                  <a:pt x="218" y="691"/>
                </a:lnTo>
                <a:lnTo>
                  <a:pt x="218" y="647"/>
                </a:lnTo>
                <a:lnTo>
                  <a:pt x="233" y="632"/>
                </a:lnTo>
                <a:lnTo>
                  <a:pt x="233" y="485"/>
                </a:lnTo>
                <a:lnTo>
                  <a:pt x="248" y="472"/>
                </a:lnTo>
                <a:lnTo>
                  <a:pt x="248" y="427"/>
                </a:lnTo>
                <a:lnTo>
                  <a:pt x="261" y="442"/>
                </a:lnTo>
                <a:lnTo>
                  <a:pt x="261" y="472"/>
                </a:lnTo>
                <a:lnTo>
                  <a:pt x="276" y="485"/>
                </a:lnTo>
                <a:lnTo>
                  <a:pt x="276" y="544"/>
                </a:lnTo>
                <a:lnTo>
                  <a:pt x="291" y="559"/>
                </a:lnTo>
                <a:lnTo>
                  <a:pt x="291" y="617"/>
                </a:lnTo>
                <a:lnTo>
                  <a:pt x="305" y="632"/>
                </a:lnTo>
                <a:lnTo>
                  <a:pt x="305" y="662"/>
                </a:lnTo>
                <a:lnTo>
                  <a:pt x="320" y="677"/>
                </a:lnTo>
                <a:lnTo>
                  <a:pt x="335" y="691"/>
                </a:lnTo>
                <a:lnTo>
                  <a:pt x="350" y="677"/>
                </a:lnTo>
                <a:lnTo>
                  <a:pt x="363" y="677"/>
                </a:lnTo>
                <a:lnTo>
                  <a:pt x="378" y="691"/>
                </a:lnTo>
                <a:lnTo>
                  <a:pt x="393" y="677"/>
                </a:lnTo>
                <a:lnTo>
                  <a:pt x="407" y="677"/>
                </a:lnTo>
                <a:lnTo>
                  <a:pt x="422" y="677"/>
                </a:lnTo>
                <a:lnTo>
                  <a:pt x="437" y="677"/>
                </a:lnTo>
                <a:lnTo>
                  <a:pt x="450" y="677"/>
                </a:lnTo>
                <a:lnTo>
                  <a:pt x="465" y="677"/>
                </a:lnTo>
                <a:lnTo>
                  <a:pt x="480" y="677"/>
                </a:lnTo>
                <a:lnTo>
                  <a:pt x="494" y="691"/>
                </a:lnTo>
                <a:lnTo>
                  <a:pt x="509" y="691"/>
                </a:lnTo>
                <a:lnTo>
                  <a:pt x="524" y="691"/>
                </a:lnTo>
                <a:lnTo>
                  <a:pt x="537" y="691"/>
                </a:lnTo>
                <a:lnTo>
                  <a:pt x="552" y="691"/>
                </a:lnTo>
                <a:lnTo>
                  <a:pt x="567" y="691"/>
                </a:lnTo>
                <a:lnTo>
                  <a:pt x="582" y="691"/>
                </a:lnTo>
                <a:lnTo>
                  <a:pt x="596" y="691"/>
                </a:lnTo>
                <a:lnTo>
                  <a:pt x="611" y="691"/>
                </a:lnTo>
                <a:lnTo>
                  <a:pt x="626" y="691"/>
                </a:lnTo>
                <a:lnTo>
                  <a:pt x="639" y="691"/>
                </a:lnTo>
                <a:lnTo>
                  <a:pt x="655" y="677"/>
                </a:lnTo>
                <a:lnTo>
                  <a:pt x="670" y="677"/>
                </a:lnTo>
                <a:lnTo>
                  <a:pt x="683" y="677"/>
                </a:lnTo>
                <a:lnTo>
                  <a:pt x="698" y="691"/>
                </a:lnTo>
                <a:lnTo>
                  <a:pt x="713" y="677"/>
                </a:lnTo>
                <a:lnTo>
                  <a:pt x="713" y="617"/>
                </a:lnTo>
                <a:lnTo>
                  <a:pt x="727" y="604"/>
                </a:lnTo>
                <a:lnTo>
                  <a:pt x="727" y="574"/>
                </a:lnTo>
                <a:lnTo>
                  <a:pt x="727" y="604"/>
                </a:lnTo>
                <a:lnTo>
                  <a:pt x="742" y="632"/>
                </a:lnTo>
                <a:lnTo>
                  <a:pt x="742" y="677"/>
                </a:lnTo>
                <a:lnTo>
                  <a:pt x="742" y="485"/>
                </a:lnTo>
                <a:lnTo>
                  <a:pt x="757" y="427"/>
                </a:lnTo>
                <a:lnTo>
                  <a:pt x="757" y="45"/>
                </a:lnTo>
                <a:lnTo>
                  <a:pt x="772" y="15"/>
                </a:lnTo>
                <a:lnTo>
                  <a:pt x="772" y="0"/>
                </a:lnTo>
                <a:lnTo>
                  <a:pt x="772" y="221"/>
                </a:lnTo>
                <a:lnTo>
                  <a:pt x="785" y="295"/>
                </a:lnTo>
                <a:lnTo>
                  <a:pt x="785" y="662"/>
                </a:lnTo>
                <a:lnTo>
                  <a:pt x="785" y="472"/>
                </a:lnTo>
                <a:lnTo>
                  <a:pt x="800" y="383"/>
                </a:lnTo>
                <a:lnTo>
                  <a:pt x="800" y="0"/>
                </a:lnTo>
                <a:lnTo>
                  <a:pt x="815" y="15"/>
                </a:lnTo>
                <a:lnTo>
                  <a:pt x="815" y="163"/>
                </a:lnTo>
                <a:lnTo>
                  <a:pt x="829" y="206"/>
                </a:lnTo>
                <a:lnTo>
                  <a:pt x="829" y="457"/>
                </a:lnTo>
                <a:lnTo>
                  <a:pt x="844" y="472"/>
                </a:lnTo>
                <a:lnTo>
                  <a:pt x="844" y="559"/>
                </a:lnTo>
                <a:lnTo>
                  <a:pt x="859" y="559"/>
                </a:lnTo>
                <a:lnTo>
                  <a:pt x="872" y="544"/>
                </a:lnTo>
                <a:lnTo>
                  <a:pt x="887" y="559"/>
                </a:lnTo>
                <a:lnTo>
                  <a:pt x="902" y="574"/>
                </a:lnTo>
                <a:lnTo>
                  <a:pt x="902" y="632"/>
                </a:lnTo>
                <a:lnTo>
                  <a:pt x="916" y="647"/>
                </a:lnTo>
                <a:lnTo>
                  <a:pt x="916" y="677"/>
                </a:lnTo>
                <a:lnTo>
                  <a:pt x="916" y="604"/>
                </a:lnTo>
                <a:lnTo>
                  <a:pt x="931" y="574"/>
                </a:lnTo>
                <a:lnTo>
                  <a:pt x="931" y="485"/>
                </a:lnTo>
                <a:lnTo>
                  <a:pt x="946" y="472"/>
                </a:lnTo>
                <a:lnTo>
                  <a:pt x="946" y="442"/>
                </a:lnTo>
                <a:lnTo>
                  <a:pt x="959" y="457"/>
                </a:lnTo>
                <a:lnTo>
                  <a:pt x="959" y="500"/>
                </a:lnTo>
                <a:lnTo>
                  <a:pt x="974" y="515"/>
                </a:lnTo>
                <a:lnTo>
                  <a:pt x="974" y="574"/>
                </a:lnTo>
                <a:lnTo>
                  <a:pt x="989" y="589"/>
                </a:lnTo>
                <a:lnTo>
                  <a:pt x="989" y="632"/>
                </a:lnTo>
                <a:lnTo>
                  <a:pt x="1018" y="662"/>
                </a:lnTo>
                <a:lnTo>
                  <a:pt x="1018" y="677"/>
                </a:lnTo>
                <a:lnTo>
                  <a:pt x="1033" y="691"/>
                </a:lnTo>
                <a:lnTo>
                  <a:pt x="1048" y="677"/>
                </a:lnTo>
                <a:lnTo>
                  <a:pt x="1061" y="691"/>
                </a:lnTo>
                <a:lnTo>
                  <a:pt x="1076" y="691"/>
                </a:lnTo>
                <a:lnTo>
                  <a:pt x="1091" y="677"/>
                </a:lnTo>
                <a:lnTo>
                  <a:pt x="1105" y="677"/>
                </a:lnTo>
                <a:lnTo>
                  <a:pt x="1120" y="677"/>
                </a:lnTo>
                <a:lnTo>
                  <a:pt x="1135" y="677"/>
                </a:lnTo>
                <a:lnTo>
                  <a:pt x="1148" y="677"/>
                </a:lnTo>
                <a:lnTo>
                  <a:pt x="1163" y="677"/>
                </a:lnTo>
                <a:lnTo>
                  <a:pt x="1178" y="677"/>
                </a:lnTo>
                <a:lnTo>
                  <a:pt x="1192" y="677"/>
                </a:lnTo>
                <a:lnTo>
                  <a:pt x="1207" y="691"/>
                </a:lnTo>
              </a:path>
            </a:pathLst>
          </a:custGeom>
          <a:noFill/>
          <a:ln w="20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1862280" y="3086280"/>
            <a:ext cx="1266840" cy="569880"/>
          </a:xfrm>
          <a:custGeom>
            <a:avLst/>
            <a:gdLst/>
            <a:ahLst/>
            <a:rect l="l" t="t" r="r" b="b"/>
            <a:pathLst>
              <a:path w="1207" h="719">
                <a:moveTo>
                  <a:pt x="0" y="719"/>
                </a:moveTo>
                <a:lnTo>
                  <a:pt x="15" y="719"/>
                </a:lnTo>
                <a:lnTo>
                  <a:pt x="30" y="719"/>
                </a:lnTo>
                <a:lnTo>
                  <a:pt x="43" y="719"/>
                </a:lnTo>
                <a:lnTo>
                  <a:pt x="58" y="719"/>
                </a:lnTo>
                <a:lnTo>
                  <a:pt x="73" y="719"/>
                </a:lnTo>
                <a:lnTo>
                  <a:pt x="87" y="719"/>
                </a:lnTo>
                <a:lnTo>
                  <a:pt x="102" y="705"/>
                </a:lnTo>
                <a:lnTo>
                  <a:pt x="117" y="719"/>
                </a:lnTo>
                <a:lnTo>
                  <a:pt x="131" y="705"/>
                </a:lnTo>
                <a:lnTo>
                  <a:pt x="146" y="705"/>
                </a:lnTo>
                <a:lnTo>
                  <a:pt x="161" y="705"/>
                </a:lnTo>
                <a:lnTo>
                  <a:pt x="174" y="719"/>
                </a:lnTo>
                <a:lnTo>
                  <a:pt x="189" y="705"/>
                </a:lnTo>
                <a:lnTo>
                  <a:pt x="189" y="690"/>
                </a:lnTo>
                <a:lnTo>
                  <a:pt x="204" y="675"/>
                </a:lnTo>
                <a:lnTo>
                  <a:pt x="204" y="602"/>
                </a:lnTo>
                <a:lnTo>
                  <a:pt x="218" y="617"/>
                </a:lnTo>
                <a:lnTo>
                  <a:pt x="218" y="705"/>
                </a:lnTo>
                <a:lnTo>
                  <a:pt x="218" y="660"/>
                </a:lnTo>
                <a:lnTo>
                  <a:pt x="233" y="617"/>
                </a:lnTo>
                <a:lnTo>
                  <a:pt x="233" y="221"/>
                </a:lnTo>
                <a:lnTo>
                  <a:pt x="248" y="162"/>
                </a:lnTo>
                <a:lnTo>
                  <a:pt x="248" y="15"/>
                </a:lnTo>
                <a:lnTo>
                  <a:pt x="248" y="73"/>
                </a:lnTo>
                <a:lnTo>
                  <a:pt x="263" y="117"/>
                </a:lnTo>
                <a:lnTo>
                  <a:pt x="263" y="645"/>
                </a:lnTo>
                <a:lnTo>
                  <a:pt x="276" y="705"/>
                </a:lnTo>
                <a:lnTo>
                  <a:pt x="276" y="103"/>
                </a:lnTo>
                <a:lnTo>
                  <a:pt x="291" y="58"/>
                </a:lnTo>
                <a:lnTo>
                  <a:pt x="291" y="0"/>
                </a:lnTo>
                <a:lnTo>
                  <a:pt x="291" y="73"/>
                </a:lnTo>
                <a:lnTo>
                  <a:pt x="306" y="103"/>
                </a:lnTo>
                <a:lnTo>
                  <a:pt x="306" y="368"/>
                </a:lnTo>
                <a:lnTo>
                  <a:pt x="320" y="411"/>
                </a:lnTo>
                <a:lnTo>
                  <a:pt x="320" y="558"/>
                </a:lnTo>
                <a:lnTo>
                  <a:pt x="350" y="587"/>
                </a:lnTo>
                <a:lnTo>
                  <a:pt x="335" y="587"/>
                </a:lnTo>
                <a:lnTo>
                  <a:pt x="350" y="573"/>
                </a:lnTo>
                <a:lnTo>
                  <a:pt x="363" y="558"/>
                </a:lnTo>
                <a:lnTo>
                  <a:pt x="378" y="573"/>
                </a:lnTo>
                <a:lnTo>
                  <a:pt x="378" y="617"/>
                </a:lnTo>
                <a:lnTo>
                  <a:pt x="393" y="632"/>
                </a:lnTo>
                <a:lnTo>
                  <a:pt x="393" y="719"/>
                </a:lnTo>
                <a:lnTo>
                  <a:pt x="393" y="690"/>
                </a:lnTo>
                <a:lnTo>
                  <a:pt x="407" y="675"/>
                </a:lnTo>
                <a:lnTo>
                  <a:pt x="407" y="528"/>
                </a:lnTo>
                <a:lnTo>
                  <a:pt x="422" y="513"/>
                </a:lnTo>
                <a:lnTo>
                  <a:pt x="422" y="441"/>
                </a:lnTo>
                <a:lnTo>
                  <a:pt x="437" y="455"/>
                </a:lnTo>
                <a:lnTo>
                  <a:pt x="437" y="470"/>
                </a:lnTo>
                <a:lnTo>
                  <a:pt x="452" y="485"/>
                </a:lnTo>
                <a:lnTo>
                  <a:pt x="452" y="558"/>
                </a:lnTo>
                <a:lnTo>
                  <a:pt x="465" y="573"/>
                </a:lnTo>
                <a:lnTo>
                  <a:pt x="465" y="645"/>
                </a:lnTo>
                <a:lnTo>
                  <a:pt x="480" y="660"/>
                </a:lnTo>
                <a:lnTo>
                  <a:pt x="480" y="690"/>
                </a:lnTo>
                <a:lnTo>
                  <a:pt x="495" y="705"/>
                </a:lnTo>
                <a:lnTo>
                  <a:pt x="509" y="719"/>
                </a:lnTo>
                <a:lnTo>
                  <a:pt x="524" y="705"/>
                </a:lnTo>
                <a:lnTo>
                  <a:pt x="539" y="705"/>
                </a:lnTo>
                <a:lnTo>
                  <a:pt x="552" y="719"/>
                </a:lnTo>
                <a:lnTo>
                  <a:pt x="567" y="705"/>
                </a:lnTo>
                <a:lnTo>
                  <a:pt x="582" y="705"/>
                </a:lnTo>
                <a:lnTo>
                  <a:pt x="596" y="690"/>
                </a:lnTo>
                <a:lnTo>
                  <a:pt x="611" y="705"/>
                </a:lnTo>
                <a:lnTo>
                  <a:pt x="626" y="705"/>
                </a:lnTo>
                <a:lnTo>
                  <a:pt x="639" y="705"/>
                </a:lnTo>
                <a:lnTo>
                  <a:pt x="654" y="705"/>
                </a:lnTo>
                <a:lnTo>
                  <a:pt x="669" y="705"/>
                </a:lnTo>
                <a:lnTo>
                  <a:pt x="684" y="719"/>
                </a:lnTo>
                <a:lnTo>
                  <a:pt x="698" y="719"/>
                </a:lnTo>
                <a:lnTo>
                  <a:pt x="713" y="719"/>
                </a:lnTo>
                <a:lnTo>
                  <a:pt x="728" y="719"/>
                </a:lnTo>
                <a:lnTo>
                  <a:pt x="741" y="719"/>
                </a:lnTo>
                <a:lnTo>
                  <a:pt x="756" y="719"/>
                </a:lnTo>
                <a:lnTo>
                  <a:pt x="771" y="719"/>
                </a:lnTo>
                <a:lnTo>
                  <a:pt x="785" y="719"/>
                </a:lnTo>
                <a:lnTo>
                  <a:pt x="800" y="705"/>
                </a:lnTo>
                <a:lnTo>
                  <a:pt x="815" y="705"/>
                </a:lnTo>
                <a:lnTo>
                  <a:pt x="829" y="719"/>
                </a:lnTo>
                <a:lnTo>
                  <a:pt x="844" y="705"/>
                </a:lnTo>
                <a:lnTo>
                  <a:pt x="859" y="705"/>
                </a:lnTo>
                <a:lnTo>
                  <a:pt x="872" y="719"/>
                </a:lnTo>
                <a:lnTo>
                  <a:pt x="887" y="705"/>
                </a:lnTo>
                <a:lnTo>
                  <a:pt x="887" y="675"/>
                </a:lnTo>
                <a:lnTo>
                  <a:pt x="902" y="660"/>
                </a:lnTo>
                <a:lnTo>
                  <a:pt x="902" y="617"/>
                </a:lnTo>
                <a:lnTo>
                  <a:pt x="917" y="632"/>
                </a:lnTo>
                <a:lnTo>
                  <a:pt x="917" y="719"/>
                </a:lnTo>
                <a:lnTo>
                  <a:pt x="917" y="632"/>
                </a:lnTo>
                <a:lnTo>
                  <a:pt x="931" y="587"/>
                </a:lnTo>
                <a:lnTo>
                  <a:pt x="931" y="117"/>
                </a:lnTo>
                <a:lnTo>
                  <a:pt x="946" y="73"/>
                </a:lnTo>
                <a:lnTo>
                  <a:pt x="946" y="0"/>
                </a:lnTo>
                <a:lnTo>
                  <a:pt x="946" y="73"/>
                </a:lnTo>
                <a:lnTo>
                  <a:pt x="961" y="117"/>
                </a:lnTo>
                <a:lnTo>
                  <a:pt x="961" y="675"/>
                </a:lnTo>
                <a:lnTo>
                  <a:pt x="974" y="660"/>
                </a:lnTo>
                <a:lnTo>
                  <a:pt x="974" y="45"/>
                </a:lnTo>
                <a:lnTo>
                  <a:pt x="989" y="15"/>
                </a:lnTo>
                <a:lnTo>
                  <a:pt x="989" y="0"/>
                </a:lnTo>
                <a:lnTo>
                  <a:pt x="989" y="73"/>
                </a:lnTo>
                <a:lnTo>
                  <a:pt x="1004" y="117"/>
                </a:lnTo>
                <a:lnTo>
                  <a:pt x="1004" y="396"/>
                </a:lnTo>
                <a:lnTo>
                  <a:pt x="1018" y="426"/>
                </a:lnTo>
                <a:lnTo>
                  <a:pt x="1018" y="573"/>
                </a:lnTo>
                <a:lnTo>
                  <a:pt x="1033" y="587"/>
                </a:lnTo>
                <a:lnTo>
                  <a:pt x="1048" y="573"/>
                </a:lnTo>
                <a:lnTo>
                  <a:pt x="1076" y="573"/>
                </a:lnTo>
                <a:lnTo>
                  <a:pt x="1076" y="632"/>
                </a:lnTo>
                <a:lnTo>
                  <a:pt x="1091" y="645"/>
                </a:lnTo>
                <a:lnTo>
                  <a:pt x="1091" y="719"/>
                </a:lnTo>
                <a:lnTo>
                  <a:pt x="1091" y="675"/>
                </a:lnTo>
                <a:lnTo>
                  <a:pt x="1106" y="660"/>
                </a:lnTo>
                <a:lnTo>
                  <a:pt x="1106" y="528"/>
                </a:lnTo>
                <a:lnTo>
                  <a:pt x="1120" y="513"/>
                </a:lnTo>
                <a:lnTo>
                  <a:pt x="1120" y="441"/>
                </a:lnTo>
                <a:lnTo>
                  <a:pt x="1135" y="455"/>
                </a:lnTo>
                <a:lnTo>
                  <a:pt x="1135" y="485"/>
                </a:lnTo>
                <a:lnTo>
                  <a:pt x="1150" y="500"/>
                </a:lnTo>
                <a:lnTo>
                  <a:pt x="1150" y="573"/>
                </a:lnTo>
                <a:lnTo>
                  <a:pt x="1163" y="587"/>
                </a:lnTo>
                <a:lnTo>
                  <a:pt x="1163" y="645"/>
                </a:lnTo>
                <a:lnTo>
                  <a:pt x="1178" y="660"/>
                </a:lnTo>
                <a:lnTo>
                  <a:pt x="1178" y="690"/>
                </a:lnTo>
                <a:lnTo>
                  <a:pt x="1193" y="705"/>
                </a:lnTo>
                <a:lnTo>
                  <a:pt x="1207" y="719"/>
                </a:lnTo>
              </a:path>
            </a:pathLst>
          </a:custGeom>
          <a:noFill/>
          <a:ln w="20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3129120" y="3108240"/>
            <a:ext cx="1608120" cy="547920"/>
          </a:xfrm>
          <a:custGeom>
            <a:avLst/>
            <a:gdLst/>
            <a:ahLst/>
            <a:rect l="l" t="t" r="r" b="b"/>
            <a:pathLst>
              <a:path w="1529" h="691">
                <a:moveTo>
                  <a:pt x="0" y="691"/>
                </a:moveTo>
                <a:lnTo>
                  <a:pt x="15" y="677"/>
                </a:lnTo>
                <a:lnTo>
                  <a:pt x="30" y="677"/>
                </a:lnTo>
                <a:lnTo>
                  <a:pt x="43" y="691"/>
                </a:lnTo>
                <a:lnTo>
                  <a:pt x="58" y="691"/>
                </a:lnTo>
                <a:lnTo>
                  <a:pt x="73" y="677"/>
                </a:lnTo>
                <a:lnTo>
                  <a:pt x="87" y="677"/>
                </a:lnTo>
                <a:lnTo>
                  <a:pt x="102" y="677"/>
                </a:lnTo>
                <a:lnTo>
                  <a:pt x="117" y="677"/>
                </a:lnTo>
                <a:lnTo>
                  <a:pt x="132" y="677"/>
                </a:lnTo>
                <a:lnTo>
                  <a:pt x="145" y="691"/>
                </a:lnTo>
                <a:lnTo>
                  <a:pt x="160" y="691"/>
                </a:lnTo>
                <a:lnTo>
                  <a:pt x="175" y="691"/>
                </a:lnTo>
                <a:lnTo>
                  <a:pt x="189" y="691"/>
                </a:lnTo>
                <a:lnTo>
                  <a:pt x="204" y="691"/>
                </a:lnTo>
                <a:lnTo>
                  <a:pt x="219" y="691"/>
                </a:lnTo>
                <a:lnTo>
                  <a:pt x="232" y="691"/>
                </a:lnTo>
                <a:lnTo>
                  <a:pt x="247" y="677"/>
                </a:lnTo>
                <a:lnTo>
                  <a:pt x="262" y="691"/>
                </a:lnTo>
                <a:lnTo>
                  <a:pt x="276" y="691"/>
                </a:lnTo>
                <a:lnTo>
                  <a:pt x="291" y="691"/>
                </a:lnTo>
                <a:lnTo>
                  <a:pt x="306" y="691"/>
                </a:lnTo>
                <a:lnTo>
                  <a:pt x="321" y="677"/>
                </a:lnTo>
                <a:lnTo>
                  <a:pt x="335" y="662"/>
                </a:lnTo>
                <a:lnTo>
                  <a:pt x="350" y="677"/>
                </a:lnTo>
                <a:lnTo>
                  <a:pt x="365" y="691"/>
                </a:lnTo>
                <a:lnTo>
                  <a:pt x="378" y="677"/>
                </a:lnTo>
                <a:lnTo>
                  <a:pt x="378" y="632"/>
                </a:lnTo>
                <a:lnTo>
                  <a:pt x="393" y="617"/>
                </a:lnTo>
                <a:lnTo>
                  <a:pt x="393" y="574"/>
                </a:lnTo>
                <a:lnTo>
                  <a:pt x="408" y="589"/>
                </a:lnTo>
                <a:lnTo>
                  <a:pt x="408" y="677"/>
                </a:lnTo>
                <a:lnTo>
                  <a:pt x="408" y="559"/>
                </a:lnTo>
                <a:lnTo>
                  <a:pt x="422" y="500"/>
                </a:lnTo>
                <a:lnTo>
                  <a:pt x="422" y="104"/>
                </a:lnTo>
                <a:lnTo>
                  <a:pt x="437" y="59"/>
                </a:lnTo>
                <a:lnTo>
                  <a:pt x="437" y="0"/>
                </a:lnTo>
                <a:lnTo>
                  <a:pt x="437" y="104"/>
                </a:lnTo>
                <a:lnTo>
                  <a:pt x="452" y="163"/>
                </a:lnTo>
                <a:lnTo>
                  <a:pt x="452" y="662"/>
                </a:lnTo>
                <a:lnTo>
                  <a:pt x="452" y="574"/>
                </a:lnTo>
                <a:lnTo>
                  <a:pt x="465" y="472"/>
                </a:lnTo>
                <a:lnTo>
                  <a:pt x="465" y="30"/>
                </a:lnTo>
                <a:lnTo>
                  <a:pt x="480" y="15"/>
                </a:lnTo>
                <a:lnTo>
                  <a:pt x="480" y="0"/>
                </a:lnTo>
                <a:lnTo>
                  <a:pt x="480" y="104"/>
                </a:lnTo>
                <a:lnTo>
                  <a:pt x="495" y="133"/>
                </a:lnTo>
                <a:lnTo>
                  <a:pt x="495" y="427"/>
                </a:lnTo>
                <a:lnTo>
                  <a:pt x="510" y="457"/>
                </a:lnTo>
                <a:lnTo>
                  <a:pt x="510" y="559"/>
                </a:lnTo>
                <a:lnTo>
                  <a:pt x="524" y="559"/>
                </a:lnTo>
                <a:lnTo>
                  <a:pt x="539" y="544"/>
                </a:lnTo>
                <a:lnTo>
                  <a:pt x="554" y="544"/>
                </a:lnTo>
                <a:lnTo>
                  <a:pt x="567" y="574"/>
                </a:lnTo>
                <a:lnTo>
                  <a:pt x="567" y="617"/>
                </a:lnTo>
                <a:lnTo>
                  <a:pt x="582" y="632"/>
                </a:lnTo>
                <a:lnTo>
                  <a:pt x="582" y="691"/>
                </a:lnTo>
                <a:lnTo>
                  <a:pt x="582" y="632"/>
                </a:lnTo>
                <a:lnTo>
                  <a:pt x="597" y="617"/>
                </a:lnTo>
                <a:lnTo>
                  <a:pt x="597" y="472"/>
                </a:lnTo>
                <a:lnTo>
                  <a:pt x="611" y="457"/>
                </a:lnTo>
                <a:lnTo>
                  <a:pt x="611" y="427"/>
                </a:lnTo>
                <a:lnTo>
                  <a:pt x="626" y="442"/>
                </a:lnTo>
                <a:lnTo>
                  <a:pt x="626" y="485"/>
                </a:lnTo>
                <a:lnTo>
                  <a:pt x="641" y="500"/>
                </a:lnTo>
                <a:lnTo>
                  <a:pt x="641" y="574"/>
                </a:lnTo>
                <a:lnTo>
                  <a:pt x="656" y="589"/>
                </a:lnTo>
                <a:lnTo>
                  <a:pt x="656" y="632"/>
                </a:lnTo>
                <a:lnTo>
                  <a:pt x="686" y="662"/>
                </a:lnTo>
                <a:lnTo>
                  <a:pt x="686" y="677"/>
                </a:lnTo>
                <a:lnTo>
                  <a:pt x="699" y="691"/>
                </a:lnTo>
                <a:lnTo>
                  <a:pt x="714" y="691"/>
                </a:lnTo>
                <a:lnTo>
                  <a:pt x="729" y="677"/>
                </a:lnTo>
                <a:lnTo>
                  <a:pt x="743" y="691"/>
                </a:lnTo>
                <a:lnTo>
                  <a:pt x="758" y="677"/>
                </a:lnTo>
                <a:lnTo>
                  <a:pt x="773" y="677"/>
                </a:lnTo>
                <a:lnTo>
                  <a:pt x="786" y="677"/>
                </a:lnTo>
                <a:lnTo>
                  <a:pt x="801" y="677"/>
                </a:lnTo>
                <a:lnTo>
                  <a:pt x="816" y="677"/>
                </a:lnTo>
                <a:lnTo>
                  <a:pt x="830" y="691"/>
                </a:lnTo>
                <a:lnTo>
                  <a:pt x="845" y="691"/>
                </a:lnTo>
                <a:lnTo>
                  <a:pt x="860" y="691"/>
                </a:lnTo>
                <a:lnTo>
                  <a:pt x="875" y="691"/>
                </a:lnTo>
                <a:lnTo>
                  <a:pt x="888" y="691"/>
                </a:lnTo>
                <a:lnTo>
                  <a:pt x="903" y="691"/>
                </a:lnTo>
                <a:lnTo>
                  <a:pt x="918" y="691"/>
                </a:lnTo>
                <a:lnTo>
                  <a:pt x="932" y="691"/>
                </a:lnTo>
                <a:lnTo>
                  <a:pt x="947" y="691"/>
                </a:lnTo>
                <a:lnTo>
                  <a:pt x="962" y="691"/>
                </a:lnTo>
                <a:lnTo>
                  <a:pt x="976" y="691"/>
                </a:lnTo>
                <a:lnTo>
                  <a:pt x="991" y="691"/>
                </a:lnTo>
                <a:lnTo>
                  <a:pt x="1006" y="691"/>
                </a:lnTo>
                <a:lnTo>
                  <a:pt x="1019" y="691"/>
                </a:lnTo>
                <a:lnTo>
                  <a:pt x="1034" y="691"/>
                </a:lnTo>
                <a:lnTo>
                  <a:pt x="1049" y="691"/>
                </a:lnTo>
                <a:lnTo>
                  <a:pt x="1064" y="691"/>
                </a:lnTo>
                <a:lnTo>
                  <a:pt x="1078" y="691"/>
                </a:lnTo>
                <a:lnTo>
                  <a:pt x="1093" y="691"/>
                </a:lnTo>
                <a:lnTo>
                  <a:pt x="1108" y="691"/>
                </a:lnTo>
                <a:lnTo>
                  <a:pt x="1121" y="691"/>
                </a:lnTo>
                <a:lnTo>
                  <a:pt x="1136" y="691"/>
                </a:lnTo>
                <a:lnTo>
                  <a:pt x="1151" y="691"/>
                </a:lnTo>
                <a:lnTo>
                  <a:pt x="1165" y="691"/>
                </a:lnTo>
                <a:lnTo>
                  <a:pt x="1180" y="691"/>
                </a:lnTo>
                <a:lnTo>
                  <a:pt x="1195" y="691"/>
                </a:lnTo>
                <a:lnTo>
                  <a:pt x="1208" y="691"/>
                </a:lnTo>
                <a:lnTo>
                  <a:pt x="1223" y="691"/>
                </a:lnTo>
                <a:lnTo>
                  <a:pt x="1238" y="691"/>
                </a:lnTo>
                <a:lnTo>
                  <a:pt x="1253" y="691"/>
                </a:lnTo>
                <a:lnTo>
                  <a:pt x="1267" y="691"/>
                </a:lnTo>
                <a:lnTo>
                  <a:pt x="1282" y="691"/>
                </a:lnTo>
                <a:lnTo>
                  <a:pt x="1297" y="691"/>
                </a:lnTo>
                <a:lnTo>
                  <a:pt x="1310" y="691"/>
                </a:lnTo>
                <a:lnTo>
                  <a:pt x="1325" y="691"/>
                </a:lnTo>
                <a:lnTo>
                  <a:pt x="1340" y="691"/>
                </a:lnTo>
                <a:lnTo>
                  <a:pt x="1354" y="691"/>
                </a:lnTo>
                <a:lnTo>
                  <a:pt x="1369" y="691"/>
                </a:lnTo>
                <a:lnTo>
                  <a:pt x="1384" y="691"/>
                </a:lnTo>
                <a:lnTo>
                  <a:pt x="1397" y="691"/>
                </a:lnTo>
                <a:lnTo>
                  <a:pt x="1412" y="691"/>
                </a:lnTo>
                <a:lnTo>
                  <a:pt x="1427" y="691"/>
                </a:lnTo>
                <a:lnTo>
                  <a:pt x="1442" y="691"/>
                </a:lnTo>
                <a:lnTo>
                  <a:pt x="1456" y="691"/>
                </a:lnTo>
                <a:lnTo>
                  <a:pt x="1471" y="691"/>
                </a:lnTo>
                <a:lnTo>
                  <a:pt x="1486" y="691"/>
                </a:lnTo>
                <a:lnTo>
                  <a:pt x="1499" y="691"/>
                </a:lnTo>
                <a:lnTo>
                  <a:pt x="1514" y="691"/>
                </a:lnTo>
                <a:lnTo>
                  <a:pt x="1529" y="691"/>
                </a:lnTo>
              </a:path>
            </a:pathLst>
          </a:custGeom>
          <a:noFill/>
          <a:ln w="20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4737240" y="3108240"/>
            <a:ext cx="1388880" cy="547920"/>
          </a:xfrm>
          <a:custGeom>
            <a:avLst/>
            <a:gdLst/>
            <a:ahLst/>
            <a:rect l="l" t="t" r="r" b="b"/>
            <a:pathLst>
              <a:path w="1323" h="691">
                <a:moveTo>
                  <a:pt x="0" y="691"/>
                </a:moveTo>
                <a:lnTo>
                  <a:pt x="14" y="691"/>
                </a:lnTo>
                <a:lnTo>
                  <a:pt x="29" y="691"/>
                </a:lnTo>
                <a:lnTo>
                  <a:pt x="44" y="691"/>
                </a:lnTo>
                <a:lnTo>
                  <a:pt x="57" y="691"/>
                </a:lnTo>
                <a:lnTo>
                  <a:pt x="72" y="691"/>
                </a:lnTo>
                <a:lnTo>
                  <a:pt x="87" y="691"/>
                </a:lnTo>
                <a:lnTo>
                  <a:pt x="101" y="691"/>
                </a:lnTo>
                <a:lnTo>
                  <a:pt x="116" y="691"/>
                </a:lnTo>
                <a:lnTo>
                  <a:pt x="131" y="691"/>
                </a:lnTo>
                <a:lnTo>
                  <a:pt x="146" y="691"/>
                </a:lnTo>
                <a:lnTo>
                  <a:pt x="160" y="691"/>
                </a:lnTo>
                <a:lnTo>
                  <a:pt x="175" y="691"/>
                </a:lnTo>
                <a:lnTo>
                  <a:pt x="190" y="691"/>
                </a:lnTo>
                <a:lnTo>
                  <a:pt x="203" y="691"/>
                </a:lnTo>
                <a:lnTo>
                  <a:pt x="218" y="691"/>
                </a:lnTo>
                <a:lnTo>
                  <a:pt x="233" y="691"/>
                </a:lnTo>
                <a:lnTo>
                  <a:pt x="247" y="691"/>
                </a:lnTo>
                <a:lnTo>
                  <a:pt x="262" y="691"/>
                </a:lnTo>
                <a:lnTo>
                  <a:pt x="277" y="691"/>
                </a:lnTo>
                <a:lnTo>
                  <a:pt x="290" y="691"/>
                </a:lnTo>
                <a:lnTo>
                  <a:pt x="305" y="691"/>
                </a:lnTo>
                <a:lnTo>
                  <a:pt x="320" y="691"/>
                </a:lnTo>
                <a:lnTo>
                  <a:pt x="335" y="677"/>
                </a:lnTo>
                <a:lnTo>
                  <a:pt x="349" y="691"/>
                </a:lnTo>
                <a:lnTo>
                  <a:pt x="364" y="677"/>
                </a:lnTo>
                <a:lnTo>
                  <a:pt x="379" y="677"/>
                </a:lnTo>
                <a:lnTo>
                  <a:pt x="392" y="677"/>
                </a:lnTo>
                <a:lnTo>
                  <a:pt x="422" y="677"/>
                </a:lnTo>
                <a:lnTo>
                  <a:pt x="422" y="604"/>
                </a:lnTo>
                <a:lnTo>
                  <a:pt x="436" y="589"/>
                </a:lnTo>
                <a:lnTo>
                  <a:pt x="436" y="574"/>
                </a:lnTo>
                <a:lnTo>
                  <a:pt x="436" y="632"/>
                </a:lnTo>
                <a:lnTo>
                  <a:pt x="451" y="662"/>
                </a:lnTo>
                <a:lnTo>
                  <a:pt x="451" y="691"/>
                </a:lnTo>
                <a:lnTo>
                  <a:pt x="451" y="412"/>
                </a:lnTo>
                <a:lnTo>
                  <a:pt x="466" y="353"/>
                </a:lnTo>
                <a:lnTo>
                  <a:pt x="466" y="30"/>
                </a:lnTo>
                <a:lnTo>
                  <a:pt x="479" y="45"/>
                </a:lnTo>
                <a:lnTo>
                  <a:pt x="479" y="353"/>
                </a:lnTo>
                <a:lnTo>
                  <a:pt x="494" y="427"/>
                </a:lnTo>
                <a:lnTo>
                  <a:pt x="494" y="691"/>
                </a:lnTo>
                <a:lnTo>
                  <a:pt x="494" y="338"/>
                </a:lnTo>
                <a:lnTo>
                  <a:pt x="509" y="266"/>
                </a:lnTo>
                <a:lnTo>
                  <a:pt x="509" y="30"/>
                </a:lnTo>
                <a:lnTo>
                  <a:pt x="523" y="45"/>
                </a:lnTo>
                <a:lnTo>
                  <a:pt x="523" y="266"/>
                </a:lnTo>
                <a:lnTo>
                  <a:pt x="538" y="295"/>
                </a:lnTo>
                <a:lnTo>
                  <a:pt x="538" y="500"/>
                </a:lnTo>
                <a:lnTo>
                  <a:pt x="553" y="515"/>
                </a:lnTo>
                <a:lnTo>
                  <a:pt x="553" y="574"/>
                </a:lnTo>
                <a:lnTo>
                  <a:pt x="568" y="559"/>
                </a:lnTo>
                <a:lnTo>
                  <a:pt x="581" y="544"/>
                </a:lnTo>
                <a:lnTo>
                  <a:pt x="611" y="574"/>
                </a:lnTo>
                <a:lnTo>
                  <a:pt x="611" y="662"/>
                </a:lnTo>
                <a:lnTo>
                  <a:pt x="625" y="677"/>
                </a:lnTo>
                <a:lnTo>
                  <a:pt x="625" y="691"/>
                </a:lnTo>
                <a:lnTo>
                  <a:pt x="625" y="559"/>
                </a:lnTo>
                <a:lnTo>
                  <a:pt x="640" y="544"/>
                </a:lnTo>
                <a:lnTo>
                  <a:pt x="640" y="457"/>
                </a:lnTo>
                <a:lnTo>
                  <a:pt x="655" y="442"/>
                </a:lnTo>
                <a:lnTo>
                  <a:pt x="668" y="457"/>
                </a:lnTo>
                <a:lnTo>
                  <a:pt x="668" y="530"/>
                </a:lnTo>
                <a:lnTo>
                  <a:pt x="683" y="544"/>
                </a:lnTo>
                <a:lnTo>
                  <a:pt x="683" y="604"/>
                </a:lnTo>
                <a:lnTo>
                  <a:pt x="698" y="617"/>
                </a:lnTo>
                <a:lnTo>
                  <a:pt x="698" y="647"/>
                </a:lnTo>
                <a:lnTo>
                  <a:pt x="712" y="662"/>
                </a:lnTo>
                <a:lnTo>
                  <a:pt x="742" y="691"/>
                </a:lnTo>
                <a:lnTo>
                  <a:pt x="727" y="691"/>
                </a:lnTo>
                <a:lnTo>
                  <a:pt x="742" y="691"/>
                </a:lnTo>
                <a:lnTo>
                  <a:pt x="755" y="677"/>
                </a:lnTo>
                <a:lnTo>
                  <a:pt x="770" y="691"/>
                </a:lnTo>
                <a:lnTo>
                  <a:pt x="785" y="677"/>
                </a:lnTo>
                <a:lnTo>
                  <a:pt x="800" y="677"/>
                </a:lnTo>
                <a:lnTo>
                  <a:pt x="814" y="677"/>
                </a:lnTo>
                <a:lnTo>
                  <a:pt x="829" y="677"/>
                </a:lnTo>
                <a:lnTo>
                  <a:pt x="844" y="677"/>
                </a:lnTo>
                <a:lnTo>
                  <a:pt x="858" y="677"/>
                </a:lnTo>
                <a:lnTo>
                  <a:pt x="873" y="691"/>
                </a:lnTo>
                <a:lnTo>
                  <a:pt x="888" y="691"/>
                </a:lnTo>
                <a:lnTo>
                  <a:pt x="901" y="691"/>
                </a:lnTo>
                <a:lnTo>
                  <a:pt x="916" y="691"/>
                </a:lnTo>
                <a:lnTo>
                  <a:pt x="931" y="691"/>
                </a:lnTo>
                <a:lnTo>
                  <a:pt x="945" y="691"/>
                </a:lnTo>
                <a:lnTo>
                  <a:pt x="960" y="691"/>
                </a:lnTo>
                <a:lnTo>
                  <a:pt x="975" y="691"/>
                </a:lnTo>
                <a:lnTo>
                  <a:pt x="988" y="691"/>
                </a:lnTo>
                <a:lnTo>
                  <a:pt x="1003" y="691"/>
                </a:lnTo>
                <a:lnTo>
                  <a:pt x="1018" y="677"/>
                </a:lnTo>
                <a:lnTo>
                  <a:pt x="1033" y="677"/>
                </a:lnTo>
                <a:lnTo>
                  <a:pt x="1047" y="691"/>
                </a:lnTo>
                <a:lnTo>
                  <a:pt x="1062" y="677"/>
                </a:lnTo>
                <a:lnTo>
                  <a:pt x="1077" y="677"/>
                </a:lnTo>
                <a:lnTo>
                  <a:pt x="1090" y="691"/>
                </a:lnTo>
                <a:lnTo>
                  <a:pt x="1105" y="677"/>
                </a:lnTo>
                <a:lnTo>
                  <a:pt x="1105" y="647"/>
                </a:lnTo>
                <a:lnTo>
                  <a:pt x="1120" y="632"/>
                </a:lnTo>
                <a:lnTo>
                  <a:pt x="1120" y="574"/>
                </a:lnTo>
                <a:lnTo>
                  <a:pt x="1134" y="589"/>
                </a:lnTo>
                <a:lnTo>
                  <a:pt x="1134" y="691"/>
                </a:lnTo>
                <a:lnTo>
                  <a:pt x="1134" y="617"/>
                </a:lnTo>
                <a:lnTo>
                  <a:pt x="1149" y="574"/>
                </a:lnTo>
                <a:lnTo>
                  <a:pt x="1149" y="178"/>
                </a:lnTo>
                <a:lnTo>
                  <a:pt x="1164" y="119"/>
                </a:lnTo>
                <a:lnTo>
                  <a:pt x="1164" y="0"/>
                </a:lnTo>
                <a:lnTo>
                  <a:pt x="1164" y="89"/>
                </a:lnTo>
                <a:lnTo>
                  <a:pt x="1177" y="133"/>
                </a:lnTo>
                <a:lnTo>
                  <a:pt x="1177" y="662"/>
                </a:lnTo>
                <a:lnTo>
                  <a:pt x="1192" y="617"/>
                </a:lnTo>
                <a:lnTo>
                  <a:pt x="1192" y="89"/>
                </a:lnTo>
                <a:lnTo>
                  <a:pt x="1207" y="45"/>
                </a:lnTo>
                <a:lnTo>
                  <a:pt x="1207" y="15"/>
                </a:lnTo>
                <a:lnTo>
                  <a:pt x="1207" y="89"/>
                </a:lnTo>
                <a:lnTo>
                  <a:pt x="1222" y="119"/>
                </a:lnTo>
                <a:lnTo>
                  <a:pt x="1222" y="383"/>
                </a:lnTo>
                <a:lnTo>
                  <a:pt x="1236" y="412"/>
                </a:lnTo>
                <a:lnTo>
                  <a:pt x="1236" y="544"/>
                </a:lnTo>
                <a:lnTo>
                  <a:pt x="1251" y="559"/>
                </a:lnTo>
                <a:lnTo>
                  <a:pt x="1266" y="544"/>
                </a:lnTo>
                <a:lnTo>
                  <a:pt x="1279" y="559"/>
                </a:lnTo>
                <a:lnTo>
                  <a:pt x="1294" y="574"/>
                </a:lnTo>
                <a:lnTo>
                  <a:pt x="1294" y="604"/>
                </a:lnTo>
                <a:lnTo>
                  <a:pt x="1309" y="617"/>
                </a:lnTo>
                <a:lnTo>
                  <a:pt x="1309" y="691"/>
                </a:lnTo>
                <a:lnTo>
                  <a:pt x="1309" y="647"/>
                </a:lnTo>
                <a:lnTo>
                  <a:pt x="1323" y="617"/>
                </a:lnTo>
                <a:lnTo>
                  <a:pt x="1323" y="515"/>
                </a:lnTo>
              </a:path>
            </a:pathLst>
          </a:custGeom>
          <a:noFill/>
          <a:ln w="20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6126120" y="3108240"/>
            <a:ext cx="871560" cy="547920"/>
          </a:xfrm>
          <a:custGeom>
            <a:avLst/>
            <a:gdLst/>
            <a:ahLst/>
            <a:rect l="l" t="t" r="r" b="b"/>
            <a:pathLst>
              <a:path w="830" h="691">
                <a:moveTo>
                  <a:pt x="0" y="515"/>
                </a:moveTo>
                <a:lnTo>
                  <a:pt x="15" y="500"/>
                </a:lnTo>
                <a:lnTo>
                  <a:pt x="15" y="442"/>
                </a:lnTo>
                <a:lnTo>
                  <a:pt x="30" y="457"/>
                </a:lnTo>
                <a:lnTo>
                  <a:pt x="30" y="485"/>
                </a:lnTo>
                <a:lnTo>
                  <a:pt x="43" y="500"/>
                </a:lnTo>
                <a:lnTo>
                  <a:pt x="43" y="559"/>
                </a:lnTo>
                <a:lnTo>
                  <a:pt x="58" y="574"/>
                </a:lnTo>
                <a:lnTo>
                  <a:pt x="58" y="632"/>
                </a:lnTo>
                <a:lnTo>
                  <a:pt x="87" y="662"/>
                </a:lnTo>
                <a:lnTo>
                  <a:pt x="87" y="677"/>
                </a:lnTo>
                <a:lnTo>
                  <a:pt x="102" y="691"/>
                </a:lnTo>
                <a:lnTo>
                  <a:pt x="117" y="677"/>
                </a:lnTo>
                <a:lnTo>
                  <a:pt x="132" y="677"/>
                </a:lnTo>
                <a:lnTo>
                  <a:pt x="145" y="691"/>
                </a:lnTo>
                <a:lnTo>
                  <a:pt x="160" y="677"/>
                </a:lnTo>
                <a:lnTo>
                  <a:pt x="176" y="677"/>
                </a:lnTo>
                <a:lnTo>
                  <a:pt x="189" y="677"/>
                </a:lnTo>
                <a:lnTo>
                  <a:pt x="204" y="677"/>
                </a:lnTo>
                <a:lnTo>
                  <a:pt x="219" y="677"/>
                </a:lnTo>
                <a:lnTo>
                  <a:pt x="233" y="677"/>
                </a:lnTo>
                <a:lnTo>
                  <a:pt x="248" y="691"/>
                </a:lnTo>
                <a:lnTo>
                  <a:pt x="263" y="691"/>
                </a:lnTo>
                <a:lnTo>
                  <a:pt x="276" y="691"/>
                </a:lnTo>
                <a:lnTo>
                  <a:pt x="291" y="691"/>
                </a:lnTo>
                <a:lnTo>
                  <a:pt x="306" y="691"/>
                </a:lnTo>
                <a:lnTo>
                  <a:pt x="321" y="691"/>
                </a:lnTo>
                <a:lnTo>
                  <a:pt x="335" y="691"/>
                </a:lnTo>
                <a:lnTo>
                  <a:pt x="350" y="691"/>
                </a:lnTo>
                <a:lnTo>
                  <a:pt x="365" y="691"/>
                </a:lnTo>
                <a:lnTo>
                  <a:pt x="378" y="677"/>
                </a:lnTo>
                <a:lnTo>
                  <a:pt x="393" y="677"/>
                </a:lnTo>
                <a:lnTo>
                  <a:pt x="408" y="691"/>
                </a:lnTo>
                <a:lnTo>
                  <a:pt x="422" y="677"/>
                </a:lnTo>
                <a:lnTo>
                  <a:pt x="437" y="677"/>
                </a:lnTo>
                <a:lnTo>
                  <a:pt x="452" y="691"/>
                </a:lnTo>
                <a:lnTo>
                  <a:pt x="467" y="677"/>
                </a:lnTo>
                <a:lnTo>
                  <a:pt x="467" y="632"/>
                </a:lnTo>
                <a:lnTo>
                  <a:pt x="480" y="617"/>
                </a:lnTo>
                <a:lnTo>
                  <a:pt x="480" y="574"/>
                </a:lnTo>
                <a:lnTo>
                  <a:pt x="495" y="589"/>
                </a:lnTo>
                <a:lnTo>
                  <a:pt x="495" y="691"/>
                </a:lnTo>
                <a:lnTo>
                  <a:pt x="495" y="617"/>
                </a:lnTo>
                <a:lnTo>
                  <a:pt x="510" y="559"/>
                </a:lnTo>
                <a:lnTo>
                  <a:pt x="510" y="163"/>
                </a:lnTo>
                <a:lnTo>
                  <a:pt x="524" y="104"/>
                </a:lnTo>
                <a:lnTo>
                  <a:pt x="524" y="0"/>
                </a:lnTo>
                <a:lnTo>
                  <a:pt x="524" y="89"/>
                </a:lnTo>
                <a:lnTo>
                  <a:pt x="539" y="148"/>
                </a:lnTo>
                <a:lnTo>
                  <a:pt x="539" y="691"/>
                </a:lnTo>
                <a:lnTo>
                  <a:pt x="554" y="604"/>
                </a:lnTo>
                <a:lnTo>
                  <a:pt x="554" y="74"/>
                </a:lnTo>
                <a:lnTo>
                  <a:pt x="567" y="45"/>
                </a:lnTo>
                <a:lnTo>
                  <a:pt x="567" y="15"/>
                </a:lnTo>
                <a:lnTo>
                  <a:pt x="567" y="104"/>
                </a:lnTo>
                <a:lnTo>
                  <a:pt x="582" y="133"/>
                </a:lnTo>
                <a:lnTo>
                  <a:pt x="582" y="398"/>
                </a:lnTo>
                <a:lnTo>
                  <a:pt x="597" y="427"/>
                </a:lnTo>
                <a:lnTo>
                  <a:pt x="597" y="544"/>
                </a:lnTo>
                <a:lnTo>
                  <a:pt x="611" y="559"/>
                </a:lnTo>
                <a:lnTo>
                  <a:pt x="626" y="544"/>
                </a:lnTo>
                <a:lnTo>
                  <a:pt x="641" y="559"/>
                </a:lnTo>
                <a:lnTo>
                  <a:pt x="656" y="574"/>
                </a:lnTo>
                <a:lnTo>
                  <a:pt x="656" y="617"/>
                </a:lnTo>
                <a:lnTo>
                  <a:pt x="669" y="632"/>
                </a:lnTo>
                <a:lnTo>
                  <a:pt x="669" y="691"/>
                </a:lnTo>
                <a:lnTo>
                  <a:pt x="669" y="632"/>
                </a:lnTo>
                <a:lnTo>
                  <a:pt x="684" y="617"/>
                </a:lnTo>
                <a:lnTo>
                  <a:pt x="684" y="500"/>
                </a:lnTo>
                <a:lnTo>
                  <a:pt x="699" y="485"/>
                </a:lnTo>
                <a:lnTo>
                  <a:pt x="699" y="442"/>
                </a:lnTo>
                <a:lnTo>
                  <a:pt x="713" y="457"/>
                </a:lnTo>
                <a:lnTo>
                  <a:pt x="713" y="485"/>
                </a:lnTo>
                <a:lnTo>
                  <a:pt x="728" y="500"/>
                </a:lnTo>
                <a:lnTo>
                  <a:pt x="728" y="559"/>
                </a:lnTo>
                <a:lnTo>
                  <a:pt x="743" y="574"/>
                </a:lnTo>
                <a:lnTo>
                  <a:pt x="743" y="632"/>
                </a:lnTo>
                <a:lnTo>
                  <a:pt x="771" y="662"/>
                </a:lnTo>
                <a:lnTo>
                  <a:pt x="771" y="677"/>
                </a:lnTo>
                <a:lnTo>
                  <a:pt x="786" y="691"/>
                </a:lnTo>
                <a:lnTo>
                  <a:pt x="800" y="691"/>
                </a:lnTo>
                <a:lnTo>
                  <a:pt x="815" y="691"/>
                </a:lnTo>
                <a:lnTo>
                  <a:pt x="830" y="691"/>
                </a:lnTo>
              </a:path>
            </a:pathLst>
          </a:custGeom>
          <a:noFill/>
          <a:ln w="20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2" name="" descr=""/>
          <p:cNvPicPr/>
          <p:nvPr/>
        </p:nvPicPr>
        <p:blipFill>
          <a:blip r:embed="rId1"/>
          <a:stretch/>
        </p:blipFill>
        <p:spPr>
          <a:xfrm>
            <a:off x="0" y="4670280"/>
            <a:ext cx="2209680" cy="2187720"/>
          </a:xfrm>
          <a:prstGeom prst="rect">
            <a:avLst/>
          </a:prstGeom>
          <a:ln w="0">
            <a:noFill/>
          </a:ln>
        </p:spPr>
      </p:pic>
      <p:sp>
        <p:nvSpPr>
          <p:cNvPr id="2073" name=""/>
          <p:cNvSpPr/>
          <p:nvPr/>
        </p:nvSpPr>
        <p:spPr>
          <a:xfrm>
            <a:off x="2416320" y="3919680"/>
            <a:ext cx="6578280" cy="2743200"/>
          </a:xfrm>
          <a:prstGeom prst="wedgeRoundRectCallout">
            <a:avLst>
              <a:gd name="adj1" fmla="val -59171"/>
              <a:gd name="adj2" fmla="val 17189"/>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blue time series at the top is a normal healthy human electrocardiogram with an artificial “</a:t>
            </a:r>
            <a:r>
              <a:rPr b="0" i="1" lang="en-US" sz="2400" spc="-1" strike="noStrike">
                <a:solidFill>
                  <a:srgbClr val="000000"/>
                </a:solidFill>
                <a:latin typeface="Comic Sans MS"/>
              </a:rPr>
              <a:t>flatline</a:t>
            </a:r>
            <a:r>
              <a:rPr b="0" lang="en-US" sz="2400" spc="-1" strike="noStrike">
                <a:solidFill>
                  <a:srgbClr val="000000"/>
                </a:solidFill>
                <a:latin typeface="Comic Sans MS"/>
              </a:rPr>
              <a:t>” added. The sequence in red at the bottom indicates how </a:t>
            </a:r>
            <a:r>
              <a:rPr b="0" i="1" lang="en-US" sz="2400" spc="-1" strike="noStrike">
                <a:solidFill>
                  <a:srgbClr val="000000"/>
                </a:solidFill>
                <a:latin typeface="Comic Sans MS"/>
              </a:rPr>
              <a:t>surprising</a:t>
            </a:r>
            <a:r>
              <a:rPr b="0" lang="en-US" sz="2400" spc="-1" strike="noStrike">
                <a:solidFill>
                  <a:srgbClr val="000000"/>
                </a:solidFill>
                <a:latin typeface="Comic Sans MS"/>
              </a:rPr>
              <a:t> local subsections of the time series are under the measure introduced in Shahabi et. al. </a:t>
            </a:r>
            <a:endParaRPr b="0" lang="en-US" sz="2400" spc="-1" strike="noStrike">
              <a:solidFill>
                <a:srgbClr val="000000"/>
              </a:solidFill>
              <a:latin typeface="Times New Roman"/>
            </a:endParaRPr>
          </a:p>
        </p:txBody>
      </p:sp>
      <p:sp>
        <p:nvSpPr>
          <p:cNvPr id="2074" name=""/>
          <p:cNvSpPr/>
          <p:nvPr/>
        </p:nvSpPr>
        <p:spPr>
          <a:xfrm>
            <a:off x="279360" y="228600"/>
            <a:ext cx="5892840" cy="1219320"/>
          </a:xfrm>
          <a:prstGeom prst="wedgeRoundRectCallout">
            <a:avLst>
              <a:gd name="adj1" fmla="val 73194"/>
              <a:gd name="adj2" fmla="val 42319"/>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rr... what be wrong with current approaches?</a:t>
            </a:r>
            <a:endParaRPr b="0" lang="en-US" sz="3200" spc="-1" strike="noStrike">
              <a:solidFill>
                <a:srgbClr val="000000"/>
              </a:solidFill>
              <a:latin typeface="Times New Roman"/>
            </a:endParaRPr>
          </a:p>
        </p:txBody>
      </p:sp>
      <p:pic>
        <p:nvPicPr>
          <p:cNvPr id="2075" name="" descr=""/>
          <p:cNvPicPr/>
          <p:nvPr/>
        </p:nvPicPr>
        <p:blipFill>
          <a:blip r:embed="rId2"/>
          <a:stretch/>
        </p:blipFill>
        <p:spPr>
          <a:xfrm>
            <a:off x="7513560" y="671400"/>
            <a:ext cx="1536840" cy="2932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644400" y="20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Our Solution</a:t>
            </a:r>
            <a:endParaRPr b="0" lang="en-US" sz="6000" spc="-1" strike="noStrike">
              <a:solidFill>
                <a:srgbClr val="000000"/>
              </a:solidFill>
              <a:latin typeface="Times New Roman"/>
            </a:endParaRPr>
          </a:p>
        </p:txBody>
      </p:sp>
      <p:sp>
        <p:nvSpPr>
          <p:cNvPr id="2077" name=""/>
          <p:cNvSpPr/>
          <p:nvPr/>
        </p:nvSpPr>
        <p:spPr>
          <a:xfrm>
            <a:off x="428760" y="1941480"/>
            <a:ext cx="7334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d on the following intuition, a pattern is surprising if its frequency of occurrence is greatly different from that which we expected, given previous experience…</a:t>
            </a:r>
            <a:endParaRPr b="0" lang="en-US" sz="3600" spc="-1" strike="noStrike">
              <a:solidFill>
                <a:srgbClr val="000000"/>
              </a:solidFill>
              <a:latin typeface="Times New Roman"/>
            </a:endParaRPr>
          </a:p>
        </p:txBody>
      </p:sp>
      <p:sp>
        <p:nvSpPr>
          <p:cNvPr id="2078" name=""/>
          <p:cNvSpPr/>
          <p:nvPr/>
        </p:nvSpPr>
        <p:spPr>
          <a:xfrm>
            <a:off x="409680" y="5280120"/>
            <a:ext cx="7839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rPr>
              <a:t>This is a nice intuition, but useless unless we can more formally define it, and calculate it efficient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9" name="homer-smiling" descr=""/>
          <p:cNvPicPr/>
          <p:nvPr/>
        </p:nvPicPr>
        <p:blipFill>
          <a:blip r:embed="rId1"/>
          <a:stretch/>
        </p:blipFill>
        <p:spPr>
          <a:xfrm>
            <a:off x="0" y="255600"/>
            <a:ext cx="1863720" cy="2936880"/>
          </a:xfrm>
          <a:prstGeom prst="rect">
            <a:avLst/>
          </a:prstGeom>
          <a:ln w="0">
            <a:noFill/>
          </a:ln>
        </p:spPr>
      </p:pic>
      <p:sp>
        <p:nvSpPr>
          <p:cNvPr id="2080" name=""/>
          <p:cNvSpPr/>
          <p:nvPr/>
        </p:nvSpPr>
        <p:spPr>
          <a:xfrm>
            <a:off x="2038320" y="163440"/>
            <a:ext cx="6985080" cy="2298600"/>
          </a:xfrm>
          <a:prstGeom prst="wedgeRoundRectCallout">
            <a:avLst>
              <a:gd name="adj1" fmla="val -56046"/>
              <a:gd name="adj2" fmla="val 29351"/>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Note that unlike all previous attempts to solve this problem, our notion surprisingness of a pattern is not tied exclusively to its shape. Instead it depends on the difference between the shape’s expected frequency and its observed frequency. </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Times New Roman"/>
              </a:rPr>
              <a:t>For example consider the familiar </a:t>
            </a:r>
            <a:r>
              <a:rPr b="0" i="1" lang="en-US" sz="1900" spc="-1" strike="noStrike">
                <a:solidFill>
                  <a:srgbClr val="000000"/>
                </a:solidFill>
                <a:latin typeface="Comic Sans MS"/>
                <a:ea typeface="Times New Roman"/>
              </a:rPr>
              <a:t>head and shoulders</a:t>
            </a:r>
            <a:r>
              <a:rPr b="0" lang="en-US" sz="1900" spc="-1" strike="noStrike">
                <a:solidFill>
                  <a:srgbClr val="000000"/>
                </a:solidFill>
                <a:latin typeface="Comic Sans MS"/>
                <a:ea typeface="Times New Roman"/>
              </a:rPr>
              <a:t> pattern shown below...</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grpSp>
        <p:nvGrpSpPr>
          <p:cNvPr id="2081" name=""/>
          <p:cNvGrpSpPr/>
          <p:nvPr/>
        </p:nvGrpSpPr>
        <p:grpSpPr>
          <a:xfrm>
            <a:off x="2433600" y="2770200"/>
            <a:ext cx="3664800" cy="1217160"/>
            <a:chOff x="2433600" y="2770200"/>
            <a:chExt cx="3664800" cy="1217160"/>
          </a:xfrm>
        </p:grpSpPr>
        <p:sp>
          <p:nvSpPr>
            <p:cNvPr id="2082" name=""/>
            <p:cNvSpPr/>
            <p:nvPr/>
          </p:nvSpPr>
          <p:spPr>
            <a:xfrm>
              <a:off x="2433600" y="2783520"/>
              <a:ext cx="3663360" cy="1203840"/>
            </a:xfrm>
            <a:prstGeom prst="rect">
              <a:avLst/>
            </a:prstGeom>
            <a:solidFill>
              <a:srgbClr val="ffffff"/>
            </a:solidFill>
            <a:ln w="3492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3" name=""/>
            <p:cNvGrpSpPr/>
            <p:nvPr/>
          </p:nvGrpSpPr>
          <p:grpSpPr>
            <a:xfrm>
              <a:off x="2433600" y="2770200"/>
              <a:ext cx="3664800" cy="1211760"/>
              <a:chOff x="2433600" y="2770200"/>
              <a:chExt cx="3664800" cy="1211760"/>
            </a:xfrm>
          </p:grpSpPr>
          <p:sp>
            <p:nvSpPr>
              <p:cNvPr id="2084" name=""/>
              <p:cNvSpPr/>
              <p:nvPr/>
            </p:nvSpPr>
            <p:spPr>
              <a:xfrm>
                <a:off x="2433600" y="2770200"/>
                <a:ext cx="3663000" cy="121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2433600" y="2770200"/>
                <a:ext cx="3663000" cy="1210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2433600" y="2770200"/>
                <a:ext cx="3663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2433600" y="2770200"/>
                <a:ext cx="3663000" cy="1210320"/>
              </a:xfrm>
              <a:custGeom>
                <a:avLst/>
                <a:gdLst/>
                <a:ahLst/>
                <a:rect l="l" t="t" r="r" b="b"/>
                <a:pathLst>
                  <a:path w="434" h="342">
                    <a:moveTo>
                      <a:pt x="0" y="342"/>
                    </a:moveTo>
                    <a:lnTo>
                      <a:pt x="434" y="342"/>
                    </a:lnTo>
                    <a:lnTo>
                      <a:pt x="4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flipV="1">
                <a:off x="2433600" y="2770200"/>
                <a:ext cx="1440" cy="121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2433600" y="3980520"/>
                <a:ext cx="3663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0" name=""/>
              <p:cNvSpPr/>
              <p:nvPr/>
            </p:nvSpPr>
            <p:spPr>
              <a:xfrm flipV="1">
                <a:off x="2433600" y="2770200"/>
                <a:ext cx="1440" cy="121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flipV="1">
                <a:off x="2433600" y="3962880"/>
                <a:ext cx="144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92" name=""/>
              <p:cNvSpPr/>
              <p:nvPr/>
            </p:nvSpPr>
            <p:spPr>
              <a:xfrm>
                <a:off x="2433600" y="2770200"/>
                <a:ext cx="14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93" name=""/>
              <p:cNvSpPr/>
              <p:nvPr/>
            </p:nvSpPr>
            <p:spPr>
              <a:xfrm flipV="1">
                <a:off x="2795040" y="3962880"/>
                <a:ext cx="324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94" name=""/>
              <p:cNvSpPr/>
              <p:nvPr/>
            </p:nvSpPr>
            <p:spPr>
              <a:xfrm>
                <a:off x="2795040" y="2770200"/>
                <a:ext cx="32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95" name=""/>
              <p:cNvSpPr/>
              <p:nvPr/>
            </p:nvSpPr>
            <p:spPr>
              <a:xfrm flipV="1">
                <a:off x="3160080" y="3962880"/>
                <a:ext cx="288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96" name=""/>
              <p:cNvSpPr/>
              <p:nvPr/>
            </p:nvSpPr>
            <p:spPr>
              <a:xfrm>
                <a:off x="3160080" y="2770200"/>
                <a:ext cx="288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97" name=""/>
              <p:cNvSpPr/>
              <p:nvPr/>
            </p:nvSpPr>
            <p:spPr>
              <a:xfrm flipV="1">
                <a:off x="3529800" y="3962880"/>
                <a:ext cx="324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98" name=""/>
              <p:cNvSpPr/>
              <p:nvPr/>
            </p:nvSpPr>
            <p:spPr>
              <a:xfrm>
                <a:off x="3529800" y="2770200"/>
                <a:ext cx="32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99" name=""/>
              <p:cNvSpPr/>
              <p:nvPr/>
            </p:nvSpPr>
            <p:spPr>
              <a:xfrm flipV="1">
                <a:off x="3891600" y="3962880"/>
                <a:ext cx="324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00" name=""/>
              <p:cNvSpPr/>
              <p:nvPr/>
            </p:nvSpPr>
            <p:spPr>
              <a:xfrm>
                <a:off x="3891600" y="2770200"/>
                <a:ext cx="32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01" name=""/>
              <p:cNvSpPr/>
              <p:nvPr/>
            </p:nvSpPr>
            <p:spPr>
              <a:xfrm flipV="1">
                <a:off x="4264920" y="3962880"/>
                <a:ext cx="144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02" name=""/>
              <p:cNvSpPr/>
              <p:nvPr/>
            </p:nvSpPr>
            <p:spPr>
              <a:xfrm>
                <a:off x="4264920" y="2770200"/>
                <a:ext cx="14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03" name=""/>
              <p:cNvSpPr/>
              <p:nvPr/>
            </p:nvSpPr>
            <p:spPr>
              <a:xfrm flipV="1">
                <a:off x="4626720" y="3962880"/>
                <a:ext cx="324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04" name=""/>
              <p:cNvSpPr/>
              <p:nvPr/>
            </p:nvSpPr>
            <p:spPr>
              <a:xfrm>
                <a:off x="4626720" y="2770200"/>
                <a:ext cx="32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05" name=""/>
              <p:cNvSpPr/>
              <p:nvPr/>
            </p:nvSpPr>
            <p:spPr>
              <a:xfrm flipV="1">
                <a:off x="4991760" y="3962880"/>
                <a:ext cx="144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06" name=""/>
              <p:cNvSpPr/>
              <p:nvPr/>
            </p:nvSpPr>
            <p:spPr>
              <a:xfrm>
                <a:off x="4991760" y="2770200"/>
                <a:ext cx="14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07" name=""/>
              <p:cNvSpPr/>
              <p:nvPr/>
            </p:nvSpPr>
            <p:spPr>
              <a:xfrm flipV="1">
                <a:off x="5361840" y="3962880"/>
                <a:ext cx="144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08" name=""/>
              <p:cNvSpPr/>
              <p:nvPr/>
            </p:nvSpPr>
            <p:spPr>
              <a:xfrm>
                <a:off x="5361840" y="2770200"/>
                <a:ext cx="14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09" name=""/>
              <p:cNvSpPr/>
              <p:nvPr/>
            </p:nvSpPr>
            <p:spPr>
              <a:xfrm flipV="1">
                <a:off x="5726520" y="3962880"/>
                <a:ext cx="180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10" name=""/>
              <p:cNvSpPr/>
              <p:nvPr/>
            </p:nvSpPr>
            <p:spPr>
              <a:xfrm>
                <a:off x="5726520" y="2770200"/>
                <a:ext cx="180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11" name=""/>
              <p:cNvSpPr/>
              <p:nvPr/>
            </p:nvSpPr>
            <p:spPr>
              <a:xfrm flipV="1">
                <a:off x="6096600" y="3962880"/>
                <a:ext cx="180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12" name=""/>
              <p:cNvSpPr/>
              <p:nvPr/>
            </p:nvSpPr>
            <p:spPr>
              <a:xfrm>
                <a:off x="6096600" y="2770200"/>
                <a:ext cx="180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13" name=""/>
              <p:cNvSpPr/>
              <p:nvPr/>
            </p:nvSpPr>
            <p:spPr>
              <a:xfrm>
                <a:off x="2433600" y="3980520"/>
                <a:ext cx="3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4" name=""/>
              <p:cNvSpPr/>
              <p:nvPr/>
            </p:nvSpPr>
            <p:spPr>
              <a:xfrm flipH="1">
                <a:off x="6051960" y="398052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5" name=""/>
              <p:cNvSpPr/>
              <p:nvPr/>
            </p:nvSpPr>
            <p:spPr>
              <a:xfrm>
                <a:off x="2433600" y="3736800"/>
                <a:ext cx="3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flipH="1">
                <a:off x="6051960" y="37368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7" name=""/>
              <p:cNvSpPr/>
              <p:nvPr/>
            </p:nvSpPr>
            <p:spPr>
              <a:xfrm>
                <a:off x="2433600" y="3494520"/>
                <a:ext cx="324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18" name=""/>
              <p:cNvSpPr/>
              <p:nvPr/>
            </p:nvSpPr>
            <p:spPr>
              <a:xfrm flipH="1">
                <a:off x="6051960" y="3494520"/>
                <a:ext cx="442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19" name=""/>
              <p:cNvSpPr/>
              <p:nvPr/>
            </p:nvSpPr>
            <p:spPr>
              <a:xfrm>
                <a:off x="2433600" y="3250800"/>
                <a:ext cx="3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0" name=""/>
              <p:cNvSpPr/>
              <p:nvPr/>
            </p:nvSpPr>
            <p:spPr>
              <a:xfrm flipH="1">
                <a:off x="6051960" y="32508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2433600" y="3010320"/>
                <a:ext cx="3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2" name=""/>
              <p:cNvSpPr/>
              <p:nvPr/>
            </p:nvSpPr>
            <p:spPr>
              <a:xfrm flipH="1">
                <a:off x="6051960" y="301032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3" name=""/>
              <p:cNvSpPr/>
              <p:nvPr/>
            </p:nvSpPr>
            <p:spPr>
              <a:xfrm>
                <a:off x="2433600" y="2770200"/>
                <a:ext cx="3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4" name=""/>
              <p:cNvSpPr/>
              <p:nvPr/>
            </p:nvSpPr>
            <p:spPr>
              <a:xfrm flipH="1">
                <a:off x="6051960" y="27702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5" name=""/>
              <p:cNvSpPr/>
              <p:nvPr/>
            </p:nvSpPr>
            <p:spPr>
              <a:xfrm>
                <a:off x="2433600" y="2770200"/>
                <a:ext cx="3663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6" name=""/>
              <p:cNvSpPr/>
              <p:nvPr/>
            </p:nvSpPr>
            <p:spPr>
              <a:xfrm>
                <a:off x="2433600" y="2770200"/>
                <a:ext cx="3663000" cy="1210320"/>
              </a:xfrm>
              <a:custGeom>
                <a:avLst/>
                <a:gdLst/>
                <a:ahLst/>
                <a:rect l="l" t="t" r="r" b="b"/>
                <a:pathLst>
                  <a:path w="434" h="342">
                    <a:moveTo>
                      <a:pt x="0" y="342"/>
                    </a:moveTo>
                    <a:lnTo>
                      <a:pt x="434" y="342"/>
                    </a:lnTo>
                    <a:lnTo>
                      <a:pt x="4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flipV="1">
                <a:off x="2433600" y="2770200"/>
                <a:ext cx="1440" cy="121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8" name=""/>
            <p:cNvSpPr/>
            <p:nvPr/>
          </p:nvSpPr>
          <p:spPr>
            <a:xfrm>
              <a:off x="2503440" y="2873880"/>
              <a:ext cx="3443400" cy="900000"/>
            </a:xfrm>
            <a:custGeom>
              <a:avLst/>
              <a:gdLst/>
              <a:ahLst/>
              <a:rect l="l" t="t" r="r" b="b"/>
              <a:pathLst>
                <a:path w="1369" h="463">
                  <a:moveTo>
                    <a:pt x="0" y="463"/>
                  </a:moveTo>
                  <a:lnTo>
                    <a:pt x="30" y="411"/>
                  </a:lnTo>
                  <a:lnTo>
                    <a:pt x="60" y="327"/>
                  </a:lnTo>
                  <a:lnTo>
                    <a:pt x="87" y="296"/>
                  </a:lnTo>
                  <a:lnTo>
                    <a:pt x="117" y="248"/>
                  </a:lnTo>
                  <a:lnTo>
                    <a:pt x="147" y="228"/>
                  </a:lnTo>
                  <a:lnTo>
                    <a:pt x="174" y="183"/>
                  </a:lnTo>
                  <a:lnTo>
                    <a:pt x="204" y="165"/>
                  </a:lnTo>
                  <a:lnTo>
                    <a:pt x="235" y="167"/>
                  </a:lnTo>
                  <a:lnTo>
                    <a:pt x="262" y="174"/>
                  </a:lnTo>
                  <a:lnTo>
                    <a:pt x="292" y="167"/>
                  </a:lnTo>
                  <a:lnTo>
                    <a:pt x="322" y="219"/>
                  </a:lnTo>
                  <a:lnTo>
                    <a:pt x="349" y="228"/>
                  </a:lnTo>
                  <a:lnTo>
                    <a:pt x="379" y="255"/>
                  </a:lnTo>
                  <a:lnTo>
                    <a:pt x="409" y="301"/>
                  </a:lnTo>
                  <a:lnTo>
                    <a:pt x="436" y="353"/>
                  </a:lnTo>
                  <a:lnTo>
                    <a:pt x="466" y="366"/>
                  </a:lnTo>
                  <a:lnTo>
                    <a:pt x="496" y="285"/>
                  </a:lnTo>
                  <a:lnTo>
                    <a:pt x="523" y="258"/>
                  </a:lnTo>
                  <a:lnTo>
                    <a:pt x="553" y="226"/>
                  </a:lnTo>
                  <a:lnTo>
                    <a:pt x="584" y="169"/>
                  </a:lnTo>
                  <a:lnTo>
                    <a:pt x="610" y="124"/>
                  </a:lnTo>
                  <a:lnTo>
                    <a:pt x="641" y="124"/>
                  </a:lnTo>
                  <a:lnTo>
                    <a:pt x="671" y="97"/>
                  </a:lnTo>
                  <a:lnTo>
                    <a:pt x="701" y="84"/>
                  </a:lnTo>
                  <a:lnTo>
                    <a:pt x="728" y="104"/>
                  </a:lnTo>
                  <a:lnTo>
                    <a:pt x="758" y="104"/>
                  </a:lnTo>
                  <a:lnTo>
                    <a:pt x="788" y="151"/>
                  </a:lnTo>
                  <a:lnTo>
                    <a:pt x="815" y="171"/>
                  </a:lnTo>
                  <a:lnTo>
                    <a:pt x="845" y="233"/>
                  </a:lnTo>
                  <a:lnTo>
                    <a:pt x="876" y="228"/>
                  </a:lnTo>
                  <a:lnTo>
                    <a:pt x="902" y="284"/>
                  </a:lnTo>
                  <a:lnTo>
                    <a:pt x="933" y="258"/>
                  </a:lnTo>
                  <a:lnTo>
                    <a:pt x="963" y="210"/>
                  </a:lnTo>
                  <a:lnTo>
                    <a:pt x="990" y="172"/>
                  </a:lnTo>
                  <a:lnTo>
                    <a:pt x="1020" y="120"/>
                  </a:lnTo>
                  <a:lnTo>
                    <a:pt x="1050" y="50"/>
                  </a:lnTo>
                  <a:lnTo>
                    <a:pt x="1077" y="54"/>
                  </a:lnTo>
                  <a:lnTo>
                    <a:pt x="1107" y="22"/>
                  </a:lnTo>
                  <a:lnTo>
                    <a:pt x="1137" y="18"/>
                  </a:lnTo>
                  <a:lnTo>
                    <a:pt x="1164" y="0"/>
                  </a:lnTo>
                  <a:lnTo>
                    <a:pt x="1194" y="38"/>
                  </a:lnTo>
                  <a:lnTo>
                    <a:pt x="1224" y="20"/>
                  </a:lnTo>
                  <a:lnTo>
                    <a:pt x="1251" y="68"/>
                  </a:lnTo>
                  <a:lnTo>
                    <a:pt x="1282" y="83"/>
                  </a:lnTo>
                  <a:lnTo>
                    <a:pt x="1312" y="133"/>
                  </a:lnTo>
                  <a:lnTo>
                    <a:pt x="1339" y="169"/>
                  </a:lnTo>
                  <a:lnTo>
                    <a:pt x="1369" y="19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29" name="lisa027" descr=""/>
          <p:cNvPicPr/>
          <p:nvPr/>
        </p:nvPicPr>
        <p:blipFill>
          <a:blip r:embed="rId2"/>
          <a:stretch/>
        </p:blipFill>
        <p:spPr>
          <a:xfrm>
            <a:off x="7885080" y="4054320"/>
            <a:ext cx="1258920" cy="2803680"/>
          </a:xfrm>
          <a:prstGeom prst="rect">
            <a:avLst/>
          </a:prstGeom>
          <a:ln w="0">
            <a:noFill/>
          </a:ln>
        </p:spPr>
      </p:pic>
      <p:sp>
        <p:nvSpPr>
          <p:cNvPr id="2130" name=""/>
          <p:cNvSpPr/>
          <p:nvPr/>
        </p:nvSpPr>
        <p:spPr>
          <a:xfrm>
            <a:off x="277920" y="4146480"/>
            <a:ext cx="7007040" cy="2571840"/>
          </a:xfrm>
          <a:prstGeom prst="wedgeRoundRectCallout">
            <a:avLst>
              <a:gd name="adj1" fmla="val 57476"/>
              <a:gd name="adj2" fmla="val -12097"/>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he existence of this pattern in a stock market time series should not be consider surprising since they are known to occur (even if only by chance). However, if it occurred ten times this year, as opposed to occurring an average of twice a year in previous years, our measure of surprise will flag the shape as being surprising. Cool eh?</a:t>
            </a:r>
            <a:endParaRPr b="0" lang="en-US" sz="17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he pattern would also be surprising if its frequency of occurrence is less than expected. Once again our definition would flag such patterns.</a:t>
            </a:r>
            <a:r>
              <a:rPr b="0" lang="en-US" sz="1600" spc="-1" strike="noStrike">
                <a:solidFill>
                  <a:srgbClr val="000000"/>
                </a:solidFill>
                <a:latin typeface="Comic Sans MS"/>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1" name=""/>
          <p:cNvGrpSpPr/>
          <p:nvPr/>
        </p:nvGrpSpPr>
        <p:grpSpPr>
          <a:xfrm>
            <a:off x="5178600" y="5094360"/>
            <a:ext cx="2382840" cy="1594440"/>
            <a:chOff x="5178600" y="5094360"/>
            <a:chExt cx="2382840" cy="1594440"/>
          </a:xfrm>
        </p:grpSpPr>
        <p:sp>
          <p:nvSpPr>
            <p:cNvPr id="2132" name=""/>
            <p:cNvSpPr/>
            <p:nvPr/>
          </p:nvSpPr>
          <p:spPr>
            <a:xfrm>
              <a:off x="5178600" y="5783400"/>
              <a:ext cx="2382840" cy="905400"/>
            </a:xfrm>
            <a:prstGeom prst="rect">
              <a:avLst/>
            </a:prstGeom>
            <a:solidFill>
              <a:srgbClr val="ffffff"/>
            </a:solidFill>
            <a:ln w="1908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arzan </a:t>
              </a:r>
              <a:r>
                <a:rPr b="0" lang="en-US" sz="1600" spc="-1" strike="noStrike">
                  <a:solidFill>
                    <a:srgbClr val="000000"/>
                  </a:solidFill>
                  <a:latin typeface="Times New Roman"/>
                  <a:ea typeface="Times New Roman"/>
                </a:rPr>
                <a:t>(R) is a registered trademark of Edgar Rice Burroughs, Inc.</a:t>
              </a:r>
              <a:endParaRPr b="0" lang="en-US" sz="1600" spc="-1" strike="noStrike">
                <a:solidFill>
                  <a:srgbClr val="000000"/>
                </a:solidFill>
                <a:latin typeface="Times New Roman"/>
              </a:endParaRPr>
            </a:p>
          </p:txBody>
        </p:sp>
        <p:pic>
          <p:nvPicPr>
            <p:cNvPr id="2133" name="" descr=""/>
            <p:cNvPicPr/>
            <p:nvPr/>
          </p:nvPicPr>
          <p:blipFill>
            <a:blip r:embed="rId1"/>
            <a:stretch/>
          </p:blipFill>
          <p:spPr>
            <a:xfrm>
              <a:off x="5720040" y="5094360"/>
              <a:ext cx="1371600" cy="847800"/>
            </a:xfrm>
            <a:prstGeom prst="rect">
              <a:avLst/>
            </a:prstGeom>
            <a:ln w="0">
              <a:noFill/>
            </a:ln>
          </p:spPr>
        </p:pic>
        <p:sp>
          <p:nvSpPr>
            <p:cNvPr id="2134" name=""/>
            <p:cNvSpPr/>
            <p:nvPr/>
          </p:nvSpPr>
          <p:spPr>
            <a:xfrm>
              <a:off x="5850000" y="5783400"/>
              <a:ext cx="1017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7067880" y="5783400"/>
              <a:ext cx="474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5275440" y="5783400"/>
              <a:ext cx="459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7" name=""/>
          <p:cNvSpPr/>
          <p:nvPr/>
        </p:nvSpPr>
        <p:spPr>
          <a:xfrm>
            <a:off x="174600" y="0"/>
            <a:ext cx="8763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e call our algorithm… Tarzan!</a:t>
            </a:r>
            <a:endParaRPr b="0" lang="en-US" sz="4800" spc="-1" strike="noStrike">
              <a:solidFill>
                <a:srgbClr val="000000"/>
              </a:solidFill>
              <a:latin typeface="Times New Roman"/>
            </a:endParaRPr>
          </a:p>
        </p:txBody>
      </p:sp>
      <p:pic>
        <p:nvPicPr>
          <p:cNvPr id="2138" name="homer_rags" descr=""/>
          <p:cNvPicPr/>
          <p:nvPr/>
        </p:nvPicPr>
        <p:blipFill>
          <a:blip r:embed="rId2"/>
          <a:stretch/>
        </p:blipFill>
        <p:spPr>
          <a:xfrm>
            <a:off x="162000" y="2340000"/>
            <a:ext cx="2117520" cy="4255920"/>
          </a:xfrm>
          <a:prstGeom prst="rect">
            <a:avLst/>
          </a:prstGeom>
          <a:ln w="0">
            <a:noFill/>
          </a:ln>
        </p:spPr>
      </p:pic>
      <p:grpSp>
        <p:nvGrpSpPr>
          <p:cNvPr id="2139" name=""/>
          <p:cNvGrpSpPr/>
          <p:nvPr/>
        </p:nvGrpSpPr>
        <p:grpSpPr>
          <a:xfrm>
            <a:off x="5535720" y="857160"/>
            <a:ext cx="357120" cy="360"/>
            <a:chOff x="5535720" y="857160"/>
            <a:chExt cx="357120" cy="360"/>
          </a:xfrm>
        </p:grpSpPr>
        <p:sp>
          <p:nvSpPr>
            <p:cNvPr id="2140" name=""/>
            <p:cNvSpPr/>
            <p:nvPr/>
          </p:nvSpPr>
          <p:spPr>
            <a:xfrm>
              <a:off x="5535720" y="857160"/>
              <a:ext cx="35712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1" name=""/>
            <p:cNvSpPr/>
            <p:nvPr/>
          </p:nvSpPr>
          <p:spPr>
            <a:xfrm>
              <a:off x="5535720" y="857160"/>
              <a:ext cx="35712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pic>
        <p:nvPicPr>
          <p:cNvPr id="2142" name="theflanders" descr=""/>
          <p:cNvPicPr/>
          <p:nvPr/>
        </p:nvPicPr>
        <p:blipFill>
          <a:blip r:embed="rId3"/>
          <a:stretch/>
        </p:blipFill>
        <p:spPr>
          <a:xfrm>
            <a:off x="6453360" y="1927080"/>
            <a:ext cx="2690640" cy="3144960"/>
          </a:xfrm>
          <a:prstGeom prst="rect">
            <a:avLst/>
          </a:prstGeom>
          <a:ln w="0">
            <a:noFill/>
          </a:ln>
        </p:spPr>
      </p:pic>
      <p:sp>
        <p:nvSpPr>
          <p:cNvPr id="2143" name=""/>
          <p:cNvSpPr/>
          <p:nvPr/>
        </p:nvSpPr>
        <p:spPr>
          <a:xfrm>
            <a:off x="2100240" y="1131840"/>
            <a:ext cx="4284720" cy="3956040"/>
          </a:xfrm>
          <a:prstGeom prst="wedgeRoundRectCallout">
            <a:avLst>
              <a:gd name="adj1" fmla="val 60856"/>
              <a:gd name="adj2" fmla="val -8907"/>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t>
            </a:r>
            <a:r>
              <a:rPr b="0" lang="en-US" sz="2600" spc="-1" strike="noStrike">
                <a:solidFill>
                  <a:srgbClr val="000000"/>
                </a:solidFill>
                <a:latin typeface="Comic Sans MS"/>
              </a:rPr>
              <a:t>Tarzan” is not an acronym. It is a pun on the fact that the heart of the algorithm relies comparing two suffix trees, “tree to tre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r, I hate to be a fuddy-duddy, but could you put on some pa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60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Outline of Talk</a:t>
            </a:r>
            <a:endParaRPr b="0" lang="en-US" sz="6000" spc="-1" strike="noStrike">
              <a:solidFill>
                <a:srgbClr val="000000"/>
              </a:solidFill>
              <a:latin typeface="Times New Roman"/>
            </a:endParaRPr>
          </a:p>
        </p:txBody>
      </p:sp>
      <p:sp>
        <p:nvSpPr>
          <p:cNvPr id="53" name=""/>
          <p:cNvSpPr/>
          <p:nvPr/>
        </p:nvSpPr>
        <p:spPr>
          <a:xfrm>
            <a:off x="260280" y="1208160"/>
            <a:ext cx="8883720" cy="512028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 </a:t>
            </a:r>
            <a:r>
              <a:rPr b="1" lang="en-US" sz="3100" spc="-1" strike="noStrike">
                <a:solidFill>
                  <a:srgbClr val="000000"/>
                </a:solidFill>
                <a:latin typeface="Times New Roman"/>
                <a:ea typeface="Arial"/>
              </a:rPr>
              <a:t>Prologue: </a:t>
            </a:r>
            <a:r>
              <a:rPr b="0" lang="en-US" sz="3100" spc="-1" strike="noStrike">
                <a:solidFill>
                  <a:srgbClr val="000000"/>
                </a:solidFill>
                <a:latin typeface="Times New Roman"/>
                <a:ea typeface="Arial"/>
              </a:rPr>
              <a:t>Background on Time Series Data Mining</a:t>
            </a:r>
            <a:endParaRPr b="0" lang="en-US" sz="3100" spc="-1" strike="noStrike">
              <a:solidFill>
                <a:srgbClr val="000000"/>
              </a:solidFill>
              <a:latin typeface="Times New Roman"/>
            </a:endParaRPr>
          </a:p>
          <a:p>
            <a:pPr>
              <a:lnSpc>
                <a:spcPct val="12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 </a:t>
            </a:r>
            <a:r>
              <a:rPr b="0" lang="en-US" sz="3200" spc="-1" strike="noStrike">
                <a:solidFill>
                  <a:srgbClr val="000000"/>
                </a:solidFill>
                <a:latin typeface="Times New Roman"/>
                <a:ea typeface="Arial"/>
              </a:rPr>
              <a:t>The importance of the </a:t>
            </a:r>
            <a:r>
              <a:rPr b="1" lang="en-US" sz="3200" spc="-1" strike="noStrike">
                <a:solidFill>
                  <a:srgbClr val="000000"/>
                </a:solidFill>
                <a:latin typeface="Times New Roman"/>
                <a:ea typeface="Arial"/>
              </a:rPr>
              <a:t>right</a:t>
            </a:r>
            <a:r>
              <a:rPr b="0" lang="en-US" sz="3200" spc="-1" strike="noStrike">
                <a:solidFill>
                  <a:srgbClr val="000000"/>
                </a:solidFill>
                <a:latin typeface="Times New Roman"/>
                <a:ea typeface="Arial"/>
              </a:rPr>
              <a:t> representation</a:t>
            </a:r>
            <a:endParaRPr b="0" lang="en-US" sz="3200" spc="-1" strike="noStrike">
              <a:solidFill>
                <a:srgbClr val="000000"/>
              </a:solidFill>
              <a:latin typeface="Times New Roman"/>
            </a:endParaRPr>
          </a:p>
          <a:p>
            <a:pPr>
              <a:lnSpc>
                <a:spcPct val="12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 </a:t>
            </a:r>
            <a:r>
              <a:rPr b="0" lang="en-US" sz="3200" spc="-1" strike="noStrike">
                <a:solidFill>
                  <a:srgbClr val="000000"/>
                </a:solidFill>
                <a:latin typeface="Times New Roman"/>
                <a:ea typeface="Arial"/>
              </a:rPr>
              <a:t>A new symbolic representation </a:t>
            </a:r>
            <a:endParaRPr b="0" lang="en-US" sz="3200" spc="-1" strike="noStrike">
              <a:solidFill>
                <a:srgbClr val="000000"/>
              </a:solidFill>
              <a:latin typeface="Times New Roman"/>
            </a:endParaRPr>
          </a:p>
          <a:p>
            <a:pPr lvl="2" marL="914400">
              <a:lnSpc>
                <a:spcPct val="12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motif discovery</a:t>
            </a:r>
            <a:endParaRPr b="0" lang="en-US" sz="2800" spc="-1" strike="noStrike">
              <a:solidFill>
                <a:srgbClr val="000000"/>
              </a:solidFill>
              <a:latin typeface="Times New Roman"/>
            </a:endParaRPr>
          </a:p>
          <a:p>
            <a:pPr lvl="2" marL="914400">
              <a:lnSpc>
                <a:spcPct val="12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anomaly detection</a:t>
            </a:r>
            <a:endParaRPr b="0" lang="en-US" sz="2800" spc="-1" strike="noStrike">
              <a:solidFill>
                <a:srgbClr val="000000"/>
              </a:solidFill>
              <a:latin typeface="Times New Roman"/>
            </a:endParaRPr>
          </a:p>
          <a:p>
            <a:pPr lvl="2" marL="914400">
              <a:lnSpc>
                <a:spcPct val="12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visualization</a:t>
            </a:r>
            <a:endParaRPr b="0" lang="en-US" sz="2800" spc="-1" strike="noStrike">
              <a:solidFill>
                <a:srgbClr val="000000"/>
              </a:solidFill>
              <a:latin typeface="Times New Roman"/>
            </a:endParaRPr>
          </a:p>
          <a:p>
            <a:pPr lvl="2" marL="914400">
              <a:lnSpc>
                <a:spcPct val="12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Appendix: classification, clustering, indexing</a:t>
            </a:r>
            <a:endParaRPr b="0" lang="en-US" sz="2800" spc="-1" strike="noStrike">
              <a:solidFill>
                <a:srgbClr val="000000"/>
              </a:solidFill>
              <a:latin typeface="Times New Roman"/>
            </a:endParaRPr>
          </a:p>
          <a:p>
            <a:pPr>
              <a:lnSpc>
                <a:spcPct val="12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4" name="" descr=""/>
          <p:cNvPicPr/>
          <p:nvPr/>
        </p:nvPicPr>
        <p:blipFill>
          <a:blip r:embed="rId1"/>
          <a:stretch/>
        </p:blipFill>
        <p:spPr>
          <a:xfrm>
            <a:off x="7454880" y="212760"/>
            <a:ext cx="1289160" cy="2687760"/>
          </a:xfrm>
          <a:prstGeom prst="rect">
            <a:avLst/>
          </a:prstGeom>
          <a:ln w="0">
            <a:noFill/>
          </a:ln>
        </p:spPr>
      </p:pic>
      <p:pic>
        <p:nvPicPr>
          <p:cNvPr id="2145" name="" descr=""/>
          <p:cNvPicPr/>
          <p:nvPr/>
        </p:nvPicPr>
        <p:blipFill>
          <a:blip r:embed="rId2"/>
          <a:stretch/>
        </p:blipFill>
        <p:spPr>
          <a:xfrm>
            <a:off x="-133200" y="2800440"/>
            <a:ext cx="2323800" cy="2619360"/>
          </a:xfrm>
          <a:prstGeom prst="rect">
            <a:avLst/>
          </a:prstGeom>
          <a:ln w="0">
            <a:noFill/>
          </a:ln>
        </p:spPr>
      </p:pic>
      <p:sp>
        <p:nvSpPr>
          <p:cNvPr id="2146" name=""/>
          <p:cNvSpPr/>
          <p:nvPr/>
        </p:nvSpPr>
        <p:spPr>
          <a:xfrm>
            <a:off x="2343240" y="2847960"/>
            <a:ext cx="6462720" cy="2840040"/>
          </a:xfrm>
          <a:prstGeom prst="wedgeRoundRectCallout">
            <a:avLst>
              <a:gd name="adj1" fmla="val -60833"/>
              <a:gd name="adj2" fmla="val 14171"/>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finition 1:</a:t>
            </a:r>
            <a:r>
              <a:rPr b="0" lang="en-US" sz="2400" spc="-1" strike="noStrike">
                <a:solidFill>
                  <a:srgbClr val="000000"/>
                </a:solidFill>
                <a:latin typeface="Comic Sans MS"/>
              </a:rPr>
              <a:t> A time series pattern </a:t>
            </a:r>
            <a:r>
              <a:rPr b="0" i="1" lang="en-US" sz="2400" spc="-1" strike="noStrike">
                <a:solidFill>
                  <a:srgbClr val="000000"/>
                </a:solidFill>
                <a:latin typeface="Times New Roman"/>
              </a:rPr>
              <a:t>P</a:t>
            </a:r>
            <a:r>
              <a:rPr b="0" lang="en-US" sz="2400" spc="-1" strike="noStrike">
                <a:solidFill>
                  <a:srgbClr val="000000"/>
                </a:solidFill>
                <a:latin typeface="Comic Sans MS"/>
              </a:rPr>
              <a:t>, extracted from database </a:t>
            </a:r>
            <a:r>
              <a:rPr b="0" i="1" lang="en-US" sz="2400" spc="-1" strike="noStrike">
                <a:solidFill>
                  <a:srgbClr val="000000"/>
                </a:solidFill>
                <a:latin typeface="Times New Roman"/>
              </a:rPr>
              <a:t>X</a:t>
            </a:r>
            <a:r>
              <a:rPr b="0" lang="en-US" sz="2400" spc="-1" strike="noStrike">
                <a:solidFill>
                  <a:srgbClr val="000000"/>
                </a:solidFill>
                <a:latin typeface="Comic Sans MS"/>
              </a:rPr>
              <a:t> is surprising relative to a database </a:t>
            </a:r>
            <a:r>
              <a:rPr b="0" i="1" lang="en-US" sz="2400" spc="-1" strike="noStrike">
                <a:solidFill>
                  <a:srgbClr val="000000"/>
                </a:solidFill>
                <a:latin typeface="Times New Roman"/>
              </a:rPr>
              <a:t>R</a:t>
            </a:r>
            <a:r>
              <a:rPr b="0" lang="en-US" sz="2400" spc="-1" strike="noStrike">
                <a:solidFill>
                  <a:srgbClr val="000000"/>
                </a:solidFill>
                <a:latin typeface="Comic Sans MS"/>
              </a:rPr>
              <a:t>, if the probability of its occurrence is greatly different to that expected by chance, assuming that </a:t>
            </a:r>
            <a:r>
              <a:rPr b="0" i="1" lang="en-US" sz="2400" spc="-1" strike="noStrike">
                <a:solidFill>
                  <a:srgbClr val="000000"/>
                </a:solidFill>
                <a:latin typeface="Times New Roman"/>
              </a:rPr>
              <a:t>R</a:t>
            </a:r>
            <a:r>
              <a:rPr b="0" lang="en-US" sz="2400" spc="-1" strike="noStrike">
                <a:solidFill>
                  <a:srgbClr val="000000"/>
                </a:solidFill>
                <a:latin typeface="Comic Sans MS"/>
              </a:rPr>
              <a:t> and </a:t>
            </a:r>
            <a:r>
              <a:rPr b="0" i="1" lang="en-US" sz="2400" spc="-1" strike="noStrike">
                <a:solidFill>
                  <a:srgbClr val="000000"/>
                </a:solidFill>
                <a:latin typeface="Times New Roman"/>
              </a:rPr>
              <a:t>X</a:t>
            </a:r>
            <a:r>
              <a:rPr b="0" lang="en-US" sz="2400" spc="-1" strike="noStrike">
                <a:solidFill>
                  <a:srgbClr val="000000"/>
                </a:solidFill>
                <a:latin typeface="Comic Sans MS"/>
              </a:rPr>
              <a:t> are created by the same underlying proc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7" name=""/>
          <p:cNvSpPr/>
          <p:nvPr/>
        </p:nvSpPr>
        <p:spPr>
          <a:xfrm>
            <a:off x="1622520" y="114480"/>
            <a:ext cx="5289480" cy="1253880"/>
          </a:xfrm>
          <a:prstGeom prst="wedgeRoundRectCallout">
            <a:avLst>
              <a:gd name="adj1" fmla="val 59365"/>
              <a:gd name="adj2" fmla="val 31898"/>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begin by defining some terms… Professor Frink?</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48" name="" descr=""/>
          <p:cNvPicPr/>
          <p:nvPr/>
        </p:nvPicPr>
        <p:blipFill>
          <a:blip r:embed="rId3"/>
          <a:stretch/>
        </p:blipFill>
        <p:spPr>
          <a:xfrm>
            <a:off x="158760" y="660240"/>
            <a:ext cx="1314360" cy="1886040"/>
          </a:xfrm>
          <a:prstGeom prst="rect">
            <a:avLst/>
          </a:prstGeom>
          <a:ln w="0">
            <a:noFill/>
          </a:ln>
        </p:spPr>
      </p:pic>
      <p:grpSp>
        <p:nvGrpSpPr>
          <p:cNvPr id="2149" name=""/>
          <p:cNvGrpSpPr/>
          <p:nvPr/>
        </p:nvGrpSpPr>
        <p:grpSpPr>
          <a:xfrm>
            <a:off x="1531800" y="5897520"/>
            <a:ext cx="6583320" cy="835200"/>
            <a:chOff x="1531800" y="5897520"/>
            <a:chExt cx="6583320" cy="835200"/>
          </a:xfrm>
        </p:grpSpPr>
        <p:sp>
          <p:nvSpPr>
            <p:cNvPr id="2150" name=""/>
            <p:cNvSpPr/>
            <p:nvPr/>
          </p:nvSpPr>
          <p:spPr>
            <a:xfrm>
              <a:off x="1531800" y="5897520"/>
              <a:ext cx="6583320" cy="83520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1" name=""/>
            <p:cNvGrpSpPr/>
            <p:nvPr/>
          </p:nvGrpSpPr>
          <p:grpSpPr>
            <a:xfrm>
              <a:off x="1653840" y="5961960"/>
              <a:ext cx="6433920" cy="717480"/>
              <a:chOff x="1653840" y="5961960"/>
              <a:chExt cx="6433920" cy="717480"/>
            </a:xfrm>
          </p:grpSpPr>
          <p:sp>
            <p:nvSpPr>
              <p:cNvPr id="2152" name=""/>
              <p:cNvSpPr/>
              <p:nvPr/>
            </p:nvSpPr>
            <p:spPr>
              <a:xfrm>
                <a:off x="1653840" y="5977080"/>
                <a:ext cx="1388880" cy="678600"/>
              </a:xfrm>
              <a:custGeom>
                <a:avLst/>
                <a:gdLst/>
                <a:ahLst/>
                <a:rect l="l" t="t" r="r" b="b"/>
                <a:pathLst>
                  <a:path w="1322" h="1154">
                    <a:moveTo>
                      <a:pt x="0" y="449"/>
                    </a:moveTo>
                    <a:lnTo>
                      <a:pt x="15" y="449"/>
                    </a:lnTo>
                    <a:lnTo>
                      <a:pt x="28" y="449"/>
                    </a:lnTo>
                    <a:lnTo>
                      <a:pt x="43" y="423"/>
                    </a:lnTo>
                    <a:lnTo>
                      <a:pt x="43" y="308"/>
                    </a:lnTo>
                    <a:lnTo>
                      <a:pt x="58" y="282"/>
                    </a:lnTo>
                    <a:lnTo>
                      <a:pt x="58" y="243"/>
                    </a:lnTo>
                    <a:lnTo>
                      <a:pt x="58" y="347"/>
                    </a:lnTo>
                    <a:lnTo>
                      <a:pt x="72" y="410"/>
                    </a:lnTo>
                    <a:lnTo>
                      <a:pt x="72" y="860"/>
                    </a:lnTo>
                    <a:lnTo>
                      <a:pt x="87" y="911"/>
                    </a:lnTo>
                    <a:lnTo>
                      <a:pt x="87" y="1142"/>
                    </a:lnTo>
                    <a:lnTo>
                      <a:pt x="102" y="1129"/>
                    </a:lnTo>
                    <a:lnTo>
                      <a:pt x="102" y="731"/>
                    </a:lnTo>
                    <a:lnTo>
                      <a:pt x="115" y="667"/>
                    </a:lnTo>
                    <a:lnTo>
                      <a:pt x="115" y="384"/>
                    </a:lnTo>
                    <a:lnTo>
                      <a:pt x="130" y="372"/>
                    </a:lnTo>
                    <a:lnTo>
                      <a:pt x="130" y="282"/>
                    </a:lnTo>
                    <a:lnTo>
                      <a:pt x="145" y="269"/>
                    </a:lnTo>
                    <a:lnTo>
                      <a:pt x="145" y="243"/>
                    </a:lnTo>
                    <a:lnTo>
                      <a:pt x="159" y="231"/>
                    </a:lnTo>
                    <a:lnTo>
                      <a:pt x="159" y="192"/>
                    </a:lnTo>
                    <a:lnTo>
                      <a:pt x="174" y="180"/>
                    </a:lnTo>
                    <a:lnTo>
                      <a:pt x="174" y="155"/>
                    </a:lnTo>
                    <a:lnTo>
                      <a:pt x="189" y="141"/>
                    </a:lnTo>
                    <a:lnTo>
                      <a:pt x="189" y="77"/>
                    </a:lnTo>
                    <a:lnTo>
                      <a:pt x="202" y="65"/>
                    </a:lnTo>
                    <a:lnTo>
                      <a:pt x="202" y="26"/>
                    </a:lnTo>
                    <a:lnTo>
                      <a:pt x="232" y="0"/>
                    </a:lnTo>
                    <a:lnTo>
                      <a:pt x="217" y="0"/>
                    </a:lnTo>
                    <a:lnTo>
                      <a:pt x="232" y="77"/>
                    </a:lnTo>
                    <a:lnTo>
                      <a:pt x="247" y="90"/>
                    </a:lnTo>
                    <a:lnTo>
                      <a:pt x="247" y="192"/>
                    </a:lnTo>
                    <a:lnTo>
                      <a:pt x="261" y="206"/>
                    </a:lnTo>
                    <a:lnTo>
                      <a:pt x="261" y="296"/>
                    </a:lnTo>
                    <a:lnTo>
                      <a:pt x="276" y="308"/>
                    </a:lnTo>
                    <a:lnTo>
                      <a:pt x="276" y="359"/>
                    </a:lnTo>
                    <a:lnTo>
                      <a:pt x="304" y="384"/>
                    </a:lnTo>
                    <a:lnTo>
                      <a:pt x="304" y="398"/>
                    </a:lnTo>
                    <a:lnTo>
                      <a:pt x="319" y="410"/>
                    </a:lnTo>
                    <a:lnTo>
                      <a:pt x="334" y="410"/>
                    </a:lnTo>
                    <a:lnTo>
                      <a:pt x="348" y="398"/>
                    </a:lnTo>
                    <a:lnTo>
                      <a:pt x="363" y="398"/>
                    </a:lnTo>
                    <a:lnTo>
                      <a:pt x="378" y="384"/>
                    </a:lnTo>
                    <a:lnTo>
                      <a:pt x="391" y="398"/>
                    </a:lnTo>
                    <a:lnTo>
                      <a:pt x="406" y="398"/>
                    </a:lnTo>
                    <a:lnTo>
                      <a:pt x="421" y="410"/>
                    </a:lnTo>
                    <a:lnTo>
                      <a:pt x="435" y="410"/>
                    </a:lnTo>
                    <a:lnTo>
                      <a:pt x="450" y="423"/>
                    </a:lnTo>
                    <a:lnTo>
                      <a:pt x="465" y="423"/>
                    </a:lnTo>
                    <a:lnTo>
                      <a:pt x="480" y="437"/>
                    </a:lnTo>
                    <a:lnTo>
                      <a:pt x="493" y="437"/>
                    </a:lnTo>
                    <a:lnTo>
                      <a:pt x="508" y="437"/>
                    </a:lnTo>
                    <a:lnTo>
                      <a:pt x="523" y="437"/>
                    </a:lnTo>
                    <a:lnTo>
                      <a:pt x="537" y="437"/>
                    </a:lnTo>
                    <a:lnTo>
                      <a:pt x="552" y="437"/>
                    </a:lnTo>
                    <a:lnTo>
                      <a:pt x="567" y="437"/>
                    </a:lnTo>
                    <a:lnTo>
                      <a:pt x="580" y="437"/>
                    </a:lnTo>
                    <a:lnTo>
                      <a:pt x="595" y="437"/>
                    </a:lnTo>
                    <a:lnTo>
                      <a:pt x="610" y="437"/>
                    </a:lnTo>
                    <a:lnTo>
                      <a:pt x="624" y="437"/>
                    </a:lnTo>
                    <a:lnTo>
                      <a:pt x="639" y="437"/>
                    </a:lnTo>
                    <a:lnTo>
                      <a:pt x="654" y="437"/>
                    </a:lnTo>
                    <a:lnTo>
                      <a:pt x="669" y="449"/>
                    </a:lnTo>
                    <a:lnTo>
                      <a:pt x="683" y="449"/>
                    </a:lnTo>
                    <a:lnTo>
                      <a:pt x="698" y="462"/>
                    </a:lnTo>
                    <a:lnTo>
                      <a:pt x="713" y="449"/>
                    </a:lnTo>
                    <a:lnTo>
                      <a:pt x="726" y="437"/>
                    </a:lnTo>
                    <a:lnTo>
                      <a:pt x="726" y="423"/>
                    </a:lnTo>
                    <a:lnTo>
                      <a:pt x="741" y="398"/>
                    </a:lnTo>
                    <a:lnTo>
                      <a:pt x="741" y="269"/>
                    </a:lnTo>
                    <a:lnTo>
                      <a:pt x="756" y="257"/>
                    </a:lnTo>
                    <a:lnTo>
                      <a:pt x="756" y="513"/>
                    </a:lnTo>
                    <a:lnTo>
                      <a:pt x="770" y="590"/>
                    </a:lnTo>
                    <a:lnTo>
                      <a:pt x="770" y="1013"/>
                    </a:lnTo>
                    <a:lnTo>
                      <a:pt x="785" y="1052"/>
                    </a:lnTo>
                    <a:lnTo>
                      <a:pt x="785" y="1154"/>
                    </a:lnTo>
                    <a:lnTo>
                      <a:pt x="785" y="1103"/>
                    </a:lnTo>
                    <a:lnTo>
                      <a:pt x="800" y="1064"/>
                    </a:lnTo>
                    <a:lnTo>
                      <a:pt x="800" y="590"/>
                    </a:lnTo>
                    <a:lnTo>
                      <a:pt x="813" y="539"/>
                    </a:lnTo>
                    <a:lnTo>
                      <a:pt x="813" y="333"/>
                    </a:lnTo>
                    <a:lnTo>
                      <a:pt x="828" y="321"/>
                    </a:lnTo>
                    <a:lnTo>
                      <a:pt x="828" y="269"/>
                    </a:lnTo>
                    <a:lnTo>
                      <a:pt x="843" y="257"/>
                    </a:lnTo>
                    <a:lnTo>
                      <a:pt x="843" y="231"/>
                    </a:lnTo>
                    <a:lnTo>
                      <a:pt x="857" y="218"/>
                    </a:lnTo>
                    <a:lnTo>
                      <a:pt x="857" y="180"/>
                    </a:lnTo>
                    <a:lnTo>
                      <a:pt x="872" y="167"/>
                    </a:lnTo>
                    <a:lnTo>
                      <a:pt x="872" y="128"/>
                    </a:lnTo>
                    <a:lnTo>
                      <a:pt x="887" y="116"/>
                    </a:lnTo>
                    <a:lnTo>
                      <a:pt x="887" y="65"/>
                    </a:lnTo>
                    <a:lnTo>
                      <a:pt x="902" y="51"/>
                    </a:lnTo>
                    <a:lnTo>
                      <a:pt x="902" y="26"/>
                    </a:lnTo>
                    <a:lnTo>
                      <a:pt x="915" y="14"/>
                    </a:lnTo>
                    <a:lnTo>
                      <a:pt x="915" y="26"/>
                    </a:lnTo>
                    <a:lnTo>
                      <a:pt x="930" y="39"/>
                    </a:lnTo>
                    <a:lnTo>
                      <a:pt x="930" y="102"/>
                    </a:lnTo>
                    <a:lnTo>
                      <a:pt x="945" y="116"/>
                    </a:lnTo>
                    <a:lnTo>
                      <a:pt x="945" y="218"/>
                    </a:lnTo>
                    <a:lnTo>
                      <a:pt x="959" y="231"/>
                    </a:lnTo>
                    <a:lnTo>
                      <a:pt x="959" y="321"/>
                    </a:lnTo>
                    <a:lnTo>
                      <a:pt x="974" y="333"/>
                    </a:lnTo>
                    <a:lnTo>
                      <a:pt x="974" y="359"/>
                    </a:lnTo>
                    <a:lnTo>
                      <a:pt x="1002" y="384"/>
                    </a:lnTo>
                    <a:lnTo>
                      <a:pt x="1002" y="398"/>
                    </a:lnTo>
                    <a:lnTo>
                      <a:pt x="1017" y="410"/>
                    </a:lnTo>
                    <a:lnTo>
                      <a:pt x="1032" y="410"/>
                    </a:lnTo>
                    <a:lnTo>
                      <a:pt x="1046" y="398"/>
                    </a:lnTo>
                    <a:lnTo>
                      <a:pt x="1061" y="398"/>
                    </a:lnTo>
                    <a:lnTo>
                      <a:pt x="1076" y="398"/>
                    </a:lnTo>
                    <a:lnTo>
                      <a:pt x="1089" y="398"/>
                    </a:lnTo>
                    <a:lnTo>
                      <a:pt x="1104" y="410"/>
                    </a:lnTo>
                    <a:lnTo>
                      <a:pt x="1119" y="410"/>
                    </a:lnTo>
                    <a:lnTo>
                      <a:pt x="1134" y="423"/>
                    </a:lnTo>
                    <a:lnTo>
                      <a:pt x="1148" y="423"/>
                    </a:lnTo>
                    <a:lnTo>
                      <a:pt x="1163" y="423"/>
                    </a:lnTo>
                    <a:lnTo>
                      <a:pt x="1178" y="437"/>
                    </a:lnTo>
                    <a:lnTo>
                      <a:pt x="1191" y="437"/>
                    </a:lnTo>
                    <a:lnTo>
                      <a:pt x="1206" y="437"/>
                    </a:lnTo>
                    <a:lnTo>
                      <a:pt x="1221" y="437"/>
                    </a:lnTo>
                    <a:lnTo>
                      <a:pt x="1235" y="437"/>
                    </a:lnTo>
                    <a:lnTo>
                      <a:pt x="1250" y="449"/>
                    </a:lnTo>
                    <a:lnTo>
                      <a:pt x="1265" y="449"/>
                    </a:lnTo>
                    <a:lnTo>
                      <a:pt x="1278" y="449"/>
                    </a:lnTo>
                    <a:lnTo>
                      <a:pt x="1293" y="449"/>
                    </a:lnTo>
                    <a:lnTo>
                      <a:pt x="1308" y="449"/>
                    </a:lnTo>
                    <a:lnTo>
                      <a:pt x="1322" y="437"/>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3042720" y="5961960"/>
                <a:ext cx="1378440" cy="717480"/>
              </a:xfrm>
              <a:custGeom>
                <a:avLst/>
                <a:gdLst/>
                <a:ahLst/>
                <a:rect l="l" t="t" r="r" b="b"/>
                <a:pathLst>
                  <a:path w="1310" h="1219">
                    <a:moveTo>
                      <a:pt x="0" y="460"/>
                    </a:moveTo>
                    <a:lnTo>
                      <a:pt x="15" y="460"/>
                    </a:lnTo>
                    <a:lnTo>
                      <a:pt x="30" y="474"/>
                    </a:lnTo>
                    <a:lnTo>
                      <a:pt x="45" y="486"/>
                    </a:lnTo>
                    <a:lnTo>
                      <a:pt x="59" y="486"/>
                    </a:lnTo>
                    <a:lnTo>
                      <a:pt x="74" y="486"/>
                    </a:lnTo>
                    <a:lnTo>
                      <a:pt x="89" y="474"/>
                    </a:lnTo>
                    <a:lnTo>
                      <a:pt x="102" y="460"/>
                    </a:lnTo>
                    <a:lnTo>
                      <a:pt x="102" y="358"/>
                    </a:lnTo>
                    <a:lnTo>
                      <a:pt x="117" y="345"/>
                    </a:lnTo>
                    <a:lnTo>
                      <a:pt x="117" y="294"/>
                    </a:lnTo>
                    <a:lnTo>
                      <a:pt x="117" y="358"/>
                    </a:lnTo>
                    <a:lnTo>
                      <a:pt x="132" y="409"/>
                    </a:lnTo>
                    <a:lnTo>
                      <a:pt x="132" y="936"/>
                    </a:lnTo>
                    <a:lnTo>
                      <a:pt x="146" y="987"/>
                    </a:lnTo>
                    <a:lnTo>
                      <a:pt x="146" y="1193"/>
                    </a:lnTo>
                    <a:lnTo>
                      <a:pt x="161" y="1205"/>
                    </a:lnTo>
                    <a:lnTo>
                      <a:pt x="161" y="846"/>
                    </a:lnTo>
                    <a:lnTo>
                      <a:pt x="176" y="770"/>
                    </a:lnTo>
                    <a:lnTo>
                      <a:pt x="176" y="423"/>
                    </a:lnTo>
                    <a:lnTo>
                      <a:pt x="191" y="397"/>
                    </a:lnTo>
                    <a:lnTo>
                      <a:pt x="191" y="307"/>
                    </a:lnTo>
                    <a:lnTo>
                      <a:pt x="204" y="294"/>
                    </a:lnTo>
                    <a:lnTo>
                      <a:pt x="204" y="268"/>
                    </a:lnTo>
                    <a:lnTo>
                      <a:pt x="219" y="256"/>
                    </a:lnTo>
                    <a:lnTo>
                      <a:pt x="219" y="217"/>
                    </a:lnTo>
                    <a:lnTo>
                      <a:pt x="234" y="204"/>
                    </a:lnTo>
                    <a:lnTo>
                      <a:pt x="234" y="166"/>
                    </a:lnTo>
                    <a:lnTo>
                      <a:pt x="248" y="153"/>
                    </a:lnTo>
                    <a:lnTo>
                      <a:pt x="248" y="102"/>
                    </a:lnTo>
                    <a:lnTo>
                      <a:pt x="263" y="88"/>
                    </a:lnTo>
                    <a:lnTo>
                      <a:pt x="263" y="37"/>
                    </a:lnTo>
                    <a:lnTo>
                      <a:pt x="278" y="25"/>
                    </a:lnTo>
                    <a:lnTo>
                      <a:pt x="278" y="0"/>
                    </a:lnTo>
                    <a:lnTo>
                      <a:pt x="291" y="12"/>
                    </a:lnTo>
                    <a:lnTo>
                      <a:pt x="291" y="51"/>
                    </a:lnTo>
                    <a:lnTo>
                      <a:pt x="306" y="63"/>
                    </a:lnTo>
                    <a:lnTo>
                      <a:pt x="306" y="178"/>
                    </a:lnTo>
                    <a:lnTo>
                      <a:pt x="321" y="192"/>
                    </a:lnTo>
                    <a:lnTo>
                      <a:pt x="321" y="307"/>
                    </a:lnTo>
                    <a:lnTo>
                      <a:pt x="335" y="319"/>
                    </a:lnTo>
                    <a:lnTo>
                      <a:pt x="335" y="372"/>
                    </a:lnTo>
                    <a:lnTo>
                      <a:pt x="350" y="384"/>
                    </a:lnTo>
                    <a:lnTo>
                      <a:pt x="350" y="397"/>
                    </a:lnTo>
                    <a:lnTo>
                      <a:pt x="380" y="423"/>
                    </a:lnTo>
                    <a:lnTo>
                      <a:pt x="365" y="423"/>
                    </a:lnTo>
                    <a:lnTo>
                      <a:pt x="380" y="423"/>
                    </a:lnTo>
                    <a:lnTo>
                      <a:pt x="393" y="423"/>
                    </a:lnTo>
                    <a:lnTo>
                      <a:pt x="408" y="423"/>
                    </a:lnTo>
                    <a:lnTo>
                      <a:pt x="423" y="423"/>
                    </a:lnTo>
                    <a:lnTo>
                      <a:pt x="437" y="409"/>
                    </a:lnTo>
                    <a:lnTo>
                      <a:pt x="452" y="409"/>
                    </a:lnTo>
                    <a:lnTo>
                      <a:pt x="467" y="423"/>
                    </a:lnTo>
                    <a:lnTo>
                      <a:pt x="480" y="435"/>
                    </a:lnTo>
                    <a:lnTo>
                      <a:pt x="495" y="435"/>
                    </a:lnTo>
                    <a:lnTo>
                      <a:pt x="510" y="448"/>
                    </a:lnTo>
                    <a:lnTo>
                      <a:pt x="524" y="448"/>
                    </a:lnTo>
                    <a:lnTo>
                      <a:pt x="539" y="460"/>
                    </a:lnTo>
                    <a:lnTo>
                      <a:pt x="554" y="460"/>
                    </a:lnTo>
                    <a:lnTo>
                      <a:pt x="569" y="460"/>
                    </a:lnTo>
                    <a:lnTo>
                      <a:pt x="582" y="460"/>
                    </a:lnTo>
                    <a:lnTo>
                      <a:pt x="597" y="460"/>
                    </a:lnTo>
                    <a:lnTo>
                      <a:pt x="612" y="460"/>
                    </a:lnTo>
                    <a:lnTo>
                      <a:pt x="626" y="460"/>
                    </a:lnTo>
                    <a:lnTo>
                      <a:pt x="641" y="460"/>
                    </a:lnTo>
                    <a:lnTo>
                      <a:pt x="656" y="460"/>
                    </a:lnTo>
                    <a:lnTo>
                      <a:pt x="669" y="474"/>
                    </a:lnTo>
                    <a:lnTo>
                      <a:pt x="684" y="460"/>
                    </a:lnTo>
                    <a:lnTo>
                      <a:pt x="699" y="460"/>
                    </a:lnTo>
                    <a:lnTo>
                      <a:pt x="714" y="460"/>
                    </a:lnTo>
                    <a:lnTo>
                      <a:pt x="728" y="460"/>
                    </a:lnTo>
                    <a:lnTo>
                      <a:pt x="743" y="474"/>
                    </a:lnTo>
                    <a:lnTo>
                      <a:pt x="758" y="486"/>
                    </a:lnTo>
                    <a:lnTo>
                      <a:pt x="772" y="474"/>
                    </a:lnTo>
                    <a:lnTo>
                      <a:pt x="787" y="474"/>
                    </a:lnTo>
                    <a:lnTo>
                      <a:pt x="802" y="448"/>
                    </a:lnTo>
                    <a:lnTo>
                      <a:pt x="802" y="345"/>
                    </a:lnTo>
                    <a:lnTo>
                      <a:pt x="815" y="333"/>
                    </a:lnTo>
                    <a:lnTo>
                      <a:pt x="815" y="282"/>
                    </a:lnTo>
                    <a:lnTo>
                      <a:pt x="815" y="423"/>
                    </a:lnTo>
                    <a:lnTo>
                      <a:pt x="830" y="486"/>
                    </a:lnTo>
                    <a:lnTo>
                      <a:pt x="830" y="962"/>
                    </a:lnTo>
                    <a:lnTo>
                      <a:pt x="845" y="1013"/>
                    </a:lnTo>
                    <a:lnTo>
                      <a:pt x="845" y="1219"/>
                    </a:lnTo>
                    <a:lnTo>
                      <a:pt x="859" y="1205"/>
                    </a:lnTo>
                    <a:lnTo>
                      <a:pt x="859" y="744"/>
                    </a:lnTo>
                    <a:lnTo>
                      <a:pt x="874" y="680"/>
                    </a:lnTo>
                    <a:lnTo>
                      <a:pt x="874" y="409"/>
                    </a:lnTo>
                    <a:lnTo>
                      <a:pt x="889" y="397"/>
                    </a:lnTo>
                    <a:lnTo>
                      <a:pt x="889" y="319"/>
                    </a:lnTo>
                    <a:lnTo>
                      <a:pt x="904" y="307"/>
                    </a:lnTo>
                    <a:lnTo>
                      <a:pt x="904" y="268"/>
                    </a:lnTo>
                    <a:lnTo>
                      <a:pt x="917" y="256"/>
                    </a:lnTo>
                    <a:lnTo>
                      <a:pt x="917" y="229"/>
                    </a:lnTo>
                    <a:lnTo>
                      <a:pt x="932" y="217"/>
                    </a:lnTo>
                    <a:lnTo>
                      <a:pt x="932" y="178"/>
                    </a:lnTo>
                    <a:lnTo>
                      <a:pt x="947" y="166"/>
                    </a:lnTo>
                    <a:lnTo>
                      <a:pt x="947" y="114"/>
                    </a:lnTo>
                    <a:lnTo>
                      <a:pt x="961" y="102"/>
                    </a:lnTo>
                    <a:lnTo>
                      <a:pt x="961" y="37"/>
                    </a:lnTo>
                    <a:lnTo>
                      <a:pt x="976" y="25"/>
                    </a:lnTo>
                    <a:lnTo>
                      <a:pt x="991" y="37"/>
                    </a:lnTo>
                    <a:lnTo>
                      <a:pt x="991" y="76"/>
                    </a:lnTo>
                    <a:lnTo>
                      <a:pt x="1004" y="88"/>
                    </a:lnTo>
                    <a:lnTo>
                      <a:pt x="1004" y="217"/>
                    </a:lnTo>
                    <a:lnTo>
                      <a:pt x="1019" y="229"/>
                    </a:lnTo>
                    <a:lnTo>
                      <a:pt x="1019" y="333"/>
                    </a:lnTo>
                    <a:lnTo>
                      <a:pt x="1034" y="345"/>
                    </a:lnTo>
                    <a:lnTo>
                      <a:pt x="1034" y="397"/>
                    </a:lnTo>
                    <a:lnTo>
                      <a:pt x="1063" y="423"/>
                    </a:lnTo>
                    <a:lnTo>
                      <a:pt x="1063" y="435"/>
                    </a:lnTo>
                    <a:lnTo>
                      <a:pt x="1078" y="448"/>
                    </a:lnTo>
                    <a:lnTo>
                      <a:pt x="1093" y="448"/>
                    </a:lnTo>
                    <a:lnTo>
                      <a:pt x="1106" y="435"/>
                    </a:lnTo>
                    <a:lnTo>
                      <a:pt x="1121" y="435"/>
                    </a:lnTo>
                    <a:lnTo>
                      <a:pt x="1136" y="423"/>
                    </a:lnTo>
                    <a:lnTo>
                      <a:pt x="1150" y="423"/>
                    </a:lnTo>
                    <a:lnTo>
                      <a:pt x="1165" y="435"/>
                    </a:lnTo>
                    <a:lnTo>
                      <a:pt x="1180" y="435"/>
                    </a:lnTo>
                    <a:lnTo>
                      <a:pt x="1193" y="448"/>
                    </a:lnTo>
                    <a:lnTo>
                      <a:pt x="1208" y="448"/>
                    </a:lnTo>
                    <a:lnTo>
                      <a:pt x="1223" y="460"/>
                    </a:lnTo>
                    <a:lnTo>
                      <a:pt x="1238" y="460"/>
                    </a:lnTo>
                    <a:lnTo>
                      <a:pt x="1252" y="460"/>
                    </a:lnTo>
                    <a:lnTo>
                      <a:pt x="1267" y="460"/>
                    </a:lnTo>
                    <a:lnTo>
                      <a:pt x="1282" y="460"/>
                    </a:lnTo>
                    <a:lnTo>
                      <a:pt x="1295" y="474"/>
                    </a:lnTo>
                    <a:lnTo>
                      <a:pt x="1310" y="474"/>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4421160" y="5984280"/>
                <a:ext cx="1620000" cy="671400"/>
              </a:xfrm>
              <a:custGeom>
                <a:avLst/>
                <a:gdLst/>
                <a:ahLst/>
                <a:rect l="l" t="t" r="r" b="b"/>
                <a:pathLst>
                  <a:path w="1542" h="1142">
                    <a:moveTo>
                      <a:pt x="0" y="437"/>
                    </a:moveTo>
                    <a:lnTo>
                      <a:pt x="15" y="437"/>
                    </a:lnTo>
                    <a:lnTo>
                      <a:pt x="29" y="437"/>
                    </a:lnTo>
                    <a:lnTo>
                      <a:pt x="44" y="450"/>
                    </a:lnTo>
                    <a:lnTo>
                      <a:pt x="59" y="450"/>
                    </a:lnTo>
                    <a:lnTo>
                      <a:pt x="72" y="450"/>
                    </a:lnTo>
                    <a:lnTo>
                      <a:pt x="87" y="437"/>
                    </a:lnTo>
                    <a:lnTo>
                      <a:pt x="103" y="437"/>
                    </a:lnTo>
                    <a:lnTo>
                      <a:pt x="116" y="450"/>
                    </a:lnTo>
                    <a:lnTo>
                      <a:pt x="131" y="462"/>
                    </a:lnTo>
                    <a:lnTo>
                      <a:pt x="146" y="462"/>
                    </a:lnTo>
                    <a:lnTo>
                      <a:pt x="161" y="462"/>
                    </a:lnTo>
                    <a:lnTo>
                      <a:pt x="175" y="450"/>
                    </a:lnTo>
                    <a:lnTo>
                      <a:pt x="190" y="437"/>
                    </a:lnTo>
                    <a:lnTo>
                      <a:pt x="190" y="296"/>
                    </a:lnTo>
                    <a:lnTo>
                      <a:pt x="205" y="270"/>
                    </a:lnTo>
                    <a:lnTo>
                      <a:pt x="205" y="257"/>
                    </a:lnTo>
                    <a:lnTo>
                      <a:pt x="205" y="437"/>
                    </a:lnTo>
                    <a:lnTo>
                      <a:pt x="218" y="501"/>
                    </a:lnTo>
                    <a:lnTo>
                      <a:pt x="218" y="937"/>
                    </a:lnTo>
                    <a:lnTo>
                      <a:pt x="233" y="976"/>
                    </a:lnTo>
                    <a:lnTo>
                      <a:pt x="233" y="1142"/>
                    </a:lnTo>
                    <a:lnTo>
                      <a:pt x="233" y="1130"/>
                    </a:lnTo>
                    <a:lnTo>
                      <a:pt x="248" y="1105"/>
                    </a:lnTo>
                    <a:lnTo>
                      <a:pt x="248" y="655"/>
                    </a:lnTo>
                    <a:lnTo>
                      <a:pt x="262" y="592"/>
                    </a:lnTo>
                    <a:lnTo>
                      <a:pt x="262" y="372"/>
                    </a:lnTo>
                    <a:lnTo>
                      <a:pt x="277" y="360"/>
                    </a:lnTo>
                    <a:lnTo>
                      <a:pt x="277" y="282"/>
                    </a:lnTo>
                    <a:lnTo>
                      <a:pt x="292" y="270"/>
                    </a:lnTo>
                    <a:lnTo>
                      <a:pt x="292" y="245"/>
                    </a:lnTo>
                    <a:lnTo>
                      <a:pt x="305" y="231"/>
                    </a:lnTo>
                    <a:lnTo>
                      <a:pt x="305" y="206"/>
                    </a:lnTo>
                    <a:lnTo>
                      <a:pt x="320" y="194"/>
                    </a:lnTo>
                    <a:lnTo>
                      <a:pt x="320" y="155"/>
                    </a:lnTo>
                    <a:lnTo>
                      <a:pt x="335" y="141"/>
                    </a:lnTo>
                    <a:lnTo>
                      <a:pt x="335" y="78"/>
                    </a:lnTo>
                    <a:lnTo>
                      <a:pt x="349" y="65"/>
                    </a:lnTo>
                    <a:lnTo>
                      <a:pt x="349" y="26"/>
                    </a:lnTo>
                    <a:lnTo>
                      <a:pt x="364" y="14"/>
                    </a:lnTo>
                    <a:lnTo>
                      <a:pt x="364" y="0"/>
                    </a:lnTo>
                    <a:lnTo>
                      <a:pt x="364" y="14"/>
                    </a:lnTo>
                    <a:lnTo>
                      <a:pt x="379" y="26"/>
                    </a:lnTo>
                    <a:lnTo>
                      <a:pt x="379" y="90"/>
                    </a:lnTo>
                    <a:lnTo>
                      <a:pt x="394" y="104"/>
                    </a:lnTo>
                    <a:lnTo>
                      <a:pt x="394" y="219"/>
                    </a:lnTo>
                    <a:lnTo>
                      <a:pt x="407" y="231"/>
                    </a:lnTo>
                    <a:lnTo>
                      <a:pt x="407" y="309"/>
                    </a:lnTo>
                    <a:lnTo>
                      <a:pt x="422" y="321"/>
                    </a:lnTo>
                    <a:lnTo>
                      <a:pt x="422" y="372"/>
                    </a:lnTo>
                    <a:lnTo>
                      <a:pt x="452" y="398"/>
                    </a:lnTo>
                    <a:lnTo>
                      <a:pt x="437" y="398"/>
                    </a:lnTo>
                    <a:lnTo>
                      <a:pt x="452" y="398"/>
                    </a:lnTo>
                    <a:lnTo>
                      <a:pt x="467" y="411"/>
                    </a:lnTo>
                    <a:lnTo>
                      <a:pt x="481" y="411"/>
                    </a:lnTo>
                    <a:lnTo>
                      <a:pt x="496" y="411"/>
                    </a:lnTo>
                    <a:lnTo>
                      <a:pt x="511" y="398"/>
                    </a:lnTo>
                    <a:lnTo>
                      <a:pt x="524" y="398"/>
                    </a:lnTo>
                    <a:lnTo>
                      <a:pt x="539" y="411"/>
                    </a:lnTo>
                    <a:lnTo>
                      <a:pt x="554" y="411"/>
                    </a:lnTo>
                    <a:lnTo>
                      <a:pt x="568" y="423"/>
                    </a:lnTo>
                    <a:lnTo>
                      <a:pt x="583" y="423"/>
                    </a:lnTo>
                    <a:lnTo>
                      <a:pt x="598" y="437"/>
                    </a:lnTo>
                    <a:lnTo>
                      <a:pt x="613" y="437"/>
                    </a:lnTo>
                    <a:lnTo>
                      <a:pt x="626" y="437"/>
                    </a:lnTo>
                    <a:lnTo>
                      <a:pt x="641" y="437"/>
                    </a:lnTo>
                    <a:lnTo>
                      <a:pt x="656" y="437"/>
                    </a:lnTo>
                    <a:lnTo>
                      <a:pt x="670" y="437"/>
                    </a:lnTo>
                    <a:lnTo>
                      <a:pt x="685" y="437"/>
                    </a:lnTo>
                    <a:lnTo>
                      <a:pt x="700" y="437"/>
                    </a:lnTo>
                    <a:lnTo>
                      <a:pt x="713" y="437"/>
                    </a:lnTo>
                    <a:lnTo>
                      <a:pt x="728" y="437"/>
                    </a:lnTo>
                    <a:lnTo>
                      <a:pt x="743" y="437"/>
                    </a:lnTo>
                    <a:lnTo>
                      <a:pt x="757" y="437"/>
                    </a:lnTo>
                    <a:lnTo>
                      <a:pt x="772" y="437"/>
                    </a:lnTo>
                    <a:lnTo>
                      <a:pt x="787" y="437"/>
                    </a:lnTo>
                    <a:lnTo>
                      <a:pt x="801" y="437"/>
                    </a:lnTo>
                    <a:lnTo>
                      <a:pt x="816" y="437"/>
                    </a:lnTo>
                    <a:lnTo>
                      <a:pt x="831" y="437"/>
                    </a:lnTo>
                    <a:lnTo>
                      <a:pt x="846" y="437"/>
                    </a:lnTo>
                    <a:lnTo>
                      <a:pt x="859" y="437"/>
                    </a:lnTo>
                    <a:lnTo>
                      <a:pt x="874" y="437"/>
                    </a:lnTo>
                    <a:lnTo>
                      <a:pt x="889" y="437"/>
                    </a:lnTo>
                    <a:lnTo>
                      <a:pt x="903" y="437"/>
                    </a:lnTo>
                    <a:lnTo>
                      <a:pt x="918" y="437"/>
                    </a:lnTo>
                    <a:lnTo>
                      <a:pt x="933" y="437"/>
                    </a:lnTo>
                    <a:lnTo>
                      <a:pt x="946" y="437"/>
                    </a:lnTo>
                    <a:lnTo>
                      <a:pt x="961" y="437"/>
                    </a:lnTo>
                    <a:lnTo>
                      <a:pt x="976" y="437"/>
                    </a:lnTo>
                    <a:lnTo>
                      <a:pt x="990" y="437"/>
                    </a:lnTo>
                    <a:lnTo>
                      <a:pt x="1005" y="437"/>
                    </a:lnTo>
                    <a:lnTo>
                      <a:pt x="1020" y="437"/>
                    </a:lnTo>
                    <a:lnTo>
                      <a:pt x="1033" y="437"/>
                    </a:lnTo>
                    <a:lnTo>
                      <a:pt x="1048" y="437"/>
                    </a:lnTo>
                    <a:lnTo>
                      <a:pt x="1063" y="437"/>
                    </a:lnTo>
                    <a:lnTo>
                      <a:pt x="1078" y="437"/>
                    </a:lnTo>
                    <a:lnTo>
                      <a:pt x="1092" y="437"/>
                    </a:lnTo>
                    <a:lnTo>
                      <a:pt x="1107" y="437"/>
                    </a:lnTo>
                    <a:lnTo>
                      <a:pt x="1122" y="437"/>
                    </a:lnTo>
                    <a:lnTo>
                      <a:pt x="1135" y="437"/>
                    </a:lnTo>
                    <a:lnTo>
                      <a:pt x="1150" y="437"/>
                    </a:lnTo>
                    <a:lnTo>
                      <a:pt x="1165" y="437"/>
                    </a:lnTo>
                    <a:lnTo>
                      <a:pt x="1179" y="437"/>
                    </a:lnTo>
                    <a:lnTo>
                      <a:pt x="1194" y="437"/>
                    </a:lnTo>
                    <a:lnTo>
                      <a:pt x="1209" y="437"/>
                    </a:lnTo>
                    <a:lnTo>
                      <a:pt x="1222" y="437"/>
                    </a:lnTo>
                    <a:lnTo>
                      <a:pt x="1237" y="437"/>
                    </a:lnTo>
                    <a:lnTo>
                      <a:pt x="1252" y="437"/>
                    </a:lnTo>
                    <a:lnTo>
                      <a:pt x="1266" y="437"/>
                    </a:lnTo>
                    <a:lnTo>
                      <a:pt x="1281" y="437"/>
                    </a:lnTo>
                    <a:lnTo>
                      <a:pt x="1296" y="437"/>
                    </a:lnTo>
                    <a:lnTo>
                      <a:pt x="1311" y="437"/>
                    </a:lnTo>
                    <a:lnTo>
                      <a:pt x="1324" y="437"/>
                    </a:lnTo>
                    <a:lnTo>
                      <a:pt x="1339" y="437"/>
                    </a:lnTo>
                    <a:lnTo>
                      <a:pt x="1354" y="437"/>
                    </a:lnTo>
                    <a:lnTo>
                      <a:pt x="1368" y="437"/>
                    </a:lnTo>
                    <a:lnTo>
                      <a:pt x="1383" y="437"/>
                    </a:lnTo>
                    <a:lnTo>
                      <a:pt x="1398" y="437"/>
                    </a:lnTo>
                    <a:lnTo>
                      <a:pt x="1411" y="437"/>
                    </a:lnTo>
                    <a:lnTo>
                      <a:pt x="1426" y="437"/>
                    </a:lnTo>
                    <a:lnTo>
                      <a:pt x="1441" y="437"/>
                    </a:lnTo>
                    <a:lnTo>
                      <a:pt x="1455" y="437"/>
                    </a:lnTo>
                    <a:lnTo>
                      <a:pt x="1470" y="437"/>
                    </a:lnTo>
                    <a:lnTo>
                      <a:pt x="1485" y="437"/>
                    </a:lnTo>
                    <a:lnTo>
                      <a:pt x="1499" y="437"/>
                    </a:lnTo>
                    <a:lnTo>
                      <a:pt x="1514" y="437"/>
                    </a:lnTo>
                    <a:lnTo>
                      <a:pt x="1529" y="437"/>
                    </a:lnTo>
                    <a:lnTo>
                      <a:pt x="1542" y="437"/>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6041160" y="5999400"/>
                <a:ext cx="1420200" cy="656280"/>
              </a:xfrm>
              <a:custGeom>
                <a:avLst/>
                <a:gdLst/>
                <a:ahLst/>
                <a:rect l="l" t="t" r="r" b="b"/>
                <a:pathLst>
                  <a:path w="1353" h="1116">
                    <a:moveTo>
                      <a:pt x="0" y="411"/>
                    </a:moveTo>
                    <a:lnTo>
                      <a:pt x="15" y="411"/>
                    </a:lnTo>
                    <a:lnTo>
                      <a:pt x="30" y="411"/>
                    </a:lnTo>
                    <a:lnTo>
                      <a:pt x="45" y="423"/>
                    </a:lnTo>
                    <a:lnTo>
                      <a:pt x="59" y="423"/>
                    </a:lnTo>
                    <a:lnTo>
                      <a:pt x="74" y="423"/>
                    </a:lnTo>
                    <a:lnTo>
                      <a:pt x="89" y="423"/>
                    </a:lnTo>
                    <a:lnTo>
                      <a:pt x="102" y="411"/>
                    </a:lnTo>
                    <a:lnTo>
                      <a:pt x="117" y="411"/>
                    </a:lnTo>
                    <a:lnTo>
                      <a:pt x="132" y="411"/>
                    </a:lnTo>
                    <a:lnTo>
                      <a:pt x="146" y="423"/>
                    </a:lnTo>
                    <a:lnTo>
                      <a:pt x="161" y="436"/>
                    </a:lnTo>
                    <a:lnTo>
                      <a:pt x="176" y="436"/>
                    </a:lnTo>
                    <a:lnTo>
                      <a:pt x="189" y="436"/>
                    </a:lnTo>
                    <a:lnTo>
                      <a:pt x="204" y="423"/>
                    </a:lnTo>
                    <a:lnTo>
                      <a:pt x="204" y="372"/>
                    </a:lnTo>
                    <a:lnTo>
                      <a:pt x="219" y="346"/>
                    </a:lnTo>
                    <a:lnTo>
                      <a:pt x="219" y="231"/>
                    </a:lnTo>
                    <a:lnTo>
                      <a:pt x="233" y="231"/>
                    </a:lnTo>
                    <a:lnTo>
                      <a:pt x="233" y="603"/>
                    </a:lnTo>
                    <a:lnTo>
                      <a:pt x="248" y="668"/>
                    </a:lnTo>
                    <a:lnTo>
                      <a:pt x="248" y="1014"/>
                    </a:lnTo>
                    <a:lnTo>
                      <a:pt x="263" y="1052"/>
                    </a:lnTo>
                    <a:lnTo>
                      <a:pt x="263" y="1091"/>
                    </a:lnTo>
                    <a:lnTo>
                      <a:pt x="263" y="975"/>
                    </a:lnTo>
                    <a:lnTo>
                      <a:pt x="278" y="911"/>
                    </a:lnTo>
                    <a:lnTo>
                      <a:pt x="278" y="474"/>
                    </a:lnTo>
                    <a:lnTo>
                      <a:pt x="291" y="448"/>
                    </a:lnTo>
                    <a:lnTo>
                      <a:pt x="291" y="295"/>
                    </a:lnTo>
                    <a:lnTo>
                      <a:pt x="306" y="282"/>
                    </a:lnTo>
                    <a:lnTo>
                      <a:pt x="306" y="244"/>
                    </a:lnTo>
                    <a:lnTo>
                      <a:pt x="321" y="231"/>
                    </a:lnTo>
                    <a:lnTo>
                      <a:pt x="321" y="205"/>
                    </a:lnTo>
                    <a:lnTo>
                      <a:pt x="335" y="192"/>
                    </a:lnTo>
                    <a:lnTo>
                      <a:pt x="335" y="166"/>
                    </a:lnTo>
                    <a:lnTo>
                      <a:pt x="350" y="154"/>
                    </a:lnTo>
                    <a:lnTo>
                      <a:pt x="350" y="102"/>
                    </a:lnTo>
                    <a:lnTo>
                      <a:pt x="365" y="90"/>
                    </a:lnTo>
                    <a:lnTo>
                      <a:pt x="365" y="39"/>
                    </a:lnTo>
                    <a:lnTo>
                      <a:pt x="378" y="25"/>
                    </a:lnTo>
                    <a:lnTo>
                      <a:pt x="378" y="0"/>
                    </a:lnTo>
                    <a:lnTo>
                      <a:pt x="408" y="25"/>
                    </a:lnTo>
                    <a:lnTo>
                      <a:pt x="408" y="115"/>
                    </a:lnTo>
                    <a:lnTo>
                      <a:pt x="422" y="141"/>
                    </a:lnTo>
                    <a:lnTo>
                      <a:pt x="422" y="244"/>
                    </a:lnTo>
                    <a:lnTo>
                      <a:pt x="437" y="256"/>
                    </a:lnTo>
                    <a:lnTo>
                      <a:pt x="437" y="321"/>
                    </a:lnTo>
                    <a:lnTo>
                      <a:pt x="452" y="333"/>
                    </a:lnTo>
                    <a:lnTo>
                      <a:pt x="452" y="360"/>
                    </a:lnTo>
                    <a:lnTo>
                      <a:pt x="465" y="372"/>
                    </a:lnTo>
                    <a:lnTo>
                      <a:pt x="480" y="385"/>
                    </a:lnTo>
                    <a:lnTo>
                      <a:pt x="495" y="397"/>
                    </a:lnTo>
                    <a:lnTo>
                      <a:pt x="510" y="397"/>
                    </a:lnTo>
                    <a:lnTo>
                      <a:pt x="524" y="385"/>
                    </a:lnTo>
                    <a:lnTo>
                      <a:pt x="539" y="385"/>
                    </a:lnTo>
                    <a:lnTo>
                      <a:pt x="554" y="385"/>
                    </a:lnTo>
                    <a:lnTo>
                      <a:pt x="567" y="385"/>
                    </a:lnTo>
                    <a:lnTo>
                      <a:pt x="582" y="397"/>
                    </a:lnTo>
                    <a:lnTo>
                      <a:pt x="597" y="411"/>
                    </a:lnTo>
                    <a:lnTo>
                      <a:pt x="611" y="411"/>
                    </a:lnTo>
                    <a:lnTo>
                      <a:pt x="626" y="411"/>
                    </a:lnTo>
                    <a:lnTo>
                      <a:pt x="641" y="423"/>
                    </a:lnTo>
                    <a:lnTo>
                      <a:pt x="655" y="423"/>
                    </a:lnTo>
                    <a:lnTo>
                      <a:pt x="670" y="423"/>
                    </a:lnTo>
                    <a:lnTo>
                      <a:pt x="685" y="423"/>
                    </a:lnTo>
                    <a:lnTo>
                      <a:pt x="698" y="423"/>
                    </a:lnTo>
                    <a:lnTo>
                      <a:pt x="713" y="423"/>
                    </a:lnTo>
                    <a:lnTo>
                      <a:pt x="728" y="423"/>
                    </a:lnTo>
                    <a:lnTo>
                      <a:pt x="743" y="436"/>
                    </a:lnTo>
                    <a:lnTo>
                      <a:pt x="757" y="436"/>
                    </a:lnTo>
                    <a:lnTo>
                      <a:pt x="772" y="436"/>
                    </a:lnTo>
                    <a:lnTo>
                      <a:pt x="787" y="423"/>
                    </a:lnTo>
                    <a:lnTo>
                      <a:pt x="800" y="423"/>
                    </a:lnTo>
                    <a:lnTo>
                      <a:pt x="815" y="423"/>
                    </a:lnTo>
                    <a:lnTo>
                      <a:pt x="830" y="423"/>
                    </a:lnTo>
                    <a:lnTo>
                      <a:pt x="844" y="436"/>
                    </a:lnTo>
                    <a:lnTo>
                      <a:pt x="859" y="436"/>
                    </a:lnTo>
                    <a:lnTo>
                      <a:pt x="874" y="436"/>
                    </a:lnTo>
                    <a:lnTo>
                      <a:pt x="887" y="423"/>
                    </a:lnTo>
                    <a:lnTo>
                      <a:pt x="902" y="411"/>
                    </a:lnTo>
                    <a:lnTo>
                      <a:pt x="902" y="295"/>
                    </a:lnTo>
                    <a:lnTo>
                      <a:pt x="917" y="270"/>
                    </a:lnTo>
                    <a:lnTo>
                      <a:pt x="917" y="231"/>
                    </a:lnTo>
                    <a:lnTo>
                      <a:pt x="917" y="321"/>
                    </a:lnTo>
                    <a:lnTo>
                      <a:pt x="931" y="385"/>
                    </a:lnTo>
                    <a:lnTo>
                      <a:pt x="931" y="885"/>
                    </a:lnTo>
                    <a:lnTo>
                      <a:pt x="946" y="924"/>
                    </a:lnTo>
                    <a:lnTo>
                      <a:pt x="946" y="1116"/>
                    </a:lnTo>
                    <a:lnTo>
                      <a:pt x="961" y="1116"/>
                    </a:lnTo>
                    <a:lnTo>
                      <a:pt x="961" y="732"/>
                    </a:lnTo>
                    <a:lnTo>
                      <a:pt x="974" y="654"/>
                    </a:lnTo>
                    <a:lnTo>
                      <a:pt x="974" y="360"/>
                    </a:lnTo>
                    <a:lnTo>
                      <a:pt x="989" y="346"/>
                    </a:lnTo>
                    <a:lnTo>
                      <a:pt x="989" y="270"/>
                    </a:lnTo>
                    <a:lnTo>
                      <a:pt x="1004" y="256"/>
                    </a:lnTo>
                    <a:lnTo>
                      <a:pt x="1004" y="231"/>
                    </a:lnTo>
                    <a:lnTo>
                      <a:pt x="1019" y="217"/>
                    </a:lnTo>
                    <a:lnTo>
                      <a:pt x="1019" y="180"/>
                    </a:lnTo>
                    <a:lnTo>
                      <a:pt x="1033" y="166"/>
                    </a:lnTo>
                    <a:lnTo>
                      <a:pt x="1033" y="129"/>
                    </a:lnTo>
                    <a:lnTo>
                      <a:pt x="1048" y="115"/>
                    </a:lnTo>
                    <a:lnTo>
                      <a:pt x="1048" y="64"/>
                    </a:lnTo>
                    <a:lnTo>
                      <a:pt x="1063" y="51"/>
                    </a:lnTo>
                    <a:lnTo>
                      <a:pt x="1063" y="13"/>
                    </a:lnTo>
                    <a:lnTo>
                      <a:pt x="1076" y="0"/>
                    </a:lnTo>
                    <a:lnTo>
                      <a:pt x="1091" y="13"/>
                    </a:lnTo>
                    <a:lnTo>
                      <a:pt x="1091" y="51"/>
                    </a:lnTo>
                    <a:lnTo>
                      <a:pt x="1106" y="64"/>
                    </a:lnTo>
                    <a:lnTo>
                      <a:pt x="1106" y="166"/>
                    </a:lnTo>
                    <a:lnTo>
                      <a:pt x="1120" y="180"/>
                    </a:lnTo>
                    <a:lnTo>
                      <a:pt x="1120" y="282"/>
                    </a:lnTo>
                    <a:lnTo>
                      <a:pt x="1135" y="295"/>
                    </a:lnTo>
                    <a:lnTo>
                      <a:pt x="1135" y="333"/>
                    </a:lnTo>
                    <a:lnTo>
                      <a:pt x="1163" y="360"/>
                    </a:lnTo>
                    <a:lnTo>
                      <a:pt x="1163" y="372"/>
                    </a:lnTo>
                    <a:lnTo>
                      <a:pt x="1178" y="372"/>
                    </a:lnTo>
                    <a:lnTo>
                      <a:pt x="1193" y="372"/>
                    </a:lnTo>
                    <a:lnTo>
                      <a:pt x="1207" y="372"/>
                    </a:lnTo>
                    <a:lnTo>
                      <a:pt x="1222" y="360"/>
                    </a:lnTo>
                    <a:lnTo>
                      <a:pt x="1237" y="360"/>
                    </a:lnTo>
                    <a:lnTo>
                      <a:pt x="1252" y="360"/>
                    </a:lnTo>
                    <a:lnTo>
                      <a:pt x="1265" y="372"/>
                    </a:lnTo>
                    <a:lnTo>
                      <a:pt x="1280" y="385"/>
                    </a:lnTo>
                    <a:lnTo>
                      <a:pt x="1296" y="385"/>
                    </a:lnTo>
                    <a:lnTo>
                      <a:pt x="1309" y="397"/>
                    </a:lnTo>
                    <a:lnTo>
                      <a:pt x="1324" y="397"/>
                    </a:lnTo>
                    <a:lnTo>
                      <a:pt x="1339" y="397"/>
                    </a:lnTo>
                    <a:lnTo>
                      <a:pt x="1353" y="411"/>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7461720" y="5984280"/>
                <a:ext cx="626040" cy="664200"/>
              </a:xfrm>
              <a:custGeom>
                <a:avLst/>
                <a:gdLst/>
                <a:ahLst/>
                <a:rect l="l" t="t" r="r" b="b"/>
                <a:pathLst>
                  <a:path w="597" h="1130">
                    <a:moveTo>
                      <a:pt x="0" y="437"/>
                    </a:moveTo>
                    <a:lnTo>
                      <a:pt x="15" y="437"/>
                    </a:lnTo>
                    <a:lnTo>
                      <a:pt x="30" y="437"/>
                    </a:lnTo>
                    <a:lnTo>
                      <a:pt x="43" y="437"/>
                    </a:lnTo>
                    <a:lnTo>
                      <a:pt x="58" y="437"/>
                    </a:lnTo>
                    <a:lnTo>
                      <a:pt x="73" y="437"/>
                    </a:lnTo>
                    <a:lnTo>
                      <a:pt x="88" y="437"/>
                    </a:lnTo>
                    <a:lnTo>
                      <a:pt x="102" y="437"/>
                    </a:lnTo>
                    <a:lnTo>
                      <a:pt x="117" y="437"/>
                    </a:lnTo>
                    <a:lnTo>
                      <a:pt x="132" y="425"/>
                    </a:lnTo>
                    <a:lnTo>
                      <a:pt x="145" y="425"/>
                    </a:lnTo>
                    <a:lnTo>
                      <a:pt x="160" y="437"/>
                    </a:lnTo>
                    <a:lnTo>
                      <a:pt x="175" y="450"/>
                    </a:lnTo>
                    <a:lnTo>
                      <a:pt x="189" y="450"/>
                    </a:lnTo>
                    <a:lnTo>
                      <a:pt x="204" y="437"/>
                    </a:lnTo>
                    <a:lnTo>
                      <a:pt x="219" y="437"/>
                    </a:lnTo>
                    <a:lnTo>
                      <a:pt x="232" y="411"/>
                    </a:lnTo>
                    <a:lnTo>
                      <a:pt x="232" y="296"/>
                    </a:lnTo>
                    <a:lnTo>
                      <a:pt x="247" y="270"/>
                    </a:lnTo>
                    <a:lnTo>
                      <a:pt x="247" y="231"/>
                    </a:lnTo>
                    <a:lnTo>
                      <a:pt x="247" y="347"/>
                    </a:lnTo>
                    <a:lnTo>
                      <a:pt x="262" y="398"/>
                    </a:lnTo>
                    <a:lnTo>
                      <a:pt x="262" y="899"/>
                    </a:lnTo>
                    <a:lnTo>
                      <a:pt x="277" y="950"/>
                    </a:lnTo>
                    <a:lnTo>
                      <a:pt x="277" y="1130"/>
                    </a:lnTo>
                    <a:lnTo>
                      <a:pt x="291" y="1117"/>
                    </a:lnTo>
                    <a:lnTo>
                      <a:pt x="291" y="719"/>
                    </a:lnTo>
                    <a:lnTo>
                      <a:pt x="306" y="655"/>
                    </a:lnTo>
                    <a:lnTo>
                      <a:pt x="306" y="360"/>
                    </a:lnTo>
                    <a:lnTo>
                      <a:pt x="321" y="347"/>
                    </a:lnTo>
                    <a:lnTo>
                      <a:pt x="321" y="270"/>
                    </a:lnTo>
                    <a:lnTo>
                      <a:pt x="334" y="257"/>
                    </a:lnTo>
                    <a:lnTo>
                      <a:pt x="334" y="231"/>
                    </a:lnTo>
                    <a:lnTo>
                      <a:pt x="349" y="219"/>
                    </a:lnTo>
                    <a:lnTo>
                      <a:pt x="349" y="194"/>
                    </a:lnTo>
                    <a:lnTo>
                      <a:pt x="364" y="180"/>
                    </a:lnTo>
                    <a:lnTo>
                      <a:pt x="364" y="129"/>
                    </a:lnTo>
                    <a:lnTo>
                      <a:pt x="378" y="116"/>
                    </a:lnTo>
                    <a:lnTo>
                      <a:pt x="378" y="78"/>
                    </a:lnTo>
                    <a:lnTo>
                      <a:pt x="393" y="65"/>
                    </a:lnTo>
                    <a:lnTo>
                      <a:pt x="393" y="26"/>
                    </a:lnTo>
                    <a:lnTo>
                      <a:pt x="408" y="14"/>
                    </a:lnTo>
                    <a:lnTo>
                      <a:pt x="408" y="0"/>
                    </a:lnTo>
                    <a:lnTo>
                      <a:pt x="408" y="14"/>
                    </a:lnTo>
                    <a:lnTo>
                      <a:pt x="421" y="26"/>
                    </a:lnTo>
                    <a:lnTo>
                      <a:pt x="421" y="78"/>
                    </a:lnTo>
                    <a:lnTo>
                      <a:pt x="436" y="90"/>
                    </a:lnTo>
                    <a:lnTo>
                      <a:pt x="436" y="180"/>
                    </a:lnTo>
                    <a:lnTo>
                      <a:pt x="451" y="194"/>
                    </a:lnTo>
                    <a:lnTo>
                      <a:pt x="451" y="296"/>
                    </a:lnTo>
                    <a:lnTo>
                      <a:pt x="466" y="309"/>
                    </a:lnTo>
                    <a:lnTo>
                      <a:pt x="466" y="347"/>
                    </a:lnTo>
                    <a:lnTo>
                      <a:pt x="495" y="372"/>
                    </a:lnTo>
                    <a:lnTo>
                      <a:pt x="495" y="386"/>
                    </a:lnTo>
                    <a:lnTo>
                      <a:pt x="510" y="386"/>
                    </a:lnTo>
                    <a:lnTo>
                      <a:pt x="523" y="386"/>
                    </a:lnTo>
                    <a:lnTo>
                      <a:pt x="538" y="386"/>
                    </a:lnTo>
                    <a:lnTo>
                      <a:pt x="553" y="386"/>
                    </a:lnTo>
                    <a:lnTo>
                      <a:pt x="582" y="386"/>
                    </a:lnTo>
                    <a:lnTo>
                      <a:pt x="567" y="386"/>
                    </a:lnTo>
                    <a:lnTo>
                      <a:pt x="582" y="386"/>
                    </a:lnTo>
                    <a:lnTo>
                      <a:pt x="597" y="386"/>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7" name="" descr=""/>
          <p:cNvPicPr/>
          <p:nvPr/>
        </p:nvPicPr>
        <p:blipFill>
          <a:blip r:embed="rId1"/>
          <a:stretch/>
        </p:blipFill>
        <p:spPr>
          <a:xfrm>
            <a:off x="0" y="268200"/>
            <a:ext cx="2324160" cy="2619360"/>
          </a:xfrm>
          <a:prstGeom prst="rect">
            <a:avLst/>
          </a:prstGeom>
          <a:ln w="0">
            <a:noFill/>
          </a:ln>
        </p:spPr>
      </p:pic>
      <p:sp>
        <p:nvSpPr>
          <p:cNvPr id="2158" name=""/>
          <p:cNvSpPr/>
          <p:nvPr/>
        </p:nvSpPr>
        <p:spPr>
          <a:xfrm>
            <a:off x="2552760" y="130320"/>
            <a:ext cx="6462720" cy="2840040"/>
          </a:xfrm>
          <a:prstGeom prst="wedgeRoundRectCallout">
            <a:avLst>
              <a:gd name="adj1" fmla="val -59532"/>
              <a:gd name="adj2" fmla="val 23337"/>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Comic Sans MS"/>
              </a:rPr>
              <a:t>Definition 1:</a:t>
            </a:r>
            <a:r>
              <a:rPr b="0" lang="en-US" sz="2400" spc="-1" strike="noStrike">
                <a:solidFill>
                  <a:srgbClr val="eaeaea"/>
                </a:solidFill>
                <a:latin typeface="Comic Sans MS"/>
              </a:rPr>
              <a:t> A time series pattern </a:t>
            </a:r>
            <a:r>
              <a:rPr b="0" i="1" lang="en-US" sz="2400" spc="-1" strike="noStrike">
                <a:solidFill>
                  <a:srgbClr val="eaeaea"/>
                </a:solidFill>
                <a:latin typeface="Times New Roman"/>
              </a:rPr>
              <a:t>P</a:t>
            </a:r>
            <a:r>
              <a:rPr b="0" lang="en-US" sz="2400" spc="-1" strike="noStrike">
                <a:solidFill>
                  <a:srgbClr val="eaeaea"/>
                </a:solidFill>
                <a:latin typeface="Comic Sans MS"/>
              </a:rPr>
              <a:t>, extracted from database </a:t>
            </a:r>
            <a:r>
              <a:rPr b="0" i="1" lang="en-US" sz="2400" spc="-1" strike="noStrike">
                <a:solidFill>
                  <a:srgbClr val="eaeaea"/>
                </a:solidFill>
                <a:latin typeface="Times New Roman"/>
              </a:rPr>
              <a:t>X</a:t>
            </a:r>
            <a:r>
              <a:rPr b="0" lang="en-US" sz="2400" spc="-1" strike="noStrike">
                <a:solidFill>
                  <a:srgbClr val="eaeaea"/>
                </a:solidFill>
                <a:latin typeface="Comic Sans MS"/>
              </a:rPr>
              <a:t> is surprising relative to a database </a:t>
            </a:r>
            <a:r>
              <a:rPr b="0" i="1" lang="en-US" sz="2400" spc="-1" strike="noStrike">
                <a:solidFill>
                  <a:srgbClr val="eaeaea"/>
                </a:solidFill>
                <a:latin typeface="Times New Roman"/>
              </a:rPr>
              <a:t>R</a:t>
            </a:r>
            <a:r>
              <a:rPr b="0" lang="en-US" sz="2400" spc="-1" strike="noStrike">
                <a:solidFill>
                  <a:srgbClr val="eaeaea"/>
                </a:solidFill>
                <a:latin typeface="Comic Sans MS"/>
              </a:rPr>
              <a:t>, if the </a:t>
            </a:r>
            <a:r>
              <a:rPr b="0" lang="en-US" sz="2400" spc="-1" strike="noStrike">
                <a:solidFill>
                  <a:srgbClr val="000000"/>
                </a:solidFill>
                <a:latin typeface="Comic Sans MS"/>
              </a:rPr>
              <a:t>probability of occurrence</a:t>
            </a:r>
            <a:r>
              <a:rPr b="0" lang="en-US" sz="2400" spc="-1" strike="noStrike">
                <a:solidFill>
                  <a:srgbClr val="eaeaea"/>
                </a:solidFill>
                <a:latin typeface="Comic Sans MS"/>
              </a:rPr>
              <a:t> is greatly different to that expected by chance, assuming that </a:t>
            </a:r>
            <a:r>
              <a:rPr b="0" i="1" lang="en-US" sz="2400" spc="-1" strike="noStrike">
                <a:solidFill>
                  <a:srgbClr val="eaeaea"/>
                </a:solidFill>
                <a:latin typeface="Times New Roman"/>
              </a:rPr>
              <a:t>R</a:t>
            </a:r>
            <a:r>
              <a:rPr b="0" lang="en-US" sz="2400" spc="-1" strike="noStrike">
                <a:solidFill>
                  <a:srgbClr val="eaeaea"/>
                </a:solidFill>
                <a:latin typeface="Comic Sans MS"/>
              </a:rPr>
              <a:t> and </a:t>
            </a:r>
            <a:r>
              <a:rPr b="0" i="1" lang="en-US" sz="2400" spc="-1" strike="noStrike">
                <a:solidFill>
                  <a:srgbClr val="eaeaea"/>
                </a:solidFill>
                <a:latin typeface="Times New Roman"/>
              </a:rPr>
              <a:t>X</a:t>
            </a:r>
            <a:r>
              <a:rPr b="0" lang="en-US" sz="2400" spc="-1" strike="noStrike">
                <a:solidFill>
                  <a:srgbClr val="eaeaea"/>
                </a:solidFill>
                <a:latin typeface="Comic Sans MS"/>
              </a:rPr>
              <a:t> are created by the same underlying proc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59" name="homer_madlooking" descr=""/>
          <p:cNvPicPr/>
          <p:nvPr/>
        </p:nvPicPr>
        <p:blipFill>
          <a:blip r:embed="rId2"/>
          <a:stretch/>
        </p:blipFill>
        <p:spPr>
          <a:xfrm>
            <a:off x="174600" y="4270320"/>
            <a:ext cx="2130480" cy="2289240"/>
          </a:xfrm>
          <a:prstGeom prst="rect">
            <a:avLst/>
          </a:prstGeom>
          <a:ln w="0">
            <a:noFill/>
          </a:ln>
        </p:spPr>
      </p:pic>
      <p:sp>
        <p:nvSpPr>
          <p:cNvPr id="2160" name=""/>
          <p:cNvSpPr/>
          <p:nvPr/>
        </p:nvSpPr>
        <p:spPr>
          <a:xfrm>
            <a:off x="2644920" y="3544920"/>
            <a:ext cx="6330960" cy="2989080"/>
          </a:xfrm>
          <a:prstGeom prst="wedgeRoundRectCallout">
            <a:avLst>
              <a:gd name="adj1" fmla="val -61962"/>
              <a:gd name="adj2" fmla="val 18027"/>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you can never know the probability of a pattern you have never se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 probability isn’t even defined for real valued time ser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
          <p:cNvSpPr/>
          <p:nvPr/>
        </p:nvSpPr>
        <p:spPr>
          <a:xfrm>
            <a:off x="285840" y="306360"/>
            <a:ext cx="8020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 need to discretize the time series into symbolic strings… SAX!!</a:t>
            </a:r>
            <a:endParaRPr b="0" lang="en-US" sz="4000" spc="-1" strike="noStrike">
              <a:solidFill>
                <a:srgbClr val="000000"/>
              </a:solidFill>
              <a:latin typeface="Times New Roman"/>
            </a:endParaRPr>
          </a:p>
        </p:txBody>
      </p:sp>
      <p:grpSp>
        <p:nvGrpSpPr>
          <p:cNvPr id="2162" name=""/>
          <p:cNvGrpSpPr/>
          <p:nvPr/>
        </p:nvGrpSpPr>
        <p:grpSpPr>
          <a:xfrm>
            <a:off x="282600" y="2219400"/>
            <a:ext cx="3666240" cy="1217160"/>
            <a:chOff x="282600" y="2219400"/>
            <a:chExt cx="3666240" cy="1217160"/>
          </a:xfrm>
        </p:grpSpPr>
        <p:sp>
          <p:nvSpPr>
            <p:cNvPr id="2163" name=""/>
            <p:cNvSpPr/>
            <p:nvPr/>
          </p:nvSpPr>
          <p:spPr>
            <a:xfrm>
              <a:off x="282600" y="2232720"/>
              <a:ext cx="3664800" cy="1203840"/>
            </a:xfrm>
            <a:prstGeom prst="rect">
              <a:avLst/>
            </a:prstGeom>
            <a:solidFill>
              <a:srgbClr val="ffffff"/>
            </a:solidFill>
            <a:ln w="3492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4" name=""/>
            <p:cNvGrpSpPr/>
            <p:nvPr/>
          </p:nvGrpSpPr>
          <p:grpSpPr>
            <a:xfrm>
              <a:off x="282600" y="2219400"/>
              <a:ext cx="3666240" cy="1211760"/>
              <a:chOff x="282600" y="2219400"/>
              <a:chExt cx="3666240" cy="1211760"/>
            </a:xfrm>
          </p:grpSpPr>
          <p:sp>
            <p:nvSpPr>
              <p:cNvPr id="2165" name=""/>
              <p:cNvSpPr/>
              <p:nvPr/>
            </p:nvSpPr>
            <p:spPr>
              <a:xfrm>
                <a:off x="282600" y="2219400"/>
                <a:ext cx="3664440" cy="121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282600" y="2219400"/>
                <a:ext cx="3664440" cy="1210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282600" y="2219400"/>
                <a:ext cx="3664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8" name=""/>
              <p:cNvSpPr/>
              <p:nvPr/>
            </p:nvSpPr>
            <p:spPr>
              <a:xfrm>
                <a:off x="282600" y="2219400"/>
                <a:ext cx="3664440" cy="1210320"/>
              </a:xfrm>
              <a:custGeom>
                <a:avLst/>
                <a:gdLst/>
                <a:ahLst/>
                <a:rect l="l" t="t" r="r" b="b"/>
                <a:pathLst>
                  <a:path w="434" h="342">
                    <a:moveTo>
                      <a:pt x="0" y="342"/>
                    </a:moveTo>
                    <a:lnTo>
                      <a:pt x="434" y="342"/>
                    </a:lnTo>
                    <a:lnTo>
                      <a:pt x="4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flipV="1">
                <a:off x="282600" y="2219400"/>
                <a:ext cx="1440" cy="121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282600" y="3429720"/>
                <a:ext cx="3664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1" name=""/>
              <p:cNvSpPr/>
              <p:nvPr/>
            </p:nvSpPr>
            <p:spPr>
              <a:xfrm flipV="1">
                <a:off x="282600" y="2219400"/>
                <a:ext cx="1440" cy="121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flipV="1">
                <a:off x="282600" y="3412080"/>
                <a:ext cx="144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73" name=""/>
              <p:cNvSpPr/>
              <p:nvPr/>
            </p:nvSpPr>
            <p:spPr>
              <a:xfrm>
                <a:off x="282600" y="2219400"/>
                <a:ext cx="14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74" name=""/>
              <p:cNvSpPr/>
              <p:nvPr/>
            </p:nvSpPr>
            <p:spPr>
              <a:xfrm flipV="1">
                <a:off x="644040" y="3412080"/>
                <a:ext cx="324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75" name=""/>
              <p:cNvSpPr/>
              <p:nvPr/>
            </p:nvSpPr>
            <p:spPr>
              <a:xfrm>
                <a:off x="644040" y="2219400"/>
                <a:ext cx="32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76" name=""/>
              <p:cNvSpPr/>
              <p:nvPr/>
            </p:nvSpPr>
            <p:spPr>
              <a:xfrm flipV="1">
                <a:off x="1009440" y="3412080"/>
                <a:ext cx="288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77" name=""/>
              <p:cNvSpPr/>
              <p:nvPr/>
            </p:nvSpPr>
            <p:spPr>
              <a:xfrm>
                <a:off x="1009440" y="2219400"/>
                <a:ext cx="288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78" name=""/>
              <p:cNvSpPr/>
              <p:nvPr/>
            </p:nvSpPr>
            <p:spPr>
              <a:xfrm flipV="1">
                <a:off x="1379160" y="3412080"/>
                <a:ext cx="324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79" name=""/>
              <p:cNvSpPr/>
              <p:nvPr/>
            </p:nvSpPr>
            <p:spPr>
              <a:xfrm>
                <a:off x="1379160" y="2219400"/>
                <a:ext cx="32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80" name=""/>
              <p:cNvSpPr/>
              <p:nvPr/>
            </p:nvSpPr>
            <p:spPr>
              <a:xfrm flipV="1">
                <a:off x="1740960" y="3412080"/>
                <a:ext cx="324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81" name=""/>
              <p:cNvSpPr/>
              <p:nvPr/>
            </p:nvSpPr>
            <p:spPr>
              <a:xfrm>
                <a:off x="1740960" y="2219400"/>
                <a:ext cx="32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82" name=""/>
              <p:cNvSpPr/>
              <p:nvPr/>
            </p:nvSpPr>
            <p:spPr>
              <a:xfrm flipV="1">
                <a:off x="2114640" y="3412080"/>
                <a:ext cx="144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83" name=""/>
              <p:cNvSpPr/>
              <p:nvPr/>
            </p:nvSpPr>
            <p:spPr>
              <a:xfrm>
                <a:off x="2114640" y="2219400"/>
                <a:ext cx="14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84" name=""/>
              <p:cNvSpPr/>
              <p:nvPr/>
            </p:nvSpPr>
            <p:spPr>
              <a:xfrm flipV="1">
                <a:off x="2476440" y="3412080"/>
                <a:ext cx="324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85" name=""/>
              <p:cNvSpPr/>
              <p:nvPr/>
            </p:nvSpPr>
            <p:spPr>
              <a:xfrm>
                <a:off x="2476440" y="2219400"/>
                <a:ext cx="32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86" name=""/>
              <p:cNvSpPr/>
              <p:nvPr/>
            </p:nvSpPr>
            <p:spPr>
              <a:xfrm flipV="1">
                <a:off x="2841840" y="3412080"/>
                <a:ext cx="144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87" name=""/>
              <p:cNvSpPr/>
              <p:nvPr/>
            </p:nvSpPr>
            <p:spPr>
              <a:xfrm>
                <a:off x="2841840" y="2219400"/>
                <a:ext cx="14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88" name=""/>
              <p:cNvSpPr/>
              <p:nvPr/>
            </p:nvSpPr>
            <p:spPr>
              <a:xfrm flipV="1">
                <a:off x="3211920" y="3412080"/>
                <a:ext cx="144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89" name=""/>
              <p:cNvSpPr/>
              <p:nvPr/>
            </p:nvSpPr>
            <p:spPr>
              <a:xfrm>
                <a:off x="3211920" y="2219400"/>
                <a:ext cx="14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90" name=""/>
              <p:cNvSpPr/>
              <p:nvPr/>
            </p:nvSpPr>
            <p:spPr>
              <a:xfrm flipV="1">
                <a:off x="3576960" y="3412080"/>
                <a:ext cx="180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91" name=""/>
              <p:cNvSpPr/>
              <p:nvPr/>
            </p:nvSpPr>
            <p:spPr>
              <a:xfrm>
                <a:off x="3576960" y="2219400"/>
                <a:ext cx="180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92" name=""/>
              <p:cNvSpPr/>
              <p:nvPr/>
            </p:nvSpPr>
            <p:spPr>
              <a:xfrm flipV="1">
                <a:off x="3947040" y="3412080"/>
                <a:ext cx="180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93" name=""/>
              <p:cNvSpPr/>
              <p:nvPr/>
            </p:nvSpPr>
            <p:spPr>
              <a:xfrm>
                <a:off x="3947040" y="2219400"/>
                <a:ext cx="180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94" name=""/>
              <p:cNvSpPr/>
              <p:nvPr/>
            </p:nvSpPr>
            <p:spPr>
              <a:xfrm>
                <a:off x="282600" y="3429720"/>
                <a:ext cx="3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flipH="1">
                <a:off x="3902040" y="342972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282600" y="3186000"/>
                <a:ext cx="3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7" name=""/>
              <p:cNvSpPr/>
              <p:nvPr/>
            </p:nvSpPr>
            <p:spPr>
              <a:xfrm flipH="1">
                <a:off x="3902040" y="31860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282600" y="2943720"/>
                <a:ext cx="324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99" name=""/>
              <p:cNvSpPr/>
              <p:nvPr/>
            </p:nvSpPr>
            <p:spPr>
              <a:xfrm flipH="1">
                <a:off x="3902040" y="2943720"/>
                <a:ext cx="442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00" name=""/>
              <p:cNvSpPr/>
              <p:nvPr/>
            </p:nvSpPr>
            <p:spPr>
              <a:xfrm>
                <a:off x="282600" y="2700000"/>
                <a:ext cx="3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1" name=""/>
              <p:cNvSpPr/>
              <p:nvPr/>
            </p:nvSpPr>
            <p:spPr>
              <a:xfrm flipH="1">
                <a:off x="3902040" y="27000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2" name=""/>
              <p:cNvSpPr/>
              <p:nvPr/>
            </p:nvSpPr>
            <p:spPr>
              <a:xfrm>
                <a:off x="282600" y="2459520"/>
                <a:ext cx="3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3" name=""/>
              <p:cNvSpPr/>
              <p:nvPr/>
            </p:nvSpPr>
            <p:spPr>
              <a:xfrm flipH="1">
                <a:off x="3902040" y="245952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4" name=""/>
              <p:cNvSpPr/>
              <p:nvPr/>
            </p:nvSpPr>
            <p:spPr>
              <a:xfrm>
                <a:off x="282600" y="2219400"/>
                <a:ext cx="3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5" name=""/>
              <p:cNvSpPr/>
              <p:nvPr/>
            </p:nvSpPr>
            <p:spPr>
              <a:xfrm flipH="1">
                <a:off x="3902040" y="22194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6" name=""/>
              <p:cNvSpPr/>
              <p:nvPr/>
            </p:nvSpPr>
            <p:spPr>
              <a:xfrm>
                <a:off x="282600" y="2219400"/>
                <a:ext cx="3664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7" name=""/>
              <p:cNvSpPr/>
              <p:nvPr/>
            </p:nvSpPr>
            <p:spPr>
              <a:xfrm>
                <a:off x="282600" y="2219400"/>
                <a:ext cx="3664440" cy="1210320"/>
              </a:xfrm>
              <a:custGeom>
                <a:avLst/>
                <a:gdLst/>
                <a:ahLst/>
                <a:rect l="l" t="t" r="r" b="b"/>
                <a:pathLst>
                  <a:path w="434" h="342">
                    <a:moveTo>
                      <a:pt x="0" y="342"/>
                    </a:moveTo>
                    <a:lnTo>
                      <a:pt x="434" y="342"/>
                    </a:lnTo>
                    <a:lnTo>
                      <a:pt x="4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flipV="1">
                <a:off x="282600" y="2219400"/>
                <a:ext cx="1440" cy="121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9" name=""/>
            <p:cNvSpPr/>
            <p:nvPr/>
          </p:nvSpPr>
          <p:spPr>
            <a:xfrm>
              <a:off x="352440" y="2323080"/>
              <a:ext cx="3444480" cy="900000"/>
            </a:xfrm>
            <a:custGeom>
              <a:avLst/>
              <a:gdLst/>
              <a:ahLst/>
              <a:rect l="l" t="t" r="r" b="b"/>
              <a:pathLst>
                <a:path w="1369" h="463">
                  <a:moveTo>
                    <a:pt x="0" y="463"/>
                  </a:moveTo>
                  <a:lnTo>
                    <a:pt x="30" y="411"/>
                  </a:lnTo>
                  <a:lnTo>
                    <a:pt x="60" y="327"/>
                  </a:lnTo>
                  <a:lnTo>
                    <a:pt x="87" y="296"/>
                  </a:lnTo>
                  <a:lnTo>
                    <a:pt x="117" y="248"/>
                  </a:lnTo>
                  <a:lnTo>
                    <a:pt x="147" y="228"/>
                  </a:lnTo>
                  <a:lnTo>
                    <a:pt x="174" y="183"/>
                  </a:lnTo>
                  <a:lnTo>
                    <a:pt x="204" y="165"/>
                  </a:lnTo>
                  <a:lnTo>
                    <a:pt x="235" y="167"/>
                  </a:lnTo>
                  <a:lnTo>
                    <a:pt x="262" y="174"/>
                  </a:lnTo>
                  <a:lnTo>
                    <a:pt x="292" y="167"/>
                  </a:lnTo>
                  <a:lnTo>
                    <a:pt x="322" y="219"/>
                  </a:lnTo>
                  <a:lnTo>
                    <a:pt x="349" y="228"/>
                  </a:lnTo>
                  <a:lnTo>
                    <a:pt x="379" y="255"/>
                  </a:lnTo>
                  <a:lnTo>
                    <a:pt x="409" y="301"/>
                  </a:lnTo>
                  <a:lnTo>
                    <a:pt x="436" y="353"/>
                  </a:lnTo>
                  <a:lnTo>
                    <a:pt x="466" y="366"/>
                  </a:lnTo>
                  <a:lnTo>
                    <a:pt x="496" y="285"/>
                  </a:lnTo>
                  <a:lnTo>
                    <a:pt x="523" y="258"/>
                  </a:lnTo>
                  <a:lnTo>
                    <a:pt x="553" y="226"/>
                  </a:lnTo>
                  <a:lnTo>
                    <a:pt x="584" y="169"/>
                  </a:lnTo>
                  <a:lnTo>
                    <a:pt x="610" y="124"/>
                  </a:lnTo>
                  <a:lnTo>
                    <a:pt x="641" y="124"/>
                  </a:lnTo>
                  <a:lnTo>
                    <a:pt x="671" y="97"/>
                  </a:lnTo>
                  <a:lnTo>
                    <a:pt x="701" y="84"/>
                  </a:lnTo>
                  <a:lnTo>
                    <a:pt x="728" y="104"/>
                  </a:lnTo>
                  <a:lnTo>
                    <a:pt x="758" y="104"/>
                  </a:lnTo>
                  <a:lnTo>
                    <a:pt x="788" y="151"/>
                  </a:lnTo>
                  <a:lnTo>
                    <a:pt x="815" y="171"/>
                  </a:lnTo>
                  <a:lnTo>
                    <a:pt x="845" y="233"/>
                  </a:lnTo>
                  <a:lnTo>
                    <a:pt x="876" y="228"/>
                  </a:lnTo>
                  <a:lnTo>
                    <a:pt x="902" y="284"/>
                  </a:lnTo>
                  <a:lnTo>
                    <a:pt x="933" y="258"/>
                  </a:lnTo>
                  <a:lnTo>
                    <a:pt x="963" y="210"/>
                  </a:lnTo>
                  <a:lnTo>
                    <a:pt x="990" y="172"/>
                  </a:lnTo>
                  <a:lnTo>
                    <a:pt x="1020" y="120"/>
                  </a:lnTo>
                  <a:lnTo>
                    <a:pt x="1050" y="50"/>
                  </a:lnTo>
                  <a:lnTo>
                    <a:pt x="1077" y="54"/>
                  </a:lnTo>
                  <a:lnTo>
                    <a:pt x="1107" y="22"/>
                  </a:lnTo>
                  <a:lnTo>
                    <a:pt x="1137" y="18"/>
                  </a:lnTo>
                  <a:lnTo>
                    <a:pt x="1164" y="0"/>
                  </a:lnTo>
                  <a:lnTo>
                    <a:pt x="1194" y="38"/>
                  </a:lnTo>
                  <a:lnTo>
                    <a:pt x="1224" y="20"/>
                  </a:lnTo>
                  <a:lnTo>
                    <a:pt x="1251" y="68"/>
                  </a:lnTo>
                  <a:lnTo>
                    <a:pt x="1282" y="83"/>
                  </a:lnTo>
                  <a:lnTo>
                    <a:pt x="1312" y="133"/>
                  </a:lnTo>
                  <a:lnTo>
                    <a:pt x="1339" y="169"/>
                  </a:lnTo>
                  <a:lnTo>
                    <a:pt x="1369" y="19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0" name=""/>
          <p:cNvSpPr/>
          <p:nvPr/>
        </p:nvSpPr>
        <p:spPr>
          <a:xfrm>
            <a:off x="5398920" y="2525760"/>
            <a:ext cx="325152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Times New Roman"/>
              </a:rPr>
              <a:t>aaabaabcbabccb</a:t>
            </a:r>
            <a:endParaRPr b="0" lang="en-US" sz="3400" spc="-1" strike="noStrike">
              <a:solidFill>
                <a:srgbClr val="000000"/>
              </a:solidFill>
              <a:latin typeface="Times New Roman"/>
            </a:endParaRPr>
          </a:p>
        </p:txBody>
      </p:sp>
      <p:sp>
        <p:nvSpPr>
          <p:cNvPr id="2211" name=""/>
          <p:cNvSpPr/>
          <p:nvPr/>
        </p:nvSpPr>
        <p:spPr>
          <a:xfrm>
            <a:off x="4262400" y="2684520"/>
            <a:ext cx="863640" cy="318960"/>
          </a:xfrm>
          <a:prstGeom prst="rightArrow">
            <a:avLst>
              <a:gd name="adj1" fmla="val 50000"/>
              <a:gd name="adj2" fmla="val 67692"/>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171360" y="3738600"/>
            <a:ext cx="6267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ce we have done this, we can use Markov models to calculate the probability of any pattern, including ones we have never seen before</a:t>
            </a:r>
            <a:endParaRPr b="0" lang="en-US" sz="3600" spc="-1" strike="noStrike">
              <a:solidFill>
                <a:srgbClr val="000000"/>
              </a:solidFill>
              <a:latin typeface="Times New Roman"/>
            </a:endParaRPr>
          </a:p>
        </p:txBody>
      </p:sp>
      <p:pic>
        <p:nvPicPr>
          <p:cNvPr id="2213" name="lisasax2" descr=""/>
          <p:cNvPicPr/>
          <p:nvPr/>
        </p:nvPicPr>
        <p:blipFill>
          <a:blip r:embed="rId1"/>
          <a:stretch/>
        </p:blipFill>
        <p:spPr>
          <a:xfrm>
            <a:off x="6759720" y="3925800"/>
            <a:ext cx="2168280" cy="2559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4" name="" descr=""/>
          <p:cNvPicPr/>
          <p:nvPr/>
        </p:nvPicPr>
        <p:blipFill>
          <a:blip r:embed="rId1"/>
          <a:stretch/>
        </p:blipFill>
        <p:spPr>
          <a:xfrm>
            <a:off x="117360" y="2973240"/>
            <a:ext cx="1714680" cy="3629160"/>
          </a:xfrm>
          <a:prstGeom prst="rect">
            <a:avLst/>
          </a:prstGeom>
          <a:ln w="0">
            <a:noFill/>
          </a:ln>
        </p:spPr>
      </p:pic>
      <p:sp>
        <p:nvSpPr>
          <p:cNvPr id="2215" name=""/>
          <p:cNvSpPr/>
          <p:nvPr/>
        </p:nvSpPr>
        <p:spPr>
          <a:xfrm>
            <a:off x="2157480" y="250920"/>
            <a:ext cx="6802200" cy="6429240"/>
          </a:xfrm>
          <a:prstGeom prst="wedgeRoundRectCallout">
            <a:avLst>
              <a:gd name="adj1" fmla="val -58842"/>
              <a:gd name="adj2" fmla="val -1111"/>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a:t>
            </a:r>
            <a:r>
              <a:rPr b="0" lang="en-US" sz="3200" spc="-1" strike="noStrike">
                <a:solidFill>
                  <a:srgbClr val="000000"/>
                </a:solidFill>
                <a:latin typeface="Courier New"/>
              </a:rPr>
              <a:t> </a:t>
            </a:r>
            <a:r>
              <a:rPr b="0" i="1" lang="en-US" sz="3200" spc="-1" strike="noStrike">
                <a:solidFill>
                  <a:srgbClr val="000000"/>
                </a:solidFill>
                <a:latin typeface="Times New Roman"/>
                <a:ea typeface="Times New Roman"/>
              </a:rPr>
              <a:t>x</a:t>
            </a:r>
            <a:r>
              <a:rPr b="0" lang="en-US" sz="3200" spc="-1" strike="noStrike">
                <a:solidFill>
                  <a:srgbClr val="000000"/>
                </a:solidFill>
                <a:latin typeface="Courier New"/>
              </a:rPr>
              <a:t> = </a:t>
            </a:r>
            <a:r>
              <a:rPr b="1" lang="en-US" sz="3200" spc="-1" strike="noStrike">
                <a:solidFill>
                  <a:srgbClr val="3333cc"/>
                </a:solidFill>
                <a:latin typeface="Courier New"/>
              </a:rPr>
              <a:t>prin</a:t>
            </a:r>
            <a:r>
              <a:rPr b="1" lang="en-US" sz="3200" spc="-1" strike="noStrike">
                <a:solidFill>
                  <a:srgbClr val="000000"/>
                </a:solidFill>
                <a:latin typeface="Courier New"/>
              </a:rPr>
              <a:t>cipal</a:t>
            </a:r>
            <a:r>
              <a:rPr b="1" lang="en-US" sz="3200" spc="-1" strike="noStrike">
                <a:solidFill>
                  <a:srgbClr val="ff0000"/>
                </a:solidFill>
                <a:latin typeface="Courier New"/>
              </a:rPr>
              <a:t>skin</a:t>
            </a:r>
            <a:r>
              <a:rPr b="1" lang="en-US" sz="3200" spc="-1" strike="noStrike">
                <a:solidFill>
                  <a:srgbClr val="009900"/>
                </a:solidFill>
                <a:latin typeface="Courier New"/>
              </a:rPr>
              <a:t>ne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000" spc="-1" strike="noStrike">
                <a:solidFill>
                  <a:srgbClr val="000000"/>
                </a:solidFill>
                <a:latin typeface="Symbol"/>
                <a:ea typeface="Symbol"/>
              </a:rPr>
              <a:t></a:t>
            </a:r>
            <a:r>
              <a:rPr b="0" lang="en-US" sz="3000" spc="-1" strike="noStrike">
                <a:solidFill>
                  <a:srgbClr val="000000"/>
                </a:solidFill>
                <a:latin typeface="Times New Roman"/>
              </a:rPr>
              <a:t>  </a:t>
            </a:r>
            <a:r>
              <a:rPr b="0" lang="en-US" sz="3000" spc="-1" strike="noStrike">
                <a:solidFill>
                  <a:srgbClr val="000000"/>
                </a:solidFill>
                <a:latin typeface="Times New Roman"/>
              </a:rPr>
              <a:t>is {</a:t>
            </a:r>
            <a:r>
              <a:rPr b="1" lang="en-US" sz="3000" spc="-1" strike="noStrike">
                <a:solidFill>
                  <a:srgbClr val="000000"/>
                </a:solidFill>
                <a:latin typeface="Courier New"/>
              </a:rPr>
              <a:t>a,c,e,i,k,l,n,p,r,s</a:t>
            </a:r>
            <a:r>
              <a:rPr b="0" lang="en-US" sz="3000" spc="-1" strike="noStrike">
                <a:solidFill>
                  <a:srgbClr val="000000"/>
                </a:solidFill>
                <a:latin typeface="Courier New"/>
              </a:rPr>
              <a:t>}</a:t>
            </a:r>
            <a:endParaRPr b="0" lang="en-US" sz="3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is  16</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urier New"/>
              </a:rPr>
              <a:t>skin</a:t>
            </a:r>
            <a:r>
              <a:rPr b="0" lang="en-US" sz="3200" spc="-1" strike="noStrike">
                <a:solidFill>
                  <a:srgbClr val="000000"/>
                </a:solidFill>
                <a:latin typeface="Courier New"/>
              </a:rPr>
              <a:t> </a:t>
            </a:r>
            <a:r>
              <a:rPr b="0" lang="en-US" sz="3200" spc="-1" strike="noStrike">
                <a:solidFill>
                  <a:srgbClr val="000000"/>
                </a:solidFill>
                <a:latin typeface="Times New Roman"/>
              </a:rPr>
              <a:t>is a substring of </a:t>
            </a:r>
            <a:r>
              <a:rPr b="0" i="1" lang="en-US" sz="3200" spc="-1" strike="noStrike">
                <a:solidFill>
                  <a:srgbClr val="000000"/>
                </a:solidFill>
                <a:latin typeface="Times New Roman"/>
              </a:rPr>
              <a:t>x</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urier New"/>
              </a:rPr>
              <a:t>prin</a:t>
            </a:r>
            <a:r>
              <a:rPr b="0" lang="en-US" sz="3200" spc="-1" strike="noStrike">
                <a:solidFill>
                  <a:srgbClr val="000000"/>
                </a:solidFill>
                <a:latin typeface="Courier New"/>
              </a:rPr>
              <a:t> </a:t>
            </a:r>
            <a:r>
              <a:rPr b="0" lang="en-US" sz="3200" spc="-1" strike="noStrike">
                <a:solidFill>
                  <a:srgbClr val="000000"/>
                </a:solidFill>
                <a:latin typeface="Times New Roman"/>
              </a:rPr>
              <a:t>is a prefix of </a:t>
            </a:r>
            <a:r>
              <a:rPr b="0" i="1" lang="en-US" sz="3200" spc="-1" strike="noStrike">
                <a:solidFill>
                  <a:srgbClr val="000000"/>
                </a:solidFill>
                <a:latin typeface="Times New Roman"/>
              </a:rPr>
              <a:t>x</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ourier New"/>
              </a:rPr>
              <a:t>ner</a:t>
            </a:r>
            <a:r>
              <a:rPr b="0" lang="en-US" sz="3200" spc="-1" strike="noStrike">
                <a:solidFill>
                  <a:srgbClr val="000000"/>
                </a:solidFill>
                <a:latin typeface="Courier New"/>
              </a:rPr>
              <a:t>  </a:t>
            </a:r>
            <a:r>
              <a:rPr b="0" lang="en-US" sz="3200" spc="-1" strike="noStrike">
                <a:solidFill>
                  <a:srgbClr val="000000"/>
                </a:solidFill>
                <a:latin typeface="Times New Roman"/>
              </a:rPr>
              <a:t>is a suffix of </a:t>
            </a:r>
            <a:r>
              <a:rPr b="0" i="1" lang="en-US" sz="3200" spc="-1" strike="noStrike">
                <a:solidFill>
                  <a:srgbClr val="000000"/>
                </a:solidFill>
                <a:latin typeface="Times New Roman"/>
              </a:rPr>
              <a:t>x</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i="1" lang="en-US" sz="3200" spc="-1" strike="noStrike">
                <a:solidFill>
                  <a:srgbClr val="000000"/>
                </a:solidFill>
                <a:latin typeface="Times New Roman"/>
              </a:rPr>
              <a:t>y</a:t>
            </a:r>
            <a:r>
              <a:rPr b="0" lang="en-US" sz="3200" spc="-1" strike="noStrike">
                <a:solidFill>
                  <a:srgbClr val="000000"/>
                </a:solidFill>
                <a:latin typeface="Courier New"/>
              </a:rPr>
              <a:t> = </a:t>
            </a:r>
            <a:r>
              <a:rPr b="1" lang="en-US" sz="3200" spc="-1" strike="noStrike">
                <a:solidFill>
                  <a:srgbClr val="ff9900"/>
                </a:solidFill>
                <a:latin typeface="Courier New"/>
              </a:rPr>
              <a:t>in</a:t>
            </a:r>
            <a:r>
              <a:rPr b="0" lang="en-US" sz="3200" spc="-1" strike="noStrike">
                <a:solidFill>
                  <a:srgbClr val="000000"/>
                </a:solidFill>
                <a:latin typeface="Times New Roman"/>
              </a:rPr>
              <a:t>,   then  </a:t>
            </a:r>
            <a:r>
              <a:rPr b="0" i="1" lang="en-US" sz="3200" spc="-1" strike="noStrike">
                <a:solidFill>
                  <a:srgbClr val="000000"/>
                </a:solidFill>
                <a:latin typeface="Times New Roman"/>
              </a:rPr>
              <a:t>f</a:t>
            </a:r>
            <a:r>
              <a:rPr b="0" i="1" lang="en-US" sz="3200" spc="-1" strike="noStrike" baseline="-25000">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y</a:t>
            </a:r>
            <a:r>
              <a:rPr b="0" lang="en-US" sz="3200" spc="-1" strike="noStrike">
                <a:solidFill>
                  <a:srgbClr val="000000"/>
                </a:solidFill>
                <a:latin typeface="Times New Roman"/>
              </a:rPr>
              <a:t>) = 2</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i="1" lang="en-US" sz="3200" spc="-1" strike="noStrike">
                <a:solidFill>
                  <a:srgbClr val="000000"/>
                </a:solidFill>
                <a:latin typeface="Times New Roman"/>
              </a:rPr>
              <a:t>y</a:t>
            </a:r>
            <a:r>
              <a:rPr b="0" lang="en-US" sz="3200" spc="-1" strike="noStrike">
                <a:solidFill>
                  <a:srgbClr val="000000"/>
                </a:solidFill>
                <a:latin typeface="Courier New"/>
              </a:rPr>
              <a:t> = </a:t>
            </a:r>
            <a:r>
              <a:rPr b="1" lang="en-US" sz="3200" spc="-1" strike="noStrike">
                <a:solidFill>
                  <a:srgbClr val="ff0066"/>
                </a:solidFill>
                <a:latin typeface="Courier New"/>
              </a:rPr>
              <a:t>pal</a:t>
            </a:r>
            <a:r>
              <a:rPr b="0" lang="en-US" sz="3200" spc="-1" strike="noStrike">
                <a:solidFill>
                  <a:srgbClr val="000000"/>
                </a:solidFill>
                <a:latin typeface="Times New Roman"/>
              </a:rPr>
              <a:t>, then  </a:t>
            </a:r>
            <a:r>
              <a:rPr b="0" i="1" lang="en-US" sz="3200" spc="-1" strike="noStrike">
                <a:solidFill>
                  <a:srgbClr val="000000"/>
                </a:solidFill>
                <a:latin typeface="Times New Roman"/>
              </a:rPr>
              <a:t>f</a:t>
            </a:r>
            <a:r>
              <a:rPr b="0" i="1" lang="en-US" sz="3200" spc="-1" strike="noStrike" baseline="-25000">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y</a:t>
            </a:r>
            <a:r>
              <a:rPr b="0" lang="en-US" sz="3200" spc="-1" strike="noStrike">
                <a:solidFill>
                  <a:srgbClr val="000000"/>
                </a:solidFill>
                <a:latin typeface="Times New Roman"/>
              </a:rPr>
              <a:t>) = 1</a:t>
            </a:r>
            <a:endParaRPr b="0" lang="en-US" sz="3200" spc="-1" strike="noStrike">
              <a:solidFill>
                <a:srgbClr val="000000"/>
              </a:solidFill>
              <a:latin typeface="Times New Roman"/>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urier New"/>
              </a:rPr>
              <a:t>	</a:t>
            </a:r>
            <a:r>
              <a:rPr b="1" lang="en-US" sz="3200" spc="-1" strike="noStrike">
                <a:solidFill>
                  <a:srgbClr val="000000"/>
                </a:solidFill>
                <a:latin typeface="Courier New"/>
              </a:rPr>
              <a:t>pr</a:t>
            </a:r>
            <a:r>
              <a:rPr b="1" lang="en-US" sz="3200" spc="-1" strike="noStrike">
                <a:solidFill>
                  <a:srgbClr val="ff9900"/>
                </a:solidFill>
                <a:latin typeface="Courier New"/>
              </a:rPr>
              <a:t>in</a:t>
            </a:r>
            <a:r>
              <a:rPr b="1" lang="en-US" sz="3200" spc="-1" strike="noStrike">
                <a:solidFill>
                  <a:srgbClr val="000000"/>
                </a:solidFill>
                <a:latin typeface="Courier New"/>
              </a:rPr>
              <a:t>ci</a:t>
            </a:r>
            <a:r>
              <a:rPr b="1" lang="en-US" sz="3200" spc="-1" strike="noStrike">
                <a:solidFill>
                  <a:srgbClr val="ff0066"/>
                </a:solidFill>
                <a:latin typeface="Courier New"/>
              </a:rPr>
              <a:t>pal</a:t>
            </a:r>
            <a:r>
              <a:rPr b="1" lang="en-US" sz="3200" spc="-1" strike="noStrike">
                <a:solidFill>
                  <a:srgbClr val="000000"/>
                </a:solidFill>
                <a:latin typeface="Courier New"/>
              </a:rPr>
              <a:t>sk</a:t>
            </a:r>
            <a:r>
              <a:rPr b="1" lang="en-US" sz="3200" spc="-1" strike="noStrike">
                <a:solidFill>
                  <a:srgbClr val="ff9900"/>
                </a:solidFill>
                <a:latin typeface="Courier New"/>
              </a:rPr>
              <a:t>in</a:t>
            </a:r>
            <a:r>
              <a:rPr b="1" lang="en-US" sz="3200" spc="-1" strike="noStrike">
                <a:solidFill>
                  <a:srgbClr val="000000"/>
                </a:solidFill>
                <a:latin typeface="Courier New"/>
              </a:rPr>
              <a:t>ne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6" name="" descr=""/>
          <p:cNvPicPr/>
          <p:nvPr/>
        </p:nvPicPr>
        <p:blipFill>
          <a:blip r:embed="rId1"/>
          <a:stretch/>
        </p:blipFill>
        <p:spPr>
          <a:xfrm>
            <a:off x="3341520" y="1887480"/>
            <a:ext cx="5688360" cy="4970520"/>
          </a:xfrm>
          <a:prstGeom prst="rect">
            <a:avLst/>
          </a:prstGeom>
          <a:ln w="0">
            <a:noFill/>
          </a:ln>
        </p:spPr>
      </p:pic>
      <p:sp>
        <p:nvSpPr>
          <p:cNvPr id="2217" name=""/>
          <p:cNvSpPr/>
          <p:nvPr/>
        </p:nvSpPr>
        <p:spPr>
          <a:xfrm>
            <a:off x="225360" y="268200"/>
            <a:ext cx="8763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an we do all this in linear space and time?</a:t>
            </a:r>
            <a:endParaRPr b="0" lang="en-US" sz="4800" spc="-1" strike="noStrike">
              <a:solidFill>
                <a:srgbClr val="000000"/>
              </a:solidFill>
              <a:latin typeface="Times New Roman"/>
            </a:endParaRPr>
          </a:p>
        </p:txBody>
      </p:sp>
      <p:sp>
        <p:nvSpPr>
          <p:cNvPr id="2218" name=""/>
          <p:cNvSpPr/>
          <p:nvPr/>
        </p:nvSpPr>
        <p:spPr>
          <a:xfrm>
            <a:off x="-341280" y="2185920"/>
            <a:ext cx="3867120" cy="4786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s! Some very clever modifications of suffix trees (Mostly due to Stefano Lonardi) let us do this in linear space.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dividual pattern can be tested in constant ti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
          <p:cNvSpPr/>
          <p:nvPr/>
        </p:nvSpPr>
        <p:spPr>
          <a:xfrm>
            <a:off x="609480" y="1523880"/>
            <a:ext cx="537840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would like to demonstrate two features of our proposed approac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ensitivity (High True Positive Rate)</a:t>
            </a:r>
            <a:r>
              <a:rPr b="0" lang="en-US" sz="2400" spc="-1" strike="noStrike">
                <a:solidFill>
                  <a:srgbClr val="000000"/>
                </a:solidFill>
                <a:latin typeface="Times New Roman"/>
                <a:ea typeface="Times New Roman"/>
              </a:rPr>
              <a:t>  The algorithm can find truly surprising patterns in a time se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electivity (Low False Positive Rate)</a:t>
            </a:r>
            <a:r>
              <a:rPr b="0" lang="en-US" sz="2400" spc="-1" strike="noStrike">
                <a:solidFill>
                  <a:srgbClr val="000000"/>
                </a:solidFill>
                <a:latin typeface="Times New Roman"/>
                <a:ea typeface="Times New Roman"/>
              </a:rPr>
              <a:t> The algorithm will not find spurious “surprising” patterns in a time series</a:t>
            </a:r>
            <a:endParaRPr b="0" lang="en-US" sz="2400" spc="-1" strike="noStrike">
              <a:solidFill>
                <a:srgbClr val="000000"/>
              </a:solidFill>
              <a:latin typeface="Times New Roman"/>
            </a:endParaRPr>
          </a:p>
        </p:txBody>
      </p:sp>
      <p:sp>
        <p:nvSpPr>
          <p:cNvPr id="2220" name=""/>
          <p:cNvSpPr/>
          <p:nvPr/>
        </p:nvSpPr>
        <p:spPr>
          <a:xfrm>
            <a:off x="608400" y="228600"/>
            <a:ext cx="7777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Experimental Evaluation</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221" name=""/>
          <p:cNvSpPr/>
          <p:nvPr/>
        </p:nvSpPr>
        <p:spPr>
          <a:xfrm>
            <a:off x="6043680" y="1447920"/>
            <a:ext cx="2239920" cy="1825560"/>
          </a:xfrm>
          <a:prstGeom prst="wedgeRoundRectCallout">
            <a:avLst>
              <a:gd name="adj1" fmla="val -10666"/>
              <a:gd name="adj2" fmla="val 66870"/>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sitive and Selective, just like m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222" name="" descr=""/>
          <p:cNvPicPr/>
          <p:nvPr/>
        </p:nvPicPr>
        <p:blipFill>
          <a:blip r:embed="rId1"/>
          <a:stretch/>
        </p:blipFill>
        <p:spPr>
          <a:xfrm>
            <a:off x="7126200" y="3452760"/>
            <a:ext cx="1835280" cy="3287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
          <p:cNvSpPr/>
          <p:nvPr/>
        </p:nvSpPr>
        <p:spPr>
          <a:xfrm>
            <a:off x="2092320" y="4884840"/>
            <a:ext cx="6350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2092320" y="4884840"/>
            <a:ext cx="6350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flipV="1">
            <a:off x="2092320" y="481788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6" name=""/>
          <p:cNvSpPr/>
          <p:nvPr/>
        </p:nvSpPr>
        <p:spPr>
          <a:xfrm>
            <a:off x="2073240" y="4903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227" name=""/>
          <p:cNvSpPr/>
          <p:nvPr/>
        </p:nvSpPr>
        <p:spPr>
          <a:xfrm flipV="1">
            <a:off x="2886120" y="481788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8" name=""/>
          <p:cNvSpPr/>
          <p:nvPr/>
        </p:nvSpPr>
        <p:spPr>
          <a:xfrm>
            <a:off x="2824920" y="490392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Times New Roman"/>
            </a:endParaRPr>
          </a:p>
        </p:txBody>
      </p:sp>
      <p:sp>
        <p:nvSpPr>
          <p:cNvPr id="2229" name=""/>
          <p:cNvSpPr/>
          <p:nvPr/>
        </p:nvSpPr>
        <p:spPr>
          <a:xfrm flipV="1">
            <a:off x="3681360" y="481788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0" name=""/>
          <p:cNvSpPr/>
          <p:nvPr/>
        </p:nvSpPr>
        <p:spPr>
          <a:xfrm>
            <a:off x="3616920" y="490392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Times New Roman"/>
            </a:endParaRPr>
          </a:p>
        </p:txBody>
      </p:sp>
      <p:sp>
        <p:nvSpPr>
          <p:cNvPr id="2231" name=""/>
          <p:cNvSpPr/>
          <p:nvPr/>
        </p:nvSpPr>
        <p:spPr>
          <a:xfrm flipV="1">
            <a:off x="4473720" y="481788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2" name=""/>
          <p:cNvSpPr/>
          <p:nvPr/>
        </p:nvSpPr>
        <p:spPr>
          <a:xfrm>
            <a:off x="4410000" y="490392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a:t>
            </a:r>
            <a:endParaRPr b="0" lang="en-US" sz="800" spc="-1" strike="noStrike">
              <a:solidFill>
                <a:srgbClr val="000000"/>
              </a:solidFill>
              <a:latin typeface="Times New Roman"/>
            </a:endParaRPr>
          </a:p>
        </p:txBody>
      </p:sp>
      <p:sp>
        <p:nvSpPr>
          <p:cNvPr id="2233" name=""/>
          <p:cNvSpPr/>
          <p:nvPr/>
        </p:nvSpPr>
        <p:spPr>
          <a:xfrm flipV="1">
            <a:off x="5268960" y="481788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4" name=""/>
          <p:cNvSpPr/>
          <p:nvPr/>
        </p:nvSpPr>
        <p:spPr>
          <a:xfrm>
            <a:off x="5205240" y="490392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000000"/>
              </a:solidFill>
              <a:latin typeface="Times New Roman"/>
            </a:endParaRPr>
          </a:p>
        </p:txBody>
      </p:sp>
      <p:sp>
        <p:nvSpPr>
          <p:cNvPr id="2235" name=""/>
          <p:cNvSpPr/>
          <p:nvPr/>
        </p:nvSpPr>
        <p:spPr>
          <a:xfrm flipV="1">
            <a:off x="6060960" y="481788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6" name=""/>
          <p:cNvSpPr/>
          <p:nvPr/>
        </p:nvSpPr>
        <p:spPr>
          <a:xfrm>
            <a:off x="5973120" y="490392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Times New Roman"/>
            </a:endParaRPr>
          </a:p>
        </p:txBody>
      </p:sp>
      <p:sp>
        <p:nvSpPr>
          <p:cNvPr id="2237" name=""/>
          <p:cNvSpPr/>
          <p:nvPr/>
        </p:nvSpPr>
        <p:spPr>
          <a:xfrm flipV="1">
            <a:off x="6854760" y="481788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8" name=""/>
          <p:cNvSpPr/>
          <p:nvPr/>
        </p:nvSpPr>
        <p:spPr>
          <a:xfrm>
            <a:off x="6766200" y="490392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a:t>
            </a:r>
            <a:endParaRPr b="0" lang="en-US" sz="800" spc="-1" strike="noStrike">
              <a:solidFill>
                <a:srgbClr val="000000"/>
              </a:solidFill>
              <a:latin typeface="Times New Roman"/>
            </a:endParaRPr>
          </a:p>
        </p:txBody>
      </p:sp>
      <p:sp>
        <p:nvSpPr>
          <p:cNvPr id="2239" name=""/>
          <p:cNvSpPr/>
          <p:nvPr/>
        </p:nvSpPr>
        <p:spPr>
          <a:xfrm flipV="1">
            <a:off x="7647120" y="4817880"/>
            <a:ext cx="28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0" name=""/>
          <p:cNvSpPr/>
          <p:nvPr/>
        </p:nvSpPr>
        <p:spPr>
          <a:xfrm>
            <a:off x="7559280" y="490392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a:t>
            </a:r>
            <a:endParaRPr b="0" lang="en-US" sz="800" spc="-1" strike="noStrike">
              <a:solidFill>
                <a:srgbClr val="000000"/>
              </a:solidFill>
              <a:latin typeface="Times New Roman"/>
            </a:endParaRPr>
          </a:p>
        </p:txBody>
      </p:sp>
      <p:sp>
        <p:nvSpPr>
          <p:cNvPr id="2241" name=""/>
          <p:cNvSpPr/>
          <p:nvPr/>
        </p:nvSpPr>
        <p:spPr>
          <a:xfrm flipV="1">
            <a:off x="8442360" y="481788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2" name=""/>
          <p:cNvSpPr/>
          <p:nvPr/>
        </p:nvSpPr>
        <p:spPr>
          <a:xfrm>
            <a:off x="8354520" y="490392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a:t>
            </a:r>
            <a:endParaRPr b="0" lang="en-US" sz="800" spc="-1" strike="noStrike">
              <a:solidFill>
                <a:srgbClr val="000000"/>
              </a:solidFill>
              <a:latin typeface="Times New Roman"/>
            </a:endParaRPr>
          </a:p>
        </p:txBody>
      </p:sp>
      <p:sp>
        <p:nvSpPr>
          <p:cNvPr id="2243" name=""/>
          <p:cNvSpPr/>
          <p:nvPr/>
        </p:nvSpPr>
        <p:spPr>
          <a:xfrm>
            <a:off x="2092320" y="488484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flipH="1">
            <a:off x="8376840" y="48848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2092320" y="4884840"/>
            <a:ext cx="6350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2092320" y="1973160"/>
            <a:ext cx="558720" cy="914400"/>
          </a:xfrm>
          <a:custGeom>
            <a:avLst/>
            <a:gdLst/>
            <a:ahLst/>
            <a:rect l="l" t="t" r="r" b="b"/>
            <a:pathLst>
              <a:path w="862" h="1348">
                <a:moveTo>
                  <a:pt x="0" y="1309"/>
                </a:moveTo>
                <a:lnTo>
                  <a:pt x="10" y="1309"/>
                </a:lnTo>
                <a:lnTo>
                  <a:pt x="20" y="1318"/>
                </a:lnTo>
                <a:lnTo>
                  <a:pt x="30" y="1309"/>
                </a:lnTo>
                <a:lnTo>
                  <a:pt x="30" y="1289"/>
                </a:lnTo>
                <a:lnTo>
                  <a:pt x="40" y="1309"/>
                </a:lnTo>
                <a:lnTo>
                  <a:pt x="49" y="1299"/>
                </a:lnTo>
                <a:lnTo>
                  <a:pt x="59" y="1309"/>
                </a:lnTo>
                <a:lnTo>
                  <a:pt x="69" y="1299"/>
                </a:lnTo>
                <a:lnTo>
                  <a:pt x="79" y="1289"/>
                </a:lnTo>
                <a:lnTo>
                  <a:pt x="79" y="1269"/>
                </a:lnTo>
                <a:lnTo>
                  <a:pt x="89" y="1249"/>
                </a:lnTo>
                <a:lnTo>
                  <a:pt x="89" y="1219"/>
                </a:lnTo>
                <a:lnTo>
                  <a:pt x="99" y="1200"/>
                </a:lnTo>
                <a:lnTo>
                  <a:pt x="109" y="1120"/>
                </a:lnTo>
                <a:lnTo>
                  <a:pt x="109" y="1081"/>
                </a:lnTo>
                <a:lnTo>
                  <a:pt x="119" y="1120"/>
                </a:lnTo>
                <a:lnTo>
                  <a:pt x="129" y="1100"/>
                </a:lnTo>
                <a:lnTo>
                  <a:pt x="139" y="1209"/>
                </a:lnTo>
                <a:lnTo>
                  <a:pt x="139" y="1289"/>
                </a:lnTo>
                <a:lnTo>
                  <a:pt x="149" y="1299"/>
                </a:lnTo>
                <a:lnTo>
                  <a:pt x="159" y="1289"/>
                </a:lnTo>
                <a:lnTo>
                  <a:pt x="159" y="1299"/>
                </a:lnTo>
                <a:lnTo>
                  <a:pt x="168" y="1318"/>
                </a:lnTo>
                <a:lnTo>
                  <a:pt x="168" y="1309"/>
                </a:lnTo>
                <a:lnTo>
                  <a:pt x="178" y="1289"/>
                </a:lnTo>
                <a:lnTo>
                  <a:pt x="188" y="1309"/>
                </a:lnTo>
                <a:lnTo>
                  <a:pt x="188" y="1328"/>
                </a:lnTo>
                <a:lnTo>
                  <a:pt x="198" y="1338"/>
                </a:lnTo>
                <a:lnTo>
                  <a:pt x="208" y="1150"/>
                </a:lnTo>
                <a:lnTo>
                  <a:pt x="208" y="664"/>
                </a:lnTo>
                <a:lnTo>
                  <a:pt x="218" y="99"/>
                </a:lnTo>
                <a:lnTo>
                  <a:pt x="218" y="0"/>
                </a:lnTo>
                <a:lnTo>
                  <a:pt x="228" y="426"/>
                </a:lnTo>
                <a:lnTo>
                  <a:pt x="238" y="1249"/>
                </a:lnTo>
                <a:lnTo>
                  <a:pt x="238" y="1309"/>
                </a:lnTo>
                <a:lnTo>
                  <a:pt x="248" y="1140"/>
                </a:lnTo>
                <a:lnTo>
                  <a:pt x="268" y="1309"/>
                </a:lnTo>
                <a:lnTo>
                  <a:pt x="268" y="1318"/>
                </a:lnTo>
                <a:lnTo>
                  <a:pt x="277" y="1309"/>
                </a:lnTo>
                <a:lnTo>
                  <a:pt x="287" y="1318"/>
                </a:lnTo>
                <a:lnTo>
                  <a:pt x="287" y="1338"/>
                </a:lnTo>
                <a:lnTo>
                  <a:pt x="297" y="1348"/>
                </a:lnTo>
                <a:lnTo>
                  <a:pt x="307" y="1328"/>
                </a:lnTo>
                <a:lnTo>
                  <a:pt x="327" y="1328"/>
                </a:lnTo>
                <a:lnTo>
                  <a:pt x="317" y="1328"/>
                </a:lnTo>
                <a:lnTo>
                  <a:pt x="327" y="1328"/>
                </a:lnTo>
                <a:lnTo>
                  <a:pt x="337" y="1318"/>
                </a:lnTo>
                <a:lnTo>
                  <a:pt x="337" y="1328"/>
                </a:lnTo>
                <a:lnTo>
                  <a:pt x="347" y="1318"/>
                </a:lnTo>
                <a:lnTo>
                  <a:pt x="347" y="1289"/>
                </a:lnTo>
                <a:lnTo>
                  <a:pt x="357" y="1299"/>
                </a:lnTo>
                <a:lnTo>
                  <a:pt x="367" y="1309"/>
                </a:lnTo>
                <a:lnTo>
                  <a:pt x="367" y="1299"/>
                </a:lnTo>
                <a:lnTo>
                  <a:pt x="377" y="1269"/>
                </a:lnTo>
                <a:lnTo>
                  <a:pt x="387" y="1279"/>
                </a:lnTo>
                <a:lnTo>
                  <a:pt x="387" y="1269"/>
                </a:lnTo>
                <a:lnTo>
                  <a:pt x="396" y="1229"/>
                </a:lnTo>
                <a:lnTo>
                  <a:pt x="396" y="1190"/>
                </a:lnTo>
                <a:lnTo>
                  <a:pt x="406" y="1160"/>
                </a:lnTo>
                <a:lnTo>
                  <a:pt x="416" y="1150"/>
                </a:lnTo>
                <a:lnTo>
                  <a:pt x="416" y="1110"/>
                </a:lnTo>
                <a:lnTo>
                  <a:pt x="426" y="1071"/>
                </a:lnTo>
                <a:lnTo>
                  <a:pt x="436" y="1041"/>
                </a:lnTo>
                <a:lnTo>
                  <a:pt x="436" y="1031"/>
                </a:lnTo>
                <a:lnTo>
                  <a:pt x="456" y="962"/>
                </a:lnTo>
                <a:lnTo>
                  <a:pt x="446" y="962"/>
                </a:lnTo>
                <a:lnTo>
                  <a:pt x="456" y="962"/>
                </a:lnTo>
                <a:lnTo>
                  <a:pt x="466" y="962"/>
                </a:lnTo>
                <a:lnTo>
                  <a:pt x="466" y="991"/>
                </a:lnTo>
                <a:lnTo>
                  <a:pt x="476" y="1011"/>
                </a:lnTo>
                <a:lnTo>
                  <a:pt x="476" y="1071"/>
                </a:lnTo>
                <a:lnTo>
                  <a:pt x="486" y="1120"/>
                </a:lnTo>
                <a:lnTo>
                  <a:pt x="496" y="1170"/>
                </a:lnTo>
                <a:lnTo>
                  <a:pt x="506" y="1209"/>
                </a:lnTo>
                <a:lnTo>
                  <a:pt x="515" y="1229"/>
                </a:lnTo>
                <a:lnTo>
                  <a:pt x="515" y="1249"/>
                </a:lnTo>
                <a:lnTo>
                  <a:pt x="535" y="1249"/>
                </a:lnTo>
                <a:lnTo>
                  <a:pt x="525" y="1249"/>
                </a:lnTo>
                <a:lnTo>
                  <a:pt x="535" y="1249"/>
                </a:lnTo>
                <a:lnTo>
                  <a:pt x="545" y="1249"/>
                </a:lnTo>
                <a:lnTo>
                  <a:pt x="545" y="1229"/>
                </a:lnTo>
                <a:lnTo>
                  <a:pt x="555" y="1239"/>
                </a:lnTo>
                <a:lnTo>
                  <a:pt x="565" y="1239"/>
                </a:lnTo>
                <a:lnTo>
                  <a:pt x="575" y="1219"/>
                </a:lnTo>
                <a:lnTo>
                  <a:pt x="575" y="1229"/>
                </a:lnTo>
                <a:lnTo>
                  <a:pt x="585" y="1249"/>
                </a:lnTo>
                <a:lnTo>
                  <a:pt x="595" y="1219"/>
                </a:lnTo>
                <a:lnTo>
                  <a:pt x="595" y="1209"/>
                </a:lnTo>
                <a:lnTo>
                  <a:pt x="605" y="1219"/>
                </a:lnTo>
                <a:lnTo>
                  <a:pt x="615" y="1229"/>
                </a:lnTo>
                <a:lnTo>
                  <a:pt x="615" y="1239"/>
                </a:lnTo>
                <a:lnTo>
                  <a:pt x="624" y="1229"/>
                </a:lnTo>
                <a:lnTo>
                  <a:pt x="624" y="1239"/>
                </a:lnTo>
                <a:lnTo>
                  <a:pt x="634" y="1249"/>
                </a:lnTo>
                <a:lnTo>
                  <a:pt x="644" y="1259"/>
                </a:lnTo>
                <a:lnTo>
                  <a:pt x="644" y="1249"/>
                </a:lnTo>
                <a:lnTo>
                  <a:pt x="664" y="1279"/>
                </a:lnTo>
                <a:lnTo>
                  <a:pt x="664" y="1279"/>
                </a:lnTo>
                <a:lnTo>
                  <a:pt x="674" y="1259"/>
                </a:lnTo>
                <a:lnTo>
                  <a:pt x="674" y="1279"/>
                </a:lnTo>
                <a:lnTo>
                  <a:pt x="684" y="1289"/>
                </a:lnTo>
                <a:lnTo>
                  <a:pt x="694" y="1279"/>
                </a:lnTo>
                <a:lnTo>
                  <a:pt x="694" y="1269"/>
                </a:lnTo>
                <a:lnTo>
                  <a:pt x="704" y="1279"/>
                </a:lnTo>
                <a:lnTo>
                  <a:pt x="704" y="1289"/>
                </a:lnTo>
                <a:lnTo>
                  <a:pt x="714" y="1279"/>
                </a:lnTo>
                <a:lnTo>
                  <a:pt x="734" y="1289"/>
                </a:lnTo>
                <a:lnTo>
                  <a:pt x="724" y="1289"/>
                </a:lnTo>
                <a:lnTo>
                  <a:pt x="734" y="1289"/>
                </a:lnTo>
                <a:lnTo>
                  <a:pt x="743" y="1279"/>
                </a:lnTo>
                <a:lnTo>
                  <a:pt x="753" y="1279"/>
                </a:lnTo>
                <a:lnTo>
                  <a:pt x="763" y="1239"/>
                </a:lnTo>
                <a:lnTo>
                  <a:pt x="773" y="1200"/>
                </a:lnTo>
                <a:lnTo>
                  <a:pt x="773" y="1180"/>
                </a:lnTo>
                <a:lnTo>
                  <a:pt x="783" y="1130"/>
                </a:lnTo>
                <a:lnTo>
                  <a:pt x="783" y="1081"/>
                </a:lnTo>
                <a:lnTo>
                  <a:pt x="793" y="1081"/>
                </a:lnTo>
                <a:lnTo>
                  <a:pt x="803" y="1100"/>
                </a:lnTo>
                <a:lnTo>
                  <a:pt x="803" y="1160"/>
                </a:lnTo>
                <a:lnTo>
                  <a:pt x="813" y="1239"/>
                </a:lnTo>
                <a:lnTo>
                  <a:pt x="823" y="1279"/>
                </a:lnTo>
                <a:lnTo>
                  <a:pt x="823" y="1309"/>
                </a:lnTo>
                <a:lnTo>
                  <a:pt x="833" y="1309"/>
                </a:lnTo>
                <a:lnTo>
                  <a:pt x="843" y="1309"/>
                </a:lnTo>
                <a:lnTo>
                  <a:pt x="853" y="1318"/>
                </a:lnTo>
                <a:lnTo>
                  <a:pt x="853" y="1338"/>
                </a:lnTo>
                <a:lnTo>
                  <a:pt x="862" y="1328"/>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2651040" y="1981080"/>
            <a:ext cx="568440" cy="954360"/>
          </a:xfrm>
          <a:custGeom>
            <a:avLst/>
            <a:gdLst/>
            <a:ahLst/>
            <a:rect l="l" t="t" r="r" b="b"/>
            <a:pathLst>
              <a:path w="883" h="1408">
                <a:moveTo>
                  <a:pt x="0" y="1318"/>
                </a:moveTo>
                <a:lnTo>
                  <a:pt x="10" y="1289"/>
                </a:lnTo>
                <a:lnTo>
                  <a:pt x="20" y="1348"/>
                </a:lnTo>
                <a:lnTo>
                  <a:pt x="20" y="1279"/>
                </a:lnTo>
                <a:lnTo>
                  <a:pt x="30" y="872"/>
                </a:lnTo>
                <a:lnTo>
                  <a:pt x="40" y="218"/>
                </a:lnTo>
                <a:lnTo>
                  <a:pt x="40" y="0"/>
                </a:lnTo>
                <a:lnTo>
                  <a:pt x="50" y="426"/>
                </a:lnTo>
                <a:lnTo>
                  <a:pt x="60" y="1259"/>
                </a:lnTo>
                <a:lnTo>
                  <a:pt x="60" y="1318"/>
                </a:lnTo>
                <a:lnTo>
                  <a:pt x="70" y="1160"/>
                </a:lnTo>
                <a:lnTo>
                  <a:pt x="70" y="1249"/>
                </a:lnTo>
                <a:lnTo>
                  <a:pt x="80" y="1299"/>
                </a:lnTo>
                <a:lnTo>
                  <a:pt x="90" y="1299"/>
                </a:lnTo>
                <a:lnTo>
                  <a:pt x="90" y="1318"/>
                </a:lnTo>
                <a:lnTo>
                  <a:pt x="100" y="1308"/>
                </a:lnTo>
                <a:lnTo>
                  <a:pt x="110" y="1318"/>
                </a:lnTo>
                <a:lnTo>
                  <a:pt x="119" y="1318"/>
                </a:lnTo>
                <a:lnTo>
                  <a:pt x="129" y="1318"/>
                </a:lnTo>
                <a:lnTo>
                  <a:pt x="139" y="1328"/>
                </a:lnTo>
                <a:lnTo>
                  <a:pt x="139" y="1348"/>
                </a:lnTo>
                <a:lnTo>
                  <a:pt x="149" y="1328"/>
                </a:lnTo>
                <a:lnTo>
                  <a:pt x="149" y="1299"/>
                </a:lnTo>
                <a:lnTo>
                  <a:pt x="159" y="1318"/>
                </a:lnTo>
                <a:lnTo>
                  <a:pt x="169" y="1308"/>
                </a:lnTo>
                <a:lnTo>
                  <a:pt x="179" y="1279"/>
                </a:lnTo>
                <a:lnTo>
                  <a:pt x="189" y="1269"/>
                </a:lnTo>
                <a:lnTo>
                  <a:pt x="199" y="1249"/>
                </a:lnTo>
                <a:lnTo>
                  <a:pt x="199" y="1219"/>
                </a:lnTo>
                <a:lnTo>
                  <a:pt x="209" y="1190"/>
                </a:lnTo>
                <a:lnTo>
                  <a:pt x="219" y="1180"/>
                </a:lnTo>
                <a:lnTo>
                  <a:pt x="219" y="1150"/>
                </a:lnTo>
                <a:lnTo>
                  <a:pt x="228" y="1090"/>
                </a:lnTo>
                <a:lnTo>
                  <a:pt x="228" y="1061"/>
                </a:lnTo>
                <a:lnTo>
                  <a:pt x="238" y="1041"/>
                </a:lnTo>
                <a:lnTo>
                  <a:pt x="248" y="1001"/>
                </a:lnTo>
                <a:lnTo>
                  <a:pt x="248" y="981"/>
                </a:lnTo>
                <a:lnTo>
                  <a:pt x="258" y="981"/>
                </a:lnTo>
                <a:lnTo>
                  <a:pt x="268" y="981"/>
                </a:lnTo>
                <a:lnTo>
                  <a:pt x="278" y="1001"/>
                </a:lnTo>
                <a:lnTo>
                  <a:pt x="278" y="1041"/>
                </a:lnTo>
                <a:lnTo>
                  <a:pt x="288" y="1120"/>
                </a:lnTo>
                <a:lnTo>
                  <a:pt x="298" y="1170"/>
                </a:lnTo>
                <a:lnTo>
                  <a:pt x="298" y="1190"/>
                </a:lnTo>
                <a:lnTo>
                  <a:pt x="308" y="1239"/>
                </a:lnTo>
                <a:lnTo>
                  <a:pt x="318" y="1279"/>
                </a:lnTo>
                <a:lnTo>
                  <a:pt x="318" y="1299"/>
                </a:lnTo>
                <a:lnTo>
                  <a:pt x="328" y="1289"/>
                </a:lnTo>
                <a:lnTo>
                  <a:pt x="328" y="1308"/>
                </a:lnTo>
                <a:lnTo>
                  <a:pt x="338" y="1318"/>
                </a:lnTo>
                <a:lnTo>
                  <a:pt x="347" y="1328"/>
                </a:lnTo>
                <a:lnTo>
                  <a:pt x="347" y="1299"/>
                </a:lnTo>
                <a:lnTo>
                  <a:pt x="357" y="1308"/>
                </a:lnTo>
                <a:lnTo>
                  <a:pt x="367" y="1318"/>
                </a:lnTo>
                <a:lnTo>
                  <a:pt x="367" y="1328"/>
                </a:lnTo>
                <a:lnTo>
                  <a:pt x="387" y="1308"/>
                </a:lnTo>
                <a:lnTo>
                  <a:pt x="387" y="1308"/>
                </a:lnTo>
                <a:lnTo>
                  <a:pt x="397" y="1279"/>
                </a:lnTo>
                <a:lnTo>
                  <a:pt x="397" y="1269"/>
                </a:lnTo>
                <a:lnTo>
                  <a:pt x="407" y="1279"/>
                </a:lnTo>
                <a:lnTo>
                  <a:pt x="407" y="1289"/>
                </a:lnTo>
                <a:lnTo>
                  <a:pt x="417" y="1299"/>
                </a:lnTo>
                <a:lnTo>
                  <a:pt x="427" y="1289"/>
                </a:lnTo>
                <a:lnTo>
                  <a:pt x="447" y="1299"/>
                </a:lnTo>
                <a:lnTo>
                  <a:pt x="447" y="1289"/>
                </a:lnTo>
                <a:lnTo>
                  <a:pt x="457" y="1299"/>
                </a:lnTo>
                <a:lnTo>
                  <a:pt x="457" y="1328"/>
                </a:lnTo>
                <a:lnTo>
                  <a:pt x="466" y="1318"/>
                </a:lnTo>
                <a:lnTo>
                  <a:pt x="476" y="1289"/>
                </a:lnTo>
                <a:lnTo>
                  <a:pt x="476" y="1299"/>
                </a:lnTo>
                <a:lnTo>
                  <a:pt x="486" y="1318"/>
                </a:lnTo>
                <a:lnTo>
                  <a:pt x="506" y="1308"/>
                </a:lnTo>
                <a:lnTo>
                  <a:pt x="496" y="1308"/>
                </a:lnTo>
                <a:lnTo>
                  <a:pt x="506" y="1328"/>
                </a:lnTo>
                <a:lnTo>
                  <a:pt x="516" y="1328"/>
                </a:lnTo>
                <a:lnTo>
                  <a:pt x="526" y="1299"/>
                </a:lnTo>
                <a:lnTo>
                  <a:pt x="536" y="1279"/>
                </a:lnTo>
                <a:lnTo>
                  <a:pt x="536" y="1259"/>
                </a:lnTo>
                <a:lnTo>
                  <a:pt x="546" y="1219"/>
                </a:lnTo>
                <a:lnTo>
                  <a:pt x="556" y="1199"/>
                </a:lnTo>
                <a:lnTo>
                  <a:pt x="556" y="1150"/>
                </a:lnTo>
                <a:lnTo>
                  <a:pt x="566" y="1110"/>
                </a:lnTo>
                <a:lnTo>
                  <a:pt x="576" y="1120"/>
                </a:lnTo>
                <a:lnTo>
                  <a:pt x="585" y="1160"/>
                </a:lnTo>
                <a:lnTo>
                  <a:pt x="585" y="1239"/>
                </a:lnTo>
                <a:lnTo>
                  <a:pt x="595" y="1299"/>
                </a:lnTo>
                <a:lnTo>
                  <a:pt x="605" y="1338"/>
                </a:lnTo>
                <a:lnTo>
                  <a:pt x="615" y="1338"/>
                </a:lnTo>
                <a:lnTo>
                  <a:pt x="625" y="1328"/>
                </a:lnTo>
                <a:lnTo>
                  <a:pt x="625" y="1348"/>
                </a:lnTo>
                <a:lnTo>
                  <a:pt x="635" y="1338"/>
                </a:lnTo>
                <a:lnTo>
                  <a:pt x="645" y="1308"/>
                </a:lnTo>
                <a:lnTo>
                  <a:pt x="655" y="1328"/>
                </a:lnTo>
                <a:lnTo>
                  <a:pt x="655" y="1378"/>
                </a:lnTo>
                <a:lnTo>
                  <a:pt x="665" y="1318"/>
                </a:lnTo>
                <a:lnTo>
                  <a:pt x="675" y="1001"/>
                </a:lnTo>
                <a:lnTo>
                  <a:pt x="675" y="396"/>
                </a:lnTo>
                <a:lnTo>
                  <a:pt x="685" y="49"/>
                </a:lnTo>
                <a:lnTo>
                  <a:pt x="685" y="277"/>
                </a:lnTo>
                <a:lnTo>
                  <a:pt x="694" y="1120"/>
                </a:lnTo>
                <a:lnTo>
                  <a:pt x="704" y="1408"/>
                </a:lnTo>
                <a:lnTo>
                  <a:pt x="704" y="1209"/>
                </a:lnTo>
                <a:lnTo>
                  <a:pt x="714" y="1259"/>
                </a:lnTo>
                <a:lnTo>
                  <a:pt x="714" y="1318"/>
                </a:lnTo>
                <a:lnTo>
                  <a:pt x="724" y="1328"/>
                </a:lnTo>
                <a:lnTo>
                  <a:pt x="734" y="1338"/>
                </a:lnTo>
                <a:lnTo>
                  <a:pt x="744" y="1328"/>
                </a:lnTo>
                <a:lnTo>
                  <a:pt x="754" y="1338"/>
                </a:lnTo>
                <a:lnTo>
                  <a:pt x="754" y="1348"/>
                </a:lnTo>
                <a:lnTo>
                  <a:pt x="764" y="1358"/>
                </a:lnTo>
                <a:lnTo>
                  <a:pt x="764" y="1348"/>
                </a:lnTo>
                <a:lnTo>
                  <a:pt x="774" y="1338"/>
                </a:lnTo>
                <a:lnTo>
                  <a:pt x="784" y="1348"/>
                </a:lnTo>
                <a:lnTo>
                  <a:pt x="794" y="1318"/>
                </a:lnTo>
                <a:lnTo>
                  <a:pt x="813" y="1328"/>
                </a:lnTo>
                <a:lnTo>
                  <a:pt x="804" y="1328"/>
                </a:lnTo>
                <a:lnTo>
                  <a:pt x="813" y="1279"/>
                </a:lnTo>
                <a:lnTo>
                  <a:pt x="823" y="1299"/>
                </a:lnTo>
                <a:lnTo>
                  <a:pt x="833" y="1289"/>
                </a:lnTo>
                <a:lnTo>
                  <a:pt x="833" y="1259"/>
                </a:lnTo>
                <a:lnTo>
                  <a:pt x="843" y="1229"/>
                </a:lnTo>
                <a:lnTo>
                  <a:pt x="843" y="1219"/>
                </a:lnTo>
                <a:lnTo>
                  <a:pt x="853" y="1209"/>
                </a:lnTo>
                <a:lnTo>
                  <a:pt x="863" y="1180"/>
                </a:lnTo>
                <a:lnTo>
                  <a:pt x="863" y="1140"/>
                </a:lnTo>
                <a:lnTo>
                  <a:pt x="873" y="1110"/>
                </a:lnTo>
                <a:lnTo>
                  <a:pt x="883" y="1071"/>
                </a:lnTo>
                <a:lnTo>
                  <a:pt x="883" y="1051"/>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3219480" y="1968480"/>
            <a:ext cx="576360" cy="959040"/>
          </a:xfrm>
          <a:custGeom>
            <a:avLst/>
            <a:gdLst/>
            <a:ahLst/>
            <a:rect l="l" t="t" r="r" b="b"/>
            <a:pathLst>
              <a:path w="892" h="1418">
                <a:moveTo>
                  <a:pt x="0" y="1071"/>
                </a:moveTo>
                <a:lnTo>
                  <a:pt x="10" y="1021"/>
                </a:lnTo>
                <a:lnTo>
                  <a:pt x="10" y="1011"/>
                </a:lnTo>
                <a:lnTo>
                  <a:pt x="20" y="1001"/>
                </a:lnTo>
                <a:lnTo>
                  <a:pt x="30" y="991"/>
                </a:lnTo>
                <a:lnTo>
                  <a:pt x="30" y="981"/>
                </a:lnTo>
                <a:lnTo>
                  <a:pt x="40" y="1031"/>
                </a:lnTo>
                <a:lnTo>
                  <a:pt x="49" y="1081"/>
                </a:lnTo>
                <a:lnTo>
                  <a:pt x="49" y="1130"/>
                </a:lnTo>
                <a:lnTo>
                  <a:pt x="59" y="1180"/>
                </a:lnTo>
                <a:lnTo>
                  <a:pt x="59" y="1229"/>
                </a:lnTo>
                <a:lnTo>
                  <a:pt x="69" y="1269"/>
                </a:lnTo>
                <a:lnTo>
                  <a:pt x="79" y="1289"/>
                </a:lnTo>
                <a:lnTo>
                  <a:pt x="89" y="1309"/>
                </a:lnTo>
                <a:lnTo>
                  <a:pt x="99" y="1328"/>
                </a:lnTo>
                <a:lnTo>
                  <a:pt x="99" y="1338"/>
                </a:lnTo>
                <a:lnTo>
                  <a:pt x="109" y="1319"/>
                </a:lnTo>
                <a:lnTo>
                  <a:pt x="109" y="1328"/>
                </a:lnTo>
                <a:lnTo>
                  <a:pt x="129" y="1348"/>
                </a:lnTo>
                <a:lnTo>
                  <a:pt x="129" y="1319"/>
                </a:lnTo>
                <a:lnTo>
                  <a:pt x="139" y="1319"/>
                </a:lnTo>
                <a:lnTo>
                  <a:pt x="149" y="1319"/>
                </a:lnTo>
                <a:lnTo>
                  <a:pt x="159" y="1289"/>
                </a:lnTo>
                <a:lnTo>
                  <a:pt x="168" y="1299"/>
                </a:lnTo>
                <a:lnTo>
                  <a:pt x="178" y="1299"/>
                </a:lnTo>
                <a:lnTo>
                  <a:pt x="178" y="1279"/>
                </a:lnTo>
                <a:lnTo>
                  <a:pt x="188" y="1279"/>
                </a:lnTo>
                <a:lnTo>
                  <a:pt x="188" y="1299"/>
                </a:lnTo>
                <a:lnTo>
                  <a:pt x="198" y="1299"/>
                </a:lnTo>
                <a:lnTo>
                  <a:pt x="208" y="1299"/>
                </a:lnTo>
                <a:lnTo>
                  <a:pt x="218" y="1319"/>
                </a:lnTo>
                <a:lnTo>
                  <a:pt x="228" y="1309"/>
                </a:lnTo>
                <a:lnTo>
                  <a:pt x="238" y="1309"/>
                </a:lnTo>
                <a:lnTo>
                  <a:pt x="238" y="1328"/>
                </a:lnTo>
                <a:lnTo>
                  <a:pt x="248" y="1338"/>
                </a:lnTo>
                <a:lnTo>
                  <a:pt x="258" y="1328"/>
                </a:lnTo>
                <a:lnTo>
                  <a:pt x="268" y="1338"/>
                </a:lnTo>
                <a:lnTo>
                  <a:pt x="268" y="1328"/>
                </a:lnTo>
                <a:lnTo>
                  <a:pt x="277" y="1319"/>
                </a:lnTo>
                <a:lnTo>
                  <a:pt x="287" y="1328"/>
                </a:lnTo>
                <a:lnTo>
                  <a:pt x="287" y="1348"/>
                </a:lnTo>
                <a:lnTo>
                  <a:pt x="297" y="1338"/>
                </a:lnTo>
                <a:lnTo>
                  <a:pt x="307" y="1319"/>
                </a:lnTo>
                <a:lnTo>
                  <a:pt x="317" y="1338"/>
                </a:lnTo>
                <a:lnTo>
                  <a:pt x="317" y="1319"/>
                </a:lnTo>
                <a:lnTo>
                  <a:pt x="327" y="1259"/>
                </a:lnTo>
                <a:lnTo>
                  <a:pt x="337" y="1229"/>
                </a:lnTo>
                <a:lnTo>
                  <a:pt x="337" y="1219"/>
                </a:lnTo>
                <a:lnTo>
                  <a:pt x="347" y="1180"/>
                </a:lnTo>
                <a:lnTo>
                  <a:pt x="357" y="1100"/>
                </a:lnTo>
                <a:lnTo>
                  <a:pt x="357" y="1130"/>
                </a:lnTo>
                <a:lnTo>
                  <a:pt x="367" y="1150"/>
                </a:lnTo>
                <a:lnTo>
                  <a:pt x="367" y="1160"/>
                </a:lnTo>
                <a:lnTo>
                  <a:pt x="377" y="1219"/>
                </a:lnTo>
                <a:lnTo>
                  <a:pt x="396" y="1348"/>
                </a:lnTo>
                <a:lnTo>
                  <a:pt x="387" y="1348"/>
                </a:lnTo>
                <a:lnTo>
                  <a:pt x="396" y="1348"/>
                </a:lnTo>
                <a:lnTo>
                  <a:pt x="406" y="1358"/>
                </a:lnTo>
                <a:lnTo>
                  <a:pt x="416" y="1368"/>
                </a:lnTo>
                <a:lnTo>
                  <a:pt x="426" y="1358"/>
                </a:lnTo>
                <a:lnTo>
                  <a:pt x="436" y="1358"/>
                </a:lnTo>
                <a:lnTo>
                  <a:pt x="446" y="1358"/>
                </a:lnTo>
                <a:lnTo>
                  <a:pt x="446" y="1378"/>
                </a:lnTo>
                <a:lnTo>
                  <a:pt x="456" y="1338"/>
                </a:lnTo>
                <a:lnTo>
                  <a:pt x="466" y="1011"/>
                </a:lnTo>
                <a:lnTo>
                  <a:pt x="466" y="367"/>
                </a:lnTo>
                <a:lnTo>
                  <a:pt x="476" y="0"/>
                </a:lnTo>
                <a:lnTo>
                  <a:pt x="486" y="248"/>
                </a:lnTo>
                <a:lnTo>
                  <a:pt x="486" y="1120"/>
                </a:lnTo>
                <a:lnTo>
                  <a:pt x="496" y="1418"/>
                </a:lnTo>
                <a:lnTo>
                  <a:pt x="496" y="1210"/>
                </a:lnTo>
                <a:lnTo>
                  <a:pt x="506" y="1249"/>
                </a:lnTo>
                <a:lnTo>
                  <a:pt x="515" y="1358"/>
                </a:lnTo>
                <a:lnTo>
                  <a:pt x="525" y="1338"/>
                </a:lnTo>
                <a:lnTo>
                  <a:pt x="535" y="1348"/>
                </a:lnTo>
                <a:lnTo>
                  <a:pt x="535" y="1378"/>
                </a:lnTo>
                <a:lnTo>
                  <a:pt x="545" y="1368"/>
                </a:lnTo>
                <a:lnTo>
                  <a:pt x="545" y="1358"/>
                </a:lnTo>
                <a:lnTo>
                  <a:pt x="555" y="1348"/>
                </a:lnTo>
                <a:lnTo>
                  <a:pt x="575" y="1358"/>
                </a:lnTo>
                <a:lnTo>
                  <a:pt x="575" y="1348"/>
                </a:lnTo>
                <a:lnTo>
                  <a:pt x="585" y="1358"/>
                </a:lnTo>
                <a:lnTo>
                  <a:pt x="595" y="1358"/>
                </a:lnTo>
                <a:lnTo>
                  <a:pt x="595" y="1338"/>
                </a:lnTo>
                <a:lnTo>
                  <a:pt x="605" y="1338"/>
                </a:lnTo>
                <a:lnTo>
                  <a:pt x="615" y="1338"/>
                </a:lnTo>
                <a:lnTo>
                  <a:pt x="615" y="1319"/>
                </a:lnTo>
                <a:lnTo>
                  <a:pt x="625" y="1289"/>
                </a:lnTo>
                <a:lnTo>
                  <a:pt x="625" y="1269"/>
                </a:lnTo>
                <a:lnTo>
                  <a:pt x="634" y="1289"/>
                </a:lnTo>
                <a:lnTo>
                  <a:pt x="644" y="1249"/>
                </a:lnTo>
                <a:lnTo>
                  <a:pt x="644" y="1210"/>
                </a:lnTo>
                <a:lnTo>
                  <a:pt x="654" y="1170"/>
                </a:lnTo>
                <a:lnTo>
                  <a:pt x="664" y="1160"/>
                </a:lnTo>
                <a:lnTo>
                  <a:pt x="664" y="1120"/>
                </a:lnTo>
                <a:lnTo>
                  <a:pt x="674" y="1071"/>
                </a:lnTo>
                <a:lnTo>
                  <a:pt x="674" y="1021"/>
                </a:lnTo>
                <a:lnTo>
                  <a:pt x="684" y="1001"/>
                </a:lnTo>
                <a:lnTo>
                  <a:pt x="694" y="981"/>
                </a:lnTo>
                <a:lnTo>
                  <a:pt x="694" y="952"/>
                </a:lnTo>
                <a:lnTo>
                  <a:pt x="704" y="942"/>
                </a:lnTo>
                <a:lnTo>
                  <a:pt x="714" y="991"/>
                </a:lnTo>
                <a:lnTo>
                  <a:pt x="714" y="1021"/>
                </a:lnTo>
                <a:lnTo>
                  <a:pt x="724" y="1071"/>
                </a:lnTo>
                <a:lnTo>
                  <a:pt x="724" y="1120"/>
                </a:lnTo>
                <a:lnTo>
                  <a:pt x="734" y="1180"/>
                </a:lnTo>
                <a:lnTo>
                  <a:pt x="743" y="1219"/>
                </a:lnTo>
                <a:lnTo>
                  <a:pt x="743" y="1249"/>
                </a:lnTo>
                <a:lnTo>
                  <a:pt x="753" y="1269"/>
                </a:lnTo>
                <a:lnTo>
                  <a:pt x="753" y="1299"/>
                </a:lnTo>
                <a:lnTo>
                  <a:pt x="763" y="1309"/>
                </a:lnTo>
                <a:lnTo>
                  <a:pt x="773" y="1309"/>
                </a:lnTo>
                <a:lnTo>
                  <a:pt x="783" y="1319"/>
                </a:lnTo>
                <a:lnTo>
                  <a:pt x="793" y="1328"/>
                </a:lnTo>
                <a:lnTo>
                  <a:pt x="793" y="1299"/>
                </a:lnTo>
                <a:lnTo>
                  <a:pt x="803" y="1299"/>
                </a:lnTo>
                <a:lnTo>
                  <a:pt x="803" y="1319"/>
                </a:lnTo>
                <a:lnTo>
                  <a:pt x="813" y="1309"/>
                </a:lnTo>
                <a:lnTo>
                  <a:pt x="823" y="1289"/>
                </a:lnTo>
                <a:lnTo>
                  <a:pt x="833" y="1299"/>
                </a:lnTo>
                <a:lnTo>
                  <a:pt x="843" y="1289"/>
                </a:lnTo>
                <a:lnTo>
                  <a:pt x="853" y="1279"/>
                </a:lnTo>
                <a:lnTo>
                  <a:pt x="853" y="1289"/>
                </a:lnTo>
                <a:lnTo>
                  <a:pt x="862" y="1309"/>
                </a:lnTo>
                <a:lnTo>
                  <a:pt x="872" y="1289"/>
                </a:lnTo>
                <a:lnTo>
                  <a:pt x="882" y="1299"/>
                </a:lnTo>
                <a:lnTo>
                  <a:pt x="882" y="1309"/>
                </a:lnTo>
                <a:lnTo>
                  <a:pt x="892" y="1289"/>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3795840" y="2028960"/>
            <a:ext cx="563400" cy="923760"/>
          </a:xfrm>
          <a:custGeom>
            <a:avLst/>
            <a:gdLst/>
            <a:ahLst/>
            <a:rect l="l" t="t" r="r" b="b"/>
            <a:pathLst>
              <a:path w="873" h="1368">
                <a:moveTo>
                  <a:pt x="0" y="1200"/>
                </a:moveTo>
                <a:lnTo>
                  <a:pt x="10" y="1210"/>
                </a:lnTo>
                <a:lnTo>
                  <a:pt x="10" y="1230"/>
                </a:lnTo>
                <a:lnTo>
                  <a:pt x="30" y="1220"/>
                </a:lnTo>
                <a:lnTo>
                  <a:pt x="30" y="1230"/>
                </a:lnTo>
                <a:lnTo>
                  <a:pt x="40" y="1239"/>
                </a:lnTo>
                <a:lnTo>
                  <a:pt x="40" y="1230"/>
                </a:lnTo>
                <a:lnTo>
                  <a:pt x="50" y="1220"/>
                </a:lnTo>
                <a:lnTo>
                  <a:pt x="60" y="1230"/>
                </a:lnTo>
                <a:lnTo>
                  <a:pt x="60" y="1239"/>
                </a:lnTo>
                <a:lnTo>
                  <a:pt x="70" y="1249"/>
                </a:lnTo>
                <a:lnTo>
                  <a:pt x="80" y="1230"/>
                </a:lnTo>
                <a:lnTo>
                  <a:pt x="80" y="1220"/>
                </a:lnTo>
                <a:lnTo>
                  <a:pt x="89" y="1239"/>
                </a:lnTo>
                <a:lnTo>
                  <a:pt x="89" y="1230"/>
                </a:lnTo>
                <a:lnTo>
                  <a:pt x="99" y="1210"/>
                </a:lnTo>
                <a:lnTo>
                  <a:pt x="109" y="1190"/>
                </a:lnTo>
                <a:lnTo>
                  <a:pt x="109" y="1180"/>
                </a:lnTo>
                <a:lnTo>
                  <a:pt x="119" y="1150"/>
                </a:lnTo>
                <a:lnTo>
                  <a:pt x="129" y="1111"/>
                </a:lnTo>
                <a:lnTo>
                  <a:pt x="129" y="1051"/>
                </a:lnTo>
                <a:lnTo>
                  <a:pt x="139" y="1021"/>
                </a:lnTo>
                <a:lnTo>
                  <a:pt x="139" y="1041"/>
                </a:lnTo>
                <a:lnTo>
                  <a:pt x="149" y="1031"/>
                </a:lnTo>
                <a:lnTo>
                  <a:pt x="159" y="1081"/>
                </a:lnTo>
                <a:lnTo>
                  <a:pt x="159" y="1200"/>
                </a:lnTo>
                <a:lnTo>
                  <a:pt x="169" y="1249"/>
                </a:lnTo>
                <a:lnTo>
                  <a:pt x="169" y="1239"/>
                </a:lnTo>
                <a:lnTo>
                  <a:pt x="179" y="1249"/>
                </a:lnTo>
                <a:lnTo>
                  <a:pt x="189" y="1259"/>
                </a:lnTo>
                <a:lnTo>
                  <a:pt x="189" y="1269"/>
                </a:lnTo>
                <a:lnTo>
                  <a:pt x="208" y="1259"/>
                </a:lnTo>
                <a:lnTo>
                  <a:pt x="208" y="1269"/>
                </a:lnTo>
                <a:lnTo>
                  <a:pt x="218" y="1279"/>
                </a:lnTo>
                <a:lnTo>
                  <a:pt x="218" y="1239"/>
                </a:lnTo>
                <a:lnTo>
                  <a:pt x="228" y="1269"/>
                </a:lnTo>
                <a:lnTo>
                  <a:pt x="238" y="1309"/>
                </a:lnTo>
                <a:lnTo>
                  <a:pt x="238" y="1081"/>
                </a:lnTo>
                <a:lnTo>
                  <a:pt x="248" y="506"/>
                </a:lnTo>
                <a:lnTo>
                  <a:pt x="258" y="0"/>
                </a:lnTo>
                <a:lnTo>
                  <a:pt x="258" y="79"/>
                </a:lnTo>
                <a:lnTo>
                  <a:pt x="268" y="813"/>
                </a:lnTo>
                <a:lnTo>
                  <a:pt x="268" y="1368"/>
                </a:lnTo>
                <a:lnTo>
                  <a:pt x="278" y="1180"/>
                </a:lnTo>
                <a:lnTo>
                  <a:pt x="298" y="1249"/>
                </a:lnTo>
                <a:lnTo>
                  <a:pt x="298" y="1259"/>
                </a:lnTo>
                <a:lnTo>
                  <a:pt x="308" y="1279"/>
                </a:lnTo>
                <a:lnTo>
                  <a:pt x="317" y="1289"/>
                </a:lnTo>
                <a:lnTo>
                  <a:pt x="317" y="1269"/>
                </a:lnTo>
                <a:lnTo>
                  <a:pt x="327" y="1289"/>
                </a:lnTo>
                <a:lnTo>
                  <a:pt x="337" y="1299"/>
                </a:lnTo>
                <a:lnTo>
                  <a:pt x="337" y="1289"/>
                </a:lnTo>
                <a:lnTo>
                  <a:pt x="347" y="1279"/>
                </a:lnTo>
                <a:lnTo>
                  <a:pt x="357" y="1309"/>
                </a:lnTo>
                <a:lnTo>
                  <a:pt x="377" y="1259"/>
                </a:lnTo>
                <a:lnTo>
                  <a:pt x="377" y="1259"/>
                </a:lnTo>
                <a:lnTo>
                  <a:pt x="387" y="1269"/>
                </a:lnTo>
                <a:lnTo>
                  <a:pt x="387" y="1259"/>
                </a:lnTo>
                <a:lnTo>
                  <a:pt x="397" y="1220"/>
                </a:lnTo>
                <a:lnTo>
                  <a:pt x="397" y="1200"/>
                </a:lnTo>
                <a:lnTo>
                  <a:pt x="407" y="1220"/>
                </a:lnTo>
                <a:lnTo>
                  <a:pt x="417" y="1190"/>
                </a:lnTo>
                <a:lnTo>
                  <a:pt x="417" y="1170"/>
                </a:lnTo>
                <a:lnTo>
                  <a:pt x="427" y="1121"/>
                </a:lnTo>
                <a:lnTo>
                  <a:pt x="436" y="1101"/>
                </a:lnTo>
                <a:lnTo>
                  <a:pt x="436" y="1061"/>
                </a:lnTo>
                <a:lnTo>
                  <a:pt x="446" y="1002"/>
                </a:lnTo>
                <a:lnTo>
                  <a:pt x="446" y="982"/>
                </a:lnTo>
                <a:lnTo>
                  <a:pt x="456" y="962"/>
                </a:lnTo>
                <a:lnTo>
                  <a:pt x="466" y="942"/>
                </a:lnTo>
                <a:lnTo>
                  <a:pt x="466" y="902"/>
                </a:lnTo>
                <a:lnTo>
                  <a:pt x="476" y="892"/>
                </a:lnTo>
                <a:lnTo>
                  <a:pt x="476" y="912"/>
                </a:lnTo>
                <a:lnTo>
                  <a:pt x="486" y="942"/>
                </a:lnTo>
                <a:lnTo>
                  <a:pt x="496" y="982"/>
                </a:lnTo>
                <a:lnTo>
                  <a:pt x="496" y="1041"/>
                </a:lnTo>
                <a:lnTo>
                  <a:pt x="506" y="1101"/>
                </a:lnTo>
                <a:lnTo>
                  <a:pt x="516" y="1160"/>
                </a:lnTo>
                <a:lnTo>
                  <a:pt x="516" y="1190"/>
                </a:lnTo>
                <a:lnTo>
                  <a:pt x="526" y="1210"/>
                </a:lnTo>
                <a:lnTo>
                  <a:pt x="526" y="1239"/>
                </a:lnTo>
                <a:lnTo>
                  <a:pt x="536" y="1249"/>
                </a:lnTo>
                <a:lnTo>
                  <a:pt x="546" y="1239"/>
                </a:lnTo>
                <a:lnTo>
                  <a:pt x="546" y="1259"/>
                </a:lnTo>
                <a:lnTo>
                  <a:pt x="555" y="1269"/>
                </a:lnTo>
                <a:lnTo>
                  <a:pt x="575" y="1259"/>
                </a:lnTo>
                <a:lnTo>
                  <a:pt x="565" y="1259"/>
                </a:lnTo>
                <a:lnTo>
                  <a:pt x="575" y="1279"/>
                </a:lnTo>
                <a:lnTo>
                  <a:pt x="585" y="1269"/>
                </a:lnTo>
                <a:lnTo>
                  <a:pt x="595" y="1259"/>
                </a:lnTo>
                <a:lnTo>
                  <a:pt x="605" y="1249"/>
                </a:lnTo>
                <a:lnTo>
                  <a:pt x="615" y="1230"/>
                </a:lnTo>
                <a:lnTo>
                  <a:pt x="625" y="1239"/>
                </a:lnTo>
                <a:lnTo>
                  <a:pt x="635" y="1249"/>
                </a:lnTo>
                <a:lnTo>
                  <a:pt x="645" y="1230"/>
                </a:lnTo>
                <a:lnTo>
                  <a:pt x="655" y="1249"/>
                </a:lnTo>
                <a:lnTo>
                  <a:pt x="655" y="1259"/>
                </a:lnTo>
                <a:lnTo>
                  <a:pt x="674" y="1249"/>
                </a:lnTo>
                <a:lnTo>
                  <a:pt x="674" y="1269"/>
                </a:lnTo>
                <a:lnTo>
                  <a:pt x="684" y="1279"/>
                </a:lnTo>
                <a:lnTo>
                  <a:pt x="694" y="1249"/>
                </a:lnTo>
                <a:lnTo>
                  <a:pt x="714" y="1269"/>
                </a:lnTo>
                <a:lnTo>
                  <a:pt x="704" y="1269"/>
                </a:lnTo>
                <a:lnTo>
                  <a:pt x="714" y="1269"/>
                </a:lnTo>
                <a:lnTo>
                  <a:pt x="724" y="1259"/>
                </a:lnTo>
                <a:lnTo>
                  <a:pt x="724" y="1289"/>
                </a:lnTo>
                <a:lnTo>
                  <a:pt x="734" y="1269"/>
                </a:lnTo>
                <a:lnTo>
                  <a:pt x="744" y="1239"/>
                </a:lnTo>
                <a:lnTo>
                  <a:pt x="744" y="1230"/>
                </a:lnTo>
                <a:lnTo>
                  <a:pt x="754" y="1210"/>
                </a:lnTo>
                <a:lnTo>
                  <a:pt x="754" y="1180"/>
                </a:lnTo>
                <a:lnTo>
                  <a:pt x="764" y="1140"/>
                </a:lnTo>
                <a:lnTo>
                  <a:pt x="774" y="1071"/>
                </a:lnTo>
                <a:lnTo>
                  <a:pt x="783" y="1081"/>
                </a:lnTo>
                <a:lnTo>
                  <a:pt x="783" y="1091"/>
                </a:lnTo>
                <a:lnTo>
                  <a:pt x="793" y="1160"/>
                </a:lnTo>
                <a:lnTo>
                  <a:pt x="813" y="1279"/>
                </a:lnTo>
                <a:lnTo>
                  <a:pt x="803" y="1279"/>
                </a:lnTo>
                <a:lnTo>
                  <a:pt x="813" y="1279"/>
                </a:lnTo>
                <a:lnTo>
                  <a:pt x="823" y="1289"/>
                </a:lnTo>
                <a:lnTo>
                  <a:pt x="823" y="1309"/>
                </a:lnTo>
                <a:lnTo>
                  <a:pt x="833" y="1309"/>
                </a:lnTo>
                <a:lnTo>
                  <a:pt x="833" y="1289"/>
                </a:lnTo>
                <a:lnTo>
                  <a:pt x="843" y="1289"/>
                </a:lnTo>
                <a:lnTo>
                  <a:pt x="853" y="1299"/>
                </a:lnTo>
                <a:lnTo>
                  <a:pt x="863" y="1279"/>
                </a:lnTo>
                <a:lnTo>
                  <a:pt x="873" y="1309"/>
                </a:lnTo>
                <a:lnTo>
                  <a:pt x="873" y="1249"/>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4359240" y="2016000"/>
            <a:ext cx="563760" cy="944640"/>
          </a:xfrm>
          <a:custGeom>
            <a:avLst/>
            <a:gdLst/>
            <a:ahLst/>
            <a:rect l="l" t="t" r="r" b="b"/>
            <a:pathLst>
              <a:path w="872" h="1398">
                <a:moveTo>
                  <a:pt x="0" y="1269"/>
                </a:moveTo>
                <a:lnTo>
                  <a:pt x="10" y="932"/>
                </a:lnTo>
                <a:lnTo>
                  <a:pt x="10" y="308"/>
                </a:lnTo>
                <a:lnTo>
                  <a:pt x="20" y="20"/>
                </a:lnTo>
                <a:lnTo>
                  <a:pt x="29" y="268"/>
                </a:lnTo>
                <a:lnTo>
                  <a:pt x="29" y="1091"/>
                </a:lnTo>
                <a:lnTo>
                  <a:pt x="39" y="1398"/>
                </a:lnTo>
                <a:lnTo>
                  <a:pt x="39" y="1190"/>
                </a:lnTo>
                <a:lnTo>
                  <a:pt x="49" y="1220"/>
                </a:lnTo>
                <a:lnTo>
                  <a:pt x="59" y="1309"/>
                </a:lnTo>
                <a:lnTo>
                  <a:pt x="59" y="1329"/>
                </a:lnTo>
                <a:lnTo>
                  <a:pt x="69" y="1319"/>
                </a:lnTo>
                <a:lnTo>
                  <a:pt x="79" y="1329"/>
                </a:lnTo>
                <a:lnTo>
                  <a:pt x="79" y="1349"/>
                </a:lnTo>
                <a:lnTo>
                  <a:pt x="89" y="1329"/>
                </a:lnTo>
                <a:lnTo>
                  <a:pt x="99" y="1339"/>
                </a:lnTo>
                <a:lnTo>
                  <a:pt x="109" y="1329"/>
                </a:lnTo>
                <a:lnTo>
                  <a:pt x="119" y="1309"/>
                </a:lnTo>
                <a:lnTo>
                  <a:pt x="129" y="1329"/>
                </a:lnTo>
                <a:lnTo>
                  <a:pt x="129" y="1339"/>
                </a:lnTo>
                <a:lnTo>
                  <a:pt x="139" y="1309"/>
                </a:lnTo>
                <a:lnTo>
                  <a:pt x="139" y="1299"/>
                </a:lnTo>
                <a:lnTo>
                  <a:pt x="148" y="1319"/>
                </a:lnTo>
                <a:lnTo>
                  <a:pt x="158" y="1309"/>
                </a:lnTo>
                <a:lnTo>
                  <a:pt x="158" y="1279"/>
                </a:lnTo>
                <a:lnTo>
                  <a:pt x="178" y="1259"/>
                </a:lnTo>
                <a:lnTo>
                  <a:pt x="178" y="1250"/>
                </a:lnTo>
                <a:lnTo>
                  <a:pt x="188" y="1210"/>
                </a:lnTo>
                <a:lnTo>
                  <a:pt x="188" y="1190"/>
                </a:lnTo>
                <a:lnTo>
                  <a:pt x="198" y="1180"/>
                </a:lnTo>
                <a:lnTo>
                  <a:pt x="208" y="1150"/>
                </a:lnTo>
                <a:lnTo>
                  <a:pt x="208" y="1101"/>
                </a:lnTo>
                <a:lnTo>
                  <a:pt x="218" y="1061"/>
                </a:lnTo>
                <a:lnTo>
                  <a:pt x="218" y="1041"/>
                </a:lnTo>
                <a:lnTo>
                  <a:pt x="228" y="1012"/>
                </a:lnTo>
                <a:lnTo>
                  <a:pt x="238" y="952"/>
                </a:lnTo>
                <a:lnTo>
                  <a:pt x="238" y="942"/>
                </a:lnTo>
                <a:lnTo>
                  <a:pt x="258" y="932"/>
                </a:lnTo>
                <a:lnTo>
                  <a:pt x="258" y="922"/>
                </a:lnTo>
                <a:lnTo>
                  <a:pt x="267" y="962"/>
                </a:lnTo>
                <a:lnTo>
                  <a:pt x="267" y="1031"/>
                </a:lnTo>
                <a:lnTo>
                  <a:pt x="277" y="1091"/>
                </a:lnTo>
                <a:lnTo>
                  <a:pt x="287" y="1141"/>
                </a:lnTo>
                <a:lnTo>
                  <a:pt x="287" y="1170"/>
                </a:lnTo>
                <a:lnTo>
                  <a:pt x="297" y="1220"/>
                </a:lnTo>
                <a:lnTo>
                  <a:pt x="307" y="1259"/>
                </a:lnTo>
                <a:lnTo>
                  <a:pt x="307" y="1250"/>
                </a:lnTo>
                <a:lnTo>
                  <a:pt x="317" y="1259"/>
                </a:lnTo>
                <a:lnTo>
                  <a:pt x="317" y="1289"/>
                </a:lnTo>
                <a:lnTo>
                  <a:pt x="327" y="1299"/>
                </a:lnTo>
                <a:lnTo>
                  <a:pt x="347" y="1289"/>
                </a:lnTo>
                <a:lnTo>
                  <a:pt x="347" y="1309"/>
                </a:lnTo>
                <a:lnTo>
                  <a:pt x="357" y="1279"/>
                </a:lnTo>
                <a:lnTo>
                  <a:pt x="376" y="1279"/>
                </a:lnTo>
                <a:lnTo>
                  <a:pt x="367" y="1279"/>
                </a:lnTo>
                <a:lnTo>
                  <a:pt x="376" y="1279"/>
                </a:lnTo>
                <a:lnTo>
                  <a:pt x="386" y="1269"/>
                </a:lnTo>
                <a:lnTo>
                  <a:pt x="386" y="1259"/>
                </a:lnTo>
                <a:lnTo>
                  <a:pt x="396" y="1269"/>
                </a:lnTo>
                <a:lnTo>
                  <a:pt x="396" y="1259"/>
                </a:lnTo>
                <a:lnTo>
                  <a:pt x="416" y="1240"/>
                </a:lnTo>
                <a:lnTo>
                  <a:pt x="416" y="1250"/>
                </a:lnTo>
                <a:lnTo>
                  <a:pt x="426" y="1259"/>
                </a:lnTo>
                <a:lnTo>
                  <a:pt x="436" y="1250"/>
                </a:lnTo>
                <a:lnTo>
                  <a:pt x="446" y="1279"/>
                </a:lnTo>
                <a:lnTo>
                  <a:pt x="446" y="1269"/>
                </a:lnTo>
                <a:lnTo>
                  <a:pt x="466" y="1250"/>
                </a:lnTo>
                <a:lnTo>
                  <a:pt x="466" y="1269"/>
                </a:lnTo>
                <a:lnTo>
                  <a:pt x="476" y="1279"/>
                </a:lnTo>
                <a:lnTo>
                  <a:pt x="486" y="1269"/>
                </a:lnTo>
                <a:lnTo>
                  <a:pt x="495" y="1279"/>
                </a:lnTo>
                <a:lnTo>
                  <a:pt x="495" y="1269"/>
                </a:lnTo>
                <a:lnTo>
                  <a:pt x="505" y="1259"/>
                </a:lnTo>
                <a:lnTo>
                  <a:pt x="515" y="1279"/>
                </a:lnTo>
                <a:lnTo>
                  <a:pt x="515" y="1289"/>
                </a:lnTo>
                <a:lnTo>
                  <a:pt x="525" y="1279"/>
                </a:lnTo>
                <a:lnTo>
                  <a:pt x="535" y="1269"/>
                </a:lnTo>
                <a:lnTo>
                  <a:pt x="545" y="1279"/>
                </a:lnTo>
                <a:lnTo>
                  <a:pt x="555" y="1269"/>
                </a:lnTo>
                <a:lnTo>
                  <a:pt x="565" y="1259"/>
                </a:lnTo>
                <a:lnTo>
                  <a:pt x="565" y="1269"/>
                </a:lnTo>
                <a:lnTo>
                  <a:pt x="575" y="1250"/>
                </a:lnTo>
                <a:lnTo>
                  <a:pt x="575" y="1210"/>
                </a:lnTo>
                <a:lnTo>
                  <a:pt x="585" y="1180"/>
                </a:lnTo>
                <a:lnTo>
                  <a:pt x="595" y="1170"/>
                </a:lnTo>
                <a:lnTo>
                  <a:pt x="595" y="1121"/>
                </a:lnTo>
                <a:lnTo>
                  <a:pt x="605" y="1061"/>
                </a:lnTo>
                <a:lnTo>
                  <a:pt x="614" y="1051"/>
                </a:lnTo>
                <a:lnTo>
                  <a:pt x="614" y="1091"/>
                </a:lnTo>
                <a:lnTo>
                  <a:pt x="624" y="1101"/>
                </a:lnTo>
                <a:lnTo>
                  <a:pt x="624" y="1170"/>
                </a:lnTo>
                <a:lnTo>
                  <a:pt x="634" y="1240"/>
                </a:lnTo>
                <a:lnTo>
                  <a:pt x="654" y="1289"/>
                </a:lnTo>
                <a:lnTo>
                  <a:pt x="654" y="1279"/>
                </a:lnTo>
                <a:lnTo>
                  <a:pt x="664" y="1289"/>
                </a:lnTo>
                <a:lnTo>
                  <a:pt x="684" y="1279"/>
                </a:lnTo>
                <a:lnTo>
                  <a:pt x="674" y="1279"/>
                </a:lnTo>
                <a:lnTo>
                  <a:pt x="684" y="1279"/>
                </a:lnTo>
                <a:lnTo>
                  <a:pt x="694" y="1279"/>
                </a:lnTo>
                <a:lnTo>
                  <a:pt x="694" y="1299"/>
                </a:lnTo>
                <a:lnTo>
                  <a:pt x="704" y="1309"/>
                </a:lnTo>
                <a:lnTo>
                  <a:pt x="704" y="1101"/>
                </a:lnTo>
                <a:lnTo>
                  <a:pt x="714" y="516"/>
                </a:lnTo>
                <a:lnTo>
                  <a:pt x="724" y="0"/>
                </a:lnTo>
                <a:lnTo>
                  <a:pt x="724" y="70"/>
                </a:lnTo>
                <a:lnTo>
                  <a:pt x="733" y="793"/>
                </a:lnTo>
                <a:lnTo>
                  <a:pt x="743" y="1359"/>
                </a:lnTo>
                <a:lnTo>
                  <a:pt x="743" y="1180"/>
                </a:lnTo>
                <a:lnTo>
                  <a:pt x="753" y="1141"/>
                </a:lnTo>
                <a:lnTo>
                  <a:pt x="753" y="1240"/>
                </a:lnTo>
                <a:lnTo>
                  <a:pt x="763" y="1269"/>
                </a:lnTo>
                <a:lnTo>
                  <a:pt x="773" y="1259"/>
                </a:lnTo>
                <a:lnTo>
                  <a:pt x="783" y="1279"/>
                </a:lnTo>
                <a:lnTo>
                  <a:pt x="793" y="1289"/>
                </a:lnTo>
                <a:lnTo>
                  <a:pt x="793" y="1299"/>
                </a:lnTo>
                <a:lnTo>
                  <a:pt x="813" y="1289"/>
                </a:lnTo>
                <a:lnTo>
                  <a:pt x="803" y="1289"/>
                </a:lnTo>
                <a:lnTo>
                  <a:pt x="813" y="1289"/>
                </a:lnTo>
                <a:lnTo>
                  <a:pt x="823" y="1299"/>
                </a:lnTo>
                <a:lnTo>
                  <a:pt x="823" y="1279"/>
                </a:lnTo>
                <a:lnTo>
                  <a:pt x="833" y="1269"/>
                </a:lnTo>
                <a:lnTo>
                  <a:pt x="833" y="1279"/>
                </a:lnTo>
                <a:lnTo>
                  <a:pt x="842" y="1289"/>
                </a:lnTo>
                <a:lnTo>
                  <a:pt x="852" y="1259"/>
                </a:lnTo>
                <a:lnTo>
                  <a:pt x="852" y="1250"/>
                </a:lnTo>
                <a:lnTo>
                  <a:pt x="862" y="1240"/>
                </a:lnTo>
                <a:lnTo>
                  <a:pt x="872" y="1250"/>
                </a:lnTo>
                <a:lnTo>
                  <a:pt x="872" y="1200"/>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4923000" y="2021040"/>
            <a:ext cx="595080" cy="927000"/>
          </a:xfrm>
          <a:custGeom>
            <a:avLst/>
            <a:gdLst/>
            <a:ahLst/>
            <a:rect l="l" t="t" r="r" b="b"/>
            <a:pathLst>
              <a:path w="922" h="1368">
                <a:moveTo>
                  <a:pt x="0" y="1190"/>
                </a:moveTo>
                <a:lnTo>
                  <a:pt x="10" y="1180"/>
                </a:lnTo>
                <a:lnTo>
                  <a:pt x="10" y="1170"/>
                </a:lnTo>
                <a:lnTo>
                  <a:pt x="20" y="1131"/>
                </a:lnTo>
                <a:lnTo>
                  <a:pt x="30" y="1101"/>
                </a:lnTo>
                <a:lnTo>
                  <a:pt x="30" y="1051"/>
                </a:lnTo>
                <a:lnTo>
                  <a:pt x="40" y="1041"/>
                </a:lnTo>
                <a:lnTo>
                  <a:pt x="50" y="1002"/>
                </a:lnTo>
                <a:lnTo>
                  <a:pt x="50" y="942"/>
                </a:lnTo>
                <a:lnTo>
                  <a:pt x="60" y="922"/>
                </a:lnTo>
                <a:lnTo>
                  <a:pt x="60" y="893"/>
                </a:lnTo>
                <a:lnTo>
                  <a:pt x="70" y="883"/>
                </a:lnTo>
                <a:lnTo>
                  <a:pt x="80" y="863"/>
                </a:lnTo>
                <a:lnTo>
                  <a:pt x="80" y="873"/>
                </a:lnTo>
                <a:lnTo>
                  <a:pt x="89" y="912"/>
                </a:lnTo>
                <a:lnTo>
                  <a:pt x="89" y="972"/>
                </a:lnTo>
                <a:lnTo>
                  <a:pt x="99" y="1002"/>
                </a:lnTo>
                <a:lnTo>
                  <a:pt x="109" y="1061"/>
                </a:lnTo>
                <a:lnTo>
                  <a:pt x="109" y="1121"/>
                </a:lnTo>
                <a:lnTo>
                  <a:pt x="119" y="1160"/>
                </a:lnTo>
                <a:lnTo>
                  <a:pt x="129" y="1170"/>
                </a:lnTo>
                <a:lnTo>
                  <a:pt x="129" y="1180"/>
                </a:lnTo>
                <a:lnTo>
                  <a:pt x="139" y="1210"/>
                </a:lnTo>
                <a:lnTo>
                  <a:pt x="139" y="1240"/>
                </a:lnTo>
                <a:lnTo>
                  <a:pt x="159" y="1220"/>
                </a:lnTo>
                <a:lnTo>
                  <a:pt x="169" y="1230"/>
                </a:lnTo>
                <a:lnTo>
                  <a:pt x="179" y="1210"/>
                </a:lnTo>
                <a:lnTo>
                  <a:pt x="189" y="1220"/>
                </a:lnTo>
                <a:lnTo>
                  <a:pt x="189" y="1210"/>
                </a:lnTo>
                <a:lnTo>
                  <a:pt x="199" y="1200"/>
                </a:lnTo>
                <a:lnTo>
                  <a:pt x="218" y="1200"/>
                </a:lnTo>
                <a:lnTo>
                  <a:pt x="208" y="1200"/>
                </a:lnTo>
                <a:lnTo>
                  <a:pt x="218" y="1200"/>
                </a:lnTo>
                <a:lnTo>
                  <a:pt x="228" y="1190"/>
                </a:lnTo>
                <a:lnTo>
                  <a:pt x="228" y="1170"/>
                </a:lnTo>
                <a:lnTo>
                  <a:pt x="238" y="1190"/>
                </a:lnTo>
                <a:lnTo>
                  <a:pt x="238" y="1200"/>
                </a:lnTo>
                <a:lnTo>
                  <a:pt x="258" y="1190"/>
                </a:lnTo>
                <a:lnTo>
                  <a:pt x="258" y="1210"/>
                </a:lnTo>
                <a:lnTo>
                  <a:pt x="268" y="1220"/>
                </a:lnTo>
                <a:lnTo>
                  <a:pt x="278" y="1220"/>
                </a:lnTo>
                <a:lnTo>
                  <a:pt x="288" y="1220"/>
                </a:lnTo>
                <a:lnTo>
                  <a:pt x="298" y="1230"/>
                </a:lnTo>
                <a:lnTo>
                  <a:pt x="308" y="1230"/>
                </a:lnTo>
                <a:lnTo>
                  <a:pt x="317" y="1240"/>
                </a:lnTo>
                <a:lnTo>
                  <a:pt x="317" y="1230"/>
                </a:lnTo>
                <a:lnTo>
                  <a:pt x="327" y="1220"/>
                </a:lnTo>
                <a:lnTo>
                  <a:pt x="347" y="1240"/>
                </a:lnTo>
                <a:lnTo>
                  <a:pt x="357" y="1220"/>
                </a:lnTo>
                <a:lnTo>
                  <a:pt x="357" y="1240"/>
                </a:lnTo>
                <a:lnTo>
                  <a:pt x="367" y="1240"/>
                </a:lnTo>
                <a:lnTo>
                  <a:pt x="377" y="1220"/>
                </a:lnTo>
                <a:lnTo>
                  <a:pt x="387" y="1210"/>
                </a:lnTo>
                <a:lnTo>
                  <a:pt x="397" y="1150"/>
                </a:lnTo>
                <a:lnTo>
                  <a:pt x="397" y="1140"/>
                </a:lnTo>
                <a:lnTo>
                  <a:pt x="407" y="1101"/>
                </a:lnTo>
                <a:lnTo>
                  <a:pt x="417" y="1031"/>
                </a:lnTo>
                <a:lnTo>
                  <a:pt x="417" y="1021"/>
                </a:lnTo>
                <a:lnTo>
                  <a:pt x="427" y="1031"/>
                </a:lnTo>
                <a:lnTo>
                  <a:pt x="436" y="1061"/>
                </a:lnTo>
                <a:lnTo>
                  <a:pt x="436" y="1140"/>
                </a:lnTo>
                <a:lnTo>
                  <a:pt x="456" y="1240"/>
                </a:lnTo>
                <a:lnTo>
                  <a:pt x="446" y="1240"/>
                </a:lnTo>
                <a:lnTo>
                  <a:pt x="456" y="1240"/>
                </a:lnTo>
                <a:lnTo>
                  <a:pt x="466" y="1269"/>
                </a:lnTo>
                <a:lnTo>
                  <a:pt x="476" y="1269"/>
                </a:lnTo>
                <a:lnTo>
                  <a:pt x="486" y="1269"/>
                </a:lnTo>
                <a:lnTo>
                  <a:pt x="496" y="1259"/>
                </a:lnTo>
                <a:lnTo>
                  <a:pt x="506" y="1269"/>
                </a:lnTo>
                <a:lnTo>
                  <a:pt x="516" y="1299"/>
                </a:lnTo>
                <a:lnTo>
                  <a:pt x="526" y="1071"/>
                </a:lnTo>
                <a:lnTo>
                  <a:pt x="536" y="496"/>
                </a:lnTo>
                <a:lnTo>
                  <a:pt x="536" y="0"/>
                </a:lnTo>
                <a:lnTo>
                  <a:pt x="546" y="109"/>
                </a:lnTo>
                <a:lnTo>
                  <a:pt x="546" y="942"/>
                </a:lnTo>
                <a:lnTo>
                  <a:pt x="555" y="1368"/>
                </a:lnTo>
                <a:lnTo>
                  <a:pt x="565" y="1160"/>
                </a:lnTo>
                <a:lnTo>
                  <a:pt x="565" y="1170"/>
                </a:lnTo>
                <a:lnTo>
                  <a:pt x="575" y="1259"/>
                </a:lnTo>
                <a:lnTo>
                  <a:pt x="575" y="1279"/>
                </a:lnTo>
                <a:lnTo>
                  <a:pt x="585" y="1289"/>
                </a:lnTo>
                <a:lnTo>
                  <a:pt x="595" y="1279"/>
                </a:lnTo>
                <a:lnTo>
                  <a:pt x="605" y="1289"/>
                </a:lnTo>
                <a:lnTo>
                  <a:pt x="615" y="1299"/>
                </a:lnTo>
                <a:lnTo>
                  <a:pt x="615" y="1289"/>
                </a:lnTo>
                <a:lnTo>
                  <a:pt x="625" y="1279"/>
                </a:lnTo>
                <a:lnTo>
                  <a:pt x="625" y="1289"/>
                </a:lnTo>
                <a:lnTo>
                  <a:pt x="635" y="1299"/>
                </a:lnTo>
                <a:lnTo>
                  <a:pt x="655" y="1269"/>
                </a:lnTo>
                <a:lnTo>
                  <a:pt x="645" y="1269"/>
                </a:lnTo>
                <a:lnTo>
                  <a:pt x="655" y="1269"/>
                </a:lnTo>
                <a:lnTo>
                  <a:pt x="665" y="1269"/>
                </a:lnTo>
                <a:lnTo>
                  <a:pt x="665" y="1249"/>
                </a:lnTo>
                <a:lnTo>
                  <a:pt x="674" y="1240"/>
                </a:lnTo>
                <a:lnTo>
                  <a:pt x="684" y="1240"/>
                </a:lnTo>
                <a:lnTo>
                  <a:pt x="694" y="1200"/>
                </a:lnTo>
                <a:lnTo>
                  <a:pt x="694" y="1180"/>
                </a:lnTo>
                <a:lnTo>
                  <a:pt x="704" y="1180"/>
                </a:lnTo>
                <a:lnTo>
                  <a:pt x="704" y="1140"/>
                </a:lnTo>
                <a:lnTo>
                  <a:pt x="714" y="1101"/>
                </a:lnTo>
                <a:lnTo>
                  <a:pt x="724" y="1051"/>
                </a:lnTo>
                <a:lnTo>
                  <a:pt x="724" y="1031"/>
                </a:lnTo>
                <a:lnTo>
                  <a:pt x="734" y="1002"/>
                </a:lnTo>
                <a:lnTo>
                  <a:pt x="744" y="952"/>
                </a:lnTo>
                <a:lnTo>
                  <a:pt x="744" y="912"/>
                </a:lnTo>
                <a:lnTo>
                  <a:pt x="754" y="912"/>
                </a:lnTo>
                <a:lnTo>
                  <a:pt x="764" y="922"/>
                </a:lnTo>
                <a:lnTo>
                  <a:pt x="774" y="952"/>
                </a:lnTo>
                <a:lnTo>
                  <a:pt x="774" y="1021"/>
                </a:lnTo>
                <a:lnTo>
                  <a:pt x="783" y="1101"/>
                </a:lnTo>
                <a:lnTo>
                  <a:pt x="793" y="1131"/>
                </a:lnTo>
                <a:lnTo>
                  <a:pt x="793" y="1160"/>
                </a:lnTo>
                <a:lnTo>
                  <a:pt x="803" y="1210"/>
                </a:lnTo>
                <a:lnTo>
                  <a:pt x="803" y="1230"/>
                </a:lnTo>
                <a:lnTo>
                  <a:pt x="813" y="1240"/>
                </a:lnTo>
                <a:lnTo>
                  <a:pt x="823" y="1249"/>
                </a:lnTo>
                <a:lnTo>
                  <a:pt x="823" y="1269"/>
                </a:lnTo>
                <a:lnTo>
                  <a:pt x="833" y="1269"/>
                </a:lnTo>
                <a:lnTo>
                  <a:pt x="843" y="1259"/>
                </a:lnTo>
                <a:lnTo>
                  <a:pt x="853" y="1269"/>
                </a:lnTo>
                <a:lnTo>
                  <a:pt x="853" y="1249"/>
                </a:lnTo>
                <a:lnTo>
                  <a:pt x="863" y="1249"/>
                </a:lnTo>
                <a:lnTo>
                  <a:pt x="873" y="1249"/>
                </a:lnTo>
                <a:lnTo>
                  <a:pt x="893" y="1230"/>
                </a:lnTo>
                <a:lnTo>
                  <a:pt x="893" y="1230"/>
                </a:lnTo>
                <a:lnTo>
                  <a:pt x="902" y="1230"/>
                </a:lnTo>
                <a:lnTo>
                  <a:pt x="912" y="1230"/>
                </a:lnTo>
                <a:lnTo>
                  <a:pt x="922" y="1240"/>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5518080" y="1981080"/>
            <a:ext cx="581040" cy="911520"/>
          </a:xfrm>
          <a:custGeom>
            <a:avLst/>
            <a:gdLst/>
            <a:ahLst/>
            <a:rect l="l" t="t" r="r" b="b"/>
            <a:pathLst>
              <a:path w="903" h="1348">
                <a:moveTo>
                  <a:pt x="0" y="1299"/>
                </a:moveTo>
                <a:lnTo>
                  <a:pt x="10" y="1308"/>
                </a:lnTo>
                <a:lnTo>
                  <a:pt x="10" y="1299"/>
                </a:lnTo>
                <a:lnTo>
                  <a:pt x="20" y="1289"/>
                </a:lnTo>
                <a:lnTo>
                  <a:pt x="30" y="1318"/>
                </a:lnTo>
                <a:lnTo>
                  <a:pt x="30" y="1328"/>
                </a:lnTo>
                <a:lnTo>
                  <a:pt x="40" y="1318"/>
                </a:lnTo>
                <a:lnTo>
                  <a:pt x="50" y="1299"/>
                </a:lnTo>
                <a:lnTo>
                  <a:pt x="50" y="1318"/>
                </a:lnTo>
                <a:lnTo>
                  <a:pt x="60" y="1328"/>
                </a:lnTo>
                <a:lnTo>
                  <a:pt x="60" y="1308"/>
                </a:lnTo>
                <a:lnTo>
                  <a:pt x="70" y="1299"/>
                </a:lnTo>
                <a:lnTo>
                  <a:pt x="80" y="1318"/>
                </a:lnTo>
                <a:lnTo>
                  <a:pt x="90" y="1328"/>
                </a:lnTo>
                <a:lnTo>
                  <a:pt x="90" y="1308"/>
                </a:lnTo>
                <a:lnTo>
                  <a:pt x="99" y="1279"/>
                </a:lnTo>
                <a:lnTo>
                  <a:pt x="109" y="1259"/>
                </a:lnTo>
                <a:lnTo>
                  <a:pt x="109" y="1219"/>
                </a:lnTo>
                <a:lnTo>
                  <a:pt x="119" y="1190"/>
                </a:lnTo>
                <a:lnTo>
                  <a:pt x="139" y="1100"/>
                </a:lnTo>
                <a:lnTo>
                  <a:pt x="139" y="1090"/>
                </a:lnTo>
                <a:lnTo>
                  <a:pt x="149" y="1140"/>
                </a:lnTo>
                <a:lnTo>
                  <a:pt x="159" y="1219"/>
                </a:lnTo>
                <a:lnTo>
                  <a:pt x="159" y="1299"/>
                </a:lnTo>
                <a:lnTo>
                  <a:pt x="169" y="1308"/>
                </a:lnTo>
                <a:lnTo>
                  <a:pt x="179" y="1308"/>
                </a:lnTo>
                <a:lnTo>
                  <a:pt x="179" y="1328"/>
                </a:lnTo>
                <a:lnTo>
                  <a:pt x="189" y="1308"/>
                </a:lnTo>
                <a:lnTo>
                  <a:pt x="199" y="1328"/>
                </a:lnTo>
                <a:lnTo>
                  <a:pt x="209" y="1328"/>
                </a:lnTo>
                <a:lnTo>
                  <a:pt x="218" y="1308"/>
                </a:lnTo>
                <a:lnTo>
                  <a:pt x="228" y="1318"/>
                </a:lnTo>
                <a:lnTo>
                  <a:pt x="228" y="1338"/>
                </a:lnTo>
                <a:lnTo>
                  <a:pt x="238" y="1011"/>
                </a:lnTo>
                <a:lnTo>
                  <a:pt x="238" y="446"/>
                </a:lnTo>
                <a:lnTo>
                  <a:pt x="248" y="0"/>
                </a:lnTo>
                <a:lnTo>
                  <a:pt x="258" y="59"/>
                </a:lnTo>
                <a:lnTo>
                  <a:pt x="258" y="704"/>
                </a:lnTo>
                <a:lnTo>
                  <a:pt x="268" y="1348"/>
                </a:lnTo>
                <a:lnTo>
                  <a:pt x="268" y="1219"/>
                </a:lnTo>
                <a:lnTo>
                  <a:pt x="278" y="1150"/>
                </a:lnTo>
                <a:lnTo>
                  <a:pt x="288" y="1259"/>
                </a:lnTo>
                <a:lnTo>
                  <a:pt x="288" y="1308"/>
                </a:lnTo>
                <a:lnTo>
                  <a:pt x="298" y="1299"/>
                </a:lnTo>
                <a:lnTo>
                  <a:pt x="308" y="1299"/>
                </a:lnTo>
                <a:lnTo>
                  <a:pt x="318" y="1328"/>
                </a:lnTo>
                <a:lnTo>
                  <a:pt x="327" y="1328"/>
                </a:lnTo>
                <a:lnTo>
                  <a:pt x="337" y="1328"/>
                </a:lnTo>
                <a:lnTo>
                  <a:pt x="347" y="1328"/>
                </a:lnTo>
                <a:lnTo>
                  <a:pt x="357" y="1308"/>
                </a:lnTo>
                <a:lnTo>
                  <a:pt x="367" y="1328"/>
                </a:lnTo>
                <a:lnTo>
                  <a:pt x="377" y="1299"/>
                </a:lnTo>
                <a:lnTo>
                  <a:pt x="387" y="1289"/>
                </a:lnTo>
                <a:lnTo>
                  <a:pt x="387" y="1299"/>
                </a:lnTo>
                <a:lnTo>
                  <a:pt x="407" y="1269"/>
                </a:lnTo>
                <a:lnTo>
                  <a:pt x="397" y="1269"/>
                </a:lnTo>
                <a:lnTo>
                  <a:pt x="407" y="1269"/>
                </a:lnTo>
                <a:lnTo>
                  <a:pt x="417" y="1259"/>
                </a:lnTo>
                <a:lnTo>
                  <a:pt x="427" y="1209"/>
                </a:lnTo>
                <a:lnTo>
                  <a:pt x="437" y="1170"/>
                </a:lnTo>
                <a:lnTo>
                  <a:pt x="437" y="1160"/>
                </a:lnTo>
                <a:lnTo>
                  <a:pt x="446" y="1140"/>
                </a:lnTo>
                <a:lnTo>
                  <a:pt x="446" y="1090"/>
                </a:lnTo>
                <a:lnTo>
                  <a:pt x="456" y="1061"/>
                </a:lnTo>
                <a:lnTo>
                  <a:pt x="466" y="1031"/>
                </a:lnTo>
                <a:lnTo>
                  <a:pt x="466" y="1011"/>
                </a:lnTo>
                <a:lnTo>
                  <a:pt x="476" y="981"/>
                </a:lnTo>
                <a:lnTo>
                  <a:pt x="486" y="952"/>
                </a:lnTo>
                <a:lnTo>
                  <a:pt x="496" y="961"/>
                </a:lnTo>
                <a:lnTo>
                  <a:pt x="496" y="981"/>
                </a:lnTo>
                <a:lnTo>
                  <a:pt x="506" y="1011"/>
                </a:lnTo>
                <a:lnTo>
                  <a:pt x="516" y="1071"/>
                </a:lnTo>
                <a:lnTo>
                  <a:pt x="516" y="1130"/>
                </a:lnTo>
                <a:lnTo>
                  <a:pt x="526" y="1150"/>
                </a:lnTo>
                <a:lnTo>
                  <a:pt x="536" y="1170"/>
                </a:lnTo>
                <a:lnTo>
                  <a:pt x="536" y="1209"/>
                </a:lnTo>
                <a:lnTo>
                  <a:pt x="556" y="1239"/>
                </a:lnTo>
                <a:lnTo>
                  <a:pt x="565" y="1249"/>
                </a:lnTo>
                <a:lnTo>
                  <a:pt x="575" y="1239"/>
                </a:lnTo>
                <a:lnTo>
                  <a:pt x="575" y="1229"/>
                </a:lnTo>
                <a:lnTo>
                  <a:pt x="585" y="1239"/>
                </a:lnTo>
                <a:lnTo>
                  <a:pt x="595" y="1229"/>
                </a:lnTo>
                <a:lnTo>
                  <a:pt x="595" y="1219"/>
                </a:lnTo>
                <a:lnTo>
                  <a:pt x="605" y="1209"/>
                </a:lnTo>
                <a:lnTo>
                  <a:pt x="615" y="1219"/>
                </a:lnTo>
                <a:lnTo>
                  <a:pt x="615" y="1229"/>
                </a:lnTo>
                <a:lnTo>
                  <a:pt x="625" y="1209"/>
                </a:lnTo>
                <a:lnTo>
                  <a:pt x="625" y="1199"/>
                </a:lnTo>
                <a:lnTo>
                  <a:pt x="655" y="1219"/>
                </a:lnTo>
                <a:lnTo>
                  <a:pt x="645" y="1219"/>
                </a:lnTo>
                <a:lnTo>
                  <a:pt x="655" y="1219"/>
                </a:lnTo>
                <a:lnTo>
                  <a:pt x="665" y="1249"/>
                </a:lnTo>
                <a:lnTo>
                  <a:pt x="675" y="1239"/>
                </a:lnTo>
                <a:lnTo>
                  <a:pt x="684" y="1259"/>
                </a:lnTo>
                <a:lnTo>
                  <a:pt x="694" y="1279"/>
                </a:lnTo>
                <a:lnTo>
                  <a:pt x="694" y="1259"/>
                </a:lnTo>
                <a:lnTo>
                  <a:pt x="704" y="1249"/>
                </a:lnTo>
                <a:lnTo>
                  <a:pt x="704" y="1269"/>
                </a:lnTo>
                <a:lnTo>
                  <a:pt x="714" y="1279"/>
                </a:lnTo>
                <a:lnTo>
                  <a:pt x="724" y="1269"/>
                </a:lnTo>
                <a:lnTo>
                  <a:pt x="724" y="1259"/>
                </a:lnTo>
                <a:lnTo>
                  <a:pt x="734" y="1269"/>
                </a:lnTo>
                <a:lnTo>
                  <a:pt x="744" y="1279"/>
                </a:lnTo>
                <a:lnTo>
                  <a:pt x="764" y="1279"/>
                </a:lnTo>
                <a:lnTo>
                  <a:pt x="754" y="1279"/>
                </a:lnTo>
                <a:lnTo>
                  <a:pt x="764" y="1279"/>
                </a:lnTo>
                <a:lnTo>
                  <a:pt x="774" y="1269"/>
                </a:lnTo>
                <a:lnTo>
                  <a:pt x="784" y="1279"/>
                </a:lnTo>
                <a:lnTo>
                  <a:pt x="793" y="1259"/>
                </a:lnTo>
                <a:lnTo>
                  <a:pt x="793" y="1209"/>
                </a:lnTo>
                <a:lnTo>
                  <a:pt x="803" y="1180"/>
                </a:lnTo>
                <a:lnTo>
                  <a:pt x="803" y="1170"/>
                </a:lnTo>
                <a:lnTo>
                  <a:pt x="813" y="1100"/>
                </a:lnTo>
                <a:lnTo>
                  <a:pt x="823" y="1061"/>
                </a:lnTo>
                <a:lnTo>
                  <a:pt x="823" y="1080"/>
                </a:lnTo>
                <a:lnTo>
                  <a:pt x="833" y="1100"/>
                </a:lnTo>
                <a:lnTo>
                  <a:pt x="843" y="1180"/>
                </a:lnTo>
                <a:lnTo>
                  <a:pt x="843" y="1259"/>
                </a:lnTo>
                <a:lnTo>
                  <a:pt x="863" y="1308"/>
                </a:lnTo>
                <a:lnTo>
                  <a:pt x="853" y="1308"/>
                </a:lnTo>
                <a:lnTo>
                  <a:pt x="863" y="1308"/>
                </a:lnTo>
                <a:lnTo>
                  <a:pt x="873" y="1299"/>
                </a:lnTo>
                <a:lnTo>
                  <a:pt x="873" y="1308"/>
                </a:lnTo>
                <a:lnTo>
                  <a:pt x="883" y="1318"/>
                </a:lnTo>
                <a:lnTo>
                  <a:pt x="883" y="1328"/>
                </a:lnTo>
                <a:lnTo>
                  <a:pt x="893" y="1299"/>
                </a:lnTo>
                <a:lnTo>
                  <a:pt x="903" y="1289"/>
                </a:lnTo>
                <a:lnTo>
                  <a:pt x="903" y="1308"/>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6099120" y="2016000"/>
            <a:ext cx="595440" cy="897120"/>
          </a:xfrm>
          <a:custGeom>
            <a:avLst/>
            <a:gdLst/>
            <a:ahLst/>
            <a:rect l="l" t="t" r="r" b="b"/>
            <a:pathLst>
              <a:path w="922" h="1329">
                <a:moveTo>
                  <a:pt x="0" y="1259"/>
                </a:moveTo>
                <a:lnTo>
                  <a:pt x="9" y="1309"/>
                </a:lnTo>
                <a:lnTo>
                  <a:pt x="19" y="1131"/>
                </a:lnTo>
                <a:lnTo>
                  <a:pt x="19" y="605"/>
                </a:lnTo>
                <a:lnTo>
                  <a:pt x="29" y="30"/>
                </a:lnTo>
                <a:lnTo>
                  <a:pt x="29" y="20"/>
                </a:lnTo>
                <a:lnTo>
                  <a:pt x="39" y="684"/>
                </a:lnTo>
                <a:lnTo>
                  <a:pt x="49" y="1329"/>
                </a:lnTo>
                <a:lnTo>
                  <a:pt x="49" y="1190"/>
                </a:lnTo>
                <a:lnTo>
                  <a:pt x="59" y="1121"/>
                </a:lnTo>
                <a:lnTo>
                  <a:pt x="79" y="1250"/>
                </a:lnTo>
                <a:lnTo>
                  <a:pt x="79" y="1279"/>
                </a:lnTo>
                <a:lnTo>
                  <a:pt x="89" y="1259"/>
                </a:lnTo>
                <a:lnTo>
                  <a:pt x="99" y="1259"/>
                </a:lnTo>
                <a:lnTo>
                  <a:pt x="99" y="1279"/>
                </a:lnTo>
                <a:lnTo>
                  <a:pt x="109" y="1279"/>
                </a:lnTo>
                <a:lnTo>
                  <a:pt x="109" y="1259"/>
                </a:lnTo>
                <a:lnTo>
                  <a:pt x="119" y="1269"/>
                </a:lnTo>
                <a:lnTo>
                  <a:pt x="128" y="1289"/>
                </a:lnTo>
                <a:lnTo>
                  <a:pt x="138" y="1279"/>
                </a:lnTo>
                <a:lnTo>
                  <a:pt x="158" y="1269"/>
                </a:lnTo>
                <a:lnTo>
                  <a:pt x="148" y="1269"/>
                </a:lnTo>
                <a:lnTo>
                  <a:pt x="158" y="1250"/>
                </a:lnTo>
                <a:lnTo>
                  <a:pt x="168" y="1230"/>
                </a:lnTo>
                <a:lnTo>
                  <a:pt x="178" y="1230"/>
                </a:lnTo>
                <a:lnTo>
                  <a:pt x="188" y="1190"/>
                </a:lnTo>
                <a:lnTo>
                  <a:pt x="198" y="1170"/>
                </a:lnTo>
                <a:lnTo>
                  <a:pt x="198" y="1141"/>
                </a:lnTo>
                <a:lnTo>
                  <a:pt x="208" y="1111"/>
                </a:lnTo>
                <a:lnTo>
                  <a:pt x="208" y="1081"/>
                </a:lnTo>
                <a:lnTo>
                  <a:pt x="218" y="1012"/>
                </a:lnTo>
                <a:lnTo>
                  <a:pt x="228" y="992"/>
                </a:lnTo>
                <a:lnTo>
                  <a:pt x="238" y="942"/>
                </a:lnTo>
                <a:lnTo>
                  <a:pt x="257" y="922"/>
                </a:lnTo>
                <a:lnTo>
                  <a:pt x="247" y="922"/>
                </a:lnTo>
                <a:lnTo>
                  <a:pt x="257" y="932"/>
                </a:lnTo>
                <a:lnTo>
                  <a:pt x="267" y="952"/>
                </a:lnTo>
                <a:lnTo>
                  <a:pt x="277" y="1012"/>
                </a:lnTo>
                <a:lnTo>
                  <a:pt x="277" y="1091"/>
                </a:lnTo>
                <a:lnTo>
                  <a:pt x="287" y="1141"/>
                </a:lnTo>
                <a:lnTo>
                  <a:pt x="287" y="1150"/>
                </a:lnTo>
                <a:lnTo>
                  <a:pt x="297" y="1200"/>
                </a:lnTo>
                <a:lnTo>
                  <a:pt x="317" y="1250"/>
                </a:lnTo>
                <a:lnTo>
                  <a:pt x="327" y="1259"/>
                </a:lnTo>
                <a:lnTo>
                  <a:pt x="327" y="1279"/>
                </a:lnTo>
                <a:lnTo>
                  <a:pt x="337" y="1269"/>
                </a:lnTo>
                <a:lnTo>
                  <a:pt x="347" y="1259"/>
                </a:lnTo>
                <a:lnTo>
                  <a:pt x="356" y="1250"/>
                </a:lnTo>
                <a:lnTo>
                  <a:pt x="366" y="1250"/>
                </a:lnTo>
                <a:lnTo>
                  <a:pt x="376" y="1259"/>
                </a:lnTo>
                <a:lnTo>
                  <a:pt x="386" y="1220"/>
                </a:lnTo>
                <a:lnTo>
                  <a:pt x="396" y="1240"/>
                </a:lnTo>
                <a:lnTo>
                  <a:pt x="406" y="1250"/>
                </a:lnTo>
                <a:lnTo>
                  <a:pt x="406" y="1240"/>
                </a:lnTo>
                <a:lnTo>
                  <a:pt x="416" y="1230"/>
                </a:lnTo>
                <a:lnTo>
                  <a:pt x="416" y="1240"/>
                </a:lnTo>
                <a:lnTo>
                  <a:pt x="426" y="1250"/>
                </a:lnTo>
                <a:lnTo>
                  <a:pt x="436" y="1240"/>
                </a:lnTo>
                <a:lnTo>
                  <a:pt x="446" y="1259"/>
                </a:lnTo>
                <a:lnTo>
                  <a:pt x="456" y="1269"/>
                </a:lnTo>
                <a:lnTo>
                  <a:pt x="456" y="1259"/>
                </a:lnTo>
                <a:lnTo>
                  <a:pt x="466" y="1250"/>
                </a:lnTo>
                <a:lnTo>
                  <a:pt x="466" y="1259"/>
                </a:lnTo>
                <a:lnTo>
                  <a:pt x="485" y="1269"/>
                </a:lnTo>
                <a:lnTo>
                  <a:pt x="485" y="1250"/>
                </a:lnTo>
                <a:lnTo>
                  <a:pt x="495" y="1269"/>
                </a:lnTo>
                <a:lnTo>
                  <a:pt x="505" y="1279"/>
                </a:lnTo>
                <a:lnTo>
                  <a:pt x="505" y="1269"/>
                </a:lnTo>
                <a:lnTo>
                  <a:pt x="515" y="1250"/>
                </a:lnTo>
                <a:lnTo>
                  <a:pt x="515" y="1240"/>
                </a:lnTo>
                <a:lnTo>
                  <a:pt x="525" y="1230"/>
                </a:lnTo>
                <a:lnTo>
                  <a:pt x="535" y="1200"/>
                </a:lnTo>
                <a:lnTo>
                  <a:pt x="535" y="1170"/>
                </a:lnTo>
                <a:lnTo>
                  <a:pt x="545" y="1141"/>
                </a:lnTo>
                <a:lnTo>
                  <a:pt x="565" y="1061"/>
                </a:lnTo>
                <a:lnTo>
                  <a:pt x="555" y="1061"/>
                </a:lnTo>
                <a:lnTo>
                  <a:pt x="565" y="1081"/>
                </a:lnTo>
                <a:lnTo>
                  <a:pt x="575" y="1141"/>
                </a:lnTo>
                <a:lnTo>
                  <a:pt x="585" y="1210"/>
                </a:lnTo>
                <a:lnTo>
                  <a:pt x="585" y="1259"/>
                </a:lnTo>
                <a:lnTo>
                  <a:pt x="604" y="1289"/>
                </a:lnTo>
                <a:lnTo>
                  <a:pt x="604" y="1289"/>
                </a:lnTo>
                <a:lnTo>
                  <a:pt x="614" y="1299"/>
                </a:lnTo>
                <a:lnTo>
                  <a:pt x="624" y="1289"/>
                </a:lnTo>
                <a:lnTo>
                  <a:pt x="634" y="1279"/>
                </a:lnTo>
                <a:lnTo>
                  <a:pt x="644" y="1309"/>
                </a:lnTo>
                <a:lnTo>
                  <a:pt x="644" y="1319"/>
                </a:lnTo>
                <a:lnTo>
                  <a:pt x="654" y="1200"/>
                </a:lnTo>
                <a:lnTo>
                  <a:pt x="664" y="774"/>
                </a:lnTo>
                <a:lnTo>
                  <a:pt x="664" y="179"/>
                </a:lnTo>
                <a:lnTo>
                  <a:pt x="674" y="0"/>
                </a:lnTo>
                <a:lnTo>
                  <a:pt x="684" y="466"/>
                </a:lnTo>
                <a:lnTo>
                  <a:pt x="684" y="1269"/>
                </a:lnTo>
                <a:lnTo>
                  <a:pt x="694" y="1279"/>
                </a:lnTo>
                <a:lnTo>
                  <a:pt x="694" y="1160"/>
                </a:lnTo>
                <a:lnTo>
                  <a:pt x="704" y="1240"/>
                </a:lnTo>
                <a:lnTo>
                  <a:pt x="723" y="1289"/>
                </a:lnTo>
                <a:lnTo>
                  <a:pt x="713" y="1289"/>
                </a:lnTo>
                <a:lnTo>
                  <a:pt x="723" y="1279"/>
                </a:lnTo>
                <a:lnTo>
                  <a:pt x="733" y="1279"/>
                </a:lnTo>
                <a:lnTo>
                  <a:pt x="743" y="1289"/>
                </a:lnTo>
                <a:lnTo>
                  <a:pt x="743" y="1309"/>
                </a:lnTo>
                <a:lnTo>
                  <a:pt x="753" y="1289"/>
                </a:lnTo>
                <a:lnTo>
                  <a:pt x="763" y="1309"/>
                </a:lnTo>
                <a:lnTo>
                  <a:pt x="763" y="1289"/>
                </a:lnTo>
                <a:lnTo>
                  <a:pt x="773" y="1279"/>
                </a:lnTo>
                <a:lnTo>
                  <a:pt x="783" y="1269"/>
                </a:lnTo>
                <a:lnTo>
                  <a:pt x="793" y="1269"/>
                </a:lnTo>
                <a:lnTo>
                  <a:pt x="793" y="1289"/>
                </a:lnTo>
                <a:lnTo>
                  <a:pt x="803" y="1259"/>
                </a:lnTo>
                <a:lnTo>
                  <a:pt x="813" y="1230"/>
                </a:lnTo>
                <a:lnTo>
                  <a:pt x="813" y="1250"/>
                </a:lnTo>
                <a:lnTo>
                  <a:pt x="822" y="1230"/>
                </a:lnTo>
                <a:lnTo>
                  <a:pt x="822" y="1210"/>
                </a:lnTo>
                <a:lnTo>
                  <a:pt x="832" y="1170"/>
                </a:lnTo>
                <a:lnTo>
                  <a:pt x="842" y="1150"/>
                </a:lnTo>
                <a:lnTo>
                  <a:pt x="852" y="1111"/>
                </a:lnTo>
                <a:lnTo>
                  <a:pt x="862" y="1071"/>
                </a:lnTo>
                <a:lnTo>
                  <a:pt x="862" y="1041"/>
                </a:lnTo>
                <a:lnTo>
                  <a:pt x="872" y="1022"/>
                </a:lnTo>
                <a:lnTo>
                  <a:pt x="872" y="972"/>
                </a:lnTo>
                <a:lnTo>
                  <a:pt x="882" y="952"/>
                </a:lnTo>
                <a:lnTo>
                  <a:pt x="892" y="952"/>
                </a:lnTo>
                <a:lnTo>
                  <a:pt x="892" y="932"/>
                </a:lnTo>
                <a:lnTo>
                  <a:pt x="902" y="912"/>
                </a:lnTo>
                <a:lnTo>
                  <a:pt x="912" y="972"/>
                </a:lnTo>
                <a:lnTo>
                  <a:pt x="922" y="1031"/>
                </a:lnTo>
                <a:lnTo>
                  <a:pt x="922" y="1081"/>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6694560" y="1968480"/>
            <a:ext cx="576360" cy="939960"/>
          </a:xfrm>
          <a:custGeom>
            <a:avLst/>
            <a:gdLst/>
            <a:ahLst/>
            <a:rect l="l" t="t" r="r" b="b"/>
            <a:pathLst>
              <a:path w="892" h="1388">
                <a:moveTo>
                  <a:pt x="0" y="1150"/>
                </a:moveTo>
                <a:lnTo>
                  <a:pt x="10" y="1190"/>
                </a:lnTo>
                <a:lnTo>
                  <a:pt x="19" y="1239"/>
                </a:lnTo>
                <a:lnTo>
                  <a:pt x="19" y="1279"/>
                </a:lnTo>
                <a:lnTo>
                  <a:pt x="29" y="1289"/>
                </a:lnTo>
                <a:lnTo>
                  <a:pt x="39" y="1319"/>
                </a:lnTo>
                <a:lnTo>
                  <a:pt x="49" y="1328"/>
                </a:lnTo>
                <a:lnTo>
                  <a:pt x="59" y="1319"/>
                </a:lnTo>
                <a:lnTo>
                  <a:pt x="69" y="1328"/>
                </a:lnTo>
                <a:lnTo>
                  <a:pt x="69" y="1348"/>
                </a:lnTo>
                <a:lnTo>
                  <a:pt x="79" y="1338"/>
                </a:lnTo>
                <a:lnTo>
                  <a:pt x="79" y="1319"/>
                </a:lnTo>
                <a:lnTo>
                  <a:pt x="89" y="1319"/>
                </a:lnTo>
                <a:lnTo>
                  <a:pt x="99" y="1309"/>
                </a:lnTo>
                <a:lnTo>
                  <a:pt x="109" y="1299"/>
                </a:lnTo>
                <a:lnTo>
                  <a:pt x="119" y="1299"/>
                </a:lnTo>
                <a:lnTo>
                  <a:pt x="129" y="1279"/>
                </a:lnTo>
                <a:lnTo>
                  <a:pt x="138" y="1289"/>
                </a:lnTo>
                <a:lnTo>
                  <a:pt x="158" y="1289"/>
                </a:lnTo>
                <a:lnTo>
                  <a:pt x="148" y="1289"/>
                </a:lnTo>
                <a:lnTo>
                  <a:pt x="158" y="1309"/>
                </a:lnTo>
                <a:lnTo>
                  <a:pt x="168" y="1328"/>
                </a:lnTo>
                <a:lnTo>
                  <a:pt x="178" y="1309"/>
                </a:lnTo>
                <a:lnTo>
                  <a:pt x="178" y="1299"/>
                </a:lnTo>
                <a:lnTo>
                  <a:pt x="188" y="1319"/>
                </a:lnTo>
                <a:lnTo>
                  <a:pt x="198" y="1328"/>
                </a:lnTo>
                <a:lnTo>
                  <a:pt x="208" y="1319"/>
                </a:lnTo>
                <a:lnTo>
                  <a:pt x="218" y="1348"/>
                </a:lnTo>
                <a:lnTo>
                  <a:pt x="228" y="1328"/>
                </a:lnTo>
                <a:lnTo>
                  <a:pt x="228" y="1319"/>
                </a:lnTo>
                <a:lnTo>
                  <a:pt x="238" y="1328"/>
                </a:lnTo>
                <a:lnTo>
                  <a:pt x="248" y="1358"/>
                </a:lnTo>
                <a:lnTo>
                  <a:pt x="248" y="1338"/>
                </a:lnTo>
                <a:lnTo>
                  <a:pt x="257" y="1319"/>
                </a:lnTo>
                <a:lnTo>
                  <a:pt x="257" y="1328"/>
                </a:lnTo>
                <a:lnTo>
                  <a:pt x="267" y="1319"/>
                </a:lnTo>
                <a:lnTo>
                  <a:pt x="277" y="1299"/>
                </a:lnTo>
                <a:lnTo>
                  <a:pt x="277" y="1249"/>
                </a:lnTo>
                <a:lnTo>
                  <a:pt x="287" y="1229"/>
                </a:lnTo>
                <a:lnTo>
                  <a:pt x="287" y="1210"/>
                </a:lnTo>
                <a:lnTo>
                  <a:pt x="297" y="1150"/>
                </a:lnTo>
                <a:lnTo>
                  <a:pt x="307" y="1110"/>
                </a:lnTo>
                <a:lnTo>
                  <a:pt x="307" y="1140"/>
                </a:lnTo>
                <a:lnTo>
                  <a:pt x="317" y="1150"/>
                </a:lnTo>
                <a:lnTo>
                  <a:pt x="327" y="1170"/>
                </a:lnTo>
                <a:lnTo>
                  <a:pt x="327" y="1259"/>
                </a:lnTo>
                <a:lnTo>
                  <a:pt x="337" y="1328"/>
                </a:lnTo>
                <a:lnTo>
                  <a:pt x="337" y="1358"/>
                </a:lnTo>
                <a:lnTo>
                  <a:pt x="357" y="1348"/>
                </a:lnTo>
                <a:lnTo>
                  <a:pt x="357" y="1368"/>
                </a:lnTo>
                <a:lnTo>
                  <a:pt x="366" y="1378"/>
                </a:lnTo>
                <a:lnTo>
                  <a:pt x="386" y="1368"/>
                </a:lnTo>
                <a:lnTo>
                  <a:pt x="376" y="1368"/>
                </a:lnTo>
                <a:lnTo>
                  <a:pt x="386" y="1358"/>
                </a:lnTo>
                <a:lnTo>
                  <a:pt x="396" y="1348"/>
                </a:lnTo>
                <a:lnTo>
                  <a:pt x="406" y="1388"/>
                </a:lnTo>
                <a:lnTo>
                  <a:pt x="406" y="1259"/>
                </a:lnTo>
                <a:lnTo>
                  <a:pt x="416" y="813"/>
                </a:lnTo>
                <a:lnTo>
                  <a:pt x="416" y="178"/>
                </a:lnTo>
                <a:lnTo>
                  <a:pt x="426" y="0"/>
                </a:lnTo>
                <a:lnTo>
                  <a:pt x="436" y="515"/>
                </a:lnTo>
                <a:lnTo>
                  <a:pt x="436" y="1338"/>
                </a:lnTo>
                <a:lnTo>
                  <a:pt x="446" y="1338"/>
                </a:lnTo>
                <a:lnTo>
                  <a:pt x="456" y="1190"/>
                </a:lnTo>
                <a:lnTo>
                  <a:pt x="456" y="1299"/>
                </a:lnTo>
                <a:lnTo>
                  <a:pt x="466" y="1348"/>
                </a:lnTo>
                <a:lnTo>
                  <a:pt x="476" y="1348"/>
                </a:lnTo>
                <a:lnTo>
                  <a:pt x="485" y="1358"/>
                </a:lnTo>
                <a:lnTo>
                  <a:pt x="485" y="1378"/>
                </a:lnTo>
                <a:lnTo>
                  <a:pt x="495" y="1358"/>
                </a:lnTo>
                <a:lnTo>
                  <a:pt x="505" y="1348"/>
                </a:lnTo>
                <a:lnTo>
                  <a:pt x="505" y="1368"/>
                </a:lnTo>
                <a:lnTo>
                  <a:pt x="515" y="1378"/>
                </a:lnTo>
                <a:lnTo>
                  <a:pt x="515" y="1358"/>
                </a:lnTo>
                <a:lnTo>
                  <a:pt x="525" y="1348"/>
                </a:lnTo>
                <a:lnTo>
                  <a:pt x="535" y="1358"/>
                </a:lnTo>
                <a:lnTo>
                  <a:pt x="545" y="1348"/>
                </a:lnTo>
                <a:lnTo>
                  <a:pt x="555" y="1338"/>
                </a:lnTo>
                <a:lnTo>
                  <a:pt x="565" y="1328"/>
                </a:lnTo>
                <a:lnTo>
                  <a:pt x="565" y="1319"/>
                </a:lnTo>
                <a:lnTo>
                  <a:pt x="585" y="1289"/>
                </a:lnTo>
                <a:lnTo>
                  <a:pt x="585" y="1279"/>
                </a:lnTo>
                <a:lnTo>
                  <a:pt x="595" y="1239"/>
                </a:lnTo>
                <a:lnTo>
                  <a:pt x="595" y="1190"/>
                </a:lnTo>
                <a:lnTo>
                  <a:pt x="604" y="1160"/>
                </a:lnTo>
                <a:lnTo>
                  <a:pt x="614" y="1140"/>
                </a:lnTo>
                <a:lnTo>
                  <a:pt x="614" y="1091"/>
                </a:lnTo>
                <a:lnTo>
                  <a:pt x="624" y="1041"/>
                </a:lnTo>
                <a:lnTo>
                  <a:pt x="634" y="1021"/>
                </a:lnTo>
                <a:lnTo>
                  <a:pt x="634" y="1001"/>
                </a:lnTo>
                <a:lnTo>
                  <a:pt x="644" y="972"/>
                </a:lnTo>
                <a:lnTo>
                  <a:pt x="644" y="952"/>
                </a:lnTo>
                <a:lnTo>
                  <a:pt x="654" y="962"/>
                </a:lnTo>
                <a:lnTo>
                  <a:pt x="664" y="1001"/>
                </a:lnTo>
                <a:lnTo>
                  <a:pt x="664" y="1031"/>
                </a:lnTo>
                <a:lnTo>
                  <a:pt x="674" y="1081"/>
                </a:lnTo>
                <a:lnTo>
                  <a:pt x="684" y="1140"/>
                </a:lnTo>
                <a:lnTo>
                  <a:pt x="684" y="1200"/>
                </a:lnTo>
                <a:lnTo>
                  <a:pt x="694" y="1229"/>
                </a:lnTo>
                <a:lnTo>
                  <a:pt x="694" y="1249"/>
                </a:lnTo>
                <a:lnTo>
                  <a:pt x="704" y="1279"/>
                </a:lnTo>
                <a:lnTo>
                  <a:pt x="723" y="1299"/>
                </a:lnTo>
                <a:lnTo>
                  <a:pt x="714" y="1299"/>
                </a:lnTo>
                <a:lnTo>
                  <a:pt x="723" y="1309"/>
                </a:lnTo>
                <a:lnTo>
                  <a:pt x="733" y="1319"/>
                </a:lnTo>
                <a:lnTo>
                  <a:pt x="743" y="1309"/>
                </a:lnTo>
                <a:lnTo>
                  <a:pt x="743" y="1299"/>
                </a:lnTo>
                <a:lnTo>
                  <a:pt x="753" y="1309"/>
                </a:lnTo>
                <a:lnTo>
                  <a:pt x="763" y="1319"/>
                </a:lnTo>
                <a:lnTo>
                  <a:pt x="763" y="1299"/>
                </a:lnTo>
                <a:lnTo>
                  <a:pt x="773" y="1279"/>
                </a:lnTo>
                <a:lnTo>
                  <a:pt x="773" y="1289"/>
                </a:lnTo>
                <a:lnTo>
                  <a:pt x="783" y="1309"/>
                </a:lnTo>
                <a:lnTo>
                  <a:pt x="793" y="1299"/>
                </a:lnTo>
                <a:lnTo>
                  <a:pt x="793" y="1279"/>
                </a:lnTo>
                <a:lnTo>
                  <a:pt x="803" y="1289"/>
                </a:lnTo>
                <a:lnTo>
                  <a:pt x="813" y="1299"/>
                </a:lnTo>
                <a:lnTo>
                  <a:pt x="823" y="1289"/>
                </a:lnTo>
                <a:lnTo>
                  <a:pt x="823" y="1299"/>
                </a:lnTo>
                <a:lnTo>
                  <a:pt x="842" y="1309"/>
                </a:lnTo>
                <a:lnTo>
                  <a:pt x="842" y="1299"/>
                </a:lnTo>
                <a:lnTo>
                  <a:pt x="852" y="1309"/>
                </a:lnTo>
                <a:lnTo>
                  <a:pt x="872" y="1309"/>
                </a:lnTo>
                <a:lnTo>
                  <a:pt x="862" y="1309"/>
                </a:lnTo>
                <a:lnTo>
                  <a:pt x="872" y="1319"/>
                </a:lnTo>
                <a:lnTo>
                  <a:pt x="882" y="1328"/>
                </a:lnTo>
                <a:lnTo>
                  <a:pt x="892" y="1319"/>
                </a:lnTo>
                <a:lnTo>
                  <a:pt x="892" y="1309"/>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7270920" y="2001960"/>
            <a:ext cx="550800" cy="933480"/>
          </a:xfrm>
          <a:custGeom>
            <a:avLst/>
            <a:gdLst/>
            <a:ahLst/>
            <a:rect l="l" t="t" r="r" b="b"/>
            <a:pathLst>
              <a:path w="853" h="1379">
                <a:moveTo>
                  <a:pt x="0" y="1260"/>
                </a:moveTo>
                <a:lnTo>
                  <a:pt x="10" y="1270"/>
                </a:lnTo>
                <a:lnTo>
                  <a:pt x="10" y="1289"/>
                </a:lnTo>
                <a:lnTo>
                  <a:pt x="20" y="1270"/>
                </a:lnTo>
                <a:lnTo>
                  <a:pt x="30" y="1260"/>
                </a:lnTo>
                <a:lnTo>
                  <a:pt x="30" y="1270"/>
                </a:lnTo>
                <a:lnTo>
                  <a:pt x="40" y="1279"/>
                </a:lnTo>
                <a:lnTo>
                  <a:pt x="50" y="1260"/>
                </a:lnTo>
                <a:lnTo>
                  <a:pt x="50" y="1240"/>
                </a:lnTo>
                <a:lnTo>
                  <a:pt x="59" y="1230"/>
                </a:lnTo>
                <a:lnTo>
                  <a:pt x="59" y="1200"/>
                </a:lnTo>
                <a:lnTo>
                  <a:pt x="69" y="1180"/>
                </a:lnTo>
                <a:lnTo>
                  <a:pt x="79" y="1131"/>
                </a:lnTo>
                <a:lnTo>
                  <a:pt x="79" y="1081"/>
                </a:lnTo>
                <a:lnTo>
                  <a:pt x="89" y="1071"/>
                </a:lnTo>
                <a:lnTo>
                  <a:pt x="99" y="1081"/>
                </a:lnTo>
                <a:lnTo>
                  <a:pt x="109" y="1151"/>
                </a:lnTo>
                <a:lnTo>
                  <a:pt x="109" y="1260"/>
                </a:lnTo>
                <a:lnTo>
                  <a:pt x="119" y="1289"/>
                </a:lnTo>
                <a:lnTo>
                  <a:pt x="129" y="1270"/>
                </a:lnTo>
                <a:lnTo>
                  <a:pt x="129" y="1289"/>
                </a:lnTo>
                <a:lnTo>
                  <a:pt x="139" y="1299"/>
                </a:lnTo>
                <a:lnTo>
                  <a:pt x="149" y="1289"/>
                </a:lnTo>
                <a:lnTo>
                  <a:pt x="159" y="1309"/>
                </a:lnTo>
                <a:lnTo>
                  <a:pt x="159" y="1319"/>
                </a:lnTo>
                <a:lnTo>
                  <a:pt x="169" y="1299"/>
                </a:lnTo>
                <a:lnTo>
                  <a:pt x="178" y="1289"/>
                </a:lnTo>
                <a:lnTo>
                  <a:pt x="178" y="1329"/>
                </a:lnTo>
                <a:lnTo>
                  <a:pt x="188" y="1299"/>
                </a:lnTo>
                <a:lnTo>
                  <a:pt x="188" y="972"/>
                </a:lnTo>
                <a:lnTo>
                  <a:pt x="198" y="338"/>
                </a:lnTo>
                <a:lnTo>
                  <a:pt x="208" y="0"/>
                </a:lnTo>
                <a:lnTo>
                  <a:pt x="208" y="278"/>
                </a:lnTo>
                <a:lnTo>
                  <a:pt x="218" y="1161"/>
                </a:lnTo>
                <a:lnTo>
                  <a:pt x="228" y="1379"/>
                </a:lnTo>
                <a:lnTo>
                  <a:pt x="228" y="1170"/>
                </a:lnTo>
                <a:lnTo>
                  <a:pt x="238" y="1240"/>
                </a:lnTo>
                <a:lnTo>
                  <a:pt x="238" y="1299"/>
                </a:lnTo>
                <a:lnTo>
                  <a:pt x="248" y="1289"/>
                </a:lnTo>
                <a:lnTo>
                  <a:pt x="258" y="1299"/>
                </a:lnTo>
                <a:lnTo>
                  <a:pt x="258" y="1329"/>
                </a:lnTo>
                <a:lnTo>
                  <a:pt x="268" y="1319"/>
                </a:lnTo>
                <a:lnTo>
                  <a:pt x="278" y="1309"/>
                </a:lnTo>
                <a:lnTo>
                  <a:pt x="278" y="1329"/>
                </a:lnTo>
                <a:lnTo>
                  <a:pt x="288" y="1339"/>
                </a:lnTo>
                <a:lnTo>
                  <a:pt x="288" y="1329"/>
                </a:lnTo>
                <a:lnTo>
                  <a:pt x="297" y="1299"/>
                </a:lnTo>
                <a:lnTo>
                  <a:pt x="317" y="1329"/>
                </a:lnTo>
                <a:lnTo>
                  <a:pt x="307" y="1329"/>
                </a:lnTo>
                <a:lnTo>
                  <a:pt x="317" y="1299"/>
                </a:lnTo>
                <a:lnTo>
                  <a:pt x="327" y="1299"/>
                </a:lnTo>
                <a:lnTo>
                  <a:pt x="337" y="1309"/>
                </a:lnTo>
                <a:lnTo>
                  <a:pt x="337" y="1279"/>
                </a:lnTo>
                <a:lnTo>
                  <a:pt x="347" y="1250"/>
                </a:lnTo>
                <a:lnTo>
                  <a:pt x="357" y="1250"/>
                </a:lnTo>
                <a:lnTo>
                  <a:pt x="367" y="1230"/>
                </a:lnTo>
                <a:lnTo>
                  <a:pt x="367" y="1190"/>
                </a:lnTo>
                <a:lnTo>
                  <a:pt x="377" y="1161"/>
                </a:lnTo>
                <a:lnTo>
                  <a:pt x="387" y="1131"/>
                </a:lnTo>
                <a:lnTo>
                  <a:pt x="387" y="1081"/>
                </a:lnTo>
                <a:lnTo>
                  <a:pt x="397" y="1032"/>
                </a:lnTo>
                <a:lnTo>
                  <a:pt x="406" y="1022"/>
                </a:lnTo>
                <a:lnTo>
                  <a:pt x="406" y="992"/>
                </a:lnTo>
                <a:lnTo>
                  <a:pt x="416" y="962"/>
                </a:lnTo>
                <a:lnTo>
                  <a:pt x="416" y="932"/>
                </a:lnTo>
                <a:lnTo>
                  <a:pt x="426" y="932"/>
                </a:lnTo>
                <a:lnTo>
                  <a:pt x="436" y="952"/>
                </a:lnTo>
                <a:lnTo>
                  <a:pt x="436" y="992"/>
                </a:lnTo>
                <a:lnTo>
                  <a:pt x="446" y="1032"/>
                </a:lnTo>
                <a:lnTo>
                  <a:pt x="446" y="1111"/>
                </a:lnTo>
                <a:lnTo>
                  <a:pt x="456" y="1170"/>
                </a:lnTo>
                <a:lnTo>
                  <a:pt x="466" y="1200"/>
                </a:lnTo>
                <a:lnTo>
                  <a:pt x="466" y="1230"/>
                </a:lnTo>
                <a:lnTo>
                  <a:pt x="476" y="1260"/>
                </a:lnTo>
                <a:lnTo>
                  <a:pt x="486" y="1289"/>
                </a:lnTo>
                <a:lnTo>
                  <a:pt x="496" y="1279"/>
                </a:lnTo>
                <a:lnTo>
                  <a:pt x="496" y="1299"/>
                </a:lnTo>
                <a:lnTo>
                  <a:pt x="506" y="1319"/>
                </a:lnTo>
                <a:lnTo>
                  <a:pt x="516" y="1299"/>
                </a:lnTo>
                <a:lnTo>
                  <a:pt x="525" y="1299"/>
                </a:lnTo>
                <a:lnTo>
                  <a:pt x="535" y="1299"/>
                </a:lnTo>
                <a:lnTo>
                  <a:pt x="545" y="1299"/>
                </a:lnTo>
                <a:lnTo>
                  <a:pt x="555" y="1279"/>
                </a:lnTo>
                <a:lnTo>
                  <a:pt x="565" y="1289"/>
                </a:lnTo>
                <a:lnTo>
                  <a:pt x="565" y="1270"/>
                </a:lnTo>
                <a:lnTo>
                  <a:pt x="575" y="1270"/>
                </a:lnTo>
                <a:lnTo>
                  <a:pt x="585" y="1279"/>
                </a:lnTo>
                <a:lnTo>
                  <a:pt x="595" y="1260"/>
                </a:lnTo>
                <a:lnTo>
                  <a:pt x="595" y="1270"/>
                </a:lnTo>
                <a:lnTo>
                  <a:pt x="615" y="1289"/>
                </a:lnTo>
                <a:lnTo>
                  <a:pt x="615" y="1279"/>
                </a:lnTo>
                <a:lnTo>
                  <a:pt x="635" y="1309"/>
                </a:lnTo>
                <a:lnTo>
                  <a:pt x="635" y="1309"/>
                </a:lnTo>
                <a:lnTo>
                  <a:pt x="644" y="1279"/>
                </a:lnTo>
                <a:lnTo>
                  <a:pt x="644" y="1289"/>
                </a:lnTo>
                <a:lnTo>
                  <a:pt x="654" y="1299"/>
                </a:lnTo>
                <a:lnTo>
                  <a:pt x="664" y="1309"/>
                </a:lnTo>
                <a:lnTo>
                  <a:pt x="664" y="1299"/>
                </a:lnTo>
                <a:lnTo>
                  <a:pt x="674" y="1309"/>
                </a:lnTo>
                <a:lnTo>
                  <a:pt x="674" y="1319"/>
                </a:lnTo>
                <a:lnTo>
                  <a:pt x="684" y="1299"/>
                </a:lnTo>
                <a:lnTo>
                  <a:pt x="694" y="1270"/>
                </a:lnTo>
                <a:lnTo>
                  <a:pt x="694" y="1250"/>
                </a:lnTo>
                <a:lnTo>
                  <a:pt x="704" y="1240"/>
                </a:lnTo>
                <a:lnTo>
                  <a:pt x="714" y="1220"/>
                </a:lnTo>
                <a:lnTo>
                  <a:pt x="714" y="1151"/>
                </a:lnTo>
                <a:lnTo>
                  <a:pt x="724" y="1101"/>
                </a:lnTo>
                <a:lnTo>
                  <a:pt x="724" y="1111"/>
                </a:lnTo>
                <a:lnTo>
                  <a:pt x="734" y="1131"/>
                </a:lnTo>
                <a:lnTo>
                  <a:pt x="744" y="1141"/>
                </a:lnTo>
                <a:lnTo>
                  <a:pt x="744" y="1230"/>
                </a:lnTo>
                <a:lnTo>
                  <a:pt x="754" y="1309"/>
                </a:lnTo>
                <a:lnTo>
                  <a:pt x="754" y="1319"/>
                </a:lnTo>
                <a:lnTo>
                  <a:pt x="763" y="1309"/>
                </a:lnTo>
                <a:lnTo>
                  <a:pt x="773" y="1339"/>
                </a:lnTo>
                <a:lnTo>
                  <a:pt x="773" y="1349"/>
                </a:lnTo>
                <a:lnTo>
                  <a:pt x="783" y="1339"/>
                </a:lnTo>
                <a:lnTo>
                  <a:pt x="793" y="1319"/>
                </a:lnTo>
                <a:lnTo>
                  <a:pt x="793" y="1349"/>
                </a:lnTo>
                <a:lnTo>
                  <a:pt x="803" y="1339"/>
                </a:lnTo>
                <a:lnTo>
                  <a:pt x="813" y="1329"/>
                </a:lnTo>
                <a:lnTo>
                  <a:pt x="823" y="1349"/>
                </a:lnTo>
                <a:lnTo>
                  <a:pt x="823" y="1210"/>
                </a:lnTo>
                <a:lnTo>
                  <a:pt x="833" y="764"/>
                </a:lnTo>
                <a:lnTo>
                  <a:pt x="843" y="169"/>
                </a:lnTo>
                <a:lnTo>
                  <a:pt x="843" y="50"/>
                </a:lnTo>
                <a:lnTo>
                  <a:pt x="853" y="516"/>
                </a:lnTo>
                <a:lnTo>
                  <a:pt x="853" y="1329"/>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7821720" y="1989000"/>
            <a:ext cx="555480" cy="938520"/>
          </a:xfrm>
          <a:custGeom>
            <a:avLst/>
            <a:gdLst/>
            <a:ahLst/>
            <a:rect l="l" t="t" r="r" b="b"/>
            <a:pathLst>
              <a:path w="862" h="1388">
                <a:moveTo>
                  <a:pt x="0" y="1348"/>
                </a:moveTo>
                <a:lnTo>
                  <a:pt x="10" y="1368"/>
                </a:lnTo>
                <a:lnTo>
                  <a:pt x="19" y="1199"/>
                </a:lnTo>
                <a:lnTo>
                  <a:pt x="19" y="1298"/>
                </a:lnTo>
                <a:lnTo>
                  <a:pt x="29" y="1368"/>
                </a:lnTo>
                <a:lnTo>
                  <a:pt x="39" y="1358"/>
                </a:lnTo>
                <a:lnTo>
                  <a:pt x="39" y="1368"/>
                </a:lnTo>
                <a:lnTo>
                  <a:pt x="49" y="1378"/>
                </a:lnTo>
                <a:lnTo>
                  <a:pt x="49" y="1388"/>
                </a:lnTo>
                <a:lnTo>
                  <a:pt x="79" y="1378"/>
                </a:lnTo>
                <a:lnTo>
                  <a:pt x="69" y="1378"/>
                </a:lnTo>
                <a:lnTo>
                  <a:pt x="79" y="1348"/>
                </a:lnTo>
                <a:lnTo>
                  <a:pt x="89" y="1358"/>
                </a:lnTo>
                <a:lnTo>
                  <a:pt x="99" y="1378"/>
                </a:lnTo>
                <a:lnTo>
                  <a:pt x="109" y="1338"/>
                </a:lnTo>
                <a:lnTo>
                  <a:pt x="119" y="1348"/>
                </a:lnTo>
                <a:lnTo>
                  <a:pt x="129" y="1338"/>
                </a:lnTo>
                <a:lnTo>
                  <a:pt x="129" y="1308"/>
                </a:lnTo>
                <a:lnTo>
                  <a:pt x="138" y="1298"/>
                </a:lnTo>
                <a:lnTo>
                  <a:pt x="148" y="1298"/>
                </a:lnTo>
                <a:lnTo>
                  <a:pt x="148" y="1269"/>
                </a:lnTo>
                <a:lnTo>
                  <a:pt x="158" y="1239"/>
                </a:lnTo>
                <a:lnTo>
                  <a:pt x="168" y="1219"/>
                </a:lnTo>
                <a:lnTo>
                  <a:pt x="178" y="1180"/>
                </a:lnTo>
                <a:lnTo>
                  <a:pt x="178" y="1130"/>
                </a:lnTo>
                <a:lnTo>
                  <a:pt x="188" y="1100"/>
                </a:lnTo>
                <a:lnTo>
                  <a:pt x="198" y="1070"/>
                </a:lnTo>
                <a:lnTo>
                  <a:pt x="198" y="1021"/>
                </a:lnTo>
                <a:lnTo>
                  <a:pt x="208" y="991"/>
                </a:lnTo>
                <a:lnTo>
                  <a:pt x="208" y="981"/>
                </a:lnTo>
                <a:lnTo>
                  <a:pt x="218" y="971"/>
                </a:lnTo>
                <a:lnTo>
                  <a:pt x="228" y="961"/>
                </a:lnTo>
                <a:lnTo>
                  <a:pt x="228" y="971"/>
                </a:lnTo>
                <a:lnTo>
                  <a:pt x="238" y="1021"/>
                </a:lnTo>
                <a:lnTo>
                  <a:pt x="248" y="1080"/>
                </a:lnTo>
                <a:lnTo>
                  <a:pt x="248" y="1140"/>
                </a:lnTo>
                <a:lnTo>
                  <a:pt x="257" y="1180"/>
                </a:lnTo>
                <a:lnTo>
                  <a:pt x="257" y="1229"/>
                </a:lnTo>
                <a:lnTo>
                  <a:pt x="267" y="1279"/>
                </a:lnTo>
                <a:lnTo>
                  <a:pt x="277" y="1289"/>
                </a:lnTo>
                <a:lnTo>
                  <a:pt x="287" y="1308"/>
                </a:lnTo>
                <a:lnTo>
                  <a:pt x="297" y="1338"/>
                </a:lnTo>
                <a:lnTo>
                  <a:pt x="307" y="1318"/>
                </a:lnTo>
                <a:lnTo>
                  <a:pt x="307" y="1328"/>
                </a:lnTo>
                <a:lnTo>
                  <a:pt x="317" y="1338"/>
                </a:lnTo>
                <a:lnTo>
                  <a:pt x="327" y="1348"/>
                </a:lnTo>
                <a:lnTo>
                  <a:pt x="327" y="1308"/>
                </a:lnTo>
                <a:lnTo>
                  <a:pt x="337" y="1318"/>
                </a:lnTo>
                <a:lnTo>
                  <a:pt x="347" y="1328"/>
                </a:lnTo>
                <a:lnTo>
                  <a:pt x="347" y="1308"/>
                </a:lnTo>
                <a:lnTo>
                  <a:pt x="357" y="1298"/>
                </a:lnTo>
                <a:lnTo>
                  <a:pt x="357" y="1308"/>
                </a:lnTo>
                <a:lnTo>
                  <a:pt x="376" y="1298"/>
                </a:lnTo>
                <a:lnTo>
                  <a:pt x="376" y="1289"/>
                </a:lnTo>
                <a:lnTo>
                  <a:pt x="386" y="1279"/>
                </a:lnTo>
                <a:lnTo>
                  <a:pt x="386" y="1298"/>
                </a:lnTo>
                <a:lnTo>
                  <a:pt x="406" y="1289"/>
                </a:lnTo>
                <a:lnTo>
                  <a:pt x="416" y="1308"/>
                </a:lnTo>
                <a:lnTo>
                  <a:pt x="426" y="1308"/>
                </a:lnTo>
                <a:lnTo>
                  <a:pt x="426" y="1289"/>
                </a:lnTo>
                <a:lnTo>
                  <a:pt x="436" y="1298"/>
                </a:lnTo>
                <a:lnTo>
                  <a:pt x="436" y="1318"/>
                </a:lnTo>
                <a:lnTo>
                  <a:pt x="446" y="1318"/>
                </a:lnTo>
                <a:lnTo>
                  <a:pt x="456" y="1308"/>
                </a:lnTo>
                <a:lnTo>
                  <a:pt x="466" y="1328"/>
                </a:lnTo>
                <a:lnTo>
                  <a:pt x="476" y="1308"/>
                </a:lnTo>
                <a:lnTo>
                  <a:pt x="485" y="1318"/>
                </a:lnTo>
                <a:lnTo>
                  <a:pt x="485" y="1328"/>
                </a:lnTo>
                <a:lnTo>
                  <a:pt x="495" y="1338"/>
                </a:lnTo>
                <a:lnTo>
                  <a:pt x="505" y="1318"/>
                </a:lnTo>
                <a:lnTo>
                  <a:pt x="505" y="1308"/>
                </a:lnTo>
                <a:lnTo>
                  <a:pt x="515" y="1328"/>
                </a:lnTo>
                <a:lnTo>
                  <a:pt x="515" y="1318"/>
                </a:lnTo>
                <a:lnTo>
                  <a:pt x="535" y="1298"/>
                </a:lnTo>
                <a:lnTo>
                  <a:pt x="535" y="1308"/>
                </a:lnTo>
                <a:lnTo>
                  <a:pt x="545" y="1289"/>
                </a:lnTo>
                <a:lnTo>
                  <a:pt x="555" y="1229"/>
                </a:lnTo>
                <a:lnTo>
                  <a:pt x="555" y="1219"/>
                </a:lnTo>
                <a:lnTo>
                  <a:pt x="565" y="1199"/>
                </a:lnTo>
                <a:lnTo>
                  <a:pt x="565" y="1140"/>
                </a:lnTo>
                <a:lnTo>
                  <a:pt x="575" y="1080"/>
                </a:lnTo>
                <a:lnTo>
                  <a:pt x="585" y="1100"/>
                </a:lnTo>
                <a:lnTo>
                  <a:pt x="585" y="1120"/>
                </a:lnTo>
                <a:lnTo>
                  <a:pt x="595" y="1160"/>
                </a:lnTo>
                <a:lnTo>
                  <a:pt x="604" y="1239"/>
                </a:lnTo>
                <a:lnTo>
                  <a:pt x="604" y="1308"/>
                </a:lnTo>
                <a:lnTo>
                  <a:pt x="624" y="1318"/>
                </a:lnTo>
                <a:lnTo>
                  <a:pt x="624" y="1318"/>
                </a:lnTo>
                <a:lnTo>
                  <a:pt x="634" y="1318"/>
                </a:lnTo>
                <a:lnTo>
                  <a:pt x="634" y="1338"/>
                </a:lnTo>
                <a:lnTo>
                  <a:pt x="644" y="1328"/>
                </a:lnTo>
                <a:lnTo>
                  <a:pt x="654" y="1318"/>
                </a:lnTo>
                <a:lnTo>
                  <a:pt x="664" y="1318"/>
                </a:lnTo>
                <a:lnTo>
                  <a:pt x="664" y="1348"/>
                </a:lnTo>
                <a:lnTo>
                  <a:pt x="674" y="1318"/>
                </a:lnTo>
                <a:lnTo>
                  <a:pt x="684" y="981"/>
                </a:lnTo>
                <a:lnTo>
                  <a:pt x="684" y="337"/>
                </a:lnTo>
                <a:lnTo>
                  <a:pt x="694" y="0"/>
                </a:lnTo>
                <a:lnTo>
                  <a:pt x="694" y="287"/>
                </a:lnTo>
                <a:lnTo>
                  <a:pt x="704" y="1130"/>
                </a:lnTo>
                <a:lnTo>
                  <a:pt x="714" y="1378"/>
                </a:lnTo>
                <a:lnTo>
                  <a:pt x="714" y="1170"/>
                </a:lnTo>
                <a:lnTo>
                  <a:pt x="723" y="1219"/>
                </a:lnTo>
                <a:lnTo>
                  <a:pt x="733" y="1318"/>
                </a:lnTo>
                <a:lnTo>
                  <a:pt x="743" y="1318"/>
                </a:lnTo>
                <a:lnTo>
                  <a:pt x="753" y="1318"/>
                </a:lnTo>
                <a:lnTo>
                  <a:pt x="763" y="1338"/>
                </a:lnTo>
                <a:lnTo>
                  <a:pt x="773" y="1308"/>
                </a:lnTo>
                <a:lnTo>
                  <a:pt x="783" y="1328"/>
                </a:lnTo>
                <a:lnTo>
                  <a:pt x="783" y="1338"/>
                </a:lnTo>
                <a:lnTo>
                  <a:pt x="803" y="1308"/>
                </a:lnTo>
                <a:lnTo>
                  <a:pt x="793" y="1308"/>
                </a:lnTo>
                <a:lnTo>
                  <a:pt x="803" y="1308"/>
                </a:lnTo>
                <a:lnTo>
                  <a:pt x="813" y="1328"/>
                </a:lnTo>
                <a:lnTo>
                  <a:pt x="813" y="1318"/>
                </a:lnTo>
                <a:lnTo>
                  <a:pt x="832" y="1289"/>
                </a:lnTo>
                <a:lnTo>
                  <a:pt x="823" y="1289"/>
                </a:lnTo>
                <a:lnTo>
                  <a:pt x="832" y="1289"/>
                </a:lnTo>
                <a:lnTo>
                  <a:pt x="842" y="1269"/>
                </a:lnTo>
                <a:lnTo>
                  <a:pt x="842" y="1239"/>
                </a:lnTo>
                <a:lnTo>
                  <a:pt x="852" y="1219"/>
                </a:lnTo>
                <a:lnTo>
                  <a:pt x="862" y="1209"/>
                </a:lnTo>
                <a:lnTo>
                  <a:pt x="862" y="1170"/>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2092320" y="3786120"/>
            <a:ext cx="641520" cy="628560"/>
          </a:xfrm>
          <a:custGeom>
            <a:avLst/>
            <a:gdLst/>
            <a:ahLst/>
            <a:rect l="l" t="t" r="r" b="b"/>
            <a:pathLst>
              <a:path w="991" h="932">
                <a:moveTo>
                  <a:pt x="0" y="674"/>
                </a:moveTo>
                <a:lnTo>
                  <a:pt x="10" y="664"/>
                </a:lnTo>
                <a:lnTo>
                  <a:pt x="10" y="644"/>
                </a:lnTo>
                <a:lnTo>
                  <a:pt x="20" y="634"/>
                </a:lnTo>
                <a:lnTo>
                  <a:pt x="30" y="624"/>
                </a:lnTo>
                <a:lnTo>
                  <a:pt x="30" y="654"/>
                </a:lnTo>
                <a:lnTo>
                  <a:pt x="40" y="694"/>
                </a:lnTo>
                <a:lnTo>
                  <a:pt x="40" y="714"/>
                </a:lnTo>
                <a:lnTo>
                  <a:pt x="49" y="743"/>
                </a:lnTo>
                <a:lnTo>
                  <a:pt x="59" y="783"/>
                </a:lnTo>
                <a:lnTo>
                  <a:pt x="59" y="823"/>
                </a:lnTo>
                <a:lnTo>
                  <a:pt x="69" y="833"/>
                </a:lnTo>
                <a:lnTo>
                  <a:pt x="79" y="932"/>
                </a:lnTo>
                <a:lnTo>
                  <a:pt x="89" y="922"/>
                </a:lnTo>
                <a:lnTo>
                  <a:pt x="89" y="912"/>
                </a:lnTo>
                <a:lnTo>
                  <a:pt x="99" y="932"/>
                </a:lnTo>
                <a:lnTo>
                  <a:pt x="109" y="922"/>
                </a:lnTo>
                <a:lnTo>
                  <a:pt x="109" y="902"/>
                </a:lnTo>
                <a:lnTo>
                  <a:pt x="129" y="912"/>
                </a:lnTo>
                <a:lnTo>
                  <a:pt x="139" y="902"/>
                </a:lnTo>
                <a:lnTo>
                  <a:pt x="149" y="912"/>
                </a:lnTo>
                <a:lnTo>
                  <a:pt x="159" y="902"/>
                </a:lnTo>
                <a:lnTo>
                  <a:pt x="168" y="912"/>
                </a:lnTo>
                <a:lnTo>
                  <a:pt x="178" y="902"/>
                </a:lnTo>
                <a:lnTo>
                  <a:pt x="198" y="902"/>
                </a:lnTo>
                <a:lnTo>
                  <a:pt x="188" y="902"/>
                </a:lnTo>
                <a:lnTo>
                  <a:pt x="198" y="902"/>
                </a:lnTo>
                <a:lnTo>
                  <a:pt x="208" y="892"/>
                </a:lnTo>
                <a:lnTo>
                  <a:pt x="218" y="902"/>
                </a:lnTo>
                <a:lnTo>
                  <a:pt x="228" y="892"/>
                </a:lnTo>
                <a:lnTo>
                  <a:pt x="238" y="882"/>
                </a:lnTo>
                <a:lnTo>
                  <a:pt x="248" y="892"/>
                </a:lnTo>
                <a:lnTo>
                  <a:pt x="258" y="882"/>
                </a:lnTo>
                <a:lnTo>
                  <a:pt x="277" y="882"/>
                </a:lnTo>
                <a:lnTo>
                  <a:pt x="268" y="882"/>
                </a:lnTo>
                <a:lnTo>
                  <a:pt x="277" y="882"/>
                </a:lnTo>
                <a:lnTo>
                  <a:pt x="287" y="882"/>
                </a:lnTo>
                <a:lnTo>
                  <a:pt x="297" y="882"/>
                </a:lnTo>
                <a:lnTo>
                  <a:pt x="307" y="882"/>
                </a:lnTo>
                <a:lnTo>
                  <a:pt x="317" y="882"/>
                </a:lnTo>
                <a:lnTo>
                  <a:pt x="327" y="882"/>
                </a:lnTo>
                <a:lnTo>
                  <a:pt x="337" y="872"/>
                </a:lnTo>
                <a:lnTo>
                  <a:pt x="347" y="872"/>
                </a:lnTo>
                <a:lnTo>
                  <a:pt x="357" y="862"/>
                </a:lnTo>
                <a:lnTo>
                  <a:pt x="367" y="843"/>
                </a:lnTo>
                <a:lnTo>
                  <a:pt x="367" y="823"/>
                </a:lnTo>
                <a:lnTo>
                  <a:pt x="377" y="813"/>
                </a:lnTo>
                <a:lnTo>
                  <a:pt x="387" y="783"/>
                </a:lnTo>
                <a:lnTo>
                  <a:pt x="387" y="734"/>
                </a:lnTo>
                <a:lnTo>
                  <a:pt x="396" y="743"/>
                </a:lnTo>
                <a:lnTo>
                  <a:pt x="406" y="734"/>
                </a:lnTo>
                <a:lnTo>
                  <a:pt x="416" y="793"/>
                </a:lnTo>
                <a:lnTo>
                  <a:pt x="416" y="852"/>
                </a:lnTo>
                <a:lnTo>
                  <a:pt x="426" y="872"/>
                </a:lnTo>
                <a:lnTo>
                  <a:pt x="436" y="862"/>
                </a:lnTo>
                <a:lnTo>
                  <a:pt x="436" y="872"/>
                </a:lnTo>
                <a:lnTo>
                  <a:pt x="446" y="882"/>
                </a:lnTo>
                <a:lnTo>
                  <a:pt x="456" y="872"/>
                </a:lnTo>
                <a:lnTo>
                  <a:pt x="466" y="882"/>
                </a:lnTo>
                <a:lnTo>
                  <a:pt x="476" y="902"/>
                </a:lnTo>
                <a:lnTo>
                  <a:pt x="476" y="833"/>
                </a:lnTo>
                <a:lnTo>
                  <a:pt x="486" y="585"/>
                </a:lnTo>
                <a:lnTo>
                  <a:pt x="496" y="188"/>
                </a:lnTo>
                <a:lnTo>
                  <a:pt x="496" y="0"/>
                </a:lnTo>
                <a:lnTo>
                  <a:pt x="506" y="158"/>
                </a:lnTo>
                <a:lnTo>
                  <a:pt x="515" y="684"/>
                </a:lnTo>
                <a:lnTo>
                  <a:pt x="515" y="922"/>
                </a:lnTo>
                <a:lnTo>
                  <a:pt x="525" y="783"/>
                </a:lnTo>
                <a:lnTo>
                  <a:pt x="525" y="803"/>
                </a:lnTo>
                <a:lnTo>
                  <a:pt x="535" y="862"/>
                </a:lnTo>
                <a:lnTo>
                  <a:pt x="545" y="882"/>
                </a:lnTo>
                <a:lnTo>
                  <a:pt x="545" y="892"/>
                </a:lnTo>
                <a:lnTo>
                  <a:pt x="565" y="882"/>
                </a:lnTo>
                <a:lnTo>
                  <a:pt x="565" y="892"/>
                </a:lnTo>
                <a:lnTo>
                  <a:pt x="585" y="892"/>
                </a:lnTo>
                <a:lnTo>
                  <a:pt x="575" y="892"/>
                </a:lnTo>
                <a:lnTo>
                  <a:pt x="585" y="892"/>
                </a:lnTo>
                <a:lnTo>
                  <a:pt x="595" y="902"/>
                </a:lnTo>
                <a:lnTo>
                  <a:pt x="595" y="892"/>
                </a:lnTo>
                <a:lnTo>
                  <a:pt x="615" y="882"/>
                </a:lnTo>
                <a:lnTo>
                  <a:pt x="615" y="902"/>
                </a:lnTo>
                <a:lnTo>
                  <a:pt x="624" y="892"/>
                </a:lnTo>
                <a:lnTo>
                  <a:pt x="624" y="882"/>
                </a:lnTo>
                <a:lnTo>
                  <a:pt x="644" y="872"/>
                </a:lnTo>
                <a:lnTo>
                  <a:pt x="654" y="852"/>
                </a:lnTo>
                <a:lnTo>
                  <a:pt x="654" y="862"/>
                </a:lnTo>
                <a:lnTo>
                  <a:pt x="674" y="843"/>
                </a:lnTo>
                <a:lnTo>
                  <a:pt x="674" y="803"/>
                </a:lnTo>
                <a:lnTo>
                  <a:pt x="684" y="793"/>
                </a:lnTo>
                <a:lnTo>
                  <a:pt x="694" y="783"/>
                </a:lnTo>
                <a:lnTo>
                  <a:pt x="694" y="763"/>
                </a:lnTo>
                <a:lnTo>
                  <a:pt x="704" y="734"/>
                </a:lnTo>
                <a:lnTo>
                  <a:pt x="704" y="704"/>
                </a:lnTo>
                <a:lnTo>
                  <a:pt x="714" y="704"/>
                </a:lnTo>
                <a:lnTo>
                  <a:pt x="724" y="684"/>
                </a:lnTo>
                <a:lnTo>
                  <a:pt x="724" y="664"/>
                </a:lnTo>
                <a:lnTo>
                  <a:pt x="734" y="644"/>
                </a:lnTo>
                <a:lnTo>
                  <a:pt x="743" y="654"/>
                </a:lnTo>
                <a:lnTo>
                  <a:pt x="753" y="684"/>
                </a:lnTo>
                <a:lnTo>
                  <a:pt x="753" y="704"/>
                </a:lnTo>
                <a:lnTo>
                  <a:pt x="763" y="743"/>
                </a:lnTo>
                <a:lnTo>
                  <a:pt x="773" y="773"/>
                </a:lnTo>
                <a:lnTo>
                  <a:pt x="773" y="793"/>
                </a:lnTo>
                <a:lnTo>
                  <a:pt x="783" y="813"/>
                </a:lnTo>
                <a:lnTo>
                  <a:pt x="783" y="823"/>
                </a:lnTo>
                <a:lnTo>
                  <a:pt x="803" y="833"/>
                </a:lnTo>
                <a:lnTo>
                  <a:pt x="803" y="843"/>
                </a:lnTo>
                <a:lnTo>
                  <a:pt x="813" y="833"/>
                </a:lnTo>
                <a:lnTo>
                  <a:pt x="833" y="833"/>
                </a:lnTo>
                <a:lnTo>
                  <a:pt x="833" y="833"/>
                </a:lnTo>
                <a:lnTo>
                  <a:pt x="843" y="833"/>
                </a:lnTo>
                <a:lnTo>
                  <a:pt x="853" y="823"/>
                </a:lnTo>
                <a:lnTo>
                  <a:pt x="862" y="833"/>
                </a:lnTo>
                <a:lnTo>
                  <a:pt x="872" y="833"/>
                </a:lnTo>
                <a:lnTo>
                  <a:pt x="872" y="813"/>
                </a:lnTo>
                <a:lnTo>
                  <a:pt x="882" y="813"/>
                </a:lnTo>
                <a:lnTo>
                  <a:pt x="882" y="833"/>
                </a:lnTo>
                <a:lnTo>
                  <a:pt x="892" y="843"/>
                </a:lnTo>
                <a:lnTo>
                  <a:pt x="902" y="833"/>
                </a:lnTo>
                <a:lnTo>
                  <a:pt x="912" y="843"/>
                </a:lnTo>
                <a:lnTo>
                  <a:pt x="922" y="843"/>
                </a:lnTo>
                <a:lnTo>
                  <a:pt x="932" y="852"/>
                </a:lnTo>
                <a:lnTo>
                  <a:pt x="942" y="862"/>
                </a:lnTo>
                <a:lnTo>
                  <a:pt x="952" y="843"/>
                </a:lnTo>
                <a:lnTo>
                  <a:pt x="952" y="852"/>
                </a:lnTo>
                <a:lnTo>
                  <a:pt x="962" y="862"/>
                </a:lnTo>
                <a:lnTo>
                  <a:pt x="991" y="862"/>
                </a:lnTo>
                <a:lnTo>
                  <a:pt x="981" y="862"/>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2725560" y="3798720"/>
            <a:ext cx="608040" cy="636840"/>
          </a:xfrm>
          <a:custGeom>
            <a:avLst/>
            <a:gdLst/>
            <a:ahLst/>
            <a:rect l="l" t="t" r="r" b="b"/>
            <a:pathLst>
              <a:path w="942" h="942">
                <a:moveTo>
                  <a:pt x="0" y="842"/>
                </a:moveTo>
                <a:lnTo>
                  <a:pt x="10" y="842"/>
                </a:lnTo>
                <a:lnTo>
                  <a:pt x="20" y="832"/>
                </a:lnTo>
                <a:lnTo>
                  <a:pt x="40" y="842"/>
                </a:lnTo>
                <a:lnTo>
                  <a:pt x="30" y="842"/>
                </a:lnTo>
                <a:lnTo>
                  <a:pt x="40" y="842"/>
                </a:lnTo>
                <a:lnTo>
                  <a:pt x="50" y="832"/>
                </a:lnTo>
                <a:lnTo>
                  <a:pt x="50" y="842"/>
                </a:lnTo>
                <a:lnTo>
                  <a:pt x="60" y="823"/>
                </a:lnTo>
                <a:lnTo>
                  <a:pt x="70" y="793"/>
                </a:lnTo>
                <a:lnTo>
                  <a:pt x="70" y="773"/>
                </a:lnTo>
                <a:lnTo>
                  <a:pt x="90" y="714"/>
                </a:lnTo>
                <a:lnTo>
                  <a:pt x="80" y="714"/>
                </a:lnTo>
                <a:lnTo>
                  <a:pt x="90" y="714"/>
                </a:lnTo>
                <a:lnTo>
                  <a:pt x="100" y="714"/>
                </a:lnTo>
                <a:lnTo>
                  <a:pt x="100" y="743"/>
                </a:lnTo>
                <a:lnTo>
                  <a:pt x="109" y="793"/>
                </a:lnTo>
                <a:lnTo>
                  <a:pt x="109" y="842"/>
                </a:lnTo>
                <a:lnTo>
                  <a:pt x="119" y="852"/>
                </a:lnTo>
                <a:lnTo>
                  <a:pt x="129" y="862"/>
                </a:lnTo>
                <a:lnTo>
                  <a:pt x="139" y="862"/>
                </a:lnTo>
                <a:lnTo>
                  <a:pt x="149" y="872"/>
                </a:lnTo>
                <a:lnTo>
                  <a:pt x="159" y="862"/>
                </a:lnTo>
                <a:lnTo>
                  <a:pt x="169" y="852"/>
                </a:lnTo>
                <a:lnTo>
                  <a:pt x="179" y="872"/>
                </a:lnTo>
                <a:lnTo>
                  <a:pt x="179" y="882"/>
                </a:lnTo>
                <a:lnTo>
                  <a:pt x="189" y="694"/>
                </a:lnTo>
                <a:lnTo>
                  <a:pt x="199" y="287"/>
                </a:lnTo>
                <a:lnTo>
                  <a:pt x="199" y="0"/>
                </a:lnTo>
                <a:lnTo>
                  <a:pt x="209" y="138"/>
                </a:lnTo>
                <a:lnTo>
                  <a:pt x="209" y="684"/>
                </a:lnTo>
                <a:lnTo>
                  <a:pt x="219" y="912"/>
                </a:lnTo>
                <a:lnTo>
                  <a:pt x="228" y="783"/>
                </a:lnTo>
                <a:lnTo>
                  <a:pt x="228" y="803"/>
                </a:lnTo>
                <a:lnTo>
                  <a:pt x="238" y="862"/>
                </a:lnTo>
                <a:lnTo>
                  <a:pt x="248" y="852"/>
                </a:lnTo>
                <a:lnTo>
                  <a:pt x="248" y="862"/>
                </a:lnTo>
                <a:lnTo>
                  <a:pt x="258" y="872"/>
                </a:lnTo>
                <a:lnTo>
                  <a:pt x="268" y="862"/>
                </a:lnTo>
                <a:lnTo>
                  <a:pt x="278" y="872"/>
                </a:lnTo>
                <a:lnTo>
                  <a:pt x="278" y="882"/>
                </a:lnTo>
                <a:lnTo>
                  <a:pt x="298" y="882"/>
                </a:lnTo>
                <a:lnTo>
                  <a:pt x="288" y="882"/>
                </a:lnTo>
                <a:lnTo>
                  <a:pt x="298" y="882"/>
                </a:lnTo>
                <a:lnTo>
                  <a:pt x="308" y="872"/>
                </a:lnTo>
                <a:lnTo>
                  <a:pt x="318" y="862"/>
                </a:lnTo>
                <a:lnTo>
                  <a:pt x="328" y="872"/>
                </a:lnTo>
                <a:lnTo>
                  <a:pt x="338" y="862"/>
                </a:lnTo>
                <a:lnTo>
                  <a:pt x="338" y="842"/>
                </a:lnTo>
                <a:lnTo>
                  <a:pt x="347" y="842"/>
                </a:lnTo>
                <a:lnTo>
                  <a:pt x="357" y="832"/>
                </a:lnTo>
                <a:lnTo>
                  <a:pt x="357" y="813"/>
                </a:lnTo>
                <a:lnTo>
                  <a:pt x="367" y="803"/>
                </a:lnTo>
                <a:lnTo>
                  <a:pt x="377" y="783"/>
                </a:lnTo>
                <a:lnTo>
                  <a:pt x="377" y="763"/>
                </a:lnTo>
                <a:lnTo>
                  <a:pt x="387" y="733"/>
                </a:lnTo>
                <a:lnTo>
                  <a:pt x="387" y="704"/>
                </a:lnTo>
                <a:lnTo>
                  <a:pt x="397" y="684"/>
                </a:lnTo>
                <a:lnTo>
                  <a:pt x="407" y="684"/>
                </a:lnTo>
                <a:lnTo>
                  <a:pt x="407" y="644"/>
                </a:lnTo>
                <a:lnTo>
                  <a:pt x="417" y="634"/>
                </a:lnTo>
                <a:lnTo>
                  <a:pt x="427" y="654"/>
                </a:lnTo>
                <a:lnTo>
                  <a:pt x="437" y="654"/>
                </a:lnTo>
                <a:lnTo>
                  <a:pt x="437" y="674"/>
                </a:lnTo>
                <a:lnTo>
                  <a:pt x="447" y="723"/>
                </a:lnTo>
                <a:lnTo>
                  <a:pt x="457" y="763"/>
                </a:lnTo>
                <a:lnTo>
                  <a:pt x="457" y="783"/>
                </a:lnTo>
                <a:lnTo>
                  <a:pt x="466" y="813"/>
                </a:lnTo>
                <a:lnTo>
                  <a:pt x="466" y="842"/>
                </a:lnTo>
                <a:lnTo>
                  <a:pt x="476" y="852"/>
                </a:lnTo>
                <a:lnTo>
                  <a:pt x="486" y="862"/>
                </a:lnTo>
                <a:lnTo>
                  <a:pt x="496" y="872"/>
                </a:lnTo>
                <a:lnTo>
                  <a:pt x="506" y="872"/>
                </a:lnTo>
                <a:lnTo>
                  <a:pt x="516" y="872"/>
                </a:lnTo>
                <a:lnTo>
                  <a:pt x="526" y="872"/>
                </a:lnTo>
                <a:lnTo>
                  <a:pt x="536" y="852"/>
                </a:lnTo>
                <a:lnTo>
                  <a:pt x="546" y="862"/>
                </a:lnTo>
                <a:lnTo>
                  <a:pt x="566" y="842"/>
                </a:lnTo>
                <a:lnTo>
                  <a:pt x="556" y="842"/>
                </a:lnTo>
                <a:lnTo>
                  <a:pt x="566" y="862"/>
                </a:lnTo>
                <a:lnTo>
                  <a:pt x="575" y="862"/>
                </a:lnTo>
                <a:lnTo>
                  <a:pt x="585" y="852"/>
                </a:lnTo>
                <a:lnTo>
                  <a:pt x="595" y="862"/>
                </a:lnTo>
                <a:lnTo>
                  <a:pt x="605" y="862"/>
                </a:lnTo>
                <a:lnTo>
                  <a:pt x="615" y="852"/>
                </a:lnTo>
                <a:lnTo>
                  <a:pt x="615" y="872"/>
                </a:lnTo>
                <a:lnTo>
                  <a:pt x="625" y="872"/>
                </a:lnTo>
                <a:lnTo>
                  <a:pt x="635" y="862"/>
                </a:lnTo>
                <a:lnTo>
                  <a:pt x="645" y="872"/>
                </a:lnTo>
                <a:lnTo>
                  <a:pt x="655" y="872"/>
                </a:lnTo>
                <a:lnTo>
                  <a:pt x="665" y="872"/>
                </a:lnTo>
                <a:lnTo>
                  <a:pt x="675" y="882"/>
                </a:lnTo>
                <a:lnTo>
                  <a:pt x="685" y="862"/>
                </a:lnTo>
                <a:lnTo>
                  <a:pt x="694" y="852"/>
                </a:lnTo>
                <a:lnTo>
                  <a:pt x="694" y="832"/>
                </a:lnTo>
                <a:lnTo>
                  <a:pt x="704" y="813"/>
                </a:lnTo>
                <a:lnTo>
                  <a:pt x="714" y="803"/>
                </a:lnTo>
                <a:lnTo>
                  <a:pt x="714" y="783"/>
                </a:lnTo>
                <a:lnTo>
                  <a:pt x="724" y="743"/>
                </a:lnTo>
                <a:lnTo>
                  <a:pt x="724" y="733"/>
                </a:lnTo>
                <a:lnTo>
                  <a:pt x="734" y="743"/>
                </a:lnTo>
                <a:lnTo>
                  <a:pt x="744" y="753"/>
                </a:lnTo>
                <a:lnTo>
                  <a:pt x="744" y="803"/>
                </a:lnTo>
                <a:lnTo>
                  <a:pt x="754" y="852"/>
                </a:lnTo>
                <a:lnTo>
                  <a:pt x="774" y="882"/>
                </a:lnTo>
                <a:lnTo>
                  <a:pt x="774" y="892"/>
                </a:lnTo>
                <a:lnTo>
                  <a:pt x="784" y="882"/>
                </a:lnTo>
                <a:lnTo>
                  <a:pt x="794" y="892"/>
                </a:lnTo>
                <a:lnTo>
                  <a:pt x="804" y="872"/>
                </a:lnTo>
                <a:lnTo>
                  <a:pt x="813" y="882"/>
                </a:lnTo>
                <a:lnTo>
                  <a:pt x="813" y="902"/>
                </a:lnTo>
                <a:lnTo>
                  <a:pt x="823" y="902"/>
                </a:lnTo>
                <a:lnTo>
                  <a:pt x="823" y="753"/>
                </a:lnTo>
                <a:lnTo>
                  <a:pt x="833" y="406"/>
                </a:lnTo>
                <a:lnTo>
                  <a:pt x="843" y="59"/>
                </a:lnTo>
                <a:lnTo>
                  <a:pt x="843" y="79"/>
                </a:lnTo>
                <a:lnTo>
                  <a:pt x="853" y="545"/>
                </a:lnTo>
                <a:lnTo>
                  <a:pt x="863" y="942"/>
                </a:lnTo>
                <a:lnTo>
                  <a:pt x="863" y="832"/>
                </a:lnTo>
                <a:lnTo>
                  <a:pt x="873" y="813"/>
                </a:lnTo>
                <a:lnTo>
                  <a:pt x="873" y="872"/>
                </a:lnTo>
                <a:lnTo>
                  <a:pt x="883" y="882"/>
                </a:lnTo>
                <a:lnTo>
                  <a:pt x="893" y="892"/>
                </a:lnTo>
                <a:lnTo>
                  <a:pt x="903" y="882"/>
                </a:lnTo>
                <a:lnTo>
                  <a:pt x="913" y="882"/>
                </a:lnTo>
                <a:lnTo>
                  <a:pt x="923" y="892"/>
                </a:lnTo>
                <a:lnTo>
                  <a:pt x="932" y="882"/>
                </a:lnTo>
                <a:lnTo>
                  <a:pt x="942" y="882"/>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3333600" y="3811680"/>
            <a:ext cx="667080" cy="619200"/>
          </a:xfrm>
          <a:custGeom>
            <a:avLst/>
            <a:gdLst/>
            <a:ahLst/>
            <a:rect l="l" t="t" r="r" b="b"/>
            <a:pathLst>
              <a:path w="1031" h="913">
                <a:moveTo>
                  <a:pt x="0" y="863"/>
                </a:moveTo>
                <a:lnTo>
                  <a:pt x="10" y="853"/>
                </a:lnTo>
                <a:lnTo>
                  <a:pt x="20" y="853"/>
                </a:lnTo>
                <a:lnTo>
                  <a:pt x="30" y="843"/>
                </a:lnTo>
                <a:lnTo>
                  <a:pt x="40" y="833"/>
                </a:lnTo>
                <a:lnTo>
                  <a:pt x="50" y="823"/>
                </a:lnTo>
                <a:lnTo>
                  <a:pt x="60" y="804"/>
                </a:lnTo>
                <a:lnTo>
                  <a:pt x="60" y="784"/>
                </a:lnTo>
                <a:lnTo>
                  <a:pt x="70" y="784"/>
                </a:lnTo>
                <a:lnTo>
                  <a:pt x="80" y="774"/>
                </a:lnTo>
                <a:lnTo>
                  <a:pt x="80" y="744"/>
                </a:lnTo>
                <a:lnTo>
                  <a:pt x="90" y="704"/>
                </a:lnTo>
                <a:lnTo>
                  <a:pt x="99" y="685"/>
                </a:lnTo>
                <a:lnTo>
                  <a:pt x="109" y="655"/>
                </a:lnTo>
                <a:lnTo>
                  <a:pt x="109" y="635"/>
                </a:lnTo>
                <a:lnTo>
                  <a:pt x="119" y="635"/>
                </a:lnTo>
                <a:lnTo>
                  <a:pt x="129" y="615"/>
                </a:lnTo>
                <a:lnTo>
                  <a:pt x="139" y="635"/>
                </a:lnTo>
                <a:lnTo>
                  <a:pt x="139" y="675"/>
                </a:lnTo>
                <a:lnTo>
                  <a:pt x="149" y="704"/>
                </a:lnTo>
                <a:lnTo>
                  <a:pt x="159" y="734"/>
                </a:lnTo>
                <a:lnTo>
                  <a:pt x="159" y="764"/>
                </a:lnTo>
                <a:lnTo>
                  <a:pt x="169" y="794"/>
                </a:lnTo>
                <a:lnTo>
                  <a:pt x="189" y="823"/>
                </a:lnTo>
                <a:lnTo>
                  <a:pt x="189" y="843"/>
                </a:lnTo>
                <a:lnTo>
                  <a:pt x="199" y="843"/>
                </a:lnTo>
                <a:lnTo>
                  <a:pt x="209" y="843"/>
                </a:lnTo>
                <a:lnTo>
                  <a:pt x="218" y="853"/>
                </a:lnTo>
                <a:lnTo>
                  <a:pt x="228" y="843"/>
                </a:lnTo>
                <a:lnTo>
                  <a:pt x="248" y="843"/>
                </a:lnTo>
                <a:lnTo>
                  <a:pt x="238" y="843"/>
                </a:lnTo>
                <a:lnTo>
                  <a:pt x="248" y="843"/>
                </a:lnTo>
                <a:lnTo>
                  <a:pt x="258" y="833"/>
                </a:lnTo>
                <a:lnTo>
                  <a:pt x="258" y="823"/>
                </a:lnTo>
                <a:lnTo>
                  <a:pt x="268" y="833"/>
                </a:lnTo>
                <a:lnTo>
                  <a:pt x="268" y="823"/>
                </a:lnTo>
                <a:lnTo>
                  <a:pt x="298" y="823"/>
                </a:lnTo>
                <a:lnTo>
                  <a:pt x="288" y="823"/>
                </a:lnTo>
                <a:lnTo>
                  <a:pt x="298" y="823"/>
                </a:lnTo>
                <a:lnTo>
                  <a:pt x="308" y="823"/>
                </a:lnTo>
                <a:lnTo>
                  <a:pt x="318" y="843"/>
                </a:lnTo>
                <a:lnTo>
                  <a:pt x="328" y="843"/>
                </a:lnTo>
                <a:lnTo>
                  <a:pt x="337" y="843"/>
                </a:lnTo>
                <a:lnTo>
                  <a:pt x="347" y="853"/>
                </a:lnTo>
                <a:lnTo>
                  <a:pt x="357" y="843"/>
                </a:lnTo>
                <a:lnTo>
                  <a:pt x="367" y="853"/>
                </a:lnTo>
                <a:lnTo>
                  <a:pt x="377" y="843"/>
                </a:lnTo>
                <a:lnTo>
                  <a:pt x="387" y="853"/>
                </a:lnTo>
                <a:lnTo>
                  <a:pt x="397" y="863"/>
                </a:lnTo>
                <a:lnTo>
                  <a:pt x="397" y="853"/>
                </a:lnTo>
                <a:lnTo>
                  <a:pt x="407" y="843"/>
                </a:lnTo>
                <a:lnTo>
                  <a:pt x="417" y="853"/>
                </a:lnTo>
                <a:lnTo>
                  <a:pt x="427" y="813"/>
                </a:lnTo>
                <a:lnTo>
                  <a:pt x="437" y="784"/>
                </a:lnTo>
                <a:lnTo>
                  <a:pt x="456" y="704"/>
                </a:lnTo>
                <a:lnTo>
                  <a:pt x="456" y="704"/>
                </a:lnTo>
                <a:lnTo>
                  <a:pt x="466" y="724"/>
                </a:lnTo>
                <a:lnTo>
                  <a:pt x="466" y="734"/>
                </a:lnTo>
                <a:lnTo>
                  <a:pt x="476" y="754"/>
                </a:lnTo>
                <a:lnTo>
                  <a:pt x="486" y="823"/>
                </a:lnTo>
                <a:lnTo>
                  <a:pt x="486" y="853"/>
                </a:lnTo>
                <a:lnTo>
                  <a:pt x="506" y="863"/>
                </a:lnTo>
                <a:lnTo>
                  <a:pt x="516" y="873"/>
                </a:lnTo>
                <a:lnTo>
                  <a:pt x="526" y="863"/>
                </a:lnTo>
                <a:lnTo>
                  <a:pt x="536" y="873"/>
                </a:lnTo>
                <a:lnTo>
                  <a:pt x="546" y="873"/>
                </a:lnTo>
                <a:lnTo>
                  <a:pt x="556" y="883"/>
                </a:lnTo>
                <a:lnTo>
                  <a:pt x="565" y="734"/>
                </a:lnTo>
                <a:lnTo>
                  <a:pt x="565" y="357"/>
                </a:lnTo>
                <a:lnTo>
                  <a:pt x="575" y="0"/>
                </a:lnTo>
                <a:lnTo>
                  <a:pt x="575" y="30"/>
                </a:lnTo>
                <a:lnTo>
                  <a:pt x="585" y="506"/>
                </a:lnTo>
                <a:lnTo>
                  <a:pt x="595" y="913"/>
                </a:lnTo>
                <a:lnTo>
                  <a:pt x="595" y="794"/>
                </a:lnTo>
                <a:lnTo>
                  <a:pt x="605" y="764"/>
                </a:lnTo>
                <a:lnTo>
                  <a:pt x="615" y="853"/>
                </a:lnTo>
                <a:lnTo>
                  <a:pt x="615" y="873"/>
                </a:lnTo>
                <a:lnTo>
                  <a:pt x="625" y="863"/>
                </a:lnTo>
                <a:lnTo>
                  <a:pt x="635" y="863"/>
                </a:lnTo>
                <a:lnTo>
                  <a:pt x="645" y="863"/>
                </a:lnTo>
                <a:lnTo>
                  <a:pt x="655" y="863"/>
                </a:lnTo>
                <a:lnTo>
                  <a:pt x="665" y="873"/>
                </a:lnTo>
                <a:lnTo>
                  <a:pt x="675" y="863"/>
                </a:lnTo>
                <a:lnTo>
                  <a:pt x="684" y="863"/>
                </a:lnTo>
                <a:lnTo>
                  <a:pt x="694" y="863"/>
                </a:lnTo>
                <a:lnTo>
                  <a:pt x="704" y="853"/>
                </a:lnTo>
                <a:lnTo>
                  <a:pt x="714" y="843"/>
                </a:lnTo>
                <a:lnTo>
                  <a:pt x="724" y="813"/>
                </a:lnTo>
                <a:lnTo>
                  <a:pt x="734" y="813"/>
                </a:lnTo>
                <a:lnTo>
                  <a:pt x="744" y="794"/>
                </a:lnTo>
                <a:lnTo>
                  <a:pt x="744" y="774"/>
                </a:lnTo>
                <a:lnTo>
                  <a:pt x="754" y="754"/>
                </a:lnTo>
                <a:lnTo>
                  <a:pt x="754" y="734"/>
                </a:lnTo>
                <a:lnTo>
                  <a:pt x="764" y="714"/>
                </a:lnTo>
                <a:lnTo>
                  <a:pt x="774" y="685"/>
                </a:lnTo>
                <a:lnTo>
                  <a:pt x="774" y="655"/>
                </a:lnTo>
                <a:lnTo>
                  <a:pt x="784" y="635"/>
                </a:lnTo>
                <a:lnTo>
                  <a:pt x="794" y="625"/>
                </a:lnTo>
                <a:lnTo>
                  <a:pt x="794" y="605"/>
                </a:lnTo>
                <a:lnTo>
                  <a:pt x="803" y="595"/>
                </a:lnTo>
                <a:lnTo>
                  <a:pt x="803" y="615"/>
                </a:lnTo>
                <a:lnTo>
                  <a:pt x="813" y="635"/>
                </a:lnTo>
                <a:lnTo>
                  <a:pt x="823" y="665"/>
                </a:lnTo>
                <a:lnTo>
                  <a:pt x="823" y="695"/>
                </a:lnTo>
                <a:lnTo>
                  <a:pt x="833" y="734"/>
                </a:lnTo>
                <a:lnTo>
                  <a:pt x="843" y="784"/>
                </a:lnTo>
                <a:lnTo>
                  <a:pt x="853" y="804"/>
                </a:lnTo>
                <a:lnTo>
                  <a:pt x="853" y="813"/>
                </a:lnTo>
                <a:lnTo>
                  <a:pt x="863" y="833"/>
                </a:lnTo>
                <a:lnTo>
                  <a:pt x="873" y="823"/>
                </a:lnTo>
                <a:lnTo>
                  <a:pt x="873" y="833"/>
                </a:lnTo>
                <a:lnTo>
                  <a:pt x="883" y="843"/>
                </a:lnTo>
                <a:lnTo>
                  <a:pt x="893" y="833"/>
                </a:lnTo>
                <a:lnTo>
                  <a:pt x="913" y="833"/>
                </a:lnTo>
                <a:lnTo>
                  <a:pt x="913" y="833"/>
                </a:lnTo>
                <a:lnTo>
                  <a:pt x="932" y="813"/>
                </a:lnTo>
                <a:lnTo>
                  <a:pt x="922" y="813"/>
                </a:lnTo>
                <a:lnTo>
                  <a:pt x="932" y="833"/>
                </a:lnTo>
                <a:lnTo>
                  <a:pt x="942" y="813"/>
                </a:lnTo>
                <a:lnTo>
                  <a:pt x="952" y="823"/>
                </a:lnTo>
                <a:lnTo>
                  <a:pt x="962" y="833"/>
                </a:lnTo>
                <a:lnTo>
                  <a:pt x="972" y="823"/>
                </a:lnTo>
                <a:lnTo>
                  <a:pt x="982" y="833"/>
                </a:lnTo>
                <a:lnTo>
                  <a:pt x="992" y="843"/>
                </a:lnTo>
                <a:lnTo>
                  <a:pt x="1002" y="833"/>
                </a:lnTo>
                <a:lnTo>
                  <a:pt x="1012" y="833"/>
                </a:lnTo>
                <a:lnTo>
                  <a:pt x="1022" y="833"/>
                </a:lnTo>
                <a:lnTo>
                  <a:pt x="1031" y="853"/>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4000680" y="3825720"/>
            <a:ext cx="620640" cy="623880"/>
          </a:xfrm>
          <a:custGeom>
            <a:avLst/>
            <a:gdLst/>
            <a:ahLst/>
            <a:rect l="l" t="t" r="r" b="b"/>
            <a:pathLst>
              <a:path w="962" h="922">
                <a:moveTo>
                  <a:pt x="0" y="833"/>
                </a:moveTo>
                <a:lnTo>
                  <a:pt x="10" y="823"/>
                </a:lnTo>
                <a:lnTo>
                  <a:pt x="20" y="813"/>
                </a:lnTo>
                <a:lnTo>
                  <a:pt x="20" y="823"/>
                </a:lnTo>
                <a:lnTo>
                  <a:pt x="40" y="813"/>
                </a:lnTo>
                <a:lnTo>
                  <a:pt x="30" y="813"/>
                </a:lnTo>
                <a:lnTo>
                  <a:pt x="40" y="813"/>
                </a:lnTo>
                <a:lnTo>
                  <a:pt x="50" y="823"/>
                </a:lnTo>
                <a:lnTo>
                  <a:pt x="60" y="803"/>
                </a:lnTo>
                <a:lnTo>
                  <a:pt x="70" y="793"/>
                </a:lnTo>
                <a:lnTo>
                  <a:pt x="80" y="774"/>
                </a:lnTo>
                <a:lnTo>
                  <a:pt x="80" y="744"/>
                </a:lnTo>
                <a:lnTo>
                  <a:pt x="90" y="724"/>
                </a:lnTo>
                <a:lnTo>
                  <a:pt x="100" y="694"/>
                </a:lnTo>
                <a:lnTo>
                  <a:pt x="110" y="694"/>
                </a:lnTo>
                <a:lnTo>
                  <a:pt x="119" y="704"/>
                </a:lnTo>
                <a:lnTo>
                  <a:pt x="119" y="774"/>
                </a:lnTo>
                <a:lnTo>
                  <a:pt x="129" y="823"/>
                </a:lnTo>
                <a:lnTo>
                  <a:pt x="139" y="833"/>
                </a:lnTo>
                <a:lnTo>
                  <a:pt x="149" y="843"/>
                </a:lnTo>
                <a:lnTo>
                  <a:pt x="159" y="833"/>
                </a:lnTo>
                <a:lnTo>
                  <a:pt x="169" y="843"/>
                </a:lnTo>
                <a:lnTo>
                  <a:pt x="179" y="853"/>
                </a:lnTo>
                <a:lnTo>
                  <a:pt x="179" y="833"/>
                </a:lnTo>
                <a:lnTo>
                  <a:pt x="189" y="833"/>
                </a:lnTo>
                <a:lnTo>
                  <a:pt x="199" y="873"/>
                </a:lnTo>
                <a:lnTo>
                  <a:pt x="199" y="793"/>
                </a:lnTo>
                <a:lnTo>
                  <a:pt x="209" y="486"/>
                </a:lnTo>
                <a:lnTo>
                  <a:pt x="209" y="90"/>
                </a:lnTo>
                <a:lnTo>
                  <a:pt x="219" y="0"/>
                </a:lnTo>
                <a:lnTo>
                  <a:pt x="229" y="347"/>
                </a:lnTo>
                <a:lnTo>
                  <a:pt x="229" y="873"/>
                </a:lnTo>
                <a:lnTo>
                  <a:pt x="238" y="843"/>
                </a:lnTo>
                <a:lnTo>
                  <a:pt x="248" y="744"/>
                </a:lnTo>
                <a:lnTo>
                  <a:pt x="248" y="823"/>
                </a:lnTo>
                <a:lnTo>
                  <a:pt x="258" y="833"/>
                </a:lnTo>
                <a:lnTo>
                  <a:pt x="268" y="853"/>
                </a:lnTo>
                <a:lnTo>
                  <a:pt x="278" y="853"/>
                </a:lnTo>
                <a:lnTo>
                  <a:pt x="288" y="863"/>
                </a:lnTo>
                <a:lnTo>
                  <a:pt x="298" y="863"/>
                </a:lnTo>
                <a:lnTo>
                  <a:pt x="308" y="853"/>
                </a:lnTo>
                <a:lnTo>
                  <a:pt x="318" y="853"/>
                </a:lnTo>
                <a:lnTo>
                  <a:pt x="328" y="863"/>
                </a:lnTo>
                <a:lnTo>
                  <a:pt x="328" y="843"/>
                </a:lnTo>
                <a:lnTo>
                  <a:pt x="338" y="843"/>
                </a:lnTo>
                <a:lnTo>
                  <a:pt x="348" y="843"/>
                </a:lnTo>
                <a:lnTo>
                  <a:pt x="357" y="833"/>
                </a:lnTo>
                <a:lnTo>
                  <a:pt x="357" y="803"/>
                </a:lnTo>
                <a:lnTo>
                  <a:pt x="367" y="813"/>
                </a:lnTo>
                <a:lnTo>
                  <a:pt x="377" y="803"/>
                </a:lnTo>
                <a:lnTo>
                  <a:pt x="377" y="784"/>
                </a:lnTo>
                <a:lnTo>
                  <a:pt x="387" y="754"/>
                </a:lnTo>
                <a:lnTo>
                  <a:pt x="387" y="734"/>
                </a:lnTo>
                <a:lnTo>
                  <a:pt x="397" y="724"/>
                </a:lnTo>
                <a:lnTo>
                  <a:pt x="407" y="684"/>
                </a:lnTo>
                <a:lnTo>
                  <a:pt x="407" y="655"/>
                </a:lnTo>
                <a:lnTo>
                  <a:pt x="417" y="645"/>
                </a:lnTo>
                <a:lnTo>
                  <a:pt x="427" y="635"/>
                </a:lnTo>
                <a:lnTo>
                  <a:pt x="427" y="615"/>
                </a:lnTo>
                <a:lnTo>
                  <a:pt x="437" y="605"/>
                </a:lnTo>
                <a:lnTo>
                  <a:pt x="447" y="625"/>
                </a:lnTo>
                <a:lnTo>
                  <a:pt x="457" y="645"/>
                </a:lnTo>
                <a:lnTo>
                  <a:pt x="457" y="684"/>
                </a:lnTo>
                <a:lnTo>
                  <a:pt x="466" y="724"/>
                </a:lnTo>
                <a:lnTo>
                  <a:pt x="466" y="764"/>
                </a:lnTo>
                <a:lnTo>
                  <a:pt x="476" y="784"/>
                </a:lnTo>
                <a:lnTo>
                  <a:pt x="486" y="803"/>
                </a:lnTo>
                <a:lnTo>
                  <a:pt x="486" y="823"/>
                </a:lnTo>
                <a:lnTo>
                  <a:pt x="496" y="833"/>
                </a:lnTo>
                <a:lnTo>
                  <a:pt x="506" y="833"/>
                </a:lnTo>
                <a:lnTo>
                  <a:pt x="516" y="853"/>
                </a:lnTo>
                <a:lnTo>
                  <a:pt x="526" y="843"/>
                </a:lnTo>
                <a:lnTo>
                  <a:pt x="536" y="833"/>
                </a:lnTo>
                <a:lnTo>
                  <a:pt x="536" y="853"/>
                </a:lnTo>
                <a:lnTo>
                  <a:pt x="546" y="843"/>
                </a:lnTo>
                <a:lnTo>
                  <a:pt x="556" y="833"/>
                </a:lnTo>
                <a:lnTo>
                  <a:pt x="566" y="843"/>
                </a:lnTo>
                <a:lnTo>
                  <a:pt x="566" y="833"/>
                </a:lnTo>
                <a:lnTo>
                  <a:pt x="595" y="833"/>
                </a:lnTo>
                <a:lnTo>
                  <a:pt x="585" y="833"/>
                </a:lnTo>
                <a:lnTo>
                  <a:pt x="595" y="823"/>
                </a:lnTo>
                <a:lnTo>
                  <a:pt x="605" y="823"/>
                </a:lnTo>
                <a:lnTo>
                  <a:pt x="615" y="833"/>
                </a:lnTo>
                <a:lnTo>
                  <a:pt x="625" y="833"/>
                </a:lnTo>
                <a:lnTo>
                  <a:pt x="635" y="823"/>
                </a:lnTo>
                <a:lnTo>
                  <a:pt x="635" y="843"/>
                </a:lnTo>
                <a:lnTo>
                  <a:pt x="645" y="843"/>
                </a:lnTo>
                <a:lnTo>
                  <a:pt x="655" y="833"/>
                </a:lnTo>
                <a:lnTo>
                  <a:pt x="665" y="843"/>
                </a:lnTo>
                <a:lnTo>
                  <a:pt x="675" y="843"/>
                </a:lnTo>
                <a:lnTo>
                  <a:pt x="685" y="853"/>
                </a:lnTo>
                <a:lnTo>
                  <a:pt x="695" y="843"/>
                </a:lnTo>
                <a:lnTo>
                  <a:pt x="695" y="833"/>
                </a:lnTo>
                <a:lnTo>
                  <a:pt x="704" y="813"/>
                </a:lnTo>
                <a:lnTo>
                  <a:pt x="714" y="803"/>
                </a:lnTo>
                <a:lnTo>
                  <a:pt x="724" y="774"/>
                </a:lnTo>
                <a:lnTo>
                  <a:pt x="734" y="724"/>
                </a:lnTo>
                <a:lnTo>
                  <a:pt x="734" y="714"/>
                </a:lnTo>
                <a:lnTo>
                  <a:pt x="744" y="724"/>
                </a:lnTo>
                <a:lnTo>
                  <a:pt x="754" y="754"/>
                </a:lnTo>
                <a:lnTo>
                  <a:pt x="774" y="853"/>
                </a:lnTo>
                <a:lnTo>
                  <a:pt x="764" y="853"/>
                </a:lnTo>
                <a:lnTo>
                  <a:pt x="774" y="853"/>
                </a:lnTo>
                <a:lnTo>
                  <a:pt x="784" y="863"/>
                </a:lnTo>
                <a:lnTo>
                  <a:pt x="804" y="863"/>
                </a:lnTo>
                <a:lnTo>
                  <a:pt x="804" y="863"/>
                </a:lnTo>
                <a:lnTo>
                  <a:pt x="814" y="873"/>
                </a:lnTo>
                <a:lnTo>
                  <a:pt x="823" y="863"/>
                </a:lnTo>
                <a:lnTo>
                  <a:pt x="823" y="873"/>
                </a:lnTo>
                <a:lnTo>
                  <a:pt x="833" y="863"/>
                </a:lnTo>
                <a:lnTo>
                  <a:pt x="843" y="704"/>
                </a:lnTo>
                <a:lnTo>
                  <a:pt x="843" y="337"/>
                </a:lnTo>
                <a:lnTo>
                  <a:pt x="853" y="30"/>
                </a:lnTo>
                <a:lnTo>
                  <a:pt x="863" y="70"/>
                </a:lnTo>
                <a:lnTo>
                  <a:pt x="863" y="516"/>
                </a:lnTo>
                <a:lnTo>
                  <a:pt x="873" y="922"/>
                </a:lnTo>
                <a:lnTo>
                  <a:pt x="873" y="813"/>
                </a:lnTo>
                <a:lnTo>
                  <a:pt x="883" y="784"/>
                </a:lnTo>
                <a:lnTo>
                  <a:pt x="893" y="853"/>
                </a:lnTo>
                <a:lnTo>
                  <a:pt x="893" y="873"/>
                </a:lnTo>
                <a:lnTo>
                  <a:pt x="903" y="863"/>
                </a:lnTo>
                <a:lnTo>
                  <a:pt x="903" y="873"/>
                </a:lnTo>
                <a:lnTo>
                  <a:pt x="913" y="893"/>
                </a:lnTo>
                <a:lnTo>
                  <a:pt x="932" y="873"/>
                </a:lnTo>
                <a:lnTo>
                  <a:pt x="942" y="883"/>
                </a:lnTo>
                <a:lnTo>
                  <a:pt x="942" y="873"/>
                </a:lnTo>
                <a:lnTo>
                  <a:pt x="952" y="863"/>
                </a:lnTo>
                <a:lnTo>
                  <a:pt x="962" y="873"/>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4621320" y="3811680"/>
            <a:ext cx="620640" cy="603000"/>
          </a:xfrm>
          <a:custGeom>
            <a:avLst/>
            <a:gdLst/>
            <a:ahLst/>
            <a:rect l="l" t="t" r="r" b="b"/>
            <a:pathLst>
              <a:path w="962" h="893">
                <a:moveTo>
                  <a:pt x="0" y="893"/>
                </a:moveTo>
                <a:lnTo>
                  <a:pt x="20" y="873"/>
                </a:lnTo>
                <a:lnTo>
                  <a:pt x="10" y="873"/>
                </a:lnTo>
                <a:lnTo>
                  <a:pt x="20" y="873"/>
                </a:lnTo>
                <a:lnTo>
                  <a:pt x="30" y="883"/>
                </a:lnTo>
                <a:lnTo>
                  <a:pt x="30" y="863"/>
                </a:lnTo>
                <a:lnTo>
                  <a:pt x="50" y="843"/>
                </a:lnTo>
                <a:lnTo>
                  <a:pt x="40" y="843"/>
                </a:lnTo>
                <a:lnTo>
                  <a:pt x="50" y="843"/>
                </a:lnTo>
                <a:lnTo>
                  <a:pt x="60" y="823"/>
                </a:lnTo>
                <a:lnTo>
                  <a:pt x="60" y="804"/>
                </a:lnTo>
                <a:lnTo>
                  <a:pt x="70" y="794"/>
                </a:lnTo>
                <a:lnTo>
                  <a:pt x="80" y="784"/>
                </a:lnTo>
                <a:lnTo>
                  <a:pt x="80" y="754"/>
                </a:lnTo>
                <a:lnTo>
                  <a:pt x="89" y="724"/>
                </a:lnTo>
                <a:lnTo>
                  <a:pt x="89" y="714"/>
                </a:lnTo>
                <a:lnTo>
                  <a:pt x="99" y="685"/>
                </a:lnTo>
                <a:lnTo>
                  <a:pt x="109" y="655"/>
                </a:lnTo>
                <a:lnTo>
                  <a:pt x="109" y="645"/>
                </a:lnTo>
                <a:lnTo>
                  <a:pt x="119" y="625"/>
                </a:lnTo>
                <a:lnTo>
                  <a:pt x="119" y="635"/>
                </a:lnTo>
                <a:lnTo>
                  <a:pt x="129" y="625"/>
                </a:lnTo>
                <a:lnTo>
                  <a:pt x="139" y="635"/>
                </a:lnTo>
                <a:lnTo>
                  <a:pt x="139" y="685"/>
                </a:lnTo>
                <a:lnTo>
                  <a:pt x="149" y="714"/>
                </a:lnTo>
                <a:lnTo>
                  <a:pt x="159" y="744"/>
                </a:lnTo>
                <a:lnTo>
                  <a:pt x="159" y="774"/>
                </a:lnTo>
                <a:lnTo>
                  <a:pt x="169" y="813"/>
                </a:lnTo>
                <a:lnTo>
                  <a:pt x="169" y="833"/>
                </a:lnTo>
                <a:lnTo>
                  <a:pt x="189" y="843"/>
                </a:lnTo>
                <a:lnTo>
                  <a:pt x="189" y="863"/>
                </a:lnTo>
                <a:lnTo>
                  <a:pt x="199" y="873"/>
                </a:lnTo>
                <a:lnTo>
                  <a:pt x="208" y="863"/>
                </a:lnTo>
                <a:lnTo>
                  <a:pt x="218" y="873"/>
                </a:lnTo>
                <a:lnTo>
                  <a:pt x="228" y="863"/>
                </a:lnTo>
                <a:lnTo>
                  <a:pt x="238" y="853"/>
                </a:lnTo>
                <a:lnTo>
                  <a:pt x="248" y="863"/>
                </a:lnTo>
                <a:lnTo>
                  <a:pt x="248" y="853"/>
                </a:lnTo>
                <a:lnTo>
                  <a:pt x="258" y="843"/>
                </a:lnTo>
                <a:lnTo>
                  <a:pt x="278" y="843"/>
                </a:lnTo>
                <a:lnTo>
                  <a:pt x="268" y="843"/>
                </a:lnTo>
                <a:lnTo>
                  <a:pt x="278" y="843"/>
                </a:lnTo>
                <a:lnTo>
                  <a:pt x="288" y="833"/>
                </a:lnTo>
                <a:lnTo>
                  <a:pt x="298" y="843"/>
                </a:lnTo>
                <a:lnTo>
                  <a:pt x="308" y="843"/>
                </a:lnTo>
                <a:lnTo>
                  <a:pt x="318" y="853"/>
                </a:lnTo>
                <a:lnTo>
                  <a:pt x="327" y="853"/>
                </a:lnTo>
                <a:lnTo>
                  <a:pt x="337" y="833"/>
                </a:lnTo>
                <a:lnTo>
                  <a:pt x="337" y="853"/>
                </a:lnTo>
                <a:lnTo>
                  <a:pt x="347" y="863"/>
                </a:lnTo>
                <a:lnTo>
                  <a:pt x="357" y="853"/>
                </a:lnTo>
                <a:lnTo>
                  <a:pt x="367" y="863"/>
                </a:lnTo>
                <a:lnTo>
                  <a:pt x="377" y="853"/>
                </a:lnTo>
                <a:lnTo>
                  <a:pt x="387" y="863"/>
                </a:lnTo>
                <a:lnTo>
                  <a:pt x="397" y="863"/>
                </a:lnTo>
                <a:lnTo>
                  <a:pt x="407" y="853"/>
                </a:lnTo>
                <a:lnTo>
                  <a:pt x="417" y="863"/>
                </a:lnTo>
                <a:lnTo>
                  <a:pt x="427" y="853"/>
                </a:lnTo>
                <a:lnTo>
                  <a:pt x="427" y="843"/>
                </a:lnTo>
                <a:lnTo>
                  <a:pt x="446" y="853"/>
                </a:lnTo>
                <a:lnTo>
                  <a:pt x="446" y="823"/>
                </a:lnTo>
                <a:lnTo>
                  <a:pt x="456" y="794"/>
                </a:lnTo>
                <a:lnTo>
                  <a:pt x="466" y="794"/>
                </a:lnTo>
                <a:lnTo>
                  <a:pt x="466" y="774"/>
                </a:lnTo>
                <a:lnTo>
                  <a:pt x="476" y="724"/>
                </a:lnTo>
                <a:lnTo>
                  <a:pt x="476" y="695"/>
                </a:lnTo>
                <a:lnTo>
                  <a:pt x="486" y="724"/>
                </a:lnTo>
                <a:lnTo>
                  <a:pt x="496" y="744"/>
                </a:lnTo>
                <a:lnTo>
                  <a:pt x="496" y="764"/>
                </a:lnTo>
                <a:lnTo>
                  <a:pt x="506" y="823"/>
                </a:lnTo>
                <a:lnTo>
                  <a:pt x="516" y="863"/>
                </a:lnTo>
                <a:lnTo>
                  <a:pt x="526" y="863"/>
                </a:lnTo>
                <a:lnTo>
                  <a:pt x="536" y="863"/>
                </a:lnTo>
                <a:lnTo>
                  <a:pt x="546" y="863"/>
                </a:lnTo>
                <a:lnTo>
                  <a:pt x="555" y="863"/>
                </a:lnTo>
                <a:lnTo>
                  <a:pt x="565" y="863"/>
                </a:lnTo>
                <a:lnTo>
                  <a:pt x="575" y="883"/>
                </a:lnTo>
                <a:lnTo>
                  <a:pt x="575" y="813"/>
                </a:lnTo>
                <a:lnTo>
                  <a:pt x="585" y="506"/>
                </a:lnTo>
                <a:lnTo>
                  <a:pt x="595" y="90"/>
                </a:lnTo>
                <a:lnTo>
                  <a:pt x="595" y="0"/>
                </a:lnTo>
                <a:lnTo>
                  <a:pt x="605" y="338"/>
                </a:lnTo>
                <a:lnTo>
                  <a:pt x="605" y="863"/>
                </a:lnTo>
                <a:lnTo>
                  <a:pt x="615" y="843"/>
                </a:lnTo>
                <a:lnTo>
                  <a:pt x="625" y="754"/>
                </a:lnTo>
                <a:lnTo>
                  <a:pt x="625" y="813"/>
                </a:lnTo>
                <a:lnTo>
                  <a:pt x="635" y="853"/>
                </a:lnTo>
                <a:lnTo>
                  <a:pt x="645" y="853"/>
                </a:lnTo>
                <a:lnTo>
                  <a:pt x="655" y="863"/>
                </a:lnTo>
                <a:lnTo>
                  <a:pt x="665" y="863"/>
                </a:lnTo>
                <a:lnTo>
                  <a:pt x="674" y="863"/>
                </a:lnTo>
                <a:lnTo>
                  <a:pt x="684" y="863"/>
                </a:lnTo>
                <a:lnTo>
                  <a:pt x="694" y="863"/>
                </a:lnTo>
                <a:lnTo>
                  <a:pt x="704" y="853"/>
                </a:lnTo>
                <a:lnTo>
                  <a:pt x="704" y="863"/>
                </a:lnTo>
                <a:lnTo>
                  <a:pt x="714" y="873"/>
                </a:lnTo>
                <a:lnTo>
                  <a:pt x="734" y="843"/>
                </a:lnTo>
                <a:lnTo>
                  <a:pt x="734" y="833"/>
                </a:lnTo>
                <a:lnTo>
                  <a:pt x="744" y="823"/>
                </a:lnTo>
                <a:lnTo>
                  <a:pt x="754" y="804"/>
                </a:lnTo>
                <a:lnTo>
                  <a:pt x="754" y="794"/>
                </a:lnTo>
                <a:lnTo>
                  <a:pt x="764" y="784"/>
                </a:lnTo>
                <a:lnTo>
                  <a:pt x="774" y="754"/>
                </a:lnTo>
                <a:lnTo>
                  <a:pt x="774" y="724"/>
                </a:lnTo>
                <a:lnTo>
                  <a:pt x="783" y="704"/>
                </a:lnTo>
                <a:lnTo>
                  <a:pt x="783" y="695"/>
                </a:lnTo>
                <a:lnTo>
                  <a:pt x="793" y="655"/>
                </a:lnTo>
                <a:lnTo>
                  <a:pt x="803" y="635"/>
                </a:lnTo>
                <a:lnTo>
                  <a:pt x="803" y="625"/>
                </a:lnTo>
                <a:lnTo>
                  <a:pt x="813" y="605"/>
                </a:lnTo>
                <a:lnTo>
                  <a:pt x="823" y="595"/>
                </a:lnTo>
                <a:lnTo>
                  <a:pt x="823" y="585"/>
                </a:lnTo>
                <a:lnTo>
                  <a:pt x="833" y="615"/>
                </a:lnTo>
                <a:lnTo>
                  <a:pt x="833" y="655"/>
                </a:lnTo>
                <a:lnTo>
                  <a:pt x="843" y="675"/>
                </a:lnTo>
                <a:lnTo>
                  <a:pt x="853" y="704"/>
                </a:lnTo>
                <a:lnTo>
                  <a:pt x="853" y="744"/>
                </a:lnTo>
                <a:lnTo>
                  <a:pt x="863" y="784"/>
                </a:lnTo>
                <a:lnTo>
                  <a:pt x="863" y="794"/>
                </a:lnTo>
                <a:lnTo>
                  <a:pt x="873" y="804"/>
                </a:lnTo>
                <a:lnTo>
                  <a:pt x="893" y="823"/>
                </a:lnTo>
                <a:lnTo>
                  <a:pt x="902" y="833"/>
                </a:lnTo>
                <a:lnTo>
                  <a:pt x="912" y="823"/>
                </a:lnTo>
                <a:lnTo>
                  <a:pt x="922" y="813"/>
                </a:lnTo>
                <a:lnTo>
                  <a:pt x="932" y="823"/>
                </a:lnTo>
                <a:lnTo>
                  <a:pt x="942" y="813"/>
                </a:lnTo>
                <a:lnTo>
                  <a:pt x="962" y="813"/>
                </a:lnTo>
                <a:lnTo>
                  <a:pt x="952" y="813"/>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5237280" y="3786120"/>
            <a:ext cx="644400" cy="644760"/>
          </a:xfrm>
          <a:custGeom>
            <a:avLst/>
            <a:gdLst/>
            <a:ahLst/>
            <a:rect l="l" t="t" r="r" b="b"/>
            <a:pathLst>
              <a:path w="1001" h="952">
                <a:moveTo>
                  <a:pt x="0" y="852"/>
                </a:moveTo>
                <a:lnTo>
                  <a:pt x="10" y="843"/>
                </a:lnTo>
                <a:lnTo>
                  <a:pt x="20" y="843"/>
                </a:lnTo>
                <a:lnTo>
                  <a:pt x="30" y="852"/>
                </a:lnTo>
                <a:lnTo>
                  <a:pt x="40" y="852"/>
                </a:lnTo>
                <a:lnTo>
                  <a:pt x="50" y="843"/>
                </a:lnTo>
                <a:lnTo>
                  <a:pt x="50" y="862"/>
                </a:lnTo>
                <a:lnTo>
                  <a:pt x="60" y="862"/>
                </a:lnTo>
                <a:lnTo>
                  <a:pt x="69" y="862"/>
                </a:lnTo>
                <a:lnTo>
                  <a:pt x="79" y="872"/>
                </a:lnTo>
                <a:lnTo>
                  <a:pt x="89" y="862"/>
                </a:lnTo>
                <a:lnTo>
                  <a:pt x="99" y="872"/>
                </a:lnTo>
                <a:lnTo>
                  <a:pt x="109" y="872"/>
                </a:lnTo>
                <a:lnTo>
                  <a:pt x="119" y="862"/>
                </a:lnTo>
                <a:lnTo>
                  <a:pt x="129" y="862"/>
                </a:lnTo>
                <a:lnTo>
                  <a:pt x="129" y="882"/>
                </a:lnTo>
                <a:lnTo>
                  <a:pt x="139" y="872"/>
                </a:lnTo>
                <a:lnTo>
                  <a:pt x="149" y="882"/>
                </a:lnTo>
                <a:lnTo>
                  <a:pt x="159" y="882"/>
                </a:lnTo>
                <a:lnTo>
                  <a:pt x="169" y="862"/>
                </a:lnTo>
                <a:lnTo>
                  <a:pt x="179" y="862"/>
                </a:lnTo>
                <a:lnTo>
                  <a:pt x="188" y="833"/>
                </a:lnTo>
                <a:lnTo>
                  <a:pt x="188" y="813"/>
                </a:lnTo>
                <a:lnTo>
                  <a:pt x="198" y="803"/>
                </a:lnTo>
                <a:lnTo>
                  <a:pt x="208" y="753"/>
                </a:lnTo>
                <a:lnTo>
                  <a:pt x="208" y="734"/>
                </a:lnTo>
                <a:lnTo>
                  <a:pt x="218" y="753"/>
                </a:lnTo>
                <a:lnTo>
                  <a:pt x="228" y="793"/>
                </a:lnTo>
                <a:lnTo>
                  <a:pt x="238" y="843"/>
                </a:lnTo>
                <a:lnTo>
                  <a:pt x="238" y="872"/>
                </a:lnTo>
                <a:lnTo>
                  <a:pt x="248" y="882"/>
                </a:lnTo>
                <a:lnTo>
                  <a:pt x="258" y="892"/>
                </a:lnTo>
                <a:lnTo>
                  <a:pt x="268" y="892"/>
                </a:lnTo>
                <a:lnTo>
                  <a:pt x="278" y="902"/>
                </a:lnTo>
                <a:lnTo>
                  <a:pt x="288" y="892"/>
                </a:lnTo>
                <a:lnTo>
                  <a:pt x="297" y="892"/>
                </a:lnTo>
                <a:lnTo>
                  <a:pt x="307" y="902"/>
                </a:lnTo>
                <a:lnTo>
                  <a:pt x="307" y="922"/>
                </a:lnTo>
                <a:lnTo>
                  <a:pt x="317" y="833"/>
                </a:lnTo>
                <a:lnTo>
                  <a:pt x="317" y="535"/>
                </a:lnTo>
                <a:lnTo>
                  <a:pt x="327" y="139"/>
                </a:lnTo>
                <a:lnTo>
                  <a:pt x="337" y="49"/>
                </a:lnTo>
                <a:lnTo>
                  <a:pt x="337" y="466"/>
                </a:lnTo>
                <a:lnTo>
                  <a:pt x="347" y="952"/>
                </a:lnTo>
                <a:lnTo>
                  <a:pt x="357" y="872"/>
                </a:lnTo>
                <a:lnTo>
                  <a:pt x="357" y="803"/>
                </a:lnTo>
                <a:lnTo>
                  <a:pt x="367" y="872"/>
                </a:lnTo>
                <a:lnTo>
                  <a:pt x="367" y="902"/>
                </a:lnTo>
                <a:lnTo>
                  <a:pt x="377" y="912"/>
                </a:lnTo>
                <a:lnTo>
                  <a:pt x="387" y="902"/>
                </a:lnTo>
                <a:lnTo>
                  <a:pt x="397" y="922"/>
                </a:lnTo>
                <a:lnTo>
                  <a:pt x="407" y="902"/>
                </a:lnTo>
                <a:lnTo>
                  <a:pt x="416" y="902"/>
                </a:lnTo>
                <a:lnTo>
                  <a:pt x="426" y="912"/>
                </a:lnTo>
                <a:lnTo>
                  <a:pt x="436" y="902"/>
                </a:lnTo>
                <a:lnTo>
                  <a:pt x="446" y="902"/>
                </a:lnTo>
                <a:lnTo>
                  <a:pt x="456" y="892"/>
                </a:lnTo>
                <a:lnTo>
                  <a:pt x="466" y="882"/>
                </a:lnTo>
                <a:lnTo>
                  <a:pt x="476" y="882"/>
                </a:lnTo>
                <a:lnTo>
                  <a:pt x="486" y="862"/>
                </a:lnTo>
                <a:lnTo>
                  <a:pt x="486" y="843"/>
                </a:lnTo>
                <a:lnTo>
                  <a:pt x="496" y="833"/>
                </a:lnTo>
                <a:lnTo>
                  <a:pt x="506" y="793"/>
                </a:lnTo>
                <a:lnTo>
                  <a:pt x="516" y="763"/>
                </a:lnTo>
                <a:lnTo>
                  <a:pt x="516" y="743"/>
                </a:lnTo>
                <a:lnTo>
                  <a:pt x="526" y="734"/>
                </a:lnTo>
                <a:lnTo>
                  <a:pt x="526" y="704"/>
                </a:lnTo>
                <a:lnTo>
                  <a:pt x="535" y="664"/>
                </a:lnTo>
                <a:lnTo>
                  <a:pt x="545" y="664"/>
                </a:lnTo>
                <a:lnTo>
                  <a:pt x="555" y="664"/>
                </a:lnTo>
                <a:lnTo>
                  <a:pt x="565" y="674"/>
                </a:lnTo>
                <a:lnTo>
                  <a:pt x="565" y="724"/>
                </a:lnTo>
                <a:lnTo>
                  <a:pt x="575" y="763"/>
                </a:lnTo>
                <a:lnTo>
                  <a:pt x="575" y="793"/>
                </a:lnTo>
                <a:lnTo>
                  <a:pt x="585" y="813"/>
                </a:lnTo>
                <a:lnTo>
                  <a:pt x="595" y="843"/>
                </a:lnTo>
                <a:lnTo>
                  <a:pt x="595" y="872"/>
                </a:lnTo>
                <a:lnTo>
                  <a:pt x="605" y="882"/>
                </a:lnTo>
                <a:lnTo>
                  <a:pt x="615" y="892"/>
                </a:lnTo>
                <a:lnTo>
                  <a:pt x="635" y="892"/>
                </a:lnTo>
                <a:lnTo>
                  <a:pt x="625" y="892"/>
                </a:lnTo>
                <a:lnTo>
                  <a:pt x="635" y="892"/>
                </a:lnTo>
                <a:lnTo>
                  <a:pt x="645" y="892"/>
                </a:lnTo>
                <a:lnTo>
                  <a:pt x="654" y="882"/>
                </a:lnTo>
                <a:lnTo>
                  <a:pt x="664" y="882"/>
                </a:lnTo>
                <a:lnTo>
                  <a:pt x="674" y="882"/>
                </a:lnTo>
                <a:lnTo>
                  <a:pt x="684" y="872"/>
                </a:lnTo>
                <a:lnTo>
                  <a:pt x="694" y="872"/>
                </a:lnTo>
                <a:lnTo>
                  <a:pt x="704" y="872"/>
                </a:lnTo>
                <a:lnTo>
                  <a:pt x="714" y="882"/>
                </a:lnTo>
                <a:lnTo>
                  <a:pt x="724" y="882"/>
                </a:lnTo>
                <a:lnTo>
                  <a:pt x="734" y="872"/>
                </a:lnTo>
                <a:lnTo>
                  <a:pt x="744" y="892"/>
                </a:lnTo>
                <a:lnTo>
                  <a:pt x="754" y="882"/>
                </a:lnTo>
                <a:lnTo>
                  <a:pt x="763" y="882"/>
                </a:lnTo>
                <a:lnTo>
                  <a:pt x="773" y="892"/>
                </a:lnTo>
                <a:lnTo>
                  <a:pt x="783" y="892"/>
                </a:lnTo>
                <a:lnTo>
                  <a:pt x="793" y="902"/>
                </a:lnTo>
                <a:lnTo>
                  <a:pt x="813" y="882"/>
                </a:lnTo>
                <a:lnTo>
                  <a:pt x="803" y="882"/>
                </a:lnTo>
                <a:lnTo>
                  <a:pt x="813" y="882"/>
                </a:lnTo>
                <a:lnTo>
                  <a:pt x="823" y="862"/>
                </a:lnTo>
                <a:lnTo>
                  <a:pt x="823" y="843"/>
                </a:lnTo>
                <a:lnTo>
                  <a:pt x="833" y="813"/>
                </a:lnTo>
                <a:lnTo>
                  <a:pt x="833" y="783"/>
                </a:lnTo>
                <a:lnTo>
                  <a:pt x="843" y="753"/>
                </a:lnTo>
                <a:lnTo>
                  <a:pt x="853" y="743"/>
                </a:lnTo>
                <a:lnTo>
                  <a:pt x="863" y="763"/>
                </a:lnTo>
                <a:lnTo>
                  <a:pt x="873" y="803"/>
                </a:lnTo>
                <a:lnTo>
                  <a:pt x="873" y="862"/>
                </a:lnTo>
                <a:lnTo>
                  <a:pt x="882" y="882"/>
                </a:lnTo>
                <a:lnTo>
                  <a:pt x="892" y="892"/>
                </a:lnTo>
                <a:lnTo>
                  <a:pt x="902" y="882"/>
                </a:lnTo>
                <a:lnTo>
                  <a:pt x="912" y="892"/>
                </a:lnTo>
                <a:lnTo>
                  <a:pt x="922" y="902"/>
                </a:lnTo>
                <a:lnTo>
                  <a:pt x="922" y="892"/>
                </a:lnTo>
                <a:lnTo>
                  <a:pt x="932" y="882"/>
                </a:lnTo>
                <a:lnTo>
                  <a:pt x="942" y="902"/>
                </a:lnTo>
                <a:lnTo>
                  <a:pt x="952" y="912"/>
                </a:lnTo>
                <a:lnTo>
                  <a:pt x="952" y="843"/>
                </a:lnTo>
                <a:lnTo>
                  <a:pt x="962" y="605"/>
                </a:lnTo>
                <a:lnTo>
                  <a:pt x="972" y="198"/>
                </a:lnTo>
                <a:lnTo>
                  <a:pt x="972" y="0"/>
                </a:lnTo>
                <a:lnTo>
                  <a:pt x="982" y="198"/>
                </a:lnTo>
                <a:lnTo>
                  <a:pt x="982" y="783"/>
                </a:lnTo>
                <a:lnTo>
                  <a:pt x="992" y="922"/>
                </a:lnTo>
                <a:lnTo>
                  <a:pt x="1001" y="783"/>
                </a:lnTo>
                <a:lnTo>
                  <a:pt x="1001" y="813"/>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5881680" y="3584520"/>
            <a:ext cx="641520" cy="1158840"/>
          </a:xfrm>
          <a:custGeom>
            <a:avLst/>
            <a:gdLst/>
            <a:ahLst/>
            <a:rect l="l" t="t" r="r" b="b"/>
            <a:pathLst>
              <a:path w="992" h="1716">
                <a:moveTo>
                  <a:pt x="0" y="1111"/>
                </a:moveTo>
                <a:lnTo>
                  <a:pt x="20" y="1180"/>
                </a:lnTo>
                <a:lnTo>
                  <a:pt x="10" y="1180"/>
                </a:lnTo>
                <a:lnTo>
                  <a:pt x="20" y="1180"/>
                </a:lnTo>
                <a:lnTo>
                  <a:pt x="30" y="1170"/>
                </a:lnTo>
                <a:lnTo>
                  <a:pt x="30" y="1180"/>
                </a:lnTo>
                <a:lnTo>
                  <a:pt x="40" y="1190"/>
                </a:lnTo>
                <a:lnTo>
                  <a:pt x="60" y="1180"/>
                </a:lnTo>
                <a:lnTo>
                  <a:pt x="60" y="1190"/>
                </a:lnTo>
                <a:lnTo>
                  <a:pt x="70" y="1180"/>
                </a:lnTo>
                <a:lnTo>
                  <a:pt x="90" y="1180"/>
                </a:lnTo>
                <a:lnTo>
                  <a:pt x="80" y="1180"/>
                </a:lnTo>
                <a:lnTo>
                  <a:pt x="90" y="1180"/>
                </a:lnTo>
                <a:lnTo>
                  <a:pt x="100" y="1170"/>
                </a:lnTo>
                <a:lnTo>
                  <a:pt x="100" y="1150"/>
                </a:lnTo>
                <a:lnTo>
                  <a:pt x="110" y="1160"/>
                </a:lnTo>
                <a:lnTo>
                  <a:pt x="110" y="1150"/>
                </a:lnTo>
                <a:lnTo>
                  <a:pt x="119" y="1141"/>
                </a:lnTo>
                <a:lnTo>
                  <a:pt x="129" y="1111"/>
                </a:lnTo>
                <a:lnTo>
                  <a:pt x="139" y="1101"/>
                </a:lnTo>
                <a:lnTo>
                  <a:pt x="139" y="1091"/>
                </a:lnTo>
                <a:lnTo>
                  <a:pt x="149" y="1061"/>
                </a:lnTo>
                <a:lnTo>
                  <a:pt x="159" y="1041"/>
                </a:lnTo>
                <a:lnTo>
                  <a:pt x="159" y="1022"/>
                </a:lnTo>
                <a:lnTo>
                  <a:pt x="169" y="992"/>
                </a:lnTo>
                <a:lnTo>
                  <a:pt x="189" y="952"/>
                </a:lnTo>
                <a:lnTo>
                  <a:pt x="189" y="932"/>
                </a:lnTo>
                <a:lnTo>
                  <a:pt x="199" y="913"/>
                </a:lnTo>
                <a:lnTo>
                  <a:pt x="209" y="922"/>
                </a:lnTo>
                <a:lnTo>
                  <a:pt x="209" y="932"/>
                </a:lnTo>
                <a:lnTo>
                  <a:pt x="219" y="962"/>
                </a:lnTo>
                <a:lnTo>
                  <a:pt x="228" y="992"/>
                </a:lnTo>
                <a:lnTo>
                  <a:pt x="228" y="1022"/>
                </a:lnTo>
                <a:lnTo>
                  <a:pt x="238" y="1071"/>
                </a:lnTo>
                <a:lnTo>
                  <a:pt x="238" y="1091"/>
                </a:lnTo>
                <a:lnTo>
                  <a:pt x="248" y="1101"/>
                </a:lnTo>
                <a:lnTo>
                  <a:pt x="258" y="1121"/>
                </a:lnTo>
                <a:lnTo>
                  <a:pt x="258" y="1150"/>
                </a:lnTo>
                <a:lnTo>
                  <a:pt x="268" y="1141"/>
                </a:lnTo>
                <a:lnTo>
                  <a:pt x="288" y="1150"/>
                </a:lnTo>
                <a:lnTo>
                  <a:pt x="298" y="1141"/>
                </a:lnTo>
                <a:lnTo>
                  <a:pt x="308" y="1141"/>
                </a:lnTo>
                <a:lnTo>
                  <a:pt x="318" y="1141"/>
                </a:lnTo>
                <a:lnTo>
                  <a:pt x="318" y="1121"/>
                </a:lnTo>
                <a:lnTo>
                  <a:pt x="328" y="1131"/>
                </a:lnTo>
                <a:lnTo>
                  <a:pt x="338" y="1131"/>
                </a:lnTo>
                <a:lnTo>
                  <a:pt x="338" y="1051"/>
                </a:lnTo>
                <a:lnTo>
                  <a:pt x="347" y="873"/>
                </a:lnTo>
                <a:lnTo>
                  <a:pt x="357" y="665"/>
                </a:lnTo>
                <a:lnTo>
                  <a:pt x="357" y="407"/>
                </a:lnTo>
                <a:lnTo>
                  <a:pt x="367" y="159"/>
                </a:lnTo>
                <a:lnTo>
                  <a:pt x="367" y="10"/>
                </a:lnTo>
                <a:lnTo>
                  <a:pt x="377" y="0"/>
                </a:lnTo>
                <a:lnTo>
                  <a:pt x="387" y="70"/>
                </a:lnTo>
                <a:lnTo>
                  <a:pt x="387" y="139"/>
                </a:lnTo>
                <a:lnTo>
                  <a:pt x="397" y="119"/>
                </a:lnTo>
                <a:lnTo>
                  <a:pt x="407" y="209"/>
                </a:lnTo>
                <a:lnTo>
                  <a:pt x="407" y="437"/>
                </a:lnTo>
                <a:lnTo>
                  <a:pt x="417" y="833"/>
                </a:lnTo>
                <a:lnTo>
                  <a:pt x="417" y="1180"/>
                </a:lnTo>
                <a:lnTo>
                  <a:pt x="427" y="1210"/>
                </a:lnTo>
                <a:lnTo>
                  <a:pt x="437" y="1220"/>
                </a:lnTo>
                <a:lnTo>
                  <a:pt x="437" y="1279"/>
                </a:lnTo>
                <a:lnTo>
                  <a:pt x="447" y="1299"/>
                </a:lnTo>
                <a:lnTo>
                  <a:pt x="447" y="1319"/>
                </a:lnTo>
                <a:lnTo>
                  <a:pt x="457" y="1339"/>
                </a:lnTo>
                <a:lnTo>
                  <a:pt x="466" y="1359"/>
                </a:lnTo>
                <a:lnTo>
                  <a:pt x="476" y="1369"/>
                </a:lnTo>
                <a:lnTo>
                  <a:pt x="486" y="1408"/>
                </a:lnTo>
                <a:lnTo>
                  <a:pt x="496" y="1418"/>
                </a:lnTo>
                <a:lnTo>
                  <a:pt x="506" y="1428"/>
                </a:lnTo>
                <a:lnTo>
                  <a:pt x="516" y="1418"/>
                </a:lnTo>
                <a:lnTo>
                  <a:pt x="526" y="1418"/>
                </a:lnTo>
                <a:lnTo>
                  <a:pt x="536" y="1448"/>
                </a:lnTo>
                <a:lnTo>
                  <a:pt x="536" y="1488"/>
                </a:lnTo>
                <a:lnTo>
                  <a:pt x="546" y="1507"/>
                </a:lnTo>
                <a:lnTo>
                  <a:pt x="546" y="1587"/>
                </a:lnTo>
                <a:lnTo>
                  <a:pt x="556" y="1666"/>
                </a:lnTo>
                <a:lnTo>
                  <a:pt x="566" y="1706"/>
                </a:lnTo>
                <a:lnTo>
                  <a:pt x="576" y="1716"/>
                </a:lnTo>
                <a:lnTo>
                  <a:pt x="585" y="1696"/>
                </a:lnTo>
                <a:lnTo>
                  <a:pt x="585" y="1666"/>
                </a:lnTo>
                <a:lnTo>
                  <a:pt x="595" y="1597"/>
                </a:lnTo>
                <a:lnTo>
                  <a:pt x="595" y="1547"/>
                </a:lnTo>
                <a:lnTo>
                  <a:pt x="605" y="1478"/>
                </a:lnTo>
                <a:lnTo>
                  <a:pt x="615" y="1408"/>
                </a:lnTo>
                <a:lnTo>
                  <a:pt x="615" y="1339"/>
                </a:lnTo>
                <a:lnTo>
                  <a:pt x="625" y="1299"/>
                </a:lnTo>
                <a:lnTo>
                  <a:pt x="635" y="1269"/>
                </a:lnTo>
                <a:lnTo>
                  <a:pt x="645" y="1260"/>
                </a:lnTo>
                <a:lnTo>
                  <a:pt x="655" y="1269"/>
                </a:lnTo>
                <a:lnTo>
                  <a:pt x="675" y="1250"/>
                </a:lnTo>
                <a:lnTo>
                  <a:pt x="665" y="1250"/>
                </a:lnTo>
                <a:lnTo>
                  <a:pt x="675" y="1269"/>
                </a:lnTo>
                <a:lnTo>
                  <a:pt x="685" y="1269"/>
                </a:lnTo>
                <a:lnTo>
                  <a:pt x="694" y="1260"/>
                </a:lnTo>
                <a:lnTo>
                  <a:pt x="704" y="1260"/>
                </a:lnTo>
                <a:lnTo>
                  <a:pt x="714" y="1230"/>
                </a:lnTo>
                <a:lnTo>
                  <a:pt x="724" y="1240"/>
                </a:lnTo>
                <a:lnTo>
                  <a:pt x="724" y="1250"/>
                </a:lnTo>
                <a:lnTo>
                  <a:pt x="744" y="1240"/>
                </a:lnTo>
                <a:lnTo>
                  <a:pt x="754" y="1250"/>
                </a:lnTo>
                <a:lnTo>
                  <a:pt x="754" y="1240"/>
                </a:lnTo>
                <a:lnTo>
                  <a:pt x="764" y="1230"/>
                </a:lnTo>
                <a:lnTo>
                  <a:pt x="774" y="1240"/>
                </a:lnTo>
                <a:lnTo>
                  <a:pt x="784" y="1230"/>
                </a:lnTo>
                <a:lnTo>
                  <a:pt x="804" y="1230"/>
                </a:lnTo>
                <a:lnTo>
                  <a:pt x="804" y="1230"/>
                </a:lnTo>
                <a:lnTo>
                  <a:pt x="813" y="1220"/>
                </a:lnTo>
                <a:lnTo>
                  <a:pt x="823" y="1230"/>
                </a:lnTo>
                <a:lnTo>
                  <a:pt x="833" y="1230"/>
                </a:lnTo>
                <a:lnTo>
                  <a:pt x="843" y="1220"/>
                </a:lnTo>
                <a:lnTo>
                  <a:pt x="853" y="1230"/>
                </a:lnTo>
                <a:lnTo>
                  <a:pt x="863" y="1220"/>
                </a:lnTo>
                <a:lnTo>
                  <a:pt x="873" y="1230"/>
                </a:lnTo>
                <a:lnTo>
                  <a:pt x="883" y="1230"/>
                </a:lnTo>
                <a:lnTo>
                  <a:pt x="893" y="1220"/>
                </a:lnTo>
                <a:lnTo>
                  <a:pt x="913" y="1220"/>
                </a:lnTo>
                <a:lnTo>
                  <a:pt x="913" y="1220"/>
                </a:lnTo>
                <a:lnTo>
                  <a:pt x="932" y="1220"/>
                </a:lnTo>
                <a:lnTo>
                  <a:pt x="923" y="1220"/>
                </a:lnTo>
                <a:lnTo>
                  <a:pt x="932" y="1210"/>
                </a:lnTo>
                <a:lnTo>
                  <a:pt x="942" y="1210"/>
                </a:lnTo>
                <a:lnTo>
                  <a:pt x="952" y="1220"/>
                </a:lnTo>
                <a:lnTo>
                  <a:pt x="962" y="1200"/>
                </a:lnTo>
                <a:lnTo>
                  <a:pt x="972" y="1210"/>
                </a:lnTo>
                <a:lnTo>
                  <a:pt x="972" y="1220"/>
                </a:lnTo>
                <a:lnTo>
                  <a:pt x="992" y="1200"/>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6515280" y="3571920"/>
            <a:ext cx="628560" cy="1193760"/>
          </a:xfrm>
          <a:custGeom>
            <a:avLst/>
            <a:gdLst/>
            <a:ahLst/>
            <a:rect l="l" t="t" r="r" b="b"/>
            <a:pathLst>
              <a:path w="972" h="1764">
                <a:moveTo>
                  <a:pt x="10" y="1219"/>
                </a:moveTo>
                <a:lnTo>
                  <a:pt x="0" y="1219"/>
                </a:lnTo>
                <a:lnTo>
                  <a:pt x="10" y="1219"/>
                </a:lnTo>
                <a:lnTo>
                  <a:pt x="20" y="1229"/>
                </a:lnTo>
                <a:lnTo>
                  <a:pt x="30" y="1219"/>
                </a:lnTo>
                <a:lnTo>
                  <a:pt x="40" y="1229"/>
                </a:lnTo>
                <a:lnTo>
                  <a:pt x="50" y="1219"/>
                </a:lnTo>
                <a:lnTo>
                  <a:pt x="60" y="1219"/>
                </a:lnTo>
                <a:lnTo>
                  <a:pt x="69" y="1219"/>
                </a:lnTo>
                <a:lnTo>
                  <a:pt x="79" y="1229"/>
                </a:lnTo>
                <a:lnTo>
                  <a:pt x="89" y="1229"/>
                </a:lnTo>
                <a:lnTo>
                  <a:pt x="99" y="1219"/>
                </a:lnTo>
                <a:lnTo>
                  <a:pt x="109" y="1209"/>
                </a:lnTo>
                <a:lnTo>
                  <a:pt x="119" y="1229"/>
                </a:lnTo>
                <a:lnTo>
                  <a:pt x="119" y="1219"/>
                </a:lnTo>
                <a:lnTo>
                  <a:pt x="129" y="1209"/>
                </a:lnTo>
                <a:lnTo>
                  <a:pt x="159" y="1209"/>
                </a:lnTo>
                <a:lnTo>
                  <a:pt x="149" y="1209"/>
                </a:lnTo>
                <a:lnTo>
                  <a:pt x="159" y="1209"/>
                </a:lnTo>
                <a:lnTo>
                  <a:pt x="169" y="1219"/>
                </a:lnTo>
                <a:lnTo>
                  <a:pt x="169" y="1209"/>
                </a:lnTo>
                <a:lnTo>
                  <a:pt x="178" y="1199"/>
                </a:lnTo>
                <a:lnTo>
                  <a:pt x="208" y="1209"/>
                </a:lnTo>
                <a:lnTo>
                  <a:pt x="208" y="1209"/>
                </a:lnTo>
                <a:lnTo>
                  <a:pt x="218" y="1209"/>
                </a:lnTo>
                <a:lnTo>
                  <a:pt x="218" y="1189"/>
                </a:lnTo>
                <a:lnTo>
                  <a:pt x="228" y="1150"/>
                </a:lnTo>
                <a:lnTo>
                  <a:pt x="238" y="1140"/>
                </a:lnTo>
                <a:lnTo>
                  <a:pt x="248" y="1110"/>
                </a:lnTo>
                <a:lnTo>
                  <a:pt x="248" y="1070"/>
                </a:lnTo>
                <a:lnTo>
                  <a:pt x="258" y="1080"/>
                </a:lnTo>
                <a:lnTo>
                  <a:pt x="268" y="1080"/>
                </a:lnTo>
                <a:lnTo>
                  <a:pt x="278" y="1120"/>
                </a:lnTo>
                <a:lnTo>
                  <a:pt x="278" y="1189"/>
                </a:lnTo>
                <a:lnTo>
                  <a:pt x="288" y="1219"/>
                </a:lnTo>
                <a:lnTo>
                  <a:pt x="297" y="1209"/>
                </a:lnTo>
                <a:lnTo>
                  <a:pt x="307" y="1219"/>
                </a:lnTo>
                <a:lnTo>
                  <a:pt x="317" y="1219"/>
                </a:lnTo>
                <a:lnTo>
                  <a:pt x="327" y="1209"/>
                </a:lnTo>
                <a:lnTo>
                  <a:pt x="327" y="1239"/>
                </a:lnTo>
                <a:lnTo>
                  <a:pt x="337" y="1199"/>
                </a:lnTo>
                <a:lnTo>
                  <a:pt x="347" y="912"/>
                </a:lnTo>
                <a:lnTo>
                  <a:pt x="347" y="475"/>
                </a:lnTo>
                <a:lnTo>
                  <a:pt x="357" y="337"/>
                </a:lnTo>
                <a:lnTo>
                  <a:pt x="357" y="604"/>
                </a:lnTo>
                <a:lnTo>
                  <a:pt x="367" y="1160"/>
                </a:lnTo>
                <a:lnTo>
                  <a:pt x="377" y="1219"/>
                </a:lnTo>
                <a:lnTo>
                  <a:pt x="377" y="1110"/>
                </a:lnTo>
                <a:lnTo>
                  <a:pt x="387" y="1179"/>
                </a:lnTo>
                <a:lnTo>
                  <a:pt x="387" y="1219"/>
                </a:lnTo>
                <a:lnTo>
                  <a:pt x="397" y="1209"/>
                </a:lnTo>
                <a:lnTo>
                  <a:pt x="407" y="1229"/>
                </a:lnTo>
                <a:lnTo>
                  <a:pt x="416" y="1239"/>
                </a:lnTo>
                <a:lnTo>
                  <a:pt x="436" y="1239"/>
                </a:lnTo>
                <a:lnTo>
                  <a:pt x="426" y="1239"/>
                </a:lnTo>
                <a:lnTo>
                  <a:pt x="436" y="1239"/>
                </a:lnTo>
                <a:lnTo>
                  <a:pt x="446" y="1229"/>
                </a:lnTo>
                <a:lnTo>
                  <a:pt x="456" y="1229"/>
                </a:lnTo>
                <a:lnTo>
                  <a:pt x="456" y="1249"/>
                </a:lnTo>
                <a:lnTo>
                  <a:pt x="466" y="1239"/>
                </a:lnTo>
                <a:lnTo>
                  <a:pt x="476" y="1239"/>
                </a:lnTo>
                <a:lnTo>
                  <a:pt x="486" y="1229"/>
                </a:lnTo>
                <a:lnTo>
                  <a:pt x="496" y="1209"/>
                </a:lnTo>
                <a:lnTo>
                  <a:pt x="506" y="1209"/>
                </a:lnTo>
                <a:lnTo>
                  <a:pt x="516" y="1189"/>
                </a:lnTo>
                <a:lnTo>
                  <a:pt x="526" y="1160"/>
                </a:lnTo>
                <a:lnTo>
                  <a:pt x="535" y="1150"/>
                </a:lnTo>
                <a:lnTo>
                  <a:pt x="535" y="1140"/>
                </a:lnTo>
                <a:lnTo>
                  <a:pt x="545" y="1110"/>
                </a:lnTo>
                <a:lnTo>
                  <a:pt x="555" y="1090"/>
                </a:lnTo>
                <a:lnTo>
                  <a:pt x="565" y="1060"/>
                </a:lnTo>
                <a:lnTo>
                  <a:pt x="565" y="1041"/>
                </a:lnTo>
                <a:lnTo>
                  <a:pt x="585" y="1021"/>
                </a:lnTo>
                <a:lnTo>
                  <a:pt x="585" y="1001"/>
                </a:lnTo>
                <a:lnTo>
                  <a:pt x="595" y="991"/>
                </a:lnTo>
                <a:lnTo>
                  <a:pt x="605" y="1001"/>
                </a:lnTo>
                <a:lnTo>
                  <a:pt x="605" y="1031"/>
                </a:lnTo>
                <a:lnTo>
                  <a:pt x="615" y="1051"/>
                </a:lnTo>
                <a:lnTo>
                  <a:pt x="615" y="1070"/>
                </a:lnTo>
                <a:lnTo>
                  <a:pt x="625" y="1110"/>
                </a:lnTo>
                <a:lnTo>
                  <a:pt x="644" y="1150"/>
                </a:lnTo>
                <a:lnTo>
                  <a:pt x="644" y="1150"/>
                </a:lnTo>
                <a:lnTo>
                  <a:pt x="664" y="1169"/>
                </a:lnTo>
                <a:lnTo>
                  <a:pt x="654" y="1169"/>
                </a:lnTo>
                <a:lnTo>
                  <a:pt x="664" y="1160"/>
                </a:lnTo>
                <a:lnTo>
                  <a:pt x="674" y="1160"/>
                </a:lnTo>
                <a:lnTo>
                  <a:pt x="684" y="1160"/>
                </a:lnTo>
                <a:lnTo>
                  <a:pt x="694" y="1150"/>
                </a:lnTo>
                <a:lnTo>
                  <a:pt x="704" y="1160"/>
                </a:lnTo>
                <a:lnTo>
                  <a:pt x="714" y="1160"/>
                </a:lnTo>
                <a:lnTo>
                  <a:pt x="714" y="1140"/>
                </a:lnTo>
                <a:lnTo>
                  <a:pt x="724" y="1120"/>
                </a:lnTo>
                <a:lnTo>
                  <a:pt x="734" y="1011"/>
                </a:lnTo>
                <a:lnTo>
                  <a:pt x="734" y="832"/>
                </a:lnTo>
                <a:lnTo>
                  <a:pt x="744" y="585"/>
                </a:lnTo>
                <a:lnTo>
                  <a:pt x="744" y="337"/>
                </a:lnTo>
                <a:lnTo>
                  <a:pt x="754" y="128"/>
                </a:lnTo>
                <a:lnTo>
                  <a:pt x="763" y="0"/>
                </a:lnTo>
                <a:lnTo>
                  <a:pt x="773" y="89"/>
                </a:lnTo>
                <a:lnTo>
                  <a:pt x="783" y="168"/>
                </a:lnTo>
                <a:lnTo>
                  <a:pt x="783" y="148"/>
                </a:lnTo>
                <a:lnTo>
                  <a:pt x="793" y="188"/>
                </a:lnTo>
                <a:lnTo>
                  <a:pt x="793" y="396"/>
                </a:lnTo>
                <a:lnTo>
                  <a:pt x="803" y="703"/>
                </a:lnTo>
                <a:lnTo>
                  <a:pt x="813" y="1120"/>
                </a:lnTo>
                <a:lnTo>
                  <a:pt x="813" y="1259"/>
                </a:lnTo>
                <a:lnTo>
                  <a:pt x="823" y="1249"/>
                </a:lnTo>
                <a:lnTo>
                  <a:pt x="833" y="1298"/>
                </a:lnTo>
                <a:lnTo>
                  <a:pt x="833" y="1338"/>
                </a:lnTo>
                <a:lnTo>
                  <a:pt x="843" y="1348"/>
                </a:lnTo>
                <a:lnTo>
                  <a:pt x="843" y="1368"/>
                </a:lnTo>
                <a:lnTo>
                  <a:pt x="853" y="1388"/>
                </a:lnTo>
                <a:lnTo>
                  <a:pt x="873" y="1417"/>
                </a:lnTo>
                <a:lnTo>
                  <a:pt x="873" y="1447"/>
                </a:lnTo>
                <a:lnTo>
                  <a:pt x="882" y="1457"/>
                </a:lnTo>
                <a:lnTo>
                  <a:pt x="892" y="1467"/>
                </a:lnTo>
                <a:lnTo>
                  <a:pt x="892" y="1487"/>
                </a:lnTo>
                <a:lnTo>
                  <a:pt x="902" y="1517"/>
                </a:lnTo>
                <a:lnTo>
                  <a:pt x="912" y="1517"/>
                </a:lnTo>
                <a:lnTo>
                  <a:pt x="922" y="1536"/>
                </a:lnTo>
                <a:lnTo>
                  <a:pt x="932" y="1536"/>
                </a:lnTo>
                <a:lnTo>
                  <a:pt x="942" y="1546"/>
                </a:lnTo>
                <a:lnTo>
                  <a:pt x="942" y="1586"/>
                </a:lnTo>
                <a:lnTo>
                  <a:pt x="952" y="1616"/>
                </a:lnTo>
                <a:lnTo>
                  <a:pt x="962" y="1655"/>
                </a:lnTo>
                <a:lnTo>
                  <a:pt x="962" y="1705"/>
                </a:lnTo>
                <a:lnTo>
                  <a:pt x="972" y="1745"/>
                </a:lnTo>
                <a:lnTo>
                  <a:pt x="972" y="1764"/>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7143840" y="3786120"/>
            <a:ext cx="664920" cy="979560"/>
          </a:xfrm>
          <a:custGeom>
            <a:avLst/>
            <a:gdLst/>
            <a:ahLst/>
            <a:rect l="l" t="t" r="r" b="b"/>
            <a:pathLst>
              <a:path w="1031" h="1447">
                <a:moveTo>
                  <a:pt x="0" y="1447"/>
                </a:moveTo>
                <a:lnTo>
                  <a:pt x="10" y="1418"/>
                </a:lnTo>
                <a:lnTo>
                  <a:pt x="20" y="1388"/>
                </a:lnTo>
                <a:lnTo>
                  <a:pt x="20" y="1348"/>
                </a:lnTo>
                <a:lnTo>
                  <a:pt x="29" y="1309"/>
                </a:lnTo>
                <a:lnTo>
                  <a:pt x="29" y="1239"/>
                </a:lnTo>
                <a:lnTo>
                  <a:pt x="39" y="1180"/>
                </a:lnTo>
                <a:lnTo>
                  <a:pt x="49" y="1110"/>
                </a:lnTo>
                <a:lnTo>
                  <a:pt x="49" y="1071"/>
                </a:lnTo>
                <a:lnTo>
                  <a:pt x="59" y="1031"/>
                </a:lnTo>
                <a:lnTo>
                  <a:pt x="69" y="991"/>
                </a:lnTo>
                <a:lnTo>
                  <a:pt x="79" y="991"/>
                </a:lnTo>
                <a:lnTo>
                  <a:pt x="89" y="981"/>
                </a:lnTo>
                <a:lnTo>
                  <a:pt x="99" y="981"/>
                </a:lnTo>
                <a:lnTo>
                  <a:pt x="109" y="981"/>
                </a:lnTo>
                <a:lnTo>
                  <a:pt x="119" y="981"/>
                </a:lnTo>
                <a:lnTo>
                  <a:pt x="119" y="962"/>
                </a:lnTo>
                <a:lnTo>
                  <a:pt x="129" y="971"/>
                </a:lnTo>
                <a:lnTo>
                  <a:pt x="138" y="962"/>
                </a:lnTo>
                <a:lnTo>
                  <a:pt x="148" y="962"/>
                </a:lnTo>
                <a:lnTo>
                  <a:pt x="158" y="952"/>
                </a:lnTo>
                <a:lnTo>
                  <a:pt x="168" y="962"/>
                </a:lnTo>
                <a:lnTo>
                  <a:pt x="168" y="952"/>
                </a:lnTo>
                <a:lnTo>
                  <a:pt x="178" y="962"/>
                </a:lnTo>
                <a:lnTo>
                  <a:pt x="208" y="952"/>
                </a:lnTo>
                <a:lnTo>
                  <a:pt x="198" y="952"/>
                </a:lnTo>
                <a:lnTo>
                  <a:pt x="208" y="932"/>
                </a:lnTo>
                <a:lnTo>
                  <a:pt x="218" y="942"/>
                </a:lnTo>
                <a:lnTo>
                  <a:pt x="228" y="952"/>
                </a:lnTo>
                <a:lnTo>
                  <a:pt x="228" y="942"/>
                </a:lnTo>
                <a:lnTo>
                  <a:pt x="257" y="942"/>
                </a:lnTo>
                <a:lnTo>
                  <a:pt x="248" y="942"/>
                </a:lnTo>
                <a:lnTo>
                  <a:pt x="257" y="932"/>
                </a:lnTo>
                <a:lnTo>
                  <a:pt x="267" y="932"/>
                </a:lnTo>
                <a:lnTo>
                  <a:pt x="277" y="932"/>
                </a:lnTo>
                <a:lnTo>
                  <a:pt x="287" y="932"/>
                </a:lnTo>
                <a:lnTo>
                  <a:pt x="297" y="942"/>
                </a:lnTo>
                <a:lnTo>
                  <a:pt x="317" y="922"/>
                </a:lnTo>
                <a:lnTo>
                  <a:pt x="307" y="922"/>
                </a:lnTo>
                <a:lnTo>
                  <a:pt x="317" y="922"/>
                </a:lnTo>
                <a:lnTo>
                  <a:pt x="327" y="932"/>
                </a:lnTo>
                <a:lnTo>
                  <a:pt x="337" y="922"/>
                </a:lnTo>
                <a:lnTo>
                  <a:pt x="347" y="922"/>
                </a:lnTo>
                <a:lnTo>
                  <a:pt x="357" y="912"/>
                </a:lnTo>
                <a:lnTo>
                  <a:pt x="367" y="912"/>
                </a:lnTo>
                <a:lnTo>
                  <a:pt x="376" y="922"/>
                </a:lnTo>
                <a:lnTo>
                  <a:pt x="386" y="902"/>
                </a:lnTo>
                <a:lnTo>
                  <a:pt x="396" y="912"/>
                </a:lnTo>
                <a:lnTo>
                  <a:pt x="406" y="902"/>
                </a:lnTo>
                <a:lnTo>
                  <a:pt x="416" y="902"/>
                </a:lnTo>
                <a:lnTo>
                  <a:pt x="426" y="902"/>
                </a:lnTo>
                <a:lnTo>
                  <a:pt x="436" y="892"/>
                </a:lnTo>
                <a:lnTo>
                  <a:pt x="446" y="902"/>
                </a:lnTo>
                <a:lnTo>
                  <a:pt x="456" y="892"/>
                </a:lnTo>
                <a:lnTo>
                  <a:pt x="466" y="892"/>
                </a:lnTo>
                <a:lnTo>
                  <a:pt x="476" y="902"/>
                </a:lnTo>
                <a:lnTo>
                  <a:pt x="486" y="892"/>
                </a:lnTo>
                <a:lnTo>
                  <a:pt x="495" y="892"/>
                </a:lnTo>
                <a:lnTo>
                  <a:pt x="505" y="892"/>
                </a:lnTo>
                <a:lnTo>
                  <a:pt x="505" y="872"/>
                </a:lnTo>
                <a:lnTo>
                  <a:pt x="515" y="892"/>
                </a:lnTo>
                <a:lnTo>
                  <a:pt x="525" y="882"/>
                </a:lnTo>
                <a:lnTo>
                  <a:pt x="535" y="882"/>
                </a:lnTo>
                <a:lnTo>
                  <a:pt x="545" y="882"/>
                </a:lnTo>
                <a:lnTo>
                  <a:pt x="555" y="892"/>
                </a:lnTo>
                <a:lnTo>
                  <a:pt x="565" y="882"/>
                </a:lnTo>
                <a:lnTo>
                  <a:pt x="575" y="882"/>
                </a:lnTo>
                <a:lnTo>
                  <a:pt x="585" y="872"/>
                </a:lnTo>
                <a:lnTo>
                  <a:pt x="595" y="872"/>
                </a:lnTo>
                <a:lnTo>
                  <a:pt x="604" y="872"/>
                </a:lnTo>
                <a:lnTo>
                  <a:pt x="614" y="862"/>
                </a:lnTo>
                <a:lnTo>
                  <a:pt x="614" y="872"/>
                </a:lnTo>
                <a:lnTo>
                  <a:pt x="634" y="862"/>
                </a:lnTo>
                <a:lnTo>
                  <a:pt x="644" y="852"/>
                </a:lnTo>
                <a:lnTo>
                  <a:pt x="644" y="833"/>
                </a:lnTo>
                <a:lnTo>
                  <a:pt x="654" y="803"/>
                </a:lnTo>
                <a:lnTo>
                  <a:pt x="664" y="793"/>
                </a:lnTo>
                <a:lnTo>
                  <a:pt x="664" y="773"/>
                </a:lnTo>
                <a:lnTo>
                  <a:pt x="674" y="734"/>
                </a:lnTo>
                <a:lnTo>
                  <a:pt x="684" y="714"/>
                </a:lnTo>
                <a:lnTo>
                  <a:pt x="684" y="734"/>
                </a:lnTo>
                <a:lnTo>
                  <a:pt x="694" y="743"/>
                </a:lnTo>
                <a:lnTo>
                  <a:pt x="694" y="793"/>
                </a:lnTo>
                <a:lnTo>
                  <a:pt x="704" y="852"/>
                </a:lnTo>
                <a:lnTo>
                  <a:pt x="714" y="862"/>
                </a:lnTo>
                <a:lnTo>
                  <a:pt x="714" y="872"/>
                </a:lnTo>
                <a:lnTo>
                  <a:pt x="723" y="882"/>
                </a:lnTo>
                <a:lnTo>
                  <a:pt x="743" y="872"/>
                </a:lnTo>
                <a:lnTo>
                  <a:pt x="753" y="882"/>
                </a:lnTo>
                <a:lnTo>
                  <a:pt x="763" y="872"/>
                </a:lnTo>
                <a:lnTo>
                  <a:pt x="763" y="654"/>
                </a:lnTo>
                <a:lnTo>
                  <a:pt x="773" y="238"/>
                </a:lnTo>
                <a:lnTo>
                  <a:pt x="783" y="0"/>
                </a:lnTo>
                <a:lnTo>
                  <a:pt x="783" y="208"/>
                </a:lnTo>
                <a:lnTo>
                  <a:pt x="793" y="763"/>
                </a:lnTo>
                <a:lnTo>
                  <a:pt x="793" y="892"/>
                </a:lnTo>
                <a:lnTo>
                  <a:pt x="803" y="763"/>
                </a:lnTo>
                <a:lnTo>
                  <a:pt x="813" y="813"/>
                </a:lnTo>
                <a:lnTo>
                  <a:pt x="813" y="882"/>
                </a:lnTo>
                <a:lnTo>
                  <a:pt x="823" y="882"/>
                </a:lnTo>
                <a:lnTo>
                  <a:pt x="823" y="862"/>
                </a:lnTo>
                <a:lnTo>
                  <a:pt x="833" y="872"/>
                </a:lnTo>
                <a:lnTo>
                  <a:pt x="842" y="892"/>
                </a:lnTo>
                <a:lnTo>
                  <a:pt x="852" y="882"/>
                </a:lnTo>
                <a:lnTo>
                  <a:pt x="862" y="892"/>
                </a:lnTo>
                <a:lnTo>
                  <a:pt x="872" y="882"/>
                </a:lnTo>
                <a:lnTo>
                  <a:pt x="882" y="872"/>
                </a:lnTo>
                <a:lnTo>
                  <a:pt x="892" y="882"/>
                </a:lnTo>
                <a:lnTo>
                  <a:pt x="902" y="872"/>
                </a:lnTo>
                <a:lnTo>
                  <a:pt x="912" y="882"/>
                </a:lnTo>
                <a:lnTo>
                  <a:pt x="922" y="872"/>
                </a:lnTo>
                <a:lnTo>
                  <a:pt x="922" y="852"/>
                </a:lnTo>
                <a:lnTo>
                  <a:pt x="932" y="843"/>
                </a:lnTo>
                <a:lnTo>
                  <a:pt x="942" y="852"/>
                </a:lnTo>
                <a:lnTo>
                  <a:pt x="942" y="833"/>
                </a:lnTo>
                <a:lnTo>
                  <a:pt x="952" y="803"/>
                </a:lnTo>
                <a:lnTo>
                  <a:pt x="952" y="793"/>
                </a:lnTo>
                <a:lnTo>
                  <a:pt x="961" y="783"/>
                </a:lnTo>
                <a:lnTo>
                  <a:pt x="971" y="773"/>
                </a:lnTo>
                <a:lnTo>
                  <a:pt x="971" y="743"/>
                </a:lnTo>
                <a:lnTo>
                  <a:pt x="981" y="734"/>
                </a:lnTo>
                <a:lnTo>
                  <a:pt x="991" y="714"/>
                </a:lnTo>
                <a:lnTo>
                  <a:pt x="991" y="694"/>
                </a:lnTo>
                <a:lnTo>
                  <a:pt x="1011" y="654"/>
                </a:lnTo>
                <a:lnTo>
                  <a:pt x="1001" y="654"/>
                </a:lnTo>
                <a:lnTo>
                  <a:pt x="1011" y="654"/>
                </a:lnTo>
                <a:lnTo>
                  <a:pt x="1021" y="644"/>
                </a:lnTo>
                <a:lnTo>
                  <a:pt x="1031" y="684"/>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808760" y="3564000"/>
            <a:ext cx="484200" cy="1193760"/>
          </a:xfrm>
          <a:custGeom>
            <a:avLst/>
            <a:gdLst/>
            <a:ahLst/>
            <a:rect l="l" t="t" r="r" b="b"/>
            <a:pathLst>
              <a:path w="753" h="1764">
                <a:moveTo>
                  <a:pt x="0" y="1011"/>
                </a:moveTo>
                <a:lnTo>
                  <a:pt x="10" y="1031"/>
                </a:lnTo>
                <a:lnTo>
                  <a:pt x="10" y="1070"/>
                </a:lnTo>
                <a:lnTo>
                  <a:pt x="20" y="1080"/>
                </a:lnTo>
                <a:lnTo>
                  <a:pt x="20" y="1110"/>
                </a:lnTo>
                <a:lnTo>
                  <a:pt x="30" y="1130"/>
                </a:lnTo>
                <a:lnTo>
                  <a:pt x="39" y="1140"/>
                </a:lnTo>
                <a:lnTo>
                  <a:pt x="49" y="1150"/>
                </a:lnTo>
                <a:lnTo>
                  <a:pt x="59" y="1160"/>
                </a:lnTo>
                <a:lnTo>
                  <a:pt x="59" y="1150"/>
                </a:lnTo>
                <a:lnTo>
                  <a:pt x="69" y="1140"/>
                </a:lnTo>
                <a:lnTo>
                  <a:pt x="79" y="1150"/>
                </a:lnTo>
                <a:lnTo>
                  <a:pt x="89" y="1140"/>
                </a:lnTo>
                <a:lnTo>
                  <a:pt x="89" y="1130"/>
                </a:lnTo>
                <a:lnTo>
                  <a:pt x="99" y="1140"/>
                </a:lnTo>
                <a:lnTo>
                  <a:pt x="99" y="1130"/>
                </a:lnTo>
                <a:lnTo>
                  <a:pt x="109" y="1021"/>
                </a:lnTo>
                <a:lnTo>
                  <a:pt x="119" y="823"/>
                </a:lnTo>
                <a:lnTo>
                  <a:pt x="119" y="585"/>
                </a:lnTo>
                <a:lnTo>
                  <a:pt x="129" y="307"/>
                </a:lnTo>
                <a:lnTo>
                  <a:pt x="149" y="0"/>
                </a:lnTo>
                <a:lnTo>
                  <a:pt x="139" y="0"/>
                </a:lnTo>
                <a:lnTo>
                  <a:pt x="149" y="109"/>
                </a:lnTo>
                <a:lnTo>
                  <a:pt x="158" y="158"/>
                </a:lnTo>
                <a:lnTo>
                  <a:pt x="168" y="158"/>
                </a:lnTo>
                <a:lnTo>
                  <a:pt x="168" y="317"/>
                </a:lnTo>
                <a:lnTo>
                  <a:pt x="178" y="555"/>
                </a:lnTo>
                <a:lnTo>
                  <a:pt x="188" y="932"/>
                </a:lnTo>
                <a:lnTo>
                  <a:pt x="188" y="1219"/>
                </a:lnTo>
                <a:lnTo>
                  <a:pt x="198" y="1229"/>
                </a:lnTo>
                <a:lnTo>
                  <a:pt x="198" y="1259"/>
                </a:lnTo>
                <a:lnTo>
                  <a:pt x="208" y="1308"/>
                </a:lnTo>
                <a:lnTo>
                  <a:pt x="218" y="1338"/>
                </a:lnTo>
                <a:lnTo>
                  <a:pt x="218" y="1358"/>
                </a:lnTo>
                <a:lnTo>
                  <a:pt x="228" y="1378"/>
                </a:lnTo>
                <a:lnTo>
                  <a:pt x="228" y="1398"/>
                </a:lnTo>
                <a:lnTo>
                  <a:pt x="238" y="1398"/>
                </a:lnTo>
                <a:lnTo>
                  <a:pt x="248" y="1408"/>
                </a:lnTo>
                <a:lnTo>
                  <a:pt x="248" y="1427"/>
                </a:lnTo>
                <a:lnTo>
                  <a:pt x="258" y="1437"/>
                </a:lnTo>
                <a:lnTo>
                  <a:pt x="268" y="1427"/>
                </a:lnTo>
                <a:lnTo>
                  <a:pt x="277" y="1437"/>
                </a:lnTo>
                <a:lnTo>
                  <a:pt x="287" y="1437"/>
                </a:lnTo>
                <a:lnTo>
                  <a:pt x="297" y="1477"/>
                </a:lnTo>
                <a:lnTo>
                  <a:pt x="297" y="1517"/>
                </a:lnTo>
                <a:lnTo>
                  <a:pt x="307" y="1586"/>
                </a:lnTo>
                <a:lnTo>
                  <a:pt x="317" y="1665"/>
                </a:lnTo>
                <a:lnTo>
                  <a:pt x="317" y="1725"/>
                </a:lnTo>
                <a:lnTo>
                  <a:pt x="327" y="1764"/>
                </a:lnTo>
                <a:lnTo>
                  <a:pt x="337" y="1755"/>
                </a:lnTo>
                <a:lnTo>
                  <a:pt x="347" y="1755"/>
                </a:lnTo>
                <a:lnTo>
                  <a:pt x="347" y="1725"/>
                </a:lnTo>
                <a:lnTo>
                  <a:pt x="357" y="1685"/>
                </a:lnTo>
                <a:lnTo>
                  <a:pt x="367" y="1626"/>
                </a:lnTo>
                <a:lnTo>
                  <a:pt x="367" y="1566"/>
                </a:lnTo>
                <a:lnTo>
                  <a:pt x="377" y="1517"/>
                </a:lnTo>
                <a:lnTo>
                  <a:pt x="377" y="1457"/>
                </a:lnTo>
                <a:lnTo>
                  <a:pt x="386" y="1388"/>
                </a:lnTo>
                <a:lnTo>
                  <a:pt x="396" y="1348"/>
                </a:lnTo>
                <a:lnTo>
                  <a:pt x="396" y="1328"/>
                </a:lnTo>
                <a:lnTo>
                  <a:pt x="406" y="1328"/>
                </a:lnTo>
                <a:lnTo>
                  <a:pt x="406" y="1298"/>
                </a:lnTo>
                <a:lnTo>
                  <a:pt x="416" y="1298"/>
                </a:lnTo>
                <a:lnTo>
                  <a:pt x="426" y="1318"/>
                </a:lnTo>
                <a:lnTo>
                  <a:pt x="436" y="1298"/>
                </a:lnTo>
                <a:lnTo>
                  <a:pt x="446" y="1298"/>
                </a:lnTo>
                <a:lnTo>
                  <a:pt x="456" y="1289"/>
                </a:lnTo>
                <a:lnTo>
                  <a:pt x="466" y="1279"/>
                </a:lnTo>
                <a:lnTo>
                  <a:pt x="476" y="1298"/>
                </a:lnTo>
                <a:lnTo>
                  <a:pt x="476" y="1289"/>
                </a:lnTo>
                <a:lnTo>
                  <a:pt x="496" y="1279"/>
                </a:lnTo>
                <a:lnTo>
                  <a:pt x="505" y="1279"/>
                </a:lnTo>
                <a:lnTo>
                  <a:pt x="515" y="1269"/>
                </a:lnTo>
                <a:lnTo>
                  <a:pt x="525" y="1289"/>
                </a:lnTo>
                <a:lnTo>
                  <a:pt x="535" y="1269"/>
                </a:lnTo>
                <a:lnTo>
                  <a:pt x="545" y="1269"/>
                </a:lnTo>
                <a:lnTo>
                  <a:pt x="555" y="1269"/>
                </a:lnTo>
                <a:lnTo>
                  <a:pt x="565" y="1269"/>
                </a:lnTo>
                <a:lnTo>
                  <a:pt x="575" y="1279"/>
                </a:lnTo>
                <a:lnTo>
                  <a:pt x="585" y="1259"/>
                </a:lnTo>
                <a:lnTo>
                  <a:pt x="595" y="1279"/>
                </a:lnTo>
                <a:lnTo>
                  <a:pt x="605" y="1279"/>
                </a:lnTo>
                <a:lnTo>
                  <a:pt x="605" y="1259"/>
                </a:lnTo>
                <a:lnTo>
                  <a:pt x="615" y="1259"/>
                </a:lnTo>
                <a:lnTo>
                  <a:pt x="624" y="1269"/>
                </a:lnTo>
                <a:lnTo>
                  <a:pt x="644" y="1259"/>
                </a:lnTo>
                <a:lnTo>
                  <a:pt x="644" y="1259"/>
                </a:lnTo>
                <a:lnTo>
                  <a:pt x="654" y="1249"/>
                </a:lnTo>
                <a:lnTo>
                  <a:pt x="664" y="1249"/>
                </a:lnTo>
                <a:lnTo>
                  <a:pt x="674" y="1249"/>
                </a:lnTo>
                <a:lnTo>
                  <a:pt x="684" y="1249"/>
                </a:lnTo>
                <a:lnTo>
                  <a:pt x="694" y="1249"/>
                </a:lnTo>
                <a:lnTo>
                  <a:pt x="704" y="1239"/>
                </a:lnTo>
                <a:lnTo>
                  <a:pt x="714" y="1249"/>
                </a:lnTo>
                <a:lnTo>
                  <a:pt x="724" y="1249"/>
                </a:lnTo>
                <a:lnTo>
                  <a:pt x="734" y="1229"/>
                </a:lnTo>
                <a:lnTo>
                  <a:pt x="743" y="1249"/>
                </a:lnTo>
                <a:lnTo>
                  <a:pt x="753" y="1239"/>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2092320" y="5899320"/>
            <a:ext cx="6350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flipV="1">
            <a:off x="2886120" y="5830920"/>
            <a:ext cx="144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9" name=""/>
          <p:cNvSpPr/>
          <p:nvPr/>
        </p:nvSpPr>
        <p:spPr>
          <a:xfrm>
            <a:off x="2824920" y="591660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Times New Roman"/>
            </a:endParaRPr>
          </a:p>
        </p:txBody>
      </p:sp>
      <p:sp>
        <p:nvSpPr>
          <p:cNvPr id="2270" name=""/>
          <p:cNvSpPr/>
          <p:nvPr/>
        </p:nvSpPr>
        <p:spPr>
          <a:xfrm flipV="1">
            <a:off x="3681360" y="5830920"/>
            <a:ext cx="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1" name=""/>
          <p:cNvSpPr/>
          <p:nvPr/>
        </p:nvSpPr>
        <p:spPr>
          <a:xfrm>
            <a:off x="3616920" y="591660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Times New Roman"/>
            </a:endParaRPr>
          </a:p>
        </p:txBody>
      </p:sp>
      <p:sp>
        <p:nvSpPr>
          <p:cNvPr id="2272" name=""/>
          <p:cNvSpPr/>
          <p:nvPr/>
        </p:nvSpPr>
        <p:spPr>
          <a:xfrm flipV="1">
            <a:off x="4473720" y="5830920"/>
            <a:ext cx="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3" name=""/>
          <p:cNvSpPr/>
          <p:nvPr/>
        </p:nvSpPr>
        <p:spPr>
          <a:xfrm>
            <a:off x="4408560" y="591660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a:t>
            </a:r>
            <a:endParaRPr b="0" lang="en-US" sz="800" spc="-1" strike="noStrike">
              <a:solidFill>
                <a:srgbClr val="000000"/>
              </a:solidFill>
              <a:latin typeface="Times New Roman"/>
            </a:endParaRPr>
          </a:p>
        </p:txBody>
      </p:sp>
      <p:sp>
        <p:nvSpPr>
          <p:cNvPr id="2274" name=""/>
          <p:cNvSpPr/>
          <p:nvPr/>
        </p:nvSpPr>
        <p:spPr>
          <a:xfrm flipV="1">
            <a:off x="5268960" y="5830920"/>
            <a:ext cx="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5" name=""/>
          <p:cNvSpPr/>
          <p:nvPr/>
        </p:nvSpPr>
        <p:spPr>
          <a:xfrm>
            <a:off x="5205240" y="591660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000000"/>
              </a:solidFill>
              <a:latin typeface="Times New Roman"/>
            </a:endParaRPr>
          </a:p>
        </p:txBody>
      </p:sp>
      <p:sp>
        <p:nvSpPr>
          <p:cNvPr id="2276" name=""/>
          <p:cNvSpPr/>
          <p:nvPr/>
        </p:nvSpPr>
        <p:spPr>
          <a:xfrm flipV="1">
            <a:off x="6060960" y="5830920"/>
            <a:ext cx="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7" name=""/>
          <p:cNvSpPr/>
          <p:nvPr/>
        </p:nvSpPr>
        <p:spPr>
          <a:xfrm>
            <a:off x="5973120" y="591660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Times New Roman"/>
            </a:endParaRPr>
          </a:p>
        </p:txBody>
      </p:sp>
      <p:sp>
        <p:nvSpPr>
          <p:cNvPr id="2278" name=""/>
          <p:cNvSpPr/>
          <p:nvPr/>
        </p:nvSpPr>
        <p:spPr>
          <a:xfrm flipV="1">
            <a:off x="6854760" y="5830920"/>
            <a:ext cx="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9" name=""/>
          <p:cNvSpPr/>
          <p:nvPr/>
        </p:nvSpPr>
        <p:spPr>
          <a:xfrm>
            <a:off x="6764400" y="591660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a:t>
            </a:r>
            <a:endParaRPr b="0" lang="en-US" sz="800" spc="-1" strike="noStrike">
              <a:solidFill>
                <a:srgbClr val="000000"/>
              </a:solidFill>
              <a:latin typeface="Times New Roman"/>
            </a:endParaRPr>
          </a:p>
        </p:txBody>
      </p:sp>
      <p:sp>
        <p:nvSpPr>
          <p:cNvPr id="2280" name=""/>
          <p:cNvSpPr/>
          <p:nvPr/>
        </p:nvSpPr>
        <p:spPr>
          <a:xfrm flipV="1">
            <a:off x="7647120" y="5830920"/>
            <a:ext cx="288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81" name=""/>
          <p:cNvSpPr/>
          <p:nvPr/>
        </p:nvSpPr>
        <p:spPr>
          <a:xfrm>
            <a:off x="7559280" y="591660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a:t>
            </a:r>
            <a:endParaRPr b="0" lang="en-US" sz="800" spc="-1" strike="noStrike">
              <a:solidFill>
                <a:srgbClr val="000000"/>
              </a:solidFill>
              <a:latin typeface="Times New Roman"/>
            </a:endParaRPr>
          </a:p>
        </p:txBody>
      </p:sp>
      <p:sp>
        <p:nvSpPr>
          <p:cNvPr id="2282" name=""/>
          <p:cNvSpPr/>
          <p:nvPr/>
        </p:nvSpPr>
        <p:spPr>
          <a:xfrm flipV="1">
            <a:off x="8442360" y="5830920"/>
            <a:ext cx="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83" name=""/>
          <p:cNvSpPr/>
          <p:nvPr/>
        </p:nvSpPr>
        <p:spPr>
          <a:xfrm>
            <a:off x="8354520" y="591660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a:t>
            </a:r>
            <a:endParaRPr b="0" lang="en-US" sz="800" spc="-1" strike="noStrike">
              <a:solidFill>
                <a:srgbClr val="000000"/>
              </a:solidFill>
              <a:latin typeface="Times New Roman"/>
            </a:endParaRPr>
          </a:p>
        </p:txBody>
      </p:sp>
      <p:sp>
        <p:nvSpPr>
          <p:cNvPr id="2284" name=""/>
          <p:cNvSpPr/>
          <p:nvPr/>
        </p:nvSpPr>
        <p:spPr>
          <a:xfrm>
            <a:off x="2092320" y="5899320"/>
            <a:ext cx="812880" cy="360"/>
          </a:xfrm>
          <a:custGeom>
            <a:avLst/>
            <a:gdLst/>
            <a:ahLst/>
            <a:rect l="l" t="t" r="r" b="b"/>
            <a:pathLst>
              <a:path w="1259" h="0">
                <a:moveTo>
                  <a:pt x="0" y="0"/>
                </a:moveTo>
                <a:lnTo>
                  <a:pt x="10" y="0"/>
                </a:lnTo>
                <a:lnTo>
                  <a:pt x="20" y="0"/>
                </a:lnTo>
                <a:lnTo>
                  <a:pt x="30" y="0"/>
                </a:lnTo>
                <a:lnTo>
                  <a:pt x="40" y="0"/>
                </a:lnTo>
                <a:lnTo>
                  <a:pt x="49" y="0"/>
                </a:lnTo>
                <a:lnTo>
                  <a:pt x="59" y="0"/>
                </a:lnTo>
                <a:lnTo>
                  <a:pt x="69" y="0"/>
                </a:lnTo>
                <a:lnTo>
                  <a:pt x="79" y="0"/>
                </a:lnTo>
                <a:lnTo>
                  <a:pt x="89" y="0"/>
                </a:lnTo>
                <a:lnTo>
                  <a:pt x="99" y="0"/>
                </a:lnTo>
                <a:lnTo>
                  <a:pt x="109" y="0"/>
                </a:lnTo>
                <a:lnTo>
                  <a:pt x="119" y="0"/>
                </a:lnTo>
                <a:lnTo>
                  <a:pt x="129" y="0"/>
                </a:lnTo>
                <a:lnTo>
                  <a:pt x="139" y="0"/>
                </a:lnTo>
                <a:lnTo>
                  <a:pt x="149" y="0"/>
                </a:lnTo>
                <a:lnTo>
                  <a:pt x="159" y="0"/>
                </a:lnTo>
                <a:lnTo>
                  <a:pt x="168" y="0"/>
                </a:lnTo>
                <a:lnTo>
                  <a:pt x="178" y="0"/>
                </a:lnTo>
                <a:lnTo>
                  <a:pt x="188" y="0"/>
                </a:lnTo>
                <a:lnTo>
                  <a:pt x="198" y="0"/>
                </a:lnTo>
                <a:lnTo>
                  <a:pt x="208" y="0"/>
                </a:lnTo>
                <a:lnTo>
                  <a:pt x="218" y="0"/>
                </a:lnTo>
                <a:lnTo>
                  <a:pt x="228" y="0"/>
                </a:lnTo>
                <a:lnTo>
                  <a:pt x="238" y="0"/>
                </a:lnTo>
                <a:lnTo>
                  <a:pt x="248" y="0"/>
                </a:lnTo>
                <a:lnTo>
                  <a:pt x="258" y="0"/>
                </a:lnTo>
                <a:lnTo>
                  <a:pt x="268" y="0"/>
                </a:lnTo>
                <a:lnTo>
                  <a:pt x="277" y="0"/>
                </a:lnTo>
                <a:lnTo>
                  <a:pt x="287" y="0"/>
                </a:lnTo>
                <a:lnTo>
                  <a:pt x="297" y="0"/>
                </a:lnTo>
                <a:lnTo>
                  <a:pt x="307" y="0"/>
                </a:lnTo>
                <a:lnTo>
                  <a:pt x="317" y="0"/>
                </a:lnTo>
                <a:lnTo>
                  <a:pt x="327" y="0"/>
                </a:lnTo>
                <a:lnTo>
                  <a:pt x="337" y="0"/>
                </a:lnTo>
                <a:lnTo>
                  <a:pt x="347" y="0"/>
                </a:lnTo>
                <a:lnTo>
                  <a:pt x="357" y="0"/>
                </a:lnTo>
                <a:lnTo>
                  <a:pt x="367" y="0"/>
                </a:lnTo>
                <a:lnTo>
                  <a:pt x="377" y="0"/>
                </a:lnTo>
                <a:lnTo>
                  <a:pt x="387" y="0"/>
                </a:lnTo>
                <a:lnTo>
                  <a:pt x="396" y="0"/>
                </a:lnTo>
                <a:lnTo>
                  <a:pt x="406" y="0"/>
                </a:lnTo>
                <a:lnTo>
                  <a:pt x="416" y="0"/>
                </a:lnTo>
                <a:lnTo>
                  <a:pt x="426" y="0"/>
                </a:lnTo>
                <a:lnTo>
                  <a:pt x="436" y="0"/>
                </a:lnTo>
                <a:lnTo>
                  <a:pt x="446" y="0"/>
                </a:lnTo>
                <a:lnTo>
                  <a:pt x="456" y="0"/>
                </a:lnTo>
                <a:lnTo>
                  <a:pt x="466" y="0"/>
                </a:lnTo>
                <a:lnTo>
                  <a:pt x="476" y="0"/>
                </a:lnTo>
                <a:lnTo>
                  <a:pt x="486" y="0"/>
                </a:lnTo>
                <a:lnTo>
                  <a:pt x="496" y="0"/>
                </a:lnTo>
                <a:lnTo>
                  <a:pt x="506" y="0"/>
                </a:lnTo>
                <a:lnTo>
                  <a:pt x="515" y="0"/>
                </a:lnTo>
                <a:lnTo>
                  <a:pt x="525" y="0"/>
                </a:lnTo>
                <a:lnTo>
                  <a:pt x="535" y="0"/>
                </a:lnTo>
                <a:lnTo>
                  <a:pt x="545" y="0"/>
                </a:lnTo>
                <a:lnTo>
                  <a:pt x="555" y="0"/>
                </a:lnTo>
                <a:lnTo>
                  <a:pt x="565" y="0"/>
                </a:lnTo>
                <a:lnTo>
                  <a:pt x="575" y="0"/>
                </a:lnTo>
                <a:lnTo>
                  <a:pt x="585" y="0"/>
                </a:lnTo>
                <a:lnTo>
                  <a:pt x="595" y="0"/>
                </a:lnTo>
                <a:lnTo>
                  <a:pt x="605" y="0"/>
                </a:lnTo>
                <a:lnTo>
                  <a:pt x="615" y="0"/>
                </a:lnTo>
                <a:lnTo>
                  <a:pt x="624" y="0"/>
                </a:lnTo>
                <a:lnTo>
                  <a:pt x="634" y="0"/>
                </a:lnTo>
                <a:lnTo>
                  <a:pt x="644" y="0"/>
                </a:lnTo>
                <a:lnTo>
                  <a:pt x="654" y="0"/>
                </a:lnTo>
                <a:lnTo>
                  <a:pt x="664" y="0"/>
                </a:lnTo>
                <a:lnTo>
                  <a:pt x="674" y="0"/>
                </a:lnTo>
                <a:lnTo>
                  <a:pt x="684" y="0"/>
                </a:lnTo>
                <a:lnTo>
                  <a:pt x="694" y="0"/>
                </a:lnTo>
                <a:lnTo>
                  <a:pt x="704" y="0"/>
                </a:lnTo>
                <a:lnTo>
                  <a:pt x="714" y="0"/>
                </a:lnTo>
                <a:lnTo>
                  <a:pt x="724" y="0"/>
                </a:lnTo>
                <a:lnTo>
                  <a:pt x="734" y="0"/>
                </a:lnTo>
                <a:lnTo>
                  <a:pt x="743" y="0"/>
                </a:lnTo>
                <a:lnTo>
                  <a:pt x="753" y="0"/>
                </a:lnTo>
                <a:lnTo>
                  <a:pt x="763" y="0"/>
                </a:lnTo>
                <a:lnTo>
                  <a:pt x="773" y="0"/>
                </a:lnTo>
                <a:lnTo>
                  <a:pt x="783" y="0"/>
                </a:lnTo>
                <a:lnTo>
                  <a:pt x="793" y="0"/>
                </a:lnTo>
                <a:lnTo>
                  <a:pt x="803" y="0"/>
                </a:lnTo>
                <a:lnTo>
                  <a:pt x="813" y="0"/>
                </a:lnTo>
                <a:lnTo>
                  <a:pt x="823" y="0"/>
                </a:lnTo>
                <a:lnTo>
                  <a:pt x="833" y="0"/>
                </a:lnTo>
                <a:lnTo>
                  <a:pt x="843" y="0"/>
                </a:lnTo>
                <a:lnTo>
                  <a:pt x="853" y="0"/>
                </a:lnTo>
                <a:lnTo>
                  <a:pt x="862" y="0"/>
                </a:lnTo>
                <a:lnTo>
                  <a:pt x="872" y="0"/>
                </a:lnTo>
                <a:lnTo>
                  <a:pt x="882" y="0"/>
                </a:lnTo>
                <a:lnTo>
                  <a:pt x="892" y="0"/>
                </a:lnTo>
                <a:lnTo>
                  <a:pt x="902" y="0"/>
                </a:lnTo>
                <a:lnTo>
                  <a:pt x="912" y="0"/>
                </a:lnTo>
                <a:lnTo>
                  <a:pt x="922" y="0"/>
                </a:lnTo>
                <a:lnTo>
                  <a:pt x="932" y="0"/>
                </a:lnTo>
                <a:lnTo>
                  <a:pt x="942" y="0"/>
                </a:lnTo>
                <a:lnTo>
                  <a:pt x="952" y="0"/>
                </a:lnTo>
                <a:lnTo>
                  <a:pt x="962" y="0"/>
                </a:lnTo>
                <a:lnTo>
                  <a:pt x="972" y="0"/>
                </a:lnTo>
                <a:lnTo>
                  <a:pt x="981" y="0"/>
                </a:lnTo>
                <a:lnTo>
                  <a:pt x="991" y="0"/>
                </a:lnTo>
                <a:lnTo>
                  <a:pt x="1001" y="0"/>
                </a:lnTo>
                <a:lnTo>
                  <a:pt x="1011" y="0"/>
                </a:lnTo>
                <a:lnTo>
                  <a:pt x="1021" y="0"/>
                </a:lnTo>
                <a:lnTo>
                  <a:pt x="1031" y="0"/>
                </a:lnTo>
                <a:lnTo>
                  <a:pt x="1041" y="0"/>
                </a:lnTo>
                <a:lnTo>
                  <a:pt x="1051" y="0"/>
                </a:lnTo>
                <a:lnTo>
                  <a:pt x="1061" y="0"/>
                </a:lnTo>
                <a:lnTo>
                  <a:pt x="1071" y="0"/>
                </a:lnTo>
                <a:lnTo>
                  <a:pt x="1081" y="0"/>
                </a:lnTo>
                <a:lnTo>
                  <a:pt x="1090" y="0"/>
                </a:lnTo>
                <a:lnTo>
                  <a:pt x="1100" y="0"/>
                </a:lnTo>
                <a:lnTo>
                  <a:pt x="1110" y="0"/>
                </a:lnTo>
                <a:lnTo>
                  <a:pt x="1120" y="0"/>
                </a:lnTo>
                <a:lnTo>
                  <a:pt x="1130" y="0"/>
                </a:lnTo>
                <a:lnTo>
                  <a:pt x="1140" y="0"/>
                </a:lnTo>
                <a:lnTo>
                  <a:pt x="1150" y="0"/>
                </a:lnTo>
                <a:lnTo>
                  <a:pt x="1160" y="0"/>
                </a:lnTo>
                <a:lnTo>
                  <a:pt x="1170" y="0"/>
                </a:lnTo>
                <a:lnTo>
                  <a:pt x="1180" y="0"/>
                </a:lnTo>
                <a:lnTo>
                  <a:pt x="1190" y="0"/>
                </a:lnTo>
                <a:lnTo>
                  <a:pt x="1200" y="0"/>
                </a:lnTo>
                <a:lnTo>
                  <a:pt x="1209" y="0"/>
                </a:lnTo>
                <a:lnTo>
                  <a:pt x="1219" y="0"/>
                </a:lnTo>
                <a:lnTo>
                  <a:pt x="1229" y="0"/>
                </a:lnTo>
                <a:lnTo>
                  <a:pt x="1239" y="0"/>
                </a:lnTo>
                <a:lnTo>
                  <a:pt x="1249" y="0"/>
                </a:lnTo>
                <a:lnTo>
                  <a:pt x="1259" y="0"/>
                </a:lnTo>
              </a:path>
            </a:pathLst>
          </a:custGeom>
          <a:noFill/>
          <a:ln w="255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5" name=""/>
          <p:cNvSpPr/>
          <p:nvPr/>
        </p:nvSpPr>
        <p:spPr>
          <a:xfrm>
            <a:off x="2905200" y="5899320"/>
            <a:ext cx="812880" cy="360"/>
          </a:xfrm>
          <a:custGeom>
            <a:avLst/>
            <a:gdLst/>
            <a:ahLst/>
            <a:rect l="l" t="t" r="r" b="b"/>
            <a:pathLst>
              <a:path w="1259" h="0">
                <a:moveTo>
                  <a:pt x="0" y="0"/>
                </a:moveTo>
                <a:lnTo>
                  <a:pt x="10" y="0"/>
                </a:lnTo>
                <a:lnTo>
                  <a:pt x="20" y="0"/>
                </a:lnTo>
                <a:lnTo>
                  <a:pt x="30" y="0"/>
                </a:lnTo>
                <a:lnTo>
                  <a:pt x="40" y="0"/>
                </a:lnTo>
                <a:lnTo>
                  <a:pt x="50" y="0"/>
                </a:lnTo>
                <a:lnTo>
                  <a:pt x="60" y="0"/>
                </a:lnTo>
                <a:lnTo>
                  <a:pt x="69" y="0"/>
                </a:lnTo>
                <a:lnTo>
                  <a:pt x="79" y="0"/>
                </a:lnTo>
                <a:lnTo>
                  <a:pt x="89" y="0"/>
                </a:lnTo>
                <a:lnTo>
                  <a:pt x="99" y="0"/>
                </a:lnTo>
                <a:lnTo>
                  <a:pt x="109" y="0"/>
                </a:lnTo>
                <a:lnTo>
                  <a:pt x="119" y="0"/>
                </a:lnTo>
                <a:lnTo>
                  <a:pt x="129" y="0"/>
                </a:lnTo>
                <a:lnTo>
                  <a:pt x="139" y="0"/>
                </a:lnTo>
                <a:lnTo>
                  <a:pt x="149" y="0"/>
                </a:lnTo>
                <a:lnTo>
                  <a:pt x="159" y="0"/>
                </a:lnTo>
                <a:lnTo>
                  <a:pt x="169" y="0"/>
                </a:lnTo>
                <a:lnTo>
                  <a:pt x="179" y="0"/>
                </a:lnTo>
                <a:lnTo>
                  <a:pt x="188" y="0"/>
                </a:lnTo>
                <a:lnTo>
                  <a:pt x="198" y="0"/>
                </a:lnTo>
                <a:lnTo>
                  <a:pt x="208" y="0"/>
                </a:lnTo>
                <a:lnTo>
                  <a:pt x="218" y="0"/>
                </a:lnTo>
                <a:lnTo>
                  <a:pt x="228" y="0"/>
                </a:lnTo>
                <a:lnTo>
                  <a:pt x="238" y="0"/>
                </a:lnTo>
                <a:lnTo>
                  <a:pt x="248" y="0"/>
                </a:lnTo>
                <a:lnTo>
                  <a:pt x="258" y="0"/>
                </a:lnTo>
                <a:lnTo>
                  <a:pt x="268" y="0"/>
                </a:lnTo>
                <a:lnTo>
                  <a:pt x="278" y="0"/>
                </a:lnTo>
                <a:lnTo>
                  <a:pt x="288" y="0"/>
                </a:lnTo>
                <a:lnTo>
                  <a:pt x="297" y="0"/>
                </a:lnTo>
                <a:lnTo>
                  <a:pt x="307" y="0"/>
                </a:lnTo>
                <a:lnTo>
                  <a:pt x="317" y="0"/>
                </a:lnTo>
                <a:lnTo>
                  <a:pt x="327" y="0"/>
                </a:lnTo>
                <a:lnTo>
                  <a:pt x="337" y="0"/>
                </a:lnTo>
                <a:lnTo>
                  <a:pt x="347" y="0"/>
                </a:lnTo>
                <a:lnTo>
                  <a:pt x="357" y="0"/>
                </a:lnTo>
                <a:lnTo>
                  <a:pt x="367" y="0"/>
                </a:lnTo>
                <a:lnTo>
                  <a:pt x="377" y="0"/>
                </a:lnTo>
                <a:lnTo>
                  <a:pt x="387" y="0"/>
                </a:lnTo>
                <a:lnTo>
                  <a:pt x="397" y="0"/>
                </a:lnTo>
                <a:lnTo>
                  <a:pt x="407" y="0"/>
                </a:lnTo>
                <a:lnTo>
                  <a:pt x="416" y="0"/>
                </a:lnTo>
                <a:lnTo>
                  <a:pt x="426" y="0"/>
                </a:lnTo>
                <a:lnTo>
                  <a:pt x="436" y="0"/>
                </a:lnTo>
                <a:lnTo>
                  <a:pt x="446" y="0"/>
                </a:lnTo>
                <a:lnTo>
                  <a:pt x="456" y="0"/>
                </a:lnTo>
                <a:lnTo>
                  <a:pt x="466" y="0"/>
                </a:lnTo>
                <a:lnTo>
                  <a:pt x="476" y="0"/>
                </a:lnTo>
                <a:lnTo>
                  <a:pt x="486" y="0"/>
                </a:lnTo>
                <a:lnTo>
                  <a:pt x="496" y="0"/>
                </a:lnTo>
                <a:lnTo>
                  <a:pt x="506" y="0"/>
                </a:lnTo>
                <a:lnTo>
                  <a:pt x="516" y="0"/>
                </a:lnTo>
                <a:lnTo>
                  <a:pt x="526" y="0"/>
                </a:lnTo>
                <a:lnTo>
                  <a:pt x="535" y="0"/>
                </a:lnTo>
                <a:lnTo>
                  <a:pt x="545" y="0"/>
                </a:lnTo>
                <a:lnTo>
                  <a:pt x="555" y="0"/>
                </a:lnTo>
                <a:lnTo>
                  <a:pt x="565" y="0"/>
                </a:lnTo>
                <a:lnTo>
                  <a:pt x="575" y="0"/>
                </a:lnTo>
                <a:lnTo>
                  <a:pt x="585" y="0"/>
                </a:lnTo>
                <a:lnTo>
                  <a:pt x="595" y="0"/>
                </a:lnTo>
                <a:lnTo>
                  <a:pt x="605" y="0"/>
                </a:lnTo>
                <a:lnTo>
                  <a:pt x="615" y="0"/>
                </a:lnTo>
                <a:lnTo>
                  <a:pt x="625" y="0"/>
                </a:lnTo>
                <a:lnTo>
                  <a:pt x="635" y="0"/>
                </a:lnTo>
                <a:lnTo>
                  <a:pt x="645" y="0"/>
                </a:lnTo>
                <a:lnTo>
                  <a:pt x="654" y="0"/>
                </a:lnTo>
                <a:lnTo>
                  <a:pt x="664" y="0"/>
                </a:lnTo>
                <a:lnTo>
                  <a:pt x="674" y="0"/>
                </a:lnTo>
                <a:lnTo>
                  <a:pt x="684" y="0"/>
                </a:lnTo>
                <a:lnTo>
                  <a:pt x="694" y="0"/>
                </a:lnTo>
                <a:lnTo>
                  <a:pt x="704" y="0"/>
                </a:lnTo>
                <a:lnTo>
                  <a:pt x="714" y="0"/>
                </a:lnTo>
                <a:lnTo>
                  <a:pt x="724" y="0"/>
                </a:lnTo>
                <a:lnTo>
                  <a:pt x="734" y="0"/>
                </a:lnTo>
                <a:lnTo>
                  <a:pt x="744" y="0"/>
                </a:lnTo>
                <a:lnTo>
                  <a:pt x="754" y="0"/>
                </a:lnTo>
                <a:lnTo>
                  <a:pt x="763" y="0"/>
                </a:lnTo>
                <a:lnTo>
                  <a:pt x="773" y="0"/>
                </a:lnTo>
                <a:lnTo>
                  <a:pt x="783" y="0"/>
                </a:lnTo>
                <a:lnTo>
                  <a:pt x="793" y="0"/>
                </a:lnTo>
                <a:lnTo>
                  <a:pt x="803" y="0"/>
                </a:lnTo>
                <a:lnTo>
                  <a:pt x="813" y="0"/>
                </a:lnTo>
                <a:lnTo>
                  <a:pt x="823" y="0"/>
                </a:lnTo>
                <a:lnTo>
                  <a:pt x="833" y="0"/>
                </a:lnTo>
                <a:lnTo>
                  <a:pt x="843" y="0"/>
                </a:lnTo>
                <a:lnTo>
                  <a:pt x="853" y="0"/>
                </a:lnTo>
                <a:lnTo>
                  <a:pt x="863" y="0"/>
                </a:lnTo>
                <a:lnTo>
                  <a:pt x="873" y="0"/>
                </a:lnTo>
                <a:lnTo>
                  <a:pt x="882" y="0"/>
                </a:lnTo>
                <a:lnTo>
                  <a:pt x="892" y="0"/>
                </a:lnTo>
                <a:lnTo>
                  <a:pt x="902" y="0"/>
                </a:lnTo>
                <a:lnTo>
                  <a:pt x="912" y="0"/>
                </a:lnTo>
                <a:lnTo>
                  <a:pt x="922" y="0"/>
                </a:lnTo>
                <a:lnTo>
                  <a:pt x="932" y="0"/>
                </a:lnTo>
                <a:lnTo>
                  <a:pt x="942" y="0"/>
                </a:lnTo>
                <a:lnTo>
                  <a:pt x="952" y="0"/>
                </a:lnTo>
                <a:lnTo>
                  <a:pt x="962" y="0"/>
                </a:lnTo>
                <a:lnTo>
                  <a:pt x="972" y="0"/>
                </a:lnTo>
                <a:lnTo>
                  <a:pt x="982" y="0"/>
                </a:lnTo>
                <a:lnTo>
                  <a:pt x="992" y="0"/>
                </a:lnTo>
                <a:lnTo>
                  <a:pt x="1001" y="0"/>
                </a:lnTo>
                <a:lnTo>
                  <a:pt x="1011" y="0"/>
                </a:lnTo>
                <a:lnTo>
                  <a:pt x="1021" y="0"/>
                </a:lnTo>
                <a:lnTo>
                  <a:pt x="1031" y="0"/>
                </a:lnTo>
                <a:lnTo>
                  <a:pt x="1041" y="0"/>
                </a:lnTo>
                <a:lnTo>
                  <a:pt x="1051" y="0"/>
                </a:lnTo>
                <a:lnTo>
                  <a:pt x="1061" y="0"/>
                </a:lnTo>
                <a:lnTo>
                  <a:pt x="1071" y="0"/>
                </a:lnTo>
                <a:lnTo>
                  <a:pt x="1081" y="0"/>
                </a:lnTo>
                <a:lnTo>
                  <a:pt x="1091" y="0"/>
                </a:lnTo>
                <a:lnTo>
                  <a:pt x="1101" y="0"/>
                </a:lnTo>
                <a:lnTo>
                  <a:pt x="1111" y="0"/>
                </a:lnTo>
                <a:lnTo>
                  <a:pt x="1120" y="0"/>
                </a:lnTo>
                <a:lnTo>
                  <a:pt x="1130" y="0"/>
                </a:lnTo>
                <a:lnTo>
                  <a:pt x="1140" y="0"/>
                </a:lnTo>
                <a:lnTo>
                  <a:pt x="1150" y="0"/>
                </a:lnTo>
                <a:lnTo>
                  <a:pt x="1160" y="0"/>
                </a:lnTo>
                <a:lnTo>
                  <a:pt x="1170" y="0"/>
                </a:lnTo>
                <a:lnTo>
                  <a:pt x="1180" y="0"/>
                </a:lnTo>
                <a:lnTo>
                  <a:pt x="1190" y="0"/>
                </a:lnTo>
                <a:lnTo>
                  <a:pt x="1200" y="0"/>
                </a:lnTo>
                <a:lnTo>
                  <a:pt x="1210" y="0"/>
                </a:lnTo>
                <a:lnTo>
                  <a:pt x="1220" y="0"/>
                </a:lnTo>
                <a:lnTo>
                  <a:pt x="1229" y="0"/>
                </a:lnTo>
                <a:lnTo>
                  <a:pt x="1239" y="0"/>
                </a:lnTo>
                <a:lnTo>
                  <a:pt x="1249" y="0"/>
                </a:lnTo>
                <a:lnTo>
                  <a:pt x="1259" y="0"/>
                </a:lnTo>
              </a:path>
            </a:pathLst>
          </a:custGeom>
          <a:noFill/>
          <a:ln w="255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6" name=""/>
          <p:cNvSpPr/>
          <p:nvPr/>
        </p:nvSpPr>
        <p:spPr>
          <a:xfrm flipV="1">
            <a:off x="3651120" y="5858640"/>
            <a:ext cx="1209960" cy="39960"/>
          </a:xfrm>
          <a:custGeom>
            <a:avLst/>
            <a:gdLst/>
            <a:ahLst/>
            <a:rect l="l" t="t" r="r" b="b"/>
            <a:pathLst>
              <a:path w="1259" h="0">
                <a:moveTo>
                  <a:pt x="0" y="0"/>
                </a:moveTo>
                <a:lnTo>
                  <a:pt x="10" y="0"/>
                </a:lnTo>
                <a:lnTo>
                  <a:pt x="20" y="0"/>
                </a:lnTo>
                <a:lnTo>
                  <a:pt x="30" y="0"/>
                </a:lnTo>
                <a:lnTo>
                  <a:pt x="40" y="0"/>
                </a:lnTo>
                <a:lnTo>
                  <a:pt x="50" y="0"/>
                </a:lnTo>
                <a:lnTo>
                  <a:pt x="60" y="0"/>
                </a:lnTo>
                <a:lnTo>
                  <a:pt x="70" y="0"/>
                </a:lnTo>
                <a:lnTo>
                  <a:pt x="80" y="0"/>
                </a:lnTo>
                <a:lnTo>
                  <a:pt x="89" y="0"/>
                </a:lnTo>
                <a:lnTo>
                  <a:pt x="99" y="0"/>
                </a:lnTo>
                <a:lnTo>
                  <a:pt x="109" y="0"/>
                </a:lnTo>
                <a:lnTo>
                  <a:pt x="119" y="0"/>
                </a:lnTo>
                <a:lnTo>
                  <a:pt x="129" y="0"/>
                </a:lnTo>
                <a:lnTo>
                  <a:pt x="139" y="0"/>
                </a:lnTo>
                <a:lnTo>
                  <a:pt x="149" y="0"/>
                </a:lnTo>
                <a:lnTo>
                  <a:pt x="159" y="0"/>
                </a:lnTo>
                <a:lnTo>
                  <a:pt x="169" y="0"/>
                </a:lnTo>
                <a:lnTo>
                  <a:pt x="179" y="0"/>
                </a:lnTo>
                <a:lnTo>
                  <a:pt x="189" y="0"/>
                </a:lnTo>
                <a:lnTo>
                  <a:pt x="199" y="0"/>
                </a:lnTo>
                <a:lnTo>
                  <a:pt x="208" y="0"/>
                </a:lnTo>
                <a:lnTo>
                  <a:pt x="218" y="0"/>
                </a:lnTo>
                <a:lnTo>
                  <a:pt x="228" y="0"/>
                </a:lnTo>
                <a:lnTo>
                  <a:pt x="238" y="0"/>
                </a:lnTo>
                <a:lnTo>
                  <a:pt x="248" y="0"/>
                </a:lnTo>
                <a:lnTo>
                  <a:pt x="258" y="0"/>
                </a:lnTo>
                <a:lnTo>
                  <a:pt x="268" y="0"/>
                </a:lnTo>
                <a:lnTo>
                  <a:pt x="278" y="0"/>
                </a:lnTo>
                <a:lnTo>
                  <a:pt x="288" y="0"/>
                </a:lnTo>
                <a:lnTo>
                  <a:pt x="298" y="0"/>
                </a:lnTo>
                <a:lnTo>
                  <a:pt x="308" y="0"/>
                </a:lnTo>
                <a:lnTo>
                  <a:pt x="318" y="0"/>
                </a:lnTo>
                <a:lnTo>
                  <a:pt x="327" y="0"/>
                </a:lnTo>
                <a:lnTo>
                  <a:pt x="337" y="0"/>
                </a:lnTo>
                <a:lnTo>
                  <a:pt x="347" y="0"/>
                </a:lnTo>
                <a:lnTo>
                  <a:pt x="357" y="0"/>
                </a:lnTo>
                <a:lnTo>
                  <a:pt x="367" y="0"/>
                </a:lnTo>
                <a:lnTo>
                  <a:pt x="377" y="0"/>
                </a:lnTo>
                <a:lnTo>
                  <a:pt x="387" y="0"/>
                </a:lnTo>
                <a:lnTo>
                  <a:pt x="397" y="0"/>
                </a:lnTo>
                <a:lnTo>
                  <a:pt x="407" y="0"/>
                </a:lnTo>
                <a:lnTo>
                  <a:pt x="417" y="0"/>
                </a:lnTo>
                <a:lnTo>
                  <a:pt x="427" y="0"/>
                </a:lnTo>
                <a:lnTo>
                  <a:pt x="436" y="0"/>
                </a:lnTo>
                <a:lnTo>
                  <a:pt x="446" y="0"/>
                </a:lnTo>
                <a:lnTo>
                  <a:pt x="456" y="0"/>
                </a:lnTo>
                <a:lnTo>
                  <a:pt x="466" y="0"/>
                </a:lnTo>
                <a:lnTo>
                  <a:pt x="476" y="0"/>
                </a:lnTo>
                <a:lnTo>
                  <a:pt x="486" y="0"/>
                </a:lnTo>
                <a:lnTo>
                  <a:pt x="496" y="0"/>
                </a:lnTo>
                <a:lnTo>
                  <a:pt x="506" y="0"/>
                </a:lnTo>
                <a:lnTo>
                  <a:pt x="516" y="0"/>
                </a:lnTo>
                <a:lnTo>
                  <a:pt x="526" y="0"/>
                </a:lnTo>
                <a:lnTo>
                  <a:pt x="536" y="0"/>
                </a:lnTo>
                <a:lnTo>
                  <a:pt x="546" y="0"/>
                </a:lnTo>
                <a:lnTo>
                  <a:pt x="555" y="0"/>
                </a:lnTo>
                <a:lnTo>
                  <a:pt x="565" y="0"/>
                </a:lnTo>
                <a:lnTo>
                  <a:pt x="575" y="0"/>
                </a:lnTo>
                <a:lnTo>
                  <a:pt x="585" y="0"/>
                </a:lnTo>
                <a:lnTo>
                  <a:pt x="595" y="0"/>
                </a:lnTo>
                <a:lnTo>
                  <a:pt x="605" y="0"/>
                </a:lnTo>
                <a:lnTo>
                  <a:pt x="615" y="0"/>
                </a:lnTo>
                <a:lnTo>
                  <a:pt x="625" y="0"/>
                </a:lnTo>
                <a:lnTo>
                  <a:pt x="635" y="0"/>
                </a:lnTo>
                <a:lnTo>
                  <a:pt x="645" y="0"/>
                </a:lnTo>
                <a:lnTo>
                  <a:pt x="655" y="0"/>
                </a:lnTo>
                <a:lnTo>
                  <a:pt x="665" y="0"/>
                </a:lnTo>
                <a:lnTo>
                  <a:pt x="674" y="0"/>
                </a:lnTo>
                <a:lnTo>
                  <a:pt x="684" y="0"/>
                </a:lnTo>
                <a:lnTo>
                  <a:pt x="694" y="0"/>
                </a:lnTo>
                <a:lnTo>
                  <a:pt x="704" y="0"/>
                </a:lnTo>
                <a:lnTo>
                  <a:pt x="714" y="0"/>
                </a:lnTo>
                <a:lnTo>
                  <a:pt x="724" y="0"/>
                </a:lnTo>
                <a:lnTo>
                  <a:pt x="734" y="0"/>
                </a:lnTo>
                <a:lnTo>
                  <a:pt x="744" y="0"/>
                </a:lnTo>
                <a:lnTo>
                  <a:pt x="754" y="0"/>
                </a:lnTo>
                <a:lnTo>
                  <a:pt x="764" y="0"/>
                </a:lnTo>
                <a:lnTo>
                  <a:pt x="774" y="0"/>
                </a:lnTo>
                <a:lnTo>
                  <a:pt x="784" y="0"/>
                </a:lnTo>
                <a:lnTo>
                  <a:pt x="793" y="0"/>
                </a:lnTo>
                <a:lnTo>
                  <a:pt x="803" y="0"/>
                </a:lnTo>
                <a:lnTo>
                  <a:pt x="813" y="0"/>
                </a:lnTo>
                <a:lnTo>
                  <a:pt x="823" y="0"/>
                </a:lnTo>
                <a:lnTo>
                  <a:pt x="833" y="0"/>
                </a:lnTo>
                <a:lnTo>
                  <a:pt x="843" y="0"/>
                </a:lnTo>
                <a:lnTo>
                  <a:pt x="853" y="0"/>
                </a:lnTo>
                <a:lnTo>
                  <a:pt x="863" y="0"/>
                </a:lnTo>
                <a:lnTo>
                  <a:pt x="873" y="0"/>
                </a:lnTo>
                <a:lnTo>
                  <a:pt x="883" y="0"/>
                </a:lnTo>
                <a:lnTo>
                  <a:pt x="893" y="0"/>
                </a:lnTo>
                <a:lnTo>
                  <a:pt x="902" y="0"/>
                </a:lnTo>
                <a:lnTo>
                  <a:pt x="912" y="0"/>
                </a:lnTo>
                <a:lnTo>
                  <a:pt x="922" y="0"/>
                </a:lnTo>
                <a:lnTo>
                  <a:pt x="932" y="0"/>
                </a:lnTo>
                <a:lnTo>
                  <a:pt x="942" y="0"/>
                </a:lnTo>
                <a:lnTo>
                  <a:pt x="952" y="0"/>
                </a:lnTo>
                <a:lnTo>
                  <a:pt x="962" y="0"/>
                </a:lnTo>
                <a:lnTo>
                  <a:pt x="972" y="0"/>
                </a:lnTo>
                <a:lnTo>
                  <a:pt x="982" y="0"/>
                </a:lnTo>
                <a:lnTo>
                  <a:pt x="992" y="0"/>
                </a:lnTo>
                <a:lnTo>
                  <a:pt x="1002" y="0"/>
                </a:lnTo>
                <a:lnTo>
                  <a:pt x="1012" y="0"/>
                </a:lnTo>
                <a:lnTo>
                  <a:pt x="1021" y="0"/>
                </a:lnTo>
                <a:lnTo>
                  <a:pt x="1031" y="0"/>
                </a:lnTo>
                <a:lnTo>
                  <a:pt x="1041" y="0"/>
                </a:lnTo>
                <a:lnTo>
                  <a:pt x="1051" y="0"/>
                </a:lnTo>
                <a:lnTo>
                  <a:pt x="1061" y="0"/>
                </a:lnTo>
                <a:lnTo>
                  <a:pt x="1071" y="0"/>
                </a:lnTo>
                <a:lnTo>
                  <a:pt x="1081" y="0"/>
                </a:lnTo>
                <a:lnTo>
                  <a:pt x="1091" y="0"/>
                </a:lnTo>
                <a:lnTo>
                  <a:pt x="1101" y="0"/>
                </a:lnTo>
                <a:lnTo>
                  <a:pt x="1111" y="0"/>
                </a:lnTo>
                <a:lnTo>
                  <a:pt x="1121" y="0"/>
                </a:lnTo>
                <a:lnTo>
                  <a:pt x="1131" y="0"/>
                </a:lnTo>
                <a:lnTo>
                  <a:pt x="1140" y="0"/>
                </a:lnTo>
                <a:lnTo>
                  <a:pt x="1150" y="0"/>
                </a:lnTo>
                <a:lnTo>
                  <a:pt x="1160" y="0"/>
                </a:lnTo>
                <a:lnTo>
                  <a:pt x="1170" y="0"/>
                </a:lnTo>
                <a:lnTo>
                  <a:pt x="1180" y="0"/>
                </a:lnTo>
                <a:lnTo>
                  <a:pt x="1190" y="0"/>
                </a:lnTo>
                <a:lnTo>
                  <a:pt x="1200" y="0"/>
                </a:lnTo>
                <a:lnTo>
                  <a:pt x="1210" y="0"/>
                </a:lnTo>
                <a:lnTo>
                  <a:pt x="1220" y="0"/>
                </a:lnTo>
                <a:lnTo>
                  <a:pt x="1230" y="0"/>
                </a:lnTo>
                <a:lnTo>
                  <a:pt x="1240" y="0"/>
                </a:lnTo>
                <a:lnTo>
                  <a:pt x="1250" y="0"/>
                </a:lnTo>
                <a:lnTo>
                  <a:pt x="1259" y="0"/>
                </a:lnTo>
              </a:path>
            </a:pathLst>
          </a:custGeom>
          <a:noFill/>
          <a:ln w="255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87" name=""/>
          <p:cNvSpPr/>
          <p:nvPr/>
        </p:nvSpPr>
        <p:spPr>
          <a:xfrm>
            <a:off x="4861080" y="5899320"/>
            <a:ext cx="811080" cy="360"/>
          </a:xfrm>
          <a:custGeom>
            <a:avLst/>
            <a:gdLst/>
            <a:ahLst/>
            <a:rect l="l" t="t" r="r" b="b"/>
            <a:pathLst>
              <a:path w="1260" h="0">
                <a:moveTo>
                  <a:pt x="0" y="0"/>
                </a:moveTo>
                <a:lnTo>
                  <a:pt x="10" y="0"/>
                </a:lnTo>
                <a:lnTo>
                  <a:pt x="20" y="0"/>
                </a:lnTo>
                <a:lnTo>
                  <a:pt x="30" y="0"/>
                </a:lnTo>
                <a:lnTo>
                  <a:pt x="40" y="0"/>
                </a:lnTo>
                <a:lnTo>
                  <a:pt x="50" y="0"/>
                </a:lnTo>
                <a:lnTo>
                  <a:pt x="60" y="0"/>
                </a:lnTo>
                <a:lnTo>
                  <a:pt x="70" y="0"/>
                </a:lnTo>
                <a:lnTo>
                  <a:pt x="80" y="0"/>
                </a:lnTo>
                <a:lnTo>
                  <a:pt x="90" y="0"/>
                </a:lnTo>
                <a:lnTo>
                  <a:pt x="100" y="0"/>
                </a:lnTo>
                <a:lnTo>
                  <a:pt x="109" y="0"/>
                </a:lnTo>
                <a:lnTo>
                  <a:pt x="119" y="0"/>
                </a:lnTo>
                <a:lnTo>
                  <a:pt x="129" y="0"/>
                </a:lnTo>
                <a:lnTo>
                  <a:pt x="139" y="0"/>
                </a:lnTo>
                <a:lnTo>
                  <a:pt x="149" y="0"/>
                </a:lnTo>
                <a:lnTo>
                  <a:pt x="159" y="0"/>
                </a:lnTo>
                <a:lnTo>
                  <a:pt x="169" y="0"/>
                </a:lnTo>
                <a:lnTo>
                  <a:pt x="179" y="0"/>
                </a:lnTo>
                <a:lnTo>
                  <a:pt x="189" y="0"/>
                </a:lnTo>
                <a:lnTo>
                  <a:pt x="199" y="0"/>
                </a:lnTo>
                <a:lnTo>
                  <a:pt x="209" y="0"/>
                </a:lnTo>
                <a:lnTo>
                  <a:pt x="219" y="0"/>
                </a:lnTo>
                <a:lnTo>
                  <a:pt x="228" y="0"/>
                </a:lnTo>
                <a:lnTo>
                  <a:pt x="238" y="0"/>
                </a:lnTo>
                <a:lnTo>
                  <a:pt x="248" y="0"/>
                </a:lnTo>
                <a:lnTo>
                  <a:pt x="258" y="0"/>
                </a:lnTo>
                <a:lnTo>
                  <a:pt x="268" y="0"/>
                </a:lnTo>
                <a:lnTo>
                  <a:pt x="278" y="0"/>
                </a:lnTo>
                <a:lnTo>
                  <a:pt x="288" y="0"/>
                </a:lnTo>
                <a:lnTo>
                  <a:pt x="298" y="0"/>
                </a:lnTo>
                <a:lnTo>
                  <a:pt x="308" y="0"/>
                </a:lnTo>
                <a:lnTo>
                  <a:pt x="318" y="0"/>
                </a:lnTo>
                <a:lnTo>
                  <a:pt x="328" y="0"/>
                </a:lnTo>
                <a:lnTo>
                  <a:pt x="338" y="0"/>
                </a:lnTo>
                <a:lnTo>
                  <a:pt x="347" y="0"/>
                </a:lnTo>
                <a:lnTo>
                  <a:pt x="357" y="0"/>
                </a:lnTo>
                <a:lnTo>
                  <a:pt x="367" y="0"/>
                </a:lnTo>
                <a:lnTo>
                  <a:pt x="377" y="0"/>
                </a:lnTo>
                <a:lnTo>
                  <a:pt x="387" y="0"/>
                </a:lnTo>
                <a:lnTo>
                  <a:pt x="397" y="0"/>
                </a:lnTo>
                <a:lnTo>
                  <a:pt x="407" y="0"/>
                </a:lnTo>
                <a:lnTo>
                  <a:pt x="417" y="0"/>
                </a:lnTo>
                <a:lnTo>
                  <a:pt x="427" y="0"/>
                </a:lnTo>
                <a:lnTo>
                  <a:pt x="437" y="0"/>
                </a:lnTo>
                <a:lnTo>
                  <a:pt x="447" y="0"/>
                </a:lnTo>
                <a:lnTo>
                  <a:pt x="457" y="0"/>
                </a:lnTo>
                <a:lnTo>
                  <a:pt x="466" y="0"/>
                </a:lnTo>
                <a:lnTo>
                  <a:pt x="476" y="0"/>
                </a:lnTo>
                <a:lnTo>
                  <a:pt x="486" y="0"/>
                </a:lnTo>
                <a:lnTo>
                  <a:pt x="496" y="0"/>
                </a:lnTo>
                <a:lnTo>
                  <a:pt x="506" y="0"/>
                </a:lnTo>
                <a:lnTo>
                  <a:pt x="516" y="0"/>
                </a:lnTo>
                <a:lnTo>
                  <a:pt x="526" y="0"/>
                </a:lnTo>
                <a:lnTo>
                  <a:pt x="536" y="0"/>
                </a:lnTo>
                <a:lnTo>
                  <a:pt x="546" y="0"/>
                </a:lnTo>
                <a:lnTo>
                  <a:pt x="556" y="0"/>
                </a:lnTo>
                <a:lnTo>
                  <a:pt x="566" y="0"/>
                </a:lnTo>
                <a:lnTo>
                  <a:pt x="575" y="0"/>
                </a:lnTo>
                <a:lnTo>
                  <a:pt x="585" y="0"/>
                </a:lnTo>
                <a:lnTo>
                  <a:pt x="595" y="0"/>
                </a:lnTo>
                <a:lnTo>
                  <a:pt x="605" y="0"/>
                </a:lnTo>
                <a:lnTo>
                  <a:pt x="615" y="0"/>
                </a:lnTo>
                <a:lnTo>
                  <a:pt x="625" y="0"/>
                </a:lnTo>
                <a:lnTo>
                  <a:pt x="635" y="0"/>
                </a:lnTo>
                <a:lnTo>
                  <a:pt x="645" y="0"/>
                </a:lnTo>
                <a:lnTo>
                  <a:pt x="655" y="0"/>
                </a:lnTo>
                <a:lnTo>
                  <a:pt x="665" y="0"/>
                </a:lnTo>
                <a:lnTo>
                  <a:pt x="675" y="0"/>
                </a:lnTo>
                <a:lnTo>
                  <a:pt x="685" y="0"/>
                </a:lnTo>
                <a:lnTo>
                  <a:pt x="694" y="0"/>
                </a:lnTo>
                <a:lnTo>
                  <a:pt x="704" y="0"/>
                </a:lnTo>
                <a:lnTo>
                  <a:pt x="714" y="0"/>
                </a:lnTo>
                <a:lnTo>
                  <a:pt x="724" y="0"/>
                </a:lnTo>
                <a:lnTo>
                  <a:pt x="734" y="0"/>
                </a:lnTo>
                <a:lnTo>
                  <a:pt x="744" y="0"/>
                </a:lnTo>
                <a:lnTo>
                  <a:pt x="754" y="0"/>
                </a:lnTo>
                <a:lnTo>
                  <a:pt x="764" y="0"/>
                </a:lnTo>
                <a:lnTo>
                  <a:pt x="774" y="0"/>
                </a:lnTo>
                <a:lnTo>
                  <a:pt x="784" y="0"/>
                </a:lnTo>
                <a:lnTo>
                  <a:pt x="794" y="0"/>
                </a:lnTo>
                <a:lnTo>
                  <a:pt x="804" y="0"/>
                </a:lnTo>
                <a:lnTo>
                  <a:pt x="813" y="0"/>
                </a:lnTo>
                <a:lnTo>
                  <a:pt x="823" y="0"/>
                </a:lnTo>
                <a:lnTo>
                  <a:pt x="833" y="0"/>
                </a:lnTo>
                <a:lnTo>
                  <a:pt x="843" y="0"/>
                </a:lnTo>
                <a:lnTo>
                  <a:pt x="853" y="0"/>
                </a:lnTo>
                <a:lnTo>
                  <a:pt x="863" y="0"/>
                </a:lnTo>
                <a:lnTo>
                  <a:pt x="873" y="0"/>
                </a:lnTo>
                <a:lnTo>
                  <a:pt x="883" y="0"/>
                </a:lnTo>
                <a:lnTo>
                  <a:pt x="893" y="0"/>
                </a:lnTo>
                <a:lnTo>
                  <a:pt x="903" y="0"/>
                </a:lnTo>
                <a:lnTo>
                  <a:pt x="913" y="0"/>
                </a:lnTo>
                <a:lnTo>
                  <a:pt x="922" y="0"/>
                </a:lnTo>
                <a:lnTo>
                  <a:pt x="932" y="0"/>
                </a:lnTo>
                <a:lnTo>
                  <a:pt x="942" y="0"/>
                </a:lnTo>
                <a:lnTo>
                  <a:pt x="952" y="0"/>
                </a:lnTo>
                <a:lnTo>
                  <a:pt x="962" y="0"/>
                </a:lnTo>
                <a:lnTo>
                  <a:pt x="972" y="0"/>
                </a:lnTo>
                <a:lnTo>
                  <a:pt x="982" y="0"/>
                </a:lnTo>
                <a:lnTo>
                  <a:pt x="992" y="0"/>
                </a:lnTo>
                <a:lnTo>
                  <a:pt x="1002" y="0"/>
                </a:lnTo>
                <a:lnTo>
                  <a:pt x="1012" y="0"/>
                </a:lnTo>
                <a:lnTo>
                  <a:pt x="1022" y="0"/>
                </a:lnTo>
                <a:lnTo>
                  <a:pt x="1032" y="0"/>
                </a:lnTo>
                <a:lnTo>
                  <a:pt x="1041" y="0"/>
                </a:lnTo>
                <a:lnTo>
                  <a:pt x="1051" y="0"/>
                </a:lnTo>
                <a:lnTo>
                  <a:pt x="1061" y="0"/>
                </a:lnTo>
                <a:lnTo>
                  <a:pt x="1071" y="0"/>
                </a:lnTo>
                <a:lnTo>
                  <a:pt x="1081" y="0"/>
                </a:lnTo>
                <a:lnTo>
                  <a:pt x="1091" y="0"/>
                </a:lnTo>
                <a:lnTo>
                  <a:pt x="1101" y="0"/>
                </a:lnTo>
                <a:lnTo>
                  <a:pt x="1111" y="0"/>
                </a:lnTo>
                <a:lnTo>
                  <a:pt x="1121" y="0"/>
                </a:lnTo>
                <a:lnTo>
                  <a:pt x="1131" y="0"/>
                </a:lnTo>
                <a:lnTo>
                  <a:pt x="1141" y="0"/>
                </a:lnTo>
                <a:lnTo>
                  <a:pt x="1151" y="0"/>
                </a:lnTo>
                <a:lnTo>
                  <a:pt x="1160" y="0"/>
                </a:lnTo>
                <a:lnTo>
                  <a:pt x="1170" y="0"/>
                </a:lnTo>
                <a:lnTo>
                  <a:pt x="1180" y="0"/>
                </a:lnTo>
                <a:lnTo>
                  <a:pt x="1190" y="0"/>
                </a:lnTo>
                <a:lnTo>
                  <a:pt x="1200" y="0"/>
                </a:lnTo>
                <a:lnTo>
                  <a:pt x="1210" y="0"/>
                </a:lnTo>
                <a:lnTo>
                  <a:pt x="1220" y="0"/>
                </a:lnTo>
                <a:lnTo>
                  <a:pt x="1230" y="0"/>
                </a:lnTo>
                <a:lnTo>
                  <a:pt x="1240" y="0"/>
                </a:lnTo>
                <a:lnTo>
                  <a:pt x="1250" y="0"/>
                </a:lnTo>
                <a:lnTo>
                  <a:pt x="1260" y="0"/>
                </a:lnTo>
              </a:path>
            </a:pathLst>
          </a:custGeom>
          <a:noFill/>
          <a:ln w="255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2288" name=""/>
          <p:cNvGrpSpPr/>
          <p:nvPr/>
        </p:nvGrpSpPr>
        <p:grpSpPr>
          <a:xfrm>
            <a:off x="5672160" y="5483160"/>
            <a:ext cx="1920600" cy="416160"/>
            <a:chOff x="5672160" y="5483160"/>
            <a:chExt cx="1920600" cy="416160"/>
          </a:xfrm>
        </p:grpSpPr>
        <p:sp>
          <p:nvSpPr>
            <p:cNvPr id="2289" name=""/>
            <p:cNvSpPr/>
            <p:nvPr/>
          </p:nvSpPr>
          <p:spPr>
            <a:xfrm>
              <a:off x="5672160" y="5483160"/>
              <a:ext cx="723240" cy="416160"/>
            </a:xfrm>
            <a:custGeom>
              <a:avLst/>
              <a:gdLst/>
              <a:ahLst/>
              <a:rect l="l" t="t" r="r" b="b"/>
              <a:pathLst>
                <a:path w="1120" h="1814">
                  <a:moveTo>
                    <a:pt x="0" y="1814"/>
                  </a:moveTo>
                  <a:lnTo>
                    <a:pt x="10" y="1814"/>
                  </a:lnTo>
                  <a:lnTo>
                    <a:pt x="19" y="1814"/>
                  </a:lnTo>
                  <a:lnTo>
                    <a:pt x="29" y="1814"/>
                  </a:lnTo>
                  <a:lnTo>
                    <a:pt x="39" y="1814"/>
                  </a:lnTo>
                  <a:lnTo>
                    <a:pt x="49" y="1814"/>
                  </a:lnTo>
                  <a:lnTo>
                    <a:pt x="59" y="1814"/>
                  </a:lnTo>
                  <a:lnTo>
                    <a:pt x="69" y="1814"/>
                  </a:lnTo>
                  <a:lnTo>
                    <a:pt x="79" y="1814"/>
                  </a:lnTo>
                  <a:lnTo>
                    <a:pt x="89" y="1814"/>
                  </a:lnTo>
                  <a:lnTo>
                    <a:pt x="99" y="1814"/>
                  </a:lnTo>
                  <a:lnTo>
                    <a:pt x="109" y="1814"/>
                  </a:lnTo>
                  <a:lnTo>
                    <a:pt x="119" y="1814"/>
                  </a:lnTo>
                  <a:lnTo>
                    <a:pt x="128" y="1814"/>
                  </a:lnTo>
                  <a:lnTo>
                    <a:pt x="138" y="1814"/>
                  </a:lnTo>
                  <a:lnTo>
                    <a:pt x="148" y="1814"/>
                  </a:lnTo>
                  <a:lnTo>
                    <a:pt x="158" y="1814"/>
                  </a:lnTo>
                  <a:lnTo>
                    <a:pt x="168" y="1814"/>
                  </a:lnTo>
                  <a:lnTo>
                    <a:pt x="178" y="1814"/>
                  </a:lnTo>
                  <a:lnTo>
                    <a:pt x="188" y="1814"/>
                  </a:lnTo>
                  <a:lnTo>
                    <a:pt x="198" y="1814"/>
                  </a:lnTo>
                  <a:lnTo>
                    <a:pt x="208" y="1814"/>
                  </a:lnTo>
                  <a:lnTo>
                    <a:pt x="218" y="1814"/>
                  </a:lnTo>
                  <a:lnTo>
                    <a:pt x="228" y="1814"/>
                  </a:lnTo>
                  <a:lnTo>
                    <a:pt x="238" y="1814"/>
                  </a:lnTo>
                  <a:lnTo>
                    <a:pt x="247" y="1814"/>
                  </a:lnTo>
                  <a:lnTo>
                    <a:pt x="257" y="1814"/>
                  </a:lnTo>
                  <a:lnTo>
                    <a:pt x="267" y="1814"/>
                  </a:lnTo>
                  <a:lnTo>
                    <a:pt x="277" y="1814"/>
                  </a:lnTo>
                  <a:lnTo>
                    <a:pt x="287" y="1814"/>
                  </a:lnTo>
                  <a:lnTo>
                    <a:pt x="297" y="1814"/>
                  </a:lnTo>
                  <a:lnTo>
                    <a:pt x="307" y="1814"/>
                  </a:lnTo>
                  <a:lnTo>
                    <a:pt x="317" y="1814"/>
                  </a:lnTo>
                  <a:lnTo>
                    <a:pt x="327" y="1814"/>
                  </a:lnTo>
                  <a:lnTo>
                    <a:pt x="337" y="1814"/>
                  </a:lnTo>
                  <a:lnTo>
                    <a:pt x="347" y="1814"/>
                  </a:lnTo>
                  <a:lnTo>
                    <a:pt x="357" y="1814"/>
                  </a:lnTo>
                  <a:lnTo>
                    <a:pt x="366" y="1814"/>
                  </a:lnTo>
                  <a:lnTo>
                    <a:pt x="376" y="1814"/>
                  </a:lnTo>
                  <a:lnTo>
                    <a:pt x="386" y="1814"/>
                  </a:lnTo>
                  <a:lnTo>
                    <a:pt x="396" y="1814"/>
                  </a:lnTo>
                  <a:lnTo>
                    <a:pt x="406" y="1814"/>
                  </a:lnTo>
                  <a:lnTo>
                    <a:pt x="416" y="1814"/>
                  </a:lnTo>
                  <a:lnTo>
                    <a:pt x="426" y="1814"/>
                  </a:lnTo>
                  <a:lnTo>
                    <a:pt x="436" y="1814"/>
                  </a:lnTo>
                  <a:lnTo>
                    <a:pt x="446" y="1814"/>
                  </a:lnTo>
                  <a:lnTo>
                    <a:pt x="456" y="1814"/>
                  </a:lnTo>
                  <a:lnTo>
                    <a:pt x="466" y="1814"/>
                  </a:lnTo>
                  <a:lnTo>
                    <a:pt x="476" y="1814"/>
                  </a:lnTo>
                  <a:lnTo>
                    <a:pt x="485" y="1814"/>
                  </a:lnTo>
                  <a:lnTo>
                    <a:pt x="495" y="1814"/>
                  </a:lnTo>
                  <a:lnTo>
                    <a:pt x="505" y="1814"/>
                  </a:lnTo>
                  <a:lnTo>
                    <a:pt x="515" y="1814"/>
                  </a:lnTo>
                  <a:lnTo>
                    <a:pt x="525" y="1814"/>
                  </a:lnTo>
                  <a:lnTo>
                    <a:pt x="535" y="1814"/>
                  </a:lnTo>
                  <a:lnTo>
                    <a:pt x="545" y="1814"/>
                  </a:lnTo>
                  <a:lnTo>
                    <a:pt x="555" y="1814"/>
                  </a:lnTo>
                  <a:lnTo>
                    <a:pt x="565" y="1814"/>
                  </a:lnTo>
                  <a:lnTo>
                    <a:pt x="575" y="1814"/>
                  </a:lnTo>
                  <a:lnTo>
                    <a:pt x="585" y="1814"/>
                  </a:lnTo>
                  <a:lnTo>
                    <a:pt x="594" y="1814"/>
                  </a:lnTo>
                  <a:lnTo>
                    <a:pt x="604" y="1814"/>
                  </a:lnTo>
                  <a:lnTo>
                    <a:pt x="614" y="1814"/>
                  </a:lnTo>
                  <a:lnTo>
                    <a:pt x="624" y="1814"/>
                  </a:lnTo>
                  <a:lnTo>
                    <a:pt x="634" y="1814"/>
                  </a:lnTo>
                  <a:lnTo>
                    <a:pt x="644" y="1814"/>
                  </a:lnTo>
                  <a:lnTo>
                    <a:pt x="654" y="1814"/>
                  </a:lnTo>
                  <a:lnTo>
                    <a:pt x="664" y="1814"/>
                  </a:lnTo>
                  <a:lnTo>
                    <a:pt x="674" y="1814"/>
                  </a:lnTo>
                  <a:lnTo>
                    <a:pt x="684" y="1814"/>
                  </a:lnTo>
                  <a:lnTo>
                    <a:pt x="694" y="1814"/>
                  </a:lnTo>
                  <a:lnTo>
                    <a:pt x="704" y="1814"/>
                  </a:lnTo>
                  <a:lnTo>
                    <a:pt x="713" y="1814"/>
                  </a:lnTo>
                  <a:lnTo>
                    <a:pt x="723" y="1814"/>
                  </a:lnTo>
                  <a:lnTo>
                    <a:pt x="733" y="1814"/>
                  </a:lnTo>
                  <a:lnTo>
                    <a:pt x="743" y="1814"/>
                  </a:lnTo>
                  <a:lnTo>
                    <a:pt x="753" y="1814"/>
                  </a:lnTo>
                  <a:lnTo>
                    <a:pt x="763" y="1814"/>
                  </a:lnTo>
                  <a:lnTo>
                    <a:pt x="763" y="1725"/>
                  </a:lnTo>
                  <a:lnTo>
                    <a:pt x="773" y="1626"/>
                  </a:lnTo>
                  <a:lnTo>
                    <a:pt x="783" y="1527"/>
                  </a:lnTo>
                  <a:lnTo>
                    <a:pt x="783" y="1408"/>
                  </a:lnTo>
                  <a:lnTo>
                    <a:pt x="793" y="1279"/>
                  </a:lnTo>
                  <a:lnTo>
                    <a:pt x="803" y="1140"/>
                  </a:lnTo>
                  <a:lnTo>
                    <a:pt x="803" y="992"/>
                  </a:lnTo>
                  <a:lnTo>
                    <a:pt x="813" y="833"/>
                  </a:lnTo>
                  <a:lnTo>
                    <a:pt x="813" y="664"/>
                  </a:lnTo>
                  <a:lnTo>
                    <a:pt x="823" y="575"/>
                  </a:lnTo>
                  <a:lnTo>
                    <a:pt x="832" y="476"/>
                  </a:lnTo>
                  <a:lnTo>
                    <a:pt x="832" y="387"/>
                  </a:lnTo>
                  <a:lnTo>
                    <a:pt x="842" y="297"/>
                  </a:lnTo>
                  <a:lnTo>
                    <a:pt x="842" y="228"/>
                  </a:lnTo>
                  <a:lnTo>
                    <a:pt x="852" y="159"/>
                  </a:lnTo>
                  <a:lnTo>
                    <a:pt x="862" y="109"/>
                  </a:lnTo>
                  <a:lnTo>
                    <a:pt x="862" y="69"/>
                  </a:lnTo>
                  <a:lnTo>
                    <a:pt x="872" y="30"/>
                  </a:lnTo>
                  <a:lnTo>
                    <a:pt x="882" y="0"/>
                  </a:lnTo>
                  <a:lnTo>
                    <a:pt x="892" y="0"/>
                  </a:lnTo>
                  <a:lnTo>
                    <a:pt x="902" y="0"/>
                  </a:lnTo>
                  <a:lnTo>
                    <a:pt x="912" y="10"/>
                  </a:lnTo>
                  <a:lnTo>
                    <a:pt x="922" y="30"/>
                  </a:lnTo>
                  <a:lnTo>
                    <a:pt x="932" y="69"/>
                  </a:lnTo>
                  <a:lnTo>
                    <a:pt x="932" y="109"/>
                  </a:lnTo>
                  <a:lnTo>
                    <a:pt x="942" y="159"/>
                  </a:lnTo>
                  <a:lnTo>
                    <a:pt x="942" y="228"/>
                  </a:lnTo>
                  <a:lnTo>
                    <a:pt x="951" y="297"/>
                  </a:lnTo>
                  <a:lnTo>
                    <a:pt x="961" y="387"/>
                  </a:lnTo>
                  <a:lnTo>
                    <a:pt x="961" y="476"/>
                  </a:lnTo>
                  <a:lnTo>
                    <a:pt x="971" y="575"/>
                  </a:lnTo>
                  <a:lnTo>
                    <a:pt x="971" y="664"/>
                  </a:lnTo>
                  <a:lnTo>
                    <a:pt x="981" y="763"/>
                  </a:lnTo>
                  <a:lnTo>
                    <a:pt x="991" y="922"/>
                  </a:lnTo>
                  <a:lnTo>
                    <a:pt x="991" y="1071"/>
                  </a:lnTo>
                  <a:lnTo>
                    <a:pt x="1001" y="1210"/>
                  </a:lnTo>
                  <a:lnTo>
                    <a:pt x="1011" y="1329"/>
                  </a:lnTo>
                  <a:lnTo>
                    <a:pt x="1011" y="1448"/>
                  </a:lnTo>
                  <a:lnTo>
                    <a:pt x="1021" y="1557"/>
                  </a:lnTo>
                  <a:lnTo>
                    <a:pt x="1021" y="1646"/>
                  </a:lnTo>
                  <a:lnTo>
                    <a:pt x="1031" y="1735"/>
                  </a:lnTo>
                  <a:lnTo>
                    <a:pt x="1041" y="1814"/>
                  </a:lnTo>
                  <a:lnTo>
                    <a:pt x="1051" y="1814"/>
                  </a:lnTo>
                  <a:lnTo>
                    <a:pt x="1060" y="1814"/>
                  </a:lnTo>
                  <a:lnTo>
                    <a:pt x="1070" y="1814"/>
                  </a:lnTo>
                  <a:lnTo>
                    <a:pt x="1080" y="1814"/>
                  </a:lnTo>
                  <a:lnTo>
                    <a:pt x="1090" y="1814"/>
                  </a:lnTo>
                  <a:lnTo>
                    <a:pt x="1100" y="1814"/>
                  </a:lnTo>
                  <a:lnTo>
                    <a:pt x="1110" y="1814"/>
                  </a:lnTo>
                  <a:lnTo>
                    <a:pt x="1120" y="181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6395400" y="5505840"/>
              <a:ext cx="698040" cy="393480"/>
            </a:xfrm>
            <a:custGeom>
              <a:avLst/>
              <a:gdLst/>
              <a:ahLst/>
              <a:rect l="l" t="t" r="r" b="b"/>
              <a:pathLst>
                <a:path w="1081" h="1715">
                  <a:moveTo>
                    <a:pt x="0" y="1715"/>
                  </a:moveTo>
                  <a:lnTo>
                    <a:pt x="10" y="1715"/>
                  </a:lnTo>
                  <a:lnTo>
                    <a:pt x="20" y="1715"/>
                  </a:lnTo>
                  <a:lnTo>
                    <a:pt x="30" y="1715"/>
                  </a:lnTo>
                  <a:lnTo>
                    <a:pt x="40" y="1715"/>
                  </a:lnTo>
                  <a:lnTo>
                    <a:pt x="50" y="1715"/>
                  </a:lnTo>
                  <a:lnTo>
                    <a:pt x="59" y="1715"/>
                  </a:lnTo>
                  <a:lnTo>
                    <a:pt x="69" y="1626"/>
                  </a:lnTo>
                  <a:lnTo>
                    <a:pt x="69" y="1527"/>
                  </a:lnTo>
                  <a:lnTo>
                    <a:pt x="79" y="1428"/>
                  </a:lnTo>
                  <a:lnTo>
                    <a:pt x="79" y="1309"/>
                  </a:lnTo>
                  <a:lnTo>
                    <a:pt x="89" y="1180"/>
                  </a:lnTo>
                  <a:lnTo>
                    <a:pt x="99" y="1041"/>
                  </a:lnTo>
                  <a:lnTo>
                    <a:pt x="99" y="893"/>
                  </a:lnTo>
                  <a:lnTo>
                    <a:pt x="109" y="734"/>
                  </a:lnTo>
                  <a:lnTo>
                    <a:pt x="119" y="565"/>
                  </a:lnTo>
                  <a:lnTo>
                    <a:pt x="119" y="476"/>
                  </a:lnTo>
                  <a:lnTo>
                    <a:pt x="129" y="377"/>
                  </a:lnTo>
                  <a:lnTo>
                    <a:pt x="129" y="288"/>
                  </a:lnTo>
                  <a:lnTo>
                    <a:pt x="139" y="198"/>
                  </a:lnTo>
                  <a:lnTo>
                    <a:pt x="149" y="129"/>
                  </a:lnTo>
                  <a:lnTo>
                    <a:pt x="149" y="60"/>
                  </a:lnTo>
                  <a:lnTo>
                    <a:pt x="159" y="20"/>
                  </a:lnTo>
                  <a:lnTo>
                    <a:pt x="159" y="0"/>
                  </a:lnTo>
                  <a:lnTo>
                    <a:pt x="169" y="0"/>
                  </a:lnTo>
                  <a:lnTo>
                    <a:pt x="178" y="20"/>
                  </a:lnTo>
                  <a:lnTo>
                    <a:pt x="178" y="60"/>
                  </a:lnTo>
                  <a:lnTo>
                    <a:pt x="188" y="129"/>
                  </a:lnTo>
                  <a:lnTo>
                    <a:pt x="198" y="198"/>
                  </a:lnTo>
                  <a:lnTo>
                    <a:pt x="198" y="288"/>
                  </a:lnTo>
                  <a:lnTo>
                    <a:pt x="208" y="377"/>
                  </a:lnTo>
                  <a:lnTo>
                    <a:pt x="208" y="476"/>
                  </a:lnTo>
                  <a:lnTo>
                    <a:pt x="218" y="565"/>
                  </a:lnTo>
                  <a:lnTo>
                    <a:pt x="228" y="664"/>
                  </a:lnTo>
                  <a:lnTo>
                    <a:pt x="228" y="823"/>
                  </a:lnTo>
                  <a:lnTo>
                    <a:pt x="238" y="972"/>
                  </a:lnTo>
                  <a:lnTo>
                    <a:pt x="248" y="1111"/>
                  </a:lnTo>
                  <a:lnTo>
                    <a:pt x="248" y="1230"/>
                  </a:lnTo>
                  <a:lnTo>
                    <a:pt x="258" y="1349"/>
                  </a:lnTo>
                  <a:lnTo>
                    <a:pt x="258" y="1458"/>
                  </a:lnTo>
                  <a:lnTo>
                    <a:pt x="268" y="1547"/>
                  </a:lnTo>
                  <a:lnTo>
                    <a:pt x="278" y="1636"/>
                  </a:lnTo>
                  <a:lnTo>
                    <a:pt x="278" y="1715"/>
                  </a:lnTo>
                  <a:lnTo>
                    <a:pt x="288" y="1715"/>
                  </a:lnTo>
                  <a:lnTo>
                    <a:pt x="297" y="1715"/>
                  </a:lnTo>
                  <a:lnTo>
                    <a:pt x="307" y="1715"/>
                  </a:lnTo>
                  <a:lnTo>
                    <a:pt x="317" y="1715"/>
                  </a:lnTo>
                  <a:lnTo>
                    <a:pt x="327" y="1715"/>
                  </a:lnTo>
                  <a:lnTo>
                    <a:pt x="337" y="1715"/>
                  </a:lnTo>
                  <a:lnTo>
                    <a:pt x="347" y="1715"/>
                  </a:lnTo>
                  <a:lnTo>
                    <a:pt x="357" y="1715"/>
                  </a:lnTo>
                  <a:lnTo>
                    <a:pt x="367" y="1715"/>
                  </a:lnTo>
                  <a:lnTo>
                    <a:pt x="377" y="1715"/>
                  </a:lnTo>
                  <a:lnTo>
                    <a:pt x="387" y="1715"/>
                  </a:lnTo>
                  <a:lnTo>
                    <a:pt x="397" y="1715"/>
                  </a:lnTo>
                  <a:lnTo>
                    <a:pt x="406" y="1715"/>
                  </a:lnTo>
                  <a:lnTo>
                    <a:pt x="416" y="1715"/>
                  </a:lnTo>
                  <a:lnTo>
                    <a:pt x="426" y="1715"/>
                  </a:lnTo>
                  <a:lnTo>
                    <a:pt x="436" y="1715"/>
                  </a:lnTo>
                  <a:lnTo>
                    <a:pt x="446" y="1715"/>
                  </a:lnTo>
                  <a:lnTo>
                    <a:pt x="456" y="1715"/>
                  </a:lnTo>
                  <a:lnTo>
                    <a:pt x="466" y="1715"/>
                  </a:lnTo>
                  <a:lnTo>
                    <a:pt x="476" y="1715"/>
                  </a:lnTo>
                  <a:lnTo>
                    <a:pt x="486" y="1715"/>
                  </a:lnTo>
                  <a:lnTo>
                    <a:pt x="496" y="1715"/>
                  </a:lnTo>
                  <a:lnTo>
                    <a:pt x="506" y="1715"/>
                  </a:lnTo>
                  <a:lnTo>
                    <a:pt x="516" y="1715"/>
                  </a:lnTo>
                  <a:lnTo>
                    <a:pt x="525" y="1715"/>
                  </a:lnTo>
                  <a:lnTo>
                    <a:pt x="535" y="1715"/>
                  </a:lnTo>
                  <a:lnTo>
                    <a:pt x="545" y="1715"/>
                  </a:lnTo>
                  <a:lnTo>
                    <a:pt x="555" y="1715"/>
                  </a:lnTo>
                  <a:lnTo>
                    <a:pt x="565" y="1715"/>
                  </a:lnTo>
                  <a:lnTo>
                    <a:pt x="575" y="1715"/>
                  </a:lnTo>
                  <a:lnTo>
                    <a:pt x="585" y="1715"/>
                  </a:lnTo>
                  <a:lnTo>
                    <a:pt x="595" y="1715"/>
                  </a:lnTo>
                  <a:lnTo>
                    <a:pt x="605" y="1715"/>
                  </a:lnTo>
                  <a:lnTo>
                    <a:pt x="615" y="1715"/>
                  </a:lnTo>
                  <a:lnTo>
                    <a:pt x="625" y="1715"/>
                  </a:lnTo>
                  <a:lnTo>
                    <a:pt x="635" y="1715"/>
                  </a:lnTo>
                  <a:lnTo>
                    <a:pt x="644" y="1715"/>
                  </a:lnTo>
                  <a:lnTo>
                    <a:pt x="654" y="1715"/>
                  </a:lnTo>
                  <a:lnTo>
                    <a:pt x="664" y="1715"/>
                  </a:lnTo>
                  <a:lnTo>
                    <a:pt x="674" y="1715"/>
                  </a:lnTo>
                  <a:lnTo>
                    <a:pt x="684" y="1715"/>
                  </a:lnTo>
                  <a:lnTo>
                    <a:pt x="694" y="1715"/>
                  </a:lnTo>
                  <a:lnTo>
                    <a:pt x="704" y="1715"/>
                  </a:lnTo>
                  <a:lnTo>
                    <a:pt x="714" y="1715"/>
                  </a:lnTo>
                  <a:lnTo>
                    <a:pt x="724" y="1715"/>
                  </a:lnTo>
                  <a:lnTo>
                    <a:pt x="734" y="1715"/>
                  </a:lnTo>
                  <a:lnTo>
                    <a:pt x="744" y="1715"/>
                  </a:lnTo>
                  <a:lnTo>
                    <a:pt x="754" y="1715"/>
                  </a:lnTo>
                  <a:lnTo>
                    <a:pt x="763" y="1715"/>
                  </a:lnTo>
                  <a:lnTo>
                    <a:pt x="773" y="1715"/>
                  </a:lnTo>
                  <a:lnTo>
                    <a:pt x="783" y="1715"/>
                  </a:lnTo>
                  <a:lnTo>
                    <a:pt x="793" y="1715"/>
                  </a:lnTo>
                  <a:lnTo>
                    <a:pt x="803" y="1715"/>
                  </a:lnTo>
                  <a:lnTo>
                    <a:pt x="813" y="1715"/>
                  </a:lnTo>
                  <a:lnTo>
                    <a:pt x="823" y="1715"/>
                  </a:lnTo>
                  <a:lnTo>
                    <a:pt x="833" y="1715"/>
                  </a:lnTo>
                  <a:lnTo>
                    <a:pt x="843" y="1715"/>
                  </a:lnTo>
                  <a:lnTo>
                    <a:pt x="853" y="1715"/>
                  </a:lnTo>
                  <a:lnTo>
                    <a:pt x="863" y="1715"/>
                  </a:lnTo>
                  <a:lnTo>
                    <a:pt x="872" y="1715"/>
                  </a:lnTo>
                  <a:lnTo>
                    <a:pt x="882" y="1715"/>
                  </a:lnTo>
                  <a:lnTo>
                    <a:pt x="892" y="1715"/>
                  </a:lnTo>
                  <a:lnTo>
                    <a:pt x="902" y="1715"/>
                  </a:lnTo>
                  <a:lnTo>
                    <a:pt x="912" y="1715"/>
                  </a:lnTo>
                  <a:lnTo>
                    <a:pt x="922" y="1715"/>
                  </a:lnTo>
                  <a:lnTo>
                    <a:pt x="932" y="1715"/>
                  </a:lnTo>
                  <a:lnTo>
                    <a:pt x="942" y="1715"/>
                  </a:lnTo>
                  <a:lnTo>
                    <a:pt x="952" y="1715"/>
                  </a:lnTo>
                  <a:lnTo>
                    <a:pt x="962" y="1715"/>
                  </a:lnTo>
                  <a:lnTo>
                    <a:pt x="972" y="1715"/>
                  </a:lnTo>
                  <a:lnTo>
                    <a:pt x="982" y="1715"/>
                  </a:lnTo>
                  <a:lnTo>
                    <a:pt x="991" y="1715"/>
                  </a:lnTo>
                  <a:lnTo>
                    <a:pt x="1001" y="1715"/>
                  </a:lnTo>
                  <a:lnTo>
                    <a:pt x="1011" y="1715"/>
                  </a:lnTo>
                  <a:lnTo>
                    <a:pt x="1021" y="1715"/>
                  </a:lnTo>
                  <a:lnTo>
                    <a:pt x="1031" y="1626"/>
                  </a:lnTo>
                  <a:lnTo>
                    <a:pt x="1041" y="1527"/>
                  </a:lnTo>
                  <a:lnTo>
                    <a:pt x="1041" y="1428"/>
                  </a:lnTo>
                  <a:lnTo>
                    <a:pt x="1051" y="1309"/>
                  </a:lnTo>
                  <a:lnTo>
                    <a:pt x="1051" y="1180"/>
                  </a:lnTo>
                  <a:lnTo>
                    <a:pt x="1061" y="1041"/>
                  </a:lnTo>
                  <a:lnTo>
                    <a:pt x="1071" y="893"/>
                  </a:lnTo>
                  <a:lnTo>
                    <a:pt x="1071" y="734"/>
                  </a:lnTo>
                  <a:lnTo>
                    <a:pt x="1081" y="565"/>
                  </a:lnTo>
                  <a:lnTo>
                    <a:pt x="1081" y="476"/>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7093800" y="5483160"/>
              <a:ext cx="498960" cy="416160"/>
            </a:xfrm>
            <a:custGeom>
              <a:avLst/>
              <a:gdLst/>
              <a:ahLst/>
              <a:rect l="l" t="t" r="r" b="b"/>
              <a:pathLst>
                <a:path w="773" h="1814">
                  <a:moveTo>
                    <a:pt x="0" y="575"/>
                  </a:moveTo>
                  <a:lnTo>
                    <a:pt x="10" y="476"/>
                  </a:lnTo>
                  <a:lnTo>
                    <a:pt x="20" y="387"/>
                  </a:lnTo>
                  <a:lnTo>
                    <a:pt x="20" y="297"/>
                  </a:lnTo>
                  <a:lnTo>
                    <a:pt x="29" y="228"/>
                  </a:lnTo>
                  <a:lnTo>
                    <a:pt x="39" y="159"/>
                  </a:lnTo>
                  <a:lnTo>
                    <a:pt x="39" y="109"/>
                  </a:lnTo>
                  <a:lnTo>
                    <a:pt x="49" y="69"/>
                  </a:lnTo>
                  <a:lnTo>
                    <a:pt x="49" y="30"/>
                  </a:lnTo>
                  <a:lnTo>
                    <a:pt x="59" y="10"/>
                  </a:lnTo>
                  <a:lnTo>
                    <a:pt x="69" y="0"/>
                  </a:lnTo>
                  <a:lnTo>
                    <a:pt x="79" y="10"/>
                  </a:lnTo>
                  <a:lnTo>
                    <a:pt x="89" y="30"/>
                  </a:lnTo>
                  <a:lnTo>
                    <a:pt x="89" y="69"/>
                  </a:lnTo>
                  <a:lnTo>
                    <a:pt x="99" y="109"/>
                  </a:lnTo>
                  <a:lnTo>
                    <a:pt x="99" y="159"/>
                  </a:lnTo>
                  <a:lnTo>
                    <a:pt x="109" y="228"/>
                  </a:lnTo>
                  <a:lnTo>
                    <a:pt x="119" y="297"/>
                  </a:lnTo>
                  <a:lnTo>
                    <a:pt x="119" y="387"/>
                  </a:lnTo>
                  <a:lnTo>
                    <a:pt x="129" y="476"/>
                  </a:lnTo>
                  <a:lnTo>
                    <a:pt x="139" y="575"/>
                  </a:lnTo>
                  <a:lnTo>
                    <a:pt x="139" y="664"/>
                  </a:lnTo>
                  <a:lnTo>
                    <a:pt x="148" y="763"/>
                  </a:lnTo>
                  <a:lnTo>
                    <a:pt x="148" y="922"/>
                  </a:lnTo>
                  <a:lnTo>
                    <a:pt x="158" y="1071"/>
                  </a:lnTo>
                  <a:lnTo>
                    <a:pt x="168" y="1210"/>
                  </a:lnTo>
                  <a:lnTo>
                    <a:pt x="168" y="1329"/>
                  </a:lnTo>
                  <a:lnTo>
                    <a:pt x="178" y="1448"/>
                  </a:lnTo>
                  <a:lnTo>
                    <a:pt x="178" y="1557"/>
                  </a:lnTo>
                  <a:lnTo>
                    <a:pt x="188" y="1646"/>
                  </a:lnTo>
                  <a:lnTo>
                    <a:pt x="198" y="1735"/>
                  </a:lnTo>
                  <a:lnTo>
                    <a:pt x="198" y="1814"/>
                  </a:lnTo>
                  <a:lnTo>
                    <a:pt x="208" y="1814"/>
                  </a:lnTo>
                  <a:lnTo>
                    <a:pt x="218" y="1814"/>
                  </a:lnTo>
                  <a:lnTo>
                    <a:pt x="228" y="1814"/>
                  </a:lnTo>
                  <a:lnTo>
                    <a:pt x="238" y="1814"/>
                  </a:lnTo>
                  <a:lnTo>
                    <a:pt x="248" y="1814"/>
                  </a:lnTo>
                  <a:lnTo>
                    <a:pt x="257" y="1814"/>
                  </a:lnTo>
                  <a:lnTo>
                    <a:pt x="267" y="1814"/>
                  </a:lnTo>
                  <a:lnTo>
                    <a:pt x="277" y="1814"/>
                  </a:lnTo>
                  <a:lnTo>
                    <a:pt x="287" y="1814"/>
                  </a:lnTo>
                  <a:lnTo>
                    <a:pt x="297" y="1814"/>
                  </a:lnTo>
                  <a:lnTo>
                    <a:pt x="307" y="1814"/>
                  </a:lnTo>
                  <a:lnTo>
                    <a:pt x="317" y="1814"/>
                  </a:lnTo>
                  <a:lnTo>
                    <a:pt x="327" y="1814"/>
                  </a:lnTo>
                  <a:lnTo>
                    <a:pt x="337" y="1814"/>
                  </a:lnTo>
                  <a:lnTo>
                    <a:pt x="347" y="1725"/>
                  </a:lnTo>
                  <a:lnTo>
                    <a:pt x="347" y="1626"/>
                  </a:lnTo>
                  <a:lnTo>
                    <a:pt x="357" y="1527"/>
                  </a:lnTo>
                  <a:lnTo>
                    <a:pt x="357" y="1408"/>
                  </a:lnTo>
                  <a:lnTo>
                    <a:pt x="367" y="1279"/>
                  </a:lnTo>
                  <a:lnTo>
                    <a:pt x="376" y="1140"/>
                  </a:lnTo>
                  <a:lnTo>
                    <a:pt x="376" y="992"/>
                  </a:lnTo>
                  <a:lnTo>
                    <a:pt x="386" y="833"/>
                  </a:lnTo>
                  <a:lnTo>
                    <a:pt x="396" y="664"/>
                  </a:lnTo>
                  <a:lnTo>
                    <a:pt x="396" y="575"/>
                  </a:lnTo>
                  <a:lnTo>
                    <a:pt x="406" y="476"/>
                  </a:lnTo>
                  <a:lnTo>
                    <a:pt x="406" y="387"/>
                  </a:lnTo>
                  <a:lnTo>
                    <a:pt x="416" y="297"/>
                  </a:lnTo>
                  <a:lnTo>
                    <a:pt x="426" y="228"/>
                  </a:lnTo>
                  <a:lnTo>
                    <a:pt x="426" y="159"/>
                  </a:lnTo>
                  <a:lnTo>
                    <a:pt x="436" y="109"/>
                  </a:lnTo>
                  <a:lnTo>
                    <a:pt x="446" y="69"/>
                  </a:lnTo>
                  <a:lnTo>
                    <a:pt x="446" y="30"/>
                  </a:lnTo>
                  <a:lnTo>
                    <a:pt x="456" y="0"/>
                  </a:lnTo>
                  <a:lnTo>
                    <a:pt x="466" y="0"/>
                  </a:lnTo>
                  <a:lnTo>
                    <a:pt x="476" y="0"/>
                  </a:lnTo>
                  <a:lnTo>
                    <a:pt x="486" y="0"/>
                  </a:lnTo>
                  <a:lnTo>
                    <a:pt x="495" y="0"/>
                  </a:lnTo>
                  <a:lnTo>
                    <a:pt x="505" y="10"/>
                  </a:lnTo>
                  <a:lnTo>
                    <a:pt x="505" y="30"/>
                  </a:lnTo>
                  <a:lnTo>
                    <a:pt x="515" y="69"/>
                  </a:lnTo>
                  <a:lnTo>
                    <a:pt x="525" y="109"/>
                  </a:lnTo>
                  <a:lnTo>
                    <a:pt x="525" y="159"/>
                  </a:lnTo>
                  <a:lnTo>
                    <a:pt x="535" y="228"/>
                  </a:lnTo>
                  <a:lnTo>
                    <a:pt x="535" y="297"/>
                  </a:lnTo>
                  <a:lnTo>
                    <a:pt x="545" y="387"/>
                  </a:lnTo>
                  <a:lnTo>
                    <a:pt x="555" y="476"/>
                  </a:lnTo>
                  <a:lnTo>
                    <a:pt x="555" y="575"/>
                  </a:lnTo>
                  <a:lnTo>
                    <a:pt x="565" y="664"/>
                  </a:lnTo>
                  <a:lnTo>
                    <a:pt x="575" y="763"/>
                  </a:lnTo>
                  <a:lnTo>
                    <a:pt x="575" y="922"/>
                  </a:lnTo>
                  <a:lnTo>
                    <a:pt x="585" y="1071"/>
                  </a:lnTo>
                  <a:lnTo>
                    <a:pt x="585" y="1210"/>
                  </a:lnTo>
                  <a:lnTo>
                    <a:pt x="595" y="1329"/>
                  </a:lnTo>
                  <a:lnTo>
                    <a:pt x="605" y="1448"/>
                  </a:lnTo>
                  <a:lnTo>
                    <a:pt x="605" y="1557"/>
                  </a:lnTo>
                  <a:lnTo>
                    <a:pt x="614" y="1646"/>
                  </a:lnTo>
                  <a:lnTo>
                    <a:pt x="614" y="1735"/>
                  </a:lnTo>
                  <a:lnTo>
                    <a:pt x="624" y="1814"/>
                  </a:lnTo>
                  <a:lnTo>
                    <a:pt x="634" y="1814"/>
                  </a:lnTo>
                  <a:lnTo>
                    <a:pt x="644" y="1814"/>
                  </a:lnTo>
                  <a:lnTo>
                    <a:pt x="654" y="1814"/>
                  </a:lnTo>
                  <a:lnTo>
                    <a:pt x="664" y="1814"/>
                  </a:lnTo>
                  <a:lnTo>
                    <a:pt x="674" y="1814"/>
                  </a:lnTo>
                  <a:lnTo>
                    <a:pt x="684" y="1814"/>
                  </a:lnTo>
                  <a:lnTo>
                    <a:pt x="694" y="1814"/>
                  </a:lnTo>
                  <a:lnTo>
                    <a:pt x="704" y="1814"/>
                  </a:lnTo>
                  <a:lnTo>
                    <a:pt x="714" y="1814"/>
                  </a:lnTo>
                  <a:lnTo>
                    <a:pt x="723" y="1814"/>
                  </a:lnTo>
                  <a:lnTo>
                    <a:pt x="733" y="1814"/>
                  </a:lnTo>
                  <a:lnTo>
                    <a:pt x="743" y="1814"/>
                  </a:lnTo>
                  <a:lnTo>
                    <a:pt x="753" y="1814"/>
                  </a:lnTo>
                  <a:lnTo>
                    <a:pt x="763" y="1814"/>
                  </a:lnTo>
                  <a:lnTo>
                    <a:pt x="773" y="181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2" name=""/>
          <p:cNvSpPr/>
          <p:nvPr/>
        </p:nvSpPr>
        <p:spPr>
          <a:xfrm>
            <a:off x="2063880" y="5919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293" name=""/>
          <p:cNvSpPr/>
          <p:nvPr/>
        </p:nvSpPr>
        <p:spPr>
          <a:xfrm>
            <a:off x="381960" y="23623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data</a:t>
            </a:r>
            <a:endParaRPr b="0" lang="en-US" sz="1800" spc="-1" strike="noStrike">
              <a:solidFill>
                <a:srgbClr val="000000"/>
              </a:solidFill>
              <a:latin typeface="Times New Roman"/>
            </a:endParaRPr>
          </a:p>
        </p:txBody>
      </p:sp>
      <p:sp>
        <p:nvSpPr>
          <p:cNvPr id="2294" name=""/>
          <p:cNvSpPr/>
          <p:nvPr/>
        </p:nvSpPr>
        <p:spPr>
          <a:xfrm>
            <a:off x="447480" y="3816360"/>
            <a:ext cx="9532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t)</a:t>
            </a:r>
            <a:endParaRPr b="0" lang="en-US" sz="1800" spc="-1" strike="noStrike">
              <a:solidFill>
                <a:srgbClr val="000000"/>
              </a:solidFill>
              <a:latin typeface="Times New Roman"/>
            </a:endParaRPr>
          </a:p>
        </p:txBody>
      </p:sp>
      <p:sp>
        <p:nvSpPr>
          <p:cNvPr id="2295" name=""/>
          <p:cNvSpPr/>
          <p:nvPr/>
        </p:nvSpPr>
        <p:spPr>
          <a:xfrm>
            <a:off x="423720" y="5533920"/>
            <a:ext cx="16527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zan’s level of surprise</a:t>
            </a:r>
            <a:endParaRPr b="0" lang="en-US" sz="1800" spc="-1" strike="noStrike">
              <a:solidFill>
                <a:srgbClr val="000000"/>
              </a:solidFill>
              <a:latin typeface="Times New Roman"/>
            </a:endParaRPr>
          </a:p>
        </p:txBody>
      </p:sp>
      <p:sp>
        <p:nvSpPr>
          <p:cNvPr id="2296" name=""/>
          <p:cNvSpPr/>
          <p:nvPr/>
        </p:nvSpPr>
        <p:spPr>
          <a:xfrm>
            <a:off x="477000" y="228600"/>
            <a:ext cx="83278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Experiment 1: Shock ECG</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7" name=""/>
          <p:cNvSpPr/>
          <p:nvPr/>
        </p:nvSpPr>
        <p:spPr>
          <a:xfrm>
            <a:off x="200520" y="228600"/>
            <a:ext cx="8646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Experiment 2: Video </a:t>
            </a:r>
            <a:r>
              <a:rPr b="0" lang="en-US" sz="4400" spc="-1" strike="noStrike">
                <a:solidFill>
                  <a:srgbClr val="000000"/>
                </a:solidFill>
                <a:latin typeface="Times New Roman"/>
                <a:ea typeface="Times New Roman"/>
              </a:rPr>
              <a:t>(Part 1)</a:t>
            </a:r>
            <a:r>
              <a:rPr b="0" lang="en-US"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nvGrpSpPr>
          <p:cNvPr id="2298" name=""/>
          <p:cNvGrpSpPr/>
          <p:nvPr/>
        </p:nvGrpSpPr>
        <p:grpSpPr>
          <a:xfrm>
            <a:off x="2778480" y="1535040"/>
            <a:ext cx="5560920" cy="4641840"/>
            <a:chOff x="2778480" y="1535040"/>
            <a:chExt cx="5560920" cy="4641840"/>
          </a:xfrm>
        </p:grpSpPr>
        <p:sp>
          <p:nvSpPr>
            <p:cNvPr id="2299" name=""/>
            <p:cNvSpPr/>
            <p:nvPr/>
          </p:nvSpPr>
          <p:spPr>
            <a:xfrm>
              <a:off x="2799000" y="2712600"/>
              <a:ext cx="54183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00" name=""/>
            <p:cNvSpPr/>
            <p:nvPr/>
          </p:nvSpPr>
          <p:spPr>
            <a:xfrm>
              <a:off x="2799000" y="2712600"/>
              <a:ext cx="54183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01" name=""/>
            <p:cNvSpPr/>
            <p:nvPr/>
          </p:nvSpPr>
          <p:spPr>
            <a:xfrm flipV="1">
              <a:off x="3249720" y="2649960"/>
              <a:ext cx="0" cy="6264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02" name=""/>
            <p:cNvSpPr/>
            <p:nvPr/>
          </p:nvSpPr>
          <p:spPr>
            <a:xfrm>
              <a:off x="2778480" y="27320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2303" name=""/>
            <p:cNvSpPr/>
            <p:nvPr/>
          </p:nvSpPr>
          <p:spPr>
            <a:xfrm flipV="1">
              <a:off x="3700440" y="2649960"/>
              <a:ext cx="2160" cy="6264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04" name=""/>
            <p:cNvSpPr/>
            <p:nvPr/>
          </p:nvSpPr>
          <p:spPr>
            <a:xfrm>
              <a:off x="3625200" y="273204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Times New Roman"/>
              </a:endParaRPr>
            </a:p>
          </p:txBody>
        </p:sp>
        <p:sp>
          <p:nvSpPr>
            <p:cNvPr id="2305" name=""/>
            <p:cNvSpPr/>
            <p:nvPr/>
          </p:nvSpPr>
          <p:spPr>
            <a:xfrm flipV="1">
              <a:off x="4149000" y="2649960"/>
              <a:ext cx="2160" cy="6264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06" name=""/>
            <p:cNvSpPr/>
            <p:nvPr/>
          </p:nvSpPr>
          <p:spPr>
            <a:xfrm flipV="1">
              <a:off x="4601880" y="2649960"/>
              <a:ext cx="2520" cy="6264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07" name=""/>
            <p:cNvSpPr/>
            <p:nvPr/>
          </p:nvSpPr>
          <p:spPr>
            <a:xfrm>
              <a:off x="4527000" y="273204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000</a:t>
              </a:r>
              <a:endParaRPr b="0" lang="en-US" sz="600" spc="-1" strike="noStrike">
                <a:solidFill>
                  <a:srgbClr val="000000"/>
                </a:solidFill>
                <a:latin typeface="Times New Roman"/>
              </a:endParaRPr>
            </a:p>
          </p:txBody>
        </p:sp>
        <p:sp>
          <p:nvSpPr>
            <p:cNvPr id="2308" name=""/>
            <p:cNvSpPr/>
            <p:nvPr/>
          </p:nvSpPr>
          <p:spPr>
            <a:xfrm flipV="1">
              <a:off x="5057280" y="2649960"/>
              <a:ext cx="0" cy="6264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09" name=""/>
            <p:cNvSpPr/>
            <p:nvPr/>
          </p:nvSpPr>
          <p:spPr>
            <a:xfrm flipV="1">
              <a:off x="5503680" y="2649960"/>
              <a:ext cx="2160" cy="6264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10" name=""/>
            <p:cNvSpPr/>
            <p:nvPr/>
          </p:nvSpPr>
          <p:spPr>
            <a:xfrm>
              <a:off x="5428080" y="273204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000</a:t>
              </a:r>
              <a:endParaRPr b="0" lang="en-US" sz="600" spc="-1" strike="noStrike">
                <a:solidFill>
                  <a:srgbClr val="000000"/>
                </a:solidFill>
                <a:latin typeface="Times New Roman"/>
              </a:endParaRPr>
            </a:p>
          </p:txBody>
        </p:sp>
        <p:sp>
          <p:nvSpPr>
            <p:cNvPr id="2311" name=""/>
            <p:cNvSpPr/>
            <p:nvPr/>
          </p:nvSpPr>
          <p:spPr>
            <a:xfrm flipV="1">
              <a:off x="5959080" y="2649960"/>
              <a:ext cx="0" cy="6264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12" name=""/>
            <p:cNvSpPr/>
            <p:nvPr/>
          </p:nvSpPr>
          <p:spPr>
            <a:xfrm flipV="1">
              <a:off x="6409800" y="2649960"/>
              <a:ext cx="2160" cy="6264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13" name=""/>
            <p:cNvSpPr/>
            <p:nvPr/>
          </p:nvSpPr>
          <p:spPr>
            <a:xfrm>
              <a:off x="6334560" y="273204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000</a:t>
              </a:r>
              <a:endParaRPr b="0" lang="en-US" sz="600" spc="-1" strike="noStrike">
                <a:solidFill>
                  <a:srgbClr val="000000"/>
                </a:solidFill>
                <a:latin typeface="Times New Roman"/>
              </a:endParaRPr>
            </a:p>
          </p:txBody>
        </p:sp>
        <p:sp>
          <p:nvSpPr>
            <p:cNvPr id="2314" name=""/>
            <p:cNvSpPr/>
            <p:nvPr/>
          </p:nvSpPr>
          <p:spPr>
            <a:xfrm flipV="1">
              <a:off x="6858000" y="2649960"/>
              <a:ext cx="2160" cy="6264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15" name=""/>
            <p:cNvSpPr/>
            <p:nvPr/>
          </p:nvSpPr>
          <p:spPr>
            <a:xfrm flipV="1">
              <a:off x="7310880" y="2649960"/>
              <a:ext cx="2520" cy="6264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16" name=""/>
            <p:cNvSpPr/>
            <p:nvPr/>
          </p:nvSpPr>
          <p:spPr>
            <a:xfrm>
              <a:off x="7219440" y="2732040"/>
              <a:ext cx="214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000</a:t>
              </a:r>
              <a:endParaRPr b="0" lang="en-US" sz="600" spc="-1" strike="noStrike">
                <a:solidFill>
                  <a:srgbClr val="000000"/>
                </a:solidFill>
                <a:latin typeface="Times New Roman"/>
              </a:endParaRPr>
            </a:p>
          </p:txBody>
        </p:sp>
        <p:sp>
          <p:nvSpPr>
            <p:cNvPr id="2317" name=""/>
            <p:cNvSpPr/>
            <p:nvPr/>
          </p:nvSpPr>
          <p:spPr>
            <a:xfrm flipV="1">
              <a:off x="7766640" y="2649960"/>
              <a:ext cx="0" cy="6264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18" name=""/>
            <p:cNvSpPr/>
            <p:nvPr/>
          </p:nvSpPr>
          <p:spPr>
            <a:xfrm flipV="1">
              <a:off x="8217720" y="2649960"/>
              <a:ext cx="2160" cy="6264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19" name=""/>
            <p:cNvSpPr/>
            <p:nvPr/>
          </p:nvSpPr>
          <p:spPr>
            <a:xfrm>
              <a:off x="8125200" y="2732040"/>
              <a:ext cx="214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000</a:t>
              </a:r>
              <a:endParaRPr b="0" lang="en-US" sz="600" spc="-1" strike="noStrike">
                <a:solidFill>
                  <a:srgbClr val="000000"/>
                </a:solidFill>
                <a:latin typeface="Times New Roman"/>
              </a:endParaRPr>
            </a:p>
          </p:txBody>
        </p:sp>
        <p:sp>
          <p:nvSpPr>
            <p:cNvPr id="2320" name=""/>
            <p:cNvSpPr/>
            <p:nvPr/>
          </p:nvSpPr>
          <p:spPr>
            <a:xfrm>
              <a:off x="2799000" y="2712600"/>
              <a:ext cx="504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21" name=""/>
            <p:cNvSpPr/>
            <p:nvPr/>
          </p:nvSpPr>
          <p:spPr>
            <a:xfrm flipH="1">
              <a:off x="8164440" y="2712600"/>
              <a:ext cx="532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22" name=""/>
            <p:cNvSpPr/>
            <p:nvPr/>
          </p:nvSpPr>
          <p:spPr>
            <a:xfrm>
              <a:off x="2799000" y="2712600"/>
              <a:ext cx="54183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23" name=""/>
            <p:cNvSpPr/>
            <p:nvPr/>
          </p:nvSpPr>
          <p:spPr>
            <a:xfrm>
              <a:off x="2799000" y="1551600"/>
              <a:ext cx="367920" cy="785520"/>
            </a:xfrm>
            <a:custGeom>
              <a:avLst/>
              <a:gdLst/>
              <a:ahLst/>
              <a:rect l="l" t="t" r="r" b="b"/>
              <a:pathLst>
                <a:path w="239" h="453">
                  <a:moveTo>
                    <a:pt x="0" y="15"/>
                  </a:moveTo>
                  <a:lnTo>
                    <a:pt x="0" y="29"/>
                  </a:lnTo>
                  <a:lnTo>
                    <a:pt x="4" y="25"/>
                  </a:lnTo>
                  <a:lnTo>
                    <a:pt x="4" y="11"/>
                  </a:lnTo>
                  <a:lnTo>
                    <a:pt x="8" y="15"/>
                  </a:lnTo>
                  <a:lnTo>
                    <a:pt x="8" y="43"/>
                  </a:lnTo>
                  <a:lnTo>
                    <a:pt x="8" y="11"/>
                  </a:lnTo>
                  <a:lnTo>
                    <a:pt x="11" y="11"/>
                  </a:lnTo>
                  <a:lnTo>
                    <a:pt x="15" y="11"/>
                  </a:lnTo>
                  <a:lnTo>
                    <a:pt x="18" y="11"/>
                  </a:lnTo>
                  <a:lnTo>
                    <a:pt x="18" y="221"/>
                  </a:lnTo>
                  <a:lnTo>
                    <a:pt x="22" y="278"/>
                  </a:lnTo>
                  <a:lnTo>
                    <a:pt x="22" y="449"/>
                  </a:lnTo>
                  <a:lnTo>
                    <a:pt x="25" y="446"/>
                  </a:lnTo>
                  <a:lnTo>
                    <a:pt x="25" y="431"/>
                  </a:lnTo>
                  <a:lnTo>
                    <a:pt x="29" y="424"/>
                  </a:lnTo>
                  <a:lnTo>
                    <a:pt x="29" y="97"/>
                  </a:lnTo>
                  <a:lnTo>
                    <a:pt x="32" y="72"/>
                  </a:lnTo>
                  <a:lnTo>
                    <a:pt x="32" y="11"/>
                  </a:lnTo>
                  <a:lnTo>
                    <a:pt x="32" y="11"/>
                  </a:lnTo>
                  <a:lnTo>
                    <a:pt x="36" y="11"/>
                  </a:lnTo>
                  <a:lnTo>
                    <a:pt x="40" y="11"/>
                  </a:lnTo>
                  <a:lnTo>
                    <a:pt x="43" y="11"/>
                  </a:lnTo>
                  <a:lnTo>
                    <a:pt x="47" y="11"/>
                  </a:lnTo>
                  <a:lnTo>
                    <a:pt x="50" y="11"/>
                  </a:lnTo>
                  <a:lnTo>
                    <a:pt x="54" y="11"/>
                  </a:lnTo>
                  <a:lnTo>
                    <a:pt x="61" y="11"/>
                  </a:lnTo>
                  <a:lnTo>
                    <a:pt x="57" y="11"/>
                  </a:lnTo>
                  <a:lnTo>
                    <a:pt x="61" y="11"/>
                  </a:lnTo>
                  <a:lnTo>
                    <a:pt x="65" y="11"/>
                  </a:lnTo>
                  <a:lnTo>
                    <a:pt x="65" y="414"/>
                  </a:lnTo>
                  <a:lnTo>
                    <a:pt x="68" y="431"/>
                  </a:lnTo>
                  <a:lnTo>
                    <a:pt x="68" y="446"/>
                  </a:lnTo>
                  <a:lnTo>
                    <a:pt x="68" y="431"/>
                  </a:lnTo>
                  <a:lnTo>
                    <a:pt x="72" y="428"/>
                  </a:lnTo>
                  <a:lnTo>
                    <a:pt x="72" y="367"/>
                  </a:lnTo>
                  <a:lnTo>
                    <a:pt x="75" y="342"/>
                  </a:lnTo>
                  <a:lnTo>
                    <a:pt x="75" y="4"/>
                  </a:lnTo>
                  <a:lnTo>
                    <a:pt x="79" y="0"/>
                  </a:lnTo>
                  <a:lnTo>
                    <a:pt x="79" y="7"/>
                  </a:lnTo>
                  <a:lnTo>
                    <a:pt x="82" y="4"/>
                  </a:lnTo>
                  <a:lnTo>
                    <a:pt x="82" y="11"/>
                  </a:lnTo>
                  <a:lnTo>
                    <a:pt x="86" y="11"/>
                  </a:lnTo>
                  <a:lnTo>
                    <a:pt x="89" y="11"/>
                  </a:lnTo>
                  <a:lnTo>
                    <a:pt x="93" y="11"/>
                  </a:lnTo>
                  <a:lnTo>
                    <a:pt x="97" y="11"/>
                  </a:lnTo>
                  <a:lnTo>
                    <a:pt x="100" y="11"/>
                  </a:lnTo>
                  <a:lnTo>
                    <a:pt x="104" y="11"/>
                  </a:lnTo>
                  <a:lnTo>
                    <a:pt x="107" y="15"/>
                  </a:lnTo>
                  <a:lnTo>
                    <a:pt x="107" y="161"/>
                  </a:lnTo>
                  <a:lnTo>
                    <a:pt x="111" y="218"/>
                  </a:lnTo>
                  <a:lnTo>
                    <a:pt x="111" y="438"/>
                  </a:lnTo>
                  <a:lnTo>
                    <a:pt x="111" y="417"/>
                  </a:lnTo>
                  <a:lnTo>
                    <a:pt x="114" y="421"/>
                  </a:lnTo>
                  <a:lnTo>
                    <a:pt x="114" y="399"/>
                  </a:lnTo>
                  <a:lnTo>
                    <a:pt x="118" y="389"/>
                  </a:lnTo>
                  <a:lnTo>
                    <a:pt x="118" y="93"/>
                  </a:lnTo>
                  <a:lnTo>
                    <a:pt x="122" y="79"/>
                  </a:lnTo>
                  <a:lnTo>
                    <a:pt x="122" y="15"/>
                  </a:lnTo>
                  <a:lnTo>
                    <a:pt x="125" y="18"/>
                  </a:lnTo>
                  <a:lnTo>
                    <a:pt x="129" y="15"/>
                  </a:lnTo>
                  <a:lnTo>
                    <a:pt x="132" y="15"/>
                  </a:lnTo>
                  <a:lnTo>
                    <a:pt x="136" y="11"/>
                  </a:lnTo>
                  <a:lnTo>
                    <a:pt x="136" y="15"/>
                  </a:lnTo>
                  <a:lnTo>
                    <a:pt x="136" y="11"/>
                  </a:lnTo>
                  <a:lnTo>
                    <a:pt x="139" y="15"/>
                  </a:lnTo>
                  <a:lnTo>
                    <a:pt x="139" y="18"/>
                  </a:lnTo>
                  <a:lnTo>
                    <a:pt x="139" y="15"/>
                  </a:lnTo>
                  <a:lnTo>
                    <a:pt x="146" y="15"/>
                  </a:lnTo>
                  <a:lnTo>
                    <a:pt x="143" y="15"/>
                  </a:lnTo>
                  <a:lnTo>
                    <a:pt x="146" y="15"/>
                  </a:lnTo>
                  <a:lnTo>
                    <a:pt x="150" y="18"/>
                  </a:lnTo>
                  <a:lnTo>
                    <a:pt x="150" y="114"/>
                  </a:lnTo>
                  <a:lnTo>
                    <a:pt x="154" y="168"/>
                  </a:lnTo>
                  <a:lnTo>
                    <a:pt x="154" y="435"/>
                  </a:lnTo>
                  <a:lnTo>
                    <a:pt x="154" y="431"/>
                  </a:lnTo>
                  <a:lnTo>
                    <a:pt x="157" y="428"/>
                  </a:lnTo>
                  <a:lnTo>
                    <a:pt x="161" y="424"/>
                  </a:lnTo>
                  <a:lnTo>
                    <a:pt x="161" y="203"/>
                  </a:lnTo>
                  <a:lnTo>
                    <a:pt x="164" y="175"/>
                  </a:lnTo>
                  <a:lnTo>
                    <a:pt x="164" y="11"/>
                  </a:lnTo>
                  <a:lnTo>
                    <a:pt x="168" y="7"/>
                  </a:lnTo>
                  <a:lnTo>
                    <a:pt x="168" y="11"/>
                  </a:lnTo>
                  <a:lnTo>
                    <a:pt x="171" y="7"/>
                  </a:lnTo>
                  <a:lnTo>
                    <a:pt x="171" y="11"/>
                  </a:lnTo>
                  <a:lnTo>
                    <a:pt x="175" y="7"/>
                  </a:lnTo>
                  <a:lnTo>
                    <a:pt x="175" y="11"/>
                  </a:lnTo>
                  <a:lnTo>
                    <a:pt x="175" y="7"/>
                  </a:lnTo>
                  <a:lnTo>
                    <a:pt x="179" y="7"/>
                  </a:lnTo>
                  <a:lnTo>
                    <a:pt x="182" y="11"/>
                  </a:lnTo>
                  <a:lnTo>
                    <a:pt x="182" y="11"/>
                  </a:lnTo>
                  <a:lnTo>
                    <a:pt x="182" y="7"/>
                  </a:lnTo>
                  <a:lnTo>
                    <a:pt x="182" y="11"/>
                  </a:lnTo>
                  <a:lnTo>
                    <a:pt x="186" y="7"/>
                  </a:lnTo>
                  <a:lnTo>
                    <a:pt x="186" y="11"/>
                  </a:lnTo>
                  <a:lnTo>
                    <a:pt x="186" y="7"/>
                  </a:lnTo>
                  <a:lnTo>
                    <a:pt x="186" y="7"/>
                  </a:lnTo>
                  <a:lnTo>
                    <a:pt x="189" y="11"/>
                  </a:lnTo>
                  <a:lnTo>
                    <a:pt x="189" y="7"/>
                  </a:lnTo>
                  <a:lnTo>
                    <a:pt x="189" y="11"/>
                  </a:lnTo>
                  <a:lnTo>
                    <a:pt x="193" y="11"/>
                  </a:lnTo>
                  <a:lnTo>
                    <a:pt x="196" y="15"/>
                  </a:lnTo>
                  <a:lnTo>
                    <a:pt x="196" y="414"/>
                  </a:lnTo>
                  <a:lnTo>
                    <a:pt x="200" y="435"/>
                  </a:lnTo>
                  <a:lnTo>
                    <a:pt x="200" y="453"/>
                  </a:lnTo>
                  <a:lnTo>
                    <a:pt x="200" y="438"/>
                  </a:lnTo>
                  <a:lnTo>
                    <a:pt x="203" y="435"/>
                  </a:lnTo>
                  <a:lnTo>
                    <a:pt x="203" y="428"/>
                  </a:lnTo>
                  <a:lnTo>
                    <a:pt x="207" y="417"/>
                  </a:lnTo>
                  <a:lnTo>
                    <a:pt x="207" y="111"/>
                  </a:lnTo>
                  <a:lnTo>
                    <a:pt x="211" y="86"/>
                  </a:lnTo>
                  <a:lnTo>
                    <a:pt x="211" y="11"/>
                  </a:lnTo>
                  <a:lnTo>
                    <a:pt x="211" y="15"/>
                  </a:lnTo>
                  <a:lnTo>
                    <a:pt x="214" y="11"/>
                  </a:lnTo>
                  <a:lnTo>
                    <a:pt x="214" y="15"/>
                  </a:lnTo>
                  <a:lnTo>
                    <a:pt x="214" y="11"/>
                  </a:lnTo>
                  <a:lnTo>
                    <a:pt x="218" y="15"/>
                  </a:lnTo>
                  <a:lnTo>
                    <a:pt x="218" y="11"/>
                  </a:lnTo>
                  <a:lnTo>
                    <a:pt x="221" y="15"/>
                  </a:lnTo>
                  <a:lnTo>
                    <a:pt x="221" y="11"/>
                  </a:lnTo>
                  <a:lnTo>
                    <a:pt x="221" y="11"/>
                  </a:lnTo>
                  <a:lnTo>
                    <a:pt x="225" y="15"/>
                  </a:lnTo>
                  <a:lnTo>
                    <a:pt x="228" y="18"/>
                  </a:lnTo>
                  <a:lnTo>
                    <a:pt x="228" y="15"/>
                  </a:lnTo>
                  <a:lnTo>
                    <a:pt x="228" y="18"/>
                  </a:lnTo>
                  <a:lnTo>
                    <a:pt x="232" y="18"/>
                  </a:lnTo>
                  <a:lnTo>
                    <a:pt x="236" y="15"/>
                  </a:lnTo>
                  <a:lnTo>
                    <a:pt x="239" y="18"/>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3167280" y="1535040"/>
              <a:ext cx="375120" cy="1079280"/>
            </a:xfrm>
            <a:custGeom>
              <a:avLst/>
              <a:gdLst/>
              <a:ahLst/>
              <a:rect l="l" t="t" r="r" b="b"/>
              <a:pathLst>
                <a:path w="246" h="623">
                  <a:moveTo>
                    <a:pt x="0" y="28"/>
                  </a:moveTo>
                  <a:lnTo>
                    <a:pt x="0" y="85"/>
                  </a:lnTo>
                  <a:lnTo>
                    <a:pt x="4" y="128"/>
                  </a:lnTo>
                  <a:lnTo>
                    <a:pt x="4" y="466"/>
                  </a:lnTo>
                  <a:lnTo>
                    <a:pt x="4" y="463"/>
                  </a:lnTo>
                  <a:lnTo>
                    <a:pt x="7" y="459"/>
                  </a:lnTo>
                  <a:lnTo>
                    <a:pt x="7" y="448"/>
                  </a:lnTo>
                  <a:lnTo>
                    <a:pt x="11" y="452"/>
                  </a:lnTo>
                  <a:lnTo>
                    <a:pt x="11" y="416"/>
                  </a:lnTo>
                  <a:lnTo>
                    <a:pt x="14" y="395"/>
                  </a:lnTo>
                  <a:lnTo>
                    <a:pt x="14" y="82"/>
                  </a:lnTo>
                  <a:lnTo>
                    <a:pt x="18" y="67"/>
                  </a:lnTo>
                  <a:lnTo>
                    <a:pt x="18" y="21"/>
                  </a:lnTo>
                  <a:lnTo>
                    <a:pt x="25" y="21"/>
                  </a:lnTo>
                  <a:lnTo>
                    <a:pt x="21" y="21"/>
                  </a:lnTo>
                  <a:lnTo>
                    <a:pt x="25" y="21"/>
                  </a:lnTo>
                  <a:lnTo>
                    <a:pt x="29" y="21"/>
                  </a:lnTo>
                  <a:lnTo>
                    <a:pt x="32" y="21"/>
                  </a:lnTo>
                  <a:lnTo>
                    <a:pt x="36" y="21"/>
                  </a:lnTo>
                  <a:lnTo>
                    <a:pt x="39" y="21"/>
                  </a:lnTo>
                  <a:lnTo>
                    <a:pt x="43" y="25"/>
                  </a:lnTo>
                  <a:lnTo>
                    <a:pt x="43" y="28"/>
                  </a:lnTo>
                  <a:lnTo>
                    <a:pt x="46" y="35"/>
                  </a:lnTo>
                  <a:lnTo>
                    <a:pt x="46" y="463"/>
                  </a:lnTo>
                  <a:lnTo>
                    <a:pt x="50" y="470"/>
                  </a:lnTo>
                  <a:lnTo>
                    <a:pt x="50" y="445"/>
                  </a:lnTo>
                  <a:lnTo>
                    <a:pt x="54" y="441"/>
                  </a:lnTo>
                  <a:lnTo>
                    <a:pt x="54" y="431"/>
                  </a:lnTo>
                  <a:lnTo>
                    <a:pt x="57" y="424"/>
                  </a:lnTo>
                  <a:lnTo>
                    <a:pt x="57" y="99"/>
                  </a:lnTo>
                  <a:lnTo>
                    <a:pt x="61" y="64"/>
                  </a:lnTo>
                  <a:lnTo>
                    <a:pt x="61" y="10"/>
                  </a:lnTo>
                  <a:lnTo>
                    <a:pt x="64" y="10"/>
                  </a:lnTo>
                  <a:lnTo>
                    <a:pt x="68" y="10"/>
                  </a:lnTo>
                  <a:lnTo>
                    <a:pt x="71" y="10"/>
                  </a:lnTo>
                  <a:lnTo>
                    <a:pt x="75" y="7"/>
                  </a:lnTo>
                  <a:lnTo>
                    <a:pt x="78" y="10"/>
                  </a:lnTo>
                  <a:lnTo>
                    <a:pt x="82" y="10"/>
                  </a:lnTo>
                  <a:lnTo>
                    <a:pt x="86" y="10"/>
                  </a:lnTo>
                  <a:lnTo>
                    <a:pt x="89" y="14"/>
                  </a:lnTo>
                  <a:lnTo>
                    <a:pt x="89" y="228"/>
                  </a:lnTo>
                  <a:lnTo>
                    <a:pt x="93" y="285"/>
                  </a:lnTo>
                  <a:lnTo>
                    <a:pt x="93" y="470"/>
                  </a:lnTo>
                  <a:lnTo>
                    <a:pt x="93" y="438"/>
                  </a:lnTo>
                  <a:lnTo>
                    <a:pt x="96" y="434"/>
                  </a:lnTo>
                  <a:lnTo>
                    <a:pt x="96" y="431"/>
                  </a:lnTo>
                  <a:lnTo>
                    <a:pt x="96" y="434"/>
                  </a:lnTo>
                  <a:lnTo>
                    <a:pt x="100" y="431"/>
                  </a:lnTo>
                  <a:lnTo>
                    <a:pt x="100" y="434"/>
                  </a:lnTo>
                  <a:lnTo>
                    <a:pt x="100" y="295"/>
                  </a:lnTo>
                  <a:lnTo>
                    <a:pt x="103" y="267"/>
                  </a:lnTo>
                  <a:lnTo>
                    <a:pt x="103" y="14"/>
                  </a:lnTo>
                  <a:lnTo>
                    <a:pt x="111" y="7"/>
                  </a:lnTo>
                  <a:lnTo>
                    <a:pt x="107" y="7"/>
                  </a:lnTo>
                  <a:lnTo>
                    <a:pt x="111" y="7"/>
                  </a:lnTo>
                  <a:lnTo>
                    <a:pt x="114" y="7"/>
                  </a:lnTo>
                  <a:lnTo>
                    <a:pt x="118" y="7"/>
                  </a:lnTo>
                  <a:lnTo>
                    <a:pt x="121" y="3"/>
                  </a:lnTo>
                  <a:lnTo>
                    <a:pt x="125" y="7"/>
                  </a:lnTo>
                  <a:lnTo>
                    <a:pt x="125" y="3"/>
                  </a:lnTo>
                  <a:lnTo>
                    <a:pt x="128" y="7"/>
                  </a:lnTo>
                  <a:lnTo>
                    <a:pt x="132" y="3"/>
                  </a:lnTo>
                  <a:lnTo>
                    <a:pt x="132" y="3"/>
                  </a:lnTo>
                  <a:lnTo>
                    <a:pt x="132" y="142"/>
                  </a:lnTo>
                  <a:lnTo>
                    <a:pt x="135" y="181"/>
                  </a:lnTo>
                  <a:lnTo>
                    <a:pt x="135" y="459"/>
                  </a:lnTo>
                  <a:lnTo>
                    <a:pt x="135" y="441"/>
                  </a:lnTo>
                  <a:lnTo>
                    <a:pt x="139" y="438"/>
                  </a:lnTo>
                  <a:lnTo>
                    <a:pt x="139" y="431"/>
                  </a:lnTo>
                  <a:lnTo>
                    <a:pt x="143" y="427"/>
                  </a:lnTo>
                  <a:lnTo>
                    <a:pt x="143" y="288"/>
                  </a:lnTo>
                  <a:lnTo>
                    <a:pt x="146" y="253"/>
                  </a:lnTo>
                  <a:lnTo>
                    <a:pt x="146" y="21"/>
                  </a:lnTo>
                  <a:lnTo>
                    <a:pt x="153" y="14"/>
                  </a:lnTo>
                  <a:lnTo>
                    <a:pt x="153" y="7"/>
                  </a:lnTo>
                  <a:lnTo>
                    <a:pt x="157" y="3"/>
                  </a:lnTo>
                  <a:lnTo>
                    <a:pt x="157" y="0"/>
                  </a:lnTo>
                  <a:lnTo>
                    <a:pt x="160" y="3"/>
                  </a:lnTo>
                  <a:lnTo>
                    <a:pt x="160" y="0"/>
                  </a:lnTo>
                  <a:lnTo>
                    <a:pt x="160" y="3"/>
                  </a:lnTo>
                  <a:lnTo>
                    <a:pt x="164" y="3"/>
                  </a:lnTo>
                  <a:lnTo>
                    <a:pt x="168" y="7"/>
                  </a:lnTo>
                  <a:lnTo>
                    <a:pt x="175" y="7"/>
                  </a:lnTo>
                  <a:lnTo>
                    <a:pt x="171" y="7"/>
                  </a:lnTo>
                  <a:lnTo>
                    <a:pt x="175" y="7"/>
                  </a:lnTo>
                  <a:lnTo>
                    <a:pt x="178" y="10"/>
                  </a:lnTo>
                  <a:lnTo>
                    <a:pt x="178" y="185"/>
                  </a:lnTo>
                  <a:lnTo>
                    <a:pt x="182" y="238"/>
                  </a:lnTo>
                  <a:lnTo>
                    <a:pt x="182" y="481"/>
                  </a:lnTo>
                  <a:lnTo>
                    <a:pt x="182" y="452"/>
                  </a:lnTo>
                  <a:lnTo>
                    <a:pt x="185" y="448"/>
                  </a:lnTo>
                  <a:lnTo>
                    <a:pt x="185" y="441"/>
                  </a:lnTo>
                  <a:lnTo>
                    <a:pt x="189" y="438"/>
                  </a:lnTo>
                  <a:lnTo>
                    <a:pt x="189" y="270"/>
                  </a:lnTo>
                  <a:lnTo>
                    <a:pt x="192" y="231"/>
                  </a:lnTo>
                  <a:lnTo>
                    <a:pt x="192" y="0"/>
                  </a:lnTo>
                  <a:lnTo>
                    <a:pt x="196" y="3"/>
                  </a:lnTo>
                  <a:lnTo>
                    <a:pt x="196" y="0"/>
                  </a:lnTo>
                  <a:lnTo>
                    <a:pt x="196" y="3"/>
                  </a:lnTo>
                  <a:lnTo>
                    <a:pt x="200" y="0"/>
                  </a:lnTo>
                  <a:lnTo>
                    <a:pt x="200" y="3"/>
                  </a:lnTo>
                  <a:lnTo>
                    <a:pt x="200" y="0"/>
                  </a:lnTo>
                  <a:lnTo>
                    <a:pt x="203" y="3"/>
                  </a:lnTo>
                  <a:lnTo>
                    <a:pt x="207" y="3"/>
                  </a:lnTo>
                  <a:lnTo>
                    <a:pt x="210" y="0"/>
                  </a:lnTo>
                  <a:lnTo>
                    <a:pt x="210" y="3"/>
                  </a:lnTo>
                  <a:lnTo>
                    <a:pt x="210" y="3"/>
                  </a:lnTo>
                  <a:lnTo>
                    <a:pt x="214" y="0"/>
                  </a:lnTo>
                  <a:lnTo>
                    <a:pt x="214" y="3"/>
                  </a:lnTo>
                  <a:lnTo>
                    <a:pt x="214" y="0"/>
                  </a:lnTo>
                  <a:lnTo>
                    <a:pt x="217" y="3"/>
                  </a:lnTo>
                  <a:lnTo>
                    <a:pt x="217" y="0"/>
                  </a:lnTo>
                  <a:lnTo>
                    <a:pt x="221" y="3"/>
                  </a:lnTo>
                  <a:lnTo>
                    <a:pt x="221" y="623"/>
                  </a:lnTo>
                  <a:lnTo>
                    <a:pt x="225" y="203"/>
                  </a:lnTo>
                  <a:lnTo>
                    <a:pt x="225" y="456"/>
                  </a:lnTo>
                  <a:lnTo>
                    <a:pt x="225" y="448"/>
                  </a:lnTo>
                  <a:lnTo>
                    <a:pt x="228" y="445"/>
                  </a:lnTo>
                  <a:lnTo>
                    <a:pt x="228" y="438"/>
                  </a:lnTo>
                  <a:lnTo>
                    <a:pt x="232" y="434"/>
                  </a:lnTo>
                  <a:lnTo>
                    <a:pt x="232" y="267"/>
                  </a:lnTo>
                  <a:lnTo>
                    <a:pt x="235" y="220"/>
                  </a:lnTo>
                  <a:lnTo>
                    <a:pt x="235" y="0"/>
                  </a:lnTo>
                  <a:lnTo>
                    <a:pt x="235" y="3"/>
                  </a:lnTo>
                  <a:lnTo>
                    <a:pt x="242" y="3"/>
                  </a:lnTo>
                  <a:lnTo>
                    <a:pt x="239" y="3"/>
                  </a:lnTo>
                  <a:lnTo>
                    <a:pt x="242" y="0"/>
                  </a:lnTo>
                  <a:lnTo>
                    <a:pt x="246" y="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3542760" y="1535040"/>
              <a:ext cx="370800" cy="1079280"/>
            </a:xfrm>
            <a:custGeom>
              <a:avLst/>
              <a:gdLst/>
              <a:ahLst/>
              <a:rect l="l" t="t" r="r" b="b"/>
              <a:pathLst>
                <a:path w="242" h="623">
                  <a:moveTo>
                    <a:pt x="0" y="3"/>
                  </a:moveTo>
                  <a:lnTo>
                    <a:pt x="3" y="0"/>
                  </a:lnTo>
                  <a:lnTo>
                    <a:pt x="3" y="3"/>
                  </a:lnTo>
                  <a:lnTo>
                    <a:pt x="3" y="0"/>
                  </a:lnTo>
                  <a:lnTo>
                    <a:pt x="3" y="0"/>
                  </a:lnTo>
                  <a:lnTo>
                    <a:pt x="7" y="3"/>
                  </a:lnTo>
                  <a:lnTo>
                    <a:pt x="11" y="3"/>
                  </a:lnTo>
                  <a:lnTo>
                    <a:pt x="14" y="3"/>
                  </a:lnTo>
                  <a:lnTo>
                    <a:pt x="18" y="3"/>
                  </a:lnTo>
                  <a:lnTo>
                    <a:pt x="21" y="3"/>
                  </a:lnTo>
                  <a:lnTo>
                    <a:pt x="21" y="399"/>
                  </a:lnTo>
                  <a:lnTo>
                    <a:pt x="25" y="431"/>
                  </a:lnTo>
                  <a:lnTo>
                    <a:pt x="25" y="463"/>
                  </a:lnTo>
                  <a:lnTo>
                    <a:pt x="25" y="441"/>
                  </a:lnTo>
                  <a:lnTo>
                    <a:pt x="28" y="438"/>
                  </a:lnTo>
                  <a:lnTo>
                    <a:pt x="28" y="427"/>
                  </a:lnTo>
                  <a:lnTo>
                    <a:pt x="32" y="413"/>
                  </a:lnTo>
                  <a:lnTo>
                    <a:pt x="32" y="146"/>
                  </a:lnTo>
                  <a:lnTo>
                    <a:pt x="36" y="124"/>
                  </a:lnTo>
                  <a:lnTo>
                    <a:pt x="36" y="10"/>
                  </a:lnTo>
                  <a:lnTo>
                    <a:pt x="39" y="7"/>
                  </a:lnTo>
                  <a:lnTo>
                    <a:pt x="43" y="7"/>
                  </a:lnTo>
                  <a:lnTo>
                    <a:pt x="46" y="7"/>
                  </a:lnTo>
                  <a:lnTo>
                    <a:pt x="50" y="3"/>
                  </a:lnTo>
                  <a:lnTo>
                    <a:pt x="50" y="7"/>
                  </a:lnTo>
                  <a:lnTo>
                    <a:pt x="50" y="3"/>
                  </a:lnTo>
                  <a:lnTo>
                    <a:pt x="50" y="3"/>
                  </a:lnTo>
                  <a:lnTo>
                    <a:pt x="53" y="3"/>
                  </a:lnTo>
                  <a:lnTo>
                    <a:pt x="60" y="3"/>
                  </a:lnTo>
                  <a:lnTo>
                    <a:pt x="57" y="3"/>
                  </a:lnTo>
                  <a:lnTo>
                    <a:pt x="60" y="3"/>
                  </a:lnTo>
                  <a:lnTo>
                    <a:pt x="64" y="7"/>
                  </a:lnTo>
                  <a:lnTo>
                    <a:pt x="64" y="623"/>
                  </a:lnTo>
                  <a:lnTo>
                    <a:pt x="68" y="623"/>
                  </a:lnTo>
                  <a:lnTo>
                    <a:pt x="68" y="253"/>
                  </a:lnTo>
                  <a:lnTo>
                    <a:pt x="68" y="459"/>
                  </a:lnTo>
                  <a:lnTo>
                    <a:pt x="71" y="456"/>
                  </a:lnTo>
                  <a:lnTo>
                    <a:pt x="71" y="448"/>
                  </a:lnTo>
                  <a:lnTo>
                    <a:pt x="75" y="445"/>
                  </a:lnTo>
                  <a:lnTo>
                    <a:pt x="75" y="281"/>
                  </a:lnTo>
                  <a:lnTo>
                    <a:pt x="78" y="242"/>
                  </a:lnTo>
                  <a:lnTo>
                    <a:pt x="78" y="10"/>
                  </a:lnTo>
                  <a:lnTo>
                    <a:pt x="82" y="7"/>
                  </a:lnTo>
                  <a:lnTo>
                    <a:pt x="89" y="7"/>
                  </a:lnTo>
                  <a:lnTo>
                    <a:pt x="85" y="7"/>
                  </a:lnTo>
                  <a:lnTo>
                    <a:pt x="89" y="7"/>
                  </a:lnTo>
                  <a:lnTo>
                    <a:pt x="93" y="3"/>
                  </a:lnTo>
                  <a:lnTo>
                    <a:pt x="93" y="7"/>
                  </a:lnTo>
                  <a:lnTo>
                    <a:pt x="93" y="3"/>
                  </a:lnTo>
                  <a:lnTo>
                    <a:pt x="96" y="7"/>
                  </a:lnTo>
                  <a:lnTo>
                    <a:pt x="100" y="3"/>
                  </a:lnTo>
                  <a:lnTo>
                    <a:pt x="100" y="7"/>
                  </a:lnTo>
                  <a:lnTo>
                    <a:pt x="100" y="3"/>
                  </a:lnTo>
                  <a:lnTo>
                    <a:pt x="100" y="3"/>
                  </a:lnTo>
                  <a:lnTo>
                    <a:pt x="103" y="7"/>
                  </a:lnTo>
                  <a:lnTo>
                    <a:pt x="103" y="3"/>
                  </a:lnTo>
                  <a:lnTo>
                    <a:pt x="103" y="3"/>
                  </a:lnTo>
                  <a:lnTo>
                    <a:pt x="107" y="7"/>
                  </a:lnTo>
                  <a:lnTo>
                    <a:pt x="107" y="3"/>
                  </a:lnTo>
                  <a:lnTo>
                    <a:pt x="107" y="10"/>
                  </a:lnTo>
                  <a:lnTo>
                    <a:pt x="110" y="21"/>
                  </a:lnTo>
                  <a:lnTo>
                    <a:pt x="110" y="456"/>
                  </a:lnTo>
                  <a:lnTo>
                    <a:pt x="114" y="466"/>
                  </a:lnTo>
                  <a:lnTo>
                    <a:pt x="114" y="441"/>
                  </a:lnTo>
                  <a:lnTo>
                    <a:pt x="117" y="438"/>
                  </a:lnTo>
                  <a:lnTo>
                    <a:pt x="117" y="431"/>
                  </a:lnTo>
                  <a:lnTo>
                    <a:pt x="121" y="424"/>
                  </a:lnTo>
                  <a:lnTo>
                    <a:pt x="121" y="89"/>
                  </a:lnTo>
                  <a:lnTo>
                    <a:pt x="125" y="71"/>
                  </a:lnTo>
                  <a:lnTo>
                    <a:pt x="125" y="7"/>
                  </a:lnTo>
                  <a:lnTo>
                    <a:pt x="128" y="7"/>
                  </a:lnTo>
                  <a:lnTo>
                    <a:pt x="132" y="7"/>
                  </a:lnTo>
                  <a:lnTo>
                    <a:pt x="135" y="7"/>
                  </a:lnTo>
                  <a:lnTo>
                    <a:pt x="139" y="7"/>
                  </a:lnTo>
                  <a:lnTo>
                    <a:pt x="142" y="3"/>
                  </a:lnTo>
                  <a:lnTo>
                    <a:pt x="142" y="7"/>
                  </a:lnTo>
                  <a:lnTo>
                    <a:pt x="142" y="3"/>
                  </a:lnTo>
                  <a:lnTo>
                    <a:pt x="142" y="3"/>
                  </a:lnTo>
                  <a:lnTo>
                    <a:pt x="146" y="7"/>
                  </a:lnTo>
                  <a:lnTo>
                    <a:pt x="146" y="3"/>
                  </a:lnTo>
                  <a:lnTo>
                    <a:pt x="146" y="7"/>
                  </a:lnTo>
                  <a:lnTo>
                    <a:pt x="150" y="7"/>
                  </a:lnTo>
                  <a:lnTo>
                    <a:pt x="153" y="10"/>
                  </a:lnTo>
                  <a:lnTo>
                    <a:pt x="153" y="623"/>
                  </a:lnTo>
                  <a:lnTo>
                    <a:pt x="153" y="356"/>
                  </a:lnTo>
                  <a:lnTo>
                    <a:pt x="157" y="399"/>
                  </a:lnTo>
                  <a:lnTo>
                    <a:pt x="157" y="470"/>
                  </a:lnTo>
                  <a:lnTo>
                    <a:pt x="157" y="438"/>
                  </a:lnTo>
                  <a:lnTo>
                    <a:pt x="160" y="438"/>
                  </a:lnTo>
                  <a:lnTo>
                    <a:pt x="164" y="434"/>
                  </a:lnTo>
                  <a:lnTo>
                    <a:pt x="164" y="277"/>
                  </a:lnTo>
                  <a:lnTo>
                    <a:pt x="167" y="242"/>
                  </a:lnTo>
                  <a:lnTo>
                    <a:pt x="167" y="10"/>
                  </a:lnTo>
                  <a:lnTo>
                    <a:pt x="167" y="14"/>
                  </a:lnTo>
                  <a:lnTo>
                    <a:pt x="171" y="10"/>
                  </a:lnTo>
                  <a:lnTo>
                    <a:pt x="174" y="10"/>
                  </a:lnTo>
                  <a:lnTo>
                    <a:pt x="178" y="10"/>
                  </a:lnTo>
                  <a:lnTo>
                    <a:pt x="178" y="7"/>
                  </a:lnTo>
                  <a:lnTo>
                    <a:pt x="178" y="10"/>
                  </a:lnTo>
                  <a:lnTo>
                    <a:pt x="182" y="10"/>
                  </a:lnTo>
                  <a:lnTo>
                    <a:pt x="185" y="7"/>
                  </a:lnTo>
                  <a:lnTo>
                    <a:pt x="189" y="7"/>
                  </a:lnTo>
                  <a:lnTo>
                    <a:pt x="192" y="7"/>
                  </a:lnTo>
                  <a:lnTo>
                    <a:pt x="196" y="10"/>
                  </a:lnTo>
                  <a:lnTo>
                    <a:pt x="196" y="124"/>
                  </a:lnTo>
                  <a:lnTo>
                    <a:pt x="199" y="623"/>
                  </a:lnTo>
                  <a:lnTo>
                    <a:pt x="199" y="188"/>
                  </a:lnTo>
                  <a:lnTo>
                    <a:pt x="199" y="466"/>
                  </a:lnTo>
                  <a:lnTo>
                    <a:pt x="203" y="459"/>
                  </a:lnTo>
                  <a:lnTo>
                    <a:pt x="203" y="438"/>
                  </a:lnTo>
                  <a:lnTo>
                    <a:pt x="207" y="441"/>
                  </a:lnTo>
                  <a:lnTo>
                    <a:pt x="207" y="431"/>
                  </a:lnTo>
                  <a:lnTo>
                    <a:pt x="210" y="420"/>
                  </a:lnTo>
                  <a:lnTo>
                    <a:pt x="210" y="110"/>
                  </a:lnTo>
                  <a:lnTo>
                    <a:pt x="214" y="82"/>
                  </a:lnTo>
                  <a:lnTo>
                    <a:pt x="214" y="7"/>
                  </a:lnTo>
                  <a:lnTo>
                    <a:pt x="217" y="3"/>
                  </a:lnTo>
                  <a:lnTo>
                    <a:pt x="224" y="3"/>
                  </a:lnTo>
                  <a:lnTo>
                    <a:pt x="224" y="7"/>
                  </a:lnTo>
                  <a:lnTo>
                    <a:pt x="221" y="3"/>
                  </a:lnTo>
                  <a:lnTo>
                    <a:pt x="224" y="3"/>
                  </a:lnTo>
                  <a:lnTo>
                    <a:pt x="228" y="7"/>
                  </a:lnTo>
                  <a:lnTo>
                    <a:pt x="228" y="7"/>
                  </a:lnTo>
                  <a:lnTo>
                    <a:pt x="228" y="3"/>
                  </a:lnTo>
                  <a:lnTo>
                    <a:pt x="231" y="3"/>
                  </a:lnTo>
                  <a:lnTo>
                    <a:pt x="235" y="3"/>
                  </a:lnTo>
                  <a:lnTo>
                    <a:pt x="239" y="3"/>
                  </a:lnTo>
                  <a:lnTo>
                    <a:pt x="242" y="14"/>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3913560" y="1535040"/>
              <a:ext cx="394920" cy="1079280"/>
            </a:xfrm>
            <a:custGeom>
              <a:avLst/>
              <a:gdLst/>
              <a:ahLst/>
              <a:rect l="l" t="t" r="r" b="b"/>
              <a:pathLst>
                <a:path w="257" h="623">
                  <a:moveTo>
                    <a:pt x="0" y="14"/>
                  </a:moveTo>
                  <a:lnTo>
                    <a:pt x="0" y="388"/>
                  </a:lnTo>
                  <a:lnTo>
                    <a:pt x="4" y="416"/>
                  </a:lnTo>
                  <a:lnTo>
                    <a:pt x="4" y="477"/>
                  </a:lnTo>
                  <a:lnTo>
                    <a:pt x="4" y="438"/>
                  </a:lnTo>
                  <a:lnTo>
                    <a:pt x="7" y="441"/>
                  </a:lnTo>
                  <a:lnTo>
                    <a:pt x="7" y="434"/>
                  </a:lnTo>
                  <a:lnTo>
                    <a:pt x="11" y="434"/>
                  </a:lnTo>
                  <a:lnTo>
                    <a:pt x="11" y="142"/>
                  </a:lnTo>
                  <a:lnTo>
                    <a:pt x="14" y="103"/>
                  </a:lnTo>
                  <a:lnTo>
                    <a:pt x="14" y="7"/>
                  </a:lnTo>
                  <a:lnTo>
                    <a:pt x="14" y="7"/>
                  </a:lnTo>
                  <a:lnTo>
                    <a:pt x="18" y="3"/>
                  </a:lnTo>
                  <a:lnTo>
                    <a:pt x="22" y="3"/>
                  </a:lnTo>
                  <a:lnTo>
                    <a:pt x="25" y="7"/>
                  </a:lnTo>
                  <a:lnTo>
                    <a:pt x="29" y="7"/>
                  </a:lnTo>
                  <a:lnTo>
                    <a:pt x="32" y="3"/>
                  </a:lnTo>
                  <a:lnTo>
                    <a:pt x="32" y="7"/>
                  </a:lnTo>
                  <a:lnTo>
                    <a:pt x="32" y="3"/>
                  </a:lnTo>
                  <a:lnTo>
                    <a:pt x="36" y="3"/>
                  </a:lnTo>
                  <a:lnTo>
                    <a:pt x="39" y="7"/>
                  </a:lnTo>
                  <a:lnTo>
                    <a:pt x="39" y="3"/>
                  </a:lnTo>
                  <a:lnTo>
                    <a:pt x="39" y="7"/>
                  </a:lnTo>
                  <a:lnTo>
                    <a:pt x="43" y="10"/>
                  </a:lnTo>
                  <a:lnTo>
                    <a:pt x="43" y="92"/>
                  </a:lnTo>
                  <a:lnTo>
                    <a:pt x="46" y="135"/>
                  </a:lnTo>
                  <a:lnTo>
                    <a:pt x="46" y="623"/>
                  </a:lnTo>
                  <a:lnTo>
                    <a:pt x="46" y="488"/>
                  </a:lnTo>
                  <a:lnTo>
                    <a:pt x="50" y="477"/>
                  </a:lnTo>
                  <a:lnTo>
                    <a:pt x="50" y="441"/>
                  </a:lnTo>
                  <a:lnTo>
                    <a:pt x="54" y="438"/>
                  </a:lnTo>
                  <a:lnTo>
                    <a:pt x="54" y="377"/>
                  </a:lnTo>
                  <a:lnTo>
                    <a:pt x="57" y="349"/>
                  </a:lnTo>
                  <a:lnTo>
                    <a:pt x="57" y="7"/>
                  </a:lnTo>
                  <a:lnTo>
                    <a:pt x="61" y="10"/>
                  </a:lnTo>
                  <a:lnTo>
                    <a:pt x="61" y="0"/>
                  </a:lnTo>
                  <a:lnTo>
                    <a:pt x="61" y="3"/>
                  </a:lnTo>
                  <a:lnTo>
                    <a:pt x="64" y="0"/>
                  </a:lnTo>
                  <a:lnTo>
                    <a:pt x="68" y="0"/>
                  </a:lnTo>
                  <a:lnTo>
                    <a:pt x="71" y="0"/>
                  </a:lnTo>
                  <a:lnTo>
                    <a:pt x="75" y="0"/>
                  </a:lnTo>
                  <a:lnTo>
                    <a:pt x="79" y="0"/>
                  </a:lnTo>
                  <a:lnTo>
                    <a:pt x="82" y="0"/>
                  </a:lnTo>
                  <a:lnTo>
                    <a:pt x="86" y="0"/>
                  </a:lnTo>
                  <a:lnTo>
                    <a:pt x="89" y="3"/>
                  </a:lnTo>
                  <a:lnTo>
                    <a:pt x="89" y="413"/>
                  </a:lnTo>
                  <a:lnTo>
                    <a:pt x="93" y="441"/>
                  </a:lnTo>
                  <a:lnTo>
                    <a:pt x="93" y="484"/>
                  </a:lnTo>
                  <a:lnTo>
                    <a:pt x="93" y="438"/>
                  </a:lnTo>
                  <a:lnTo>
                    <a:pt x="96" y="434"/>
                  </a:lnTo>
                  <a:lnTo>
                    <a:pt x="96" y="434"/>
                  </a:lnTo>
                  <a:lnTo>
                    <a:pt x="96" y="438"/>
                  </a:lnTo>
                  <a:lnTo>
                    <a:pt x="100" y="438"/>
                  </a:lnTo>
                  <a:lnTo>
                    <a:pt x="100" y="164"/>
                  </a:lnTo>
                  <a:lnTo>
                    <a:pt x="103" y="131"/>
                  </a:lnTo>
                  <a:lnTo>
                    <a:pt x="103" y="10"/>
                  </a:lnTo>
                  <a:lnTo>
                    <a:pt x="107" y="14"/>
                  </a:lnTo>
                  <a:lnTo>
                    <a:pt x="111" y="10"/>
                  </a:lnTo>
                  <a:lnTo>
                    <a:pt x="114" y="10"/>
                  </a:lnTo>
                  <a:lnTo>
                    <a:pt x="118" y="14"/>
                  </a:lnTo>
                  <a:lnTo>
                    <a:pt x="118" y="10"/>
                  </a:lnTo>
                  <a:lnTo>
                    <a:pt x="118" y="14"/>
                  </a:lnTo>
                  <a:lnTo>
                    <a:pt x="121" y="10"/>
                  </a:lnTo>
                  <a:lnTo>
                    <a:pt x="125" y="10"/>
                  </a:lnTo>
                  <a:lnTo>
                    <a:pt x="128" y="10"/>
                  </a:lnTo>
                  <a:lnTo>
                    <a:pt x="132" y="14"/>
                  </a:lnTo>
                  <a:lnTo>
                    <a:pt x="132" y="370"/>
                  </a:lnTo>
                  <a:lnTo>
                    <a:pt x="136" y="402"/>
                  </a:lnTo>
                  <a:lnTo>
                    <a:pt x="136" y="484"/>
                  </a:lnTo>
                  <a:lnTo>
                    <a:pt x="136" y="448"/>
                  </a:lnTo>
                  <a:lnTo>
                    <a:pt x="143" y="441"/>
                  </a:lnTo>
                  <a:lnTo>
                    <a:pt x="143" y="295"/>
                  </a:lnTo>
                  <a:lnTo>
                    <a:pt x="146" y="256"/>
                  </a:lnTo>
                  <a:lnTo>
                    <a:pt x="146" y="14"/>
                  </a:lnTo>
                  <a:lnTo>
                    <a:pt x="150" y="10"/>
                  </a:lnTo>
                  <a:lnTo>
                    <a:pt x="157" y="3"/>
                  </a:lnTo>
                  <a:lnTo>
                    <a:pt x="157" y="3"/>
                  </a:lnTo>
                  <a:lnTo>
                    <a:pt x="157" y="7"/>
                  </a:lnTo>
                  <a:lnTo>
                    <a:pt x="164" y="14"/>
                  </a:lnTo>
                  <a:lnTo>
                    <a:pt x="160" y="14"/>
                  </a:lnTo>
                  <a:lnTo>
                    <a:pt x="164" y="10"/>
                  </a:lnTo>
                  <a:lnTo>
                    <a:pt x="168" y="10"/>
                  </a:lnTo>
                  <a:lnTo>
                    <a:pt x="171" y="10"/>
                  </a:lnTo>
                  <a:lnTo>
                    <a:pt x="175" y="14"/>
                  </a:lnTo>
                  <a:lnTo>
                    <a:pt x="175" y="39"/>
                  </a:lnTo>
                  <a:lnTo>
                    <a:pt x="178" y="64"/>
                  </a:lnTo>
                  <a:lnTo>
                    <a:pt x="178" y="477"/>
                  </a:lnTo>
                  <a:lnTo>
                    <a:pt x="182" y="481"/>
                  </a:lnTo>
                  <a:lnTo>
                    <a:pt x="182" y="441"/>
                  </a:lnTo>
                  <a:lnTo>
                    <a:pt x="185" y="438"/>
                  </a:lnTo>
                  <a:lnTo>
                    <a:pt x="185" y="427"/>
                  </a:lnTo>
                  <a:lnTo>
                    <a:pt x="189" y="413"/>
                  </a:lnTo>
                  <a:lnTo>
                    <a:pt x="189" y="46"/>
                  </a:lnTo>
                  <a:lnTo>
                    <a:pt x="193" y="28"/>
                  </a:lnTo>
                  <a:lnTo>
                    <a:pt x="193" y="7"/>
                  </a:lnTo>
                  <a:lnTo>
                    <a:pt x="196" y="7"/>
                  </a:lnTo>
                  <a:lnTo>
                    <a:pt x="203" y="7"/>
                  </a:lnTo>
                  <a:lnTo>
                    <a:pt x="200" y="7"/>
                  </a:lnTo>
                  <a:lnTo>
                    <a:pt x="203" y="7"/>
                  </a:lnTo>
                  <a:lnTo>
                    <a:pt x="207" y="7"/>
                  </a:lnTo>
                  <a:lnTo>
                    <a:pt x="210" y="10"/>
                  </a:lnTo>
                  <a:lnTo>
                    <a:pt x="210" y="10"/>
                  </a:lnTo>
                  <a:lnTo>
                    <a:pt x="210" y="7"/>
                  </a:lnTo>
                  <a:lnTo>
                    <a:pt x="210" y="7"/>
                  </a:lnTo>
                  <a:lnTo>
                    <a:pt x="214" y="10"/>
                  </a:lnTo>
                  <a:lnTo>
                    <a:pt x="214" y="10"/>
                  </a:lnTo>
                  <a:lnTo>
                    <a:pt x="214" y="7"/>
                  </a:lnTo>
                  <a:lnTo>
                    <a:pt x="214" y="10"/>
                  </a:lnTo>
                  <a:lnTo>
                    <a:pt x="217" y="7"/>
                  </a:lnTo>
                  <a:lnTo>
                    <a:pt x="217" y="10"/>
                  </a:lnTo>
                  <a:lnTo>
                    <a:pt x="217" y="7"/>
                  </a:lnTo>
                  <a:lnTo>
                    <a:pt x="221" y="10"/>
                  </a:lnTo>
                  <a:lnTo>
                    <a:pt x="221" y="374"/>
                  </a:lnTo>
                  <a:lnTo>
                    <a:pt x="225" y="413"/>
                  </a:lnTo>
                  <a:lnTo>
                    <a:pt x="225" y="488"/>
                  </a:lnTo>
                  <a:lnTo>
                    <a:pt x="225" y="445"/>
                  </a:lnTo>
                  <a:lnTo>
                    <a:pt x="228" y="441"/>
                  </a:lnTo>
                  <a:lnTo>
                    <a:pt x="232" y="438"/>
                  </a:lnTo>
                  <a:lnTo>
                    <a:pt x="232" y="178"/>
                  </a:lnTo>
                  <a:lnTo>
                    <a:pt x="235" y="131"/>
                  </a:lnTo>
                  <a:lnTo>
                    <a:pt x="235" y="7"/>
                  </a:lnTo>
                  <a:lnTo>
                    <a:pt x="242" y="7"/>
                  </a:lnTo>
                  <a:lnTo>
                    <a:pt x="239" y="7"/>
                  </a:lnTo>
                  <a:lnTo>
                    <a:pt x="242" y="7"/>
                  </a:lnTo>
                  <a:lnTo>
                    <a:pt x="246" y="3"/>
                  </a:lnTo>
                  <a:lnTo>
                    <a:pt x="250" y="7"/>
                  </a:lnTo>
                  <a:lnTo>
                    <a:pt x="253" y="7"/>
                  </a:lnTo>
                  <a:lnTo>
                    <a:pt x="257" y="7"/>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4308840" y="1535040"/>
              <a:ext cx="387360" cy="1079280"/>
            </a:xfrm>
            <a:custGeom>
              <a:avLst/>
              <a:gdLst/>
              <a:ahLst/>
              <a:rect l="l" t="t" r="r" b="b"/>
              <a:pathLst>
                <a:path w="253" h="623">
                  <a:moveTo>
                    <a:pt x="0" y="7"/>
                  </a:moveTo>
                  <a:lnTo>
                    <a:pt x="3" y="7"/>
                  </a:lnTo>
                  <a:lnTo>
                    <a:pt x="7" y="10"/>
                  </a:lnTo>
                  <a:lnTo>
                    <a:pt x="7" y="67"/>
                  </a:lnTo>
                  <a:lnTo>
                    <a:pt x="10" y="99"/>
                  </a:lnTo>
                  <a:lnTo>
                    <a:pt x="10" y="623"/>
                  </a:lnTo>
                  <a:lnTo>
                    <a:pt x="10" y="463"/>
                  </a:lnTo>
                  <a:lnTo>
                    <a:pt x="14" y="459"/>
                  </a:lnTo>
                  <a:lnTo>
                    <a:pt x="14" y="427"/>
                  </a:lnTo>
                  <a:lnTo>
                    <a:pt x="17" y="424"/>
                  </a:lnTo>
                  <a:lnTo>
                    <a:pt x="17" y="406"/>
                  </a:lnTo>
                  <a:lnTo>
                    <a:pt x="21" y="388"/>
                  </a:lnTo>
                  <a:lnTo>
                    <a:pt x="21" y="42"/>
                  </a:lnTo>
                  <a:lnTo>
                    <a:pt x="25" y="25"/>
                  </a:lnTo>
                  <a:lnTo>
                    <a:pt x="25" y="3"/>
                  </a:lnTo>
                  <a:lnTo>
                    <a:pt x="28" y="3"/>
                  </a:lnTo>
                  <a:lnTo>
                    <a:pt x="32" y="3"/>
                  </a:lnTo>
                  <a:lnTo>
                    <a:pt x="35" y="3"/>
                  </a:lnTo>
                  <a:lnTo>
                    <a:pt x="39" y="3"/>
                  </a:lnTo>
                  <a:lnTo>
                    <a:pt x="42" y="3"/>
                  </a:lnTo>
                  <a:lnTo>
                    <a:pt x="46" y="3"/>
                  </a:lnTo>
                  <a:lnTo>
                    <a:pt x="50" y="7"/>
                  </a:lnTo>
                  <a:lnTo>
                    <a:pt x="53" y="10"/>
                  </a:lnTo>
                  <a:lnTo>
                    <a:pt x="53" y="623"/>
                  </a:lnTo>
                  <a:lnTo>
                    <a:pt x="53" y="434"/>
                  </a:lnTo>
                  <a:lnTo>
                    <a:pt x="57" y="456"/>
                  </a:lnTo>
                  <a:lnTo>
                    <a:pt x="57" y="477"/>
                  </a:lnTo>
                  <a:lnTo>
                    <a:pt x="57" y="448"/>
                  </a:lnTo>
                  <a:lnTo>
                    <a:pt x="60" y="445"/>
                  </a:lnTo>
                  <a:lnTo>
                    <a:pt x="60" y="448"/>
                  </a:lnTo>
                  <a:lnTo>
                    <a:pt x="60" y="441"/>
                  </a:lnTo>
                  <a:lnTo>
                    <a:pt x="64" y="431"/>
                  </a:lnTo>
                  <a:lnTo>
                    <a:pt x="64" y="89"/>
                  </a:lnTo>
                  <a:lnTo>
                    <a:pt x="67" y="67"/>
                  </a:lnTo>
                  <a:lnTo>
                    <a:pt x="67" y="3"/>
                  </a:lnTo>
                  <a:lnTo>
                    <a:pt x="71" y="3"/>
                  </a:lnTo>
                  <a:lnTo>
                    <a:pt x="74" y="7"/>
                  </a:lnTo>
                  <a:lnTo>
                    <a:pt x="74" y="3"/>
                  </a:lnTo>
                  <a:lnTo>
                    <a:pt x="74" y="7"/>
                  </a:lnTo>
                  <a:lnTo>
                    <a:pt x="78" y="3"/>
                  </a:lnTo>
                  <a:lnTo>
                    <a:pt x="78" y="7"/>
                  </a:lnTo>
                  <a:lnTo>
                    <a:pt x="78" y="3"/>
                  </a:lnTo>
                  <a:lnTo>
                    <a:pt x="82" y="3"/>
                  </a:lnTo>
                  <a:lnTo>
                    <a:pt x="85" y="3"/>
                  </a:lnTo>
                  <a:lnTo>
                    <a:pt x="89" y="3"/>
                  </a:lnTo>
                  <a:lnTo>
                    <a:pt x="92" y="3"/>
                  </a:lnTo>
                  <a:lnTo>
                    <a:pt x="96" y="7"/>
                  </a:lnTo>
                  <a:lnTo>
                    <a:pt x="96" y="199"/>
                  </a:lnTo>
                  <a:lnTo>
                    <a:pt x="99" y="245"/>
                  </a:lnTo>
                  <a:lnTo>
                    <a:pt x="99" y="477"/>
                  </a:lnTo>
                  <a:lnTo>
                    <a:pt x="99" y="452"/>
                  </a:lnTo>
                  <a:lnTo>
                    <a:pt x="103" y="448"/>
                  </a:lnTo>
                  <a:lnTo>
                    <a:pt x="103" y="441"/>
                  </a:lnTo>
                  <a:lnTo>
                    <a:pt x="107" y="438"/>
                  </a:lnTo>
                  <a:lnTo>
                    <a:pt x="107" y="292"/>
                  </a:lnTo>
                  <a:lnTo>
                    <a:pt x="110" y="249"/>
                  </a:lnTo>
                  <a:lnTo>
                    <a:pt x="110" y="7"/>
                  </a:lnTo>
                  <a:lnTo>
                    <a:pt x="114" y="3"/>
                  </a:lnTo>
                  <a:lnTo>
                    <a:pt x="117" y="3"/>
                  </a:lnTo>
                  <a:lnTo>
                    <a:pt x="121" y="3"/>
                  </a:lnTo>
                  <a:lnTo>
                    <a:pt x="124" y="3"/>
                  </a:lnTo>
                  <a:lnTo>
                    <a:pt x="128" y="3"/>
                  </a:lnTo>
                  <a:lnTo>
                    <a:pt x="131" y="0"/>
                  </a:lnTo>
                  <a:lnTo>
                    <a:pt x="139" y="0"/>
                  </a:lnTo>
                  <a:lnTo>
                    <a:pt x="135" y="0"/>
                  </a:lnTo>
                  <a:lnTo>
                    <a:pt x="139" y="28"/>
                  </a:lnTo>
                  <a:lnTo>
                    <a:pt x="142" y="50"/>
                  </a:lnTo>
                  <a:lnTo>
                    <a:pt x="142" y="463"/>
                  </a:lnTo>
                  <a:lnTo>
                    <a:pt x="146" y="470"/>
                  </a:lnTo>
                  <a:lnTo>
                    <a:pt x="146" y="438"/>
                  </a:lnTo>
                  <a:lnTo>
                    <a:pt x="149" y="434"/>
                  </a:lnTo>
                  <a:lnTo>
                    <a:pt x="149" y="413"/>
                  </a:lnTo>
                  <a:lnTo>
                    <a:pt x="153" y="399"/>
                  </a:lnTo>
                  <a:lnTo>
                    <a:pt x="153" y="78"/>
                  </a:lnTo>
                  <a:lnTo>
                    <a:pt x="156" y="53"/>
                  </a:lnTo>
                  <a:lnTo>
                    <a:pt x="156" y="0"/>
                  </a:lnTo>
                  <a:lnTo>
                    <a:pt x="160" y="0"/>
                  </a:lnTo>
                  <a:lnTo>
                    <a:pt x="164" y="3"/>
                  </a:lnTo>
                  <a:lnTo>
                    <a:pt x="164" y="0"/>
                  </a:lnTo>
                  <a:lnTo>
                    <a:pt x="164" y="3"/>
                  </a:lnTo>
                  <a:lnTo>
                    <a:pt x="167" y="3"/>
                  </a:lnTo>
                  <a:lnTo>
                    <a:pt x="174" y="3"/>
                  </a:lnTo>
                  <a:lnTo>
                    <a:pt x="171" y="3"/>
                  </a:lnTo>
                  <a:lnTo>
                    <a:pt x="174" y="0"/>
                  </a:lnTo>
                  <a:lnTo>
                    <a:pt x="174" y="3"/>
                  </a:lnTo>
                  <a:lnTo>
                    <a:pt x="178" y="0"/>
                  </a:lnTo>
                  <a:lnTo>
                    <a:pt x="181" y="0"/>
                  </a:lnTo>
                  <a:lnTo>
                    <a:pt x="185" y="3"/>
                  </a:lnTo>
                  <a:lnTo>
                    <a:pt x="185" y="267"/>
                  </a:lnTo>
                  <a:lnTo>
                    <a:pt x="188" y="324"/>
                  </a:lnTo>
                  <a:lnTo>
                    <a:pt x="188" y="491"/>
                  </a:lnTo>
                  <a:lnTo>
                    <a:pt x="188" y="434"/>
                  </a:lnTo>
                  <a:lnTo>
                    <a:pt x="192" y="427"/>
                  </a:lnTo>
                  <a:lnTo>
                    <a:pt x="196" y="424"/>
                  </a:lnTo>
                  <a:lnTo>
                    <a:pt x="196" y="327"/>
                  </a:lnTo>
                  <a:lnTo>
                    <a:pt x="199" y="295"/>
                  </a:lnTo>
                  <a:lnTo>
                    <a:pt x="199" y="10"/>
                  </a:lnTo>
                  <a:lnTo>
                    <a:pt x="203" y="7"/>
                  </a:lnTo>
                  <a:lnTo>
                    <a:pt x="203" y="7"/>
                  </a:lnTo>
                  <a:lnTo>
                    <a:pt x="203" y="3"/>
                  </a:lnTo>
                  <a:lnTo>
                    <a:pt x="206" y="7"/>
                  </a:lnTo>
                  <a:lnTo>
                    <a:pt x="206" y="7"/>
                  </a:lnTo>
                  <a:lnTo>
                    <a:pt x="206" y="3"/>
                  </a:lnTo>
                  <a:lnTo>
                    <a:pt x="210" y="7"/>
                  </a:lnTo>
                  <a:lnTo>
                    <a:pt x="210" y="3"/>
                  </a:lnTo>
                  <a:lnTo>
                    <a:pt x="210" y="7"/>
                  </a:lnTo>
                  <a:lnTo>
                    <a:pt x="213" y="3"/>
                  </a:lnTo>
                  <a:lnTo>
                    <a:pt x="213" y="7"/>
                  </a:lnTo>
                  <a:lnTo>
                    <a:pt x="213" y="3"/>
                  </a:lnTo>
                  <a:lnTo>
                    <a:pt x="221" y="3"/>
                  </a:lnTo>
                  <a:lnTo>
                    <a:pt x="217" y="3"/>
                  </a:lnTo>
                  <a:lnTo>
                    <a:pt x="221" y="3"/>
                  </a:lnTo>
                  <a:lnTo>
                    <a:pt x="224" y="3"/>
                  </a:lnTo>
                  <a:lnTo>
                    <a:pt x="228" y="7"/>
                  </a:lnTo>
                  <a:lnTo>
                    <a:pt x="228" y="623"/>
                  </a:lnTo>
                  <a:lnTo>
                    <a:pt x="231" y="623"/>
                  </a:lnTo>
                  <a:lnTo>
                    <a:pt x="231" y="277"/>
                  </a:lnTo>
                  <a:lnTo>
                    <a:pt x="231" y="466"/>
                  </a:lnTo>
                  <a:lnTo>
                    <a:pt x="235" y="463"/>
                  </a:lnTo>
                  <a:lnTo>
                    <a:pt x="235" y="452"/>
                  </a:lnTo>
                  <a:lnTo>
                    <a:pt x="238" y="448"/>
                  </a:lnTo>
                  <a:lnTo>
                    <a:pt x="238" y="399"/>
                  </a:lnTo>
                  <a:lnTo>
                    <a:pt x="242" y="381"/>
                  </a:lnTo>
                  <a:lnTo>
                    <a:pt x="242" y="32"/>
                  </a:lnTo>
                  <a:lnTo>
                    <a:pt x="245" y="25"/>
                  </a:lnTo>
                  <a:lnTo>
                    <a:pt x="245" y="3"/>
                  </a:lnTo>
                  <a:lnTo>
                    <a:pt x="253" y="3"/>
                  </a:lnTo>
                  <a:lnTo>
                    <a:pt x="253"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4696200" y="1535040"/>
              <a:ext cx="402120" cy="1079280"/>
            </a:xfrm>
            <a:custGeom>
              <a:avLst/>
              <a:gdLst/>
              <a:ahLst/>
              <a:rect l="l" t="t" r="r" b="b"/>
              <a:pathLst>
                <a:path w="263" h="623">
                  <a:moveTo>
                    <a:pt x="0" y="0"/>
                  </a:moveTo>
                  <a:lnTo>
                    <a:pt x="3" y="0"/>
                  </a:lnTo>
                  <a:lnTo>
                    <a:pt x="7" y="0"/>
                  </a:lnTo>
                  <a:lnTo>
                    <a:pt x="10" y="0"/>
                  </a:lnTo>
                  <a:lnTo>
                    <a:pt x="14" y="0"/>
                  </a:lnTo>
                  <a:lnTo>
                    <a:pt x="17" y="0"/>
                  </a:lnTo>
                  <a:lnTo>
                    <a:pt x="21" y="7"/>
                  </a:lnTo>
                  <a:lnTo>
                    <a:pt x="21" y="623"/>
                  </a:lnTo>
                  <a:lnTo>
                    <a:pt x="21" y="413"/>
                  </a:lnTo>
                  <a:lnTo>
                    <a:pt x="25" y="441"/>
                  </a:lnTo>
                  <a:lnTo>
                    <a:pt x="25" y="495"/>
                  </a:lnTo>
                  <a:lnTo>
                    <a:pt x="25" y="452"/>
                  </a:lnTo>
                  <a:lnTo>
                    <a:pt x="28" y="448"/>
                  </a:lnTo>
                  <a:lnTo>
                    <a:pt x="32" y="445"/>
                  </a:lnTo>
                  <a:lnTo>
                    <a:pt x="32" y="135"/>
                  </a:lnTo>
                  <a:lnTo>
                    <a:pt x="35" y="103"/>
                  </a:lnTo>
                  <a:lnTo>
                    <a:pt x="35" y="3"/>
                  </a:lnTo>
                  <a:lnTo>
                    <a:pt x="42" y="3"/>
                  </a:lnTo>
                  <a:lnTo>
                    <a:pt x="39" y="3"/>
                  </a:lnTo>
                  <a:lnTo>
                    <a:pt x="42" y="0"/>
                  </a:lnTo>
                  <a:lnTo>
                    <a:pt x="46" y="3"/>
                  </a:lnTo>
                  <a:lnTo>
                    <a:pt x="53" y="3"/>
                  </a:lnTo>
                  <a:lnTo>
                    <a:pt x="49" y="3"/>
                  </a:lnTo>
                  <a:lnTo>
                    <a:pt x="53" y="3"/>
                  </a:lnTo>
                  <a:lnTo>
                    <a:pt x="57" y="3"/>
                  </a:lnTo>
                  <a:lnTo>
                    <a:pt x="60" y="3"/>
                  </a:lnTo>
                  <a:lnTo>
                    <a:pt x="64" y="7"/>
                  </a:lnTo>
                  <a:lnTo>
                    <a:pt x="64" y="623"/>
                  </a:lnTo>
                  <a:lnTo>
                    <a:pt x="64" y="377"/>
                  </a:lnTo>
                  <a:lnTo>
                    <a:pt x="67" y="409"/>
                  </a:lnTo>
                  <a:lnTo>
                    <a:pt x="67" y="459"/>
                  </a:lnTo>
                  <a:lnTo>
                    <a:pt x="67" y="427"/>
                  </a:lnTo>
                  <a:lnTo>
                    <a:pt x="71" y="424"/>
                  </a:lnTo>
                  <a:lnTo>
                    <a:pt x="71" y="420"/>
                  </a:lnTo>
                  <a:lnTo>
                    <a:pt x="74" y="413"/>
                  </a:lnTo>
                  <a:lnTo>
                    <a:pt x="74" y="78"/>
                  </a:lnTo>
                  <a:lnTo>
                    <a:pt x="78" y="57"/>
                  </a:lnTo>
                  <a:lnTo>
                    <a:pt x="78" y="3"/>
                  </a:lnTo>
                  <a:lnTo>
                    <a:pt x="82" y="3"/>
                  </a:lnTo>
                  <a:lnTo>
                    <a:pt x="85" y="3"/>
                  </a:lnTo>
                  <a:lnTo>
                    <a:pt x="89" y="7"/>
                  </a:lnTo>
                  <a:lnTo>
                    <a:pt x="92" y="3"/>
                  </a:lnTo>
                  <a:lnTo>
                    <a:pt x="96" y="3"/>
                  </a:lnTo>
                  <a:lnTo>
                    <a:pt x="99" y="3"/>
                  </a:lnTo>
                  <a:lnTo>
                    <a:pt x="103" y="3"/>
                  </a:lnTo>
                  <a:lnTo>
                    <a:pt x="103" y="0"/>
                  </a:lnTo>
                  <a:lnTo>
                    <a:pt x="103" y="3"/>
                  </a:lnTo>
                  <a:lnTo>
                    <a:pt x="106" y="7"/>
                  </a:lnTo>
                  <a:lnTo>
                    <a:pt x="106" y="623"/>
                  </a:lnTo>
                  <a:lnTo>
                    <a:pt x="110" y="623"/>
                  </a:lnTo>
                  <a:lnTo>
                    <a:pt x="110" y="213"/>
                  </a:lnTo>
                  <a:lnTo>
                    <a:pt x="110" y="441"/>
                  </a:lnTo>
                  <a:lnTo>
                    <a:pt x="114" y="438"/>
                  </a:lnTo>
                  <a:lnTo>
                    <a:pt x="114" y="431"/>
                  </a:lnTo>
                  <a:lnTo>
                    <a:pt x="117" y="427"/>
                  </a:lnTo>
                  <a:lnTo>
                    <a:pt x="117" y="406"/>
                  </a:lnTo>
                  <a:lnTo>
                    <a:pt x="121" y="391"/>
                  </a:lnTo>
                  <a:lnTo>
                    <a:pt x="121" y="89"/>
                  </a:lnTo>
                  <a:lnTo>
                    <a:pt x="124" y="67"/>
                  </a:lnTo>
                  <a:lnTo>
                    <a:pt x="124" y="7"/>
                  </a:lnTo>
                  <a:lnTo>
                    <a:pt x="128" y="3"/>
                  </a:lnTo>
                  <a:lnTo>
                    <a:pt x="131" y="3"/>
                  </a:lnTo>
                  <a:lnTo>
                    <a:pt x="135" y="3"/>
                  </a:lnTo>
                  <a:lnTo>
                    <a:pt x="139" y="3"/>
                  </a:lnTo>
                  <a:lnTo>
                    <a:pt x="142" y="3"/>
                  </a:lnTo>
                  <a:lnTo>
                    <a:pt x="146" y="3"/>
                  </a:lnTo>
                  <a:lnTo>
                    <a:pt x="149" y="3"/>
                  </a:lnTo>
                  <a:lnTo>
                    <a:pt x="153" y="10"/>
                  </a:lnTo>
                  <a:lnTo>
                    <a:pt x="153" y="623"/>
                  </a:lnTo>
                  <a:lnTo>
                    <a:pt x="153" y="370"/>
                  </a:lnTo>
                  <a:lnTo>
                    <a:pt x="156" y="402"/>
                  </a:lnTo>
                  <a:lnTo>
                    <a:pt x="156" y="470"/>
                  </a:lnTo>
                  <a:lnTo>
                    <a:pt x="156" y="427"/>
                  </a:lnTo>
                  <a:lnTo>
                    <a:pt x="160" y="431"/>
                  </a:lnTo>
                  <a:lnTo>
                    <a:pt x="163" y="427"/>
                  </a:lnTo>
                  <a:lnTo>
                    <a:pt x="163" y="153"/>
                  </a:lnTo>
                  <a:lnTo>
                    <a:pt x="167" y="114"/>
                  </a:lnTo>
                  <a:lnTo>
                    <a:pt x="167" y="3"/>
                  </a:lnTo>
                  <a:lnTo>
                    <a:pt x="167" y="7"/>
                  </a:lnTo>
                  <a:lnTo>
                    <a:pt x="171" y="3"/>
                  </a:lnTo>
                  <a:lnTo>
                    <a:pt x="171" y="7"/>
                  </a:lnTo>
                  <a:lnTo>
                    <a:pt x="171" y="7"/>
                  </a:lnTo>
                  <a:lnTo>
                    <a:pt x="174" y="7"/>
                  </a:lnTo>
                  <a:lnTo>
                    <a:pt x="174" y="470"/>
                  </a:lnTo>
                  <a:lnTo>
                    <a:pt x="174" y="431"/>
                  </a:lnTo>
                  <a:lnTo>
                    <a:pt x="178" y="427"/>
                  </a:lnTo>
                  <a:lnTo>
                    <a:pt x="181" y="431"/>
                  </a:lnTo>
                  <a:lnTo>
                    <a:pt x="181" y="231"/>
                  </a:lnTo>
                  <a:lnTo>
                    <a:pt x="185" y="188"/>
                  </a:lnTo>
                  <a:lnTo>
                    <a:pt x="185" y="3"/>
                  </a:lnTo>
                  <a:lnTo>
                    <a:pt x="185" y="7"/>
                  </a:lnTo>
                  <a:lnTo>
                    <a:pt x="188" y="7"/>
                  </a:lnTo>
                  <a:lnTo>
                    <a:pt x="192" y="10"/>
                  </a:lnTo>
                  <a:lnTo>
                    <a:pt x="192" y="10"/>
                  </a:lnTo>
                  <a:lnTo>
                    <a:pt x="192" y="7"/>
                  </a:lnTo>
                  <a:lnTo>
                    <a:pt x="196" y="7"/>
                  </a:lnTo>
                  <a:lnTo>
                    <a:pt x="199" y="7"/>
                  </a:lnTo>
                  <a:lnTo>
                    <a:pt x="203" y="10"/>
                  </a:lnTo>
                  <a:lnTo>
                    <a:pt x="203" y="7"/>
                  </a:lnTo>
                  <a:lnTo>
                    <a:pt x="210" y="7"/>
                  </a:lnTo>
                  <a:lnTo>
                    <a:pt x="206" y="7"/>
                  </a:lnTo>
                  <a:lnTo>
                    <a:pt x="210" y="10"/>
                  </a:lnTo>
                  <a:lnTo>
                    <a:pt x="213" y="7"/>
                  </a:lnTo>
                  <a:lnTo>
                    <a:pt x="213" y="60"/>
                  </a:lnTo>
                  <a:lnTo>
                    <a:pt x="217" y="89"/>
                  </a:lnTo>
                  <a:lnTo>
                    <a:pt x="217" y="623"/>
                  </a:lnTo>
                  <a:lnTo>
                    <a:pt x="217" y="463"/>
                  </a:lnTo>
                  <a:lnTo>
                    <a:pt x="220" y="456"/>
                  </a:lnTo>
                  <a:lnTo>
                    <a:pt x="220" y="427"/>
                  </a:lnTo>
                  <a:lnTo>
                    <a:pt x="224" y="424"/>
                  </a:lnTo>
                  <a:lnTo>
                    <a:pt x="224" y="367"/>
                  </a:lnTo>
                  <a:lnTo>
                    <a:pt x="228" y="338"/>
                  </a:lnTo>
                  <a:lnTo>
                    <a:pt x="228" y="623"/>
                  </a:lnTo>
                  <a:lnTo>
                    <a:pt x="228" y="17"/>
                  </a:lnTo>
                  <a:lnTo>
                    <a:pt x="235" y="10"/>
                  </a:lnTo>
                  <a:lnTo>
                    <a:pt x="235" y="7"/>
                  </a:lnTo>
                  <a:lnTo>
                    <a:pt x="235" y="7"/>
                  </a:lnTo>
                  <a:lnTo>
                    <a:pt x="238" y="7"/>
                  </a:lnTo>
                  <a:lnTo>
                    <a:pt x="242" y="3"/>
                  </a:lnTo>
                  <a:lnTo>
                    <a:pt x="242" y="7"/>
                  </a:lnTo>
                  <a:lnTo>
                    <a:pt x="242" y="3"/>
                  </a:lnTo>
                  <a:lnTo>
                    <a:pt x="245" y="7"/>
                  </a:lnTo>
                  <a:lnTo>
                    <a:pt x="249" y="7"/>
                  </a:lnTo>
                  <a:lnTo>
                    <a:pt x="253" y="7"/>
                  </a:lnTo>
                  <a:lnTo>
                    <a:pt x="256" y="7"/>
                  </a:lnTo>
                  <a:lnTo>
                    <a:pt x="260" y="10"/>
                  </a:lnTo>
                  <a:lnTo>
                    <a:pt x="260" y="196"/>
                  </a:lnTo>
                  <a:lnTo>
                    <a:pt x="263" y="25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5098320" y="1535040"/>
              <a:ext cx="356400" cy="1079280"/>
            </a:xfrm>
            <a:custGeom>
              <a:avLst/>
              <a:gdLst/>
              <a:ahLst/>
              <a:rect l="l" t="t" r="r" b="b"/>
              <a:pathLst>
                <a:path w="232" h="623">
                  <a:moveTo>
                    <a:pt x="0" y="253"/>
                  </a:moveTo>
                  <a:lnTo>
                    <a:pt x="0" y="477"/>
                  </a:lnTo>
                  <a:lnTo>
                    <a:pt x="0" y="448"/>
                  </a:lnTo>
                  <a:lnTo>
                    <a:pt x="4" y="441"/>
                  </a:lnTo>
                  <a:lnTo>
                    <a:pt x="4" y="427"/>
                  </a:lnTo>
                  <a:lnTo>
                    <a:pt x="4" y="431"/>
                  </a:lnTo>
                  <a:lnTo>
                    <a:pt x="7" y="427"/>
                  </a:lnTo>
                  <a:lnTo>
                    <a:pt x="7" y="424"/>
                  </a:lnTo>
                  <a:lnTo>
                    <a:pt x="11" y="413"/>
                  </a:lnTo>
                  <a:lnTo>
                    <a:pt x="11" y="623"/>
                  </a:lnTo>
                  <a:lnTo>
                    <a:pt x="11" y="60"/>
                  </a:lnTo>
                  <a:lnTo>
                    <a:pt x="14" y="35"/>
                  </a:lnTo>
                  <a:lnTo>
                    <a:pt x="14" y="7"/>
                  </a:lnTo>
                  <a:lnTo>
                    <a:pt x="18" y="7"/>
                  </a:lnTo>
                  <a:lnTo>
                    <a:pt x="22" y="7"/>
                  </a:lnTo>
                  <a:lnTo>
                    <a:pt x="22" y="3"/>
                  </a:lnTo>
                  <a:lnTo>
                    <a:pt x="22" y="7"/>
                  </a:lnTo>
                  <a:lnTo>
                    <a:pt x="25" y="7"/>
                  </a:lnTo>
                  <a:lnTo>
                    <a:pt x="29" y="7"/>
                  </a:lnTo>
                  <a:lnTo>
                    <a:pt x="32" y="7"/>
                  </a:lnTo>
                  <a:lnTo>
                    <a:pt x="36" y="7"/>
                  </a:lnTo>
                  <a:lnTo>
                    <a:pt x="39" y="10"/>
                  </a:lnTo>
                  <a:lnTo>
                    <a:pt x="43" y="10"/>
                  </a:lnTo>
                  <a:lnTo>
                    <a:pt x="43" y="623"/>
                  </a:lnTo>
                  <a:lnTo>
                    <a:pt x="43" y="370"/>
                  </a:lnTo>
                  <a:lnTo>
                    <a:pt x="47" y="402"/>
                  </a:lnTo>
                  <a:lnTo>
                    <a:pt x="47" y="466"/>
                  </a:lnTo>
                  <a:lnTo>
                    <a:pt x="47" y="438"/>
                  </a:lnTo>
                  <a:lnTo>
                    <a:pt x="50" y="434"/>
                  </a:lnTo>
                  <a:lnTo>
                    <a:pt x="54" y="431"/>
                  </a:lnTo>
                  <a:lnTo>
                    <a:pt x="54" y="139"/>
                  </a:lnTo>
                  <a:lnTo>
                    <a:pt x="57" y="103"/>
                  </a:lnTo>
                  <a:lnTo>
                    <a:pt x="57" y="7"/>
                  </a:lnTo>
                  <a:lnTo>
                    <a:pt x="61" y="3"/>
                  </a:lnTo>
                  <a:lnTo>
                    <a:pt x="61" y="3"/>
                  </a:lnTo>
                  <a:lnTo>
                    <a:pt x="61" y="7"/>
                  </a:lnTo>
                  <a:lnTo>
                    <a:pt x="64" y="3"/>
                  </a:lnTo>
                  <a:lnTo>
                    <a:pt x="68" y="0"/>
                  </a:lnTo>
                  <a:lnTo>
                    <a:pt x="68" y="3"/>
                  </a:lnTo>
                  <a:lnTo>
                    <a:pt x="75" y="3"/>
                  </a:lnTo>
                  <a:lnTo>
                    <a:pt x="71" y="3"/>
                  </a:lnTo>
                  <a:lnTo>
                    <a:pt x="75" y="3"/>
                  </a:lnTo>
                  <a:lnTo>
                    <a:pt x="82" y="3"/>
                  </a:lnTo>
                  <a:lnTo>
                    <a:pt x="79" y="3"/>
                  </a:lnTo>
                  <a:lnTo>
                    <a:pt x="82" y="3"/>
                  </a:lnTo>
                  <a:lnTo>
                    <a:pt x="86" y="3"/>
                  </a:lnTo>
                  <a:lnTo>
                    <a:pt x="86" y="82"/>
                  </a:lnTo>
                  <a:lnTo>
                    <a:pt x="89" y="128"/>
                  </a:lnTo>
                  <a:lnTo>
                    <a:pt x="89" y="456"/>
                  </a:lnTo>
                  <a:lnTo>
                    <a:pt x="93" y="445"/>
                  </a:lnTo>
                  <a:lnTo>
                    <a:pt x="93" y="424"/>
                  </a:lnTo>
                  <a:lnTo>
                    <a:pt x="93" y="427"/>
                  </a:lnTo>
                  <a:lnTo>
                    <a:pt x="96" y="424"/>
                  </a:lnTo>
                  <a:lnTo>
                    <a:pt x="96" y="420"/>
                  </a:lnTo>
                  <a:lnTo>
                    <a:pt x="100" y="413"/>
                  </a:lnTo>
                  <a:lnTo>
                    <a:pt x="100" y="623"/>
                  </a:lnTo>
                  <a:lnTo>
                    <a:pt x="100" y="64"/>
                  </a:lnTo>
                  <a:lnTo>
                    <a:pt x="104" y="46"/>
                  </a:lnTo>
                  <a:lnTo>
                    <a:pt x="104" y="10"/>
                  </a:lnTo>
                  <a:lnTo>
                    <a:pt x="104" y="14"/>
                  </a:lnTo>
                  <a:lnTo>
                    <a:pt x="107" y="17"/>
                  </a:lnTo>
                  <a:lnTo>
                    <a:pt x="107" y="17"/>
                  </a:lnTo>
                  <a:lnTo>
                    <a:pt x="107" y="14"/>
                  </a:lnTo>
                  <a:lnTo>
                    <a:pt x="111" y="14"/>
                  </a:lnTo>
                  <a:lnTo>
                    <a:pt x="114" y="10"/>
                  </a:lnTo>
                  <a:lnTo>
                    <a:pt x="114" y="14"/>
                  </a:lnTo>
                  <a:lnTo>
                    <a:pt x="114" y="10"/>
                  </a:lnTo>
                  <a:lnTo>
                    <a:pt x="118" y="10"/>
                  </a:lnTo>
                  <a:lnTo>
                    <a:pt x="121" y="10"/>
                  </a:lnTo>
                  <a:lnTo>
                    <a:pt x="125" y="10"/>
                  </a:lnTo>
                  <a:lnTo>
                    <a:pt x="128" y="14"/>
                  </a:lnTo>
                  <a:lnTo>
                    <a:pt x="128" y="57"/>
                  </a:lnTo>
                  <a:lnTo>
                    <a:pt x="132" y="623"/>
                  </a:lnTo>
                  <a:lnTo>
                    <a:pt x="132" y="228"/>
                  </a:lnTo>
                  <a:lnTo>
                    <a:pt x="132" y="452"/>
                  </a:lnTo>
                  <a:lnTo>
                    <a:pt x="136" y="448"/>
                  </a:lnTo>
                  <a:lnTo>
                    <a:pt x="136" y="441"/>
                  </a:lnTo>
                  <a:lnTo>
                    <a:pt x="139" y="438"/>
                  </a:lnTo>
                  <a:lnTo>
                    <a:pt x="139" y="416"/>
                  </a:lnTo>
                  <a:lnTo>
                    <a:pt x="143" y="402"/>
                  </a:lnTo>
                  <a:lnTo>
                    <a:pt x="143" y="78"/>
                  </a:lnTo>
                  <a:lnTo>
                    <a:pt x="143" y="82"/>
                  </a:lnTo>
                  <a:lnTo>
                    <a:pt x="146" y="46"/>
                  </a:lnTo>
                  <a:lnTo>
                    <a:pt x="146" y="10"/>
                  </a:lnTo>
                  <a:lnTo>
                    <a:pt x="146" y="17"/>
                  </a:lnTo>
                  <a:lnTo>
                    <a:pt x="153" y="17"/>
                  </a:lnTo>
                  <a:lnTo>
                    <a:pt x="150" y="17"/>
                  </a:lnTo>
                  <a:lnTo>
                    <a:pt x="153" y="17"/>
                  </a:lnTo>
                  <a:lnTo>
                    <a:pt x="161" y="17"/>
                  </a:lnTo>
                  <a:lnTo>
                    <a:pt x="157" y="17"/>
                  </a:lnTo>
                  <a:lnTo>
                    <a:pt x="161" y="14"/>
                  </a:lnTo>
                  <a:lnTo>
                    <a:pt x="161" y="14"/>
                  </a:lnTo>
                  <a:lnTo>
                    <a:pt x="164" y="14"/>
                  </a:lnTo>
                  <a:lnTo>
                    <a:pt x="168" y="14"/>
                  </a:lnTo>
                  <a:lnTo>
                    <a:pt x="171" y="10"/>
                  </a:lnTo>
                  <a:lnTo>
                    <a:pt x="171" y="21"/>
                  </a:lnTo>
                  <a:lnTo>
                    <a:pt x="175" y="32"/>
                  </a:lnTo>
                  <a:lnTo>
                    <a:pt x="175" y="623"/>
                  </a:lnTo>
                  <a:lnTo>
                    <a:pt x="175" y="427"/>
                  </a:lnTo>
                  <a:lnTo>
                    <a:pt x="178" y="441"/>
                  </a:lnTo>
                  <a:lnTo>
                    <a:pt x="178" y="452"/>
                  </a:lnTo>
                  <a:lnTo>
                    <a:pt x="178" y="438"/>
                  </a:lnTo>
                  <a:lnTo>
                    <a:pt x="182" y="434"/>
                  </a:lnTo>
                  <a:lnTo>
                    <a:pt x="185" y="431"/>
                  </a:lnTo>
                  <a:lnTo>
                    <a:pt x="185" y="196"/>
                  </a:lnTo>
                  <a:lnTo>
                    <a:pt x="189" y="160"/>
                  </a:lnTo>
                  <a:lnTo>
                    <a:pt x="189" y="17"/>
                  </a:lnTo>
                  <a:lnTo>
                    <a:pt x="196" y="25"/>
                  </a:lnTo>
                  <a:lnTo>
                    <a:pt x="196" y="28"/>
                  </a:lnTo>
                  <a:lnTo>
                    <a:pt x="196" y="25"/>
                  </a:lnTo>
                  <a:lnTo>
                    <a:pt x="200" y="21"/>
                  </a:lnTo>
                  <a:lnTo>
                    <a:pt x="200" y="25"/>
                  </a:lnTo>
                  <a:lnTo>
                    <a:pt x="200" y="21"/>
                  </a:lnTo>
                  <a:lnTo>
                    <a:pt x="203" y="21"/>
                  </a:lnTo>
                  <a:lnTo>
                    <a:pt x="210" y="25"/>
                  </a:lnTo>
                  <a:lnTo>
                    <a:pt x="210" y="25"/>
                  </a:lnTo>
                  <a:lnTo>
                    <a:pt x="210" y="21"/>
                  </a:lnTo>
                  <a:lnTo>
                    <a:pt x="214" y="21"/>
                  </a:lnTo>
                  <a:lnTo>
                    <a:pt x="218" y="28"/>
                  </a:lnTo>
                  <a:lnTo>
                    <a:pt x="218" y="377"/>
                  </a:lnTo>
                  <a:lnTo>
                    <a:pt x="221" y="402"/>
                  </a:lnTo>
                  <a:lnTo>
                    <a:pt x="221" y="448"/>
                  </a:lnTo>
                  <a:lnTo>
                    <a:pt x="221" y="445"/>
                  </a:lnTo>
                  <a:lnTo>
                    <a:pt x="225" y="441"/>
                  </a:lnTo>
                  <a:lnTo>
                    <a:pt x="228" y="445"/>
                  </a:lnTo>
                  <a:lnTo>
                    <a:pt x="228" y="345"/>
                  </a:lnTo>
                  <a:lnTo>
                    <a:pt x="232" y="313"/>
                  </a:lnTo>
                  <a:lnTo>
                    <a:pt x="232" y="4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5455080" y="1546200"/>
              <a:ext cx="387360" cy="1068120"/>
            </a:xfrm>
            <a:custGeom>
              <a:avLst/>
              <a:gdLst/>
              <a:ahLst/>
              <a:rect l="l" t="t" r="r" b="b"/>
              <a:pathLst>
                <a:path w="253" h="616">
                  <a:moveTo>
                    <a:pt x="0" y="35"/>
                  </a:moveTo>
                  <a:lnTo>
                    <a:pt x="3" y="28"/>
                  </a:lnTo>
                  <a:lnTo>
                    <a:pt x="3" y="18"/>
                  </a:lnTo>
                  <a:lnTo>
                    <a:pt x="3" y="25"/>
                  </a:lnTo>
                  <a:lnTo>
                    <a:pt x="7" y="21"/>
                  </a:lnTo>
                  <a:lnTo>
                    <a:pt x="10" y="21"/>
                  </a:lnTo>
                  <a:lnTo>
                    <a:pt x="14" y="18"/>
                  </a:lnTo>
                  <a:lnTo>
                    <a:pt x="18" y="18"/>
                  </a:lnTo>
                  <a:lnTo>
                    <a:pt x="21" y="18"/>
                  </a:lnTo>
                  <a:lnTo>
                    <a:pt x="25" y="18"/>
                  </a:lnTo>
                  <a:lnTo>
                    <a:pt x="28" y="21"/>
                  </a:lnTo>
                  <a:lnTo>
                    <a:pt x="28" y="185"/>
                  </a:lnTo>
                  <a:lnTo>
                    <a:pt x="32" y="231"/>
                  </a:lnTo>
                  <a:lnTo>
                    <a:pt x="32" y="456"/>
                  </a:lnTo>
                  <a:lnTo>
                    <a:pt x="32" y="452"/>
                  </a:lnTo>
                  <a:lnTo>
                    <a:pt x="35" y="449"/>
                  </a:lnTo>
                  <a:lnTo>
                    <a:pt x="35" y="441"/>
                  </a:lnTo>
                  <a:lnTo>
                    <a:pt x="39" y="438"/>
                  </a:lnTo>
                  <a:lnTo>
                    <a:pt x="39" y="441"/>
                  </a:lnTo>
                  <a:lnTo>
                    <a:pt x="39" y="438"/>
                  </a:lnTo>
                  <a:lnTo>
                    <a:pt x="43" y="431"/>
                  </a:lnTo>
                  <a:lnTo>
                    <a:pt x="43" y="78"/>
                  </a:lnTo>
                  <a:lnTo>
                    <a:pt x="46" y="53"/>
                  </a:lnTo>
                  <a:lnTo>
                    <a:pt x="46" y="10"/>
                  </a:lnTo>
                  <a:lnTo>
                    <a:pt x="50" y="14"/>
                  </a:lnTo>
                  <a:lnTo>
                    <a:pt x="50" y="10"/>
                  </a:lnTo>
                  <a:lnTo>
                    <a:pt x="50" y="18"/>
                  </a:lnTo>
                  <a:lnTo>
                    <a:pt x="53" y="21"/>
                  </a:lnTo>
                  <a:lnTo>
                    <a:pt x="53" y="25"/>
                  </a:lnTo>
                  <a:lnTo>
                    <a:pt x="53" y="21"/>
                  </a:lnTo>
                  <a:lnTo>
                    <a:pt x="57" y="18"/>
                  </a:lnTo>
                  <a:lnTo>
                    <a:pt x="57" y="10"/>
                  </a:lnTo>
                  <a:lnTo>
                    <a:pt x="60" y="7"/>
                  </a:lnTo>
                  <a:lnTo>
                    <a:pt x="60" y="10"/>
                  </a:lnTo>
                  <a:lnTo>
                    <a:pt x="60" y="7"/>
                  </a:lnTo>
                  <a:lnTo>
                    <a:pt x="64" y="7"/>
                  </a:lnTo>
                  <a:lnTo>
                    <a:pt x="67" y="7"/>
                  </a:lnTo>
                  <a:lnTo>
                    <a:pt x="71" y="7"/>
                  </a:lnTo>
                  <a:lnTo>
                    <a:pt x="75" y="14"/>
                  </a:lnTo>
                  <a:lnTo>
                    <a:pt x="75" y="413"/>
                  </a:lnTo>
                  <a:lnTo>
                    <a:pt x="78" y="434"/>
                  </a:lnTo>
                  <a:lnTo>
                    <a:pt x="78" y="456"/>
                  </a:lnTo>
                  <a:lnTo>
                    <a:pt x="78" y="431"/>
                  </a:lnTo>
                  <a:lnTo>
                    <a:pt x="85" y="424"/>
                  </a:lnTo>
                  <a:lnTo>
                    <a:pt x="85" y="342"/>
                  </a:lnTo>
                  <a:lnTo>
                    <a:pt x="89" y="306"/>
                  </a:lnTo>
                  <a:lnTo>
                    <a:pt x="89" y="7"/>
                  </a:lnTo>
                  <a:lnTo>
                    <a:pt x="96" y="7"/>
                  </a:lnTo>
                  <a:lnTo>
                    <a:pt x="92" y="7"/>
                  </a:lnTo>
                  <a:lnTo>
                    <a:pt x="96" y="7"/>
                  </a:lnTo>
                  <a:lnTo>
                    <a:pt x="100" y="3"/>
                  </a:lnTo>
                  <a:lnTo>
                    <a:pt x="100" y="7"/>
                  </a:lnTo>
                  <a:lnTo>
                    <a:pt x="100" y="3"/>
                  </a:lnTo>
                  <a:lnTo>
                    <a:pt x="103" y="7"/>
                  </a:lnTo>
                  <a:lnTo>
                    <a:pt x="107" y="3"/>
                  </a:lnTo>
                  <a:lnTo>
                    <a:pt x="107" y="3"/>
                  </a:lnTo>
                  <a:lnTo>
                    <a:pt x="107" y="7"/>
                  </a:lnTo>
                  <a:lnTo>
                    <a:pt x="110" y="7"/>
                  </a:lnTo>
                  <a:lnTo>
                    <a:pt x="114" y="7"/>
                  </a:lnTo>
                  <a:lnTo>
                    <a:pt x="114" y="3"/>
                  </a:lnTo>
                  <a:lnTo>
                    <a:pt x="114" y="7"/>
                  </a:lnTo>
                  <a:lnTo>
                    <a:pt x="117" y="3"/>
                  </a:lnTo>
                  <a:lnTo>
                    <a:pt x="117" y="3"/>
                  </a:lnTo>
                  <a:lnTo>
                    <a:pt x="117" y="46"/>
                  </a:lnTo>
                  <a:lnTo>
                    <a:pt x="121" y="75"/>
                  </a:lnTo>
                  <a:lnTo>
                    <a:pt x="121" y="452"/>
                  </a:lnTo>
                  <a:lnTo>
                    <a:pt x="124" y="449"/>
                  </a:lnTo>
                  <a:lnTo>
                    <a:pt x="124" y="438"/>
                  </a:lnTo>
                  <a:lnTo>
                    <a:pt x="128" y="434"/>
                  </a:lnTo>
                  <a:lnTo>
                    <a:pt x="132" y="431"/>
                  </a:lnTo>
                  <a:lnTo>
                    <a:pt x="132" y="174"/>
                  </a:lnTo>
                  <a:lnTo>
                    <a:pt x="135" y="128"/>
                  </a:lnTo>
                  <a:lnTo>
                    <a:pt x="135" y="0"/>
                  </a:lnTo>
                  <a:lnTo>
                    <a:pt x="139" y="0"/>
                  </a:lnTo>
                  <a:lnTo>
                    <a:pt x="142" y="0"/>
                  </a:lnTo>
                  <a:lnTo>
                    <a:pt x="146" y="0"/>
                  </a:lnTo>
                  <a:lnTo>
                    <a:pt x="149" y="3"/>
                  </a:lnTo>
                  <a:lnTo>
                    <a:pt x="153" y="3"/>
                  </a:lnTo>
                  <a:lnTo>
                    <a:pt x="157" y="3"/>
                  </a:lnTo>
                  <a:lnTo>
                    <a:pt x="160" y="0"/>
                  </a:lnTo>
                  <a:lnTo>
                    <a:pt x="160" y="7"/>
                  </a:lnTo>
                  <a:lnTo>
                    <a:pt x="164" y="10"/>
                  </a:lnTo>
                  <a:lnTo>
                    <a:pt x="164" y="452"/>
                  </a:lnTo>
                  <a:lnTo>
                    <a:pt x="167" y="459"/>
                  </a:lnTo>
                  <a:lnTo>
                    <a:pt x="167" y="434"/>
                  </a:lnTo>
                  <a:lnTo>
                    <a:pt x="174" y="427"/>
                  </a:lnTo>
                  <a:lnTo>
                    <a:pt x="174" y="367"/>
                  </a:lnTo>
                  <a:lnTo>
                    <a:pt x="178" y="338"/>
                  </a:lnTo>
                  <a:lnTo>
                    <a:pt x="178" y="10"/>
                  </a:lnTo>
                  <a:lnTo>
                    <a:pt x="185" y="7"/>
                  </a:lnTo>
                  <a:lnTo>
                    <a:pt x="181" y="7"/>
                  </a:lnTo>
                  <a:lnTo>
                    <a:pt x="185" y="7"/>
                  </a:lnTo>
                  <a:lnTo>
                    <a:pt x="189" y="10"/>
                  </a:lnTo>
                  <a:lnTo>
                    <a:pt x="192" y="7"/>
                  </a:lnTo>
                  <a:lnTo>
                    <a:pt x="192" y="10"/>
                  </a:lnTo>
                  <a:lnTo>
                    <a:pt x="192" y="7"/>
                  </a:lnTo>
                  <a:lnTo>
                    <a:pt x="199" y="7"/>
                  </a:lnTo>
                  <a:lnTo>
                    <a:pt x="196" y="7"/>
                  </a:lnTo>
                  <a:lnTo>
                    <a:pt x="199" y="7"/>
                  </a:lnTo>
                  <a:lnTo>
                    <a:pt x="203" y="7"/>
                  </a:lnTo>
                  <a:lnTo>
                    <a:pt x="206" y="10"/>
                  </a:lnTo>
                  <a:lnTo>
                    <a:pt x="206" y="616"/>
                  </a:lnTo>
                  <a:lnTo>
                    <a:pt x="206" y="256"/>
                  </a:lnTo>
                  <a:lnTo>
                    <a:pt x="210" y="310"/>
                  </a:lnTo>
                  <a:lnTo>
                    <a:pt x="210" y="463"/>
                  </a:lnTo>
                  <a:lnTo>
                    <a:pt x="210" y="441"/>
                  </a:lnTo>
                  <a:lnTo>
                    <a:pt x="217" y="434"/>
                  </a:lnTo>
                  <a:lnTo>
                    <a:pt x="217" y="424"/>
                  </a:lnTo>
                  <a:lnTo>
                    <a:pt x="221" y="413"/>
                  </a:lnTo>
                  <a:lnTo>
                    <a:pt x="221" y="82"/>
                  </a:lnTo>
                  <a:lnTo>
                    <a:pt x="224" y="60"/>
                  </a:lnTo>
                  <a:lnTo>
                    <a:pt x="224" y="7"/>
                  </a:lnTo>
                  <a:lnTo>
                    <a:pt x="228" y="7"/>
                  </a:lnTo>
                  <a:lnTo>
                    <a:pt x="231" y="10"/>
                  </a:lnTo>
                  <a:lnTo>
                    <a:pt x="231" y="7"/>
                  </a:lnTo>
                  <a:lnTo>
                    <a:pt x="231" y="7"/>
                  </a:lnTo>
                  <a:lnTo>
                    <a:pt x="235" y="10"/>
                  </a:lnTo>
                  <a:lnTo>
                    <a:pt x="235" y="7"/>
                  </a:lnTo>
                  <a:lnTo>
                    <a:pt x="238" y="10"/>
                  </a:lnTo>
                  <a:lnTo>
                    <a:pt x="238" y="7"/>
                  </a:lnTo>
                  <a:lnTo>
                    <a:pt x="242" y="7"/>
                  </a:lnTo>
                  <a:lnTo>
                    <a:pt x="246" y="10"/>
                  </a:lnTo>
                  <a:lnTo>
                    <a:pt x="246" y="7"/>
                  </a:lnTo>
                  <a:lnTo>
                    <a:pt x="246" y="10"/>
                  </a:lnTo>
                  <a:lnTo>
                    <a:pt x="249" y="7"/>
                  </a:lnTo>
                  <a:lnTo>
                    <a:pt x="249" y="100"/>
                  </a:lnTo>
                  <a:lnTo>
                    <a:pt x="253" y="153"/>
                  </a:lnTo>
                  <a:lnTo>
                    <a:pt x="253" y="449"/>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5842440" y="1559880"/>
              <a:ext cx="392040" cy="767160"/>
            </a:xfrm>
            <a:custGeom>
              <a:avLst/>
              <a:gdLst/>
              <a:ahLst/>
              <a:rect l="l" t="t" r="r" b="b"/>
              <a:pathLst>
                <a:path w="256" h="442">
                  <a:moveTo>
                    <a:pt x="0" y="442"/>
                  </a:moveTo>
                  <a:lnTo>
                    <a:pt x="7" y="434"/>
                  </a:lnTo>
                  <a:lnTo>
                    <a:pt x="7" y="427"/>
                  </a:lnTo>
                  <a:lnTo>
                    <a:pt x="10" y="424"/>
                  </a:lnTo>
                  <a:lnTo>
                    <a:pt x="10" y="217"/>
                  </a:lnTo>
                  <a:lnTo>
                    <a:pt x="14" y="182"/>
                  </a:lnTo>
                  <a:lnTo>
                    <a:pt x="14" y="7"/>
                  </a:lnTo>
                  <a:lnTo>
                    <a:pt x="18" y="11"/>
                  </a:lnTo>
                  <a:lnTo>
                    <a:pt x="18" y="7"/>
                  </a:lnTo>
                  <a:lnTo>
                    <a:pt x="18" y="11"/>
                  </a:lnTo>
                  <a:lnTo>
                    <a:pt x="25" y="11"/>
                  </a:lnTo>
                  <a:lnTo>
                    <a:pt x="21" y="11"/>
                  </a:lnTo>
                  <a:lnTo>
                    <a:pt x="25" y="7"/>
                  </a:lnTo>
                  <a:lnTo>
                    <a:pt x="28" y="11"/>
                  </a:lnTo>
                  <a:lnTo>
                    <a:pt x="28" y="7"/>
                  </a:lnTo>
                  <a:lnTo>
                    <a:pt x="28" y="11"/>
                  </a:lnTo>
                  <a:lnTo>
                    <a:pt x="32" y="7"/>
                  </a:lnTo>
                  <a:lnTo>
                    <a:pt x="32" y="11"/>
                  </a:lnTo>
                  <a:lnTo>
                    <a:pt x="32" y="7"/>
                  </a:lnTo>
                  <a:lnTo>
                    <a:pt x="35" y="11"/>
                  </a:lnTo>
                  <a:lnTo>
                    <a:pt x="39" y="7"/>
                  </a:lnTo>
                  <a:lnTo>
                    <a:pt x="42" y="11"/>
                  </a:lnTo>
                  <a:lnTo>
                    <a:pt x="42" y="388"/>
                  </a:lnTo>
                  <a:lnTo>
                    <a:pt x="46" y="413"/>
                  </a:lnTo>
                  <a:lnTo>
                    <a:pt x="46" y="438"/>
                  </a:lnTo>
                  <a:lnTo>
                    <a:pt x="46" y="431"/>
                  </a:lnTo>
                  <a:lnTo>
                    <a:pt x="50" y="427"/>
                  </a:lnTo>
                  <a:lnTo>
                    <a:pt x="53" y="424"/>
                  </a:lnTo>
                  <a:lnTo>
                    <a:pt x="53" y="402"/>
                  </a:lnTo>
                  <a:lnTo>
                    <a:pt x="57" y="392"/>
                  </a:lnTo>
                  <a:lnTo>
                    <a:pt x="57" y="46"/>
                  </a:lnTo>
                  <a:lnTo>
                    <a:pt x="60" y="32"/>
                  </a:lnTo>
                  <a:lnTo>
                    <a:pt x="60" y="7"/>
                  </a:lnTo>
                  <a:lnTo>
                    <a:pt x="60" y="7"/>
                  </a:lnTo>
                  <a:lnTo>
                    <a:pt x="64" y="7"/>
                  </a:lnTo>
                  <a:lnTo>
                    <a:pt x="67" y="11"/>
                  </a:lnTo>
                  <a:lnTo>
                    <a:pt x="67" y="7"/>
                  </a:lnTo>
                  <a:lnTo>
                    <a:pt x="75" y="11"/>
                  </a:lnTo>
                  <a:lnTo>
                    <a:pt x="78" y="11"/>
                  </a:lnTo>
                  <a:lnTo>
                    <a:pt x="82" y="7"/>
                  </a:lnTo>
                  <a:lnTo>
                    <a:pt x="82" y="11"/>
                  </a:lnTo>
                  <a:lnTo>
                    <a:pt x="85" y="7"/>
                  </a:lnTo>
                  <a:lnTo>
                    <a:pt x="85" y="7"/>
                  </a:lnTo>
                  <a:lnTo>
                    <a:pt x="85" y="11"/>
                  </a:lnTo>
                  <a:lnTo>
                    <a:pt x="89" y="21"/>
                  </a:lnTo>
                  <a:lnTo>
                    <a:pt x="89" y="420"/>
                  </a:lnTo>
                  <a:lnTo>
                    <a:pt x="92" y="431"/>
                  </a:lnTo>
                  <a:lnTo>
                    <a:pt x="92" y="442"/>
                  </a:lnTo>
                  <a:lnTo>
                    <a:pt x="92" y="434"/>
                  </a:lnTo>
                  <a:lnTo>
                    <a:pt x="96" y="431"/>
                  </a:lnTo>
                  <a:lnTo>
                    <a:pt x="99" y="427"/>
                  </a:lnTo>
                  <a:lnTo>
                    <a:pt x="99" y="331"/>
                  </a:lnTo>
                  <a:lnTo>
                    <a:pt x="103" y="292"/>
                  </a:lnTo>
                  <a:lnTo>
                    <a:pt x="103" y="3"/>
                  </a:lnTo>
                  <a:lnTo>
                    <a:pt x="107" y="3"/>
                  </a:lnTo>
                  <a:lnTo>
                    <a:pt x="110" y="3"/>
                  </a:lnTo>
                  <a:lnTo>
                    <a:pt x="114" y="0"/>
                  </a:lnTo>
                  <a:lnTo>
                    <a:pt x="117" y="3"/>
                  </a:lnTo>
                  <a:lnTo>
                    <a:pt x="117" y="0"/>
                  </a:lnTo>
                  <a:lnTo>
                    <a:pt x="117" y="3"/>
                  </a:lnTo>
                  <a:lnTo>
                    <a:pt x="124" y="3"/>
                  </a:lnTo>
                  <a:lnTo>
                    <a:pt x="121" y="3"/>
                  </a:lnTo>
                  <a:lnTo>
                    <a:pt x="124" y="3"/>
                  </a:lnTo>
                  <a:lnTo>
                    <a:pt x="128" y="3"/>
                  </a:lnTo>
                  <a:lnTo>
                    <a:pt x="132" y="3"/>
                  </a:lnTo>
                  <a:lnTo>
                    <a:pt x="132" y="356"/>
                  </a:lnTo>
                  <a:lnTo>
                    <a:pt x="135" y="388"/>
                  </a:lnTo>
                  <a:lnTo>
                    <a:pt x="135" y="434"/>
                  </a:lnTo>
                  <a:lnTo>
                    <a:pt x="135" y="427"/>
                  </a:lnTo>
                  <a:lnTo>
                    <a:pt x="139" y="431"/>
                  </a:lnTo>
                  <a:lnTo>
                    <a:pt x="139" y="427"/>
                  </a:lnTo>
                  <a:lnTo>
                    <a:pt x="142" y="424"/>
                  </a:lnTo>
                  <a:lnTo>
                    <a:pt x="142" y="142"/>
                  </a:lnTo>
                  <a:lnTo>
                    <a:pt x="146" y="110"/>
                  </a:lnTo>
                  <a:lnTo>
                    <a:pt x="146" y="3"/>
                  </a:lnTo>
                  <a:lnTo>
                    <a:pt x="149" y="3"/>
                  </a:lnTo>
                  <a:lnTo>
                    <a:pt x="153" y="7"/>
                  </a:lnTo>
                  <a:lnTo>
                    <a:pt x="153" y="3"/>
                  </a:lnTo>
                  <a:lnTo>
                    <a:pt x="153" y="7"/>
                  </a:lnTo>
                  <a:lnTo>
                    <a:pt x="160" y="7"/>
                  </a:lnTo>
                  <a:lnTo>
                    <a:pt x="156" y="7"/>
                  </a:lnTo>
                  <a:lnTo>
                    <a:pt x="160" y="7"/>
                  </a:lnTo>
                  <a:lnTo>
                    <a:pt x="164" y="7"/>
                  </a:lnTo>
                  <a:lnTo>
                    <a:pt x="167" y="7"/>
                  </a:lnTo>
                  <a:lnTo>
                    <a:pt x="171" y="7"/>
                  </a:lnTo>
                  <a:lnTo>
                    <a:pt x="174" y="3"/>
                  </a:lnTo>
                  <a:lnTo>
                    <a:pt x="174" y="260"/>
                  </a:lnTo>
                  <a:lnTo>
                    <a:pt x="178" y="310"/>
                  </a:lnTo>
                  <a:lnTo>
                    <a:pt x="178" y="434"/>
                  </a:lnTo>
                  <a:lnTo>
                    <a:pt x="178" y="427"/>
                  </a:lnTo>
                  <a:lnTo>
                    <a:pt x="185" y="420"/>
                  </a:lnTo>
                  <a:lnTo>
                    <a:pt x="185" y="399"/>
                  </a:lnTo>
                  <a:lnTo>
                    <a:pt x="189" y="388"/>
                  </a:lnTo>
                  <a:lnTo>
                    <a:pt x="189" y="57"/>
                  </a:lnTo>
                  <a:lnTo>
                    <a:pt x="192" y="39"/>
                  </a:lnTo>
                  <a:lnTo>
                    <a:pt x="192" y="7"/>
                  </a:lnTo>
                  <a:lnTo>
                    <a:pt x="196" y="7"/>
                  </a:lnTo>
                  <a:lnTo>
                    <a:pt x="199" y="7"/>
                  </a:lnTo>
                  <a:lnTo>
                    <a:pt x="203" y="7"/>
                  </a:lnTo>
                  <a:lnTo>
                    <a:pt x="206" y="11"/>
                  </a:lnTo>
                  <a:lnTo>
                    <a:pt x="210" y="7"/>
                  </a:lnTo>
                  <a:lnTo>
                    <a:pt x="210" y="11"/>
                  </a:lnTo>
                  <a:lnTo>
                    <a:pt x="210" y="11"/>
                  </a:lnTo>
                  <a:lnTo>
                    <a:pt x="213" y="7"/>
                  </a:lnTo>
                  <a:lnTo>
                    <a:pt x="217" y="11"/>
                  </a:lnTo>
                  <a:lnTo>
                    <a:pt x="217" y="7"/>
                  </a:lnTo>
                  <a:lnTo>
                    <a:pt x="217" y="11"/>
                  </a:lnTo>
                  <a:lnTo>
                    <a:pt x="221" y="21"/>
                  </a:lnTo>
                  <a:lnTo>
                    <a:pt x="221" y="431"/>
                  </a:lnTo>
                  <a:lnTo>
                    <a:pt x="224" y="434"/>
                  </a:lnTo>
                  <a:lnTo>
                    <a:pt x="224" y="438"/>
                  </a:lnTo>
                  <a:lnTo>
                    <a:pt x="224" y="431"/>
                  </a:lnTo>
                  <a:lnTo>
                    <a:pt x="228" y="427"/>
                  </a:lnTo>
                  <a:lnTo>
                    <a:pt x="231" y="424"/>
                  </a:lnTo>
                  <a:lnTo>
                    <a:pt x="231" y="185"/>
                  </a:lnTo>
                  <a:lnTo>
                    <a:pt x="235" y="146"/>
                  </a:lnTo>
                  <a:lnTo>
                    <a:pt x="235" y="3"/>
                  </a:lnTo>
                  <a:lnTo>
                    <a:pt x="235" y="7"/>
                  </a:lnTo>
                  <a:lnTo>
                    <a:pt x="238" y="3"/>
                  </a:lnTo>
                  <a:lnTo>
                    <a:pt x="238" y="3"/>
                  </a:lnTo>
                  <a:lnTo>
                    <a:pt x="238" y="7"/>
                  </a:lnTo>
                  <a:lnTo>
                    <a:pt x="246" y="7"/>
                  </a:lnTo>
                  <a:lnTo>
                    <a:pt x="242" y="7"/>
                  </a:lnTo>
                  <a:lnTo>
                    <a:pt x="246" y="7"/>
                  </a:lnTo>
                  <a:lnTo>
                    <a:pt x="249" y="7"/>
                  </a:lnTo>
                  <a:lnTo>
                    <a:pt x="253" y="3"/>
                  </a:lnTo>
                  <a:lnTo>
                    <a:pt x="256" y="7"/>
                  </a:lnTo>
                  <a:lnTo>
                    <a:pt x="256" y="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6234840" y="1540440"/>
              <a:ext cx="378000" cy="1073880"/>
            </a:xfrm>
            <a:custGeom>
              <a:avLst/>
              <a:gdLst/>
              <a:ahLst/>
              <a:rect l="l" t="t" r="r" b="b"/>
              <a:pathLst>
                <a:path w="246" h="620">
                  <a:moveTo>
                    <a:pt x="0" y="14"/>
                  </a:moveTo>
                  <a:lnTo>
                    <a:pt x="0" y="18"/>
                  </a:lnTo>
                  <a:lnTo>
                    <a:pt x="4" y="14"/>
                  </a:lnTo>
                  <a:lnTo>
                    <a:pt x="7" y="18"/>
                  </a:lnTo>
                  <a:lnTo>
                    <a:pt x="7" y="14"/>
                  </a:lnTo>
                  <a:lnTo>
                    <a:pt x="7" y="339"/>
                  </a:lnTo>
                  <a:lnTo>
                    <a:pt x="11" y="378"/>
                  </a:lnTo>
                  <a:lnTo>
                    <a:pt x="11" y="445"/>
                  </a:lnTo>
                  <a:lnTo>
                    <a:pt x="11" y="438"/>
                  </a:lnTo>
                  <a:lnTo>
                    <a:pt x="18" y="431"/>
                  </a:lnTo>
                  <a:lnTo>
                    <a:pt x="18" y="388"/>
                  </a:lnTo>
                  <a:lnTo>
                    <a:pt x="22" y="371"/>
                  </a:lnTo>
                  <a:lnTo>
                    <a:pt x="22" y="47"/>
                  </a:lnTo>
                  <a:lnTo>
                    <a:pt x="25" y="36"/>
                  </a:lnTo>
                  <a:lnTo>
                    <a:pt x="25" y="7"/>
                  </a:lnTo>
                  <a:lnTo>
                    <a:pt x="25" y="11"/>
                  </a:lnTo>
                  <a:lnTo>
                    <a:pt x="29" y="14"/>
                  </a:lnTo>
                  <a:lnTo>
                    <a:pt x="32" y="14"/>
                  </a:lnTo>
                  <a:lnTo>
                    <a:pt x="36" y="14"/>
                  </a:lnTo>
                  <a:lnTo>
                    <a:pt x="39" y="14"/>
                  </a:lnTo>
                  <a:lnTo>
                    <a:pt x="43" y="14"/>
                  </a:lnTo>
                  <a:lnTo>
                    <a:pt x="47" y="14"/>
                  </a:lnTo>
                  <a:lnTo>
                    <a:pt x="50" y="14"/>
                  </a:lnTo>
                  <a:lnTo>
                    <a:pt x="50" y="128"/>
                  </a:lnTo>
                  <a:lnTo>
                    <a:pt x="54" y="178"/>
                  </a:lnTo>
                  <a:lnTo>
                    <a:pt x="54" y="421"/>
                  </a:lnTo>
                  <a:lnTo>
                    <a:pt x="57" y="424"/>
                  </a:lnTo>
                  <a:lnTo>
                    <a:pt x="57" y="431"/>
                  </a:lnTo>
                  <a:lnTo>
                    <a:pt x="61" y="428"/>
                  </a:lnTo>
                  <a:lnTo>
                    <a:pt x="61" y="421"/>
                  </a:lnTo>
                  <a:lnTo>
                    <a:pt x="64" y="413"/>
                  </a:lnTo>
                  <a:lnTo>
                    <a:pt x="64" y="39"/>
                  </a:lnTo>
                  <a:lnTo>
                    <a:pt x="68" y="25"/>
                  </a:lnTo>
                  <a:lnTo>
                    <a:pt x="68" y="4"/>
                  </a:lnTo>
                  <a:lnTo>
                    <a:pt x="68" y="7"/>
                  </a:lnTo>
                  <a:lnTo>
                    <a:pt x="75" y="7"/>
                  </a:lnTo>
                  <a:lnTo>
                    <a:pt x="71" y="7"/>
                  </a:lnTo>
                  <a:lnTo>
                    <a:pt x="75" y="7"/>
                  </a:lnTo>
                  <a:lnTo>
                    <a:pt x="79" y="7"/>
                  </a:lnTo>
                  <a:lnTo>
                    <a:pt x="82" y="7"/>
                  </a:lnTo>
                  <a:lnTo>
                    <a:pt x="86" y="7"/>
                  </a:lnTo>
                  <a:lnTo>
                    <a:pt x="89" y="7"/>
                  </a:lnTo>
                  <a:lnTo>
                    <a:pt x="93" y="11"/>
                  </a:lnTo>
                  <a:lnTo>
                    <a:pt x="96" y="22"/>
                  </a:lnTo>
                  <a:lnTo>
                    <a:pt x="96" y="620"/>
                  </a:lnTo>
                  <a:lnTo>
                    <a:pt x="96" y="435"/>
                  </a:lnTo>
                  <a:lnTo>
                    <a:pt x="100" y="449"/>
                  </a:lnTo>
                  <a:lnTo>
                    <a:pt x="100" y="453"/>
                  </a:lnTo>
                  <a:lnTo>
                    <a:pt x="100" y="438"/>
                  </a:lnTo>
                  <a:lnTo>
                    <a:pt x="104" y="435"/>
                  </a:lnTo>
                  <a:lnTo>
                    <a:pt x="107" y="431"/>
                  </a:lnTo>
                  <a:lnTo>
                    <a:pt x="107" y="371"/>
                  </a:lnTo>
                  <a:lnTo>
                    <a:pt x="111" y="342"/>
                  </a:lnTo>
                  <a:lnTo>
                    <a:pt x="111" y="620"/>
                  </a:lnTo>
                  <a:lnTo>
                    <a:pt x="111" y="14"/>
                  </a:lnTo>
                  <a:lnTo>
                    <a:pt x="118" y="7"/>
                  </a:lnTo>
                  <a:lnTo>
                    <a:pt x="114" y="7"/>
                  </a:lnTo>
                  <a:lnTo>
                    <a:pt x="118" y="7"/>
                  </a:lnTo>
                  <a:lnTo>
                    <a:pt x="121" y="7"/>
                  </a:lnTo>
                  <a:lnTo>
                    <a:pt x="125" y="7"/>
                  </a:lnTo>
                  <a:lnTo>
                    <a:pt x="128" y="4"/>
                  </a:lnTo>
                  <a:lnTo>
                    <a:pt x="128" y="7"/>
                  </a:lnTo>
                  <a:lnTo>
                    <a:pt x="128" y="4"/>
                  </a:lnTo>
                  <a:lnTo>
                    <a:pt x="128" y="4"/>
                  </a:lnTo>
                  <a:lnTo>
                    <a:pt x="132" y="7"/>
                  </a:lnTo>
                  <a:lnTo>
                    <a:pt x="132" y="7"/>
                  </a:lnTo>
                  <a:lnTo>
                    <a:pt x="132" y="4"/>
                  </a:lnTo>
                  <a:lnTo>
                    <a:pt x="139" y="4"/>
                  </a:lnTo>
                  <a:lnTo>
                    <a:pt x="139" y="620"/>
                  </a:lnTo>
                  <a:lnTo>
                    <a:pt x="136" y="4"/>
                  </a:lnTo>
                  <a:lnTo>
                    <a:pt x="139" y="289"/>
                  </a:lnTo>
                  <a:lnTo>
                    <a:pt x="143" y="339"/>
                  </a:lnTo>
                  <a:lnTo>
                    <a:pt x="143" y="445"/>
                  </a:lnTo>
                  <a:lnTo>
                    <a:pt x="143" y="442"/>
                  </a:lnTo>
                  <a:lnTo>
                    <a:pt x="146" y="438"/>
                  </a:lnTo>
                  <a:lnTo>
                    <a:pt x="150" y="435"/>
                  </a:lnTo>
                  <a:lnTo>
                    <a:pt x="150" y="385"/>
                  </a:lnTo>
                  <a:lnTo>
                    <a:pt x="153" y="360"/>
                  </a:lnTo>
                  <a:lnTo>
                    <a:pt x="153" y="11"/>
                  </a:lnTo>
                  <a:lnTo>
                    <a:pt x="157" y="4"/>
                  </a:lnTo>
                  <a:lnTo>
                    <a:pt x="157" y="7"/>
                  </a:lnTo>
                  <a:lnTo>
                    <a:pt x="157" y="4"/>
                  </a:lnTo>
                  <a:lnTo>
                    <a:pt x="161" y="4"/>
                  </a:lnTo>
                  <a:lnTo>
                    <a:pt x="164" y="4"/>
                  </a:lnTo>
                  <a:lnTo>
                    <a:pt x="168" y="4"/>
                  </a:lnTo>
                  <a:lnTo>
                    <a:pt x="171" y="4"/>
                  </a:lnTo>
                  <a:lnTo>
                    <a:pt x="175" y="4"/>
                  </a:lnTo>
                  <a:lnTo>
                    <a:pt x="178" y="4"/>
                  </a:lnTo>
                  <a:lnTo>
                    <a:pt x="182" y="7"/>
                  </a:lnTo>
                  <a:lnTo>
                    <a:pt x="182" y="4"/>
                  </a:lnTo>
                  <a:lnTo>
                    <a:pt x="182" y="22"/>
                  </a:lnTo>
                  <a:lnTo>
                    <a:pt x="185" y="39"/>
                  </a:lnTo>
                  <a:lnTo>
                    <a:pt x="185" y="620"/>
                  </a:lnTo>
                  <a:lnTo>
                    <a:pt x="185" y="431"/>
                  </a:lnTo>
                  <a:lnTo>
                    <a:pt x="193" y="431"/>
                  </a:lnTo>
                  <a:lnTo>
                    <a:pt x="193" y="428"/>
                  </a:lnTo>
                  <a:lnTo>
                    <a:pt x="196" y="424"/>
                  </a:lnTo>
                  <a:lnTo>
                    <a:pt x="196" y="242"/>
                  </a:lnTo>
                  <a:lnTo>
                    <a:pt x="200" y="200"/>
                  </a:lnTo>
                  <a:lnTo>
                    <a:pt x="200" y="4"/>
                  </a:lnTo>
                  <a:lnTo>
                    <a:pt x="203" y="0"/>
                  </a:lnTo>
                  <a:lnTo>
                    <a:pt x="203" y="4"/>
                  </a:lnTo>
                  <a:lnTo>
                    <a:pt x="203" y="0"/>
                  </a:lnTo>
                  <a:lnTo>
                    <a:pt x="203" y="0"/>
                  </a:lnTo>
                  <a:lnTo>
                    <a:pt x="207" y="0"/>
                  </a:lnTo>
                  <a:lnTo>
                    <a:pt x="210" y="4"/>
                  </a:lnTo>
                  <a:lnTo>
                    <a:pt x="210" y="4"/>
                  </a:lnTo>
                  <a:lnTo>
                    <a:pt x="210" y="0"/>
                  </a:lnTo>
                  <a:lnTo>
                    <a:pt x="214" y="4"/>
                  </a:lnTo>
                  <a:lnTo>
                    <a:pt x="214" y="4"/>
                  </a:lnTo>
                  <a:lnTo>
                    <a:pt x="214" y="0"/>
                  </a:lnTo>
                  <a:lnTo>
                    <a:pt x="214" y="4"/>
                  </a:lnTo>
                  <a:lnTo>
                    <a:pt x="218" y="4"/>
                  </a:lnTo>
                  <a:lnTo>
                    <a:pt x="221" y="0"/>
                  </a:lnTo>
                  <a:lnTo>
                    <a:pt x="221" y="4"/>
                  </a:lnTo>
                  <a:lnTo>
                    <a:pt x="221" y="0"/>
                  </a:lnTo>
                  <a:lnTo>
                    <a:pt x="225" y="0"/>
                  </a:lnTo>
                  <a:lnTo>
                    <a:pt x="228" y="4"/>
                  </a:lnTo>
                  <a:lnTo>
                    <a:pt x="228" y="620"/>
                  </a:lnTo>
                  <a:lnTo>
                    <a:pt x="228" y="353"/>
                  </a:lnTo>
                  <a:lnTo>
                    <a:pt x="232" y="388"/>
                  </a:lnTo>
                  <a:lnTo>
                    <a:pt x="232" y="453"/>
                  </a:lnTo>
                  <a:lnTo>
                    <a:pt x="232" y="438"/>
                  </a:lnTo>
                  <a:lnTo>
                    <a:pt x="239" y="431"/>
                  </a:lnTo>
                  <a:lnTo>
                    <a:pt x="239" y="424"/>
                  </a:lnTo>
                  <a:lnTo>
                    <a:pt x="242" y="410"/>
                  </a:lnTo>
                  <a:lnTo>
                    <a:pt x="242" y="50"/>
                  </a:lnTo>
                  <a:lnTo>
                    <a:pt x="246" y="3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6613200" y="1540440"/>
              <a:ext cx="332280" cy="1073880"/>
            </a:xfrm>
            <a:custGeom>
              <a:avLst/>
              <a:gdLst/>
              <a:ahLst/>
              <a:rect l="l" t="t" r="r" b="b"/>
              <a:pathLst>
                <a:path w="217" h="620">
                  <a:moveTo>
                    <a:pt x="0" y="32"/>
                  </a:moveTo>
                  <a:lnTo>
                    <a:pt x="0" y="4"/>
                  </a:lnTo>
                  <a:lnTo>
                    <a:pt x="0" y="11"/>
                  </a:lnTo>
                  <a:lnTo>
                    <a:pt x="4" y="11"/>
                  </a:lnTo>
                  <a:lnTo>
                    <a:pt x="7" y="11"/>
                  </a:lnTo>
                  <a:lnTo>
                    <a:pt x="11" y="11"/>
                  </a:lnTo>
                  <a:lnTo>
                    <a:pt x="14" y="7"/>
                  </a:lnTo>
                  <a:lnTo>
                    <a:pt x="18" y="7"/>
                  </a:lnTo>
                  <a:lnTo>
                    <a:pt x="21" y="11"/>
                  </a:lnTo>
                  <a:lnTo>
                    <a:pt x="21" y="11"/>
                  </a:lnTo>
                  <a:lnTo>
                    <a:pt x="21" y="7"/>
                  </a:lnTo>
                  <a:lnTo>
                    <a:pt x="25" y="11"/>
                  </a:lnTo>
                  <a:lnTo>
                    <a:pt x="25" y="7"/>
                  </a:lnTo>
                  <a:lnTo>
                    <a:pt x="25" y="620"/>
                  </a:lnTo>
                  <a:lnTo>
                    <a:pt x="29" y="620"/>
                  </a:lnTo>
                  <a:lnTo>
                    <a:pt x="29" y="260"/>
                  </a:lnTo>
                  <a:lnTo>
                    <a:pt x="29" y="445"/>
                  </a:lnTo>
                  <a:lnTo>
                    <a:pt x="32" y="442"/>
                  </a:lnTo>
                  <a:lnTo>
                    <a:pt x="32" y="438"/>
                  </a:lnTo>
                  <a:lnTo>
                    <a:pt x="36" y="435"/>
                  </a:lnTo>
                  <a:lnTo>
                    <a:pt x="36" y="417"/>
                  </a:lnTo>
                  <a:lnTo>
                    <a:pt x="39" y="406"/>
                  </a:lnTo>
                  <a:lnTo>
                    <a:pt x="39" y="71"/>
                  </a:lnTo>
                  <a:lnTo>
                    <a:pt x="43" y="54"/>
                  </a:lnTo>
                  <a:lnTo>
                    <a:pt x="43" y="7"/>
                  </a:lnTo>
                  <a:lnTo>
                    <a:pt x="43" y="11"/>
                  </a:lnTo>
                  <a:lnTo>
                    <a:pt x="46" y="14"/>
                  </a:lnTo>
                  <a:lnTo>
                    <a:pt x="53" y="14"/>
                  </a:lnTo>
                  <a:lnTo>
                    <a:pt x="50" y="14"/>
                  </a:lnTo>
                  <a:lnTo>
                    <a:pt x="53" y="11"/>
                  </a:lnTo>
                  <a:lnTo>
                    <a:pt x="57" y="11"/>
                  </a:lnTo>
                  <a:lnTo>
                    <a:pt x="61" y="11"/>
                  </a:lnTo>
                  <a:lnTo>
                    <a:pt x="68" y="11"/>
                  </a:lnTo>
                  <a:lnTo>
                    <a:pt x="68" y="14"/>
                  </a:lnTo>
                  <a:lnTo>
                    <a:pt x="71" y="22"/>
                  </a:lnTo>
                  <a:lnTo>
                    <a:pt x="71" y="620"/>
                  </a:lnTo>
                  <a:lnTo>
                    <a:pt x="71" y="424"/>
                  </a:lnTo>
                  <a:lnTo>
                    <a:pt x="75" y="442"/>
                  </a:lnTo>
                  <a:lnTo>
                    <a:pt x="75" y="453"/>
                  </a:lnTo>
                  <a:lnTo>
                    <a:pt x="75" y="428"/>
                  </a:lnTo>
                  <a:lnTo>
                    <a:pt x="78" y="431"/>
                  </a:lnTo>
                  <a:lnTo>
                    <a:pt x="78" y="442"/>
                  </a:lnTo>
                  <a:lnTo>
                    <a:pt x="82" y="438"/>
                  </a:lnTo>
                  <a:lnTo>
                    <a:pt x="82" y="232"/>
                  </a:lnTo>
                  <a:lnTo>
                    <a:pt x="86" y="193"/>
                  </a:lnTo>
                  <a:lnTo>
                    <a:pt x="86" y="11"/>
                  </a:lnTo>
                  <a:lnTo>
                    <a:pt x="89" y="7"/>
                  </a:lnTo>
                  <a:lnTo>
                    <a:pt x="89" y="11"/>
                  </a:lnTo>
                  <a:lnTo>
                    <a:pt x="89" y="7"/>
                  </a:lnTo>
                  <a:lnTo>
                    <a:pt x="93" y="7"/>
                  </a:lnTo>
                  <a:lnTo>
                    <a:pt x="96" y="4"/>
                  </a:lnTo>
                  <a:lnTo>
                    <a:pt x="100" y="4"/>
                  </a:lnTo>
                  <a:lnTo>
                    <a:pt x="103" y="4"/>
                  </a:lnTo>
                  <a:lnTo>
                    <a:pt x="107" y="4"/>
                  </a:lnTo>
                  <a:lnTo>
                    <a:pt x="110" y="0"/>
                  </a:lnTo>
                  <a:lnTo>
                    <a:pt x="110" y="4"/>
                  </a:lnTo>
                  <a:lnTo>
                    <a:pt x="110" y="0"/>
                  </a:lnTo>
                  <a:lnTo>
                    <a:pt x="114" y="4"/>
                  </a:lnTo>
                  <a:lnTo>
                    <a:pt x="114" y="0"/>
                  </a:lnTo>
                  <a:lnTo>
                    <a:pt x="114" y="620"/>
                  </a:lnTo>
                  <a:lnTo>
                    <a:pt x="118" y="235"/>
                  </a:lnTo>
                  <a:lnTo>
                    <a:pt x="118" y="445"/>
                  </a:lnTo>
                  <a:lnTo>
                    <a:pt x="121" y="442"/>
                  </a:lnTo>
                  <a:lnTo>
                    <a:pt x="121" y="431"/>
                  </a:lnTo>
                  <a:lnTo>
                    <a:pt x="125" y="435"/>
                  </a:lnTo>
                  <a:lnTo>
                    <a:pt x="125" y="424"/>
                  </a:lnTo>
                  <a:lnTo>
                    <a:pt x="128" y="410"/>
                  </a:lnTo>
                  <a:lnTo>
                    <a:pt x="128" y="71"/>
                  </a:lnTo>
                  <a:lnTo>
                    <a:pt x="132" y="50"/>
                  </a:lnTo>
                  <a:lnTo>
                    <a:pt x="132" y="11"/>
                  </a:lnTo>
                  <a:lnTo>
                    <a:pt x="132" y="14"/>
                  </a:lnTo>
                  <a:lnTo>
                    <a:pt x="135" y="11"/>
                  </a:lnTo>
                  <a:lnTo>
                    <a:pt x="139" y="11"/>
                  </a:lnTo>
                  <a:lnTo>
                    <a:pt x="143" y="11"/>
                  </a:lnTo>
                  <a:lnTo>
                    <a:pt x="146" y="11"/>
                  </a:lnTo>
                  <a:lnTo>
                    <a:pt x="150" y="11"/>
                  </a:lnTo>
                  <a:lnTo>
                    <a:pt x="153" y="11"/>
                  </a:lnTo>
                  <a:lnTo>
                    <a:pt x="157" y="14"/>
                  </a:lnTo>
                  <a:lnTo>
                    <a:pt x="157" y="22"/>
                  </a:lnTo>
                  <a:lnTo>
                    <a:pt x="160" y="36"/>
                  </a:lnTo>
                  <a:lnTo>
                    <a:pt x="160" y="620"/>
                  </a:lnTo>
                  <a:lnTo>
                    <a:pt x="160" y="442"/>
                  </a:lnTo>
                  <a:lnTo>
                    <a:pt x="164" y="445"/>
                  </a:lnTo>
                  <a:lnTo>
                    <a:pt x="164" y="431"/>
                  </a:lnTo>
                  <a:lnTo>
                    <a:pt x="167" y="428"/>
                  </a:lnTo>
                  <a:lnTo>
                    <a:pt x="171" y="431"/>
                  </a:lnTo>
                  <a:lnTo>
                    <a:pt x="171" y="321"/>
                  </a:lnTo>
                  <a:lnTo>
                    <a:pt x="175" y="289"/>
                  </a:lnTo>
                  <a:lnTo>
                    <a:pt x="175" y="18"/>
                  </a:lnTo>
                  <a:lnTo>
                    <a:pt x="182" y="18"/>
                  </a:lnTo>
                  <a:lnTo>
                    <a:pt x="178" y="18"/>
                  </a:lnTo>
                  <a:lnTo>
                    <a:pt x="182" y="14"/>
                  </a:lnTo>
                  <a:lnTo>
                    <a:pt x="185" y="14"/>
                  </a:lnTo>
                  <a:lnTo>
                    <a:pt x="189" y="18"/>
                  </a:lnTo>
                  <a:lnTo>
                    <a:pt x="189" y="18"/>
                  </a:lnTo>
                  <a:lnTo>
                    <a:pt x="189" y="14"/>
                  </a:lnTo>
                  <a:lnTo>
                    <a:pt x="189" y="14"/>
                  </a:lnTo>
                  <a:lnTo>
                    <a:pt x="192" y="14"/>
                  </a:lnTo>
                  <a:lnTo>
                    <a:pt x="196" y="14"/>
                  </a:lnTo>
                  <a:lnTo>
                    <a:pt x="200" y="11"/>
                  </a:lnTo>
                  <a:lnTo>
                    <a:pt x="200" y="14"/>
                  </a:lnTo>
                  <a:lnTo>
                    <a:pt x="200" y="11"/>
                  </a:lnTo>
                  <a:lnTo>
                    <a:pt x="203" y="11"/>
                  </a:lnTo>
                  <a:lnTo>
                    <a:pt x="203" y="620"/>
                  </a:lnTo>
                  <a:lnTo>
                    <a:pt x="203" y="307"/>
                  </a:lnTo>
                  <a:lnTo>
                    <a:pt x="207" y="346"/>
                  </a:lnTo>
                  <a:lnTo>
                    <a:pt x="207" y="424"/>
                  </a:lnTo>
                  <a:lnTo>
                    <a:pt x="207" y="417"/>
                  </a:lnTo>
                  <a:lnTo>
                    <a:pt x="210" y="413"/>
                  </a:lnTo>
                  <a:lnTo>
                    <a:pt x="214" y="417"/>
                  </a:lnTo>
                  <a:lnTo>
                    <a:pt x="214" y="228"/>
                  </a:lnTo>
                  <a:lnTo>
                    <a:pt x="217" y="185"/>
                  </a:lnTo>
                  <a:lnTo>
                    <a:pt x="217" y="118"/>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799000" y="4392360"/>
              <a:ext cx="54183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35" name=""/>
            <p:cNvSpPr/>
            <p:nvPr/>
          </p:nvSpPr>
          <p:spPr>
            <a:xfrm>
              <a:off x="2799000" y="4392360"/>
              <a:ext cx="54183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36" name=""/>
            <p:cNvSpPr/>
            <p:nvPr/>
          </p:nvSpPr>
          <p:spPr>
            <a:xfrm>
              <a:off x="2783160" y="44110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2337" name=""/>
            <p:cNvSpPr/>
            <p:nvPr/>
          </p:nvSpPr>
          <p:spPr>
            <a:xfrm flipV="1">
              <a:off x="3700440" y="4331880"/>
              <a:ext cx="216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8" name=""/>
            <p:cNvSpPr/>
            <p:nvPr/>
          </p:nvSpPr>
          <p:spPr>
            <a:xfrm>
              <a:off x="3625200" y="441108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Times New Roman"/>
              </a:endParaRPr>
            </a:p>
          </p:txBody>
        </p:sp>
        <p:sp>
          <p:nvSpPr>
            <p:cNvPr id="2339" name=""/>
            <p:cNvSpPr/>
            <p:nvPr/>
          </p:nvSpPr>
          <p:spPr>
            <a:xfrm flipV="1">
              <a:off x="4601880" y="4331880"/>
              <a:ext cx="252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0" name=""/>
            <p:cNvSpPr/>
            <p:nvPr/>
          </p:nvSpPr>
          <p:spPr>
            <a:xfrm>
              <a:off x="4527000" y="441108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000</a:t>
              </a:r>
              <a:endParaRPr b="0" lang="en-US" sz="600" spc="-1" strike="noStrike">
                <a:solidFill>
                  <a:srgbClr val="000000"/>
                </a:solidFill>
                <a:latin typeface="Times New Roman"/>
              </a:endParaRPr>
            </a:p>
          </p:txBody>
        </p:sp>
        <p:sp>
          <p:nvSpPr>
            <p:cNvPr id="2341" name=""/>
            <p:cNvSpPr/>
            <p:nvPr/>
          </p:nvSpPr>
          <p:spPr>
            <a:xfrm flipV="1">
              <a:off x="5508360" y="4331880"/>
              <a:ext cx="216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2" name=""/>
            <p:cNvSpPr/>
            <p:nvPr/>
          </p:nvSpPr>
          <p:spPr>
            <a:xfrm>
              <a:off x="5433120" y="441108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000</a:t>
              </a:r>
              <a:endParaRPr b="0" lang="en-US" sz="600" spc="-1" strike="noStrike">
                <a:solidFill>
                  <a:srgbClr val="000000"/>
                </a:solidFill>
                <a:latin typeface="Times New Roman"/>
              </a:endParaRPr>
            </a:p>
          </p:txBody>
        </p:sp>
        <p:sp>
          <p:nvSpPr>
            <p:cNvPr id="2343" name=""/>
            <p:cNvSpPr/>
            <p:nvPr/>
          </p:nvSpPr>
          <p:spPr>
            <a:xfrm flipV="1">
              <a:off x="6409800" y="4331880"/>
              <a:ext cx="216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4" name=""/>
            <p:cNvSpPr/>
            <p:nvPr/>
          </p:nvSpPr>
          <p:spPr>
            <a:xfrm>
              <a:off x="6334560" y="441108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000</a:t>
              </a:r>
              <a:endParaRPr b="0" lang="en-US" sz="600" spc="-1" strike="noStrike">
                <a:solidFill>
                  <a:srgbClr val="000000"/>
                </a:solidFill>
                <a:latin typeface="Times New Roman"/>
              </a:endParaRPr>
            </a:p>
          </p:txBody>
        </p:sp>
        <p:sp>
          <p:nvSpPr>
            <p:cNvPr id="2345" name=""/>
            <p:cNvSpPr/>
            <p:nvPr/>
          </p:nvSpPr>
          <p:spPr>
            <a:xfrm flipV="1">
              <a:off x="7310880" y="4331880"/>
              <a:ext cx="252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6" name=""/>
            <p:cNvSpPr/>
            <p:nvPr/>
          </p:nvSpPr>
          <p:spPr>
            <a:xfrm>
              <a:off x="7218720" y="4411080"/>
              <a:ext cx="214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000</a:t>
              </a:r>
              <a:endParaRPr b="0" lang="en-US" sz="600" spc="-1" strike="noStrike">
                <a:solidFill>
                  <a:srgbClr val="000000"/>
                </a:solidFill>
                <a:latin typeface="Times New Roman"/>
              </a:endParaRPr>
            </a:p>
          </p:txBody>
        </p:sp>
        <p:sp>
          <p:nvSpPr>
            <p:cNvPr id="2347" name=""/>
            <p:cNvSpPr/>
            <p:nvPr/>
          </p:nvSpPr>
          <p:spPr>
            <a:xfrm flipV="1">
              <a:off x="8217720" y="4331880"/>
              <a:ext cx="216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8" name=""/>
            <p:cNvSpPr/>
            <p:nvPr/>
          </p:nvSpPr>
          <p:spPr>
            <a:xfrm>
              <a:off x="8125200" y="4411080"/>
              <a:ext cx="214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000</a:t>
              </a:r>
              <a:endParaRPr b="0" lang="en-US" sz="600" spc="-1" strike="noStrike">
                <a:solidFill>
                  <a:srgbClr val="000000"/>
                </a:solidFill>
                <a:latin typeface="Times New Roman"/>
              </a:endParaRPr>
            </a:p>
          </p:txBody>
        </p:sp>
        <p:sp>
          <p:nvSpPr>
            <p:cNvPr id="2349" name=""/>
            <p:cNvSpPr/>
            <p:nvPr/>
          </p:nvSpPr>
          <p:spPr>
            <a:xfrm>
              <a:off x="2799000" y="4392360"/>
              <a:ext cx="504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50" name=""/>
            <p:cNvSpPr/>
            <p:nvPr/>
          </p:nvSpPr>
          <p:spPr>
            <a:xfrm flipH="1">
              <a:off x="8164440" y="4392360"/>
              <a:ext cx="532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51" name=""/>
            <p:cNvSpPr/>
            <p:nvPr/>
          </p:nvSpPr>
          <p:spPr>
            <a:xfrm>
              <a:off x="2799000" y="4392360"/>
              <a:ext cx="54183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52" name=""/>
            <p:cNvSpPr/>
            <p:nvPr/>
          </p:nvSpPr>
          <p:spPr>
            <a:xfrm>
              <a:off x="2799000" y="3348720"/>
              <a:ext cx="329040" cy="585720"/>
            </a:xfrm>
            <a:custGeom>
              <a:avLst/>
              <a:gdLst/>
              <a:ahLst/>
              <a:rect l="l" t="t" r="r" b="b"/>
              <a:pathLst>
                <a:path w="214" h="338">
                  <a:moveTo>
                    <a:pt x="0" y="3"/>
                  </a:moveTo>
                  <a:lnTo>
                    <a:pt x="0" y="14"/>
                  </a:lnTo>
                  <a:lnTo>
                    <a:pt x="4" y="18"/>
                  </a:lnTo>
                  <a:lnTo>
                    <a:pt x="4" y="36"/>
                  </a:lnTo>
                  <a:lnTo>
                    <a:pt x="8" y="32"/>
                  </a:lnTo>
                  <a:lnTo>
                    <a:pt x="8" y="36"/>
                  </a:lnTo>
                  <a:lnTo>
                    <a:pt x="11" y="43"/>
                  </a:lnTo>
                  <a:lnTo>
                    <a:pt x="11" y="185"/>
                  </a:lnTo>
                  <a:lnTo>
                    <a:pt x="15" y="210"/>
                  </a:lnTo>
                  <a:lnTo>
                    <a:pt x="15" y="328"/>
                  </a:lnTo>
                  <a:lnTo>
                    <a:pt x="15" y="317"/>
                  </a:lnTo>
                  <a:lnTo>
                    <a:pt x="18" y="313"/>
                  </a:lnTo>
                  <a:lnTo>
                    <a:pt x="18" y="274"/>
                  </a:lnTo>
                  <a:lnTo>
                    <a:pt x="22" y="260"/>
                  </a:lnTo>
                  <a:lnTo>
                    <a:pt x="22" y="89"/>
                  </a:lnTo>
                  <a:lnTo>
                    <a:pt x="25" y="78"/>
                  </a:lnTo>
                  <a:lnTo>
                    <a:pt x="25" y="39"/>
                  </a:lnTo>
                  <a:lnTo>
                    <a:pt x="29" y="28"/>
                  </a:lnTo>
                  <a:lnTo>
                    <a:pt x="29" y="0"/>
                  </a:lnTo>
                  <a:lnTo>
                    <a:pt x="32" y="0"/>
                  </a:lnTo>
                  <a:lnTo>
                    <a:pt x="36" y="3"/>
                  </a:lnTo>
                  <a:lnTo>
                    <a:pt x="40" y="3"/>
                  </a:lnTo>
                  <a:lnTo>
                    <a:pt x="43" y="7"/>
                  </a:lnTo>
                  <a:lnTo>
                    <a:pt x="47" y="7"/>
                  </a:lnTo>
                  <a:lnTo>
                    <a:pt x="50" y="11"/>
                  </a:lnTo>
                  <a:lnTo>
                    <a:pt x="50" y="36"/>
                  </a:lnTo>
                  <a:lnTo>
                    <a:pt x="54" y="39"/>
                  </a:lnTo>
                  <a:lnTo>
                    <a:pt x="54" y="36"/>
                  </a:lnTo>
                  <a:lnTo>
                    <a:pt x="54" y="78"/>
                  </a:lnTo>
                  <a:lnTo>
                    <a:pt x="57" y="92"/>
                  </a:lnTo>
                  <a:lnTo>
                    <a:pt x="57" y="306"/>
                  </a:lnTo>
                  <a:lnTo>
                    <a:pt x="61" y="317"/>
                  </a:lnTo>
                  <a:lnTo>
                    <a:pt x="61" y="324"/>
                  </a:lnTo>
                  <a:lnTo>
                    <a:pt x="61" y="313"/>
                  </a:lnTo>
                  <a:lnTo>
                    <a:pt x="65" y="313"/>
                  </a:lnTo>
                  <a:lnTo>
                    <a:pt x="68" y="306"/>
                  </a:lnTo>
                  <a:lnTo>
                    <a:pt x="68" y="121"/>
                  </a:lnTo>
                  <a:lnTo>
                    <a:pt x="72" y="110"/>
                  </a:lnTo>
                  <a:lnTo>
                    <a:pt x="72" y="46"/>
                  </a:lnTo>
                  <a:lnTo>
                    <a:pt x="75" y="50"/>
                  </a:lnTo>
                  <a:lnTo>
                    <a:pt x="75" y="3"/>
                  </a:lnTo>
                  <a:lnTo>
                    <a:pt x="79" y="7"/>
                  </a:lnTo>
                  <a:lnTo>
                    <a:pt x="79" y="7"/>
                  </a:lnTo>
                  <a:lnTo>
                    <a:pt x="79" y="3"/>
                  </a:lnTo>
                  <a:lnTo>
                    <a:pt x="82" y="7"/>
                  </a:lnTo>
                  <a:lnTo>
                    <a:pt x="82" y="14"/>
                  </a:lnTo>
                  <a:lnTo>
                    <a:pt x="86" y="18"/>
                  </a:lnTo>
                  <a:lnTo>
                    <a:pt x="86" y="43"/>
                  </a:lnTo>
                  <a:lnTo>
                    <a:pt x="93" y="36"/>
                  </a:lnTo>
                  <a:lnTo>
                    <a:pt x="93" y="64"/>
                  </a:lnTo>
                  <a:lnTo>
                    <a:pt x="89" y="36"/>
                  </a:lnTo>
                  <a:lnTo>
                    <a:pt x="93" y="39"/>
                  </a:lnTo>
                  <a:lnTo>
                    <a:pt x="97" y="21"/>
                  </a:lnTo>
                  <a:lnTo>
                    <a:pt x="97" y="3"/>
                  </a:lnTo>
                  <a:lnTo>
                    <a:pt x="97" y="50"/>
                  </a:lnTo>
                  <a:lnTo>
                    <a:pt x="100" y="46"/>
                  </a:lnTo>
                  <a:lnTo>
                    <a:pt x="100" y="39"/>
                  </a:lnTo>
                  <a:lnTo>
                    <a:pt x="100" y="121"/>
                  </a:lnTo>
                  <a:lnTo>
                    <a:pt x="104" y="128"/>
                  </a:lnTo>
                  <a:lnTo>
                    <a:pt x="104" y="317"/>
                  </a:lnTo>
                  <a:lnTo>
                    <a:pt x="107" y="331"/>
                  </a:lnTo>
                  <a:lnTo>
                    <a:pt x="107" y="338"/>
                  </a:lnTo>
                  <a:lnTo>
                    <a:pt x="107" y="285"/>
                  </a:lnTo>
                  <a:lnTo>
                    <a:pt x="111" y="281"/>
                  </a:lnTo>
                  <a:lnTo>
                    <a:pt x="111" y="100"/>
                  </a:lnTo>
                  <a:lnTo>
                    <a:pt x="114" y="92"/>
                  </a:lnTo>
                  <a:lnTo>
                    <a:pt x="114" y="82"/>
                  </a:lnTo>
                  <a:lnTo>
                    <a:pt x="114" y="178"/>
                  </a:lnTo>
                  <a:lnTo>
                    <a:pt x="118" y="189"/>
                  </a:lnTo>
                  <a:lnTo>
                    <a:pt x="118" y="196"/>
                  </a:lnTo>
                  <a:lnTo>
                    <a:pt x="118" y="114"/>
                  </a:lnTo>
                  <a:lnTo>
                    <a:pt x="122" y="110"/>
                  </a:lnTo>
                  <a:lnTo>
                    <a:pt x="122" y="85"/>
                  </a:lnTo>
                  <a:lnTo>
                    <a:pt x="122" y="110"/>
                  </a:lnTo>
                  <a:lnTo>
                    <a:pt x="125" y="114"/>
                  </a:lnTo>
                  <a:lnTo>
                    <a:pt x="125" y="125"/>
                  </a:lnTo>
                  <a:lnTo>
                    <a:pt x="125" y="107"/>
                  </a:lnTo>
                  <a:lnTo>
                    <a:pt x="129" y="103"/>
                  </a:lnTo>
                  <a:lnTo>
                    <a:pt x="129" y="96"/>
                  </a:lnTo>
                  <a:lnTo>
                    <a:pt x="129" y="107"/>
                  </a:lnTo>
                  <a:lnTo>
                    <a:pt x="132" y="103"/>
                  </a:lnTo>
                  <a:lnTo>
                    <a:pt x="132" y="28"/>
                  </a:lnTo>
                  <a:lnTo>
                    <a:pt x="136" y="25"/>
                  </a:lnTo>
                  <a:lnTo>
                    <a:pt x="136" y="14"/>
                  </a:lnTo>
                  <a:lnTo>
                    <a:pt x="139" y="11"/>
                  </a:lnTo>
                  <a:lnTo>
                    <a:pt x="139" y="7"/>
                  </a:lnTo>
                  <a:lnTo>
                    <a:pt x="139" y="28"/>
                  </a:lnTo>
                  <a:lnTo>
                    <a:pt x="143" y="36"/>
                  </a:lnTo>
                  <a:lnTo>
                    <a:pt x="143" y="57"/>
                  </a:lnTo>
                  <a:lnTo>
                    <a:pt x="143" y="53"/>
                  </a:lnTo>
                  <a:lnTo>
                    <a:pt x="146" y="57"/>
                  </a:lnTo>
                  <a:lnTo>
                    <a:pt x="146" y="157"/>
                  </a:lnTo>
                  <a:lnTo>
                    <a:pt x="150" y="178"/>
                  </a:lnTo>
                  <a:lnTo>
                    <a:pt x="150" y="331"/>
                  </a:lnTo>
                  <a:lnTo>
                    <a:pt x="154" y="328"/>
                  </a:lnTo>
                  <a:lnTo>
                    <a:pt x="154" y="299"/>
                  </a:lnTo>
                  <a:lnTo>
                    <a:pt x="157" y="292"/>
                  </a:lnTo>
                  <a:lnTo>
                    <a:pt x="157" y="132"/>
                  </a:lnTo>
                  <a:lnTo>
                    <a:pt x="161" y="125"/>
                  </a:lnTo>
                  <a:lnTo>
                    <a:pt x="161" y="64"/>
                  </a:lnTo>
                  <a:lnTo>
                    <a:pt x="164" y="68"/>
                  </a:lnTo>
                  <a:lnTo>
                    <a:pt x="164" y="75"/>
                  </a:lnTo>
                  <a:lnTo>
                    <a:pt x="164" y="21"/>
                  </a:lnTo>
                  <a:lnTo>
                    <a:pt x="168" y="18"/>
                  </a:lnTo>
                  <a:lnTo>
                    <a:pt x="168" y="7"/>
                  </a:lnTo>
                  <a:lnTo>
                    <a:pt x="171" y="3"/>
                  </a:lnTo>
                  <a:lnTo>
                    <a:pt x="179" y="3"/>
                  </a:lnTo>
                  <a:lnTo>
                    <a:pt x="175" y="3"/>
                  </a:lnTo>
                  <a:lnTo>
                    <a:pt x="179" y="3"/>
                  </a:lnTo>
                  <a:lnTo>
                    <a:pt x="182" y="7"/>
                  </a:lnTo>
                  <a:lnTo>
                    <a:pt x="186" y="14"/>
                  </a:lnTo>
                  <a:lnTo>
                    <a:pt x="186" y="46"/>
                  </a:lnTo>
                  <a:lnTo>
                    <a:pt x="189" y="50"/>
                  </a:lnTo>
                  <a:lnTo>
                    <a:pt x="189" y="196"/>
                  </a:lnTo>
                  <a:lnTo>
                    <a:pt x="193" y="221"/>
                  </a:lnTo>
                  <a:lnTo>
                    <a:pt x="193" y="335"/>
                  </a:lnTo>
                  <a:lnTo>
                    <a:pt x="193" y="331"/>
                  </a:lnTo>
                  <a:lnTo>
                    <a:pt x="196" y="328"/>
                  </a:lnTo>
                  <a:lnTo>
                    <a:pt x="196" y="246"/>
                  </a:lnTo>
                  <a:lnTo>
                    <a:pt x="200" y="228"/>
                  </a:lnTo>
                  <a:lnTo>
                    <a:pt x="200" y="82"/>
                  </a:lnTo>
                  <a:lnTo>
                    <a:pt x="203" y="75"/>
                  </a:lnTo>
                  <a:lnTo>
                    <a:pt x="203" y="50"/>
                  </a:lnTo>
                  <a:lnTo>
                    <a:pt x="203" y="60"/>
                  </a:lnTo>
                  <a:lnTo>
                    <a:pt x="207" y="57"/>
                  </a:lnTo>
                  <a:lnTo>
                    <a:pt x="207" y="3"/>
                  </a:lnTo>
                  <a:lnTo>
                    <a:pt x="211" y="0"/>
                  </a:lnTo>
                  <a:lnTo>
                    <a:pt x="214"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128400" y="3326400"/>
              <a:ext cx="322560" cy="608040"/>
            </a:xfrm>
            <a:custGeom>
              <a:avLst/>
              <a:gdLst/>
              <a:ahLst/>
              <a:rect l="l" t="t" r="r" b="b"/>
              <a:pathLst>
                <a:path w="210" h="352">
                  <a:moveTo>
                    <a:pt x="0" y="14"/>
                  </a:moveTo>
                  <a:lnTo>
                    <a:pt x="4" y="17"/>
                  </a:lnTo>
                  <a:lnTo>
                    <a:pt x="4" y="28"/>
                  </a:lnTo>
                  <a:lnTo>
                    <a:pt x="7" y="32"/>
                  </a:lnTo>
                  <a:lnTo>
                    <a:pt x="7" y="53"/>
                  </a:lnTo>
                  <a:lnTo>
                    <a:pt x="11" y="50"/>
                  </a:lnTo>
                  <a:lnTo>
                    <a:pt x="11" y="14"/>
                  </a:lnTo>
                  <a:lnTo>
                    <a:pt x="14" y="17"/>
                  </a:lnTo>
                  <a:lnTo>
                    <a:pt x="14" y="64"/>
                  </a:lnTo>
                  <a:lnTo>
                    <a:pt x="18" y="60"/>
                  </a:lnTo>
                  <a:lnTo>
                    <a:pt x="18" y="53"/>
                  </a:lnTo>
                  <a:lnTo>
                    <a:pt x="18" y="131"/>
                  </a:lnTo>
                  <a:lnTo>
                    <a:pt x="22" y="142"/>
                  </a:lnTo>
                  <a:lnTo>
                    <a:pt x="22" y="345"/>
                  </a:lnTo>
                  <a:lnTo>
                    <a:pt x="25" y="338"/>
                  </a:lnTo>
                  <a:lnTo>
                    <a:pt x="25" y="327"/>
                  </a:lnTo>
                  <a:lnTo>
                    <a:pt x="29" y="331"/>
                  </a:lnTo>
                  <a:lnTo>
                    <a:pt x="29" y="249"/>
                  </a:lnTo>
                  <a:lnTo>
                    <a:pt x="32" y="228"/>
                  </a:lnTo>
                  <a:lnTo>
                    <a:pt x="32" y="74"/>
                  </a:lnTo>
                  <a:lnTo>
                    <a:pt x="36" y="71"/>
                  </a:lnTo>
                  <a:lnTo>
                    <a:pt x="36" y="74"/>
                  </a:lnTo>
                  <a:lnTo>
                    <a:pt x="36" y="67"/>
                  </a:lnTo>
                  <a:lnTo>
                    <a:pt x="36" y="71"/>
                  </a:lnTo>
                  <a:lnTo>
                    <a:pt x="39" y="67"/>
                  </a:lnTo>
                  <a:lnTo>
                    <a:pt x="39" y="25"/>
                  </a:lnTo>
                  <a:lnTo>
                    <a:pt x="43" y="28"/>
                  </a:lnTo>
                  <a:lnTo>
                    <a:pt x="46" y="32"/>
                  </a:lnTo>
                  <a:lnTo>
                    <a:pt x="46" y="28"/>
                  </a:lnTo>
                  <a:lnTo>
                    <a:pt x="46" y="35"/>
                  </a:lnTo>
                  <a:lnTo>
                    <a:pt x="50" y="39"/>
                  </a:lnTo>
                  <a:lnTo>
                    <a:pt x="50" y="50"/>
                  </a:lnTo>
                  <a:lnTo>
                    <a:pt x="54" y="46"/>
                  </a:lnTo>
                  <a:lnTo>
                    <a:pt x="54" y="32"/>
                  </a:lnTo>
                  <a:lnTo>
                    <a:pt x="57" y="28"/>
                  </a:lnTo>
                  <a:lnTo>
                    <a:pt x="57" y="25"/>
                  </a:lnTo>
                  <a:lnTo>
                    <a:pt x="57" y="60"/>
                  </a:lnTo>
                  <a:lnTo>
                    <a:pt x="61" y="67"/>
                  </a:lnTo>
                  <a:lnTo>
                    <a:pt x="61" y="57"/>
                  </a:lnTo>
                  <a:lnTo>
                    <a:pt x="61" y="82"/>
                  </a:lnTo>
                  <a:lnTo>
                    <a:pt x="64" y="99"/>
                  </a:lnTo>
                  <a:lnTo>
                    <a:pt x="64" y="331"/>
                  </a:lnTo>
                  <a:lnTo>
                    <a:pt x="68" y="334"/>
                  </a:lnTo>
                  <a:lnTo>
                    <a:pt x="68" y="327"/>
                  </a:lnTo>
                  <a:lnTo>
                    <a:pt x="71" y="324"/>
                  </a:lnTo>
                  <a:lnTo>
                    <a:pt x="71" y="181"/>
                  </a:lnTo>
                  <a:lnTo>
                    <a:pt x="75" y="167"/>
                  </a:lnTo>
                  <a:lnTo>
                    <a:pt x="75" y="89"/>
                  </a:lnTo>
                  <a:lnTo>
                    <a:pt x="79" y="85"/>
                  </a:lnTo>
                  <a:lnTo>
                    <a:pt x="79" y="82"/>
                  </a:lnTo>
                  <a:lnTo>
                    <a:pt x="79" y="89"/>
                  </a:lnTo>
                  <a:lnTo>
                    <a:pt x="82" y="85"/>
                  </a:lnTo>
                  <a:lnTo>
                    <a:pt x="82" y="50"/>
                  </a:lnTo>
                  <a:lnTo>
                    <a:pt x="86" y="46"/>
                  </a:lnTo>
                  <a:lnTo>
                    <a:pt x="86" y="32"/>
                  </a:lnTo>
                  <a:lnTo>
                    <a:pt x="89" y="32"/>
                  </a:lnTo>
                  <a:lnTo>
                    <a:pt x="93" y="32"/>
                  </a:lnTo>
                  <a:lnTo>
                    <a:pt x="93" y="25"/>
                  </a:lnTo>
                  <a:lnTo>
                    <a:pt x="96" y="21"/>
                  </a:lnTo>
                  <a:lnTo>
                    <a:pt x="96" y="25"/>
                  </a:lnTo>
                  <a:lnTo>
                    <a:pt x="96" y="21"/>
                  </a:lnTo>
                  <a:lnTo>
                    <a:pt x="103" y="21"/>
                  </a:lnTo>
                  <a:lnTo>
                    <a:pt x="103" y="64"/>
                  </a:lnTo>
                  <a:lnTo>
                    <a:pt x="100" y="21"/>
                  </a:lnTo>
                  <a:lnTo>
                    <a:pt x="103" y="57"/>
                  </a:lnTo>
                  <a:lnTo>
                    <a:pt x="107" y="53"/>
                  </a:lnTo>
                  <a:lnTo>
                    <a:pt x="107" y="192"/>
                  </a:lnTo>
                  <a:lnTo>
                    <a:pt x="111" y="217"/>
                  </a:lnTo>
                  <a:lnTo>
                    <a:pt x="111" y="342"/>
                  </a:lnTo>
                  <a:lnTo>
                    <a:pt x="111" y="338"/>
                  </a:lnTo>
                  <a:lnTo>
                    <a:pt x="114" y="334"/>
                  </a:lnTo>
                  <a:lnTo>
                    <a:pt x="114" y="331"/>
                  </a:lnTo>
                  <a:lnTo>
                    <a:pt x="118" y="327"/>
                  </a:lnTo>
                  <a:lnTo>
                    <a:pt x="118" y="178"/>
                  </a:lnTo>
                  <a:lnTo>
                    <a:pt x="121" y="167"/>
                  </a:lnTo>
                  <a:lnTo>
                    <a:pt x="121" y="96"/>
                  </a:lnTo>
                  <a:lnTo>
                    <a:pt x="125" y="92"/>
                  </a:lnTo>
                  <a:lnTo>
                    <a:pt x="125" y="64"/>
                  </a:lnTo>
                  <a:lnTo>
                    <a:pt x="125" y="85"/>
                  </a:lnTo>
                  <a:lnTo>
                    <a:pt x="128" y="89"/>
                  </a:lnTo>
                  <a:lnTo>
                    <a:pt x="128" y="121"/>
                  </a:lnTo>
                  <a:lnTo>
                    <a:pt x="128" y="114"/>
                  </a:lnTo>
                  <a:lnTo>
                    <a:pt x="132" y="117"/>
                  </a:lnTo>
                  <a:lnTo>
                    <a:pt x="132" y="121"/>
                  </a:lnTo>
                  <a:lnTo>
                    <a:pt x="132" y="71"/>
                  </a:lnTo>
                  <a:lnTo>
                    <a:pt x="136" y="74"/>
                  </a:lnTo>
                  <a:lnTo>
                    <a:pt x="136" y="14"/>
                  </a:lnTo>
                  <a:lnTo>
                    <a:pt x="139" y="7"/>
                  </a:lnTo>
                  <a:lnTo>
                    <a:pt x="139" y="0"/>
                  </a:lnTo>
                  <a:lnTo>
                    <a:pt x="139" y="10"/>
                  </a:lnTo>
                  <a:lnTo>
                    <a:pt x="143" y="14"/>
                  </a:lnTo>
                  <a:lnTo>
                    <a:pt x="143" y="28"/>
                  </a:lnTo>
                  <a:lnTo>
                    <a:pt x="143" y="25"/>
                  </a:lnTo>
                  <a:lnTo>
                    <a:pt x="150" y="25"/>
                  </a:lnTo>
                  <a:lnTo>
                    <a:pt x="150" y="67"/>
                  </a:lnTo>
                  <a:lnTo>
                    <a:pt x="146" y="25"/>
                  </a:lnTo>
                  <a:lnTo>
                    <a:pt x="150" y="60"/>
                  </a:lnTo>
                  <a:lnTo>
                    <a:pt x="153" y="57"/>
                  </a:lnTo>
                  <a:lnTo>
                    <a:pt x="153" y="213"/>
                  </a:lnTo>
                  <a:lnTo>
                    <a:pt x="157" y="242"/>
                  </a:lnTo>
                  <a:lnTo>
                    <a:pt x="157" y="352"/>
                  </a:lnTo>
                  <a:lnTo>
                    <a:pt x="157" y="345"/>
                  </a:lnTo>
                  <a:lnTo>
                    <a:pt x="160" y="342"/>
                  </a:lnTo>
                  <a:lnTo>
                    <a:pt x="160" y="338"/>
                  </a:lnTo>
                  <a:lnTo>
                    <a:pt x="164" y="334"/>
                  </a:lnTo>
                  <a:lnTo>
                    <a:pt x="164" y="199"/>
                  </a:lnTo>
                  <a:lnTo>
                    <a:pt x="168" y="181"/>
                  </a:lnTo>
                  <a:lnTo>
                    <a:pt x="168" y="82"/>
                  </a:lnTo>
                  <a:lnTo>
                    <a:pt x="171" y="78"/>
                  </a:lnTo>
                  <a:lnTo>
                    <a:pt x="171" y="89"/>
                  </a:lnTo>
                  <a:lnTo>
                    <a:pt x="171" y="42"/>
                  </a:lnTo>
                  <a:lnTo>
                    <a:pt x="175" y="32"/>
                  </a:lnTo>
                  <a:lnTo>
                    <a:pt x="175" y="17"/>
                  </a:lnTo>
                  <a:lnTo>
                    <a:pt x="178" y="17"/>
                  </a:lnTo>
                  <a:lnTo>
                    <a:pt x="182" y="17"/>
                  </a:lnTo>
                  <a:lnTo>
                    <a:pt x="185" y="17"/>
                  </a:lnTo>
                  <a:lnTo>
                    <a:pt x="189" y="17"/>
                  </a:lnTo>
                  <a:lnTo>
                    <a:pt x="193" y="21"/>
                  </a:lnTo>
                  <a:lnTo>
                    <a:pt x="193" y="67"/>
                  </a:lnTo>
                  <a:lnTo>
                    <a:pt x="193" y="57"/>
                  </a:lnTo>
                  <a:lnTo>
                    <a:pt x="196" y="57"/>
                  </a:lnTo>
                  <a:lnTo>
                    <a:pt x="196" y="260"/>
                  </a:lnTo>
                  <a:lnTo>
                    <a:pt x="200" y="281"/>
                  </a:lnTo>
                  <a:lnTo>
                    <a:pt x="200" y="342"/>
                  </a:lnTo>
                  <a:lnTo>
                    <a:pt x="203" y="342"/>
                  </a:lnTo>
                  <a:lnTo>
                    <a:pt x="207" y="338"/>
                  </a:lnTo>
                  <a:lnTo>
                    <a:pt x="207" y="245"/>
                  </a:lnTo>
                  <a:lnTo>
                    <a:pt x="210" y="224"/>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450960" y="3348720"/>
              <a:ext cx="336600" cy="585720"/>
            </a:xfrm>
            <a:custGeom>
              <a:avLst/>
              <a:gdLst/>
              <a:ahLst/>
              <a:rect l="l" t="t" r="r" b="b"/>
              <a:pathLst>
                <a:path w="221" h="338">
                  <a:moveTo>
                    <a:pt x="0" y="210"/>
                  </a:moveTo>
                  <a:lnTo>
                    <a:pt x="0" y="85"/>
                  </a:lnTo>
                  <a:lnTo>
                    <a:pt x="4" y="82"/>
                  </a:lnTo>
                  <a:lnTo>
                    <a:pt x="4" y="64"/>
                  </a:lnTo>
                  <a:lnTo>
                    <a:pt x="4" y="71"/>
                  </a:lnTo>
                  <a:lnTo>
                    <a:pt x="7" y="71"/>
                  </a:lnTo>
                  <a:lnTo>
                    <a:pt x="7" y="11"/>
                  </a:lnTo>
                  <a:lnTo>
                    <a:pt x="11" y="11"/>
                  </a:lnTo>
                  <a:lnTo>
                    <a:pt x="15" y="11"/>
                  </a:lnTo>
                  <a:lnTo>
                    <a:pt x="18" y="11"/>
                  </a:lnTo>
                  <a:lnTo>
                    <a:pt x="22" y="11"/>
                  </a:lnTo>
                  <a:lnTo>
                    <a:pt x="25" y="14"/>
                  </a:lnTo>
                  <a:lnTo>
                    <a:pt x="25" y="50"/>
                  </a:lnTo>
                  <a:lnTo>
                    <a:pt x="29" y="53"/>
                  </a:lnTo>
                  <a:lnTo>
                    <a:pt x="29" y="43"/>
                  </a:lnTo>
                  <a:lnTo>
                    <a:pt x="29" y="64"/>
                  </a:lnTo>
                  <a:lnTo>
                    <a:pt x="32" y="75"/>
                  </a:lnTo>
                  <a:lnTo>
                    <a:pt x="32" y="292"/>
                  </a:lnTo>
                  <a:lnTo>
                    <a:pt x="36" y="306"/>
                  </a:lnTo>
                  <a:lnTo>
                    <a:pt x="36" y="331"/>
                  </a:lnTo>
                  <a:lnTo>
                    <a:pt x="36" y="310"/>
                  </a:lnTo>
                  <a:lnTo>
                    <a:pt x="40" y="306"/>
                  </a:lnTo>
                  <a:lnTo>
                    <a:pt x="43" y="310"/>
                  </a:lnTo>
                  <a:lnTo>
                    <a:pt x="43" y="242"/>
                  </a:lnTo>
                  <a:lnTo>
                    <a:pt x="47" y="224"/>
                  </a:lnTo>
                  <a:lnTo>
                    <a:pt x="47" y="82"/>
                  </a:lnTo>
                  <a:lnTo>
                    <a:pt x="50" y="75"/>
                  </a:lnTo>
                  <a:lnTo>
                    <a:pt x="50" y="57"/>
                  </a:lnTo>
                  <a:lnTo>
                    <a:pt x="50" y="78"/>
                  </a:lnTo>
                  <a:lnTo>
                    <a:pt x="54" y="82"/>
                  </a:lnTo>
                  <a:lnTo>
                    <a:pt x="54" y="14"/>
                  </a:lnTo>
                  <a:lnTo>
                    <a:pt x="57" y="14"/>
                  </a:lnTo>
                  <a:lnTo>
                    <a:pt x="61" y="14"/>
                  </a:lnTo>
                  <a:lnTo>
                    <a:pt x="68" y="14"/>
                  </a:lnTo>
                  <a:lnTo>
                    <a:pt x="64" y="14"/>
                  </a:lnTo>
                  <a:lnTo>
                    <a:pt x="68" y="21"/>
                  </a:lnTo>
                  <a:lnTo>
                    <a:pt x="72" y="28"/>
                  </a:lnTo>
                  <a:lnTo>
                    <a:pt x="72" y="50"/>
                  </a:lnTo>
                  <a:lnTo>
                    <a:pt x="75" y="64"/>
                  </a:lnTo>
                  <a:lnTo>
                    <a:pt x="75" y="303"/>
                  </a:lnTo>
                  <a:lnTo>
                    <a:pt x="79" y="313"/>
                  </a:lnTo>
                  <a:lnTo>
                    <a:pt x="79" y="310"/>
                  </a:lnTo>
                  <a:lnTo>
                    <a:pt x="79" y="313"/>
                  </a:lnTo>
                  <a:lnTo>
                    <a:pt x="82" y="310"/>
                  </a:lnTo>
                  <a:lnTo>
                    <a:pt x="82" y="313"/>
                  </a:lnTo>
                  <a:lnTo>
                    <a:pt x="82" y="288"/>
                  </a:lnTo>
                  <a:lnTo>
                    <a:pt x="86" y="278"/>
                  </a:lnTo>
                  <a:lnTo>
                    <a:pt x="86" y="121"/>
                  </a:lnTo>
                  <a:lnTo>
                    <a:pt x="89" y="114"/>
                  </a:lnTo>
                  <a:lnTo>
                    <a:pt x="89" y="57"/>
                  </a:lnTo>
                  <a:lnTo>
                    <a:pt x="93" y="60"/>
                  </a:lnTo>
                  <a:lnTo>
                    <a:pt x="93" y="71"/>
                  </a:lnTo>
                  <a:lnTo>
                    <a:pt x="93" y="46"/>
                  </a:lnTo>
                  <a:lnTo>
                    <a:pt x="97" y="36"/>
                  </a:lnTo>
                  <a:lnTo>
                    <a:pt x="97" y="0"/>
                  </a:lnTo>
                  <a:lnTo>
                    <a:pt x="97" y="3"/>
                  </a:lnTo>
                  <a:lnTo>
                    <a:pt x="104" y="3"/>
                  </a:lnTo>
                  <a:lnTo>
                    <a:pt x="100" y="3"/>
                  </a:lnTo>
                  <a:lnTo>
                    <a:pt x="104" y="3"/>
                  </a:lnTo>
                  <a:lnTo>
                    <a:pt x="107" y="0"/>
                  </a:lnTo>
                  <a:lnTo>
                    <a:pt x="111" y="0"/>
                  </a:lnTo>
                  <a:lnTo>
                    <a:pt x="114" y="3"/>
                  </a:lnTo>
                  <a:lnTo>
                    <a:pt x="114" y="43"/>
                  </a:lnTo>
                  <a:lnTo>
                    <a:pt x="118" y="43"/>
                  </a:lnTo>
                  <a:lnTo>
                    <a:pt x="118" y="125"/>
                  </a:lnTo>
                  <a:lnTo>
                    <a:pt x="121" y="149"/>
                  </a:lnTo>
                  <a:lnTo>
                    <a:pt x="121" y="338"/>
                  </a:lnTo>
                  <a:lnTo>
                    <a:pt x="121" y="335"/>
                  </a:lnTo>
                  <a:lnTo>
                    <a:pt x="125" y="331"/>
                  </a:lnTo>
                  <a:lnTo>
                    <a:pt x="125" y="320"/>
                  </a:lnTo>
                  <a:lnTo>
                    <a:pt x="129" y="317"/>
                  </a:lnTo>
                  <a:lnTo>
                    <a:pt x="129" y="246"/>
                  </a:lnTo>
                  <a:lnTo>
                    <a:pt x="132" y="228"/>
                  </a:lnTo>
                  <a:lnTo>
                    <a:pt x="132" y="110"/>
                  </a:lnTo>
                  <a:lnTo>
                    <a:pt x="136" y="103"/>
                  </a:lnTo>
                  <a:lnTo>
                    <a:pt x="136" y="60"/>
                  </a:lnTo>
                  <a:lnTo>
                    <a:pt x="136" y="68"/>
                  </a:lnTo>
                  <a:lnTo>
                    <a:pt x="139" y="78"/>
                  </a:lnTo>
                  <a:lnTo>
                    <a:pt x="139" y="89"/>
                  </a:lnTo>
                  <a:lnTo>
                    <a:pt x="139" y="14"/>
                  </a:lnTo>
                  <a:lnTo>
                    <a:pt x="143" y="11"/>
                  </a:lnTo>
                  <a:lnTo>
                    <a:pt x="146" y="7"/>
                  </a:lnTo>
                  <a:lnTo>
                    <a:pt x="150" y="3"/>
                  </a:lnTo>
                  <a:lnTo>
                    <a:pt x="154" y="3"/>
                  </a:lnTo>
                  <a:lnTo>
                    <a:pt x="157" y="3"/>
                  </a:lnTo>
                  <a:lnTo>
                    <a:pt x="161" y="7"/>
                  </a:lnTo>
                  <a:lnTo>
                    <a:pt x="161" y="46"/>
                  </a:lnTo>
                  <a:lnTo>
                    <a:pt x="161" y="43"/>
                  </a:lnTo>
                  <a:lnTo>
                    <a:pt x="164" y="53"/>
                  </a:lnTo>
                  <a:lnTo>
                    <a:pt x="164" y="149"/>
                  </a:lnTo>
                  <a:lnTo>
                    <a:pt x="168" y="178"/>
                  </a:lnTo>
                  <a:lnTo>
                    <a:pt x="168" y="338"/>
                  </a:lnTo>
                  <a:lnTo>
                    <a:pt x="168" y="324"/>
                  </a:lnTo>
                  <a:lnTo>
                    <a:pt x="171" y="320"/>
                  </a:lnTo>
                  <a:lnTo>
                    <a:pt x="171" y="320"/>
                  </a:lnTo>
                  <a:lnTo>
                    <a:pt x="171" y="317"/>
                  </a:lnTo>
                  <a:lnTo>
                    <a:pt x="171" y="317"/>
                  </a:lnTo>
                  <a:lnTo>
                    <a:pt x="175" y="313"/>
                  </a:lnTo>
                  <a:lnTo>
                    <a:pt x="175" y="274"/>
                  </a:lnTo>
                  <a:lnTo>
                    <a:pt x="178" y="260"/>
                  </a:lnTo>
                  <a:lnTo>
                    <a:pt x="178" y="107"/>
                  </a:lnTo>
                  <a:lnTo>
                    <a:pt x="182" y="100"/>
                  </a:lnTo>
                  <a:lnTo>
                    <a:pt x="182" y="103"/>
                  </a:lnTo>
                  <a:lnTo>
                    <a:pt x="182" y="78"/>
                  </a:lnTo>
                  <a:lnTo>
                    <a:pt x="182" y="100"/>
                  </a:lnTo>
                  <a:lnTo>
                    <a:pt x="186" y="89"/>
                  </a:lnTo>
                  <a:lnTo>
                    <a:pt x="186" y="14"/>
                  </a:lnTo>
                  <a:lnTo>
                    <a:pt x="186" y="21"/>
                  </a:lnTo>
                  <a:lnTo>
                    <a:pt x="189" y="18"/>
                  </a:lnTo>
                  <a:lnTo>
                    <a:pt x="189" y="14"/>
                  </a:lnTo>
                  <a:lnTo>
                    <a:pt x="189" y="60"/>
                  </a:lnTo>
                  <a:lnTo>
                    <a:pt x="193" y="78"/>
                  </a:lnTo>
                  <a:lnTo>
                    <a:pt x="193" y="199"/>
                  </a:lnTo>
                  <a:lnTo>
                    <a:pt x="200" y="206"/>
                  </a:lnTo>
                  <a:lnTo>
                    <a:pt x="200" y="210"/>
                  </a:lnTo>
                  <a:lnTo>
                    <a:pt x="200" y="199"/>
                  </a:lnTo>
                  <a:lnTo>
                    <a:pt x="203" y="203"/>
                  </a:lnTo>
                  <a:lnTo>
                    <a:pt x="203" y="210"/>
                  </a:lnTo>
                  <a:lnTo>
                    <a:pt x="207" y="206"/>
                  </a:lnTo>
                  <a:lnTo>
                    <a:pt x="207" y="178"/>
                  </a:lnTo>
                  <a:lnTo>
                    <a:pt x="211" y="178"/>
                  </a:lnTo>
                  <a:lnTo>
                    <a:pt x="211" y="231"/>
                  </a:lnTo>
                  <a:lnTo>
                    <a:pt x="211" y="224"/>
                  </a:lnTo>
                  <a:lnTo>
                    <a:pt x="214" y="228"/>
                  </a:lnTo>
                  <a:lnTo>
                    <a:pt x="214" y="320"/>
                  </a:lnTo>
                  <a:lnTo>
                    <a:pt x="218" y="317"/>
                  </a:lnTo>
                  <a:lnTo>
                    <a:pt x="218" y="320"/>
                  </a:lnTo>
                  <a:lnTo>
                    <a:pt x="221" y="31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3787920" y="3342960"/>
              <a:ext cx="345960" cy="574920"/>
            </a:xfrm>
            <a:custGeom>
              <a:avLst/>
              <a:gdLst/>
              <a:ahLst/>
              <a:rect l="l" t="t" r="r" b="b"/>
              <a:pathLst>
                <a:path w="225" h="332">
                  <a:moveTo>
                    <a:pt x="0" y="317"/>
                  </a:moveTo>
                  <a:lnTo>
                    <a:pt x="0" y="111"/>
                  </a:lnTo>
                  <a:lnTo>
                    <a:pt x="0" y="114"/>
                  </a:lnTo>
                  <a:lnTo>
                    <a:pt x="4" y="111"/>
                  </a:lnTo>
                  <a:lnTo>
                    <a:pt x="4" y="100"/>
                  </a:lnTo>
                  <a:lnTo>
                    <a:pt x="4" y="104"/>
                  </a:lnTo>
                  <a:lnTo>
                    <a:pt x="11" y="111"/>
                  </a:lnTo>
                  <a:lnTo>
                    <a:pt x="11" y="146"/>
                  </a:lnTo>
                  <a:lnTo>
                    <a:pt x="14" y="150"/>
                  </a:lnTo>
                  <a:lnTo>
                    <a:pt x="14" y="153"/>
                  </a:lnTo>
                  <a:lnTo>
                    <a:pt x="14" y="153"/>
                  </a:lnTo>
                  <a:lnTo>
                    <a:pt x="18" y="150"/>
                  </a:lnTo>
                  <a:lnTo>
                    <a:pt x="18" y="121"/>
                  </a:lnTo>
                  <a:lnTo>
                    <a:pt x="22" y="118"/>
                  </a:lnTo>
                  <a:lnTo>
                    <a:pt x="22" y="104"/>
                  </a:lnTo>
                  <a:lnTo>
                    <a:pt x="29" y="96"/>
                  </a:lnTo>
                  <a:lnTo>
                    <a:pt x="29" y="64"/>
                  </a:lnTo>
                  <a:lnTo>
                    <a:pt x="32" y="68"/>
                  </a:lnTo>
                  <a:lnTo>
                    <a:pt x="32" y="79"/>
                  </a:lnTo>
                  <a:lnTo>
                    <a:pt x="36" y="82"/>
                  </a:lnTo>
                  <a:lnTo>
                    <a:pt x="36" y="86"/>
                  </a:lnTo>
                  <a:lnTo>
                    <a:pt x="36" y="29"/>
                  </a:lnTo>
                  <a:lnTo>
                    <a:pt x="39" y="25"/>
                  </a:lnTo>
                  <a:lnTo>
                    <a:pt x="39" y="4"/>
                  </a:lnTo>
                  <a:lnTo>
                    <a:pt x="43" y="0"/>
                  </a:lnTo>
                  <a:lnTo>
                    <a:pt x="43" y="15"/>
                  </a:lnTo>
                  <a:lnTo>
                    <a:pt x="47" y="11"/>
                  </a:lnTo>
                  <a:lnTo>
                    <a:pt x="50" y="15"/>
                  </a:lnTo>
                  <a:lnTo>
                    <a:pt x="50" y="25"/>
                  </a:lnTo>
                  <a:lnTo>
                    <a:pt x="54" y="29"/>
                  </a:lnTo>
                  <a:lnTo>
                    <a:pt x="54" y="32"/>
                  </a:lnTo>
                  <a:lnTo>
                    <a:pt x="61" y="25"/>
                  </a:lnTo>
                  <a:lnTo>
                    <a:pt x="61" y="22"/>
                  </a:lnTo>
                  <a:lnTo>
                    <a:pt x="61" y="40"/>
                  </a:lnTo>
                  <a:lnTo>
                    <a:pt x="64" y="43"/>
                  </a:lnTo>
                  <a:lnTo>
                    <a:pt x="64" y="40"/>
                  </a:lnTo>
                  <a:lnTo>
                    <a:pt x="64" y="43"/>
                  </a:lnTo>
                  <a:lnTo>
                    <a:pt x="68" y="47"/>
                  </a:lnTo>
                  <a:lnTo>
                    <a:pt x="68" y="57"/>
                  </a:lnTo>
                  <a:lnTo>
                    <a:pt x="71" y="54"/>
                  </a:lnTo>
                  <a:lnTo>
                    <a:pt x="71" y="207"/>
                  </a:lnTo>
                  <a:lnTo>
                    <a:pt x="75" y="210"/>
                  </a:lnTo>
                  <a:lnTo>
                    <a:pt x="75" y="107"/>
                  </a:lnTo>
                  <a:lnTo>
                    <a:pt x="79" y="96"/>
                  </a:lnTo>
                  <a:lnTo>
                    <a:pt x="79" y="68"/>
                  </a:lnTo>
                  <a:lnTo>
                    <a:pt x="82" y="64"/>
                  </a:lnTo>
                  <a:lnTo>
                    <a:pt x="82" y="43"/>
                  </a:lnTo>
                  <a:lnTo>
                    <a:pt x="86" y="40"/>
                  </a:lnTo>
                  <a:lnTo>
                    <a:pt x="86" y="22"/>
                  </a:lnTo>
                  <a:lnTo>
                    <a:pt x="89" y="18"/>
                  </a:lnTo>
                  <a:lnTo>
                    <a:pt x="89" y="11"/>
                  </a:lnTo>
                  <a:lnTo>
                    <a:pt x="89" y="15"/>
                  </a:lnTo>
                  <a:lnTo>
                    <a:pt x="96" y="7"/>
                  </a:lnTo>
                  <a:lnTo>
                    <a:pt x="96" y="15"/>
                  </a:lnTo>
                  <a:lnTo>
                    <a:pt x="93" y="7"/>
                  </a:lnTo>
                  <a:lnTo>
                    <a:pt x="96" y="11"/>
                  </a:lnTo>
                  <a:lnTo>
                    <a:pt x="100" y="11"/>
                  </a:lnTo>
                  <a:lnTo>
                    <a:pt x="104" y="7"/>
                  </a:lnTo>
                  <a:lnTo>
                    <a:pt x="107" y="7"/>
                  </a:lnTo>
                  <a:lnTo>
                    <a:pt x="114" y="7"/>
                  </a:lnTo>
                  <a:lnTo>
                    <a:pt x="111" y="7"/>
                  </a:lnTo>
                  <a:lnTo>
                    <a:pt x="114" y="50"/>
                  </a:lnTo>
                  <a:lnTo>
                    <a:pt x="118" y="47"/>
                  </a:lnTo>
                  <a:lnTo>
                    <a:pt x="118" y="43"/>
                  </a:lnTo>
                  <a:lnTo>
                    <a:pt x="118" y="107"/>
                  </a:lnTo>
                  <a:lnTo>
                    <a:pt x="121" y="129"/>
                  </a:lnTo>
                  <a:lnTo>
                    <a:pt x="121" y="328"/>
                  </a:lnTo>
                  <a:lnTo>
                    <a:pt x="125" y="332"/>
                  </a:lnTo>
                  <a:lnTo>
                    <a:pt x="125" y="328"/>
                  </a:lnTo>
                  <a:lnTo>
                    <a:pt x="128" y="324"/>
                  </a:lnTo>
                  <a:lnTo>
                    <a:pt x="128" y="132"/>
                  </a:lnTo>
                  <a:lnTo>
                    <a:pt x="132" y="129"/>
                  </a:lnTo>
                  <a:lnTo>
                    <a:pt x="132" y="79"/>
                  </a:lnTo>
                  <a:lnTo>
                    <a:pt x="136" y="72"/>
                  </a:lnTo>
                  <a:lnTo>
                    <a:pt x="136" y="57"/>
                  </a:lnTo>
                  <a:lnTo>
                    <a:pt x="136" y="64"/>
                  </a:lnTo>
                  <a:lnTo>
                    <a:pt x="139" y="68"/>
                  </a:lnTo>
                  <a:lnTo>
                    <a:pt x="139" y="7"/>
                  </a:lnTo>
                  <a:lnTo>
                    <a:pt x="146" y="7"/>
                  </a:lnTo>
                  <a:lnTo>
                    <a:pt x="143" y="7"/>
                  </a:lnTo>
                  <a:lnTo>
                    <a:pt x="146" y="7"/>
                  </a:lnTo>
                  <a:lnTo>
                    <a:pt x="150" y="7"/>
                  </a:lnTo>
                  <a:lnTo>
                    <a:pt x="157" y="7"/>
                  </a:lnTo>
                  <a:lnTo>
                    <a:pt x="157" y="7"/>
                  </a:lnTo>
                  <a:lnTo>
                    <a:pt x="157" y="11"/>
                  </a:lnTo>
                  <a:lnTo>
                    <a:pt x="161" y="15"/>
                  </a:lnTo>
                  <a:lnTo>
                    <a:pt x="161" y="57"/>
                  </a:lnTo>
                  <a:lnTo>
                    <a:pt x="161" y="54"/>
                  </a:lnTo>
                  <a:lnTo>
                    <a:pt x="164" y="50"/>
                  </a:lnTo>
                  <a:lnTo>
                    <a:pt x="164" y="47"/>
                  </a:lnTo>
                  <a:lnTo>
                    <a:pt x="164" y="164"/>
                  </a:lnTo>
                  <a:lnTo>
                    <a:pt x="168" y="171"/>
                  </a:lnTo>
                  <a:lnTo>
                    <a:pt x="168" y="129"/>
                  </a:lnTo>
                  <a:lnTo>
                    <a:pt x="171" y="121"/>
                  </a:lnTo>
                  <a:lnTo>
                    <a:pt x="171" y="100"/>
                  </a:lnTo>
                  <a:lnTo>
                    <a:pt x="171" y="107"/>
                  </a:lnTo>
                  <a:lnTo>
                    <a:pt x="175" y="104"/>
                  </a:lnTo>
                  <a:lnTo>
                    <a:pt x="175" y="72"/>
                  </a:lnTo>
                  <a:lnTo>
                    <a:pt x="178" y="68"/>
                  </a:lnTo>
                  <a:lnTo>
                    <a:pt x="178" y="79"/>
                  </a:lnTo>
                  <a:lnTo>
                    <a:pt x="182" y="82"/>
                  </a:lnTo>
                  <a:lnTo>
                    <a:pt x="182" y="86"/>
                  </a:lnTo>
                  <a:lnTo>
                    <a:pt x="182" y="25"/>
                  </a:lnTo>
                  <a:lnTo>
                    <a:pt x="185" y="22"/>
                  </a:lnTo>
                  <a:lnTo>
                    <a:pt x="185" y="11"/>
                  </a:lnTo>
                  <a:lnTo>
                    <a:pt x="185" y="15"/>
                  </a:lnTo>
                  <a:lnTo>
                    <a:pt x="189" y="11"/>
                  </a:lnTo>
                  <a:lnTo>
                    <a:pt x="193" y="7"/>
                  </a:lnTo>
                  <a:lnTo>
                    <a:pt x="193" y="15"/>
                  </a:lnTo>
                  <a:lnTo>
                    <a:pt x="196" y="18"/>
                  </a:lnTo>
                  <a:lnTo>
                    <a:pt x="196" y="15"/>
                  </a:lnTo>
                  <a:lnTo>
                    <a:pt x="200" y="11"/>
                  </a:lnTo>
                  <a:lnTo>
                    <a:pt x="200" y="18"/>
                  </a:lnTo>
                  <a:lnTo>
                    <a:pt x="203" y="15"/>
                  </a:lnTo>
                  <a:lnTo>
                    <a:pt x="203" y="54"/>
                  </a:lnTo>
                  <a:lnTo>
                    <a:pt x="207" y="57"/>
                  </a:lnTo>
                  <a:lnTo>
                    <a:pt x="207" y="186"/>
                  </a:lnTo>
                  <a:lnTo>
                    <a:pt x="210" y="210"/>
                  </a:lnTo>
                  <a:lnTo>
                    <a:pt x="210" y="321"/>
                  </a:lnTo>
                  <a:lnTo>
                    <a:pt x="210" y="317"/>
                  </a:lnTo>
                  <a:lnTo>
                    <a:pt x="214" y="314"/>
                  </a:lnTo>
                  <a:lnTo>
                    <a:pt x="214" y="324"/>
                  </a:lnTo>
                  <a:lnTo>
                    <a:pt x="218" y="321"/>
                  </a:lnTo>
                  <a:lnTo>
                    <a:pt x="218" y="207"/>
                  </a:lnTo>
                  <a:lnTo>
                    <a:pt x="221" y="193"/>
                  </a:lnTo>
                  <a:lnTo>
                    <a:pt x="221" y="82"/>
                  </a:lnTo>
                  <a:lnTo>
                    <a:pt x="225" y="72"/>
                  </a:lnTo>
                  <a:lnTo>
                    <a:pt x="225" y="57"/>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4133880" y="3342960"/>
              <a:ext cx="353880" cy="591120"/>
            </a:xfrm>
            <a:custGeom>
              <a:avLst/>
              <a:gdLst/>
              <a:ahLst/>
              <a:rect l="l" t="t" r="r" b="b"/>
              <a:pathLst>
                <a:path w="231" h="342">
                  <a:moveTo>
                    <a:pt x="0" y="57"/>
                  </a:moveTo>
                  <a:lnTo>
                    <a:pt x="0" y="72"/>
                  </a:lnTo>
                  <a:lnTo>
                    <a:pt x="3" y="68"/>
                  </a:lnTo>
                  <a:lnTo>
                    <a:pt x="3" y="0"/>
                  </a:lnTo>
                  <a:lnTo>
                    <a:pt x="7" y="0"/>
                  </a:lnTo>
                  <a:lnTo>
                    <a:pt x="10" y="4"/>
                  </a:lnTo>
                  <a:lnTo>
                    <a:pt x="10" y="0"/>
                  </a:lnTo>
                  <a:lnTo>
                    <a:pt x="10" y="0"/>
                  </a:lnTo>
                  <a:lnTo>
                    <a:pt x="14" y="4"/>
                  </a:lnTo>
                  <a:lnTo>
                    <a:pt x="17" y="4"/>
                  </a:lnTo>
                  <a:lnTo>
                    <a:pt x="21" y="0"/>
                  </a:lnTo>
                  <a:lnTo>
                    <a:pt x="21" y="32"/>
                  </a:lnTo>
                  <a:lnTo>
                    <a:pt x="25" y="40"/>
                  </a:lnTo>
                  <a:lnTo>
                    <a:pt x="25" y="68"/>
                  </a:lnTo>
                  <a:lnTo>
                    <a:pt x="28" y="64"/>
                  </a:lnTo>
                  <a:lnTo>
                    <a:pt x="28" y="210"/>
                  </a:lnTo>
                  <a:lnTo>
                    <a:pt x="32" y="228"/>
                  </a:lnTo>
                  <a:lnTo>
                    <a:pt x="32" y="321"/>
                  </a:lnTo>
                  <a:lnTo>
                    <a:pt x="32" y="310"/>
                  </a:lnTo>
                  <a:lnTo>
                    <a:pt x="39" y="310"/>
                  </a:lnTo>
                  <a:lnTo>
                    <a:pt x="39" y="317"/>
                  </a:lnTo>
                  <a:lnTo>
                    <a:pt x="39" y="303"/>
                  </a:lnTo>
                  <a:lnTo>
                    <a:pt x="42" y="292"/>
                  </a:lnTo>
                  <a:lnTo>
                    <a:pt x="42" y="118"/>
                  </a:lnTo>
                  <a:lnTo>
                    <a:pt x="46" y="107"/>
                  </a:lnTo>
                  <a:lnTo>
                    <a:pt x="46" y="57"/>
                  </a:lnTo>
                  <a:lnTo>
                    <a:pt x="50" y="61"/>
                  </a:lnTo>
                  <a:lnTo>
                    <a:pt x="50" y="75"/>
                  </a:lnTo>
                  <a:lnTo>
                    <a:pt x="50" y="7"/>
                  </a:lnTo>
                  <a:lnTo>
                    <a:pt x="53" y="4"/>
                  </a:lnTo>
                  <a:lnTo>
                    <a:pt x="60" y="4"/>
                  </a:lnTo>
                  <a:lnTo>
                    <a:pt x="57" y="4"/>
                  </a:lnTo>
                  <a:lnTo>
                    <a:pt x="60" y="4"/>
                  </a:lnTo>
                  <a:lnTo>
                    <a:pt x="64" y="4"/>
                  </a:lnTo>
                  <a:lnTo>
                    <a:pt x="67" y="7"/>
                  </a:lnTo>
                  <a:lnTo>
                    <a:pt x="67" y="64"/>
                  </a:lnTo>
                  <a:lnTo>
                    <a:pt x="71" y="64"/>
                  </a:lnTo>
                  <a:lnTo>
                    <a:pt x="71" y="50"/>
                  </a:lnTo>
                  <a:lnTo>
                    <a:pt x="71" y="136"/>
                  </a:lnTo>
                  <a:lnTo>
                    <a:pt x="74" y="161"/>
                  </a:lnTo>
                  <a:lnTo>
                    <a:pt x="74" y="332"/>
                  </a:lnTo>
                  <a:lnTo>
                    <a:pt x="74" y="328"/>
                  </a:lnTo>
                  <a:lnTo>
                    <a:pt x="78" y="324"/>
                  </a:lnTo>
                  <a:lnTo>
                    <a:pt x="78" y="321"/>
                  </a:lnTo>
                  <a:lnTo>
                    <a:pt x="82" y="317"/>
                  </a:lnTo>
                  <a:lnTo>
                    <a:pt x="82" y="321"/>
                  </a:lnTo>
                  <a:lnTo>
                    <a:pt x="82" y="317"/>
                  </a:lnTo>
                  <a:lnTo>
                    <a:pt x="85" y="314"/>
                  </a:lnTo>
                  <a:lnTo>
                    <a:pt x="85" y="114"/>
                  </a:lnTo>
                  <a:lnTo>
                    <a:pt x="89" y="107"/>
                  </a:lnTo>
                  <a:lnTo>
                    <a:pt x="89" y="96"/>
                  </a:lnTo>
                  <a:lnTo>
                    <a:pt x="92" y="86"/>
                  </a:lnTo>
                  <a:lnTo>
                    <a:pt x="92" y="54"/>
                  </a:lnTo>
                  <a:lnTo>
                    <a:pt x="96" y="50"/>
                  </a:lnTo>
                  <a:lnTo>
                    <a:pt x="96" y="7"/>
                  </a:lnTo>
                  <a:lnTo>
                    <a:pt x="99" y="4"/>
                  </a:lnTo>
                  <a:lnTo>
                    <a:pt x="103" y="4"/>
                  </a:lnTo>
                  <a:lnTo>
                    <a:pt x="107" y="7"/>
                  </a:lnTo>
                  <a:lnTo>
                    <a:pt x="107" y="4"/>
                  </a:lnTo>
                  <a:lnTo>
                    <a:pt x="110" y="7"/>
                  </a:lnTo>
                  <a:lnTo>
                    <a:pt x="110" y="4"/>
                  </a:lnTo>
                  <a:lnTo>
                    <a:pt x="110" y="43"/>
                  </a:lnTo>
                  <a:lnTo>
                    <a:pt x="114" y="54"/>
                  </a:lnTo>
                  <a:lnTo>
                    <a:pt x="114" y="47"/>
                  </a:lnTo>
                  <a:lnTo>
                    <a:pt x="114" y="118"/>
                  </a:lnTo>
                  <a:lnTo>
                    <a:pt x="117" y="146"/>
                  </a:lnTo>
                  <a:lnTo>
                    <a:pt x="117" y="339"/>
                  </a:lnTo>
                  <a:lnTo>
                    <a:pt x="117" y="335"/>
                  </a:lnTo>
                  <a:lnTo>
                    <a:pt x="121" y="332"/>
                  </a:lnTo>
                  <a:lnTo>
                    <a:pt x="124" y="328"/>
                  </a:lnTo>
                  <a:lnTo>
                    <a:pt x="124" y="260"/>
                  </a:lnTo>
                  <a:lnTo>
                    <a:pt x="128" y="243"/>
                  </a:lnTo>
                  <a:lnTo>
                    <a:pt x="128" y="104"/>
                  </a:lnTo>
                  <a:lnTo>
                    <a:pt x="131" y="96"/>
                  </a:lnTo>
                  <a:lnTo>
                    <a:pt x="131" y="57"/>
                  </a:lnTo>
                  <a:lnTo>
                    <a:pt x="131" y="64"/>
                  </a:lnTo>
                  <a:lnTo>
                    <a:pt x="135" y="61"/>
                  </a:lnTo>
                  <a:lnTo>
                    <a:pt x="135" y="11"/>
                  </a:lnTo>
                  <a:lnTo>
                    <a:pt x="142" y="4"/>
                  </a:lnTo>
                  <a:lnTo>
                    <a:pt x="139" y="4"/>
                  </a:lnTo>
                  <a:lnTo>
                    <a:pt x="142" y="4"/>
                  </a:lnTo>
                  <a:lnTo>
                    <a:pt x="146" y="4"/>
                  </a:lnTo>
                  <a:lnTo>
                    <a:pt x="149" y="4"/>
                  </a:lnTo>
                  <a:lnTo>
                    <a:pt x="153" y="7"/>
                  </a:lnTo>
                  <a:lnTo>
                    <a:pt x="153" y="29"/>
                  </a:lnTo>
                  <a:lnTo>
                    <a:pt x="156" y="43"/>
                  </a:lnTo>
                  <a:lnTo>
                    <a:pt x="156" y="93"/>
                  </a:lnTo>
                  <a:lnTo>
                    <a:pt x="160" y="114"/>
                  </a:lnTo>
                  <a:lnTo>
                    <a:pt x="160" y="342"/>
                  </a:lnTo>
                  <a:lnTo>
                    <a:pt x="160" y="328"/>
                  </a:lnTo>
                  <a:lnTo>
                    <a:pt x="164" y="321"/>
                  </a:lnTo>
                  <a:lnTo>
                    <a:pt x="164" y="314"/>
                  </a:lnTo>
                  <a:lnTo>
                    <a:pt x="164" y="324"/>
                  </a:lnTo>
                  <a:lnTo>
                    <a:pt x="167" y="328"/>
                  </a:lnTo>
                  <a:lnTo>
                    <a:pt x="167" y="332"/>
                  </a:lnTo>
                  <a:lnTo>
                    <a:pt x="167" y="260"/>
                  </a:lnTo>
                  <a:lnTo>
                    <a:pt x="171" y="239"/>
                  </a:lnTo>
                  <a:lnTo>
                    <a:pt x="171" y="100"/>
                  </a:lnTo>
                  <a:lnTo>
                    <a:pt x="174" y="89"/>
                  </a:lnTo>
                  <a:lnTo>
                    <a:pt x="174" y="61"/>
                  </a:lnTo>
                  <a:lnTo>
                    <a:pt x="174" y="68"/>
                  </a:lnTo>
                  <a:lnTo>
                    <a:pt x="178" y="64"/>
                  </a:lnTo>
                  <a:lnTo>
                    <a:pt x="178" y="11"/>
                  </a:lnTo>
                  <a:lnTo>
                    <a:pt x="181" y="11"/>
                  </a:lnTo>
                  <a:lnTo>
                    <a:pt x="185" y="11"/>
                  </a:lnTo>
                  <a:lnTo>
                    <a:pt x="188" y="11"/>
                  </a:lnTo>
                  <a:lnTo>
                    <a:pt x="192" y="11"/>
                  </a:lnTo>
                  <a:lnTo>
                    <a:pt x="199" y="11"/>
                  </a:lnTo>
                  <a:lnTo>
                    <a:pt x="199" y="54"/>
                  </a:lnTo>
                  <a:lnTo>
                    <a:pt x="199" y="50"/>
                  </a:lnTo>
                  <a:lnTo>
                    <a:pt x="203" y="61"/>
                  </a:lnTo>
                  <a:lnTo>
                    <a:pt x="203" y="314"/>
                  </a:lnTo>
                  <a:lnTo>
                    <a:pt x="206" y="324"/>
                  </a:lnTo>
                  <a:lnTo>
                    <a:pt x="206" y="332"/>
                  </a:lnTo>
                  <a:lnTo>
                    <a:pt x="206" y="317"/>
                  </a:lnTo>
                  <a:lnTo>
                    <a:pt x="210" y="321"/>
                  </a:lnTo>
                  <a:lnTo>
                    <a:pt x="210" y="307"/>
                  </a:lnTo>
                  <a:lnTo>
                    <a:pt x="213" y="296"/>
                  </a:lnTo>
                  <a:lnTo>
                    <a:pt x="213" y="125"/>
                  </a:lnTo>
                  <a:lnTo>
                    <a:pt x="217" y="118"/>
                  </a:lnTo>
                  <a:lnTo>
                    <a:pt x="217" y="75"/>
                  </a:lnTo>
                  <a:lnTo>
                    <a:pt x="221" y="72"/>
                  </a:lnTo>
                  <a:lnTo>
                    <a:pt x="221" y="18"/>
                  </a:lnTo>
                  <a:lnTo>
                    <a:pt x="224" y="15"/>
                  </a:lnTo>
                  <a:lnTo>
                    <a:pt x="224" y="11"/>
                  </a:lnTo>
                  <a:lnTo>
                    <a:pt x="224" y="11"/>
                  </a:lnTo>
                  <a:lnTo>
                    <a:pt x="231" y="11"/>
                  </a:lnTo>
                  <a:lnTo>
                    <a:pt x="228" y="11"/>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4483080" y="3348720"/>
              <a:ext cx="370800" cy="579960"/>
            </a:xfrm>
            <a:custGeom>
              <a:avLst/>
              <a:gdLst/>
              <a:ahLst/>
              <a:rect l="l" t="t" r="r" b="b"/>
              <a:pathLst>
                <a:path w="242" h="335">
                  <a:moveTo>
                    <a:pt x="0" y="7"/>
                  </a:moveTo>
                  <a:lnTo>
                    <a:pt x="3" y="7"/>
                  </a:lnTo>
                  <a:lnTo>
                    <a:pt x="7" y="7"/>
                  </a:lnTo>
                  <a:lnTo>
                    <a:pt x="10" y="7"/>
                  </a:lnTo>
                  <a:lnTo>
                    <a:pt x="14" y="7"/>
                  </a:lnTo>
                  <a:lnTo>
                    <a:pt x="14" y="50"/>
                  </a:lnTo>
                  <a:lnTo>
                    <a:pt x="17" y="46"/>
                  </a:lnTo>
                  <a:lnTo>
                    <a:pt x="17" y="43"/>
                  </a:lnTo>
                  <a:lnTo>
                    <a:pt x="17" y="146"/>
                  </a:lnTo>
                  <a:lnTo>
                    <a:pt x="21" y="171"/>
                  </a:lnTo>
                  <a:lnTo>
                    <a:pt x="21" y="320"/>
                  </a:lnTo>
                  <a:lnTo>
                    <a:pt x="25" y="317"/>
                  </a:lnTo>
                  <a:lnTo>
                    <a:pt x="25" y="310"/>
                  </a:lnTo>
                  <a:lnTo>
                    <a:pt x="28" y="313"/>
                  </a:lnTo>
                  <a:lnTo>
                    <a:pt x="28" y="320"/>
                  </a:lnTo>
                  <a:lnTo>
                    <a:pt x="28" y="292"/>
                  </a:lnTo>
                  <a:lnTo>
                    <a:pt x="32" y="285"/>
                  </a:lnTo>
                  <a:lnTo>
                    <a:pt x="32" y="132"/>
                  </a:lnTo>
                  <a:lnTo>
                    <a:pt x="35" y="121"/>
                  </a:lnTo>
                  <a:lnTo>
                    <a:pt x="35" y="68"/>
                  </a:lnTo>
                  <a:lnTo>
                    <a:pt x="35" y="71"/>
                  </a:lnTo>
                  <a:lnTo>
                    <a:pt x="39" y="71"/>
                  </a:lnTo>
                  <a:lnTo>
                    <a:pt x="39" y="3"/>
                  </a:lnTo>
                  <a:lnTo>
                    <a:pt x="42" y="3"/>
                  </a:lnTo>
                  <a:lnTo>
                    <a:pt x="46" y="3"/>
                  </a:lnTo>
                  <a:lnTo>
                    <a:pt x="50" y="3"/>
                  </a:lnTo>
                  <a:lnTo>
                    <a:pt x="53" y="3"/>
                  </a:lnTo>
                  <a:lnTo>
                    <a:pt x="57" y="3"/>
                  </a:lnTo>
                  <a:lnTo>
                    <a:pt x="60" y="11"/>
                  </a:lnTo>
                  <a:lnTo>
                    <a:pt x="60" y="53"/>
                  </a:lnTo>
                  <a:lnTo>
                    <a:pt x="64" y="57"/>
                  </a:lnTo>
                  <a:lnTo>
                    <a:pt x="64" y="285"/>
                  </a:lnTo>
                  <a:lnTo>
                    <a:pt x="67" y="299"/>
                  </a:lnTo>
                  <a:lnTo>
                    <a:pt x="67" y="317"/>
                  </a:lnTo>
                  <a:lnTo>
                    <a:pt x="67" y="310"/>
                  </a:lnTo>
                  <a:lnTo>
                    <a:pt x="71" y="313"/>
                  </a:lnTo>
                  <a:lnTo>
                    <a:pt x="71" y="317"/>
                  </a:lnTo>
                  <a:lnTo>
                    <a:pt x="74" y="313"/>
                  </a:lnTo>
                  <a:lnTo>
                    <a:pt x="74" y="164"/>
                  </a:lnTo>
                  <a:lnTo>
                    <a:pt x="78" y="146"/>
                  </a:lnTo>
                  <a:lnTo>
                    <a:pt x="78" y="64"/>
                  </a:lnTo>
                  <a:lnTo>
                    <a:pt x="82" y="60"/>
                  </a:lnTo>
                  <a:lnTo>
                    <a:pt x="82" y="64"/>
                  </a:lnTo>
                  <a:lnTo>
                    <a:pt x="82" y="43"/>
                  </a:lnTo>
                  <a:lnTo>
                    <a:pt x="85" y="32"/>
                  </a:lnTo>
                  <a:lnTo>
                    <a:pt x="85" y="0"/>
                  </a:lnTo>
                  <a:lnTo>
                    <a:pt x="89" y="0"/>
                  </a:lnTo>
                  <a:lnTo>
                    <a:pt x="92" y="0"/>
                  </a:lnTo>
                  <a:lnTo>
                    <a:pt x="96" y="3"/>
                  </a:lnTo>
                  <a:lnTo>
                    <a:pt x="96" y="0"/>
                  </a:lnTo>
                  <a:lnTo>
                    <a:pt x="96" y="3"/>
                  </a:lnTo>
                  <a:lnTo>
                    <a:pt x="99" y="3"/>
                  </a:lnTo>
                  <a:lnTo>
                    <a:pt x="103" y="7"/>
                  </a:lnTo>
                  <a:lnTo>
                    <a:pt x="103" y="46"/>
                  </a:lnTo>
                  <a:lnTo>
                    <a:pt x="107" y="43"/>
                  </a:lnTo>
                  <a:lnTo>
                    <a:pt x="107" y="185"/>
                  </a:lnTo>
                  <a:lnTo>
                    <a:pt x="110" y="199"/>
                  </a:lnTo>
                  <a:lnTo>
                    <a:pt x="110" y="310"/>
                  </a:lnTo>
                  <a:lnTo>
                    <a:pt x="114" y="310"/>
                  </a:lnTo>
                  <a:lnTo>
                    <a:pt x="117" y="313"/>
                  </a:lnTo>
                  <a:lnTo>
                    <a:pt x="117" y="317"/>
                  </a:lnTo>
                  <a:lnTo>
                    <a:pt x="117" y="267"/>
                  </a:lnTo>
                  <a:lnTo>
                    <a:pt x="121" y="253"/>
                  </a:lnTo>
                  <a:lnTo>
                    <a:pt x="121" y="117"/>
                  </a:lnTo>
                  <a:lnTo>
                    <a:pt x="124" y="110"/>
                  </a:lnTo>
                  <a:lnTo>
                    <a:pt x="124" y="71"/>
                  </a:lnTo>
                  <a:lnTo>
                    <a:pt x="128" y="71"/>
                  </a:lnTo>
                  <a:lnTo>
                    <a:pt x="128" y="3"/>
                  </a:lnTo>
                  <a:lnTo>
                    <a:pt x="131" y="0"/>
                  </a:lnTo>
                  <a:lnTo>
                    <a:pt x="135" y="0"/>
                  </a:lnTo>
                  <a:lnTo>
                    <a:pt x="139" y="3"/>
                  </a:lnTo>
                  <a:lnTo>
                    <a:pt x="139" y="0"/>
                  </a:lnTo>
                  <a:lnTo>
                    <a:pt x="139" y="3"/>
                  </a:lnTo>
                  <a:lnTo>
                    <a:pt x="142" y="0"/>
                  </a:lnTo>
                  <a:lnTo>
                    <a:pt x="142" y="3"/>
                  </a:lnTo>
                  <a:lnTo>
                    <a:pt x="142" y="0"/>
                  </a:lnTo>
                  <a:lnTo>
                    <a:pt x="146" y="3"/>
                  </a:lnTo>
                  <a:lnTo>
                    <a:pt x="149" y="7"/>
                  </a:lnTo>
                  <a:lnTo>
                    <a:pt x="149" y="53"/>
                  </a:lnTo>
                  <a:lnTo>
                    <a:pt x="149" y="46"/>
                  </a:lnTo>
                  <a:lnTo>
                    <a:pt x="153" y="50"/>
                  </a:lnTo>
                  <a:lnTo>
                    <a:pt x="153" y="313"/>
                  </a:lnTo>
                  <a:lnTo>
                    <a:pt x="156" y="331"/>
                  </a:lnTo>
                  <a:lnTo>
                    <a:pt x="156" y="335"/>
                  </a:lnTo>
                  <a:lnTo>
                    <a:pt x="156" y="313"/>
                  </a:lnTo>
                  <a:lnTo>
                    <a:pt x="160" y="317"/>
                  </a:lnTo>
                  <a:lnTo>
                    <a:pt x="164" y="320"/>
                  </a:lnTo>
                  <a:lnTo>
                    <a:pt x="164" y="324"/>
                  </a:lnTo>
                  <a:lnTo>
                    <a:pt x="164" y="306"/>
                  </a:lnTo>
                  <a:lnTo>
                    <a:pt x="167" y="296"/>
                  </a:lnTo>
                  <a:lnTo>
                    <a:pt x="167" y="128"/>
                  </a:lnTo>
                  <a:lnTo>
                    <a:pt x="171" y="117"/>
                  </a:lnTo>
                  <a:lnTo>
                    <a:pt x="171" y="60"/>
                  </a:lnTo>
                  <a:lnTo>
                    <a:pt x="171" y="71"/>
                  </a:lnTo>
                  <a:lnTo>
                    <a:pt x="174" y="71"/>
                  </a:lnTo>
                  <a:lnTo>
                    <a:pt x="174" y="3"/>
                  </a:lnTo>
                  <a:lnTo>
                    <a:pt x="178" y="3"/>
                  </a:lnTo>
                  <a:lnTo>
                    <a:pt x="181" y="3"/>
                  </a:lnTo>
                  <a:lnTo>
                    <a:pt x="185" y="3"/>
                  </a:lnTo>
                  <a:lnTo>
                    <a:pt x="188" y="3"/>
                  </a:lnTo>
                  <a:lnTo>
                    <a:pt x="192" y="7"/>
                  </a:lnTo>
                  <a:lnTo>
                    <a:pt x="192" y="57"/>
                  </a:lnTo>
                  <a:lnTo>
                    <a:pt x="192" y="46"/>
                  </a:lnTo>
                  <a:lnTo>
                    <a:pt x="196" y="50"/>
                  </a:lnTo>
                  <a:lnTo>
                    <a:pt x="196" y="267"/>
                  </a:lnTo>
                  <a:lnTo>
                    <a:pt x="199" y="288"/>
                  </a:lnTo>
                  <a:lnTo>
                    <a:pt x="199" y="328"/>
                  </a:lnTo>
                  <a:lnTo>
                    <a:pt x="199" y="317"/>
                  </a:lnTo>
                  <a:lnTo>
                    <a:pt x="203" y="313"/>
                  </a:lnTo>
                  <a:lnTo>
                    <a:pt x="206" y="310"/>
                  </a:lnTo>
                  <a:lnTo>
                    <a:pt x="206" y="288"/>
                  </a:lnTo>
                  <a:lnTo>
                    <a:pt x="210" y="278"/>
                  </a:lnTo>
                  <a:lnTo>
                    <a:pt x="210" y="125"/>
                  </a:lnTo>
                  <a:lnTo>
                    <a:pt x="213" y="117"/>
                  </a:lnTo>
                  <a:lnTo>
                    <a:pt x="213" y="68"/>
                  </a:lnTo>
                  <a:lnTo>
                    <a:pt x="213" y="78"/>
                  </a:lnTo>
                  <a:lnTo>
                    <a:pt x="217" y="75"/>
                  </a:lnTo>
                  <a:lnTo>
                    <a:pt x="217" y="3"/>
                  </a:lnTo>
                  <a:lnTo>
                    <a:pt x="221" y="3"/>
                  </a:lnTo>
                  <a:lnTo>
                    <a:pt x="224" y="3"/>
                  </a:lnTo>
                  <a:lnTo>
                    <a:pt x="228" y="3"/>
                  </a:lnTo>
                  <a:lnTo>
                    <a:pt x="231" y="3"/>
                  </a:lnTo>
                  <a:lnTo>
                    <a:pt x="235" y="7"/>
                  </a:lnTo>
                  <a:lnTo>
                    <a:pt x="235" y="50"/>
                  </a:lnTo>
                  <a:lnTo>
                    <a:pt x="238" y="46"/>
                  </a:lnTo>
                  <a:lnTo>
                    <a:pt x="238" y="43"/>
                  </a:lnTo>
                  <a:lnTo>
                    <a:pt x="238" y="189"/>
                  </a:lnTo>
                  <a:lnTo>
                    <a:pt x="242" y="21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4853880" y="3348720"/>
              <a:ext cx="360720" cy="579960"/>
            </a:xfrm>
            <a:custGeom>
              <a:avLst/>
              <a:gdLst/>
              <a:ahLst/>
              <a:rect l="l" t="t" r="r" b="b"/>
              <a:pathLst>
                <a:path w="235" h="335">
                  <a:moveTo>
                    <a:pt x="0" y="210"/>
                  </a:moveTo>
                  <a:lnTo>
                    <a:pt x="0" y="324"/>
                  </a:lnTo>
                  <a:lnTo>
                    <a:pt x="0" y="320"/>
                  </a:lnTo>
                  <a:lnTo>
                    <a:pt x="3" y="317"/>
                  </a:lnTo>
                  <a:lnTo>
                    <a:pt x="3" y="310"/>
                  </a:lnTo>
                  <a:lnTo>
                    <a:pt x="7" y="313"/>
                  </a:lnTo>
                  <a:lnTo>
                    <a:pt x="7" y="320"/>
                  </a:lnTo>
                  <a:lnTo>
                    <a:pt x="7" y="306"/>
                  </a:lnTo>
                  <a:lnTo>
                    <a:pt x="11" y="299"/>
                  </a:lnTo>
                  <a:lnTo>
                    <a:pt x="11" y="125"/>
                  </a:lnTo>
                  <a:lnTo>
                    <a:pt x="14" y="114"/>
                  </a:lnTo>
                  <a:lnTo>
                    <a:pt x="14" y="75"/>
                  </a:lnTo>
                  <a:lnTo>
                    <a:pt x="18" y="75"/>
                  </a:lnTo>
                  <a:lnTo>
                    <a:pt x="18" y="0"/>
                  </a:lnTo>
                  <a:lnTo>
                    <a:pt x="21" y="0"/>
                  </a:lnTo>
                  <a:lnTo>
                    <a:pt x="25" y="0"/>
                  </a:lnTo>
                  <a:lnTo>
                    <a:pt x="28" y="0"/>
                  </a:lnTo>
                  <a:lnTo>
                    <a:pt x="32" y="0"/>
                  </a:lnTo>
                  <a:lnTo>
                    <a:pt x="36" y="3"/>
                  </a:lnTo>
                  <a:lnTo>
                    <a:pt x="36" y="7"/>
                  </a:lnTo>
                  <a:lnTo>
                    <a:pt x="39" y="18"/>
                  </a:lnTo>
                  <a:lnTo>
                    <a:pt x="39" y="57"/>
                  </a:lnTo>
                  <a:lnTo>
                    <a:pt x="43" y="71"/>
                  </a:lnTo>
                  <a:lnTo>
                    <a:pt x="43" y="310"/>
                  </a:lnTo>
                  <a:lnTo>
                    <a:pt x="46" y="320"/>
                  </a:lnTo>
                  <a:lnTo>
                    <a:pt x="46" y="324"/>
                  </a:lnTo>
                  <a:lnTo>
                    <a:pt x="46" y="317"/>
                  </a:lnTo>
                  <a:lnTo>
                    <a:pt x="50" y="313"/>
                  </a:lnTo>
                  <a:lnTo>
                    <a:pt x="50" y="317"/>
                  </a:lnTo>
                  <a:lnTo>
                    <a:pt x="53" y="320"/>
                  </a:lnTo>
                  <a:lnTo>
                    <a:pt x="53" y="174"/>
                  </a:lnTo>
                  <a:lnTo>
                    <a:pt x="57" y="160"/>
                  </a:lnTo>
                  <a:lnTo>
                    <a:pt x="57" y="75"/>
                  </a:lnTo>
                  <a:lnTo>
                    <a:pt x="60" y="71"/>
                  </a:lnTo>
                  <a:lnTo>
                    <a:pt x="60" y="50"/>
                  </a:lnTo>
                  <a:lnTo>
                    <a:pt x="64" y="39"/>
                  </a:lnTo>
                  <a:lnTo>
                    <a:pt x="64" y="3"/>
                  </a:lnTo>
                  <a:lnTo>
                    <a:pt x="68" y="3"/>
                  </a:lnTo>
                  <a:lnTo>
                    <a:pt x="71" y="3"/>
                  </a:lnTo>
                  <a:lnTo>
                    <a:pt x="75" y="3"/>
                  </a:lnTo>
                  <a:lnTo>
                    <a:pt x="78" y="3"/>
                  </a:lnTo>
                  <a:lnTo>
                    <a:pt x="82" y="7"/>
                  </a:lnTo>
                  <a:lnTo>
                    <a:pt x="82" y="57"/>
                  </a:lnTo>
                  <a:lnTo>
                    <a:pt x="85" y="53"/>
                  </a:lnTo>
                  <a:lnTo>
                    <a:pt x="85" y="43"/>
                  </a:lnTo>
                  <a:lnTo>
                    <a:pt x="85" y="185"/>
                  </a:lnTo>
                  <a:lnTo>
                    <a:pt x="89" y="206"/>
                  </a:lnTo>
                  <a:lnTo>
                    <a:pt x="89" y="331"/>
                  </a:lnTo>
                  <a:lnTo>
                    <a:pt x="89" y="320"/>
                  </a:lnTo>
                  <a:lnTo>
                    <a:pt x="93" y="317"/>
                  </a:lnTo>
                  <a:lnTo>
                    <a:pt x="93" y="310"/>
                  </a:lnTo>
                  <a:lnTo>
                    <a:pt x="96" y="313"/>
                  </a:lnTo>
                  <a:lnTo>
                    <a:pt x="96" y="320"/>
                  </a:lnTo>
                  <a:lnTo>
                    <a:pt x="96" y="288"/>
                  </a:lnTo>
                  <a:lnTo>
                    <a:pt x="100" y="274"/>
                  </a:lnTo>
                  <a:lnTo>
                    <a:pt x="100" y="103"/>
                  </a:lnTo>
                  <a:lnTo>
                    <a:pt x="103" y="96"/>
                  </a:lnTo>
                  <a:lnTo>
                    <a:pt x="103" y="64"/>
                  </a:lnTo>
                  <a:lnTo>
                    <a:pt x="103" y="68"/>
                  </a:lnTo>
                  <a:lnTo>
                    <a:pt x="107" y="64"/>
                  </a:lnTo>
                  <a:lnTo>
                    <a:pt x="107" y="0"/>
                  </a:lnTo>
                  <a:lnTo>
                    <a:pt x="110" y="3"/>
                  </a:lnTo>
                  <a:lnTo>
                    <a:pt x="114" y="0"/>
                  </a:lnTo>
                  <a:lnTo>
                    <a:pt x="114" y="3"/>
                  </a:lnTo>
                  <a:lnTo>
                    <a:pt x="117" y="3"/>
                  </a:lnTo>
                  <a:lnTo>
                    <a:pt x="121" y="3"/>
                  </a:lnTo>
                  <a:lnTo>
                    <a:pt x="125" y="7"/>
                  </a:lnTo>
                  <a:lnTo>
                    <a:pt x="125" y="25"/>
                  </a:lnTo>
                  <a:lnTo>
                    <a:pt x="128" y="36"/>
                  </a:lnTo>
                  <a:lnTo>
                    <a:pt x="128" y="78"/>
                  </a:lnTo>
                  <a:lnTo>
                    <a:pt x="132" y="96"/>
                  </a:lnTo>
                  <a:lnTo>
                    <a:pt x="132" y="320"/>
                  </a:lnTo>
                  <a:lnTo>
                    <a:pt x="135" y="317"/>
                  </a:lnTo>
                  <a:lnTo>
                    <a:pt x="135" y="310"/>
                  </a:lnTo>
                  <a:lnTo>
                    <a:pt x="135" y="313"/>
                  </a:lnTo>
                  <a:lnTo>
                    <a:pt x="142" y="313"/>
                  </a:lnTo>
                  <a:lnTo>
                    <a:pt x="139" y="313"/>
                  </a:lnTo>
                  <a:lnTo>
                    <a:pt x="142" y="196"/>
                  </a:lnTo>
                  <a:lnTo>
                    <a:pt x="146" y="182"/>
                  </a:lnTo>
                  <a:lnTo>
                    <a:pt x="146" y="75"/>
                  </a:lnTo>
                  <a:lnTo>
                    <a:pt x="150" y="71"/>
                  </a:lnTo>
                  <a:lnTo>
                    <a:pt x="150" y="75"/>
                  </a:lnTo>
                  <a:lnTo>
                    <a:pt x="150" y="3"/>
                  </a:lnTo>
                  <a:lnTo>
                    <a:pt x="153" y="3"/>
                  </a:lnTo>
                  <a:lnTo>
                    <a:pt x="157" y="3"/>
                  </a:lnTo>
                  <a:lnTo>
                    <a:pt x="160" y="7"/>
                  </a:lnTo>
                  <a:lnTo>
                    <a:pt x="160" y="36"/>
                  </a:lnTo>
                  <a:lnTo>
                    <a:pt x="164" y="39"/>
                  </a:lnTo>
                  <a:lnTo>
                    <a:pt x="164" y="28"/>
                  </a:lnTo>
                  <a:lnTo>
                    <a:pt x="167" y="25"/>
                  </a:lnTo>
                  <a:lnTo>
                    <a:pt x="167" y="11"/>
                  </a:lnTo>
                  <a:lnTo>
                    <a:pt x="171" y="14"/>
                  </a:lnTo>
                  <a:lnTo>
                    <a:pt x="171" y="50"/>
                  </a:lnTo>
                  <a:lnTo>
                    <a:pt x="171" y="46"/>
                  </a:lnTo>
                  <a:lnTo>
                    <a:pt x="174" y="43"/>
                  </a:lnTo>
                  <a:lnTo>
                    <a:pt x="174" y="217"/>
                  </a:lnTo>
                  <a:lnTo>
                    <a:pt x="178" y="242"/>
                  </a:lnTo>
                  <a:lnTo>
                    <a:pt x="178" y="335"/>
                  </a:lnTo>
                  <a:lnTo>
                    <a:pt x="178" y="317"/>
                  </a:lnTo>
                  <a:lnTo>
                    <a:pt x="185" y="310"/>
                  </a:lnTo>
                  <a:lnTo>
                    <a:pt x="185" y="320"/>
                  </a:lnTo>
                  <a:lnTo>
                    <a:pt x="185" y="303"/>
                  </a:lnTo>
                  <a:lnTo>
                    <a:pt x="189" y="292"/>
                  </a:lnTo>
                  <a:lnTo>
                    <a:pt x="189" y="139"/>
                  </a:lnTo>
                  <a:lnTo>
                    <a:pt x="192" y="132"/>
                  </a:lnTo>
                  <a:lnTo>
                    <a:pt x="192" y="71"/>
                  </a:lnTo>
                  <a:lnTo>
                    <a:pt x="196" y="68"/>
                  </a:lnTo>
                  <a:lnTo>
                    <a:pt x="196" y="3"/>
                  </a:lnTo>
                  <a:lnTo>
                    <a:pt x="199" y="7"/>
                  </a:lnTo>
                  <a:lnTo>
                    <a:pt x="207" y="7"/>
                  </a:lnTo>
                  <a:lnTo>
                    <a:pt x="203" y="7"/>
                  </a:lnTo>
                  <a:lnTo>
                    <a:pt x="207" y="7"/>
                  </a:lnTo>
                  <a:lnTo>
                    <a:pt x="210" y="7"/>
                  </a:lnTo>
                  <a:lnTo>
                    <a:pt x="214" y="11"/>
                  </a:lnTo>
                  <a:lnTo>
                    <a:pt x="214" y="32"/>
                  </a:lnTo>
                  <a:lnTo>
                    <a:pt x="217" y="43"/>
                  </a:lnTo>
                  <a:lnTo>
                    <a:pt x="217" y="68"/>
                  </a:lnTo>
                  <a:lnTo>
                    <a:pt x="221" y="85"/>
                  </a:lnTo>
                  <a:lnTo>
                    <a:pt x="221" y="331"/>
                  </a:lnTo>
                  <a:lnTo>
                    <a:pt x="224" y="328"/>
                  </a:lnTo>
                  <a:lnTo>
                    <a:pt x="224" y="320"/>
                  </a:lnTo>
                  <a:lnTo>
                    <a:pt x="228" y="317"/>
                  </a:lnTo>
                  <a:lnTo>
                    <a:pt x="228" y="313"/>
                  </a:lnTo>
                  <a:lnTo>
                    <a:pt x="228" y="313"/>
                  </a:lnTo>
                  <a:lnTo>
                    <a:pt x="231" y="317"/>
                  </a:lnTo>
                  <a:lnTo>
                    <a:pt x="231" y="235"/>
                  </a:lnTo>
                  <a:lnTo>
                    <a:pt x="235" y="217"/>
                  </a:lnTo>
                  <a:lnTo>
                    <a:pt x="235" y="96"/>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5214960" y="3348720"/>
              <a:ext cx="365760" cy="569520"/>
            </a:xfrm>
            <a:custGeom>
              <a:avLst/>
              <a:gdLst/>
              <a:ahLst/>
              <a:rect l="l" t="t" r="r" b="b"/>
              <a:pathLst>
                <a:path w="239" h="328">
                  <a:moveTo>
                    <a:pt x="0" y="96"/>
                  </a:moveTo>
                  <a:lnTo>
                    <a:pt x="4" y="89"/>
                  </a:lnTo>
                  <a:lnTo>
                    <a:pt x="4" y="57"/>
                  </a:lnTo>
                  <a:lnTo>
                    <a:pt x="7" y="53"/>
                  </a:lnTo>
                  <a:lnTo>
                    <a:pt x="7" y="0"/>
                  </a:lnTo>
                  <a:lnTo>
                    <a:pt x="11" y="0"/>
                  </a:lnTo>
                  <a:lnTo>
                    <a:pt x="14" y="0"/>
                  </a:lnTo>
                  <a:lnTo>
                    <a:pt x="18" y="0"/>
                  </a:lnTo>
                  <a:lnTo>
                    <a:pt x="21" y="0"/>
                  </a:lnTo>
                  <a:lnTo>
                    <a:pt x="25" y="3"/>
                  </a:lnTo>
                  <a:lnTo>
                    <a:pt x="25" y="60"/>
                  </a:lnTo>
                  <a:lnTo>
                    <a:pt x="29" y="57"/>
                  </a:lnTo>
                  <a:lnTo>
                    <a:pt x="29" y="53"/>
                  </a:lnTo>
                  <a:lnTo>
                    <a:pt x="29" y="160"/>
                  </a:lnTo>
                  <a:lnTo>
                    <a:pt x="32" y="185"/>
                  </a:lnTo>
                  <a:lnTo>
                    <a:pt x="32" y="317"/>
                  </a:lnTo>
                  <a:lnTo>
                    <a:pt x="32" y="310"/>
                  </a:lnTo>
                  <a:lnTo>
                    <a:pt x="36" y="306"/>
                  </a:lnTo>
                  <a:lnTo>
                    <a:pt x="43" y="313"/>
                  </a:lnTo>
                  <a:lnTo>
                    <a:pt x="39" y="313"/>
                  </a:lnTo>
                  <a:lnTo>
                    <a:pt x="43" y="160"/>
                  </a:lnTo>
                  <a:lnTo>
                    <a:pt x="46" y="149"/>
                  </a:lnTo>
                  <a:lnTo>
                    <a:pt x="46" y="68"/>
                  </a:lnTo>
                  <a:lnTo>
                    <a:pt x="50" y="71"/>
                  </a:lnTo>
                  <a:lnTo>
                    <a:pt x="50" y="75"/>
                  </a:lnTo>
                  <a:lnTo>
                    <a:pt x="50" y="14"/>
                  </a:lnTo>
                  <a:lnTo>
                    <a:pt x="57" y="3"/>
                  </a:lnTo>
                  <a:lnTo>
                    <a:pt x="53" y="3"/>
                  </a:lnTo>
                  <a:lnTo>
                    <a:pt x="57" y="3"/>
                  </a:lnTo>
                  <a:lnTo>
                    <a:pt x="61" y="3"/>
                  </a:lnTo>
                  <a:lnTo>
                    <a:pt x="64" y="3"/>
                  </a:lnTo>
                  <a:lnTo>
                    <a:pt x="68" y="7"/>
                  </a:lnTo>
                  <a:lnTo>
                    <a:pt x="68" y="43"/>
                  </a:lnTo>
                  <a:lnTo>
                    <a:pt x="71" y="53"/>
                  </a:lnTo>
                  <a:lnTo>
                    <a:pt x="71" y="46"/>
                  </a:lnTo>
                  <a:lnTo>
                    <a:pt x="71" y="103"/>
                  </a:lnTo>
                  <a:lnTo>
                    <a:pt x="75" y="128"/>
                  </a:lnTo>
                  <a:lnTo>
                    <a:pt x="75" y="320"/>
                  </a:lnTo>
                  <a:lnTo>
                    <a:pt x="78" y="317"/>
                  </a:lnTo>
                  <a:lnTo>
                    <a:pt x="78" y="320"/>
                  </a:lnTo>
                  <a:lnTo>
                    <a:pt x="78" y="317"/>
                  </a:lnTo>
                  <a:lnTo>
                    <a:pt x="82" y="313"/>
                  </a:lnTo>
                  <a:lnTo>
                    <a:pt x="82" y="310"/>
                  </a:lnTo>
                  <a:lnTo>
                    <a:pt x="82" y="313"/>
                  </a:lnTo>
                  <a:lnTo>
                    <a:pt x="86" y="310"/>
                  </a:lnTo>
                  <a:lnTo>
                    <a:pt x="86" y="142"/>
                  </a:lnTo>
                  <a:lnTo>
                    <a:pt x="89" y="132"/>
                  </a:lnTo>
                  <a:lnTo>
                    <a:pt x="89" y="53"/>
                  </a:lnTo>
                  <a:lnTo>
                    <a:pt x="93" y="57"/>
                  </a:lnTo>
                  <a:lnTo>
                    <a:pt x="93" y="64"/>
                  </a:lnTo>
                  <a:lnTo>
                    <a:pt x="93" y="21"/>
                  </a:lnTo>
                  <a:lnTo>
                    <a:pt x="96" y="14"/>
                  </a:lnTo>
                  <a:lnTo>
                    <a:pt x="96" y="0"/>
                  </a:lnTo>
                  <a:lnTo>
                    <a:pt x="100" y="0"/>
                  </a:lnTo>
                  <a:lnTo>
                    <a:pt x="103" y="0"/>
                  </a:lnTo>
                  <a:lnTo>
                    <a:pt x="107" y="0"/>
                  </a:lnTo>
                  <a:lnTo>
                    <a:pt x="110" y="0"/>
                  </a:lnTo>
                  <a:lnTo>
                    <a:pt x="114" y="3"/>
                  </a:lnTo>
                  <a:lnTo>
                    <a:pt x="114" y="57"/>
                  </a:lnTo>
                  <a:lnTo>
                    <a:pt x="114" y="43"/>
                  </a:lnTo>
                  <a:lnTo>
                    <a:pt x="118" y="46"/>
                  </a:lnTo>
                  <a:lnTo>
                    <a:pt x="118" y="260"/>
                  </a:lnTo>
                  <a:lnTo>
                    <a:pt x="121" y="281"/>
                  </a:lnTo>
                  <a:lnTo>
                    <a:pt x="121" y="320"/>
                  </a:lnTo>
                  <a:lnTo>
                    <a:pt x="121" y="313"/>
                  </a:lnTo>
                  <a:lnTo>
                    <a:pt x="128" y="306"/>
                  </a:lnTo>
                  <a:lnTo>
                    <a:pt x="128" y="299"/>
                  </a:lnTo>
                  <a:lnTo>
                    <a:pt x="132" y="288"/>
                  </a:lnTo>
                  <a:lnTo>
                    <a:pt x="132" y="132"/>
                  </a:lnTo>
                  <a:lnTo>
                    <a:pt x="135" y="125"/>
                  </a:lnTo>
                  <a:lnTo>
                    <a:pt x="135" y="64"/>
                  </a:lnTo>
                  <a:lnTo>
                    <a:pt x="135" y="68"/>
                  </a:lnTo>
                  <a:lnTo>
                    <a:pt x="139" y="68"/>
                  </a:lnTo>
                  <a:lnTo>
                    <a:pt x="139" y="11"/>
                  </a:lnTo>
                  <a:lnTo>
                    <a:pt x="143" y="7"/>
                  </a:lnTo>
                  <a:lnTo>
                    <a:pt x="143" y="3"/>
                  </a:lnTo>
                  <a:lnTo>
                    <a:pt x="143" y="7"/>
                  </a:lnTo>
                  <a:lnTo>
                    <a:pt x="146" y="7"/>
                  </a:lnTo>
                  <a:lnTo>
                    <a:pt x="150" y="7"/>
                  </a:lnTo>
                  <a:lnTo>
                    <a:pt x="150" y="14"/>
                  </a:lnTo>
                  <a:lnTo>
                    <a:pt x="153" y="18"/>
                  </a:lnTo>
                  <a:lnTo>
                    <a:pt x="153" y="14"/>
                  </a:lnTo>
                  <a:lnTo>
                    <a:pt x="157" y="18"/>
                  </a:lnTo>
                  <a:lnTo>
                    <a:pt x="157" y="57"/>
                  </a:lnTo>
                  <a:lnTo>
                    <a:pt x="160" y="53"/>
                  </a:lnTo>
                  <a:lnTo>
                    <a:pt x="160" y="160"/>
                  </a:lnTo>
                  <a:lnTo>
                    <a:pt x="164" y="182"/>
                  </a:lnTo>
                  <a:lnTo>
                    <a:pt x="164" y="317"/>
                  </a:lnTo>
                  <a:lnTo>
                    <a:pt x="164" y="313"/>
                  </a:lnTo>
                  <a:lnTo>
                    <a:pt x="167" y="310"/>
                  </a:lnTo>
                  <a:lnTo>
                    <a:pt x="167" y="317"/>
                  </a:lnTo>
                  <a:lnTo>
                    <a:pt x="171" y="320"/>
                  </a:lnTo>
                  <a:lnTo>
                    <a:pt x="171" y="317"/>
                  </a:lnTo>
                  <a:lnTo>
                    <a:pt x="175" y="313"/>
                  </a:lnTo>
                  <a:lnTo>
                    <a:pt x="175" y="142"/>
                  </a:lnTo>
                  <a:lnTo>
                    <a:pt x="178" y="135"/>
                  </a:lnTo>
                  <a:lnTo>
                    <a:pt x="178" y="78"/>
                  </a:lnTo>
                  <a:lnTo>
                    <a:pt x="182" y="75"/>
                  </a:lnTo>
                  <a:lnTo>
                    <a:pt x="182" y="78"/>
                  </a:lnTo>
                  <a:lnTo>
                    <a:pt x="182" y="39"/>
                  </a:lnTo>
                  <a:lnTo>
                    <a:pt x="185" y="32"/>
                  </a:lnTo>
                  <a:lnTo>
                    <a:pt x="185" y="14"/>
                  </a:lnTo>
                  <a:lnTo>
                    <a:pt x="189" y="14"/>
                  </a:lnTo>
                  <a:lnTo>
                    <a:pt x="192" y="14"/>
                  </a:lnTo>
                  <a:lnTo>
                    <a:pt x="196" y="14"/>
                  </a:lnTo>
                  <a:lnTo>
                    <a:pt x="200" y="18"/>
                  </a:lnTo>
                  <a:lnTo>
                    <a:pt x="200" y="50"/>
                  </a:lnTo>
                  <a:lnTo>
                    <a:pt x="203" y="60"/>
                  </a:lnTo>
                  <a:lnTo>
                    <a:pt x="203" y="57"/>
                  </a:lnTo>
                  <a:lnTo>
                    <a:pt x="203" y="114"/>
                  </a:lnTo>
                  <a:lnTo>
                    <a:pt x="207" y="139"/>
                  </a:lnTo>
                  <a:lnTo>
                    <a:pt x="207" y="328"/>
                  </a:lnTo>
                  <a:lnTo>
                    <a:pt x="210" y="324"/>
                  </a:lnTo>
                  <a:lnTo>
                    <a:pt x="210" y="320"/>
                  </a:lnTo>
                  <a:lnTo>
                    <a:pt x="214" y="317"/>
                  </a:lnTo>
                  <a:lnTo>
                    <a:pt x="214" y="324"/>
                  </a:lnTo>
                  <a:lnTo>
                    <a:pt x="214" y="313"/>
                  </a:lnTo>
                  <a:lnTo>
                    <a:pt x="217" y="303"/>
                  </a:lnTo>
                  <a:lnTo>
                    <a:pt x="217" y="142"/>
                  </a:lnTo>
                  <a:lnTo>
                    <a:pt x="221" y="139"/>
                  </a:lnTo>
                  <a:lnTo>
                    <a:pt x="221" y="75"/>
                  </a:lnTo>
                  <a:lnTo>
                    <a:pt x="224" y="78"/>
                  </a:lnTo>
                  <a:lnTo>
                    <a:pt x="224" y="85"/>
                  </a:lnTo>
                  <a:lnTo>
                    <a:pt x="224" y="46"/>
                  </a:lnTo>
                  <a:lnTo>
                    <a:pt x="228" y="39"/>
                  </a:lnTo>
                  <a:lnTo>
                    <a:pt x="228" y="14"/>
                  </a:lnTo>
                  <a:lnTo>
                    <a:pt x="232" y="14"/>
                  </a:lnTo>
                  <a:lnTo>
                    <a:pt x="239" y="14"/>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5573880" y="3353760"/>
              <a:ext cx="360720" cy="588600"/>
            </a:xfrm>
            <a:custGeom>
              <a:avLst/>
              <a:gdLst/>
              <a:ahLst/>
              <a:rect l="l" t="t" r="r" b="b"/>
              <a:pathLst>
                <a:path w="235" h="339">
                  <a:moveTo>
                    <a:pt x="4" y="11"/>
                  </a:moveTo>
                  <a:lnTo>
                    <a:pt x="0" y="11"/>
                  </a:lnTo>
                  <a:lnTo>
                    <a:pt x="4" y="8"/>
                  </a:lnTo>
                  <a:lnTo>
                    <a:pt x="7" y="11"/>
                  </a:lnTo>
                  <a:lnTo>
                    <a:pt x="7" y="8"/>
                  </a:lnTo>
                  <a:lnTo>
                    <a:pt x="7" y="11"/>
                  </a:lnTo>
                  <a:lnTo>
                    <a:pt x="11" y="15"/>
                  </a:lnTo>
                  <a:lnTo>
                    <a:pt x="11" y="61"/>
                  </a:lnTo>
                  <a:lnTo>
                    <a:pt x="11" y="57"/>
                  </a:lnTo>
                  <a:lnTo>
                    <a:pt x="14" y="61"/>
                  </a:lnTo>
                  <a:lnTo>
                    <a:pt x="14" y="282"/>
                  </a:lnTo>
                  <a:lnTo>
                    <a:pt x="18" y="300"/>
                  </a:lnTo>
                  <a:lnTo>
                    <a:pt x="18" y="332"/>
                  </a:lnTo>
                  <a:lnTo>
                    <a:pt x="22" y="328"/>
                  </a:lnTo>
                  <a:lnTo>
                    <a:pt x="25" y="325"/>
                  </a:lnTo>
                  <a:lnTo>
                    <a:pt x="25" y="232"/>
                  </a:lnTo>
                  <a:lnTo>
                    <a:pt x="29" y="214"/>
                  </a:lnTo>
                  <a:lnTo>
                    <a:pt x="29" y="114"/>
                  </a:lnTo>
                  <a:lnTo>
                    <a:pt x="32" y="107"/>
                  </a:lnTo>
                  <a:lnTo>
                    <a:pt x="32" y="75"/>
                  </a:lnTo>
                  <a:lnTo>
                    <a:pt x="32" y="86"/>
                  </a:lnTo>
                  <a:lnTo>
                    <a:pt x="36" y="82"/>
                  </a:lnTo>
                  <a:lnTo>
                    <a:pt x="36" y="4"/>
                  </a:lnTo>
                  <a:lnTo>
                    <a:pt x="43" y="11"/>
                  </a:lnTo>
                  <a:lnTo>
                    <a:pt x="39" y="11"/>
                  </a:lnTo>
                  <a:lnTo>
                    <a:pt x="43" y="11"/>
                  </a:lnTo>
                  <a:lnTo>
                    <a:pt x="46" y="11"/>
                  </a:lnTo>
                  <a:lnTo>
                    <a:pt x="50" y="11"/>
                  </a:lnTo>
                  <a:lnTo>
                    <a:pt x="54" y="22"/>
                  </a:lnTo>
                  <a:lnTo>
                    <a:pt x="54" y="57"/>
                  </a:lnTo>
                  <a:lnTo>
                    <a:pt x="57" y="65"/>
                  </a:lnTo>
                  <a:lnTo>
                    <a:pt x="57" y="54"/>
                  </a:lnTo>
                  <a:lnTo>
                    <a:pt x="57" y="114"/>
                  </a:lnTo>
                  <a:lnTo>
                    <a:pt x="61" y="122"/>
                  </a:lnTo>
                  <a:lnTo>
                    <a:pt x="61" y="325"/>
                  </a:lnTo>
                  <a:lnTo>
                    <a:pt x="64" y="328"/>
                  </a:lnTo>
                  <a:lnTo>
                    <a:pt x="64" y="339"/>
                  </a:lnTo>
                  <a:lnTo>
                    <a:pt x="64" y="332"/>
                  </a:lnTo>
                  <a:lnTo>
                    <a:pt x="71" y="325"/>
                  </a:lnTo>
                  <a:lnTo>
                    <a:pt x="71" y="168"/>
                  </a:lnTo>
                  <a:lnTo>
                    <a:pt x="75" y="154"/>
                  </a:lnTo>
                  <a:lnTo>
                    <a:pt x="75" y="72"/>
                  </a:lnTo>
                  <a:lnTo>
                    <a:pt x="79" y="75"/>
                  </a:lnTo>
                  <a:lnTo>
                    <a:pt x="79" y="82"/>
                  </a:lnTo>
                  <a:lnTo>
                    <a:pt x="79" y="22"/>
                  </a:lnTo>
                  <a:lnTo>
                    <a:pt x="82" y="15"/>
                  </a:lnTo>
                  <a:lnTo>
                    <a:pt x="82" y="4"/>
                  </a:lnTo>
                  <a:lnTo>
                    <a:pt x="82" y="8"/>
                  </a:lnTo>
                  <a:lnTo>
                    <a:pt x="86" y="8"/>
                  </a:lnTo>
                  <a:lnTo>
                    <a:pt x="89" y="8"/>
                  </a:lnTo>
                  <a:lnTo>
                    <a:pt x="93" y="8"/>
                  </a:lnTo>
                  <a:lnTo>
                    <a:pt x="96" y="11"/>
                  </a:lnTo>
                  <a:lnTo>
                    <a:pt x="96" y="15"/>
                  </a:lnTo>
                  <a:lnTo>
                    <a:pt x="100" y="22"/>
                  </a:lnTo>
                  <a:lnTo>
                    <a:pt x="100" y="65"/>
                  </a:lnTo>
                  <a:lnTo>
                    <a:pt x="103" y="82"/>
                  </a:lnTo>
                  <a:lnTo>
                    <a:pt x="103" y="328"/>
                  </a:lnTo>
                  <a:lnTo>
                    <a:pt x="107" y="325"/>
                  </a:lnTo>
                  <a:lnTo>
                    <a:pt x="107" y="321"/>
                  </a:lnTo>
                  <a:lnTo>
                    <a:pt x="107" y="325"/>
                  </a:lnTo>
                  <a:lnTo>
                    <a:pt x="111" y="321"/>
                  </a:lnTo>
                  <a:lnTo>
                    <a:pt x="111" y="314"/>
                  </a:lnTo>
                  <a:lnTo>
                    <a:pt x="114" y="310"/>
                  </a:lnTo>
                  <a:lnTo>
                    <a:pt x="114" y="218"/>
                  </a:lnTo>
                  <a:lnTo>
                    <a:pt x="118" y="207"/>
                  </a:lnTo>
                  <a:lnTo>
                    <a:pt x="118" y="111"/>
                  </a:lnTo>
                  <a:lnTo>
                    <a:pt x="121" y="104"/>
                  </a:lnTo>
                  <a:lnTo>
                    <a:pt x="121" y="75"/>
                  </a:lnTo>
                  <a:lnTo>
                    <a:pt x="121" y="86"/>
                  </a:lnTo>
                  <a:lnTo>
                    <a:pt x="125" y="75"/>
                  </a:lnTo>
                  <a:lnTo>
                    <a:pt x="125" y="25"/>
                  </a:lnTo>
                  <a:lnTo>
                    <a:pt x="132" y="18"/>
                  </a:lnTo>
                  <a:lnTo>
                    <a:pt x="132" y="15"/>
                  </a:lnTo>
                  <a:lnTo>
                    <a:pt x="139" y="15"/>
                  </a:lnTo>
                  <a:lnTo>
                    <a:pt x="136" y="15"/>
                  </a:lnTo>
                  <a:lnTo>
                    <a:pt x="139" y="15"/>
                  </a:lnTo>
                  <a:lnTo>
                    <a:pt x="143" y="18"/>
                  </a:lnTo>
                  <a:lnTo>
                    <a:pt x="143" y="75"/>
                  </a:lnTo>
                  <a:lnTo>
                    <a:pt x="143" y="65"/>
                  </a:lnTo>
                  <a:lnTo>
                    <a:pt x="146" y="61"/>
                  </a:lnTo>
                  <a:lnTo>
                    <a:pt x="146" y="57"/>
                  </a:lnTo>
                  <a:lnTo>
                    <a:pt x="146" y="243"/>
                  </a:lnTo>
                  <a:lnTo>
                    <a:pt x="150" y="271"/>
                  </a:lnTo>
                  <a:lnTo>
                    <a:pt x="150" y="335"/>
                  </a:lnTo>
                  <a:lnTo>
                    <a:pt x="150" y="332"/>
                  </a:lnTo>
                  <a:lnTo>
                    <a:pt x="157" y="325"/>
                  </a:lnTo>
                  <a:lnTo>
                    <a:pt x="157" y="307"/>
                  </a:lnTo>
                  <a:lnTo>
                    <a:pt x="160" y="296"/>
                  </a:lnTo>
                  <a:lnTo>
                    <a:pt x="160" y="139"/>
                  </a:lnTo>
                  <a:lnTo>
                    <a:pt x="164" y="129"/>
                  </a:lnTo>
                  <a:lnTo>
                    <a:pt x="164" y="82"/>
                  </a:lnTo>
                  <a:lnTo>
                    <a:pt x="164" y="89"/>
                  </a:lnTo>
                  <a:lnTo>
                    <a:pt x="168" y="86"/>
                  </a:lnTo>
                  <a:lnTo>
                    <a:pt x="168" y="18"/>
                  </a:lnTo>
                  <a:lnTo>
                    <a:pt x="171" y="15"/>
                  </a:lnTo>
                  <a:lnTo>
                    <a:pt x="171" y="11"/>
                  </a:lnTo>
                  <a:lnTo>
                    <a:pt x="171" y="15"/>
                  </a:lnTo>
                  <a:lnTo>
                    <a:pt x="175" y="15"/>
                  </a:lnTo>
                  <a:lnTo>
                    <a:pt x="178" y="15"/>
                  </a:lnTo>
                  <a:lnTo>
                    <a:pt x="182" y="15"/>
                  </a:lnTo>
                  <a:lnTo>
                    <a:pt x="185" y="18"/>
                  </a:lnTo>
                  <a:lnTo>
                    <a:pt x="185" y="57"/>
                  </a:lnTo>
                  <a:lnTo>
                    <a:pt x="189" y="65"/>
                  </a:lnTo>
                  <a:lnTo>
                    <a:pt x="189" y="57"/>
                  </a:lnTo>
                  <a:lnTo>
                    <a:pt x="189" y="139"/>
                  </a:lnTo>
                  <a:lnTo>
                    <a:pt x="193" y="164"/>
                  </a:lnTo>
                  <a:lnTo>
                    <a:pt x="193" y="335"/>
                  </a:lnTo>
                  <a:lnTo>
                    <a:pt x="193" y="332"/>
                  </a:lnTo>
                  <a:lnTo>
                    <a:pt x="200" y="332"/>
                  </a:lnTo>
                  <a:lnTo>
                    <a:pt x="196" y="332"/>
                  </a:lnTo>
                  <a:lnTo>
                    <a:pt x="200" y="328"/>
                  </a:lnTo>
                  <a:lnTo>
                    <a:pt x="203" y="321"/>
                  </a:lnTo>
                  <a:lnTo>
                    <a:pt x="203" y="186"/>
                  </a:lnTo>
                  <a:lnTo>
                    <a:pt x="207" y="175"/>
                  </a:lnTo>
                  <a:lnTo>
                    <a:pt x="207" y="93"/>
                  </a:lnTo>
                  <a:lnTo>
                    <a:pt x="210" y="79"/>
                  </a:lnTo>
                  <a:lnTo>
                    <a:pt x="210" y="36"/>
                  </a:lnTo>
                  <a:lnTo>
                    <a:pt x="214" y="29"/>
                  </a:lnTo>
                  <a:lnTo>
                    <a:pt x="214" y="0"/>
                  </a:lnTo>
                  <a:lnTo>
                    <a:pt x="217" y="4"/>
                  </a:lnTo>
                  <a:lnTo>
                    <a:pt x="217" y="0"/>
                  </a:lnTo>
                  <a:lnTo>
                    <a:pt x="217" y="4"/>
                  </a:lnTo>
                  <a:lnTo>
                    <a:pt x="221" y="4"/>
                  </a:lnTo>
                  <a:lnTo>
                    <a:pt x="228" y="4"/>
                  </a:lnTo>
                  <a:lnTo>
                    <a:pt x="228" y="36"/>
                  </a:lnTo>
                  <a:lnTo>
                    <a:pt x="232" y="43"/>
                  </a:lnTo>
                  <a:lnTo>
                    <a:pt x="232" y="89"/>
                  </a:lnTo>
                  <a:lnTo>
                    <a:pt x="235" y="107"/>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5934960" y="3353760"/>
              <a:ext cx="356040" cy="835200"/>
            </a:xfrm>
            <a:custGeom>
              <a:avLst/>
              <a:gdLst/>
              <a:ahLst/>
              <a:rect l="l" t="t" r="r" b="b"/>
              <a:pathLst>
                <a:path w="232" h="481">
                  <a:moveTo>
                    <a:pt x="0" y="107"/>
                  </a:moveTo>
                  <a:lnTo>
                    <a:pt x="0" y="314"/>
                  </a:lnTo>
                  <a:lnTo>
                    <a:pt x="4" y="317"/>
                  </a:lnTo>
                  <a:lnTo>
                    <a:pt x="4" y="321"/>
                  </a:lnTo>
                  <a:lnTo>
                    <a:pt x="4" y="314"/>
                  </a:lnTo>
                  <a:lnTo>
                    <a:pt x="7" y="317"/>
                  </a:lnTo>
                  <a:lnTo>
                    <a:pt x="7" y="310"/>
                  </a:lnTo>
                  <a:lnTo>
                    <a:pt x="11" y="307"/>
                  </a:lnTo>
                  <a:lnTo>
                    <a:pt x="11" y="214"/>
                  </a:lnTo>
                  <a:lnTo>
                    <a:pt x="15" y="196"/>
                  </a:lnTo>
                  <a:lnTo>
                    <a:pt x="15" y="72"/>
                  </a:lnTo>
                  <a:lnTo>
                    <a:pt x="18" y="68"/>
                  </a:lnTo>
                  <a:lnTo>
                    <a:pt x="18" y="82"/>
                  </a:lnTo>
                  <a:lnTo>
                    <a:pt x="18" y="25"/>
                  </a:lnTo>
                  <a:lnTo>
                    <a:pt x="22" y="18"/>
                  </a:lnTo>
                  <a:lnTo>
                    <a:pt x="22" y="4"/>
                  </a:lnTo>
                  <a:lnTo>
                    <a:pt x="29" y="11"/>
                  </a:lnTo>
                  <a:lnTo>
                    <a:pt x="29" y="15"/>
                  </a:lnTo>
                  <a:lnTo>
                    <a:pt x="29" y="11"/>
                  </a:lnTo>
                  <a:lnTo>
                    <a:pt x="32" y="11"/>
                  </a:lnTo>
                  <a:lnTo>
                    <a:pt x="36" y="11"/>
                  </a:lnTo>
                  <a:lnTo>
                    <a:pt x="39" y="15"/>
                  </a:lnTo>
                  <a:lnTo>
                    <a:pt x="39" y="50"/>
                  </a:lnTo>
                  <a:lnTo>
                    <a:pt x="43" y="54"/>
                  </a:lnTo>
                  <a:lnTo>
                    <a:pt x="43" y="50"/>
                  </a:lnTo>
                  <a:lnTo>
                    <a:pt x="43" y="139"/>
                  </a:lnTo>
                  <a:lnTo>
                    <a:pt x="47" y="161"/>
                  </a:lnTo>
                  <a:lnTo>
                    <a:pt x="47" y="317"/>
                  </a:lnTo>
                  <a:lnTo>
                    <a:pt x="47" y="314"/>
                  </a:lnTo>
                  <a:lnTo>
                    <a:pt x="54" y="321"/>
                  </a:lnTo>
                  <a:lnTo>
                    <a:pt x="54" y="325"/>
                  </a:lnTo>
                  <a:lnTo>
                    <a:pt x="54" y="314"/>
                  </a:lnTo>
                  <a:lnTo>
                    <a:pt x="57" y="307"/>
                  </a:lnTo>
                  <a:lnTo>
                    <a:pt x="57" y="136"/>
                  </a:lnTo>
                  <a:lnTo>
                    <a:pt x="61" y="125"/>
                  </a:lnTo>
                  <a:lnTo>
                    <a:pt x="61" y="72"/>
                  </a:lnTo>
                  <a:lnTo>
                    <a:pt x="61" y="82"/>
                  </a:lnTo>
                  <a:lnTo>
                    <a:pt x="64" y="89"/>
                  </a:lnTo>
                  <a:lnTo>
                    <a:pt x="64" y="0"/>
                  </a:lnTo>
                  <a:lnTo>
                    <a:pt x="68" y="0"/>
                  </a:lnTo>
                  <a:lnTo>
                    <a:pt x="72" y="4"/>
                  </a:lnTo>
                  <a:lnTo>
                    <a:pt x="75" y="4"/>
                  </a:lnTo>
                  <a:lnTo>
                    <a:pt x="79" y="4"/>
                  </a:lnTo>
                  <a:lnTo>
                    <a:pt x="82" y="4"/>
                  </a:lnTo>
                  <a:lnTo>
                    <a:pt x="82" y="11"/>
                  </a:lnTo>
                  <a:lnTo>
                    <a:pt x="86" y="18"/>
                  </a:lnTo>
                  <a:lnTo>
                    <a:pt x="86" y="61"/>
                  </a:lnTo>
                  <a:lnTo>
                    <a:pt x="89" y="75"/>
                  </a:lnTo>
                  <a:lnTo>
                    <a:pt x="89" y="481"/>
                  </a:lnTo>
                  <a:lnTo>
                    <a:pt x="89" y="325"/>
                  </a:lnTo>
                  <a:lnTo>
                    <a:pt x="93" y="321"/>
                  </a:lnTo>
                  <a:lnTo>
                    <a:pt x="93" y="317"/>
                  </a:lnTo>
                  <a:lnTo>
                    <a:pt x="93" y="321"/>
                  </a:lnTo>
                  <a:lnTo>
                    <a:pt x="96" y="325"/>
                  </a:lnTo>
                  <a:lnTo>
                    <a:pt x="100" y="328"/>
                  </a:lnTo>
                  <a:lnTo>
                    <a:pt x="100" y="335"/>
                  </a:lnTo>
                  <a:lnTo>
                    <a:pt x="100" y="271"/>
                  </a:lnTo>
                  <a:lnTo>
                    <a:pt x="104" y="250"/>
                  </a:lnTo>
                  <a:lnTo>
                    <a:pt x="104" y="125"/>
                  </a:lnTo>
                  <a:lnTo>
                    <a:pt x="107" y="118"/>
                  </a:lnTo>
                  <a:lnTo>
                    <a:pt x="107" y="82"/>
                  </a:lnTo>
                  <a:lnTo>
                    <a:pt x="107" y="86"/>
                  </a:lnTo>
                  <a:lnTo>
                    <a:pt x="111" y="79"/>
                  </a:lnTo>
                  <a:lnTo>
                    <a:pt x="111" y="4"/>
                  </a:lnTo>
                  <a:lnTo>
                    <a:pt x="114" y="0"/>
                  </a:lnTo>
                  <a:lnTo>
                    <a:pt x="114" y="4"/>
                  </a:lnTo>
                  <a:lnTo>
                    <a:pt x="114" y="0"/>
                  </a:lnTo>
                  <a:lnTo>
                    <a:pt x="118" y="0"/>
                  </a:lnTo>
                  <a:lnTo>
                    <a:pt x="121" y="4"/>
                  </a:lnTo>
                  <a:lnTo>
                    <a:pt x="125" y="4"/>
                  </a:lnTo>
                  <a:lnTo>
                    <a:pt x="129" y="4"/>
                  </a:lnTo>
                  <a:lnTo>
                    <a:pt x="129" y="68"/>
                  </a:lnTo>
                  <a:lnTo>
                    <a:pt x="129" y="65"/>
                  </a:lnTo>
                  <a:lnTo>
                    <a:pt x="132" y="61"/>
                  </a:lnTo>
                  <a:lnTo>
                    <a:pt x="132" y="57"/>
                  </a:lnTo>
                  <a:lnTo>
                    <a:pt x="132" y="196"/>
                  </a:lnTo>
                  <a:lnTo>
                    <a:pt x="136" y="211"/>
                  </a:lnTo>
                  <a:lnTo>
                    <a:pt x="136" y="339"/>
                  </a:lnTo>
                  <a:lnTo>
                    <a:pt x="136" y="328"/>
                  </a:lnTo>
                  <a:lnTo>
                    <a:pt x="143" y="321"/>
                  </a:lnTo>
                  <a:lnTo>
                    <a:pt x="143" y="310"/>
                  </a:lnTo>
                  <a:lnTo>
                    <a:pt x="146" y="307"/>
                  </a:lnTo>
                  <a:lnTo>
                    <a:pt x="146" y="310"/>
                  </a:lnTo>
                  <a:lnTo>
                    <a:pt x="146" y="296"/>
                  </a:lnTo>
                  <a:lnTo>
                    <a:pt x="150" y="282"/>
                  </a:lnTo>
                  <a:lnTo>
                    <a:pt x="150" y="97"/>
                  </a:lnTo>
                  <a:lnTo>
                    <a:pt x="153" y="89"/>
                  </a:lnTo>
                  <a:lnTo>
                    <a:pt x="153" y="72"/>
                  </a:lnTo>
                  <a:lnTo>
                    <a:pt x="157" y="61"/>
                  </a:lnTo>
                  <a:lnTo>
                    <a:pt x="157" y="4"/>
                  </a:lnTo>
                  <a:lnTo>
                    <a:pt x="161" y="8"/>
                  </a:lnTo>
                  <a:lnTo>
                    <a:pt x="164" y="8"/>
                  </a:lnTo>
                  <a:lnTo>
                    <a:pt x="168" y="8"/>
                  </a:lnTo>
                  <a:lnTo>
                    <a:pt x="171" y="11"/>
                  </a:lnTo>
                  <a:lnTo>
                    <a:pt x="171" y="22"/>
                  </a:lnTo>
                  <a:lnTo>
                    <a:pt x="175" y="33"/>
                  </a:lnTo>
                  <a:lnTo>
                    <a:pt x="175" y="104"/>
                  </a:lnTo>
                  <a:lnTo>
                    <a:pt x="178" y="129"/>
                  </a:lnTo>
                  <a:lnTo>
                    <a:pt x="178" y="339"/>
                  </a:lnTo>
                  <a:lnTo>
                    <a:pt x="178" y="332"/>
                  </a:lnTo>
                  <a:lnTo>
                    <a:pt x="182" y="325"/>
                  </a:lnTo>
                  <a:lnTo>
                    <a:pt x="182" y="317"/>
                  </a:lnTo>
                  <a:lnTo>
                    <a:pt x="182" y="321"/>
                  </a:lnTo>
                  <a:lnTo>
                    <a:pt x="186" y="317"/>
                  </a:lnTo>
                  <a:lnTo>
                    <a:pt x="186" y="307"/>
                  </a:lnTo>
                  <a:lnTo>
                    <a:pt x="189" y="300"/>
                  </a:lnTo>
                  <a:lnTo>
                    <a:pt x="189" y="154"/>
                  </a:lnTo>
                  <a:lnTo>
                    <a:pt x="193" y="143"/>
                  </a:lnTo>
                  <a:lnTo>
                    <a:pt x="193" y="79"/>
                  </a:lnTo>
                  <a:lnTo>
                    <a:pt x="193" y="82"/>
                  </a:lnTo>
                  <a:lnTo>
                    <a:pt x="196" y="86"/>
                  </a:lnTo>
                  <a:lnTo>
                    <a:pt x="196" y="8"/>
                  </a:lnTo>
                  <a:lnTo>
                    <a:pt x="200" y="4"/>
                  </a:lnTo>
                  <a:lnTo>
                    <a:pt x="207" y="4"/>
                  </a:lnTo>
                  <a:lnTo>
                    <a:pt x="203" y="4"/>
                  </a:lnTo>
                  <a:lnTo>
                    <a:pt x="207" y="4"/>
                  </a:lnTo>
                  <a:lnTo>
                    <a:pt x="210" y="4"/>
                  </a:lnTo>
                  <a:lnTo>
                    <a:pt x="214" y="8"/>
                  </a:lnTo>
                  <a:lnTo>
                    <a:pt x="218" y="11"/>
                  </a:lnTo>
                  <a:lnTo>
                    <a:pt x="218" y="57"/>
                  </a:lnTo>
                  <a:lnTo>
                    <a:pt x="221" y="61"/>
                  </a:lnTo>
                  <a:lnTo>
                    <a:pt x="221" y="307"/>
                  </a:lnTo>
                  <a:lnTo>
                    <a:pt x="225" y="321"/>
                  </a:lnTo>
                  <a:lnTo>
                    <a:pt x="225" y="328"/>
                  </a:lnTo>
                  <a:lnTo>
                    <a:pt x="225" y="317"/>
                  </a:lnTo>
                  <a:lnTo>
                    <a:pt x="225" y="321"/>
                  </a:lnTo>
                  <a:lnTo>
                    <a:pt x="228" y="317"/>
                  </a:lnTo>
                  <a:lnTo>
                    <a:pt x="232" y="314"/>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6291000" y="3353760"/>
              <a:ext cx="353880" cy="835200"/>
            </a:xfrm>
            <a:custGeom>
              <a:avLst/>
              <a:gdLst/>
              <a:ahLst/>
              <a:rect l="l" t="t" r="r" b="b"/>
              <a:pathLst>
                <a:path w="231" h="481">
                  <a:moveTo>
                    <a:pt x="0" y="314"/>
                  </a:moveTo>
                  <a:lnTo>
                    <a:pt x="0" y="200"/>
                  </a:lnTo>
                  <a:lnTo>
                    <a:pt x="3" y="182"/>
                  </a:lnTo>
                  <a:lnTo>
                    <a:pt x="3" y="68"/>
                  </a:lnTo>
                  <a:lnTo>
                    <a:pt x="7" y="79"/>
                  </a:lnTo>
                  <a:lnTo>
                    <a:pt x="7" y="86"/>
                  </a:lnTo>
                  <a:lnTo>
                    <a:pt x="7" y="25"/>
                  </a:lnTo>
                  <a:lnTo>
                    <a:pt x="11" y="15"/>
                  </a:lnTo>
                  <a:lnTo>
                    <a:pt x="11" y="0"/>
                  </a:lnTo>
                  <a:lnTo>
                    <a:pt x="14" y="0"/>
                  </a:lnTo>
                  <a:lnTo>
                    <a:pt x="18" y="0"/>
                  </a:lnTo>
                  <a:lnTo>
                    <a:pt x="21" y="0"/>
                  </a:lnTo>
                  <a:lnTo>
                    <a:pt x="25" y="0"/>
                  </a:lnTo>
                  <a:lnTo>
                    <a:pt x="28" y="4"/>
                  </a:lnTo>
                  <a:lnTo>
                    <a:pt x="28" y="43"/>
                  </a:lnTo>
                  <a:lnTo>
                    <a:pt x="32" y="54"/>
                  </a:lnTo>
                  <a:lnTo>
                    <a:pt x="32" y="114"/>
                  </a:lnTo>
                  <a:lnTo>
                    <a:pt x="35" y="136"/>
                  </a:lnTo>
                  <a:lnTo>
                    <a:pt x="35" y="481"/>
                  </a:lnTo>
                  <a:lnTo>
                    <a:pt x="35" y="328"/>
                  </a:lnTo>
                  <a:lnTo>
                    <a:pt x="39" y="325"/>
                  </a:lnTo>
                  <a:lnTo>
                    <a:pt x="39" y="321"/>
                  </a:lnTo>
                  <a:lnTo>
                    <a:pt x="39" y="325"/>
                  </a:lnTo>
                  <a:lnTo>
                    <a:pt x="43" y="321"/>
                  </a:lnTo>
                  <a:lnTo>
                    <a:pt x="43" y="317"/>
                  </a:lnTo>
                  <a:lnTo>
                    <a:pt x="46" y="310"/>
                  </a:lnTo>
                  <a:lnTo>
                    <a:pt x="46" y="164"/>
                  </a:lnTo>
                  <a:lnTo>
                    <a:pt x="50" y="150"/>
                  </a:lnTo>
                  <a:lnTo>
                    <a:pt x="50" y="68"/>
                  </a:lnTo>
                  <a:lnTo>
                    <a:pt x="50" y="75"/>
                  </a:lnTo>
                  <a:lnTo>
                    <a:pt x="53" y="79"/>
                  </a:lnTo>
                  <a:lnTo>
                    <a:pt x="53" y="86"/>
                  </a:lnTo>
                  <a:lnTo>
                    <a:pt x="53" y="4"/>
                  </a:lnTo>
                  <a:lnTo>
                    <a:pt x="57" y="0"/>
                  </a:lnTo>
                  <a:lnTo>
                    <a:pt x="60" y="4"/>
                  </a:lnTo>
                  <a:lnTo>
                    <a:pt x="60" y="0"/>
                  </a:lnTo>
                  <a:lnTo>
                    <a:pt x="60" y="4"/>
                  </a:lnTo>
                  <a:lnTo>
                    <a:pt x="64" y="4"/>
                  </a:lnTo>
                  <a:lnTo>
                    <a:pt x="68" y="4"/>
                  </a:lnTo>
                  <a:lnTo>
                    <a:pt x="71" y="8"/>
                  </a:lnTo>
                  <a:lnTo>
                    <a:pt x="75" y="15"/>
                  </a:lnTo>
                  <a:lnTo>
                    <a:pt x="75" y="68"/>
                  </a:lnTo>
                  <a:lnTo>
                    <a:pt x="78" y="65"/>
                  </a:lnTo>
                  <a:lnTo>
                    <a:pt x="78" y="293"/>
                  </a:lnTo>
                  <a:lnTo>
                    <a:pt x="82" y="310"/>
                  </a:lnTo>
                  <a:lnTo>
                    <a:pt x="82" y="328"/>
                  </a:lnTo>
                  <a:lnTo>
                    <a:pt x="82" y="321"/>
                  </a:lnTo>
                  <a:lnTo>
                    <a:pt x="89" y="321"/>
                  </a:lnTo>
                  <a:lnTo>
                    <a:pt x="85" y="321"/>
                  </a:lnTo>
                  <a:lnTo>
                    <a:pt x="89" y="239"/>
                  </a:lnTo>
                  <a:lnTo>
                    <a:pt x="92" y="225"/>
                  </a:lnTo>
                  <a:lnTo>
                    <a:pt x="92" y="86"/>
                  </a:lnTo>
                  <a:lnTo>
                    <a:pt x="96" y="75"/>
                  </a:lnTo>
                  <a:lnTo>
                    <a:pt x="96" y="82"/>
                  </a:lnTo>
                  <a:lnTo>
                    <a:pt x="96" y="57"/>
                  </a:lnTo>
                  <a:lnTo>
                    <a:pt x="100" y="47"/>
                  </a:lnTo>
                  <a:lnTo>
                    <a:pt x="100" y="4"/>
                  </a:lnTo>
                  <a:lnTo>
                    <a:pt x="103" y="4"/>
                  </a:lnTo>
                  <a:lnTo>
                    <a:pt x="107" y="4"/>
                  </a:lnTo>
                  <a:lnTo>
                    <a:pt x="110" y="4"/>
                  </a:lnTo>
                  <a:lnTo>
                    <a:pt x="110" y="0"/>
                  </a:lnTo>
                  <a:lnTo>
                    <a:pt x="110" y="4"/>
                  </a:lnTo>
                  <a:lnTo>
                    <a:pt x="114" y="4"/>
                  </a:lnTo>
                  <a:lnTo>
                    <a:pt x="117" y="8"/>
                  </a:lnTo>
                  <a:lnTo>
                    <a:pt x="117" y="57"/>
                  </a:lnTo>
                  <a:lnTo>
                    <a:pt x="121" y="61"/>
                  </a:lnTo>
                  <a:lnTo>
                    <a:pt x="121" y="225"/>
                  </a:lnTo>
                  <a:lnTo>
                    <a:pt x="125" y="253"/>
                  </a:lnTo>
                  <a:lnTo>
                    <a:pt x="125" y="317"/>
                  </a:lnTo>
                  <a:lnTo>
                    <a:pt x="125" y="314"/>
                  </a:lnTo>
                  <a:lnTo>
                    <a:pt x="132" y="321"/>
                  </a:lnTo>
                  <a:lnTo>
                    <a:pt x="128" y="321"/>
                  </a:lnTo>
                  <a:lnTo>
                    <a:pt x="132" y="300"/>
                  </a:lnTo>
                  <a:lnTo>
                    <a:pt x="135" y="289"/>
                  </a:lnTo>
                  <a:lnTo>
                    <a:pt x="135" y="122"/>
                  </a:lnTo>
                  <a:lnTo>
                    <a:pt x="139" y="111"/>
                  </a:lnTo>
                  <a:lnTo>
                    <a:pt x="139" y="68"/>
                  </a:lnTo>
                  <a:lnTo>
                    <a:pt x="139" y="82"/>
                  </a:lnTo>
                  <a:lnTo>
                    <a:pt x="142" y="82"/>
                  </a:lnTo>
                  <a:lnTo>
                    <a:pt x="142" y="4"/>
                  </a:lnTo>
                  <a:lnTo>
                    <a:pt x="149" y="4"/>
                  </a:lnTo>
                  <a:lnTo>
                    <a:pt x="146" y="4"/>
                  </a:lnTo>
                  <a:lnTo>
                    <a:pt x="149" y="4"/>
                  </a:lnTo>
                  <a:lnTo>
                    <a:pt x="153" y="4"/>
                  </a:lnTo>
                  <a:lnTo>
                    <a:pt x="157" y="4"/>
                  </a:lnTo>
                  <a:lnTo>
                    <a:pt x="160" y="8"/>
                  </a:lnTo>
                  <a:lnTo>
                    <a:pt x="160" y="33"/>
                  </a:lnTo>
                  <a:lnTo>
                    <a:pt x="164" y="40"/>
                  </a:lnTo>
                  <a:lnTo>
                    <a:pt x="164" y="86"/>
                  </a:lnTo>
                  <a:lnTo>
                    <a:pt x="167" y="111"/>
                  </a:lnTo>
                  <a:lnTo>
                    <a:pt x="167" y="335"/>
                  </a:lnTo>
                  <a:lnTo>
                    <a:pt x="171" y="332"/>
                  </a:lnTo>
                  <a:lnTo>
                    <a:pt x="171" y="317"/>
                  </a:lnTo>
                  <a:lnTo>
                    <a:pt x="171" y="325"/>
                  </a:lnTo>
                  <a:lnTo>
                    <a:pt x="178" y="317"/>
                  </a:lnTo>
                  <a:lnTo>
                    <a:pt x="178" y="260"/>
                  </a:lnTo>
                  <a:lnTo>
                    <a:pt x="182" y="243"/>
                  </a:lnTo>
                  <a:lnTo>
                    <a:pt x="182" y="82"/>
                  </a:lnTo>
                  <a:lnTo>
                    <a:pt x="185" y="72"/>
                  </a:lnTo>
                  <a:lnTo>
                    <a:pt x="185" y="82"/>
                  </a:lnTo>
                  <a:lnTo>
                    <a:pt x="185" y="57"/>
                  </a:lnTo>
                  <a:lnTo>
                    <a:pt x="189" y="43"/>
                  </a:lnTo>
                  <a:lnTo>
                    <a:pt x="189" y="4"/>
                  </a:lnTo>
                  <a:lnTo>
                    <a:pt x="192" y="8"/>
                  </a:lnTo>
                  <a:lnTo>
                    <a:pt x="192" y="4"/>
                  </a:lnTo>
                  <a:lnTo>
                    <a:pt x="199" y="8"/>
                  </a:lnTo>
                  <a:lnTo>
                    <a:pt x="199" y="4"/>
                  </a:lnTo>
                  <a:lnTo>
                    <a:pt x="203" y="8"/>
                  </a:lnTo>
                  <a:lnTo>
                    <a:pt x="203" y="4"/>
                  </a:lnTo>
                  <a:lnTo>
                    <a:pt x="206" y="8"/>
                  </a:lnTo>
                  <a:lnTo>
                    <a:pt x="206" y="54"/>
                  </a:lnTo>
                  <a:lnTo>
                    <a:pt x="206" y="50"/>
                  </a:lnTo>
                  <a:lnTo>
                    <a:pt x="210" y="54"/>
                  </a:lnTo>
                  <a:lnTo>
                    <a:pt x="210" y="481"/>
                  </a:lnTo>
                  <a:lnTo>
                    <a:pt x="210" y="310"/>
                  </a:lnTo>
                  <a:lnTo>
                    <a:pt x="214" y="325"/>
                  </a:lnTo>
                  <a:lnTo>
                    <a:pt x="214" y="332"/>
                  </a:lnTo>
                  <a:lnTo>
                    <a:pt x="214" y="325"/>
                  </a:lnTo>
                  <a:lnTo>
                    <a:pt x="217" y="328"/>
                  </a:lnTo>
                  <a:lnTo>
                    <a:pt x="221" y="325"/>
                  </a:lnTo>
                  <a:lnTo>
                    <a:pt x="221" y="268"/>
                  </a:lnTo>
                  <a:lnTo>
                    <a:pt x="224" y="250"/>
                  </a:lnTo>
                  <a:lnTo>
                    <a:pt x="224" y="86"/>
                  </a:lnTo>
                  <a:lnTo>
                    <a:pt x="228" y="79"/>
                  </a:lnTo>
                  <a:lnTo>
                    <a:pt x="228" y="93"/>
                  </a:lnTo>
                  <a:lnTo>
                    <a:pt x="228" y="50"/>
                  </a:lnTo>
                  <a:lnTo>
                    <a:pt x="231" y="36"/>
                  </a:lnTo>
                  <a:lnTo>
                    <a:pt x="231" y="4"/>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6644880" y="3353760"/>
              <a:ext cx="372960" cy="835200"/>
            </a:xfrm>
            <a:custGeom>
              <a:avLst/>
              <a:gdLst/>
              <a:ahLst/>
              <a:rect l="l" t="t" r="r" b="b"/>
              <a:pathLst>
                <a:path w="243" h="481">
                  <a:moveTo>
                    <a:pt x="0" y="4"/>
                  </a:moveTo>
                  <a:lnTo>
                    <a:pt x="4" y="8"/>
                  </a:lnTo>
                  <a:lnTo>
                    <a:pt x="8" y="8"/>
                  </a:lnTo>
                  <a:lnTo>
                    <a:pt x="11" y="8"/>
                  </a:lnTo>
                  <a:lnTo>
                    <a:pt x="15" y="11"/>
                  </a:lnTo>
                  <a:lnTo>
                    <a:pt x="15" y="8"/>
                  </a:lnTo>
                  <a:lnTo>
                    <a:pt x="15" y="11"/>
                  </a:lnTo>
                  <a:lnTo>
                    <a:pt x="18" y="11"/>
                  </a:lnTo>
                  <a:lnTo>
                    <a:pt x="18" y="25"/>
                  </a:lnTo>
                  <a:lnTo>
                    <a:pt x="22" y="40"/>
                  </a:lnTo>
                  <a:lnTo>
                    <a:pt x="22" y="100"/>
                  </a:lnTo>
                  <a:lnTo>
                    <a:pt x="25" y="125"/>
                  </a:lnTo>
                  <a:lnTo>
                    <a:pt x="25" y="481"/>
                  </a:lnTo>
                  <a:lnTo>
                    <a:pt x="25" y="328"/>
                  </a:lnTo>
                  <a:lnTo>
                    <a:pt x="29" y="325"/>
                  </a:lnTo>
                  <a:lnTo>
                    <a:pt x="32" y="321"/>
                  </a:lnTo>
                  <a:lnTo>
                    <a:pt x="32" y="314"/>
                  </a:lnTo>
                  <a:lnTo>
                    <a:pt x="36" y="317"/>
                  </a:lnTo>
                  <a:lnTo>
                    <a:pt x="36" y="214"/>
                  </a:lnTo>
                  <a:lnTo>
                    <a:pt x="40" y="193"/>
                  </a:lnTo>
                  <a:lnTo>
                    <a:pt x="40" y="72"/>
                  </a:lnTo>
                  <a:lnTo>
                    <a:pt x="43" y="65"/>
                  </a:lnTo>
                  <a:lnTo>
                    <a:pt x="43" y="86"/>
                  </a:lnTo>
                  <a:lnTo>
                    <a:pt x="43" y="43"/>
                  </a:lnTo>
                  <a:lnTo>
                    <a:pt x="47" y="29"/>
                  </a:lnTo>
                  <a:lnTo>
                    <a:pt x="47" y="0"/>
                  </a:lnTo>
                  <a:lnTo>
                    <a:pt x="47" y="4"/>
                  </a:lnTo>
                  <a:lnTo>
                    <a:pt x="50" y="8"/>
                  </a:lnTo>
                  <a:lnTo>
                    <a:pt x="50" y="4"/>
                  </a:lnTo>
                  <a:lnTo>
                    <a:pt x="50" y="8"/>
                  </a:lnTo>
                  <a:lnTo>
                    <a:pt x="57" y="8"/>
                  </a:lnTo>
                  <a:lnTo>
                    <a:pt x="54" y="8"/>
                  </a:lnTo>
                  <a:lnTo>
                    <a:pt x="57" y="8"/>
                  </a:lnTo>
                  <a:lnTo>
                    <a:pt x="61" y="8"/>
                  </a:lnTo>
                  <a:lnTo>
                    <a:pt x="65" y="11"/>
                  </a:lnTo>
                  <a:lnTo>
                    <a:pt x="65" y="57"/>
                  </a:lnTo>
                  <a:lnTo>
                    <a:pt x="65" y="54"/>
                  </a:lnTo>
                  <a:lnTo>
                    <a:pt x="68" y="57"/>
                  </a:lnTo>
                  <a:lnTo>
                    <a:pt x="68" y="481"/>
                  </a:lnTo>
                  <a:lnTo>
                    <a:pt x="68" y="328"/>
                  </a:lnTo>
                  <a:lnTo>
                    <a:pt x="72" y="339"/>
                  </a:lnTo>
                  <a:lnTo>
                    <a:pt x="72" y="325"/>
                  </a:lnTo>
                  <a:lnTo>
                    <a:pt x="79" y="325"/>
                  </a:lnTo>
                  <a:lnTo>
                    <a:pt x="79" y="285"/>
                  </a:lnTo>
                  <a:lnTo>
                    <a:pt x="82" y="275"/>
                  </a:lnTo>
                  <a:lnTo>
                    <a:pt x="82" y="97"/>
                  </a:lnTo>
                  <a:lnTo>
                    <a:pt x="86" y="89"/>
                  </a:lnTo>
                  <a:lnTo>
                    <a:pt x="86" y="68"/>
                  </a:lnTo>
                  <a:lnTo>
                    <a:pt x="86" y="82"/>
                  </a:lnTo>
                  <a:lnTo>
                    <a:pt x="89" y="79"/>
                  </a:lnTo>
                  <a:lnTo>
                    <a:pt x="89" y="4"/>
                  </a:lnTo>
                  <a:lnTo>
                    <a:pt x="93" y="8"/>
                  </a:lnTo>
                  <a:lnTo>
                    <a:pt x="97" y="8"/>
                  </a:lnTo>
                  <a:lnTo>
                    <a:pt x="100" y="11"/>
                  </a:lnTo>
                  <a:lnTo>
                    <a:pt x="104" y="11"/>
                  </a:lnTo>
                  <a:lnTo>
                    <a:pt x="107" y="15"/>
                  </a:lnTo>
                  <a:lnTo>
                    <a:pt x="107" y="65"/>
                  </a:lnTo>
                  <a:lnTo>
                    <a:pt x="111" y="68"/>
                  </a:lnTo>
                  <a:lnTo>
                    <a:pt x="111" y="54"/>
                  </a:lnTo>
                  <a:lnTo>
                    <a:pt x="111" y="193"/>
                  </a:lnTo>
                  <a:lnTo>
                    <a:pt x="114" y="221"/>
                  </a:lnTo>
                  <a:lnTo>
                    <a:pt x="114" y="332"/>
                  </a:lnTo>
                  <a:lnTo>
                    <a:pt x="114" y="317"/>
                  </a:lnTo>
                  <a:lnTo>
                    <a:pt x="122" y="325"/>
                  </a:lnTo>
                  <a:lnTo>
                    <a:pt x="118" y="325"/>
                  </a:lnTo>
                  <a:lnTo>
                    <a:pt x="122" y="268"/>
                  </a:lnTo>
                  <a:lnTo>
                    <a:pt x="125" y="253"/>
                  </a:lnTo>
                  <a:lnTo>
                    <a:pt x="125" y="93"/>
                  </a:lnTo>
                  <a:lnTo>
                    <a:pt x="129" y="86"/>
                  </a:lnTo>
                  <a:lnTo>
                    <a:pt x="129" y="65"/>
                  </a:lnTo>
                  <a:lnTo>
                    <a:pt x="129" y="79"/>
                  </a:lnTo>
                  <a:lnTo>
                    <a:pt x="132" y="75"/>
                  </a:lnTo>
                  <a:lnTo>
                    <a:pt x="132" y="8"/>
                  </a:lnTo>
                  <a:lnTo>
                    <a:pt x="136" y="11"/>
                  </a:lnTo>
                  <a:lnTo>
                    <a:pt x="139" y="11"/>
                  </a:lnTo>
                  <a:lnTo>
                    <a:pt x="143" y="11"/>
                  </a:lnTo>
                  <a:lnTo>
                    <a:pt x="146" y="11"/>
                  </a:lnTo>
                  <a:lnTo>
                    <a:pt x="150" y="22"/>
                  </a:lnTo>
                  <a:lnTo>
                    <a:pt x="150" y="33"/>
                  </a:lnTo>
                  <a:lnTo>
                    <a:pt x="154" y="43"/>
                  </a:lnTo>
                  <a:lnTo>
                    <a:pt x="154" y="129"/>
                  </a:lnTo>
                  <a:lnTo>
                    <a:pt x="157" y="161"/>
                  </a:lnTo>
                  <a:lnTo>
                    <a:pt x="157" y="335"/>
                  </a:lnTo>
                  <a:lnTo>
                    <a:pt x="157" y="328"/>
                  </a:lnTo>
                  <a:lnTo>
                    <a:pt x="161" y="328"/>
                  </a:lnTo>
                  <a:lnTo>
                    <a:pt x="164" y="328"/>
                  </a:lnTo>
                  <a:lnTo>
                    <a:pt x="164" y="314"/>
                  </a:lnTo>
                  <a:lnTo>
                    <a:pt x="168" y="300"/>
                  </a:lnTo>
                  <a:lnTo>
                    <a:pt x="168" y="107"/>
                  </a:lnTo>
                  <a:lnTo>
                    <a:pt x="171" y="97"/>
                  </a:lnTo>
                  <a:lnTo>
                    <a:pt x="171" y="65"/>
                  </a:lnTo>
                  <a:lnTo>
                    <a:pt x="171" y="72"/>
                  </a:lnTo>
                  <a:lnTo>
                    <a:pt x="175" y="68"/>
                  </a:lnTo>
                  <a:lnTo>
                    <a:pt x="175" y="11"/>
                  </a:lnTo>
                  <a:lnTo>
                    <a:pt x="182" y="11"/>
                  </a:lnTo>
                  <a:lnTo>
                    <a:pt x="179" y="11"/>
                  </a:lnTo>
                  <a:lnTo>
                    <a:pt x="182" y="11"/>
                  </a:lnTo>
                  <a:lnTo>
                    <a:pt x="186" y="11"/>
                  </a:lnTo>
                  <a:lnTo>
                    <a:pt x="189" y="15"/>
                  </a:lnTo>
                  <a:lnTo>
                    <a:pt x="189" y="22"/>
                  </a:lnTo>
                  <a:lnTo>
                    <a:pt x="193" y="18"/>
                  </a:lnTo>
                  <a:lnTo>
                    <a:pt x="196" y="22"/>
                  </a:lnTo>
                  <a:lnTo>
                    <a:pt x="196" y="57"/>
                  </a:lnTo>
                  <a:lnTo>
                    <a:pt x="196" y="54"/>
                  </a:lnTo>
                  <a:lnTo>
                    <a:pt x="200" y="57"/>
                  </a:lnTo>
                  <a:lnTo>
                    <a:pt x="200" y="307"/>
                  </a:lnTo>
                  <a:lnTo>
                    <a:pt x="203" y="325"/>
                  </a:lnTo>
                  <a:lnTo>
                    <a:pt x="203" y="339"/>
                  </a:lnTo>
                  <a:lnTo>
                    <a:pt x="203" y="328"/>
                  </a:lnTo>
                  <a:lnTo>
                    <a:pt x="207" y="325"/>
                  </a:lnTo>
                  <a:lnTo>
                    <a:pt x="211" y="321"/>
                  </a:lnTo>
                  <a:lnTo>
                    <a:pt x="211" y="232"/>
                  </a:lnTo>
                  <a:lnTo>
                    <a:pt x="214" y="214"/>
                  </a:lnTo>
                  <a:lnTo>
                    <a:pt x="214" y="72"/>
                  </a:lnTo>
                  <a:lnTo>
                    <a:pt x="218" y="68"/>
                  </a:lnTo>
                  <a:lnTo>
                    <a:pt x="218" y="79"/>
                  </a:lnTo>
                  <a:lnTo>
                    <a:pt x="218" y="68"/>
                  </a:lnTo>
                  <a:lnTo>
                    <a:pt x="221" y="61"/>
                  </a:lnTo>
                  <a:lnTo>
                    <a:pt x="221" y="8"/>
                  </a:lnTo>
                  <a:lnTo>
                    <a:pt x="225" y="4"/>
                  </a:lnTo>
                  <a:lnTo>
                    <a:pt x="225" y="8"/>
                  </a:lnTo>
                  <a:lnTo>
                    <a:pt x="225" y="4"/>
                  </a:lnTo>
                  <a:lnTo>
                    <a:pt x="228" y="0"/>
                  </a:lnTo>
                  <a:lnTo>
                    <a:pt x="232" y="4"/>
                  </a:lnTo>
                  <a:lnTo>
                    <a:pt x="236" y="4"/>
                  </a:lnTo>
                  <a:lnTo>
                    <a:pt x="239" y="8"/>
                  </a:lnTo>
                  <a:lnTo>
                    <a:pt x="239" y="54"/>
                  </a:lnTo>
                  <a:lnTo>
                    <a:pt x="243" y="57"/>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7018200" y="3362400"/>
              <a:ext cx="370800" cy="566280"/>
            </a:xfrm>
            <a:custGeom>
              <a:avLst/>
              <a:gdLst/>
              <a:ahLst/>
              <a:rect l="l" t="t" r="r" b="b"/>
              <a:pathLst>
                <a:path w="242" h="328">
                  <a:moveTo>
                    <a:pt x="0" y="53"/>
                  </a:moveTo>
                  <a:lnTo>
                    <a:pt x="0" y="114"/>
                  </a:lnTo>
                  <a:lnTo>
                    <a:pt x="3" y="139"/>
                  </a:lnTo>
                  <a:lnTo>
                    <a:pt x="3" y="328"/>
                  </a:lnTo>
                  <a:lnTo>
                    <a:pt x="3" y="324"/>
                  </a:lnTo>
                  <a:lnTo>
                    <a:pt x="10" y="317"/>
                  </a:lnTo>
                  <a:lnTo>
                    <a:pt x="10" y="271"/>
                  </a:lnTo>
                  <a:lnTo>
                    <a:pt x="14" y="256"/>
                  </a:lnTo>
                  <a:lnTo>
                    <a:pt x="14" y="100"/>
                  </a:lnTo>
                  <a:lnTo>
                    <a:pt x="17" y="89"/>
                  </a:lnTo>
                  <a:lnTo>
                    <a:pt x="17" y="64"/>
                  </a:lnTo>
                  <a:lnTo>
                    <a:pt x="17" y="75"/>
                  </a:lnTo>
                  <a:lnTo>
                    <a:pt x="21" y="71"/>
                  </a:lnTo>
                  <a:lnTo>
                    <a:pt x="21" y="11"/>
                  </a:lnTo>
                  <a:lnTo>
                    <a:pt x="28" y="4"/>
                  </a:lnTo>
                  <a:lnTo>
                    <a:pt x="25" y="4"/>
                  </a:lnTo>
                  <a:lnTo>
                    <a:pt x="28" y="4"/>
                  </a:lnTo>
                  <a:lnTo>
                    <a:pt x="32" y="4"/>
                  </a:lnTo>
                  <a:lnTo>
                    <a:pt x="35" y="4"/>
                  </a:lnTo>
                  <a:lnTo>
                    <a:pt x="39" y="7"/>
                  </a:lnTo>
                  <a:lnTo>
                    <a:pt x="42" y="11"/>
                  </a:lnTo>
                  <a:lnTo>
                    <a:pt x="42" y="57"/>
                  </a:lnTo>
                  <a:lnTo>
                    <a:pt x="46" y="61"/>
                  </a:lnTo>
                  <a:lnTo>
                    <a:pt x="46" y="313"/>
                  </a:lnTo>
                  <a:lnTo>
                    <a:pt x="50" y="321"/>
                  </a:lnTo>
                  <a:lnTo>
                    <a:pt x="50" y="317"/>
                  </a:lnTo>
                  <a:lnTo>
                    <a:pt x="50" y="321"/>
                  </a:lnTo>
                  <a:lnTo>
                    <a:pt x="53" y="317"/>
                  </a:lnTo>
                  <a:lnTo>
                    <a:pt x="53" y="313"/>
                  </a:lnTo>
                  <a:lnTo>
                    <a:pt x="57" y="306"/>
                  </a:lnTo>
                  <a:lnTo>
                    <a:pt x="57" y="153"/>
                  </a:lnTo>
                  <a:lnTo>
                    <a:pt x="60" y="142"/>
                  </a:lnTo>
                  <a:lnTo>
                    <a:pt x="60" y="71"/>
                  </a:lnTo>
                  <a:lnTo>
                    <a:pt x="64" y="68"/>
                  </a:lnTo>
                  <a:lnTo>
                    <a:pt x="64" y="75"/>
                  </a:lnTo>
                  <a:lnTo>
                    <a:pt x="64" y="43"/>
                  </a:lnTo>
                  <a:lnTo>
                    <a:pt x="67" y="32"/>
                  </a:lnTo>
                  <a:lnTo>
                    <a:pt x="67" y="4"/>
                  </a:lnTo>
                  <a:lnTo>
                    <a:pt x="74" y="4"/>
                  </a:lnTo>
                  <a:lnTo>
                    <a:pt x="71" y="4"/>
                  </a:lnTo>
                  <a:lnTo>
                    <a:pt x="74" y="4"/>
                  </a:lnTo>
                  <a:lnTo>
                    <a:pt x="78" y="4"/>
                  </a:lnTo>
                  <a:lnTo>
                    <a:pt x="82" y="4"/>
                  </a:lnTo>
                  <a:lnTo>
                    <a:pt x="85" y="7"/>
                  </a:lnTo>
                  <a:lnTo>
                    <a:pt x="85" y="50"/>
                  </a:lnTo>
                  <a:lnTo>
                    <a:pt x="89" y="57"/>
                  </a:lnTo>
                  <a:lnTo>
                    <a:pt x="89" y="53"/>
                  </a:lnTo>
                  <a:lnTo>
                    <a:pt x="89" y="153"/>
                  </a:lnTo>
                  <a:lnTo>
                    <a:pt x="92" y="178"/>
                  </a:lnTo>
                  <a:lnTo>
                    <a:pt x="92" y="321"/>
                  </a:lnTo>
                  <a:lnTo>
                    <a:pt x="96" y="317"/>
                  </a:lnTo>
                  <a:lnTo>
                    <a:pt x="99" y="313"/>
                  </a:lnTo>
                  <a:lnTo>
                    <a:pt x="99" y="253"/>
                  </a:lnTo>
                  <a:lnTo>
                    <a:pt x="103" y="239"/>
                  </a:lnTo>
                  <a:lnTo>
                    <a:pt x="103" y="107"/>
                  </a:lnTo>
                  <a:lnTo>
                    <a:pt x="107" y="100"/>
                  </a:lnTo>
                  <a:lnTo>
                    <a:pt x="107" y="71"/>
                  </a:lnTo>
                  <a:lnTo>
                    <a:pt x="107" y="82"/>
                  </a:lnTo>
                  <a:lnTo>
                    <a:pt x="110" y="82"/>
                  </a:lnTo>
                  <a:lnTo>
                    <a:pt x="110" y="0"/>
                  </a:lnTo>
                  <a:lnTo>
                    <a:pt x="114" y="0"/>
                  </a:lnTo>
                  <a:lnTo>
                    <a:pt x="117" y="0"/>
                  </a:lnTo>
                  <a:lnTo>
                    <a:pt x="121" y="0"/>
                  </a:lnTo>
                  <a:lnTo>
                    <a:pt x="124" y="0"/>
                  </a:lnTo>
                  <a:lnTo>
                    <a:pt x="128" y="4"/>
                  </a:lnTo>
                  <a:lnTo>
                    <a:pt x="128" y="11"/>
                  </a:lnTo>
                  <a:lnTo>
                    <a:pt x="131" y="21"/>
                  </a:lnTo>
                  <a:lnTo>
                    <a:pt x="131" y="75"/>
                  </a:lnTo>
                  <a:lnTo>
                    <a:pt x="135" y="100"/>
                  </a:lnTo>
                  <a:lnTo>
                    <a:pt x="135" y="321"/>
                  </a:lnTo>
                  <a:lnTo>
                    <a:pt x="139" y="317"/>
                  </a:lnTo>
                  <a:lnTo>
                    <a:pt x="142" y="313"/>
                  </a:lnTo>
                  <a:lnTo>
                    <a:pt x="142" y="292"/>
                  </a:lnTo>
                  <a:lnTo>
                    <a:pt x="146" y="281"/>
                  </a:lnTo>
                  <a:lnTo>
                    <a:pt x="146" y="135"/>
                  </a:lnTo>
                  <a:lnTo>
                    <a:pt x="149" y="128"/>
                  </a:lnTo>
                  <a:lnTo>
                    <a:pt x="149" y="75"/>
                  </a:lnTo>
                  <a:lnTo>
                    <a:pt x="149" y="78"/>
                  </a:lnTo>
                  <a:lnTo>
                    <a:pt x="153" y="82"/>
                  </a:lnTo>
                  <a:lnTo>
                    <a:pt x="153" y="4"/>
                  </a:lnTo>
                  <a:lnTo>
                    <a:pt x="160" y="4"/>
                  </a:lnTo>
                  <a:lnTo>
                    <a:pt x="156" y="4"/>
                  </a:lnTo>
                  <a:lnTo>
                    <a:pt x="160" y="4"/>
                  </a:lnTo>
                  <a:lnTo>
                    <a:pt x="164" y="4"/>
                  </a:lnTo>
                  <a:lnTo>
                    <a:pt x="167" y="4"/>
                  </a:lnTo>
                  <a:lnTo>
                    <a:pt x="171" y="4"/>
                  </a:lnTo>
                  <a:lnTo>
                    <a:pt x="174" y="7"/>
                  </a:lnTo>
                  <a:lnTo>
                    <a:pt x="174" y="53"/>
                  </a:lnTo>
                  <a:lnTo>
                    <a:pt x="178" y="57"/>
                  </a:lnTo>
                  <a:lnTo>
                    <a:pt x="178" y="310"/>
                  </a:lnTo>
                  <a:lnTo>
                    <a:pt x="181" y="324"/>
                  </a:lnTo>
                  <a:lnTo>
                    <a:pt x="181" y="328"/>
                  </a:lnTo>
                  <a:lnTo>
                    <a:pt x="181" y="324"/>
                  </a:lnTo>
                  <a:lnTo>
                    <a:pt x="185" y="321"/>
                  </a:lnTo>
                  <a:lnTo>
                    <a:pt x="188" y="324"/>
                  </a:lnTo>
                  <a:lnTo>
                    <a:pt x="188" y="214"/>
                  </a:lnTo>
                  <a:lnTo>
                    <a:pt x="192" y="192"/>
                  </a:lnTo>
                  <a:lnTo>
                    <a:pt x="192" y="71"/>
                  </a:lnTo>
                  <a:lnTo>
                    <a:pt x="196" y="64"/>
                  </a:lnTo>
                  <a:lnTo>
                    <a:pt x="196" y="82"/>
                  </a:lnTo>
                  <a:lnTo>
                    <a:pt x="196" y="61"/>
                  </a:lnTo>
                  <a:lnTo>
                    <a:pt x="196" y="68"/>
                  </a:lnTo>
                  <a:lnTo>
                    <a:pt x="199" y="57"/>
                  </a:lnTo>
                  <a:lnTo>
                    <a:pt x="199" y="0"/>
                  </a:lnTo>
                  <a:lnTo>
                    <a:pt x="203" y="4"/>
                  </a:lnTo>
                  <a:lnTo>
                    <a:pt x="203" y="0"/>
                  </a:lnTo>
                  <a:lnTo>
                    <a:pt x="203" y="4"/>
                  </a:lnTo>
                  <a:lnTo>
                    <a:pt x="206" y="4"/>
                  </a:lnTo>
                  <a:lnTo>
                    <a:pt x="213" y="4"/>
                  </a:lnTo>
                  <a:lnTo>
                    <a:pt x="210" y="4"/>
                  </a:lnTo>
                  <a:lnTo>
                    <a:pt x="213" y="4"/>
                  </a:lnTo>
                  <a:lnTo>
                    <a:pt x="217" y="7"/>
                  </a:lnTo>
                  <a:lnTo>
                    <a:pt x="217" y="46"/>
                  </a:lnTo>
                  <a:lnTo>
                    <a:pt x="221" y="53"/>
                  </a:lnTo>
                  <a:lnTo>
                    <a:pt x="221" y="157"/>
                  </a:lnTo>
                  <a:lnTo>
                    <a:pt x="224" y="185"/>
                  </a:lnTo>
                  <a:lnTo>
                    <a:pt x="224" y="321"/>
                  </a:lnTo>
                  <a:lnTo>
                    <a:pt x="224" y="313"/>
                  </a:lnTo>
                  <a:lnTo>
                    <a:pt x="228" y="317"/>
                  </a:lnTo>
                  <a:lnTo>
                    <a:pt x="228" y="313"/>
                  </a:lnTo>
                  <a:lnTo>
                    <a:pt x="228" y="317"/>
                  </a:lnTo>
                  <a:lnTo>
                    <a:pt x="231" y="313"/>
                  </a:lnTo>
                  <a:lnTo>
                    <a:pt x="231" y="310"/>
                  </a:lnTo>
                  <a:lnTo>
                    <a:pt x="235" y="306"/>
                  </a:lnTo>
                  <a:lnTo>
                    <a:pt x="235" y="142"/>
                  </a:lnTo>
                  <a:lnTo>
                    <a:pt x="238" y="132"/>
                  </a:lnTo>
                  <a:lnTo>
                    <a:pt x="238" y="68"/>
                  </a:lnTo>
                  <a:lnTo>
                    <a:pt x="242" y="78"/>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7389000" y="3353760"/>
              <a:ext cx="343800" cy="580680"/>
            </a:xfrm>
            <a:custGeom>
              <a:avLst/>
              <a:gdLst/>
              <a:ahLst/>
              <a:rect l="l" t="t" r="r" b="b"/>
              <a:pathLst>
                <a:path w="224" h="335">
                  <a:moveTo>
                    <a:pt x="0" y="82"/>
                  </a:moveTo>
                  <a:lnTo>
                    <a:pt x="0" y="89"/>
                  </a:lnTo>
                  <a:lnTo>
                    <a:pt x="0" y="25"/>
                  </a:lnTo>
                  <a:lnTo>
                    <a:pt x="3" y="15"/>
                  </a:lnTo>
                  <a:lnTo>
                    <a:pt x="3" y="0"/>
                  </a:lnTo>
                  <a:lnTo>
                    <a:pt x="3" y="4"/>
                  </a:lnTo>
                  <a:lnTo>
                    <a:pt x="7" y="4"/>
                  </a:lnTo>
                  <a:lnTo>
                    <a:pt x="11" y="4"/>
                  </a:lnTo>
                  <a:lnTo>
                    <a:pt x="14" y="4"/>
                  </a:lnTo>
                  <a:lnTo>
                    <a:pt x="18" y="8"/>
                  </a:lnTo>
                  <a:lnTo>
                    <a:pt x="18" y="11"/>
                  </a:lnTo>
                  <a:lnTo>
                    <a:pt x="21" y="18"/>
                  </a:lnTo>
                  <a:lnTo>
                    <a:pt x="21" y="61"/>
                  </a:lnTo>
                  <a:lnTo>
                    <a:pt x="25" y="68"/>
                  </a:lnTo>
                  <a:lnTo>
                    <a:pt x="25" y="328"/>
                  </a:lnTo>
                  <a:lnTo>
                    <a:pt x="28" y="325"/>
                  </a:lnTo>
                  <a:lnTo>
                    <a:pt x="28" y="317"/>
                  </a:lnTo>
                  <a:lnTo>
                    <a:pt x="32" y="321"/>
                  </a:lnTo>
                  <a:lnTo>
                    <a:pt x="32" y="325"/>
                  </a:lnTo>
                  <a:lnTo>
                    <a:pt x="32" y="310"/>
                  </a:lnTo>
                  <a:lnTo>
                    <a:pt x="36" y="303"/>
                  </a:lnTo>
                  <a:lnTo>
                    <a:pt x="36" y="150"/>
                  </a:lnTo>
                  <a:lnTo>
                    <a:pt x="39" y="143"/>
                  </a:lnTo>
                  <a:lnTo>
                    <a:pt x="39" y="72"/>
                  </a:lnTo>
                  <a:lnTo>
                    <a:pt x="39" y="75"/>
                  </a:lnTo>
                  <a:lnTo>
                    <a:pt x="43" y="79"/>
                  </a:lnTo>
                  <a:lnTo>
                    <a:pt x="43" y="89"/>
                  </a:lnTo>
                  <a:lnTo>
                    <a:pt x="43" y="22"/>
                  </a:lnTo>
                  <a:lnTo>
                    <a:pt x="46" y="15"/>
                  </a:lnTo>
                  <a:lnTo>
                    <a:pt x="46" y="4"/>
                  </a:lnTo>
                  <a:lnTo>
                    <a:pt x="46" y="8"/>
                  </a:lnTo>
                  <a:lnTo>
                    <a:pt x="53" y="8"/>
                  </a:lnTo>
                  <a:lnTo>
                    <a:pt x="50" y="8"/>
                  </a:lnTo>
                  <a:lnTo>
                    <a:pt x="53" y="8"/>
                  </a:lnTo>
                  <a:lnTo>
                    <a:pt x="57" y="8"/>
                  </a:lnTo>
                  <a:lnTo>
                    <a:pt x="60" y="8"/>
                  </a:lnTo>
                  <a:lnTo>
                    <a:pt x="64" y="11"/>
                  </a:lnTo>
                  <a:lnTo>
                    <a:pt x="64" y="61"/>
                  </a:lnTo>
                  <a:lnTo>
                    <a:pt x="64" y="57"/>
                  </a:lnTo>
                  <a:lnTo>
                    <a:pt x="68" y="54"/>
                  </a:lnTo>
                  <a:lnTo>
                    <a:pt x="68" y="271"/>
                  </a:lnTo>
                  <a:lnTo>
                    <a:pt x="71" y="296"/>
                  </a:lnTo>
                  <a:lnTo>
                    <a:pt x="71" y="335"/>
                  </a:lnTo>
                  <a:lnTo>
                    <a:pt x="71" y="321"/>
                  </a:lnTo>
                  <a:lnTo>
                    <a:pt x="75" y="317"/>
                  </a:lnTo>
                  <a:lnTo>
                    <a:pt x="78" y="314"/>
                  </a:lnTo>
                  <a:lnTo>
                    <a:pt x="78" y="239"/>
                  </a:lnTo>
                  <a:lnTo>
                    <a:pt x="82" y="218"/>
                  </a:lnTo>
                  <a:lnTo>
                    <a:pt x="82" y="89"/>
                  </a:lnTo>
                  <a:lnTo>
                    <a:pt x="85" y="82"/>
                  </a:lnTo>
                  <a:lnTo>
                    <a:pt x="85" y="86"/>
                  </a:lnTo>
                  <a:lnTo>
                    <a:pt x="85" y="65"/>
                  </a:lnTo>
                  <a:lnTo>
                    <a:pt x="89" y="54"/>
                  </a:lnTo>
                  <a:lnTo>
                    <a:pt x="89" y="4"/>
                  </a:lnTo>
                  <a:lnTo>
                    <a:pt x="93" y="8"/>
                  </a:lnTo>
                  <a:lnTo>
                    <a:pt x="93" y="4"/>
                  </a:lnTo>
                  <a:lnTo>
                    <a:pt x="93" y="8"/>
                  </a:lnTo>
                  <a:lnTo>
                    <a:pt x="96" y="8"/>
                  </a:lnTo>
                  <a:lnTo>
                    <a:pt x="100" y="8"/>
                  </a:lnTo>
                  <a:lnTo>
                    <a:pt x="103" y="8"/>
                  </a:lnTo>
                  <a:lnTo>
                    <a:pt x="107" y="11"/>
                  </a:lnTo>
                  <a:lnTo>
                    <a:pt x="107" y="36"/>
                  </a:lnTo>
                  <a:lnTo>
                    <a:pt x="110" y="47"/>
                  </a:lnTo>
                  <a:lnTo>
                    <a:pt x="110" y="143"/>
                  </a:lnTo>
                  <a:lnTo>
                    <a:pt x="114" y="168"/>
                  </a:lnTo>
                  <a:lnTo>
                    <a:pt x="114" y="317"/>
                  </a:lnTo>
                  <a:lnTo>
                    <a:pt x="114" y="314"/>
                  </a:lnTo>
                  <a:lnTo>
                    <a:pt x="117" y="310"/>
                  </a:lnTo>
                  <a:lnTo>
                    <a:pt x="121" y="307"/>
                  </a:lnTo>
                  <a:lnTo>
                    <a:pt x="121" y="282"/>
                  </a:lnTo>
                  <a:lnTo>
                    <a:pt x="125" y="275"/>
                  </a:lnTo>
                  <a:lnTo>
                    <a:pt x="125" y="179"/>
                  </a:lnTo>
                  <a:lnTo>
                    <a:pt x="128" y="164"/>
                  </a:lnTo>
                  <a:lnTo>
                    <a:pt x="128" y="79"/>
                  </a:lnTo>
                  <a:lnTo>
                    <a:pt x="132" y="82"/>
                  </a:lnTo>
                  <a:lnTo>
                    <a:pt x="132" y="86"/>
                  </a:lnTo>
                  <a:lnTo>
                    <a:pt x="132" y="25"/>
                  </a:lnTo>
                  <a:lnTo>
                    <a:pt x="135" y="18"/>
                  </a:lnTo>
                  <a:lnTo>
                    <a:pt x="135" y="8"/>
                  </a:lnTo>
                  <a:lnTo>
                    <a:pt x="139" y="11"/>
                  </a:lnTo>
                  <a:lnTo>
                    <a:pt x="146" y="11"/>
                  </a:lnTo>
                  <a:lnTo>
                    <a:pt x="142" y="11"/>
                  </a:lnTo>
                  <a:lnTo>
                    <a:pt x="146" y="11"/>
                  </a:lnTo>
                  <a:lnTo>
                    <a:pt x="150" y="8"/>
                  </a:lnTo>
                  <a:lnTo>
                    <a:pt x="150" y="11"/>
                  </a:lnTo>
                  <a:lnTo>
                    <a:pt x="150" y="8"/>
                  </a:lnTo>
                  <a:lnTo>
                    <a:pt x="153" y="11"/>
                  </a:lnTo>
                  <a:lnTo>
                    <a:pt x="153" y="54"/>
                  </a:lnTo>
                  <a:lnTo>
                    <a:pt x="157" y="57"/>
                  </a:lnTo>
                  <a:lnTo>
                    <a:pt x="157" y="218"/>
                  </a:lnTo>
                  <a:lnTo>
                    <a:pt x="160" y="246"/>
                  </a:lnTo>
                  <a:lnTo>
                    <a:pt x="160" y="328"/>
                  </a:lnTo>
                  <a:lnTo>
                    <a:pt x="160" y="310"/>
                  </a:lnTo>
                  <a:lnTo>
                    <a:pt x="167" y="317"/>
                  </a:lnTo>
                  <a:lnTo>
                    <a:pt x="167" y="321"/>
                  </a:lnTo>
                  <a:lnTo>
                    <a:pt x="167" y="310"/>
                  </a:lnTo>
                  <a:lnTo>
                    <a:pt x="171" y="307"/>
                  </a:lnTo>
                  <a:lnTo>
                    <a:pt x="171" y="150"/>
                  </a:lnTo>
                  <a:lnTo>
                    <a:pt x="174" y="143"/>
                  </a:lnTo>
                  <a:lnTo>
                    <a:pt x="174" y="68"/>
                  </a:lnTo>
                  <a:lnTo>
                    <a:pt x="178" y="72"/>
                  </a:lnTo>
                  <a:lnTo>
                    <a:pt x="178" y="79"/>
                  </a:lnTo>
                  <a:lnTo>
                    <a:pt x="178" y="47"/>
                  </a:lnTo>
                  <a:lnTo>
                    <a:pt x="182" y="40"/>
                  </a:lnTo>
                  <a:lnTo>
                    <a:pt x="182" y="11"/>
                  </a:lnTo>
                  <a:lnTo>
                    <a:pt x="185" y="11"/>
                  </a:lnTo>
                  <a:lnTo>
                    <a:pt x="189" y="11"/>
                  </a:lnTo>
                  <a:lnTo>
                    <a:pt x="192" y="11"/>
                  </a:lnTo>
                  <a:lnTo>
                    <a:pt x="196" y="15"/>
                  </a:lnTo>
                  <a:lnTo>
                    <a:pt x="196" y="36"/>
                  </a:lnTo>
                  <a:lnTo>
                    <a:pt x="199" y="43"/>
                  </a:lnTo>
                  <a:lnTo>
                    <a:pt x="199" y="79"/>
                  </a:lnTo>
                  <a:lnTo>
                    <a:pt x="203" y="97"/>
                  </a:lnTo>
                  <a:lnTo>
                    <a:pt x="203" y="328"/>
                  </a:lnTo>
                  <a:lnTo>
                    <a:pt x="207" y="325"/>
                  </a:lnTo>
                  <a:lnTo>
                    <a:pt x="207" y="314"/>
                  </a:lnTo>
                  <a:lnTo>
                    <a:pt x="207" y="317"/>
                  </a:lnTo>
                  <a:lnTo>
                    <a:pt x="210" y="321"/>
                  </a:lnTo>
                  <a:lnTo>
                    <a:pt x="214" y="317"/>
                  </a:lnTo>
                  <a:lnTo>
                    <a:pt x="214" y="154"/>
                  </a:lnTo>
                  <a:lnTo>
                    <a:pt x="217" y="136"/>
                  </a:lnTo>
                  <a:lnTo>
                    <a:pt x="217" y="65"/>
                  </a:lnTo>
                  <a:lnTo>
                    <a:pt x="221" y="68"/>
                  </a:lnTo>
                  <a:lnTo>
                    <a:pt x="221" y="75"/>
                  </a:lnTo>
                  <a:lnTo>
                    <a:pt x="221" y="33"/>
                  </a:lnTo>
                  <a:lnTo>
                    <a:pt x="224" y="25"/>
                  </a:lnTo>
                  <a:lnTo>
                    <a:pt x="224" y="11"/>
                  </a:lnTo>
                  <a:lnTo>
                    <a:pt x="224" y="15"/>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7733160" y="3367440"/>
              <a:ext cx="147600" cy="567000"/>
            </a:xfrm>
            <a:custGeom>
              <a:avLst/>
              <a:gdLst/>
              <a:ahLst/>
              <a:rect l="l" t="t" r="r" b="b"/>
              <a:pathLst>
                <a:path w="97" h="327">
                  <a:moveTo>
                    <a:pt x="0" y="7"/>
                  </a:moveTo>
                  <a:lnTo>
                    <a:pt x="4" y="10"/>
                  </a:lnTo>
                  <a:lnTo>
                    <a:pt x="7" y="7"/>
                  </a:lnTo>
                  <a:lnTo>
                    <a:pt x="11" y="7"/>
                  </a:lnTo>
                  <a:lnTo>
                    <a:pt x="15" y="3"/>
                  </a:lnTo>
                  <a:lnTo>
                    <a:pt x="15" y="7"/>
                  </a:lnTo>
                  <a:lnTo>
                    <a:pt x="18" y="14"/>
                  </a:lnTo>
                  <a:lnTo>
                    <a:pt x="18" y="49"/>
                  </a:lnTo>
                  <a:lnTo>
                    <a:pt x="18" y="46"/>
                  </a:lnTo>
                  <a:lnTo>
                    <a:pt x="22" y="53"/>
                  </a:lnTo>
                  <a:lnTo>
                    <a:pt x="22" y="313"/>
                  </a:lnTo>
                  <a:lnTo>
                    <a:pt x="25" y="320"/>
                  </a:lnTo>
                  <a:lnTo>
                    <a:pt x="25" y="309"/>
                  </a:lnTo>
                  <a:lnTo>
                    <a:pt x="29" y="313"/>
                  </a:lnTo>
                  <a:lnTo>
                    <a:pt x="29" y="309"/>
                  </a:lnTo>
                  <a:lnTo>
                    <a:pt x="29" y="313"/>
                  </a:lnTo>
                  <a:lnTo>
                    <a:pt x="32" y="309"/>
                  </a:lnTo>
                  <a:lnTo>
                    <a:pt x="32" y="199"/>
                  </a:lnTo>
                  <a:lnTo>
                    <a:pt x="36" y="181"/>
                  </a:lnTo>
                  <a:lnTo>
                    <a:pt x="36" y="64"/>
                  </a:lnTo>
                  <a:lnTo>
                    <a:pt x="40" y="60"/>
                  </a:lnTo>
                  <a:lnTo>
                    <a:pt x="40" y="67"/>
                  </a:lnTo>
                  <a:lnTo>
                    <a:pt x="40" y="53"/>
                  </a:lnTo>
                  <a:lnTo>
                    <a:pt x="43" y="42"/>
                  </a:lnTo>
                  <a:lnTo>
                    <a:pt x="43" y="3"/>
                  </a:lnTo>
                  <a:lnTo>
                    <a:pt x="47" y="7"/>
                  </a:lnTo>
                  <a:lnTo>
                    <a:pt x="50" y="7"/>
                  </a:lnTo>
                  <a:lnTo>
                    <a:pt x="54" y="7"/>
                  </a:lnTo>
                  <a:lnTo>
                    <a:pt x="57" y="3"/>
                  </a:lnTo>
                  <a:lnTo>
                    <a:pt x="57" y="7"/>
                  </a:lnTo>
                  <a:lnTo>
                    <a:pt x="57" y="3"/>
                  </a:lnTo>
                  <a:lnTo>
                    <a:pt x="61" y="7"/>
                  </a:lnTo>
                  <a:lnTo>
                    <a:pt x="61" y="53"/>
                  </a:lnTo>
                  <a:lnTo>
                    <a:pt x="64" y="49"/>
                  </a:lnTo>
                  <a:lnTo>
                    <a:pt x="64" y="46"/>
                  </a:lnTo>
                  <a:lnTo>
                    <a:pt x="64" y="192"/>
                  </a:lnTo>
                  <a:lnTo>
                    <a:pt x="68" y="224"/>
                  </a:lnTo>
                  <a:lnTo>
                    <a:pt x="68" y="327"/>
                  </a:lnTo>
                  <a:lnTo>
                    <a:pt x="68" y="317"/>
                  </a:lnTo>
                  <a:lnTo>
                    <a:pt x="72" y="313"/>
                  </a:lnTo>
                  <a:lnTo>
                    <a:pt x="75" y="309"/>
                  </a:lnTo>
                  <a:lnTo>
                    <a:pt x="75" y="306"/>
                  </a:lnTo>
                  <a:lnTo>
                    <a:pt x="79" y="302"/>
                  </a:lnTo>
                  <a:lnTo>
                    <a:pt x="79" y="153"/>
                  </a:lnTo>
                  <a:lnTo>
                    <a:pt x="82" y="142"/>
                  </a:lnTo>
                  <a:lnTo>
                    <a:pt x="82" y="67"/>
                  </a:lnTo>
                  <a:lnTo>
                    <a:pt x="86" y="71"/>
                  </a:lnTo>
                  <a:lnTo>
                    <a:pt x="86" y="74"/>
                  </a:lnTo>
                  <a:lnTo>
                    <a:pt x="86" y="17"/>
                  </a:lnTo>
                  <a:lnTo>
                    <a:pt x="89" y="10"/>
                  </a:lnTo>
                  <a:lnTo>
                    <a:pt x="89" y="0"/>
                  </a:lnTo>
                  <a:lnTo>
                    <a:pt x="89" y="3"/>
                  </a:lnTo>
                  <a:lnTo>
                    <a:pt x="93" y="3"/>
                  </a:lnTo>
                  <a:lnTo>
                    <a:pt x="97" y="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2799000" y="4800600"/>
              <a:ext cx="5418360" cy="126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2799000" y="4800600"/>
              <a:ext cx="5418360" cy="12650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2799000" y="6065640"/>
              <a:ext cx="5418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flipV="1">
              <a:off x="2799000" y="6005160"/>
              <a:ext cx="216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1" name=""/>
            <p:cNvSpPr/>
            <p:nvPr/>
          </p:nvSpPr>
          <p:spPr>
            <a:xfrm>
              <a:off x="2783160" y="60850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2372" name=""/>
            <p:cNvSpPr/>
            <p:nvPr/>
          </p:nvSpPr>
          <p:spPr>
            <a:xfrm flipV="1">
              <a:off x="3700440" y="6005160"/>
              <a:ext cx="216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3" name=""/>
            <p:cNvSpPr/>
            <p:nvPr/>
          </p:nvSpPr>
          <p:spPr>
            <a:xfrm>
              <a:off x="3625200" y="608508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Times New Roman"/>
              </a:endParaRPr>
            </a:p>
          </p:txBody>
        </p:sp>
        <p:sp>
          <p:nvSpPr>
            <p:cNvPr id="2374" name=""/>
            <p:cNvSpPr/>
            <p:nvPr/>
          </p:nvSpPr>
          <p:spPr>
            <a:xfrm flipV="1">
              <a:off x="4601880" y="6005160"/>
              <a:ext cx="252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5" name=""/>
            <p:cNvSpPr/>
            <p:nvPr/>
          </p:nvSpPr>
          <p:spPr>
            <a:xfrm>
              <a:off x="4527000" y="608508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000</a:t>
              </a:r>
              <a:endParaRPr b="0" lang="en-US" sz="600" spc="-1" strike="noStrike">
                <a:solidFill>
                  <a:srgbClr val="000000"/>
                </a:solidFill>
                <a:latin typeface="Times New Roman"/>
              </a:endParaRPr>
            </a:p>
          </p:txBody>
        </p:sp>
        <p:sp>
          <p:nvSpPr>
            <p:cNvPr id="2376" name=""/>
            <p:cNvSpPr/>
            <p:nvPr/>
          </p:nvSpPr>
          <p:spPr>
            <a:xfrm flipV="1">
              <a:off x="5508360" y="6005160"/>
              <a:ext cx="216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7" name=""/>
            <p:cNvSpPr/>
            <p:nvPr/>
          </p:nvSpPr>
          <p:spPr>
            <a:xfrm>
              <a:off x="5433120" y="608508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000</a:t>
              </a:r>
              <a:endParaRPr b="0" lang="en-US" sz="600" spc="-1" strike="noStrike">
                <a:solidFill>
                  <a:srgbClr val="000000"/>
                </a:solidFill>
                <a:latin typeface="Times New Roman"/>
              </a:endParaRPr>
            </a:p>
          </p:txBody>
        </p:sp>
        <p:sp>
          <p:nvSpPr>
            <p:cNvPr id="2378" name=""/>
            <p:cNvSpPr/>
            <p:nvPr/>
          </p:nvSpPr>
          <p:spPr>
            <a:xfrm flipV="1">
              <a:off x="6409800" y="6005160"/>
              <a:ext cx="216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9" name=""/>
            <p:cNvSpPr/>
            <p:nvPr/>
          </p:nvSpPr>
          <p:spPr>
            <a:xfrm>
              <a:off x="6334560" y="608508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000</a:t>
              </a:r>
              <a:endParaRPr b="0" lang="en-US" sz="600" spc="-1" strike="noStrike">
                <a:solidFill>
                  <a:srgbClr val="000000"/>
                </a:solidFill>
                <a:latin typeface="Times New Roman"/>
              </a:endParaRPr>
            </a:p>
          </p:txBody>
        </p:sp>
        <p:sp>
          <p:nvSpPr>
            <p:cNvPr id="2380" name=""/>
            <p:cNvSpPr/>
            <p:nvPr/>
          </p:nvSpPr>
          <p:spPr>
            <a:xfrm flipV="1">
              <a:off x="7310880" y="6005160"/>
              <a:ext cx="252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1" name=""/>
            <p:cNvSpPr/>
            <p:nvPr/>
          </p:nvSpPr>
          <p:spPr>
            <a:xfrm>
              <a:off x="7218720" y="6085080"/>
              <a:ext cx="214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000</a:t>
              </a:r>
              <a:endParaRPr b="0" lang="en-US" sz="600" spc="-1" strike="noStrike">
                <a:solidFill>
                  <a:srgbClr val="000000"/>
                </a:solidFill>
                <a:latin typeface="Times New Roman"/>
              </a:endParaRPr>
            </a:p>
          </p:txBody>
        </p:sp>
        <p:sp>
          <p:nvSpPr>
            <p:cNvPr id="2382" name=""/>
            <p:cNvSpPr/>
            <p:nvPr/>
          </p:nvSpPr>
          <p:spPr>
            <a:xfrm flipV="1">
              <a:off x="8217720" y="6005160"/>
              <a:ext cx="216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3" name=""/>
            <p:cNvSpPr/>
            <p:nvPr/>
          </p:nvSpPr>
          <p:spPr>
            <a:xfrm>
              <a:off x="8125200" y="6085080"/>
              <a:ext cx="214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000</a:t>
              </a:r>
              <a:endParaRPr b="0" lang="en-US" sz="600" spc="-1" strike="noStrike">
                <a:solidFill>
                  <a:srgbClr val="000000"/>
                </a:solidFill>
                <a:latin typeface="Times New Roman"/>
              </a:endParaRPr>
            </a:p>
          </p:txBody>
        </p:sp>
        <p:sp>
          <p:nvSpPr>
            <p:cNvPr id="2384" name=""/>
            <p:cNvSpPr/>
            <p:nvPr/>
          </p:nvSpPr>
          <p:spPr>
            <a:xfrm>
              <a:off x="2799000" y="6065640"/>
              <a:ext cx="50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5" name=""/>
            <p:cNvGrpSpPr/>
            <p:nvPr/>
          </p:nvGrpSpPr>
          <p:grpSpPr>
            <a:xfrm>
              <a:off x="2799000" y="4917960"/>
              <a:ext cx="5114880" cy="1134000"/>
              <a:chOff x="2799000" y="4917960"/>
              <a:chExt cx="5114880" cy="1134000"/>
            </a:xfrm>
          </p:grpSpPr>
          <p:sp>
            <p:nvSpPr>
              <p:cNvPr id="2386" name=""/>
              <p:cNvSpPr/>
              <p:nvPr/>
            </p:nvSpPr>
            <p:spPr>
              <a:xfrm flipV="1">
                <a:off x="3939840" y="6035400"/>
                <a:ext cx="252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87" name=""/>
              <p:cNvSpPr/>
              <p:nvPr/>
            </p:nvSpPr>
            <p:spPr>
              <a:xfrm>
                <a:off x="2799000" y="4917960"/>
                <a:ext cx="1473480" cy="1133640"/>
              </a:xfrm>
              <a:custGeom>
                <a:avLst/>
                <a:gdLst/>
                <a:ahLst/>
                <a:rect l="l" t="t" r="r" b="b"/>
                <a:pathLst>
                  <a:path w="629" h="1791">
                    <a:moveTo>
                      <a:pt x="0" y="1791"/>
                    </a:moveTo>
                    <a:lnTo>
                      <a:pt x="6" y="1791"/>
                    </a:lnTo>
                    <a:lnTo>
                      <a:pt x="11" y="1791"/>
                    </a:lnTo>
                    <a:lnTo>
                      <a:pt x="17" y="1791"/>
                    </a:lnTo>
                    <a:lnTo>
                      <a:pt x="23" y="1791"/>
                    </a:lnTo>
                    <a:lnTo>
                      <a:pt x="28" y="1791"/>
                    </a:lnTo>
                    <a:lnTo>
                      <a:pt x="34" y="1791"/>
                    </a:lnTo>
                    <a:lnTo>
                      <a:pt x="40" y="1791"/>
                    </a:lnTo>
                    <a:lnTo>
                      <a:pt x="45" y="1791"/>
                    </a:lnTo>
                    <a:lnTo>
                      <a:pt x="45" y="1615"/>
                    </a:lnTo>
                    <a:lnTo>
                      <a:pt x="51" y="1429"/>
                    </a:lnTo>
                    <a:lnTo>
                      <a:pt x="51" y="489"/>
                    </a:lnTo>
                    <a:lnTo>
                      <a:pt x="57" y="489"/>
                    </a:lnTo>
                    <a:lnTo>
                      <a:pt x="57" y="1227"/>
                    </a:lnTo>
                    <a:lnTo>
                      <a:pt x="62" y="1419"/>
                    </a:lnTo>
                    <a:lnTo>
                      <a:pt x="62" y="1791"/>
                    </a:lnTo>
                    <a:lnTo>
                      <a:pt x="68" y="1791"/>
                    </a:lnTo>
                    <a:lnTo>
                      <a:pt x="74" y="1791"/>
                    </a:lnTo>
                    <a:lnTo>
                      <a:pt x="79" y="1791"/>
                    </a:lnTo>
                    <a:lnTo>
                      <a:pt x="85" y="1791"/>
                    </a:lnTo>
                    <a:lnTo>
                      <a:pt x="91" y="1791"/>
                    </a:lnTo>
                    <a:lnTo>
                      <a:pt x="96" y="1791"/>
                    </a:lnTo>
                    <a:lnTo>
                      <a:pt x="102" y="1791"/>
                    </a:lnTo>
                    <a:lnTo>
                      <a:pt x="108" y="1791"/>
                    </a:lnTo>
                    <a:lnTo>
                      <a:pt x="113" y="1791"/>
                    </a:lnTo>
                    <a:lnTo>
                      <a:pt x="119" y="1791"/>
                    </a:lnTo>
                    <a:lnTo>
                      <a:pt x="125" y="1791"/>
                    </a:lnTo>
                    <a:lnTo>
                      <a:pt x="130" y="1791"/>
                    </a:lnTo>
                    <a:lnTo>
                      <a:pt x="136" y="1791"/>
                    </a:lnTo>
                    <a:lnTo>
                      <a:pt x="142" y="1791"/>
                    </a:lnTo>
                    <a:lnTo>
                      <a:pt x="147" y="1791"/>
                    </a:lnTo>
                    <a:lnTo>
                      <a:pt x="153" y="1791"/>
                    </a:lnTo>
                    <a:lnTo>
                      <a:pt x="159" y="1791"/>
                    </a:lnTo>
                    <a:lnTo>
                      <a:pt x="164" y="1791"/>
                    </a:lnTo>
                    <a:lnTo>
                      <a:pt x="170" y="1791"/>
                    </a:lnTo>
                    <a:lnTo>
                      <a:pt x="176" y="1791"/>
                    </a:lnTo>
                    <a:lnTo>
                      <a:pt x="181" y="1791"/>
                    </a:lnTo>
                    <a:lnTo>
                      <a:pt x="187" y="1791"/>
                    </a:lnTo>
                    <a:lnTo>
                      <a:pt x="193" y="1791"/>
                    </a:lnTo>
                    <a:lnTo>
                      <a:pt x="198" y="1791"/>
                    </a:lnTo>
                    <a:lnTo>
                      <a:pt x="204" y="1791"/>
                    </a:lnTo>
                    <a:lnTo>
                      <a:pt x="210" y="1791"/>
                    </a:lnTo>
                    <a:lnTo>
                      <a:pt x="215" y="1791"/>
                    </a:lnTo>
                    <a:lnTo>
                      <a:pt x="221" y="1791"/>
                    </a:lnTo>
                    <a:lnTo>
                      <a:pt x="227" y="1791"/>
                    </a:lnTo>
                    <a:lnTo>
                      <a:pt x="232" y="1791"/>
                    </a:lnTo>
                    <a:lnTo>
                      <a:pt x="238" y="1791"/>
                    </a:lnTo>
                    <a:lnTo>
                      <a:pt x="244" y="1791"/>
                    </a:lnTo>
                    <a:lnTo>
                      <a:pt x="249" y="1791"/>
                    </a:lnTo>
                    <a:lnTo>
                      <a:pt x="255" y="1791"/>
                    </a:lnTo>
                    <a:lnTo>
                      <a:pt x="261" y="1791"/>
                    </a:lnTo>
                    <a:lnTo>
                      <a:pt x="266" y="1791"/>
                    </a:lnTo>
                    <a:lnTo>
                      <a:pt x="272" y="1791"/>
                    </a:lnTo>
                    <a:lnTo>
                      <a:pt x="278" y="1791"/>
                    </a:lnTo>
                    <a:lnTo>
                      <a:pt x="283" y="1791"/>
                    </a:lnTo>
                    <a:lnTo>
                      <a:pt x="289" y="1791"/>
                    </a:lnTo>
                    <a:lnTo>
                      <a:pt x="295" y="1791"/>
                    </a:lnTo>
                    <a:lnTo>
                      <a:pt x="300" y="1791"/>
                    </a:lnTo>
                    <a:lnTo>
                      <a:pt x="306" y="1791"/>
                    </a:lnTo>
                    <a:lnTo>
                      <a:pt x="312" y="1791"/>
                    </a:lnTo>
                    <a:lnTo>
                      <a:pt x="317" y="1791"/>
                    </a:lnTo>
                    <a:lnTo>
                      <a:pt x="323" y="1791"/>
                    </a:lnTo>
                    <a:lnTo>
                      <a:pt x="329" y="1791"/>
                    </a:lnTo>
                    <a:lnTo>
                      <a:pt x="334" y="1791"/>
                    </a:lnTo>
                    <a:lnTo>
                      <a:pt x="340" y="1791"/>
                    </a:lnTo>
                    <a:lnTo>
                      <a:pt x="346" y="1791"/>
                    </a:lnTo>
                    <a:lnTo>
                      <a:pt x="351" y="1791"/>
                    </a:lnTo>
                    <a:lnTo>
                      <a:pt x="357" y="1791"/>
                    </a:lnTo>
                    <a:lnTo>
                      <a:pt x="363" y="1791"/>
                    </a:lnTo>
                    <a:lnTo>
                      <a:pt x="368" y="1791"/>
                    </a:lnTo>
                    <a:lnTo>
                      <a:pt x="374" y="1791"/>
                    </a:lnTo>
                    <a:lnTo>
                      <a:pt x="380" y="1791"/>
                    </a:lnTo>
                    <a:lnTo>
                      <a:pt x="385" y="1791"/>
                    </a:lnTo>
                    <a:lnTo>
                      <a:pt x="391" y="1791"/>
                    </a:lnTo>
                    <a:lnTo>
                      <a:pt x="397" y="1791"/>
                    </a:lnTo>
                    <a:lnTo>
                      <a:pt x="402" y="1791"/>
                    </a:lnTo>
                    <a:lnTo>
                      <a:pt x="408" y="1791"/>
                    </a:lnTo>
                    <a:lnTo>
                      <a:pt x="414" y="1791"/>
                    </a:lnTo>
                    <a:lnTo>
                      <a:pt x="419" y="1791"/>
                    </a:lnTo>
                    <a:lnTo>
                      <a:pt x="419" y="1424"/>
                    </a:lnTo>
                    <a:lnTo>
                      <a:pt x="425" y="1227"/>
                    </a:lnTo>
                    <a:lnTo>
                      <a:pt x="425" y="446"/>
                    </a:lnTo>
                    <a:lnTo>
                      <a:pt x="431" y="249"/>
                    </a:lnTo>
                    <a:lnTo>
                      <a:pt x="431" y="32"/>
                    </a:lnTo>
                    <a:lnTo>
                      <a:pt x="436" y="32"/>
                    </a:lnTo>
                    <a:lnTo>
                      <a:pt x="436" y="0"/>
                    </a:lnTo>
                    <a:lnTo>
                      <a:pt x="436" y="16"/>
                    </a:lnTo>
                    <a:lnTo>
                      <a:pt x="442" y="32"/>
                    </a:lnTo>
                    <a:lnTo>
                      <a:pt x="442" y="1020"/>
                    </a:lnTo>
                    <a:lnTo>
                      <a:pt x="448" y="1227"/>
                    </a:lnTo>
                    <a:lnTo>
                      <a:pt x="448" y="1791"/>
                    </a:lnTo>
                    <a:lnTo>
                      <a:pt x="453" y="1791"/>
                    </a:lnTo>
                    <a:lnTo>
                      <a:pt x="459" y="1791"/>
                    </a:lnTo>
                    <a:lnTo>
                      <a:pt x="465" y="1791"/>
                    </a:lnTo>
                    <a:lnTo>
                      <a:pt x="470" y="1791"/>
                    </a:lnTo>
                    <a:lnTo>
                      <a:pt x="470" y="1594"/>
                    </a:lnTo>
                    <a:lnTo>
                      <a:pt x="476" y="1392"/>
                    </a:lnTo>
                    <a:lnTo>
                      <a:pt x="476" y="1195"/>
                    </a:lnTo>
                    <a:lnTo>
                      <a:pt x="482" y="1195"/>
                    </a:lnTo>
                    <a:lnTo>
                      <a:pt x="482" y="1791"/>
                    </a:lnTo>
                    <a:lnTo>
                      <a:pt x="487" y="1791"/>
                    </a:lnTo>
                    <a:lnTo>
                      <a:pt x="487" y="1440"/>
                    </a:lnTo>
                    <a:lnTo>
                      <a:pt x="493" y="1264"/>
                    </a:lnTo>
                    <a:lnTo>
                      <a:pt x="499" y="1264"/>
                    </a:lnTo>
                    <a:lnTo>
                      <a:pt x="499" y="1791"/>
                    </a:lnTo>
                    <a:lnTo>
                      <a:pt x="504" y="1791"/>
                    </a:lnTo>
                    <a:lnTo>
                      <a:pt x="510" y="1791"/>
                    </a:lnTo>
                    <a:lnTo>
                      <a:pt x="516" y="1791"/>
                    </a:lnTo>
                    <a:lnTo>
                      <a:pt x="521" y="1791"/>
                    </a:lnTo>
                    <a:lnTo>
                      <a:pt x="527" y="1791"/>
                    </a:lnTo>
                    <a:lnTo>
                      <a:pt x="533" y="1791"/>
                    </a:lnTo>
                    <a:lnTo>
                      <a:pt x="539" y="1791"/>
                    </a:lnTo>
                    <a:lnTo>
                      <a:pt x="544" y="1791"/>
                    </a:lnTo>
                    <a:lnTo>
                      <a:pt x="550" y="1791"/>
                    </a:lnTo>
                    <a:lnTo>
                      <a:pt x="556" y="1791"/>
                    </a:lnTo>
                    <a:lnTo>
                      <a:pt x="561" y="1791"/>
                    </a:lnTo>
                    <a:lnTo>
                      <a:pt x="567" y="1791"/>
                    </a:lnTo>
                    <a:lnTo>
                      <a:pt x="573" y="1791"/>
                    </a:lnTo>
                    <a:lnTo>
                      <a:pt x="578" y="1791"/>
                    </a:lnTo>
                    <a:lnTo>
                      <a:pt x="584" y="1791"/>
                    </a:lnTo>
                    <a:lnTo>
                      <a:pt x="590" y="1791"/>
                    </a:lnTo>
                    <a:lnTo>
                      <a:pt x="595" y="1791"/>
                    </a:lnTo>
                    <a:lnTo>
                      <a:pt x="601" y="1791"/>
                    </a:lnTo>
                    <a:lnTo>
                      <a:pt x="607" y="1791"/>
                    </a:lnTo>
                    <a:lnTo>
                      <a:pt x="612" y="1791"/>
                    </a:lnTo>
                    <a:lnTo>
                      <a:pt x="618" y="1791"/>
                    </a:lnTo>
                    <a:lnTo>
                      <a:pt x="624" y="1791"/>
                    </a:lnTo>
                    <a:lnTo>
                      <a:pt x="629" y="1791"/>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4272480" y="6051600"/>
                <a:ext cx="1686960" cy="360"/>
              </a:xfrm>
              <a:custGeom>
                <a:avLst/>
                <a:gdLst/>
                <a:ahLst/>
                <a:rect l="l" t="t" r="r" b="b"/>
                <a:pathLst>
                  <a:path w="720" h="0">
                    <a:moveTo>
                      <a:pt x="0" y="0"/>
                    </a:moveTo>
                    <a:lnTo>
                      <a:pt x="6" y="0"/>
                    </a:lnTo>
                    <a:lnTo>
                      <a:pt x="12" y="0"/>
                    </a:lnTo>
                    <a:lnTo>
                      <a:pt x="17" y="0"/>
                    </a:lnTo>
                    <a:lnTo>
                      <a:pt x="23" y="0"/>
                    </a:lnTo>
                    <a:lnTo>
                      <a:pt x="29" y="0"/>
                    </a:lnTo>
                    <a:lnTo>
                      <a:pt x="34" y="0"/>
                    </a:lnTo>
                    <a:lnTo>
                      <a:pt x="40" y="0"/>
                    </a:lnTo>
                    <a:lnTo>
                      <a:pt x="46" y="0"/>
                    </a:lnTo>
                    <a:lnTo>
                      <a:pt x="51" y="0"/>
                    </a:lnTo>
                    <a:lnTo>
                      <a:pt x="57" y="0"/>
                    </a:lnTo>
                    <a:lnTo>
                      <a:pt x="63" y="0"/>
                    </a:lnTo>
                    <a:lnTo>
                      <a:pt x="68" y="0"/>
                    </a:lnTo>
                    <a:lnTo>
                      <a:pt x="74" y="0"/>
                    </a:lnTo>
                    <a:lnTo>
                      <a:pt x="80" y="0"/>
                    </a:lnTo>
                    <a:lnTo>
                      <a:pt x="85" y="0"/>
                    </a:lnTo>
                    <a:lnTo>
                      <a:pt x="91" y="0"/>
                    </a:lnTo>
                    <a:lnTo>
                      <a:pt x="97" y="0"/>
                    </a:lnTo>
                    <a:lnTo>
                      <a:pt x="102" y="0"/>
                    </a:lnTo>
                    <a:lnTo>
                      <a:pt x="108" y="0"/>
                    </a:lnTo>
                    <a:lnTo>
                      <a:pt x="114" y="0"/>
                    </a:lnTo>
                    <a:lnTo>
                      <a:pt x="119" y="0"/>
                    </a:lnTo>
                    <a:lnTo>
                      <a:pt x="125" y="0"/>
                    </a:lnTo>
                    <a:lnTo>
                      <a:pt x="131" y="0"/>
                    </a:lnTo>
                    <a:lnTo>
                      <a:pt x="136" y="0"/>
                    </a:lnTo>
                    <a:lnTo>
                      <a:pt x="142" y="0"/>
                    </a:lnTo>
                    <a:lnTo>
                      <a:pt x="148" y="0"/>
                    </a:lnTo>
                    <a:lnTo>
                      <a:pt x="153" y="0"/>
                    </a:lnTo>
                    <a:lnTo>
                      <a:pt x="159" y="0"/>
                    </a:lnTo>
                    <a:lnTo>
                      <a:pt x="165" y="0"/>
                    </a:lnTo>
                    <a:lnTo>
                      <a:pt x="170" y="0"/>
                    </a:lnTo>
                    <a:lnTo>
                      <a:pt x="176" y="0"/>
                    </a:lnTo>
                    <a:lnTo>
                      <a:pt x="182" y="0"/>
                    </a:lnTo>
                    <a:lnTo>
                      <a:pt x="187" y="0"/>
                    </a:lnTo>
                    <a:lnTo>
                      <a:pt x="193" y="0"/>
                    </a:lnTo>
                    <a:lnTo>
                      <a:pt x="199" y="0"/>
                    </a:lnTo>
                    <a:lnTo>
                      <a:pt x="204" y="0"/>
                    </a:lnTo>
                    <a:lnTo>
                      <a:pt x="210" y="0"/>
                    </a:lnTo>
                    <a:lnTo>
                      <a:pt x="216" y="0"/>
                    </a:lnTo>
                    <a:lnTo>
                      <a:pt x="221" y="0"/>
                    </a:lnTo>
                    <a:lnTo>
                      <a:pt x="227" y="0"/>
                    </a:lnTo>
                    <a:lnTo>
                      <a:pt x="233" y="0"/>
                    </a:lnTo>
                    <a:lnTo>
                      <a:pt x="238" y="0"/>
                    </a:lnTo>
                    <a:lnTo>
                      <a:pt x="244" y="0"/>
                    </a:lnTo>
                    <a:lnTo>
                      <a:pt x="250"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5" y="0"/>
                    </a:lnTo>
                    <a:lnTo>
                      <a:pt x="550" y="0"/>
                    </a:lnTo>
                    <a:lnTo>
                      <a:pt x="556" y="0"/>
                    </a:lnTo>
                    <a:lnTo>
                      <a:pt x="562" y="0"/>
                    </a:lnTo>
                    <a:lnTo>
                      <a:pt x="567" y="0"/>
                    </a:lnTo>
                    <a:lnTo>
                      <a:pt x="573" y="0"/>
                    </a:lnTo>
                    <a:lnTo>
                      <a:pt x="579" y="0"/>
                    </a:lnTo>
                    <a:lnTo>
                      <a:pt x="584" y="0"/>
                    </a:lnTo>
                    <a:lnTo>
                      <a:pt x="590" y="0"/>
                    </a:lnTo>
                    <a:lnTo>
                      <a:pt x="596" y="0"/>
                    </a:lnTo>
                    <a:lnTo>
                      <a:pt x="601" y="0"/>
                    </a:lnTo>
                    <a:lnTo>
                      <a:pt x="607" y="0"/>
                    </a:lnTo>
                    <a:lnTo>
                      <a:pt x="613" y="0"/>
                    </a:lnTo>
                    <a:lnTo>
                      <a:pt x="618" y="0"/>
                    </a:lnTo>
                    <a:lnTo>
                      <a:pt x="624" y="0"/>
                    </a:lnTo>
                    <a:lnTo>
                      <a:pt x="630" y="0"/>
                    </a:lnTo>
                    <a:lnTo>
                      <a:pt x="635" y="0"/>
                    </a:lnTo>
                    <a:lnTo>
                      <a:pt x="641" y="0"/>
                    </a:lnTo>
                    <a:lnTo>
                      <a:pt x="647" y="0"/>
                    </a:lnTo>
                    <a:lnTo>
                      <a:pt x="652" y="0"/>
                    </a:lnTo>
                    <a:lnTo>
                      <a:pt x="658" y="0"/>
                    </a:lnTo>
                    <a:lnTo>
                      <a:pt x="664" y="0"/>
                    </a:lnTo>
                    <a:lnTo>
                      <a:pt x="669" y="0"/>
                    </a:lnTo>
                    <a:lnTo>
                      <a:pt x="675" y="0"/>
                    </a:lnTo>
                    <a:lnTo>
                      <a:pt x="681" y="0"/>
                    </a:lnTo>
                    <a:lnTo>
                      <a:pt x="686" y="0"/>
                    </a:lnTo>
                    <a:lnTo>
                      <a:pt x="692" y="0"/>
                    </a:lnTo>
                    <a:lnTo>
                      <a:pt x="698" y="0"/>
                    </a:lnTo>
                    <a:lnTo>
                      <a:pt x="703" y="0"/>
                    </a:lnTo>
                    <a:lnTo>
                      <a:pt x="709" y="0"/>
                    </a:lnTo>
                    <a:lnTo>
                      <a:pt x="715" y="0"/>
                    </a:lnTo>
                    <a:lnTo>
                      <a:pt x="720" y="0"/>
                    </a:lnTo>
                  </a:path>
                </a:pathLst>
              </a:custGeom>
              <a:noFill/>
              <a:ln w="255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9" name=""/>
              <p:cNvSpPr/>
              <p:nvPr/>
            </p:nvSpPr>
            <p:spPr>
              <a:xfrm>
                <a:off x="5959440" y="6051600"/>
                <a:ext cx="1686960" cy="360"/>
              </a:xfrm>
              <a:custGeom>
                <a:avLst/>
                <a:gdLst/>
                <a:ahLst/>
                <a:rect l="l" t="t" r="r" b="b"/>
                <a:pathLst>
                  <a:path w="720" h="0">
                    <a:moveTo>
                      <a:pt x="0" y="0"/>
                    </a:moveTo>
                    <a:lnTo>
                      <a:pt x="6" y="0"/>
                    </a:lnTo>
                    <a:lnTo>
                      <a:pt x="12" y="0"/>
                    </a:lnTo>
                    <a:lnTo>
                      <a:pt x="17" y="0"/>
                    </a:lnTo>
                    <a:lnTo>
                      <a:pt x="23" y="0"/>
                    </a:lnTo>
                    <a:lnTo>
                      <a:pt x="29" y="0"/>
                    </a:lnTo>
                    <a:lnTo>
                      <a:pt x="34" y="0"/>
                    </a:lnTo>
                    <a:lnTo>
                      <a:pt x="40" y="0"/>
                    </a:lnTo>
                    <a:lnTo>
                      <a:pt x="46" y="0"/>
                    </a:lnTo>
                    <a:lnTo>
                      <a:pt x="51" y="0"/>
                    </a:lnTo>
                    <a:lnTo>
                      <a:pt x="57" y="0"/>
                    </a:lnTo>
                    <a:lnTo>
                      <a:pt x="63" y="0"/>
                    </a:lnTo>
                    <a:lnTo>
                      <a:pt x="68" y="0"/>
                    </a:lnTo>
                    <a:lnTo>
                      <a:pt x="74" y="0"/>
                    </a:lnTo>
                    <a:lnTo>
                      <a:pt x="80" y="0"/>
                    </a:lnTo>
                    <a:lnTo>
                      <a:pt x="85" y="0"/>
                    </a:lnTo>
                    <a:lnTo>
                      <a:pt x="91" y="0"/>
                    </a:lnTo>
                    <a:lnTo>
                      <a:pt x="97" y="0"/>
                    </a:lnTo>
                    <a:lnTo>
                      <a:pt x="102" y="0"/>
                    </a:lnTo>
                    <a:lnTo>
                      <a:pt x="108" y="0"/>
                    </a:lnTo>
                    <a:lnTo>
                      <a:pt x="114" y="0"/>
                    </a:lnTo>
                    <a:lnTo>
                      <a:pt x="119" y="0"/>
                    </a:lnTo>
                    <a:lnTo>
                      <a:pt x="125" y="0"/>
                    </a:lnTo>
                    <a:lnTo>
                      <a:pt x="131" y="0"/>
                    </a:lnTo>
                    <a:lnTo>
                      <a:pt x="136" y="0"/>
                    </a:lnTo>
                    <a:lnTo>
                      <a:pt x="142" y="0"/>
                    </a:lnTo>
                    <a:lnTo>
                      <a:pt x="148" y="0"/>
                    </a:lnTo>
                    <a:lnTo>
                      <a:pt x="153" y="0"/>
                    </a:lnTo>
                    <a:lnTo>
                      <a:pt x="159" y="0"/>
                    </a:lnTo>
                    <a:lnTo>
                      <a:pt x="165" y="0"/>
                    </a:lnTo>
                    <a:lnTo>
                      <a:pt x="170" y="0"/>
                    </a:lnTo>
                    <a:lnTo>
                      <a:pt x="176" y="0"/>
                    </a:lnTo>
                    <a:lnTo>
                      <a:pt x="182" y="0"/>
                    </a:lnTo>
                    <a:lnTo>
                      <a:pt x="187" y="0"/>
                    </a:lnTo>
                    <a:lnTo>
                      <a:pt x="193" y="0"/>
                    </a:lnTo>
                    <a:lnTo>
                      <a:pt x="199" y="0"/>
                    </a:lnTo>
                    <a:lnTo>
                      <a:pt x="204" y="0"/>
                    </a:lnTo>
                    <a:lnTo>
                      <a:pt x="210" y="0"/>
                    </a:lnTo>
                    <a:lnTo>
                      <a:pt x="216" y="0"/>
                    </a:lnTo>
                    <a:lnTo>
                      <a:pt x="221" y="0"/>
                    </a:lnTo>
                    <a:lnTo>
                      <a:pt x="227" y="0"/>
                    </a:lnTo>
                    <a:lnTo>
                      <a:pt x="233" y="0"/>
                    </a:lnTo>
                    <a:lnTo>
                      <a:pt x="238" y="0"/>
                    </a:lnTo>
                    <a:lnTo>
                      <a:pt x="244" y="0"/>
                    </a:lnTo>
                    <a:lnTo>
                      <a:pt x="250"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60" y="0"/>
                    </a:lnTo>
                    <a:lnTo>
                      <a:pt x="465" y="0"/>
                    </a:lnTo>
                    <a:lnTo>
                      <a:pt x="471" y="0"/>
                    </a:lnTo>
                    <a:lnTo>
                      <a:pt x="477" y="0"/>
                    </a:lnTo>
                    <a:lnTo>
                      <a:pt x="482" y="0"/>
                    </a:lnTo>
                    <a:lnTo>
                      <a:pt x="488" y="0"/>
                    </a:lnTo>
                    <a:lnTo>
                      <a:pt x="494" y="0"/>
                    </a:lnTo>
                    <a:lnTo>
                      <a:pt x="499" y="0"/>
                    </a:lnTo>
                    <a:lnTo>
                      <a:pt x="505" y="0"/>
                    </a:lnTo>
                    <a:lnTo>
                      <a:pt x="511" y="0"/>
                    </a:lnTo>
                    <a:lnTo>
                      <a:pt x="516" y="0"/>
                    </a:lnTo>
                    <a:lnTo>
                      <a:pt x="522" y="0"/>
                    </a:lnTo>
                    <a:lnTo>
                      <a:pt x="528" y="0"/>
                    </a:lnTo>
                    <a:lnTo>
                      <a:pt x="533" y="0"/>
                    </a:lnTo>
                    <a:lnTo>
                      <a:pt x="539" y="0"/>
                    </a:lnTo>
                    <a:lnTo>
                      <a:pt x="545" y="0"/>
                    </a:lnTo>
                    <a:lnTo>
                      <a:pt x="550" y="0"/>
                    </a:lnTo>
                    <a:lnTo>
                      <a:pt x="556" y="0"/>
                    </a:lnTo>
                    <a:lnTo>
                      <a:pt x="562" y="0"/>
                    </a:lnTo>
                    <a:lnTo>
                      <a:pt x="567" y="0"/>
                    </a:lnTo>
                    <a:lnTo>
                      <a:pt x="573" y="0"/>
                    </a:lnTo>
                    <a:lnTo>
                      <a:pt x="579" y="0"/>
                    </a:lnTo>
                    <a:lnTo>
                      <a:pt x="584" y="0"/>
                    </a:lnTo>
                    <a:lnTo>
                      <a:pt x="590" y="0"/>
                    </a:lnTo>
                    <a:lnTo>
                      <a:pt x="596" y="0"/>
                    </a:lnTo>
                    <a:lnTo>
                      <a:pt x="601" y="0"/>
                    </a:lnTo>
                    <a:lnTo>
                      <a:pt x="607" y="0"/>
                    </a:lnTo>
                    <a:lnTo>
                      <a:pt x="613" y="0"/>
                    </a:lnTo>
                    <a:lnTo>
                      <a:pt x="618" y="0"/>
                    </a:lnTo>
                    <a:lnTo>
                      <a:pt x="624" y="0"/>
                    </a:lnTo>
                    <a:lnTo>
                      <a:pt x="630" y="0"/>
                    </a:lnTo>
                    <a:lnTo>
                      <a:pt x="635" y="0"/>
                    </a:lnTo>
                    <a:lnTo>
                      <a:pt x="641" y="0"/>
                    </a:lnTo>
                    <a:lnTo>
                      <a:pt x="647" y="0"/>
                    </a:lnTo>
                    <a:lnTo>
                      <a:pt x="652" y="0"/>
                    </a:lnTo>
                    <a:lnTo>
                      <a:pt x="658" y="0"/>
                    </a:lnTo>
                    <a:lnTo>
                      <a:pt x="664" y="0"/>
                    </a:lnTo>
                    <a:lnTo>
                      <a:pt x="669" y="0"/>
                    </a:lnTo>
                    <a:lnTo>
                      <a:pt x="675" y="0"/>
                    </a:lnTo>
                    <a:lnTo>
                      <a:pt x="681" y="0"/>
                    </a:lnTo>
                    <a:lnTo>
                      <a:pt x="686" y="0"/>
                    </a:lnTo>
                    <a:lnTo>
                      <a:pt x="692" y="0"/>
                    </a:lnTo>
                    <a:lnTo>
                      <a:pt x="698" y="0"/>
                    </a:lnTo>
                    <a:lnTo>
                      <a:pt x="703" y="0"/>
                    </a:lnTo>
                    <a:lnTo>
                      <a:pt x="709" y="0"/>
                    </a:lnTo>
                    <a:lnTo>
                      <a:pt x="715" y="0"/>
                    </a:lnTo>
                    <a:lnTo>
                      <a:pt x="720" y="0"/>
                    </a:lnTo>
                  </a:path>
                </a:pathLst>
              </a:custGeom>
              <a:noFill/>
              <a:ln w="255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0" name=""/>
              <p:cNvSpPr/>
              <p:nvPr/>
            </p:nvSpPr>
            <p:spPr>
              <a:xfrm>
                <a:off x="7646760" y="6051600"/>
                <a:ext cx="267120" cy="360"/>
              </a:xfrm>
              <a:custGeom>
                <a:avLst/>
                <a:gdLst/>
                <a:ahLst/>
                <a:rect l="l" t="t" r="r" b="b"/>
                <a:pathLst>
                  <a:path w="114" h="0">
                    <a:moveTo>
                      <a:pt x="0" y="0"/>
                    </a:moveTo>
                    <a:lnTo>
                      <a:pt x="6" y="0"/>
                    </a:lnTo>
                    <a:lnTo>
                      <a:pt x="12" y="0"/>
                    </a:lnTo>
                    <a:lnTo>
                      <a:pt x="17" y="0"/>
                    </a:lnTo>
                    <a:lnTo>
                      <a:pt x="23" y="0"/>
                    </a:lnTo>
                    <a:lnTo>
                      <a:pt x="29" y="0"/>
                    </a:lnTo>
                    <a:lnTo>
                      <a:pt x="34" y="0"/>
                    </a:lnTo>
                    <a:lnTo>
                      <a:pt x="40" y="0"/>
                    </a:lnTo>
                    <a:lnTo>
                      <a:pt x="46" y="0"/>
                    </a:lnTo>
                    <a:lnTo>
                      <a:pt x="51" y="0"/>
                    </a:lnTo>
                    <a:lnTo>
                      <a:pt x="57" y="0"/>
                    </a:lnTo>
                    <a:lnTo>
                      <a:pt x="63" y="0"/>
                    </a:lnTo>
                    <a:lnTo>
                      <a:pt x="68" y="0"/>
                    </a:lnTo>
                    <a:lnTo>
                      <a:pt x="74" y="0"/>
                    </a:lnTo>
                    <a:lnTo>
                      <a:pt x="80" y="0"/>
                    </a:lnTo>
                    <a:lnTo>
                      <a:pt x="85" y="0"/>
                    </a:lnTo>
                    <a:lnTo>
                      <a:pt x="91" y="0"/>
                    </a:lnTo>
                    <a:lnTo>
                      <a:pt x="97" y="0"/>
                    </a:lnTo>
                    <a:lnTo>
                      <a:pt x="102" y="0"/>
                    </a:lnTo>
                    <a:lnTo>
                      <a:pt x="108" y="0"/>
                    </a:lnTo>
                    <a:lnTo>
                      <a:pt x="114" y="0"/>
                    </a:lnTo>
                  </a:path>
                </a:pathLst>
              </a:custGeom>
              <a:noFill/>
              <a:ln w="255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391" name=""/>
          <p:cNvSpPr/>
          <p:nvPr/>
        </p:nvSpPr>
        <p:spPr>
          <a:xfrm>
            <a:off x="431280" y="190008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data</a:t>
            </a:r>
            <a:endParaRPr b="0" lang="en-US" sz="1800" spc="-1" strike="noStrike">
              <a:solidFill>
                <a:srgbClr val="000000"/>
              </a:solidFill>
              <a:latin typeface="Times New Roman"/>
            </a:endParaRPr>
          </a:p>
        </p:txBody>
      </p:sp>
      <p:sp>
        <p:nvSpPr>
          <p:cNvPr id="2392" name=""/>
          <p:cNvSpPr/>
          <p:nvPr/>
        </p:nvSpPr>
        <p:spPr>
          <a:xfrm>
            <a:off x="439200" y="3530520"/>
            <a:ext cx="9532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t)</a:t>
            </a:r>
            <a:endParaRPr b="0" lang="en-US" sz="1800" spc="-1" strike="noStrike">
              <a:solidFill>
                <a:srgbClr val="000000"/>
              </a:solidFill>
              <a:latin typeface="Times New Roman"/>
            </a:endParaRPr>
          </a:p>
        </p:txBody>
      </p:sp>
      <p:sp>
        <p:nvSpPr>
          <p:cNvPr id="2393" name=""/>
          <p:cNvSpPr/>
          <p:nvPr/>
        </p:nvSpPr>
        <p:spPr>
          <a:xfrm>
            <a:off x="423720" y="5533920"/>
            <a:ext cx="16527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zan’s level of surprise</a:t>
            </a:r>
            <a:endParaRPr b="0" lang="en-US" sz="1800" spc="-1" strike="noStrike">
              <a:solidFill>
                <a:srgbClr val="000000"/>
              </a:solidFill>
              <a:latin typeface="Times New Roman"/>
            </a:endParaRPr>
          </a:p>
        </p:txBody>
      </p:sp>
      <p:sp>
        <p:nvSpPr>
          <p:cNvPr id="2394" name=""/>
          <p:cNvSpPr/>
          <p:nvPr/>
        </p:nvSpPr>
        <p:spPr>
          <a:xfrm>
            <a:off x="3022920" y="6327720"/>
            <a:ext cx="464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zoom in on this section in the next slide</a:t>
            </a:r>
            <a:endParaRPr b="0" lang="en-US" sz="2000" spc="-1" strike="noStrike">
              <a:solidFill>
                <a:srgbClr val="000000"/>
              </a:solidFill>
              <a:latin typeface="Times New Roman"/>
            </a:endParaRPr>
          </a:p>
        </p:txBody>
      </p:sp>
      <p:sp>
        <p:nvSpPr>
          <p:cNvPr id="2395" name=""/>
          <p:cNvSpPr/>
          <p:nvPr/>
        </p:nvSpPr>
        <p:spPr>
          <a:xfrm flipH="1" flipV="1">
            <a:off x="2960640" y="6173640"/>
            <a:ext cx="16056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6" name=""/>
          <p:cNvSpPr/>
          <p:nvPr/>
        </p:nvSpPr>
        <p:spPr>
          <a:xfrm>
            <a:off x="563400" y="5122800"/>
            <a:ext cx="7834320" cy="1735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176760" y="0"/>
            <a:ext cx="8646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Experiment 2: Video </a:t>
            </a:r>
            <a:r>
              <a:rPr b="0" lang="en-US" sz="4400" spc="-1" strike="noStrike">
                <a:solidFill>
                  <a:srgbClr val="000000"/>
                </a:solidFill>
                <a:latin typeface="Times New Roman"/>
                <a:ea typeface="Times New Roman"/>
              </a:rPr>
              <a:t>(Part 2)</a:t>
            </a:r>
            <a:r>
              <a:rPr b="0" lang="en-US"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398" name=""/>
          <p:cNvSpPr/>
          <p:nvPr/>
        </p:nvSpPr>
        <p:spPr>
          <a:xfrm>
            <a:off x="1112760" y="5254560"/>
            <a:ext cx="6653160" cy="134640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1112760" y="5254560"/>
            <a:ext cx="66531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0" name=""/>
          <p:cNvSpPr/>
          <p:nvPr/>
        </p:nvSpPr>
        <p:spPr>
          <a:xfrm>
            <a:off x="1112760" y="5254560"/>
            <a:ext cx="6653160" cy="1346400"/>
          </a:xfrm>
          <a:custGeom>
            <a:avLst/>
            <a:gdLst/>
            <a:ahLst/>
            <a:rect l="l" t="t" r="r" b="b"/>
            <a:pathLst>
              <a:path w="681" h="343">
                <a:moveTo>
                  <a:pt x="0" y="343"/>
                </a:moveTo>
                <a:lnTo>
                  <a:pt x="681" y="343"/>
                </a:lnTo>
                <a:lnTo>
                  <a:pt x="68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flipV="1">
            <a:off x="1112760" y="5254560"/>
            <a:ext cx="0" cy="134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1112760" y="6600960"/>
            <a:ext cx="6653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flipV="1">
            <a:off x="1112760" y="5254560"/>
            <a:ext cx="0" cy="134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flipV="1">
            <a:off x="1112760" y="657072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05" name=""/>
          <p:cNvSpPr/>
          <p:nvPr/>
        </p:nvSpPr>
        <p:spPr>
          <a:xfrm>
            <a:off x="1112760" y="526104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6" name=""/>
          <p:cNvSpPr/>
          <p:nvPr/>
        </p:nvSpPr>
        <p:spPr>
          <a:xfrm>
            <a:off x="1081080" y="6610320"/>
            <a:ext cx="6336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Times New Roman"/>
            </a:endParaRPr>
          </a:p>
        </p:txBody>
      </p:sp>
      <p:sp>
        <p:nvSpPr>
          <p:cNvPr id="2407" name=""/>
          <p:cNvSpPr/>
          <p:nvPr/>
        </p:nvSpPr>
        <p:spPr>
          <a:xfrm flipV="1">
            <a:off x="2058840" y="657072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08" name=""/>
          <p:cNvSpPr/>
          <p:nvPr/>
        </p:nvSpPr>
        <p:spPr>
          <a:xfrm>
            <a:off x="2058840" y="526104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9" name=""/>
          <p:cNvSpPr/>
          <p:nvPr/>
        </p:nvSpPr>
        <p:spPr>
          <a:xfrm>
            <a:off x="1962000" y="6610320"/>
            <a:ext cx="19080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0</a:t>
            </a:r>
            <a:endParaRPr b="0" lang="en-US" sz="500" spc="-1" strike="noStrike">
              <a:solidFill>
                <a:srgbClr val="000000"/>
              </a:solidFill>
              <a:latin typeface="Times New Roman"/>
            </a:endParaRPr>
          </a:p>
        </p:txBody>
      </p:sp>
      <p:sp>
        <p:nvSpPr>
          <p:cNvPr id="2410" name=""/>
          <p:cNvSpPr/>
          <p:nvPr/>
        </p:nvSpPr>
        <p:spPr>
          <a:xfrm flipV="1">
            <a:off x="3006720" y="6570720"/>
            <a:ext cx="32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11" name=""/>
          <p:cNvSpPr/>
          <p:nvPr/>
        </p:nvSpPr>
        <p:spPr>
          <a:xfrm>
            <a:off x="3006720" y="5261040"/>
            <a:ext cx="32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2" name=""/>
          <p:cNvSpPr/>
          <p:nvPr/>
        </p:nvSpPr>
        <p:spPr>
          <a:xfrm>
            <a:off x="2908440" y="6610320"/>
            <a:ext cx="1936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0</a:t>
            </a:r>
            <a:endParaRPr b="0" lang="en-US" sz="500" spc="-1" strike="noStrike">
              <a:solidFill>
                <a:srgbClr val="000000"/>
              </a:solidFill>
              <a:latin typeface="Times New Roman"/>
            </a:endParaRPr>
          </a:p>
        </p:txBody>
      </p:sp>
      <p:sp>
        <p:nvSpPr>
          <p:cNvPr id="2413" name=""/>
          <p:cNvSpPr/>
          <p:nvPr/>
        </p:nvSpPr>
        <p:spPr>
          <a:xfrm flipV="1">
            <a:off x="3956040" y="657072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14" name=""/>
          <p:cNvSpPr/>
          <p:nvPr/>
        </p:nvSpPr>
        <p:spPr>
          <a:xfrm>
            <a:off x="3956040" y="526104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5" name=""/>
          <p:cNvSpPr/>
          <p:nvPr/>
        </p:nvSpPr>
        <p:spPr>
          <a:xfrm>
            <a:off x="3854520" y="6610320"/>
            <a:ext cx="1936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0</a:t>
            </a:r>
            <a:endParaRPr b="0" lang="en-US" sz="500" spc="-1" strike="noStrike">
              <a:solidFill>
                <a:srgbClr val="000000"/>
              </a:solidFill>
              <a:latin typeface="Times New Roman"/>
            </a:endParaRPr>
          </a:p>
        </p:txBody>
      </p:sp>
      <p:sp>
        <p:nvSpPr>
          <p:cNvPr id="2416" name=""/>
          <p:cNvSpPr/>
          <p:nvPr/>
        </p:nvSpPr>
        <p:spPr>
          <a:xfrm flipV="1">
            <a:off x="4911840" y="657072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17" name=""/>
          <p:cNvSpPr/>
          <p:nvPr/>
        </p:nvSpPr>
        <p:spPr>
          <a:xfrm>
            <a:off x="4911840" y="52610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8" name=""/>
          <p:cNvSpPr/>
          <p:nvPr/>
        </p:nvSpPr>
        <p:spPr>
          <a:xfrm>
            <a:off x="4816440" y="6610320"/>
            <a:ext cx="1936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0</a:t>
            </a:r>
            <a:endParaRPr b="0" lang="en-US" sz="500" spc="-1" strike="noStrike">
              <a:solidFill>
                <a:srgbClr val="000000"/>
              </a:solidFill>
              <a:latin typeface="Times New Roman"/>
            </a:endParaRPr>
          </a:p>
        </p:txBody>
      </p:sp>
      <p:sp>
        <p:nvSpPr>
          <p:cNvPr id="2419" name=""/>
          <p:cNvSpPr/>
          <p:nvPr/>
        </p:nvSpPr>
        <p:spPr>
          <a:xfrm flipV="1">
            <a:off x="5859360" y="657072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0" name=""/>
          <p:cNvSpPr/>
          <p:nvPr/>
        </p:nvSpPr>
        <p:spPr>
          <a:xfrm>
            <a:off x="5859360" y="52610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1" name=""/>
          <p:cNvSpPr/>
          <p:nvPr/>
        </p:nvSpPr>
        <p:spPr>
          <a:xfrm>
            <a:off x="5765760" y="6610320"/>
            <a:ext cx="19044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0</a:t>
            </a:r>
            <a:endParaRPr b="0" lang="en-US" sz="500" spc="-1" strike="noStrike">
              <a:solidFill>
                <a:srgbClr val="000000"/>
              </a:solidFill>
              <a:latin typeface="Times New Roman"/>
            </a:endParaRPr>
          </a:p>
        </p:txBody>
      </p:sp>
      <p:sp>
        <p:nvSpPr>
          <p:cNvPr id="2422" name=""/>
          <p:cNvSpPr/>
          <p:nvPr/>
        </p:nvSpPr>
        <p:spPr>
          <a:xfrm flipV="1">
            <a:off x="6805440" y="6570720"/>
            <a:ext cx="32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3" name=""/>
          <p:cNvSpPr/>
          <p:nvPr/>
        </p:nvSpPr>
        <p:spPr>
          <a:xfrm>
            <a:off x="6805440" y="5261040"/>
            <a:ext cx="32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4" name=""/>
          <p:cNvSpPr/>
          <p:nvPr/>
        </p:nvSpPr>
        <p:spPr>
          <a:xfrm>
            <a:off x="6707160" y="6610320"/>
            <a:ext cx="1951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00</a:t>
            </a:r>
            <a:endParaRPr b="0" lang="en-US" sz="500" spc="-1" strike="noStrike">
              <a:solidFill>
                <a:srgbClr val="000000"/>
              </a:solidFill>
              <a:latin typeface="Times New Roman"/>
            </a:endParaRPr>
          </a:p>
        </p:txBody>
      </p:sp>
      <p:sp>
        <p:nvSpPr>
          <p:cNvPr id="2425" name=""/>
          <p:cNvSpPr/>
          <p:nvPr/>
        </p:nvSpPr>
        <p:spPr>
          <a:xfrm flipV="1">
            <a:off x="7765920" y="657072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6" name=""/>
          <p:cNvSpPr/>
          <p:nvPr/>
        </p:nvSpPr>
        <p:spPr>
          <a:xfrm>
            <a:off x="7765920" y="526104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7" name=""/>
          <p:cNvSpPr/>
          <p:nvPr/>
        </p:nvSpPr>
        <p:spPr>
          <a:xfrm>
            <a:off x="7667640" y="6610320"/>
            <a:ext cx="1936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00</a:t>
            </a:r>
            <a:endParaRPr b="0" lang="en-US" sz="500" spc="-1" strike="noStrike">
              <a:solidFill>
                <a:srgbClr val="000000"/>
              </a:solidFill>
              <a:latin typeface="Times New Roman"/>
            </a:endParaRPr>
          </a:p>
        </p:txBody>
      </p:sp>
      <p:sp>
        <p:nvSpPr>
          <p:cNvPr id="2428" name=""/>
          <p:cNvSpPr/>
          <p:nvPr/>
        </p:nvSpPr>
        <p:spPr>
          <a:xfrm>
            <a:off x="1112760" y="6600960"/>
            <a:ext cx="55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flipH="1">
            <a:off x="7696080" y="6600960"/>
            <a:ext cx="69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857160" y="6566040"/>
            <a:ext cx="25236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0</a:t>
            </a:r>
            <a:endParaRPr b="0" lang="en-US" sz="500" spc="-1" strike="noStrike">
              <a:solidFill>
                <a:srgbClr val="000000"/>
              </a:solidFill>
              <a:latin typeface="Times New Roman"/>
            </a:endParaRPr>
          </a:p>
        </p:txBody>
      </p:sp>
      <p:sp>
        <p:nvSpPr>
          <p:cNvPr id="2431" name=""/>
          <p:cNvSpPr/>
          <p:nvPr/>
        </p:nvSpPr>
        <p:spPr>
          <a:xfrm>
            <a:off x="1112760" y="6377040"/>
            <a:ext cx="55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flipH="1">
            <a:off x="7696080" y="6377040"/>
            <a:ext cx="69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857160" y="6345360"/>
            <a:ext cx="25236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0</a:t>
            </a:r>
            <a:endParaRPr b="0" lang="en-US" sz="500" spc="-1" strike="noStrike">
              <a:solidFill>
                <a:srgbClr val="000000"/>
              </a:solidFill>
              <a:latin typeface="Times New Roman"/>
            </a:endParaRPr>
          </a:p>
        </p:txBody>
      </p:sp>
      <p:sp>
        <p:nvSpPr>
          <p:cNvPr id="2434" name=""/>
          <p:cNvSpPr/>
          <p:nvPr/>
        </p:nvSpPr>
        <p:spPr>
          <a:xfrm>
            <a:off x="1112760" y="61516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5" name=""/>
          <p:cNvSpPr/>
          <p:nvPr/>
        </p:nvSpPr>
        <p:spPr>
          <a:xfrm flipH="1">
            <a:off x="7696080" y="615168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6" name=""/>
          <p:cNvSpPr/>
          <p:nvPr/>
        </p:nvSpPr>
        <p:spPr>
          <a:xfrm>
            <a:off x="857160" y="6119640"/>
            <a:ext cx="25236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0</a:t>
            </a:r>
            <a:endParaRPr b="0" lang="en-US" sz="500" spc="-1" strike="noStrike">
              <a:solidFill>
                <a:srgbClr val="000000"/>
              </a:solidFill>
              <a:latin typeface="Times New Roman"/>
            </a:endParaRPr>
          </a:p>
        </p:txBody>
      </p:sp>
      <p:sp>
        <p:nvSpPr>
          <p:cNvPr id="2437" name=""/>
          <p:cNvSpPr/>
          <p:nvPr/>
        </p:nvSpPr>
        <p:spPr>
          <a:xfrm>
            <a:off x="1112760" y="5931000"/>
            <a:ext cx="55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flipH="1">
            <a:off x="7696080" y="5931000"/>
            <a:ext cx="69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857160" y="5899320"/>
            <a:ext cx="25236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50</a:t>
            </a:r>
            <a:endParaRPr b="0" lang="en-US" sz="500" spc="-1" strike="noStrike">
              <a:solidFill>
                <a:srgbClr val="000000"/>
              </a:solidFill>
              <a:latin typeface="Times New Roman"/>
            </a:endParaRPr>
          </a:p>
        </p:txBody>
      </p:sp>
      <p:sp>
        <p:nvSpPr>
          <p:cNvPr id="2440" name=""/>
          <p:cNvSpPr/>
          <p:nvPr/>
        </p:nvSpPr>
        <p:spPr>
          <a:xfrm>
            <a:off x="1112760" y="5707080"/>
            <a:ext cx="55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flipH="1">
            <a:off x="7696080" y="5707080"/>
            <a:ext cx="69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857160" y="5675400"/>
            <a:ext cx="25236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0</a:t>
            </a:r>
            <a:endParaRPr b="0" lang="en-US" sz="500" spc="-1" strike="noStrike">
              <a:solidFill>
                <a:srgbClr val="000000"/>
              </a:solidFill>
              <a:latin typeface="Times New Roman"/>
            </a:endParaRPr>
          </a:p>
        </p:txBody>
      </p:sp>
      <p:sp>
        <p:nvSpPr>
          <p:cNvPr id="2443" name=""/>
          <p:cNvSpPr/>
          <p:nvPr/>
        </p:nvSpPr>
        <p:spPr>
          <a:xfrm>
            <a:off x="1112760" y="5483160"/>
            <a:ext cx="55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4" name=""/>
          <p:cNvSpPr/>
          <p:nvPr/>
        </p:nvSpPr>
        <p:spPr>
          <a:xfrm flipH="1">
            <a:off x="7696080" y="5483160"/>
            <a:ext cx="69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5" name=""/>
          <p:cNvSpPr/>
          <p:nvPr/>
        </p:nvSpPr>
        <p:spPr>
          <a:xfrm>
            <a:off x="857160" y="5446800"/>
            <a:ext cx="25236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50</a:t>
            </a:r>
            <a:endParaRPr b="0" lang="en-US" sz="500" spc="-1" strike="noStrike">
              <a:solidFill>
                <a:srgbClr val="000000"/>
              </a:solidFill>
              <a:latin typeface="Times New Roman"/>
            </a:endParaRPr>
          </a:p>
        </p:txBody>
      </p:sp>
      <p:sp>
        <p:nvSpPr>
          <p:cNvPr id="2446" name=""/>
          <p:cNvSpPr/>
          <p:nvPr/>
        </p:nvSpPr>
        <p:spPr>
          <a:xfrm>
            <a:off x="1112760" y="526104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7" name=""/>
          <p:cNvSpPr/>
          <p:nvPr/>
        </p:nvSpPr>
        <p:spPr>
          <a:xfrm flipH="1">
            <a:off x="7696080" y="526104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8" name=""/>
          <p:cNvSpPr/>
          <p:nvPr/>
        </p:nvSpPr>
        <p:spPr>
          <a:xfrm>
            <a:off x="857160" y="5230800"/>
            <a:ext cx="25236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0</a:t>
            </a:r>
            <a:endParaRPr b="0" lang="en-US" sz="500" spc="-1" strike="noStrike">
              <a:solidFill>
                <a:srgbClr val="000000"/>
              </a:solidFill>
              <a:latin typeface="Times New Roman"/>
            </a:endParaRPr>
          </a:p>
        </p:txBody>
      </p:sp>
      <p:sp>
        <p:nvSpPr>
          <p:cNvPr id="2449" name=""/>
          <p:cNvSpPr/>
          <p:nvPr/>
        </p:nvSpPr>
        <p:spPr>
          <a:xfrm>
            <a:off x="1112760" y="5254560"/>
            <a:ext cx="66531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50" name=""/>
          <p:cNvSpPr/>
          <p:nvPr/>
        </p:nvSpPr>
        <p:spPr>
          <a:xfrm>
            <a:off x="1112760" y="5254560"/>
            <a:ext cx="6653160" cy="1346400"/>
          </a:xfrm>
          <a:custGeom>
            <a:avLst/>
            <a:gdLst/>
            <a:ahLst/>
            <a:rect l="l" t="t" r="r" b="b"/>
            <a:pathLst>
              <a:path w="681" h="343">
                <a:moveTo>
                  <a:pt x="0" y="343"/>
                </a:moveTo>
                <a:lnTo>
                  <a:pt x="681" y="343"/>
                </a:lnTo>
                <a:lnTo>
                  <a:pt x="68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flipV="1">
            <a:off x="1112760" y="5254560"/>
            <a:ext cx="0" cy="134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1112760" y="5284800"/>
            <a:ext cx="1222560" cy="1200240"/>
          </a:xfrm>
          <a:custGeom>
            <a:avLst/>
            <a:gdLst/>
            <a:ahLst/>
            <a:rect l="l" t="t" r="r" b="b"/>
            <a:pathLst>
              <a:path w="709" h="1632">
                <a:moveTo>
                  <a:pt x="0" y="27"/>
                </a:moveTo>
                <a:lnTo>
                  <a:pt x="6" y="27"/>
                </a:lnTo>
                <a:lnTo>
                  <a:pt x="12" y="27"/>
                </a:lnTo>
                <a:lnTo>
                  <a:pt x="17" y="27"/>
                </a:lnTo>
                <a:lnTo>
                  <a:pt x="23" y="32"/>
                </a:lnTo>
                <a:lnTo>
                  <a:pt x="29" y="32"/>
                </a:lnTo>
                <a:lnTo>
                  <a:pt x="34" y="38"/>
                </a:lnTo>
                <a:lnTo>
                  <a:pt x="40" y="38"/>
                </a:lnTo>
                <a:lnTo>
                  <a:pt x="46" y="43"/>
                </a:lnTo>
                <a:lnTo>
                  <a:pt x="51" y="54"/>
                </a:lnTo>
                <a:lnTo>
                  <a:pt x="57" y="69"/>
                </a:lnTo>
                <a:lnTo>
                  <a:pt x="63" y="80"/>
                </a:lnTo>
                <a:lnTo>
                  <a:pt x="68" y="96"/>
                </a:lnTo>
                <a:lnTo>
                  <a:pt x="74" y="107"/>
                </a:lnTo>
                <a:lnTo>
                  <a:pt x="80" y="117"/>
                </a:lnTo>
                <a:lnTo>
                  <a:pt x="85" y="123"/>
                </a:lnTo>
                <a:lnTo>
                  <a:pt x="91" y="133"/>
                </a:lnTo>
                <a:lnTo>
                  <a:pt x="97" y="139"/>
                </a:lnTo>
                <a:lnTo>
                  <a:pt x="102" y="149"/>
                </a:lnTo>
                <a:lnTo>
                  <a:pt x="108" y="154"/>
                </a:lnTo>
                <a:lnTo>
                  <a:pt x="114" y="165"/>
                </a:lnTo>
                <a:lnTo>
                  <a:pt x="119" y="170"/>
                </a:lnTo>
                <a:lnTo>
                  <a:pt x="125" y="176"/>
                </a:lnTo>
                <a:lnTo>
                  <a:pt x="131" y="181"/>
                </a:lnTo>
                <a:lnTo>
                  <a:pt x="136" y="181"/>
                </a:lnTo>
                <a:lnTo>
                  <a:pt x="142" y="181"/>
                </a:lnTo>
                <a:lnTo>
                  <a:pt x="148" y="186"/>
                </a:lnTo>
                <a:lnTo>
                  <a:pt x="153" y="192"/>
                </a:lnTo>
                <a:lnTo>
                  <a:pt x="159" y="192"/>
                </a:lnTo>
                <a:lnTo>
                  <a:pt x="165" y="192"/>
                </a:lnTo>
                <a:lnTo>
                  <a:pt x="170" y="186"/>
                </a:lnTo>
                <a:lnTo>
                  <a:pt x="176" y="181"/>
                </a:lnTo>
                <a:lnTo>
                  <a:pt x="182" y="176"/>
                </a:lnTo>
                <a:lnTo>
                  <a:pt x="187" y="170"/>
                </a:lnTo>
                <a:lnTo>
                  <a:pt x="193" y="170"/>
                </a:lnTo>
                <a:lnTo>
                  <a:pt x="199" y="192"/>
                </a:lnTo>
                <a:lnTo>
                  <a:pt x="199" y="218"/>
                </a:lnTo>
                <a:lnTo>
                  <a:pt x="204" y="261"/>
                </a:lnTo>
                <a:lnTo>
                  <a:pt x="210" y="319"/>
                </a:lnTo>
                <a:lnTo>
                  <a:pt x="216" y="378"/>
                </a:lnTo>
                <a:lnTo>
                  <a:pt x="221" y="436"/>
                </a:lnTo>
                <a:lnTo>
                  <a:pt x="227" y="500"/>
                </a:lnTo>
                <a:lnTo>
                  <a:pt x="233" y="553"/>
                </a:lnTo>
                <a:lnTo>
                  <a:pt x="238" y="596"/>
                </a:lnTo>
                <a:lnTo>
                  <a:pt x="244" y="654"/>
                </a:lnTo>
                <a:lnTo>
                  <a:pt x="250" y="723"/>
                </a:lnTo>
                <a:lnTo>
                  <a:pt x="255" y="813"/>
                </a:lnTo>
                <a:lnTo>
                  <a:pt x="261" y="930"/>
                </a:lnTo>
                <a:lnTo>
                  <a:pt x="267" y="1053"/>
                </a:lnTo>
                <a:lnTo>
                  <a:pt x="272" y="1191"/>
                </a:lnTo>
                <a:lnTo>
                  <a:pt x="278" y="1324"/>
                </a:lnTo>
                <a:lnTo>
                  <a:pt x="284" y="1441"/>
                </a:lnTo>
                <a:lnTo>
                  <a:pt x="289" y="1536"/>
                </a:lnTo>
                <a:lnTo>
                  <a:pt x="295" y="1600"/>
                </a:lnTo>
                <a:lnTo>
                  <a:pt x="301" y="1627"/>
                </a:lnTo>
                <a:lnTo>
                  <a:pt x="306" y="1632"/>
                </a:lnTo>
                <a:lnTo>
                  <a:pt x="312" y="1616"/>
                </a:lnTo>
                <a:lnTo>
                  <a:pt x="318" y="1600"/>
                </a:lnTo>
                <a:lnTo>
                  <a:pt x="323" y="1595"/>
                </a:lnTo>
                <a:lnTo>
                  <a:pt x="329" y="1589"/>
                </a:lnTo>
                <a:lnTo>
                  <a:pt x="335" y="1584"/>
                </a:lnTo>
                <a:lnTo>
                  <a:pt x="340" y="1579"/>
                </a:lnTo>
                <a:lnTo>
                  <a:pt x="346" y="1573"/>
                </a:lnTo>
                <a:lnTo>
                  <a:pt x="352" y="1568"/>
                </a:lnTo>
                <a:lnTo>
                  <a:pt x="357" y="1557"/>
                </a:lnTo>
                <a:lnTo>
                  <a:pt x="363" y="1552"/>
                </a:lnTo>
                <a:lnTo>
                  <a:pt x="369" y="1542"/>
                </a:lnTo>
                <a:lnTo>
                  <a:pt x="374" y="1531"/>
                </a:lnTo>
                <a:lnTo>
                  <a:pt x="380" y="1504"/>
                </a:lnTo>
                <a:lnTo>
                  <a:pt x="386" y="1478"/>
                </a:lnTo>
                <a:lnTo>
                  <a:pt x="391" y="1430"/>
                </a:lnTo>
                <a:lnTo>
                  <a:pt x="397" y="1371"/>
                </a:lnTo>
                <a:lnTo>
                  <a:pt x="403" y="1297"/>
                </a:lnTo>
                <a:lnTo>
                  <a:pt x="403" y="1207"/>
                </a:lnTo>
                <a:lnTo>
                  <a:pt x="408" y="1106"/>
                </a:lnTo>
                <a:lnTo>
                  <a:pt x="414" y="999"/>
                </a:lnTo>
                <a:lnTo>
                  <a:pt x="420" y="888"/>
                </a:lnTo>
                <a:lnTo>
                  <a:pt x="425" y="782"/>
                </a:lnTo>
                <a:lnTo>
                  <a:pt x="431" y="702"/>
                </a:lnTo>
                <a:lnTo>
                  <a:pt x="437" y="638"/>
                </a:lnTo>
                <a:lnTo>
                  <a:pt x="442" y="585"/>
                </a:lnTo>
                <a:lnTo>
                  <a:pt x="448" y="537"/>
                </a:lnTo>
                <a:lnTo>
                  <a:pt x="454" y="489"/>
                </a:lnTo>
                <a:lnTo>
                  <a:pt x="459" y="447"/>
                </a:lnTo>
                <a:lnTo>
                  <a:pt x="465" y="394"/>
                </a:lnTo>
                <a:lnTo>
                  <a:pt x="471" y="346"/>
                </a:lnTo>
                <a:lnTo>
                  <a:pt x="476" y="303"/>
                </a:lnTo>
                <a:lnTo>
                  <a:pt x="482" y="266"/>
                </a:lnTo>
                <a:lnTo>
                  <a:pt x="488" y="245"/>
                </a:lnTo>
                <a:lnTo>
                  <a:pt x="493" y="229"/>
                </a:lnTo>
                <a:lnTo>
                  <a:pt x="499" y="224"/>
                </a:lnTo>
                <a:lnTo>
                  <a:pt x="505" y="229"/>
                </a:lnTo>
                <a:lnTo>
                  <a:pt x="510" y="245"/>
                </a:lnTo>
                <a:lnTo>
                  <a:pt x="516" y="255"/>
                </a:lnTo>
                <a:lnTo>
                  <a:pt x="522" y="240"/>
                </a:lnTo>
                <a:lnTo>
                  <a:pt x="527" y="202"/>
                </a:lnTo>
                <a:lnTo>
                  <a:pt x="533" y="144"/>
                </a:lnTo>
                <a:lnTo>
                  <a:pt x="539" y="85"/>
                </a:lnTo>
                <a:lnTo>
                  <a:pt x="544" y="38"/>
                </a:lnTo>
                <a:lnTo>
                  <a:pt x="550" y="11"/>
                </a:lnTo>
                <a:lnTo>
                  <a:pt x="556" y="0"/>
                </a:lnTo>
                <a:lnTo>
                  <a:pt x="561" y="0"/>
                </a:lnTo>
                <a:lnTo>
                  <a:pt x="567" y="6"/>
                </a:lnTo>
                <a:lnTo>
                  <a:pt x="573" y="11"/>
                </a:lnTo>
                <a:lnTo>
                  <a:pt x="578" y="11"/>
                </a:lnTo>
                <a:lnTo>
                  <a:pt x="584" y="11"/>
                </a:lnTo>
                <a:lnTo>
                  <a:pt x="590" y="6"/>
                </a:lnTo>
                <a:lnTo>
                  <a:pt x="595" y="6"/>
                </a:lnTo>
                <a:lnTo>
                  <a:pt x="601" y="6"/>
                </a:lnTo>
                <a:lnTo>
                  <a:pt x="607" y="6"/>
                </a:lnTo>
                <a:lnTo>
                  <a:pt x="613" y="6"/>
                </a:lnTo>
                <a:lnTo>
                  <a:pt x="618" y="6"/>
                </a:lnTo>
                <a:lnTo>
                  <a:pt x="624" y="6"/>
                </a:lnTo>
                <a:lnTo>
                  <a:pt x="630" y="11"/>
                </a:lnTo>
                <a:lnTo>
                  <a:pt x="635" y="11"/>
                </a:lnTo>
                <a:lnTo>
                  <a:pt x="641" y="11"/>
                </a:lnTo>
                <a:lnTo>
                  <a:pt x="647" y="11"/>
                </a:lnTo>
                <a:lnTo>
                  <a:pt x="652" y="11"/>
                </a:lnTo>
                <a:lnTo>
                  <a:pt x="658" y="11"/>
                </a:lnTo>
                <a:lnTo>
                  <a:pt x="664" y="16"/>
                </a:lnTo>
                <a:lnTo>
                  <a:pt x="669" y="16"/>
                </a:lnTo>
                <a:lnTo>
                  <a:pt x="675" y="22"/>
                </a:lnTo>
                <a:lnTo>
                  <a:pt x="681" y="22"/>
                </a:lnTo>
                <a:lnTo>
                  <a:pt x="686" y="22"/>
                </a:lnTo>
                <a:lnTo>
                  <a:pt x="692" y="22"/>
                </a:lnTo>
                <a:lnTo>
                  <a:pt x="698" y="22"/>
                </a:lnTo>
                <a:lnTo>
                  <a:pt x="703" y="22"/>
                </a:lnTo>
                <a:lnTo>
                  <a:pt x="709" y="27"/>
                </a:lnTo>
              </a:path>
            </a:pathLst>
          </a:custGeom>
          <a:noFill/>
          <a:ln w="158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2335320" y="5303880"/>
            <a:ext cx="1216080" cy="1166760"/>
          </a:xfrm>
          <a:custGeom>
            <a:avLst/>
            <a:gdLst/>
            <a:ahLst/>
            <a:rect l="l" t="t" r="r" b="b"/>
            <a:pathLst>
              <a:path w="708" h="1584">
                <a:moveTo>
                  <a:pt x="0" y="0"/>
                </a:moveTo>
                <a:lnTo>
                  <a:pt x="6" y="0"/>
                </a:lnTo>
                <a:lnTo>
                  <a:pt x="11" y="0"/>
                </a:lnTo>
                <a:lnTo>
                  <a:pt x="17" y="0"/>
                </a:lnTo>
                <a:lnTo>
                  <a:pt x="23" y="0"/>
                </a:lnTo>
                <a:lnTo>
                  <a:pt x="28" y="0"/>
                </a:lnTo>
                <a:lnTo>
                  <a:pt x="34" y="0"/>
                </a:lnTo>
                <a:lnTo>
                  <a:pt x="40" y="0"/>
                </a:lnTo>
                <a:lnTo>
                  <a:pt x="45" y="0"/>
                </a:lnTo>
                <a:lnTo>
                  <a:pt x="51" y="5"/>
                </a:lnTo>
                <a:lnTo>
                  <a:pt x="57" y="0"/>
                </a:lnTo>
                <a:lnTo>
                  <a:pt x="62" y="0"/>
                </a:lnTo>
                <a:lnTo>
                  <a:pt x="68" y="0"/>
                </a:lnTo>
                <a:lnTo>
                  <a:pt x="74" y="0"/>
                </a:lnTo>
                <a:lnTo>
                  <a:pt x="79" y="5"/>
                </a:lnTo>
                <a:lnTo>
                  <a:pt x="85" y="5"/>
                </a:lnTo>
                <a:lnTo>
                  <a:pt x="91" y="5"/>
                </a:lnTo>
                <a:lnTo>
                  <a:pt x="96" y="5"/>
                </a:lnTo>
                <a:lnTo>
                  <a:pt x="102" y="5"/>
                </a:lnTo>
                <a:lnTo>
                  <a:pt x="108" y="5"/>
                </a:lnTo>
                <a:lnTo>
                  <a:pt x="113" y="5"/>
                </a:lnTo>
                <a:lnTo>
                  <a:pt x="119" y="5"/>
                </a:lnTo>
                <a:lnTo>
                  <a:pt x="125" y="5"/>
                </a:lnTo>
                <a:lnTo>
                  <a:pt x="130" y="11"/>
                </a:lnTo>
                <a:lnTo>
                  <a:pt x="136" y="11"/>
                </a:lnTo>
                <a:lnTo>
                  <a:pt x="142" y="11"/>
                </a:lnTo>
                <a:lnTo>
                  <a:pt x="147" y="11"/>
                </a:lnTo>
                <a:lnTo>
                  <a:pt x="153" y="16"/>
                </a:lnTo>
                <a:lnTo>
                  <a:pt x="159" y="11"/>
                </a:lnTo>
                <a:lnTo>
                  <a:pt x="164" y="16"/>
                </a:lnTo>
                <a:lnTo>
                  <a:pt x="170" y="21"/>
                </a:lnTo>
                <a:lnTo>
                  <a:pt x="176" y="21"/>
                </a:lnTo>
                <a:lnTo>
                  <a:pt x="181" y="21"/>
                </a:lnTo>
                <a:lnTo>
                  <a:pt x="187" y="21"/>
                </a:lnTo>
                <a:lnTo>
                  <a:pt x="193" y="21"/>
                </a:lnTo>
                <a:lnTo>
                  <a:pt x="198" y="21"/>
                </a:lnTo>
                <a:lnTo>
                  <a:pt x="204" y="16"/>
                </a:lnTo>
                <a:lnTo>
                  <a:pt x="210" y="21"/>
                </a:lnTo>
                <a:lnTo>
                  <a:pt x="215" y="21"/>
                </a:lnTo>
                <a:lnTo>
                  <a:pt x="221" y="21"/>
                </a:lnTo>
                <a:lnTo>
                  <a:pt x="227" y="16"/>
                </a:lnTo>
                <a:lnTo>
                  <a:pt x="232" y="16"/>
                </a:lnTo>
                <a:lnTo>
                  <a:pt x="238" y="16"/>
                </a:lnTo>
                <a:lnTo>
                  <a:pt x="244" y="21"/>
                </a:lnTo>
                <a:lnTo>
                  <a:pt x="249" y="21"/>
                </a:lnTo>
                <a:lnTo>
                  <a:pt x="255" y="21"/>
                </a:lnTo>
                <a:lnTo>
                  <a:pt x="261" y="21"/>
                </a:lnTo>
                <a:lnTo>
                  <a:pt x="266" y="32"/>
                </a:lnTo>
                <a:lnTo>
                  <a:pt x="272" y="53"/>
                </a:lnTo>
                <a:lnTo>
                  <a:pt x="278" y="90"/>
                </a:lnTo>
                <a:lnTo>
                  <a:pt x="283" y="112"/>
                </a:lnTo>
                <a:lnTo>
                  <a:pt x="289" y="154"/>
                </a:lnTo>
                <a:lnTo>
                  <a:pt x="295" y="181"/>
                </a:lnTo>
                <a:lnTo>
                  <a:pt x="300" y="197"/>
                </a:lnTo>
                <a:lnTo>
                  <a:pt x="306" y="197"/>
                </a:lnTo>
                <a:lnTo>
                  <a:pt x="306" y="186"/>
                </a:lnTo>
                <a:lnTo>
                  <a:pt x="312" y="175"/>
                </a:lnTo>
                <a:lnTo>
                  <a:pt x="317" y="159"/>
                </a:lnTo>
                <a:lnTo>
                  <a:pt x="323" y="165"/>
                </a:lnTo>
                <a:lnTo>
                  <a:pt x="329" y="181"/>
                </a:lnTo>
                <a:lnTo>
                  <a:pt x="334" y="207"/>
                </a:lnTo>
                <a:lnTo>
                  <a:pt x="340" y="244"/>
                </a:lnTo>
                <a:lnTo>
                  <a:pt x="346" y="298"/>
                </a:lnTo>
                <a:lnTo>
                  <a:pt x="351" y="367"/>
                </a:lnTo>
                <a:lnTo>
                  <a:pt x="357" y="452"/>
                </a:lnTo>
                <a:lnTo>
                  <a:pt x="363" y="521"/>
                </a:lnTo>
                <a:lnTo>
                  <a:pt x="368" y="595"/>
                </a:lnTo>
                <a:lnTo>
                  <a:pt x="374" y="680"/>
                </a:lnTo>
                <a:lnTo>
                  <a:pt x="380" y="765"/>
                </a:lnTo>
                <a:lnTo>
                  <a:pt x="385" y="871"/>
                </a:lnTo>
                <a:lnTo>
                  <a:pt x="391" y="988"/>
                </a:lnTo>
                <a:lnTo>
                  <a:pt x="397" y="1111"/>
                </a:lnTo>
                <a:lnTo>
                  <a:pt x="402" y="1233"/>
                </a:lnTo>
                <a:lnTo>
                  <a:pt x="408" y="1344"/>
                </a:lnTo>
                <a:lnTo>
                  <a:pt x="414" y="1435"/>
                </a:lnTo>
                <a:lnTo>
                  <a:pt x="419" y="1504"/>
                </a:lnTo>
                <a:lnTo>
                  <a:pt x="425" y="1557"/>
                </a:lnTo>
                <a:lnTo>
                  <a:pt x="431" y="1584"/>
                </a:lnTo>
                <a:lnTo>
                  <a:pt x="436" y="1584"/>
                </a:lnTo>
                <a:lnTo>
                  <a:pt x="442" y="1568"/>
                </a:lnTo>
                <a:lnTo>
                  <a:pt x="448" y="1552"/>
                </a:lnTo>
                <a:lnTo>
                  <a:pt x="453" y="1541"/>
                </a:lnTo>
                <a:lnTo>
                  <a:pt x="459" y="1536"/>
                </a:lnTo>
                <a:lnTo>
                  <a:pt x="465" y="1530"/>
                </a:lnTo>
                <a:lnTo>
                  <a:pt x="470" y="1536"/>
                </a:lnTo>
                <a:lnTo>
                  <a:pt x="476" y="1536"/>
                </a:lnTo>
                <a:lnTo>
                  <a:pt x="482" y="1541"/>
                </a:lnTo>
                <a:lnTo>
                  <a:pt x="487" y="1541"/>
                </a:lnTo>
                <a:lnTo>
                  <a:pt x="493" y="1541"/>
                </a:lnTo>
                <a:lnTo>
                  <a:pt x="499" y="1541"/>
                </a:lnTo>
                <a:lnTo>
                  <a:pt x="504" y="1541"/>
                </a:lnTo>
                <a:lnTo>
                  <a:pt x="510" y="1536"/>
                </a:lnTo>
                <a:lnTo>
                  <a:pt x="516" y="1536"/>
                </a:lnTo>
                <a:lnTo>
                  <a:pt x="521" y="1536"/>
                </a:lnTo>
                <a:lnTo>
                  <a:pt x="527" y="1536"/>
                </a:lnTo>
                <a:lnTo>
                  <a:pt x="533" y="1541"/>
                </a:lnTo>
                <a:lnTo>
                  <a:pt x="538" y="1546"/>
                </a:lnTo>
                <a:lnTo>
                  <a:pt x="544" y="1546"/>
                </a:lnTo>
                <a:lnTo>
                  <a:pt x="550" y="1541"/>
                </a:lnTo>
                <a:lnTo>
                  <a:pt x="555" y="1525"/>
                </a:lnTo>
                <a:lnTo>
                  <a:pt x="561" y="1499"/>
                </a:lnTo>
                <a:lnTo>
                  <a:pt x="567" y="1456"/>
                </a:lnTo>
                <a:lnTo>
                  <a:pt x="572" y="1398"/>
                </a:lnTo>
                <a:lnTo>
                  <a:pt x="578" y="1318"/>
                </a:lnTo>
                <a:lnTo>
                  <a:pt x="584" y="1217"/>
                </a:lnTo>
                <a:lnTo>
                  <a:pt x="589" y="1105"/>
                </a:lnTo>
                <a:lnTo>
                  <a:pt x="595" y="983"/>
                </a:lnTo>
                <a:lnTo>
                  <a:pt x="601" y="866"/>
                </a:lnTo>
                <a:lnTo>
                  <a:pt x="606" y="755"/>
                </a:lnTo>
                <a:lnTo>
                  <a:pt x="612" y="659"/>
                </a:lnTo>
                <a:lnTo>
                  <a:pt x="618" y="590"/>
                </a:lnTo>
                <a:lnTo>
                  <a:pt x="623" y="531"/>
                </a:lnTo>
                <a:lnTo>
                  <a:pt x="629" y="484"/>
                </a:lnTo>
                <a:lnTo>
                  <a:pt x="635" y="436"/>
                </a:lnTo>
                <a:lnTo>
                  <a:pt x="640" y="393"/>
                </a:lnTo>
                <a:lnTo>
                  <a:pt x="646" y="356"/>
                </a:lnTo>
                <a:lnTo>
                  <a:pt x="652" y="319"/>
                </a:lnTo>
                <a:lnTo>
                  <a:pt x="657" y="276"/>
                </a:lnTo>
                <a:lnTo>
                  <a:pt x="663" y="250"/>
                </a:lnTo>
                <a:lnTo>
                  <a:pt x="669" y="228"/>
                </a:lnTo>
                <a:lnTo>
                  <a:pt x="674" y="213"/>
                </a:lnTo>
                <a:lnTo>
                  <a:pt x="680" y="207"/>
                </a:lnTo>
                <a:lnTo>
                  <a:pt x="686" y="207"/>
                </a:lnTo>
                <a:lnTo>
                  <a:pt x="691" y="213"/>
                </a:lnTo>
                <a:lnTo>
                  <a:pt x="697" y="223"/>
                </a:lnTo>
                <a:lnTo>
                  <a:pt x="703" y="223"/>
                </a:lnTo>
                <a:lnTo>
                  <a:pt x="708" y="218"/>
                </a:lnTo>
                <a:lnTo>
                  <a:pt x="708" y="207"/>
                </a:lnTo>
              </a:path>
            </a:pathLst>
          </a:custGeom>
          <a:noFill/>
          <a:ln w="158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3551400" y="5299200"/>
            <a:ext cx="1225440" cy="1225440"/>
          </a:xfrm>
          <a:custGeom>
            <a:avLst/>
            <a:gdLst/>
            <a:ahLst/>
            <a:rect l="l" t="t" r="r" b="b"/>
            <a:pathLst>
              <a:path w="709" h="1663">
                <a:moveTo>
                  <a:pt x="0" y="212"/>
                </a:moveTo>
                <a:lnTo>
                  <a:pt x="6" y="196"/>
                </a:lnTo>
                <a:lnTo>
                  <a:pt x="12" y="170"/>
                </a:lnTo>
                <a:lnTo>
                  <a:pt x="18" y="138"/>
                </a:lnTo>
                <a:lnTo>
                  <a:pt x="23" y="95"/>
                </a:lnTo>
                <a:lnTo>
                  <a:pt x="29" y="58"/>
                </a:lnTo>
                <a:lnTo>
                  <a:pt x="35" y="26"/>
                </a:lnTo>
                <a:lnTo>
                  <a:pt x="40" y="16"/>
                </a:lnTo>
                <a:lnTo>
                  <a:pt x="46" y="5"/>
                </a:lnTo>
                <a:lnTo>
                  <a:pt x="52" y="5"/>
                </a:lnTo>
                <a:lnTo>
                  <a:pt x="57" y="10"/>
                </a:lnTo>
                <a:lnTo>
                  <a:pt x="63" y="10"/>
                </a:lnTo>
                <a:lnTo>
                  <a:pt x="69" y="10"/>
                </a:lnTo>
                <a:lnTo>
                  <a:pt x="74" y="10"/>
                </a:lnTo>
                <a:lnTo>
                  <a:pt x="80" y="10"/>
                </a:lnTo>
                <a:lnTo>
                  <a:pt x="86" y="10"/>
                </a:lnTo>
                <a:lnTo>
                  <a:pt x="91" y="5"/>
                </a:lnTo>
                <a:lnTo>
                  <a:pt x="97" y="5"/>
                </a:lnTo>
                <a:lnTo>
                  <a:pt x="103" y="5"/>
                </a:lnTo>
                <a:lnTo>
                  <a:pt x="108" y="0"/>
                </a:lnTo>
                <a:lnTo>
                  <a:pt x="114" y="0"/>
                </a:lnTo>
                <a:lnTo>
                  <a:pt x="120" y="0"/>
                </a:lnTo>
                <a:lnTo>
                  <a:pt x="125" y="0"/>
                </a:lnTo>
                <a:lnTo>
                  <a:pt x="131" y="0"/>
                </a:lnTo>
                <a:lnTo>
                  <a:pt x="137" y="0"/>
                </a:lnTo>
                <a:lnTo>
                  <a:pt x="142" y="0"/>
                </a:lnTo>
                <a:lnTo>
                  <a:pt x="148" y="5"/>
                </a:lnTo>
                <a:lnTo>
                  <a:pt x="154" y="10"/>
                </a:lnTo>
                <a:lnTo>
                  <a:pt x="159" y="16"/>
                </a:lnTo>
                <a:lnTo>
                  <a:pt x="165" y="21"/>
                </a:lnTo>
                <a:lnTo>
                  <a:pt x="171" y="32"/>
                </a:lnTo>
                <a:lnTo>
                  <a:pt x="176" y="47"/>
                </a:lnTo>
                <a:lnTo>
                  <a:pt x="182" y="63"/>
                </a:lnTo>
                <a:lnTo>
                  <a:pt x="188" y="74"/>
                </a:lnTo>
                <a:lnTo>
                  <a:pt x="193" y="85"/>
                </a:lnTo>
                <a:lnTo>
                  <a:pt x="199" y="95"/>
                </a:lnTo>
                <a:lnTo>
                  <a:pt x="205" y="111"/>
                </a:lnTo>
                <a:lnTo>
                  <a:pt x="210" y="117"/>
                </a:lnTo>
                <a:lnTo>
                  <a:pt x="216" y="127"/>
                </a:lnTo>
                <a:lnTo>
                  <a:pt x="222" y="138"/>
                </a:lnTo>
                <a:lnTo>
                  <a:pt x="227" y="154"/>
                </a:lnTo>
                <a:lnTo>
                  <a:pt x="233" y="170"/>
                </a:lnTo>
                <a:lnTo>
                  <a:pt x="239" y="180"/>
                </a:lnTo>
                <a:lnTo>
                  <a:pt x="244" y="191"/>
                </a:lnTo>
                <a:lnTo>
                  <a:pt x="250" y="191"/>
                </a:lnTo>
                <a:lnTo>
                  <a:pt x="256" y="191"/>
                </a:lnTo>
                <a:lnTo>
                  <a:pt x="261" y="196"/>
                </a:lnTo>
                <a:lnTo>
                  <a:pt x="267" y="196"/>
                </a:lnTo>
                <a:lnTo>
                  <a:pt x="273" y="196"/>
                </a:lnTo>
                <a:lnTo>
                  <a:pt x="278" y="191"/>
                </a:lnTo>
                <a:lnTo>
                  <a:pt x="284" y="186"/>
                </a:lnTo>
                <a:lnTo>
                  <a:pt x="290" y="180"/>
                </a:lnTo>
                <a:lnTo>
                  <a:pt x="295" y="170"/>
                </a:lnTo>
                <a:lnTo>
                  <a:pt x="301" y="159"/>
                </a:lnTo>
                <a:lnTo>
                  <a:pt x="307" y="159"/>
                </a:lnTo>
                <a:lnTo>
                  <a:pt x="312" y="159"/>
                </a:lnTo>
                <a:lnTo>
                  <a:pt x="318" y="154"/>
                </a:lnTo>
                <a:lnTo>
                  <a:pt x="324" y="154"/>
                </a:lnTo>
                <a:lnTo>
                  <a:pt x="329" y="154"/>
                </a:lnTo>
                <a:lnTo>
                  <a:pt x="335" y="154"/>
                </a:lnTo>
                <a:lnTo>
                  <a:pt x="341" y="159"/>
                </a:lnTo>
                <a:lnTo>
                  <a:pt x="346" y="154"/>
                </a:lnTo>
                <a:lnTo>
                  <a:pt x="352" y="170"/>
                </a:lnTo>
                <a:lnTo>
                  <a:pt x="358" y="218"/>
                </a:lnTo>
                <a:lnTo>
                  <a:pt x="363" y="287"/>
                </a:lnTo>
                <a:lnTo>
                  <a:pt x="369" y="308"/>
                </a:lnTo>
                <a:lnTo>
                  <a:pt x="375" y="265"/>
                </a:lnTo>
                <a:lnTo>
                  <a:pt x="380" y="180"/>
                </a:lnTo>
                <a:lnTo>
                  <a:pt x="386" y="90"/>
                </a:lnTo>
                <a:lnTo>
                  <a:pt x="392" y="32"/>
                </a:lnTo>
                <a:lnTo>
                  <a:pt x="397" y="10"/>
                </a:lnTo>
                <a:lnTo>
                  <a:pt x="403" y="0"/>
                </a:lnTo>
                <a:lnTo>
                  <a:pt x="409" y="10"/>
                </a:lnTo>
                <a:lnTo>
                  <a:pt x="409" y="53"/>
                </a:lnTo>
                <a:lnTo>
                  <a:pt x="414" y="117"/>
                </a:lnTo>
                <a:lnTo>
                  <a:pt x="420" y="159"/>
                </a:lnTo>
                <a:lnTo>
                  <a:pt x="426" y="196"/>
                </a:lnTo>
                <a:lnTo>
                  <a:pt x="431" y="223"/>
                </a:lnTo>
                <a:lnTo>
                  <a:pt x="437" y="233"/>
                </a:lnTo>
                <a:lnTo>
                  <a:pt x="443" y="233"/>
                </a:lnTo>
                <a:lnTo>
                  <a:pt x="448" y="218"/>
                </a:lnTo>
                <a:lnTo>
                  <a:pt x="454" y="196"/>
                </a:lnTo>
                <a:lnTo>
                  <a:pt x="460" y="175"/>
                </a:lnTo>
                <a:lnTo>
                  <a:pt x="465" y="175"/>
                </a:lnTo>
                <a:lnTo>
                  <a:pt x="471" y="186"/>
                </a:lnTo>
                <a:lnTo>
                  <a:pt x="477" y="202"/>
                </a:lnTo>
                <a:lnTo>
                  <a:pt x="482" y="233"/>
                </a:lnTo>
                <a:lnTo>
                  <a:pt x="488" y="287"/>
                </a:lnTo>
                <a:lnTo>
                  <a:pt x="494" y="361"/>
                </a:lnTo>
                <a:lnTo>
                  <a:pt x="499" y="441"/>
                </a:lnTo>
                <a:lnTo>
                  <a:pt x="505" y="515"/>
                </a:lnTo>
                <a:lnTo>
                  <a:pt x="511" y="579"/>
                </a:lnTo>
                <a:lnTo>
                  <a:pt x="516" y="627"/>
                </a:lnTo>
                <a:lnTo>
                  <a:pt x="522" y="643"/>
                </a:lnTo>
                <a:lnTo>
                  <a:pt x="528" y="643"/>
                </a:lnTo>
                <a:lnTo>
                  <a:pt x="533" y="643"/>
                </a:lnTo>
                <a:lnTo>
                  <a:pt x="539" y="664"/>
                </a:lnTo>
                <a:lnTo>
                  <a:pt x="545" y="728"/>
                </a:lnTo>
                <a:lnTo>
                  <a:pt x="550" y="839"/>
                </a:lnTo>
                <a:lnTo>
                  <a:pt x="556" y="993"/>
                </a:lnTo>
                <a:lnTo>
                  <a:pt x="562" y="1158"/>
                </a:lnTo>
                <a:lnTo>
                  <a:pt x="567" y="1323"/>
                </a:lnTo>
                <a:lnTo>
                  <a:pt x="573" y="1461"/>
                </a:lnTo>
                <a:lnTo>
                  <a:pt x="579" y="1567"/>
                </a:lnTo>
                <a:lnTo>
                  <a:pt x="584" y="1636"/>
                </a:lnTo>
                <a:lnTo>
                  <a:pt x="590" y="1663"/>
                </a:lnTo>
                <a:lnTo>
                  <a:pt x="596" y="1652"/>
                </a:lnTo>
                <a:lnTo>
                  <a:pt x="601" y="1620"/>
                </a:lnTo>
                <a:lnTo>
                  <a:pt x="607" y="1589"/>
                </a:lnTo>
                <a:lnTo>
                  <a:pt x="613" y="1557"/>
                </a:lnTo>
                <a:lnTo>
                  <a:pt x="613" y="1520"/>
                </a:lnTo>
                <a:lnTo>
                  <a:pt x="618" y="1498"/>
                </a:lnTo>
                <a:lnTo>
                  <a:pt x="624" y="1472"/>
                </a:lnTo>
                <a:lnTo>
                  <a:pt x="630" y="1456"/>
                </a:lnTo>
                <a:lnTo>
                  <a:pt x="635" y="1434"/>
                </a:lnTo>
                <a:lnTo>
                  <a:pt x="641" y="1408"/>
                </a:lnTo>
                <a:lnTo>
                  <a:pt x="647" y="1381"/>
                </a:lnTo>
                <a:lnTo>
                  <a:pt x="652" y="1339"/>
                </a:lnTo>
                <a:lnTo>
                  <a:pt x="658" y="1296"/>
                </a:lnTo>
                <a:lnTo>
                  <a:pt x="664" y="1238"/>
                </a:lnTo>
                <a:lnTo>
                  <a:pt x="669" y="1174"/>
                </a:lnTo>
                <a:lnTo>
                  <a:pt x="675" y="1105"/>
                </a:lnTo>
                <a:lnTo>
                  <a:pt x="681" y="1025"/>
                </a:lnTo>
                <a:lnTo>
                  <a:pt x="686" y="930"/>
                </a:lnTo>
                <a:lnTo>
                  <a:pt x="692" y="839"/>
                </a:lnTo>
                <a:lnTo>
                  <a:pt x="698" y="760"/>
                </a:lnTo>
                <a:lnTo>
                  <a:pt x="703" y="653"/>
                </a:lnTo>
                <a:lnTo>
                  <a:pt x="709" y="558"/>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4776840" y="5315040"/>
            <a:ext cx="1228680" cy="1146240"/>
          </a:xfrm>
          <a:custGeom>
            <a:avLst/>
            <a:gdLst/>
            <a:ahLst/>
            <a:rect l="l" t="t" r="r" b="b"/>
            <a:pathLst>
              <a:path w="714" h="1557">
                <a:moveTo>
                  <a:pt x="0" y="537"/>
                </a:moveTo>
                <a:lnTo>
                  <a:pt x="6" y="468"/>
                </a:lnTo>
                <a:lnTo>
                  <a:pt x="11" y="420"/>
                </a:lnTo>
                <a:lnTo>
                  <a:pt x="17" y="372"/>
                </a:lnTo>
                <a:lnTo>
                  <a:pt x="23" y="367"/>
                </a:lnTo>
                <a:lnTo>
                  <a:pt x="28" y="383"/>
                </a:lnTo>
                <a:lnTo>
                  <a:pt x="34" y="393"/>
                </a:lnTo>
                <a:lnTo>
                  <a:pt x="40" y="436"/>
                </a:lnTo>
                <a:lnTo>
                  <a:pt x="45" y="494"/>
                </a:lnTo>
                <a:lnTo>
                  <a:pt x="51" y="547"/>
                </a:lnTo>
                <a:lnTo>
                  <a:pt x="57" y="611"/>
                </a:lnTo>
                <a:lnTo>
                  <a:pt x="62" y="680"/>
                </a:lnTo>
                <a:lnTo>
                  <a:pt x="68" y="770"/>
                </a:lnTo>
                <a:lnTo>
                  <a:pt x="74" y="845"/>
                </a:lnTo>
                <a:lnTo>
                  <a:pt x="79" y="898"/>
                </a:lnTo>
                <a:lnTo>
                  <a:pt x="85" y="919"/>
                </a:lnTo>
                <a:lnTo>
                  <a:pt x="91" y="941"/>
                </a:lnTo>
                <a:lnTo>
                  <a:pt x="96" y="925"/>
                </a:lnTo>
                <a:lnTo>
                  <a:pt x="102" y="877"/>
                </a:lnTo>
                <a:lnTo>
                  <a:pt x="108" y="834"/>
                </a:lnTo>
                <a:lnTo>
                  <a:pt x="108" y="786"/>
                </a:lnTo>
                <a:lnTo>
                  <a:pt x="113" y="723"/>
                </a:lnTo>
                <a:lnTo>
                  <a:pt x="119" y="669"/>
                </a:lnTo>
                <a:lnTo>
                  <a:pt x="125" y="611"/>
                </a:lnTo>
                <a:lnTo>
                  <a:pt x="130" y="563"/>
                </a:lnTo>
                <a:lnTo>
                  <a:pt x="136" y="531"/>
                </a:lnTo>
                <a:lnTo>
                  <a:pt x="142" y="505"/>
                </a:lnTo>
                <a:lnTo>
                  <a:pt x="148" y="478"/>
                </a:lnTo>
                <a:lnTo>
                  <a:pt x="153" y="452"/>
                </a:lnTo>
                <a:lnTo>
                  <a:pt x="159" y="425"/>
                </a:lnTo>
                <a:lnTo>
                  <a:pt x="165" y="404"/>
                </a:lnTo>
                <a:lnTo>
                  <a:pt x="170" y="388"/>
                </a:lnTo>
                <a:lnTo>
                  <a:pt x="176" y="383"/>
                </a:lnTo>
                <a:lnTo>
                  <a:pt x="182" y="398"/>
                </a:lnTo>
                <a:lnTo>
                  <a:pt x="187" y="425"/>
                </a:lnTo>
                <a:lnTo>
                  <a:pt x="193" y="457"/>
                </a:lnTo>
                <a:lnTo>
                  <a:pt x="199" y="478"/>
                </a:lnTo>
                <a:lnTo>
                  <a:pt x="204" y="505"/>
                </a:lnTo>
                <a:lnTo>
                  <a:pt x="210" y="526"/>
                </a:lnTo>
                <a:lnTo>
                  <a:pt x="216" y="542"/>
                </a:lnTo>
                <a:lnTo>
                  <a:pt x="221" y="553"/>
                </a:lnTo>
                <a:lnTo>
                  <a:pt x="227" y="563"/>
                </a:lnTo>
                <a:lnTo>
                  <a:pt x="233" y="553"/>
                </a:lnTo>
                <a:lnTo>
                  <a:pt x="238" y="595"/>
                </a:lnTo>
                <a:lnTo>
                  <a:pt x="244" y="558"/>
                </a:lnTo>
                <a:lnTo>
                  <a:pt x="250" y="553"/>
                </a:lnTo>
                <a:lnTo>
                  <a:pt x="255" y="547"/>
                </a:lnTo>
                <a:lnTo>
                  <a:pt x="261" y="531"/>
                </a:lnTo>
                <a:lnTo>
                  <a:pt x="267" y="494"/>
                </a:lnTo>
                <a:lnTo>
                  <a:pt x="272" y="489"/>
                </a:lnTo>
                <a:lnTo>
                  <a:pt x="278" y="494"/>
                </a:lnTo>
                <a:lnTo>
                  <a:pt x="284" y="473"/>
                </a:lnTo>
                <a:lnTo>
                  <a:pt x="289" y="462"/>
                </a:lnTo>
                <a:lnTo>
                  <a:pt x="295" y="452"/>
                </a:lnTo>
                <a:lnTo>
                  <a:pt x="301" y="441"/>
                </a:lnTo>
                <a:lnTo>
                  <a:pt x="306" y="452"/>
                </a:lnTo>
                <a:lnTo>
                  <a:pt x="312" y="452"/>
                </a:lnTo>
                <a:lnTo>
                  <a:pt x="318" y="462"/>
                </a:lnTo>
                <a:lnTo>
                  <a:pt x="323" y="478"/>
                </a:lnTo>
                <a:lnTo>
                  <a:pt x="329" y="473"/>
                </a:lnTo>
                <a:lnTo>
                  <a:pt x="335" y="489"/>
                </a:lnTo>
                <a:lnTo>
                  <a:pt x="340" y="494"/>
                </a:lnTo>
                <a:lnTo>
                  <a:pt x="346" y="478"/>
                </a:lnTo>
                <a:lnTo>
                  <a:pt x="352" y="483"/>
                </a:lnTo>
                <a:lnTo>
                  <a:pt x="357" y="457"/>
                </a:lnTo>
                <a:lnTo>
                  <a:pt x="363" y="441"/>
                </a:lnTo>
                <a:lnTo>
                  <a:pt x="369" y="383"/>
                </a:lnTo>
                <a:lnTo>
                  <a:pt x="374" y="303"/>
                </a:lnTo>
                <a:lnTo>
                  <a:pt x="380" y="228"/>
                </a:lnTo>
                <a:lnTo>
                  <a:pt x="386" y="175"/>
                </a:lnTo>
                <a:lnTo>
                  <a:pt x="391" y="133"/>
                </a:lnTo>
                <a:lnTo>
                  <a:pt x="397" y="122"/>
                </a:lnTo>
                <a:lnTo>
                  <a:pt x="403" y="96"/>
                </a:lnTo>
                <a:lnTo>
                  <a:pt x="408" y="85"/>
                </a:lnTo>
                <a:lnTo>
                  <a:pt x="414" y="85"/>
                </a:lnTo>
                <a:lnTo>
                  <a:pt x="420" y="69"/>
                </a:lnTo>
                <a:lnTo>
                  <a:pt x="425" y="69"/>
                </a:lnTo>
                <a:lnTo>
                  <a:pt x="431" y="64"/>
                </a:lnTo>
                <a:lnTo>
                  <a:pt x="437" y="64"/>
                </a:lnTo>
                <a:lnTo>
                  <a:pt x="442" y="58"/>
                </a:lnTo>
                <a:lnTo>
                  <a:pt x="448" y="48"/>
                </a:lnTo>
                <a:lnTo>
                  <a:pt x="454" y="48"/>
                </a:lnTo>
                <a:lnTo>
                  <a:pt x="459" y="37"/>
                </a:lnTo>
                <a:lnTo>
                  <a:pt x="465" y="32"/>
                </a:lnTo>
                <a:lnTo>
                  <a:pt x="471" y="26"/>
                </a:lnTo>
                <a:lnTo>
                  <a:pt x="476" y="21"/>
                </a:lnTo>
                <a:lnTo>
                  <a:pt x="482" y="16"/>
                </a:lnTo>
                <a:lnTo>
                  <a:pt x="488" y="11"/>
                </a:lnTo>
                <a:lnTo>
                  <a:pt x="493" y="5"/>
                </a:lnTo>
                <a:lnTo>
                  <a:pt x="499" y="5"/>
                </a:lnTo>
                <a:lnTo>
                  <a:pt x="505" y="0"/>
                </a:lnTo>
                <a:lnTo>
                  <a:pt x="510" y="0"/>
                </a:lnTo>
                <a:lnTo>
                  <a:pt x="516" y="0"/>
                </a:lnTo>
                <a:lnTo>
                  <a:pt x="522" y="26"/>
                </a:lnTo>
                <a:lnTo>
                  <a:pt x="527" y="58"/>
                </a:lnTo>
                <a:lnTo>
                  <a:pt x="533" y="101"/>
                </a:lnTo>
                <a:lnTo>
                  <a:pt x="539" y="143"/>
                </a:lnTo>
                <a:lnTo>
                  <a:pt x="544" y="186"/>
                </a:lnTo>
                <a:lnTo>
                  <a:pt x="550" y="218"/>
                </a:lnTo>
                <a:lnTo>
                  <a:pt x="556" y="234"/>
                </a:lnTo>
                <a:lnTo>
                  <a:pt x="561" y="244"/>
                </a:lnTo>
                <a:lnTo>
                  <a:pt x="567" y="239"/>
                </a:lnTo>
                <a:lnTo>
                  <a:pt x="573" y="239"/>
                </a:lnTo>
                <a:lnTo>
                  <a:pt x="578" y="234"/>
                </a:lnTo>
                <a:lnTo>
                  <a:pt x="584" y="223"/>
                </a:lnTo>
                <a:lnTo>
                  <a:pt x="590" y="223"/>
                </a:lnTo>
                <a:lnTo>
                  <a:pt x="595" y="223"/>
                </a:lnTo>
                <a:lnTo>
                  <a:pt x="601" y="234"/>
                </a:lnTo>
                <a:lnTo>
                  <a:pt x="607" y="250"/>
                </a:lnTo>
                <a:lnTo>
                  <a:pt x="612" y="271"/>
                </a:lnTo>
                <a:lnTo>
                  <a:pt x="618" y="303"/>
                </a:lnTo>
                <a:lnTo>
                  <a:pt x="624" y="351"/>
                </a:lnTo>
                <a:lnTo>
                  <a:pt x="629" y="409"/>
                </a:lnTo>
                <a:lnTo>
                  <a:pt x="635" y="468"/>
                </a:lnTo>
                <a:lnTo>
                  <a:pt x="641" y="531"/>
                </a:lnTo>
                <a:lnTo>
                  <a:pt x="646" y="569"/>
                </a:lnTo>
                <a:lnTo>
                  <a:pt x="652" y="600"/>
                </a:lnTo>
                <a:lnTo>
                  <a:pt x="658" y="611"/>
                </a:lnTo>
                <a:lnTo>
                  <a:pt x="663" y="632"/>
                </a:lnTo>
                <a:lnTo>
                  <a:pt x="669" y="664"/>
                </a:lnTo>
                <a:lnTo>
                  <a:pt x="675" y="739"/>
                </a:lnTo>
                <a:lnTo>
                  <a:pt x="680" y="850"/>
                </a:lnTo>
                <a:lnTo>
                  <a:pt x="686" y="988"/>
                </a:lnTo>
                <a:lnTo>
                  <a:pt x="692" y="1142"/>
                </a:lnTo>
                <a:lnTo>
                  <a:pt x="697" y="1281"/>
                </a:lnTo>
                <a:lnTo>
                  <a:pt x="703" y="1403"/>
                </a:lnTo>
                <a:lnTo>
                  <a:pt x="709" y="1493"/>
                </a:lnTo>
                <a:lnTo>
                  <a:pt x="714" y="1557"/>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6005520" y="5299200"/>
            <a:ext cx="901800" cy="1195200"/>
          </a:xfrm>
          <a:custGeom>
            <a:avLst/>
            <a:gdLst/>
            <a:ahLst/>
            <a:rect l="l" t="t" r="r" b="b"/>
            <a:pathLst>
              <a:path w="522" h="1626">
                <a:moveTo>
                  <a:pt x="0" y="1578"/>
                </a:moveTo>
                <a:lnTo>
                  <a:pt x="0" y="1610"/>
                </a:lnTo>
                <a:lnTo>
                  <a:pt x="6" y="1620"/>
                </a:lnTo>
                <a:lnTo>
                  <a:pt x="12" y="1620"/>
                </a:lnTo>
                <a:lnTo>
                  <a:pt x="17" y="1626"/>
                </a:lnTo>
                <a:lnTo>
                  <a:pt x="23" y="1626"/>
                </a:lnTo>
                <a:lnTo>
                  <a:pt x="29" y="1626"/>
                </a:lnTo>
                <a:lnTo>
                  <a:pt x="34" y="1626"/>
                </a:lnTo>
                <a:lnTo>
                  <a:pt x="40" y="1615"/>
                </a:lnTo>
                <a:lnTo>
                  <a:pt x="46" y="1605"/>
                </a:lnTo>
                <a:lnTo>
                  <a:pt x="51" y="1594"/>
                </a:lnTo>
                <a:lnTo>
                  <a:pt x="57" y="1583"/>
                </a:lnTo>
                <a:lnTo>
                  <a:pt x="63" y="1567"/>
                </a:lnTo>
                <a:lnTo>
                  <a:pt x="68" y="1551"/>
                </a:lnTo>
                <a:lnTo>
                  <a:pt x="74" y="1541"/>
                </a:lnTo>
                <a:lnTo>
                  <a:pt x="80" y="1520"/>
                </a:lnTo>
                <a:lnTo>
                  <a:pt x="85" y="1498"/>
                </a:lnTo>
                <a:lnTo>
                  <a:pt x="91" y="1472"/>
                </a:lnTo>
                <a:lnTo>
                  <a:pt x="97" y="1440"/>
                </a:lnTo>
                <a:lnTo>
                  <a:pt x="102" y="1397"/>
                </a:lnTo>
                <a:lnTo>
                  <a:pt x="108" y="1344"/>
                </a:lnTo>
                <a:lnTo>
                  <a:pt x="114" y="1270"/>
                </a:lnTo>
                <a:lnTo>
                  <a:pt x="119" y="1185"/>
                </a:lnTo>
                <a:lnTo>
                  <a:pt x="125" y="1094"/>
                </a:lnTo>
                <a:lnTo>
                  <a:pt x="131" y="999"/>
                </a:lnTo>
                <a:lnTo>
                  <a:pt x="136" y="903"/>
                </a:lnTo>
                <a:lnTo>
                  <a:pt x="142" y="823"/>
                </a:lnTo>
                <a:lnTo>
                  <a:pt x="148" y="749"/>
                </a:lnTo>
                <a:lnTo>
                  <a:pt x="153" y="690"/>
                </a:lnTo>
                <a:lnTo>
                  <a:pt x="159" y="643"/>
                </a:lnTo>
                <a:lnTo>
                  <a:pt x="165" y="605"/>
                </a:lnTo>
                <a:lnTo>
                  <a:pt x="170" y="563"/>
                </a:lnTo>
                <a:lnTo>
                  <a:pt x="176" y="531"/>
                </a:lnTo>
                <a:lnTo>
                  <a:pt x="182" y="494"/>
                </a:lnTo>
                <a:lnTo>
                  <a:pt x="187" y="462"/>
                </a:lnTo>
                <a:lnTo>
                  <a:pt x="193" y="425"/>
                </a:lnTo>
                <a:lnTo>
                  <a:pt x="199" y="382"/>
                </a:lnTo>
                <a:lnTo>
                  <a:pt x="204" y="345"/>
                </a:lnTo>
                <a:lnTo>
                  <a:pt x="204" y="313"/>
                </a:lnTo>
                <a:lnTo>
                  <a:pt x="210" y="303"/>
                </a:lnTo>
                <a:lnTo>
                  <a:pt x="216" y="303"/>
                </a:lnTo>
                <a:lnTo>
                  <a:pt x="221" y="313"/>
                </a:lnTo>
                <a:lnTo>
                  <a:pt x="227" y="329"/>
                </a:lnTo>
                <a:lnTo>
                  <a:pt x="233" y="340"/>
                </a:lnTo>
                <a:lnTo>
                  <a:pt x="238" y="350"/>
                </a:lnTo>
                <a:lnTo>
                  <a:pt x="244" y="340"/>
                </a:lnTo>
                <a:lnTo>
                  <a:pt x="250" y="318"/>
                </a:lnTo>
                <a:lnTo>
                  <a:pt x="256" y="281"/>
                </a:lnTo>
                <a:lnTo>
                  <a:pt x="261" y="233"/>
                </a:lnTo>
                <a:lnTo>
                  <a:pt x="267" y="186"/>
                </a:lnTo>
                <a:lnTo>
                  <a:pt x="273" y="148"/>
                </a:lnTo>
                <a:lnTo>
                  <a:pt x="278" y="122"/>
                </a:lnTo>
                <a:lnTo>
                  <a:pt x="284" y="106"/>
                </a:lnTo>
                <a:lnTo>
                  <a:pt x="290" y="85"/>
                </a:lnTo>
                <a:lnTo>
                  <a:pt x="295" y="74"/>
                </a:lnTo>
                <a:lnTo>
                  <a:pt x="301" y="58"/>
                </a:lnTo>
                <a:lnTo>
                  <a:pt x="307" y="53"/>
                </a:lnTo>
                <a:lnTo>
                  <a:pt x="312" y="42"/>
                </a:lnTo>
                <a:lnTo>
                  <a:pt x="318" y="37"/>
                </a:lnTo>
                <a:lnTo>
                  <a:pt x="324" y="37"/>
                </a:lnTo>
                <a:lnTo>
                  <a:pt x="329" y="32"/>
                </a:lnTo>
                <a:lnTo>
                  <a:pt x="335" y="32"/>
                </a:lnTo>
                <a:lnTo>
                  <a:pt x="341" y="26"/>
                </a:lnTo>
                <a:lnTo>
                  <a:pt x="346" y="21"/>
                </a:lnTo>
                <a:lnTo>
                  <a:pt x="352" y="16"/>
                </a:lnTo>
                <a:lnTo>
                  <a:pt x="358" y="10"/>
                </a:lnTo>
                <a:lnTo>
                  <a:pt x="363" y="10"/>
                </a:lnTo>
                <a:lnTo>
                  <a:pt x="369" y="5"/>
                </a:lnTo>
                <a:lnTo>
                  <a:pt x="375" y="5"/>
                </a:lnTo>
                <a:lnTo>
                  <a:pt x="380" y="5"/>
                </a:lnTo>
                <a:lnTo>
                  <a:pt x="386" y="10"/>
                </a:lnTo>
                <a:lnTo>
                  <a:pt x="392" y="5"/>
                </a:lnTo>
                <a:lnTo>
                  <a:pt x="397" y="5"/>
                </a:lnTo>
                <a:lnTo>
                  <a:pt x="403" y="0"/>
                </a:lnTo>
                <a:lnTo>
                  <a:pt x="409" y="0"/>
                </a:lnTo>
                <a:lnTo>
                  <a:pt x="414" y="5"/>
                </a:lnTo>
                <a:lnTo>
                  <a:pt x="420" y="5"/>
                </a:lnTo>
                <a:lnTo>
                  <a:pt x="426" y="5"/>
                </a:lnTo>
                <a:lnTo>
                  <a:pt x="431" y="10"/>
                </a:lnTo>
                <a:lnTo>
                  <a:pt x="437" y="10"/>
                </a:lnTo>
                <a:lnTo>
                  <a:pt x="443" y="10"/>
                </a:lnTo>
                <a:lnTo>
                  <a:pt x="448" y="10"/>
                </a:lnTo>
                <a:lnTo>
                  <a:pt x="454" y="10"/>
                </a:lnTo>
                <a:lnTo>
                  <a:pt x="460" y="10"/>
                </a:lnTo>
                <a:lnTo>
                  <a:pt x="465" y="10"/>
                </a:lnTo>
                <a:lnTo>
                  <a:pt x="471" y="5"/>
                </a:lnTo>
                <a:lnTo>
                  <a:pt x="477" y="5"/>
                </a:lnTo>
                <a:lnTo>
                  <a:pt x="482" y="5"/>
                </a:lnTo>
                <a:lnTo>
                  <a:pt x="488" y="5"/>
                </a:lnTo>
                <a:lnTo>
                  <a:pt x="494" y="5"/>
                </a:lnTo>
                <a:lnTo>
                  <a:pt x="499" y="0"/>
                </a:lnTo>
                <a:lnTo>
                  <a:pt x="505" y="0"/>
                </a:lnTo>
                <a:lnTo>
                  <a:pt x="511" y="5"/>
                </a:lnTo>
                <a:lnTo>
                  <a:pt x="516" y="0"/>
                </a:lnTo>
                <a:lnTo>
                  <a:pt x="522" y="0"/>
                </a:lnTo>
              </a:path>
            </a:pathLst>
          </a:custGeom>
          <a:noFill/>
          <a:ln w="158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954080" y="5721480"/>
            <a:ext cx="962280" cy="5749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 sequenc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58" name=""/>
          <p:cNvSpPr/>
          <p:nvPr/>
        </p:nvSpPr>
        <p:spPr>
          <a:xfrm flipV="1">
            <a:off x="2367000" y="5360760"/>
            <a:ext cx="58680" cy="274680"/>
          </a:xfrm>
          <a:prstGeom prst="line">
            <a:avLst/>
          </a:prstGeom>
          <a:ln w="6480">
            <a:solidFill>
              <a:srgbClr val="80808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6384960" y="5711760"/>
            <a:ext cx="75240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sequenc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0" name=""/>
          <p:cNvSpPr/>
          <p:nvPr/>
        </p:nvSpPr>
        <p:spPr>
          <a:xfrm flipV="1">
            <a:off x="6754680" y="5347800"/>
            <a:ext cx="60480" cy="273240"/>
          </a:xfrm>
          <a:prstGeom prst="line">
            <a:avLst/>
          </a:prstGeom>
          <a:ln w="6480">
            <a:solidFill>
              <a:srgbClr val="80808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3357720" y="5856120"/>
            <a:ext cx="949320" cy="875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or misses holster</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62" name=""/>
          <p:cNvSpPr/>
          <p:nvPr/>
        </p:nvSpPr>
        <p:spPr>
          <a:xfrm flipV="1">
            <a:off x="3890880" y="5554800"/>
            <a:ext cx="184320" cy="242640"/>
          </a:xfrm>
          <a:prstGeom prst="line">
            <a:avLst/>
          </a:prstGeom>
          <a:ln w="6480">
            <a:solidFill>
              <a:srgbClr val="80808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4794120" y="6164280"/>
            <a:ext cx="110808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iefly swings gun at target, but does not aim</a:t>
            </a:r>
            <a:endParaRPr b="0" lang="en-US" sz="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464" name=""/>
          <p:cNvSpPr/>
          <p:nvPr/>
        </p:nvSpPr>
        <p:spPr>
          <a:xfrm flipH="1">
            <a:off x="4641480" y="6431040"/>
            <a:ext cx="336600" cy="61920"/>
          </a:xfrm>
          <a:prstGeom prst="line">
            <a:avLst/>
          </a:prstGeom>
          <a:ln w="6480">
            <a:solidFill>
              <a:srgbClr val="808080"/>
            </a:solidFill>
            <a:miter/>
            <a:tailEnd len="sm" type="stealth" w="sm"/>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5" name=""/>
          <p:cNvSpPr/>
          <p:nvPr/>
        </p:nvSpPr>
        <p:spPr>
          <a:xfrm>
            <a:off x="5083200" y="5797440"/>
            <a:ext cx="839880" cy="3697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aughing and flailing hand</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66" name=""/>
          <p:cNvSpPr/>
          <p:nvPr/>
        </p:nvSpPr>
        <p:spPr>
          <a:xfrm flipH="1" flipV="1">
            <a:off x="5016240" y="5846760"/>
            <a:ext cx="166680" cy="117360"/>
          </a:xfrm>
          <a:prstGeom prst="line">
            <a:avLst/>
          </a:prstGeom>
          <a:ln w="6480">
            <a:solidFill>
              <a:srgbClr val="80808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6872400" y="5299200"/>
            <a:ext cx="630000" cy="1225440"/>
          </a:xfrm>
          <a:custGeom>
            <a:avLst/>
            <a:gdLst/>
            <a:ahLst/>
            <a:rect l="l" t="t" r="r" b="b"/>
            <a:pathLst>
              <a:path w="284" h="562">
                <a:moveTo>
                  <a:pt x="0" y="2"/>
                </a:moveTo>
                <a:cubicBezTo>
                  <a:pt x="17" y="3"/>
                  <a:pt x="51" y="0"/>
                  <a:pt x="66" y="10"/>
                </a:cubicBezTo>
                <a:cubicBezTo>
                  <a:pt x="74" y="22"/>
                  <a:pt x="80" y="35"/>
                  <a:pt x="86" y="48"/>
                </a:cubicBezTo>
                <a:cubicBezTo>
                  <a:pt x="87" y="50"/>
                  <a:pt x="90" y="63"/>
                  <a:pt x="94" y="66"/>
                </a:cubicBezTo>
                <a:cubicBezTo>
                  <a:pt x="98" y="68"/>
                  <a:pt x="102" y="68"/>
                  <a:pt x="106" y="70"/>
                </a:cubicBezTo>
                <a:cubicBezTo>
                  <a:pt x="108" y="71"/>
                  <a:pt x="110" y="73"/>
                  <a:pt x="112" y="74"/>
                </a:cubicBezTo>
                <a:cubicBezTo>
                  <a:pt x="120" y="86"/>
                  <a:pt x="123" y="99"/>
                  <a:pt x="134" y="110"/>
                </a:cubicBezTo>
                <a:cubicBezTo>
                  <a:pt x="139" y="126"/>
                  <a:pt x="142" y="143"/>
                  <a:pt x="148" y="160"/>
                </a:cubicBezTo>
                <a:cubicBezTo>
                  <a:pt x="151" y="168"/>
                  <a:pt x="151" y="176"/>
                  <a:pt x="154" y="184"/>
                </a:cubicBezTo>
                <a:cubicBezTo>
                  <a:pt x="155" y="186"/>
                  <a:pt x="156" y="190"/>
                  <a:pt x="156" y="190"/>
                </a:cubicBezTo>
                <a:cubicBezTo>
                  <a:pt x="157" y="210"/>
                  <a:pt x="158" y="221"/>
                  <a:pt x="162" y="238"/>
                </a:cubicBezTo>
                <a:cubicBezTo>
                  <a:pt x="164" y="245"/>
                  <a:pt x="165" y="251"/>
                  <a:pt x="166" y="258"/>
                </a:cubicBezTo>
                <a:cubicBezTo>
                  <a:pt x="167" y="262"/>
                  <a:pt x="170" y="270"/>
                  <a:pt x="170" y="270"/>
                </a:cubicBezTo>
                <a:cubicBezTo>
                  <a:pt x="178" y="338"/>
                  <a:pt x="170" y="414"/>
                  <a:pt x="192" y="480"/>
                </a:cubicBezTo>
                <a:cubicBezTo>
                  <a:pt x="193" y="496"/>
                  <a:pt x="187" y="548"/>
                  <a:pt x="210" y="556"/>
                </a:cubicBezTo>
                <a:cubicBezTo>
                  <a:pt x="225" y="553"/>
                  <a:pt x="227" y="552"/>
                  <a:pt x="244" y="554"/>
                </a:cubicBezTo>
                <a:cubicBezTo>
                  <a:pt x="251" y="556"/>
                  <a:pt x="257" y="560"/>
                  <a:pt x="264" y="562"/>
                </a:cubicBezTo>
                <a:cubicBezTo>
                  <a:pt x="271" y="561"/>
                  <a:pt x="284" y="560"/>
                  <a:pt x="284" y="560"/>
                </a:cubicBezTo>
              </a:path>
            </a:pathLst>
          </a:custGeom>
          <a:noFill/>
          <a:ln w="158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68" name="combined_ann_modified" descr=""/>
          <p:cNvPicPr/>
          <p:nvPr/>
        </p:nvPicPr>
        <p:blipFill>
          <a:blip r:embed="rId1"/>
          <a:stretch/>
        </p:blipFill>
        <p:spPr>
          <a:xfrm>
            <a:off x="0" y="950760"/>
            <a:ext cx="6396120" cy="4119840"/>
          </a:xfrm>
          <a:prstGeom prst="rect">
            <a:avLst/>
          </a:prstGeom>
          <a:ln w="0">
            <a:noFill/>
          </a:ln>
        </p:spPr>
      </p:pic>
      <p:sp>
        <p:nvSpPr>
          <p:cNvPr id="2469" name=""/>
          <p:cNvSpPr/>
          <p:nvPr/>
        </p:nvSpPr>
        <p:spPr>
          <a:xfrm>
            <a:off x="0" y="3000240"/>
            <a:ext cx="9144000" cy="98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0" name="powerplant" descr=""/>
          <p:cNvPicPr/>
          <p:nvPr/>
        </p:nvPicPr>
        <p:blipFill>
          <a:blip r:embed="rId1"/>
          <a:stretch/>
        </p:blipFill>
        <p:spPr>
          <a:xfrm>
            <a:off x="5478480" y="754200"/>
            <a:ext cx="2036880" cy="1731960"/>
          </a:xfrm>
          <a:prstGeom prst="rect">
            <a:avLst/>
          </a:prstGeom>
          <a:ln w="0">
            <a:noFill/>
          </a:ln>
        </p:spPr>
      </p:pic>
      <p:sp>
        <p:nvSpPr>
          <p:cNvPr id="2471" name=""/>
          <p:cNvSpPr/>
          <p:nvPr/>
        </p:nvSpPr>
        <p:spPr>
          <a:xfrm>
            <a:off x="196920" y="1193760"/>
            <a:ext cx="5214960" cy="237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consider a dataset that contains the </a:t>
            </a:r>
            <a:r>
              <a:rPr b="1" lang="en-US" sz="2800" spc="-1" strike="noStrike">
                <a:solidFill>
                  <a:srgbClr val="000000"/>
                </a:solidFill>
                <a:latin typeface="Times New Roman"/>
                <a:ea typeface="Times New Roman"/>
              </a:rPr>
              <a:t>power demand</a:t>
            </a:r>
            <a:r>
              <a:rPr b="0" lang="en-US" sz="2800" spc="-1" strike="noStrike">
                <a:solidFill>
                  <a:srgbClr val="000000"/>
                </a:solidFill>
                <a:latin typeface="Times New Roman"/>
                <a:ea typeface="Times New Roman"/>
              </a:rPr>
              <a:t> for a Dutch research facility for the entire year of 1997.</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data is sampled over 15 minute averages, and thus contains 35,040 points. </a:t>
            </a:r>
            <a:endParaRPr b="0" lang="en-US" sz="1800" spc="-1" strike="noStrike">
              <a:solidFill>
                <a:srgbClr val="000000"/>
              </a:solidFill>
              <a:latin typeface="Times New Roman"/>
            </a:endParaRPr>
          </a:p>
        </p:txBody>
      </p:sp>
      <p:pic>
        <p:nvPicPr>
          <p:cNvPr id="2472" name="" descr=""/>
          <p:cNvPicPr/>
          <p:nvPr/>
        </p:nvPicPr>
        <p:blipFill>
          <a:blip r:embed="rId2"/>
          <a:stretch/>
        </p:blipFill>
        <p:spPr>
          <a:xfrm>
            <a:off x="7791480" y="1316160"/>
            <a:ext cx="1116000" cy="3009600"/>
          </a:xfrm>
          <a:prstGeom prst="rect">
            <a:avLst/>
          </a:prstGeom>
          <a:ln w="0">
            <a:noFill/>
          </a:ln>
        </p:spPr>
      </p:pic>
      <p:sp>
        <p:nvSpPr>
          <p:cNvPr id="2473" name=""/>
          <p:cNvSpPr/>
          <p:nvPr/>
        </p:nvSpPr>
        <p:spPr>
          <a:xfrm flipH="1">
            <a:off x="5689440" y="2459160"/>
            <a:ext cx="1841760" cy="1166760"/>
          </a:xfrm>
          <a:prstGeom prst="wedgeRoundRectCallout">
            <a:avLst>
              <a:gd name="adj1" fmla="val -68189"/>
              <a:gd name="adj2" fmla="val -55990"/>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emand for Power? Excellent!</a:t>
            </a:r>
            <a:r>
              <a:rPr b="0" lang="en-US" sz="1800" spc="-1" strike="noStrike">
                <a:solidFill>
                  <a:srgbClr val="000000"/>
                </a:solidFill>
                <a:latin typeface="Comic Sans MS"/>
                <a:ea typeface="Times New Roman"/>
              </a:rPr>
              <a:t>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474" name=""/>
          <p:cNvSpPr/>
          <p:nvPr/>
        </p:nvSpPr>
        <p:spPr>
          <a:xfrm>
            <a:off x="2193840" y="3773520"/>
            <a:ext cx="5726160" cy="12333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2193840" y="3773520"/>
            <a:ext cx="572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6" name=""/>
          <p:cNvSpPr/>
          <p:nvPr/>
        </p:nvSpPr>
        <p:spPr>
          <a:xfrm>
            <a:off x="2193840" y="3773520"/>
            <a:ext cx="5726160" cy="1233360"/>
          </a:xfrm>
          <a:custGeom>
            <a:avLst/>
            <a:gdLst/>
            <a:ahLst/>
            <a:rect l="l" t="t" r="r" b="b"/>
            <a:pathLst>
              <a:path w="576" h="131">
                <a:moveTo>
                  <a:pt x="0" y="131"/>
                </a:moveTo>
                <a:lnTo>
                  <a:pt x="576" y="131"/>
                </a:lnTo>
                <a:lnTo>
                  <a:pt x="5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flipV="1">
            <a:off x="2193840" y="3773520"/>
            <a:ext cx="1800" cy="123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2193840" y="5006880"/>
            <a:ext cx="5726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9" name=""/>
          <p:cNvSpPr/>
          <p:nvPr/>
        </p:nvSpPr>
        <p:spPr>
          <a:xfrm flipV="1">
            <a:off x="2193840" y="3773520"/>
            <a:ext cx="1800" cy="123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flipV="1">
            <a:off x="2193840" y="495144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81" name=""/>
          <p:cNvSpPr/>
          <p:nvPr/>
        </p:nvSpPr>
        <p:spPr>
          <a:xfrm>
            <a:off x="2193840" y="377352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82" name=""/>
          <p:cNvSpPr/>
          <p:nvPr/>
        </p:nvSpPr>
        <p:spPr>
          <a:xfrm>
            <a:off x="2192400" y="50356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483" name=""/>
          <p:cNvSpPr/>
          <p:nvPr/>
        </p:nvSpPr>
        <p:spPr>
          <a:xfrm flipV="1">
            <a:off x="2760840" y="495144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84" name=""/>
          <p:cNvSpPr/>
          <p:nvPr/>
        </p:nvSpPr>
        <p:spPr>
          <a:xfrm>
            <a:off x="2760840" y="377352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85" name=""/>
          <p:cNvSpPr/>
          <p:nvPr/>
        </p:nvSpPr>
        <p:spPr>
          <a:xfrm>
            <a:off x="2689200" y="503568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0" lang="en-US" sz="1000" spc="-1" strike="noStrike">
              <a:solidFill>
                <a:srgbClr val="000000"/>
              </a:solidFill>
              <a:latin typeface="Times New Roman"/>
            </a:endParaRPr>
          </a:p>
        </p:txBody>
      </p:sp>
      <p:sp>
        <p:nvSpPr>
          <p:cNvPr id="2486" name=""/>
          <p:cNvSpPr/>
          <p:nvPr/>
        </p:nvSpPr>
        <p:spPr>
          <a:xfrm flipV="1">
            <a:off x="3336840" y="495144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87" name=""/>
          <p:cNvSpPr/>
          <p:nvPr/>
        </p:nvSpPr>
        <p:spPr>
          <a:xfrm>
            <a:off x="3336840" y="377352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88" name=""/>
          <p:cNvSpPr/>
          <p:nvPr/>
        </p:nvSpPr>
        <p:spPr>
          <a:xfrm>
            <a:off x="3265560" y="503568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a:t>
            </a:r>
            <a:endParaRPr b="0" lang="en-US" sz="1000" spc="-1" strike="noStrike">
              <a:solidFill>
                <a:srgbClr val="000000"/>
              </a:solidFill>
              <a:latin typeface="Times New Roman"/>
            </a:endParaRPr>
          </a:p>
        </p:txBody>
      </p:sp>
      <p:sp>
        <p:nvSpPr>
          <p:cNvPr id="2489" name=""/>
          <p:cNvSpPr/>
          <p:nvPr/>
        </p:nvSpPr>
        <p:spPr>
          <a:xfrm flipV="1">
            <a:off x="3903840" y="495144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0" name=""/>
          <p:cNvSpPr/>
          <p:nvPr/>
        </p:nvSpPr>
        <p:spPr>
          <a:xfrm>
            <a:off x="3903840" y="377352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91" name=""/>
          <p:cNvSpPr/>
          <p:nvPr/>
        </p:nvSpPr>
        <p:spPr>
          <a:xfrm>
            <a:off x="3832200" y="503568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0" lang="en-US" sz="1000" spc="-1" strike="noStrike">
              <a:solidFill>
                <a:srgbClr val="000000"/>
              </a:solidFill>
              <a:latin typeface="Times New Roman"/>
            </a:endParaRPr>
          </a:p>
        </p:txBody>
      </p:sp>
      <p:sp>
        <p:nvSpPr>
          <p:cNvPr id="2492" name=""/>
          <p:cNvSpPr/>
          <p:nvPr/>
        </p:nvSpPr>
        <p:spPr>
          <a:xfrm flipV="1">
            <a:off x="4479840" y="495144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3" name=""/>
          <p:cNvSpPr/>
          <p:nvPr/>
        </p:nvSpPr>
        <p:spPr>
          <a:xfrm>
            <a:off x="4479840" y="377352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94" name=""/>
          <p:cNvSpPr/>
          <p:nvPr/>
        </p:nvSpPr>
        <p:spPr>
          <a:xfrm>
            <a:off x="4410000" y="503568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0" lang="en-US" sz="1000" spc="-1" strike="noStrike">
              <a:solidFill>
                <a:srgbClr val="000000"/>
              </a:solidFill>
              <a:latin typeface="Times New Roman"/>
            </a:endParaRPr>
          </a:p>
        </p:txBody>
      </p:sp>
      <p:sp>
        <p:nvSpPr>
          <p:cNvPr id="2495" name=""/>
          <p:cNvSpPr/>
          <p:nvPr/>
        </p:nvSpPr>
        <p:spPr>
          <a:xfrm flipV="1">
            <a:off x="5056200" y="495144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6" name=""/>
          <p:cNvSpPr/>
          <p:nvPr/>
        </p:nvSpPr>
        <p:spPr>
          <a:xfrm>
            <a:off x="5056200" y="377352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97" name=""/>
          <p:cNvSpPr/>
          <p:nvPr/>
        </p:nvSpPr>
        <p:spPr>
          <a:xfrm>
            <a:off x="4946400" y="5035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Times New Roman"/>
            </a:endParaRPr>
          </a:p>
        </p:txBody>
      </p:sp>
      <p:sp>
        <p:nvSpPr>
          <p:cNvPr id="2498" name=""/>
          <p:cNvSpPr/>
          <p:nvPr/>
        </p:nvSpPr>
        <p:spPr>
          <a:xfrm flipV="1">
            <a:off x="5622840" y="495144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9" name=""/>
          <p:cNvSpPr/>
          <p:nvPr/>
        </p:nvSpPr>
        <p:spPr>
          <a:xfrm>
            <a:off x="5622840" y="377352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0" name=""/>
          <p:cNvSpPr/>
          <p:nvPr/>
        </p:nvSpPr>
        <p:spPr>
          <a:xfrm>
            <a:off x="5513400" y="5035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a:t>
            </a:r>
            <a:endParaRPr b="0" lang="en-US" sz="1000" spc="-1" strike="noStrike">
              <a:solidFill>
                <a:srgbClr val="000000"/>
              </a:solidFill>
              <a:latin typeface="Times New Roman"/>
            </a:endParaRPr>
          </a:p>
        </p:txBody>
      </p:sp>
      <p:sp>
        <p:nvSpPr>
          <p:cNvPr id="2501" name=""/>
          <p:cNvSpPr/>
          <p:nvPr/>
        </p:nvSpPr>
        <p:spPr>
          <a:xfrm flipV="1">
            <a:off x="6200640" y="495144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2" name=""/>
          <p:cNvSpPr/>
          <p:nvPr/>
        </p:nvSpPr>
        <p:spPr>
          <a:xfrm>
            <a:off x="6200640" y="377352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3" name=""/>
          <p:cNvSpPr/>
          <p:nvPr/>
        </p:nvSpPr>
        <p:spPr>
          <a:xfrm>
            <a:off x="6089400" y="5035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a:t>
            </a:r>
            <a:endParaRPr b="0" lang="en-US" sz="1000" spc="-1" strike="noStrike">
              <a:solidFill>
                <a:srgbClr val="000000"/>
              </a:solidFill>
              <a:latin typeface="Times New Roman"/>
            </a:endParaRPr>
          </a:p>
        </p:txBody>
      </p:sp>
      <p:sp>
        <p:nvSpPr>
          <p:cNvPr id="2504" name=""/>
          <p:cNvSpPr/>
          <p:nvPr/>
        </p:nvSpPr>
        <p:spPr>
          <a:xfrm flipV="1">
            <a:off x="6767640" y="495144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5" name=""/>
          <p:cNvSpPr/>
          <p:nvPr/>
        </p:nvSpPr>
        <p:spPr>
          <a:xfrm>
            <a:off x="6767640" y="377352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6" name=""/>
          <p:cNvSpPr/>
          <p:nvPr/>
        </p:nvSpPr>
        <p:spPr>
          <a:xfrm>
            <a:off x="6656400" y="5035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0</a:t>
            </a:r>
            <a:endParaRPr b="0" lang="en-US" sz="1000" spc="-1" strike="noStrike">
              <a:solidFill>
                <a:srgbClr val="000000"/>
              </a:solidFill>
              <a:latin typeface="Times New Roman"/>
            </a:endParaRPr>
          </a:p>
        </p:txBody>
      </p:sp>
      <p:sp>
        <p:nvSpPr>
          <p:cNvPr id="2507" name=""/>
          <p:cNvSpPr/>
          <p:nvPr/>
        </p:nvSpPr>
        <p:spPr>
          <a:xfrm flipV="1">
            <a:off x="7343640" y="495144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8" name=""/>
          <p:cNvSpPr/>
          <p:nvPr/>
        </p:nvSpPr>
        <p:spPr>
          <a:xfrm>
            <a:off x="7343640" y="377352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9" name=""/>
          <p:cNvSpPr/>
          <p:nvPr/>
        </p:nvSpPr>
        <p:spPr>
          <a:xfrm>
            <a:off x="7232400" y="5035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0</a:t>
            </a:r>
            <a:endParaRPr b="0" lang="en-US" sz="1000" spc="-1" strike="noStrike">
              <a:solidFill>
                <a:srgbClr val="000000"/>
              </a:solidFill>
              <a:latin typeface="Times New Roman"/>
            </a:endParaRPr>
          </a:p>
        </p:txBody>
      </p:sp>
      <p:sp>
        <p:nvSpPr>
          <p:cNvPr id="2510" name=""/>
          <p:cNvSpPr/>
          <p:nvPr/>
        </p:nvSpPr>
        <p:spPr>
          <a:xfrm flipV="1">
            <a:off x="7920000" y="495144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11" name=""/>
          <p:cNvSpPr/>
          <p:nvPr/>
        </p:nvSpPr>
        <p:spPr>
          <a:xfrm>
            <a:off x="7920000" y="377352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12" name=""/>
          <p:cNvSpPr/>
          <p:nvPr/>
        </p:nvSpPr>
        <p:spPr>
          <a:xfrm>
            <a:off x="7810200" y="5035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Times New Roman"/>
            </a:endParaRPr>
          </a:p>
        </p:txBody>
      </p:sp>
      <p:sp>
        <p:nvSpPr>
          <p:cNvPr id="2513" name=""/>
          <p:cNvSpPr/>
          <p:nvPr/>
        </p:nvSpPr>
        <p:spPr>
          <a:xfrm>
            <a:off x="2193840" y="500688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4" name=""/>
          <p:cNvSpPr/>
          <p:nvPr/>
        </p:nvSpPr>
        <p:spPr>
          <a:xfrm flipH="1">
            <a:off x="7860960" y="5006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5" name=""/>
          <p:cNvSpPr/>
          <p:nvPr/>
        </p:nvSpPr>
        <p:spPr>
          <a:xfrm>
            <a:off x="1973160" y="493236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a:t>
            </a:r>
            <a:endParaRPr b="0" lang="en-US" sz="1000" spc="-1" strike="noStrike">
              <a:solidFill>
                <a:srgbClr val="000000"/>
              </a:solidFill>
              <a:latin typeface="Times New Roman"/>
            </a:endParaRPr>
          </a:p>
        </p:txBody>
      </p:sp>
      <p:sp>
        <p:nvSpPr>
          <p:cNvPr id="2516" name=""/>
          <p:cNvSpPr/>
          <p:nvPr/>
        </p:nvSpPr>
        <p:spPr>
          <a:xfrm>
            <a:off x="2193840" y="46958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7" name=""/>
          <p:cNvSpPr/>
          <p:nvPr/>
        </p:nvSpPr>
        <p:spPr>
          <a:xfrm flipH="1">
            <a:off x="7860960" y="4695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8" name=""/>
          <p:cNvSpPr/>
          <p:nvPr/>
        </p:nvSpPr>
        <p:spPr>
          <a:xfrm>
            <a:off x="1903320" y="46213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Times New Roman"/>
            </a:endParaRPr>
          </a:p>
        </p:txBody>
      </p:sp>
      <p:sp>
        <p:nvSpPr>
          <p:cNvPr id="2519" name=""/>
          <p:cNvSpPr/>
          <p:nvPr/>
        </p:nvSpPr>
        <p:spPr>
          <a:xfrm>
            <a:off x="2193840" y="43862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0" name=""/>
          <p:cNvSpPr/>
          <p:nvPr/>
        </p:nvSpPr>
        <p:spPr>
          <a:xfrm flipH="1">
            <a:off x="7860960" y="438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1903320" y="43099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0</a:t>
            </a:r>
            <a:endParaRPr b="0" lang="en-US" sz="1000" spc="-1" strike="noStrike">
              <a:solidFill>
                <a:srgbClr val="000000"/>
              </a:solidFill>
              <a:latin typeface="Times New Roman"/>
            </a:endParaRPr>
          </a:p>
        </p:txBody>
      </p:sp>
      <p:sp>
        <p:nvSpPr>
          <p:cNvPr id="2522" name=""/>
          <p:cNvSpPr/>
          <p:nvPr/>
        </p:nvSpPr>
        <p:spPr>
          <a:xfrm>
            <a:off x="2193840" y="40752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3" name=""/>
          <p:cNvSpPr/>
          <p:nvPr/>
        </p:nvSpPr>
        <p:spPr>
          <a:xfrm flipH="1">
            <a:off x="7860960" y="4075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1903320" y="4000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Times New Roman"/>
            </a:endParaRPr>
          </a:p>
        </p:txBody>
      </p:sp>
      <p:sp>
        <p:nvSpPr>
          <p:cNvPr id="2525" name=""/>
          <p:cNvSpPr/>
          <p:nvPr/>
        </p:nvSpPr>
        <p:spPr>
          <a:xfrm>
            <a:off x="2193840" y="37735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flipH="1">
            <a:off x="7860960" y="3773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7" name=""/>
          <p:cNvSpPr/>
          <p:nvPr/>
        </p:nvSpPr>
        <p:spPr>
          <a:xfrm>
            <a:off x="1903320" y="36990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0</a:t>
            </a:r>
            <a:endParaRPr b="0" lang="en-US" sz="1000" spc="-1" strike="noStrike">
              <a:solidFill>
                <a:srgbClr val="000000"/>
              </a:solidFill>
              <a:latin typeface="Times New Roman"/>
            </a:endParaRPr>
          </a:p>
        </p:txBody>
      </p:sp>
      <p:sp>
        <p:nvSpPr>
          <p:cNvPr id="2528" name=""/>
          <p:cNvSpPr/>
          <p:nvPr/>
        </p:nvSpPr>
        <p:spPr>
          <a:xfrm>
            <a:off x="2193840" y="3773520"/>
            <a:ext cx="572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2193840" y="3773520"/>
            <a:ext cx="5726160" cy="1233360"/>
          </a:xfrm>
          <a:custGeom>
            <a:avLst/>
            <a:gdLst/>
            <a:ahLst/>
            <a:rect l="l" t="t" r="r" b="b"/>
            <a:pathLst>
              <a:path w="576" h="131">
                <a:moveTo>
                  <a:pt x="0" y="131"/>
                </a:moveTo>
                <a:lnTo>
                  <a:pt x="576" y="131"/>
                </a:lnTo>
                <a:lnTo>
                  <a:pt x="5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flipV="1">
            <a:off x="2193840" y="3773520"/>
            <a:ext cx="1800" cy="123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193840" y="4094280"/>
            <a:ext cx="515880" cy="610920"/>
          </a:xfrm>
          <a:custGeom>
            <a:avLst/>
            <a:gdLst/>
            <a:ahLst/>
            <a:rect l="l" t="t" r="r" b="b"/>
            <a:pathLst>
              <a:path w="325" h="385">
                <a:moveTo>
                  <a:pt x="0" y="374"/>
                </a:moveTo>
                <a:lnTo>
                  <a:pt x="0" y="368"/>
                </a:lnTo>
                <a:lnTo>
                  <a:pt x="6" y="362"/>
                </a:lnTo>
                <a:lnTo>
                  <a:pt x="6" y="332"/>
                </a:lnTo>
                <a:lnTo>
                  <a:pt x="12" y="326"/>
                </a:lnTo>
                <a:lnTo>
                  <a:pt x="12" y="267"/>
                </a:lnTo>
                <a:lnTo>
                  <a:pt x="18" y="237"/>
                </a:lnTo>
                <a:lnTo>
                  <a:pt x="18" y="172"/>
                </a:lnTo>
                <a:lnTo>
                  <a:pt x="25" y="124"/>
                </a:lnTo>
                <a:lnTo>
                  <a:pt x="25" y="89"/>
                </a:lnTo>
                <a:lnTo>
                  <a:pt x="25" y="107"/>
                </a:lnTo>
                <a:lnTo>
                  <a:pt x="31" y="95"/>
                </a:lnTo>
                <a:lnTo>
                  <a:pt x="31" y="83"/>
                </a:lnTo>
                <a:lnTo>
                  <a:pt x="37" y="65"/>
                </a:lnTo>
                <a:lnTo>
                  <a:pt x="37" y="47"/>
                </a:lnTo>
                <a:lnTo>
                  <a:pt x="43" y="30"/>
                </a:lnTo>
                <a:lnTo>
                  <a:pt x="43" y="53"/>
                </a:lnTo>
                <a:lnTo>
                  <a:pt x="43" y="47"/>
                </a:lnTo>
                <a:lnTo>
                  <a:pt x="50" y="53"/>
                </a:lnTo>
                <a:lnTo>
                  <a:pt x="56" y="47"/>
                </a:lnTo>
                <a:lnTo>
                  <a:pt x="56" y="65"/>
                </a:lnTo>
                <a:lnTo>
                  <a:pt x="62" y="59"/>
                </a:lnTo>
                <a:lnTo>
                  <a:pt x="62" y="77"/>
                </a:lnTo>
                <a:lnTo>
                  <a:pt x="62" y="65"/>
                </a:lnTo>
                <a:lnTo>
                  <a:pt x="68" y="83"/>
                </a:lnTo>
                <a:lnTo>
                  <a:pt x="68" y="95"/>
                </a:lnTo>
                <a:lnTo>
                  <a:pt x="75" y="89"/>
                </a:lnTo>
                <a:lnTo>
                  <a:pt x="75" y="113"/>
                </a:lnTo>
                <a:lnTo>
                  <a:pt x="81" y="130"/>
                </a:lnTo>
                <a:lnTo>
                  <a:pt x="81" y="202"/>
                </a:lnTo>
                <a:lnTo>
                  <a:pt x="87" y="231"/>
                </a:lnTo>
                <a:lnTo>
                  <a:pt x="87" y="249"/>
                </a:lnTo>
                <a:lnTo>
                  <a:pt x="87" y="225"/>
                </a:lnTo>
                <a:lnTo>
                  <a:pt x="87" y="243"/>
                </a:lnTo>
                <a:lnTo>
                  <a:pt x="94" y="261"/>
                </a:lnTo>
                <a:lnTo>
                  <a:pt x="94" y="314"/>
                </a:lnTo>
                <a:lnTo>
                  <a:pt x="94" y="308"/>
                </a:lnTo>
                <a:lnTo>
                  <a:pt x="100" y="302"/>
                </a:lnTo>
                <a:lnTo>
                  <a:pt x="100" y="320"/>
                </a:lnTo>
                <a:lnTo>
                  <a:pt x="106" y="320"/>
                </a:lnTo>
                <a:lnTo>
                  <a:pt x="106" y="350"/>
                </a:lnTo>
                <a:lnTo>
                  <a:pt x="106" y="338"/>
                </a:lnTo>
                <a:lnTo>
                  <a:pt x="112" y="332"/>
                </a:lnTo>
                <a:lnTo>
                  <a:pt x="112" y="326"/>
                </a:lnTo>
                <a:lnTo>
                  <a:pt x="112" y="344"/>
                </a:lnTo>
                <a:lnTo>
                  <a:pt x="119" y="326"/>
                </a:lnTo>
                <a:lnTo>
                  <a:pt x="119" y="320"/>
                </a:lnTo>
                <a:lnTo>
                  <a:pt x="119" y="326"/>
                </a:lnTo>
                <a:lnTo>
                  <a:pt x="125" y="332"/>
                </a:lnTo>
                <a:lnTo>
                  <a:pt x="125" y="344"/>
                </a:lnTo>
                <a:lnTo>
                  <a:pt x="131" y="350"/>
                </a:lnTo>
                <a:lnTo>
                  <a:pt x="131" y="338"/>
                </a:lnTo>
                <a:lnTo>
                  <a:pt x="137" y="350"/>
                </a:lnTo>
                <a:lnTo>
                  <a:pt x="137" y="338"/>
                </a:lnTo>
                <a:lnTo>
                  <a:pt x="144" y="344"/>
                </a:lnTo>
                <a:lnTo>
                  <a:pt x="144" y="350"/>
                </a:lnTo>
                <a:lnTo>
                  <a:pt x="144" y="326"/>
                </a:lnTo>
                <a:lnTo>
                  <a:pt x="150" y="332"/>
                </a:lnTo>
                <a:lnTo>
                  <a:pt x="150" y="344"/>
                </a:lnTo>
                <a:lnTo>
                  <a:pt x="150" y="332"/>
                </a:lnTo>
                <a:lnTo>
                  <a:pt x="156" y="350"/>
                </a:lnTo>
                <a:lnTo>
                  <a:pt x="156" y="368"/>
                </a:lnTo>
                <a:lnTo>
                  <a:pt x="156" y="356"/>
                </a:lnTo>
                <a:lnTo>
                  <a:pt x="162" y="350"/>
                </a:lnTo>
                <a:lnTo>
                  <a:pt x="162" y="332"/>
                </a:lnTo>
                <a:lnTo>
                  <a:pt x="169" y="338"/>
                </a:lnTo>
                <a:lnTo>
                  <a:pt x="169" y="320"/>
                </a:lnTo>
                <a:lnTo>
                  <a:pt x="175" y="326"/>
                </a:lnTo>
                <a:lnTo>
                  <a:pt x="175" y="332"/>
                </a:lnTo>
                <a:lnTo>
                  <a:pt x="175" y="326"/>
                </a:lnTo>
                <a:lnTo>
                  <a:pt x="181" y="320"/>
                </a:lnTo>
                <a:lnTo>
                  <a:pt x="181" y="249"/>
                </a:lnTo>
                <a:lnTo>
                  <a:pt x="187" y="243"/>
                </a:lnTo>
                <a:lnTo>
                  <a:pt x="187" y="255"/>
                </a:lnTo>
                <a:lnTo>
                  <a:pt x="187" y="213"/>
                </a:lnTo>
                <a:lnTo>
                  <a:pt x="194" y="196"/>
                </a:lnTo>
                <a:lnTo>
                  <a:pt x="194" y="53"/>
                </a:lnTo>
                <a:lnTo>
                  <a:pt x="194" y="59"/>
                </a:lnTo>
                <a:lnTo>
                  <a:pt x="200" y="47"/>
                </a:lnTo>
                <a:lnTo>
                  <a:pt x="200" y="53"/>
                </a:lnTo>
                <a:lnTo>
                  <a:pt x="200" y="0"/>
                </a:lnTo>
                <a:lnTo>
                  <a:pt x="206" y="12"/>
                </a:lnTo>
                <a:lnTo>
                  <a:pt x="206" y="41"/>
                </a:lnTo>
                <a:lnTo>
                  <a:pt x="206" y="30"/>
                </a:lnTo>
                <a:lnTo>
                  <a:pt x="213" y="59"/>
                </a:lnTo>
                <a:lnTo>
                  <a:pt x="213" y="41"/>
                </a:lnTo>
                <a:lnTo>
                  <a:pt x="219" y="65"/>
                </a:lnTo>
                <a:lnTo>
                  <a:pt x="219" y="83"/>
                </a:lnTo>
                <a:lnTo>
                  <a:pt x="219" y="53"/>
                </a:lnTo>
                <a:lnTo>
                  <a:pt x="225" y="59"/>
                </a:lnTo>
                <a:lnTo>
                  <a:pt x="225" y="53"/>
                </a:lnTo>
                <a:lnTo>
                  <a:pt x="225" y="59"/>
                </a:lnTo>
                <a:lnTo>
                  <a:pt x="231" y="83"/>
                </a:lnTo>
                <a:lnTo>
                  <a:pt x="231" y="89"/>
                </a:lnTo>
                <a:lnTo>
                  <a:pt x="231" y="71"/>
                </a:lnTo>
                <a:lnTo>
                  <a:pt x="238" y="77"/>
                </a:lnTo>
                <a:lnTo>
                  <a:pt x="238" y="89"/>
                </a:lnTo>
                <a:lnTo>
                  <a:pt x="238" y="65"/>
                </a:lnTo>
                <a:lnTo>
                  <a:pt x="244" y="71"/>
                </a:lnTo>
                <a:lnTo>
                  <a:pt x="244" y="107"/>
                </a:lnTo>
                <a:lnTo>
                  <a:pt x="244" y="95"/>
                </a:lnTo>
                <a:lnTo>
                  <a:pt x="250" y="107"/>
                </a:lnTo>
                <a:lnTo>
                  <a:pt x="250" y="160"/>
                </a:lnTo>
                <a:lnTo>
                  <a:pt x="256" y="196"/>
                </a:lnTo>
                <a:lnTo>
                  <a:pt x="256" y="261"/>
                </a:lnTo>
                <a:lnTo>
                  <a:pt x="263" y="285"/>
                </a:lnTo>
                <a:lnTo>
                  <a:pt x="263" y="308"/>
                </a:lnTo>
                <a:lnTo>
                  <a:pt x="269" y="338"/>
                </a:lnTo>
                <a:lnTo>
                  <a:pt x="269" y="344"/>
                </a:lnTo>
                <a:lnTo>
                  <a:pt x="281" y="356"/>
                </a:lnTo>
                <a:lnTo>
                  <a:pt x="281" y="362"/>
                </a:lnTo>
                <a:lnTo>
                  <a:pt x="288" y="368"/>
                </a:lnTo>
                <a:lnTo>
                  <a:pt x="288" y="368"/>
                </a:lnTo>
                <a:lnTo>
                  <a:pt x="288" y="385"/>
                </a:lnTo>
                <a:lnTo>
                  <a:pt x="294" y="374"/>
                </a:lnTo>
                <a:lnTo>
                  <a:pt x="294" y="379"/>
                </a:lnTo>
                <a:lnTo>
                  <a:pt x="294" y="368"/>
                </a:lnTo>
                <a:lnTo>
                  <a:pt x="300" y="362"/>
                </a:lnTo>
                <a:lnTo>
                  <a:pt x="300" y="374"/>
                </a:lnTo>
                <a:lnTo>
                  <a:pt x="306" y="379"/>
                </a:lnTo>
                <a:lnTo>
                  <a:pt x="306" y="362"/>
                </a:lnTo>
                <a:lnTo>
                  <a:pt x="313" y="368"/>
                </a:lnTo>
                <a:lnTo>
                  <a:pt x="313" y="379"/>
                </a:lnTo>
                <a:lnTo>
                  <a:pt x="313" y="374"/>
                </a:lnTo>
                <a:lnTo>
                  <a:pt x="319" y="368"/>
                </a:lnTo>
                <a:lnTo>
                  <a:pt x="319" y="374"/>
                </a:lnTo>
                <a:lnTo>
                  <a:pt x="325" y="356"/>
                </a:lnTo>
                <a:lnTo>
                  <a:pt x="325" y="379"/>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2709720" y="4056120"/>
            <a:ext cx="557280" cy="649080"/>
          </a:xfrm>
          <a:custGeom>
            <a:avLst/>
            <a:gdLst/>
            <a:ahLst/>
            <a:rect l="l" t="t" r="r" b="b"/>
            <a:pathLst>
              <a:path w="351" h="409">
                <a:moveTo>
                  <a:pt x="0" y="403"/>
                </a:moveTo>
                <a:lnTo>
                  <a:pt x="7" y="398"/>
                </a:lnTo>
                <a:lnTo>
                  <a:pt x="7" y="392"/>
                </a:lnTo>
                <a:lnTo>
                  <a:pt x="13" y="398"/>
                </a:lnTo>
                <a:lnTo>
                  <a:pt x="13" y="409"/>
                </a:lnTo>
                <a:lnTo>
                  <a:pt x="13" y="398"/>
                </a:lnTo>
                <a:lnTo>
                  <a:pt x="19" y="380"/>
                </a:lnTo>
                <a:lnTo>
                  <a:pt x="19" y="386"/>
                </a:lnTo>
                <a:lnTo>
                  <a:pt x="19" y="380"/>
                </a:lnTo>
                <a:lnTo>
                  <a:pt x="25" y="386"/>
                </a:lnTo>
                <a:lnTo>
                  <a:pt x="25" y="398"/>
                </a:lnTo>
                <a:lnTo>
                  <a:pt x="32" y="386"/>
                </a:lnTo>
                <a:lnTo>
                  <a:pt x="32" y="326"/>
                </a:lnTo>
                <a:lnTo>
                  <a:pt x="38" y="291"/>
                </a:lnTo>
                <a:lnTo>
                  <a:pt x="38" y="220"/>
                </a:lnTo>
                <a:lnTo>
                  <a:pt x="44" y="208"/>
                </a:lnTo>
                <a:lnTo>
                  <a:pt x="44" y="113"/>
                </a:lnTo>
                <a:lnTo>
                  <a:pt x="50" y="95"/>
                </a:lnTo>
                <a:lnTo>
                  <a:pt x="50" y="54"/>
                </a:lnTo>
                <a:lnTo>
                  <a:pt x="57" y="77"/>
                </a:lnTo>
                <a:lnTo>
                  <a:pt x="57" y="107"/>
                </a:lnTo>
                <a:lnTo>
                  <a:pt x="57" y="95"/>
                </a:lnTo>
                <a:lnTo>
                  <a:pt x="63" y="83"/>
                </a:lnTo>
                <a:lnTo>
                  <a:pt x="63" y="107"/>
                </a:lnTo>
                <a:lnTo>
                  <a:pt x="69" y="125"/>
                </a:lnTo>
                <a:lnTo>
                  <a:pt x="69" y="131"/>
                </a:lnTo>
                <a:lnTo>
                  <a:pt x="69" y="119"/>
                </a:lnTo>
                <a:lnTo>
                  <a:pt x="82" y="113"/>
                </a:lnTo>
                <a:lnTo>
                  <a:pt x="82" y="125"/>
                </a:lnTo>
                <a:lnTo>
                  <a:pt x="88" y="131"/>
                </a:lnTo>
                <a:lnTo>
                  <a:pt x="88" y="119"/>
                </a:lnTo>
                <a:lnTo>
                  <a:pt x="94" y="154"/>
                </a:lnTo>
                <a:lnTo>
                  <a:pt x="94" y="160"/>
                </a:lnTo>
                <a:lnTo>
                  <a:pt x="94" y="131"/>
                </a:lnTo>
                <a:lnTo>
                  <a:pt x="100" y="131"/>
                </a:lnTo>
                <a:lnTo>
                  <a:pt x="100" y="202"/>
                </a:lnTo>
                <a:lnTo>
                  <a:pt x="107" y="249"/>
                </a:lnTo>
                <a:lnTo>
                  <a:pt x="107" y="309"/>
                </a:lnTo>
                <a:lnTo>
                  <a:pt x="113" y="320"/>
                </a:lnTo>
                <a:lnTo>
                  <a:pt x="113" y="356"/>
                </a:lnTo>
                <a:lnTo>
                  <a:pt x="119" y="350"/>
                </a:lnTo>
                <a:lnTo>
                  <a:pt x="119" y="362"/>
                </a:lnTo>
                <a:lnTo>
                  <a:pt x="126" y="380"/>
                </a:lnTo>
                <a:lnTo>
                  <a:pt x="126" y="386"/>
                </a:lnTo>
                <a:lnTo>
                  <a:pt x="132" y="368"/>
                </a:lnTo>
                <a:lnTo>
                  <a:pt x="132" y="380"/>
                </a:lnTo>
                <a:lnTo>
                  <a:pt x="138" y="398"/>
                </a:lnTo>
                <a:lnTo>
                  <a:pt x="138" y="392"/>
                </a:lnTo>
                <a:lnTo>
                  <a:pt x="138" y="386"/>
                </a:lnTo>
                <a:lnTo>
                  <a:pt x="144" y="392"/>
                </a:lnTo>
                <a:lnTo>
                  <a:pt x="157" y="380"/>
                </a:lnTo>
                <a:lnTo>
                  <a:pt x="151" y="380"/>
                </a:lnTo>
                <a:lnTo>
                  <a:pt x="157" y="403"/>
                </a:lnTo>
                <a:lnTo>
                  <a:pt x="163" y="409"/>
                </a:lnTo>
                <a:lnTo>
                  <a:pt x="163" y="409"/>
                </a:lnTo>
                <a:lnTo>
                  <a:pt x="163" y="398"/>
                </a:lnTo>
                <a:lnTo>
                  <a:pt x="169" y="403"/>
                </a:lnTo>
                <a:lnTo>
                  <a:pt x="169" y="386"/>
                </a:lnTo>
                <a:lnTo>
                  <a:pt x="169" y="403"/>
                </a:lnTo>
                <a:lnTo>
                  <a:pt x="176" y="398"/>
                </a:lnTo>
                <a:lnTo>
                  <a:pt x="176" y="409"/>
                </a:lnTo>
                <a:lnTo>
                  <a:pt x="176" y="403"/>
                </a:lnTo>
                <a:lnTo>
                  <a:pt x="182" y="380"/>
                </a:lnTo>
                <a:lnTo>
                  <a:pt x="182" y="374"/>
                </a:lnTo>
                <a:lnTo>
                  <a:pt x="182" y="386"/>
                </a:lnTo>
                <a:lnTo>
                  <a:pt x="188" y="398"/>
                </a:lnTo>
                <a:lnTo>
                  <a:pt x="188" y="392"/>
                </a:lnTo>
                <a:lnTo>
                  <a:pt x="194" y="380"/>
                </a:lnTo>
                <a:lnTo>
                  <a:pt x="201" y="362"/>
                </a:lnTo>
                <a:lnTo>
                  <a:pt x="201" y="344"/>
                </a:lnTo>
                <a:lnTo>
                  <a:pt x="207" y="326"/>
                </a:lnTo>
                <a:lnTo>
                  <a:pt x="207" y="309"/>
                </a:lnTo>
                <a:lnTo>
                  <a:pt x="213" y="279"/>
                </a:lnTo>
                <a:lnTo>
                  <a:pt x="213" y="137"/>
                </a:lnTo>
                <a:lnTo>
                  <a:pt x="219" y="89"/>
                </a:lnTo>
                <a:lnTo>
                  <a:pt x="219" y="77"/>
                </a:lnTo>
                <a:lnTo>
                  <a:pt x="226" y="48"/>
                </a:lnTo>
                <a:lnTo>
                  <a:pt x="226" y="107"/>
                </a:lnTo>
                <a:lnTo>
                  <a:pt x="232" y="83"/>
                </a:lnTo>
                <a:lnTo>
                  <a:pt x="232" y="95"/>
                </a:lnTo>
                <a:lnTo>
                  <a:pt x="232" y="59"/>
                </a:lnTo>
                <a:lnTo>
                  <a:pt x="238" y="36"/>
                </a:lnTo>
                <a:lnTo>
                  <a:pt x="238" y="30"/>
                </a:lnTo>
                <a:lnTo>
                  <a:pt x="245" y="48"/>
                </a:lnTo>
                <a:lnTo>
                  <a:pt x="245" y="0"/>
                </a:lnTo>
                <a:lnTo>
                  <a:pt x="245" y="42"/>
                </a:lnTo>
                <a:lnTo>
                  <a:pt x="251" y="54"/>
                </a:lnTo>
                <a:lnTo>
                  <a:pt x="251" y="89"/>
                </a:lnTo>
                <a:lnTo>
                  <a:pt x="257" y="95"/>
                </a:lnTo>
                <a:lnTo>
                  <a:pt x="257" y="71"/>
                </a:lnTo>
                <a:lnTo>
                  <a:pt x="257" y="77"/>
                </a:lnTo>
                <a:lnTo>
                  <a:pt x="263" y="77"/>
                </a:lnTo>
                <a:lnTo>
                  <a:pt x="263" y="59"/>
                </a:lnTo>
                <a:lnTo>
                  <a:pt x="270" y="54"/>
                </a:lnTo>
                <a:lnTo>
                  <a:pt x="270" y="131"/>
                </a:lnTo>
                <a:lnTo>
                  <a:pt x="276" y="184"/>
                </a:lnTo>
                <a:lnTo>
                  <a:pt x="276" y="249"/>
                </a:lnTo>
                <a:lnTo>
                  <a:pt x="282" y="273"/>
                </a:lnTo>
                <a:lnTo>
                  <a:pt x="282" y="303"/>
                </a:lnTo>
                <a:lnTo>
                  <a:pt x="282" y="267"/>
                </a:lnTo>
                <a:lnTo>
                  <a:pt x="282" y="279"/>
                </a:lnTo>
                <a:lnTo>
                  <a:pt x="288" y="303"/>
                </a:lnTo>
                <a:lnTo>
                  <a:pt x="288" y="320"/>
                </a:lnTo>
                <a:lnTo>
                  <a:pt x="288" y="315"/>
                </a:lnTo>
                <a:lnTo>
                  <a:pt x="295" y="320"/>
                </a:lnTo>
                <a:lnTo>
                  <a:pt x="295" y="338"/>
                </a:lnTo>
                <a:lnTo>
                  <a:pt x="295" y="332"/>
                </a:lnTo>
                <a:lnTo>
                  <a:pt x="301" y="356"/>
                </a:lnTo>
                <a:lnTo>
                  <a:pt x="301" y="362"/>
                </a:lnTo>
                <a:lnTo>
                  <a:pt x="301" y="350"/>
                </a:lnTo>
                <a:lnTo>
                  <a:pt x="307" y="374"/>
                </a:lnTo>
                <a:lnTo>
                  <a:pt x="307" y="392"/>
                </a:lnTo>
                <a:lnTo>
                  <a:pt x="307" y="338"/>
                </a:lnTo>
                <a:lnTo>
                  <a:pt x="313" y="362"/>
                </a:lnTo>
                <a:lnTo>
                  <a:pt x="313" y="386"/>
                </a:lnTo>
                <a:lnTo>
                  <a:pt x="313" y="344"/>
                </a:lnTo>
                <a:lnTo>
                  <a:pt x="320" y="338"/>
                </a:lnTo>
                <a:lnTo>
                  <a:pt x="320" y="326"/>
                </a:lnTo>
                <a:lnTo>
                  <a:pt x="326" y="350"/>
                </a:lnTo>
                <a:lnTo>
                  <a:pt x="326" y="356"/>
                </a:lnTo>
                <a:lnTo>
                  <a:pt x="332" y="368"/>
                </a:lnTo>
                <a:lnTo>
                  <a:pt x="332" y="386"/>
                </a:lnTo>
                <a:lnTo>
                  <a:pt x="338" y="380"/>
                </a:lnTo>
                <a:lnTo>
                  <a:pt x="338" y="386"/>
                </a:lnTo>
                <a:lnTo>
                  <a:pt x="345" y="392"/>
                </a:lnTo>
                <a:lnTo>
                  <a:pt x="345" y="374"/>
                </a:lnTo>
                <a:lnTo>
                  <a:pt x="351" y="362"/>
                </a:lnTo>
                <a:lnTo>
                  <a:pt x="351" y="398"/>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267000" y="4168800"/>
            <a:ext cx="666720" cy="574560"/>
          </a:xfrm>
          <a:custGeom>
            <a:avLst/>
            <a:gdLst/>
            <a:ahLst/>
            <a:rect l="l" t="t" r="r" b="b"/>
            <a:pathLst>
              <a:path w="420" h="362">
                <a:moveTo>
                  <a:pt x="0" y="327"/>
                </a:moveTo>
                <a:lnTo>
                  <a:pt x="0" y="303"/>
                </a:lnTo>
                <a:lnTo>
                  <a:pt x="6" y="338"/>
                </a:lnTo>
                <a:lnTo>
                  <a:pt x="6" y="315"/>
                </a:lnTo>
                <a:lnTo>
                  <a:pt x="6" y="338"/>
                </a:lnTo>
                <a:lnTo>
                  <a:pt x="13" y="356"/>
                </a:lnTo>
                <a:lnTo>
                  <a:pt x="13" y="309"/>
                </a:lnTo>
                <a:lnTo>
                  <a:pt x="19" y="285"/>
                </a:lnTo>
                <a:lnTo>
                  <a:pt x="19" y="279"/>
                </a:lnTo>
                <a:lnTo>
                  <a:pt x="25" y="285"/>
                </a:lnTo>
                <a:lnTo>
                  <a:pt x="25" y="297"/>
                </a:lnTo>
                <a:lnTo>
                  <a:pt x="25" y="267"/>
                </a:lnTo>
                <a:lnTo>
                  <a:pt x="31" y="249"/>
                </a:lnTo>
                <a:lnTo>
                  <a:pt x="31" y="202"/>
                </a:lnTo>
                <a:lnTo>
                  <a:pt x="38" y="166"/>
                </a:lnTo>
                <a:lnTo>
                  <a:pt x="38" y="30"/>
                </a:lnTo>
                <a:lnTo>
                  <a:pt x="44" y="24"/>
                </a:lnTo>
                <a:lnTo>
                  <a:pt x="44" y="12"/>
                </a:lnTo>
                <a:lnTo>
                  <a:pt x="44" y="18"/>
                </a:lnTo>
                <a:lnTo>
                  <a:pt x="50" y="30"/>
                </a:lnTo>
                <a:lnTo>
                  <a:pt x="50" y="0"/>
                </a:lnTo>
                <a:lnTo>
                  <a:pt x="56" y="6"/>
                </a:lnTo>
                <a:lnTo>
                  <a:pt x="56" y="66"/>
                </a:lnTo>
                <a:lnTo>
                  <a:pt x="63" y="6"/>
                </a:lnTo>
                <a:lnTo>
                  <a:pt x="63" y="36"/>
                </a:lnTo>
                <a:lnTo>
                  <a:pt x="69" y="6"/>
                </a:lnTo>
                <a:lnTo>
                  <a:pt x="75" y="0"/>
                </a:lnTo>
                <a:lnTo>
                  <a:pt x="81" y="36"/>
                </a:lnTo>
                <a:lnTo>
                  <a:pt x="81" y="30"/>
                </a:lnTo>
                <a:lnTo>
                  <a:pt x="88" y="48"/>
                </a:lnTo>
                <a:lnTo>
                  <a:pt x="88" y="101"/>
                </a:lnTo>
                <a:lnTo>
                  <a:pt x="94" y="107"/>
                </a:lnTo>
                <a:lnTo>
                  <a:pt x="94" y="131"/>
                </a:lnTo>
                <a:lnTo>
                  <a:pt x="100" y="155"/>
                </a:lnTo>
                <a:lnTo>
                  <a:pt x="100" y="226"/>
                </a:lnTo>
                <a:lnTo>
                  <a:pt x="106" y="238"/>
                </a:lnTo>
                <a:lnTo>
                  <a:pt x="106" y="273"/>
                </a:lnTo>
                <a:lnTo>
                  <a:pt x="113" y="291"/>
                </a:lnTo>
                <a:lnTo>
                  <a:pt x="119" y="297"/>
                </a:lnTo>
                <a:lnTo>
                  <a:pt x="119" y="309"/>
                </a:lnTo>
                <a:lnTo>
                  <a:pt x="125" y="309"/>
                </a:lnTo>
                <a:lnTo>
                  <a:pt x="132" y="309"/>
                </a:lnTo>
                <a:lnTo>
                  <a:pt x="132" y="315"/>
                </a:lnTo>
                <a:lnTo>
                  <a:pt x="144" y="315"/>
                </a:lnTo>
                <a:lnTo>
                  <a:pt x="144" y="321"/>
                </a:lnTo>
                <a:lnTo>
                  <a:pt x="144" y="309"/>
                </a:lnTo>
                <a:lnTo>
                  <a:pt x="150" y="315"/>
                </a:lnTo>
                <a:lnTo>
                  <a:pt x="157" y="321"/>
                </a:lnTo>
                <a:lnTo>
                  <a:pt x="157" y="315"/>
                </a:lnTo>
                <a:lnTo>
                  <a:pt x="163" y="309"/>
                </a:lnTo>
                <a:lnTo>
                  <a:pt x="163" y="321"/>
                </a:lnTo>
                <a:lnTo>
                  <a:pt x="169" y="315"/>
                </a:lnTo>
                <a:lnTo>
                  <a:pt x="169" y="309"/>
                </a:lnTo>
                <a:lnTo>
                  <a:pt x="169" y="315"/>
                </a:lnTo>
                <a:lnTo>
                  <a:pt x="175" y="315"/>
                </a:lnTo>
                <a:lnTo>
                  <a:pt x="188" y="315"/>
                </a:lnTo>
                <a:lnTo>
                  <a:pt x="182" y="315"/>
                </a:lnTo>
                <a:lnTo>
                  <a:pt x="188" y="315"/>
                </a:lnTo>
                <a:lnTo>
                  <a:pt x="194" y="321"/>
                </a:lnTo>
                <a:lnTo>
                  <a:pt x="194" y="315"/>
                </a:lnTo>
                <a:lnTo>
                  <a:pt x="194" y="321"/>
                </a:lnTo>
                <a:lnTo>
                  <a:pt x="200" y="315"/>
                </a:lnTo>
                <a:lnTo>
                  <a:pt x="213" y="315"/>
                </a:lnTo>
                <a:lnTo>
                  <a:pt x="207" y="315"/>
                </a:lnTo>
                <a:lnTo>
                  <a:pt x="213" y="315"/>
                </a:lnTo>
                <a:lnTo>
                  <a:pt x="219" y="321"/>
                </a:lnTo>
                <a:lnTo>
                  <a:pt x="225" y="315"/>
                </a:lnTo>
                <a:lnTo>
                  <a:pt x="225" y="309"/>
                </a:lnTo>
                <a:lnTo>
                  <a:pt x="232" y="315"/>
                </a:lnTo>
                <a:lnTo>
                  <a:pt x="232" y="309"/>
                </a:lnTo>
                <a:lnTo>
                  <a:pt x="232" y="315"/>
                </a:lnTo>
                <a:lnTo>
                  <a:pt x="238" y="309"/>
                </a:lnTo>
                <a:lnTo>
                  <a:pt x="238" y="321"/>
                </a:lnTo>
                <a:lnTo>
                  <a:pt x="244" y="327"/>
                </a:lnTo>
                <a:lnTo>
                  <a:pt x="244" y="315"/>
                </a:lnTo>
                <a:lnTo>
                  <a:pt x="244" y="321"/>
                </a:lnTo>
                <a:lnTo>
                  <a:pt x="257" y="321"/>
                </a:lnTo>
                <a:lnTo>
                  <a:pt x="251" y="321"/>
                </a:lnTo>
                <a:lnTo>
                  <a:pt x="257" y="321"/>
                </a:lnTo>
                <a:lnTo>
                  <a:pt x="263" y="327"/>
                </a:lnTo>
                <a:lnTo>
                  <a:pt x="263" y="321"/>
                </a:lnTo>
                <a:lnTo>
                  <a:pt x="263" y="327"/>
                </a:lnTo>
                <a:lnTo>
                  <a:pt x="269" y="315"/>
                </a:lnTo>
                <a:lnTo>
                  <a:pt x="269" y="327"/>
                </a:lnTo>
                <a:lnTo>
                  <a:pt x="269" y="321"/>
                </a:lnTo>
                <a:lnTo>
                  <a:pt x="276" y="315"/>
                </a:lnTo>
                <a:lnTo>
                  <a:pt x="276" y="327"/>
                </a:lnTo>
                <a:lnTo>
                  <a:pt x="276" y="315"/>
                </a:lnTo>
                <a:lnTo>
                  <a:pt x="282" y="315"/>
                </a:lnTo>
                <a:lnTo>
                  <a:pt x="288" y="315"/>
                </a:lnTo>
                <a:lnTo>
                  <a:pt x="288" y="303"/>
                </a:lnTo>
                <a:lnTo>
                  <a:pt x="288" y="315"/>
                </a:lnTo>
                <a:lnTo>
                  <a:pt x="294" y="321"/>
                </a:lnTo>
                <a:lnTo>
                  <a:pt x="301" y="327"/>
                </a:lnTo>
                <a:lnTo>
                  <a:pt x="301" y="344"/>
                </a:lnTo>
                <a:lnTo>
                  <a:pt x="301" y="338"/>
                </a:lnTo>
                <a:lnTo>
                  <a:pt x="307" y="344"/>
                </a:lnTo>
                <a:lnTo>
                  <a:pt x="307" y="356"/>
                </a:lnTo>
                <a:lnTo>
                  <a:pt x="313" y="344"/>
                </a:lnTo>
                <a:lnTo>
                  <a:pt x="313" y="338"/>
                </a:lnTo>
                <a:lnTo>
                  <a:pt x="326" y="338"/>
                </a:lnTo>
                <a:lnTo>
                  <a:pt x="326" y="327"/>
                </a:lnTo>
                <a:lnTo>
                  <a:pt x="326" y="332"/>
                </a:lnTo>
                <a:lnTo>
                  <a:pt x="332" y="321"/>
                </a:lnTo>
                <a:lnTo>
                  <a:pt x="332" y="327"/>
                </a:lnTo>
                <a:lnTo>
                  <a:pt x="344" y="332"/>
                </a:lnTo>
                <a:lnTo>
                  <a:pt x="338" y="332"/>
                </a:lnTo>
                <a:lnTo>
                  <a:pt x="344" y="327"/>
                </a:lnTo>
                <a:lnTo>
                  <a:pt x="351" y="327"/>
                </a:lnTo>
                <a:lnTo>
                  <a:pt x="357" y="338"/>
                </a:lnTo>
                <a:lnTo>
                  <a:pt x="370" y="350"/>
                </a:lnTo>
                <a:lnTo>
                  <a:pt x="363" y="350"/>
                </a:lnTo>
                <a:lnTo>
                  <a:pt x="370" y="350"/>
                </a:lnTo>
                <a:lnTo>
                  <a:pt x="376" y="332"/>
                </a:lnTo>
                <a:lnTo>
                  <a:pt x="376" y="327"/>
                </a:lnTo>
                <a:lnTo>
                  <a:pt x="382" y="321"/>
                </a:lnTo>
                <a:lnTo>
                  <a:pt x="382" y="309"/>
                </a:lnTo>
                <a:lnTo>
                  <a:pt x="388" y="338"/>
                </a:lnTo>
                <a:lnTo>
                  <a:pt x="388" y="362"/>
                </a:lnTo>
                <a:lnTo>
                  <a:pt x="395" y="344"/>
                </a:lnTo>
                <a:lnTo>
                  <a:pt x="395" y="321"/>
                </a:lnTo>
                <a:lnTo>
                  <a:pt x="401" y="315"/>
                </a:lnTo>
                <a:lnTo>
                  <a:pt x="407" y="309"/>
                </a:lnTo>
                <a:lnTo>
                  <a:pt x="407" y="332"/>
                </a:lnTo>
                <a:lnTo>
                  <a:pt x="413" y="327"/>
                </a:lnTo>
                <a:lnTo>
                  <a:pt x="413" y="338"/>
                </a:lnTo>
                <a:lnTo>
                  <a:pt x="420" y="344"/>
                </a:lnTo>
                <a:lnTo>
                  <a:pt x="420" y="350"/>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3933720" y="4132440"/>
            <a:ext cx="546120" cy="591840"/>
          </a:xfrm>
          <a:custGeom>
            <a:avLst/>
            <a:gdLst/>
            <a:ahLst/>
            <a:rect l="l" t="t" r="r" b="b"/>
            <a:pathLst>
              <a:path w="344" h="373">
                <a:moveTo>
                  <a:pt x="0" y="373"/>
                </a:moveTo>
                <a:lnTo>
                  <a:pt x="0" y="373"/>
                </a:lnTo>
                <a:lnTo>
                  <a:pt x="12" y="350"/>
                </a:lnTo>
                <a:lnTo>
                  <a:pt x="6" y="350"/>
                </a:lnTo>
                <a:lnTo>
                  <a:pt x="12" y="367"/>
                </a:lnTo>
                <a:lnTo>
                  <a:pt x="18" y="355"/>
                </a:lnTo>
                <a:lnTo>
                  <a:pt x="18" y="361"/>
                </a:lnTo>
                <a:lnTo>
                  <a:pt x="18" y="355"/>
                </a:lnTo>
                <a:lnTo>
                  <a:pt x="25" y="350"/>
                </a:lnTo>
                <a:lnTo>
                  <a:pt x="31" y="355"/>
                </a:lnTo>
                <a:lnTo>
                  <a:pt x="31" y="338"/>
                </a:lnTo>
                <a:lnTo>
                  <a:pt x="31" y="344"/>
                </a:lnTo>
                <a:lnTo>
                  <a:pt x="37" y="350"/>
                </a:lnTo>
                <a:lnTo>
                  <a:pt x="37" y="344"/>
                </a:lnTo>
                <a:lnTo>
                  <a:pt x="37" y="350"/>
                </a:lnTo>
                <a:lnTo>
                  <a:pt x="44" y="344"/>
                </a:lnTo>
                <a:lnTo>
                  <a:pt x="44" y="350"/>
                </a:lnTo>
                <a:lnTo>
                  <a:pt x="44" y="338"/>
                </a:lnTo>
                <a:lnTo>
                  <a:pt x="44" y="344"/>
                </a:lnTo>
                <a:lnTo>
                  <a:pt x="50" y="350"/>
                </a:lnTo>
                <a:lnTo>
                  <a:pt x="50" y="355"/>
                </a:lnTo>
                <a:lnTo>
                  <a:pt x="50" y="350"/>
                </a:lnTo>
                <a:lnTo>
                  <a:pt x="56" y="355"/>
                </a:lnTo>
                <a:lnTo>
                  <a:pt x="56" y="350"/>
                </a:lnTo>
                <a:lnTo>
                  <a:pt x="56" y="361"/>
                </a:lnTo>
                <a:lnTo>
                  <a:pt x="62" y="355"/>
                </a:lnTo>
                <a:lnTo>
                  <a:pt x="69" y="361"/>
                </a:lnTo>
                <a:lnTo>
                  <a:pt x="75" y="361"/>
                </a:lnTo>
                <a:lnTo>
                  <a:pt x="81" y="367"/>
                </a:lnTo>
                <a:lnTo>
                  <a:pt x="81" y="373"/>
                </a:lnTo>
                <a:lnTo>
                  <a:pt x="81" y="367"/>
                </a:lnTo>
                <a:lnTo>
                  <a:pt x="87" y="361"/>
                </a:lnTo>
                <a:lnTo>
                  <a:pt x="87" y="367"/>
                </a:lnTo>
                <a:lnTo>
                  <a:pt x="87" y="361"/>
                </a:lnTo>
                <a:lnTo>
                  <a:pt x="94" y="355"/>
                </a:lnTo>
                <a:lnTo>
                  <a:pt x="94" y="367"/>
                </a:lnTo>
                <a:lnTo>
                  <a:pt x="100" y="350"/>
                </a:lnTo>
                <a:lnTo>
                  <a:pt x="100" y="361"/>
                </a:lnTo>
                <a:lnTo>
                  <a:pt x="106" y="355"/>
                </a:lnTo>
                <a:lnTo>
                  <a:pt x="106" y="344"/>
                </a:lnTo>
                <a:lnTo>
                  <a:pt x="112" y="338"/>
                </a:lnTo>
                <a:lnTo>
                  <a:pt x="112" y="350"/>
                </a:lnTo>
                <a:lnTo>
                  <a:pt x="125" y="338"/>
                </a:lnTo>
                <a:lnTo>
                  <a:pt x="125" y="314"/>
                </a:lnTo>
                <a:lnTo>
                  <a:pt x="131" y="308"/>
                </a:lnTo>
                <a:lnTo>
                  <a:pt x="131" y="219"/>
                </a:lnTo>
                <a:lnTo>
                  <a:pt x="137" y="183"/>
                </a:lnTo>
                <a:lnTo>
                  <a:pt x="137" y="89"/>
                </a:lnTo>
                <a:lnTo>
                  <a:pt x="144" y="65"/>
                </a:lnTo>
                <a:lnTo>
                  <a:pt x="144" y="17"/>
                </a:lnTo>
                <a:lnTo>
                  <a:pt x="150" y="0"/>
                </a:lnTo>
                <a:lnTo>
                  <a:pt x="150" y="41"/>
                </a:lnTo>
                <a:lnTo>
                  <a:pt x="150" y="23"/>
                </a:lnTo>
                <a:lnTo>
                  <a:pt x="156" y="6"/>
                </a:lnTo>
                <a:lnTo>
                  <a:pt x="156" y="29"/>
                </a:lnTo>
                <a:lnTo>
                  <a:pt x="163" y="29"/>
                </a:lnTo>
                <a:lnTo>
                  <a:pt x="163" y="0"/>
                </a:lnTo>
                <a:lnTo>
                  <a:pt x="163" y="35"/>
                </a:lnTo>
                <a:lnTo>
                  <a:pt x="169" y="17"/>
                </a:lnTo>
                <a:lnTo>
                  <a:pt x="169" y="29"/>
                </a:lnTo>
                <a:lnTo>
                  <a:pt x="175" y="47"/>
                </a:lnTo>
                <a:lnTo>
                  <a:pt x="175" y="59"/>
                </a:lnTo>
                <a:lnTo>
                  <a:pt x="175" y="41"/>
                </a:lnTo>
                <a:lnTo>
                  <a:pt x="181" y="65"/>
                </a:lnTo>
                <a:lnTo>
                  <a:pt x="181" y="77"/>
                </a:lnTo>
                <a:lnTo>
                  <a:pt x="188" y="59"/>
                </a:lnTo>
                <a:lnTo>
                  <a:pt x="188" y="47"/>
                </a:lnTo>
                <a:lnTo>
                  <a:pt x="188" y="77"/>
                </a:lnTo>
                <a:lnTo>
                  <a:pt x="194" y="83"/>
                </a:lnTo>
                <a:lnTo>
                  <a:pt x="194" y="136"/>
                </a:lnTo>
                <a:lnTo>
                  <a:pt x="200" y="160"/>
                </a:lnTo>
                <a:lnTo>
                  <a:pt x="200" y="261"/>
                </a:lnTo>
                <a:lnTo>
                  <a:pt x="206" y="278"/>
                </a:lnTo>
                <a:lnTo>
                  <a:pt x="206" y="290"/>
                </a:lnTo>
                <a:lnTo>
                  <a:pt x="213" y="308"/>
                </a:lnTo>
                <a:lnTo>
                  <a:pt x="213" y="326"/>
                </a:lnTo>
                <a:lnTo>
                  <a:pt x="213" y="320"/>
                </a:lnTo>
                <a:lnTo>
                  <a:pt x="219" y="344"/>
                </a:lnTo>
                <a:lnTo>
                  <a:pt x="219" y="338"/>
                </a:lnTo>
                <a:lnTo>
                  <a:pt x="219" y="344"/>
                </a:lnTo>
                <a:lnTo>
                  <a:pt x="225" y="350"/>
                </a:lnTo>
                <a:lnTo>
                  <a:pt x="225" y="355"/>
                </a:lnTo>
                <a:lnTo>
                  <a:pt x="225" y="344"/>
                </a:lnTo>
                <a:lnTo>
                  <a:pt x="231" y="326"/>
                </a:lnTo>
                <a:lnTo>
                  <a:pt x="231" y="344"/>
                </a:lnTo>
                <a:lnTo>
                  <a:pt x="238" y="338"/>
                </a:lnTo>
                <a:lnTo>
                  <a:pt x="238" y="350"/>
                </a:lnTo>
                <a:lnTo>
                  <a:pt x="238" y="344"/>
                </a:lnTo>
                <a:lnTo>
                  <a:pt x="244" y="350"/>
                </a:lnTo>
                <a:lnTo>
                  <a:pt x="244" y="361"/>
                </a:lnTo>
                <a:lnTo>
                  <a:pt x="244" y="355"/>
                </a:lnTo>
                <a:lnTo>
                  <a:pt x="250" y="344"/>
                </a:lnTo>
                <a:lnTo>
                  <a:pt x="250" y="350"/>
                </a:lnTo>
                <a:lnTo>
                  <a:pt x="256" y="355"/>
                </a:lnTo>
                <a:lnTo>
                  <a:pt x="256" y="355"/>
                </a:lnTo>
                <a:lnTo>
                  <a:pt x="256" y="344"/>
                </a:lnTo>
                <a:lnTo>
                  <a:pt x="263" y="344"/>
                </a:lnTo>
                <a:lnTo>
                  <a:pt x="263" y="355"/>
                </a:lnTo>
                <a:lnTo>
                  <a:pt x="263" y="344"/>
                </a:lnTo>
                <a:lnTo>
                  <a:pt x="269" y="332"/>
                </a:lnTo>
                <a:lnTo>
                  <a:pt x="269" y="320"/>
                </a:lnTo>
                <a:lnTo>
                  <a:pt x="269" y="332"/>
                </a:lnTo>
                <a:lnTo>
                  <a:pt x="275" y="338"/>
                </a:lnTo>
                <a:lnTo>
                  <a:pt x="275" y="344"/>
                </a:lnTo>
                <a:lnTo>
                  <a:pt x="282" y="338"/>
                </a:lnTo>
                <a:lnTo>
                  <a:pt x="282" y="355"/>
                </a:lnTo>
                <a:lnTo>
                  <a:pt x="282" y="338"/>
                </a:lnTo>
                <a:lnTo>
                  <a:pt x="294" y="355"/>
                </a:lnTo>
                <a:lnTo>
                  <a:pt x="294" y="302"/>
                </a:lnTo>
                <a:lnTo>
                  <a:pt x="300" y="290"/>
                </a:lnTo>
                <a:lnTo>
                  <a:pt x="300" y="267"/>
                </a:lnTo>
                <a:lnTo>
                  <a:pt x="307" y="237"/>
                </a:lnTo>
                <a:lnTo>
                  <a:pt x="307" y="154"/>
                </a:lnTo>
                <a:lnTo>
                  <a:pt x="313" y="77"/>
                </a:lnTo>
                <a:lnTo>
                  <a:pt x="313" y="41"/>
                </a:lnTo>
                <a:lnTo>
                  <a:pt x="319" y="29"/>
                </a:lnTo>
                <a:lnTo>
                  <a:pt x="319" y="0"/>
                </a:lnTo>
                <a:lnTo>
                  <a:pt x="319" y="41"/>
                </a:lnTo>
                <a:lnTo>
                  <a:pt x="325" y="53"/>
                </a:lnTo>
                <a:lnTo>
                  <a:pt x="325" y="41"/>
                </a:lnTo>
                <a:lnTo>
                  <a:pt x="332" y="53"/>
                </a:lnTo>
                <a:lnTo>
                  <a:pt x="332" y="59"/>
                </a:lnTo>
                <a:lnTo>
                  <a:pt x="332" y="47"/>
                </a:lnTo>
                <a:lnTo>
                  <a:pt x="332" y="47"/>
                </a:lnTo>
                <a:lnTo>
                  <a:pt x="338" y="53"/>
                </a:lnTo>
                <a:lnTo>
                  <a:pt x="338" y="71"/>
                </a:lnTo>
                <a:lnTo>
                  <a:pt x="338" y="59"/>
                </a:lnTo>
                <a:lnTo>
                  <a:pt x="344" y="65"/>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4479840" y="4132440"/>
            <a:ext cx="567000" cy="582480"/>
          </a:xfrm>
          <a:custGeom>
            <a:avLst/>
            <a:gdLst/>
            <a:ahLst/>
            <a:rect l="l" t="t" r="r" b="b"/>
            <a:pathLst>
              <a:path w="357" h="367">
                <a:moveTo>
                  <a:pt x="0" y="65"/>
                </a:moveTo>
                <a:lnTo>
                  <a:pt x="0" y="71"/>
                </a:lnTo>
                <a:lnTo>
                  <a:pt x="0" y="59"/>
                </a:lnTo>
                <a:lnTo>
                  <a:pt x="6" y="65"/>
                </a:lnTo>
                <a:lnTo>
                  <a:pt x="6" y="59"/>
                </a:lnTo>
                <a:lnTo>
                  <a:pt x="6" y="77"/>
                </a:lnTo>
                <a:lnTo>
                  <a:pt x="13" y="83"/>
                </a:lnTo>
                <a:lnTo>
                  <a:pt x="13" y="71"/>
                </a:lnTo>
                <a:lnTo>
                  <a:pt x="13" y="83"/>
                </a:lnTo>
                <a:lnTo>
                  <a:pt x="19" y="100"/>
                </a:lnTo>
                <a:lnTo>
                  <a:pt x="19" y="148"/>
                </a:lnTo>
                <a:lnTo>
                  <a:pt x="25" y="154"/>
                </a:lnTo>
                <a:lnTo>
                  <a:pt x="25" y="183"/>
                </a:lnTo>
                <a:lnTo>
                  <a:pt x="31" y="219"/>
                </a:lnTo>
                <a:lnTo>
                  <a:pt x="31" y="261"/>
                </a:lnTo>
                <a:lnTo>
                  <a:pt x="38" y="272"/>
                </a:lnTo>
                <a:lnTo>
                  <a:pt x="38" y="308"/>
                </a:lnTo>
                <a:lnTo>
                  <a:pt x="44" y="308"/>
                </a:lnTo>
                <a:lnTo>
                  <a:pt x="44" y="320"/>
                </a:lnTo>
                <a:lnTo>
                  <a:pt x="50" y="338"/>
                </a:lnTo>
                <a:lnTo>
                  <a:pt x="57" y="332"/>
                </a:lnTo>
                <a:lnTo>
                  <a:pt x="57" y="320"/>
                </a:lnTo>
                <a:lnTo>
                  <a:pt x="57" y="332"/>
                </a:lnTo>
                <a:lnTo>
                  <a:pt x="69" y="332"/>
                </a:lnTo>
                <a:lnTo>
                  <a:pt x="69" y="344"/>
                </a:lnTo>
                <a:lnTo>
                  <a:pt x="75" y="350"/>
                </a:lnTo>
                <a:lnTo>
                  <a:pt x="82" y="361"/>
                </a:lnTo>
                <a:lnTo>
                  <a:pt x="82" y="344"/>
                </a:lnTo>
                <a:lnTo>
                  <a:pt x="82" y="361"/>
                </a:lnTo>
                <a:lnTo>
                  <a:pt x="88" y="367"/>
                </a:lnTo>
                <a:lnTo>
                  <a:pt x="94" y="361"/>
                </a:lnTo>
                <a:lnTo>
                  <a:pt x="94" y="350"/>
                </a:lnTo>
                <a:lnTo>
                  <a:pt x="94" y="355"/>
                </a:lnTo>
                <a:lnTo>
                  <a:pt x="107" y="355"/>
                </a:lnTo>
                <a:lnTo>
                  <a:pt x="107" y="361"/>
                </a:lnTo>
                <a:lnTo>
                  <a:pt x="107" y="350"/>
                </a:lnTo>
                <a:lnTo>
                  <a:pt x="113" y="355"/>
                </a:lnTo>
                <a:lnTo>
                  <a:pt x="113" y="344"/>
                </a:lnTo>
                <a:lnTo>
                  <a:pt x="119" y="350"/>
                </a:lnTo>
                <a:lnTo>
                  <a:pt x="119" y="361"/>
                </a:lnTo>
                <a:lnTo>
                  <a:pt x="119" y="355"/>
                </a:lnTo>
                <a:lnTo>
                  <a:pt x="125" y="350"/>
                </a:lnTo>
                <a:lnTo>
                  <a:pt x="125" y="326"/>
                </a:lnTo>
                <a:lnTo>
                  <a:pt x="132" y="302"/>
                </a:lnTo>
                <a:lnTo>
                  <a:pt x="132" y="255"/>
                </a:lnTo>
                <a:lnTo>
                  <a:pt x="138" y="237"/>
                </a:lnTo>
                <a:lnTo>
                  <a:pt x="138" y="112"/>
                </a:lnTo>
                <a:lnTo>
                  <a:pt x="144" y="77"/>
                </a:lnTo>
                <a:lnTo>
                  <a:pt x="144" y="11"/>
                </a:lnTo>
                <a:lnTo>
                  <a:pt x="150" y="17"/>
                </a:lnTo>
                <a:lnTo>
                  <a:pt x="150" y="41"/>
                </a:lnTo>
                <a:lnTo>
                  <a:pt x="150" y="11"/>
                </a:lnTo>
                <a:lnTo>
                  <a:pt x="150" y="29"/>
                </a:lnTo>
                <a:lnTo>
                  <a:pt x="157" y="11"/>
                </a:lnTo>
                <a:lnTo>
                  <a:pt x="157" y="6"/>
                </a:lnTo>
                <a:lnTo>
                  <a:pt x="157" y="35"/>
                </a:lnTo>
                <a:lnTo>
                  <a:pt x="163" y="6"/>
                </a:lnTo>
                <a:lnTo>
                  <a:pt x="163" y="59"/>
                </a:lnTo>
                <a:lnTo>
                  <a:pt x="169" y="53"/>
                </a:lnTo>
                <a:lnTo>
                  <a:pt x="176" y="59"/>
                </a:lnTo>
                <a:lnTo>
                  <a:pt x="176" y="47"/>
                </a:lnTo>
                <a:lnTo>
                  <a:pt x="176" y="53"/>
                </a:lnTo>
                <a:lnTo>
                  <a:pt x="182" y="59"/>
                </a:lnTo>
                <a:lnTo>
                  <a:pt x="182" y="53"/>
                </a:lnTo>
                <a:lnTo>
                  <a:pt x="188" y="41"/>
                </a:lnTo>
                <a:lnTo>
                  <a:pt x="188" y="89"/>
                </a:lnTo>
                <a:lnTo>
                  <a:pt x="194" y="100"/>
                </a:lnTo>
                <a:lnTo>
                  <a:pt x="194" y="124"/>
                </a:lnTo>
                <a:lnTo>
                  <a:pt x="201" y="130"/>
                </a:lnTo>
                <a:lnTo>
                  <a:pt x="201" y="201"/>
                </a:lnTo>
                <a:lnTo>
                  <a:pt x="207" y="225"/>
                </a:lnTo>
                <a:lnTo>
                  <a:pt x="207" y="237"/>
                </a:lnTo>
                <a:lnTo>
                  <a:pt x="213" y="255"/>
                </a:lnTo>
                <a:lnTo>
                  <a:pt x="213" y="296"/>
                </a:lnTo>
                <a:lnTo>
                  <a:pt x="219" y="302"/>
                </a:lnTo>
                <a:lnTo>
                  <a:pt x="219" y="314"/>
                </a:lnTo>
                <a:lnTo>
                  <a:pt x="226" y="326"/>
                </a:lnTo>
                <a:lnTo>
                  <a:pt x="226" y="332"/>
                </a:lnTo>
                <a:lnTo>
                  <a:pt x="226" y="326"/>
                </a:lnTo>
                <a:lnTo>
                  <a:pt x="232" y="320"/>
                </a:lnTo>
                <a:lnTo>
                  <a:pt x="232" y="314"/>
                </a:lnTo>
                <a:lnTo>
                  <a:pt x="232" y="326"/>
                </a:lnTo>
                <a:lnTo>
                  <a:pt x="238" y="320"/>
                </a:lnTo>
                <a:lnTo>
                  <a:pt x="238" y="326"/>
                </a:lnTo>
                <a:lnTo>
                  <a:pt x="238" y="314"/>
                </a:lnTo>
                <a:lnTo>
                  <a:pt x="244" y="320"/>
                </a:lnTo>
                <a:lnTo>
                  <a:pt x="251" y="326"/>
                </a:lnTo>
                <a:lnTo>
                  <a:pt x="251" y="320"/>
                </a:lnTo>
                <a:lnTo>
                  <a:pt x="251" y="326"/>
                </a:lnTo>
                <a:lnTo>
                  <a:pt x="257" y="326"/>
                </a:lnTo>
                <a:lnTo>
                  <a:pt x="257" y="314"/>
                </a:lnTo>
                <a:lnTo>
                  <a:pt x="257" y="326"/>
                </a:lnTo>
                <a:lnTo>
                  <a:pt x="263" y="326"/>
                </a:lnTo>
                <a:lnTo>
                  <a:pt x="269" y="344"/>
                </a:lnTo>
                <a:lnTo>
                  <a:pt x="269" y="338"/>
                </a:lnTo>
                <a:lnTo>
                  <a:pt x="269" y="344"/>
                </a:lnTo>
                <a:lnTo>
                  <a:pt x="276" y="350"/>
                </a:lnTo>
                <a:lnTo>
                  <a:pt x="276" y="344"/>
                </a:lnTo>
                <a:lnTo>
                  <a:pt x="288" y="344"/>
                </a:lnTo>
                <a:lnTo>
                  <a:pt x="282" y="344"/>
                </a:lnTo>
                <a:lnTo>
                  <a:pt x="288" y="350"/>
                </a:lnTo>
                <a:lnTo>
                  <a:pt x="295" y="344"/>
                </a:lnTo>
                <a:lnTo>
                  <a:pt x="295" y="355"/>
                </a:lnTo>
                <a:lnTo>
                  <a:pt x="295" y="332"/>
                </a:lnTo>
                <a:lnTo>
                  <a:pt x="301" y="314"/>
                </a:lnTo>
                <a:lnTo>
                  <a:pt x="301" y="296"/>
                </a:lnTo>
                <a:lnTo>
                  <a:pt x="307" y="267"/>
                </a:lnTo>
                <a:lnTo>
                  <a:pt x="307" y="166"/>
                </a:lnTo>
                <a:lnTo>
                  <a:pt x="313" y="136"/>
                </a:lnTo>
                <a:lnTo>
                  <a:pt x="313" y="47"/>
                </a:lnTo>
                <a:lnTo>
                  <a:pt x="320" y="41"/>
                </a:lnTo>
                <a:lnTo>
                  <a:pt x="320" y="0"/>
                </a:lnTo>
                <a:lnTo>
                  <a:pt x="320" y="17"/>
                </a:lnTo>
                <a:lnTo>
                  <a:pt x="326" y="35"/>
                </a:lnTo>
                <a:lnTo>
                  <a:pt x="332" y="29"/>
                </a:lnTo>
                <a:lnTo>
                  <a:pt x="332" y="11"/>
                </a:lnTo>
                <a:lnTo>
                  <a:pt x="332" y="17"/>
                </a:lnTo>
                <a:lnTo>
                  <a:pt x="338" y="23"/>
                </a:lnTo>
                <a:lnTo>
                  <a:pt x="338" y="41"/>
                </a:lnTo>
                <a:lnTo>
                  <a:pt x="345" y="35"/>
                </a:lnTo>
                <a:lnTo>
                  <a:pt x="345" y="59"/>
                </a:lnTo>
                <a:lnTo>
                  <a:pt x="345" y="53"/>
                </a:lnTo>
                <a:lnTo>
                  <a:pt x="351" y="47"/>
                </a:lnTo>
                <a:lnTo>
                  <a:pt x="351" y="41"/>
                </a:lnTo>
                <a:lnTo>
                  <a:pt x="351" y="47"/>
                </a:lnTo>
                <a:lnTo>
                  <a:pt x="357" y="41"/>
                </a:lnTo>
                <a:lnTo>
                  <a:pt x="357" y="47"/>
                </a:lnTo>
                <a:lnTo>
                  <a:pt x="357" y="41"/>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046840" y="4113360"/>
            <a:ext cx="636480" cy="610920"/>
          </a:xfrm>
          <a:custGeom>
            <a:avLst/>
            <a:gdLst/>
            <a:ahLst/>
            <a:rect l="l" t="t" r="r" b="b"/>
            <a:pathLst>
              <a:path w="401" h="385">
                <a:moveTo>
                  <a:pt x="0" y="53"/>
                </a:moveTo>
                <a:lnTo>
                  <a:pt x="6" y="65"/>
                </a:lnTo>
                <a:lnTo>
                  <a:pt x="6" y="118"/>
                </a:lnTo>
                <a:lnTo>
                  <a:pt x="13" y="130"/>
                </a:lnTo>
                <a:lnTo>
                  <a:pt x="13" y="160"/>
                </a:lnTo>
                <a:lnTo>
                  <a:pt x="19" y="178"/>
                </a:lnTo>
                <a:lnTo>
                  <a:pt x="19" y="261"/>
                </a:lnTo>
                <a:lnTo>
                  <a:pt x="25" y="267"/>
                </a:lnTo>
                <a:lnTo>
                  <a:pt x="25" y="302"/>
                </a:lnTo>
                <a:lnTo>
                  <a:pt x="38" y="326"/>
                </a:lnTo>
                <a:lnTo>
                  <a:pt x="38" y="338"/>
                </a:lnTo>
                <a:lnTo>
                  <a:pt x="44" y="332"/>
                </a:lnTo>
                <a:lnTo>
                  <a:pt x="44" y="338"/>
                </a:lnTo>
                <a:lnTo>
                  <a:pt x="44" y="332"/>
                </a:lnTo>
                <a:lnTo>
                  <a:pt x="50" y="332"/>
                </a:lnTo>
                <a:lnTo>
                  <a:pt x="57" y="344"/>
                </a:lnTo>
                <a:lnTo>
                  <a:pt x="57" y="350"/>
                </a:lnTo>
                <a:lnTo>
                  <a:pt x="63" y="344"/>
                </a:lnTo>
                <a:lnTo>
                  <a:pt x="63" y="350"/>
                </a:lnTo>
                <a:lnTo>
                  <a:pt x="69" y="356"/>
                </a:lnTo>
                <a:lnTo>
                  <a:pt x="69" y="350"/>
                </a:lnTo>
                <a:lnTo>
                  <a:pt x="82" y="362"/>
                </a:lnTo>
                <a:lnTo>
                  <a:pt x="82" y="356"/>
                </a:lnTo>
                <a:lnTo>
                  <a:pt x="82" y="362"/>
                </a:lnTo>
                <a:lnTo>
                  <a:pt x="88" y="362"/>
                </a:lnTo>
                <a:lnTo>
                  <a:pt x="94" y="350"/>
                </a:lnTo>
                <a:lnTo>
                  <a:pt x="94" y="344"/>
                </a:lnTo>
                <a:lnTo>
                  <a:pt x="94" y="350"/>
                </a:lnTo>
                <a:lnTo>
                  <a:pt x="100" y="350"/>
                </a:lnTo>
                <a:lnTo>
                  <a:pt x="100" y="338"/>
                </a:lnTo>
                <a:lnTo>
                  <a:pt x="107" y="344"/>
                </a:lnTo>
                <a:lnTo>
                  <a:pt x="113" y="338"/>
                </a:lnTo>
                <a:lnTo>
                  <a:pt x="113" y="326"/>
                </a:lnTo>
                <a:lnTo>
                  <a:pt x="119" y="314"/>
                </a:lnTo>
                <a:lnTo>
                  <a:pt x="119" y="267"/>
                </a:lnTo>
                <a:lnTo>
                  <a:pt x="125" y="237"/>
                </a:lnTo>
                <a:lnTo>
                  <a:pt x="125" y="142"/>
                </a:lnTo>
                <a:lnTo>
                  <a:pt x="132" y="83"/>
                </a:lnTo>
                <a:lnTo>
                  <a:pt x="132" y="65"/>
                </a:lnTo>
                <a:lnTo>
                  <a:pt x="138" y="59"/>
                </a:lnTo>
                <a:lnTo>
                  <a:pt x="138" y="0"/>
                </a:lnTo>
                <a:lnTo>
                  <a:pt x="138" y="41"/>
                </a:lnTo>
                <a:lnTo>
                  <a:pt x="144" y="23"/>
                </a:lnTo>
                <a:lnTo>
                  <a:pt x="144" y="0"/>
                </a:lnTo>
                <a:lnTo>
                  <a:pt x="144" y="12"/>
                </a:lnTo>
                <a:lnTo>
                  <a:pt x="150" y="35"/>
                </a:lnTo>
                <a:lnTo>
                  <a:pt x="150" y="23"/>
                </a:lnTo>
                <a:lnTo>
                  <a:pt x="150" y="35"/>
                </a:lnTo>
                <a:lnTo>
                  <a:pt x="157" y="47"/>
                </a:lnTo>
                <a:lnTo>
                  <a:pt x="157" y="41"/>
                </a:lnTo>
                <a:lnTo>
                  <a:pt x="163" y="47"/>
                </a:lnTo>
                <a:lnTo>
                  <a:pt x="163" y="18"/>
                </a:lnTo>
                <a:lnTo>
                  <a:pt x="163" y="23"/>
                </a:lnTo>
                <a:lnTo>
                  <a:pt x="169" y="18"/>
                </a:lnTo>
                <a:lnTo>
                  <a:pt x="169" y="53"/>
                </a:lnTo>
                <a:lnTo>
                  <a:pt x="176" y="59"/>
                </a:lnTo>
                <a:lnTo>
                  <a:pt x="176" y="89"/>
                </a:lnTo>
                <a:lnTo>
                  <a:pt x="182" y="124"/>
                </a:lnTo>
                <a:lnTo>
                  <a:pt x="182" y="166"/>
                </a:lnTo>
                <a:lnTo>
                  <a:pt x="188" y="190"/>
                </a:lnTo>
                <a:lnTo>
                  <a:pt x="188" y="261"/>
                </a:lnTo>
                <a:lnTo>
                  <a:pt x="194" y="267"/>
                </a:lnTo>
                <a:lnTo>
                  <a:pt x="194" y="273"/>
                </a:lnTo>
                <a:lnTo>
                  <a:pt x="201" y="290"/>
                </a:lnTo>
                <a:lnTo>
                  <a:pt x="201" y="320"/>
                </a:lnTo>
                <a:lnTo>
                  <a:pt x="207" y="302"/>
                </a:lnTo>
                <a:lnTo>
                  <a:pt x="213" y="296"/>
                </a:lnTo>
                <a:lnTo>
                  <a:pt x="213" y="356"/>
                </a:lnTo>
                <a:lnTo>
                  <a:pt x="219" y="356"/>
                </a:lnTo>
                <a:lnTo>
                  <a:pt x="226" y="350"/>
                </a:lnTo>
                <a:lnTo>
                  <a:pt x="232" y="344"/>
                </a:lnTo>
                <a:lnTo>
                  <a:pt x="232" y="356"/>
                </a:lnTo>
                <a:lnTo>
                  <a:pt x="232" y="344"/>
                </a:lnTo>
                <a:lnTo>
                  <a:pt x="238" y="338"/>
                </a:lnTo>
                <a:lnTo>
                  <a:pt x="238" y="344"/>
                </a:lnTo>
                <a:lnTo>
                  <a:pt x="238" y="338"/>
                </a:lnTo>
                <a:lnTo>
                  <a:pt x="244" y="350"/>
                </a:lnTo>
                <a:lnTo>
                  <a:pt x="244" y="367"/>
                </a:lnTo>
                <a:lnTo>
                  <a:pt x="244" y="362"/>
                </a:lnTo>
                <a:lnTo>
                  <a:pt x="251" y="367"/>
                </a:lnTo>
                <a:lnTo>
                  <a:pt x="251" y="373"/>
                </a:lnTo>
                <a:lnTo>
                  <a:pt x="251" y="367"/>
                </a:lnTo>
                <a:lnTo>
                  <a:pt x="257" y="362"/>
                </a:lnTo>
                <a:lnTo>
                  <a:pt x="263" y="379"/>
                </a:lnTo>
                <a:lnTo>
                  <a:pt x="263" y="373"/>
                </a:lnTo>
                <a:lnTo>
                  <a:pt x="263" y="379"/>
                </a:lnTo>
                <a:lnTo>
                  <a:pt x="269" y="373"/>
                </a:lnTo>
                <a:lnTo>
                  <a:pt x="269" y="362"/>
                </a:lnTo>
                <a:lnTo>
                  <a:pt x="269" y="379"/>
                </a:lnTo>
                <a:lnTo>
                  <a:pt x="276" y="362"/>
                </a:lnTo>
                <a:lnTo>
                  <a:pt x="282" y="385"/>
                </a:lnTo>
                <a:lnTo>
                  <a:pt x="282" y="367"/>
                </a:lnTo>
                <a:lnTo>
                  <a:pt x="288" y="373"/>
                </a:lnTo>
                <a:lnTo>
                  <a:pt x="295" y="367"/>
                </a:lnTo>
                <a:lnTo>
                  <a:pt x="295" y="379"/>
                </a:lnTo>
                <a:lnTo>
                  <a:pt x="295" y="367"/>
                </a:lnTo>
                <a:lnTo>
                  <a:pt x="301" y="362"/>
                </a:lnTo>
                <a:lnTo>
                  <a:pt x="301" y="356"/>
                </a:lnTo>
                <a:lnTo>
                  <a:pt x="307" y="350"/>
                </a:lnTo>
                <a:lnTo>
                  <a:pt x="307" y="344"/>
                </a:lnTo>
                <a:lnTo>
                  <a:pt x="307" y="356"/>
                </a:lnTo>
                <a:lnTo>
                  <a:pt x="313" y="350"/>
                </a:lnTo>
                <a:lnTo>
                  <a:pt x="313" y="338"/>
                </a:lnTo>
                <a:lnTo>
                  <a:pt x="320" y="338"/>
                </a:lnTo>
                <a:lnTo>
                  <a:pt x="320" y="326"/>
                </a:lnTo>
                <a:lnTo>
                  <a:pt x="320" y="344"/>
                </a:lnTo>
                <a:lnTo>
                  <a:pt x="326" y="350"/>
                </a:lnTo>
                <a:lnTo>
                  <a:pt x="332" y="344"/>
                </a:lnTo>
                <a:lnTo>
                  <a:pt x="332" y="326"/>
                </a:lnTo>
                <a:lnTo>
                  <a:pt x="338" y="344"/>
                </a:lnTo>
                <a:lnTo>
                  <a:pt x="338" y="338"/>
                </a:lnTo>
                <a:lnTo>
                  <a:pt x="338" y="344"/>
                </a:lnTo>
                <a:lnTo>
                  <a:pt x="345" y="332"/>
                </a:lnTo>
                <a:lnTo>
                  <a:pt x="345" y="344"/>
                </a:lnTo>
                <a:lnTo>
                  <a:pt x="351" y="350"/>
                </a:lnTo>
                <a:lnTo>
                  <a:pt x="357" y="356"/>
                </a:lnTo>
                <a:lnTo>
                  <a:pt x="357" y="350"/>
                </a:lnTo>
                <a:lnTo>
                  <a:pt x="357" y="362"/>
                </a:lnTo>
                <a:lnTo>
                  <a:pt x="363" y="367"/>
                </a:lnTo>
                <a:lnTo>
                  <a:pt x="363" y="362"/>
                </a:lnTo>
                <a:lnTo>
                  <a:pt x="370" y="350"/>
                </a:lnTo>
                <a:lnTo>
                  <a:pt x="370" y="362"/>
                </a:lnTo>
                <a:lnTo>
                  <a:pt x="370" y="356"/>
                </a:lnTo>
                <a:lnTo>
                  <a:pt x="376" y="350"/>
                </a:lnTo>
                <a:lnTo>
                  <a:pt x="376" y="356"/>
                </a:lnTo>
                <a:lnTo>
                  <a:pt x="388" y="367"/>
                </a:lnTo>
                <a:lnTo>
                  <a:pt x="388" y="379"/>
                </a:lnTo>
                <a:lnTo>
                  <a:pt x="401" y="385"/>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683320" y="4103640"/>
            <a:ext cx="666720" cy="658800"/>
          </a:xfrm>
          <a:custGeom>
            <a:avLst/>
            <a:gdLst/>
            <a:ahLst/>
            <a:rect l="l" t="t" r="r" b="b"/>
            <a:pathLst>
              <a:path w="420" h="415">
                <a:moveTo>
                  <a:pt x="0" y="391"/>
                </a:moveTo>
                <a:lnTo>
                  <a:pt x="0" y="385"/>
                </a:lnTo>
                <a:lnTo>
                  <a:pt x="0" y="397"/>
                </a:lnTo>
                <a:lnTo>
                  <a:pt x="6" y="391"/>
                </a:lnTo>
                <a:lnTo>
                  <a:pt x="13" y="409"/>
                </a:lnTo>
                <a:lnTo>
                  <a:pt x="13" y="415"/>
                </a:lnTo>
                <a:lnTo>
                  <a:pt x="13" y="397"/>
                </a:lnTo>
                <a:lnTo>
                  <a:pt x="19" y="391"/>
                </a:lnTo>
                <a:lnTo>
                  <a:pt x="19" y="397"/>
                </a:lnTo>
                <a:lnTo>
                  <a:pt x="25" y="385"/>
                </a:lnTo>
                <a:lnTo>
                  <a:pt x="25" y="391"/>
                </a:lnTo>
                <a:lnTo>
                  <a:pt x="31" y="397"/>
                </a:lnTo>
                <a:lnTo>
                  <a:pt x="31" y="385"/>
                </a:lnTo>
                <a:lnTo>
                  <a:pt x="38" y="397"/>
                </a:lnTo>
                <a:lnTo>
                  <a:pt x="38" y="379"/>
                </a:lnTo>
                <a:lnTo>
                  <a:pt x="44" y="397"/>
                </a:lnTo>
                <a:lnTo>
                  <a:pt x="44" y="403"/>
                </a:lnTo>
                <a:lnTo>
                  <a:pt x="44" y="397"/>
                </a:lnTo>
                <a:lnTo>
                  <a:pt x="50" y="385"/>
                </a:lnTo>
                <a:lnTo>
                  <a:pt x="56" y="379"/>
                </a:lnTo>
                <a:lnTo>
                  <a:pt x="56" y="409"/>
                </a:lnTo>
                <a:lnTo>
                  <a:pt x="69" y="385"/>
                </a:lnTo>
                <a:lnTo>
                  <a:pt x="69" y="379"/>
                </a:lnTo>
                <a:lnTo>
                  <a:pt x="69" y="385"/>
                </a:lnTo>
                <a:lnTo>
                  <a:pt x="81" y="385"/>
                </a:lnTo>
                <a:lnTo>
                  <a:pt x="81" y="397"/>
                </a:lnTo>
                <a:lnTo>
                  <a:pt x="81" y="385"/>
                </a:lnTo>
                <a:lnTo>
                  <a:pt x="88" y="391"/>
                </a:lnTo>
                <a:lnTo>
                  <a:pt x="94" y="397"/>
                </a:lnTo>
                <a:lnTo>
                  <a:pt x="94" y="379"/>
                </a:lnTo>
                <a:lnTo>
                  <a:pt x="100" y="368"/>
                </a:lnTo>
                <a:lnTo>
                  <a:pt x="107" y="362"/>
                </a:lnTo>
                <a:lnTo>
                  <a:pt x="113" y="368"/>
                </a:lnTo>
                <a:lnTo>
                  <a:pt x="119" y="362"/>
                </a:lnTo>
                <a:lnTo>
                  <a:pt x="125" y="373"/>
                </a:lnTo>
                <a:lnTo>
                  <a:pt x="125" y="368"/>
                </a:lnTo>
                <a:lnTo>
                  <a:pt x="132" y="362"/>
                </a:lnTo>
                <a:lnTo>
                  <a:pt x="132" y="362"/>
                </a:lnTo>
                <a:lnTo>
                  <a:pt x="132" y="379"/>
                </a:lnTo>
                <a:lnTo>
                  <a:pt x="144" y="379"/>
                </a:lnTo>
                <a:lnTo>
                  <a:pt x="138" y="379"/>
                </a:lnTo>
                <a:lnTo>
                  <a:pt x="144" y="379"/>
                </a:lnTo>
                <a:lnTo>
                  <a:pt x="150" y="373"/>
                </a:lnTo>
                <a:lnTo>
                  <a:pt x="150" y="379"/>
                </a:lnTo>
                <a:lnTo>
                  <a:pt x="150" y="373"/>
                </a:lnTo>
                <a:lnTo>
                  <a:pt x="157" y="379"/>
                </a:lnTo>
                <a:lnTo>
                  <a:pt x="169" y="379"/>
                </a:lnTo>
                <a:lnTo>
                  <a:pt x="163" y="379"/>
                </a:lnTo>
                <a:lnTo>
                  <a:pt x="169" y="385"/>
                </a:lnTo>
                <a:lnTo>
                  <a:pt x="175" y="379"/>
                </a:lnTo>
                <a:lnTo>
                  <a:pt x="175" y="391"/>
                </a:lnTo>
                <a:lnTo>
                  <a:pt x="182" y="385"/>
                </a:lnTo>
                <a:lnTo>
                  <a:pt x="188" y="391"/>
                </a:lnTo>
                <a:lnTo>
                  <a:pt x="188" y="385"/>
                </a:lnTo>
                <a:lnTo>
                  <a:pt x="194" y="397"/>
                </a:lnTo>
                <a:lnTo>
                  <a:pt x="194" y="403"/>
                </a:lnTo>
                <a:lnTo>
                  <a:pt x="200" y="397"/>
                </a:lnTo>
                <a:lnTo>
                  <a:pt x="200" y="385"/>
                </a:lnTo>
                <a:lnTo>
                  <a:pt x="207" y="379"/>
                </a:lnTo>
                <a:lnTo>
                  <a:pt x="213" y="385"/>
                </a:lnTo>
                <a:lnTo>
                  <a:pt x="219" y="373"/>
                </a:lnTo>
                <a:lnTo>
                  <a:pt x="226" y="368"/>
                </a:lnTo>
                <a:lnTo>
                  <a:pt x="226" y="362"/>
                </a:lnTo>
                <a:lnTo>
                  <a:pt x="232" y="344"/>
                </a:lnTo>
                <a:lnTo>
                  <a:pt x="238" y="332"/>
                </a:lnTo>
                <a:lnTo>
                  <a:pt x="238" y="279"/>
                </a:lnTo>
                <a:lnTo>
                  <a:pt x="244" y="237"/>
                </a:lnTo>
                <a:lnTo>
                  <a:pt x="244" y="142"/>
                </a:lnTo>
                <a:lnTo>
                  <a:pt x="251" y="77"/>
                </a:lnTo>
                <a:lnTo>
                  <a:pt x="251" y="41"/>
                </a:lnTo>
                <a:lnTo>
                  <a:pt x="257" y="29"/>
                </a:lnTo>
                <a:lnTo>
                  <a:pt x="257" y="0"/>
                </a:lnTo>
                <a:lnTo>
                  <a:pt x="257" y="35"/>
                </a:lnTo>
                <a:lnTo>
                  <a:pt x="263" y="53"/>
                </a:lnTo>
                <a:lnTo>
                  <a:pt x="263" y="41"/>
                </a:lnTo>
                <a:lnTo>
                  <a:pt x="263" y="47"/>
                </a:lnTo>
                <a:lnTo>
                  <a:pt x="269" y="41"/>
                </a:lnTo>
                <a:lnTo>
                  <a:pt x="269" y="53"/>
                </a:lnTo>
                <a:lnTo>
                  <a:pt x="276" y="41"/>
                </a:lnTo>
                <a:lnTo>
                  <a:pt x="276" y="71"/>
                </a:lnTo>
                <a:lnTo>
                  <a:pt x="276" y="65"/>
                </a:lnTo>
                <a:lnTo>
                  <a:pt x="282" y="65"/>
                </a:lnTo>
                <a:lnTo>
                  <a:pt x="282" y="77"/>
                </a:lnTo>
                <a:lnTo>
                  <a:pt x="282" y="65"/>
                </a:lnTo>
                <a:lnTo>
                  <a:pt x="288" y="71"/>
                </a:lnTo>
                <a:lnTo>
                  <a:pt x="288" y="89"/>
                </a:lnTo>
                <a:lnTo>
                  <a:pt x="294" y="83"/>
                </a:lnTo>
                <a:lnTo>
                  <a:pt x="294" y="77"/>
                </a:lnTo>
                <a:lnTo>
                  <a:pt x="294" y="89"/>
                </a:lnTo>
                <a:lnTo>
                  <a:pt x="301" y="89"/>
                </a:lnTo>
                <a:lnTo>
                  <a:pt x="301" y="124"/>
                </a:lnTo>
                <a:lnTo>
                  <a:pt x="307" y="142"/>
                </a:lnTo>
                <a:lnTo>
                  <a:pt x="307" y="237"/>
                </a:lnTo>
                <a:lnTo>
                  <a:pt x="313" y="243"/>
                </a:lnTo>
                <a:lnTo>
                  <a:pt x="313" y="279"/>
                </a:lnTo>
                <a:lnTo>
                  <a:pt x="319" y="285"/>
                </a:lnTo>
                <a:lnTo>
                  <a:pt x="319" y="320"/>
                </a:lnTo>
                <a:lnTo>
                  <a:pt x="326" y="326"/>
                </a:lnTo>
                <a:lnTo>
                  <a:pt x="326" y="338"/>
                </a:lnTo>
                <a:lnTo>
                  <a:pt x="332" y="338"/>
                </a:lnTo>
                <a:lnTo>
                  <a:pt x="338" y="338"/>
                </a:lnTo>
                <a:lnTo>
                  <a:pt x="345" y="332"/>
                </a:lnTo>
                <a:lnTo>
                  <a:pt x="345" y="338"/>
                </a:lnTo>
                <a:lnTo>
                  <a:pt x="345" y="332"/>
                </a:lnTo>
                <a:lnTo>
                  <a:pt x="357" y="344"/>
                </a:lnTo>
                <a:lnTo>
                  <a:pt x="351" y="344"/>
                </a:lnTo>
                <a:lnTo>
                  <a:pt x="357" y="332"/>
                </a:lnTo>
                <a:lnTo>
                  <a:pt x="357" y="338"/>
                </a:lnTo>
                <a:lnTo>
                  <a:pt x="363" y="344"/>
                </a:lnTo>
                <a:lnTo>
                  <a:pt x="363" y="350"/>
                </a:lnTo>
                <a:lnTo>
                  <a:pt x="370" y="356"/>
                </a:lnTo>
                <a:lnTo>
                  <a:pt x="370" y="368"/>
                </a:lnTo>
                <a:lnTo>
                  <a:pt x="376" y="362"/>
                </a:lnTo>
                <a:lnTo>
                  <a:pt x="376" y="373"/>
                </a:lnTo>
                <a:lnTo>
                  <a:pt x="382" y="362"/>
                </a:lnTo>
                <a:lnTo>
                  <a:pt x="382" y="368"/>
                </a:lnTo>
                <a:lnTo>
                  <a:pt x="382" y="362"/>
                </a:lnTo>
                <a:lnTo>
                  <a:pt x="388" y="368"/>
                </a:lnTo>
                <a:lnTo>
                  <a:pt x="388" y="356"/>
                </a:lnTo>
                <a:lnTo>
                  <a:pt x="401" y="356"/>
                </a:lnTo>
                <a:lnTo>
                  <a:pt x="395" y="356"/>
                </a:lnTo>
                <a:lnTo>
                  <a:pt x="401" y="350"/>
                </a:lnTo>
                <a:lnTo>
                  <a:pt x="407" y="344"/>
                </a:lnTo>
                <a:lnTo>
                  <a:pt x="407" y="320"/>
                </a:lnTo>
                <a:lnTo>
                  <a:pt x="413" y="296"/>
                </a:lnTo>
                <a:lnTo>
                  <a:pt x="413" y="237"/>
                </a:lnTo>
                <a:lnTo>
                  <a:pt x="420" y="201"/>
                </a:lnTo>
                <a:lnTo>
                  <a:pt x="420" y="89"/>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350040" y="4122720"/>
            <a:ext cx="527040" cy="611280"/>
          </a:xfrm>
          <a:custGeom>
            <a:avLst/>
            <a:gdLst/>
            <a:ahLst/>
            <a:rect l="l" t="t" r="r" b="b"/>
            <a:pathLst>
              <a:path w="332" h="385">
                <a:moveTo>
                  <a:pt x="0" y="77"/>
                </a:moveTo>
                <a:lnTo>
                  <a:pt x="6" y="71"/>
                </a:lnTo>
                <a:lnTo>
                  <a:pt x="6" y="0"/>
                </a:lnTo>
                <a:lnTo>
                  <a:pt x="12" y="65"/>
                </a:lnTo>
                <a:lnTo>
                  <a:pt x="12" y="148"/>
                </a:lnTo>
                <a:lnTo>
                  <a:pt x="12" y="136"/>
                </a:lnTo>
                <a:lnTo>
                  <a:pt x="18" y="130"/>
                </a:lnTo>
                <a:lnTo>
                  <a:pt x="18" y="142"/>
                </a:lnTo>
                <a:lnTo>
                  <a:pt x="18" y="83"/>
                </a:lnTo>
                <a:lnTo>
                  <a:pt x="25" y="100"/>
                </a:lnTo>
                <a:lnTo>
                  <a:pt x="25" y="71"/>
                </a:lnTo>
                <a:lnTo>
                  <a:pt x="25" y="83"/>
                </a:lnTo>
                <a:lnTo>
                  <a:pt x="31" y="112"/>
                </a:lnTo>
                <a:lnTo>
                  <a:pt x="31" y="118"/>
                </a:lnTo>
                <a:lnTo>
                  <a:pt x="31" y="65"/>
                </a:lnTo>
                <a:lnTo>
                  <a:pt x="31" y="106"/>
                </a:lnTo>
                <a:lnTo>
                  <a:pt x="37" y="160"/>
                </a:lnTo>
                <a:lnTo>
                  <a:pt x="37" y="178"/>
                </a:lnTo>
                <a:lnTo>
                  <a:pt x="37" y="166"/>
                </a:lnTo>
                <a:lnTo>
                  <a:pt x="44" y="172"/>
                </a:lnTo>
                <a:lnTo>
                  <a:pt x="44" y="195"/>
                </a:lnTo>
                <a:lnTo>
                  <a:pt x="50" y="184"/>
                </a:lnTo>
                <a:lnTo>
                  <a:pt x="50" y="83"/>
                </a:lnTo>
                <a:lnTo>
                  <a:pt x="56" y="83"/>
                </a:lnTo>
                <a:lnTo>
                  <a:pt x="56" y="106"/>
                </a:lnTo>
                <a:lnTo>
                  <a:pt x="62" y="172"/>
                </a:lnTo>
                <a:lnTo>
                  <a:pt x="62" y="225"/>
                </a:lnTo>
                <a:lnTo>
                  <a:pt x="69" y="255"/>
                </a:lnTo>
                <a:lnTo>
                  <a:pt x="69" y="308"/>
                </a:lnTo>
                <a:lnTo>
                  <a:pt x="75" y="332"/>
                </a:lnTo>
                <a:lnTo>
                  <a:pt x="75" y="338"/>
                </a:lnTo>
                <a:lnTo>
                  <a:pt x="75" y="332"/>
                </a:lnTo>
                <a:lnTo>
                  <a:pt x="81" y="350"/>
                </a:lnTo>
                <a:lnTo>
                  <a:pt x="81" y="361"/>
                </a:lnTo>
                <a:lnTo>
                  <a:pt x="87" y="344"/>
                </a:lnTo>
                <a:lnTo>
                  <a:pt x="87" y="350"/>
                </a:lnTo>
                <a:lnTo>
                  <a:pt x="87" y="350"/>
                </a:lnTo>
                <a:lnTo>
                  <a:pt x="94" y="356"/>
                </a:lnTo>
                <a:lnTo>
                  <a:pt x="94" y="350"/>
                </a:lnTo>
                <a:lnTo>
                  <a:pt x="100" y="356"/>
                </a:lnTo>
                <a:lnTo>
                  <a:pt x="100" y="361"/>
                </a:lnTo>
                <a:lnTo>
                  <a:pt x="100" y="356"/>
                </a:lnTo>
                <a:lnTo>
                  <a:pt x="106" y="361"/>
                </a:lnTo>
                <a:lnTo>
                  <a:pt x="106" y="385"/>
                </a:lnTo>
                <a:lnTo>
                  <a:pt x="112" y="379"/>
                </a:lnTo>
                <a:lnTo>
                  <a:pt x="112" y="373"/>
                </a:lnTo>
                <a:lnTo>
                  <a:pt x="112" y="379"/>
                </a:lnTo>
                <a:lnTo>
                  <a:pt x="119" y="373"/>
                </a:lnTo>
                <a:lnTo>
                  <a:pt x="119" y="379"/>
                </a:lnTo>
                <a:lnTo>
                  <a:pt x="125" y="367"/>
                </a:lnTo>
                <a:lnTo>
                  <a:pt x="125" y="385"/>
                </a:lnTo>
                <a:lnTo>
                  <a:pt x="125" y="361"/>
                </a:lnTo>
                <a:lnTo>
                  <a:pt x="131" y="361"/>
                </a:lnTo>
                <a:lnTo>
                  <a:pt x="131" y="373"/>
                </a:lnTo>
                <a:lnTo>
                  <a:pt x="137" y="350"/>
                </a:lnTo>
                <a:lnTo>
                  <a:pt x="137" y="356"/>
                </a:lnTo>
                <a:lnTo>
                  <a:pt x="137" y="361"/>
                </a:lnTo>
                <a:lnTo>
                  <a:pt x="144" y="350"/>
                </a:lnTo>
                <a:lnTo>
                  <a:pt x="144" y="356"/>
                </a:lnTo>
                <a:lnTo>
                  <a:pt x="144" y="344"/>
                </a:lnTo>
                <a:lnTo>
                  <a:pt x="150" y="356"/>
                </a:lnTo>
                <a:lnTo>
                  <a:pt x="150" y="373"/>
                </a:lnTo>
                <a:lnTo>
                  <a:pt x="150" y="361"/>
                </a:lnTo>
                <a:lnTo>
                  <a:pt x="156" y="379"/>
                </a:lnTo>
                <a:lnTo>
                  <a:pt x="156" y="350"/>
                </a:lnTo>
                <a:lnTo>
                  <a:pt x="163" y="338"/>
                </a:lnTo>
                <a:lnTo>
                  <a:pt x="163" y="290"/>
                </a:lnTo>
                <a:lnTo>
                  <a:pt x="169" y="261"/>
                </a:lnTo>
                <a:lnTo>
                  <a:pt x="169" y="201"/>
                </a:lnTo>
                <a:lnTo>
                  <a:pt x="175" y="154"/>
                </a:lnTo>
                <a:lnTo>
                  <a:pt x="175" y="71"/>
                </a:lnTo>
                <a:lnTo>
                  <a:pt x="181" y="59"/>
                </a:lnTo>
                <a:lnTo>
                  <a:pt x="181" y="35"/>
                </a:lnTo>
                <a:lnTo>
                  <a:pt x="181" y="41"/>
                </a:lnTo>
                <a:lnTo>
                  <a:pt x="188" y="65"/>
                </a:lnTo>
                <a:lnTo>
                  <a:pt x="188" y="41"/>
                </a:lnTo>
                <a:lnTo>
                  <a:pt x="188" y="47"/>
                </a:lnTo>
                <a:lnTo>
                  <a:pt x="194" y="23"/>
                </a:lnTo>
                <a:lnTo>
                  <a:pt x="194" y="17"/>
                </a:lnTo>
                <a:lnTo>
                  <a:pt x="194" y="41"/>
                </a:lnTo>
                <a:lnTo>
                  <a:pt x="200" y="53"/>
                </a:lnTo>
                <a:lnTo>
                  <a:pt x="200" y="83"/>
                </a:lnTo>
                <a:lnTo>
                  <a:pt x="206" y="47"/>
                </a:lnTo>
                <a:lnTo>
                  <a:pt x="206" y="65"/>
                </a:lnTo>
                <a:lnTo>
                  <a:pt x="213" y="83"/>
                </a:lnTo>
                <a:lnTo>
                  <a:pt x="213" y="77"/>
                </a:lnTo>
                <a:lnTo>
                  <a:pt x="213" y="83"/>
                </a:lnTo>
                <a:lnTo>
                  <a:pt x="219" y="89"/>
                </a:lnTo>
                <a:lnTo>
                  <a:pt x="219" y="83"/>
                </a:lnTo>
                <a:lnTo>
                  <a:pt x="219" y="95"/>
                </a:lnTo>
                <a:lnTo>
                  <a:pt x="225" y="106"/>
                </a:lnTo>
                <a:lnTo>
                  <a:pt x="225" y="95"/>
                </a:lnTo>
                <a:lnTo>
                  <a:pt x="225" y="106"/>
                </a:lnTo>
                <a:lnTo>
                  <a:pt x="231" y="106"/>
                </a:lnTo>
                <a:lnTo>
                  <a:pt x="231" y="166"/>
                </a:lnTo>
                <a:lnTo>
                  <a:pt x="238" y="207"/>
                </a:lnTo>
                <a:lnTo>
                  <a:pt x="238" y="255"/>
                </a:lnTo>
                <a:lnTo>
                  <a:pt x="244" y="255"/>
                </a:lnTo>
                <a:lnTo>
                  <a:pt x="244" y="314"/>
                </a:lnTo>
                <a:lnTo>
                  <a:pt x="250" y="320"/>
                </a:lnTo>
                <a:lnTo>
                  <a:pt x="250" y="314"/>
                </a:lnTo>
                <a:lnTo>
                  <a:pt x="256" y="332"/>
                </a:lnTo>
                <a:lnTo>
                  <a:pt x="256" y="344"/>
                </a:lnTo>
                <a:lnTo>
                  <a:pt x="263" y="350"/>
                </a:lnTo>
                <a:lnTo>
                  <a:pt x="263" y="344"/>
                </a:lnTo>
                <a:lnTo>
                  <a:pt x="275" y="356"/>
                </a:lnTo>
                <a:lnTo>
                  <a:pt x="269" y="356"/>
                </a:lnTo>
                <a:lnTo>
                  <a:pt x="275" y="338"/>
                </a:lnTo>
                <a:lnTo>
                  <a:pt x="282" y="350"/>
                </a:lnTo>
                <a:lnTo>
                  <a:pt x="282" y="356"/>
                </a:lnTo>
                <a:lnTo>
                  <a:pt x="282" y="338"/>
                </a:lnTo>
                <a:lnTo>
                  <a:pt x="288" y="344"/>
                </a:lnTo>
                <a:lnTo>
                  <a:pt x="288" y="332"/>
                </a:lnTo>
                <a:lnTo>
                  <a:pt x="294" y="338"/>
                </a:lnTo>
                <a:lnTo>
                  <a:pt x="294" y="332"/>
                </a:lnTo>
                <a:lnTo>
                  <a:pt x="294" y="338"/>
                </a:lnTo>
                <a:lnTo>
                  <a:pt x="300" y="344"/>
                </a:lnTo>
                <a:lnTo>
                  <a:pt x="300" y="356"/>
                </a:lnTo>
                <a:lnTo>
                  <a:pt x="313" y="356"/>
                </a:lnTo>
                <a:lnTo>
                  <a:pt x="307" y="356"/>
                </a:lnTo>
                <a:lnTo>
                  <a:pt x="313" y="373"/>
                </a:lnTo>
                <a:lnTo>
                  <a:pt x="319" y="385"/>
                </a:lnTo>
                <a:lnTo>
                  <a:pt x="319" y="367"/>
                </a:lnTo>
                <a:lnTo>
                  <a:pt x="319" y="373"/>
                </a:lnTo>
                <a:lnTo>
                  <a:pt x="325" y="367"/>
                </a:lnTo>
                <a:lnTo>
                  <a:pt x="325" y="361"/>
                </a:lnTo>
                <a:lnTo>
                  <a:pt x="325" y="361"/>
                </a:lnTo>
                <a:lnTo>
                  <a:pt x="332" y="367"/>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877080" y="4159080"/>
            <a:ext cx="595440" cy="594000"/>
          </a:xfrm>
          <a:custGeom>
            <a:avLst/>
            <a:gdLst/>
            <a:ahLst/>
            <a:rect l="l" t="t" r="r" b="b"/>
            <a:pathLst>
              <a:path w="375" h="374">
                <a:moveTo>
                  <a:pt x="0" y="344"/>
                </a:moveTo>
                <a:lnTo>
                  <a:pt x="0" y="321"/>
                </a:lnTo>
                <a:lnTo>
                  <a:pt x="6" y="309"/>
                </a:lnTo>
                <a:lnTo>
                  <a:pt x="6" y="238"/>
                </a:lnTo>
                <a:lnTo>
                  <a:pt x="12" y="214"/>
                </a:lnTo>
                <a:lnTo>
                  <a:pt x="12" y="149"/>
                </a:lnTo>
                <a:lnTo>
                  <a:pt x="18" y="72"/>
                </a:lnTo>
                <a:lnTo>
                  <a:pt x="18" y="77"/>
                </a:lnTo>
                <a:lnTo>
                  <a:pt x="18" y="48"/>
                </a:lnTo>
                <a:lnTo>
                  <a:pt x="25" y="18"/>
                </a:lnTo>
                <a:lnTo>
                  <a:pt x="25" y="72"/>
                </a:lnTo>
                <a:lnTo>
                  <a:pt x="31" y="72"/>
                </a:lnTo>
                <a:lnTo>
                  <a:pt x="31" y="12"/>
                </a:lnTo>
                <a:lnTo>
                  <a:pt x="37" y="30"/>
                </a:lnTo>
                <a:lnTo>
                  <a:pt x="37" y="12"/>
                </a:lnTo>
                <a:lnTo>
                  <a:pt x="43" y="36"/>
                </a:lnTo>
                <a:lnTo>
                  <a:pt x="43" y="24"/>
                </a:lnTo>
                <a:lnTo>
                  <a:pt x="50" y="36"/>
                </a:lnTo>
                <a:lnTo>
                  <a:pt x="50" y="54"/>
                </a:lnTo>
                <a:lnTo>
                  <a:pt x="56" y="30"/>
                </a:lnTo>
                <a:lnTo>
                  <a:pt x="56" y="54"/>
                </a:lnTo>
                <a:lnTo>
                  <a:pt x="56" y="18"/>
                </a:lnTo>
                <a:lnTo>
                  <a:pt x="56" y="36"/>
                </a:lnTo>
                <a:lnTo>
                  <a:pt x="62" y="54"/>
                </a:lnTo>
                <a:lnTo>
                  <a:pt x="62" y="89"/>
                </a:lnTo>
                <a:lnTo>
                  <a:pt x="69" y="66"/>
                </a:lnTo>
                <a:lnTo>
                  <a:pt x="69" y="60"/>
                </a:lnTo>
                <a:lnTo>
                  <a:pt x="69" y="125"/>
                </a:lnTo>
                <a:lnTo>
                  <a:pt x="75" y="137"/>
                </a:lnTo>
                <a:lnTo>
                  <a:pt x="75" y="196"/>
                </a:lnTo>
                <a:lnTo>
                  <a:pt x="81" y="202"/>
                </a:lnTo>
                <a:lnTo>
                  <a:pt x="81" y="261"/>
                </a:lnTo>
                <a:lnTo>
                  <a:pt x="87" y="273"/>
                </a:lnTo>
                <a:lnTo>
                  <a:pt x="87" y="303"/>
                </a:lnTo>
                <a:lnTo>
                  <a:pt x="94" y="309"/>
                </a:lnTo>
                <a:lnTo>
                  <a:pt x="94" y="315"/>
                </a:lnTo>
                <a:lnTo>
                  <a:pt x="94" y="309"/>
                </a:lnTo>
                <a:lnTo>
                  <a:pt x="106" y="327"/>
                </a:lnTo>
                <a:lnTo>
                  <a:pt x="106" y="333"/>
                </a:lnTo>
                <a:lnTo>
                  <a:pt x="106" y="327"/>
                </a:lnTo>
                <a:lnTo>
                  <a:pt x="112" y="344"/>
                </a:lnTo>
                <a:lnTo>
                  <a:pt x="112" y="344"/>
                </a:lnTo>
                <a:lnTo>
                  <a:pt x="112" y="338"/>
                </a:lnTo>
                <a:lnTo>
                  <a:pt x="112" y="338"/>
                </a:lnTo>
                <a:lnTo>
                  <a:pt x="125" y="338"/>
                </a:lnTo>
                <a:lnTo>
                  <a:pt x="119" y="338"/>
                </a:lnTo>
                <a:lnTo>
                  <a:pt x="125" y="344"/>
                </a:lnTo>
                <a:lnTo>
                  <a:pt x="131" y="338"/>
                </a:lnTo>
                <a:lnTo>
                  <a:pt x="131" y="333"/>
                </a:lnTo>
                <a:lnTo>
                  <a:pt x="137" y="344"/>
                </a:lnTo>
                <a:lnTo>
                  <a:pt x="137" y="338"/>
                </a:lnTo>
                <a:lnTo>
                  <a:pt x="137" y="344"/>
                </a:lnTo>
                <a:lnTo>
                  <a:pt x="144" y="338"/>
                </a:lnTo>
                <a:lnTo>
                  <a:pt x="144" y="350"/>
                </a:lnTo>
                <a:lnTo>
                  <a:pt x="150" y="338"/>
                </a:lnTo>
                <a:lnTo>
                  <a:pt x="150" y="344"/>
                </a:lnTo>
                <a:lnTo>
                  <a:pt x="150" y="338"/>
                </a:lnTo>
                <a:lnTo>
                  <a:pt x="156" y="344"/>
                </a:lnTo>
                <a:lnTo>
                  <a:pt x="169" y="344"/>
                </a:lnTo>
                <a:lnTo>
                  <a:pt x="169" y="350"/>
                </a:lnTo>
                <a:lnTo>
                  <a:pt x="175" y="338"/>
                </a:lnTo>
                <a:lnTo>
                  <a:pt x="175" y="303"/>
                </a:lnTo>
                <a:lnTo>
                  <a:pt x="181" y="279"/>
                </a:lnTo>
                <a:lnTo>
                  <a:pt x="181" y="196"/>
                </a:lnTo>
                <a:lnTo>
                  <a:pt x="188" y="155"/>
                </a:lnTo>
                <a:lnTo>
                  <a:pt x="188" y="42"/>
                </a:lnTo>
                <a:lnTo>
                  <a:pt x="194" y="24"/>
                </a:lnTo>
                <a:lnTo>
                  <a:pt x="194" y="12"/>
                </a:lnTo>
                <a:lnTo>
                  <a:pt x="200" y="0"/>
                </a:lnTo>
                <a:lnTo>
                  <a:pt x="200" y="36"/>
                </a:lnTo>
                <a:lnTo>
                  <a:pt x="206" y="24"/>
                </a:lnTo>
                <a:lnTo>
                  <a:pt x="206" y="36"/>
                </a:lnTo>
                <a:lnTo>
                  <a:pt x="206" y="30"/>
                </a:lnTo>
                <a:lnTo>
                  <a:pt x="213" y="42"/>
                </a:lnTo>
                <a:lnTo>
                  <a:pt x="213" y="48"/>
                </a:lnTo>
                <a:lnTo>
                  <a:pt x="219" y="60"/>
                </a:lnTo>
                <a:lnTo>
                  <a:pt x="219" y="42"/>
                </a:lnTo>
                <a:lnTo>
                  <a:pt x="219" y="54"/>
                </a:lnTo>
                <a:lnTo>
                  <a:pt x="225" y="54"/>
                </a:lnTo>
                <a:lnTo>
                  <a:pt x="225" y="66"/>
                </a:lnTo>
                <a:lnTo>
                  <a:pt x="225" y="54"/>
                </a:lnTo>
                <a:lnTo>
                  <a:pt x="231" y="60"/>
                </a:lnTo>
                <a:lnTo>
                  <a:pt x="231" y="77"/>
                </a:lnTo>
                <a:lnTo>
                  <a:pt x="238" y="83"/>
                </a:lnTo>
                <a:lnTo>
                  <a:pt x="238" y="113"/>
                </a:lnTo>
                <a:lnTo>
                  <a:pt x="244" y="119"/>
                </a:lnTo>
                <a:lnTo>
                  <a:pt x="244" y="178"/>
                </a:lnTo>
                <a:lnTo>
                  <a:pt x="250" y="202"/>
                </a:lnTo>
                <a:lnTo>
                  <a:pt x="250" y="250"/>
                </a:lnTo>
                <a:lnTo>
                  <a:pt x="256" y="261"/>
                </a:lnTo>
                <a:lnTo>
                  <a:pt x="256" y="285"/>
                </a:lnTo>
                <a:lnTo>
                  <a:pt x="263" y="309"/>
                </a:lnTo>
                <a:lnTo>
                  <a:pt x="263" y="321"/>
                </a:lnTo>
                <a:lnTo>
                  <a:pt x="269" y="327"/>
                </a:lnTo>
                <a:lnTo>
                  <a:pt x="269" y="321"/>
                </a:lnTo>
                <a:lnTo>
                  <a:pt x="269" y="333"/>
                </a:lnTo>
                <a:lnTo>
                  <a:pt x="275" y="333"/>
                </a:lnTo>
                <a:lnTo>
                  <a:pt x="281" y="333"/>
                </a:lnTo>
                <a:lnTo>
                  <a:pt x="281" y="338"/>
                </a:lnTo>
                <a:lnTo>
                  <a:pt x="288" y="333"/>
                </a:lnTo>
                <a:lnTo>
                  <a:pt x="288" y="338"/>
                </a:lnTo>
                <a:lnTo>
                  <a:pt x="288" y="333"/>
                </a:lnTo>
                <a:lnTo>
                  <a:pt x="294" y="338"/>
                </a:lnTo>
                <a:lnTo>
                  <a:pt x="294" y="333"/>
                </a:lnTo>
                <a:lnTo>
                  <a:pt x="294" y="338"/>
                </a:lnTo>
                <a:lnTo>
                  <a:pt x="300" y="333"/>
                </a:lnTo>
                <a:lnTo>
                  <a:pt x="300" y="338"/>
                </a:lnTo>
                <a:lnTo>
                  <a:pt x="300" y="333"/>
                </a:lnTo>
                <a:lnTo>
                  <a:pt x="307" y="338"/>
                </a:lnTo>
                <a:lnTo>
                  <a:pt x="307" y="344"/>
                </a:lnTo>
                <a:lnTo>
                  <a:pt x="313" y="338"/>
                </a:lnTo>
                <a:lnTo>
                  <a:pt x="313" y="350"/>
                </a:lnTo>
                <a:lnTo>
                  <a:pt x="319" y="344"/>
                </a:lnTo>
                <a:lnTo>
                  <a:pt x="325" y="350"/>
                </a:lnTo>
                <a:lnTo>
                  <a:pt x="325" y="368"/>
                </a:lnTo>
                <a:lnTo>
                  <a:pt x="332" y="368"/>
                </a:lnTo>
                <a:lnTo>
                  <a:pt x="338" y="374"/>
                </a:lnTo>
                <a:lnTo>
                  <a:pt x="338" y="362"/>
                </a:lnTo>
                <a:lnTo>
                  <a:pt x="344" y="362"/>
                </a:lnTo>
                <a:lnTo>
                  <a:pt x="350" y="350"/>
                </a:lnTo>
                <a:lnTo>
                  <a:pt x="357" y="344"/>
                </a:lnTo>
                <a:lnTo>
                  <a:pt x="357" y="338"/>
                </a:lnTo>
                <a:lnTo>
                  <a:pt x="363" y="333"/>
                </a:lnTo>
                <a:lnTo>
                  <a:pt x="363" y="344"/>
                </a:lnTo>
                <a:lnTo>
                  <a:pt x="375" y="344"/>
                </a:lnTo>
                <a:lnTo>
                  <a:pt x="369" y="344"/>
                </a:lnTo>
                <a:lnTo>
                  <a:pt x="375" y="333"/>
                </a:lnTo>
                <a:lnTo>
                  <a:pt x="375" y="338"/>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7472520" y="4668840"/>
            <a:ext cx="438120" cy="93600"/>
          </a:xfrm>
          <a:custGeom>
            <a:avLst/>
            <a:gdLst/>
            <a:ahLst/>
            <a:rect l="l" t="t" r="r" b="b"/>
            <a:pathLst>
              <a:path w="276" h="59">
                <a:moveTo>
                  <a:pt x="0" y="17"/>
                </a:moveTo>
                <a:lnTo>
                  <a:pt x="7" y="23"/>
                </a:lnTo>
                <a:lnTo>
                  <a:pt x="7" y="12"/>
                </a:lnTo>
                <a:lnTo>
                  <a:pt x="13" y="6"/>
                </a:lnTo>
                <a:lnTo>
                  <a:pt x="13" y="0"/>
                </a:lnTo>
                <a:lnTo>
                  <a:pt x="13" y="6"/>
                </a:lnTo>
                <a:lnTo>
                  <a:pt x="19" y="12"/>
                </a:lnTo>
                <a:lnTo>
                  <a:pt x="19" y="17"/>
                </a:lnTo>
                <a:lnTo>
                  <a:pt x="19" y="0"/>
                </a:lnTo>
                <a:lnTo>
                  <a:pt x="32" y="0"/>
                </a:lnTo>
                <a:lnTo>
                  <a:pt x="32" y="12"/>
                </a:lnTo>
                <a:lnTo>
                  <a:pt x="44" y="23"/>
                </a:lnTo>
                <a:lnTo>
                  <a:pt x="38" y="23"/>
                </a:lnTo>
                <a:lnTo>
                  <a:pt x="44" y="23"/>
                </a:lnTo>
                <a:lnTo>
                  <a:pt x="51" y="17"/>
                </a:lnTo>
                <a:lnTo>
                  <a:pt x="57" y="12"/>
                </a:lnTo>
                <a:lnTo>
                  <a:pt x="57" y="29"/>
                </a:lnTo>
                <a:lnTo>
                  <a:pt x="63" y="23"/>
                </a:lnTo>
                <a:lnTo>
                  <a:pt x="63" y="29"/>
                </a:lnTo>
                <a:lnTo>
                  <a:pt x="69" y="23"/>
                </a:lnTo>
                <a:lnTo>
                  <a:pt x="69" y="17"/>
                </a:lnTo>
                <a:lnTo>
                  <a:pt x="69" y="29"/>
                </a:lnTo>
                <a:lnTo>
                  <a:pt x="76" y="23"/>
                </a:lnTo>
                <a:lnTo>
                  <a:pt x="82" y="29"/>
                </a:lnTo>
                <a:lnTo>
                  <a:pt x="88" y="23"/>
                </a:lnTo>
                <a:lnTo>
                  <a:pt x="94" y="17"/>
                </a:lnTo>
                <a:lnTo>
                  <a:pt x="94" y="23"/>
                </a:lnTo>
                <a:lnTo>
                  <a:pt x="94" y="17"/>
                </a:lnTo>
                <a:lnTo>
                  <a:pt x="107" y="35"/>
                </a:lnTo>
                <a:lnTo>
                  <a:pt x="107" y="47"/>
                </a:lnTo>
                <a:lnTo>
                  <a:pt x="113" y="53"/>
                </a:lnTo>
                <a:lnTo>
                  <a:pt x="119" y="47"/>
                </a:lnTo>
                <a:lnTo>
                  <a:pt x="119" y="59"/>
                </a:lnTo>
                <a:lnTo>
                  <a:pt x="119" y="47"/>
                </a:lnTo>
                <a:lnTo>
                  <a:pt x="126" y="53"/>
                </a:lnTo>
                <a:lnTo>
                  <a:pt x="126" y="41"/>
                </a:lnTo>
                <a:lnTo>
                  <a:pt x="132" y="47"/>
                </a:lnTo>
                <a:lnTo>
                  <a:pt x="132" y="35"/>
                </a:lnTo>
                <a:lnTo>
                  <a:pt x="138" y="35"/>
                </a:lnTo>
                <a:lnTo>
                  <a:pt x="145" y="29"/>
                </a:lnTo>
                <a:lnTo>
                  <a:pt x="151" y="35"/>
                </a:lnTo>
                <a:lnTo>
                  <a:pt x="163" y="35"/>
                </a:lnTo>
                <a:lnTo>
                  <a:pt x="157" y="35"/>
                </a:lnTo>
                <a:lnTo>
                  <a:pt x="163" y="35"/>
                </a:lnTo>
                <a:lnTo>
                  <a:pt x="170" y="41"/>
                </a:lnTo>
                <a:lnTo>
                  <a:pt x="170" y="29"/>
                </a:lnTo>
                <a:lnTo>
                  <a:pt x="176" y="35"/>
                </a:lnTo>
                <a:lnTo>
                  <a:pt x="176" y="41"/>
                </a:lnTo>
                <a:lnTo>
                  <a:pt x="182" y="47"/>
                </a:lnTo>
                <a:lnTo>
                  <a:pt x="182" y="35"/>
                </a:lnTo>
                <a:lnTo>
                  <a:pt x="182" y="41"/>
                </a:lnTo>
                <a:lnTo>
                  <a:pt x="188" y="35"/>
                </a:lnTo>
                <a:lnTo>
                  <a:pt x="201" y="35"/>
                </a:lnTo>
                <a:lnTo>
                  <a:pt x="201" y="23"/>
                </a:lnTo>
                <a:lnTo>
                  <a:pt x="213" y="23"/>
                </a:lnTo>
                <a:lnTo>
                  <a:pt x="213" y="12"/>
                </a:lnTo>
                <a:lnTo>
                  <a:pt x="220" y="17"/>
                </a:lnTo>
                <a:lnTo>
                  <a:pt x="220" y="12"/>
                </a:lnTo>
                <a:lnTo>
                  <a:pt x="220" y="17"/>
                </a:lnTo>
                <a:lnTo>
                  <a:pt x="226" y="6"/>
                </a:lnTo>
                <a:lnTo>
                  <a:pt x="226" y="17"/>
                </a:lnTo>
                <a:lnTo>
                  <a:pt x="226" y="12"/>
                </a:lnTo>
                <a:lnTo>
                  <a:pt x="232" y="6"/>
                </a:lnTo>
                <a:lnTo>
                  <a:pt x="232" y="0"/>
                </a:lnTo>
                <a:lnTo>
                  <a:pt x="232" y="12"/>
                </a:lnTo>
                <a:lnTo>
                  <a:pt x="238" y="17"/>
                </a:lnTo>
                <a:lnTo>
                  <a:pt x="245" y="35"/>
                </a:lnTo>
                <a:lnTo>
                  <a:pt x="245" y="29"/>
                </a:lnTo>
                <a:lnTo>
                  <a:pt x="245" y="35"/>
                </a:lnTo>
                <a:lnTo>
                  <a:pt x="251" y="35"/>
                </a:lnTo>
                <a:lnTo>
                  <a:pt x="257" y="35"/>
                </a:lnTo>
                <a:lnTo>
                  <a:pt x="264" y="35"/>
                </a:lnTo>
                <a:lnTo>
                  <a:pt x="264" y="41"/>
                </a:lnTo>
                <a:lnTo>
                  <a:pt x="264" y="35"/>
                </a:lnTo>
                <a:lnTo>
                  <a:pt x="270" y="41"/>
                </a:lnTo>
                <a:lnTo>
                  <a:pt x="276" y="47"/>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41" name="smithers" descr=""/>
          <p:cNvPicPr/>
          <p:nvPr/>
        </p:nvPicPr>
        <p:blipFill>
          <a:blip r:embed="rId3"/>
          <a:stretch/>
        </p:blipFill>
        <p:spPr>
          <a:xfrm>
            <a:off x="141120" y="4003560"/>
            <a:ext cx="1359000" cy="2719440"/>
          </a:xfrm>
          <a:prstGeom prst="rect">
            <a:avLst/>
          </a:prstGeom>
          <a:ln w="0">
            <a:noFill/>
          </a:ln>
        </p:spPr>
      </p:pic>
      <p:sp>
        <p:nvSpPr>
          <p:cNvPr id="2542" name=""/>
          <p:cNvSpPr/>
          <p:nvPr/>
        </p:nvSpPr>
        <p:spPr>
          <a:xfrm flipH="1">
            <a:off x="1800360" y="5564160"/>
            <a:ext cx="7014960" cy="996840"/>
          </a:xfrm>
          <a:prstGeom prst="wedgeRoundRectCallout">
            <a:avLst>
              <a:gd name="adj1" fmla="val 52893"/>
              <a:gd name="adj2" fmla="val -79462"/>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he first 3 weeks of the power demand dataset. Note the repeating pattern of a strong peak for each of the five weekdays, followed by relatively quite weekend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543" name=""/>
          <p:cNvSpPr/>
          <p:nvPr/>
        </p:nvSpPr>
        <p:spPr>
          <a:xfrm>
            <a:off x="1440" y="0"/>
            <a:ext cx="92682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Experiment 3: Power Demand </a:t>
            </a:r>
            <a:r>
              <a:rPr b="0" lang="en-US" sz="3600" spc="-1" strike="noStrike">
                <a:solidFill>
                  <a:srgbClr val="000000"/>
                </a:solidFill>
                <a:latin typeface="Times New Roman"/>
                <a:ea typeface="Times New Roman"/>
              </a:rPr>
              <a:t>(Part 1)</a:t>
            </a:r>
            <a:r>
              <a:rPr b="0" lang="en-US" sz="4800" spc="-1" strike="noStrike">
                <a:solidFill>
                  <a:srgbClr val="000000"/>
                </a:solidFill>
                <a:latin typeface="Times New Roman"/>
                <a:ea typeface="Times New Roman"/>
              </a:rPr>
              <a:t> </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082960" y="2165400"/>
            <a:ext cx="5479920" cy="4151160"/>
          </a:xfrm>
          <a:prstGeom prst="rect">
            <a:avLst/>
          </a:prstGeom>
          <a:solidFill>
            <a:srgbClr val="c0c0c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5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ime Series?</a:t>
            </a:r>
            <a:endParaRPr b="0" lang="en-US" sz="4400" spc="-1" strike="noStrike">
              <a:solidFill>
                <a:srgbClr val="000000"/>
              </a:solidFill>
              <a:latin typeface="Times New Roman"/>
            </a:endParaRPr>
          </a:p>
        </p:txBody>
      </p:sp>
      <p:grpSp>
        <p:nvGrpSpPr>
          <p:cNvPr id="56" name=""/>
          <p:cNvGrpSpPr/>
          <p:nvPr/>
        </p:nvGrpSpPr>
        <p:grpSpPr>
          <a:xfrm>
            <a:off x="2307240" y="2252520"/>
            <a:ext cx="4978800" cy="3896640"/>
            <a:chOff x="2307240" y="2252520"/>
            <a:chExt cx="4978800" cy="3896640"/>
          </a:xfrm>
        </p:grpSpPr>
        <p:sp>
          <p:nvSpPr>
            <p:cNvPr id="57" name=""/>
            <p:cNvSpPr/>
            <p:nvPr/>
          </p:nvSpPr>
          <p:spPr>
            <a:xfrm>
              <a:off x="2503080" y="2336400"/>
              <a:ext cx="4701240" cy="363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503080" y="2336400"/>
              <a:ext cx="4701240" cy="36327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503080" y="2336400"/>
              <a:ext cx="470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 name=""/>
            <p:cNvSpPr/>
            <p:nvPr/>
          </p:nvSpPr>
          <p:spPr>
            <a:xfrm>
              <a:off x="2503080" y="2336400"/>
              <a:ext cx="4701240" cy="3632760"/>
            </a:xfrm>
            <a:custGeom>
              <a:avLst/>
              <a:gdLst/>
              <a:ahLst/>
              <a:rect l="l" t="t" r="r" b="b"/>
              <a:pathLst>
                <a:path w="433" h="341">
                  <a:moveTo>
                    <a:pt x="0" y="341"/>
                  </a:moveTo>
                  <a:lnTo>
                    <a:pt x="433" y="341"/>
                  </a:lnTo>
                  <a:lnTo>
                    <a:pt x="4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2503080" y="2336040"/>
              <a:ext cx="2160" cy="363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503080" y="5969520"/>
              <a:ext cx="47012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 name=""/>
            <p:cNvSpPr/>
            <p:nvPr/>
          </p:nvSpPr>
          <p:spPr>
            <a:xfrm flipV="1">
              <a:off x="2503080" y="2336040"/>
              <a:ext cx="2160" cy="363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2503080" y="592776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5" name=""/>
            <p:cNvSpPr/>
            <p:nvPr/>
          </p:nvSpPr>
          <p:spPr>
            <a:xfrm>
              <a:off x="2503080" y="233640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 name=""/>
            <p:cNvSpPr/>
            <p:nvPr/>
          </p:nvSpPr>
          <p:spPr>
            <a:xfrm>
              <a:off x="2470680" y="60116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67" name=""/>
            <p:cNvSpPr/>
            <p:nvPr/>
          </p:nvSpPr>
          <p:spPr>
            <a:xfrm flipV="1">
              <a:off x="2970360" y="592776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 name=""/>
            <p:cNvSpPr/>
            <p:nvPr/>
          </p:nvSpPr>
          <p:spPr>
            <a:xfrm>
              <a:off x="2970360" y="233640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 name=""/>
            <p:cNvSpPr/>
            <p:nvPr/>
          </p:nvSpPr>
          <p:spPr>
            <a:xfrm>
              <a:off x="2892960" y="60116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a:t>
              </a:r>
              <a:endParaRPr b="0" lang="en-US" sz="900" spc="-1" strike="noStrike">
                <a:solidFill>
                  <a:srgbClr val="000000"/>
                </a:solidFill>
                <a:latin typeface="Times New Roman"/>
              </a:endParaRPr>
            </a:p>
          </p:txBody>
        </p:sp>
        <p:sp>
          <p:nvSpPr>
            <p:cNvPr id="70" name=""/>
            <p:cNvSpPr/>
            <p:nvPr/>
          </p:nvSpPr>
          <p:spPr>
            <a:xfrm flipV="1">
              <a:off x="3447360" y="592776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1" name=""/>
            <p:cNvSpPr/>
            <p:nvPr/>
          </p:nvSpPr>
          <p:spPr>
            <a:xfrm>
              <a:off x="3447360" y="233640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2" name=""/>
            <p:cNvSpPr/>
            <p:nvPr/>
          </p:nvSpPr>
          <p:spPr>
            <a:xfrm>
              <a:off x="3337560" y="60116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a:t>
              </a:r>
              <a:endParaRPr b="0" lang="en-US" sz="900" spc="-1" strike="noStrike">
                <a:solidFill>
                  <a:srgbClr val="000000"/>
                </a:solidFill>
                <a:latin typeface="Times New Roman"/>
              </a:endParaRPr>
            </a:p>
          </p:txBody>
        </p:sp>
        <p:sp>
          <p:nvSpPr>
            <p:cNvPr id="73" name=""/>
            <p:cNvSpPr/>
            <p:nvPr/>
          </p:nvSpPr>
          <p:spPr>
            <a:xfrm flipV="1">
              <a:off x="3914280" y="592776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4" name=""/>
            <p:cNvSpPr/>
            <p:nvPr/>
          </p:nvSpPr>
          <p:spPr>
            <a:xfrm>
              <a:off x="3914280" y="233640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5" name=""/>
            <p:cNvSpPr/>
            <p:nvPr/>
          </p:nvSpPr>
          <p:spPr>
            <a:xfrm>
              <a:off x="3804120" y="60116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a:t>
              </a:r>
              <a:endParaRPr b="0" lang="en-US" sz="900" spc="-1" strike="noStrike">
                <a:solidFill>
                  <a:srgbClr val="000000"/>
                </a:solidFill>
                <a:latin typeface="Times New Roman"/>
              </a:endParaRPr>
            </a:p>
          </p:txBody>
        </p:sp>
        <p:sp>
          <p:nvSpPr>
            <p:cNvPr id="76" name=""/>
            <p:cNvSpPr/>
            <p:nvPr/>
          </p:nvSpPr>
          <p:spPr>
            <a:xfrm flipV="1">
              <a:off x="4381560" y="592776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7" name=""/>
            <p:cNvSpPr/>
            <p:nvPr/>
          </p:nvSpPr>
          <p:spPr>
            <a:xfrm>
              <a:off x="4381560" y="233640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8" name=""/>
            <p:cNvSpPr/>
            <p:nvPr/>
          </p:nvSpPr>
          <p:spPr>
            <a:xfrm>
              <a:off x="4272120" y="60116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a:t>
              </a:r>
              <a:endParaRPr b="0" lang="en-US" sz="900" spc="-1" strike="noStrike">
                <a:solidFill>
                  <a:srgbClr val="000000"/>
                </a:solidFill>
                <a:latin typeface="Times New Roman"/>
              </a:endParaRPr>
            </a:p>
          </p:txBody>
        </p:sp>
        <p:sp>
          <p:nvSpPr>
            <p:cNvPr id="79" name=""/>
            <p:cNvSpPr/>
            <p:nvPr/>
          </p:nvSpPr>
          <p:spPr>
            <a:xfrm flipV="1">
              <a:off x="4858560" y="592776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0" name=""/>
            <p:cNvSpPr/>
            <p:nvPr/>
          </p:nvSpPr>
          <p:spPr>
            <a:xfrm>
              <a:off x="4858560" y="233640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1" name=""/>
            <p:cNvSpPr/>
            <p:nvPr/>
          </p:nvSpPr>
          <p:spPr>
            <a:xfrm>
              <a:off x="4749840" y="60116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0</a:t>
              </a:r>
              <a:endParaRPr b="0" lang="en-US" sz="900" spc="-1" strike="noStrike">
                <a:solidFill>
                  <a:srgbClr val="000000"/>
                </a:solidFill>
                <a:latin typeface="Times New Roman"/>
              </a:endParaRPr>
            </a:p>
          </p:txBody>
        </p:sp>
        <p:sp>
          <p:nvSpPr>
            <p:cNvPr id="82" name=""/>
            <p:cNvSpPr/>
            <p:nvPr/>
          </p:nvSpPr>
          <p:spPr>
            <a:xfrm flipV="1">
              <a:off x="5325840" y="592776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3" name=""/>
            <p:cNvSpPr/>
            <p:nvPr/>
          </p:nvSpPr>
          <p:spPr>
            <a:xfrm>
              <a:off x="5325840" y="233640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4" name=""/>
            <p:cNvSpPr/>
            <p:nvPr/>
          </p:nvSpPr>
          <p:spPr>
            <a:xfrm>
              <a:off x="5215320" y="60116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a:t>
              </a:r>
              <a:endParaRPr b="0" lang="en-US" sz="900" spc="-1" strike="noStrike">
                <a:solidFill>
                  <a:srgbClr val="000000"/>
                </a:solidFill>
                <a:latin typeface="Times New Roman"/>
              </a:endParaRPr>
            </a:p>
          </p:txBody>
        </p:sp>
        <p:sp>
          <p:nvSpPr>
            <p:cNvPr id="85" name=""/>
            <p:cNvSpPr/>
            <p:nvPr/>
          </p:nvSpPr>
          <p:spPr>
            <a:xfrm flipV="1">
              <a:off x="5793120" y="592776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6" name=""/>
            <p:cNvSpPr/>
            <p:nvPr/>
          </p:nvSpPr>
          <p:spPr>
            <a:xfrm>
              <a:off x="5793120" y="233640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7" name=""/>
            <p:cNvSpPr/>
            <p:nvPr/>
          </p:nvSpPr>
          <p:spPr>
            <a:xfrm>
              <a:off x="5683320" y="60116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0</a:t>
              </a:r>
              <a:endParaRPr b="0" lang="en-US" sz="900" spc="-1" strike="noStrike">
                <a:solidFill>
                  <a:srgbClr val="000000"/>
                </a:solidFill>
                <a:latin typeface="Times New Roman"/>
              </a:endParaRPr>
            </a:p>
          </p:txBody>
        </p:sp>
        <p:sp>
          <p:nvSpPr>
            <p:cNvPr id="88" name=""/>
            <p:cNvSpPr/>
            <p:nvPr/>
          </p:nvSpPr>
          <p:spPr>
            <a:xfrm flipV="1">
              <a:off x="6260400" y="592776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9" name=""/>
            <p:cNvSpPr/>
            <p:nvPr/>
          </p:nvSpPr>
          <p:spPr>
            <a:xfrm>
              <a:off x="6260400" y="233640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0" name=""/>
            <p:cNvSpPr/>
            <p:nvPr/>
          </p:nvSpPr>
          <p:spPr>
            <a:xfrm>
              <a:off x="6150600" y="60116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0</a:t>
              </a:r>
              <a:endParaRPr b="0" lang="en-US" sz="900" spc="-1" strike="noStrike">
                <a:solidFill>
                  <a:srgbClr val="000000"/>
                </a:solidFill>
                <a:latin typeface="Times New Roman"/>
              </a:endParaRPr>
            </a:p>
          </p:txBody>
        </p:sp>
        <p:sp>
          <p:nvSpPr>
            <p:cNvPr id="91" name=""/>
            <p:cNvSpPr/>
            <p:nvPr/>
          </p:nvSpPr>
          <p:spPr>
            <a:xfrm flipV="1">
              <a:off x="6737040" y="592776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2" name=""/>
            <p:cNvSpPr/>
            <p:nvPr/>
          </p:nvSpPr>
          <p:spPr>
            <a:xfrm>
              <a:off x="6737040" y="233640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3" name=""/>
            <p:cNvSpPr/>
            <p:nvPr/>
          </p:nvSpPr>
          <p:spPr>
            <a:xfrm>
              <a:off x="6626520" y="60116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0</a:t>
              </a:r>
              <a:endParaRPr b="0" lang="en-US" sz="900" spc="-1" strike="noStrike">
                <a:solidFill>
                  <a:srgbClr val="000000"/>
                </a:solidFill>
                <a:latin typeface="Times New Roman"/>
              </a:endParaRPr>
            </a:p>
          </p:txBody>
        </p:sp>
        <p:sp>
          <p:nvSpPr>
            <p:cNvPr id="94" name=""/>
            <p:cNvSpPr/>
            <p:nvPr/>
          </p:nvSpPr>
          <p:spPr>
            <a:xfrm flipV="1">
              <a:off x="7204320" y="592776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5" name=""/>
            <p:cNvSpPr/>
            <p:nvPr/>
          </p:nvSpPr>
          <p:spPr>
            <a:xfrm>
              <a:off x="7204320" y="2336400"/>
              <a:ext cx="2160" cy="4176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6" name=""/>
            <p:cNvSpPr/>
            <p:nvPr/>
          </p:nvSpPr>
          <p:spPr>
            <a:xfrm>
              <a:off x="7093440" y="60116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0</a:t>
              </a:r>
              <a:endParaRPr b="0" lang="en-US" sz="900" spc="-1" strike="noStrike">
                <a:solidFill>
                  <a:srgbClr val="000000"/>
                </a:solidFill>
                <a:latin typeface="Times New Roman"/>
              </a:endParaRPr>
            </a:p>
          </p:txBody>
        </p:sp>
        <p:sp>
          <p:nvSpPr>
            <p:cNvPr id="97" name=""/>
            <p:cNvSpPr/>
            <p:nvPr/>
          </p:nvSpPr>
          <p:spPr>
            <a:xfrm>
              <a:off x="2503080" y="5969520"/>
              <a:ext cx="442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8" name=""/>
            <p:cNvSpPr/>
            <p:nvPr/>
          </p:nvSpPr>
          <p:spPr>
            <a:xfrm flipH="1">
              <a:off x="7160040" y="5969520"/>
              <a:ext cx="435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9" name=""/>
            <p:cNvSpPr/>
            <p:nvPr/>
          </p:nvSpPr>
          <p:spPr>
            <a:xfrm>
              <a:off x="2307240" y="58852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0" lang="en-US" sz="900" spc="-1" strike="noStrike">
                <a:solidFill>
                  <a:srgbClr val="000000"/>
                </a:solidFill>
                <a:latin typeface="Times New Roman"/>
              </a:endParaRPr>
            </a:p>
          </p:txBody>
        </p:sp>
        <p:sp>
          <p:nvSpPr>
            <p:cNvPr id="100" name=""/>
            <p:cNvSpPr/>
            <p:nvPr/>
          </p:nvSpPr>
          <p:spPr>
            <a:xfrm>
              <a:off x="2503080" y="53618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 name=""/>
            <p:cNvSpPr/>
            <p:nvPr/>
          </p:nvSpPr>
          <p:spPr>
            <a:xfrm flipH="1">
              <a:off x="7160040" y="5361840"/>
              <a:ext cx="4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2307240" y="52779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000000"/>
                </a:solidFill>
                <a:latin typeface="Times New Roman"/>
              </a:endParaRPr>
            </a:p>
          </p:txBody>
        </p:sp>
        <p:sp>
          <p:nvSpPr>
            <p:cNvPr id="103" name=""/>
            <p:cNvSpPr/>
            <p:nvPr/>
          </p:nvSpPr>
          <p:spPr>
            <a:xfrm>
              <a:off x="2503080" y="47545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H="1">
              <a:off x="7160040" y="4754520"/>
              <a:ext cx="4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 name=""/>
            <p:cNvSpPr/>
            <p:nvPr/>
          </p:nvSpPr>
          <p:spPr>
            <a:xfrm>
              <a:off x="2307240" y="46702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000000"/>
                </a:solidFill>
                <a:latin typeface="Times New Roman"/>
              </a:endParaRPr>
            </a:p>
          </p:txBody>
        </p:sp>
        <p:sp>
          <p:nvSpPr>
            <p:cNvPr id="106" name=""/>
            <p:cNvSpPr/>
            <p:nvPr/>
          </p:nvSpPr>
          <p:spPr>
            <a:xfrm>
              <a:off x="2503080" y="4158720"/>
              <a:ext cx="442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7" name=""/>
            <p:cNvSpPr/>
            <p:nvPr/>
          </p:nvSpPr>
          <p:spPr>
            <a:xfrm flipH="1">
              <a:off x="7160040" y="4158720"/>
              <a:ext cx="435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8" name=""/>
            <p:cNvSpPr/>
            <p:nvPr/>
          </p:nvSpPr>
          <p:spPr>
            <a:xfrm>
              <a:off x="2307240" y="40730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0" lang="en-US" sz="900" spc="-1" strike="noStrike">
                <a:solidFill>
                  <a:srgbClr val="000000"/>
                </a:solidFill>
                <a:latin typeface="Times New Roman"/>
              </a:endParaRPr>
            </a:p>
          </p:txBody>
        </p:sp>
        <p:sp>
          <p:nvSpPr>
            <p:cNvPr id="109" name=""/>
            <p:cNvSpPr/>
            <p:nvPr/>
          </p:nvSpPr>
          <p:spPr>
            <a:xfrm>
              <a:off x="2503080" y="3551400"/>
              <a:ext cx="442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0" name=""/>
            <p:cNvSpPr/>
            <p:nvPr/>
          </p:nvSpPr>
          <p:spPr>
            <a:xfrm flipH="1">
              <a:off x="7160040" y="3551400"/>
              <a:ext cx="435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1" name=""/>
            <p:cNvSpPr/>
            <p:nvPr/>
          </p:nvSpPr>
          <p:spPr>
            <a:xfrm>
              <a:off x="2307240" y="346500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000000"/>
                </a:solidFill>
                <a:latin typeface="Times New Roman"/>
              </a:endParaRPr>
            </a:p>
          </p:txBody>
        </p:sp>
        <p:sp>
          <p:nvSpPr>
            <p:cNvPr id="112" name=""/>
            <p:cNvSpPr/>
            <p:nvPr/>
          </p:nvSpPr>
          <p:spPr>
            <a:xfrm>
              <a:off x="2503080" y="29440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flipH="1">
              <a:off x="7160040" y="2944080"/>
              <a:ext cx="4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 name=""/>
            <p:cNvSpPr/>
            <p:nvPr/>
          </p:nvSpPr>
          <p:spPr>
            <a:xfrm>
              <a:off x="2307240" y="28576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a:t>
              </a:r>
              <a:endParaRPr b="0" lang="en-US" sz="900" spc="-1" strike="noStrike">
                <a:solidFill>
                  <a:srgbClr val="000000"/>
                </a:solidFill>
                <a:latin typeface="Times New Roman"/>
              </a:endParaRPr>
            </a:p>
          </p:txBody>
        </p:sp>
        <p:sp>
          <p:nvSpPr>
            <p:cNvPr id="115" name=""/>
            <p:cNvSpPr/>
            <p:nvPr/>
          </p:nvSpPr>
          <p:spPr>
            <a:xfrm>
              <a:off x="2503080" y="233640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flipH="1">
              <a:off x="7160040" y="2336400"/>
              <a:ext cx="4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2307240" y="22525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a:t>
              </a:r>
              <a:endParaRPr b="0" lang="en-US" sz="900" spc="-1" strike="noStrike">
                <a:solidFill>
                  <a:srgbClr val="000000"/>
                </a:solidFill>
                <a:latin typeface="Times New Roman"/>
              </a:endParaRPr>
            </a:p>
          </p:txBody>
        </p:sp>
        <p:sp>
          <p:nvSpPr>
            <p:cNvPr id="118" name=""/>
            <p:cNvSpPr/>
            <p:nvPr/>
          </p:nvSpPr>
          <p:spPr>
            <a:xfrm>
              <a:off x="2503080" y="2336400"/>
              <a:ext cx="470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503080" y="2336400"/>
              <a:ext cx="4701240" cy="3632760"/>
            </a:xfrm>
            <a:custGeom>
              <a:avLst/>
              <a:gdLst/>
              <a:ahLst/>
              <a:rect l="l" t="t" r="r" b="b"/>
              <a:pathLst>
                <a:path w="433" h="341">
                  <a:moveTo>
                    <a:pt x="0" y="341"/>
                  </a:moveTo>
                  <a:lnTo>
                    <a:pt x="433" y="341"/>
                  </a:lnTo>
                  <a:lnTo>
                    <a:pt x="4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2503080" y="2336040"/>
              <a:ext cx="2160" cy="363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514960" y="2635200"/>
              <a:ext cx="4601160" cy="3186000"/>
            </a:xfrm>
            <a:custGeom>
              <a:avLst/>
              <a:gdLst/>
              <a:ahLst/>
              <a:rect l="l" t="t" r="r" b="b"/>
              <a:pathLst>
                <a:path w="2403" h="1589">
                  <a:moveTo>
                    <a:pt x="0" y="999"/>
                  </a:moveTo>
                  <a:lnTo>
                    <a:pt x="5" y="1004"/>
                  </a:lnTo>
                  <a:lnTo>
                    <a:pt x="11" y="1004"/>
                  </a:lnTo>
                  <a:lnTo>
                    <a:pt x="11" y="994"/>
                  </a:lnTo>
                  <a:lnTo>
                    <a:pt x="17" y="983"/>
                  </a:lnTo>
                  <a:lnTo>
                    <a:pt x="22" y="983"/>
                  </a:lnTo>
                  <a:lnTo>
                    <a:pt x="28" y="978"/>
                  </a:lnTo>
                  <a:lnTo>
                    <a:pt x="34" y="962"/>
                  </a:lnTo>
                  <a:lnTo>
                    <a:pt x="39" y="951"/>
                  </a:lnTo>
                  <a:lnTo>
                    <a:pt x="45" y="951"/>
                  </a:lnTo>
                  <a:lnTo>
                    <a:pt x="51" y="940"/>
                  </a:lnTo>
                  <a:lnTo>
                    <a:pt x="56" y="962"/>
                  </a:lnTo>
                  <a:lnTo>
                    <a:pt x="62" y="994"/>
                  </a:lnTo>
                  <a:lnTo>
                    <a:pt x="68" y="999"/>
                  </a:lnTo>
                  <a:lnTo>
                    <a:pt x="73" y="1004"/>
                  </a:lnTo>
                  <a:lnTo>
                    <a:pt x="79" y="983"/>
                  </a:lnTo>
                  <a:lnTo>
                    <a:pt x="85" y="999"/>
                  </a:lnTo>
                  <a:lnTo>
                    <a:pt x="90" y="1015"/>
                  </a:lnTo>
                  <a:lnTo>
                    <a:pt x="96" y="1020"/>
                  </a:lnTo>
                  <a:lnTo>
                    <a:pt x="102" y="1015"/>
                  </a:lnTo>
                  <a:lnTo>
                    <a:pt x="107" y="1020"/>
                  </a:lnTo>
                  <a:lnTo>
                    <a:pt x="113" y="1041"/>
                  </a:lnTo>
                  <a:lnTo>
                    <a:pt x="119" y="1057"/>
                  </a:lnTo>
                  <a:lnTo>
                    <a:pt x="124" y="1095"/>
                  </a:lnTo>
                  <a:lnTo>
                    <a:pt x="124" y="1084"/>
                  </a:lnTo>
                  <a:lnTo>
                    <a:pt x="130" y="1036"/>
                  </a:lnTo>
                  <a:lnTo>
                    <a:pt x="136" y="1020"/>
                  </a:lnTo>
                  <a:lnTo>
                    <a:pt x="141" y="1036"/>
                  </a:lnTo>
                  <a:lnTo>
                    <a:pt x="147" y="1057"/>
                  </a:lnTo>
                  <a:lnTo>
                    <a:pt x="153" y="1084"/>
                  </a:lnTo>
                  <a:lnTo>
                    <a:pt x="158" y="1068"/>
                  </a:lnTo>
                  <a:lnTo>
                    <a:pt x="164" y="1052"/>
                  </a:lnTo>
                  <a:lnTo>
                    <a:pt x="170" y="1052"/>
                  </a:lnTo>
                  <a:lnTo>
                    <a:pt x="175" y="1068"/>
                  </a:lnTo>
                  <a:lnTo>
                    <a:pt x="181" y="1089"/>
                  </a:lnTo>
                  <a:lnTo>
                    <a:pt x="187" y="1089"/>
                  </a:lnTo>
                  <a:lnTo>
                    <a:pt x="192" y="1073"/>
                  </a:lnTo>
                  <a:lnTo>
                    <a:pt x="198" y="1068"/>
                  </a:lnTo>
                  <a:lnTo>
                    <a:pt x="198" y="1089"/>
                  </a:lnTo>
                  <a:lnTo>
                    <a:pt x="204" y="1095"/>
                  </a:lnTo>
                  <a:lnTo>
                    <a:pt x="209" y="1105"/>
                  </a:lnTo>
                  <a:lnTo>
                    <a:pt x="215" y="1105"/>
                  </a:lnTo>
                  <a:lnTo>
                    <a:pt x="221" y="1073"/>
                  </a:lnTo>
                  <a:lnTo>
                    <a:pt x="226" y="1052"/>
                  </a:lnTo>
                  <a:lnTo>
                    <a:pt x="232" y="1068"/>
                  </a:lnTo>
                  <a:lnTo>
                    <a:pt x="232" y="1084"/>
                  </a:lnTo>
                  <a:lnTo>
                    <a:pt x="238" y="1121"/>
                  </a:lnTo>
                  <a:lnTo>
                    <a:pt x="243" y="1174"/>
                  </a:lnTo>
                  <a:lnTo>
                    <a:pt x="249" y="1180"/>
                  </a:lnTo>
                  <a:lnTo>
                    <a:pt x="255" y="1185"/>
                  </a:lnTo>
                  <a:lnTo>
                    <a:pt x="260" y="1217"/>
                  </a:lnTo>
                  <a:lnTo>
                    <a:pt x="266" y="1265"/>
                  </a:lnTo>
                  <a:lnTo>
                    <a:pt x="266" y="1328"/>
                  </a:lnTo>
                  <a:lnTo>
                    <a:pt x="272" y="1318"/>
                  </a:lnTo>
                  <a:lnTo>
                    <a:pt x="277" y="1233"/>
                  </a:lnTo>
                  <a:lnTo>
                    <a:pt x="283" y="1073"/>
                  </a:lnTo>
                  <a:lnTo>
                    <a:pt x="289" y="930"/>
                  </a:lnTo>
                  <a:lnTo>
                    <a:pt x="294" y="802"/>
                  </a:lnTo>
                  <a:lnTo>
                    <a:pt x="300" y="696"/>
                  </a:lnTo>
                  <a:lnTo>
                    <a:pt x="306" y="574"/>
                  </a:lnTo>
                  <a:lnTo>
                    <a:pt x="306" y="409"/>
                  </a:lnTo>
                  <a:lnTo>
                    <a:pt x="311" y="223"/>
                  </a:lnTo>
                  <a:lnTo>
                    <a:pt x="317" y="69"/>
                  </a:lnTo>
                  <a:lnTo>
                    <a:pt x="323" y="0"/>
                  </a:lnTo>
                  <a:lnTo>
                    <a:pt x="328" y="159"/>
                  </a:lnTo>
                  <a:lnTo>
                    <a:pt x="334" y="563"/>
                  </a:lnTo>
                  <a:lnTo>
                    <a:pt x="340" y="1004"/>
                  </a:lnTo>
                  <a:lnTo>
                    <a:pt x="340" y="1227"/>
                  </a:lnTo>
                  <a:lnTo>
                    <a:pt x="345" y="1254"/>
                  </a:lnTo>
                  <a:lnTo>
                    <a:pt x="351" y="1201"/>
                  </a:lnTo>
                  <a:lnTo>
                    <a:pt x="357" y="1148"/>
                  </a:lnTo>
                  <a:lnTo>
                    <a:pt x="362" y="1158"/>
                  </a:lnTo>
                  <a:lnTo>
                    <a:pt x="368" y="1121"/>
                  </a:lnTo>
                  <a:lnTo>
                    <a:pt x="374" y="1105"/>
                  </a:lnTo>
                  <a:lnTo>
                    <a:pt x="379" y="1105"/>
                  </a:lnTo>
                  <a:lnTo>
                    <a:pt x="379" y="1148"/>
                  </a:lnTo>
                  <a:lnTo>
                    <a:pt x="385" y="1148"/>
                  </a:lnTo>
                  <a:lnTo>
                    <a:pt x="391" y="1121"/>
                  </a:lnTo>
                  <a:lnTo>
                    <a:pt x="396" y="1126"/>
                  </a:lnTo>
                  <a:lnTo>
                    <a:pt x="402" y="1137"/>
                  </a:lnTo>
                  <a:lnTo>
                    <a:pt x="408" y="1126"/>
                  </a:lnTo>
                  <a:lnTo>
                    <a:pt x="413" y="1158"/>
                  </a:lnTo>
                  <a:lnTo>
                    <a:pt x="419" y="1158"/>
                  </a:lnTo>
                  <a:lnTo>
                    <a:pt x="425" y="1137"/>
                  </a:lnTo>
                  <a:lnTo>
                    <a:pt x="430" y="1121"/>
                  </a:lnTo>
                  <a:lnTo>
                    <a:pt x="436" y="1111"/>
                  </a:lnTo>
                  <a:lnTo>
                    <a:pt x="442" y="1142"/>
                  </a:lnTo>
                  <a:lnTo>
                    <a:pt x="447" y="1174"/>
                  </a:lnTo>
                  <a:lnTo>
                    <a:pt x="453" y="1158"/>
                  </a:lnTo>
                  <a:lnTo>
                    <a:pt x="459" y="1142"/>
                  </a:lnTo>
                  <a:lnTo>
                    <a:pt x="464" y="1142"/>
                  </a:lnTo>
                  <a:lnTo>
                    <a:pt x="470" y="1174"/>
                  </a:lnTo>
                  <a:lnTo>
                    <a:pt x="476" y="1164"/>
                  </a:lnTo>
                  <a:lnTo>
                    <a:pt x="481" y="1148"/>
                  </a:lnTo>
                  <a:lnTo>
                    <a:pt x="487" y="1126"/>
                  </a:lnTo>
                  <a:lnTo>
                    <a:pt x="487" y="1137"/>
                  </a:lnTo>
                  <a:lnTo>
                    <a:pt x="493" y="1137"/>
                  </a:lnTo>
                  <a:lnTo>
                    <a:pt x="498" y="1137"/>
                  </a:lnTo>
                  <a:lnTo>
                    <a:pt x="504" y="1164"/>
                  </a:lnTo>
                  <a:lnTo>
                    <a:pt x="510" y="1158"/>
                  </a:lnTo>
                  <a:lnTo>
                    <a:pt x="515" y="1148"/>
                  </a:lnTo>
                  <a:lnTo>
                    <a:pt x="521" y="1137"/>
                  </a:lnTo>
                  <a:lnTo>
                    <a:pt x="527" y="1142"/>
                  </a:lnTo>
                  <a:lnTo>
                    <a:pt x="527" y="1164"/>
                  </a:lnTo>
                  <a:lnTo>
                    <a:pt x="533" y="1180"/>
                  </a:lnTo>
                  <a:lnTo>
                    <a:pt x="538" y="1174"/>
                  </a:lnTo>
                  <a:lnTo>
                    <a:pt x="544" y="1158"/>
                  </a:lnTo>
                  <a:lnTo>
                    <a:pt x="550" y="1137"/>
                  </a:lnTo>
                  <a:lnTo>
                    <a:pt x="555" y="1137"/>
                  </a:lnTo>
                  <a:lnTo>
                    <a:pt x="561" y="1158"/>
                  </a:lnTo>
                  <a:lnTo>
                    <a:pt x="561" y="1174"/>
                  </a:lnTo>
                  <a:lnTo>
                    <a:pt x="567" y="1142"/>
                  </a:lnTo>
                  <a:lnTo>
                    <a:pt x="572" y="1180"/>
                  </a:lnTo>
                  <a:lnTo>
                    <a:pt x="578" y="1158"/>
                  </a:lnTo>
                  <a:lnTo>
                    <a:pt x="584" y="1148"/>
                  </a:lnTo>
                  <a:lnTo>
                    <a:pt x="589" y="1158"/>
                  </a:lnTo>
                  <a:lnTo>
                    <a:pt x="595" y="1185"/>
                  </a:lnTo>
                  <a:lnTo>
                    <a:pt x="601" y="1164"/>
                  </a:lnTo>
                  <a:lnTo>
                    <a:pt x="601" y="1148"/>
                  </a:lnTo>
                  <a:lnTo>
                    <a:pt x="606" y="1158"/>
                  </a:lnTo>
                  <a:lnTo>
                    <a:pt x="612" y="1180"/>
                  </a:lnTo>
                  <a:lnTo>
                    <a:pt x="618" y="1201"/>
                  </a:lnTo>
                  <a:lnTo>
                    <a:pt x="623" y="1185"/>
                  </a:lnTo>
                  <a:lnTo>
                    <a:pt x="629" y="1196"/>
                  </a:lnTo>
                  <a:lnTo>
                    <a:pt x="635" y="1180"/>
                  </a:lnTo>
                  <a:lnTo>
                    <a:pt x="635" y="1158"/>
                  </a:lnTo>
                  <a:lnTo>
                    <a:pt x="640" y="1185"/>
                  </a:lnTo>
                  <a:lnTo>
                    <a:pt x="646" y="1180"/>
                  </a:lnTo>
                  <a:lnTo>
                    <a:pt x="652" y="1196"/>
                  </a:lnTo>
                  <a:lnTo>
                    <a:pt x="657" y="1185"/>
                  </a:lnTo>
                  <a:lnTo>
                    <a:pt x="663" y="1158"/>
                  </a:lnTo>
                  <a:lnTo>
                    <a:pt x="669" y="1158"/>
                  </a:lnTo>
                  <a:lnTo>
                    <a:pt x="674" y="1180"/>
                  </a:lnTo>
                  <a:lnTo>
                    <a:pt x="674" y="1201"/>
                  </a:lnTo>
                  <a:lnTo>
                    <a:pt x="680" y="1217"/>
                  </a:lnTo>
                  <a:lnTo>
                    <a:pt x="686" y="1212"/>
                  </a:lnTo>
                  <a:lnTo>
                    <a:pt x="691" y="1180"/>
                  </a:lnTo>
                  <a:lnTo>
                    <a:pt x="697" y="1180"/>
                  </a:lnTo>
                  <a:lnTo>
                    <a:pt x="703" y="1201"/>
                  </a:lnTo>
                  <a:lnTo>
                    <a:pt x="708" y="1217"/>
                  </a:lnTo>
                  <a:lnTo>
                    <a:pt x="708" y="1233"/>
                  </a:lnTo>
                  <a:lnTo>
                    <a:pt x="714" y="1249"/>
                  </a:lnTo>
                  <a:lnTo>
                    <a:pt x="720" y="1238"/>
                  </a:lnTo>
                  <a:lnTo>
                    <a:pt x="725" y="1238"/>
                  </a:lnTo>
                  <a:lnTo>
                    <a:pt x="731" y="1238"/>
                  </a:lnTo>
                  <a:lnTo>
                    <a:pt x="737" y="1249"/>
                  </a:lnTo>
                  <a:lnTo>
                    <a:pt x="742" y="1270"/>
                  </a:lnTo>
                  <a:lnTo>
                    <a:pt x="748" y="1281"/>
                  </a:lnTo>
                  <a:lnTo>
                    <a:pt x="754" y="1281"/>
                  </a:lnTo>
                  <a:lnTo>
                    <a:pt x="759" y="1302"/>
                  </a:lnTo>
                  <a:lnTo>
                    <a:pt x="765" y="1307"/>
                  </a:lnTo>
                  <a:lnTo>
                    <a:pt x="771" y="1323"/>
                  </a:lnTo>
                  <a:lnTo>
                    <a:pt x="776" y="1323"/>
                  </a:lnTo>
                  <a:lnTo>
                    <a:pt x="782" y="1328"/>
                  </a:lnTo>
                  <a:lnTo>
                    <a:pt x="782" y="1318"/>
                  </a:lnTo>
                  <a:lnTo>
                    <a:pt x="788" y="1328"/>
                  </a:lnTo>
                  <a:lnTo>
                    <a:pt x="793" y="1355"/>
                  </a:lnTo>
                  <a:lnTo>
                    <a:pt x="799" y="1355"/>
                  </a:lnTo>
                  <a:lnTo>
                    <a:pt x="805" y="1355"/>
                  </a:lnTo>
                  <a:lnTo>
                    <a:pt x="810" y="1355"/>
                  </a:lnTo>
                  <a:lnTo>
                    <a:pt x="816" y="1344"/>
                  </a:lnTo>
                  <a:lnTo>
                    <a:pt x="822" y="1371"/>
                  </a:lnTo>
                  <a:lnTo>
                    <a:pt x="827" y="1376"/>
                  </a:lnTo>
                  <a:lnTo>
                    <a:pt x="833" y="1371"/>
                  </a:lnTo>
                  <a:lnTo>
                    <a:pt x="839" y="1355"/>
                  </a:lnTo>
                  <a:lnTo>
                    <a:pt x="844" y="1339"/>
                  </a:lnTo>
                  <a:lnTo>
                    <a:pt x="850" y="1339"/>
                  </a:lnTo>
                  <a:lnTo>
                    <a:pt x="856" y="1318"/>
                  </a:lnTo>
                  <a:lnTo>
                    <a:pt x="861" y="1291"/>
                  </a:lnTo>
                  <a:lnTo>
                    <a:pt x="867" y="1286"/>
                  </a:lnTo>
                  <a:lnTo>
                    <a:pt x="873" y="1249"/>
                  </a:lnTo>
                  <a:lnTo>
                    <a:pt x="878" y="1238"/>
                  </a:lnTo>
                  <a:lnTo>
                    <a:pt x="884" y="1254"/>
                  </a:lnTo>
                  <a:lnTo>
                    <a:pt x="890" y="1254"/>
                  </a:lnTo>
                  <a:lnTo>
                    <a:pt x="890" y="1233"/>
                  </a:lnTo>
                  <a:lnTo>
                    <a:pt x="895" y="1212"/>
                  </a:lnTo>
                  <a:lnTo>
                    <a:pt x="901" y="1174"/>
                  </a:lnTo>
                  <a:lnTo>
                    <a:pt x="907" y="1164"/>
                  </a:lnTo>
                  <a:lnTo>
                    <a:pt x="912" y="1164"/>
                  </a:lnTo>
                  <a:lnTo>
                    <a:pt x="918" y="1164"/>
                  </a:lnTo>
                  <a:lnTo>
                    <a:pt x="924" y="1148"/>
                  </a:lnTo>
                  <a:lnTo>
                    <a:pt x="929" y="1121"/>
                  </a:lnTo>
                  <a:lnTo>
                    <a:pt x="929" y="1095"/>
                  </a:lnTo>
                  <a:lnTo>
                    <a:pt x="935" y="1105"/>
                  </a:lnTo>
                  <a:lnTo>
                    <a:pt x="941" y="1121"/>
                  </a:lnTo>
                  <a:lnTo>
                    <a:pt x="946" y="1121"/>
                  </a:lnTo>
                  <a:lnTo>
                    <a:pt x="952" y="1111"/>
                  </a:lnTo>
                  <a:lnTo>
                    <a:pt x="958" y="1095"/>
                  </a:lnTo>
                  <a:lnTo>
                    <a:pt x="963" y="1089"/>
                  </a:lnTo>
                  <a:lnTo>
                    <a:pt x="963" y="1121"/>
                  </a:lnTo>
                  <a:lnTo>
                    <a:pt x="969" y="1105"/>
                  </a:lnTo>
                  <a:lnTo>
                    <a:pt x="975" y="1142"/>
                  </a:lnTo>
                  <a:lnTo>
                    <a:pt x="980" y="1137"/>
                  </a:lnTo>
                  <a:lnTo>
                    <a:pt x="986" y="1121"/>
                  </a:lnTo>
                  <a:lnTo>
                    <a:pt x="992" y="1121"/>
                  </a:lnTo>
                  <a:lnTo>
                    <a:pt x="997" y="1105"/>
                  </a:lnTo>
                  <a:lnTo>
                    <a:pt x="1003" y="1111"/>
                  </a:lnTo>
                  <a:lnTo>
                    <a:pt x="1003" y="1121"/>
                  </a:lnTo>
                  <a:lnTo>
                    <a:pt x="1009" y="1137"/>
                  </a:lnTo>
                  <a:lnTo>
                    <a:pt x="1014" y="1111"/>
                  </a:lnTo>
                  <a:lnTo>
                    <a:pt x="1020" y="1111"/>
                  </a:lnTo>
                  <a:lnTo>
                    <a:pt x="1026" y="1105"/>
                  </a:lnTo>
                  <a:lnTo>
                    <a:pt x="1031" y="1126"/>
                  </a:lnTo>
                  <a:lnTo>
                    <a:pt x="1037" y="1142"/>
                  </a:lnTo>
                  <a:lnTo>
                    <a:pt x="1037" y="1126"/>
                  </a:lnTo>
                  <a:lnTo>
                    <a:pt x="1043" y="1126"/>
                  </a:lnTo>
                  <a:lnTo>
                    <a:pt x="1048" y="1121"/>
                  </a:lnTo>
                  <a:lnTo>
                    <a:pt x="1054" y="1121"/>
                  </a:lnTo>
                  <a:lnTo>
                    <a:pt x="1060" y="1148"/>
                  </a:lnTo>
                  <a:lnTo>
                    <a:pt x="1065" y="1142"/>
                  </a:lnTo>
                  <a:lnTo>
                    <a:pt x="1071" y="1158"/>
                  </a:lnTo>
                  <a:lnTo>
                    <a:pt x="1077" y="1126"/>
                  </a:lnTo>
                  <a:lnTo>
                    <a:pt x="1077" y="1105"/>
                  </a:lnTo>
                  <a:lnTo>
                    <a:pt x="1082" y="1105"/>
                  </a:lnTo>
                  <a:lnTo>
                    <a:pt x="1088" y="1137"/>
                  </a:lnTo>
                  <a:lnTo>
                    <a:pt x="1094" y="1158"/>
                  </a:lnTo>
                  <a:lnTo>
                    <a:pt x="1099" y="1174"/>
                  </a:lnTo>
                  <a:lnTo>
                    <a:pt x="1105" y="1164"/>
                  </a:lnTo>
                  <a:lnTo>
                    <a:pt x="1111" y="1158"/>
                  </a:lnTo>
                  <a:lnTo>
                    <a:pt x="1116" y="1164"/>
                  </a:lnTo>
                  <a:lnTo>
                    <a:pt x="1122" y="1196"/>
                  </a:lnTo>
                  <a:lnTo>
                    <a:pt x="1128" y="1174"/>
                  </a:lnTo>
                  <a:lnTo>
                    <a:pt x="1133" y="1164"/>
                  </a:lnTo>
                  <a:lnTo>
                    <a:pt x="1139" y="1148"/>
                  </a:lnTo>
                  <a:lnTo>
                    <a:pt x="1145" y="1185"/>
                  </a:lnTo>
                  <a:lnTo>
                    <a:pt x="1150" y="1201"/>
                  </a:lnTo>
                  <a:lnTo>
                    <a:pt x="1150" y="1217"/>
                  </a:lnTo>
                  <a:lnTo>
                    <a:pt x="1156" y="1196"/>
                  </a:lnTo>
                  <a:lnTo>
                    <a:pt x="1162" y="1185"/>
                  </a:lnTo>
                  <a:lnTo>
                    <a:pt x="1168" y="1174"/>
                  </a:lnTo>
                  <a:lnTo>
                    <a:pt x="1173" y="1180"/>
                  </a:lnTo>
                  <a:lnTo>
                    <a:pt x="1179" y="1174"/>
                  </a:lnTo>
                  <a:lnTo>
                    <a:pt x="1185" y="1196"/>
                  </a:lnTo>
                  <a:lnTo>
                    <a:pt x="1185" y="1201"/>
                  </a:lnTo>
                  <a:lnTo>
                    <a:pt x="1190" y="1185"/>
                  </a:lnTo>
                  <a:lnTo>
                    <a:pt x="1196" y="1158"/>
                  </a:lnTo>
                  <a:lnTo>
                    <a:pt x="1202" y="1174"/>
                  </a:lnTo>
                  <a:lnTo>
                    <a:pt x="1207" y="1174"/>
                  </a:lnTo>
                  <a:lnTo>
                    <a:pt x="1213" y="1212"/>
                  </a:lnTo>
                  <a:lnTo>
                    <a:pt x="1219" y="1212"/>
                  </a:lnTo>
                  <a:lnTo>
                    <a:pt x="1224" y="1196"/>
                  </a:lnTo>
                  <a:lnTo>
                    <a:pt x="1224" y="1201"/>
                  </a:lnTo>
                  <a:lnTo>
                    <a:pt x="1230" y="1212"/>
                  </a:lnTo>
                  <a:lnTo>
                    <a:pt x="1236" y="1212"/>
                  </a:lnTo>
                  <a:lnTo>
                    <a:pt x="1241" y="1217"/>
                  </a:lnTo>
                  <a:lnTo>
                    <a:pt x="1247" y="1196"/>
                  </a:lnTo>
                  <a:lnTo>
                    <a:pt x="1253" y="1180"/>
                  </a:lnTo>
                  <a:lnTo>
                    <a:pt x="1258" y="1196"/>
                  </a:lnTo>
                  <a:lnTo>
                    <a:pt x="1258" y="1217"/>
                  </a:lnTo>
                  <a:lnTo>
                    <a:pt x="1264" y="1227"/>
                  </a:lnTo>
                  <a:lnTo>
                    <a:pt x="1270" y="1217"/>
                  </a:lnTo>
                  <a:lnTo>
                    <a:pt x="1275" y="1212"/>
                  </a:lnTo>
                  <a:lnTo>
                    <a:pt x="1281" y="1227"/>
                  </a:lnTo>
                  <a:lnTo>
                    <a:pt x="1287" y="1196"/>
                  </a:lnTo>
                  <a:lnTo>
                    <a:pt x="1292" y="1201"/>
                  </a:lnTo>
                  <a:lnTo>
                    <a:pt x="1298" y="1227"/>
                  </a:lnTo>
                  <a:lnTo>
                    <a:pt x="1304" y="1201"/>
                  </a:lnTo>
                  <a:lnTo>
                    <a:pt x="1309" y="1212"/>
                  </a:lnTo>
                  <a:lnTo>
                    <a:pt x="1315" y="1185"/>
                  </a:lnTo>
                  <a:lnTo>
                    <a:pt x="1321" y="1185"/>
                  </a:lnTo>
                  <a:lnTo>
                    <a:pt x="1326" y="1196"/>
                  </a:lnTo>
                  <a:lnTo>
                    <a:pt x="1332" y="1201"/>
                  </a:lnTo>
                  <a:lnTo>
                    <a:pt x="1332" y="1217"/>
                  </a:lnTo>
                  <a:lnTo>
                    <a:pt x="1338" y="1201"/>
                  </a:lnTo>
                  <a:lnTo>
                    <a:pt x="1343" y="1201"/>
                  </a:lnTo>
                  <a:lnTo>
                    <a:pt x="1349" y="1201"/>
                  </a:lnTo>
                  <a:lnTo>
                    <a:pt x="1355" y="1217"/>
                  </a:lnTo>
                  <a:lnTo>
                    <a:pt x="1360" y="1217"/>
                  </a:lnTo>
                  <a:lnTo>
                    <a:pt x="1366" y="1217"/>
                  </a:lnTo>
                  <a:lnTo>
                    <a:pt x="1366" y="1185"/>
                  </a:lnTo>
                  <a:lnTo>
                    <a:pt x="1372" y="1174"/>
                  </a:lnTo>
                  <a:lnTo>
                    <a:pt x="1377" y="1196"/>
                  </a:lnTo>
                  <a:lnTo>
                    <a:pt x="1383" y="1196"/>
                  </a:lnTo>
                  <a:lnTo>
                    <a:pt x="1389" y="1201"/>
                  </a:lnTo>
                  <a:lnTo>
                    <a:pt x="1394" y="1233"/>
                  </a:lnTo>
                  <a:lnTo>
                    <a:pt x="1400" y="1227"/>
                  </a:lnTo>
                  <a:lnTo>
                    <a:pt x="1406" y="1212"/>
                  </a:lnTo>
                  <a:lnTo>
                    <a:pt x="1411" y="1227"/>
                  </a:lnTo>
                  <a:lnTo>
                    <a:pt x="1417" y="1217"/>
                  </a:lnTo>
                  <a:lnTo>
                    <a:pt x="1423" y="1227"/>
                  </a:lnTo>
                  <a:lnTo>
                    <a:pt x="1428" y="1201"/>
                  </a:lnTo>
                  <a:lnTo>
                    <a:pt x="1434" y="1174"/>
                  </a:lnTo>
                  <a:lnTo>
                    <a:pt x="1440" y="1174"/>
                  </a:lnTo>
                  <a:lnTo>
                    <a:pt x="1440" y="1164"/>
                  </a:lnTo>
                  <a:lnTo>
                    <a:pt x="1445" y="1180"/>
                  </a:lnTo>
                  <a:lnTo>
                    <a:pt x="1451" y="1174"/>
                  </a:lnTo>
                  <a:lnTo>
                    <a:pt x="1457" y="1148"/>
                  </a:lnTo>
                  <a:lnTo>
                    <a:pt x="1462" y="1137"/>
                  </a:lnTo>
                  <a:lnTo>
                    <a:pt x="1468" y="1148"/>
                  </a:lnTo>
                  <a:lnTo>
                    <a:pt x="1474" y="1142"/>
                  </a:lnTo>
                  <a:lnTo>
                    <a:pt x="1479" y="1174"/>
                  </a:lnTo>
                  <a:lnTo>
                    <a:pt x="1485" y="1137"/>
                  </a:lnTo>
                  <a:lnTo>
                    <a:pt x="1491" y="1142"/>
                  </a:lnTo>
                  <a:lnTo>
                    <a:pt x="1496" y="1142"/>
                  </a:lnTo>
                  <a:lnTo>
                    <a:pt x="1502" y="1148"/>
                  </a:lnTo>
                  <a:lnTo>
                    <a:pt x="1508" y="1158"/>
                  </a:lnTo>
                  <a:lnTo>
                    <a:pt x="1513" y="1158"/>
                  </a:lnTo>
                  <a:lnTo>
                    <a:pt x="1513" y="1142"/>
                  </a:lnTo>
                  <a:lnTo>
                    <a:pt x="1519" y="1142"/>
                  </a:lnTo>
                  <a:lnTo>
                    <a:pt x="1525" y="1142"/>
                  </a:lnTo>
                  <a:lnTo>
                    <a:pt x="1530" y="1164"/>
                  </a:lnTo>
                  <a:lnTo>
                    <a:pt x="1536" y="1185"/>
                  </a:lnTo>
                  <a:lnTo>
                    <a:pt x="1542" y="1180"/>
                  </a:lnTo>
                  <a:lnTo>
                    <a:pt x="1547" y="1185"/>
                  </a:lnTo>
                  <a:lnTo>
                    <a:pt x="1553" y="1185"/>
                  </a:lnTo>
                  <a:lnTo>
                    <a:pt x="1553" y="1201"/>
                  </a:lnTo>
                  <a:lnTo>
                    <a:pt x="1559" y="1201"/>
                  </a:lnTo>
                  <a:lnTo>
                    <a:pt x="1564" y="1217"/>
                  </a:lnTo>
                  <a:lnTo>
                    <a:pt x="1570" y="1201"/>
                  </a:lnTo>
                  <a:lnTo>
                    <a:pt x="1576" y="1196"/>
                  </a:lnTo>
                  <a:lnTo>
                    <a:pt x="1581" y="1180"/>
                  </a:lnTo>
                  <a:lnTo>
                    <a:pt x="1587" y="1201"/>
                  </a:lnTo>
                  <a:lnTo>
                    <a:pt x="1587" y="1217"/>
                  </a:lnTo>
                  <a:lnTo>
                    <a:pt x="1593" y="1249"/>
                  </a:lnTo>
                  <a:lnTo>
                    <a:pt x="1598" y="1249"/>
                  </a:lnTo>
                  <a:lnTo>
                    <a:pt x="1604" y="1254"/>
                  </a:lnTo>
                  <a:lnTo>
                    <a:pt x="1610" y="1217"/>
                  </a:lnTo>
                  <a:lnTo>
                    <a:pt x="1615" y="1227"/>
                  </a:lnTo>
                  <a:lnTo>
                    <a:pt x="1621" y="1233"/>
                  </a:lnTo>
                  <a:lnTo>
                    <a:pt x="1627" y="1238"/>
                  </a:lnTo>
                  <a:lnTo>
                    <a:pt x="1632" y="1233"/>
                  </a:lnTo>
                  <a:lnTo>
                    <a:pt x="1638" y="1212"/>
                  </a:lnTo>
                  <a:lnTo>
                    <a:pt x="1644" y="1227"/>
                  </a:lnTo>
                  <a:lnTo>
                    <a:pt x="1649" y="1238"/>
                  </a:lnTo>
                  <a:lnTo>
                    <a:pt x="1655" y="1238"/>
                  </a:lnTo>
                  <a:lnTo>
                    <a:pt x="1661" y="1249"/>
                  </a:lnTo>
                  <a:lnTo>
                    <a:pt x="1661" y="1217"/>
                  </a:lnTo>
                  <a:lnTo>
                    <a:pt x="1666" y="1217"/>
                  </a:lnTo>
                  <a:lnTo>
                    <a:pt x="1672" y="1233"/>
                  </a:lnTo>
                  <a:lnTo>
                    <a:pt x="1678" y="1254"/>
                  </a:lnTo>
                  <a:lnTo>
                    <a:pt x="1683" y="1286"/>
                  </a:lnTo>
                  <a:lnTo>
                    <a:pt x="1689" y="1302"/>
                  </a:lnTo>
                  <a:lnTo>
                    <a:pt x="1695" y="1318"/>
                  </a:lnTo>
                  <a:lnTo>
                    <a:pt x="1700" y="1328"/>
                  </a:lnTo>
                  <a:lnTo>
                    <a:pt x="1700" y="1376"/>
                  </a:lnTo>
                  <a:lnTo>
                    <a:pt x="1706" y="1424"/>
                  </a:lnTo>
                  <a:lnTo>
                    <a:pt x="1712" y="1413"/>
                  </a:lnTo>
                  <a:lnTo>
                    <a:pt x="1717" y="1339"/>
                  </a:lnTo>
                  <a:lnTo>
                    <a:pt x="1723" y="1185"/>
                  </a:lnTo>
                  <a:lnTo>
                    <a:pt x="1729" y="999"/>
                  </a:lnTo>
                  <a:lnTo>
                    <a:pt x="1734" y="855"/>
                  </a:lnTo>
                  <a:lnTo>
                    <a:pt x="1734" y="781"/>
                  </a:lnTo>
                  <a:lnTo>
                    <a:pt x="1740" y="707"/>
                  </a:lnTo>
                  <a:lnTo>
                    <a:pt x="1746" y="590"/>
                  </a:lnTo>
                  <a:lnTo>
                    <a:pt x="1751" y="425"/>
                  </a:lnTo>
                  <a:lnTo>
                    <a:pt x="1757" y="260"/>
                  </a:lnTo>
                  <a:lnTo>
                    <a:pt x="1763" y="133"/>
                  </a:lnTo>
                  <a:lnTo>
                    <a:pt x="1768" y="143"/>
                  </a:lnTo>
                  <a:lnTo>
                    <a:pt x="1768" y="335"/>
                  </a:lnTo>
                  <a:lnTo>
                    <a:pt x="1774" y="717"/>
                  </a:lnTo>
                  <a:lnTo>
                    <a:pt x="1780" y="1126"/>
                  </a:lnTo>
                  <a:lnTo>
                    <a:pt x="1785" y="1408"/>
                  </a:lnTo>
                  <a:lnTo>
                    <a:pt x="1791" y="1557"/>
                  </a:lnTo>
                  <a:lnTo>
                    <a:pt x="1797" y="1589"/>
                  </a:lnTo>
                  <a:lnTo>
                    <a:pt x="1803" y="1557"/>
                  </a:lnTo>
                  <a:lnTo>
                    <a:pt x="1808" y="1472"/>
                  </a:lnTo>
                  <a:lnTo>
                    <a:pt x="1808" y="1398"/>
                  </a:lnTo>
                  <a:lnTo>
                    <a:pt x="1814" y="1344"/>
                  </a:lnTo>
                  <a:lnTo>
                    <a:pt x="1820" y="1323"/>
                  </a:lnTo>
                  <a:lnTo>
                    <a:pt x="1825" y="1307"/>
                  </a:lnTo>
                  <a:lnTo>
                    <a:pt x="1831" y="1323"/>
                  </a:lnTo>
                  <a:lnTo>
                    <a:pt x="1837" y="1323"/>
                  </a:lnTo>
                  <a:lnTo>
                    <a:pt x="1842" y="1302"/>
                  </a:lnTo>
                  <a:lnTo>
                    <a:pt x="1848" y="1307"/>
                  </a:lnTo>
                  <a:lnTo>
                    <a:pt x="1854" y="1307"/>
                  </a:lnTo>
                  <a:lnTo>
                    <a:pt x="1859" y="1318"/>
                  </a:lnTo>
                  <a:lnTo>
                    <a:pt x="1865" y="1291"/>
                  </a:lnTo>
                  <a:lnTo>
                    <a:pt x="1871" y="1291"/>
                  </a:lnTo>
                  <a:lnTo>
                    <a:pt x="1876" y="1291"/>
                  </a:lnTo>
                  <a:lnTo>
                    <a:pt x="1882" y="1286"/>
                  </a:lnTo>
                  <a:lnTo>
                    <a:pt x="1882" y="1307"/>
                  </a:lnTo>
                  <a:lnTo>
                    <a:pt x="1888" y="1323"/>
                  </a:lnTo>
                  <a:lnTo>
                    <a:pt x="1893" y="1318"/>
                  </a:lnTo>
                  <a:lnTo>
                    <a:pt x="1899" y="1291"/>
                  </a:lnTo>
                  <a:lnTo>
                    <a:pt x="1905" y="1281"/>
                  </a:lnTo>
                  <a:lnTo>
                    <a:pt x="1910" y="1281"/>
                  </a:lnTo>
                  <a:lnTo>
                    <a:pt x="1916" y="1291"/>
                  </a:lnTo>
                  <a:lnTo>
                    <a:pt x="1916" y="1323"/>
                  </a:lnTo>
                  <a:lnTo>
                    <a:pt x="1922" y="1318"/>
                  </a:lnTo>
                  <a:lnTo>
                    <a:pt x="1927" y="1307"/>
                  </a:lnTo>
                  <a:lnTo>
                    <a:pt x="1933" y="1286"/>
                  </a:lnTo>
                  <a:lnTo>
                    <a:pt x="1939" y="1281"/>
                  </a:lnTo>
                  <a:lnTo>
                    <a:pt x="1944" y="1291"/>
                  </a:lnTo>
                  <a:lnTo>
                    <a:pt x="1950" y="1302"/>
                  </a:lnTo>
                  <a:lnTo>
                    <a:pt x="1956" y="1302"/>
                  </a:lnTo>
                  <a:lnTo>
                    <a:pt x="1956" y="1286"/>
                  </a:lnTo>
                  <a:lnTo>
                    <a:pt x="1961" y="1281"/>
                  </a:lnTo>
                  <a:lnTo>
                    <a:pt x="1967" y="1286"/>
                  </a:lnTo>
                  <a:lnTo>
                    <a:pt x="1973" y="1286"/>
                  </a:lnTo>
                  <a:lnTo>
                    <a:pt x="1978" y="1302"/>
                  </a:lnTo>
                  <a:lnTo>
                    <a:pt x="1984" y="1286"/>
                  </a:lnTo>
                  <a:lnTo>
                    <a:pt x="1990" y="1281"/>
                  </a:lnTo>
                  <a:lnTo>
                    <a:pt x="1995" y="1281"/>
                  </a:lnTo>
                  <a:lnTo>
                    <a:pt x="2001" y="1286"/>
                  </a:lnTo>
                  <a:lnTo>
                    <a:pt x="2007" y="1307"/>
                  </a:lnTo>
                  <a:lnTo>
                    <a:pt x="2012" y="1307"/>
                  </a:lnTo>
                  <a:lnTo>
                    <a:pt x="2018" y="1281"/>
                  </a:lnTo>
                  <a:lnTo>
                    <a:pt x="2024" y="1281"/>
                  </a:lnTo>
                  <a:lnTo>
                    <a:pt x="2029" y="1265"/>
                  </a:lnTo>
                  <a:lnTo>
                    <a:pt x="2029" y="1291"/>
                  </a:lnTo>
                  <a:lnTo>
                    <a:pt x="2035" y="1291"/>
                  </a:lnTo>
                  <a:lnTo>
                    <a:pt x="2041" y="1302"/>
                  </a:lnTo>
                  <a:lnTo>
                    <a:pt x="2046" y="1286"/>
                  </a:lnTo>
                  <a:lnTo>
                    <a:pt x="2052" y="1281"/>
                  </a:lnTo>
                  <a:lnTo>
                    <a:pt x="2058" y="1291"/>
                  </a:lnTo>
                  <a:lnTo>
                    <a:pt x="2063" y="1307"/>
                  </a:lnTo>
                  <a:lnTo>
                    <a:pt x="2069" y="1302"/>
                  </a:lnTo>
                  <a:lnTo>
                    <a:pt x="2075" y="1291"/>
                  </a:lnTo>
                  <a:lnTo>
                    <a:pt x="2080" y="1291"/>
                  </a:lnTo>
                  <a:lnTo>
                    <a:pt x="2086" y="1291"/>
                  </a:lnTo>
                  <a:lnTo>
                    <a:pt x="2092" y="1307"/>
                  </a:lnTo>
                  <a:lnTo>
                    <a:pt x="2097" y="1323"/>
                  </a:lnTo>
                  <a:lnTo>
                    <a:pt x="2103" y="1323"/>
                  </a:lnTo>
                  <a:lnTo>
                    <a:pt x="2103" y="1291"/>
                  </a:lnTo>
                  <a:lnTo>
                    <a:pt x="2109" y="1291"/>
                  </a:lnTo>
                  <a:lnTo>
                    <a:pt x="2114" y="1307"/>
                  </a:lnTo>
                  <a:lnTo>
                    <a:pt x="2120" y="1318"/>
                  </a:lnTo>
                  <a:lnTo>
                    <a:pt x="2126" y="1355"/>
                  </a:lnTo>
                  <a:lnTo>
                    <a:pt x="2131" y="1355"/>
                  </a:lnTo>
                  <a:lnTo>
                    <a:pt x="2137" y="1339"/>
                  </a:lnTo>
                  <a:lnTo>
                    <a:pt x="2137" y="1318"/>
                  </a:lnTo>
                  <a:lnTo>
                    <a:pt x="2143" y="1344"/>
                  </a:lnTo>
                  <a:lnTo>
                    <a:pt x="2148" y="1360"/>
                  </a:lnTo>
                  <a:lnTo>
                    <a:pt x="2154" y="1360"/>
                  </a:lnTo>
                  <a:lnTo>
                    <a:pt x="2160" y="1382"/>
                  </a:lnTo>
                  <a:lnTo>
                    <a:pt x="2165" y="1376"/>
                  </a:lnTo>
                  <a:lnTo>
                    <a:pt x="2171" y="1371"/>
                  </a:lnTo>
                  <a:lnTo>
                    <a:pt x="2177" y="1398"/>
                  </a:lnTo>
                  <a:lnTo>
                    <a:pt x="2177" y="1408"/>
                  </a:lnTo>
                  <a:lnTo>
                    <a:pt x="2182" y="1429"/>
                  </a:lnTo>
                  <a:lnTo>
                    <a:pt x="2188" y="1435"/>
                  </a:lnTo>
                  <a:lnTo>
                    <a:pt x="2194" y="1413"/>
                  </a:lnTo>
                  <a:lnTo>
                    <a:pt x="2199" y="1424"/>
                  </a:lnTo>
                  <a:lnTo>
                    <a:pt x="2205" y="1435"/>
                  </a:lnTo>
                  <a:lnTo>
                    <a:pt x="2211" y="1467"/>
                  </a:lnTo>
                  <a:lnTo>
                    <a:pt x="2211" y="1472"/>
                  </a:lnTo>
                  <a:lnTo>
                    <a:pt x="2216" y="1483"/>
                  </a:lnTo>
                  <a:lnTo>
                    <a:pt x="2222" y="1467"/>
                  </a:lnTo>
                  <a:lnTo>
                    <a:pt x="2228" y="1461"/>
                  </a:lnTo>
                  <a:lnTo>
                    <a:pt x="2233" y="1467"/>
                  </a:lnTo>
                  <a:lnTo>
                    <a:pt x="2239" y="1483"/>
                  </a:lnTo>
                  <a:lnTo>
                    <a:pt x="2245" y="1498"/>
                  </a:lnTo>
                  <a:lnTo>
                    <a:pt x="2245" y="1514"/>
                  </a:lnTo>
                  <a:lnTo>
                    <a:pt x="2250" y="1488"/>
                  </a:lnTo>
                  <a:lnTo>
                    <a:pt x="2256" y="1498"/>
                  </a:lnTo>
                  <a:lnTo>
                    <a:pt x="2262" y="1498"/>
                  </a:lnTo>
                  <a:lnTo>
                    <a:pt x="2267" y="1483"/>
                  </a:lnTo>
                  <a:lnTo>
                    <a:pt x="2273" y="1488"/>
                  </a:lnTo>
                  <a:lnTo>
                    <a:pt x="2279" y="1467"/>
                  </a:lnTo>
                  <a:lnTo>
                    <a:pt x="2284" y="1461"/>
                  </a:lnTo>
                  <a:lnTo>
                    <a:pt x="2284" y="1429"/>
                  </a:lnTo>
                  <a:lnTo>
                    <a:pt x="2290" y="1413"/>
                  </a:lnTo>
                  <a:lnTo>
                    <a:pt x="2296" y="1398"/>
                  </a:lnTo>
                  <a:lnTo>
                    <a:pt x="2301" y="1413"/>
                  </a:lnTo>
                  <a:lnTo>
                    <a:pt x="2307" y="1376"/>
                  </a:lnTo>
                  <a:lnTo>
                    <a:pt x="2313" y="1323"/>
                  </a:lnTo>
                  <a:lnTo>
                    <a:pt x="2318" y="1291"/>
                  </a:lnTo>
                  <a:lnTo>
                    <a:pt x="2318" y="1286"/>
                  </a:lnTo>
                  <a:lnTo>
                    <a:pt x="2324" y="1270"/>
                  </a:lnTo>
                  <a:lnTo>
                    <a:pt x="2330" y="1281"/>
                  </a:lnTo>
                  <a:lnTo>
                    <a:pt x="2335" y="1281"/>
                  </a:lnTo>
                  <a:lnTo>
                    <a:pt x="2341" y="1249"/>
                  </a:lnTo>
                  <a:lnTo>
                    <a:pt x="2347" y="1217"/>
                  </a:lnTo>
                  <a:lnTo>
                    <a:pt x="2352" y="1196"/>
                  </a:lnTo>
                  <a:lnTo>
                    <a:pt x="2358" y="1201"/>
                  </a:lnTo>
                  <a:lnTo>
                    <a:pt x="2364" y="1185"/>
                  </a:lnTo>
                  <a:lnTo>
                    <a:pt x="2369" y="1174"/>
                  </a:lnTo>
                  <a:lnTo>
                    <a:pt x="2375" y="1158"/>
                  </a:lnTo>
                  <a:lnTo>
                    <a:pt x="2381" y="1158"/>
                  </a:lnTo>
                  <a:lnTo>
                    <a:pt x="2386" y="1174"/>
                  </a:lnTo>
                  <a:lnTo>
                    <a:pt x="2392" y="1174"/>
                  </a:lnTo>
                  <a:lnTo>
                    <a:pt x="2398" y="1158"/>
                  </a:lnTo>
                  <a:lnTo>
                    <a:pt x="2403" y="1137"/>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113760" y="547560"/>
            <a:ext cx="896760" cy="572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5.17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5.22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5.25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5.25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5.27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5.32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5.35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5.35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5.40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5.40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5.32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5.22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5.20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5.17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4.62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4.67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4.67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4.62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4.62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4.62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4.67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4.7500</a:t>
            </a:r>
            <a:endParaRPr b="0" lang="en-US" sz="1400" spc="-1" strike="noStrike">
              <a:solidFill>
                <a:srgbClr val="000000"/>
              </a:solidFill>
              <a:latin typeface="Times New Roman"/>
            </a:endParaRPr>
          </a:p>
        </p:txBody>
      </p:sp>
      <p:sp>
        <p:nvSpPr>
          <p:cNvPr id="123" name=""/>
          <p:cNvSpPr/>
          <p:nvPr/>
        </p:nvSpPr>
        <p:spPr>
          <a:xfrm>
            <a:off x="1590840" y="1076400"/>
            <a:ext cx="6134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ime series is a collection of observations made sequentially in ti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4" name="images" descr="">
            <a:hlinkClick r:id="rId1"/>
          </p:cNvPr>
          <p:cNvPicPr/>
          <p:nvPr/>
        </p:nvPicPr>
        <p:blipFill>
          <a:blip r:embed="rId2"/>
          <a:stretch/>
        </p:blipFill>
        <p:spPr>
          <a:xfrm>
            <a:off x="6918480" y="1308240"/>
            <a:ext cx="1463400" cy="1515960"/>
          </a:xfrm>
          <a:prstGeom prst="rect">
            <a:avLst/>
          </a:prstGeom>
          <a:ln w="0">
            <a:noFill/>
          </a:ln>
        </p:spPr>
      </p:pic>
      <p:grpSp>
        <p:nvGrpSpPr>
          <p:cNvPr id="2545" name=""/>
          <p:cNvGrpSpPr/>
          <p:nvPr/>
        </p:nvGrpSpPr>
        <p:grpSpPr>
          <a:xfrm>
            <a:off x="4114800" y="2832120"/>
            <a:ext cx="5029200" cy="3739680"/>
            <a:chOff x="4114800" y="2832120"/>
            <a:chExt cx="5029200" cy="3739680"/>
          </a:xfrm>
        </p:grpSpPr>
        <p:sp>
          <p:nvSpPr>
            <p:cNvPr id="2546" name=""/>
            <p:cNvSpPr/>
            <p:nvPr/>
          </p:nvSpPr>
          <p:spPr>
            <a:xfrm>
              <a:off x="4114800" y="2832120"/>
              <a:ext cx="5029200" cy="373356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5641920" y="2832120"/>
              <a:ext cx="1778040" cy="371772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4211640" y="3103200"/>
              <a:ext cx="809640" cy="919080"/>
            </a:xfrm>
            <a:custGeom>
              <a:avLst/>
              <a:gdLst/>
              <a:ahLst/>
              <a:rect l="l" t="t" r="r" b="b"/>
              <a:pathLst>
                <a:path w="944" h="1159">
                  <a:moveTo>
                    <a:pt x="0" y="1093"/>
                  </a:moveTo>
                  <a:lnTo>
                    <a:pt x="27" y="1093"/>
                  </a:lnTo>
                  <a:lnTo>
                    <a:pt x="27" y="1054"/>
                  </a:lnTo>
                  <a:lnTo>
                    <a:pt x="38" y="1042"/>
                  </a:lnTo>
                  <a:lnTo>
                    <a:pt x="38" y="1001"/>
                  </a:lnTo>
                  <a:lnTo>
                    <a:pt x="52" y="990"/>
                  </a:lnTo>
                  <a:lnTo>
                    <a:pt x="52" y="860"/>
                  </a:lnTo>
                  <a:lnTo>
                    <a:pt x="65" y="808"/>
                  </a:lnTo>
                  <a:lnTo>
                    <a:pt x="65" y="416"/>
                  </a:lnTo>
                  <a:lnTo>
                    <a:pt x="77" y="325"/>
                  </a:lnTo>
                  <a:lnTo>
                    <a:pt x="77" y="53"/>
                  </a:lnTo>
                  <a:lnTo>
                    <a:pt x="91" y="26"/>
                  </a:lnTo>
                  <a:lnTo>
                    <a:pt x="91" y="0"/>
                  </a:lnTo>
                  <a:lnTo>
                    <a:pt x="105" y="13"/>
                  </a:lnTo>
                  <a:lnTo>
                    <a:pt x="105" y="26"/>
                  </a:lnTo>
                  <a:lnTo>
                    <a:pt x="118" y="40"/>
                  </a:lnTo>
                  <a:lnTo>
                    <a:pt x="118" y="78"/>
                  </a:lnTo>
                  <a:lnTo>
                    <a:pt x="129" y="105"/>
                  </a:lnTo>
                  <a:lnTo>
                    <a:pt x="129" y="261"/>
                  </a:lnTo>
                  <a:lnTo>
                    <a:pt x="142" y="299"/>
                  </a:lnTo>
                  <a:lnTo>
                    <a:pt x="142" y="571"/>
                  </a:lnTo>
                  <a:lnTo>
                    <a:pt x="154" y="639"/>
                  </a:lnTo>
                  <a:lnTo>
                    <a:pt x="154" y="885"/>
                  </a:lnTo>
                  <a:lnTo>
                    <a:pt x="168" y="912"/>
                  </a:lnTo>
                  <a:lnTo>
                    <a:pt x="168" y="990"/>
                  </a:lnTo>
                  <a:lnTo>
                    <a:pt x="182" y="1001"/>
                  </a:lnTo>
                  <a:lnTo>
                    <a:pt x="206" y="1001"/>
                  </a:lnTo>
                  <a:lnTo>
                    <a:pt x="195" y="1001"/>
                  </a:lnTo>
                  <a:lnTo>
                    <a:pt x="206" y="1001"/>
                  </a:lnTo>
                  <a:lnTo>
                    <a:pt x="220" y="1015"/>
                  </a:lnTo>
                  <a:lnTo>
                    <a:pt x="220" y="1029"/>
                  </a:lnTo>
                  <a:lnTo>
                    <a:pt x="259" y="1029"/>
                  </a:lnTo>
                  <a:lnTo>
                    <a:pt x="259" y="950"/>
                  </a:lnTo>
                  <a:lnTo>
                    <a:pt x="273" y="923"/>
                  </a:lnTo>
                  <a:lnTo>
                    <a:pt x="273" y="585"/>
                  </a:lnTo>
                  <a:lnTo>
                    <a:pt x="286" y="494"/>
                  </a:lnTo>
                  <a:lnTo>
                    <a:pt x="286" y="169"/>
                  </a:lnTo>
                  <a:lnTo>
                    <a:pt x="297" y="141"/>
                  </a:lnTo>
                  <a:lnTo>
                    <a:pt x="297" y="117"/>
                  </a:lnTo>
                  <a:lnTo>
                    <a:pt x="323" y="117"/>
                  </a:lnTo>
                  <a:lnTo>
                    <a:pt x="323" y="141"/>
                  </a:lnTo>
                  <a:lnTo>
                    <a:pt x="336" y="155"/>
                  </a:lnTo>
                  <a:lnTo>
                    <a:pt x="336" y="247"/>
                  </a:lnTo>
                  <a:lnTo>
                    <a:pt x="350" y="286"/>
                  </a:lnTo>
                  <a:lnTo>
                    <a:pt x="350" y="520"/>
                  </a:lnTo>
                  <a:lnTo>
                    <a:pt x="363" y="571"/>
                  </a:lnTo>
                  <a:lnTo>
                    <a:pt x="363" y="832"/>
                  </a:lnTo>
                  <a:lnTo>
                    <a:pt x="374" y="860"/>
                  </a:lnTo>
                  <a:lnTo>
                    <a:pt x="374" y="950"/>
                  </a:lnTo>
                  <a:lnTo>
                    <a:pt x="400" y="977"/>
                  </a:lnTo>
                  <a:lnTo>
                    <a:pt x="400" y="1001"/>
                  </a:lnTo>
                  <a:lnTo>
                    <a:pt x="413" y="990"/>
                  </a:lnTo>
                  <a:lnTo>
                    <a:pt x="427" y="977"/>
                  </a:lnTo>
                  <a:lnTo>
                    <a:pt x="427" y="990"/>
                  </a:lnTo>
                  <a:lnTo>
                    <a:pt x="441" y="1001"/>
                  </a:lnTo>
                  <a:lnTo>
                    <a:pt x="441" y="1029"/>
                  </a:lnTo>
                  <a:lnTo>
                    <a:pt x="454" y="1042"/>
                  </a:lnTo>
                  <a:lnTo>
                    <a:pt x="454" y="1054"/>
                  </a:lnTo>
                  <a:lnTo>
                    <a:pt x="465" y="1069"/>
                  </a:lnTo>
                  <a:lnTo>
                    <a:pt x="465" y="1029"/>
                  </a:lnTo>
                  <a:lnTo>
                    <a:pt x="477" y="1001"/>
                  </a:lnTo>
                  <a:lnTo>
                    <a:pt x="477" y="832"/>
                  </a:lnTo>
                  <a:lnTo>
                    <a:pt x="491" y="768"/>
                  </a:lnTo>
                  <a:lnTo>
                    <a:pt x="491" y="443"/>
                  </a:lnTo>
                  <a:lnTo>
                    <a:pt x="504" y="378"/>
                  </a:lnTo>
                  <a:lnTo>
                    <a:pt x="504" y="233"/>
                  </a:lnTo>
                  <a:lnTo>
                    <a:pt x="518" y="247"/>
                  </a:lnTo>
                  <a:lnTo>
                    <a:pt x="530" y="261"/>
                  </a:lnTo>
                  <a:lnTo>
                    <a:pt x="530" y="351"/>
                  </a:lnTo>
                  <a:lnTo>
                    <a:pt x="544" y="365"/>
                  </a:lnTo>
                  <a:lnTo>
                    <a:pt x="544" y="456"/>
                  </a:lnTo>
                  <a:lnTo>
                    <a:pt x="556" y="494"/>
                  </a:lnTo>
                  <a:lnTo>
                    <a:pt x="556" y="795"/>
                  </a:lnTo>
                  <a:lnTo>
                    <a:pt x="568" y="832"/>
                  </a:lnTo>
                  <a:lnTo>
                    <a:pt x="568" y="977"/>
                  </a:lnTo>
                  <a:lnTo>
                    <a:pt x="581" y="1001"/>
                  </a:lnTo>
                  <a:lnTo>
                    <a:pt x="581" y="1081"/>
                  </a:lnTo>
                  <a:lnTo>
                    <a:pt x="609" y="1081"/>
                  </a:lnTo>
                  <a:lnTo>
                    <a:pt x="609" y="1054"/>
                  </a:lnTo>
                  <a:lnTo>
                    <a:pt x="621" y="1042"/>
                  </a:lnTo>
                  <a:lnTo>
                    <a:pt x="621" y="1069"/>
                  </a:lnTo>
                  <a:lnTo>
                    <a:pt x="621" y="1042"/>
                  </a:lnTo>
                  <a:lnTo>
                    <a:pt x="633" y="1029"/>
                  </a:lnTo>
                  <a:lnTo>
                    <a:pt x="633" y="1042"/>
                  </a:lnTo>
                  <a:lnTo>
                    <a:pt x="645" y="1054"/>
                  </a:lnTo>
                  <a:lnTo>
                    <a:pt x="645" y="1093"/>
                  </a:lnTo>
                  <a:lnTo>
                    <a:pt x="659" y="1081"/>
                  </a:lnTo>
                  <a:lnTo>
                    <a:pt x="659" y="1054"/>
                  </a:lnTo>
                  <a:lnTo>
                    <a:pt x="672" y="1069"/>
                  </a:lnTo>
                  <a:lnTo>
                    <a:pt x="672" y="1093"/>
                  </a:lnTo>
                  <a:lnTo>
                    <a:pt x="698" y="1121"/>
                  </a:lnTo>
                  <a:lnTo>
                    <a:pt x="686" y="1121"/>
                  </a:lnTo>
                  <a:lnTo>
                    <a:pt x="698" y="1081"/>
                  </a:lnTo>
                  <a:lnTo>
                    <a:pt x="712" y="1093"/>
                  </a:lnTo>
                  <a:lnTo>
                    <a:pt x="712" y="1081"/>
                  </a:lnTo>
                  <a:lnTo>
                    <a:pt x="712" y="1093"/>
                  </a:lnTo>
                  <a:lnTo>
                    <a:pt x="723" y="1107"/>
                  </a:lnTo>
                  <a:lnTo>
                    <a:pt x="723" y="1093"/>
                  </a:lnTo>
                  <a:lnTo>
                    <a:pt x="723" y="1107"/>
                  </a:lnTo>
                  <a:lnTo>
                    <a:pt x="736" y="1093"/>
                  </a:lnTo>
                  <a:lnTo>
                    <a:pt x="749" y="1081"/>
                  </a:lnTo>
                  <a:lnTo>
                    <a:pt x="763" y="1093"/>
                  </a:lnTo>
                  <a:lnTo>
                    <a:pt x="763" y="1121"/>
                  </a:lnTo>
                  <a:lnTo>
                    <a:pt x="777" y="1133"/>
                  </a:lnTo>
                  <a:lnTo>
                    <a:pt x="777" y="1146"/>
                  </a:lnTo>
                  <a:lnTo>
                    <a:pt x="777" y="1081"/>
                  </a:lnTo>
                  <a:lnTo>
                    <a:pt x="789" y="1081"/>
                  </a:lnTo>
                  <a:lnTo>
                    <a:pt x="800" y="1159"/>
                  </a:lnTo>
                  <a:lnTo>
                    <a:pt x="800" y="1146"/>
                  </a:lnTo>
                  <a:lnTo>
                    <a:pt x="800" y="1093"/>
                  </a:lnTo>
                  <a:lnTo>
                    <a:pt x="813" y="1107"/>
                  </a:lnTo>
                  <a:lnTo>
                    <a:pt x="813" y="1093"/>
                  </a:lnTo>
                  <a:lnTo>
                    <a:pt x="827" y="1133"/>
                  </a:lnTo>
                  <a:lnTo>
                    <a:pt x="827" y="1159"/>
                  </a:lnTo>
                  <a:lnTo>
                    <a:pt x="827" y="1081"/>
                  </a:lnTo>
                  <a:lnTo>
                    <a:pt x="840" y="1069"/>
                  </a:lnTo>
                  <a:lnTo>
                    <a:pt x="840" y="1042"/>
                  </a:lnTo>
                  <a:lnTo>
                    <a:pt x="840" y="1081"/>
                  </a:lnTo>
                  <a:lnTo>
                    <a:pt x="854" y="1107"/>
                  </a:lnTo>
                  <a:lnTo>
                    <a:pt x="866" y="1107"/>
                  </a:lnTo>
                  <a:lnTo>
                    <a:pt x="880" y="1121"/>
                  </a:lnTo>
                  <a:lnTo>
                    <a:pt x="891" y="1107"/>
                  </a:lnTo>
                  <a:lnTo>
                    <a:pt x="916" y="1081"/>
                  </a:lnTo>
                  <a:lnTo>
                    <a:pt x="904" y="1081"/>
                  </a:lnTo>
                  <a:lnTo>
                    <a:pt x="916" y="1081"/>
                  </a:lnTo>
                  <a:lnTo>
                    <a:pt x="930" y="1093"/>
                  </a:lnTo>
                  <a:lnTo>
                    <a:pt x="930" y="1107"/>
                  </a:lnTo>
                  <a:lnTo>
                    <a:pt x="944" y="109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5021280" y="3908160"/>
              <a:ext cx="455760" cy="91800"/>
            </a:xfrm>
            <a:custGeom>
              <a:avLst/>
              <a:gdLst/>
              <a:ahLst/>
              <a:rect l="l" t="t" r="r" b="b"/>
              <a:pathLst>
                <a:path w="531" h="117">
                  <a:moveTo>
                    <a:pt x="0" y="78"/>
                  </a:moveTo>
                  <a:lnTo>
                    <a:pt x="0" y="63"/>
                  </a:lnTo>
                  <a:lnTo>
                    <a:pt x="24" y="63"/>
                  </a:lnTo>
                  <a:lnTo>
                    <a:pt x="13" y="63"/>
                  </a:lnTo>
                  <a:lnTo>
                    <a:pt x="24" y="52"/>
                  </a:lnTo>
                  <a:lnTo>
                    <a:pt x="38" y="39"/>
                  </a:lnTo>
                  <a:lnTo>
                    <a:pt x="51" y="52"/>
                  </a:lnTo>
                  <a:lnTo>
                    <a:pt x="51" y="92"/>
                  </a:lnTo>
                  <a:lnTo>
                    <a:pt x="63" y="92"/>
                  </a:lnTo>
                  <a:lnTo>
                    <a:pt x="63" y="14"/>
                  </a:lnTo>
                  <a:lnTo>
                    <a:pt x="77" y="27"/>
                  </a:lnTo>
                  <a:lnTo>
                    <a:pt x="77" y="63"/>
                  </a:lnTo>
                  <a:lnTo>
                    <a:pt x="91" y="104"/>
                  </a:lnTo>
                  <a:lnTo>
                    <a:pt x="91" y="117"/>
                  </a:lnTo>
                  <a:lnTo>
                    <a:pt x="91" y="78"/>
                  </a:lnTo>
                  <a:lnTo>
                    <a:pt x="104" y="63"/>
                  </a:lnTo>
                  <a:lnTo>
                    <a:pt x="104" y="39"/>
                  </a:lnTo>
                  <a:lnTo>
                    <a:pt x="115" y="52"/>
                  </a:lnTo>
                  <a:lnTo>
                    <a:pt x="115" y="78"/>
                  </a:lnTo>
                  <a:lnTo>
                    <a:pt x="128" y="92"/>
                  </a:lnTo>
                  <a:lnTo>
                    <a:pt x="154" y="92"/>
                  </a:lnTo>
                  <a:lnTo>
                    <a:pt x="142" y="92"/>
                  </a:lnTo>
                  <a:lnTo>
                    <a:pt x="154" y="78"/>
                  </a:lnTo>
                  <a:lnTo>
                    <a:pt x="181" y="78"/>
                  </a:lnTo>
                  <a:lnTo>
                    <a:pt x="181" y="52"/>
                  </a:lnTo>
                  <a:lnTo>
                    <a:pt x="195" y="52"/>
                  </a:lnTo>
                  <a:lnTo>
                    <a:pt x="206" y="27"/>
                  </a:lnTo>
                  <a:lnTo>
                    <a:pt x="219" y="39"/>
                  </a:lnTo>
                  <a:lnTo>
                    <a:pt x="219" y="78"/>
                  </a:lnTo>
                  <a:lnTo>
                    <a:pt x="231" y="92"/>
                  </a:lnTo>
                  <a:lnTo>
                    <a:pt x="231" y="104"/>
                  </a:lnTo>
                  <a:lnTo>
                    <a:pt x="245" y="92"/>
                  </a:lnTo>
                  <a:lnTo>
                    <a:pt x="245" y="78"/>
                  </a:lnTo>
                  <a:lnTo>
                    <a:pt x="259" y="63"/>
                  </a:lnTo>
                  <a:lnTo>
                    <a:pt x="259" y="52"/>
                  </a:lnTo>
                  <a:lnTo>
                    <a:pt x="259" y="63"/>
                  </a:lnTo>
                  <a:lnTo>
                    <a:pt x="272" y="39"/>
                  </a:lnTo>
                  <a:lnTo>
                    <a:pt x="272" y="0"/>
                  </a:lnTo>
                  <a:lnTo>
                    <a:pt x="272" y="27"/>
                  </a:lnTo>
                  <a:lnTo>
                    <a:pt x="283" y="39"/>
                  </a:lnTo>
                  <a:lnTo>
                    <a:pt x="283" y="117"/>
                  </a:lnTo>
                  <a:lnTo>
                    <a:pt x="310" y="92"/>
                  </a:lnTo>
                  <a:lnTo>
                    <a:pt x="310" y="52"/>
                  </a:lnTo>
                  <a:lnTo>
                    <a:pt x="322" y="39"/>
                  </a:lnTo>
                  <a:lnTo>
                    <a:pt x="322" y="52"/>
                  </a:lnTo>
                  <a:lnTo>
                    <a:pt x="322" y="39"/>
                  </a:lnTo>
                  <a:lnTo>
                    <a:pt x="336" y="52"/>
                  </a:lnTo>
                  <a:lnTo>
                    <a:pt x="363" y="78"/>
                  </a:lnTo>
                  <a:lnTo>
                    <a:pt x="363" y="92"/>
                  </a:lnTo>
                  <a:lnTo>
                    <a:pt x="374" y="78"/>
                  </a:lnTo>
                  <a:lnTo>
                    <a:pt x="374" y="63"/>
                  </a:lnTo>
                  <a:lnTo>
                    <a:pt x="400" y="63"/>
                  </a:lnTo>
                  <a:lnTo>
                    <a:pt x="400" y="78"/>
                  </a:lnTo>
                  <a:lnTo>
                    <a:pt x="413" y="92"/>
                  </a:lnTo>
                  <a:lnTo>
                    <a:pt x="427" y="104"/>
                  </a:lnTo>
                  <a:lnTo>
                    <a:pt x="427" y="92"/>
                  </a:lnTo>
                  <a:lnTo>
                    <a:pt x="427" y="104"/>
                  </a:lnTo>
                  <a:lnTo>
                    <a:pt x="454" y="104"/>
                  </a:lnTo>
                  <a:lnTo>
                    <a:pt x="454" y="78"/>
                  </a:lnTo>
                  <a:lnTo>
                    <a:pt x="465" y="63"/>
                  </a:lnTo>
                  <a:lnTo>
                    <a:pt x="465" y="78"/>
                  </a:lnTo>
                  <a:lnTo>
                    <a:pt x="465" y="63"/>
                  </a:lnTo>
                  <a:lnTo>
                    <a:pt x="477" y="78"/>
                  </a:lnTo>
                  <a:lnTo>
                    <a:pt x="477" y="63"/>
                  </a:lnTo>
                  <a:lnTo>
                    <a:pt x="490" y="78"/>
                  </a:lnTo>
                  <a:lnTo>
                    <a:pt x="490" y="92"/>
                  </a:lnTo>
                  <a:lnTo>
                    <a:pt x="490" y="78"/>
                  </a:lnTo>
                  <a:lnTo>
                    <a:pt x="504" y="92"/>
                  </a:lnTo>
                  <a:lnTo>
                    <a:pt x="504" y="78"/>
                  </a:lnTo>
                  <a:lnTo>
                    <a:pt x="518" y="78"/>
                  </a:lnTo>
                  <a:lnTo>
                    <a:pt x="531" y="92"/>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0" name=""/>
            <p:cNvSpPr/>
            <p:nvPr/>
          </p:nvSpPr>
          <p:spPr>
            <a:xfrm>
              <a:off x="4211640" y="4227120"/>
              <a:ext cx="830160" cy="796680"/>
            </a:xfrm>
            <a:custGeom>
              <a:avLst/>
              <a:gdLst/>
              <a:ahLst/>
              <a:rect l="l" t="t" r="r" b="b"/>
              <a:pathLst>
                <a:path w="968" h="1004">
                  <a:moveTo>
                    <a:pt x="0" y="951"/>
                  </a:moveTo>
                  <a:lnTo>
                    <a:pt x="0" y="965"/>
                  </a:lnTo>
                  <a:lnTo>
                    <a:pt x="0" y="951"/>
                  </a:lnTo>
                  <a:lnTo>
                    <a:pt x="27" y="927"/>
                  </a:lnTo>
                  <a:lnTo>
                    <a:pt x="14" y="927"/>
                  </a:lnTo>
                  <a:lnTo>
                    <a:pt x="27" y="951"/>
                  </a:lnTo>
                  <a:lnTo>
                    <a:pt x="38" y="965"/>
                  </a:lnTo>
                  <a:lnTo>
                    <a:pt x="38" y="927"/>
                  </a:lnTo>
                  <a:lnTo>
                    <a:pt x="52" y="914"/>
                  </a:lnTo>
                  <a:lnTo>
                    <a:pt x="52" y="821"/>
                  </a:lnTo>
                  <a:lnTo>
                    <a:pt x="65" y="768"/>
                  </a:lnTo>
                  <a:lnTo>
                    <a:pt x="65" y="406"/>
                  </a:lnTo>
                  <a:lnTo>
                    <a:pt x="77" y="327"/>
                  </a:lnTo>
                  <a:lnTo>
                    <a:pt x="77" y="67"/>
                  </a:lnTo>
                  <a:lnTo>
                    <a:pt x="91" y="41"/>
                  </a:lnTo>
                  <a:lnTo>
                    <a:pt x="91" y="0"/>
                  </a:lnTo>
                  <a:lnTo>
                    <a:pt x="91" y="14"/>
                  </a:lnTo>
                  <a:lnTo>
                    <a:pt x="105" y="28"/>
                  </a:lnTo>
                  <a:lnTo>
                    <a:pt x="105" y="67"/>
                  </a:lnTo>
                  <a:lnTo>
                    <a:pt x="118" y="80"/>
                  </a:lnTo>
                  <a:lnTo>
                    <a:pt x="118" y="105"/>
                  </a:lnTo>
                  <a:lnTo>
                    <a:pt x="129" y="105"/>
                  </a:lnTo>
                  <a:lnTo>
                    <a:pt x="129" y="222"/>
                  </a:lnTo>
                  <a:lnTo>
                    <a:pt x="142" y="260"/>
                  </a:lnTo>
                  <a:lnTo>
                    <a:pt x="142" y="483"/>
                  </a:lnTo>
                  <a:lnTo>
                    <a:pt x="154" y="535"/>
                  </a:lnTo>
                  <a:lnTo>
                    <a:pt x="154" y="782"/>
                  </a:lnTo>
                  <a:lnTo>
                    <a:pt x="168" y="809"/>
                  </a:lnTo>
                  <a:lnTo>
                    <a:pt x="168" y="859"/>
                  </a:lnTo>
                  <a:lnTo>
                    <a:pt x="168" y="848"/>
                  </a:lnTo>
                  <a:lnTo>
                    <a:pt x="182" y="835"/>
                  </a:lnTo>
                  <a:lnTo>
                    <a:pt x="182" y="848"/>
                  </a:lnTo>
                  <a:lnTo>
                    <a:pt x="195" y="859"/>
                  </a:lnTo>
                  <a:lnTo>
                    <a:pt x="195" y="887"/>
                  </a:lnTo>
                  <a:lnTo>
                    <a:pt x="220" y="914"/>
                  </a:lnTo>
                  <a:lnTo>
                    <a:pt x="206" y="914"/>
                  </a:lnTo>
                  <a:lnTo>
                    <a:pt x="220" y="900"/>
                  </a:lnTo>
                  <a:lnTo>
                    <a:pt x="233" y="900"/>
                  </a:lnTo>
                  <a:lnTo>
                    <a:pt x="245" y="900"/>
                  </a:lnTo>
                  <a:lnTo>
                    <a:pt x="259" y="873"/>
                  </a:lnTo>
                  <a:lnTo>
                    <a:pt x="259" y="821"/>
                  </a:lnTo>
                  <a:lnTo>
                    <a:pt x="273" y="782"/>
                  </a:lnTo>
                  <a:lnTo>
                    <a:pt x="273" y="510"/>
                  </a:lnTo>
                  <a:lnTo>
                    <a:pt x="286" y="444"/>
                  </a:lnTo>
                  <a:lnTo>
                    <a:pt x="286" y="119"/>
                  </a:lnTo>
                  <a:lnTo>
                    <a:pt x="297" y="80"/>
                  </a:lnTo>
                  <a:lnTo>
                    <a:pt x="297" y="41"/>
                  </a:lnTo>
                  <a:lnTo>
                    <a:pt x="297" y="53"/>
                  </a:lnTo>
                  <a:lnTo>
                    <a:pt x="309" y="67"/>
                  </a:lnTo>
                  <a:lnTo>
                    <a:pt x="309" y="80"/>
                  </a:lnTo>
                  <a:lnTo>
                    <a:pt x="322" y="91"/>
                  </a:lnTo>
                  <a:lnTo>
                    <a:pt x="322" y="80"/>
                  </a:lnTo>
                  <a:lnTo>
                    <a:pt x="322" y="105"/>
                  </a:lnTo>
                  <a:lnTo>
                    <a:pt x="336" y="119"/>
                  </a:lnTo>
                  <a:lnTo>
                    <a:pt x="336" y="197"/>
                  </a:lnTo>
                  <a:lnTo>
                    <a:pt x="350" y="222"/>
                  </a:lnTo>
                  <a:lnTo>
                    <a:pt x="350" y="429"/>
                  </a:lnTo>
                  <a:lnTo>
                    <a:pt x="363" y="483"/>
                  </a:lnTo>
                  <a:lnTo>
                    <a:pt x="363" y="731"/>
                  </a:lnTo>
                  <a:lnTo>
                    <a:pt x="374" y="768"/>
                  </a:lnTo>
                  <a:lnTo>
                    <a:pt x="374" y="887"/>
                  </a:lnTo>
                  <a:lnTo>
                    <a:pt x="388" y="900"/>
                  </a:lnTo>
                  <a:lnTo>
                    <a:pt x="388" y="927"/>
                  </a:lnTo>
                  <a:lnTo>
                    <a:pt x="400" y="940"/>
                  </a:lnTo>
                  <a:lnTo>
                    <a:pt x="400" y="979"/>
                  </a:lnTo>
                  <a:lnTo>
                    <a:pt x="413" y="979"/>
                  </a:lnTo>
                  <a:lnTo>
                    <a:pt x="441" y="940"/>
                  </a:lnTo>
                  <a:lnTo>
                    <a:pt x="441" y="927"/>
                  </a:lnTo>
                  <a:lnTo>
                    <a:pt x="441" y="940"/>
                  </a:lnTo>
                  <a:lnTo>
                    <a:pt x="465" y="965"/>
                  </a:lnTo>
                  <a:lnTo>
                    <a:pt x="465" y="992"/>
                  </a:lnTo>
                  <a:lnTo>
                    <a:pt x="477" y="992"/>
                  </a:lnTo>
                  <a:lnTo>
                    <a:pt x="504" y="951"/>
                  </a:lnTo>
                  <a:lnTo>
                    <a:pt x="491" y="951"/>
                  </a:lnTo>
                  <a:lnTo>
                    <a:pt x="504" y="965"/>
                  </a:lnTo>
                  <a:lnTo>
                    <a:pt x="518" y="979"/>
                  </a:lnTo>
                  <a:lnTo>
                    <a:pt x="518" y="1004"/>
                  </a:lnTo>
                  <a:lnTo>
                    <a:pt x="530" y="992"/>
                  </a:lnTo>
                  <a:lnTo>
                    <a:pt x="542" y="992"/>
                  </a:lnTo>
                  <a:lnTo>
                    <a:pt x="556" y="992"/>
                  </a:lnTo>
                  <a:lnTo>
                    <a:pt x="568" y="992"/>
                  </a:lnTo>
                  <a:lnTo>
                    <a:pt x="581" y="979"/>
                  </a:lnTo>
                  <a:lnTo>
                    <a:pt x="595" y="979"/>
                  </a:lnTo>
                  <a:lnTo>
                    <a:pt x="609" y="965"/>
                  </a:lnTo>
                  <a:lnTo>
                    <a:pt x="621" y="965"/>
                  </a:lnTo>
                  <a:lnTo>
                    <a:pt x="633" y="979"/>
                  </a:lnTo>
                  <a:lnTo>
                    <a:pt x="645" y="979"/>
                  </a:lnTo>
                  <a:lnTo>
                    <a:pt x="672" y="979"/>
                  </a:lnTo>
                  <a:lnTo>
                    <a:pt x="672" y="951"/>
                  </a:lnTo>
                  <a:lnTo>
                    <a:pt x="686" y="940"/>
                  </a:lnTo>
                  <a:lnTo>
                    <a:pt x="686" y="848"/>
                  </a:lnTo>
                  <a:lnTo>
                    <a:pt x="698" y="809"/>
                  </a:lnTo>
                  <a:lnTo>
                    <a:pt x="698" y="483"/>
                  </a:lnTo>
                  <a:lnTo>
                    <a:pt x="709" y="406"/>
                  </a:lnTo>
                  <a:lnTo>
                    <a:pt x="709" y="183"/>
                  </a:lnTo>
                  <a:lnTo>
                    <a:pt x="736" y="157"/>
                  </a:lnTo>
                  <a:lnTo>
                    <a:pt x="736" y="183"/>
                  </a:lnTo>
                  <a:lnTo>
                    <a:pt x="723" y="157"/>
                  </a:lnTo>
                  <a:lnTo>
                    <a:pt x="736" y="172"/>
                  </a:lnTo>
                  <a:lnTo>
                    <a:pt x="749" y="183"/>
                  </a:lnTo>
                  <a:lnTo>
                    <a:pt x="749" y="236"/>
                  </a:lnTo>
                  <a:lnTo>
                    <a:pt x="763" y="249"/>
                  </a:lnTo>
                  <a:lnTo>
                    <a:pt x="763" y="301"/>
                  </a:lnTo>
                  <a:lnTo>
                    <a:pt x="777" y="327"/>
                  </a:lnTo>
                  <a:lnTo>
                    <a:pt x="777" y="587"/>
                  </a:lnTo>
                  <a:lnTo>
                    <a:pt x="789" y="639"/>
                  </a:lnTo>
                  <a:lnTo>
                    <a:pt x="789" y="835"/>
                  </a:lnTo>
                  <a:lnTo>
                    <a:pt x="800" y="859"/>
                  </a:lnTo>
                  <a:lnTo>
                    <a:pt x="800" y="900"/>
                  </a:lnTo>
                  <a:lnTo>
                    <a:pt x="813" y="900"/>
                  </a:lnTo>
                  <a:lnTo>
                    <a:pt x="827" y="900"/>
                  </a:lnTo>
                  <a:lnTo>
                    <a:pt x="840" y="900"/>
                  </a:lnTo>
                  <a:lnTo>
                    <a:pt x="854" y="900"/>
                  </a:lnTo>
                  <a:lnTo>
                    <a:pt x="866" y="900"/>
                  </a:lnTo>
                  <a:lnTo>
                    <a:pt x="880" y="914"/>
                  </a:lnTo>
                  <a:lnTo>
                    <a:pt x="880" y="900"/>
                  </a:lnTo>
                  <a:lnTo>
                    <a:pt x="891" y="914"/>
                  </a:lnTo>
                  <a:lnTo>
                    <a:pt x="891" y="848"/>
                  </a:lnTo>
                  <a:lnTo>
                    <a:pt x="904" y="809"/>
                  </a:lnTo>
                  <a:lnTo>
                    <a:pt x="904" y="521"/>
                  </a:lnTo>
                  <a:lnTo>
                    <a:pt x="916" y="458"/>
                  </a:lnTo>
                  <a:lnTo>
                    <a:pt x="916" y="222"/>
                  </a:lnTo>
                  <a:lnTo>
                    <a:pt x="930" y="210"/>
                  </a:lnTo>
                  <a:lnTo>
                    <a:pt x="930" y="172"/>
                  </a:lnTo>
                  <a:lnTo>
                    <a:pt x="944" y="183"/>
                  </a:lnTo>
                  <a:lnTo>
                    <a:pt x="957" y="197"/>
                  </a:lnTo>
                  <a:lnTo>
                    <a:pt x="957" y="236"/>
                  </a:lnTo>
                  <a:lnTo>
                    <a:pt x="968" y="249"/>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5041800" y="4425840"/>
              <a:ext cx="435240" cy="650520"/>
            </a:xfrm>
            <a:custGeom>
              <a:avLst/>
              <a:gdLst/>
              <a:ahLst/>
              <a:rect l="l" t="t" r="r" b="b"/>
              <a:pathLst>
                <a:path w="507" h="822">
                  <a:moveTo>
                    <a:pt x="0" y="0"/>
                  </a:moveTo>
                  <a:lnTo>
                    <a:pt x="0" y="131"/>
                  </a:lnTo>
                  <a:lnTo>
                    <a:pt x="13" y="157"/>
                  </a:lnTo>
                  <a:lnTo>
                    <a:pt x="13" y="326"/>
                  </a:lnTo>
                  <a:lnTo>
                    <a:pt x="27" y="364"/>
                  </a:lnTo>
                  <a:lnTo>
                    <a:pt x="27" y="574"/>
                  </a:lnTo>
                  <a:lnTo>
                    <a:pt x="39" y="610"/>
                  </a:lnTo>
                  <a:lnTo>
                    <a:pt x="39" y="705"/>
                  </a:lnTo>
                  <a:lnTo>
                    <a:pt x="53" y="716"/>
                  </a:lnTo>
                  <a:lnTo>
                    <a:pt x="53" y="730"/>
                  </a:lnTo>
                  <a:lnTo>
                    <a:pt x="80" y="705"/>
                  </a:lnTo>
                  <a:lnTo>
                    <a:pt x="66" y="705"/>
                  </a:lnTo>
                  <a:lnTo>
                    <a:pt x="80" y="705"/>
                  </a:lnTo>
                  <a:lnTo>
                    <a:pt x="104" y="705"/>
                  </a:lnTo>
                  <a:lnTo>
                    <a:pt x="91" y="705"/>
                  </a:lnTo>
                  <a:lnTo>
                    <a:pt x="104" y="705"/>
                  </a:lnTo>
                  <a:lnTo>
                    <a:pt x="116" y="705"/>
                  </a:lnTo>
                  <a:lnTo>
                    <a:pt x="130" y="705"/>
                  </a:lnTo>
                  <a:lnTo>
                    <a:pt x="144" y="730"/>
                  </a:lnTo>
                  <a:lnTo>
                    <a:pt x="168" y="757"/>
                  </a:lnTo>
                  <a:lnTo>
                    <a:pt x="157" y="757"/>
                  </a:lnTo>
                  <a:lnTo>
                    <a:pt x="168" y="743"/>
                  </a:lnTo>
                  <a:lnTo>
                    <a:pt x="195" y="716"/>
                  </a:lnTo>
                  <a:lnTo>
                    <a:pt x="182" y="716"/>
                  </a:lnTo>
                  <a:lnTo>
                    <a:pt x="195" y="716"/>
                  </a:lnTo>
                  <a:lnTo>
                    <a:pt x="207" y="705"/>
                  </a:lnTo>
                  <a:lnTo>
                    <a:pt x="207" y="716"/>
                  </a:lnTo>
                  <a:lnTo>
                    <a:pt x="221" y="730"/>
                  </a:lnTo>
                  <a:lnTo>
                    <a:pt x="221" y="743"/>
                  </a:lnTo>
                  <a:lnTo>
                    <a:pt x="235" y="730"/>
                  </a:lnTo>
                  <a:lnTo>
                    <a:pt x="235" y="743"/>
                  </a:lnTo>
                  <a:lnTo>
                    <a:pt x="248" y="757"/>
                  </a:lnTo>
                  <a:lnTo>
                    <a:pt x="259" y="770"/>
                  </a:lnTo>
                  <a:lnTo>
                    <a:pt x="259" y="782"/>
                  </a:lnTo>
                  <a:lnTo>
                    <a:pt x="272" y="770"/>
                  </a:lnTo>
                  <a:lnTo>
                    <a:pt x="272" y="743"/>
                  </a:lnTo>
                  <a:lnTo>
                    <a:pt x="286" y="730"/>
                  </a:lnTo>
                  <a:lnTo>
                    <a:pt x="298" y="716"/>
                  </a:lnTo>
                  <a:lnTo>
                    <a:pt x="298" y="730"/>
                  </a:lnTo>
                  <a:lnTo>
                    <a:pt x="298" y="716"/>
                  </a:lnTo>
                  <a:lnTo>
                    <a:pt x="325" y="743"/>
                  </a:lnTo>
                  <a:lnTo>
                    <a:pt x="325" y="757"/>
                  </a:lnTo>
                  <a:lnTo>
                    <a:pt x="339" y="770"/>
                  </a:lnTo>
                  <a:lnTo>
                    <a:pt x="339" y="793"/>
                  </a:lnTo>
                  <a:lnTo>
                    <a:pt x="350" y="808"/>
                  </a:lnTo>
                  <a:lnTo>
                    <a:pt x="350" y="822"/>
                  </a:lnTo>
                  <a:lnTo>
                    <a:pt x="350" y="793"/>
                  </a:lnTo>
                  <a:lnTo>
                    <a:pt x="375" y="770"/>
                  </a:lnTo>
                  <a:lnTo>
                    <a:pt x="375" y="743"/>
                  </a:lnTo>
                  <a:lnTo>
                    <a:pt x="389" y="757"/>
                  </a:lnTo>
                  <a:lnTo>
                    <a:pt x="403" y="770"/>
                  </a:lnTo>
                  <a:lnTo>
                    <a:pt x="416" y="782"/>
                  </a:lnTo>
                  <a:lnTo>
                    <a:pt x="427" y="782"/>
                  </a:lnTo>
                  <a:lnTo>
                    <a:pt x="441" y="757"/>
                  </a:lnTo>
                  <a:lnTo>
                    <a:pt x="453" y="770"/>
                  </a:lnTo>
                  <a:lnTo>
                    <a:pt x="466" y="782"/>
                  </a:lnTo>
                  <a:lnTo>
                    <a:pt x="466" y="757"/>
                  </a:lnTo>
                  <a:lnTo>
                    <a:pt x="480" y="743"/>
                  </a:lnTo>
                  <a:lnTo>
                    <a:pt x="494" y="743"/>
                  </a:lnTo>
                  <a:lnTo>
                    <a:pt x="507" y="74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4211640" y="5241600"/>
              <a:ext cx="907920" cy="796680"/>
            </a:xfrm>
            <a:custGeom>
              <a:avLst/>
              <a:gdLst/>
              <a:ahLst/>
              <a:rect l="l" t="t" r="r" b="b"/>
              <a:pathLst>
                <a:path w="1059" h="1003">
                  <a:moveTo>
                    <a:pt x="0" y="962"/>
                  </a:moveTo>
                  <a:lnTo>
                    <a:pt x="14" y="962"/>
                  </a:lnTo>
                  <a:lnTo>
                    <a:pt x="27" y="962"/>
                  </a:lnTo>
                  <a:lnTo>
                    <a:pt x="38" y="962"/>
                  </a:lnTo>
                  <a:lnTo>
                    <a:pt x="52" y="976"/>
                  </a:lnTo>
                  <a:lnTo>
                    <a:pt x="65" y="991"/>
                  </a:lnTo>
                  <a:lnTo>
                    <a:pt x="77" y="991"/>
                  </a:lnTo>
                  <a:lnTo>
                    <a:pt x="105" y="991"/>
                  </a:lnTo>
                  <a:lnTo>
                    <a:pt x="91" y="991"/>
                  </a:lnTo>
                  <a:lnTo>
                    <a:pt x="105" y="991"/>
                  </a:lnTo>
                  <a:lnTo>
                    <a:pt x="118" y="976"/>
                  </a:lnTo>
                  <a:lnTo>
                    <a:pt x="118" y="991"/>
                  </a:lnTo>
                  <a:lnTo>
                    <a:pt x="118" y="976"/>
                  </a:lnTo>
                  <a:lnTo>
                    <a:pt x="129" y="962"/>
                  </a:lnTo>
                  <a:lnTo>
                    <a:pt x="129" y="976"/>
                  </a:lnTo>
                  <a:lnTo>
                    <a:pt x="156" y="976"/>
                  </a:lnTo>
                  <a:lnTo>
                    <a:pt x="156" y="991"/>
                  </a:lnTo>
                  <a:lnTo>
                    <a:pt x="156" y="976"/>
                  </a:lnTo>
                  <a:lnTo>
                    <a:pt x="168" y="976"/>
                  </a:lnTo>
                  <a:lnTo>
                    <a:pt x="182" y="962"/>
                  </a:lnTo>
                  <a:lnTo>
                    <a:pt x="195" y="951"/>
                  </a:lnTo>
                  <a:lnTo>
                    <a:pt x="206" y="962"/>
                  </a:lnTo>
                  <a:lnTo>
                    <a:pt x="220" y="962"/>
                  </a:lnTo>
                  <a:lnTo>
                    <a:pt x="245" y="991"/>
                  </a:lnTo>
                  <a:lnTo>
                    <a:pt x="245" y="1003"/>
                  </a:lnTo>
                  <a:lnTo>
                    <a:pt x="245" y="991"/>
                  </a:lnTo>
                  <a:lnTo>
                    <a:pt x="259" y="976"/>
                  </a:lnTo>
                  <a:lnTo>
                    <a:pt x="259" y="899"/>
                  </a:lnTo>
                  <a:lnTo>
                    <a:pt x="273" y="874"/>
                  </a:lnTo>
                  <a:lnTo>
                    <a:pt x="273" y="613"/>
                  </a:lnTo>
                  <a:lnTo>
                    <a:pt x="286" y="547"/>
                  </a:lnTo>
                  <a:lnTo>
                    <a:pt x="286" y="272"/>
                  </a:lnTo>
                  <a:lnTo>
                    <a:pt x="297" y="248"/>
                  </a:lnTo>
                  <a:lnTo>
                    <a:pt x="297" y="156"/>
                  </a:lnTo>
                  <a:lnTo>
                    <a:pt x="309" y="144"/>
                  </a:lnTo>
                  <a:lnTo>
                    <a:pt x="309" y="117"/>
                  </a:lnTo>
                  <a:lnTo>
                    <a:pt x="336" y="144"/>
                  </a:lnTo>
                  <a:lnTo>
                    <a:pt x="336" y="194"/>
                  </a:lnTo>
                  <a:lnTo>
                    <a:pt x="350" y="221"/>
                  </a:lnTo>
                  <a:lnTo>
                    <a:pt x="350" y="404"/>
                  </a:lnTo>
                  <a:lnTo>
                    <a:pt x="363" y="455"/>
                  </a:lnTo>
                  <a:lnTo>
                    <a:pt x="363" y="742"/>
                  </a:lnTo>
                  <a:lnTo>
                    <a:pt x="377" y="782"/>
                  </a:lnTo>
                  <a:lnTo>
                    <a:pt x="377" y="885"/>
                  </a:lnTo>
                  <a:lnTo>
                    <a:pt x="388" y="899"/>
                  </a:lnTo>
                  <a:lnTo>
                    <a:pt x="400" y="912"/>
                  </a:lnTo>
                  <a:lnTo>
                    <a:pt x="400" y="926"/>
                  </a:lnTo>
                  <a:lnTo>
                    <a:pt x="427" y="951"/>
                  </a:lnTo>
                  <a:lnTo>
                    <a:pt x="427" y="962"/>
                  </a:lnTo>
                  <a:lnTo>
                    <a:pt x="441" y="962"/>
                  </a:lnTo>
                  <a:lnTo>
                    <a:pt x="454" y="951"/>
                  </a:lnTo>
                  <a:lnTo>
                    <a:pt x="465" y="938"/>
                  </a:lnTo>
                  <a:lnTo>
                    <a:pt x="465" y="926"/>
                  </a:lnTo>
                  <a:lnTo>
                    <a:pt x="477" y="912"/>
                  </a:lnTo>
                  <a:lnTo>
                    <a:pt x="477" y="716"/>
                  </a:lnTo>
                  <a:lnTo>
                    <a:pt x="491" y="651"/>
                  </a:lnTo>
                  <a:lnTo>
                    <a:pt x="491" y="300"/>
                  </a:lnTo>
                  <a:lnTo>
                    <a:pt x="504" y="248"/>
                  </a:lnTo>
                  <a:lnTo>
                    <a:pt x="504" y="131"/>
                  </a:lnTo>
                  <a:lnTo>
                    <a:pt x="530" y="131"/>
                  </a:lnTo>
                  <a:lnTo>
                    <a:pt x="530" y="117"/>
                  </a:lnTo>
                  <a:lnTo>
                    <a:pt x="544" y="131"/>
                  </a:lnTo>
                  <a:lnTo>
                    <a:pt x="544" y="156"/>
                  </a:lnTo>
                  <a:lnTo>
                    <a:pt x="556" y="156"/>
                  </a:lnTo>
                  <a:lnTo>
                    <a:pt x="556" y="300"/>
                  </a:lnTo>
                  <a:lnTo>
                    <a:pt x="568" y="352"/>
                  </a:lnTo>
                  <a:lnTo>
                    <a:pt x="568" y="665"/>
                  </a:lnTo>
                  <a:lnTo>
                    <a:pt x="581" y="716"/>
                  </a:lnTo>
                  <a:lnTo>
                    <a:pt x="581" y="874"/>
                  </a:lnTo>
                  <a:lnTo>
                    <a:pt x="609" y="874"/>
                  </a:lnTo>
                  <a:lnTo>
                    <a:pt x="609" y="847"/>
                  </a:lnTo>
                  <a:lnTo>
                    <a:pt x="621" y="859"/>
                  </a:lnTo>
                  <a:lnTo>
                    <a:pt x="633" y="874"/>
                  </a:lnTo>
                  <a:lnTo>
                    <a:pt x="633" y="912"/>
                  </a:lnTo>
                  <a:lnTo>
                    <a:pt x="647" y="926"/>
                  </a:lnTo>
                  <a:lnTo>
                    <a:pt x="659" y="938"/>
                  </a:lnTo>
                  <a:lnTo>
                    <a:pt x="672" y="938"/>
                  </a:lnTo>
                  <a:lnTo>
                    <a:pt x="686" y="912"/>
                  </a:lnTo>
                  <a:lnTo>
                    <a:pt x="686" y="821"/>
                  </a:lnTo>
                  <a:lnTo>
                    <a:pt x="700" y="782"/>
                  </a:lnTo>
                  <a:lnTo>
                    <a:pt x="700" y="430"/>
                  </a:lnTo>
                  <a:lnTo>
                    <a:pt x="712" y="363"/>
                  </a:lnTo>
                  <a:lnTo>
                    <a:pt x="712" y="91"/>
                  </a:lnTo>
                  <a:lnTo>
                    <a:pt x="723" y="66"/>
                  </a:lnTo>
                  <a:lnTo>
                    <a:pt x="723" y="25"/>
                  </a:lnTo>
                  <a:lnTo>
                    <a:pt x="736" y="14"/>
                  </a:lnTo>
                  <a:lnTo>
                    <a:pt x="736" y="0"/>
                  </a:lnTo>
                  <a:lnTo>
                    <a:pt x="736" y="14"/>
                  </a:lnTo>
                  <a:lnTo>
                    <a:pt x="749" y="39"/>
                  </a:lnTo>
                  <a:lnTo>
                    <a:pt x="749" y="117"/>
                  </a:lnTo>
                  <a:lnTo>
                    <a:pt x="763" y="131"/>
                  </a:lnTo>
                  <a:lnTo>
                    <a:pt x="763" y="183"/>
                  </a:lnTo>
                  <a:lnTo>
                    <a:pt x="777" y="208"/>
                  </a:lnTo>
                  <a:lnTo>
                    <a:pt x="777" y="496"/>
                  </a:lnTo>
                  <a:lnTo>
                    <a:pt x="789" y="561"/>
                  </a:lnTo>
                  <a:lnTo>
                    <a:pt x="789" y="807"/>
                  </a:lnTo>
                  <a:lnTo>
                    <a:pt x="800" y="821"/>
                  </a:lnTo>
                  <a:lnTo>
                    <a:pt x="800" y="874"/>
                  </a:lnTo>
                  <a:lnTo>
                    <a:pt x="827" y="899"/>
                  </a:lnTo>
                  <a:lnTo>
                    <a:pt x="827" y="912"/>
                  </a:lnTo>
                  <a:lnTo>
                    <a:pt x="840" y="926"/>
                  </a:lnTo>
                  <a:lnTo>
                    <a:pt x="868" y="899"/>
                  </a:lnTo>
                  <a:lnTo>
                    <a:pt x="868" y="885"/>
                  </a:lnTo>
                  <a:lnTo>
                    <a:pt x="880" y="899"/>
                  </a:lnTo>
                  <a:lnTo>
                    <a:pt x="891" y="885"/>
                  </a:lnTo>
                  <a:lnTo>
                    <a:pt x="891" y="821"/>
                  </a:lnTo>
                  <a:lnTo>
                    <a:pt x="904" y="782"/>
                  </a:lnTo>
                  <a:lnTo>
                    <a:pt x="904" y="521"/>
                  </a:lnTo>
                  <a:lnTo>
                    <a:pt x="918" y="455"/>
                  </a:lnTo>
                  <a:lnTo>
                    <a:pt x="918" y="221"/>
                  </a:lnTo>
                  <a:lnTo>
                    <a:pt x="930" y="194"/>
                  </a:lnTo>
                  <a:lnTo>
                    <a:pt x="930" y="144"/>
                  </a:lnTo>
                  <a:lnTo>
                    <a:pt x="930" y="156"/>
                  </a:lnTo>
                  <a:lnTo>
                    <a:pt x="944" y="169"/>
                  </a:lnTo>
                  <a:lnTo>
                    <a:pt x="957" y="183"/>
                  </a:lnTo>
                  <a:lnTo>
                    <a:pt x="957" y="208"/>
                  </a:lnTo>
                  <a:lnTo>
                    <a:pt x="971" y="221"/>
                  </a:lnTo>
                  <a:lnTo>
                    <a:pt x="971" y="300"/>
                  </a:lnTo>
                  <a:lnTo>
                    <a:pt x="982" y="339"/>
                  </a:lnTo>
                  <a:lnTo>
                    <a:pt x="982" y="547"/>
                  </a:lnTo>
                  <a:lnTo>
                    <a:pt x="995" y="613"/>
                  </a:lnTo>
                  <a:lnTo>
                    <a:pt x="995" y="874"/>
                  </a:lnTo>
                  <a:lnTo>
                    <a:pt x="1007" y="899"/>
                  </a:lnTo>
                  <a:lnTo>
                    <a:pt x="1007" y="976"/>
                  </a:lnTo>
                  <a:lnTo>
                    <a:pt x="1035" y="976"/>
                  </a:lnTo>
                  <a:lnTo>
                    <a:pt x="1035" y="962"/>
                  </a:lnTo>
                  <a:lnTo>
                    <a:pt x="1059" y="962"/>
                  </a:lnTo>
                  <a:lnTo>
                    <a:pt x="1059" y="97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5119560" y="5965560"/>
              <a:ext cx="357480" cy="101160"/>
            </a:xfrm>
            <a:custGeom>
              <a:avLst/>
              <a:gdLst/>
              <a:ahLst/>
              <a:rect l="l" t="t" r="r" b="b"/>
              <a:pathLst>
                <a:path w="416" h="128">
                  <a:moveTo>
                    <a:pt x="0" y="64"/>
                  </a:moveTo>
                  <a:lnTo>
                    <a:pt x="13" y="50"/>
                  </a:lnTo>
                  <a:lnTo>
                    <a:pt x="39" y="77"/>
                  </a:lnTo>
                  <a:lnTo>
                    <a:pt x="39" y="91"/>
                  </a:lnTo>
                  <a:lnTo>
                    <a:pt x="39" y="77"/>
                  </a:lnTo>
                  <a:lnTo>
                    <a:pt x="53" y="64"/>
                  </a:lnTo>
                  <a:lnTo>
                    <a:pt x="66" y="50"/>
                  </a:lnTo>
                  <a:lnTo>
                    <a:pt x="80" y="64"/>
                  </a:lnTo>
                  <a:lnTo>
                    <a:pt x="91" y="77"/>
                  </a:lnTo>
                  <a:lnTo>
                    <a:pt x="116" y="77"/>
                  </a:lnTo>
                  <a:lnTo>
                    <a:pt x="116" y="64"/>
                  </a:lnTo>
                  <a:lnTo>
                    <a:pt x="130" y="77"/>
                  </a:lnTo>
                  <a:lnTo>
                    <a:pt x="157" y="104"/>
                  </a:lnTo>
                  <a:lnTo>
                    <a:pt x="157" y="128"/>
                  </a:lnTo>
                  <a:lnTo>
                    <a:pt x="168" y="117"/>
                  </a:lnTo>
                  <a:lnTo>
                    <a:pt x="182" y="104"/>
                  </a:lnTo>
                  <a:lnTo>
                    <a:pt x="182" y="64"/>
                  </a:lnTo>
                  <a:lnTo>
                    <a:pt x="207" y="39"/>
                  </a:lnTo>
                  <a:lnTo>
                    <a:pt x="195" y="39"/>
                  </a:lnTo>
                  <a:lnTo>
                    <a:pt x="207" y="50"/>
                  </a:lnTo>
                  <a:lnTo>
                    <a:pt x="221" y="64"/>
                  </a:lnTo>
                  <a:lnTo>
                    <a:pt x="235" y="77"/>
                  </a:lnTo>
                  <a:lnTo>
                    <a:pt x="248" y="77"/>
                  </a:lnTo>
                  <a:lnTo>
                    <a:pt x="259" y="64"/>
                  </a:lnTo>
                  <a:lnTo>
                    <a:pt x="271" y="64"/>
                  </a:lnTo>
                  <a:lnTo>
                    <a:pt x="285" y="64"/>
                  </a:lnTo>
                  <a:lnTo>
                    <a:pt x="298" y="50"/>
                  </a:lnTo>
                  <a:lnTo>
                    <a:pt x="312" y="39"/>
                  </a:lnTo>
                  <a:lnTo>
                    <a:pt x="312" y="0"/>
                  </a:lnTo>
                  <a:lnTo>
                    <a:pt x="325" y="0"/>
                  </a:lnTo>
                  <a:lnTo>
                    <a:pt x="350" y="39"/>
                  </a:lnTo>
                  <a:lnTo>
                    <a:pt x="350" y="50"/>
                  </a:lnTo>
                  <a:lnTo>
                    <a:pt x="362" y="64"/>
                  </a:lnTo>
                  <a:lnTo>
                    <a:pt x="375" y="50"/>
                  </a:lnTo>
                  <a:lnTo>
                    <a:pt x="375" y="64"/>
                  </a:lnTo>
                  <a:lnTo>
                    <a:pt x="375" y="50"/>
                  </a:lnTo>
                  <a:lnTo>
                    <a:pt x="403" y="77"/>
                  </a:lnTo>
                  <a:lnTo>
                    <a:pt x="403" y="91"/>
                  </a:lnTo>
                  <a:lnTo>
                    <a:pt x="416" y="77"/>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5952960" y="3330360"/>
              <a:ext cx="777960" cy="732960"/>
            </a:xfrm>
            <a:custGeom>
              <a:avLst/>
              <a:gdLst/>
              <a:ahLst/>
              <a:rect l="l" t="t" r="r" b="b"/>
              <a:pathLst>
                <a:path w="907" h="925">
                  <a:moveTo>
                    <a:pt x="0" y="898"/>
                  </a:moveTo>
                  <a:lnTo>
                    <a:pt x="0" y="912"/>
                  </a:lnTo>
                  <a:lnTo>
                    <a:pt x="14" y="925"/>
                  </a:lnTo>
                  <a:lnTo>
                    <a:pt x="14" y="912"/>
                  </a:lnTo>
                  <a:lnTo>
                    <a:pt x="27" y="898"/>
                  </a:lnTo>
                  <a:lnTo>
                    <a:pt x="27" y="860"/>
                  </a:lnTo>
                  <a:lnTo>
                    <a:pt x="38" y="860"/>
                  </a:lnTo>
                  <a:lnTo>
                    <a:pt x="52" y="847"/>
                  </a:lnTo>
                  <a:lnTo>
                    <a:pt x="52" y="743"/>
                  </a:lnTo>
                  <a:lnTo>
                    <a:pt x="65" y="704"/>
                  </a:lnTo>
                  <a:lnTo>
                    <a:pt x="65" y="418"/>
                  </a:lnTo>
                  <a:lnTo>
                    <a:pt x="77" y="353"/>
                  </a:lnTo>
                  <a:lnTo>
                    <a:pt x="77" y="116"/>
                  </a:lnTo>
                  <a:lnTo>
                    <a:pt x="91" y="92"/>
                  </a:lnTo>
                  <a:lnTo>
                    <a:pt x="91" y="53"/>
                  </a:lnTo>
                  <a:lnTo>
                    <a:pt x="91" y="65"/>
                  </a:lnTo>
                  <a:lnTo>
                    <a:pt x="105" y="53"/>
                  </a:lnTo>
                  <a:lnTo>
                    <a:pt x="118" y="39"/>
                  </a:lnTo>
                  <a:lnTo>
                    <a:pt x="129" y="39"/>
                  </a:lnTo>
                  <a:lnTo>
                    <a:pt x="129" y="170"/>
                  </a:lnTo>
                  <a:lnTo>
                    <a:pt x="142" y="196"/>
                  </a:lnTo>
                  <a:lnTo>
                    <a:pt x="142" y="468"/>
                  </a:lnTo>
                  <a:lnTo>
                    <a:pt x="156" y="522"/>
                  </a:lnTo>
                  <a:lnTo>
                    <a:pt x="156" y="715"/>
                  </a:lnTo>
                  <a:lnTo>
                    <a:pt x="168" y="729"/>
                  </a:lnTo>
                  <a:lnTo>
                    <a:pt x="168" y="781"/>
                  </a:lnTo>
                  <a:lnTo>
                    <a:pt x="195" y="781"/>
                  </a:lnTo>
                  <a:lnTo>
                    <a:pt x="182" y="781"/>
                  </a:lnTo>
                  <a:lnTo>
                    <a:pt x="195" y="781"/>
                  </a:lnTo>
                  <a:lnTo>
                    <a:pt x="209" y="795"/>
                  </a:lnTo>
                  <a:lnTo>
                    <a:pt x="220" y="807"/>
                  </a:lnTo>
                  <a:lnTo>
                    <a:pt x="245" y="833"/>
                  </a:lnTo>
                  <a:lnTo>
                    <a:pt x="245" y="847"/>
                  </a:lnTo>
                  <a:lnTo>
                    <a:pt x="259" y="860"/>
                  </a:lnTo>
                  <a:lnTo>
                    <a:pt x="259" y="781"/>
                  </a:lnTo>
                  <a:lnTo>
                    <a:pt x="273" y="743"/>
                  </a:lnTo>
                  <a:lnTo>
                    <a:pt x="273" y="365"/>
                  </a:lnTo>
                  <a:lnTo>
                    <a:pt x="286" y="299"/>
                  </a:lnTo>
                  <a:lnTo>
                    <a:pt x="286" y="65"/>
                  </a:lnTo>
                  <a:lnTo>
                    <a:pt x="297" y="53"/>
                  </a:lnTo>
                  <a:lnTo>
                    <a:pt x="297" y="116"/>
                  </a:lnTo>
                  <a:lnTo>
                    <a:pt x="310" y="116"/>
                  </a:lnTo>
                  <a:lnTo>
                    <a:pt x="310" y="39"/>
                  </a:lnTo>
                  <a:lnTo>
                    <a:pt x="310" y="92"/>
                  </a:lnTo>
                  <a:lnTo>
                    <a:pt x="324" y="105"/>
                  </a:lnTo>
                  <a:lnTo>
                    <a:pt x="324" y="130"/>
                  </a:lnTo>
                  <a:lnTo>
                    <a:pt x="336" y="157"/>
                  </a:lnTo>
                  <a:lnTo>
                    <a:pt x="336" y="170"/>
                  </a:lnTo>
                  <a:lnTo>
                    <a:pt x="336" y="144"/>
                  </a:lnTo>
                  <a:lnTo>
                    <a:pt x="350" y="170"/>
                  </a:lnTo>
                  <a:lnTo>
                    <a:pt x="350" y="365"/>
                  </a:lnTo>
                  <a:lnTo>
                    <a:pt x="363" y="418"/>
                  </a:lnTo>
                  <a:lnTo>
                    <a:pt x="363" y="637"/>
                  </a:lnTo>
                  <a:lnTo>
                    <a:pt x="377" y="677"/>
                  </a:lnTo>
                  <a:lnTo>
                    <a:pt x="377" y="768"/>
                  </a:lnTo>
                  <a:lnTo>
                    <a:pt x="388" y="795"/>
                  </a:lnTo>
                  <a:lnTo>
                    <a:pt x="388" y="807"/>
                  </a:lnTo>
                  <a:lnTo>
                    <a:pt x="388" y="781"/>
                  </a:lnTo>
                  <a:lnTo>
                    <a:pt x="400" y="768"/>
                  </a:lnTo>
                  <a:lnTo>
                    <a:pt x="400" y="743"/>
                  </a:lnTo>
                  <a:lnTo>
                    <a:pt x="400" y="756"/>
                  </a:lnTo>
                  <a:lnTo>
                    <a:pt x="413" y="768"/>
                  </a:lnTo>
                  <a:lnTo>
                    <a:pt x="413" y="833"/>
                  </a:lnTo>
                  <a:lnTo>
                    <a:pt x="427" y="847"/>
                  </a:lnTo>
                  <a:lnTo>
                    <a:pt x="441" y="833"/>
                  </a:lnTo>
                  <a:lnTo>
                    <a:pt x="455" y="833"/>
                  </a:lnTo>
                  <a:lnTo>
                    <a:pt x="468" y="821"/>
                  </a:lnTo>
                  <a:lnTo>
                    <a:pt x="479" y="807"/>
                  </a:lnTo>
                  <a:lnTo>
                    <a:pt x="479" y="626"/>
                  </a:lnTo>
                  <a:lnTo>
                    <a:pt x="491" y="574"/>
                  </a:lnTo>
                  <a:lnTo>
                    <a:pt x="491" y="261"/>
                  </a:lnTo>
                  <a:lnTo>
                    <a:pt x="505" y="208"/>
                  </a:lnTo>
                  <a:lnTo>
                    <a:pt x="505" y="116"/>
                  </a:lnTo>
                  <a:lnTo>
                    <a:pt x="518" y="105"/>
                  </a:lnTo>
                  <a:lnTo>
                    <a:pt x="518" y="79"/>
                  </a:lnTo>
                  <a:lnTo>
                    <a:pt x="544" y="79"/>
                  </a:lnTo>
                  <a:lnTo>
                    <a:pt x="544" y="92"/>
                  </a:lnTo>
                  <a:lnTo>
                    <a:pt x="558" y="105"/>
                  </a:lnTo>
                  <a:lnTo>
                    <a:pt x="558" y="222"/>
                  </a:lnTo>
                  <a:lnTo>
                    <a:pt x="570" y="274"/>
                  </a:lnTo>
                  <a:lnTo>
                    <a:pt x="570" y="560"/>
                  </a:lnTo>
                  <a:lnTo>
                    <a:pt x="582" y="599"/>
                  </a:lnTo>
                  <a:lnTo>
                    <a:pt x="582" y="691"/>
                  </a:lnTo>
                  <a:lnTo>
                    <a:pt x="595" y="704"/>
                  </a:lnTo>
                  <a:lnTo>
                    <a:pt x="595" y="729"/>
                  </a:lnTo>
                  <a:lnTo>
                    <a:pt x="609" y="743"/>
                  </a:lnTo>
                  <a:lnTo>
                    <a:pt x="635" y="768"/>
                  </a:lnTo>
                  <a:lnTo>
                    <a:pt x="635" y="781"/>
                  </a:lnTo>
                  <a:lnTo>
                    <a:pt x="647" y="795"/>
                  </a:lnTo>
                  <a:lnTo>
                    <a:pt x="661" y="807"/>
                  </a:lnTo>
                  <a:lnTo>
                    <a:pt x="673" y="821"/>
                  </a:lnTo>
                  <a:lnTo>
                    <a:pt x="673" y="807"/>
                  </a:lnTo>
                  <a:lnTo>
                    <a:pt x="686" y="795"/>
                  </a:lnTo>
                  <a:lnTo>
                    <a:pt x="686" y="691"/>
                  </a:lnTo>
                  <a:lnTo>
                    <a:pt x="700" y="637"/>
                  </a:lnTo>
                  <a:lnTo>
                    <a:pt x="700" y="326"/>
                  </a:lnTo>
                  <a:lnTo>
                    <a:pt x="714" y="261"/>
                  </a:lnTo>
                  <a:lnTo>
                    <a:pt x="714" y="65"/>
                  </a:lnTo>
                  <a:lnTo>
                    <a:pt x="726" y="53"/>
                  </a:lnTo>
                  <a:lnTo>
                    <a:pt x="726" y="27"/>
                  </a:lnTo>
                  <a:lnTo>
                    <a:pt x="738" y="13"/>
                  </a:lnTo>
                  <a:lnTo>
                    <a:pt x="738" y="0"/>
                  </a:lnTo>
                  <a:lnTo>
                    <a:pt x="738" y="13"/>
                  </a:lnTo>
                  <a:lnTo>
                    <a:pt x="750" y="27"/>
                  </a:lnTo>
                  <a:lnTo>
                    <a:pt x="750" y="13"/>
                  </a:lnTo>
                  <a:lnTo>
                    <a:pt x="750" y="39"/>
                  </a:lnTo>
                  <a:lnTo>
                    <a:pt x="764" y="53"/>
                  </a:lnTo>
                  <a:lnTo>
                    <a:pt x="764" y="105"/>
                  </a:lnTo>
                  <a:lnTo>
                    <a:pt x="777" y="130"/>
                  </a:lnTo>
                  <a:lnTo>
                    <a:pt x="777" y="418"/>
                  </a:lnTo>
                  <a:lnTo>
                    <a:pt x="791" y="482"/>
                  </a:lnTo>
                  <a:lnTo>
                    <a:pt x="791" y="704"/>
                  </a:lnTo>
                  <a:lnTo>
                    <a:pt x="803" y="729"/>
                  </a:lnTo>
                  <a:lnTo>
                    <a:pt x="803" y="768"/>
                  </a:lnTo>
                  <a:lnTo>
                    <a:pt x="816" y="781"/>
                  </a:lnTo>
                  <a:lnTo>
                    <a:pt x="816" y="795"/>
                  </a:lnTo>
                  <a:lnTo>
                    <a:pt x="830" y="807"/>
                  </a:lnTo>
                  <a:lnTo>
                    <a:pt x="830" y="821"/>
                  </a:lnTo>
                  <a:lnTo>
                    <a:pt x="841" y="833"/>
                  </a:lnTo>
                  <a:lnTo>
                    <a:pt x="841" y="873"/>
                  </a:lnTo>
                  <a:lnTo>
                    <a:pt x="854" y="860"/>
                  </a:lnTo>
                  <a:lnTo>
                    <a:pt x="868" y="860"/>
                  </a:lnTo>
                  <a:lnTo>
                    <a:pt x="882" y="847"/>
                  </a:lnTo>
                  <a:lnTo>
                    <a:pt x="894" y="833"/>
                  </a:lnTo>
                  <a:lnTo>
                    <a:pt x="894" y="807"/>
                  </a:lnTo>
                  <a:lnTo>
                    <a:pt x="907" y="781"/>
                  </a:lnTo>
                  <a:lnTo>
                    <a:pt x="907" y="53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6730920" y="3403440"/>
              <a:ext cx="487440" cy="669600"/>
            </a:xfrm>
            <a:custGeom>
              <a:avLst/>
              <a:gdLst/>
              <a:ahLst/>
              <a:rect l="l" t="t" r="r" b="b"/>
              <a:pathLst>
                <a:path w="569" h="846">
                  <a:moveTo>
                    <a:pt x="0" y="443"/>
                  </a:moveTo>
                  <a:lnTo>
                    <a:pt x="11" y="365"/>
                  </a:lnTo>
                  <a:lnTo>
                    <a:pt x="11" y="79"/>
                  </a:lnTo>
                  <a:lnTo>
                    <a:pt x="25" y="38"/>
                  </a:lnTo>
                  <a:lnTo>
                    <a:pt x="25" y="0"/>
                  </a:lnTo>
                  <a:lnTo>
                    <a:pt x="25" y="13"/>
                  </a:lnTo>
                  <a:lnTo>
                    <a:pt x="38" y="38"/>
                  </a:lnTo>
                  <a:lnTo>
                    <a:pt x="38" y="92"/>
                  </a:lnTo>
                  <a:lnTo>
                    <a:pt x="64" y="116"/>
                  </a:lnTo>
                  <a:lnTo>
                    <a:pt x="64" y="207"/>
                  </a:lnTo>
                  <a:lnTo>
                    <a:pt x="78" y="234"/>
                  </a:lnTo>
                  <a:lnTo>
                    <a:pt x="78" y="403"/>
                  </a:lnTo>
                  <a:lnTo>
                    <a:pt x="91" y="443"/>
                  </a:lnTo>
                  <a:lnTo>
                    <a:pt x="91" y="664"/>
                  </a:lnTo>
                  <a:lnTo>
                    <a:pt x="102" y="689"/>
                  </a:lnTo>
                  <a:lnTo>
                    <a:pt x="102" y="781"/>
                  </a:lnTo>
                  <a:lnTo>
                    <a:pt x="114" y="755"/>
                  </a:lnTo>
                  <a:lnTo>
                    <a:pt x="114" y="741"/>
                  </a:lnTo>
                  <a:lnTo>
                    <a:pt x="128" y="755"/>
                  </a:lnTo>
                  <a:lnTo>
                    <a:pt x="128" y="792"/>
                  </a:lnTo>
                  <a:lnTo>
                    <a:pt x="142" y="781"/>
                  </a:lnTo>
                  <a:lnTo>
                    <a:pt x="142" y="755"/>
                  </a:lnTo>
                  <a:lnTo>
                    <a:pt x="155" y="741"/>
                  </a:lnTo>
                  <a:lnTo>
                    <a:pt x="182" y="741"/>
                  </a:lnTo>
                  <a:lnTo>
                    <a:pt x="168" y="741"/>
                  </a:lnTo>
                  <a:lnTo>
                    <a:pt x="182" y="755"/>
                  </a:lnTo>
                  <a:lnTo>
                    <a:pt x="193" y="768"/>
                  </a:lnTo>
                  <a:lnTo>
                    <a:pt x="193" y="792"/>
                  </a:lnTo>
                  <a:lnTo>
                    <a:pt x="205" y="792"/>
                  </a:lnTo>
                  <a:lnTo>
                    <a:pt x="219" y="806"/>
                  </a:lnTo>
                  <a:lnTo>
                    <a:pt x="233" y="792"/>
                  </a:lnTo>
                  <a:lnTo>
                    <a:pt x="258" y="792"/>
                  </a:lnTo>
                  <a:lnTo>
                    <a:pt x="246" y="792"/>
                  </a:lnTo>
                  <a:lnTo>
                    <a:pt x="258" y="792"/>
                  </a:lnTo>
                  <a:lnTo>
                    <a:pt x="270" y="806"/>
                  </a:lnTo>
                  <a:lnTo>
                    <a:pt x="282" y="820"/>
                  </a:lnTo>
                  <a:lnTo>
                    <a:pt x="310" y="792"/>
                  </a:lnTo>
                  <a:lnTo>
                    <a:pt x="296" y="792"/>
                  </a:lnTo>
                  <a:lnTo>
                    <a:pt x="310" y="792"/>
                  </a:lnTo>
                  <a:lnTo>
                    <a:pt x="323" y="792"/>
                  </a:lnTo>
                  <a:lnTo>
                    <a:pt x="349" y="820"/>
                  </a:lnTo>
                  <a:lnTo>
                    <a:pt x="335" y="820"/>
                  </a:lnTo>
                  <a:lnTo>
                    <a:pt x="349" y="820"/>
                  </a:lnTo>
                  <a:lnTo>
                    <a:pt x="361" y="806"/>
                  </a:lnTo>
                  <a:lnTo>
                    <a:pt x="387" y="781"/>
                  </a:lnTo>
                  <a:lnTo>
                    <a:pt x="373" y="781"/>
                  </a:lnTo>
                  <a:lnTo>
                    <a:pt x="387" y="806"/>
                  </a:lnTo>
                  <a:lnTo>
                    <a:pt x="401" y="820"/>
                  </a:lnTo>
                  <a:lnTo>
                    <a:pt x="401" y="846"/>
                  </a:lnTo>
                  <a:lnTo>
                    <a:pt x="414" y="833"/>
                  </a:lnTo>
                  <a:lnTo>
                    <a:pt x="414" y="806"/>
                  </a:lnTo>
                  <a:lnTo>
                    <a:pt x="426" y="792"/>
                  </a:lnTo>
                  <a:lnTo>
                    <a:pt x="438" y="792"/>
                  </a:lnTo>
                  <a:lnTo>
                    <a:pt x="452" y="781"/>
                  </a:lnTo>
                  <a:lnTo>
                    <a:pt x="452" y="806"/>
                  </a:lnTo>
                  <a:lnTo>
                    <a:pt x="464" y="820"/>
                  </a:lnTo>
                  <a:lnTo>
                    <a:pt x="478" y="806"/>
                  </a:lnTo>
                  <a:lnTo>
                    <a:pt x="478" y="781"/>
                  </a:lnTo>
                  <a:lnTo>
                    <a:pt x="491" y="792"/>
                  </a:lnTo>
                  <a:lnTo>
                    <a:pt x="491" y="820"/>
                  </a:lnTo>
                  <a:lnTo>
                    <a:pt x="505" y="820"/>
                  </a:lnTo>
                  <a:lnTo>
                    <a:pt x="517" y="792"/>
                  </a:lnTo>
                  <a:lnTo>
                    <a:pt x="541" y="792"/>
                  </a:lnTo>
                  <a:lnTo>
                    <a:pt x="528" y="792"/>
                  </a:lnTo>
                  <a:lnTo>
                    <a:pt x="541" y="781"/>
                  </a:lnTo>
                  <a:lnTo>
                    <a:pt x="555" y="792"/>
                  </a:lnTo>
                  <a:lnTo>
                    <a:pt x="555" y="806"/>
                  </a:lnTo>
                  <a:lnTo>
                    <a:pt x="569" y="82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5952960" y="4352760"/>
              <a:ext cx="777960" cy="712440"/>
            </a:xfrm>
            <a:custGeom>
              <a:avLst/>
              <a:gdLst/>
              <a:ahLst/>
              <a:rect l="l" t="t" r="r" b="b"/>
              <a:pathLst>
                <a:path w="907" h="900">
                  <a:moveTo>
                    <a:pt x="0" y="900"/>
                  </a:moveTo>
                  <a:lnTo>
                    <a:pt x="0" y="874"/>
                  </a:lnTo>
                  <a:lnTo>
                    <a:pt x="14" y="862"/>
                  </a:lnTo>
                  <a:lnTo>
                    <a:pt x="27" y="849"/>
                  </a:lnTo>
                  <a:lnTo>
                    <a:pt x="27" y="835"/>
                  </a:lnTo>
                  <a:lnTo>
                    <a:pt x="38" y="822"/>
                  </a:lnTo>
                  <a:lnTo>
                    <a:pt x="38" y="808"/>
                  </a:lnTo>
                  <a:lnTo>
                    <a:pt x="38" y="822"/>
                  </a:lnTo>
                  <a:lnTo>
                    <a:pt x="52" y="808"/>
                  </a:lnTo>
                  <a:lnTo>
                    <a:pt x="52" y="716"/>
                  </a:lnTo>
                  <a:lnTo>
                    <a:pt x="65" y="678"/>
                  </a:lnTo>
                  <a:lnTo>
                    <a:pt x="65" y="364"/>
                  </a:lnTo>
                  <a:lnTo>
                    <a:pt x="77" y="301"/>
                  </a:lnTo>
                  <a:lnTo>
                    <a:pt x="77" y="132"/>
                  </a:lnTo>
                  <a:lnTo>
                    <a:pt x="91" y="132"/>
                  </a:lnTo>
                  <a:lnTo>
                    <a:pt x="91" y="209"/>
                  </a:lnTo>
                  <a:lnTo>
                    <a:pt x="105" y="222"/>
                  </a:lnTo>
                  <a:lnTo>
                    <a:pt x="105" y="236"/>
                  </a:lnTo>
                  <a:lnTo>
                    <a:pt x="105" y="195"/>
                  </a:lnTo>
                  <a:lnTo>
                    <a:pt x="118" y="184"/>
                  </a:lnTo>
                  <a:lnTo>
                    <a:pt x="118" y="117"/>
                  </a:lnTo>
                  <a:lnTo>
                    <a:pt x="129" y="103"/>
                  </a:lnTo>
                  <a:lnTo>
                    <a:pt x="129" y="184"/>
                  </a:lnTo>
                  <a:lnTo>
                    <a:pt x="142" y="209"/>
                  </a:lnTo>
                  <a:lnTo>
                    <a:pt x="142" y="482"/>
                  </a:lnTo>
                  <a:lnTo>
                    <a:pt x="156" y="509"/>
                  </a:lnTo>
                  <a:lnTo>
                    <a:pt x="156" y="666"/>
                  </a:lnTo>
                  <a:lnTo>
                    <a:pt x="168" y="678"/>
                  </a:lnTo>
                  <a:lnTo>
                    <a:pt x="168" y="730"/>
                  </a:lnTo>
                  <a:lnTo>
                    <a:pt x="182" y="730"/>
                  </a:lnTo>
                  <a:lnTo>
                    <a:pt x="195" y="745"/>
                  </a:lnTo>
                  <a:lnTo>
                    <a:pt x="220" y="770"/>
                  </a:lnTo>
                  <a:lnTo>
                    <a:pt x="220" y="783"/>
                  </a:lnTo>
                  <a:lnTo>
                    <a:pt x="233" y="783"/>
                  </a:lnTo>
                  <a:lnTo>
                    <a:pt x="259" y="770"/>
                  </a:lnTo>
                  <a:lnTo>
                    <a:pt x="259" y="691"/>
                  </a:lnTo>
                  <a:lnTo>
                    <a:pt x="273" y="652"/>
                  </a:lnTo>
                  <a:lnTo>
                    <a:pt x="273" y="418"/>
                  </a:lnTo>
                  <a:lnTo>
                    <a:pt x="286" y="353"/>
                  </a:lnTo>
                  <a:lnTo>
                    <a:pt x="286" y="92"/>
                  </a:lnTo>
                  <a:lnTo>
                    <a:pt x="297" y="53"/>
                  </a:lnTo>
                  <a:lnTo>
                    <a:pt x="297" y="15"/>
                  </a:lnTo>
                  <a:lnTo>
                    <a:pt x="297" y="26"/>
                  </a:lnTo>
                  <a:lnTo>
                    <a:pt x="310" y="40"/>
                  </a:lnTo>
                  <a:lnTo>
                    <a:pt x="310" y="92"/>
                  </a:lnTo>
                  <a:lnTo>
                    <a:pt x="324" y="103"/>
                  </a:lnTo>
                  <a:lnTo>
                    <a:pt x="324" y="117"/>
                  </a:lnTo>
                  <a:lnTo>
                    <a:pt x="324" y="67"/>
                  </a:lnTo>
                  <a:lnTo>
                    <a:pt x="336" y="79"/>
                  </a:lnTo>
                  <a:lnTo>
                    <a:pt x="336" y="92"/>
                  </a:lnTo>
                  <a:lnTo>
                    <a:pt x="336" y="67"/>
                  </a:lnTo>
                  <a:lnTo>
                    <a:pt x="336" y="79"/>
                  </a:lnTo>
                  <a:lnTo>
                    <a:pt x="350" y="103"/>
                  </a:lnTo>
                  <a:lnTo>
                    <a:pt x="350" y="313"/>
                  </a:lnTo>
                  <a:lnTo>
                    <a:pt x="363" y="364"/>
                  </a:lnTo>
                  <a:lnTo>
                    <a:pt x="363" y="614"/>
                  </a:lnTo>
                  <a:lnTo>
                    <a:pt x="377" y="652"/>
                  </a:lnTo>
                  <a:lnTo>
                    <a:pt x="377" y="730"/>
                  </a:lnTo>
                  <a:lnTo>
                    <a:pt x="400" y="757"/>
                  </a:lnTo>
                  <a:lnTo>
                    <a:pt x="400" y="783"/>
                  </a:lnTo>
                  <a:lnTo>
                    <a:pt x="413" y="797"/>
                  </a:lnTo>
                  <a:lnTo>
                    <a:pt x="413" y="822"/>
                  </a:lnTo>
                  <a:lnTo>
                    <a:pt x="427" y="822"/>
                  </a:lnTo>
                  <a:lnTo>
                    <a:pt x="441" y="835"/>
                  </a:lnTo>
                  <a:lnTo>
                    <a:pt x="455" y="835"/>
                  </a:lnTo>
                  <a:lnTo>
                    <a:pt x="468" y="822"/>
                  </a:lnTo>
                  <a:lnTo>
                    <a:pt x="468" y="797"/>
                  </a:lnTo>
                  <a:lnTo>
                    <a:pt x="479" y="770"/>
                  </a:lnTo>
                  <a:lnTo>
                    <a:pt x="479" y="587"/>
                  </a:lnTo>
                  <a:lnTo>
                    <a:pt x="491" y="522"/>
                  </a:lnTo>
                  <a:lnTo>
                    <a:pt x="491" y="195"/>
                  </a:lnTo>
                  <a:lnTo>
                    <a:pt x="505" y="157"/>
                  </a:lnTo>
                  <a:lnTo>
                    <a:pt x="505" y="53"/>
                  </a:lnTo>
                  <a:lnTo>
                    <a:pt x="518" y="40"/>
                  </a:lnTo>
                  <a:lnTo>
                    <a:pt x="518" y="53"/>
                  </a:lnTo>
                  <a:lnTo>
                    <a:pt x="518" y="40"/>
                  </a:lnTo>
                  <a:lnTo>
                    <a:pt x="532" y="79"/>
                  </a:lnTo>
                  <a:lnTo>
                    <a:pt x="532" y="92"/>
                  </a:lnTo>
                  <a:lnTo>
                    <a:pt x="532" y="79"/>
                  </a:lnTo>
                  <a:lnTo>
                    <a:pt x="544" y="67"/>
                  </a:lnTo>
                  <a:lnTo>
                    <a:pt x="544" y="53"/>
                  </a:lnTo>
                  <a:lnTo>
                    <a:pt x="558" y="40"/>
                  </a:lnTo>
                  <a:lnTo>
                    <a:pt x="558" y="195"/>
                  </a:lnTo>
                  <a:lnTo>
                    <a:pt x="570" y="249"/>
                  </a:lnTo>
                  <a:lnTo>
                    <a:pt x="570" y="509"/>
                  </a:lnTo>
                  <a:lnTo>
                    <a:pt x="582" y="561"/>
                  </a:lnTo>
                  <a:lnTo>
                    <a:pt x="582" y="652"/>
                  </a:lnTo>
                  <a:lnTo>
                    <a:pt x="595" y="666"/>
                  </a:lnTo>
                  <a:lnTo>
                    <a:pt x="595" y="702"/>
                  </a:lnTo>
                  <a:lnTo>
                    <a:pt x="609" y="716"/>
                  </a:lnTo>
                  <a:lnTo>
                    <a:pt x="609" y="745"/>
                  </a:lnTo>
                  <a:lnTo>
                    <a:pt x="623" y="757"/>
                  </a:lnTo>
                  <a:lnTo>
                    <a:pt x="623" y="783"/>
                  </a:lnTo>
                  <a:lnTo>
                    <a:pt x="635" y="797"/>
                  </a:lnTo>
                  <a:lnTo>
                    <a:pt x="661" y="770"/>
                  </a:lnTo>
                  <a:lnTo>
                    <a:pt x="661" y="757"/>
                  </a:lnTo>
                  <a:lnTo>
                    <a:pt x="673" y="757"/>
                  </a:lnTo>
                  <a:lnTo>
                    <a:pt x="686" y="745"/>
                  </a:lnTo>
                  <a:lnTo>
                    <a:pt x="686" y="678"/>
                  </a:lnTo>
                  <a:lnTo>
                    <a:pt x="700" y="614"/>
                  </a:lnTo>
                  <a:lnTo>
                    <a:pt x="700" y="272"/>
                  </a:lnTo>
                  <a:lnTo>
                    <a:pt x="714" y="209"/>
                  </a:lnTo>
                  <a:lnTo>
                    <a:pt x="714" y="67"/>
                  </a:lnTo>
                  <a:lnTo>
                    <a:pt x="726" y="53"/>
                  </a:lnTo>
                  <a:lnTo>
                    <a:pt x="726" y="15"/>
                  </a:lnTo>
                  <a:lnTo>
                    <a:pt x="738" y="0"/>
                  </a:lnTo>
                  <a:lnTo>
                    <a:pt x="738" y="26"/>
                  </a:lnTo>
                  <a:lnTo>
                    <a:pt x="750" y="40"/>
                  </a:lnTo>
                  <a:lnTo>
                    <a:pt x="750" y="79"/>
                  </a:lnTo>
                  <a:lnTo>
                    <a:pt x="764" y="92"/>
                  </a:lnTo>
                  <a:lnTo>
                    <a:pt x="764" y="170"/>
                  </a:lnTo>
                  <a:lnTo>
                    <a:pt x="777" y="184"/>
                  </a:lnTo>
                  <a:lnTo>
                    <a:pt x="777" y="430"/>
                  </a:lnTo>
                  <a:lnTo>
                    <a:pt x="791" y="482"/>
                  </a:lnTo>
                  <a:lnTo>
                    <a:pt x="791" y="691"/>
                  </a:lnTo>
                  <a:lnTo>
                    <a:pt x="803" y="716"/>
                  </a:lnTo>
                  <a:lnTo>
                    <a:pt x="803" y="770"/>
                  </a:lnTo>
                  <a:lnTo>
                    <a:pt x="816" y="770"/>
                  </a:lnTo>
                  <a:lnTo>
                    <a:pt x="830" y="783"/>
                  </a:lnTo>
                  <a:lnTo>
                    <a:pt x="830" y="808"/>
                  </a:lnTo>
                  <a:lnTo>
                    <a:pt x="841" y="822"/>
                  </a:lnTo>
                  <a:lnTo>
                    <a:pt x="854" y="822"/>
                  </a:lnTo>
                  <a:lnTo>
                    <a:pt x="868" y="849"/>
                  </a:lnTo>
                  <a:lnTo>
                    <a:pt x="882" y="835"/>
                  </a:lnTo>
                  <a:lnTo>
                    <a:pt x="894" y="822"/>
                  </a:lnTo>
                  <a:lnTo>
                    <a:pt x="894" y="757"/>
                  </a:lnTo>
                  <a:lnTo>
                    <a:pt x="907" y="730"/>
                  </a:lnTo>
                  <a:lnTo>
                    <a:pt x="907" y="47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6730920" y="4371840"/>
              <a:ext cx="487440" cy="744120"/>
            </a:xfrm>
            <a:custGeom>
              <a:avLst/>
              <a:gdLst/>
              <a:ahLst/>
              <a:rect l="l" t="t" r="r" b="b"/>
              <a:pathLst>
                <a:path w="569" h="937">
                  <a:moveTo>
                    <a:pt x="0" y="444"/>
                  </a:moveTo>
                  <a:lnTo>
                    <a:pt x="11" y="379"/>
                  </a:lnTo>
                  <a:lnTo>
                    <a:pt x="11" y="118"/>
                  </a:lnTo>
                  <a:lnTo>
                    <a:pt x="25" y="77"/>
                  </a:lnTo>
                  <a:lnTo>
                    <a:pt x="25" y="0"/>
                  </a:lnTo>
                  <a:lnTo>
                    <a:pt x="38" y="14"/>
                  </a:lnTo>
                  <a:lnTo>
                    <a:pt x="51" y="27"/>
                  </a:lnTo>
                  <a:lnTo>
                    <a:pt x="51" y="91"/>
                  </a:lnTo>
                  <a:lnTo>
                    <a:pt x="64" y="106"/>
                  </a:lnTo>
                  <a:lnTo>
                    <a:pt x="64" y="261"/>
                  </a:lnTo>
                  <a:lnTo>
                    <a:pt x="78" y="313"/>
                  </a:lnTo>
                  <a:lnTo>
                    <a:pt x="78" y="507"/>
                  </a:lnTo>
                  <a:lnTo>
                    <a:pt x="91" y="548"/>
                  </a:lnTo>
                  <a:lnTo>
                    <a:pt x="91" y="704"/>
                  </a:lnTo>
                  <a:lnTo>
                    <a:pt x="102" y="731"/>
                  </a:lnTo>
                  <a:lnTo>
                    <a:pt x="102" y="836"/>
                  </a:lnTo>
                  <a:lnTo>
                    <a:pt x="114" y="821"/>
                  </a:lnTo>
                  <a:lnTo>
                    <a:pt x="114" y="796"/>
                  </a:lnTo>
                  <a:lnTo>
                    <a:pt x="128" y="768"/>
                  </a:lnTo>
                  <a:lnTo>
                    <a:pt x="128" y="757"/>
                  </a:lnTo>
                  <a:lnTo>
                    <a:pt x="128" y="768"/>
                  </a:lnTo>
                  <a:lnTo>
                    <a:pt x="142" y="782"/>
                  </a:lnTo>
                  <a:lnTo>
                    <a:pt x="142" y="836"/>
                  </a:lnTo>
                  <a:lnTo>
                    <a:pt x="155" y="821"/>
                  </a:lnTo>
                  <a:lnTo>
                    <a:pt x="155" y="836"/>
                  </a:lnTo>
                  <a:lnTo>
                    <a:pt x="155" y="821"/>
                  </a:lnTo>
                  <a:lnTo>
                    <a:pt x="182" y="848"/>
                  </a:lnTo>
                  <a:lnTo>
                    <a:pt x="168" y="848"/>
                  </a:lnTo>
                  <a:lnTo>
                    <a:pt x="182" y="848"/>
                  </a:lnTo>
                  <a:lnTo>
                    <a:pt x="193" y="848"/>
                  </a:lnTo>
                  <a:lnTo>
                    <a:pt x="205" y="836"/>
                  </a:lnTo>
                  <a:lnTo>
                    <a:pt x="219" y="848"/>
                  </a:lnTo>
                  <a:lnTo>
                    <a:pt x="219" y="796"/>
                  </a:lnTo>
                  <a:lnTo>
                    <a:pt x="233" y="809"/>
                  </a:lnTo>
                  <a:lnTo>
                    <a:pt x="233" y="836"/>
                  </a:lnTo>
                  <a:lnTo>
                    <a:pt x="233" y="809"/>
                  </a:lnTo>
                  <a:lnTo>
                    <a:pt x="246" y="821"/>
                  </a:lnTo>
                  <a:lnTo>
                    <a:pt x="246" y="768"/>
                  </a:lnTo>
                  <a:lnTo>
                    <a:pt x="258" y="757"/>
                  </a:lnTo>
                  <a:lnTo>
                    <a:pt x="258" y="796"/>
                  </a:lnTo>
                  <a:lnTo>
                    <a:pt x="270" y="809"/>
                  </a:lnTo>
                  <a:lnTo>
                    <a:pt x="270" y="848"/>
                  </a:lnTo>
                  <a:lnTo>
                    <a:pt x="282" y="859"/>
                  </a:lnTo>
                  <a:lnTo>
                    <a:pt x="282" y="888"/>
                  </a:lnTo>
                  <a:lnTo>
                    <a:pt x="296" y="900"/>
                  </a:lnTo>
                  <a:lnTo>
                    <a:pt x="296" y="859"/>
                  </a:lnTo>
                  <a:lnTo>
                    <a:pt x="323" y="821"/>
                  </a:lnTo>
                  <a:lnTo>
                    <a:pt x="310" y="821"/>
                  </a:lnTo>
                  <a:lnTo>
                    <a:pt x="323" y="848"/>
                  </a:lnTo>
                  <a:lnTo>
                    <a:pt x="335" y="859"/>
                  </a:lnTo>
                  <a:lnTo>
                    <a:pt x="335" y="926"/>
                  </a:lnTo>
                  <a:lnTo>
                    <a:pt x="349" y="937"/>
                  </a:lnTo>
                  <a:lnTo>
                    <a:pt x="349" y="874"/>
                  </a:lnTo>
                  <a:lnTo>
                    <a:pt x="361" y="859"/>
                  </a:lnTo>
                  <a:lnTo>
                    <a:pt x="361" y="848"/>
                  </a:lnTo>
                  <a:lnTo>
                    <a:pt x="361" y="888"/>
                  </a:lnTo>
                  <a:lnTo>
                    <a:pt x="387" y="913"/>
                  </a:lnTo>
                  <a:lnTo>
                    <a:pt x="373" y="913"/>
                  </a:lnTo>
                  <a:lnTo>
                    <a:pt x="387" y="900"/>
                  </a:lnTo>
                  <a:lnTo>
                    <a:pt x="401" y="888"/>
                  </a:lnTo>
                  <a:lnTo>
                    <a:pt x="401" y="859"/>
                  </a:lnTo>
                  <a:lnTo>
                    <a:pt x="401" y="874"/>
                  </a:lnTo>
                  <a:lnTo>
                    <a:pt x="414" y="888"/>
                  </a:lnTo>
                  <a:lnTo>
                    <a:pt x="426" y="900"/>
                  </a:lnTo>
                  <a:lnTo>
                    <a:pt x="426" y="888"/>
                  </a:lnTo>
                  <a:lnTo>
                    <a:pt x="438" y="900"/>
                  </a:lnTo>
                  <a:lnTo>
                    <a:pt x="452" y="888"/>
                  </a:lnTo>
                  <a:lnTo>
                    <a:pt x="452" y="859"/>
                  </a:lnTo>
                  <a:lnTo>
                    <a:pt x="464" y="848"/>
                  </a:lnTo>
                  <a:lnTo>
                    <a:pt x="464" y="859"/>
                  </a:lnTo>
                  <a:lnTo>
                    <a:pt x="478" y="874"/>
                  </a:lnTo>
                  <a:lnTo>
                    <a:pt x="478" y="913"/>
                  </a:lnTo>
                  <a:lnTo>
                    <a:pt x="491" y="900"/>
                  </a:lnTo>
                  <a:lnTo>
                    <a:pt x="505" y="888"/>
                  </a:lnTo>
                  <a:lnTo>
                    <a:pt x="505" y="848"/>
                  </a:lnTo>
                  <a:lnTo>
                    <a:pt x="517" y="848"/>
                  </a:lnTo>
                  <a:lnTo>
                    <a:pt x="528" y="859"/>
                  </a:lnTo>
                  <a:lnTo>
                    <a:pt x="541" y="874"/>
                  </a:lnTo>
                  <a:lnTo>
                    <a:pt x="555" y="888"/>
                  </a:lnTo>
                  <a:lnTo>
                    <a:pt x="569" y="90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5952960" y="5356080"/>
              <a:ext cx="855720" cy="710640"/>
            </a:xfrm>
            <a:custGeom>
              <a:avLst/>
              <a:gdLst/>
              <a:ahLst/>
              <a:rect l="l" t="t" r="r" b="b"/>
              <a:pathLst>
                <a:path w="998" h="896">
                  <a:moveTo>
                    <a:pt x="14" y="896"/>
                  </a:moveTo>
                  <a:lnTo>
                    <a:pt x="0" y="896"/>
                  </a:lnTo>
                  <a:lnTo>
                    <a:pt x="14" y="872"/>
                  </a:lnTo>
                  <a:lnTo>
                    <a:pt x="27" y="859"/>
                  </a:lnTo>
                  <a:lnTo>
                    <a:pt x="52" y="859"/>
                  </a:lnTo>
                  <a:lnTo>
                    <a:pt x="52" y="768"/>
                  </a:lnTo>
                  <a:lnTo>
                    <a:pt x="65" y="727"/>
                  </a:lnTo>
                  <a:lnTo>
                    <a:pt x="65" y="417"/>
                  </a:lnTo>
                  <a:lnTo>
                    <a:pt x="77" y="350"/>
                  </a:lnTo>
                  <a:lnTo>
                    <a:pt x="77" y="104"/>
                  </a:lnTo>
                  <a:lnTo>
                    <a:pt x="91" y="77"/>
                  </a:lnTo>
                  <a:lnTo>
                    <a:pt x="91" y="25"/>
                  </a:lnTo>
                  <a:lnTo>
                    <a:pt x="105" y="39"/>
                  </a:lnTo>
                  <a:lnTo>
                    <a:pt x="105" y="77"/>
                  </a:lnTo>
                  <a:lnTo>
                    <a:pt x="118" y="91"/>
                  </a:lnTo>
                  <a:lnTo>
                    <a:pt x="118" y="117"/>
                  </a:lnTo>
                  <a:lnTo>
                    <a:pt x="129" y="128"/>
                  </a:lnTo>
                  <a:lnTo>
                    <a:pt x="129" y="195"/>
                  </a:lnTo>
                  <a:lnTo>
                    <a:pt x="142" y="219"/>
                  </a:lnTo>
                  <a:lnTo>
                    <a:pt x="142" y="442"/>
                  </a:lnTo>
                  <a:lnTo>
                    <a:pt x="156" y="494"/>
                  </a:lnTo>
                  <a:lnTo>
                    <a:pt x="156" y="727"/>
                  </a:lnTo>
                  <a:lnTo>
                    <a:pt x="168" y="741"/>
                  </a:lnTo>
                  <a:lnTo>
                    <a:pt x="168" y="794"/>
                  </a:lnTo>
                  <a:lnTo>
                    <a:pt x="168" y="780"/>
                  </a:lnTo>
                  <a:lnTo>
                    <a:pt x="182" y="768"/>
                  </a:lnTo>
                  <a:lnTo>
                    <a:pt x="195" y="780"/>
                  </a:lnTo>
                  <a:lnTo>
                    <a:pt x="195" y="807"/>
                  </a:lnTo>
                  <a:lnTo>
                    <a:pt x="209" y="818"/>
                  </a:lnTo>
                  <a:lnTo>
                    <a:pt x="209" y="847"/>
                  </a:lnTo>
                  <a:lnTo>
                    <a:pt x="220" y="859"/>
                  </a:lnTo>
                  <a:lnTo>
                    <a:pt x="233" y="847"/>
                  </a:lnTo>
                  <a:lnTo>
                    <a:pt x="245" y="847"/>
                  </a:lnTo>
                  <a:lnTo>
                    <a:pt x="259" y="818"/>
                  </a:lnTo>
                  <a:lnTo>
                    <a:pt x="259" y="755"/>
                  </a:lnTo>
                  <a:lnTo>
                    <a:pt x="273" y="715"/>
                  </a:lnTo>
                  <a:lnTo>
                    <a:pt x="273" y="442"/>
                  </a:lnTo>
                  <a:lnTo>
                    <a:pt x="286" y="365"/>
                  </a:lnTo>
                  <a:lnTo>
                    <a:pt x="286" y="128"/>
                  </a:lnTo>
                  <a:lnTo>
                    <a:pt x="297" y="104"/>
                  </a:lnTo>
                  <a:lnTo>
                    <a:pt x="297" y="50"/>
                  </a:lnTo>
                  <a:lnTo>
                    <a:pt x="311" y="64"/>
                  </a:lnTo>
                  <a:lnTo>
                    <a:pt x="311" y="50"/>
                  </a:lnTo>
                  <a:lnTo>
                    <a:pt x="311" y="64"/>
                  </a:lnTo>
                  <a:lnTo>
                    <a:pt x="324" y="77"/>
                  </a:lnTo>
                  <a:lnTo>
                    <a:pt x="336" y="91"/>
                  </a:lnTo>
                  <a:lnTo>
                    <a:pt x="336" y="156"/>
                  </a:lnTo>
                  <a:lnTo>
                    <a:pt x="350" y="181"/>
                  </a:lnTo>
                  <a:lnTo>
                    <a:pt x="350" y="365"/>
                  </a:lnTo>
                  <a:lnTo>
                    <a:pt x="364" y="403"/>
                  </a:lnTo>
                  <a:lnTo>
                    <a:pt x="364" y="624"/>
                  </a:lnTo>
                  <a:lnTo>
                    <a:pt x="377" y="649"/>
                  </a:lnTo>
                  <a:lnTo>
                    <a:pt x="377" y="755"/>
                  </a:lnTo>
                  <a:lnTo>
                    <a:pt x="388" y="768"/>
                  </a:lnTo>
                  <a:lnTo>
                    <a:pt x="388" y="780"/>
                  </a:lnTo>
                  <a:lnTo>
                    <a:pt x="414" y="780"/>
                  </a:lnTo>
                  <a:lnTo>
                    <a:pt x="400" y="780"/>
                  </a:lnTo>
                  <a:lnTo>
                    <a:pt x="414" y="780"/>
                  </a:lnTo>
                  <a:lnTo>
                    <a:pt x="427" y="794"/>
                  </a:lnTo>
                  <a:lnTo>
                    <a:pt x="441" y="794"/>
                  </a:lnTo>
                  <a:lnTo>
                    <a:pt x="455" y="794"/>
                  </a:lnTo>
                  <a:lnTo>
                    <a:pt x="468" y="807"/>
                  </a:lnTo>
                  <a:lnTo>
                    <a:pt x="468" y="780"/>
                  </a:lnTo>
                  <a:lnTo>
                    <a:pt x="479" y="768"/>
                  </a:lnTo>
                  <a:lnTo>
                    <a:pt x="479" y="624"/>
                  </a:lnTo>
                  <a:lnTo>
                    <a:pt x="493" y="558"/>
                  </a:lnTo>
                  <a:lnTo>
                    <a:pt x="493" y="273"/>
                  </a:lnTo>
                  <a:lnTo>
                    <a:pt x="505" y="234"/>
                  </a:lnTo>
                  <a:lnTo>
                    <a:pt x="505" y="117"/>
                  </a:lnTo>
                  <a:lnTo>
                    <a:pt x="518" y="104"/>
                  </a:lnTo>
                  <a:lnTo>
                    <a:pt x="546" y="77"/>
                  </a:lnTo>
                  <a:lnTo>
                    <a:pt x="546" y="64"/>
                  </a:lnTo>
                  <a:lnTo>
                    <a:pt x="546" y="91"/>
                  </a:lnTo>
                  <a:lnTo>
                    <a:pt x="558" y="91"/>
                  </a:lnTo>
                  <a:lnTo>
                    <a:pt x="558" y="219"/>
                  </a:lnTo>
                  <a:lnTo>
                    <a:pt x="570" y="260"/>
                  </a:lnTo>
                  <a:lnTo>
                    <a:pt x="570" y="534"/>
                  </a:lnTo>
                  <a:lnTo>
                    <a:pt x="582" y="598"/>
                  </a:lnTo>
                  <a:lnTo>
                    <a:pt x="582" y="755"/>
                  </a:lnTo>
                  <a:lnTo>
                    <a:pt x="596" y="768"/>
                  </a:lnTo>
                  <a:lnTo>
                    <a:pt x="609" y="780"/>
                  </a:lnTo>
                  <a:lnTo>
                    <a:pt x="623" y="794"/>
                  </a:lnTo>
                  <a:lnTo>
                    <a:pt x="635" y="807"/>
                  </a:lnTo>
                  <a:lnTo>
                    <a:pt x="649" y="818"/>
                  </a:lnTo>
                  <a:lnTo>
                    <a:pt x="661" y="832"/>
                  </a:lnTo>
                  <a:lnTo>
                    <a:pt x="673" y="818"/>
                  </a:lnTo>
                  <a:lnTo>
                    <a:pt x="673" y="780"/>
                  </a:lnTo>
                  <a:lnTo>
                    <a:pt x="686" y="768"/>
                  </a:lnTo>
                  <a:lnTo>
                    <a:pt x="686" y="676"/>
                  </a:lnTo>
                  <a:lnTo>
                    <a:pt x="700" y="649"/>
                  </a:lnTo>
                  <a:lnTo>
                    <a:pt x="700" y="338"/>
                  </a:lnTo>
                  <a:lnTo>
                    <a:pt x="714" y="273"/>
                  </a:lnTo>
                  <a:lnTo>
                    <a:pt x="714" y="50"/>
                  </a:lnTo>
                  <a:lnTo>
                    <a:pt x="726" y="39"/>
                  </a:lnTo>
                  <a:lnTo>
                    <a:pt x="753" y="39"/>
                  </a:lnTo>
                  <a:lnTo>
                    <a:pt x="753" y="25"/>
                  </a:lnTo>
                  <a:lnTo>
                    <a:pt x="753" y="39"/>
                  </a:lnTo>
                  <a:lnTo>
                    <a:pt x="764" y="50"/>
                  </a:lnTo>
                  <a:lnTo>
                    <a:pt x="764" y="104"/>
                  </a:lnTo>
                  <a:lnTo>
                    <a:pt x="777" y="142"/>
                  </a:lnTo>
                  <a:lnTo>
                    <a:pt x="777" y="442"/>
                  </a:lnTo>
                  <a:lnTo>
                    <a:pt x="791" y="507"/>
                  </a:lnTo>
                  <a:lnTo>
                    <a:pt x="791" y="741"/>
                  </a:lnTo>
                  <a:lnTo>
                    <a:pt x="803" y="768"/>
                  </a:lnTo>
                  <a:lnTo>
                    <a:pt x="803" y="794"/>
                  </a:lnTo>
                  <a:lnTo>
                    <a:pt x="830" y="794"/>
                  </a:lnTo>
                  <a:lnTo>
                    <a:pt x="830" y="768"/>
                  </a:lnTo>
                  <a:lnTo>
                    <a:pt x="841" y="780"/>
                  </a:lnTo>
                  <a:lnTo>
                    <a:pt x="854" y="780"/>
                  </a:lnTo>
                  <a:lnTo>
                    <a:pt x="868" y="780"/>
                  </a:lnTo>
                  <a:lnTo>
                    <a:pt x="882" y="807"/>
                  </a:lnTo>
                  <a:lnTo>
                    <a:pt x="882" y="847"/>
                  </a:lnTo>
                  <a:lnTo>
                    <a:pt x="894" y="859"/>
                  </a:lnTo>
                  <a:lnTo>
                    <a:pt x="894" y="780"/>
                  </a:lnTo>
                  <a:lnTo>
                    <a:pt x="907" y="755"/>
                  </a:lnTo>
                  <a:lnTo>
                    <a:pt x="907" y="455"/>
                  </a:lnTo>
                  <a:lnTo>
                    <a:pt x="921" y="389"/>
                  </a:lnTo>
                  <a:lnTo>
                    <a:pt x="921" y="91"/>
                  </a:lnTo>
                  <a:lnTo>
                    <a:pt x="932" y="50"/>
                  </a:lnTo>
                  <a:lnTo>
                    <a:pt x="932" y="0"/>
                  </a:lnTo>
                  <a:lnTo>
                    <a:pt x="932" y="12"/>
                  </a:lnTo>
                  <a:lnTo>
                    <a:pt x="945" y="39"/>
                  </a:lnTo>
                  <a:lnTo>
                    <a:pt x="945" y="104"/>
                  </a:lnTo>
                  <a:lnTo>
                    <a:pt x="972" y="104"/>
                  </a:lnTo>
                  <a:lnTo>
                    <a:pt x="972" y="219"/>
                  </a:lnTo>
                  <a:lnTo>
                    <a:pt x="985" y="260"/>
                  </a:lnTo>
                  <a:lnTo>
                    <a:pt x="985" y="455"/>
                  </a:lnTo>
                  <a:lnTo>
                    <a:pt x="998" y="507"/>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6808680" y="5757480"/>
              <a:ext cx="409680" cy="361800"/>
            </a:xfrm>
            <a:custGeom>
              <a:avLst/>
              <a:gdLst/>
              <a:ahLst/>
              <a:rect l="l" t="t" r="r" b="b"/>
              <a:pathLst>
                <a:path w="478" h="455">
                  <a:moveTo>
                    <a:pt x="0" y="0"/>
                  </a:moveTo>
                  <a:lnTo>
                    <a:pt x="0" y="248"/>
                  </a:lnTo>
                  <a:lnTo>
                    <a:pt x="11" y="273"/>
                  </a:lnTo>
                  <a:lnTo>
                    <a:pt x="11" y="311"/>
                  </a:lnTo>
                  <a:lnTo>
                    <a:pt x="11" y="297"/>
                  </a:lnTo>
                  <a:lnTo>
                    <a:pt x="37" y="273"/>
                  </a:lnTo>
                  <a:lnTo>
                    <a:pt x="25" y="273"/>
                  </a:lnTo>
                  <a:lnTo>
                    <a:pt x="37" y="297"/>
                  </a:lnTo>
                  <a:lnTo>
                    <a:pt x="51" y="311"/>
                  </a:lnTo>
                  <a:lnTo>
                    <a:pt x="51" y="338"/>
                  </a:lnTo>
                  <a:lnTo>
                    <a:pt x="64" y="351"/>
                  </a:lnTo>
                  <a:lnTo>
                    <a:pt x="78" y="338"/>
                  </a:lnTo>
                  <a:lnTo>
                    <a:pt x="91" y="351"/>
                  </a:lnTo>
                  <a:lnTo>
                    <a:pt x="91" y="365"/>
                  </a:lnTo>
                  <a:lnTo>
                    <a:pt x="102" y="378"/>
                  </a:lnTo>
                  <a:lnTo>
                    <a:pt x="102" y="389"/>
                  </a:lnTo>
                  <a:lnTo>
                    <a:pt x="102" y="365"/>
                  </a:lnTo>
                  <a:lnTo>
                    <a:pt x="114" y="351"/>
                  </a:lnTo>
                  <a:lnTo>
                    <a:pt x="114" y="338"/>
                  </a:lnTo>
                  <a:lnTo>
                    <a:pt x="128" y="351"/>
                  </a:lnTo>
                  <a:lnTo>
                    <a:pt x="128" y="403"/>
                  </a:lnTo>
                  <a:lnTo>
                    <a:pt x="142" y="417"/>
                  </a:lnTo>
                  <a:lnTo>
                    <a:pt x="142" y="325"/>
                  </a:lnTo>
                  <a:lnTo>
                    <a:pt x="155" y="311"/>
                  </a:lnTo>
                  <a:lnTo>
                    <a:pt x="155" y="261"/>
                  </a:lnTo>
                  <a:lnTo>
                    <a:pt x="155" y="311"/>
                  </a:lnTo>
                  <a:lnTo>
                    <a:pt x="167" y="338"/>
                  </a:lnTo>
                  <a:lnTo>
                    <a:pt x="167" y="455"/>
                  </a:lnTo>
                  <a:lnTo>
                    <a:pt x="179" y="442"/>
                  </a:lnTo>
                  <a:lnTo>
                    <a:pt x="179" y="403"/>
                  </a:lnTo>
                  <a:lnTo>
                    <a:pt x="193" y="389"/>
                  </a:lnTo>
                  <a:lnTo>
                    <a:pt x="193" y="365"/>
                  </a:lnTo>
                  <a:lnTo>
                    <a:pt x="219" y="365"/>
                  </a:lnTo>
                  <a:lnTo>
                    <a:pt x="219" y="378"/>
                  </a:lnTo>
                  <a:lnTo>
                    <a:pt x="246" y="378"/>
                  </a:lnTo>
                  <a:lnTo>
                    <a:pt x="246" y="365"/>
                  </a:lnTo>
                  <a:lnTo>
                    <a:pt x="258" y="351"/>
                  </a:lnTo>
                  <a:lnTo>
                    <a:pt x="258" y="325"/>
                  </a:lnTo>
                  <a:lnTo>
                    <a:pt x="270" y="311"/>
                  </a:lnTo>
                  <a:lnTo>
                    <a:pt x="270" y="325"/>
                  </a:lnTo>
                  <a:lnTo>
                    <a:pt x="282" y="338"/>
                  </a:lnTo>
                  <a:lnTo>
                    <a:pt x="282" y="430"/>
                  </a:lnTo>
                  <a:lnTo>
                    <a:pt x="296" y="417"/>
                  </a:lnTo>
                  <a:lnTo>
                    <a:pt x="296" y="389"/>
                  </a:lnTo>
                  <a:lnTo>
                    <a:pt x="310" y="378"/>
                  </a:lnTo>
                  <a:lnTo>
                    <a:pt x="310" y="365"/>
                  </a:lnTo>
                  <a:lnTo>
                    <a:pt x="310" y="378"/>
                  </a:lnTo>
                  <a:lnTo>
                    <a:pt x="335" y="403"/>
                  </a:lnTo>
                  <a:lnTo>
                    <a:pt x="323" y="403"/>
                  </a:lnTo>
                  <a:lnTo>
                    <a:pt x="335" y="389"/>
                  </a:lnTo>
                  <a:lnTo>
                    <a:pt x="347" y="403"/>
                  </a:lnTo>
                  <a:lnTo>
                    <a:pt x="361" y="403"/>
                  </a:lnTo>
                  <a:lnTo>
                    <a:pt x="373" y="378"/>
                  </a:lnTo>
                  <a:lnTo>
                    <a:pt x="373" y="365"/>
                  </a:lnTo>
                  <a:lnTo>
                    <a:pt x="400" y="389"/>
                  </a:lnTo>
                  <a:lnTo>
                    <a:pt x="387" y="389"/>
                  </a:lnTo>
                  <a:lnTo>
                    <a:pt x="400" y="378"/>
                  </a:lnTo>
                  <a:lnTo>
                    <a:pt x="426" y="403"/>
                  </a:lnTo>
                  <a:lnTo>
                    <a:pt x="414" y="403"/>
                  </a:lnTo>
                  <a:lnTo>
                    <a:pt x="426" y="389"/>
                  </a:lnTo>
                  <a:lnTo>
                    <a:pt x="437" y="378"/>
                  </a:lnTo>
                  <a:lnTo>
                    <a:pt x="437" y="365"/>
                  </a:lnTo>
                  <a:lnTo>
                    <a:pt x="437" y="389"/>
                  </a:lnTo>
                  <a:lnTo>
                    <a:pt x="464" y="389"/>
                  </a:lnTo>
                  <a:lnTo>
                    <a:pt x="464" y="378"/>
                  </a:lnTo>
                  <a:lnTo>
                    <a:pt x="478" y="37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7705800" y="3287520"/>
              <a:ext cx="766800" cy="785520"/>
            </a:xfrm>
            <a:custGeom>
              <a:avLst/>
              <a:gdLst/>
              <a:ahLst/>
              <a:rect l="l" t="t" r="r" b="b"/>
              <a:pathLst>
                <a:path w="893" h="991">
                  <a:moveTo>
                    <a:pt x="0" y="991"/>
                  </a:moveTo>
                  <a:lnTo>
                    <a:pt x="0" y="978"/>
                  </a:lnTo>
                  <a:lnTo>
                    <a:pt x="14" y="965"/>
                  </a:lnTo>
                  <a:lnTo>
                    <a:pt x="14" y="926"/>
                  </a:lnTo>
                  <a:lnTo>
                    <a:pt x="27" y="913"/>
                  </a:lnTo>
                  <a:lnTo>
                    <a:pt x="27" y="900"/>
                  </a:lnTo>
                  <a:lnTo>
                    <a:pt x="27" y="926"/>
                  </a:lnTo>
                  <a:lnTo>
                    <a:pt x="40" y="937"/>
                  </a:lnTo>
                  <a:lnTo>
                    <a:pt x="40" y="978"/>
                  </a:lnTo>
                  <a:lnTo>
                    <a:pt x="54" y="965"/>
                  </a:lnTo>
                  <a:lnTo>
                    <a:pt x="54" y="886"/>
                  </a:lnTo>
                  <a:lnTo>
                    <a:pt x="65" y="821"/>
                  </a:lnTo>
                  <a:lnTo>
                    <a:pt x="65" y="471"/>
                  </a:lnTo>
                  <a:lnTo>
                    <a:pt x="77" y="406"/>
                  </a:lnTo>
                  <a:lnTo>
                    <a:pt x="77" y="210"/>
                  </a:lnTo>
                  <a:lnTo>
                    <a:pt x="91" y="197"/>
                  </a:lnTo>
                  <a:lnTo>
                    <a:pt x="91" y="132"/>
                  </a:lnTo>
                  <a:lnTo>
                    <a:pt x="105" y="106"/>
                  </a:lnTo>
                  <a:lnTo>
                    <a:pt x="105" y="210"/>
                  </a:lnTo>
                  <a:lnTo>
                    <a:pt x="118" y="249"/>
                  </a:lnTo>
                  <a:lnTo>
                    <a:pt x="118" y="301"/>
                  </a:lnTo>
                  <a:lnTo>
                    <a:pt x="118" y="289"/>
                  </a:lnTo>
                  <a:lnTo>
                    <a:pt x="131" y="261"/>
                  </a:lnTo>
                  <a:lnTo>
                    <a:pt x="131" y="210"/>
                  </a:lnTo>
                  <a:lnTo>
                    <a:pt x="131" y="237"/>
                  </a:lnTo>
                  <a:lnTo>
                    <a:pt x="142" y="275"/>
                  </a:lnTo>
                  <a:lnTo>
                    <a:pt x="142" y="575"/>
                  </a:lnTo>
                  <a:lnTo>
                    <a:pt x="156" y="613"/>
                  </a:lnTo>
                  <a:lnTo>
                    <a:pt x="156" y="848"/>
                  </a:lnTo>
                  <a:lnTo>
                    <a:pt x="168" y="874"/>
                  </a:lnTo>
                  <a:lnTo>
                    <a:pt x="168" y="900"/>
                  </a:lnTo>
                  <a:lnTo>
                    <a:pt x="168" y="886"/>
                  </a:lnTo>
                  <a:lnTo>
                    <a:pt x="182" y="874"/>
                  </a:lnTo>
                  <a:lnTo>
                    <a:pt x="182" y="834"/>
                  </a:lnTo>
                  <a:lnTo>
                    <a:pt x="182" y="848"/>
                  </a:lnTo>
                  <a:lnTo>
                    <a:pt x="195" y="860"/>
                  </a:lnTo>
                  <a:lnTo>
                    <a:pt x="207" y="874"/>
                  </a:lnTo>
                  <a:lnTo>
                    <a:pt x="221" y="886"/>
                  </a:lnTo>
                  <a:lnTo>
                    <a:pt x="233" y="900"/>
                  </a:lnTo>
                  <a:lnTo>
                    <a:pt x="259" y="926"/>
                  </a:lnTo>
                  <a:lnTo>
                    <a:pt x="245" y="926"/>
                  </a:lnTo>
                  <a:lnTo>
                    <a:pt x="259" y="874"/>
                  </a:lnTo>
                  <a:lnTo>
                    <a:pt x="273" y="848"/>
                  </a:lnTo>
                  <a:lnTo>
                    <a:pt x="273" y="535"/>
                  </a:lnTo>
                  <a:lnTo>
                    <a:pt x="286" y="458"/>
                  </a:lnTo>
                  <a:lnTo>
                    <a:pt x="286" y="261"/>
                  </a:lnTo>
                  <a:lnTo>
                    <a:pt x="298" y="249"/>
                  </a:lnTo>
                  <a:lnTo>
                    <a:pt x="298" y="314"/>
                  </a:lnTo>
                  <a:lnTo>
                    <a:pt x="298" y="301"/>
                  </a:lnTo>
                  <a:lnTo>
                    <a:pt x="310" y="261"/>
                  </a:lnTo>
                  <a:lnTo>
                    <a:pt x="310" y="80"/>
                  </a:lnTo>
                  <a:lnTo>
                    <a:pt x="324" y="53"/>
                  </a:lnTo>
                  <a:lnTo>
                    <a:pt x="324" y="28"/>
                  </a:lnTo>
                  <a:lnTo>
                    <a:pt x="336" y="68"/>
                  </a:lnTo>
                  <a:lnTo>
                    <a:pt x="336" y="92"/>
                  </a:lnTo>
                  <a:lnTo>
                    <a:pt x="350" y="132"/>
                  </a:lnTo>
                  <a:lnTo>
                    <a:pt x="350" y="392"/>
                  </a:lnTo>
                  <a:lnTo>
                    <a:pt x="363" y="444"/>
                  </a:lnTo>
                  <a:lnTo>
                    <a:pt x="363" y="705"/>
                  </a:lnTo>
                  <a:lnTo>
                    <a:pt x="377" y="731"/>
                  </a:lnTo>
                  <a:lnTo>
                    <a:pt x="377" y="796"/>
                  </a:lnTo>
                  <a:lnTo>
                    <a:pt x="389" y="782"/>
                  </a:lnTo>
                  <a:lnTo>
                    <a:pt x="413" y="809"/>
                  </a:lnTo>
                  <a:lnTo>
                    <a:pt x="413" y="821"/>
                  </a:lnTo>
                  <a:lnTo>
                    <a:pt x="427" y="834"/>
                  </a:lnTo>
                  <a:lnTo>
                    <a:pt x="454" y="860"/>
                  </a:lnTo>
                  <a:lnTo>
                    <a:pt x="454" y="874"/>
                  </a:lnTo>
                  <a:lnTo>
                    <a:pt x="466" y="860"/>
                  </a:lnTo>
                  <a:lnTo>
                    <a:pt x="466" y="874"/>
                  </a:lnTo>
                  <a:lnTo>
                    <a:pt x="466" y="848"/>
                  </a:lnTo>
                  <a:lnTo>
                    <a:pt x="480" y="834"/>
                  </a:lnTo>
                  <a:lnTo>
                    <a:pt x="480" y="652"/>
                  </a:lnTo>
                  <a:lnTo>
                    <a:pt x="491" y="599"/>
                  </a:lnTo>
                  <a:lnTo>
                    <a:pt x="491" y="275"/>
                  </a:lnTo>
                  <a:lnTo>
                    <a:pt x="504" y="237"/>
                  </a:lnTo>
                  <a:lnTo>
                    <a:pt x="504" y="92"/>
                  </a:lnTo>
                  <a:lnTo>
                    <a:pt x="518" y="106"/>
                  </a:lnTo>
                  <a:lnTo>
                    <a:pt x="518" y="145"/>
                  </a:lnTo>
                  <a:lnTo>
                    <a:pt x="531" y="158"/>
                  </a:lnTo>
                  <a:lnTo>
                    <a:pt x="531" y="172"/>
                  </a:lnTo>
                  <a:lnTo>
                    <a:pt x="545" y="183"/>
                  </a:lnTo>
                  <a:lnTo>
                    <a:pt x="545" y="210"/>
                  </a:lnTo>
                  <a:lnTo>
                    <a:pt x="557" y="223"/>
                  </a:lnTo>
                  <a:lnTo>
                    <a:pt x="557" y="314"/>
                  </a:lnTo>
                  <a:lnTo>
                    <a:pt x="568" y="352"/>
                  </a:lnTo>
                  <a:lnTo>
                    <a:pt x="568" y="599"/>
                  </a:lnTo>
                  <a:lnTo>
                    <a:pt x="581" y="652"/>
                  </a:lnTo>
                  <a:lnTo>
                    <a:pt x="581" y="768"/>
                  </a:lnTo>
                  <a:lnTo>
                    <a:pt x="595" y="796"/>
                  </a:lnTo>
                  <a:lnTo>
                    <a:pt x="595" y="874"/>
                  </a:lnTo>
                  <a:lnTo>
                    <a:pt x="621" y="874"/>
                  </a:lnTo>
                  <a:lnTo>
                    <a:pt x="609" y="874"/>
                  </a:lnTo>
                  <a:lnTo>
                    <a:pt x="621" y="886"/>
                  </a:lnTo>
                  <a:lnTo>
                    <a:pt x="634" y="900"/>
                  </a:lnTo>
                  <a:lnTo>
                    <a:pt x="648" y="900"/>
                  </a:lnTo>
                  <a:lnTo>
                    <a:pt x="659" y="886"/>
                  </a:lnTo>
                  <a:lnTo>
                    <a:pt x="672" y="900"/>
                  </a:lnTo>
                  <a:lnTo>
                    <a:pt x="686" y="886"/>
                  </a:lnTo>
                  <a:lnTo>
                    <a:pt x="686" y="809"/>
                  </a:lnTo>
                  <a:lnTo>
                    <a:pt x="700" y="768"/>
                  </a:lnTo>
                  <a:lnTo>
                    <a:pt x="700" y="430"/>
                  </a:lnTo>
                  <a:lnTo>
                    <a:pt x="712" y="366"/>
                  </a:lnTo>
                  <a:lnTo>
                    <a:pt x="712" y="120"/>
                  </a:lnTo>
                  <a:lnTo>
                    <a:pt x="725" y="106"/>
                  </a:lnTo>
                  <a:lnTo>
                    <a:pt x="725" y="53"/>
                  </a:lnTo>
                  <a:lnTo>
                    <a:pt x="736" y="41"/>
                  </a:lnTo>
                  <a:lnTo>
                    <a:pt x="736" y="14"/>
                  </a:lnTo>
                  <a:lnTo>
                    <a:pt x="750" y="0"/>
                  </a:lnTo>
                  <a:lnTo>
                    <a:pt x="750" y="41"/>
                  </a:lnTo>
                  <a:lnTo>
                    <a:pt x="763" y="68"/>
                  </a:lnTo>
                  <a:lnTo>
                    <a:pt x="763" y="197"/>
                  </a:lnTo>
                  <a:lnTo>
                    <a:pt x="777" y="249"/>
                  </a:lnTo>
                  <a:lnTo>
                    <a:pt x="777" y="548"/>
                  </a:lnTo>
                  <a:lnTo>
                    <a:pt x="789" y="599"/>
                  </a:lnTo>
                  <a:lnTo>
                    <a:pt x="789" y="782"/>
                  </a:lnTo>
                  <a:lnTo>
                    <a:pt x="802" y="796"/>
                  </a:lnTo>
                  <a:lnTo>
                    <a:pt x="802" y="809"/>
                  </a:lnTo>
                  <a:lnTo>
                    <a:pt x="802" y="796"/>
                  </a:lnTo>
                  <a:lnTo>
                    <a:pt x="827" y="768"/>
                  </a:lnTo>
                  <a:lnTo>
                    <a:pt x="816" y="768"/>
                  </a:lnTo>
                  <a:lnTo>
                    <a:pt x="827" y="782"/>
                  </a:lnTo>
                  <a:lnTo>
                    <a:pt x="854" y="809"/>
                  </a:lnTo>
                  <a:lnTo>
                    <a:pt x="840" y="809"/>
                  </a:lnTo>
                  <a:lnTo>
                    <a:pt x="854" y="809"/>
                  </a:lnTo>
                  <a:lnTo>
                    <a:pt x="868" y="796"/>
                  </a:lnTo>
                  <a:lnTo>
                    <a:pt x="880" y="809"/>
                  </a:lnTo>
                  <a:lnTo>
                    <a:pt x="893" y="796"/>
                  </a:lnTo>
                  <a:lnTo>
                    <a:pt x="893" y="78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8472600" y="3403440"/>
              <a:ext cx="500040" cy="688680"/>
            </a:xfrm>
            <a:custGeom>
              <a:avLst/>
              <a:gdLst/>
              <a:ahLst/>
              <a:rect l="l" t="t" r="r" b="b"/>
              <a:pathLst>
                <a:path w="582" h="870">
                  <a:moveTo>
                    <a:pt x="0" y="637"/>
                  </a:moveTo>
                  <a:lnTo>
                    <a:pt x="11" y="612"/>
                  </a:lnTo>
                  <a:lnTo>
                    <a:pt x="11" y="376"/>
                  </a:lnTo>
                  <a:lnTo>
                    <a:pt x="25" y="313"/>
                  </a:lnTo>
                  <a:lnTo>
                    <a:pt x="25" y="65"/>
                  </a:lnTo>
                  <a:lnTo>
                    <a:pt x="38" y="52"/>
                  </a:lnTo>
                  <a:lnTo>
                    <a:pt x="38" y="0"/>
                  </a:lnTo>
                  <a:lnTo>
                    <a:pt x="38" y="13"/>
                  </a:lnTo>
                  <a:lnTo>
                    <a:pt x="52" y="27"/>
                  </a:lnTo>
                  <a:lnTo>
                    <a:pt x="78" y="27"/>
                  </a:lnTo>
                  <a:lnTo>
                    <a:pt x="78" y="144"/>
                  </a:lnTo>
                  <a:lnTo>
                    <a:pt x="91" y="169"/>
                  </a:lnTo>
                  <a:lnTo>
                    <a:pt x="91" y="313"/>
                  </a:lnTo>
                  <a:lnTo>
                    <a:pt x="102" y="365"/>
                  </a:lnTo>
                  <a:lnTo>
                    <a:pt x="102" y="572"/>
                  </a:lnTo>
                  <a:lnTo>
                    <a:pt x="114" y="612"/>
                  </a:lnTo>
                  <a:lnTo>
                    <a:pt x="114" y="715"/>
                  </a:lnTo>
                  <a:lnTo>
                    <a:pt x="142" y="741"/>
                  </a:lnTo>
                  <a:lnTo>
                    <a:pt x="142" y="754"/>
                  </a:lnTo>
                  <a:lnTo>
                    <a:pt x="155" y="768"/>
                  </a:lnTo>
                  <a:lnTo>
                    <a:pt x="155" y="781"/>
                  </a:lnTo>
                  <a:lnTo>
                    <a:pt x="168" y="820"/>
                  </a:lnTo>
                  <a:lnTo>
                    <a:pt x="168" y="781"/>
                  </a:lnTo>
                  <a:lnTo>
                    <a:pt x="182" y="768"/>
                  </a:lnTo>
                  <a:lnTo>
                    <a:pt x="182" y="715"/>
                  </a:lnTo>
                  <a:lnTo>
                    <a:pt x="193" y="729"/>
                  </a:lnTo>
                  <a:lnTo>
                    <a:pt x="193" y="741"/>
                  </a:lnTo>
                  <a:lnTo>
                    <a:pt x="205" y="754"/>
                  </a:lnTo>
                  <a:lnTo>
                    <a:pt x="205" y="833"/>
                  </a:lnTo>
                  <a:lnTo>
                    <a:pt x="219" y="846"/>
                  </a:lnTo>
                  <a:lnTo>
                    <a:pt x="219" y="870"/>
                  </a:lnTo>
                  <a:lnTo>
                    <a:pt x="232" y="858"/>
                  </a:lnTo>
                  <a:lnTo>
                    <a:pt x="232" y="833"/>
                  </a:lnTo>
                  <a:lnTo>
                    <a:pt x="246" y="806"/>
                  </a:lnTo>
                  <a:lnTo>
                    <a:pt x="246" y="741"/>
                  </a:lnTo>
                  <a:lnTo>
                    <a:pt x="259" y="754"/>
                  </a:lnTo>
                  <a:lnTo>
                    <a:pt x="259" y="792"/>
                  </a:lnTo>
                  <a:lnTo>
                    <a:pt x="270" y="806"/>
                  </a:lnTo>
                  <a:lnTo>
                    <a:pt x="270" y="820"/>
                  </a:lnTo>
                  <a:lnTo>
                    <a:pt x="282" y="806"/>
                  </a:lnTo>
                  <a:lnTo>
                    <a:pt x="282" y="833"/>
                  </a:lnTo>
                  <a:lnTo>
                    <a:pt x="296" y="846"/>
                  </a:lnTo>
                  <a:lnTo>
                    <a:pt x="296" y="833"/>
                  </a:lnTo>
                  <a:lnTo>
                    <a:pt x="310" y="820"/>
                  </a:lnTo>
                  <a:lnTo>
                    <a:pt x="310" y="781"/>
                  </a:lnTo>
                  <a:lnTo>
                    <a:pt x="323" y="754"/>
                  </a:lnTo>
                  <a:lnTo>
                    <a:pt x="323" y="741"/>
                  </a:lnTo>
                  <a:lnTo>
                    <a:pt x="323" y="754"/>
                  </a:lnTo>
                  <a:lnTo>
                    <a:pt x="335" y="768"/>
                  </a:lnTo>
                  <a:lnTo>
                    <a:pt x="335" y="820"/>
                  </a:lnTo>
                  <a:lnTo>
                    <a:pt x="349" y="806"/>
                  </a:lnTo>
                  <a:lnTo>
                    <a:pt x="349" y="781"/>
                  </a:lnTo>
                  <a:lnTo>
                    <a:pt x="361" y="768"/>
                  </a:lnTo>
                  <a:lnTo>
                    <a:pt x="361" y="806"/>
                  </a:lnTo>
                  <a:lnTo>
                    <a:pt x="373" y="806"/>
                  </a:lnTo>
                  <a:lnTo>
                    <a:pt x="387" y="781"/>
                  </a:lnTo>
                  <a:lnTo>
                    <a:pt x="401" y="792"/>
                  </a:lnTo>
                  <a:lnTo>
                    <a:pt x="401" y="806"/>
                  </a:lnTo>
                  <a:lnTo>
                    <a:pt x="414" y="792"/>
                  </a:lnTo>
                  <a:lnTo>
                    <a:pt x="438" y="792"/>
                  </a:lnTo>
                  <a:lnTo>
                    <a:pt x="426" y="792"/>
                  </a:lnTo>
                  <a:lnTo>
                    <a:pt x="438" y="768"/>
                  </a:lnTo>
                  <a:lnTo>
                    <a:pt x="452" y="781"/>
                  </a:lnTo>
                  <a:lnTo>
                    <a:pt x="452" y="833"/>
                  </a:lnTo>
                  <a:lnTo>
                    <a:pt x="464" y="846"/>
                  </a:lnTo>
                  <a:lnTo>
                    <a:pt x="478" y="833"/>
                  </a:lnTo>
                  <a:lnTo>
                    <a:pt x="478" y="806"/>
                  </a:lnTo>
                  <a:lnTo>
                    <a:pt x="478" y="820"/>
                  </a:lnTo>
                  <a:lnTo>
                    <a:pt x="491" y="820"/>
                  </a:lnTo>
                  <a:lnTo>
                    <a:pt x="505" y="806"/>
                  </a:lnTo>
                  <a:lnTo>
                    <a:pt x="505" y="781"/>
                  </a:lnTo>
                  <a:lnTo>
                    <a:pt x="517" y="792"/>
                  </a:lnTo>
                  <a:lnTo>
                    <a:pt x="541" y="820"/>
                  </a:lnTo>
                  <a:lnTo>
                    <a:pt x="541" y="833"/>
                  </a:lnTo>
                  <a:lnTo>
                    <a:pt x="541" y="820"/>
                  </a:lnTo>
                  <a:lnTo>
                    <a:pt x="555" y="806"/>
                  </a:lnTo>
                  <a:lnTo>
                    <a:pt x="555" y="768"/>
                  </a:lnTo>
                  <a:lnTo>
                    <a:pt x="569" y="754"/>
                  </a:lnTo>
                  <a:lnTo>
                    <a:pt x="569" y="729"/>
                  </a:lnTo>
                  <a:lnTo>
                    <a:pt x="582" y="71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7705800" y="4311360"/>
              <a:ext cx="823680" cy="753840"/>
            </a:xfrm>
            <a:custGeom>
              <a:avLst/>
              <a:gdLst/>
              <a:ahLst/>
              <a:rect l="l" t="t" r="r" b="b"/>
              <a:pathLst>
                <a:path w="959" h="952">
                  <a:moveTo>
                    <a:pt x="0" y="952"/>
                  </a:moveTo>
                  <a:lnTo>
                    <a:pt x="14" y="952"/>
                  </a:lnTo>
                  <a:lnTo>
                    <a:pt x="27" y="937"/>
                  </a:lnTo>
                  <a:lnTo>
                    <a:pt x="27" y="952"/>
                  </a:lnTo>
                  <a:lnTo>
                    <a:pt x="54" y="926"/>
                  </a:lnTo>
                  <a:lnTo>
                    <a:pt x="54" y="797"/>
                  </a:lnTo>
                  <a:lnTo>
                    <a:pt x="65" y="754"/>
                  </a:lnTo>
                  <a:lnTo>
                    <a:pt x="65" y="430"/>
                  </a:lnTo>
                  <a:lnTo>
                    <a:pt x="77" y="353"/>
                  </a:lnTo>
                  <a:lnTo>
                    <a:pt x="77" y="119"/>
                  </a:lnTo>
                  <a:lnTo>
                    <a:pt x="91" y="106"/>
                  </a:lnTo>
                  <a:lnTo>
                    <a:pt x="91" y="78"/>
                  </a:lnTo>
                  <a:lnTo>
                    <a:pt x="91" y="106"/>
                  </a:lnTo>
                  <a:lnTo>
                    <a:pt x="105" y="119"/>
                  </a:lnTo>
                  <a:lnTo>
                    <a:pt x="118" y="131"/>
                  </a:lnTo>
                  <a:lnTo>
                    <a:pt x="118" y="158"/>
                  </a:lnTo>
                  <a:lnTo>
                    <a:pt x="131" y="184"/>
                  </a:lnTo>
                  <a:lnTo>
                    <a:pt x="131" y="288"/>
                  </a:lnTo>
                  <a:lnTo>
                    <a:pt x="142" y="327"/>
                  </a:lnTo>
                  <a:lnTo>
                    <a:pt x="142" y="574"/>
                  </a:lnTo>
                  <a:lnTo>
                    <a:pt x="156" y="626"/>
                  </a:lnTo>
                  <a:lnTo>
                    <a:pt x="156" y="768"/>
                  </a:lnTo>
                  <a:lnTo>
                    <a:pt x="168" y="782"/>
                  </a:lnTo>
                  <a:lnTo>
                    <a:pt x="168" y="822"/>
                  </a:lnTo>
                  <a:lnTo>
                    <a:pt x="182" y="836"/>
                  </a:lnTo>
                  <a:lnTo>
                    <a:pt x="182" y="849"/>
                  </a:lnTo>
                  <a:lnTo>
                    <a:pt x="195" y="860"/>
                  </a:lnTo>
                  <a:lnTo>
                    <a:pt x="195" y="887"/>
                  </a:lnTo>
                  <a:lnTo>
                    <a:pt x="209" y="901"/>
                  </a:lnTo>
                  <a:lnTo>
                    <a:pt x="233" y="926"/>
                  </a:lnTo>
                  <a:lnTo>
                    <a:pt x="233" y="937"/>
                  </a:lnTo>
                  <a:lnTo>
                    <a:pt x="245" y="926"/>
                  </a:lnTo>
                  <a:lnTo>
                    <a:pt x="245" y="901"/>
                  </a:lnTo>
                  <a:lnTo>
                    <a:pt x="259" y="887"/>
                  </a:lnTo>
                  <a:lnTo>
                    <a:pt x="259" y="809"/>
                  </a:lnTo>
                  <a:lnTo>
                    <a:pt x="273" y="768"/>
                  </a:lnTo>
                  <a:lnTo>
                    <a:pt x="273" y="482"/>
                  </a:lnTo>
                  <a:lnTo>
                    <a:pt x="286" y="416"/>
                  </a:lnTo>
                  <a:lnTo>
                    <a:pt x="286" y="158"/>
                  </a:lnTo>
                  <a:lnTo>
                    <a:pt x="298" y="119"/>
                  </a:lnTo>
                  <a:lnTo>
                    <a:pt x="298" y="54"/>
                  </a:lnTo>
                  <a:lnTo>
                    <a:pt x="312" y="67"/>
                  </a:lnTo>
                  <a:lnTo>
                    <a:pt x="312" y="106"/>
                  </a:lnTo>
                  <a:lnTo>
                    <a:pt x="324" y="119"/>
                  </a:lnTo>
                  <a:lnTo>
                    <a:pt x="324" y="158"/>
                  </a:lnTo>
                  <a:lnTo>
                    <a:pt x="336" y="169"/>
                  </a:lnTo>
                  <a:lnTo>
                    <a:pt x="336" y="196"/>
                  </a:lnTo>
                  <a:lnTo>
                    <a:pt x="350" y="223"/>
                  </a:lnTo>
                  <a:lnTo>
                    <a:pt x="350" y="416"/>
                  </a:lnTo>
                  <a:lnTo>
                    <a:pt x="364" y="457"/>
                  </a:lnTo>
                  <a:lnTo>
                    <a:pt x="364" y="705"/>
                  </a:lnTo>
                  <a:lnTo>
                    <a:pt x="377" y="730"/>
                  </a:lnTo>
                  <a:lnTo>
                    <a:pt x="377" y="809"/>
                  </a:lnTo>
                  <a:lnTo>
                    <a:pt x="389" y="822"/>
                  </a:lnTo>
                  <a:lnTo>
                    <a:pt x="400" y="836"/>
                  </a:lnTo>
                  <a:lnTo>
                    <a:pt x="414" y="836"/>
                  </a:lnTo>
                  <a:lnTo>
                    <a:pt x="427" y="822"/>
                  </a:lnTo>
                  <a:lnTo>
                    <a:pt x="441" y="809"/>
                  </a:lnTo>
                  <a:lnTo>
                    <a:pt x="468" y="782"/>
                  </a:lnTo>
                  <a:lnTo>
                    <a:pt x="454" y="782"/>
                  </a:lnTo>
                  <a:lnTo>
                    <a:pt x="468" y="782"/>
                  </a:lnTo>
                  <a:lnTo>
                    <a:pt x="480" y="768"/>
                  </a:lnTo>
                  <a:lnTo>
                    <a:pt x="480" y="626"/>
                  </a:lnTo>
                  <a:lnTo>
                    <a:pt x="491" y="561"/>
                  </a:lnTo>
                  <a:lnTo>
                    <a:pt x="491" y="209"/>
                  </a:lnTo>
                  <a:lnTo>
                    <a:pt x="504" y="158"/>
                  </a:lnTo>
                  <a:lnTo>
                    <a:pt x="504" y="14"/>
                  </a:lnTo>
                  <a:lnTo>
                    <a:pt x="518" y="0"/>
                  </a:lnTo>
                  <a:lnTo>
                    <a:pt x="518" y="40"/>
                  </a:lnTo>
                  <a:lnTo>
                    <a:pt x="532" y="54"/>
                  </a:lnTo>
                  <a:lnTo>
                    <a:pt x="532" y="67"/>
                  </a:lnTo>
                  <a:lnTo>
                    <a:pt x="545" y="78"/>
                  </a:lnTo>
                  <a:lnTo>
                    <a:pt x="545" y="131"/>
                  </a:lnTo>
                  <a:lnTo>
                    <a:pt x="557" y="144"/>
                  </a:lnTo>
                  <a:lnTo>
                    <a:pt x="557" y="313"/>
                  </a:lnTo>
                  <a:lnTo>
                    <a:pt x="568" y="379"/>
                  </a:lnTo>
                  <a:lnTo>
                    <a:pt x="568" y="653"/>
                  </a:lnTo>
                  <a:lnTo>
                    <a:pt x="582" y="691"/>
                  </a:lnTo>
                  <a:lnTo>
                    <a:pt x="582" y="797"/>
                  </a:lnTo>
                  <a:lnTo>
                    <a:pt x="609" y="797"/>
                  </a:lnTo>
                  <a:lnTo>
                    <a:pt x="609" y="782"/>
                  </a:lnTo>
                  <a:lnTo>
                    <a:pt x="609" y="797"/>
                  </a:lnTo>
                  <a:lnTo>
                    <a:pt x="621" y="809"/>
                  </a:lnTo>
                  <a:lnTo>
                    <a:pt x="648" y="809"/>
                  </a:lnTo>
                  <a:lnTo>
                    <a:pt x="648" y="849"/>
                  </a:lnTo>
                  <a:lnTo>
                    <a:pt x="672" y="874"/>
                  </a:lnTo>
                  <a:lnTo>
                    <a:pt x="659" y="874"/>
                  </a:lnTo>
                  <a:lnTo>
                    <a:pt x="672" y="860"/>
                  </a:lnTo>
                  <a:lnTo>
                    <a:pt x="686" y="849"/>
                  </a:lnTo>
                  <a:lnTo>
                    <a:pt x="686" y="743"/>
                  </a:lnTo>
                  <a:lnTo>
                    <a:pt x="700" y="705"/>
                  </a:lnTo>
                  <a:lnTo>
                    <a:pt x="700" y="430"/>
                  </a:lnTo>
                  <a:lnTo>
                    <a:pt x="712" y="365"/>
                  </a:lnTo>
                  <a:lnTo>
                    <a:pt x="712" y="158"/>
                  </a:lnTo>
                  <a:lnTo>
                    <a:pt x="725" y="144"/>
                  </a:lnTo>
                  <a:lnTo>
                    <a:pt x="725" y="78"/>
                  </a:lnTo>
                  <a:lnTo>
                    <a:pt x="739" y="67"/>
                  </a:lnTo>
                  <a:lnTo>
                    <a:pt x="739" y="54"/>
                  </a:lnTo>
                  <a:lnTo>
                    <a:pt x="739" y="67"/>
                  </a:lnTo>
                  <a:lnTo>
                    <a:pt x="750" y="78"/>
                  </a:lnTo>
                  <a:lnTo>
                    <a:pt x="750" y="131"/>
                  </a:lnTo>
                  <a:lnTo>
                    <a:pt x="763" y="144"/>
                  </a:lnTo>
                  <a:lnTo>
                    <a:pt x="763" y="247"/>
                  </a:lnTo>
                  <a:lnTo>
                    <a:pt x="777" y="288"/>
                  </a:lnTo>
                  <a:lnTo>
                    <a:pt x="777" y="549"/>
                  </a:lnTo>
                  <a:lnTo>
                    <a:pt x="791" y="599"/>
                  </a:lnTo>
                  <a:lnTo>
                    <a:pt x="791" y="782"/>
                  </a:lnTo>
                  <a:lnTo>
                    <a:pt x="803" y="797"/>
                  </a:lnTo>
                  <a:lnTo>
                    <a:pt x="803" y="836"/>
                  </a:lnTo>
                  <a:lnTo>
                    <a:pt x="816" y="849"/>
                  </a:lnTo>
                  <a:lnTo>
                    <a:pt x="841" y="874"/>
                  </a:lnTo>
                  <a:lnTo>
                    <a:pt x="841" y="887"/>
                  </a:lnTo>
                  <a:lnTo>
                    <a:pt x="841" y="874"/>
                  </a:lnTo>
                  <a:lnTo>
                    <a:pt x="854" y="887"/>
                  </a:lnTo>
                  <a:lnTo>
                    <a:pt x="854" y="874"/>
                  </a:lnTo>
                  <a:lnTo>
                    <a:pt x="854" y="887"/>
                  </a:lnTo>
                  <a:lnTo>
                    <a:pt x="868" y="887"/>
                  </a:lnTo>
                  <a:lnTo>
                    <a:pt x="880" y="887"/>
                  </a:lnTo>
                  <a:lnTo>
                    <a:pt x="894" y="860"/>
                  </a:lnTo>
                  <a:lnTo>
                    <a:pt x="894" y="809"/>
                  </a:lnTo>
                  <a:lnTo>
                    <a:pt x="907" y="768"/>
                  </a:lnTo>
                  <a:lnTo>
                    <a:pt x="907" y="522"/>
                  </a:lnTo>
                  <a:lnTo>
                    <a:pt x="918" y="470"/>
                  </a:lnTo>
                  <a:lnTo>
                    <a:pt x="918" y="223"/>
                  </a:lnTo>
                  <a:lnTo>
                    <a:pt x="931" y="184"/>
                  </a:lnTo>
                  <a:lnTo>
                    <a:pt x="931" y="119"/>
                  </a:lnTo>
                  <a:lnTo>
                    <a:pt x="945" y="131"/>
                  </a:lnTo>
                  <a:lnTo>
                    <a:pt x="959" y="14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8529480" y="4425840"/>
              <a:ext cx="443160" cy="650520"/>
            </a:xfrm>
            <a:custGeom>
              <a:avLst/>
              <a:gdLst/>
              <a:ahLst/>
              <a:rect l="l" t="t" r="r" b="b"/>
              <a:pathLst>
                <a:path w="516" h="822">
                  <a:moveTo>
                    <a:pt x="0" y="0"/>
                  </a:moveTo>
                  <a:lnTo>
                    <a:pt x="0" y="25"/>
                  </a:lnTo>
                  <a:lnTo>
                    <a:pt x="12" y="66"/>
                  </a:lnTo>
                  <a:lnTo>
                    <a:pt x="12" y="117"/>
                  </a:lnTo>
                  <a:lnTo>
                    <a:pt x="25" y="144"/>
                  </a:lnTo>
                  <a:lnTo>
                    <a:pt x="25" y="313"/>
                  </a:lnTo>
                  <a:lnTo>
                    <a:pt x="39" y="352"/>
                  </a:lnTo>
                  <a:lnTo>
                    <a:pt x="39" y="533"/>
                  </a:lnTo>
                  <a:lnTo>
                    <a:pt x="50" y="560"/>
                  </a:lnTo>
                  <a:lnTo>
                    <a:pt x="50" y="653"/>
                  </a:lnTo>
                  <a:lnTo>
                    <a:pt x="62" y="665"/>
                  </a:lnTo>
                  <a:lnTo>
                    <a:pt x="62" y="691"/>
                  </a:lnTo>
                  <a:lnTo>
                    <a:pt x="76" y="705"/>
                  </a:lnTo>
                  <a:lnTo>
                    <a:pt x="89" y="705"/>
                  </a:lnTo>
                  <a:lnTo>
                    <a:pt x="103" y="716"/>
                  </a:lnTo>
                  <a:lnTo>
                    <a:pt x="127" y="743"/>
                  </a:lnTo>
                  <a:lnTo>
                    <a:pt x="127" y="770"/>
                  </a:lnTo>
                  <a:lnTo>
                    <a:pt x="139" y="782"/>
                  </a:lnTo>
                  <a:lnTo>
                    <a:pt x="167" y="808"/>
                  </a:lnTo>
                  <a:lnTo>
                    <a:pt x="153" y="808"/>
                  </a:lnTo>
                  <a:lnTo>
                    <a:pt x="167" y="793"/>
                  </a:lnTo>
                  <a:lnTo>
                    <a:pt x="180" y="782"/>
                  </a:lnTo>
                  <a:lnTo>
                    <a:pt x="180" y="770"/>
                  </a:lnTo>
                  <a:lnTo>
                    <a:pt x="204" y="743"/>
                  </a:lnTo>
                  <a:lnTo>
                    <a:pt x="193" y="743"/>
                  </a:lnTo>
                  <a:lnTo>
                    <a:pt x="204" y="757"/>
                  </a:lnTo>
                  <a:lnTo>
                    <a:pt x="218" y="770"/>
                  </a:lnTo>
                  <a:lnTo>
                    <a:pt x="230" y="782"/>
                  </a:lnTo>
                  <a:lnTo>
                    <a:pt x="244" y="793"/>
                  </a:lnTo>
                  <a:lnTo>
                    <a:pt x="257" y="793"/>
                  </a:lnTo>
                  <a:lnTo>
                    <a:pt x="271" y="782"/>
                  </a:lnTo>
                  <a:lnTo>
                    <a:pt x="283" y="770"/>
                  </a:lnTo>
                  <a:lnTo>
                    <a:pt x="283" y="757"/>
                  </a:lnTo>
                  <a:lnTo>
                    <a:pt x="295" y="743"/>
                  </a:lnTo>
                  <a:lnTo>
                    <a:pt x="295" y="757"/>
                  </a:lnTo>
                  <a:lnTo>
                    <a:pt x="307" y="757"/>
                  </a:lnTo>
                  <a:lnTo>
                    <a:pt x="321" y="782"/>
                  </a:lnTo>
                  <a:lnTo>
                    <a:pt x="335" y="793"/>
                  </a:lnTo>
                  <a:lnTo>
                    <a:pt x="348" y="793"/>
                  </a:lnTo>
                  <a:lnTo>
                    <a:pt x="360" y="822"/>
                  </a:lnTo>
                  <a:lnTo>
                    <a:pt x="372" y="808"/>
                  </a:lnTo>
                  <a:lnTo>
                    <a:pt x="386" y="808"/>
                  </a:lnTo>
                  <a:lnTo>
                    <a:pt x="398" y="793"/>
                  </a:lnTo>
                  <a:lnTo>
                    <a:pt x="412" y="793"/>
                  </a:lnTo>
                  <a:lnTo>
                    <a:pt x="425" y="808"/>
                  </a:lnTo>
                  <a:lnTo>
                    <a:pt x="439" y="808"/>
                  </a:lnTo>
                  <a:lnTo>
                    <a:pt x="462" y="782"/>
                  </a:lnTo>
                  <a:lnTo>
                    <a:pt x="462" y="770"/>
                  </a:lnTo>
                  <a:lnTo>
                    <a:pt x="475" y="757"/>
                  </a:lnTo>
                  <a:lnTo>
                    <a:pt x="489" y="770"/>
                  </a:lnTo>
                  <a:lnTo>
                    <a:pt x="503" y="770"/>
                  </a:lnTo>
                  <a:lnTo>
                    <a:pt x="516" y="77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7718400" y="5356080"/>
              <a:ext cx="798480" cy="671040"/>
            </a:xfrm>
            <a:custGeom>
              <a:avLst/>
              <a:gdLst/>
              <a:ahLst/>
              <a:rect l="l" t="t" r="r" b="b"/>
              <a:pathLst>
                <a:path w="931" h="845">
                  <a:moveTo>
                    <a:pt x="0" y="818"/>
                  </a:moveTo>
                  <a:lnTo>
                    <a:pt x="0" y="793"/>
                  </a:lnTo>
                  <a:lnTo>
                    <a:pt x="13" y="804"/>
                  </a:lnTo>
                  <a:lnTo>
                    <a:pt x="40" y="832"/>
                  </a:lnTo>
                  <a:lnTo>
                    <a:pt x="26" y="832"/>
                  </a:lnTo>
                  <a:lnTo>
                    <a:pt x="40" y="754"/>
                  </a:lnTo>
                  <a:lnTo>
                    <a:pt x="51" y="689"/>
                  </a:lnTo>
                  <a:lnTo>
                    <a:pt x="51" y="311"/>
                  </a:lnTo>
                  <a:lnTo>
                    <a:pt x="63" y="234"/>
                  </a:lnTo>
                  <a:lnTo>
                    <a:pt x="63" y="50"/>
                  </a:lnTo>
                  <a:lnTo>
                    <a:pt x="77" y="39"/>
                  </a:lnTo>
                  <a:lnTo>
                    <a:pt x="77" y="0"/>
                  </a:lnTo>
                  <a:lnTo>
                    <a:pt x="91" y="12"/>
                  </a:lnTo>
                  <a:lnTo>
                    <a:pt x="91" y="39"/>
                  </a:lnTo>
                  <a:lnTo>
                    <a:pt x="104" y="50"/>
                  </a:lnTo>
                  <a:lnTo>
                    <a:pt x="104" y="91"/>
                  </a:lnTo>
                  <a:lnTo>
                    <a:pt x="117" y="104"/>
                  </a:lnTo>
                  <a:lnTo>
                    <a:pt x="117" y="169"/>
                  </a:lnTo>
                  <a:lnTo>
                    <a:pt x="128" y="194"/>
                  </a:lnTo>
                  <a:lnTo>
                    <a:pt x="128" y="429"/>
                  </a:lnTo>
                  <a:lnTo>
                    <a:pt x="142" y="480"/>
                  </a:lnTo>
                  <a:lnTo>
                    <a:pt x="142" y="689"/>
                  </a:lnTo>
                  <a:lnTo>
                    <a:pt x="154" y="715"/>
                  </a:lnTo>
                  <a:lnTo>
                    <a:pt x="154" y="793"/>
                  </a:lnTo>
                  <a:lnTo>
                    <a:pt x="168" y="804"/>
                  </a:lnTo>
                  <a:lnTo>
                    <a:pt x="168" y="780"/>
                  </a:lnTo>
                  <a:lnTo>
                    <a:pt x="181" y="780"/>
                  </a:lnTo>
                  <a:lnTo>
                    <a:pt x="195" y="780"/>
                  </a:lnTo>
                  <a:lnTo>
                    <a:pt x="195" y="793"/>
                  </a:lnTo>
                  <a:lnTo>
                    <a:pt x="195" y="780"/>
                  </a:lnTo>
                  <a:lnTo>
                    <a:pt x="219" y="804"/>
                  </a:lnTo>
                  <a:lnTo>
                    <a:pt x="207" y="804"/>
                  </a:lnTo>
                  <a:lnTo>
                    <a:pt x="219" y="780"/>
                  </a:lnTo>
                  <a:lnTo>
                    <a:pt x="231" y="768"/>
                  </a:lnTo>
                  <a:lnTo>
                    <a:pt x="245" y="780"/>
                  </a:lnTo>
                  <a:lnTo>
                    <a:pt x="245" y="727"/>
                  </a:lnTo>
                  <a:lnTo>
                    <a:pt x="259" y="715"/>
                  </a:lnTo>
                  <a:lnTo>
                    <a:pt x="259" y="466"/>
                  </a:lnTo>
                  <a:lnTo>
                    <a:pt x="272" y="415"/>
                  </a:lnTo>
                  <a:lnTo>
                    <a:pt x="272" y="169"/>
                  </a:lnTo>
                  <a:lnTo>
                    <a:pt x="284" y="128"/>
                  </a:lnTo>
                  <a:lnTo>
                    <a:pt x="284" y="50"/>
                  </a:lnTo>
                  <a:lnTo>
                    <a:pt x="298" y="64"/>
                  </a:lnTo>
                  <a:lnTo>
                    <a:pt x="298" y="39"/>
                  </a:lnTo>
                  <a:lnTo>
                    <a:pt x="310" y="50"/>
                  </a:lnTo>
                  <a:lnTo>
                    <a:pt x="310" y="39"/>
                  </a:lnTo>
                  <a:lnTo>
                    <a:pt x="310" y="50"/>
                  </a:lnTo>
                  <a:lnTo>
                    <a:pt x="322" y="64"/>
                  </a:lnTo>
                  <a:lnTo>
                    <a:pt x="322" y="142"/>
                  </a:lnTo>
                  <a:lnTo>
                    <a:pt x="336" y="169"/>
                  </a:lnTo>
                  <a:lnTo>
                    <a:pt x="336" y="338"/>
                  </a:lnTo>
                  <a:lnTo>
                    <a:pt x="350" y="403"/>
                  </a:lnTo>
                  <a:lnTo>
                    <a:pt x="350" y="689"/>
                  </a:lnTo>
                  <a:lnTo>
                    <a:pt x="363" y="727"/>
                  </a:lnTo>
                  <a:lnTo>
                    <a:pt x="363" y="793"/>
                  </a:lnTo>
                  <a:lnTo>
                    <a:pt x="375" y="793"/>
                  </a:lnTo>
                  <a:lnTo>
                    <a:pt x="386" y="768"/>
                  </a:lnTo>
                  <a:lnTo>
                    <a:pt x="400" y="780"/>
                  </a:lnTo>
                  <a:lnTo>
                    <a:pt x="400" y="804"/>
                  </a:lnTo>
                  <a:lnTo>
                    <a:pt x="427" y="832"/>
                  </a:lnTo>
                  <a:lnTo>
                    <a:pt x="413" y="832"/>
                  </a:lnTo>
                  <a:lnTo>
                    <a:pt x="427" y="832"/>
                  </a:lnTo>
                  <a:lnTo>
                    <a:pt x="440" y="845"/>
                  </a:lnTo>
                  <a:lnTo>
                    <a:pt x="440" y="832"/>
                  </a:lnTo>
                  <a:lnTo>
                    <a:pt x="440" y="845"/>
                  </a:lnTo>
                  <a:lnTo>
                    <a:pt x="454" y="832"/>
                  </a:lnTo>
                  <a:lnTo>
                    <a:pt x="454" y="818"/>
                  </a:lnTo>
                  <a:lnTo>
                    <a:pt x="466" y="804"/>
                  </a:lnTo>
                  <a:lnTo>
                    <a:pt x="466" y="624"/>
                  </a:lnTo>
                  <a:lnTo>
                    <a:pt x="477" y="558"/>
                  </a:lnTo>
                  <a:lnTo>
                    <a:pt x="477" y="219"/>
                  </a:lnTo>
                  <a:lnTo>
                    <a:pt x="490" y="169"/>
                  </a:lnTo>
                  <a:lnTo>
                    <a:pt x="490" y="39"/>
                  </a:lnTo>
                  <a:lnTo>
                    <a:pt x="504" y="50"/>
                  </a:lnTo>
                  <a:lnTo>
                    <a:pt x="504" y="77"/>
                  </a:lnTo>
                  <a:lnTo>
                    <a:pt x="518" y="77"/>
                  </a:lnTo>
                  <a:lnTo>
                    <a:pt x="531" y="64"/>
                  </a:lnTo>
                  <a:lnTo>
                    <a:pt x="531" y="77"/>
                  </a:lnTo>
                  <a:lnTo>
                    <a:pt x="543" y="91"/>
                  </a:lnTo>
                  <a:lnTo>
                    <a:pt x="543" y="246"/>
                  </a:lnTo>
                  <a:lnTo>
                    <a:pt x="554" y="286"/>
                  </a:lnTo>
                  <a:lnTo>
                    <a:pt x="554" y="558"/>
                  </a:lnTo>
                  <a:lnTo>
                    <a:pt x="568" y="611"/>
                  </a:lnTo>
                  <a:lnTo>
                    <a:pt x="568" y="754"/>
                  </a:lnTo>
                  <a:lnTo>
                    <a:pt x="581" y="768"/>
                  </a:lnTo>
                  <a:lnTo>
                    <a:pt x="581" y="804"/>
                  </a:lnTo>
                  <a:lnTo>
                    <a:pt x="607" y="804"/>
                  </a:lnTo>
                  <a:lnTo>
                    <a:pt x="595" y="804"/>
                  </a:lnTo>
                  <a:lnTo>
                    <a:pt x="607" y="804"/>
                  </a:lnTo>
                  <a:lnTo>
                    <a:pt x="621" y="818"/>
                  </a:lnTo>
                  <a:lnTo>
                    <a:pt x="634" y="818"/>
                  </a:lnTo>
                  <a:lnTo>
                    <a:pt x="645" y="818"/>
                  </a:lnTo>
                  <a:lnTo>
                    <a:pt x="658" y="804"/>
                  </a:lnTo>
                  <a:lnTo>
                    <a:pt x="672" y="793"/>
                  </a:lnTo>
                  <a:lnTo>
                    <a:pt x="672" y="715"/>
                  </a:lnTo>
                  <a:lnTo>
                    <a:pt x="686" y="676"/>
                  </a:lnTo>
                  <a:lnTo>
                    <a:pt x="686" y="350"/>
                  </a:lnTo>
                  <a:lnTo>
                    <a:pt x="698" y="286"/>
                  </a:lnTo>
                  <a:lnTo>
                    <a:pt x="698" y="77"/>
                  </a:lnTo>
                  <a:lnTo>
                    <a:pt x="711" y="50"/>
                  </a:lnTo>
                  <a:lnTo>
                    <a:pt x="725" y="64"/>
                  </a:lnTo>
                  <a:lnTo>
                    <a:pt x="725" y="91"/>
                  </a:lnTo>
                  <a:lnTo>
                    <a:pt x="736" y="91"/>
                  </a:lnTo>
                  <a:lnTo>
                    <a:pt x="749" y="142"/>
                  </a:lnTo>
                  <a:lnTo>
                    <a:pt x="749" y="156"/>
                  </a:lnTo>
                  <a:lnTo>
                    <a:pt x="763" y="194"/>
                  </a:lnTo>
                  <a:lnTo>
                    <a:pt x="763" y="455"/>
                  </a:lnTo>
                  <a:lnTo>
                    <a:pt x="777" y="507"/>
                  </a:lnTo>
                  <a:lnTo>
                    <a:pt x="777" y="727"/>
                  </a:lnTo>
                  <a:lnTo>
                    <a:pt x="789" y="754"/>
                  </a:lnTo>
                  <a:lnTo>
                    <a:pt x="789" y="793"/>
                  </a:lnTo>
                  <a:lnTo>
                    <a:pt x="802" y="804"/>
                  </a:lnTo>
                  <a:lnTo>
                    <a:pt x="813" y="818"/>
                  </a:lnTo>
                  <a:lnTo>
                    <a:pt x="827" y="818"/>
                  </a:lnTo>
                  <a:lnTo>
                    <a:pt x="840" y="818"/>
                  </a:lnTo>
                  <a:lnTo>
                    <a:pt x="854" y="832"/>
                  </a:lnTo>
                  <a:lnTo>
                    <a:pt x="866" y="845"/>
                  </a:lnTo>
                  <a:lnTo>
                    <a:pt x="880" y="832"/>
                  </a:lnTo>
                  <a:lnTo>
                    <a:pt x="880" y="804"/>
                  </a:lnTo>
                  <a:lnTo>
                    <a:pt x="893" y="780"/>
                  </a:lnTo>
                  <a:lnTo>
                    <a:pt x="893" y="507"/>
                  </a:lnTo>
                  <a:lnTo>
                    <a:pt x="904" y="442"/>
                  </a:lnTo>
                  <a:lnTo>
                    <a:pt x="904" y="128"/>
                  </a:lnTo>
                  <a:lnTo>
                    <a:pt x="917" y="104"/>
                  </a:lnTo>
                  <a:lnTo>
                    <a:pt x="917" y="50"/>
                  </a:lnTo>
                  <a:lnTo>
                    <a:pt x="917" y="64"/>
                  </a:lnTo>
                  <a:lnTo>
                    <a:pt x="931" y="77"/>
                  </a:lnTo>
                  <a:lnTo>
                    <a:pt x="931" y="10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8516880" y="5438520"/>
              <a:ext cx="455760" cy="650520"/>
            </a:xfrm>
            <a:custGeom>
              <a:avLst/>
              <a:gdLst/>
              <a:ahLst/>
              <a:rect l="l" t="t" r="r" b="b"/>
              <a:pathLst>
                <a:path w="530" h="820">
                  <a:moveTo>
                    <a:pt x="0" y="0"/>
                  </a:moveTo>
                  <a:lnTo>
                    <a:pt x="14" y="13"/>
                  </a:lnTo>
                  <a:lnTo>
                    <a:pt x="14" y="27"/>
                  </a:lnTo>
                  <a:lnTo>
                    <a:pt x="26" y="38"/>
                  </a:lnTo>
                  <a:lnTo>
                    <a:pt x="26" y="144"/>
                  </a:lnTo>
                  <a:lnTo>
                    <a:pt x="39" y="156"/>
                  </a:lnTo>
                  <a:lnTo>
                    <a:pt x="39" y="325"/>
                  </a:lnTo>
                  <a:lnTo>
                    <a:pt x="53" y="365"/>
                  </a:lnTo>
                  <a:lnTo>
                    <a:pt x="53" y="572"/>
                  </a:lnTo>
                  <a:lnTo>
                    <a:pt x="64" y="599"/>
                  </a:lnTo>
                  <a:lnTo>
                    <a:pt x="64" y="690"/>
                  </a:lnTo>
                  <a:lnTo>
                    <a:pt x="76" y="703"/>
                  </a:lnTo>
                  <a:lnTo>
                    <a:pt x="76" y="728"/>
                  </a:lnTo>
                  <a:lnTo>
                    <a:pt x="103" y="728"/>
                  </a:lnTo>
                  <a:lnTo>
                    <a:pt x="90" y="728"/>
                  </a:lnTo>
                  <a:lnTo>
                    <a:pt x="103" y="728"/>
                  </a:lnTo>
                  <a:lnTo>
                    <a:pt x="117" y="741"/>
                  </a:lnTo>
                  <a:lnTo>
                    <a:pt x="130" y="728"/>
                  </a:lnTo>
                  <a:lnTo>
                    <a:pt x="141" y="741"/>
                  </a:lnTo>
                  <a:lnTo>
                    <a:pt x="153" y="755"/>
                  </a:lnTo>
                  <a:lnTo>
                    <a:pt x="167" y="768"/>
                  </a:lnTo>
                  <a:lnTo>
                    <a:pt x="181" y="768"/>
                  </a:lnTo>
                  <a:lnTo>
                    <a:pt x="194" y="768"/>
                  </a:lnTo>
                  <a:lnTo>
                    <a:pt x="207" y="755"/>
                  </a:lnTo>
                  <a:lnTo>
                    <a:pt x="221" y="755"/>
                  </a:lnTo>
                  <a:lnTo>
                    <a:pt x="232" y="768"/>
                  </a:lnTo>
                  <a:lnTo>
                    <a:pt x="244" y="781"/>
                  </a:lnTo>
                  <a:lnTo>
                    <a:pt x="258" y="781"/>
                  </a:lnTo>
                  <a:lnTo>
                    <a:pt x="271" y="781"/>
                  </a:lnTo>
                  <a:lnTo>
                    <a:pt x="297" y="792"/>
                  </a:lnTo>
                  <a:lnTo>
                    <a:pt x="285" y="792"/>
                  </a:lnTo>
                  <a:lnTo>
                    <a:pt x="297" y="792"/>
                  </a:lnTo>
                  <a:lnTo>
                    <a:pt x="309" y="781"/>
                  </a:lnTo>
                  <a:lnTo>
                    <a:pt x="321" y="781"/>
                  </a:lnTo>
                  <a:lnTo>
                    <a:pt x="349" y="781"/>
                  </a:lnTo>
                  <a:lnTo>
                    <a:pt x="349" y="792"/>
                  </a:lnTo>
                  <a:lnTo>
                    <a:pt x="362" y="792"/>
                  </a:lnTo>
                  <a:lnTo>
                    <a:pt x="374" y="820"/>
                  </a:lnTo>
                  <a:lnTo>
                    <a:pt x="386" y="806"/>
                  </a:lnTo>
                  <a:lnTo>
                    <a:pt x="400" y="792"/>
                  </a:lnTo>
                  <a:lnTo>
                    <a:pt x="412" y="792"/>
                  </a:lnTo>
                  <a:lnTo>
                    <a:pt x="426" y="781"/>
                  </a:lnTo>
                  <a:lnTo>
                    <a:pt x="426" y="792"/>
                  </a:lnTo>
                  <a:lnTo>
                    <a:pt x="426" y="781"/>
                  </a:lnTo>
                  <a:lnTo>
                    <a:pt x="439" y="781"/>
                  </a:lnTo>
                  <a:lnTo>
                    <a:pt x="453" y="781"/>
                  </a:lnTo>
                  <a:lnTo>
                    <a:pt x="465" y="781"/>
                  </a:lnTo>
                  <a:lnTo>
                    <a:pt x="476" y="792"/>
                  </a:lnTo>
                  <a:lnTo>
                    <a:pt x="489" y="806"/>
                  </a:lnTo>
                  <a:lnTo>
                    <a:pt x="503" y="806"/>
                  </a:lnTo>
                  <a:lnTo>
                    <a:pt x="517" y="792"/>
                  </a:lnTo>
                  <a:lnTo>
                    <a:pt x="530" y="79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4498920" y="6238800"/>
              <a:ext cx="866880" cy="329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4498920" y="6246720"/>
              <a:ext cx="644760" cy="30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4497480" y="6254640"/>
              <a:ext cx="63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zan</a:t>
              </a:r>
              <a:endParaRPr b="0" lang="en-US" sz="1800" spc="-1" strike="noStrike">
                <a:solidFill>
                  <a:srgbClr val="000000"/>
                </a:solidFill>
                <a:latin typeface="Times New Roman"/>
              </a:endParaRPr>
            </a:p>
          </p:txBody>
        </p:sp>
        <p:sp>
          <p:nvSpPr>
            <p:cNvPr id="2569" name=""/>
            <p:cNvSpPr/>
            <p:nvPr/>
          </p:nvSpPr>
          <p:spPr>
            <a:xfrm>
              <a:off x="6108840" y="6238800"/>
              <a:ext cx="1166760" cy="33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6108840" y="6246720"/>
              <a:ext cx="549000" cy="30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6108840" y="6254640"/>
              <a:ext cx="43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SA</a:t>
              </a:r>
              <a:endParaRPr b="0" lang="en-US" sz="1800" spc="-1" strike="noStrike">
                <a:solidFill>
                  <a:srgbClr val="000000"/>
                </a:solidFill>
                <a:latin typeface="Times New Roman"/>
              </a:endParaRPr>
            </a:p>
          </p:txBody>
        </p:sp>
        <p:sp>
          <p:nvSpPr>
            <p:cNvPr id="2572" name=""/>
            <p:cNvSpPr/>
            <p:nvPr/>
          </p:nvSpPr>
          <p:spPr>
            <a:xfrm>
              <a:off x="6643800" y="6246720"/>
              <a:ext cx="534960" cy="30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642720" y="6254640"/>
              <a:ext cx="421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ee</a:t>
              </a:r>
              <a:endParaRPr b="0" lang="en-US" sz="1800" spc="-1" strike="noStrike">
                <a:solidFill>
                  <a:srgbClr val="000000"/>
                </a:solidFill>
                <a:latin typeface="Times New Roman"/>
              </a:endParaRPr>
            </a:p>
          </p:txBody>
        </p:sp>
        <p:sp>
          <p:nvSpPr>
            <p:cNvPr id="2574" name=""/>
            <p:cNvSpPr/>
            <p:nvPr/>
          </p:nvSpPr>
          <p:spPr>
            <a:xfrm>
              <a:off x="7885080" y="6238800"/>
              <a:ext cx="865080" cy="329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7885080" y="6246720"/>
              <a:ext cx="604800" cy="30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7885080" y="625464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M</a:t>
              </a:r>
              <a:endParaRPr b="0" lang="en-US" sz="1800" spc="-1" strike="noStrike">
                <a:solidFill>
                  <a:srgbClr val="000000"/>
                </a:solidFill>
                <a:latin typeface="Times New Roman"/>
              </a:endParaRPr>
            </a:p>
          </p:txBody>
        </p:sp>
      </p:grpSp>
      <p:sp>
        <p:nvSpPr>
          <p:cNvPr id="2577" name=""/>
          <p:cNvSpPr/>
          <p:nvPr/>
        </p:nvSpPr>
        <p:spPr>
          <a:xfrm>
            <a:off x="117360" y="1353960"/>
            <a:ext cx="396252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e used from Monday January 6</a:t>
            </a:r>
            <a:r>
              <a:rPr b="0" lang="en-US" sz="1600" spc="-1" strike="noStrike" baseline="30000">
                <a:solidFill>
                  <a:srgbClr val="000000"/>
                </a:solidFill>
                <a:latin typeface="Times New Roman"/>
                <a:ea typeface="Times New Roman"/>
              </a:rPr>
              <a:t>th</a:t>
            </a:r>
            <a:r>
              <a:rPr b="0" lang="en-US" sz="1600" spc="-1" strike="noStrike">
                <a:solidFill>
                  <a:srgbClr val="000000"/>
                </a:solidFill>
                <a:latin typeface="Times New Roman"/>
                <a:ea typeface="Times New Roman"/>
              </a:rPr>
              <a:t> to Sunday March 23</a:t>
            </a:r>
            <a:r>
              <a:rPr b="0" lang="en-US" sz="1600" spc="-1" strike="noStrike" baseline="30000">
                <a:solidFill>
                  <a:srgbClr val="000000"/>
                </a:solidFill>
                <a:latin typeface="Times New Roman"/>
                <a:ea typeface="Times New Roman"/>
              </a:rPr>
              <a:t>rd</a:t>
            </a:r>
            <a:r>
              <a:rPr b="0" lang="en-US" sz="1600" spc="-1" strike="noStrike">
                <a:solidFill>
                  <a:srgbClr val="000000"/>
                </a:solidFill>
                <a:latin typeface="Times New Roman"/>
                <a:ea typeface="Times New Roman"/>
              </a:rPr>
              <a:t>  as reference data. This time period is devoid of national holidays. We tested on the remainder of the ye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e will just show the 3 most surprising subsequences found by each algorithm. For each of the 3 approaches we show the entire week (beginning Monday) in which the 3 largest values of surprise fel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th TSA-tree and IMM returned sequences that appear to be normal workweeks, however Tarzan returned 3 sequences that correspond to the weeks that contain national holidays in the Netherlands. In particular, from top to bottom, the week spanning both December 25</a:t>
            </a:r>
            <a:r>
              <a:rPr b="0" lang="en-US" sz="1600" spc="-1" strike="noStrike" baseline="30000">
                <a:solidFill>
                  <a:srgbClr val="000000"/>
                </a:solidFill>
                <a:latin typeface="Times New Roman"/>
                <a:ea typeface="Times New Roman"/>
              </a:rPr>
              <a:t>th</a:t>
            </a:r>
            <a:r>
              <a:rPr b="0" lang="en-US" sz="1600" spc="-1" strike="noStrike">
                <a:solidFill>
                  <a:srgbClr val="000000"/>
                </a:solidFill>
                <a:latin typeface="Times New Roman"/>
                <a:ea typeface="Times New Roman"/>
              </a:rPr>
              <a:t> and 26</a:t>
            </a:r>
            <a:r>
              <a:rPr b="0" lang="en-US" sz="1600" spc="-1" strike="noStrike" baseline="30000">
                <a:solidFill>
                  <a:srgbClr val="000000"/>
                </a:solidFill>
                <a:latin typeface="Times New Roman"/>
                <a:ea typeface="Times New Roman"/>
              </a:rPr>
              <a:t>th</a:t>
            </a:r>
            <a:r>
              <a:rPr b="0" lang="en-US" sz="1600" spc="-1" strike="noStrike">
                <a:solidFill>
                  <a:srgbClr val="000000"/>
                </a:solidFill>
                <a:latin typeface="Times New Roman"/>
                <a:ea typeface="Times New Roman"/>
              </a:rPr>
              <a:t> and the weeks containing Wednesday April 30</a:t>
            </a:r>
            <a:r>
              <a:rPr b="0" lang="en-US" sz="1600" spc="-1" strike="noStrike" baseline="30000">
                <a:solidFill>
                  <a:srgbClr val="000000"/>
                </a:solidFill>
                <a:latin typeface="Times New Roman"/>
                <a:ea typeface="Times New Roman"/>
              </a:rPr>
              <a:t>th</a:t>
            </a:r>
            <a:r>
              <a:rPr b="0" lang="en-US" sz="1600" spc="-1" strike="noStrike">
                <a:solidFill>
                  <a:srgbClr val="000000"/>
                </a:solidFill>
                <a:latin typeface="Times New Roman"/>
                <a:ea typeface="Times New Roman"/>
              </a:rPr>
              <a:t> (Koninginnedag, “Queen's Day”) and May 19</a:t>
            </a:r>
            <a:r>
              <a:rPr b="0" lang="en-US" sz="1600" spc="-1" strike="noStrike" baseline="30000">
                <a:solidFill>
                  <a:srgbClr val="000000"/>
                </a:solidFill>
                <a:latin typeface="Times New Roman"/>
                <a:ea typeface="Times New Roman"/>
              </a:rPr>
              <a:t>th</a:t>
            </a:r>
            <a:r>
              <a:rPr b="0" lang="en-US" sz="1600" spc="-1" strike="noStrike">
                <a:solidFill>
                  <a:srgbClr val="000000"/>
                </a:solidFill>
                <a:latin typeface="Times New Roman"/>
                <a:ea typeface="Times New Roman"/>
              </a:rPr>
              <a:t>  (Whit Monday). </a:t>
            </a:r>
            <a:endParaRPr b="0" lang="en-US" sz="1600" spc="-1" strike="noStrike">
              <a:solidFill>
                <a:srgbClr val="000000"/>
              </a:solidFill>
              <a:latin typeface="Times New Roman"/>
            </a:endParaRPr>
          </a:p>
        </p:txBody>
      </p:sp>
      <p:sp>
        <p:nvSpPr>
          <p:cNvPr id="2578" name=""/>
          <p:cNvSpPr/>
          <p:nvPr/>
        </p:nvSpPr>
        <p:spPr>
          <a:xfrm flipH="1">
            <a:off x="5324400" y="1284120"/>
            <a:ext cx="1712880" cy="741600"/>
          </a:xfrm>
          <a:prstGeom prst="wedgeRoundRectCallout">
            <a:avLst>
              <a:gd name="adj1" fmla="val -61124"/>
              <a:gd name="adj2" fmla="val 75694"/>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Mmm.. anomalous..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579" name=""/>
          <p:cNvSpPr/>
          <p:nvPr/>
        </p:nvSpPr>
        <p:spPr>
          <a:xfrm>
            <a:off x="1440" y="136440"/>
            <a:ext cx="92682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Experiment 3: Power Demand </a:t>
            </a:r>
            <a:r>
              <a:rPr b="0" lang="en-US" sz="3600" spc="-1" strike="noStrike">
                <a:solidFill>
                  <a:srgbClr val="000000"/>
                </a:solidFill>
                <a:latin typeface="Times New Roman"/>
                <a:ea typeface="Times New Roman"/>
              </a:rPr>
              <a:t>(Part 2)</a:t>
            </a:r>
            <a:r>
              <a:rPr b="0" lang="en-US" sz="4800" spc="-1" strike="noStrike">
                <a:solidFill>
                  <a:srgbClr val="000000"/>
                </a:solidFill>
                <a:latin typeface="Times New Roman"/>
                <a:ea typeface="Times New Roman"/>
              </a:rPr>
              <a:t> </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0" name="" descr=""/>
          <p:cNvPicPr/>
          <p:nvPr/>
        </p:nvPicPr>
        <p:blipFill>
          <a:blip r:embed="rId1"/>
          <a:stretch/>
        </p:blipFill>
        <p:spPr>
          <a:xfrm>
            <a:off x="7689960" y="204840"/>
            <a:ext cx="1288800" cy="2687760"/>
          </a:xfrm>
          <a:prstGeom prst="rect">
            <a:avLst/>
          </a:prstGeom>
          <a:ln w="0">
            <a:noFill/>
          </a:ln>
        </p:spPr>
      </p:pic>
      <p:sp>
        <p:nvSpPr>
          <p:cNvPr id="2581" name=""/>
          <p:cNvSpPr/>
          <p:nvPr/>
        </p:nvSpPr>
        <p:spPr>
          <a:xfrm>
            <a:off x="345960" y="374760"/>
            <a:ext cx="6743880" cy="5527440"/>
          </a:xfrm>
          <a:prstGeom prst="wedgeRoundRectCallout">
            <a:avLst>
              <a:gd name="adj1" fmla="val 59555"/>
              <a:gd name="adj2" fmla="val -33689"/>
              <a:gd name="adj3" fmla="val 16667"/>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SA recently said “</a:t>
            </a:r>
            <a:r>
              <a:rPr b="0" i="1" lang="en-US" sz="3200" spc="-1" strike="noStrike">
                <a:solidFill>
                  <a:srgbClr val="000000"/>
                </a:solidFill>
                <a:latin typeface="Comic Sans MS"/>
              </a:rPr>
              <a:t>TARZAN holds great promise for the future</a:t>
            </a:r>
            <a:r>
              <a:rPr b="0" lang="en-US"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is now a journal version of TARZAN (under review), if you would like a copy, just ask.</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meantime, let us consider motif discovery…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2" name=""/>
          <p:cNvSpPr/>
          <p:nvPr/>
        </p:nvSpPr>
        <p:spPr>
          <a:xfrm>
            <a:off x="290520" y="6032520"/>
            <a:ext cx="8337600" cy="824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Isaac, D. and Christopher Lynnes, 2003. Automated Data Quality Assessment in the Intelligent Archive, White Paper prepared for the Intelligent Data Understanding program.</a:t>
            </a:r>
            <a:endParaRPr b="0" lang="en-US" sz="1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3" name="PlaceHolder 1"/>
          <p:cNvSpPr>
            <a:spLocks noGrp="1"/>
          </p:cNvSpPr>
          <p:nvPr>
            <p:ph type="title"/>
          </p:nvPr>
        </p:nvSpPr>
        <p:spPr>
          <a:xfrm>
            <a:off x="1371600" y="482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AX allows Motif Discovery!</a:t>
            </a:r>
            <a:endParaRPr b="0" lang="en-US" sz="5400" spc="-1" strike="noStrike">
              <a:solidFill>
                <a:srgbClr val="000000"/>
              </a:solidFill>
              <a:latin typeface="Times New Roman"/>
            </a:endParaRPr>
          </a:p>
        </p:txBody>
      </p:sp>
      <p:sp>
        <p:nvSpPr>
          <p:cNvPr id="2584" name=""/>
          <p:cNvSpPr/>
          <p:nvPr/>
        </p:nvSpPr>
        <p:spPr>
          <a:xfrm>
            <a:off x="305280" y="3086280"/>
            <a:ext cx="8928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585" name=""/>
          <p:cNvSpPr/>
          <p:nvPr/>
        </p:nvSpPr>
        <p:spPr>
          <a:xfrm>
            <a:off x="4767120" y="3851280"/>
            <a:ext cx="3386160" cy="558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5750280" y="3852720"/>
            <a:ext cx="7567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Winding</a:t>
            </a:r>
            <a:endParaRPr b="0" lang="en-US" sz="1700" spc="-1" strike="noStrike">
              <a:solidFill>
                <a:srgbClr val="000000"/>
              </a:solidFill>
              <a:latin typeface="Times New Roman"/>
            </a:endParaRPr>
          </a:p>
        </p:txBody>
      </p:sp>
      <p:sp>
        <p:nvSpPr>
          <p:cNvPr id="2587" name=""/>
          <p:cNvSpPr/>
          <p:nvPr/>
        </p:nvSpPr>
        <p:spPr>
          <a:xfrm>
            <a:off x="6606360" y="3852720"/>
            <a:ext cx="7030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Dataset</a:t>
            </a:r>
            <a:endParaRPr b="0" lang="en-US" sz="1700" spc="-1" strike="noStrike">
              <a:solidFill>
                <a:srgbClr val="000000"/>
              </a:solidFill>
              <a:latin typeface="Times New Roman"/>
            </a:endParaRPr>
          </a:p>
        </p:txBody>
      </p:sp>
      <p:sp>
        <p:nvSpPr>
          <p:cNvPr id="2588" name=""/>
          <p:cNvSpPr/>
          <p:nvPr/>
        </p:nvSpPr>
        <p:spPr>
          <a:xfrm>
            <a:off x="7345080" y="385272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2589" name=""/>
          <p:cNvSpPr/>
          <p:nvPr/>
        </p:nvSpPr>
        <p:spPr>
          <a:xfrm>
            <a:off x="7407000" y="385272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2590" name=""/>
          <p:cNvSpPr/>
          <p:nvPr/>
        </p:nvSpPr>
        <p:spPr>
          <a:xfrm>
            <a:off x="5483160" y="409716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91" name=""/>
          <p:cNvSpPr/>
          <p:nvPr/>
        </p:nvSpPr>
        <p:spPr>
          <a:xfrm>
            <a:off x="5691240" y="4097160"/>
            <a:ext cx="165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gular speed of reel 2</a:t>
            </a:r>
            <a:endParaRPr b="0" lang="en-US" sz="1200" spc="-1" strike="noStrike">
              <a:solidFill>
                <a:srgbClr val="000000"/>
              </a:solidFill>
              <a:latin typeface="Times New Roman"/>
            </a:endParaRPr>
          </a:p>
        </p:txBody>
      </p:sp>
      <p:sp>
        <p:nvSpPr>
          <p:cNvPr id="2592" name=""/>
          <p:cNvSpPr/>
          <p:nvPr/>
        </p:nvSpPr>
        <p:spPr>
          <a:xfrm>
            <a:off x="7457760" y="409716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93" name=""/>
          <p:cNvSpPr/>
          <p:nvPr/>
        </p:nvSpPr>
        <p:spPr>
          <a:xfrm>
            <a:off x="7539120" y="401652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2594" name=""/>
          <p:cNvSpPr/>
          <p:nvPr/>
        </p:nvSpPr>
        <p:spPr>
          <a:xfrm>
            <a:off x="239760" y="3092400"/>
            <a:ext cx="8324640" cy="1236600"/>
          </a:xfrm>
          <a:prstGeom prst="rect">
            <a:avLst/>
          </a:prstGeom>
          <a:noFill/>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239760" y="3090960"/>
            <a:ext cx="83232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6" name=""/>
          <p:cNvSpPr/>
          <p:nvPr/>
        </p:nvSpPr>
        <p:spPr>
          <a:xfrm>
            <a:off x="239760" y="4327560"/>
            <a:ext cx="83232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7" name=""/>
          <p:cNvSpPr/>
          <p:nvPr/>
        </p:nvSpPr>
        <p:spPr>
          <a:xfrm flipV="1">
            <a:off x="8562960" y="3090600"/>
            <a:ext cx="1440" cy="12366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flipV="1">
            <a:off x="239760" y="3090600"/>
            <a:ext cx="1440" cy="12366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239760" y="4327560"/>
            <a:ext cx="83232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0" name=""/>
          <p:cNvSpPr/>
          <p:nvPr/>
        </p:nvSpPr>
        <p:spPr>
          <a:xfrm flipV="1">
            <a:off x="239760" y="3090600"/>
            <a:ext cx="1440" cy="12366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flipV="1">
            <a:off x="239760" y="4247640"/>
            <a:ext cx="1440" cy="79560"/>
          </a:xfrm>
          <a:prstGeom prst="line">
            <a:avLst/>
          </a:prstGeom>
          <a:ln w="1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02" name=""/>
          <p:cNvSpPr/>
          <p:nvPr/>
        </p:nvSpPr>
        <p:spPr>
          <a:xfrm>
            <a:off x="239760" y="3092400"/>
            <a:ext cx="1440" cy="684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03" name=""/>
          <p:cNvSpPr/>
          <p:nvPr/>
        </p:nvSpPr>
        <p:spPr>
          <a:xfrm>
            <a:off x="258840" y="4357800"/>
            <a:ext cx="34452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302040" y="436104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605" name=""/>
          <p:cNvSpPr/>
          <p:nvPr/>
        </p:nvSpPr>
        <p:spPr>
          <a:xfrm>
            <a:off x="449640" y="4172040"/>
            <a:ext cx="8928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606" name=""/>
          <p:cNvSpPr/>
          <p:nvPr/>
        </p:nvSpPr>
        <p:spPr>
          <a:xfrm flipV="1">
            <a:off x="1903320" y="4247640"/>
            <a:ext cx="1800" cy="79560"/>
          </a:xfrm>
          <a:prstGeom prst="line">
            <a:avLst/>
          </a:prstGeom>
          <a:ln w="1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07" name=""/>
          <p:cNvSpPr/>
          <p:nvPr/>
        </p:nvSpPr>
        <p:spPr>
          <a:xfrm>
            <a:off x="1903320" y="3092400"/>
            <a:ext cx="1800" cy="684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08" name=""/>
          <p:cNvSpPr/>
          <p:nvPr/>
        </p:nvSpPr>
        <p:spPr>
          <a:xfrm>
            <a:off x="1792440" y="4357800"/>
            <a:ext cx="739800" cy="37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1843920" y="436104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2610" name=""/>
          <p:cNvSpPr/>
          <p:nvPr/>
        </p:nvSpPr>
        <p:spPr>
          <a:xfrm>
            <a:off x="2030760" y="436104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611" name=""/>
          <p:cNvSpPr/>
          <p:nvPr/>
        </p:nvSpPr>
        <p:spPr>
          <a:xfrm>
            <a:off x="2178360" y="4172040"/>
            <a:ext cx="8928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612" name=""/>
          <p:cNvSpPr/>
          <p:nvPr/>
        </p:nvSpPr>
        <p:spPr>
          <a:xfrm flipV="1">
            <a:off x="3568680" y="4247640"/>
            <a:ext cx="1440" cy="79560"/>
          </a:xfrm>
          <a:prstGeom prst="line">
            <a:avLst/>
          </a:prstGeom>
          <a:ln w="1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13" name=""/>
          <p:cNvSpPr/>
          <p:nvPr/>
        </p:nvSpPr>
        <p:spPr>
          <a:xfrm>
            <a:off x="3568680" y="3092400"/>
            <a:ext cx="1440" cy="684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14" name=""/>
          <p:cNvSpPr/>
          <p:nvPr/>
        </p:nvSpPr>
        <p:spPr>
          <a:xfrm>
            <a:off x="3413160" y="4357800"/>
            <a:ext cx="922320" cy="37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3476880" y="43610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Times New Roman"/>
            </a:endParaRPr>
          </a:p>
        </p:txBody>
      </p:sp>
      <p:sp>
        <p:nvSpPr>
          <p:cNvPr id="2616" name=""/>
          <p:cNvSpPr/>
          <p:nvPr/>
        </p:nvSpPr>
        <p:spPr>
          <a:xfrm>
            <a:off x="3896280" y="4172040"/>
            <a:ext cx="8928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617" name=""/>
          <p:cNvSpPr/>
          <p:nvPr/>
        </p:nvSpPr>
        <p:spPr>
          <a:xfrm flipV="1">
            <a:off x="5234040" y="4247640"/>
            <a:ext cx="1440" cy="79560"/>
          </a:xfrm>
          <a:prstGeom prst="line">
            <a:avLst/>
          </a:prstGeom>
          <a:ln w="1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18" name=""/>
          <p:cNvSpPr/>
          <p:nvPr/>
        </p:nvSpPr>
        <p:spPr>
          <a:xfrm>
            <a:off x="5234040" y="3092400"/>
            <a:ext cx="1440" cy="684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19" name=""/>
          <p:cNvSpPr/>
          <p:nvPr/>
        </p:nvSpPr>
        <p:spPr>
          <a:xfrm>
            <a:off x="5076720" y="4357800"/>
            <a:ext cx="924120" cy="37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5137200" y="436104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a:t>
            </a:r>
            <a:endParaRPr b="0" lang="en-US" sz="1200" spc="-1" strike="noStrike">
              <a:solidFill>
                <a:srgbClr val="000000"/>
              </a:solidFill>
              <a:latin typeface="Times New Roman"/>
            </a:endParaRPr>
          </a:p>
        </p:txBody>
      </p:sp>
      <p:sp>
        <p:nvSpPr>
          <p:cNvPr id="2621" name=""/>
          <p:cNvSpPr/>
          <p:nvPr/>
        </p:nvSpPr>
        <p:spPr>
          <a:xfrm>
            <a:off x="5415480" y="436104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622" name=""/>
          <p:cNvSpPr/>
          <p:nvPr/>
        </p:nvSpPr>
        <p:spPr>
          <a:xfrm>
            <a:off x="5563080" y="4172040"/>
            <a:ext cx="8928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623" name=""/>
          <p:cNvSpPr/>
          <p:nvPr/>
        </p:nvSpPr>
        <p:spPr>
          <a:xfrm flipV="1">
            <a:off x="6897600" y="4247640"/>
            <a:ext cx="1800" cy="79560"/>
          </a:xfrm>
          <a:prstGeom prst="line">
            <a:avLst/>
          </a:prstGeom>
          <a:ln w="1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24" name=""/>
          <p:cNvSpPr/>
          <p:nvPr/>
        </p:nvSpPr>
        <p:spPr>
          <a:xfrm>
            <a:off x="6897600" y="3092400"/>
            <a:ext cx="1800" cy="684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25" name=""/>
          <p:cNvSpPr/>
          <p:nvPr/>
        </p:nvSpPr>
        <p:spPr>
          <a:xfrm>
            <a:off x="6651720" y="4357800"/>
            <a:ext cx="919080" cy="37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6716880" y="43610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Times New Roman"/>
            </a:endParaRPr>
          </a:p>
        </p:txBody>
      </p:sp>
      <p:sp>
        <p:nvSpPr>
          <p:cNvPr id="2627" name=""/>
          <p:cNvSpPr/>
          <p:nvPr/>
        </p:nvSpPr>
        <p:spPr>
          <a:xfrm>
            <a:off x="7134840" y="4172040"/>
            <a:ext cx="8928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628" name=""/>
          <p:cNvSpPr/>
          <p:nvPr/>
        </p:nvSpPr>
        <p:spPr>
          <a:xfrm flipV="1">
            <a:off x="8562960" y="4247640"/>
            <a:ext cx="1440" cy="79560"/>
          </a:xfrm>
          <a:prstGeom prst="line">
            <a:avLst/>
          </a:prstGeom>
          <a:ln w="1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29" name=""/>
          <p:cNvSpPr/>
          <p:nvPr/>
        </p:nvSpPr>
        <p:spPr>
          <a:xfrm>
            <a:off x="8562960" y="3092400"/>
            <a:ext cx="1440" cy="684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30" name=""/>
          <p:cNvSpPr/>
          <p:nvPr/>
        </p:nvSpPr>
        <p:spPr>
          <a:xfrm>
            <a:off x="8248680" y="4357800"/>
            <a:ext cx="431640" cy="37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8314200" y="43610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a:t>
            </a:r>
            <a:endParaRPr b="0" lang="en-US" sz="1200" spc="-1" strike="noStrike">
              <a:solidFill>
                <a:srgbClr val="000000"/>
              </a:solidFill>
              <a:latin typeface="Times New Roman"/>
            </a:endParaRPr>
          </a:p>
        </p:txBody>
      </p:sp>
      <p:sp>
        <p:nvSpPr>
          <p:cNvPr id="2632" name=""/>
          <p:cNvSpPr/>
          <p:nvPr/>
        </p:nvSpPr>
        <p:spPr>
          <a:xfrm>
            <a:off x="8672760" y="43610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33" name=""/>
          <p:cNvSpPr/>
          <p:nvPr/>
        </p:nvSpPr>
        <p:spPr>
          <a:xfrm>
            <a:off x="239760" y="4327560"/>
            <a:ext cx="77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4" name=""/>
          <p:cNvSpPr/>
          <p:nvPr/>
        </p:nvSpPr>
        <p:spPr>
          <a:xfrm flipH="1">
            <a:off x="8473680" y="4327560"/>
            <a:ext cx="88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5" name=""/>
          <p:cNvSpPr/>
          <p:nvPr/>
        </p:nvSpPr>
        <p:spPr>
          <a:xfrm>
            <a:off x="239760" y="4013280"/>
            <a:ext cx="77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6" name=""/>
          <p:cNvSpPr/>
          <p:nvPr/>
        </p:nvSpPr>
        <p:spPr>
          <a:xfrm flipH="1">
            <a:off x="8473680" y="4013280"/>
            <a:ext cx="88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7" name=""/>
          <p:cNvSpPr/>
          <p:nvPr/>
        </p:nvSpPr>
        <p:spPr>
          <a:xfrm>
            <a:off x="239760" y="3708360"/>
            <a:ext cx="777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8" name=""/>
          <p:cNvSpPr/>
          <p:nvPr/>
        </p:nvSpPr>
        <p:spPr>
          <a:xfrm flipH="1">
            <a:off x="8473680" y="3708360"/>
            <a:ext cx="889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9" name=""/>
          <p:cNvSpPr/>
          <p:nvPr/>
        </p:nvSpPr>
        <p:spPr>
          <a:xfrm>
            <a:off x="239760" y="3395520"/>
            <a:ext cx="777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0" name=""/>
          <p:cNvSpPr/>
          <p:nvPr/>
        </p:nvSpPr>
        <p:spPr>
          <a:xfrm flipH="1">
            <a:off x="8473680" y="3395520"/>
            <a:ext cx="889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1" name=""/>
          <p:cNvSpPr/>
          <p:nvPr/>
        </p:nvSpPr>
        <p:spPr>
          <a:xfrm>
            <a:off x="239760" y="3090960"/>
            <a:ext cx="77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2" name=""/>
          <p:cNvSpPr/>
          <p:nvPr/>
        </p:nvSpPr>
        <p:spPr>
          <a:xfrm flipH="1">
            <a:off x="8473680" y="3090960"/>
            <a:ext cx="88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3" name=""/>
          <p:cNvSpPr/>
          <p:nvPr/>
        </p:nvSpPr>
        <p:spPr>
          <a:xfrm>
            <a:off x="239760" y="3090960"/>
            <a:ext cx="83232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4" name=""/>
          <p:cNvSpPr/>
          <p:nvPr/>
        </p:nvSpPr>
        <p:spPr>
          <a:xfrm>
            <a:off x="239760" y="4327560"/>
            <a:ext cx="83232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5" name=""/>
          <p:cNvSpPr/>
          <p:nvPr/>
        </p:nvSpPr>
        <p:spPr>
          <a:xfrm flipV="1">
            <a:off x="8562960" y="3090600"/>
            <a:ext cx="1440" cy="12366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flipV="1">
            <a:off x="239760" y="3090600"/>
            <a:ext cx="1440" cy="12366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239760" y="3209760"/>
            <a:ext cx="720720" cy="911520"/>
          </a:xfrm>
          <a:custGeom>
            <a:avLst/>
            <a:gdLst/>
            <a:ahLst/>
            <a:rect l="l" t="t" r="r" b="b"/>
            <a:pathLst>
              <a:path w="454" h="574">
                <a:moveTo>
                  <a:pt x="0" y="37"/>
                </a:moveTo>
                <a:lnTo>
                  <a:pt x="0" y="43"/>
                </a:lnTo>
                <a:lnTo>
                  <a:pt x="6" y="49"/>
                </a:lnTo>
                <a:lnTo>
                  <a:pt x="6" y="56"/>
                </a:lnTo>
                <a:lnTo>
                  <a:pt x="14" y="49"/>
                </a:lnTo>
                <a:lnTo>
                  <a:pt x="28" y="49"/>
                </a:lnTo>
                <a:lnTo>
                  <a:pt x="21" y="49"/>
                </a:lnTo>
                <a:lnTo>
                  <a:pt x="28" y="49"/>
                </a:lnTo>
                <a:lnTo>
                  <a:pt x="34" y="49"/>
                </a:lnTo>
                <a:lnTo>
                  <a:pt x="34" y="37"/>
                </a:lnTo>
                <a:lnTo>
                  <a:pt x="42" y="31"/>
                </a:lnTo>
                <a:lnTo>
                  <a:pt x="49" y="31"/>
                </a:lnTo>
                <a:lnTo>
                  <a:pt x="49" y="6"/>
                </a:lnTo>
                <a:lnTo>
                  <a:pt x="55" y="49"/>
                </a:lnTo>
                <a:lnTo>
                  <a:pt x="55" y="148"/>
                </a:lnTo>
                <a:lnTo>
                  <a:pt x="62" y="198"/>
                </a:lnTo>
                <a:lnTo>
                  <a:pt x="62" y="265"/>
                </a:lnTo>
                <a:lnTo>
                  <a:pt x="70" y="278"/>
                </a:lnTo>
                <a:lnTo>
                  <a:pt x="70" y="308"/>
                </a:lnTo>
                <a:lnTo>
                  <a:pt x="77" y="247"/>
                </a:lnTo>
                <a:lnTo>
                  <a:pt x="77" y="142"/>
                </a:lnTo>
                <a:lnTo>
                  <a:pt x="83" y="99"/>
                </a:lnTo>
                <a:lnTo>
                  <a:pt x="83" y="37"/>
                </a:lnTo>
                <a:lnTo>
                  <a:pt x="90" y="37"/>
                </a:lnTo>
                <a:lnTo>
                  <a:pt x="90" y="19"/>
                </a:lnTo>
                <a:lnTo>
                  <a:pt x="98" y="56"/>
                </a:lnTo>
                <a:lnTo>
                  <a:pt x="98" y="161"/>
                </a:lnTo>
                <a:lnTo>
                  <a:pt x="105" y="210"/>
                </a:lnTo>
                <a:lnTo>
                  <a:pt x="105" y="265"/>
                </a:lnTo>
                <a:lnTo>
                  <a:pt x="111" y="278"/>
                </a:lnTo>
                <a:lnTo>
                  <a:pt x="111" y="296"/>
                </a:lnTo>
                <a:lnTo>
                  <a:pt x="118" y="284"/>
                </a:lnTo>
                <a:lnTo>
                  <a:pt x="118" y="260"/>
                </a:lnTo>
                <a:lnTo>
                  <a:pt x="126" y="253"/>
                </a:lnTo>
                <a:lnTo>
                  <a:pt x="126" y="228"/>
                </a:lnTo>
                <a:lnTo>
                  <a:pt x="132" y="228"/>
                </a:lnTo>
                <a:lnTo>
                  <a:pt x="132" y="210"/>
                </a:lnTo>
                <a:lnTo>
                  <a:pt x="139" y="210"/>
                </a:lnTo>
                <a:lnTo>
                  <a:pt x="139" y="235"/>
                </a:lnTo>
                <a:lnTo>
                  <a:pt x="147" y="241"/>
                </a:lnTo>
                <a:lnTo>
                  <a:pt x="147" y="253"/>
                </a:lnTo>
                <a:lnTo>
                  <a:pt x="154" y="260"/>
                </a:lnTo>
                <a:lnTo>
                  <a:pt x="160" y="198"/>
                </a:lnTo>
                <a:lnTo>
                  <a:pt x="160" y="117"/>
                </a:lnTo>
                <a:lnTo>
                  <a:pt x="167" y="86"/>
                </a:lnTo>
                <a:lnTo>
                  <a:pt x="167" y="43"/>
                </a:lnTo>
                <a:lnTo>
                  <a:pt x="182" y="24"/>
                </a:lnTo>
                <a:lnTo>
                  <a:pt x="175" y="24"/>
                </a:lnTo>
                <a:lnTo>
                  <a:pt x="182" y="31"/>
                </a:lnTo>
                <a:lnTo>
                  <a:pt x="195" y="43"/>
                </a:lnTo>
                <a:lnTo>
                  <a:pt x="195" y="37"/>
                </a:lnTo>
                <a:lnTo>
                  <a:pt x="195" y="68"/>
                </a:lnTo>
                <a:lnTo>
                  <a:pt x="203" y="56"/>
                </a:lnTo>
                <a:lnTo>
                  <a:pt x="203" y="31"/>
                </a:lnTo>
                <a:lnTo>
                  <a:pt x="209" y="24"/>
                </a:lnTo>
                <a:lnTo>
                  <a:pt x="209" y="19"/>
                </a:lnTo>
                <a:lnTo>
                  <a:pt x="209" y="31"/>
                </a:lnTo>
                <a:lnTo>
                  <a:pt x="216" y="31"/>
                </a:lnTo>
                <a:lnTo>
                  <a:pt x="216" y="12"/>
                </a:lnTo>
                <a:lnTo>
                  <a:pt x="223" y="56"/>
                </a:lnTo>
                <a:lnTo>
                  <a:pt x="223" y="161"/>
                </a:lnTo>
                <a:lnTo>
                  <a:pt x="231" y="210"/>
                </a:lnTo>
                <a:lnTo>
                  <a:pt x="231" y="278"/>
                </a:lnTo>
                <a:lnTo>
                  <a:pt x="237" y="284"/>
                </a:lnTo>
                <a:lnTo>
                  <a:pt x="237" y="308"/>
                </a:lnTo>
                <a:lnTo>
                  <a:pt x="244" y="241"/>
                </a:lnTo>
                <a:lnTo>
                  <a:pt x="244" y="123"/>
                </a:lnTo>
                <a:lnTo>
                  <a:pt x="251" y="92"/>
                </a:lnTo>
                <a:lnTo>
                  <a:pt x="251" y="56"/>
                </a:lnTo>
                <a:lnTo>
                  <a:pt x="259" y="37"/>
                </a:lnTo>
                <a:lnTo>
                  <a:pt x="259" y="43"/>
                </a:lnTo>
                <a:lnTo>
                  <a:pt x="259" y="12"/>
                </a:lnTo>
                <a:lnTo>
                  <a:pt x="265" y="49"/>
                </a:lnTo>
                <a:lnTo>
                  <a:pt x="265" y="154"/>
                </a:lnTo>
                <a:lnTo>
                  <a:pt x="272" y="191"/>
                </a:lnTo>
                <a:lnTo>
                  <a:pt x="272" y="253"/>
                </a:lnTo>
                <a:lnTo>
                  <a:pt x="278" y="265"/>
                </a:lnTo>
                <a:lnTo>
                  <a:pt x="278" y="284"/>
                </a:lnTo>
                <a:lnTo>
                  <a:pt x="286" y="278"/>
                </a:lnTo>
                <a:lnTo>
                  <a:pt x="286" y="253"/>
                </a:lnTo>
                <a:lnTo>
                  <a:pt x="293" y="247"/>
                </a:lnTo>
                <a:lnTo>
                  <a:pt x="293" y="228"/>
                </a:lnTo>
                <a:lnTo>
                  <a:pt x="300" y="223"/>
                </a:lnTo>
                <a:lnTo>
                  <a:pt x="300" y="198"/>
                </a:lnTo>
                <a:lnTo>
                  <a:pt x="306" y="154"/>
                </a:lnTo>
                <a:lnTo>
                  <a:pt x="306" y="99"/>
                </a:lnTo>
                <a:lnTo>
                  <a:pt x="314" y="74"/>
                </a:lnTo>
                <a:lnTo>
                  <a:pt x="314" y="43"/>
                </a:lnTo>
                <a:lnTo>
                  <a:pt x="321" y="31"/>
                </a:lnTo>
                <a:lnTo>
                  <a:pt x="321" y="19"/>
                </a:lnTo>
                <a:lnTo>
                  <a:pt x="328" y="12"/>
                </a:lnTo>
                <a:lnTo>
                  <a:pt x="328" y="0"/>
                </a:lnTo>
                <a:lnTo>
                  <a:pt x="335" y="6"/>
                </a:lnTo>
                <a:lnTo>
                  <a:pt x="335" y="12"/>
                </a:lnTo>
                <a:lnTo>
                  <a:pt x="342" y="31"/>
                </a:lnTo>
                <a:lnTo>
                  <a:pt x="342" y="24"/>
                </a:lnTo>
                <a:lnTo>
                  <a:pt x="342" y="31"/>
                </a:lnTo>
                <a:lnTo>
                  <a:pt x="349" y="68"/>
                </a:lnTo>
                <a:lnTo>
                  <a:pt x="349" y="161"/>
                </a:lnTo>
                <a:lnTo>
                  <a:pt x="355" y="204"/>
                </a:lnTo>
                <a:lnTo>
                  <a:pt x="355" y="296"/>
                </a:lnTo>
                <a:lnTo>
                  <a:pt x="363" y="308"/>
                </a:lnTo>
                <a:lnTo>
                  <a:pt x="363" y="346"/>
                </a:lnTo>
                <a:lnTo>
                  <a:pt x="370" y="272"/>
                </a:lnTo>
                <a:lnTo>
                  <a:pt x="370" y="154"/>
                </a:lnTo>
                <a:lnTo>
                  <a:pt x="377" y="117"/>
                </a:lnTo>
                <a:lnTo>
                  <a:pt x="377" y="56"/>
                </a:lnTo>
                <a:lnTo>
                  <a:pt x="383" y="62"/>
                </a:lnTo>
                <a:lnTo>
                  <a:pt x="383" y="43"/>
                </a:lnTo>
                <a:lnTo>
                  <a:pt x="391" y="92"/>
                </a:lnTo>
                <a:lnTo>
                  <a:pt x="391" y="154"/>
                </a:lnTo>
                <a:lnTo>
                  <a:pt x="398" y="173"/>
                </a:lnTo>
                <a:lnTo>
                  <a:pt x="398" y="216"/>
                </a:lnTo>
                <a:lnTo>
                  <a:pt x="405" y="223"/>
                </a:lnTo>
                <a:lnTo>
                  <a:pt x="405" y="574"/>
                </a:lnTo>
                <a:lnTo>
                  <a:pt x="411" y="191"/>
                </a:lnTo>
                <a:lnTo>
                  <a:pt x="411" y="129"/>
                </a:lnTo>
                <a:lnTo>
                  <a:pt x="419" y="111"/>
                </a:lnTo>
                <a:lnTo>
                  <a:pt x="419" y="74"/>
                </a:lnTo>
                <a:lnTo>
                  <a:pt x="426" y="68"/>
                </a:lnTo>
                <a:lnTo>
                  <a:pt x="426" y="56"/>
                </a:lnTo>
                <a:lnTo>
                  <a:pt x="432" y="49"/>
                </a:lnTo>
                <a:lnTo>
                  <a:pt x="432" y="19"/>
                </a:lnTo>
                <a:lnTo>
                  <a:pt x="447" y="6"/>
                </a:lnTo>
                <a:lnTo>
                  <a:pt x="439" y="6"/>
                </a:lnTo>
                <a:lnTo>
                  <a:pt x="447" y="12"/>
                </a:lnTo>
                <a:lnTo>
                  <a:pt x="454" y="19"/>
                </a:lnTo>
                <a:lnTo>
                  <a:pt x="454" y="12"/>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960480" y="3198960"/>
            <a:ext cx="754200" cy="480960"/>
          </a:xfrm>
          <a:custGeom>
            <a:avLst/>
            <a:gdLst/>
            <a:ahLst/>
            <a:rect l="l" t="t" r="r" b="b"/>
            <a:pathLst>
              <a:path w="475" h="303">
                <a:moveTo>
                  <a:pt x="0" y="19"/>
                </a:moveTo>
                <a:lnTo>
                  <a:pt x="6" y="25"/>
                </a:lnTo>
                <a:lnTo>
                  <a:pt x="6" y="31"/>
                </a:lnTo>
                <a:lnTo>
                  <a:pt x="13" y="37"/>
                </a:lnTo>
                <a:lnTo>
                  <a:pt x="13" y="12"/>
                </a:lnTo>
                <a:lnTo>
                  <a:pt x="21" y="56"/>
                </a:lnTo>
                <a:lnTo>
                  <a:pt x="21" y="161"/>
                </a:lnTo>
                <a:lnTo>
                  <a:pt x="28" y="211"/>
                </a:lnTo>
                <a:lnTo>
                  <a:pt x="28" y="278"/>
                </a:lnTo>
                <a:lnTo>
                  <a:pt x="34" y="291"/>
                </a:lnTo>
                <a:lnTo>
                  <a:pt x="34" y="285"/>
                </a:lnTo>
                <a:lnTo>
                  <a:pt x="34" y="303"/>
                </a:lnTo>
                <a:lnTo>
                  <a:pt x="41" y="241"/>
                </a:lnTo>
                <a:lnTo>
                  <a:pt x="41" y="124"/>
                </a:lnTo>
                <a:lnTo>
                  <a:pt x="49" y="99"/>
                </a:lnTo>
                <a:lnTo>
                  <a:pt x="49" y="74"/>
                </a:lnTo>
                <a:lnTo>
                  <a:pt x="55" y="74"/>
                </a:lnTo>
                <a:lnTo>
                  <a:pt x="55" y="44"/>
                </a:lnTo>
                <a:lnTo>
                  <a:pt x="63" y="37"/>
                </a:lnTo>
                <a:lnTo>
                  <a:pt x="63" y="12"/>
                </a:lnTo>
                <a:lnTo>
                  <a:pt x="70" y="19"/>
                </a:lnTo>
                <a:lnTo>
                  <a:pt x="70" y="7"/>
                </a:lnTo>
                <a:lnTo>
                  <a:pt x="77" y="12"/>
                </a:lnTo>
                <a:lnTo>
                  <a:pt x="77" y="25"/>
                </a:lnTo>
                <a:lnTo>
                  <a:pt x="83" y="25"/>
                </a:lnTo>
                <a:lnTo>
                  <a:pt x="83" y="37"/>
                </a:lnTo>
                <a:lnTo>
                  <a:pt x="98" y="49"/>
                </a:lnTo>
                <a:lnTo>
                  <a:pt x="98" y="62"/>
                </a:lnTo>
                <a:lnTo>
                  <a:pt x="98" y="56"/>
                </a:lnTo>
                <a:lnTo>
                  <a:pt x="111" y="69"/>
                </a:lnTo>
                <a:lnTo>
                  <a:pt x="111" y="74"/>
                </a:lnTo>
                <a:lnTo>
                  <a:pt x="118" y="69"/>
                </a:lnTo>
                <a:lnTo>
                  <a:pt x="118" y="99"/>
                </a:lnTo>
                <a:lnTo>
                  <a:pt x="126" y="87"/>
                </a:lnTo>
                <a:lnTo>
                  <a:pt x="126" y="62"/>
                </a:lnTo>
                <a:lnTo>
                  <a:pt x="132" y="56"/>
                </a:lnTo>
                <a:lnTo>
                  <a:pt x="132" y="31"/>
                </a:lnTo>
                <a:lnTo>
                  <a:pt x="139" y="37"/>
                </a:lnTo>
                <a:lnTo>
                  <a:pt x="139" y="31"/>
                </a:lnTo>
                <a:lnTo>
                  <a:pt x="139" y="37"/>
                </a:lnTo>
                <a:lnTo>
                  <a:pt x="146" y="49"/>
                </a:lnTo>
                <a:lnTo>
                  <a:pt x="146" y="56"/>
                </a:lnTo>
                <a:lnTo>
                  <a:pt x="160" y="56"/>
                </a:lnTo>
                <a:lnTo>
                  <a:pt x="154" y="56"/>
                </a:lnTo>
                <a:lnTo>
                  <a:pt x="160" y="56"/>
                </a:lnTo>
                <a:lnTo>
                  <a:pt x="167" y="93"/>
                </a:lnTo>
                <a:lnTo>
                  <a:pt x="167" y="161"/>
                </a:lnTo>
                <a:lnTo>
                  <a:pt x="175" y="191"/>
                </a:lnTo>
                <a:lnTo>
                  <a:pt x="175" y="241"/>
                </a:lnTo>
                <a:lnTo>
                  <a:pt x="181" y="253"/>
                </a:lnTo>
                <a:lnTo>
                  <a:pt x="181" y="260"/>
                </a:lnTo>
                <a:lnTo>
                  <a:pt x="188" y="266"/>
                </a:lnTo>
                <a:lnTo>
                  <a:pt x="188" y="253"/>
                </a:lnTo>
                <a:lnTo>
                  <a:pt x="203" y="241"/>
                </a:lnTo>
                <a:lnTo>
                  <a:pt x="203" y="211"/>
                </a:lnTo>
                <a:lnTo>
                  <a:pt x="209" y="216"/>
                </a:lnTo>
                <a:lnTo>
                  <a:pt x="209" y="229"/>
                </a:lnTo>
                <a:lnTo>
                  <a:pt x="224" y="241"/>
                </a:lnTo>
                <a:lnTo>
                  <a:pt x="224" y="266"/>
                </a:lnTo>
                <a:lnTo>
                  <a:pt x="231" y="204"/>
                </a:lnTo>
                <a:lnTo>
                  <a:pt x="231" y="99"/>
                </a:lnTo>
                <a:lnTo>
                  <a:pt x="237" y="93"/>
                </a:lnTo>
                <a:lnTo>
                  <a:pt x="237" y="69"/>
                </a:lnTo>
                <a:lnTo>
                  <a:pt x="244" y="62"/>
                </a:lnTo>
                <a:lnTo>
                  <a:pt x="244" y="31"/>
                </a:lnTo>
                <a:lnTo>
                  <a:pt x="252" y="25"/>
                </a:lnTo>
                <a:lnTo>
                  <a:pt x="252" y="12"/>
                </a:lnTo>
                <a:lnTo>
                  <a:pt x="258" y="7"/>
                </a:lnTo>
                <a:lnTo>
                  <a:pt x="258" y="0"/>
                </a:lnTo>
                <a:lnTo>
                  <a:pt x="265" y="12"/>
                </a:lnTo>
                <a:lnTo>
                  <a:pt x="265" y="19"/>
                </a:lnTo>
                <a:lnTo>
                  <a:pt x="265" y="12"/>
                </a:lnTo>
                <a:lnTo>
                  <a:pt x="272" y="19"/>
                </a:lnTo>
                <a:lnTo>
                  <a:pt x="272" y="37"/>
                </a:lnTo>
                <a:lnTo>
                  <a:pt x="278" y="44"/>
                </a:lnTo>
                <a:lnTo>
                  <a:pt x="278" y="56"/>
                </a:lnTo>
                <a:lnTo>
                  <a:pt x="286" y="49"/>
                </a:lnTo>
                <a:lnTo>
                  <a:pt x="286" y="44"/>
                </a:lnTo>
                <a:lnTo>
                  <a:pt x="293" y="93"/>
                </a:lnTo>
                <a:lnTo>
                  <a:pt x="293" y="191"/>
                </a:lnTo>
                <a:lnTo>
                  <a:pt x="300" y="235"/>
                </a:lnTo>
                <a:lnTo>
                  <a:pt x="300" y="278"/>
                </a:lnTo>
                <a:lnTo>
                  <a:pt x="308" y="291"/>
                </a:lnTo>
                <a:lnTo>
                  <a:pt x="314" y="241"/>
                </a:lnTo>
                <a:lnTo>
                  <a:pt x="314" y="143"/>
                </a:lnTo>
                <a:lnTo>
                  <a:pt x="321" y="118"/>
                </a:lnTo>
                <a:lnTo>
                  <a:pt x="321" y="62"/>
                </a:lnTo>
                <a:lnTo>
                  <a:pt x="329" y="56"/>
                </a:lnTo>
                <a:lnTo>
                  <a:pt x="329" y="44"/>
                </a:lnTo>
                <a:lnTo>
                  <a:pt x="329" y="62"/>
                </a:lnTo>
                <a:lnTo>
                  <a:pt x="335" y="56"/>
                </a:lnTo>
                <a:lnTo>
                  <a:pt x="335" y="25"/>
                </a:lnTo>
                <a:lnTo>
                  <a:pt x="342" y="19"/>
                </a:lnTo>
                <a:lnTo>
                  <a:pt x="349" y="25"/>
                </a:lnTo>
                <a:lnTo>
                  <a:pt x="349" y="37"/>
                </a:lnTo>
                <a:lnTo>
                  <a:pt x="357" y="44"/>
                </a:lnTo>
                <a:lnTo>
                  <a:pt x="370" y="44"/>
                </a:lnTo>
                <a:lnTo>
                  <a:pt x="363" y="44"/>
                </a:lnTo>
                <a:lnTo>
                  <a:pt x="370" y="49"/>
                </a:lnTo>
                <a:lnTo>
                  <a:pt x="377" y="44"/>
                </a:lnTo>
                <a:lnTo>
                  <a:pt x="377" y="62"/>
                </a:lnTo>
                <a:lnTo>
                  <a:pt x="385" y="69"/>
                </a:lnTo>
                <a:lnTo>
                  <a:pt x="391" y="62"/>
                </a:lnTo>
                <a:lnTo>
                  <a:pt x="391" y="44"/>
                </a:lnTo>
                <a:lnTo>
                  <a:pt x="398" y="87"/>
                </a:lnTo>
                <a:lnTo>
                  <a:pt x="398" y="173"/>
                </a:lnTo>
                <a:lnTo>
                  <a:pt x="404" y="198"/>
                </a:lnTo>
                <a:lnTo>
                  <a:pt x="404" y="253"/>
                </a:lnTo>
                <a:lnTo>
                  <a:pt x="412" y="260"/>
                </a:lnTo>
                <a:lnTo>
                  <a:pt x="412" y="303"/>
                </a:lnTo>
                <a:lnTo>
                  <a:pt x="419" y="235"/>
                </a:lnTo>
                <a:lnTo>
                  <a:pt x="419" y="136"/>
                </a:lnTo>
                <a:lnTo>
                  <a:pt x="426" y="93"/>
                </a:lnTo>
                <a:lnTo>
                  <a:pt x="426" y="49"/>
                </a:lnTo>
                <a:lnTo>
                  <a:pt x="434" y="44"/>
                </a:lnTo>
                <a:lnTo>
                  <a:pt x="434" y="37"/>
                </a:lnTo>
                <a:lnTo>
                  <a:pt x="440" y="74"/>
                </a:lnTo>
                <a:lnTo>
                  <a:pt x="440" y="143"/>
                </a:lnTo>
                <a:lnTo>
                  <a:pt x="447" y="186"/>
                </a:lnTo>
                <a:lnTo>
                  <a:pt x="447" y="229"/>
                </a:lnTo>
                <a:lnTo>
                  <a:pt x="455" y="235"/>
                </a:lnTo>
                <a:lnTo>
                  <a:pt x="455" y="241"/>
                </a:lnTo>
                <a:lnTo>
                  <a:pt x="455" y="229"/>
                </a:lnTo>
                <a:lnTo>
                  <a:pt x="462" y="186"/>
                </a:lnTo>
                <a:lnTo>
                  <a:pt x="462" y="118"/>
                </a:lnTo>
                <a:lnTo>
                  <a:pt x="468" y="87"/>
                </a:lnTo>
                <a:lnTo>
                  <a:pt x="468" y="37"/>
                </a:lnTo>
                <a:lnTo>
                  <a:pt x="475" y="2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714680" y="3209760"/>
            <a:ext cx="753840" cy="498600"/>
          </a:xfrm>
          <a:custGeom>
            <a:avLst/>
            <a:gdLst/>
            <a:ahLst/>
            <a:rect l="l" t="t" r="r" b="b"/>
            <a:pathLst>
              <a:path w="475" h="314">
                <a:moveTo>
                  <a:pt x="0" y="19"/>
                </a:moveTo>
                <a:lnTo>
                  <a:pt x="0" y="6"/>
                </a:lnTo>
                <a:lnTo>
                  <a:pt x="6" y="62"/>
                </a:lnTo>
                <a:lnTo>
                  <a:pt x="6" y="148"/>
                </a:lnTo>
                <a:lnTo>
                  <a:pt x="14" y="191"/>
                </a:lnTo>
                <a:lnTo>
                  <a:pt x="14" y="253"/>
                </a:lnTo>
                <a:lnTo>
                  <a:pt x="21" y="271"/>
                </a:lnTo>
                <a:lnTo>
                  <a:pt x="21" y="278"/>
                </a:lnTo>
                <a:lnTo>
                  <a:pt x="28" y="228"/>
                </a:lnTo>
                <a:lnTo>
                  <a:pt x="28" y="142"/>
                </a:lnTo>
                <a:lnTo>
                  <a:pt x="34" y="117"/>
                </a:lnTo>
                <a:lnTo>
                  <a:pt x="34" y="62"/>
                </a:lnTo>
                <a:lnTo>
                  <a:pt x="42" y="55"/>
                </a:lnTo>
                <a:lnTo>
                  <a:pt x="42" y="49"/>
                </a:lnTo>
                <a:lnTo>
                  <a:pt x="42" y="67"/>
                </a:lnTo>
                <a:lnTo>
                  <a:pt x="49" y="104"/>
                </a:lnTo>
                <a:lnTo>
                  <a:pt x="49" y="161"/>
                </a:lnTo>
                <a:lnTo>
                  <a:pt x="56" y="197"/>
                </a:lnTo>
                <a:lnTo>
                  <a:pt x="56" y="241"/>
                </a:lnTo>
                <a:lnTo>
                  <a:pt x="62" y="246"/>
                </a:lnTo>
                <a:lnTo>
                  <a:pt x="62" y="216"/>
                </a:lnTo>
                <a:lnTo>
                  <a:pt x="70" y="172"/>
                </a:lnTo>
                <a:lnTo>
                  <a:pt x="70" y="104"/>
                </a:lnTo>
                <a:lnTo>
                  <a:pt x="77" y="74"/>
                </a:lnTo>
                <a:lnTo>
                  <a:pt x="77" y="31"/>
                </a:lnTo>
                <a:lnTo>
                  <a:pt x="83" y="24"/>
                </a:lnTo>
                <a:lnTo>
                  <a:pt x="83" y="19"/>
                </a:lnTo>
                <a:lnTo>
                  <a:pt x="83" y="37"/>
                </a:lnTo>
                <a:lnTo>
                  <a:pt x="91" y="24"/>
                </a:lnTo>
                <a:lnTo>
                  <a:pt x="91" y="31"/>
                </a:lnTo>
                <a:lnTo>
                  <a:pt x="105" y="42"/>
                </a:lnTo>
                <a:lnTo>
                  <a:pt x="105" y="49"/>
                </a:lnTo>
                <a:lnTo>
                  <a:pt x="113" y="42"/>
                </a:lnTo>
                <a:lnTo>
                  <a:pt x="113" y="37"/>
                </a:lnTo>
                <a:lnTo>
                  <a:pt x="126" y="31"/>
                </a:lnTo>
                <a:lnTo>
                  <a:pt x="126" y="6"/>
                </a:lnTo>
                <a:lnTo>
                  <a:pt x="133" y="12"/>
                </a:lnTo>
                <a:lnTo>
                  <a:pt x="133" y="19"/>
                </a:lnTo>
                <a:lnTo>
                  <a:pt x="147" y="24"/>
                </a:lnTo>
                <a:lnTo>
                  <a:pt x="147" y="49"/>
                </a:lnTo>
                <a:lnTo>
                  <a:pt x="154" y="92"/>
                </a:lnTo>
                <a:lnTo>
                  <a:pt x="154" y="148"/>
                </a:lnTo>
                <a:lnTo>
                  <a:pt x="160" y="179"/>
                </a:lnTo>
                <a:lnTo>
                  <a:pt x="160" y="228"/>
                </a:lnTo>
                <a:lnTo>
                  <a:pt x="160" y="222"/>
                </a:lnTo>
                <a:lnTo>
                  <a:pt x="168" y="228"/>
                </a:lnTo>
                <a:lnTo>
                  <a:pt x="168" y="234"/>
                </a:lnTo>
                <a:lnTo>
                  <a:pt x="168" y="209"/>
                </a:lnTo>
                <a:lnTo>
                  <a:pt x="175" y="222"/>
                </a:lnTo>
                <a:lnTo>
                  <a:pt x="175" y="241"/>
                </a:lnTo>
                <a:lnTo>
                  <a:pt x="182" y="246"/>
                </a:lnTo>
                <a:lnTo>
                  <a:pt x="182" y="259"/>
                </a:lnTo>
                <a:lnTo>
                  <a:pt x="188" y="259"/>
                </a:lnTo>
                <a:lnTo>
                  <a:pt x="188" y="278"/>
                </a:lnTo>
                <a:lnTo>
                  <a:pt x="195" y="209"/>
                </a:lnTo>
                <a:lnTo>
                  <a:pt x="195" y="104"/>
                </a:lnTo>
                <a:lnTo>
                  <a:pt x="203" y="86"/>
                </a:lnTo>
                <a:lnTo>
                  <a:pt x="203" y="62"/>
                </a:lnTo>
                <a:lnTo>
                  <a:pt x="210" y="55"/>
                </a:lnTo>
                <a:lnTo>
                  <a:pt x="210" y="31"/>
                </a:lnTo>
                <a:lnTo>
                  <a:pt x="218" y="67"/>
                </a:lnTo>
                <a:lnTo>
                  <a:pt x="218" y="142"/>
                </a:lnTo>
                <a:lnTo>
                  <a:pt x="224" y="172"/>
                </a:lnTo>
                <a:lnTo>
                  <a:pt x="224" y="228"/>
                </a:lnTo>
                <a:lnTo>
                  <a:pt x="231" y="241"/>
                </a:lnTo>
                <a:lnTo>
                  <a:pt x="231" y="253"/>
                </a:lnTo>
                <a:lnTo>
                  <a:pt x="237" y="204"/>
                </a:lnTo>
                <a:lnTo>
                  <a:pt x="237" y="129"/>
                </a:lnTo>
                <a:lnTo>
                  <a:pt x="245" y="111"/>
                </a:lnTo>
                <a:lnTo>
                  <a:pt x="245" y="49"/>
                </a:lnTo>
                <a:lnTo>
                  <a:pt x="252" y="37"/>
                </a:lnTo>
                <a:lnTo>
                  <a:pt x="252" y="24"/>
                </a:lnTo>
                <a:lnTo>
                  <a:pt x="259" y="74"/>
                </a:lnTo>
                <a:lnTo>
                  <a:pt x="259" y="166"/>
                </a:lnTo>
                <a:lnTo>
                  <a:pt x="265" y="197"/>
                </a:lnTo>
                <a:lnTo>
                  <a:pt x="265" y="246"/>
                </a:lnTo>
                <a:lnTo>
                  <a:pt x="273" y="259"/>
                </a:lnTo>
                <a:lnTo>
                  <a:pt x="273" y="265"/>
                </a:lnTo>
                <a:lnTo>
                  <a:pt x="280" y="216"/>
                </a:lnTo>
                <a:lnTo>
                  <a:pt x="280" y="117"/>
                </a:lnTo>
                <a:lnTo>
                  <a:pt x="287" y="92"/>
                </a:lnTo>
                <a:lnTo>
                  <a:pt x="287" y="42"/>
                </a:lnTo>
                <a:lnTo>
                  <a:pt x="293" y="37"/>
                </a:lnTo>
                <a:lnTo>
                  <a:pt x="293" y="24"/>
                </a:lnTo>
                <a:lnTo>
                  <a:pt x="301" y="67"/>
                </a:lnTo>
                <a:lnTo>
                  <a:pt x="301" y="161"/>
                </a:lnTo>
                <a:lnTo>
                  <a:pt x="308" y="204"/>
                </a:lnTo>
                <a:lnTo>
                  <a:pt x="308" y="278"/>
                </a:lnTo>
                <a:lnTo>
                  <a:pt x="314" y="284"/>
                </a:lnTo>
                <a:lnTo>
                  <a:pt x="314" y="314"/>
                </a:lnTo>
                <a:lnTo>
                  <a:pt x="321" y="259"/>
                </a:lnTo>
                <a:lnTo>
                  <a:pt x="321" y="142"/>
                </a:lnTo>
                <a:lnTo>
                  <a:pt x="329" y="104"/>
                </a:lnTo>
                <a:lnTo>
                  <a:pt x="329" y="42"/>
                </a:lnTo>
                <a:lnTo>
                  <a:pt x="342" y="49"/>
                </a:lnTo>
                <a:lnTo>
                  <a:pt x="342" y="42"/>
                </a:lnTo>
                <a:lnTo>
                  <a:pt x="350" y="42"/>
                </a:lnTo>
                <a:lnTo>
                  <a:pt x="357" y="42"/>
                </a:lnTo>
                <a:lnTo>
                  <a:pt x="364" y="80"/>
                </a:lnTo>
                <a:lnTo>
                  <a:pt x="364" y="142"/>
                </a:lnTo>
                <a:lnTo>
                  <a:pt x="372" y="161"/>
                </a:lnTo>
                <a:lnTo>
                  <a:pt x="372" y="204"/>
                </a:lnTo>
                <a:lnTo>
                  <a:pt x="378" y="209"/>
                </a:lnTo>
                <a:lnTo>
                  <a:pt x="378" y="216"/>
                </a:lnTo>
                <a:lnTo>
                  <a:pt x="378" y="197"/>
                </a:lnTo>
                <a:lnTo>
                  <a:pt x="385" y="209"/>
                </a:lnTo>
                <a:lnTo>
                  <a:pt x="385" y="234"/>
                </a:lnTo>
                <a:lnTo>
                  <a:pt x="391" y="241"/>
                </a:lnTo>
                <a:lnTo>
                  <a:pt x="391" y="246"/>
                </a:lnTo>
                <a:lnTo>
                  <a:pt x="398" y="241"/>
                </a:lnTo>
                <a:lnTo>
                  <a:pt x="406" y="246"/>
                </a:lnTo>
                <a:lnTo>
                  <a:pt x="406" y="234"/>
                </a:lnTo>
                <a:lnTo>
                  <a:pt x="413" y="241"/>
                </a:lnTo>
                <a:lnTo>
                  <a:pt x="419" y="246"/>
                </a:lnTo>
                <a:lnTo>
                  <a:pt x="426" y="253"/>
                </a:lnTo>
                <a:lnTo>
                  <a:pt x="434" y="259"/>
                </a:lnTo>
                <a:lnTo>
                  <a:pt x="441" y="265"/>
                </a:lnTo>
                <a:lnTo>
                  <a:pt x="447" y="204"/>
                </a:lnTo>
                <a:lnTo>
                  <a:pt x="447" y="123"/>
                </a:lnTo>
                <a:lnTo>
                  <a:pt x="454" y="99"/>
                </a:lnTo>
                <a:lnTo>
                  <a:pt x="454" y="49"/>
                </a:lnTo>
                <a:lnTo>
                  <a:pt x="462" y="37"/>
                </a:lnTo>
                <a:lnTo>
                  <a:pt x="462" y="24"/>
                </a:lnTo>
                <a:lnTo>
                  <a:pt x="462" y="42"/>
                </a:lnTo>
                <a:lnTo>
                  <a:pt x="468" y="37"/>
                </a:lnTo>
                <a:lnTo>
                  <a:pt x="468" y="0"/>
                </a:lnTo>
                <a:lnTo>
                  <a:pt x="475" y="6"/>
                </a:lnTo>
                <a:lnTo>
                  <a:pt x="475" y="19"/>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2468520" y="3189240"/>
            <a:ext cx="790560" cy="971640"/>
          </a:xfrm>
          <a:custGeom>
            <a:avLst/>
            <a:gdLst/>
            <a:ahLst/>
            <a:rect l="l" t="t" r="r" b="b"/>
            <a:pathLst>
              <a:path w="498" h="612">
                <a:moveTo>
                  <a:pt x="0" y="32"/>
                </a:moveTo>
                <a:lnTo>
                  <a:pt x="8" y="37"/>
                </a:lnTo>
                <a:lnTo>
                  <a:pt x="15" y="75"/>
                </a:lnTo>
                <a:lnTo>
                  <a:pt x="15" y="142"/>
                </a:lnTo>
                <a:lnTo>
                  <a:pt x="21" y="174"/>
                </a:lnTo>
                <a:lnTo>
                  <a:pt x="21" y="254"/>
                </a:lnTo>
                <a:lnTo>
                  <a:pt x="29" y="260"/>
                </a:lnTo>
                <a:lnTo>
                  <a:pt x="29" y="236"/>
                </a:lnTo>
                <a:lnTo>
                  <a:pt x="36" y="186"/>
                </a:lnTo>
                <a:lnTo>
                  <a:pt x="36" y="131"/>
                </a:lnTo>
                <a:lnTo>
                  <a:pt x="43" y="112"/>
                </a:lnTo>
                <a:lnTo>
                  <a:pt x="43" y="62"/>
                </a:lnTo>
                <a:lnTo>
                  <a:pt x="49" y="56"/>
                </a:lnTo>
                <a:lnTo>
                  <a:pt x="49" y="32"/>
                </a:lnTo>
                <a:lnTo>
                  <a:pt x="57" y="75"/>
                </a:lnTo>
                <a:lnTo>
                  <a:pt x="57" y="161"/>
                </a:lnTo>
                <a:lnTo>
                  <a:pt x="64" y="192"/>
                </a:lnTo>
                <a:lnTo>
                  <a:pt x="64" y="248"/>
                </a:lnTo>
                <a:lnTo>
                  <a:pt x="77" y="266"/>
                </a:lnTo>
                <a:lnTo>
                  <a:pt x="77" y="272"/>
                </a:lnTo>
                <a:lnTo>
                  <a:pt x="85" y="272"/>
                </a:lnTo>
                <a:lnTo>
                  <a:pt x="92" y="266"/>
                </a:lnTo>
                <a:lnTo>
                  <a:pt x="98" y="211"/>
                </a:lnTo>
                <a:lnTo>
                  <a:pt x="98" y="118"/>
                </a:lnTo>
                <a:lnTo>
                  <a:pt x="105" y="94"/>
                </a:lnTo>
                <a:lnTo>
                  <a:pt x="105" y="37"/>
                </a:lnTo>
                <a:lnTo>
                  <a:pt x="113" y="32"/>
                </a:lnTo>
                <a:lnTo>
                  <a:pt x="113" y="25"/>
                </a:lnTo>
                <a:lnTo>
                  <a:pt x="113" y="44"/>
                </a:lnTo>
                <a:lnTo>
                  <a:pt x="120" y="81"/>
                </a:lnTo>
                <a:lnTo>
                  <a:pt x="120" y="149"/>
                </a:lnTo>
                <a:lnTo>
                  <a:pt x="126" y="179"/>
                </a:lnTo>
                <a:lnTo>
                  <a:pt x="126" y="217"/>
                </a:lnTo>
                <a:lnTo>
                  <a:pt x="134" y="223"/>
                </a:lnTo>
                <a:lnTo>
                  <a:pt x="134" y="248"/>
                </a:lnTo>
                <a:lnTo>
                  <a:pt x="141" y="248"/>
                </a:lnTo>
                <a:lnTo>
                  <a:pt x="147" y="241"/>
                </a:lnTo>
                <a:lnTo>
                  <a:pt x="154" y="236"/>
                </a:lnTo>
                <a:lnTo>
                  <a:pt x="162" y="236"/>
                </a:lnTo>
                <a:lnTo>
                  <a:pt x="162" y="248"/>
                </a:lnTo>
                <a:lnTo>
                  <a:pt x="175" y="248"/>
                </a:lnTo>
                <a:lnTo>
                  <a:pt x="175" y="229"/>
                </a:lnTo>
                <a:lnTo>
                  <a:pt x="182" y="223"/>
                </a:lnTo>
                <a:lnTo>
                  <a:pt x="190" y="229"/>
                </a:lnTo>
                <a:lnTo>
                  <a:pt x="197" y="236"/>
                </a:lnTo>
                <a:lnTo>
                  <a:pt x="203" y="241"/>
                </a:lnTo>
                <a:lnTo>
                  <a:pt x="203" y="248"/>
                </a:lnTo>
                <a:lnTo>
                  <a:pt x="210" y="260"/>
                </a:lnTo>
                <a:lnTo>
                  <a:pt x="224" y="260"/>
                </a:lnTo>
                <a:lnTo>
                  <a:pt x="218" y="260"/>
                </a:lnTo>
                <a:lnTo>
                  <a:pt x="224" y="260"/>
                </a:lnTo>
                <a:lnTo>
                  <a:pt x="231" y="260"/>
                </a:lnTo>
                <a:lnTo>
                  <a:pt x="239" y="260"/>
                </a:lnTo>
                <a:lnTo>
                  <a:pt x="239" y="272"/>
                </a:lnTo>
                <a:lnTo>
                  <a:pt x="246" y="217"/>
                </a:lnTo>
                <a:lnTo>
                  <a:pt x="246" y="99"/>
                </a:lnTo>
                <a:lnTo>
                  <a:pt x="252" y="81"/>
                </a:lnTo>
                <a:lnTo>
                  <a:pt x="252" y="69"/>
                </a:lnTo>
                <a:lnTo>
                  <a:pt x="260" y="62"/>
                </a:lnTo>
                <a:lnTo>
                  <a:pt x="260" y="32"/>
                </a:lnTo>
                <a:lnTo>
                  <a:pt x="267" y="25"/>
                </a:lnTo>
                <a:lnTo>
                  <a:pt x="267" y="19"/>
                </a:lnTo>
                <a:lnTo>
                  <a:pt x="280" y="7"/>
                </a:lnTo>
                <a:lnTo>
                  <a:pt x="274" y="7"/>
                </a:lnTo>
                <a:lnTo>
                  <a:pt x="280" y="612"/>
                </a:lnTo>
                <a:lnTo>
                  <a:pt x="288" y="19"/>
                </a:lnTo>
                <a:lnTo>
                  <a:pt x="288" y="359"/>
                </a:lnTo>
                <a:lnTo>
                  <a:pt x="288" y="0"/>
                </a:lnTo>
                <a:lnTo>
                  <a:pt x="295" y="32"/>
                </a:lnTo>
                <a:lnTo>
                  <a:pt x="295" y="69"/>
                </a:lnTo>
                <a:lnTo>
                  <a:pt x="295" y="25"/>
                </a:lnTo>
                <a:lnTo>
                  <a:pt x="301" y="50"/>
                </a:lnTo>
                <a:lnTo>
                  <a:pt x="301" y="44"/>
                </a:lnTo>
                <a:lnTo>
                  <a:pt x="301" y="50"/>
                </a:lnTo>
                <a:lnTo>
                  <a:pt x="308" y="37"/>
                </a:lnTo>
                <a:lnTo>
                  <a:pt x="308" y="44"/>
                </a:lnTo>
                <a:lnTo>
                  <a:pt x="315" y="50"/>
                </a:lnTo>
                <a:lnTo>
                  <a:pt x="315" y="37"/>
                </a:lnTo>
                <a:lnTo>
                  <a:pt x="315" y="50"/>
                </a:lnTo>
                <a:lnTo>
                  <a:pt x="323" y="56"/>
                </a:lnTo>
                <a:lnTo>
                  <a:pt x="323" y="50"/>
                </a:lnTo>
                <a:lnTo>
                  <a:pt x="329" y="99"/>
                </a:lnTo>
                <a:lnTo>
                  <a:pt x="329" y="186"/>
                </a:lnTo>
                <a:lnTo>
                  <a:pt x="336" y="229"/>
                </a:lnTo>
                <a:lnTo>
                  <a:pt x="336" y="309"/>
                </a:lnTo>
                <a:lnTo>
                  <a:pt x="344" y="316"/>
                </a:lnTo>
                <a:lnTo>
                  <a:pt x="344" y="346"/>
                </a:lnTo>
                <a:lnTo>
                  <a:pt x="351" y="284"/>
                </a:lnTo>
                <a:lnTo>
                  <a:pt x="351" y="167"/>
                </a:lnTo>
                <a:lnTo>
                  <a:pt x="357" y="124"/>
                </a:lnTo>
                <a:lnTo>
                  <a:pt x="357" y="44"/>
                </a:lnTo>
                <a:lnTo>
                  <a:pt x="365" y="37"/>
                </a:lnTo>
                <a:lnTo>
                  <a:pt x="365" y="44"/>
                </a:lnTo>
                <a:lnTo>
                  <a:pt x="365" y="19"/>
                </a:lnTo>
                <a:lnTo>
                  <a:pt x="372" y="25"/>
                </a:lnTo>
                <a:lnTo>
                  <a:pt x="372" y="32"/>
                </a:lnTo>
                <a:lnTo>
                  <a:pt x="385" y="37"/>
                </a:lnTo>
                <a:lnTo>
                  <a:pt x="378" y="37"/>
                </a:lnTo>
                <a:lnTo>
                  <a:pt x="385" y="37"/>
                </a:lnTo>
                <a:lnTo>
                  <a:pt x="393" y="87"/>
                </a:lnTo>
                <a:lnTo>
                  <a:pt x="393" y="174"/>
                </a:lnTo>
                <a:lnTo>
                  <a:pt x="400" y="217"/>
                </a:lnTo>
                <a:lnTo>
                  <a:pt x="400" y="278"/>
                </a:lnTo>
                <a:lnTo>
                  <a:pt x="406" y="284"/>
                </a:lnTo>
                <a:lnTo>
                  <a:pt x="406" y="321"/>
                </a:lnTo>
                <a:lnTo>
                  <a:pt x="413" y="260"/>
                </a:lnTo>
                <a:lnTo>
                  <a:pt x="413" y="161"/>
                </a:lnTo>
                <a:lnTo>
                  <a:pt x="421" y="112"/>
                </a:lnTo>
                <a:lnTo>
                  <a:pt x="421" y="75"/>
                </a:lnTo>
                <a:lnTo>
                  <a:pt x="421" y="81"/>
                </a:lnTo>
                <a:lnTo>
                  <a:pt x="428" y="69"/>
                </a:lnTo>
                <a:lnTo>
                  <a:pt x="428" y="44"/>
                </a:lnTo>
                <a:lnTo>
                  <a:pt x="434" y="37"/>
                </a:lnTo>
                <a:lnTo>
                  <a:pt x="434" y="25"/>
                </a:lnTo>
                <a:lnTo>
                  <a:pt x="441" y="19"/>
                </a:lnTo>
                <a:lnTo>
                  <a:pt x="449" y="19"/>
                </a:lnTo>
                <a:lnTo>
                  <a:pt x="455" y="25"/>
                </a:lnTo>
                <a:lnTo>
                  <a:pt x="462" y="32"/>
                </a:lnTo>
                <a:lnTo>
                  <a:pt x="470" y="32"/>
                </a:lnTo>
                <a:lnTo>
                  <a:pt x="470" y="56"/>
                </a:lnTo>
                <a:lnTo>
                  <a:pt x="477" y="32"/>
                </a:lnTo>
                <a:lnTo>
                  <a:pt x="477" y="37"/>
                </a:lnTo>
                <a:lnTo>
                  <a:pt x="477" y="32"/>
                </a:lnTo>
                <a:lnTo>
                  <a:pt x="483" y="44"/>
                </a:lnTo>
                <a:lnTo>
                  <a:pt x="483" y="37"/>
                </a:lnTo>
                <a:lnTo>
                  <a:pt x="483" y="44"/>
                </a:lnTo>
                <a:lnTo>
                  <a:pt x="498" y="44"/>
                </a:lnTo>
                <a:lnTo>
                  <a:pt x="491" y="4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3247920" y="3218040"/>
            <a:ext cx="719280" cy="461880"/>
          </a:xfrm>
          <a:custGeom>
            <a:avLst/>
            <a:gdLst/>
            <a:ahLst/>
            <a:rect l="l" t="t" r="r" b="b"/>
            <a:pathLst>
              <a:path w="453" h="291">
                <a:moveTo>
                  <a:pt x="0" y="25"/>
                </a:moveTo>
                <a:lnTo>
                  <a:pt x="7" y="32"/>
                </a:lnTo>
                <a:lnTo>
                  <a:pt x="13" y="25"/>
                </a:lnTo>
                <a:lnTo>
                  <a:pt x="13" y="32"/>
                </a:lnTo>
                <a:lnTo>
                  <a:pt x="13" y="25"/>
                </a:lnTo>
                <a:lnTo>
                  <a:pt x="20" y="32"/>
                </a:lnTo>
                <a:lnTo>
                  <a:pt x="27" y="69"/>
                </a:lnTo>
                <a:lnTo>
                  <a:pt x="27" y="137"/>
                </a:lnTo>
                <a:lnTo>
                  <a:pt x="35" y="167"/>
                </a:lnTo>
                <a:lnTo>
                  <a:pt x="35" y="217"/>
                </a:lnTo>
                <a:lnTo>
                  <a:pt x="41" y="223"/>
                </a:lnTo>
                <a:lnTo>
                  <a:pt x="41" y="229"/>
                </a:lnTo>
                <a:lnTo>
                  <a:pt x="41" y="204"/>
                </a:lnTo>
                <a:lnTo>
                  <a:pt x="48" y="167"/>
                </a:lnTo>
                <a:lnTo>
                  <a:pt x="48" y="106"/>
                </a:lnTo>
                <a:lnTo>
                  <a:pt x="55" y="87"/>
                </a:lnTo>
                <a:lnTo>
                  <a:pt x="55" y="44"/>
                </a:lnTo>
                <a:lnTo>
                  <a:pt x="63" y="37"/>
                </a:lnTo>
                <a:lnTo>
                  <a:pt x="63" y="19"/>
                </a:lnTo>
                <a:lnTo>
                  <a:pt x="69" y="62"/>
                </a:lnTo>
                <a:lnTo>
                  <a:pt x="69" y="143"/>
                </a:lnTo>
                <a:lnTo>
                  <a:pt x="76" y="174"/>
                </a:lnTo>
                <a:lnTo>
                  <a:pt x="76" y="236"/>
                </a:lnTo>
                <a:lnTo>
                  <a:pt x="83" y="241"/>
                </a:lnTo>
                <a:lnTo>
                  <a:pt x="83" y="254"/>
                </a:lnTo>
                <a:lnTo>
                  <a:pt x="90" y="211"/>
                </a:lnTo>
                <a:lnTo>
                  <a:pt x="90" y="131"/>
                </a:lnTo>
                <a:lnTo>
                  <a:pt x="97" y="99"/>
                </a:lnTo>
                <a:lnTo>
                  <a:pt x="97" y="44"/>
                </a:lnTo>
                <a:lnTo>
                  <a:pt x="104" y="32"/>
                </a:lnTo>
                <a:lnTo>
                  <a:pt x="104" y="25"/>
                </a:lnTo>
                <a:lnTo>
                  <a:pt x="118" y="13"/>
                </a:lnTo>
                <a:lnTo>
                  <a:pt x="112" y="13"/>
                </a:lnTo>
                <a:lnTo>
                  <a:pt x="118" y="13"/>
                </a:lnTo>
                <a:lnTo>
                  <a:pt x="125" y="19"/>
                </a:lnTo>
                <a:lnTo>
                  <a:pt x="125" y="37"/>
                </a:lnTo>
                <a:lnTo>
                  <a:pt x="133" y="32"/>
                </a:lnTo>
                <a:lnTo>
                  <a:pt x="133" y="13"/>
                </a:lnTo>
                <a:lnTo>
                  <a:pt x="140" y="19"/>
                </a:lnTo>
                <a:lnTo>
                  <a:pt x="146" y="25"/>
                </a:lnTo>
                <a:lnTo>
                  <a:pt x="153" y="62"/>
                </a:lnTo>
                <a:lnTo>
                  <a:pt x="153" y="137"/>
                </a:lnTo>
                <a:lnTo>
                  <a:pt x="161" y="167"/>
                </a:lnTo>
                <a:lnTo>
                  <a:pt x="161" y="223"/>
                </a:lnTo>
                <a:lnTo>
                  <a:pt x="167" y="241"/>
                </a:lnTo>
                <a:lnTo>
                  <a:pt x="167" y="229"/>
                </a:lnTo>
                <a:lnTo>
                  <a:pt x="174" y="186"/>
                </a:lnTo>
                <a:lnTo>
                  <a:pt x="174" y="106"/>
                </a:lnTo>
                <a:lnTo>
                  <a:pt x="181" y="81"/>
                </a:lnTo>
                <a:lnTo>
                  <a:pt x="181" y="25"/>
                </a:lnTo>
                <a:lnTo>
                  <a:pt x="189" y="7"/>
                </a:lnTo>
                <a:lnTo>
                  <a:pt x="189" y="0"/>
                </a:lnTo>
                <a:lnTo>
                  <a:pt x="189" y="19"/>
                </a:lnTo>
                <a:lnTo>
                  <a:pt x="195" y="7"/>
                </a:lnTo>
                <a:lnTo>
                  <a:pt x="195" y="19"/>
                </a:lnTo>
                <a:lnTo>
                  <a:pt x="209" y="32"/>
                </a:lnTo>
                <a:lnTo>
                  <a:pt x="209" y="37"/>
                </a:lnTo>
                <a:lnTo>
                  <a:pt x="217" y="37"/>
                </a:lnTo>
                <a:lnTo>
                  <a:pt x="223" y="37"/>
                </a:lnTo>
                <a:lnTo>
                  <a:pt x="230" y="37"/>
                </a:lnTo>
                <a:lnTo>
                  <a:pt x="236" y="37"/>
                </a:lnTo>
                <a:lnTo>
                  <a:pt x="236" y="25"/>
                </a:lnTo>
                <a:lnTo>
                  <a:pt x="243" y="19"/>
                </a:lnTo>
                <a:lnTo>
                  <a:pt x="243" y="13"/>
                </a:lnTo>
                <a:lnTo>
                  <a:pt x="251" y="19"/>
                </a:lnTo>
                <a:lnTo>
                  <a:pt x="251" y="0"/>
                </a:lnTo>
                <a:lnTo>
                  <a:pt x="258" y="44"/>
                </a:lnTo>
                <a:lnTo>
                  <a:pt x="258" y="143"/>
                </a:lnTo>
                <a:lnTo>
                  <a:pt x="264" y="174"/>
                </a:lnTo>
                <a:lnTo>
                  <a:pt x="264" y="248"/>
                </a:lnTo>
                <a:lnTo>
                  <a:pt x="271" y="254"/>
                </a:lnTo>
                <a:lnTo>
                  <a:pt x="271" y="291"/>
                </a:lnTo>
                <a:lnTo>
                  <a:pt x="279" y="229"/>
                </a:lnTo>
                <a:lnTo>
                  <a:pt x="279" y="118"/>
                </a:lnTo>
                <a:lnTo>
                  <a:pt x="286" y="87"/>
                </a:lnTo>
                <a:lnTo>
                  <a:pt x="286" y="44"/>
                </a:lnTo>
                <a:lnTo>
                  <a:pt x="286" y="50"/>
                </a:lnTo>
                <a:lnTo>
                  <a:pt x="292" y="37"/>
                </a:lnTo>
                <a:lnTo>
                  <a:pt x="292" y="7"/>
                </a:lnTo>
                <a:lnTo>
                  <a:pt x="299" y="50"/>
                </a:lnTo>
                <a:lnTo>
                  <a:pt x="299" y="149"/>
                </a:lnTo>
                <a:lnTo>
                  <a:pt x="307" y="186"/>
                </a:lnTo>
                <a:lnTo>
                  <a:pt x="307" y="248"/>
                </a:lnTo>
                <a:lnTo>
                  <a:pt x="313" y="241"/>
                </a:lnTo>
                <a:lnTo>
                  <a:pt x="313" y="279"/>
                </a:lnTo>
                <a:lnTo>
                  <a:pt x="320" y="279"/>
                </a:lnTo>
                <a:lnTo>
                  <a:pt x="320" y="241"/>
                </a:lnTo>
                <a:lnTo>
                  <a:pt x="328" y="241"/>
                </a:lnTo>
                <a:lnTo>
                  <a:pt x="328" y="223"/>
                </a:lnTo>
                <a:lnTo>
                  <a:pt x="335" y="211"/>
                </a:lnTo>
                <a:lnTo>
                  <a:pt x="335" y="186"/>
                </a:lnTo>
                <a:lnTo>
                  <a:pt x="341" y="217"/>
                </a:lnTo>
                <a:lnTo>
                  <a:pt x="341" y="211"/>
                </a:lnTo>
                <a:lnTo>
                  <a:pt x="341" y="217"/>
                </a:lnTo>
                <a:lnTo>
                  <a:pt x="349" y="223"/>
                </a:lnTo>
                <a:lnTo>
                  <a:pt x="349" y="229"/>
                </a:lnTo>
                <a:lnTo>
                  <a:pt x="356" y="236"/>
                </a:lnTo>
                <a:lnTo>
                  <a:pt x="356" y="229"/>
                </a:lnTo>
                <a:lnTo>
                  <a:pt x="356" y="241"/>
                </a:lnTo>
                <a:lnTo>
                  <a:pt x="363" y="167"/>
                </a:lnTo>
                <a:lnTo>
                  <a:pt x="363" y="94"/>
                </a:lnTo>
                <a:lnTo>
                  <a:pt x="369" y="69"/>
                </a:lnTo>
                <a:lnTo>
                  <a:pt x="369" y="19"/>
                </a:lnTo>
                <a:lnTo>
                  <a:pt x="377" y="13"/>
                </a:lnTo>
                <a:lnTo>
                  <a:pt x="377" y="7"/>
                </a:lnTo>
                <a:lnTo>
                  <a:pt x="384" y="13"/>
                </a:lnTo>
                <a:lnTo>
                  <a:pt x="384" y="7"/>
                </a:lnTo>
                <a:lnTo>
                  <a:pt x="390" y="0"/>
                </a:lnTo>
                <a:lnTo>
                  <a:pt x="390" y="25"/>
                </a:lnTo>
                <a:lnTo>
                  <a:pt x="397" y="19"/>
                </a:lnTo>
                <a:lnTo>
                  <a:pt x="397" y="44"/>
                </a:lnTo>
                <a:lnTo>
                  <a:pt x="405" y="44"/>
                </a:lnTo>
                <a:lnTo>
                  <a:pt x="405" y="13"/>
                </a:lnTo>
                <a:lnTo>
                  <a:pt x="412" y="19"/>
                </a:lnTo>
                <a:lnTo>
                  <a:pt x="412" y="25"/>
                </a:lnTo>
                <a:lnTo>
                  <a:pt x="412" y="19"/>
                </a:lnTo>
                <a:lnTo>
                  <a:pt x="418" y="25"/>
                </a:lnTo>
                <a:lnTo>
                  <a:pt x="418" y="32"/>
                </a:lnTo>
                <a:lnTo>
                  <a:pt x="418" y="7"/>
                </a:lnTo>
                <a:lnTo>
                  <a:pt x="425" y="50"/>
                </a:lnTo>
                <a:lnTo>
                  <a:pt x="425" y="149"/>
                </a:lnTo>
                <a:lnTo>
                  <a:pt x="432" y="199"/>
                </a:lnTo>
                <a:lnTo>
                  <a:pt x="432" y="254"/>
                </a:lnTo>
                <a:lnTo>
                  <a:pt x="440" y="260"/>
                </a:lnTo>
                <a:lnTo>
                  <a:pt x="440" y="285"/>
                </a:lnTo>
                <a:lnTo>
                  <a:pt x="446" y="223"/>
                </a:lnTo>
                <a:lnTo>
                  <a:pt x="446" y="106"/>
                </a:lnTo>
                <a:lnTo>
                  <a:pt x="453" y="7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3967200" y="3139920"/>
            <a:ext cx="722160" cy="579600"/>
          </a:xfrm>
          <a:custGeom>
            <a:avLst/>
            <a:gdLst/>
            <a:ahLst/>
            <a:rect l="l" t="t" r="r" b="b"/>
            <a:pathLst>
              <a:path w="455" h="365">
                <a:moveTo>
                  <a:pt x="0" y="124"/>
                </a:moveTo>
                <a:lnTo>
                  <a:pt x="0" y="93"/>
                </a:lnTo>
                <a:lnTo>
                  <a:pt x="7" y="81"/>
                </a:lnTo>
                <a:lnTo>
                  <a:pt x="7" y="56"/>
                </a:lnTo>
                <a:lnTo>
                  <a:pt x="14" y="93"/>
                </a:lnTo>
                <a:lnTo>
                  <a:pt x="14" y="192"/>
                </a:lnTo>
                <a:lnTo>
                  <a:pt x="21" y="228"/>
                </a:lnTo>
                <a:lnTo>
                  <a:pt x="21" y="278"/>
                </a:lnTo>
                <a:lnTo>
                  <a:pt x="28" y="290"/>
                </a:lnTo>
                <a:lnTo>
                  <a:pt x="28" y="322"/>
                </a:lnTo>
                <a:lnTo>
                  <a:pt x="36" y="290"/>
                </a:lnTo>
                <a:lnTo>
                  <a:pt x="36" y="297"/>
                </a:lnTo>
                <a:lnTo>
                  <a:pt x="36" y="290"/>
                </a:lnTo>
                <a:lnTo>
                  <a:pt x="42" y="266"/>
                </a:lnTo>
                <a:lnTo>
                  <a:pt x="42" y="272"/>
                </a:lnTo>
                <a:lnTo>
                  <a:pt x="42" y="266"/>
                </a:lnTo>
                <a:lnTo>
                  <a:pt x="49" y="260"/>
                </a:lnTo>
                <a:lnTo>
                  <a:pt x="49" y="198"/>
                </a:lnTo>
                <a:lnTo>
                  <a:pt x="57" y="198"/>
                </a:lnTo>
                <a:lnTo>
                  <a:pt x="57" y="136"/>
                </a:lnTo>
                <a:lnTo>
                  <a:pt x="64" y="130"/>
                </a:lnTo>
                <a:lnTo>
                  <a:pt x="64" y="81"/>
                </a:lnTo>
                <a:lnTo>
                  <a:pt x="70" y="62"/>
                </a:lnTo>
                <a:lnTo>
                  <a:pt x="70" y="49"/>
                </a:lnTo>
                <a:lnTo>
                  <a:pt x="77" y="49"/>
                </a:lnTo>
                <a:lnTo>
                  <a:pt x="77" y="37"/>
                </a:lnTo>
                <a:lnTo>
                  <a:pt x="85" y="44"/>
                </a:lnTo>
                <a:lnTo>
                  <a:pt x="91" y="56"/>
                </a:lnTo>
                <a:lnTo>
                  <a:pt x="91" y="49"/>
                </a:lnTo>
                <a:lnTo>
                  <a:pt x="98" y="99"/>
                </a:lnTo>
                <a:lnTo>
                  <a:pt x="98" y="186"/>
                </a:lnTo>
                <a:lnTo>
                  <a:pt x="105" y="235"/>
                </a:lnTo>
                <a:lnTo>
                  <a:pt x="105" y="340"/>
                </a:lnTo>
                <a:lnTo>
                  <a:pt x="113" y="340"/>
                </a:lnTo>
                <a:lnTo>
                  <a:pt x="113" y="365"/>
                </a:lnTo>
                <a:lnTo>
                  <a:pt x="119" y="303"/>
                </a:lnTo>
                <a:lnTo>
                  <a:pt x="119" y="192"/>
                </a:lnTo>
                <a:lnTo>
                  <a:pt x="126" y="155"/>
                </a:lnTo>
                <a:lnTo>
                  <a:pt x="126" y="99"/>
                </a:lnTo>
                <a:lnTo>
                  <a:pt x="126" y="106"/>
                </a:lnTo>
                <a:lnTo>
                  <a:pt x="133" y="106"/>
                </a:lnTo>
                <a:lnTo>
                  <a:pt x="133" y="93"/>
                </a:lnTo>
                <a:lnTo>
                  <a:pt x="141" y="130"/>
                </a:lnTo>
                <a:lnTo>
                  <a:pt x="141" y="186"/>
                </a:lnTo>
                <a:lnTo>
                  <a:pt x="147" y="205"/>
                </a:lnTo>
                <a:lnTo>
                  <a:pt x="147" y="253"/>
                </a:lnTo>
                <a:lnTo>
                  <a:pt x="154" y="266"/>
                </a:lnTo>
                <a:lnTo>
                  <a:pt x="154" y="278"/>
                </a:lnTo>
                <a:lnTo>
                  <a:pt x="162" y="235"/>
                </a:lnTo>
                <a:lnTo>
                  <a:pt x="162" y="173"/>
                </a:lnTo>
                <a:lnTo>
                  <a:pt x="168" y="161"/>
                </a:lnTo>
                <a:lnTo>
                  <a:pt x="168" y="118"/>
                </a:lnTo>
                <a:lnTo>
                  <a:pt x="175" y="111"/>
                </a:lnTo>
                <a:lnTo>
                  <a:pt x="175" y="93"/>
                </a:lnTo>
                <a:lnTo>
                  <a:pt x="182" y="81"/>
                </a:lnTo>
                <a:lnTo>
                  <a:pt x="182" y="62"/>
                </a:lnTo>
                <a:lnTo>
                  <a:pt x="196" y="49"/>
                </a:lnTo>
                <a:lnTo>
                  <a:pt x="190" y="49"/>
                </a:lnTo>
                <a:lnTo>
                  <a:pt x="196" y="56"/>
                </a:lnTo>
                <a:lnTo>
                  <a:pt x="203" y="56"/>
                </a:lnTo>
                <a:lnTo>
                  <a:pt x="210" y="62"/>
                </a:lnTo>
                <a:lnTo>
                  <a:pt x="210" y="68"/>
                </a:lnTo>
                <a:lnTo>
                  <a:pt x="218" y="62"/>
                </a:lnTo>
                <a:lnTo>
                  <a:pt x="218" y="68"/>
                </a:lnTo>
                <a:lnTo>
                  <a:pt x="218" y="49"/>
                </a:lnTo>
                <a:lnTo>
                  <a:pt x="224" y="93"/>
                </a:lnTo>
                <a:lnTo>
                  <a:pt x="224" y="192"/>
                </a:lnTo>
                <a:lnTo>
                  <a:pt x="231" y="241"/>
                </a:lnTo>
                <a:lnTo>
                  <a:pt x="231" y="303"/>
                </a:lnTo>
                <a:lnTo>
                  <a:pt x="237" y="309"/>
                </a:lnTo>
                <a:lnTo>
                  <a:pt x="237" y="334"/>
                </a:lnTo>
                <a:lnTo>
                  <a:pt x="245" y="272"/>
                </a:lnTo>
                <a:lnTo>
                  <a:pt x="245" y="148"/>
                </a:lnTo>
                <a:lnTo>
                  <a:pt x="252" y="130"/>
                </a:lnTo>
                <a:lnTo>
                  <a:pt x="252" y="136"/>
                </a:lnTo>
                <a:lnTo>
                  <a:pt x="252" y="118"/>
                </a:lnTo>
                <a:lnTo>
                  <a:pt x="259" y="106"/>
                </a:lnTo>
                <a:lnTo>
                  <a:pt x="259" y="81"/>
                </a:lnTo>
                <a:lnTo>
                  <a:pt x="267" y="68"/>
                </a:lnTo>
                <a:lnTo>
                  <a:pt x="267" y="44"/>
                </a:lnTo>
                <a:lnTo>
                  <a:pt x="273" y="37"/>
                </a:lnTo>
                <a:lnTo>
                  <a:pt x="273" y="31"/>
                </a:lnTo>
                <a:lnTo>
                  <a:pt x="273" y="37"/>
                </a:lnTo>
                <a:lnTo>
                  <a:pt x="288" y="49"/>
                </a:lnTo>
                <a:lnTo>
                  <a:pt x="288" y="56"/>
                </a:lnTo>
                <a:lnTo>
                  <a:pt x="295" y="62"/>
                </a:lnTo>
                <a:lnTo>
                  <a:pt x="295" y="74"/>
                </a:lnTo>
                <a:lnTo>
                  <a:pt x="301" y="81"/>
                </a:lnTo>
                <a:lnTo>
                  <a:pt x="301" y="86"/>
                </a:lnTo>
                <a:lnTo>
                  <a:pt x="308" y="93"/>
                </a:lnTo>
                <a:lnTo>
                  <a:pt x="308" y="86"/>
                </a:lnTo>
                <a:lnTo>
                  <a:pt x="308" y="93"/>
                </a:lnTo>
                <a:lnTo>
                  <a:pt x="316" y="99"/>
                </a:lnTo>
                <a:lnTo>
                  <a:pt x="322" y="93"/>
                </a:lnTo>
                <a:lnTo>
                  <a:pt x="322" y="124"/>
                </a:lnTo>
                <a:lnTo>
                  <a:pt x="329" y="106"/>
                </a:lnTo>
                <a:lnTo>
                  <a:pt x="329" y="86"/>
                </a:lnTo>
                <a:lnTo>
                  <a:pt x="336" y="74"/>
                </a:lnTo>
                <a:lnTo>
                  <a:pt x="336" y="68"/>
                </a:lnTo>
                <a:lnTo>
                  <a:pt x="344" y="81"/>
                </a:lnTo>
                <a:lnTo>
                  <a:pt x="357" y="86"/>
                </a:lnTo>
                <a:lnTo>
                  <a:pt x="357" y="93"/>
                </a:lnTo>
                <a:lnTo>
                  <a:pt x="357" y="86"/>
                </a:lnTo>
                <a:lnTo>
                  <a:pt x="364" y="93"/>
                </a:lnTo>
                <a:lnTo>
                  <a:pt x="364" y="86"/>
                </a:lnTo>
                <a:lnTo>
                  <a:pt x="370" y="124"/>
                </a:lnTo>
                <a:lnTo>
                  <a:pt x="370" y="198"/>
                </a:lnTo>
                <a:lnTo>
                  <a:pt x="378" y="228"/>
                </a:lnTo>
                <a:lnTo>
                  <a:pt x="378" y="278"/>
                </a:lnTo>
                <a:lnTo>
                  <a:pt x="385" y="285"/>
                </a:lnTo>
                <a:lnTo>
                  <a:pt x="385" y="297"/>
                </a:lnTo>
                <a:lnTo>
                  <a:pt x="399" y="285"/>
                </a:lnTo>
                <a:lnTo>
                  <a:pt x="399" y="272"/>
                </a:lnTo>
                <a:lnTo>
                  <a:pt x="406" y="272"/>
                </a:lnTo>
                <a:lnTo>
                  <a:pt x="406" y="248"/>
                </a:lnTo>
                <a:lnTo>
                  <a:pt x="421" y="260"/>
                </a:lnTo>
                <a:lnTo>
                  <a:pt x="421" y="266"/>
                </a:lnTo>
                <a:lnTo>
                  <a:pt x="427" y="272"/>
                </a:lnTo>
                <a:lnTo>
                  <a:pt x="427" y="290"/>
                </a:lnTo>
                <a:lnTo>
                  <a:pt x="434" y="235"/>
                </a:lnTo>
                <a:lnTo>
                  <a:pt x="434" y="143"/>
                </a:lnTo>
                <a:lnTo>
                  <a:pt x="441" y="130"/>
                </a:lnTo>
                <a:lnTo>
                  <a:pt x="441" y="68"/>
                </a:lnTo>
                <a:lnTo>
                  <a:pt x="449" y="62"/>
                </a:lnTo>
                <a:lnTo>
                  <a:pt x="449" y="99"/>
                </a:lnTo>
                <a:lnTo>
                  <a:pt x="449" y="68"/>
                </a:lnTo>
                <a:lnTo>
                  <a:pt x="455" y="62"/>
                </a:lnTo>
                <a:lnTo>
                  <a:pt x="455"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4689360" y="3139920"/>
            <a:ext cx="666720" cy="1041480"/>
          </a:xfrm>
          <a:custGeom>
            <a:avLst/>
            <a:gdLst/>
            <a:ahLst/>
            <a:rect l="l" t="t" r="r" b="b"/>
            <a:pathLst>
              <a:path w="420" h="656">
                <a:moveTo>
                  <a:pt x="0" y="0"/>
                </a:moveTo>
                <a:lnTo>
                  <a:pt x="7" y="37"/>
                </a:lnTo>
                <a:lnTo>
                  <a:pt x="7" y="31"/>
                </a:lnTo>
                <a:lnTo>
                  <a:pt x="7" y="37"/>
                </a:lnTo>
                <a:lnTo>
                  <a:pt x="21" y="49"/>
                </a:lnTo>
                <a:lnTo>
                  <a:pt x="21" y="62"/>
                </a:lnTo>
                <a:lnTo>
                  <a:pt x="28" y="68"/>
                </a:lnTo>
                <a:lnTo>
                  <a:pt x="28" y="31"/>
                </a:lnTo>
                <a:lnTo>
                  <a:pt x="28" y="86"/>
                </a:lnTo>
                <a:lnTo>
                  <a:pt x="35" y="81"/>
                </a:lnTo>
                <a:lnTo>
                  <a:pt x="35" y="74"/>
                </a:lnTo>
                <a:lnTo>
                  <a:pt x="35" y="81"/>
                </a:lnTo>
                <a:lnTo>
                  <a:pt x="41" y="124"/>
                </a:lnTo>
                <a:lnTo>
                  <a:pt x="41" y="216"/>
                </a:lnTo>
                <a:lnTo>
                  <a:pt x="49" y="260"/>
                </a:lnTo>
                <a:lnTo>
                  <a:pt x="49" y="309"/>
                </a:lnTo>
                <a:lnTo>
                  <a:pt x="56" y="322"/>
                </a:lnTo>
                <a:lnTo>
                  <a:pt x="56" y="328"/>
                </a:lnTo>
                <a:lnTo>
                  <a:pt x="63" y="272"/>
                </a:lnTo>
                <a:lnTo>
                  <a:pt x="63" y="173"/>
                </a:lnTo>
                <a:lnTo>
                  <a:pt x="71" y="148"/>
                </a:lnTo>
                <a:lnTo>
                  <a:pt x="71" y="86"/>
                </a:lnTo>
                <a:lnTo>
                  <a:pt x="77" y="81"/>
                </a:lnTo>
                <a:lnTo>
                  <a:pt x="77" y="68"/>
                </a:lnTo>
                <a:lnTo>
                  <a:pt x="77" y="93"/>
                </a:lnTo>
                <a:lnTo>
                  <a:pt x="84" y="81"/>
                </a:lnTo>
                <a:lnTo>
                  <a:pt x="84" y="62"/>
                </a:lnTo>
                <a:lnTo>
                  <a:pt x="92" y="49"/>
                </a:lnTo>
                <a:lnTo>
                  <a:pt x="92" y="62"/>
                </a:lnTo>
                <a:lnTo>
                  <a:pt x="98" y="68"/>
                </a:lnTo>
                <a:lnTo>
                  <a:pt x="98" y="74"/>
                </a:lnTo>
                <a:lnTo>
                  <a:pt x="105" y="81"/>
                </a:lnTo>
                <a:lnTo>
                  <a:pt x="105" y="74"/>
                </a:lnTo>
                <a:lnTo>
                  <a:pt x="105" y="81"/>
                </a:lnTo>
                <a:lnTo>
                  <a:pt x="112" y="656"/>
                </a:lnTo>
                <a:lnTo>
                  <a:pt x="112" y="62"/>
                </a:lnTo>
                <a:lnTo>
                  <a:pt x="112" y="86"/>
                </a:lnTo>
                <a:lnTo>
                  <a:pt x="118" y="81"/>
                </a:lnTo>
                <a:lnTo>
                  <a:pt x="118" y="93"/>
                </a:lnTo>
                <a:lnTo>
                  <a:pt x="118" y="86"/>
                </a:lnTo>
                <a:lnTo>
                  <a:pt x="126" y="93"/>
                </a:lnTo>
                <a:lnTo>
                  <a:pt x="133" y="99"/>
                </a:lnTo>
                <a:lnTo>
                  <a:pt x="140" y="93"/>
                </a:lnTo>
                <a:lnTo>
                  <a:pt x="140" y="81"/>
                </a:lnTo>
                <a:lnTo>
                  <a:pt x="146" y="118"/>
                </a:lnTo>
                <a:lnTo>
                  <a:pt x="146" y="205"/>
                </a:lnTo>
                <a:lnTo>
                  <a:pt x="154" y="228"/>
                </a:lnTo>
                <a:lnTo>
                  <a:pt x="154" y="285"/>
                </a:lnTo>
                <a:lnTo>
                  <a:pt x="161" y="285"/>
                </a:lnTo>
                <a:lnTo>
                  <a:pt x="161" y="328"/>
                </a:lnTo>
                <a:lnTo>
                  <a:pt x="167" y="266"/>
                </a:lnTo>
                <a:lnTo>
                  <a:pt x="167" y="161"/>
                </a:lnTo>
                <a:lnTo>
                  <a:pt x="174" y="124"/>
                </a:lnTo>
                <a:lnTo>
                  <a:pt x="174" y="86"/>
                </a:lnTo>
                <a:lnTo>
                  <a:pt x="182" y="81"/>
                </a:lnTo>
                <a:lnTo>
                  <a:pt x="182" y="86"/>
                </a:lnTo>
                <a:lnTo>
                  <a:pt x="182" y="74"/>
                </a:lnTo>
                <a:lnTo>
                  <a:pt x="189" y="111"/>
                </a:lnTo>
                <a:lnTo>
                  <a:pt x="189" y="186"/>
                </a:lnTo>
                <a:lnTo>
                  <a:pt x="195" y="210"/>
                </a:lnTo>
                <a:lnTo>
                  <a:pt x="195" y="260"/>
                </a:lnTo>
                <a:lnTo>
                  <a:pt x="202" y="297"/>
                </a:lnTo>
                <a:lnTo>
                  <a:pt x="202" y="260"/>
                </a:lnTo>
                <a:lnTo>
                  <a:pt x="210" y="223"/>
                </a:lnTo>
                <a:lnTo>
                  <a:pt x="210" y="148"/>
                </a:lnTo>
                <a:lnTo>
                  <a:pt x="217" y="124"/>
                </a:lnTo>
                <a:lnTo>
                  <a:pt x="217" y="49"/>
                </a:lnTo>
                <a:lnTo>
                  <a:pt x="223" y="44"/>
                </a:lnTo>
                <a:lnTo>
                  <a:pt x="223" y="37"/>
                </a:lnTo>
                <a:lnTo>
                  <a:pt x="223" y="56"/>
                </a:lnTo>
                <a:lnTo>
                  <a:pt x="231" y="74"/>
                </a:lnTo>
                <a:lnTo>
                  <a:pt x="231" y="173"/>
                </a:lnTo>
                <a:lnTo>
                  <a:pt x="238" y="223"/>
                </a:lnTo>
                <a:lnTo>
                  <a:pt x="238" y="285"/>
                </a:lnTo>
                <a:lnTo>
                  <a:pt x="244" y="303"/>
                </a:lnTo>
                <a:lnTo>
                  <a:pt x="244" y="309"/>
                </a:lnTo>
                <a:lnTo>
                  <a:pt x="252" y="266"/>
                </a:lnTo>
                <a:lnTo>
                  <a:pt x="252" y="173"/>
                </a:lnTo>
                <a:lnTo>
                  <a:pt x="259" y="148"/>
                </a:lnTo>
                <a:lnTo>
                  <a:pt x="259" y="99"/>
                </a:lnTo>
                <a:lnTo>
                  <a:pt x="266" y="86"/>
                </a:lnTo>
                <a:lnTo>
                  <a:pt x="266" y="74"/>
                </a:lnTo>
                <a:lnTo>
                  <a:pt x="266" y="99"/>
                </a:lnTo>
                <a:lnTo>
                  <a:pt x="272" y="136"/>
                </a:lnTo>
                <a:lnTo>
                  <a:pt x="272" y="198"/>
                </a:lnTo>
                <a:lnTo>
                  <a:pt x="280" y="228"/>
                </a:lnTo>
                <a:lnTo>
                  <a:pt x="280" y="272"/>
                </a:lnTo>
                <a:lnTo>
                  <a:pt x="287" y="272"/>
                </a:lnTo>
                <a:lnTo>
                  <a:pt x="287" y="253"/>
                </a:lnTo>
                <a:lnTo>
                  <a:pt x="294" y="216"/>
                </a:lnTo>
                <a:lnTo>
                  <a:pt x="294" y="148"/>
                </a:lnTo>
                <a:lnTo>
                  <a:pt x="300" y="118"/>
                </a:lnTo>
                <a:lnTo>
                  <a:pt x="300" y="68"/>
                </a:lnTo>
                <a:lnTo>
                  <a:pt x="308" y="62"/>
                </a:lnTo>
                <a:lnTo>
                  <a:pt x="308" y="56"/>
                </a:lnTo>
                <a:lnTo>
                  <a:pt x="308" y="68"/>
                </a:lnTo>
                <a:lnTo>
                  <a:pt x="315" y="62"/>
                </a:lnTo>
                <a:lnTo>
                  <a:pt x="315" y="68"/>
                </a:lnTo>
                <a:lnTo>
                  <a:pt x="321" y="74"/>
                </a:lnTo>
                <a:lnTo>
                  <a:pt x="321" y="86"/>
                </a:lnTo>
                <a:lnTo>
                  <a:pt x="328" y="86"/>
                </a:lnTo>
                <a:lnTo>
                  <a:pt x="335" y="86"/>
                </a:lnTo>
                <a:lnTo>
                  <a:pt x="335" y="74"/>
                </a:lnTo>
                <a:lnTo>
                  <a:pt x="343" y="68"/>
                </a:lnTo>
                <a:lnTo>
                  <a:pt x="349" y="62"/>
                </a:lnTo>
                <a:lnTo>
                  <a:pt x="349" y="44"/>
                </a:lnTo>
                <a:lnTo>
                  <a:pt x="356" y="44"/>
                </a:lnTo>
                <a:lnTo>
                  <a:pt x="356" y="62"/>
                </a:lnTo>
                <a:lnTo>
                  <a:pt x="364" y="49"/>
                </a:lnTo>
                <a:lnTo>
                  <a:pt x="364" y="62"/>
                </a:lnTo>
                <a:lnTo>
                  <a:pt x="364" y="56"/>
                </a:lnTo>
                <a:lnTo>
                  <a:pt x="371" y="62"/>
                </a:lnTo>
                <a:lnTo>
                  <a:pt x="371" y="56"/>
                </a:lnTo>
                <a:lnTo>
                  <a:pt x="371" y="81"/>
                </a:lnTo>
                <a:lnTo>
                  <a:pt x="377" y="124"/>
                </a:lnTo>
                <a:lnTo>
                  <a:pt x="377" y="192"/>
                </a:lnTo>
                <a:lnTo>
                  <a:pt x="385" y="216"/>
                </a:lnTo>
                <a:lnTo>
                  <a:pt x="385" y="260"/>
                </a:lnTo>
                <a:lnTo>
                  <a:pt x="392" y="272"/>
                </a:lnTo>
                <a:lnTo>
                  <a:pt x="392" y="253"/>
                </a:lnTo>
                <a:lnTo>
                  <a:pt x="398" y="253"/>
                </a:lnTo>
                <a:lnTo>
                  <a:pt x="398" y="278"/>
                </a:lnTo>
                <a:lnTo>
                  <a:pt x="405" y="278"/>
                </a:lnTo>
                <a:lnTo>
                  <a:pt x="405" y="290"/>
                </a:lnTo>
                <a:lnTo>
                  <a:pt x="413" y="297"/>
                </a:lnTo>
                <a:lnTo>
                  <a:pt x="413" y="322"/>
                </a:lnTo>
                <a:lnTo>
                  <a:pt x="420" y="253"/>
                </a:lnTo>
                <a:lnTo>
                  <a:pt x="420" y="148"/>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5356080" y="3209760"/>
            <a:ext cx="733680" cy="519120"/>
          </a:xfrm>
          <a:custGeom>
            <a:avLst/>
            <a:gdLst/>
            <a:ahLst/>
            <a:rect l="l" t="t" r="r" b="b"/>
            <a:pathLst>
              <a:path w="462" h="327">
                <a:moveTo>
                  <a:pt x="0" y="104"/>
                </a:moveTo>
                <a:lnTo>
                  <a:pt x="6" y="99"/>
                </a:lnTo>
                <a:lnTo>
                  <a:pt x="6" y="68"/>
                </a:lnTo>
                <a:lnTo>
                  <a:pt x="13" y="56"/>
                </a:lnTo>
                <a:lnTo>
                  <a:pt x="13" y="24"/>
                </a:lnTo>
                <a:lnTo>
                  <a:pt x="21" y="68"/>
                </a:lnTo>
                <a:lnTo>
                  <a:pt x="21" y="142"/>
                </a:lnTo>
                <a:lnTo>
                  <a:pt x="28" y="166"/>
                </a:lnTo>
                <a:lnTo>
                  <a:pt x="28" y="223"/>
                </a:lnTo>
                <a:lnTo>
                  <a:pt x="34" y="247"/>
                </a:lnTo>
                <a:lnTo>
                  <a:pt x="34" y="265"/>
                </a:lnTo>
                <a:lnTo>
                  <a:pt x="41" y="216"/>
                </a:lnTo>
                <a:lnTo>
                  <a:pt x="41" y="129"/>
                </a:lnTo>
                <a:lnTo>
                  <a:pt x="49" y="99"/>
                </a:lnTo>
                <a:lnTo>
                  <a:pt x="49" y="43"/>
                </a:lnTo>
                <a:lnTo>
                  <a:pt x="55" y="37"/>
                </a:lnTo>
                <a:lnTo>
                  <a:pt x="55" y="19"/>
                </a:lnTo>
                <a:lnTo>
                  <a:pt x="55" y="24"/>
                </a:lnTo>
                <a:lnTo>
                  <a:pt x="62" y="74"/>
                </a:lnTo>
                <a:lnTo>
                  <a:pt x="62" y="166"/>
                </a:lnTo>
                <a:lnTo>
                  <a:pt x="70" y="204"/>
                </a:lnTo>
                <a:lnTo>
                  <a:pt x="70" y="265"/>
                </a:lnTo>
                <a:lnTo>
                  <a:pt x="77" y="272"/>
                </a:lnTo>
                <a:lnTo>
                  <a:pt x="83" y="223"/>
                </a:lnTo>
                <a:lnTo>
                  <a:pt x="83" y="129"/>
                </a:lnTo>
                <a:lnTo>
                  <a:pt x="90" y="92"/>
                </a:lnTo>
                <a:lnTo>
                  <a:pt x="90" y="43"/>
                </a:lnTo>
                <a:lnTo>
                  <a:pt x="98" y="31"/>
                </a:lnTo>
                <a:lnTo>
                  <a:pt x="98" y="24"/>
                </a:lnTo>
                <a:lnTo>
                  <a:pt x="98" y="31"/>
                </a:lnTo>
                <a:lnTo>
                  <a:pt x="105" y="62"/>
                </a:lnTo>
                <a:lnTo>
                  <a:pt x="105" y="166"/>
                </a:lnTo>
                <a:lnTo>
                  <a:pt x="111" y="204"/>
                </a:lnTo>
                <a:lnTo>
                  <a:pt x="111" y="278"/>
                </a:lnTo>
                <a:lnTo>
                  <a:pt x="118" y="290"/>
                </a:lnTo>
                <a:lnTo>
                  <a:pt x="118" y="327"/>
                </a:lnTo>
                <a:lnTo>
                  <a:pt x="126" y="260"/>
                </a:lnTo>
                <a:lnTo>
                  <a:pt x="126" y="148"/>
                </a:lnTo>
                <a:lnTo>
                  <a:pt x="132" y="104"/>
                </a:lnTo>
                <a:lnTo>
                  <a:pt x="132" y="62"/>
                </a:lnTo>
                <a:lnTo>
                  <a:pt x="146" y="49"/>
                </a:lnTo>
                <a:lnTo>
                  <a:pt x="146" y="43"/>
                </a:lnTo>
                <a:lnTo>
                  <a:pt x="154" y="37"/>
                </a:lnTo>
                <a:lnTo>
                  <a:pt x="154" y="43"/>
                </a:lnTo>
                <a:lnTo>
                  <a:pt x="160" y="37"/>
                </a:lnTo>
                <a:lnTo>
                  <a:pt x="167" y="74"/>
                </a:lnTo>
                <a:lnTo>
                  <a:pt x="167" y="136"/>
                </a:lnTo>
                <a:lnTo>
                  <a:pt x="175" y="154"/>
                </a:lnTo>
                <a:lnTo>
                  <a:pt x="175" y="191"/>
                </a:lnTo>
                <a:lnTo>
                  <a:pt x="181" y="204"/>
                </a:lnTo>
                <a:lnTo>
                  <a:pt x="181" y="210"/>
                </a:lnTo>
                <a:lnTo>
                  <a:pt x="181" y="198"/>
                </a:lnTo>
                <a:lnTo>
                  <a:pt x="188" y="210"/>
                </a:lnTo>
                <a:lnTo>
                  <a:pt x="188" y="228"/>
                </a:lnTo>
                <a:lnTo>
                  <a:pt x="196" y="241"/>
                </a:lnTo>
                <a:lnTo>
                  <a:pt x="196" y="235"/>
                </a:lnTo>
                <a:lnTo>
                  <a:pt x="203" y="241"/>
                </a:lnTo>
                <a:lnTo>
                  <a:pt x="203" y="247"/>
                </a:lnTo>
                <a:lnTo>
                  <a:pt x="203" y="241"/>
                </a:lnTo>
                <a:lnTo>
                  <a:pt x="209" y="235"/>
                </a:lnTo>
                <a:lnTo>
                  <a:pt x="209" y="228"/>
                </a:lnTo>
                <a:lnTo>
                  <a:pt x="209" y="235"/>
                </a:lnTo>
                <a:lnTo>
                  <a:pt x="216" y="241"/>
                </a:lnTo>
                <a:lnTo>
                  <a:pt x="216" y="235"/>
                </a:lnTo>
                <a:lnTo>
                  <a:pt x="216" y="241"/>
                </a:lnTo>
                <a:lnTo>
                  <a:pt x="224" y="247"/>
                </a:lnTo>
                <a:lnTo>
                  <a:pt x="224" y="253"/>
                </a:lnTo>
                <a:lnTo>
                  <a:pt x="237" y="253"/>
                </a:lnTo>
                <a:lnTo>
                  <a:pt x="237" y="265"/>
                </a:lnTo>
                <a:lnTo>
                  <a:pt x="237" y="260"/>
                </a:lnTo>
                <a:lnTo>
                  <a:pt x="244" y="260"/>
                </a:lnTo>
                <a:lnTo>
                  <a:pt x="244" y="272"/>
                </a:lnTo>
                <a:lnTo>
                  <a:pt x="252" y="210"/>
                </a:lnTo>
                <a:lnTo>
                  <a:pt x="252" y="123"/>
                </a:lnTo>
                <a:lnTo>
                  <a:pt x="258" y="99"/>
                </a:lnTo>
                <a:lnTo>
                  <a:pt x="258" y="49"/>
                </a:lnTo>
                <a:lnTo>
                  <a:pt x="265" y="24"/>
                </a:lnTo>
                <a:lnTo>
                  <a:pt x="265" y="12"/>
                </a:lnTo>
                <a:lnTo>
                  <a:pt x="265" y="37"/>
                </a:lnTo>
                <a:lnTo>
                  <a:pt x="273" y="31"/>
                </a:lnTo>
                <a:lnTo>
                  <a:pt x="273" y="0"/>
                </a:lnTo>
                <a:lnTo>
                  <a:pt x="286" y="19"/>
                </a:lnTo>
                <a:lnTo>
                  <a:pt x="286" y="31"/>
                </a:lnTo>
                <a:lnTo>
                  <a:pt x="293" y="68"/>
                </a:lnTo>
                <a:lnTo>
                  <a:pt x="293" y="136"/>
                </a:lnTo>
                <a:lnTo>
                  <a:pt x="301" y="161"/>
                </a:lnTo>
                <a:lnTo>
                  <a:pt x="301" y="223"/>
                </a:lnTo>
                <a:lnTo>
                  <a:pt x="308" y="228"/>
                </a:lnTo>
                <a:lnTo>
                  <a:pt x="308" y="210"/>
                </a:lnTo>
                <a:lnTo>
                  <a:pt x="314" y="173"/>
                </a:lnTo>
                <a:lnTo>
                  <a:pt x="314" y="111"/>
                </a:lnTo>
                <a:lnTo>
                  <a:pt x="321" y="92"/>
                </a:lnTo>
                <a:lnTo>
                  <a:pt x="321" y="43"/>
                </a:lnTo>
                <a:lnTo>
                  <a:pt x="329" y="31"/>
                </a:lnTo>
                <a:lnTo>
                  <a:pt x="329" y="19"/>
                </a:lnTo>
                <a:lnTo>
                  <a:pt x="335" y="68"/>
                </a:lnTo>
                <a:lnTo>
                  <a:pt x="335" y="154"/>
                </a:lnTo>
                <a:lnTo>
                  <a:pt x="342" y="185"/>
                </a:lnTo>
                <a:lnTo>
                  <a:pt x="342" y="241"/>
                </a:lnTo>
                <a:lnTo>
                  <a:pt x="349" y="253"/>
                </a:lnTo>
                <a:lnTo>
                  <a:pt x="349" y="265"/>
                </a:lnTo>
                <a:lnTo>
                  <a:pt x="357" y="272"/>
                </a:lnTo>
                <a:lnTo>
                  <a:pt x="363" y="272"/>
                </a:lnTo>
                <a:lnTo>
                  <a:pt x="371" y="265"/>
                </a:lnTo>
                <a:lnTo>
                  <a:pt x="378" y="204"/>
                </a:lnTo>
                <a:lnTo>
                  <a:pt x="378" y="111"/>
                </a:lnTo>
                <a:lnTo>
                  <a:pt x="385" y="81"/>
                </a:lnTo>
                <a:lnTo>
                  <a:pt x="385" y="19"/>
                </a:lnTo>
                <a:lnTo>
                  <a:pt x="391" y="12"/>
                </a:lnTo>
                <a:lnTo>
                  <a:pt x="391" y="6"/>
                </a:lnTo>
                <a:lnTo>
                  <a:pt x="391" y="24"/>
                </a:lnTo>
                <a:lnTo>
                  <a:pt x="399" y="56"/>
                </a:lnTo>
                <a:lnTo>
                  <a:pt x="399" y="136"/>
                </a:lnTo>
                <a:lnTo>
                  <a:pt x="406" y="161"/>
                </a:lnTo>
                <a:lnTo>
                  <a:pt x="406" y="210"/>
                </a:lnTo>
                <a:lnTo>
                  <a:pt x="412" y="223"/>
                </a:lnTo>
                <a:lnTo>
                  <a:pt x="412" y="235"/>
                </a:lnTo>
                <a:lnTo>
                  <a:pt x="419" y="241"/>
                </a:lnTo>
                <a:lnTo>
                  <a:pt x="419" y="228"/>
                </a:lnTo>
                <a:lnTo>
                  <a:pt x="419" y="235"/>
                </a:lnTo>
                <a:lnTo>
                  <a:pt x="427" y="228"/>
                </a:lnTo>
                <a:lnTo>
                  <a:pt x="440" y="228"/>
                </a:lnTo>
                <a:lnTo>
                  <a:pt x="440" y="235"/>
                </a:lnTo>
                <a:lnTo>
                  <a:pt x="447" y="241"/>
                </a:lnTo>
                <a:lnTo>
                  <a:pt x="447" y="235"/>
                </a:lnTo>
                <a:lnTo>
                  <a:pt x="455" y="241"/>
                </a:lnTo>
                <a:lnTo>
                  <a:pt x="455" y="210"/>
                </a:lnTo>
                <a:lnTo>
                  <a:pt x="462" y="20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6089760" y="3189240"/>
            <a:ext cx="730080" cy="560520"/>
          </a:xfrm>
          <a:custGeom>
            <a:avLst/>
            <a:gdLst/>
            <a:ahLst/>
            <a:rect l="l" t="t" r="r" b="b"/>
            <a:pathLst>
              <a:path w="460" h="353">
                <a:moveTo>
                  <a:pt x="0" y="217"/>
                </a:moveTo>
                <a:lnTo>
                  <a:pt x="14" y="229"/>
                </a:lnTo>
                <a:lnTo>
                  <a:pt x="14" y="241"/>
                </a:lnTo>
                <a:lnTo>
                  <a:pt x="27" y="254"/>
                </a:lnTo>
                <a:lnTo>
                  <a:pt x="27" y="266"/>
                </a:lnTo>
                <a:lnTo>
                  <a:pt x="27" y="260"/>
                </a:lnTo>
                <a:lnTo>
                  <a:pt x="34" y="266"/>
                </a:lnTo>
                <a:lnTo>
                  <a:pt x="34" y="260"/>
                </a:lnTo>
                <a:lnTo>
                  <a:pt x="34" y="266"/>
                </a:lnTo>
                <a:lnTo>
                  <a:pt x="42" y="266"/>
                </a:lnTo>
                <a:lnTo>
                  <a:pt x="49" y="266"/>
                </a:lnTo>
                <a:lnTo>
                  <a:pt x="55" y="266"/>
                </a:lnTo>
                <a:lnTo>
                  <a:pt x="55" y="291"/>
                </a:lnTo>
                <a:lnTo>
                  <a:pt x="62" y="223"/>
                </a:lnTo>
                <a:lnTo>
                  <a:pt x="62" y="99"/>
                </a:lnTo>
                <a:lnTo>
                  <a:pt x="70" y="81"/>
                </a:lnTo>
                <a:lnTo>
                  <a:pt x="70" y="87"/>
                </a:lnTo>
                <a:lnTo>
                  <a:pt x="70" y="75"/>
                </a:lnTo>
                <a:lnTo>
                  <a:pt x="77" y="69"/>
                </a:lnTo>
                <a:lnTo>
                  <a:pt x="77" y="32"/>
                </a:lnTo>
                <a:lnTo>
                  <a:pt x="83" y="25"/>
                </a:lnTo>
                <a:lnTo>
                  <a:pt x="83" y="13"/>
                </a:lnTo>
                <a:lnTo>
                  <a:pt x="90" y="7"/>
                </a:lnTo>
                <a:lnTo>
                  <a:pt x="90" y="0"/>
                </a:lnTo>
                <a:lnTo>
                  <a:pt x="90" y="7"/>
                </a:lnTo>
                <a:lnTo>
                  <a:pt x="98" y="7"/>
                </a:lnTo>
                <a:lnTo>
                  <a:pt x="111" y="19"/>
                </a:lnTo>
                <a:lnTo>
                  <a:pt x="111" y="25"/>
                </a:lnTo>
                <a:lnTo>
                  <a:pt x="118" y="32"/>
                </a:lnTo>
                <a:lnTo>
                  <a:pt x="126" y="25"/>
                </a:lnTo>
                <a:lnTo>
                  <a:pt x="132" y="32"/>
                </a:lnTo>
                <a:lnTo>
                  <a:pt x="132" y="37"/>
                </a:lnTo>
                <a:lnTo>
                  <a:pt x="132" y="32"/>
                </a:lnTo>
                <a:lnTo>
                  <a:pt x="139" y="44"/>
                </a:lnTo>
                <a:lnTo>
                  <a:pt x="146" y="94"/>
                </a:lnTo>
                <a:lnTo>
                  <a:pt x="146" y="186"/>
                </a:lnTo>
                <a:lnTo>
                  <a:pt x="154" y="236"/>
                </a:lnTo>
                <a:lnTo>
                  <a:pt x="154" y="316"/>
                </a:lnTo>
                <a:lnTo>
                  <a:pt x="160" y="321"/>
                </a:lnTo>
                <a:lnTo>
                  <a:pt x="160" y="353"/>
                </a:lnTo>
                <a:lnTo>
                  <a:pt x="168" y="284"/>
                </a:lnTo>
                <a:lnTo>
                  <a:pt x="168" y="161"/>
                </a:lnTo>
                <a:lnTo>
                  <a:pt x="175" y="118"/>
                </a:lnTo>
                <a:lnTo>
                  <a:pt x="175" y="56"/>
                </a:lnTo>
                <a:lnTo>
                  <a:pt x="181" y="62"/>
                </a:lnTo>
                <a:lnTo>
                  <a:pt x="181" y="32"/>
                </a:lnTo>
                <a:lnTo>
                  <a:pt x="188" y="32"/>
                </a:lnTo>
                <a:lnTo>
                  <a:pt x="196" y="25"/>
                </a:lnTo>
                <a:lnTo>
                  <a:pt x="203" y="32"/>
                </a:lnTo>
                <a:lnTo>
                  <a:pt x="203" y="25"/>
                </a:lnTo>
                <a:lnTo>
                  <a:pt x="209" y="69"/>
                </a:lnTo>
                <a:lnTo>
                  <a:pt x="209" y="167"/>
                </a:lnTo>
                <a:lnTo>
                  <a:pt x="216" y="217"/>
                </a:lnTo>
                <a:lnTo>
                  <a:pt x="216" y="278"/>
                </a:lnTo>
                <a:lnTo>
                  <a:pt x="224" y="284"/>
                </a:lnTo>
                <a:lnTo>
                  <a:pt x="224" y="328"/>
                </a:lnTo>
                <a:lnTo>
                  <a:pt x="231" y="260"/>
                </a:lnTo>
                <a:lnTo>
                  <a:pt x="231" y="149"/>
                </a:lnTo>
                <a:lnTo>
                  <a:pt x="237" y="106"/>
                </a:lnTo>
                <a:lnTo>
                  <a:pt x="237" y="75"/>
                </a:lnTo>
                <a:lnTo>
                  <a:pt x="244" y="87"/>
                </a:lnTo>
                <a:lnTo>
                  <a:pt x="244" y="44"/>
                </a:lnTo>
                <a:lnTo>
                  <a:pt x="250" y="25"/>
                </a:lnTo>
                <a:lnTo>
                  <a:pt x="250" y="32"/>
                </a:lnTo>
                <a:lnTo>
                  <a:pt x="250" y="25"/>
                </a:lnTo>
                <a:lnTo>
                  <a:pt x="265" y="13"/>
                </a:lnTo>
                <a:lnTo>
                  <a:pt x="258" y="13"/>
                </a:lnTo>
                <a:lnTo>
                  <a:pt x="265" y="13"/>
                </a:lnTo>
                <a:lnTo>
                  <a:pt x="272" y="19"/>
                </a:lnTo>
                <a:lnTo>
                  <a:pt x="278" y="25"/>
                </a:lnTo>
                <a:lnTo>
                  <a:pt x="278" y="19"/>
                </a:lnTo>
                <a:lnTo>
                  <a:pt x="278" y="25"/>
                </a:lnTo>
                <a:lnTo>
                  <a:pt x="286" y="32"/>
                </a:lnTo>
                <a:lnTo>
                  <a:pt x="286" y="25"/>
                </a:lnTo>
                <a:lnTo>
                  <a:pt x="286" y="50"/>
                </a:lnTo>
                <a:lnTo>
                  <a:pt x="293" y="44"/>
                </a:lnTo>
                <a:lnTo>
                  <a:pt x="293" y="32"/>
                </a:lnTo>
                <a:lnTo>
                  <a:pt x="293" y="50"/>
                </a:lnTo>
                <a:lnTo>
                  <a:pt x="300" y="44"/>
                </a:lnTo>
                <a:lnTo>
                  <a:pt x="300" y="50"/>
                </a:lnTo>
                <a:lnTo>
                  <a:pt x="308" y="44"/>
                </a:lnTo>
                <a:lnTo>
                  <a:pt x="308" y="56"/>
                </a:lnTo>
                <a:lnTo>
                  <a:pt x="308" y="50"/>
                </a:lnTo>
                <a:lnTo>
                  <a:pt x="321" y="50"/>
                </a:lnTo>
                <a:lnTo>
                  <a:pt x="314" y="50"/>
                </a:lnTo>
                <a:lnTo>
                  <a:pt x="321" y="50"/>
                </a:lnTo>
                <a:lnTo>
                  <a:pt x="329" y="50"/>
                </a:lnTo>
                <a:lnTo>
                  <a:pt x="335" y="81"/>
                </a:lnTo>
                <a:lnTo>
                  <a:pt x="335" y="155"/>
                </a:lnTo>
                <a:lnTo>
                  <a:pt x="342" y="186"/>
                </a:lnTo>
                <a:lnTo>
                  <a:pt x="342" y="229"/>
                </a:lnTo>
                <a:lnTo>
                  <a:pt x="349" y="236"/>
                </a:lnTo>
                <a:lnTo>
                  <a:pt x="349" y="241"/>
                </a:lnTo>
                <a:lnTo>
                  <a:pt x="349" y="229"/>
                </a:lnTo>
                <a:lnTo>
                  <a:pt x="357" y="186"/>
                </a:lnTo>
                <a:lnTo>
                  <a:pt x="357" y="131"/>
                </a:lnTo>
                <a:lnTo>
                  <a:pt x="363" y="112"/>
                </a:lnTo>
                <a:lnTo>
                  <a:pt x="363" y="56"/>
                </a:lnTo>
                <a:lnTo>
                  <a:pt x="370" y="50"/>
                </a:lnTo>
                <a:lnTo>
                  <a:pt x="370" y="32"/>
                </a:lnTo>
                <a:lnTo>
                  <a:pt x="377" y="69"/>
                </a:lnTo>
                <a:lnTo>
                  <a:pt x="377" y="155"/>
                </a:lnTo>
                <a:lnTo>
                  <a:pt x="385" y="186"/>
                </a:lnTo>
                <a:lnTo>
                  <a:pt x="385" y="254"/>
                </a:lnTo>
                <a:lnTo>
                  <a:pt x="391" y="266"/>
                </a:lnTo>
                <a:lnTo>
                  <a:pt x="391" y="284"/>
                </a:lnTo>
                <a:lnTo>
                  <a:pt x="398" y="236"/>
                </a:lnTo>
                <a:lnTo>
                  <a:pt x="398" y="149"/>
                </a:lnTo>
                <a:lnTo>
                  <a:pt x="404" y="124"/>
                </a:lnTo>
                <a:lnTo>
                  <a:pt x="404" y="62"/>
                </a:lnTo>
                <a:lnTo>
                  <a:pt x="412" y="50"/>
                </a:lnTo>
                <a:lnTo>
                  <a:pt x="412" y="32"/>
                </a:lnTo>
                <a:lnTo>
                  <a:pt x="419" y="37"/>
                </a:lnTo>
                <a:lnTo>
                  <a:pt x="419" y="32"/>
                </a:lnTo>
                <a:lnTo>
                  <a:pt x="426" y="37"/>
                </a:lnTo>
                <a:lnTo>
                  <a:pt x="426" y="25"/>
                </a:lnTo>
                <a:lnTo>
                  <a:pt x="426" y="32"/>
                </a:lnTo>
                <a:lnTo>
                  <a:pt x="432" y="32"/>
                </a:lnTo>
                <a:lnTo>
                  <a:pt x="432" y="50"/>
                </a:lnTo>
                <a:lnTo>
                  <a:pt x="439" y="50"/>
                </a:lnTo>
                <a:lnTo>
                  <a:pt x="439" y="25"/>
                </a:lnTo>
                <a:lnTo>
                  <a:pt x="439" y="37"/>
                </a:lnTo>
                <a:lnTo>
                  <a:pt x="447" y="37"/>
                </a:lnTo>
                <a:lnTo>
                  <a:pt x="447" y="50"/>
                </a:lnTo>
                <a:lnTo>
                  <a:pt x="447" y="37"/>
                </a:lnTo>
                <a:lnTo>
                  <a:pt x="454" y="44"/>
                </a:lnTo>
                <a:lnTo>
                  <a:pt x="460" y="94"/>
                </a:lnTo>
                <a:lnTo>
                  <a:pt x="460" y="16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6819840" y="3189240"/>
            <a:ext cx="700200" cy="560520"/>
          </a:xfrm>
          <a:custGeom>
            <a:avLst/>
            <a:gdLst/>
            <a:ahLst/>
            <a:rect l="l" t="t" r="r" b="b"/>
            <a:pathLst>
              <a:path w="441" h="353">
                <a:moveTo>
                  <a:pt x="0" y="161"/>
                </a:moveTo>
                <a:lnTo>
                  <a:pt x="8" y="198"/>
                </a:lnTo>
                <a:lnTo>
                  <a:pt x="8" y="241"/>
                </a:lnTo>
                <a:lnTo>
                  <a:pt x="15" y="260"/>
                </a:lnTo>
                <a:lnTo>
                  <a:pt x="15" y="241"/>
                </a:lnTo>
                <a:lnTo>
                  <a:pt x="21" y="248"/>
                </a:lnTo>
                <a:lnTo>
                  <a:pt x="21" y="124"/>
                </a:lnTo>
                <a:lnTo>
                  <a:pt x="29" y="81"/>
                </a:lnTo>
                <a:lnTo>
                  <a:pt x="29" y="32"/>
                </a:lnTo>
                <a:lnTo>
                  <a:pt x="36" y="25"/>
                </a:lnTo>
                <a:lnTo>
                  <a:pt x="36" y="19"/>
                </a:lnTo>
                <a:lnTo>
                  <a:pt x="36" y="32"/>
                </a:lnTo>
                <a:lnTo>
                  <a:pt x="49" y="44"/>
                </a:lnTo>
                <a:lnTo>
                  <a:pt x="49" y="56"/>
                </a:lnTo>
                <a:lnTo>
                  <a:pt x="57" y="56"/>
                </a:lnTo>
                <a:lnTo>
                  <a:pt x="71" y="56"/>
                </a:lnTo>
                <a:lnTo>
                  <a:pt x="64" y="56"/>
                </a:lnTo>
                <a:lnTo>
                  <a:pt x="71" y="56"/>
                </a:lnTo>
                <a:lnTo>
                  <a:pt x="77" y="50"/>
                </a:lnTo>
                <a:lnTo>
                  <a:pt x="77" y="56"/>
                </a:lnTo>
                <a:lnTo>
                  <a:pt x="77" y="50"/>
                </a:lnTo>
                <a:lnTo>
                  <a:pt x="92" y="37"/>
                </a:lnTo>
                <a:lnTo>
                  <a:pt x="92" y="32"/>
                </a:lnTo>
                <a:lnTo>
                  <a:pt x="92" y="37"/>
                </a:lnTo>
                <a:lnTo>
                  <a:pt x="98" y="32"/>
                </a:lnTo>
                <a:lnTo>
                  <a:pt x="98" y="13"/>
                </a:lnTo>
                <a:lnTo>
                  <a:pt x="105" y="62"/>
                </a:lnTo>
                <a:lnTo>
                  <a:pt x="105" y="161"/>
                </a:lnTo>
                <a:lnTo>
                  <a:pt x="113" y="204"/>
                </a:lnTo>
                <a:lnTo>
                  <a:pt x="113" y="266"/>
                </a:lnTo>
                <a:lnTo>
                  <a:pt x="120" y="284"/>
                </a:lnTo>
                <a:lnTo>
                  <a:pt x="120" y="316"/>
                </a:lnTo>
                <a:lnTo>
                  <a:pt x="126" y="248"/>
                </a:lnTo>
                <a:lnTo>
                  <a:pt x="126" y="136"/>
                </a:lnTo>
                <a:lnTo>
                  <a:pt x="134" y="99"/>
                </a:lnTo>
                <a:lnTo>
                  <a:pt x="134" y="56"/>
                </a:lnTo>
                <a:lnTo>
                  <a:pt x="141" y="56"/>
                </a:lnTo>
                <a:lnTo>
                  <a:pt x="141" y="19"/>
                </a:lnTo>
                <a:lnTo>
                  <a:pt x="148" y="69"/>
                </a:lnTo>
                <a:lnTo>
                  <a:pt x="148" y="186"/>
                </a:lnTo>
                <a:lnTo>
                  <a:pt x="156" y="204"/>
                </a:lnTo>
                <a:lnTo>
                  <a:pt x="156" y="260"/>
                </a:lnTo>
                <a:lnTo>
                  <a:pt x="162" y="266"/>
                </a:lnTo>
                <a:lnTo>
                  <a:pt x="162" y="297"/>
                </a:lnTo>
                <a:lnTo>
                  <a:pt x="169" y="266"/>
                </a:lnTo>
                <a:lnTo>
                  <a:pt x="169" y="272"/>
                </a:lnTo>
                <a:lnTo>
                  <a:pt x="169" y="266"/>
                </a:lnTo>
                <a:lnTo>
                  <a:pt x="175" y="260"/>
                </a:lnTo>
                <a:lnTo>
                  <a:pt x="175" y="229"/>
                </a:lnTo>
                <a:lnTo>
                  <a:pt x="182" y="229"/>
                </a:lnTo>
                <a:lnTo>
                  <a:pt x="182" y="211"/>
                </a:lnTo>
                <a:lnTo>
                  <a:pt x="197" y="229"/>
                </a:lnTo>
                <a:lnTo>
                  <a:pt x="197" y="241"/>
                </a:lnTo>
                <a:lnTo>
                  <a:pt x="203" y="248"/>
                </a:lnTo>
                <a:lnTo>
                  <a:pt x="203" y="254"/>
                </a:lnTo>
                <a:lnTo>
                  <a:pt x="210" y="192"/>
                </a:lnTo>
                <a:lnTo>
                  <a:pt x="210" y="106"/>
                </a:lnTo>
                <a:lnTo>
                  <a:pt x="218" y="81"/>
                </a:lnTo>
                <a:lnTo>
                  <a:pt x="218" y="25"/>
                </a:lnTo>
                <a:lnTo>
                  <a:pt x="225" y="19"/>
                </a:lnTo>
                <a:lnTo>
                  <a:pt x="225" y="13"/>
                </a:lnTo>
                <a:lnTo>
                  <a:pt x="231" y="19"/>
                </a:lnTo>
                <a:lnTo>
                  <a:pt x="231" y="25"/>
                </a:lnTo>
                <a:lnTo>
                  <a:pt x="238" y="32"/>
                </a:lnTo>
                <a:lnTo>
                  <a:pt x="238" y="19"/>
                </a:lnTo>
                <a:lnTo>
                  <a:pt x="238" y="25"/>
                </a:lnTo>
                <a:lnTo>
                  <a:pt x="246" y="37"/>
                </a:lnTo>
                <a:lnTo>
                  <a:pt x="246" y="32"/>
                </a:lnTo>
                <a:lnTo>
                  <a:pt x="246" y="62"/>
                </a:lnTo>
                <a:lnTo>
                  <a:pt x="252" y="56"/>
                </a:lnTo>
                <a:lnTo>
                  <a:pt x="252" y="25"/>
                </a:lnTo>
                <a:lnTo>
                  <a:pt x="252" y="32"/>
                </a:lnTo>
                <a:lnTo>
                  <a:pt x="259" y="44"/>
                </a:lnTo>
                <a:lnTo>
                  <a:pt x="259" y="37"/>
                </a:lnTo>
                <a:lnTo>
                  <a:pt x="259" y="44"/>
                </a:lnTo>
                <a:lnTo>
                  <a:pt x="267" y="50"/>
                </a:lnTo>
                <a:lnTo>
                  <a:pt x="267" y="32"/>
                </a:lnTo>
                <a:lnTo>
                  <a:pt x="274" y="75"/>
                </a:lnTo>
                <a:lnTo>
                  <a:pt x="274" y="179"/>
                </a:lnTo>
                <a:lnTo>
                  <a:pt x="280" y="223"/>
                </a:lnTo>
                <a:lnTo>
                  <a:pt x="280" y="272"/>
                </a:lnTo>
                <a:lnTo>
                  <a:pt x="288" y="278"/>
                </a:lnTo>
                <a:lnTo>
                  <a:pt x="288" y="309"/>
                </a:lnTo>
                <a:lnTo>
                  <a:pt x="295" y="254"/>
                </a:lnTo>
                <a:lnTo>
                  <a:pt x="295" y="124"/>
                </a:lnTo>
                <a:lnTo>
                  <a:pt x="302" y="94"/>
                </a:lnTo>
                <a:lnTo>
                  <a:pt x="302" y="62"/>
                </a:lnTo>
                <a:lnTo>
                  <a:pt x="308" y="62"/>
                </a:lnTo>
                <a:lnTo>
                  <a:pt x="308" y="25"/>
                </a:lnTo>
                <a:lnTo>
                  <a:pt x="316" y="75"/>
                </a:lnTo>
                <a:lnTo>
                  <a:pt x="316" y="167"/>
                </a:lnTo>
                <a:lnTo>
                  <a:pt x="323" y="198"/>
                </a:lnTo>
                <a:lnTo>
                  <a:pt x="323" y="248"/>
                </a:lnTo>
                <a:lnTo>
                  <a:pt x="329" y="260"/>
                </a:lnTo>
                <a:lnTo>
                  <a:pt x="329" y="297"/>
                </a:lnTo>
                <a:lnTo>
                  <a:pt x="336" y="284"/>
                </a:lnTo>
                <a:lnTo>
                  <a:pt x="336" y="278"/>
                </a:lnTo>
                <a:lnTo>
                  <a:pt x="336" y="284"/>
                </a:lnTo>
                <a:lnTo>
                  <a:pt x="344" y="254"/>
                </a:lnTo>
                <a:lnTo>
                  <a:pt x="344" y="229"/>
                </a:lnTo>
                <a:lnTo>
                  <a:pt x="351" y="223"/>
                </a:lnTo>
                <a:lnTo>
                  <a:pt x="357" y="192"/>
                </a:lnTo>
                <a:lnTo>
                  <a:pt x="357" y="106"/>
                </a:lnTo>
                <a:lnTo>
                  <a:pt x="364" y="94"/>
                </a:lnTo>
                <a:lnTo>
                  <a:pt x="364" y="50"/>
                </a:lnTo>
                <a:lnTo>
                  <a:pt x="371" y="32"/>
                </a:lnTo>
                <a:lnTo>
                  <a:pt x="371" y="25"/>
                </a:lnTo>
                <a:lnTo>
                  <a:pt x="379" y="13"/>
                </a:lnTo>
                <a:lnTo>
                  <a:pt x="379" y="7"/>
                </a:lnTo>
                <a:lnTo>
                  <a:pt x="379" y="13"/>
                </a:lnTo>
                <a:lnTo>
                  <a:pt x="385" y="7"/>
                </a:lnTo>
                <a:lnTo>
                  <a:pt x="385" y="0"/>
                </a:lnTo>
                <a:lnTo>
                  <a:pt x="385" y="13"/>
                </a:lnTo>
                <a:lnTo>
                  <a:pt x="392" y="19"/>
                </a:lnTo>
                <a:lnTo>
                  <a:pt x="392" y="25"/>
                </a:lnTo>
                <a:lnTo>
                  <a:pt x="400" y="69"/>
                </a:lnTo>
                <a:lnTo>
                  <a:pt x="400" y="167"/>
                </a:lnTo>
                <a:lnTo>
                  <a:pt x="406" y="211"/>
                </a:lnTo>
                <a:lnTo>
                  <a:pt x="406" y="309"/>
                </a:lnTo>
                <a:lnTo>
                  <a:pt x="413" y="316"/>
                </a:lnTo>
                <a:lnTo>
                  <a:pt x="413" y="353"/>
                </a:lnTo>
                <a:lnTo>
                  <a:pt x="421" y="278"/>
                </a:lnTo>
                <a:lnTo>
                  <a:pt x="421" y="161"/>
                </a:lnTo>
                <a:lnTo>
                  <a:pt x="428" y="112"/>
                </a:lnTo>
                <a:lnTo>
                  <a:pt x="428" y="87"/>
                </a:lnTo>
                <a:lnTo>
                  <a:pt x="434" y="75"/>
                </a:lnTo>
                <a:lnTo>
                  <a:pt x="434" y="62"/>
                </a:lnTo>
                <a:lnTo>
                  <a:pt x="441" y="10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7520040" y="3179880"/>
            <a:ext cx="722160" cy="500040"/>
          </a:xfrm>
          <a:custGeom>
            <a:avLst/>
            <a:gdLst/>
            <a:ahLst/>
            <a:rect l="l" t="t" r="r" b="b"/>
            <a:pathLst>
              <a:path w="455" h="315">
                <a:moveTo>
                  <a:pt x="0" y="111"/>
                </a:moveTo>
                <a:lnTo>
                  <a:pt x="0" y="167"/>
                </a:lnTo>
                <a:lnTo>
                  <a:pt x="8" y="185"/>
                </a:lnTo>
                <a:lnTo>
                  <a:pt x="8" y="235"/>
                </a:lnTo>
                <a:lnTo>
                  <a:pt x="15" y="247"/>
                </a:lnTo>
                <a:lnTo>
                  <a:pt x="15" y="253"/>
                </a:lnTo>
                <a:lnTo>
                  <a:pt x="21" y="210"/>
                </a:lnTo>
                <a:lnTo>
                  <a:pt x="21" y="155"/>
                </a:lnTo>
                <a:lnTo>
                  <a:pt x="28" y="130"/>
                </a:lnTo>
                <a:lnTo>
                  <a:pt x="28" y="93"/>
                </a:lnTo>
                <a:lnTo>
                  <a:pt x="36" y="86"/>
                </a:lnTo>
                <a:lnTo>
                  <a:pt x="36" y="61"/>
                </a:lnTo>
                <a:lnTo>
                  <a:pt x="42" y="49"/>
                </a:lnTo>
                <a:lnTo>
                  <a:pt x="42" y="38"/>
                </a:lnTo>
                <a:lnTo>
                  <a:pt x="49" y="25"/>
                </a:lnTo>
                <a:lnTo>
                  <a:pt x="49" y="31"/>
                </a:lnTo>
                <a:lnTo>
                  <a:pt x="49" y="19"/>
                </a:lnTo>
                <a:lnTo>
                  <a:pt x="49" y="31"/>
                </a:lnTo>
                <a:lnTo>
                  <a:pt x="56" y="25"/>
                </a:lnTo>
                <a:lnTo>
                  <a:pt x="64" y="31"/>
                </a:lnTo>
                <a:lnTo>
                  <a:pt x="64" y="38"/>
                </a:lnTo>
                <a:lnTo>
                  <a:pt x="64" y="31"/>
                </a:lnTo>
                <a:lnTo>
                  <a:pt x="77" y="43"/>
                </a:lnTo>
                <a:lnTo>
                  <a:pt x="70" y="43"/>
                </a:lnTo>
                <a:lnTo>
                  <a:pt x="77" y="31"/>
                </a:lnTo>
                <a:lnTo>
                  <a:pt x="84" y="68"/>
                </a:lnTo>
                <a:lnTo>
                  <a:pt x="84" y="173"/>
                </a:lnTo>
                <a:lnTo>
                  <a:pt x="92" y="216"/>
                </a:lnTo>
                <a:lnTo>
                  <a:pt x="92" y="278"/>
                </a:lnTo>
                <a:lnTo>
                  <a:pt x="98" y="284"/>
                </a:lnTo>
                <a:lnTo>
                  <a:pt x="98" y="315"/>
                </a:lnTo>
                <a:lnTo>
                  <a:pt x="105" y="253"/>
                </a:lnTo>
                <a:lnTo>
                  <a:pt x="105" y="130"/>
                </a:lnTo>
                <a:lnTo>
                  <a:pt x="113" y="111"/>
                </a:lnTo>
                <a:lnTo>
                  <a:pt x="113" y="118"/>
                </a:lnTo>
                <a:lnTo>
                  <a:pt x="113" y="99"/>
                </a:lnTo>
                <a:lnTo>
                  <a:pt x="119" y="81"/>
                </a:lnTo>
                <a:lnTo>
                  <a:pt x="119" y="49"/>
                </a:lnTo>
                <a:lnTo>
                  <a:pt x="126" y="43"/>
                </a:lnTo>
                <a:lnTo>
                  <a:pt x="126" y="19"/>
                </a:lnTo>
                <a:lnTo>
                  <a:pt x="133" y="6"/>
                </a:lnTo>
                <a:lnTo>
                  <a:pt x="133" y="0"/>
                </a:lnTo>
                <a:lnTo>
                  <a:pt x="141" y="6"/>
                </a:lnTo>
                <a:lnTo>
                  <a:pt x="141" y="13"/>
                </a:lnTo>
                <a:lnTo>
                  <a:pt x="147" y="19"/>
                </a:lnTo>
                <a:lnTo>
                  <a:pt x="147" y="38"/>
                </a:lnTo>
                <a:lnTo>
                  <a:pt x="154" y="31"/>
                </a:lnTo>
                <a:lnTo>
                  <a:pt x="154" y="43"/>
                </a:lnTo>
                <a:lnTo>
                  <a:pt x="161" y="49"/>
                </a:lnTo>
                <a:lnTo>
                  <a:pt x="161" y="56"/>
                </a:lnTo>
                <a:lnTo>
                  <a:pt x="168" y="61"/>
                </a:lnTo>
                <a:lnTo>
                  <a:pt x="175" y="68"/>
                </a:lnTo>
                <a:lnTo>
                  <a:pt x="175" y="61"/>
                </a:lnTo>
                <a:lnTo>
                  <a:pt x="175" y="74"/>
                </a:lnTo>
                <a:lnTo>
                  <a:pt x="182" y="68"/>
                </a:lnTo>
                <a:lnTo>
                  <a:pt x="182" y="99"/>
                </a:lnTo>
                <a:lnTo>
                  <a:pt x="188" y="86"/>
                </a:lnTo>
                <a:lnTo>
                  <a:pt x="188" y="68"/>
                </a:lnTo>
                <a:lnTo>
                  <a:pt x="196" y="43"/>
                </a:lnTo>
                <a:lnTo>
                  <a:pt x="196" y="61"/>
                </a:lnTo>
                <a:lnTo>
                  <a:pt x="203" y="68"/>
                </a:lnTo>
                <a:lnTo>
                  <a:pt x="210" y="68"/>
                </a:lnTo>
                <a:lnTo>
                  <a:pt x="224" y="61"/>
                </a:lnTo>
                <a:lnTo>
                  <a:pt x="216" y="61"/>
                </a:lnTo>
                <a:lnTo>
                  <a:pt x="224" y="68"/>
                </a:lnTo>
                <a:lnTo>
                  <a:pt x="231" y="105"/>
                </a:lnTo>
                <a:lnTo>
                  <a:pt x="231" y="173"/>
                </a:lnTo>
                <a:lnTo>
                  <a:pt x="238" y="198"/>
                </a:lnTo>
                <a:lnTo>
                  <a:pt x="238" y="253"/>
                </a:lnTo>
                <a:lnTo>
                  <a:pt x="252" y="265"/>
                </a:lnTo>
                <a:lnTo>
                  <a:pt x="244" y="265"/>
                </a:lnTo>
                <a:lnTo>
                  <a:pt x="252" y="260"/>
                </a:lnTo>
                <a:lnTo>
                  <a:pt x="252" y="265"/>
                </a:lnTo>
                <a:lnTo>
                  <a:pt x="259" y="260"/>
                </a:lnTo>
                <a:lnTo>
                  <a:pt x="259" y="247"/>
                </a:lnTo>
                <a:lnTo>
                  <a:pt x="267" y="253"/>
                </a:lnTo>
                <a:lnTo>
                  <a:pt x="267" y="223"/>
                </a:lnTo>
                <a:lnTo>
                  <a:pt x="273" y="228"/>
                </a:lnTo>
                <a:lnTo>
                  <a:pt x="287" y="241"/>
                </a:lnTo>
                <a:lnTo>
                  <a:pt x="287" y="278"/>
                </a:lnTo>
                <a:lnTo>
                  <a:pt x="295" y="191"/>
                </a:lnTo>
                <a:lnTo>
                  <a:pt x="295" y="123"/>
                </a:lnTo>
                <a:lnTo>
                  <a:pt x="301" y="111"/>
                </a:lnTo>
                <a:lnTo>
                  <a:pt x="301" y="86"/>
                </a:lnTo>
                <a:lnTo>
                  <a:pt x="308" y="81"/>
                </a:lnTo>
                <a:lnTo>
                  <a:pt x="308" y="43"/>
                </a:lnTo>
                <a:lnTo>
                  <a:pt x="315" y="38"/>
                </a:lnTo>
                <a:lnTo>
                  <a:pt x="315" y="13"/>
                </a:lnTo>
                <a:lnTo>
                  <a:pt x="321" y="6"/>
                </a:lnTo>
                <a:lnTo>
                  <a:pt x="321" y="0"/>
                </a:lnTo>
                <a:lnTo>
                  <a:pt x="321" y="6"/>
                </a:lnTo>
                <a:lnTo>
                  <a:pt x="329" y="13"/>
                </a:lnTo>
                <a:lnTo>
                  <a:pt x="329" y="19"/>
                </a:lnTo>
                <a:lnTo>
                  <a:pt x="336" y="25"/>
                </a:lnTo>
                <a:lnTo>
                  <a:pt x="336" y="43"/>
                </a:lnTo>
                <a:lnTo>
                  <a:pt x="342" y="49"/>
                </a:lnTo>
                <a:lnTo>
                  <a:pt x="349" y="56"/>
                </a:lnTo>
                <a:lnTo>
                  <a:pt x="349" y="49"/>
                </a:lnTo>
                <a:lnTo>
                  <a:pt x="349" y="56"/>
                </a:lnTo>
                <a:lnTo>
                  <a:pt x="357" y="99"/>
                </a:lnTo>
                <a:lnTo>
                  <a:pt x="357" y="198"/>
                </a:lnTo>
                <a:lnTo>
                  <a:pt x="364" y="241"/>
                </a:lnTo>
                <a:lnTo>
                  <a:pt x="364" y="297"/>
                </a:lnTo>
                <a:lnTo>
                  <a:pt x="370" y="303"/>
                </a:lnTo>
                <a:lnTo>
                  <a:pt x="370" y="309"/>
                </a:lnTo>
                <a:lnTo>
                  <a:pt x="377" y="247"/>
                </a:lnTo>
                <a:lnTo>
                  <a:pt x="377" y="148"/>
                </a:lnTo>
                <a:lnTo>
                  <a:pt x="385" y="123"/>
                </a:lnTo>
                <a:lnTo>
                  <a:pt x="385" y="68"/>
                </a:lnTo>
                <a:lnTo>
                  <a:pt x="391" y="49"/>
                </a:lnTo>
                <a:lnTo>
                  <a:pt x="391" y="43"/>
                </a:lnTo>
                <a:lnTo>
                  <a:pt x="391" y="49"/>
                </a:lnTo>
                <a:lnTo>
                  <a:pt x="398" y="31"/>
                </a:lnTo>
                <a:lnTo>
                  <a:pt x="398" y="0"/>
                </a:lnTo>
                <a:lnTo>
                  <a:pt x="398" y="6"/>
                </a:lnTo>
                <a:lnTo>
                  <a:pt x="406" y="13"/>
                </a:lnTo>
                <a:lnTo>
                  <a:pt x="406" y="49"/>
                </a:lnTo>
                <a:lnTo>
                  <a:pt x="413" y="43"/>
                </a:lnTo>
                <a:lnTo>
                  <a:pt x="413" y="56"/>
                </a:lnTo>
                <a:lnTo>
                  <a:pt x="419" y="56"/>
                </a:lnTo>
                <a:lnTo>
                  <a:pt x="427" y="49"/>
                </a:lnTo>
                <a:lnTo>
                  <a:pt x="434" y="61"/>
                </a:lnTo>
                <a:lnTo>
                  <a:pt x="441" y="68"/>
                </a:lnTo>
                <a:lnTo>
                  <a:pt x="447" y="74"/>
                </a:lnTo>
                <a:lnTo>
                  <a:pt x="447" y="68"/>
                </a:lnTo>
                <a:lnTo>
                  <a:pt x="455" y="7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8242200" y="3198960"/>
            <a:ext cx="320760" cy="461880"/>
          </a:xfrm>
          <a:custGeom>
            <a:avLst/>
            <a:gdLst/>
            <a:ahLst/>
            <a:rect l="l" t="t" r="r" b="b"/>
            <a:pathLst>
              <a:path w="202" h="291">
                <a:moveTo>
                  <a:pt x="0" y="62"/>
                </a:moveTo>
                <a:lnTo>
                  <a:pt x="0" y="74"/>
                </a:lnTo>
                <a:lnTo>
                  <a:pt x="0" y="44"/>
                </a:lnTo>
                <a:lnTo>
                  <a:pt x="7" y="81"/>
                </a:lnTo>
                <a:lnTo>
                  <a:pt x="7" y="149"/>
                </a:lnTo>
                <a:lnTo>
                  <a:pt x="13" y="191"/>
                </a:lnTo>
                <a:lnTo>
                  <a:pt x="13" y="248"/>
                </a:lnTo>
                <a:lnTo>
                  <a:pt x="20" y="260"/>
                </a:lnTo>
                <a:lnTo>
                  <a:pt x="20" y="291"/>
                </a:lnTo>
                <a:lnTo>
                  <a:pt x="28" y="235"/>
                </a:lnTo>
                <a:lnTo>
                  <a:pt x="28" y="118"/>
                </a:lnTo>
                <a:lnTo>
                  <a:pt x="35" y="81"/>
                </a:lnTo>
                <a:lnTo>
                  <a:pt x="35" y="49"/>
                </a:lnTo>
                <a:lnTo>
                  <a:pt x="41" y="56"/>
                </a:lnTo>
                <a:lnTo>
                  <a:pt x="41" y="44"/>
                </a:lnTo>
                <a:lnTo>
                  <a:pt x="41" y="49"/>
                </a:lnTo>
                <a:lnTo>
                  <a:pt x="48" y="81"/>
                </a:lnTo>
                <a:lnTo>
                  <a:pt x="48" y="155"/>
                </a:lnTo>
                <a:lnTo>
                  <a:pt x="56" y="173"/>
                </a:lnTo>
                <a:lnTo>
                  <a:pt x="56" y="223"/>
                </a:lnTo>
                <a:lnTo>
                  <a:pt x="63" y="235"/>
                </a:lnTo>
                <a:lnTo>
                  <a:pt x="63" y="241"/>
                </a:lnTo>
                <a:lnTo>
                  <a:pt x="63" y="223"/>
                </a:lnTo>
                <a:lnTo>
                  <a:pt x="69" y="179"/>
                </a:lnTo>
                <a:lnTo>
                  <a:pt x="69" y="106"/>
                </a:lnTo>
                <a:lnTo>
                  <a:pt x="76" y="81"/>
                </a:lnTo>
                <a:lnTo>
                  <a:pt x="76" y="19"/>
                </a:lnTo>
                <a:lnTo>
                  <a:pt x="83" y="7"/>
                </a:lnTo>
                <a:lnTo>
                  <a:pt x="83" y="0"/>
                </a:lnTo>
                <a:lnTo>
                  <a:pt x="90" y="44"/>
                </a:lnTo>
                <a:lnTo>
                  <a:pt x="90" y="149"/>
                </a:lnTo>
                <a:lnTo>
                  <a:pt x="97" y="191"/>
                </a:lnTo>
                <a:lnTo>
                  <a:pt x="97" y="260"/>
                </a:lnTo>
                <a:lnTo>
                  <a:pt x="104" y="272"/>
                </a:lnTo>
                <a:lnTo>
                  <a:pt x="104" y="285"/>
                </a:lnTo>
                <a:lnTo>
                  <a:pt x="112" y="235"/>
                </a:lnTo>
                <a:lnTo>
                  <a:pt x="112" y="149"/>
                </a:lnTo>
                <a:lnTo>
                  <a:pt x="118" y="118"/>
                </a:lnTo>
                <a:lnTo>
                  <a:pt x="118" y="56"/>
                </a:lnTo>
                <a:lnTo>
                  <a:pt x="118" y="62"/>
                </a:lnTo>
                <a:lnTo>
                  <a:pt x="125" y="44"/>
                </a:lnTo>
                <a:lnTo>
                  <a:pt x="125" y="37"/>
                </a:lnTo>
                <a:lnTo>
                  <a:pt x="125" y="49"/>
                </a:lnTo>
                <a:lnTo>
                  <a:pt x="133" y="99"/>
                </a:lnTo>
                <a:lnTo>
                  <a:pt x="133" y="168"/>
                </a:lnTo>
                <a:lnTo>
                  <a:pt x="140" y="198"/>
                </a:lnTo>
                <a:lnTo>
                  <a:pt x="140" y="235"/>
                </a:lnTo>
                <a:lnTo>
                  <a:pt x="140" y="229"/>
                </a:lnTo>
                <a:lnTo>
                  <a:pt x="146" y="235"/>
                </a:lnTo>
                <a:lnTo>
                  <a:pt x="146" y="223"/>
                </a:lnTo>
                <a:lnTo>
                  <a:pt x="153" y="186"/>
                </a:lnTo>
                <a:lnTo>
                  <a:pt x="153" y="111"/>
                </a:lnTo>
                <a:lnTo>
                  <a:pt x="161" y="81"/>
                </a:lnTo>
                <a:lnTo>
                  <a:pt x="161" y="31"/>
                </a:lnTo>
                <a:lnTo>
                  <a:pt x="167" y="25"/>
                </a:lnTo>
                <a:lnTo>
                  <a:pt x="167" y="12"/>
                </a:lnTo>
                <a:lnTo>
                  <a:pt x="167" y="31"/>
                </a:lnTo>
                <a:lnTo>
                  <a:pt x="174" y="25"/>
                </a:lnTo>
                <a:lnTo>
                  <a:pt x="174" y="44"/>
                </a:lnTo>
                <a:lnTo>
                  <a:pt x="181" y="37"/>
                </a:lnTo>
                <a:lnTo>
                  <a:pt x="181" y="56"/>
                </a:lnTo>
                <a:lnTo>
                  <a:pt x="189" y="44"/>
                </a:lnTo>
                <a:lnTo>
                  <a:pt x="189" y="56"/>
                </a:lnTo>
                <a:lnTo>
                  <a:pt x="189" y="49"/>
                </a:lnTo>
                <a:lnTo>
                  <a:pt x="195" y="44"/>
                </a:lnTo>
                <a:lnTo>
                  <a:pt x="195" y="37"/>
                </a:lnTo>
                <a:lnTo>
                  <a:pt x="202" y="4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1120680" y="3851280"/>
            <a:ext cx="408240" cy="412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1527480" y="386064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61" name=""/>
          <p:cNvSpPr/>
          <p:nvPr/>
        </p:nvSpPr>
        <p:spPr>
          <a:xfrm>
            <a:off x="4398840" y="3851280"/>
            <a:ext cx="411120" cy="412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4797720" y="386064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63" name=""/>
          <p:cNvSpPr/>
          <p:nvPr/>
        </p:nvSpPr>
        <p:spPr>
          <a:xfrm>
            <a:off x="7743960" y="3851280"/>
            <a:ext cx="407880" cy="412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8139600" y="386064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65" name=""/>
          <p:cNvSpPr/>
          <p:nvPr/>
        </p:nvSpPr>
        <p:spPr>
          <a:xfrm>
            <a:off x="509760" y="5321160"/>
            <a:ext cx="660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lly, motifs are reoccurring patterns…</a:t>
            </a:r>
            <a:endParaRPr b="0" lang="en-US" sz="2800" spc="-1" strike="noStrike">
              <a:solidFill>
                <a:srgbClr val="000000"/>
              </a:solidFill>
              <a:latin typeface="Times New Roman"/>
            </a:endParaRPr>
          </a:p>
        </p:txBody>
      </p:sp>
      <p:pic>
        <p:nvPicPr>
          <p:cNvPr id="2666" name="saxolophone" descr=""/>
          <p:cNvPicPr/>
          <p:nvPr/>
        </p:nvPicPr>
        <p:blipFill>
          <a:blip r:embed="rId1"/>
          <a:stretch/>
        </p:blipFill>
        <p:spPr>
          <a:xfrm>
            <a:off x="298440" y="504720"/>
            <a:ext cx="1998720" cy="2583000"/>
          </a:xfrm>
          <a:prstGeom prst="rect">
            <a:avLst/>
          </a:prstGeom>
          <a:ln w="0">
            <a:noFill/>
          </a:ln>
        </p:spPr>
      </p:pic>
      <p:sp>
        <p:nvSpPr>
          <p:cNvPr id="2667" name=""/>
          <p:cNvSpPr/>
          <p:nvPr/>
        </p:nvSpPr>
        <p:spPr>
          <a:xfrm>
            <a:off x="3817800" y="4033800"/>
            <a:ext cx="470160" cy="92160"/>
          </a:xfrm>
          <a:prstGeom prst="rect">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8" name="PlaceHolder 1"/>
          <p:cNvSpPr>
            <a:spLocks noGrp="1"/>
          </p:cNvSpPr>
          <p:nvPr>
            <p:ph type="title"/>
          </p:nvPr>
        </p:nvSpPr>
        <p:spPr>
          <a:xfrm>
            <a:off x="650880" y="282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f Discovery</a:t>
            </a:r>
            <a:endParaRPr b="0" lang="en-US" sz="4400" spc="-1" strike="noStrike">
              <a:solidFill>
                <a:srgbClr val="000000"/>
              </a:solidFill>
              <a:latin typeface="Times New Roman"/>
            </a:endParaRPr>
          </a:p>
        </p:txBody>
      </p:sp>
      <p:pic>
        <p:nvPicPr>
          <p:cNvPr id="2669" name="" descr=""/>
          <p:cNvPicPr/>
          <p:nvPr/>
        </p:nvPicPr>
        <p:blipFill>
          <a:blip r:embed="rId1"/>
          <a:stretch/>
        </p:blipFill>
        <p:spPr>
          <a:xfrm>
            <a:off x="235080" y="3089160"/>
            <a:ext cx="8559720" cy="3267360"/>
          </a:xfrm>
          <a:prstGeom prst="rect">
            <a:avLst/>
          </a:prstGeom>
          <a:ln w="0">
            <a:noFill/>
          </a:ln>
        </p:spPr>
      </p:pic>
      <p:sp>
        <p:nvSpPr>
          <p:cNvPr id="2670" name=""/>
          <p:cNvSpPr/>
          <p:nvPr/>
        </p:nvSpPr>
        <p:spPr>
          <a:xfrm>
            <a:off x="692280" y="1434960"/>
            <a:ext cx="7748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rPr>
              <a:t>To find these 3 motifs would require about 6,250,000 calls to the Euclidean distance fun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1" name=""/>
          <p:cNvSpPr/>
          <p:nvPr/>
        </p:nvSpPr>
        <p:spPr>
          <a:xfrm>
            <a:off x="182520" y="1039680"/>
            <a:ext cx="8742240" cy="572796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Mining </a:t>
            </a:r>
            <a:r>
              <a:rPr b="1" lang="en-US" sz="2100" spc="-1" strike="noStrike">
                <a:solidFill>
                  <a:srgbClr val="000000"/>
                </a:solidFill>
                <a:latin typeface="Times New Roman"/>
              </a:rPr>
              <a:t>association rules</a:t>
            </a:r>
            <a:r>
              <a:rPr b="0" lang="en-US" sz="2100" spc="-1" strike="noStrike">
                <a:solidFill>
                  <a:srgbClr val="000000"/>
                </a:solidFill>
                <a:latin typeface="Times New Roman"/>
              </a:rPr>
              <a:t> in time series requires the discovery of motifs. These are referred to as </a:t>
            </a:r>
            <a:r>
              <a:rPr b="0" i="1" lang="en-US" sz="2100" spc="-1" strike="noStrike">
                <a:solidFill>
                  <a:srgbClr val="000000"/>
                </a:solidFill>
                <a:latin typeface="Times New Roman"/>
              </a:rPr>
              <a:t>primitive shapes</a:t>
            </a:r>
            <a:r>
              <a:rPr b="0" lang="en-US" sz="2100" spc="-1" strike="noStrike">
                <a:solidFill>
                  <a:srgbClr val="000000"/>
                </a:solidFill>
                <a:latin typeface="Times New Roman"/>
              </a:rPr>
              <a:t> and </a:t>
            </a:r>
            <a:r>
              <a:rPr b="0" i="1" lang="en-US" sz="2100" spc="-1" strike="noStrike">
                <a:solidFill>
                  <a:srgbClr val="000000"/>
                </a:solidFill>
                <a:latin typeface="Times New Roman"/>
              </a:rPr>
              <a:t>frequent patterns</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Several time series </a:t>
            </a:r>
            <a:r>
              <a:rPr b="1" lang="en-US" sz="2100" spc="-1" strike="noStrike">
                <a:solidFill>
                  <a:srgbClr val="000000"/>
                </a:solidFill>
                <a:latin typeface="Times New Roman"/>
              </a:rPr>
              <a:t>classification algorithms</a:t>
            </a:r>
            <a:r>
              <a:rPr b="0" lang="en-US" sz="2100" spc="-1" strike="noStrike">
                <a:solidFill>
                  <a:srgbClr val="000000"/>
                </a:solidFill>
                <a:latin typeface="Times New Roman"/>
              </a:rPr>
              <a:t> work by constructing typical prototypes of each class. These prototypes may be considered motifs. </a:t>
            </a:r>
            <a:endParaRPr b="0"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Many time series </a:t>
            </a:r>
            <a:r>
              <a:rPr b="1" lang="en-US" sz="2100" spc="-1" strike="noStrike">
                <a:solidFill>
                  <a:srgbClr val="000000"/>
                </a:solidFill>
                <a:latin typeface="Times New Roman"/>
              </a:rPr>
              <a:t>anomaly/interestingness detection</a:t>
            </a:r>
            <a:r>
              <a:rPr b="0" lang="en-US" sz="2100" spc="-1" strike="noStrike">
                <a:solidFill>
                  <a:srgbClr val="000000"/>
                </a:solidFill>
                <a:latin typeface="Times New Roman"/>
              </a:rPr>
              <a:t> algorithms essentially consist of modeling normal behavior with a set of typical shapes (which we see as motifs), and detecting future patterns that are dissimilar to all typical shapes.</a:t>
            </a:r>
            <a:endParaRPr b="0"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In </a:t>
            </a:r>
            <a:r>
              <a:rPr b="1" lang="en-US" sz="2100" spc="-1" strike="noStrike">
                <a:solidFill>
                  <a:srgbClr val="000000"/>
                </a:solidFill>
                <a:latin typeface="Times New Roman"/>
              </a:rPr>
              <a:t>robotics</a:t>
            </a:r>
            <a:r>
              <a:rPr b="0" lang="en-US" sz="2100" spc="-1" strike="noStrike">
                <a:solidFill>
                  <a:srgbClr val="000000"/>
                </a:solidFill>
                <a:latin typeface="Times New Roman"/>
              </a:rPr>
              <a:t>, Oates et al., have introduced a method to allow an autonomous agent to generalize from a set of qualitatively different </a:t>
            </a:r>
            <a:r>
              <a:rPr b="0" i="1" lang="en-US" sz="2100" spc="-1" strike="noStrike">
                <a:solidFill>
                  <a:srgbClr val="000000"/>
                </a:solidFill>
                <a:latin typeface="Times New Roman"/>
              </a:rPr>
              <a:t>experiences</a:t>
            </a:r>
            <a:r>
              <a:rPr b="0" lang="en-US" sz="2100" spc="-1" strike="noStrike">
                <a:solidFill>
                  <a:srgbClr val="000000"/>
                </a:solidFill>
                <a:latin typeface="Times New Roman"/>
              </a:rPr>
              <a:t> gleaned from sensors. We see these “</a:t>
            </a:r>
            <a:r>
              <a:rPr b="0" i="1" lang="en-US" sz="2100" spc="-1" strike="noStrike">
                <a:solidFill>
                  <a:srgbClr val="000000"/>
                </a:solidFill>
                <a:latin typeface="Times New Roman"/>
              </a:rPr>
              <a:t>experiences</a:t>
            </a:r>
            <a:r>
              <a:rPr b="0" lang="en-US" sz="2100" spc="-1" strike="noStrike">
                <a:solidFill>
                  <a:srgbClr val="000000"/>
                </a:solidFill>
                <a:latin typeface="Times New Roman"/>
              </a:rPr>
              <a:t>” as motifs.</a:t>
            </a:r>
            <a:endParaRPr b="0"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In </a:t>
            </a:r>
            <a:r>
              <a:rPr b="1" lang="en-US" sz="2100" spc="-1" strike="noStrike">
                <a:solidFill>
                  <a:srgbClr val="000000"/>
                </a:solidFill>
                <a:latin typeface="Times New Roman"/>
              </a:rPr>
              <a:t>medical data mining</a:t>
            </a:r>
            <a:r>
              <a:rPr b="0" lang="en-US" sz="2100" spc="-1" strike="noStrike">
                <a:solidFill>
                  <a:srgbClr val="000000"/>
                </a:solidFill>
                <a:latin typeface="Times New Roman"/>
              </a:rPr>
              <a:t>, Caraca-Valente and Lopez-Chavarrias have introduced a method for characterizing a physiotherapy patient’s recovery based of the discovery of </a:t>
            </a:r>
            <a:r>
              <a:rPr b="0" i="1" lang="en-US" sz="2100" spc="-1" strike="noStrike">
                <a:solidFill>
                  <a:srgbClr val="000000"/>
                </a:solidFill>
                <a:latin typeface="Times New Roman"/>
              </a:rPr>
              <a:t>similar patterns</a:t>
            </a:r>
            <a:r>
              <a:rPr b="0" lang="en-US" sz="2100" spc="-1" strike="noStrike">
                <a:solidFill>
                  <a:srgbClr val="000000"/>
                </a:solidFill>
                <a:latin typeface="Times New Roman"/>
              </a:rPr>
              <a:t>. Once again, we see these “</a:t>
            </a:r>
            <a:r>
              <a:rPr b="0" i="1" lang="en-US" sz="2100" spc="-1" strike="noStrike">
                <a:solidFill>
                  <a:srgbClr val="000000"/>
                </a:solidFill>
                <a:latin typeface="Times New Roman"/>
              </a:rPr>
              <a:t>similar patterns</a:t>
            </a:r>
            <a:r>
              <a:rPr b="0" lang="en-US" sz="2100" spc="-1" strike="noStrike">
                <a:solidFill>
                  <a:srgbClr val="000000"/>
                </a:solidFill>
                <a:latin typeface="Times New Roman"/>
              </a:rPr>
              <a:t>” as motifs.</a:t>
            </a:r>
            <a:endParaRPr b="0" lang="en-US" sz="2100" spc="-1" strike="noStrike">
              <a:solidFill>
                <a:srgbClr val="000000"/>
              </a:solidFill>
              <a:latin typeface="Times New Roman"/>
            </a:endParaRPr>
          </a:p>
          <a:p>
            <a:pPr>
              <a:spcBef>
                <a:spcPts val="13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lang="en-US" sz="2100" spc="-1" strike="noStrike">
                <a:solidFill>
                  <a:srgbClr val="000000"/>
                </a:solidFill>
                <a:latin typeface="Times New Roman"/>
              </a:rPr>
              <a:t>Animation and video capture… </a:t>
            </a:r>
            <a:r>
              <a:rPr b="0" lang="en-US" sz="2100" spc="-1" strike="noStrike">
                <a:solidFill>
                  <a:srgbClr val="000000"/>
                </a:solidFill>
                <a:latin typeface="Times New Roman"/>
              </a:rPr>
              <a:t>(</a:t>
            </a:r>
            <a:r>
              <a:rPr b="0" lang="en-US" sz="2100" spc="-1" strike="noStrike">
                <a:solidFill>
                  <a:srgbClr val="000000"/>
                </a:solidFill>
                <a:latin typeface="Times New Roman"/>
              </a:rPr>
              <a:t>Tanaka and Uehara, Zordan and Celly</a:t>
            </a: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2672" name=""/>
          <p:cNvSpPr/>
          <p:nvPr/>
        </p:nvSpPr>
        <p:spPr>
          <a:xfrm>
            <a:off x="6922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Find Motif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3" name=""/>
          <p:cNvSpPr/>
          <p:nvPr/>
        </p:nvSpPr>
        <p:spPr>
          <a:xfrm>
            <a:off x="135000" y="109440"/>
            <a:ext cx="8824680" cy="2843280"/>
          </a:xfrm>
          <a:prstGeom prst="rect">
            <a:avLst/>
          </a:prstGeom>
          <a:solidFill>
            <a:srgbClr val="ccffff"/>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301680" y="3178080"/>
            <a:ext cx="8515440" cy="411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finition 1</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Match</a:t>
            </a:r>
            <a:r>
              <a:rPr b="0" lang="en-US" sz="1600" spc="-1" strike="noStrike">
                <a:solidFill>
                  <a:srgbClr val="000000"/>
                </a:solidFill>
                <a:latin typeface="Times New Roman"/>
                <a:ea typeface="Times New Roman"/>
              </a:rPr>
              <a:t>: Given a positive real number </a:t>
            </a:r>
            <a:r>
              <a:rPr b="0" i="1" lang="en-US" sz="1600" spc="-1" strike="noStrike">
                <a:solidFill>
                  <a:srgbClr val="000000"/>
                </a:solidFill>
                <a:latin typeface="Times New Roman"/>
                <a:ea typeface="Times New Roman"/>
              </a:rPr>
              <a:t>R</a:t>
            </a:r>
            <a:r>
              <a:rPr b="0" lang="en-US" sz="1600" spc="-1" strike="noStrike">
                <a:solidFill>
                  <a:srgbClr val="000000"/>
                </a:solidFill>
                <a:latin typeface="Times New Roman"/>
                <a:ea typeface="Times New Roman"/>
              </a:rPr>
              <a:t> (called </a:t>
            </a:r>
            <a:r>
              <a:rPr b="0" i="1" lang="en-US" sz="1600" spc="-1" strike="noStrike">
                <a:solidFill>
                  <a:srgbClr val="000000"/>
                </a:solidFill>
                <a:latin typeface="Times New Roman"/>
                <a:ea typeface="Times New Roman"/>
              </a:rPr>
              <a:t>range</a:t>
            </a:r>
            <a:r>
              <a:rPr b="0" lang="en-US" sz="1600" spc="-1" strike="noStrike">
                <a:solidFill>
                  <a:srgbClr val="000000"/>
                </a:solidFill>
                <a:latin typeface="Times New Roman"/>
                <a:ea typeface="Times New Roman"/>
              </a:rPr>
              <a:t>) and a time series </a:t>
            </a:r>
            <a:r>
              <a:rPr b="0" i="1" lang="en-US" sz="1600" spc="-1" strike="noStrike">
                <a:solidFill>
                  <a:srgbClr val="000000"/>
                </a:solidFill>
                <a:latin typeface="Times New Roman"/>
                <a:ea typeface="Times New Roman"/>
              </a:rPr>
              <a:t>T</a:t>
            </a:r>
            <a:r>
              <a:rPr b="0" lang="en-US" sz="1600" spc="-1" strike="noStrike">
                <a:solidFill>
                  <a:srgbClr val="000000"/>
                </a:solidFill>
                <a:latin typeface="Times New Roman"/>
                <a:ea typeface="Times New Roman"/>
              </a:rPr>
              <a:t> containing a subsequence </a:t>
            </a:r>
            <a:r>
              <a:rPr b="0" i="1" lang="en-US" sz="1600" spc="-1" strike="noStrike">
                <a:solidFill>
                  <a:srgbClr val="000000"/>
                </a:solidFill>
                <a:latin typeface="Times New Roman"/>
                <a:ea typeface="Times New Roman"/>
              </a:rPr>
              <a:t>C</a:t>
            </a:r>
            <a:r>
              <a:rPr b="0" lang="en-US" sz="1600" spc="-1" strike="noStrike">
                <a:solidFill>
                  <a:srgbClr val="000000"/>
                </a:solidFill>
                <a:latin typeface="Times New Roman"/>
                <a:ea typeface="Times New Roman"/>
              </a:rPr>
              <a:t> beginning at position </a:t>
            </a:r>
            <a:r>
              <a:rPr b="0" i="1" lang="en-US" sz="1600" spc="-1" strike="noStrike">
                <a:solidFill>
                  <a:srgbClr val="000000"/>
                </a:solidFill>
                <a:latin typeface="Times New Roman"/>
                <a:ea typeface="Times New Roman"/>
              </a:rPr>
              <a:t>p</a:t>
            </a:r>
            <a:r>
              <a:rPr b="0" lang="en-US" sz="1600" spc="-1" strike="noStrike">
                <a:solidFill>
                  <a:srgbClr val="000000"/>
                </a:solidFill>
                <a:latin typeface="Times New Roman"/>
                <a:ea typeface="Times New Roman"/>
              </a:rPr>
              <a:t> and a subsequence </a:t>
            </a:r>
            <a:r>
              <a:rPr b="0" i="1" lang="en-US" sz="1600" spc="-1" strike="noStrike">
                <a:solidFill>
                  <a:srgbClr val="000000"/>
                </a:solidFill>
                <a:latin typeface="Times New Roman"/>
                <a:ea typeface="Times New Roman"/>
              </a:rPr>
              <a:t>M </a:t>
            </a:r>
            <a:r>
              <a:rPr b="0" lang="en-US" sz="1600" spc="-1" strike="noStrike">
                <a:solidFill>
                  <a:srgbClr val="000000"/>
                </a:solidFill>
                <a:latin typeface="Times New Roman"/>
                <a:ea typeface="Times New Roman"/>
              </a:rPr>
              <a:t>beginning at </a:t>
            </a:r>
            <a:r>
              <a:rPr b="0" i="1" lang="en-US" sz="1600" spc="-1" strike="noStrike">
                <a:solidFill>
                  <a:srgbClr val="000000"/>
                </a:solidFill>
                <a:latin typeface="Times New Roman"/>
                <a:ea typeface="Times New Roman"/>
              </a:rPr>
              <a:t>q</a:t>
            </a:r>
            <a:r>
              <a:rPr b="0" lang="en-US" sz="1600" spc="-1" strike="noStrike">
                <a:solidFill>
                  <a:srgbClr val="000000"/>
                </a:solidFill>
                <a:latin typeface="Times New Roman"/>
                <a:ea typeface="Times New Roman"/>
              </a:rPr>
              <a:t>, if </a:t>
            </a:r>
            <a:r>
              <a:rPr b="0" i="1" lang="en-US" sz="1600" spc="-1" strike="noStrike">
                <a:solidFill>
                  <a:srgbClr val="000000"/>
                </a:solidFill>
                <a:latin typeface="Times New Roman"/>
                <a:ea typeface="Times New Roman"/>
              </a:rPr>
              <a:t>D</a:t>
            </a: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C</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M</a:t>
            </a:r>
            <a:r>
              <a:rPr b="0" lang="en-US" sz="1600" spc="-1" strike="noStrike">
                <a:solidFill>
                  <a:srgbClr val="000000"/>
                </a:solidFill>
                <a:latin typeface="Times New Roman"/>
                <a:ea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R</a:t>
            </a:r>
            <a:r>
              <a:rPr b="0" lang="en-US" sz="1600" spc="-1" strike="noStrike">
                <a:solidFill>
                  <a:srgbClr val="000000"/>
                </a:solidFill>
                <a:latin typeface="Times New Roman"/>
                <a:ea typeface="Times New Roman"/>
              </a:rPr>
              <a:t>, then </a:t>
            </a:r>
            <a:r>
              <a:rPr b="0" i="1" lang="en-US" sz="1600" spc="-1" strike="noStrike">
                <a:solidFill>
                  <a:srgbClr val="000000"/>
                </a:solidFill>
                <a:latin typeface="Times New Roman"/>
                <a:ea typeface="Times New Roman"/>
              </a:rPr>
              <a:t>M</a:t>
            </a:r>
            <a:r>
              <a:rPr b="0" lang="en-US" sz="1600" spc="-1" strike="noStrike">
                <a:solidFill>
                  <a:srgbClr val="000000"/>
                </a:solidFill>
                <a:latin typeface="Times New Roman"/>
                <a:ea typeface="Times New Roman"/>
              </a:rPr>
              <a:t> is called a </a:t>
            </a:r>
            <a:r>
              <a:rPr b="0" i="1" lang="en-US" sz="1600" spc="-1" strike="noStrike">
                <a:solidFill>
                  <a:srgbClr val="000000"/>
                </a:solidFill>
                <a:latin typeface="Times New Roman"/>
                <a:ea typeface="Times New Roman"/>
              </a:rPr>
              <a:t>matching</a:t>
            </a:r>
            <a:r>
              <a:rPr b="0" lang="en-US" sz="1600" spc="-1" strike="noStrike">
                <a:solidFill>
                  <a:srgbClr val="000000"/>
                </a:solidFill>
                <a:latin typeface="Times New Roman"/>
                <a:ea typeface="Times New Roman"/>
              </a:rPr>
              <a:t> subsequence of </a:t>
            </a:r>
            <a:r>
              <a:rPr b="0" i="1" lang="en-US" sz="1600" spc="-1" strike="noStrike">
                <a:solidFill>
                  <a:srgbClr val="000000"/>
                </a:solidFill>
                <a:latin typeface="Times New Roman"/>
                <a:ea typeface="Times New Roman"/>
              </a:rPr>
              <a:t>C</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finition 2</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Trivial Match</a:t>
            </a:r>
            <a:r>
              <a:rPr b="0" lang="en-US" sz="1600" spc="-1" strike="noStrike">
                <a:solidFill>
                  <a:srgbClr val="000000"/>
                </a:solidFill>
                <a:latin typeface="Times New Roman"/>
                <a:ea typeface="Times New Roman"/>
              </a:rPr>
              <a:t>: Given a time series </a:t>
            </a:r>
            <a:r>
              <a:rPr b="0" i="1" lang="en-US" sz="1600" spc="-1" strike="noStrike">
                <a:solidFill>
                  <a:srgbClr val="000000"/>
                </a:solidFill>
                <a:latin typeface="Times New Roman"/>
                <a:ea typeface="Times New Roman"/>
              </a:rPr>
              <a:t>T</a:t>
            </a:r>
            <a:r>
              <a:rPr b="0" lang="en-US" sz="1600" spc="-1" strike="noStrike">
                <a:solidFill>
                  <a:srgbClr val="000000"/>
                </a:solidFill>
                <a:latin typeface="Times New Roman"/>
                <a:ea typeface="Times New Roman"/>
              </a:rPr>
              <a:t>, containing a subsequence </a:t>
            </a:r>
            <a:r>
              <a:rPr b="0" i="1" lang="en-US" sz="1600" spc="-1" strike="noStrike">
                <a:solidFill>
                  <a:srgbClr val="000000"/>
                </a:solidFill>
                <a:latin typeface="Times New Roman"/>
                <a:ea typeface="Times New Roman"/>
              </a:rPr>
              <a:t>C</a:t>
            </a:r>
            <a:r>
              <a:rPr b="0" lang="en-US" sz="1600" spc="-1" strike="noStrike">
                <a:solidFill>
                  <a:srgbClr val="000000"/>
                </a:solidFill>
                <a:latin typeface="Times New Roman"/>
                <a:ea typeface="Times New Roman"/>
              </a:rPr>
              <a:t> beginning at position </a:t>
            </a:r>
            <a:r>
              <a:rPr b="0" i="1" lang="en-US" sz="1600" spc="-1" strike="noStrike">
                <a:solidFill>
                  <a:srgbClr val="000000"/>
                </a:solidFill>
                <a:latin typeface="Times New Roman"/>
                <a:ea typeface="Times New Roman"/>
              </a:rPr>
              <a:t>p</a:t>
            </a:r>
            <a:r>
              <a:rPr b="0" lang="en-US" sz="1600" spc="-1" strike="noStrike">
                <a:solidFill>
                  <a:srgbClr val="000000"/>
                </a:solidFill>
                <a:latin typeface="Times New Roman"/>
                <a:ea typeface="Times New Roman"/>
              </a:rPr>
              <a:t> and a matching subsequence </a:t>
            </a:r>
            <a:r>
              <a:rPr b="0" i="1" lang="en-US" sz="1600" spc="-1" strike="noStrike">
                <a:solidFill>
                  <a:srgbClr val="000000"/>
                </a:solidFill>
                <a:latin typeface="Times New Roman"/>
                <a:ea typeface="Times New Roman"/>
              </a:rPr>
              <a:t>M</a:t>
            </a:r>
            <a:r>
              <a:rPr b="0" lang="en-US" sz="1600" spc="-1" strike="noStrike">
                <a:solidFill>
                  <a:srgbClr val="000000"/>
                </a:solidFill>
                <a:latin typeface="Times New Roman"/>
                <a:ea typeface="Times New Roman"/>
              </a:rPr>
              <a:t> beginning at </a:t>
            </a:r>
            <a:r>
              <a:rPr b="0" i="1" lang="en-US" sz="1600" spc="-1" strike="noStrike">
                <a:solidFill>
                  <a:srgbClr val="000000"/>
                </a:solidFill>
                <a:latin typeface="Times New Roman"/>
                <a:ea typeface="Times New Roman"/>
              </a:rPr>
              <a:t>q</a:t>
            </a:r>
            <a:r>
              <a:rPr b="0" lang="en-US" sz="1600" spc="-1" strike="noStrike">
                <a:solidFill>
                  <a:srgbClr val="000000"/>
                </a:solidFill>
                <a:latin typeface="Times New Roman"/>
                <a:ea typeface="Times New Roman"/>
              </a:rPr>
              <a:t>, we say that </a:t>
            </a:r>
            <a:r>
              <a:rPr b="0" i="1" lang="en-US" sz="1600" spc="-1" strike="noStrike">
                <a:solidFill>
                  <a:srgbClr val="000000"/>
                </a:solidFill>
                <a:latin typeface="Times New Roman"/>
                <a:ea typeface="Times New Roman"/>
              </a:rPr>
              <a:t>M</a:t>
            </a:r>
            <a:r>
              <a:rPr b="0" lang="en-US" sz="1600" spc="-1" strike="noStrike">
                <a:solidFill>
                  <a:srgbClr val="000000"/>
                </a:solidFill>
                <a:latin typeface="Times New Roman"/>
                <a:ea typeface="Times New Roman"/>
              </a:rPr>
              <a:t> is a </a:t>
            </a:r>
            <a:r>
              <a:rPr b="0" i="1" lang="en-US" sz="1600" spc="-1" strike="noStrike">
                <a:solidFill>
                  <a:srgbClr val="000000"/>
                </a:solidFill>
                <a:latin typeface="Times New Roman"/>
                <a:ea typeface="Times New Roman"/>
              </a:rPr>
              <a:t>trivial match</a:t>
            </a:r>
            <a:r>
              <a:rPr b="0" lang="en-US" sz="1600" spc="-1" strike="noStrike">
                <a:solidFill>
                  <a:srgbClr val="000000"/>
                </a:solidFill>
                <a:latin typeface="Times New Roman"/>
                <a:ea typeface="Times New Roman"/>
              </a:rPr>
              <a:t> to </a:t>
            </a:r>
            <a:r>
              <a:rPr b="0" i="1" lang="en-US" sz="1600" spc="-1" strike="noStrike">
                <a:solidFill>
                  <a:srgbClr val="000000"/>
                </a:solidFill>
                <a:latin typeface="Times New Roman"/>
                <a:ea typeface="Times New Roman"/>
              </a:rPr>
              <a:t>C </a:t>
            </a:r>
            <a:r>
              <a:rPr b="0" lang="en-US" sz="1600" spc="-1" strike="noStrike">
                <a:solidFill>
                  <a:srgbClr val="000000"/>
                </a:solidFill>
                <a:latin typeface="Times New Roman"/>
                <a:ea typeface="Times New Roman"/>
              </a:rPr>
              <a:t>if either </a:t>
            </a:r>
            <a:r>
              <a:rPr b="0" i="1" lang="en-US" sz="1600" spc="-1" strike="noStrike">
                <a:solidFill>
                  <a:srgbClr val="000000"/>
                </a:solidFill>
                <a:latin typeface="Times New Roman"/>
                <a:ea typeface="Times New Roman"/>
              </a:rPr>
              <a:t>p</a:t>
            </a:r>
            <a:r>
              <a:rPr b="0" lang="en-US" sz="1600" spc="-1" strike="noStrike">
                <a:solidFill>
                  <a:srgbClr val="000000"/>
                </a:solidFill>
                <a:latin typeface="Times New Roman"/>
                <a:ea typeface="Times New Roman"/>
              </a:rPr>
              <a:t> = </a:t>
            </a:r>
            <a:r>
              <a:rPr b="0" i="1" lang="en-US" sz="1600" spc="-1" strike="noStrike">
                <a:solidFill>
                  <a:srgbClr val="000000"/>
                </a:solidFill>
                <a:latin typeface="Times New Roman"/>
                <a:ea typeface="Times New Roman"/>
              </a:rPr>
              <a:t>q</a:t>
            </a:r>
            <a:r>
              <a:rPr b="0" lang="en-US" sz="1600" spc="-1" strike="noStrike">
                <a:solidFill>
                  <a:srgbClr val="000000"/>
                </a:solidFill>
                <a:latin typeface="Times New Roman"/>
                <a:ea typeface="Times New Roman"/>
              </a:rPr>
              <a:t> or there does not exist a subsequence </a:t>
            </a:r>
            <a:r>
              <a:rPr b="0" i="1" lang="en-US" sz="1600" spc="-1" strike="noStrike">
                <a:solidFill>
                  <a:srgbClr val="000000"/>
                </a:solidFill>
                <a:latin typeface="Times New Roman"/>
                <a:ea typeface="Times New Roman"/>
              </a:rPr>
              <a:t>M’</a:t>
            </a:r>
            <a:r>
              <a:rPr b="0" lang="en-US" sz="1600" spc="-1" strike="noStrike">
                <a:solidFill>
                  <a:srgbClr val="000000"/>
                </a:solidFill>
                <a:latin typeface="Times New Roman"/>
                <a:ea typeface="Times New Roman"/>
              </a:rPr>
              <a:t> beginning at </a:t>
            </a:r>
            <a:r>
              <a:rPr b="0" i="1" lang="en-US" sz="1600" spc="-1" strike="noStrike">
                <a:solidFill>
                  <a:srgbClr val="000000"/>
                </a:solidFill>
                <a:latin typeface="Times New Roman"/>
                <a:ea typeface="Times New Roman"/>
              </a:rPr>
              <a:t>q’</a:t>
            </a:r>
            <a:r>
              <a:rPr b="0" lang="en-US" sz="1600" spc="-1" strike="noStrike">
                <a:solidFill>
                  <a:srgbClr val="000000"/>
                </a:solidFill>
                <a:latin typeface="Times New Roman"/>
                <a:ea typeface="Times New Roman"/>
              </a:rPr>
              <a:t> such that </a:t>
            </a:r>
            <a:r>
              <a:rPr b="0" i="1" lang="en-US" sz="1600" spc="-1" strike="noStrike">
                <a:solidFill>
                  <a:srgbClr val="000000"/>
                </a:solidFill>
                <a:latin typeface="Times New Roman"/>
                <a:ea typeface="Times New Roman"/>
              </a:rPr>
              <a:t>D</a:t>
            </a: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C</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M’</a:t>
            </a:r>
            <a:r>
              <a:rPr b="0" lang="en-US" sz="1600" spc="-1" strike="noStrike">
                <a:solidFill>
                  <a:srgbClr val="000000"/>
                </a:solidFill>
                <a:latin typeface="Times New Roman"/>
                <a:ea typeface="Times New Roman"/>
              </a:rPr>
              <a:t>) &gt; </a:t>
            </a:r>
            <a:r>
              <a:rPr b="0" i="1" lang="en-US" sz="1600" spc="-1" strike="noStrike">
                <a:solidFill>
                  <a:srgbClr val="000000"/>
                </a:solidFill>
                <a:latin typeface="Times New Roman"/>
                <a:ea typeface="Times New Roman"/>
              </a:rPr>
              <a:t>R</a:t>
            </a:r>
            <a:r>
              <a:rPr b="0" lang="en-US" sz="1600" spc="-1" strike="noStrike">
                <a:solidFill>
                  <a:srgbClr val="000000"/>
                </a:solidFill>
                <a:latin typeface="Times New Roman"/>
                <a:ea typeface="Times New Roman"/>
              </a:rPr>
              <a:t>, and either </a:t>
            </a:r>
            <a:r>
              <a:rPr b="0" i="1" lang="en-US" sz="1600" spc="-1" strike="noStrike">
                <a:solidFill>
                  <a:srgbClr val="000000"/>
                </a:solidFill>
                <a:latin typeface="Times New Roman"/>
                <a:ea typeface="Times New Roman"/>
              </a:rPr>
              <a:t>q</a:t>
            </a:r>
            <a:r>
              <a:rPr b="0" lang="en-US" sz="1600" spc="-1" strike="noStrike">
                <a:solidFill>
                  <a:srgbClr val="000000"/>
                </a:solidFill>
                <a:latin typeface="Times New Roman"/>
                <a:ea typeface="Times New Roman"/>
              </a:rPr>
              <a:t> &lt; </a:t>
            </a:r>
            <a:r>
              <a:rPr b="0" i="1" lang="en-US" sz="1600" spc="-1" strike="noStrike">
                <a:solidFill>
                  <a:srgbClr val="000000"/>
                </a:solidFill>
                <a:latin typeface="Times New Roman"/>
                <a:ea typeface="Times New Roman"/>
              </a:rPr>
              <a:t>q’</a:t>
            </a:r>
            <a:r>
              <a:rPr b="0" lang="en-US" sz="1600" spc="-1" strike="noStrike">
                <a:solidFill>
                  <a:srgbClr val="000000"/>
                </a:solidFill>
                <a:latin typeface="Times New Roman"/>
                <a:ea typeface="Times New Roman"/>
              </a:rPr>
              <a:t>&lt; </a:t>
            </a:r>
            <a:r>
              <a:rPr b="0" i="1" lang="en-US" sz="1600" spc="-1" strike="noStrike">
                <a:solidFill>
                  <a:srgbClr val="000000"/>
                </a:solidFill>
                <a:latin typeface="Times New Roman"/>
                <a:ea typeface="Times New Roman"/>
              </a:rPr>
              <a:t>p</a:t>
            </a:r>
            <a:r>
              <a:rPr b="0" lang="en-US" sz="1600" spc="-1" strike="noStrike">
                <a:solidFill>
                  <a:srgbClr val="000000"/>
                </a:solidFill>
                <a:latin typeface="Times New Roman"/>
                <a:ea typeface="Times New Roman"/>
              </a:rPr>
              <a:t> or </a:t>
            </a:r>
            <a:r>
              <a:rPr b="0" i="1" lang="en-US" sz="1600" spc="-1" strike="noStrike">
                <a:solidFill>
                  <a:srgbClr val="000000"/>
                </a:solidFill>
                <a:latin typeface="Times New Roman"/>
                <a:ea typeface="Times New Roman"/>
              </a:rPr>
              <a:t>p</a:t>
            </a:r>
            <a:r>
              <a:rPr b="0" lang="en-US" sz="1600" spc="-1" strike="noStrike">
                <a:solidFill>
                  <a:srgbClr val="000000"/>
                </a:solidFill>
                <a:latin typeface="Times New Roman"/>
                <a:ea typeface="Times New Roman"/>
              </a:rPr>
              <a:t> &lt; </a:t>
            </a:r>
            <a:r>
              <a:rPr b="0" i="1" lang="en-US" sz="1600" spc="-1" strike="noStrike">
                <a:solidFill>
                  <a:srgbClr val="000000"/>
                </a:solidFill>
                <a:latin typeface="Times New Roman"/>
                <a:ea typeface="Times New Roman"/>
              </a:rPr>
              <a:t>q’</a:t>
            </a:r>
            <a:r>
              <a:rPr b="0" lang="en-US" sz="1600" spc="-1" strike="noStrike">
                <a:solidFill>
                  <a:srgbClr val="000000"/>
                </a:solidFill>
                <a:latin typeface="Times New Roman"/>
                <a:ea typeface="Times New Roman"/>
              </a:rPr>
              <a:t>&lt; </a:t>
            </a:r>
            <a:r>
              <a:rPr b="0" i="1" lang="en-US" sz="1600" spc="-1" strike="noStrike">
                <a:solidFill>
                  <a:srgbClr val="000000"/>
                </a:solidFill>
                <a:latin typeface="Times New Roman"/>
                <a:ea typeface="Times New Roman"/>
              </a:rPr>
              <a:t>q</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finition 3</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K-Motif</a:t>
            </a: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n,R</a:t>
            </a:r>
            <a:r>
              <a:rPr b="0" lang="en-US" sz="1600" spc="-1" strike="noStrike">
                <a:solidFill>
                  <a:srgbClr val="000000"/>
                </a:solidFill>
                <a:latin typeface="Times New Roman"/>
                <a:ea typeface="Times New Roman"/>
              </a:rPr>
              <a:t>):  Given a time series </a:t>
            </a:r>
            <a:r>
              <a:rPr b="0" i="1" lang="en-US" sz="1600" spc="-1" strike="noStrike">
                <a:solidFill>
                  <a:srgbClr val="000000"/>
                </a:solidFill>
                <a:latin typeface="Times New Roman"/>
                <a:ea typeface="Times New Roman"/>
              </a:rPr>
              <a:t>T</a:t>
            </a:r>
            <a:r>
              <a:rPr b="0" lang="en-US" sz="1600" spc="-1" strike="noStrike">
                <a:solidFill>
                  <a:srgbClr val="000000"/>
                </a:solidFill>
                <a:latin typeface="Times New Roman"/>
                <a:ea typeface="Times New Roman"/>
              </a:rPr>
              <a:t>, a subsequence length </a:t>
            </a:r>
            <a:r>
              <a:rPr b="0" i="1" lang="en-US" sz="1600" spc="-1" strike="noStrike">
                <a:solidFill>
                  <a:srgbClr val="000000"/>
                </a:solidFill>
                <a:latin typeface="Times New Roman"/>
                <a:ea typeface="Times New Roman"/>
              </a:rPr>
              <a:t>n</a:t>
            </a:r>
            <a:r>
              <a:rPr b="0" lang="en-US" sz="1600" spc="-1" strike="noStrike">
                <a:solidFill>
                  <a:srgbClr val="000000"/>
                </a:solidFill>
                <a:latin typeface="Times New Roman"/>
                <a:ea typeface="Times New Roman"/>
              </a:rPr>
              <a:t> and a range </a:t>
            </a:r>
            <a:r>
              <a:rPr b="0" i="1" lang="en-US" sz="1600" spc="-1" strike="noStrike">
                <a:solidFill>
                  <a:srgbClr val="000000"/>
                </a:solidFill>
                <a:latin typeface="Times New Roman"/>
                <a:ea typeface="Times New Roman"/>
              </a:rPr>
              <a:t>R</a:t>
            </a:r>
            <a:r>
              <a:rPr b="0" lang="en-US" sz="1600" spc="-1" strike="noStrike">
                <a:solidFill>
                  <a:srgbClr val="000000"/>
                </a:solidFill>
                <a:latin typeface="Times New Roman"/>
                <a:ea typeface="Times New Roman"/>
              </a:rPr>
              <a:t>, the most significant motif in </a:t>
            </a:r>
            <a:r>
              <a:rPr b="0" i="1" lang="en-US" sz="1600" spc="-1" strike="noStrike">
                <a:solidFill>
                  <a:srgbClr val="000000"/>
                </a:solidFill>
                <a:latin typeface="Times New Roman"/>
                <a:ea typeface="Times New Roman"/>
              </a:rPr>
              <a:t>T</a:t>
            </a:r>
            <a:r>
              <a:rPr b="0" lang="en-US" sz="1600" spc="-1" strike="noStrike">
                <a:solidFill>
                  <a:srgbClr val="000000"/>
                </a:solidFill>
                <a:latin typeface="Times New Roman"/>
                <a:ea typeface="Times New Roman"/>
              </a:rPr>
              <a:t> (hereafter called the </a:t>
            </a:r>
            <a:r>
              <a:rPr b="0" i="1" lang="en-US" sz="1600" spc="-1" strike="noStrike">
                <a:solidFill>
                  <a:srgbClr val="000000"/>
                </a:solidFill>
                <a:latin typeface="Times New Roman"/>
                <a:ea typeface="Times New Roman"/>
              </a:rPr>
              <a:t>1-Motif</a:t>
            </a: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n,R</a:t>
            </a:r>
            <a:r>
              <a:rPr b="0" lang="en-US" sz="1600" spc="-1" strike="noStrike">
                <a:solidFill>
                  <a:srgbClr val="000000"/>
                </a:solidFill>
                <a:latin typeface="Times New Roman"/>
                <a:ea typeface="Times New Roman"/>
              </a:rPr>
              <a:t>)) is the subsequence </a:t>
            </a:r>
            <a:r>
              <a:rPr b="0" i="1" lang="en-US" sz="1600" spc="-1" strike="noStrike">
                <a:solidFill>
                  <a:srgbClr val="000000"/>
                </a:solidFill>
                <a:latin typeface="Times New Roman"/>
                <a:ea typeface="Times New Roman"/>
              </a:rPr>
              <a:t>C</a:t>
            </a:r>
            <a:r>
              <a:rPr b="0" lang="en-US" sz="1600" spc="-1" strike="noStrike" baseline="-30000">
                <a:solidFill>
                  <a:srgbClr val="000000"/>
                </a:solidFill>
                <a:latin typeface="Times New Roman"/>
                <a:ea typeface="Times New Roman"/>
              </a:rPr>
              <a:t>1</a:t>
            </a:r>
            <a:r>
              <a:rPr b="0" lang="en-US" sz="1600" spc="-1" strike="noStrike">
                <a:solidFill>
                  <a:srgbClr val="000000"/>
                </a:solidFill>
                <a:latin typeface="Times New Roman"/>
                <a:ea typeface="Times New Roman"/>
              </a:rPr>
              <a:t> that has highest count of non-trivial matches (ties are broken by choosing the motif whose matches have the lower variance). The </a:t>
            </a:r>
            <a:r>
              <a:rPr b="0" i="1" lang="en-US" sz="1600" spc="-1" strike="noStrike">
                <a:solidFill>
                  <a:srgbClr val="000000"/>
                </a:solidFill>
                <a:latin typeface="Times New Roman"/>
                <a:ea typeface="Times New Roman"/>
              </a:rPr>
              <a:t>K</a:t>
            </a:r>
            <a:r>
              <a:rPr b="0" lang="en-US" sz="1600" spc="-1" strike="noStrike" baseline="30000">
                <a:solidFill>
                  <a:srgbClr val="000000"/>
                </a:solidFill>
                <a:latin typeface="Times New Roman"/>
                <a:ea typeface="Times New Roman"/>
              </a:rPr>
              <a:t>th</a:t>
            </a:r>
            <a:r>
              <a:rPr b="0" lang="en-US" sz="1600" spc="-1" strike="noStrike">
                <a:solidFill>
                  <a:srgbClr val="000000"/>
                </a:solidFill>
                <a:latin typeface="Times New Roman"/>
                <a:ea typeface="Times New Roman"/>
              </a:rPr>
              <a:t> most significant motif in </a:t>
            </a:r>
            <a:r>
              <a:rPr b="0" i="1" lang="en-US" sz="1600" spc="-1" strike="noStrike">
                <a:solidFill>
                  <a:srgbClr val="000000"/>
                </a:solidFill>
                <a:latin typeface="Times New Roman"/>
                <a:ea typeface="Times New Roman"/>
              </a:rPr>
              <a:t>T</a:t>
            </a:r>
            <a:r>
              <a:rPr b="0" lang="en-US" sz="1600" spc="-1" strike="noStrike">
                <a:solidFill>
                  <a:srgbClr val="000000"/>
                </a:solidFill>
                <a:latin typeface="Times New Roman"/>
                <a:ea typeface="Times New Roman"/>
              </a:rPr>
              <a:t> (hereafter called the </a:t>
            </a:r>
            <a:r>
              <a:rPr b="0" i="1" lang="en-US" sz="1600" spc="-1" strike="noStrike">
                <a:solidFill>
                  <a:srgbClr val="000000"/>
                </a:solidFill>
                <a:latin typeface="Times New Roman"/>
                <a:ea typeface="Times New Roman"/>
              </a:rPr>
              <a:t>K-Motif</a:t>
            </a: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n,R</a:t>
            </a:r>
            <a:r>
              <a:rPr b="0" lang="en-US" sz="1600" spc="-1" strike="noStrike">
                <a:solidFill>
                  <a:srgbClr val="000000"/>
                </a:solidFill>
                <a:latin typeface="Times New Roman"/>
                <a:ea typeface="Times New Roman"/>
              </a:rPr>
              <a:t>) ) is the subsequence </a:t>
            </a:r>
            <a:r>
              <a:rPr b="0" i="1" lang="en-US" sz="1600" spc="-1" strike="noStrike">
                <a:solidFill>
                  <a:srgbClr val="000000"/>
                </a:solidFill>
                <a:latin typeface="Times New Roman"/>
                <a:ea typeface="Times New Roman"/>
              </a:rPr>
              <a:t>C</a:t>
            </a:r>
            <a:r>
              <a:rPr b="0" i="1" lang="en-US" sz="1600" spc="-1" strike="noStrike" baseline="-30000">
                <a:solidFill>
                  <a:srgbClr val="000000"/>
                </a:solidFill>
                <a:latin typeface="Times New Roman"/>
                <a:ea typeface="Times New Roman"/>
              </a:rPr>
              <a:t>K</a:t>
            </a:r>
            <a:r>
              <a:rPr b="0" lang="en-US" sz="1600" spc="-1" strike="noStrike">
                <a:solidFill>
                  <a:srgbClr val="000000"/>
                </a:solidFill>
                <a:latin typeface="Times New Roman"/>
                <a:ea typeface="Times New Roman"/>
              </a:rPr>
              <a:t> that has the highest count of non-trivial matches, and satisfies </a:t>
            </a:r>
            <a:r>
              <a:rPr b="0" i="1" lang="en-US" sz="1600" spc="-1" strike="noStrike">
                <a:solidFill>
                  <a:srgbClr val="000000"/>
                </a:solidFill>
                <a:latin typeface="Times New Roman"/>
                <a:ea typeface="Times New Roman"/>
              </a:rPr>
              <a:t>D</a:t>
            </a: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C</a:t>
            </a:r>
            <a:r>
              <a:rPr b="0" i="1" lang="en-US" sz="1600" spc="-1" strike="noStrike" baseline="-30000">
                <a:solidFill>
                  <a:srgbClr val="000000"/>
                </a:solidFill>
                <a:latin typeface="Times New Roman"/>
                <a:ea typeface="Times New Roman"/>
              </a:rPr>
              <a:t>K</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C</a:t>
            </a:r>
            <a:r>
              <a:rPr b="0" i="1" lang="en-US" sz="1600" spc="-1" strike="noStrike" baseline="-30000">
                <a:solidFill>
                  <a:srgbClr val="000000"/>
                </a:solidFill>
                <a:latin typeface="Times New Roman"/>
                <a:ea typeface="Times New Roman"/>
              </a:rPr>
              <a:t>i</a:t>
            </a:r>
            <a:r>
              <a:rPr b="0" i="1"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gt; 2</a:t>
            </a:r>
            <a:r>
              <a:rPr b="0" i="1" lang="en-US" sz="1600" spc="-1" strike="noStrike">
                <a:solidFill>
                  <a:srgbClr val="000000"/>
                </a:solidFill>
                <a:latin typeface="Times New Roman"/>
                <a:ea typeface="Times New Roman"/>
              </a:rPr>
              <a:t>R</a:t>
            </a:r>
            <a:r>
              <a:rPr b="0" lang="en-US" sz="1600" spc="-1" strike="noStrike">
                <a:solidFill>
                  <a:srgbClr val="000000"/>
                </a:solidFill>
                <a:latin typeface="Times New Roman"/>
                <a:ea typeface="Times New Roman"/>
              </a:rPr>
              <a:t>, for all  </a:t>
            </a:r>
            <a:r>
              <a:rPr b="0" i="1" lang="en-US" sz="1600" spc="-1" strike="noStrike">
                <a:solidFill>
                  <a:srgbClr val="000000"/>
                </a:solidFill>
                <a:latin typeface="Times New Roman"/>
                <a:ea typeface="Times New Roman"/>
              </a:rPr>
              <a:t>1 </a:t>
            </a:r>
            <a:r>
              <a:rPr b="0" i="1" lang="en-US" sz="1600" spc="-1" strike="noStrike">
                <a:solidFill>
                  <a:srgbClr val="000000"/>
                </a:solidFill>
                <a:latin typeface="Symbol"/>
                <a:ea typeface="Symbol"/>
              </a:rPr>
              <a:t></a:t>
            </a:r>
            <a:r>
              <a:rPr b="0" i="1" lang="en-US" sz="1600" spc="-1" strike="noStrike">
                <a:solidFill>
                  <a:srgbClr val="000000"/>
                </a:solidFill>
                <a:latin typeface="Times New Roman"/>
                <a:ea typeface="Times New Roman"/>
              </a:rPr>
              <a:t>  i &lt; K</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75" name=""/>
          <p:cNvSpPr/>
          <p:nvPr/>
        </p:nvSpPr>
        <p:spPr>
          <a:xfrm>
            <a:off x="288720" y="198360"/>
            <a:ext cx="96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676" name=""/>
          <p:cNvSpPr/>
          <p:nvPr/>
        </p:nvSpPr>
        <p:spPr>
          <a:xfrm>
            <a:off x="2955960" y="1222200"/>
            <a:ext cx="1122480" cy="424080"/>
          </a:xfrm>
          <a:custGeom>
            <a:avLst/>
            <a:gdLst/>
            <a:ahLst/>
            <a:rect l="l" t="t" r="r" b="b"/>
            <a:pathLst>
              <a:path w="707" h="267">
                <a:moveTo>
                  <a:pt x="0" y="146"/>
                </a:moveTo>
                <a:lnTo>
                  <a:pt x="0" y="186"/>
                </a:lnTo>
                <a:lnTo>
                  <a:pt x="12" y="186"/>
                </a:lnTo>
                <a:lnTo>
                  <a:pt x="24" y="186"/>
                </a:lnTo>
                <a:lnTo>
                  <a:pt x="24" y="185"/>
                </a:lnTo>
                <a:lnTo>
                  <a:pt x="33" y="183"/>
                </a:lnTo>
                <a:lnTo>
                  <a:pt x="40" y="180"/>
                </a:lnTo>
                <a:lnTo>
                  <a:pt x="52" y="170"/>
                </a:lnTo>
                <a:lnTo>
                  <a:pt x="37" y="156"/>
                </a:lnTo>
                <a:lnTo>
                  <a:pt x="29" y="174"/>
                </a:lnTo>
                <a:lnTo>
                  <a:pt x="37" y="175"/>
                </a:lnTo>
                <a:lnTo>
                  <a:pt x="45" y="174"/>
                </a:lnTo>
                <a:lnTo>
                  <a:pt x="21" y="170"/>
                </a:lnTo>
                <a:lnTo>
                  <a:pt x="34" y="180"/>
                </a:lnTo>
                <a:lnTo>
                  <a:pt x="41" y="183"/>
                </a:lnTo>
                <a:lnTo>
                  <a:pt x="50" y="186"/>
                </a:lnTo>
                <a:lnTo>
                  <a:pt x="62" y="186"/>
                </a:lnTo>
                <a:lnTo>
                  <a:pt x="62" y="185"/>
                </a:lnTo>
                <a:lnTo>
                  <a:pt x="71" y="183"/>
                </a:lnTo>
                <a:lnTo>
                  <a:pt x="79" y="180"/>
                </a:lnTo>
                <a:lnTo>
                  <a:pt x="90" y="170"/>
                </a:lnTo>
                <a:lnTo>
                  <a:pt x="73" y="156"/>
                </a:lnTo>
                <a:lnTo>
                  <a:pt x="89" y="170"/>
                </a:lnTo>
                <a:lnTo>
                  <a:pt x="102" y="161"/>
                </a:lnTo>
                <a:lnTo>
                  <a:pt x="114" y="151"/>
                </a:lnTo>
                <a:lnTo>
                  <a:pt x="139" y="132"/>
                </a:lnTo>
                <a:lnTo>
                  <a:pt x="141" y="132"/>
                </a:lnTo>
                <a:lnTo>
                  <a:pt x="145" y="124"/>
                </a:lnTo>
                <a:lnTo>
                  <a:pt x="148" y="117"/>
                </a:lnTo>
                <a:lnTo>
                  <a:pt x="148" y="107"/>
                </a:lnTo>
                <a:lnTo>
                  <a:pt x="124" y="107"/>
                </a:lnTo>
                <a:lnTo>
                  <a:pt x="145" y="115"/>
                </a:lnTo>
                <a:lnTo>
                  <a:pt x="141" y="121"/>
                </a:lnTo>
                <a:lnTo>
                  <a:pt x="152" y="110"/>
                </a:lnTo>
                <a:lnTo>
                  <a:pt x="135" y="97"/>
                </a:lnTo>
                <a:lnTo>
                  <a:pt x="151" y="111"/>
                </a:lnTo>
                <a:lnTo>
                  <a:pt x="163" y="101"/>
                </a:lnTo>
                <a:lnTo>
                  <a:pt x="176" y="92"/>
                </a:lnTo>
                <a:lnTo>
                  <a:pt x="189" y="82"/>
                </a:lnTo>
                <a:lnTo>
                  <a:pt x="173" y="68"/>
                </a:lnTo>
                <a:lnTo>
                  <a:pt x="173" y="87"/>
                </a:lnTo>
                <a:lnTo>
                  <a:pt x="182" y="86"/>
                </a:lnTo>
                <a:lnTo>
                  <a:pt x="173" y="88"/>
                </a:lnTo>
                <a:lnTo>
                  <a:pt x="184" y="88"/>
                </a:lnTo>
                <a:lnTo>
                  <a:pt x="184" y="87"/>
                </a:lnTo>
                <a:lnTo>
                  <a:pt x="193" y="86"/>
                </a:lnTo>
                <a:lnTo>
                  <a:pt x="200" y="82"/>
                </a:lnTo>
                <a:lnTo>
                  <a:pt x="212" y="72"/>
                </a:lnTo>
                <a:lnTo>
                  <a:pt x="197" y="58"/>
                </a:lnTo>
                <a:lnTo>
                  <a:pt x="197" y="77"/>
                </a:lnTo>
                <a:lnTo>
                  <a:pt x="205" y="76"/>
                </a:lnTo>
                <a:lnTo>
                  <a:pt x="197" y="78"/>
                </a:lnTo>
                <a:lnTo>
                  <a:pt x="210" y="78"/>
                </a:lnTo>
                <a:lnTo>
                  <a:pt x="222" y="78"/>
                </a:lnTo>
                <a:lnTo>
                  <a:pt x="222" y="77"/>
                </a:lnTo>
                <a:lnTo>
                  <a:pt x="231" y="76"/>
                </a:lnTo>
                <a:lnTo>
                  <a:pt x="238" y="72"/>
                </a:lnTo>
                <a:lnTo>
                  <a:pt x="250" y="63"/>
                </a:lnTo>
                <a:lnTo>
                  <a:pt x="252" y="63"/>
                </a:lnTo>
                <a:lnTo>
                  <a:pt x="263" y="53"/>
                </a:lnTo>
                <a:lnTo>
                  <a:pt x="246" y="39"/>
                </a:lnTo>
                <a:lnTo>
                  <a:pt x="246" y="58"/>
                </a:lnTo>
                <a:lnTo>
                  <a:pt x="255" y="57"/>
                </a:lnTo>
                <a:lnTo>
                  <a:pt x="246" y="59"/>
                </a:lnTo>
                <a:lnTo>
                  <a:pt x="259" y="59"/>
                </a:lnTo>
                <a:lnTo>
                  <a:pt x="271" y="59"/>
                </a:lnTo>
                <a:lnTo>
                  <a:pt x="271" y="58"/>
                </a:lnTo>
                <a:lnTo>
                  <a:pt x="280" y="57"/>
                </a:lnTo>
                <a:lnTo>
                  <a:pt x="287" y="53"/>
                </a:lnTo>
                <a:lnTo>
                  <a:pt x="299" y="43"/>
                </a:lnTo>
                <a:lnTo>
                  <a:pt x="284" y="29"/>
                </a:lnTo>
                <a:lnTo>
                  <a:pt x="284" y="48"/>
                </a:lnTo>
                <a:lnTo>
                  <a:pt x="292" y="47"/>
                </a:lnTo>
                <a:lnTo>
                  <a:pt x="284" y="49"/>
                </a:lnTo>
                <a:lnTo>
                  <a:pt x="295" y="49"/>
                </a:lnTo>
                <a:lnTo>
                  <a:pt x="308" y="49"/>
                </a:lnTo>
                <a:lnTo>
                  <a:pt x="308" y="48"/>
                </a:lnTo>
                <a:lnTo>
                  <a:pt x="316" y="47"/>
                </a:lnTo>
                <a:lnTo>
                  <a:pt x="323" y="43"/>
                </a:lnTo>
                <a:lnTo>
                  <a:pt x="336" y="34"/>
                </a:lnTo>
                <a:lnTo>
                  <a:pt x="321" y="19"/>
                </a:lnTo>
                <a:lnTo>
                  <a:pt x="321" y="39"/>
                </a:lnTo>
                <a:lnTo>
                  <a:pt x="329" y="37"/>
                </a:lnTo>
                <a:lnTo>
                  <a:pt x="321" y="40"/>
                </a:lnTo>
                <a:lnTo>
                  <a:pt x="333" y="40"/>
                </a:lnTo>
                <a:lnTo>
                  <a:pt x="346" y="40"/>
                </a:lnTo>
                <a:lnTo>
                  <a:pt x="357" y="40"/>
                </a:lnTo>
                <a:lnTo>
                  <a:pt x="370" y="40"/>
                </a:lnTo>
                <a:lnTo>
                  <a:pt x="370" y="19"/>
                </a:lnTo>
                <a:lnTo>
                  <a:pt x="361" y="37"/>
                </a:lnTo>
                <a:lnTo>
                  <a:pt x="354" y="34"/>
                </a:lnTo>
                <a:lnTo>
                  <a:pt x="367" y="43"/>
                </a:lnTo>
                <a:lnTo>
                  <a:pt x="382" y="29"/>
                </a:lnTo>
                <a:lnTo>
                  <a:pt x="363" y="39"/>
                </a:lnTo>
                <a:lnTo>
                  <a:pt x="375" y="58"/>
                </a:lnTo>
                <a:lnTo>
                  <a:pt x="378" y="63"/>
                </a:lnTo>
                <a:lnTo>
                  <a:pt x="386" y="66"/>
                </a:lnTo>
                <a:lnTo>
                  <a:pt x="395" y="69"/>
                </a:lnTo>
                <a:lnTo>
                  <a:pt x="408" y="69"/>
                </a:lnTo>
                <a:lnTo>
                  <a:pt x="408" y="48"/>
                </a:lnTo>
                <a:lnTo>
                  <a:pt x="399" y="66"/>
                </a:lnTo>
                <a:lnTo>
                  <a:pt x="392" y="63"/>
                </a:lnTo>
                <a:lnTo>
                  <a:pt x="403" y="72"/>
                </a:lnTo>
                <a:lnTo>
                  <a:pt x="403" y="72"/>
                </a:lnTo>
                <a:lnTo>
                  <a:pt x="416" y="82"/>
                </a:lnTo>
                <a:lnTo>
                  <a:pt x="429" y="92"/>
                </a:lnTo>
                <a:lnTo>
                  <a:pt x="441" y="101"/>
                </a:lnTo>
                <a:lnTo>
                  <a:pt x="448" y="105"/>
                </a:lnTo>
                <a:lnTo>
                  <a:pt x="457" y="107"/>
                </a:lnTo>
                <a:lnTo>
                  <a:pt x="468" y="107"/>
                </a:lnTo>
                <a:lnTo>
                  <a:pt x="468" y="87"/>
                </a:lnTo>
                <a:lnTo>
                  <a:pt x="460" y="105"/>
                </a:lnTo>
                <a:lnTo>
                  <a:pt x="452" y="101"/>
                </a:lnTo>
                <a:lnTo>
                  <a:pt x="465" y="111"/>
                </a:lnTo>
                <a:lnTo>
                  <a:pt x="481" y="97"/>
                </a:lnTo>
                <a:lnTo>
                  <a:pt x="465" y="111"/>
                </a:lnTo>
                <a:lnTo>
                  <a:pt x="478" y="122"/>
                </a:lnTo>
                <a:lnTo>
                  <a:pt x="493" y="107"/>
                </a:lnTo>
                <a:lnTo>
                  <a:pt x="474" y="117"/>
                </a:lnTo>
                <a:lnTo>
                  <a:pt x="486" y="136"/>
                </a:lnTo>
                <a:lnTo>
                  <a:pt x="489" y="141"/>
                </a:lnTo>
                <a:lnTo>
                  <a:pt x="490" y="141"/>
                </a:lnTo>
                <a:lnTo>
                  <a:pt x="503" y="151"/>
                </a:lnTo>
                <a:lnTo>
                  <a:pt x="518" y="136"/>
                </a:lnTo>
                <a:lnTo>
                  <a:pt x="503" y="151"/>
                </a:lnTo>
                <a:lnTo>
                  <a:pt x="514" y="161"/>
                </a:lnTo>
                <a:lnTo>
                  <a:pt x="514" y="161"/>
                </a:lnTo>
                <a:lnTo>
                  <a:pt x="527" y="170"/>
                </a:lnTo>
                <a:lnTo>
                  <a:pt x="540" y="180"/>
                </a:lnTo>
                <a:lnTo>
                  <a:pt x="552" y="190"/>
                </a:lnTo>
                <a:lnTo>
                  <a:pt x="565" y="199"/>
                </a:lnTo>
                <a:lnTo>
                  <a:pt x="572" y="203"/>
                </a:lnTo>
                <a:lnTo>
                  <a:pt x="580" y="205"/>
                </a:lnTo>
                <a:lnTo>
                  <a:pt x="591" y="205"/>
                </a:lnTo>
                <a:lnTo>
                  <a:pt x="591" y="185"/>
                </a:lnTo>
                <a:lnTo>
                  <a:pt x="583" y="203"/>
                </a:lnTo>
                <a:lnTo>
                  <a:pt x="576" y="199"/>
                </a:lnTo>
                <a:lnTo>
                  <a:pt x="589" y="209"/>
                </a:lnTo>
                <a:lnTo>
                  <a:pt x="601" y="218"/>
                </a:lnTo>
                <a:lnTo>
                  <a:pt x="608" y="222"/>
                </a:lnTo>
                <a:lnTo>
                  <a:pt x="617" y="225"/>
                </a:lnTo>
                <a:lnTo>
                  <a:pt x="629" y="225"/>
                </a:lnTo>
                <a:lnTo>
                  <a:pt x="629" y="204"/>
                </a:lnTo>
                <a:lnTo>
                  <a:pt x="621" y="222"/>
                </a:lnTo>
                <a:lnTo>
                  <a:pt x="614" y="218"/>
                </a:lnTo>
                <a:lnTo>
                  <a:pt x="627" y="228"/>
                </a:lnTo>
                <a:lnTo>
                  <a:pt x="639" y="238"/>
                </a:lnTo>
                <a:lnTo>
                  <a:pt x="652" y="247"/>
                </a:lnTo>
                <a:lnTo>
                  <a:pt x="667" y="233"/>
                </a:lnTo>
                <a:lnTo>
                  <a:pt x="652" y="247"/>
                </a:lnTo>
                <a:lnTo>
                  <a:pt x="663" y="257"/>
                </a:lnTo>
                <a:lnTo>
                  <a:pt x="663" y="257"/>
                </a:lnTo>
                <a:lnTo>
                  <a:pt x="676" y="267"/>
                </a:lnTo>
                <a:lnTo>
                  <a:pt x="707" y="238"/>
                </a:lnTo>
                <a:lnTo>
                  <a:pt x="694" y="228"/>
                </a:lnTo>
                <a:lnTo>
                  <a:pt x="679" y="243"/>
                </a:lnTo>
                <a:lnTo>
                  <a:pt x="695" y="229"/>
                </a:lnTo>
                <a:lnTo>
                  <a:pt x="684" y="220"/>
                </a:lnTo>
                <a:lnTo>
                  <a:pt x="683" y="218"/>
                </a:lnTo>
                <a:lnTo>
                  <a:pt x="670" y="209"/>
                </a:lnTo>
                <a:lnTo>
                  <a:pt x="657" y="199"/>
                </a:lnTo>
                <a:lnTo>
                  <a:pt x="645" y="190"/>
                </a:lnTo>
                <a:lnTo>
                  <a:pt x="638" y="186"/>
                </a:lnTo>
                <a:lnTo>
                  <a:pt x="629" y="185"/>
                </a:lnTo>
                <a:lnTo>
                  <a:pt x="617" y="185"/>
                </a:lnTo>
                <a:lnTo>
                  <a:pt x="625" y="186"/>
                </a:lnTo>
                <a:lnTo>
                  <a:pt x="617" y="204"/>
                </a:lnTo>
                <a:lnTo>
                  <a:pt x="632" y="190"/>
                </a:lnTo>
                <a:lnTo>
                  <a:pt x="620" y="180"/>
                </a:lnTo>
                <a:lnTo>
                  <a:pt x="607" y="170"/>
                </a:lnTo>
                <a:lnTo>
                  <a:pt x="600" y="167"/>
                </a:lnTo>
                <a:lnTo>
                  <a:pt x="591" y="165"/>
                </a:lnTo>
                <a:lnTo>
                  <a:pt x="580" y="165"/>
                </a:lnTo>
                <a:lnTo>
                  <a:pt x="589" y="167"/>
                </a:lnTo>
                <a:lnTo>
                  <a:pt x="580" y="185"/>
                </a:lnTo>
                <a:lnTo>
                  <a:pt x="596" y="170"/>
                </a:lnTo>
                <a:lnTo>
                  <a:pt x="583" y="161"/>
                </a:lnTo>
                <a:lnTo>
                  <a:pt x="570" y="151"/>
                </a:lnTo>
                <a:lnTo>
                  <a:pt x="558" y="141"/>
                </a:lnTo>
                <a:lnTo>
                  <a:pt x="545" y="132"/>
                </a:lnTo>
                <a:lnTo>
                  <a:pt x="530" y="146"/>
                </a:lnTo>
                <a:lnTo>
                  <a:pt x="547" y="133"/>
                </a:lnTo>
                <a:lnTo>
                  <a:pt x="535" y="123"/>
                </a:lnTo>
                <a:lnTo>
                  <a:pt x="534" y="122"/>
                </a:lnTo>
                <a:lnTo>
                  <a:pt x="521" y="112"/>
                </a:lnTo>
                <a:lnTo>
                  <a:pt x="506" y="127"/>
                </a:lnTo>
                <a:lnTo>
                  <a:pt x="525" y="117"/>
                </a:lnTo>
                <a:lnTo>
                  <a:pt x="513" y="98"/>
                </a:lnTo>
                <a:lnTo>
                  <a:pt x="510" y="93"/>
                </a:lnTo>
                <a:lnTo>
                  <a:pt x="510" y="94"/>
                </a:lnTo>
                <a:lnTo>
                  <a:pt x="497" y="83"/>
                </a:lnTo>
                <a:lnTo>
                  <a:pt x="496" y="82"/>
                </a:lnTo>
                <a:lnTo>
                  <a:pt x="483" y="72"/>
                </a:lnTo>
                <a:lnTo>
                  <a:pt x="476" y="69"/>
                </a:lnTo>
                <a:lnTo>
                  <a:pt x="468" y="68"/>
                </a:lnTo>
                <a:lnTo>
                  <a:pt x="457" y="68"/>
                </a:lnTo>
                <a:lnTo>
                  <a:pt x="465" y="69"/>
                </a:lnTo>
                <a:lnTo>
                  <a:pt x="457" y="87"/>
                </a:lnTo>
                <a:lnTo>
                  <a:pt x="472" y="72"/>
                </a:lnTo>
                <a:lnTo>
                  <a:pt x="460" y="63"/>
                </a:lnTo>
                <a:lnTo>
                  <a:pt x="447" y="53"/>
                </a:lnTo>
                <a:lnTo>
                  <a:pt x="434" y="43"/>
                </a:lnTo>
                <a:lnTo>
                  <a:pt x="419" y="58"/>
                </a:lnTo>
                <a:lnTo>
                  <a:pt x="436" y="45"/>
                </a:lnTo>
                <a:lnTo>
                  <a:pt x="424" y="35"/>
                </a:lnTo>
                <a:lnTo>
                  <a:pt x="416" y="30"/>
                </a:lnTo>
                <a:lnTo>
                  <a:pt x="408" y="29"/>
                </a:lnTo>
                <a:lnTo>
                  <a:pt x="395" y="29"/>
                </a:lnTo>
                <a:lnTo>
                  <a:pt x="412" y="34"/>
                </a:lnTo>
                <a:lnTo>
                  <a:pt x="403" y="30"/>
                </a:lnTo>
                <a:lnTo>
                  <a:pt x="395" y="48"/>
                </a:lnTo>
                <a:lnTo>
                  <a:pt x="415" y="39"/>
                </a:lnTo>
                <a:lnTo>
                  <a:pt x="402" y="19"/>
                </a:lnTo>
                <a:lnTo>
                  <a:pt x="399" y="14"/>
                </a:lnTo>
                <a:lnTo>
                  <a:pt x="398" y="14"/>
                </a:lnTo>
                <a:lnTo>
                  <a:pt x="385" y="5"/>
                </a:lnTo>
                <a:lnTo>
                  <a:pt x="378" y="1"/>
                </a:lnTo>
                <a:lnTo>
                  <a:pt x="370" y="0"/>
                </a:lnTo>
                <a:lnTo>
                  <a:pt x="357" y="0"/>
                </a:lnTo>
                <a:lnTo>
                  <a:pt x="346" y="0"/>
                </a:lnTo>
                <a:lnTo>
                  <a:pt x="333" y="0"/>
                </a:lnTo>
                <a:lnTo>
                  <a:pt x="321" y="0"/>
                </a:lnTo>
                <a:lnTo>
                  <a:pt x="321" y="0"/>
                </a:lnTo>
                <a:lnTo>
                  <a:pt x="312" y="1"/>
                </a:lnTo>
                <a:lnTo>
                  <a:pt x="305" y="5"/>
                </a:lnTo>
                <a:lnTo>
                  <a:pt x="292" y="14"/>
                </a:lnTo>
                <a:lnTo>
                  <a:pt x="308" y="10"/>
                </a:lnTo>
                <a:lnTo>
                  <a:pt x="299" y="11"/>
                </a:lnTo>
                <a:lnTo>
                  <a:pt x="308" y="29"/>
                </a:lnTo>
                <a:lnTo>
                  <a:pt x="308" y="10"/>
                </a:lnTo>
                <a:lnTo>
                  <a:pt x="295" y="10"/>
                </a:lnTo>
                <a:lnTo>
                  <a:pt x="284" y="10"/>
                </a:lnTo>
                <a:lnTo>
                  <a:pt x="284" y="10"/>
                </a:lnTo>
                <a:lnTo>
                  <a:pt x="276" y="11"/>
                </a:lnTo>
                <a:lnTo>
                  <a:pt x="269" y="14"/>
                </a:lnTo>
                <a:lnTo>
                  <a:pt x="256" y="24"/>
                </a:lnTo>
                <a:lnTo>
                  <a:pt x="271" y="19"/>
                </a:lnTo>
                <a:lnTo>
                  <a:pt x="263" y="20"/>
                </a:lnTo>
                <a:lnTo>
                  <a:pt x="271" y="39"/>
                </a:lnTo>
                <a:lnTo>
                  <a:pt x="271" y="19"/>
                </a:lnTo>
                <a:lnTo>
                  <a:pt x="259" y="19"/>
                </a:lnTo>
                <a:lnTo>
                  <a:pt x="246" y="19"/>
                </a:lnTo>
                <a:lnTo>
                  <a:pt x="246" y="19"/>
                </a:lnTo>
                <a:lnTo>
                  <a:pt x="238" y="20"/>
                </a:lnTo>
                <a:lnTo>
                  <a:pt x="231" y="25"/>
                </a:lnTo>
                <a:lnTo>
                  <a:pt x="219" y="35"/>
                </a:lnTo>
                <a:lnTo>
                  <a:pt x="235" y="48"/>
                </a:lnTo>
                <a:lnTo>
                  <a:pt x="219" y="34"/>
                </a:lnTo>
                <a:lnTo>
                  <a:pt x="207" y="43"/>
                </a:lnTo>
                <a:lnTo>
                  <a:pt x="222" y="39"/>
                </a:lnTo>
                <a:lnTo>
                  <a:pt x="214" y="40"/>
                </a:lnTo>
                <a:lnTo>
                  <a:pt x="222" y="58"/>
                </a:lnTo>
                <a:lnTo>
                  <a:pt x="222" y="39"/>
                </a:lnTo>
                <a:lnTo>
                  <a:pt x="210" y="39"/>
                </a:lnTo>
                <a:lnTo>
                  <a:pt x="197" y="39"/>
                </a:lnTo>
                <a:lnTo>
                  <a:pt x="197" y="39"/>
                </a:lnTo>
                <a:lnTo>
                  <a:pt x="189" y="40"/>
                </a:lnTo>
                <a:lnTo>
                  <a:pt x="182" y="43"/>
                </a:lnTo>
                <a:lnTo>
                  <a:pt x="169" y="53"/>
                </a:lnTo>
                <a:lnTo>
                  <a:pt x="184" y="48"/>
                </a:lnTo>
                <a:lnTo>
                  <a:pt x="176" y="49"/>
                </a:lnTo>
                <a:lnTo>
                  <a:pt x="184" y="68"/>
                </a:lnTo>
                <a:lnTo>
                  <a:pt x="184" y="48"/>
                </a:lnTo>
                <a:lnTo>
                  <a:pt x="173" y="48"/>
                </a:lnTo>
                <a:lnTo>
                  <a:pt x="173" y="48"/>
                </a:lnTo>
                <a:lnTo>
                  <a:pt x="165" y="49"/>
                </a:lnTo>
                <a:lnTo>
                  <a:pt x="158" y="53"/>
                </a:lnTo>
                <a:lnTo>
                  <a:pt x="145" y="63"/>
                </a:lnTo>
                <a:lnTo>
                  <a:pt x="132" y="72"/>
                </a:lnTo>
                <a:lnTo>
                  <a:pt x="120" y="82"/>
                </a:lnTo>
                <a:lnTo>
                  <a:pt x="118" y="83"/>
                </a:lnTo>
                <a:lnTo>
                  <a:pt x="107" y="94"/>
                </a:lnTo>
                <a:lnTo>
                  <a:pt x="103" y="100"/>
                </a:lnTo>
                <a:lnTo>
                  <a:pt x="102" y="107"/>
                </a:lnTo>
                <a:lnTo>
                  <a:pt x="102" y="107"/>
                </a:lnTo>
                <a:lnTo>
                  <a:pt x="102" y="117"/>
                </a:lnTo>
                <a:lnTo>
                  <a:pt x="107" y="103"/>
                </a:lnTo>
                <a:lnTo>
                  <a:pt x="103" y="110"/>
                </a:lnTo>
                <a:lnTo>
                  <a:pt x="102" y="117"/>
                </a:lnTo>
                <a:lnTo>
                  <a:pt x="124" y="117"/>
                </a:lnTo>
                <a:lnTo>
                  <a:pt x="109" y="103"/>
                </a:lnTo>
                <a:lnTo>
                  <a:pt x="83" y="122"/>
                </a:lnTo>
                <a:lnTo>
                  <a:pt x="71" y="132"/>
                </a:lnTo>
                <a:lnTo>
                  <a:pt x="58" y="141"/>
                </a:lnTo>
                <a:lnTo>
                  <a:pt x="58" y="142"/>
                </a:lnTo>
                <a:lnTo>
                  <a:pt x="47" y="152"/>
                </a:lnTo>
                <a:lnTo>
                  <a:pt x="62" y="146"/>
                </a:lnTo>
                <a:lnTo>
                  <a:pt x="54" y="147"/>
                </a:lnTo>
                <a:lnTo>
                  <a:pt x="62" y="165"/>
                </a:lnTo>
                <a:lnTo>
                  <a:pt x="62" y="146"/>
                </a:lnTo>
                <a:lnTo>
                  <a:pt x="50" y="146"/>
                </a:lnTo>
                <a:lnTo>
                  <a:pt x="58" y="147"/>
                </a:lnTo>
                <a:lnTo>
                  <a:pt x="50" y="165"/>
                </a:lnTo>
                <a:lnTo>
                  <a:pt x="65" y="151"/>
                </a:lnTo>
                <a:lnTo>
                  <a:pt x="52" y="141"/>
                </a:lnTo>
                <a:lnTo>
                  <a:pt x="45" y="138"/>
                </a:lnTo>
                <a:lnTo>
                  <a:pt x="37" y="136"/>
                </a:lnTo>
                <a:lnTo>
                  <a:pt x="29" y="138"/>
                </a:lnTo>
                <a:lnTo>
                  <a:pt x="21" y="141"/>
                </a:lnTo>
                <a:lnTo>
                  <a:pt x="9" y="151"/>
                </a:lnTo>
                <a:lnTo>
                  <a:pt x="24" y="146"/>
                </a:lnTo>
                <a:lnTo>
                  <a:pt x="16" y="147"/>
                </a:lnTo>
                <a:lnTo>
                  <a:pt x="24" y="165"/>
                </a:lnTo>
                <a:lnTo>
                  <a:pt x="24" y="146"/>
                </a:lnTo>
                <a:lnTo>
                  <a:pt x="12" y="146"/>
                </a:lnTo>
                <a:lnTo>
                  <a:pt x="0" y="146"/>
                </a:ln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55600" y="219240"/>
            <a:ext cx="8497800" cy="2292120"/>
          </a:xfrm>
          <a:prstGeom prst="rect">
            <a:avLst/>
          </a:prstGeom>
          <a:noFill/>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255600" y="219240"/>
            <a:ext cx="84963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9" name=""/>
          <p:cNvSpPr/>
          <p:nvPr/>
        </p:nvSpPr>
        <p:spPr>
          <a:xfrm>
            <a:off x="255600" y="2508120"/>
            <a:ext cx="849636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0" name=""/>
          <p:cNvSpPr/>
          <p:nvPr/>
        </p:nvSpPr>
        <p:spPr>
          <a:xfrm flipV="1">
            <a:off x="8751960" y="219240"/>
            <a:ext cx="1440" cy="2288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flipV="1">
            <a:off x="255600" y="219240"/>
            <a:ext cx="1440" cy="2288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255600" y="2508120"/>
            <a:ext cx="849636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3" name=""/>
          <p:cNvSpPr/>
          <p:nvPr/>
        </p:nvSpPr>
        <p:spPr>
          <a:xfrm flipV="1">
            <a:off x="255600" y="219240"/>
            <a:ext cx="1440" cy="2288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flipV="1">
            <a:off x="255600" y="2423880"/>
            <a:ext cx="1440" cy="8388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5" name=""/>
          <p:cNvSpPr/>
          <p:nvPr/>
        </p:nvSpPr>
        <p:spPr>
          <a:xfrm>
            <a:off x="255600" y="219240"/>
            <a:ext cx="1440" cy="66600"/>
          </a:xfrm>
          <a:prstGeom prst="line">
            <a:avLst/>
          </a:prstGeom>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86" name=""/>
          <p:cNvSpPr/>
          <p:nvPr/>
        </p:nvSpPr>
        <p:spPr>
          <a:xfrm>
            <a:off x="195120" y="2558880"/>
            <a:ext cx="258840" cy="2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259560" y="256212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a:t>
            </a:r>
            <a:endParaRPr b="0" lang="en-US" sz="1500" spc="-1" strike="noStrike">
              <a:solidFill>
                <a:srgbClr val="000000"/>
              </a:solidFill>
              <a:latin typeface="Times New Roman"/>
            </a:endParaRPr>
          </a:p>
        </p:txBody>
      </p:sp>
      <p:sp>
        <p:nvSpPr>
          <p:cNvPr id="2688" name=""/>
          <p:cNvSpPr/>
          <p:nvPr/>
        </p:nvSpPr>
        <p:spPr>
          <a:xfrm>
            <a:off x="420480" y="2389320"/>
            <a:ext cx="96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689" name=""/>
          <p:cNvSpPr/>
          <p:nvPr/>
        </p:nvSpPr>
        <p:spPr>
          <a:xfrm flipV="1">
            <a:off x="1095480" y="2423880"/>
            <a:ext cx="1440" cy="8388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1095480" y="219240"/>
            <a:ext cx="1440" cy="66600"/>
          </a:xfrm>
          <a:prstGeom prst="line">
            <a:avLst/>
          </a:prstGeom>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1" name=""/>
          <p:cNvSpPr/>
          <p:nvPr/>
        </p:nvSpPr>
        <p:spPr>
          <a:xfrm>
            <a:off x="900000" y="2558880"/>
            <a:ext cx="549360" cy="2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988920" y="256212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Times New Roman"/>
            </a:endParaRPr>
          </a:p>
        </p:txBody>
      </p:sp>
      <p:sp>
        <p:nvSpPr>
          <p:cNvPr id="2693" name=""/>
          <p:cNvSpPr/>
          <p:nvPr/>
        </p:nvSpPr>
        <p:spPr>
          <a:xfrm>
            <a:off x="1373040" y="2389320"/>
            <a:ext cx="96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694" name=""/>
          <p:cNvSpPr/>
          <p:nvPr/>
        </p:nvSpPr>
        <p:spPr>
          <a:xfrm flipV="1">
            <a:off x="1938240" y="2423880"/>
            <a:ext cx="1800" cy="8388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1938240" y="219240"/>
            <a:ext cx="1800" cy="66600"/>
          </a:xfrm>
          <a:prstGeom prst="line">
            <a:avLst/>
          </a:prstGeom>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6" name=""/>
          <p:cNvSpPr/>
          <p:nvPr/>
        </p:nvSpPr>
        <p:spPr>
          <a:xfrm>
            <a:off x="1741320" y="2558880"/>
            <a:ext cx="551160" cy="2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1830240" y="256212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a:t>
            </a:r>
            <a:endParaRPr b="0" lang="en-US" sz="1500" spc="-1" strike="noStrike">
              <a:solidFill>
                <a:srgbClr val="000000"/>
              </a:solidFill>
              <a:latin typeface="Times New Roman"/>
            </a:endParaRPr>
          </a:p>
        </p:txBody>
      </p:sp>
      <p:sp>
        <p:nvSpPr>
          <p:cNvPr id="2698" name=""/>
          <p:cNvSpPr/>
          <p:nvPr/>
        </p:nvSpPr>
        <p:spPr>
          <a:xfrm>
            <a:off x="2216160" y="2389320"/>
            <a:ext cx="96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699" name=""/>
          <p:cNvSpPr/>
          <p:nvPr/>
        </p:nvSpPr>
        <p:spPr>
          <a:xfrm flipV="1">
            <a:off x="2800440" y="2423880"/>
            <a:ext cx="1440" cy="8388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2800440" y="219240"/>
            <a:ext cx="1440" cy="66600"/>
          </a:xfrm>
          <a:prstGeom prst="line">
            <a:avLst/>
          </a:prstGeom>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1" name=""/>
          <p:cNvSpPr/>
          <p:nvPr/>
        </p:nvSpPr>
        <p:spPr>
          <a:xfrm>
            <a:off x="2602080" y="2558880"/>
            <a:ext cx="550800" cy="2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2666520" y="256212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p:txBody>
      </p:sp>
      <p:sp>
        <p:nvSpPr>
          <p:cNvPr id="2703" name=""/>
          <p:cNvSpPr/>
          <p:nvPr/>
        </p:nvSpPr>
        <p:spPr>
          <a:xfrm>
            <a:off x="2804400" y="2562120"/>
            <a:ext cx="214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a:t>
            </a:r>
            <a:endParaRPr b="0" lang="en-US" sz="1500" spc="-1" strike="noStrike">
              <a:solidFill>
                <a:srgbClr val="000000"/>
              </a:solidFill>
              <a:latin typeface="Times New Roman"/>
            </a:endParaRPr>
          </a:p>
        </p:txBody>
      </p:sp>
      <p:sp>
        <p:nvSpPr>
          <p:cNvPr id="2704" name=""/>
          <p:cNvSpPr/>
          <p:nvPr/>
        </p:nvSpPr>
        <p:spPr>
          <a:xfrm>
            <a:off x="3076560" y="2389320"/>
            <a:ext cx="96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05" name=""/>
          <p:cNvSpPr/>
          <p:nvPr/>
        </p:nvSpPr>
        <p:spPr>
          <a:xfrm flipV="1">
            <a:off x="3639960" y="2423880"/>
            <a:ext cx="1800" cy="8388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6" name=""/>
          <p:cNvSpPr/>
          <p:nvPr/>
        </p:nvSpPr>
        <p:spPr>
          <a:xfrm>
            <a:off x="3639960" y="219240"/>
            <a:ext cx="1800" cy="66600"/>
          </a:xfrm>
          <a:prstGeom prst="line">
            <a:avLst/>
          </a:prstGeom>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7" name=""/>
          <p:cNvSpPr/>
          <p:nvPr/>
        </p:nvSpPr>
        <p:spPr>
          <a:xfrm>
            <a:off x="3444840" y="2558880"/>
            <a:ext cx="550800" cy="2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3533760" y="256212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00</a:t>
            </a:r>
            <a:endParaRPr b="0" lang="en-US" sz="1500" spc="-1" strike="noStrike">
              <a:solidFill>
                <a:srgbClr val="000000"/>
              </a:solidFill>
              <a:latin typeface="Times New Roman"/>
            </a:endParaRPr>
          </a:p>
        </p:txBody>
      </p:sp>
      <p:sp>
        <p:nvSpPr>
          <p:cNvPr id="2709" name=""/>
          <p:cNvSpPr/>
          <p:nvPr/>
        </p:nvSpPr>
        <p:spPr>
          <a:xfrm>
            <a:off x="3919320" y="2389320"/>
            <a:ext cx="96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10" name=""/>
          <p:cNvSpPr/>
          <p:nvPr/>
        </p:nvSpPr>
        <p:spPr>
          <a:xfrm flipV="1">
            <a:off x="4503600" y="2423880"/>
            <a:ext cx="1800" cy="8388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1" name=""/>
          <p:cNvSpPr/>
          <p:nvPr/>
        </p:nvSpPr>
        <p:spPr>
          <a:xfrm>
            <a:off x="4503600" y="219240"/>
            <a:ext cx="1800" cy="66600"/>
          </a:xfrm>
          <a:prstGeom prst="line">
            <a:avLst/>
          </a:prstGeom>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2" name=""/>
          <p:cNvSpPr/>
          <p:nvPr/>
        </p:nvSpPr>
        <p:spPr>
          <a:xfrm>
            <a:off x="4307040" y="2558880"/>
            <a:ext cx="550800" cy="2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4395600" y="256212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a:t>
            </a:r>
            <a:endParaRPr b="0" lang="en-US" sz="1500" spc="-1" strike="noStrike">
              <a:solidFill>
                <a:srgbClr val="000000"/>
              </a:solidFill>
              <a:latin typeface="Times New Roman"/>
            </a:endParaRPr>
          </a:p>
        </p:txBody>
      </p:sp>
      <p:sp>
        <p:nvSpPr>
          <p:cNvPr id="2714" name=""/>
          <p:cNvSpPr/>
          <p:nvPr/>
        </p:nvSpPr>
        <p:spPr>
          <a:xfrm>
            <a:off x="4781520" y="2389320"/>
            <a:ext cx="96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15" name=""/>
          <p:cNvSpPr/>
          <p:nvPr/>
        </p:nvSpPr>
        <p:spPr>
          <a:xfrm flipV="1">
            <a:off x="5343480" y="2423880"/>
            <a:ext cx="1800" cy="8388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6" name=""/>
          <p:cNvSpPr/>
          <p:nvPr/>
        </p:nvSpPr>
        <p:spPr>
          <a:xfrm>
            <a:off x="5343480" y="219240"/>
            <a:ext cx="1800" cy="66600"/>
          </a:xfrm>
          <a:prstGeom prst="line">
            <a:avLst/>
          </a:prstGeom>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7" name=""/>
          <p:cNvSpPr/>
          <p:nvPr/>
        </p:nvSpPr>
        <p:spPr>
          <a:xfrm>
            <a:off x="5149800" y="2558880"/>
            <a:ext cx="550800" cy="2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5238720" y="256212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00</a:t>
            </a:r>
            <a:endParaRPr b="0" lang="en-US" sz="1500" spc="-1" strike="noStrike">
              <a:solidFill>
                <a:srgbClr val="000000"/>
              </a:solidFill>
              <a:latin typeface="Times New Roman"/>
            </a:endParaRPr>
          </a:p>
        </p:txBody>
      </p:sp>
      <p:sp>
        <p:nvSpPr>
          <p:cNvPr id="2719" name=""/>
          <p:cNvSpPr/>
          <p:nvPr/>
        </p:nvSpPr>
        <p:spPr>
          <a:xfrm>
            <a:off x="5624280" y="2389320"/>
            <a:ext cx="96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20" name=""/>
          <p:cNvSpPr/>
          <p:nvPr/>
        </p:nvSpPr>
        <p:spPr>
          <a:xfrm flipV="1">
            <a:off x="6186600" y="2423880"/>
            <a:ext cx="1440" cy="8388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1" name=""/>
          <p:cNvSpPr/>
          <p:nvPr/>
        </p:nvSpPr>
        <p:spPr>
          <a:xfrm>
            <a:off x="6186600" y="219240"/>
            <a:ext cx="1440" cy="66600"/>
          </a:xfrm>
          <a:prstGeom prst="line">
            <a:avLst/>
          </a:prstGeom>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2" name=""/>
          <p:cNvSpPr/>
          <p:nvPr/>
        </p:nvSpPr>
        <p:spPr>
          <a:xfrm>
            <a:off x="5989680" y="2558880"/>
            <a:ext cx="550800" cy="2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6066720" y="2562120"/>
            <a:ext cx="214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0</a:t>
            </a:r>
            <a:endParaRPr b="0" lang="en-US" sz="1500" spc="-1" strike="noStrike">
              <a:solidFill>
                <a:srgbClr val="000000"/>
              </a:solidFill>
              <a:latin typeface="Times New Roman"/>
            </a:endParaRPr>
          </a:p>
        </p:txBody>
      </p:sp>
      <p:sp>
        <p:nvSpPr>
          <p:cNvPr id="2724" name=""/>
          <p:cNvSpPr/>
          <p:nvPr/>
        </p:nvSpPr>
        <p:spPr>
          <a:xfrm>
            <a:off x="6303240" y="256212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a:t>
            </a:r>
            <a:endParaRPr b="0" lang="en-US" sz="1500" spc="-1" strike="noStrike">
              <a:solidFill>
                <a:srgbClr val="000000"/>
              </a:solidFill>
              <a:latin typeface="Times New Roman"/>
            </a:endParaRPr>
          </a:p>
        </p:txBody>
      </p:sp>
      <p:sp>
        <p:nvSpPr>
          <p:cNvPr id="2725" name=""/>
          <p:cNvSpPr/>
          <p:nvPr/>
        </p:nvSpPr>
        <p:spPr>
          <a:xfrm>
            <a:off x="6464160" y="2389320"/>
            <a:ext cx="96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26" name=""/>
          <p:cNvSpPr/>
          <p:nvPr/>
        </p:nvSpPr>
        <p:spPr>
          <a:xfrm flipV="1">
            <a:off x="7047000" y="2423880"/>
            <a:ext cx="1440" cy="8388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7" name=""/>
          <p:cNvSpPr/>
          <p:nvPr/>
        </p:nvSpPr>
        <p:spPr>
          <a:xfrm>
            <a:off x="7047000" y="219240"/>
            <a:ext cx="1440" cy="66600"/>
          </a:xfrm>
          <a:prstGeom prst="line">
            <a:avLst/>
          </a:prstGeom>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8" name=""/>
          <p:cNvSpPr/>
          <p:nvPr/>
        </p:nvSpPr>
        <p:spPr>
          <a:xfrm>
            <a:off x="6851520" y="2558880"/>
            <a:ext cx="551160" cy="2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6940440" y="256212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00</a:t>
            </a:r>
            <a:endParaRPr b="0" lang="en-US" sz="1500" spc="-1" strike="noStrike">
              <a:solidFill>
                <a:srgbClr val="000000"/>
              </a:solidFill>
              <a:latin typeface="Times New Roman"/>
            </a:endParaRPr>
          </a:p>
        </p:txBody>
      </p:sp>
      <p:sp>
        <p:nvSpPr>
          <p:cNvPr id="2730" name=""/>
          <p:cNvSpPr/>
          <p:nvPr/>
        </p:nvSpPr>
        <p:spPr>
          <a:xfrm>
            <a:off x="7326360" y="2389320"/>
            <a:ext cx="96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31" name=""/>
          <p:cNvSpPr/>
          <p:nvPr/>
        </p:nvSpPr>
        <p:spPr>
          <a:xfrm flipV="1">
            <a:off x="7888320" y="2423880"/>
            <a:ext cx="3240" cy="8388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32" name=""/>
          <p:cNvSpPr/>
          <p:nvPr/>
        </p:nvSpPr>
        <p:spPr>
          <a:xfrm>
            <a:off x="7888320" y="219240"/>
            <a:ext cx="3240" cy="66600"/>
          </a:xfrm>
          <a:prstGeom prst="line">
            <a:avLst/>
          </a:prstGeom>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3" name=""/>
          <p:cNvSpPr/>
          <p:nvPr/>
        </p:nvSpPr>
        <p:spPr>
          <a:xfrm>
            <a:off x="7694640" y="2558880"/>
            <a:ext cx="547560" cy="2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7783560" y="256212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00</a:t>
            </a:r>
            <a:endParaRPr b="0" lang="en-US" sz="1500" spc="-1" strike="noStrike">
              <a:solidFill>
                <a:srgbClr val="000000"/>
              </a:solidFill>
              <a:latin typeface="Times New Roman"/>
            </a:endParaRPr>
          </a:p>
        </p:txBody>
      </p:sp>
      <p:sp>
        <p:nvSpPr>
          <p:cNvPr id="2735" name=""/>
          <p:cNvSpPr/>
          <p:nvPr/>
        </p:nvSpPr>
        <p:spPr>
          <a:xfrm>
            <a:off x="8127000" y="256212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736" name=""/>
          <p:cNvSpPr/>
          <p:nvPr/>
        </p:nvSpPr>
        <p:spPr>
          <a:xfrm flipV="1">
            <a:off x="8751960" y="2423880"/>
            <a:ext cx="1440" cy="8388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37" name=""/>
          <p:cNvSpPr/>
          <p:nvPr/>
        </p:nvSpPr>
        <p:spPr>
          <a:xfrm>
            <a:off x="8751960" y="219240"/>
            <a:ext cx="1440" cy="66600"/>
          </a:xfrm>
          <a:prstGeom prst="line">
            <a:avLst/>
          </a:prstGeom>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8" name=""/>
          <p:cNvSpPr/>
          <p:nvPr/>
        </p:nvSpPr>
        <p:spPr>
          <a:xfrm>
            <a:off x="8345520" y="2558880"/>
            <a:ext cx="547560" cy="2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8434440" y="256212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Times New Roman"/>
            </a:endParaRPr>
          </a:p>
        </p:txBody>
      </p:sp>
      <p:sp>
        <p:nvSpPr>
          <p:cNvPr id="2740" name=""/>
          <p:cNvSpPr/>
          <p:nvPr/>
        </p:nvSpPr>
        <p:spPr>
          <a:xfrm>
            <a:off x="8781480" y="256212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a:t>
            </a:r>
            <a:endParaRPr b="0" lang="en-US" sz="1500" spc="-1" strike="noStrike">
              <a:solidFill>
                <a:srgbClr val="000000"/>
              </a:solidFill>
              <a:latin typeface="Times New Roman"/>
            </a:endParaRPr>
          </a:p>
        </p:txBody>
      </p:sp>
      <p:sp>
        <p:nvSpPr>
          <p:cNvPr id="2741" name=""/>
          <p:cNvSpPr/>
          <p:nvPr/>
        </p:nvSpPr>
        <p:spPr>
          <a:xfrm>
            <a:off x="8900280" y="256212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742" name=""/>
          <p:cNvSpPr/>
          <p:nvPr/>
        </p:nvSpPr>
        <p:spPr>
          <a:xfrm>
            <a:off x="255600" y="2508120"/>
            <a:ext cx="7776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43" name=""/>
          <p:cNvSpPr/>
          <p:nvPr/>
        </p:nvSpPr>
        <p:spPr>
          <a:xfrm flipH="1">
            <a:off x="8650440" y="2508120"/>
            <a:ext cx="1015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44" name=""/>
          <p:cNvSpPr/>
          <p:nvPr/>
        </p:nvSpPr>
        <p:spPr>
          <a:xfrm>
            <a:off x="255600" y="1363680"/>
            <a:ext cx="77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5" name=""/>
          <p:cNvSpPr/>
          <p:nvPr/>
        </p:nvSpPr>
        <p:spPr>
          <a:xfrm flipH="1">
            <a:off x="8650440" y="1363680"/>
            <a:ext cx="1015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6" name=""/>
          <p:cNvSpPr/>
          <p:nvPr/>
        </p:nvSpPr>
        <p:spPr>
          <a:xfrm>
            <a:off x="255600" y="219240"/>
            <a:ext cx="77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7" name=""/>
          <p:cNvSpPr/>
          <p:nvPr/>
        </p:nvSpPr>
        <p:spPr>
          <a:xfrm flipH="1">
            <a:off x="8650440" y="219240"/>
            <a:ext cx="1015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8" name=""/>
          <p:cNvSpPr/>
          <p:nvPr/>
        </p:nvSpPr>
        <p:spPr>
          <a:xfrm>
            <a:off x="255600" y="219240"/>
            <a:ext cx="84963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9" name=""/>
          <p:cNvSpPr/>
          <p:nvPr/>
        </p:nvSpPr>
        <p:spPr>
          <a:xfrm>
            <a:off x="255600" y="2508120"/>
            <a:ext cx="849636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50" name=""/>
          <p:cNvSpPr/>
          <p:nvPr/>
        </p:nvSpPr>
        <p:spPr>
          <a:xfrm flipV="1">
            <a:off x="8751960" y="219240"/>
            <a:ext cx="1440" cy="2288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flipV="1">
            <a:off x="255600" y="219240"/>
            <a:ext cx="1440" cy="2288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255600" y="1252440"/>
            <a:ext cx="2131920" cy="1106640"/>
          </a:xfrm>
          <a:custGeom>
            <a:avLst/>
            <a:gdLst/>
            <a:ahLst/>
            <a:rect l="l" t="t" r="r" b="b"/>
            <a:pathLst>
              <a:path w="1343" h="697">
                <a:moveTo>
                  <a:pt x="0" y="697"/>
                </a:moveTo>
                <a:lnTo>
                  <a:pt x="13" y="687"/>
                </a:lnTo>
                <a:lnTo>
                  <a:pt x="25" y="678"/>
                </a:lnTo>
                <a:lnTo>
                  <a:pt x="36" y="658"/>
                </a:lnTo>
                <a:lnTo>
                  <a:pt x="36" y="629"/>
                </a:lnTo>
                <a:lnTo>
                  <a:pt x="49" y="639"/>
                </a:lnTo>
                <a:lnTo>
                  <a:pt x="49" y="649"/>
                </a:lnTo>
                <a:lnTo>
                  <a:pt x="62" y="658"/>
                </a:lnTo>
                <a:lnTo>
                  <a:pt x="62" y="668"/>
                </a:lnTo>
                <a:lnTo>
                  <a:pt x="86" y="649"/>
                </a:lnTo>
                <a:lnTo>
                  <a:pt x="86" y="639"/>
                </a:lnTo>
                <a:lnTo>
                  <a:pt x="98" y="629"/>
                </a:lnTo>
                <a:lnTo>
                  <a:pt x="111" y="629"/>
                </a:lnTo>
                <a:lnTo>
                  <a:pt x="123" y="639"/>
                </a:lnTo>
                <a:lnTo>
                  <a:pt x="136" y="639"/>
                </a:lnTo>
                <a:lnTo>
                  <a:pt x="147" y="639"/>
                </a:lnTo>
                <a:lnTo>
                  <a:pt x="160" y="629"/>
                </a:lnTo>
                <a:lnTo>
                  <a:pt x="173" y="639"/>
                </a:lnTo>
                <a:lnTo>
                  <a:pt x="198" y="639"/>
                </a:lnTo>
                <a:lnTo>
                  <a:pt x="185" y="639"/>
                </a:lnTo>
                <a:lnTo>
                  <a:pt x="198" y="620"/>
                </a:lnTo>
                <a:lnTo>
                  <a:pt x="209" y="600"/>
                </a:lnTo>
                <a:lnTo>
                  <a:pt x="209" y="562"/>
                </a:lnTo>
                <a:lnTo>
                  <a:pt x="222" y="523"/>
                </a:lnTo>
                <a:lnTo>
                  <a:pt x="222" y="494"/>
                </a:lnTo>
                <a:lnTo>
                  <a:pt x="234" y="475"/>
                </a:lnTo>
                <a:lnTo>
                  <a:pt x="234" y="417"/>
                </a:lnTo>
                <a:lnTo>
                  <a:pt x="247" y="388"/>
                </a:lnTo>
                <a:lnTo>
                  <a:pt x="247" y="369"/>
                </a:lnTo>
                <a:lnTo>
                  <a:pt x="258" y="340"/>
                </a:lnTo>
                <a:lnTo>
                  <a:pt x="258" y="320"/>
                </a:lnTo>
                <a:lnTo>
                  <a:pt x="271" y="301"/>
                </a:lnTo>
                <a:lnTo>
                  <a:pt x="271" y="282"/>
                </a:lnTo>
                <a:lnTo>
                  <a:pt x="283" y="262"/>
                </a:lnTo>
                <a:lnTo>
                  <a:pt x="283" y="243"/>
                </a:lnTo>
                <a:lnTo>
                  <a:pt x="296" y="233"/>
                </a:lnTo>
                <a:lnTo>
                  <a:pt x="309" y="233"/>
                </a:lnTo>
                <a:lnTo>
                  <a:pt x="320" y="243"/>
                </a:lnTo>
                <a:lnTo>
                  <a:pt x="333" y="262"/>
                </a:lnTo>
                <a:lnTo>
                  <a:pt x="333" y="282"/>
                </a:lnTo>
                <a:lnTo>
                  <a:pt x="345" y="291"/>
                </a:lnTo>
                <a:lnTo>
                  <a:pt x="358" y="282"/>
                </a:lnTo>
                <a:lnTo>
                  <a:pt x="371" y="272"/>
                </a:lnTo>
                <a:lnTo>
                  <a:pt x="371" y="262"/>
                </a:lnTo>
                <a:lnTo>
                  <a:pt x="382" y="253"/>
                </a:lnTo>
                <a:lnTo>
                  <a:pt x="407" y="243"/>
                </a:lnTo>
                <a:lnTo>
                  <a:pt x="420" y="243"/>
                </a:lnTo>
                <a:lnTo>
                  <a:pt x="431" y="233"/>
                </a:lnTo>
                <a:lnTo>
                  <a:pt x="444" y="224"/>
                </a:lnTo>
                <a:lnTo>
                  <a:pt x="456" y="224"/>
                </a:lnTo>
                <a:lnTo>
                  <a:pt x="469" y="214"/>
                </a:lnTo>
                <a:lnTo>
                  <a:pt x="481" y="214"/>
                </a:lnTo>
                <a:lnTo>
                  <a:pt x="493" y="204"/>
                </a:lnTo>
                <a:lnTo>
                  <a:pt x="505" y="195"/>
                </a:lnTo>
                <a:lnTo>
                  <a:pt x="518" y="185"/>
                </a:lnTo>
                <a:lnTo>
                  <a:pt x="531" y="185"/>
                </a:lnTo>
                <a:lnTo>
                  <a:pt x="543" y="174"/>
                </a:lnTo>
                <a:lnTo>
                  <a:pt x="554" y="164"/>
                </a:lnTo>
                <a:lnTo>
                  <a:pt x="567" y="164"/>
                </a:lnTo>
                <a:lnTo>
                  <a:pt x="580" y="155"/>
                </a:lnTo>
                <a:lnTo>
                  <a:pt x="592" y="145"/>
                </a:lnTo>
                <a:lnTo>
                  <a:pt x="604" y="145"/>
                </a:lnTo>
                <a:lnTo>
                  <a:pt x="616" y="135"/>
                </a:lnTo>
                <a:lnTo>
                  <a:pt x="629" y="126"/>
                </a:lnTo>
                <a:lnTo>
                  <a:pt x="641" y="116"/>
                </a:lnTo>
                <a:lnTo>
                  <a:pt x="654" y="116"/>
                </a:lnTo>
                <a:lnTo>
                  <a:pt x="665" y="116"/>
                </a:lnTo>
                <a:lnTo>
                  <a:pt x="678" y="106"/>
                </a:lnTo>
                <a:lnTo>
                  <a:pt x="691" y="97"/>
                </a:lnTo>
                <a:lnTo>
                  <a:pt x="703" y="87"/>
                </a:lnTo>
                <a:lnTo>
                  <a:pt x="714" y="87"/>
                </a:lnTo>
                <a:lnTo>
                  <a:pt x="727" y="78"/>
                </a:lnTo>
                <a:lnTo>
                  <a:pt x="740" y="78"/>
                </a:lnTo>
                <a:lnTo>
                  <a:pt x="752" y="78"/>
                </a:lnTo>
                <a:lnTo>
                  <a:pt x="776" y="78"/>
                </a:lnTo>
                <a:lnTo>
                  <a:pt x="776" y="29"/>
                </a:lnTo>
                <a:lnTo>
                  <a:pt x="789" y="20"/>
                </a:lnTo>
                <a:lnTo>
                  <a:pt x="802" y="10"/>
                </a:lnTo>
                <a:lnTo>
                  <a:pt x="814" y="10"/>
                </a:lnTo>
                <a:lnTo>
                  <a:pt x="827" y="0"/>
                </a:lnTo>
                <a:lnTo>
                  <a:pt x="838" y="10"/>
                </a:lnTo>
                <a:lnTo>
                  <a:pt x="851" y="20"/>
                </a:lnTo>
                <a:lnTo>
                  <a:pt x="863" y="20"/>
                </a:lnTo>
                <a:lnTo>
                  <a:pt x="876" y="20"/>
                </a:lnTo>
                <a:lnTo>
                  <a:pt x="887" y="20"/>
                </a:lnTo>
                <a:lnTo>
                  <a:pt x="900" y="29"/>
                </a:lnTo>
                <a:lnTo>
                  <a:pt x="912" y="29"/>
                </a:lnTo>
                <a:lnTo>
                  <a:pt x="925" y="39"/>
                </a:lnTo>
                <a:lnTo>
                  <a:pt x="938" y="49"/>
                </a:lnTo>
                <a:lnTo>
                  <a:pt x="949" y="58"/>
                </a:lnTo>
                <a:lnTo>
                  <a:pt x="962" y="68"/>
                </a:lnTo>
                <a:lnTo>
                  <a:pt x="974" y="68"/>
                </a:lnTo>
                <a:lnTo>
                  <a:pt x="987" y="78"/>
                </a:lnTo>
                <a:lnTo>
                  <a:pt x="999" y="87"/>
                </a:lnTo>
                <a:lnTo>
                  <a:pt x="1011" y="87"/>
                </a:lnTo>
                <a:lnTo>
                  <a:pt x="1023" y="97"/>
                </a:lnTo>
                <a:lnTo>
                  <a:pt x="1036" y="106"/>
                </a:lnTo>
                <a:lnTo>
                  <a:pt x="1049" y="106"/>
                </a:lnTo>
                <a:lnTo>
                  <a:pt x="1060" y="116"/>
                </a:lnTo>
                <a:lnTo>
                  <a:pt x="1072" y="116"/>
                </a:lnTo>
                <a:lnTo>
                  <a:pt x="1085" y="116"/>
                </a:lnTo>
                <a:lnTo>
                  <a:pt x="1098" y="126"/>
                </a:lnTo>
                <a:lnTo>
                  <a:pt x="1110" y="126"/>
                </a:lnTo>
                <a:lnTo>
                  <a:pt x="1122" y="135"/>
                </a:lnTo>
                <a:lnTo>
                  <a:pt x="1134" y="145"/>
                </a:lnTo>
                <a:lnTo>
                  <a:pt x="1147" y="145"/>
                </a:lnTo>
                <a:lnTo>
                  <a:pt x="1160" y="145"/>
                </a:lnTo>
                <a:lnTo>
                  <a:pt x="1172" y="155"/>
                </a:lnTo>
                <a:lnTo>
                  <a:pt x="1172" y="164"/>
                </a:lnTo>
                <a:lnTo>
                  <a:pt x="1183" y="174"/>
                </a:lnTo>
                <a:lnTo>
                  <a:pt x="1183" y="185"/>
                </a:lnTo>
                <a:lnTo>
                  <a:pt x="1196" y="195"/>
                </a:lnTo>
                <a:lnTo>
                  <a:pt x="1209" y="204"/>
                </a:lnTo>
                <a:lnTo>
                  <a:pt x="1209" y="224"/>
                </a:lnTo>
                <a:lnTo>
                  <a:pt x="1221" y="233"/>
                </a:lnTo>
                <a:lnTo>
                  <a:pt x="1233" y="243"/>
                </a:lnTo>
                <a:lnTo>
                  <a:pt x="1258" y="262"/>
                </a:lnTo>
                <a:lnTo>
                  <a:pt x="1245" y="262"/>
                </a:lnTo>
                <a:lnTo>
                  <a:pt x="1258" y="262"/>
                </a:lnTo>
                <a:lnTo>
                  <a:pt x="1283" y="262"/>
                </a:lnTo>
                <a:lnTo>
                  <a:pt x="1270" y="262"/>
                </a:lnTo>
                <a:lnTo>
                  <a:pt x="1283" y="262"/>
                </a:lnTo>
                <a:lnTo>
                  <a:pt x="1307" y="282"/>
                </a:lnTo>
                <a:lnTo>
                  <a:pt x="1294" y="282"/>
                </a:lnTo>
                <a:lnTo>
                  <a:pt x="1307" y="282"/>
                </a:lnTo>
                <a:lnTo>
                  <a:pt x="1320" y="291"/>
                </a:lnTo>
                <a:lnTo>
                  <a:pt x="1332" y="301"/>
                </a:lnTo>
                <a:lnTo>
                  <a:pt x="1343" y="311"/>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2387520" y="1252440"/>
            <a:ext cx="2292480" cy="1122480"/>
          </a:xfrm>
          <a:custGeom>
            <a:avLst/>
            <a:gdLst/>
            <a:ahLst/>
            <a:rect l="l" t="t" r="r" b="b"/>
            <a:pathLst>
              <a:path w="1444" h="707">
                <a:moveTo>
                  <a:pt x="0" y="311"/>
                </a:moveTo>
                <a:lnTo>
                  <a:pt x="13" y="320"/>
                </a:lnTo>
                <a:lnTo>
                  <a:pt x="26" y="330"/>
                </a:lnTo>
                <a:lnTo>
                  <a:pt x="38" y="340"/>
                </a:lnTo>
                <a:lnTo>
                  <a:pt x="51" y="349"/>
                </a:lnTo>
                <a:lnTo>
                  <a:pt x="62" y="349"/>
                </a:lnTo>
                <a:lnTo>
                  <a:pt x="75" y="349"/>
                </a:lnTo>
                <a:lnTo>
                  <a:pt x="87" y="349"/>
                </a:lnTo>
                <a:lnTo>
                  <a:pt x="100" y="349"/>
                </a:lnTo>
                <a:lnTo>
                  <a:pt x="111" y="340"/>
                </a:lnTo>
                <a:lnTo>
                  <a:pt x="124" y="340"/>
                </a:lnTo>
                <a:lnTo>
                  <a:pt x="137" y="340"/>
                </a:lnTo>
                <a:lnTo>
                  <a:pt x="149" y="340"/>
                </a:lnTo>
                <a:lnTo>
                  <a:pt x="162" y="340"/>
                </a:lnTo>
                <a:lnTo>
                  <a:pt x="173" y="330"/>
                </a:lnTo>
                <a:lnTo>
                  <a:pt x="186" y="320"/>
                </a:lnTo>
                <a:lnTo>
                  <a:pt x="198" y="311"/>
                </a:lnTo>
                <a:lnTo>
                  <a:pt x="211" y="301"/>
                </a:lnTo>
                <a:lnTo>
                  <a:pt x="222" y="291"/>
                </a:lnTo>
                <a:lnTo>
                  <a:pt x="235" y="282"/>
                </a:lnTo>
                <a:lnTo>
                  <a:pt x="235" y="272"/>
                </a:lnTo>
                <a:lnTo>
                  <a:pt x="248" y="262"/>
                </a:lnTo>
                <a:lnTo>
                  <a:pt x="260" y="253"/>
                </a:lnTo>
                <a:lnTo>
                  <a:pt x="273" y="243"/>
                </a:lnTo>
                <a:lnTo>
                  <a:pt x="273" y="233"/>
                </a:lnTo>
                <a:lnTo>
                  <a:pt x="297" y="214"/>
                </a:lnTo>
                <a:lnTo>
                  <a:pt x="297" y="204"/>
                </a:lnTo>
                <a:lnTo>
                  <a:pt x="309" y="195"/>
                </a:lnTo>
                <a:lnTo>
                  <a:pt x="322" y="185"/>
                </a:lnTo>
                <a:lnTo>
                  <a:pt x="333" y="175"/>
                </a:lnTo>
                <a:lnTo>
                  <a:pt x="346" y="166"/>
                </a:lnTo>
                <a:lnTo>
                  <a:pt x="371" y="146"/>
                </a:lnTo>
                <a:lnTo>
                  <a:pt x="358" y="146"/>
                </a:lnTo>
                <a:lnTo>
                  <a:pt x="371" y="146"/>
                </a:lnTo>
                <a:lnTo>
                  <a:pt x="384" y="146"/>
                </a:lnTo>
                <a:lnTo>
                  <a:pt x="395" y="137"/>
                </a:lnTo>
                <a:lnTo>
                  <a:pt x="408" y="146"/>
                </a:lnTo>
                <a:lnTo>
                  <a:pt x="420" y="146"/>
                </a:lnTo>
                <a:lnTo>
                  <a:pt x="433" y="137"/>
                </a:lnTo>
                <a:lnTo>
                  <a:pt x="444" y="127"/>
                </a:lnTo>
                <a:lnTo>
                  <a:pt x="457" y="116"/>
                </a:lnTo>
                <a:lnTo>
                  <a:pt x="482" y="97"/>
                </a:lnTo>
                <a:lnTo>
                  <a:pt x="482" y="87"/>
                </a:lnTo>
                <a:lnTo>
                  <a:pt x="495" y="78"/>
                </a:lnTo>
                <a:lnTo>
                  <a:pt x="506" y="68"/>
                </a:lnTo>
                <a:lnTo>
                  <a:pt x="518" y="58"/>
                </a:lnTo>
                <a:lnTo>
                  <a:pt x="531" y="49"/>
                </a:lnTo>
                <a:lnTo>
                  <a:pt x="544" y="49"/>
                </a:lnTo>
                <a:lnTo>
                  <a:pt x="555" y="39"/>
                </a:lnTo>
                <a:lnTo>
                  <a:pt x="568" y="39"/>
                </a:lnTo>
                <a:lnTo>
                  <a:pt x="580" y="39"/>
                </a:lnTo>
                <a:lnTo>
                  <a:pt x="593" y="29"/>
                </a:lnTo>
                <a:lnTo>
                  <a:pt x="606" y="20"/>
                </a:lnTo>
                <a:lnTo>
                  <a:pt x="617" y="20"/>
                </a:lnTo>
                <a:lnTo>
                  <a:pt x="629" y="20"/>
                </a:lnTo>
                <a:lnTo>
                  <a:pt x="642" y="10"/>
                </a:lnTo>
                <a:lnTo>
                  <a:pt x="655" y="10"/>
                </a:lnTo>
                <a:lnTo>
                  <a:pt x="666" y="10"/>
                </a:lnTo>
                <a:lnTo>
                  <a:pt x="679" y="0"/>
                </a:lnTo>
                <a:lnTo>
                  <a:pt x="691" y="0"/>
                </a:lnTo>
                <a:lnTo>
                  <a:pt x="704" y="0"/>
                </a:lnTo>
                <a:lnTo>
                  <a:pt x="716" y="0"/>
                </a:lnTo>
                <a:lnTo>
                  <a:pt x="728" y="0"/>
                </a:lnTo>
                <a:lnTo>
                  <a:pt x="740" y="10"/>
                </a:lnTo>
                <a:lnTo>
                  <a:pt x="753" y="29"/>
                </a:lnTo>
                <a:lnTo>
                  <a:pt x="766" y="29"/>
                </a:lnTo>
                <a:lnTo>
                  <a:pt x="777" y="39"/>
                </a:lnTo>
                <a:lnTo>
                  <a:pt x="789" y="49"/>
                </a:lnTo>
                <a:lnTo>
                  <a:pt x="802" y="58"/>
                </a:lnTo>
                <a:lnTo>
                  <a:pt x="815" y="68"/>
                </a:lnTo>
                <a:lnTo>
                  <a:pt x="827" y="68"/>
                </a:lnTo>
                <a:lnTo>
                  <a:pt x="839" y="78"/>
                </a:lnTo>
                <a:lnTo>
                  <a:pt x="851" y="87"/>
                </a:lnTo>
                <a:lnTo>
                  <a:pt x="864" y="106"/>
                </a:lnTo>
                <a:lnTo>
                  <a:pt x="876" y="116"/>
                </a:lnTo>
                <a:lnTo>
                  <a:pt x="888" y="127"/>
                </a:lnTo>
                <a:lnTo>
                  <a:pt x="900" y="137"/>
                </a:lnTo>
                <a:lnTo>
                  <a:pt x="913" y="146"/>
                </a:lnTo>
                <a:lnTo>
                  <a:pt x="926" y="156"/>
                </a:lnTo>
                <a:lnTo>
                  <a:pt x="938" y="166"/>
                </a:lnTo>
                <a:lnTo>
                  <a:pt x="949" y="166"/>
                </a:lnTo>
                <a:lnTo>
                  <a:pt x="962" y="175"/>
                </a:lnTo>
                <a:lnTo>
                  <a:pt x="975" y="185"/>
                </a:lnTo>
                <a:lnTo>
                  <a:pt x="987" y="185"/>
                </a:lnTo>
                <a:lnTo>
                  <a:pt x="1000" y="195"/>
                </a:lnTo>
                <a:lnTo>
                  <a:pt x="1013" y="204"/>
                </a:lnTo>
                <a:lnTo>
                  <a:pt x="1025" y="214"/>
                </a:lnTo>
                <a:lnTo>
                  <a:pt x="1037" y="224"/>
                </a:lnTo>
                <a:lnTo>
                  <a:pt x="1049" y="233"/>
                </a:lnTo>
                <a:lnTo>
                  <a:pt x="1062" y="243"/>
                </a:lnTo>
                <a:lnTo>
                  <a:pt x="1074" y="253"/>
                </a:lnTo>
                <a:lnTo>
                  <a:pt x="1086" y="262"/>
                </a:lnTo>
                <a:lnTo>
                  <a:pt x="1086" y="272"/>
                </a:lnTo>
                <a:lnTo>
                  <a:pt x="1098" y="282"/>
                </a:lnTo>
                <a:lnTo>
                  <a:pt x="1111" y="291"/>
                </a:lnTo>
                <a:lnTo>
                  <a:pt x="1124" y="301"/>
                </a:lnTo>
                <a:lnTo>
                  <a:pt x="1160" y="320"/>
                </a:lnTo>
                <a:lnTo>
                  <a:pt x="1147" y="320"/>
                </a:lnTo>
                <a:lnTo>
                  <a:pt x="1160" y="320"/>
                </a:lnTo>
                <a:lnTo>
                  <a:pt x="1173" y="320"/>
                </a:lnTo>
                <a:lnTo>
                  <a:pt x="1185" y="330"/>
                </a:lnTo>
                <a:lnTo>
                  <a:pt x="1197" y="330"/>
                </a:lnTo>
                <a:lnTo>
                  <a:pt x="1209" y="340"/>
                </a:lnTo>
                <a:lnTo>
                  <a:pt x="1222" y="349"/>
                </a:lnTo>
                <a:lnTo>
                  <a:pt x="1234" y="349"/>
                </a:lnTo>
                <a:lnTo>
                  <a:pt x="1247" y="349"/>
                </a:lnTo>
                <a:lnTo>
                  <a:pt x="1258" y="359"/>
                </a:lnTo>
                <a:lnTo>
                  <a:pt x="1271" y="359"/>
                </a:lnTo>
                <a:lnTo>
                  <a:pt x="1284" y="349"/>
                </a:lnTo>
                <a:lnTo>
                  <a:pt x="1296" y="340"/>
                </a:lnTo>
                <a:lnTo>
                  <a:pt x="1307" y="330"/>
                </a:lnTo>
                <a:lnTo>
                  <a:pt x="1320" y="330"/>
                </a:lnTo>
                <a:lnTo>
                  <a:pt x="1333" y="320"/>
                </a:lnTo>
                <a:lnTo>
                  <a:pt x="1345" y="311"/>
                </a:lnTo>
                <a:lnTo>
                  <a:pt x="1358" y="311"/>
                </a:lnTo>
                <a:lnTo>
                  <a:pt x="1369" y="301"/>
                </a:lnTo>
                <a:lnTo>
                  <a:pt x="1382" y="301"/>
                </a:lnTo>
                <a:lnTo>
                  <a:pt x="1395" y="320"/>
                </a:lnTo>
                <a:lnTo>
                  <a:pt x="1395" y="369"/>
                </a:lnTo>
                <a:lnTo>
                  <a:pt x="1407" y="417"/>
                </a:lnTo>
                <a:lnTo>
                  <a:pt x="1407" y="514"/>
                </a:lnTo>
                <a:lnTo>
                  <a:pt x="1418" y="552"/>
                </a:lnTo>
                <a:lnTo>
                  <a:pt x="1418" y="600"/>
                </a:lnTo>
                <a:lnTo>
                  <a:pt x="1431" y="639"/>
                </a:lnTo>
                <a:lnTo>
                  <a:pt x="1431" y="668"/>
                </a:lnTo>
                <a:lnTo>
                  <a:pt x="1444" y="687"/>
                </a:lnTo>
                <a:lnTo>
                  <a:pt x="1444" y="707"/>
                </a:lnTo>
                <a:lnTo>
                  <a:pt x="1444" y="697"/>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4680000" y="285840"/>
            <a:ext cx="1936800" cy="2073240"/>
          </a:xfrm>
          <a:custGeom>
            <a:avLst/>
            <a:gdLst/>
            <a:ahLst/>
            <a:rect l="l" t="t" r="r" b="b"/>
            <a:pathLst>
              <a:path w="1220" h="1306">
                <a:moveTo>
                  <a:pt x="0" y="1306"/>
                </a:moveTo>
                <a:lnTo>
                  <a:pt x="12" y="1296"/>
                </a:lnTo>
                <a:lnTo>
                  <a:pt x="12" y="1267"/>
                </a:lnTo>
                <a:lnTo>
                  <a:pt x="25" y="1229"/>
                </a:lnTo>
                <a:lnTo>
                  <a:pt x="25" y="1180"/>
                </a:lnTo>
                <a:lnTo>
                  <a:pt x="36" y="1132"/>
                </a:lnTo>
                <a:lnTo>
                  <a:pt x="36" y="1084"/>
                </a:lnTo>
                <a:lnTo>
                  <a:pt x="49" y="1036"/>
                </a:lnTo>
                <a:lnTo>
                  <a:pt x="49" y="949"/>
                </a:lnTo>
                <a:lnTo>
                  <a:pt x="61" y="900"/>
                </a:lnTo>
                <a:lnTo>
                  <a:pt x="61" y="852"/>
                </a:lnTo>
                <a:lnTo>
                  <a:pt x="74" y="804"/>
                </a:lnTo>
                <a:lnTo>
                  <a:pt x="74" y="755"/>
                </a:lnTo>
                <a:lnTo>
                  <a:pt x="85" y="707"/>
                </a:lnTo>
                <a:lnTo>
                  <a:pt x="85" y="630"/>
                </a:lnTo>
                <a:lnTo>
                  <a:pt x="98" y="639"/>
                </a:lnTo>
                <a:lnTo>
                  <a:pt x="111" y="649"/>
                </a:lnTo>
                <a:lnTo>
                  <a:pt x="123" y="659"/>
                </a:lnTo>
                <a:lnTo>
                  <a:pt x="123" y="668"/>
                </a:lnTo>
                <a:lnTo>
                  <a:pt x="136" y="678"/>
                </a:lnTo>
                <a:lnTo>
                  <a:pt x="136" y="688"/>
                </a:lnTo>
                <a:lnTo>
                  <a:pt x="160" y="707"/>
                </a:lnTo>
                <a:lnTo>
                  <a:pt x="160" y="717"/>
                </a:lnTo>
                <a:lnTo>
                  <a:pt x="172" y="726"/>
                </a:lnTo>
                <a:lnTo>
                  <a:pt x="172" y="746"/>
                </a:lnTo>
                <a:lnTo>
                  <a:pt x="185" y="755"/>
                </a:lnTo>
                <a:lnTo>
                  <a:pt x="185" y="765"/>
                </a:lnTo>
                <a:lnTo>
                  <a:pt x="196" y="775"/>
                </a:lnTo>
                <a:lnTo>
                  <a:pt x="196" y="794"/>
                </a:lnTo>
                <a:lnTo>
                  <a:pt x="209" y="804"/>
                </a:lnTo>
                <a:lnTo>
                  <a:pt x="209" y="823"/>
                </a:lnTo>
                <a:lnTo>
                  <a:pt x="221" y="833"/>
                </a:lnTo>
                <a:lnTo>
                  <a:pt x="221" y="813"/>
                </a:lnTo>
                <a:lnTo>
                  <a:pt x="234" y="784"/>
                </a:lnTo>
                <a:lnTo>
                  <a:pt x="234" y="755"/>
                </a:lnTo>
                <a:lnTo>
                  <a:pt x="247" y="736"/>
                </a:lnTo>
                <a:lnTo>
                  <a:pt x="247" y="668"/>
                </a:lnTo>
                <a:lnTo>
                  <a:pt x="258" y="630"/>
                </a:lnTo>
                <a:lnTo>
                  <a:pt x="258" y="610"/>
                </a:lnTo>
                <a:lnTo>
                  <a:pt x="271" y="610"/>
                </a:lnTo>
                <a:lnTo>
                  <a:pt x="283" y="620"/>
                </a:lnTo>
                <a:lnTo>
                  <a:pt x="296" y="630"/>
                </a:lnTo>
                <a:lnTo>
                  <a:pt x="307" y="639"/>
                </a:lnTo>
                <a:lnTo>
                  <a:pt x="320" y="649"/>
                </a:lnTo>
                <a:lnTo>
                  <a:pt x="332" y="649"/>
                </a:lnTo>
                <a:lnTo>
                  <a:pt x="345" y="639"/>
                </a:lnTo>
                <a:lnTo>
                  <a:pt x="358" y="639"/>
                </a:lnTo>
                <a:lnTo>
                  <a:pt x="369" y="639"/>
                </a:lnTo>
                <a:lnTo>
                  <a:pt x="381" y="639"/>
                </a:lnTo>
                <a:lnTo>
                  <a:pt x="394" y="649"/>
                </a:lnTo>
                <a:lnTo>
                  <a:pt x="407" y="649"/>
                </a:lnTo>
                <a:lnTo>
                  <a:pt x="419" y="649"/>
                </a:lnTo>
                <a:lnTo>
                  <a:pt x="431" y="649"/>
                </a:lnTo>
                <a:lnTo>
                  <a:pt x="443" y="639"/>
                </a:lnTo>
                <a:lnTo>
                  <a:pt x="456" y="630"/>
                </a:lnTo>
                <a:lnTo>
                  <a:pt x="469" y="630"/>
                </a:lnTo>
                <a:lnTo>
                  <a:pt x="480" y="620"/>
                </a:lnTo>
                <a:lnTo>
                  <a:pt x="492" y="620"/>
                </a:lnTo>
                <a:lnTo>
                  <a:pt x="505" y="620"/>
                </a:lnTo>
                <a:lnTo>
                  <a:pt x="518" y="610"/>
                </a:lnTo>
                <a:lnTo>
                  <a:pt x="530" y="610"/>
                </a:lnTo>
                <a:lnTo>
                  <a:pt x="542" y="601"/>
                </a:lnTo>
                <a:lnTo>
                  <a:pt x="554" y="601"/>
                </a:lnTo>
                <a:lnTo>
                  <a:pt x="567" y="581"/>
                </a:lnTo>
                <a:lnTo>
                  <a:pt x="579" y="572"/>
                </a:lnTo>
                <a:lnTo>
                  <a:pt x="591" y="562"/>
                </a:lnTo>
                <a:lnTo>
                  <a:pt x="603" y="572"/>
                </a:lnTo>
                <a:lnTo>
                  <a:pt x="616" y="591"/>
                </a:lnTo>
                <a:lnTo>
                  <a:pt x="616" y="630"/>
                </a:lnTo>
                <a:lnTo>
                  <a:pt x="629" y="620"/>
                </a:lnTo>
                <a:lnTo>
                  <a:pt x="641" y="620"/>
                </a:lnTo>
                <a:lnTo>
                  <a:pt x="652" y="610"/>
                </a:lnTo>
                <a:lnTo>
                  <a:pt x="665" y="601"/>
                </a:lnTo>
                <a:lnTo>
                  <a:pt x="678" y="601"/>
                </a:lnTo>
                <a:lnTo>
                  <a:pt x="690" y="601"/>
                </a:lnTo>
                <a:lnTo>
                  <a:pt x="702" y="591"/>
                </a:lnTo>
                <a:lnTo>
                  <a:pt x="714" y="591"/>
                </a:lnTo>
                <a:lnTo>
                  <a:pt x="727" y="591"/>
                </a:lnTo>
                <a:lnTo>
                  <a:pt x="739" y="591"/>
                </a:lnTo>
                <a:lnTo>
                  <a:pt x="752" y="601"/>
                </a:lnTo>
                <a:lnTo>
                  <a:pt x="763" y="610"/>
                </a:lnTo>
                <a:lnTo>
                  <a:pt x="776" y="601"/>
                </a:lnTo>
                <a:lnTo>
                  <a:pt x="789" y="610"/>
                </a:lnTo>
                <a:lnTo>
                  <a:pt x="801" y="610"/>
                </a:lnTo>
                <a:lnTo>
                  <a:pt x="812" y="610"/>
                </a:lnTo>
                <a:lnTo>
                  <a:pt x="825" y="620"/>
                </a:lnTo>
                <a:lnTo>
                  <a:pt x="838" y="620"/>
                </a:lnTo>
                <a:lnTo>
                  <a:pt x="850" y="620"/>
                </a:lnTo>
                <a:lnTo>
                  <a:pt x="863" y="610"/>
                </a:lnTo>
                <a:lnTo>
                  <a:pt x="874" y="610"/>
                </a:lnTo>
                <a:lnTo>
                  <a:pt x="887" y="610"/>
                </a:lnTo>
                <a:lnTo>
                  <a:pt x="900" y="610"/>
                </a:lnTo>
                <a:lnTo>
                  <a:pt x="912" y="620"/>
                </a:lnTo>
                <a:lnTo>
                  <a:pt x="923" y="620"/>
                </a:lnTo>
                <a:lnTo>
                  <a:pt x="936" y="610"/>
                </a:lnTo>
                <a:lnTo>
                  <a:pt x="949" y="591"/>
                </a:lnTo>
                <a:lnTo>
                  <a:pt x="949" y="562"/>
                </a:lnTo>
                <a:lnTo>
                  <a:pt x="961" y="543"/>
                </a:lnTo>
                <a:lnTo>
                  <a:pt x="961" y="513"/>
                </a:lnTo>
                <a:lnTo>
                  <a:pt x="974" y="484"/>
                </a:lnTo>
                <a:lnTo>
                  <a:pt x="974" y="426"/>
                </a:lnTo>
                <a:lnTo>
                  <a:pt x="985" y="397"/>
                </a:lnTo>
                <a:lnTo>
                  <a:pt x="985" y="358"/>
                </a:lnTo>
                <a:lnTo>
                  <a:pt x="998" y="329"/>
                </a:lnTo>
                <a:lnTo>
                  <a:pt x="998" y="300"/>
                </a:lnTo>
                <a:lnTo>
                  <a:pt x="1010" y="271"/>
                </a:lnTo>
                <a:lnTo>
                  <a:pt x="1010" y="242"/>
                </a:lnTo>
                <a:lnTo>
                  <a:pt x="1023" y="203"/>
                </a:lnTo>
                <a:lnTo>
                  <a:pt x="1023" y="145"/>
                </a:lnTo>
                <a:lnTo>
                  <a:pt x="1034" y="116"/>
                </a:lnTo>
                <a:lnTo>
                  <a:pt x="1034" y="97"/>
                </a:lnTo>
                <a:lnTo>
                  <a:pt x="1047" y="68"/>
                </a:lnTo>
                <a:lnTo>
                  <a:pt x="1047" y="49"/>
                </a:lnTo>
                <a:lnTo>
                  <a:pt x="1060" y="29"/>
                </a:lnTo>
                <a:lnTo>
                  <a:pt x="1060" y="10"/>
                </a:lnTo>
                <a:lnTo>
                  <a:pt x="1072" y="10"/>
                </a:lnTo>
                <a:lnTo>
                  <a:pt x="1085" y="10"/>
                </a:lnTo>
                <a:lnTo>
                  <a:pt x="1096" y="0"/>
                </a:lnTo>
                <a:lnTo>
                  <a:pt x="1109" y="0"/>
                </a:lnTo>
                <a:lnTo>
                  <a:pt x="1121" y="0"/>
                </a:lnTo>
                <a:lnTo>
                  <a:pt x="1134" y="0"/>
                </a:lnTo>
                <a:lnTo>
                  <a:pt x="1145" y="0"/>
                </a:lnTo>
                <a:lnTo>
                  <a:pt x="1158" y="10"/>
                </a:lnTo>
                <a:lnTo>
                  <a:pt x="1170" y="10"/>
                </a:lnTo>
                <a:lnTo>
                  <a:pt x="1183" y="20"/>
                </a:lnTo>
                <a:lnTo>
                  <a:pt x="1196" y="29"/>
                </a:lnTo>
                <a:lnTo>
                  <a:pt x="1207" y="29"/>
                </a:lnTo>
                <a:lnTo>
                  <a:pt x="1220" y="29"/>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6616800" y="285840"/>
            <a:ext cx="2135160" cy="276120"/>
          </a:xfrm>
          <a:custGeom>
            <a:avLst/>
            <a:gdLst/>
            <a:ahLst/>
            <a:rect l="l" t="t" r="r" b="b"/>
            <a:pathLst>
              <a:path w="1345" h="174">
                <a:moveTo>
                  <a:pt x="0" y="29"/>
                </a:moveTo>
                <a:lnTo>
                  <a:pt x="12" y="29"/>
                </a:lnTo>
                <a:lnTo>
                  <a:pt x="25" y="29"/>
                </a:lnTo>
                <a:lnTo>
                  <a:pt x="38" y="29"/>
                </a:lnTo>
                <a:lnTo>
                  <a:pt x="49" y="29"/>
                </a:lnTo>
                <a:lnTo>
                  <a:pt x="61" y="20"/>
                </a:lnTo>
                <a:lnTo>
                  <a:pt x="74" y="20"/>
                </a:lnTo>
                <a:lnTo>
                  <a:pt x="87" y="10"/>
                </a:lnTo>
                <a:lnTo>
                  <a:pt x="98" y="0"/>
                </a:lnTo>
                <a:lnTo>
                  <a:pt x="111" y="0"/>
                </a:lnTo>
                <a:lnTo>
                  <a:pt x="123" y="0"/>
                </a:lnTo>
                <a:lnTo>
                  <a:pt x="136" y="0"/>
                </a:lnTo>
                <a:lnTo>
                  <a:pt x="148" y="0"/>
                </a:lnTo>
                <a:lnTo>
                  <a:pt x="160" y="0"/>
                </a:lnTo>
                <a:lnTo>
                  <a:pt x="172" y="0"/>
                </a:lnTo>
                <a:lnTo>
                  <a:pt x="185" y="10"/>
                </a:lnTo>
                <a:lnTo>
                  <a:pt x="198" y="10"/>
                </a:lnTo>
                <a:lnTo>
                  <a:pt x="210" y="10"/>
                </a:lnTo>
                <a:lnTo>
                  <a:pt x="221" y="0"/>
                </a:lnTo>
                <a:lnTo>
                  <a:pt x="234" y="0"/>
                </a:lnTo>
                <a:lnTo>
                  <a:pt x="247" y="0"/>
                </a:lnTo>
                <a:lnTo>
                  <a:pt x="259" y="0"/>
                </a:lnTo>
                <a:lnTo>
                  <a:pt x="271" y="0"/>
                </a:lnTo>
                <a:lnTo>
                  <a:pt x="283" y="10"/>
                </a:lnTo>
                <a:lnTo>
                  <a:pt x="296" y="10"/>
                </a:lnTo>
                <a:lnTo>
                  <a:pt x="308" y="20"/>
                </a:lnTo>
                <a:lnTo>
                  <a:pt x="321" y="20"/>
                </a:lnTo>
                <a:lnTo>
                  <a:pt x="332" y="20"/>
                </a:lnTo>
                <a:lnTo>
                  <a:pt x="345" y="20"/>
                </a:lnTo>
                <a:lnTo>
                  <a:pt x="358" y="20"/>
                </a:lnTo>
                <a:lnTo>
                  <a:pt x="370" y="20"/>
                </a:lnTo>
                <a:lnTo>
                  <a:pt x="381" y="10"/>
                </a:lnTo>
                <a:lnTo>
                  <a:pt x="394" y="10"/>
                </a:lnTo>
                <a:lnTo>
                  <a:pt x="407" y="20"/>
                </a:lnTo>
                <a:lnTo>
                  <a:pt x="407" y="29"/>
                </a:lnTo>
                <a:lnTo>
                  <a:pt x="419" y="49"/>
                </a:lnTo>
                <a:lnTo>
                  <a:pt x="419" y="78"/>
                </a:lnTo>
                <a:lnTo>
                  <a:pt x="432" y="107"/>
                </a:lnTo>
                <a:lnTo>
                  <a:pt x="432" y="145"/>
                </a:lnTo>
                <a:lnTo>
                  <a:pt x="469" y="174"/>
                </a:lnTo>
                <a:lnTo>
                  <a:pt x="456" y="174"/>
                </a:lnTo>
                <a:lnTo>
                  <a:pt x="469" y="174"/>
                </a:lnTo>
                <a:lnTo>
                  <a:pt x="481" y="174"/>
                </a:lnTo>
                <a:lnTo>
                  <a:pt x="494" y="174"/>
                </a:lnTo>
                <a:lnTo>
                  <a:pt x="505" y="165"/>
                </a:lnTo>
                <a:lnTo>
                  <a:pt x="518" y="165"/>
                </a:lnTo>
                <a:lnTo>
                  <a:pt x="530" y="155"/>
                </a:lnTo>
                <a:lnTo>
                  <a:pt x="543" y="155"/>
                </a:lnTo>
                <a:lnTo>
                  <a:pt x="554" y="145"/>
                </a:lnTo>
                <a:lnTo>
                  <a:pt x="567" y="155"/>
                </a:lnTo>
                <a:lnTo>
                  <a:pt x="579" y="165"/>
                </a:lnTo>
                <a:lnTo>
                  <a:pt x="592" y="165"/>
                </a:lnTo>
                <a:lnTo>
                  <a:pt x="605" y="174"/>
                </a:lnTo>
                <a:lnTo>
                  <a:pt x="616" y="165"/>
                </a:lnTo>
                <a:lnTo>
                  <a:pt x="629" y="165"/>
                </a:lnTo>
                <a:lnTo>
                  <a:pt x="641" y="165"/>
                </a:lnTo>
                <a:lnTo>
                  <a:pt x="654" y="155"/>
                </a:lnTo>
                <a:lnTo>
                  <a:pt x="666" y="155"/>
                </a:lnTo>
                <a:lnTo>
                  <a:pt x="678" y="155"/>
                </a:lnTo>
                <a:lnTo>
                  <a:pt x="690" y="155"/>
                </a:lnTo>
                <a:lnTo>
                  <a:pt x="703" y="145"/>
                </a:lnTo>
                <a:lnTo>
                  <a:pt x="716" y="145"/>
                </a:lnTo>
                <a:lnTo>
                  <a:pt x="727" y="155"/>
                </a:lnTo>
                <a:lnTo>
                  <a:pt x="739" y="155"/>
                </a:lnTo>
                <a:lnTo>
                  <a:pt x="752" y="155"/>
                </a:lnTo>
                <a:lnTo>
                  <a:pt x="765" y="155"/>
                </a:lnTo>
                <a:lnTo>
                  <a:pt x="777" y="145"/>
                </a:lnTo>
                <a:lnTo>
                  <a:pt x="789" y="145"/>
                </a:lnTo>
                <a:lnTo>
                  <a:pt x="801" y="136"/>
                </a:lnTo>
                <a:lnTo>
                  <a:pt x="814" y="145"/>
                </a:lnTo>
                <a:lnTo>
                  <a:pt x="827" y="145"/>
                </a:lnTo>
                <a:lnTo>
                  <a:pt x="839" y="145"/>
                </a:lnTo>
                <a:lnTo>
                  <a:pt x="850" y="165"/>
                </a:lnTo>
                <a:lnTo>
                  <a:pt x="863" y="165"/>
                </a:lnTo>
                <a:lnTo>
                  <a:pt x="876" y="165"/>
                </a:lnTo>
                <a:lnTo>
                  <a:pt x="888" y="174"/>
                </a:lnTo>
                <a:lnTo>
                  <a:pt x="900" y="174"/>
                </a:lnTo>
                <a:lnTo>
                  <a:pt x="912" y="165"/>
                </a:lnTo>
                <a:lnTo>
                  <a:pt x="925" y="165"/>
                </a:lnTo>
                <a:lnTo>
                  <a:pt x="937" y="165"/>
                </a:lnTo>
                <a:lnTo>
                  <a:pt x="950" y="165"/>
                </a:lnTo>
                <a:lnTo>
                  <a:pt x="961" y="165"/>
                </a:lnTo>
                <a:lnTo>
                  <a:pt x="974" y="165"/>
                </a:lnTo>
                <a:lnTo>
                  <a:pt x="987" y="165"/>
                </a:lnTo>
                <a:lnTo>
                  <a:pt x="999" y="165"/>
                </a:lnTo>
                <a:lnTo>
                  <a:pt x="1010" y="155"/>
                </a:lnTo>
                <a:lnTo>
                  <a:pt x="1023" y="155"/>
                </a:lnTo>
                <a:lnTo>
                  <a:pt x="1036" y="155"/>
                </a:lnTo>
                <a:lnTo>
                  <a:pt x="1048" y="165"/>
                </a:lnTo>
                <a:lnTo>
                  <a:pt x="1061" y="165"/>
                </a:lnTo>
                <a:lnTo>
                  <a:pt x="1072" y="155"/>
                </a:lnTo>
                <a:lnTo>
                  <a:pt x="1085" y="155"/>
                </a:lnTo>
                <a:lnTo>
                  <a:pt x="1097" y="155"/>
                </a:lnTo>
                <a:lnTo>
                  <a:pt x="1110" y="145"/>
                </a:lnTo>
                <a:lnTo>
                  <a:pt x="1123" y="145"/>
                </a:lnTo>
                <a:lnTo>
                  <a:pt x="1134" y="145"/>
                </a:lnTo>
                <a:lnTo>
                  <a:pt x="1147" y="155"/>
                </a:lnTo>
                <a:lnTo>
                  <a:pt x="1159" y="165"/>
                </a:lnTo>
                <a:lnTo>
                  <a:pt x="1172" y="165"/>
                </a:lnTo>
                <a:lnTo>
                  <a:pt x="1183" y="165"/>
                </a:lnTo>
                <a:lnTo>
                  <a:pt x="1196" y="165"/>
                </a:lnTo>
                <a:lnTo>
                  <a:pt x="1208" y="165"/>
                </a:lnTo>
                <a:lnTo>
                  <a:pt x="1221" y="155"/>
                </a:lnTo>
                <a:lnTo>
                  <a:pt x="1234" y="155"/>
                </a:lnTo>
                <a:lnTo>
                  <a:pt x="1245" y="155"/>
                </a:lnTo>
                <a:lnTo>
                  <a:pt x="1258" y="145"/>
                </a:lnTo>
                <a:lnTo>
                  <a:pt x="1270" y="145"/>
                </a:lnTo>
                <a:lnTo>
                  <a:pt x="1283" y="155"/>
                </a:lnTo>
                <a:lnTo>
                  <a:pt x="1295" y="165"/>
                </a:lnTo>
                <a:lnTo>
                  <a:pt x="1307" y="174"/>
                </a:lnTo>
                <a:lnTo>
                  <a:pt x="1319" y="174"/>
                </a:lnTo>
                <a:lnTo>
                  <a:pt x="1332" y="165"/>
                </a:lnTo>
                <a:lnTo>
                  <a:pt x="1345" y="165"/>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6446880" y="592200"/>
            <a:ext cx="42552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6527520" y="601560"/>
            <a:ext cx="16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T</a:t>
            </a:r>
            <a:endParaRPr b="0" lang="en-US" sz="2300" spc="-1" strike="noStrike">
              <a:solidFill>
                <a:srgbClr val="000000"/>
              </a:solidFill>
              <a:latin typeface="Times New Roman"/>
            </a:endParaRPr>
          </a:p>
        </p:txBody>
      </p:sp>
      <p:sp>
        <p:nvSpPr>
          <p:cNvPr id="2758" name=""/>
          <p:cNvSpPr/>
          <p:nvPr/>
        </p:nvSpPr>
        <p:spPr>
          <a:xfrm>
            <a:off x="6730920" y="512640"/>
            <a:ext cx="96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59" name=""/>
          <p:cNvSpPr/>
          <p:nvPr/>
        </p:nvSpPr>
        <p:spPr>
          <a:xfrm>
            <a:off x="5398920" y="1857240"/>
            <a:ext cx="3273480" cy="59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5743440" y="1854360"/>
            <a:ext cx="10447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pace Shuttle</a:t>
            </a:r>
            <a:endParaRPr b="0" lang="en-US" sz="1500" spc="-1" strike="noStrike">
              <a:solidFill>
                <a:srgbClr val="000000"/>
              </a:solidFill>
              <a:latin typeface="Times New Roman"/>
            </a:endParaRPr>
          </a:p>
        </p:txBody>
      </p:sp>
      <p:sp>
        <p:nvSpPr>
          <p:cNvPr id="2761" name=""/>
          <p:cNvSpPr/>
          <p:nvPr/>
        </p:nvSpPr>
        <p:spPr>
          <a:xfrm>
            <a:off x="6885360" y="1854360"/>
            <a:ext cx="376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STS</a:t>
            </a:r>
            <a:endParaRPr b="0" lang="en-US" sz="1500" spc="-1" strike="noStrike">
              <a:solidFill>
                <a:srgbClr val="000000"/>
              </a:solidFill>
              <a:latin typeface="Times New Roman"/>
            </a:endParaRPr>
          </a:p>
        </p:txBody>
      </p:sp>
      <p:sp>
        <p:nvSpPr>
          <p:cNvPr id="2762" name=""/>
          <p:cNvSpPr/>
          <p:nvPr/>
        </p:nvSpPr>
        <p:spPr>
          <a:xfrm>
            <a:off x="7287480" y="1854360"/>
            <a:ext cx="64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763" name=""/>
          <p:cNvSpPr/>
          <p:nvPr/>
        </p:nvSpPr>
        <p:spPr>
          <a:xfrm>
            <a:off x="7376040" y="1854360"/>
            <a:ext cx="1926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7</a:t>
            </a:r>
            <a:endParaRPr b="0" lang="en-US" sz="1500" spc="-1" strike="noStrike">
              <a:solidFill>
                <a:srgbClr val="000000"/>
              </a:solidFill>
              <a:latin typeface="Times New Roman"/>
            </a:endParaRPr>
          </a:p>
        </p:txBody>
      </p:sp>
      <p:sp>
        <p:nvSpPr>
          <p:cNvPr id="2764" name=""/>
          <p:cNvSpPr/>
          <p:nvPr/>
        </p:nvSpPr>
        <p:spPr>
          <a:xfrm>
            <a:off x="7671600" y="1854360"/>
            <a:ext cx="829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Telemetry</a:t>
            </a:r>
            <a:endParaRPr b="0" lang="en-US" sz="1500" spc="-1" strike="noStrike">
              <a:solidFill>
                <a:srgbClr val="000000"/>
              </a:solidFill>
              <a:latin typeface="Times New Roman"/>
            </a:endParaRPr>
          </a:p>
        </p:txBody>
      </p:sp>
      <p:sp>
        <p:nvSpPr>
          <p:cNvPr id="2765" name=""/>
          <p:cNvSpPr/>
          <p:nvPr/>
        </p:nvSpPr>
        <p:spPr>
          <a:xfrm>
            <a:off x="8550720" y="18543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2766" name=""/>
          <p:cNvSpPr/>
          <p:nvPr/>
        </p:nvSpPr>
        <p:spPr>
          <a:xfrm>
            <a:off x="6471360" y="208116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767" name=""/>
          <p:cNvSpPr/>
          <p:nvPr/>
        </p:nvSpPr>
        <p:spPr>
          <a:xfrm>
            <a:off x="6567480" y="2081160"/>
            <a:ext cx="476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nertial</a:t>
            </a:r>
            <a:endParaRPr b="0" lang="en-US" sz="1300" spc="-1" strike="noStrike">
              <a:solidFill>
                <a:srgbClr val="000000"/>
              </a:solidFill>
              <a:latin typeface="Times New Roman"/>
            </a:endParaRPr>
          </a:p>
        </p:txBody>
      </p:sp>
      <p:sp>
        <p:nvSpPr>
          <p:cNvPr id="2768" name=""/>
          <p:cNvSpPr/>
          <p:nvPr/>
        </p:nvSpPr>
        <p:spPr>
          <a:xfrm>
            <a:off x="7066080" y="2081160"/>
            <a:ext cx="4899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Sensor</a:t>
            </a:r>
            <a:endParaRPr b="0" lang="en-US" sz="1300" spc="-1" strike="noStrike">
              <a:solidFill>
                <a:srgbClr val="000000"/>
              </a:solidFill>
              <a:latin typeface="Times New Roman"/>
            </a:endParaRPr>
          </a:p>
        </p:txBody>
      </p:sp>
      <p:sp>
        <p:nvSpPr>
          <p:cNvPr id="2769" name=""/>
          <p:cNvSpPr/>
          <p:nvPr/>
        </p:nvSpPr>
        <p:spPr>
          <a:xfrm>
            <a:off x="7620840" y="208116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770" name=""/>
          <p:cNvSpPr/>
          <p:nvPr/>
        </p:nvSpPr>
        <p:spPr>
          <a:xfrm>
            <a:off x="7740720" y="1878120"/>
            <a:ext cx="96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71" name=""/>
          <p:cNvSpPr/>
          <p:nvPr/>
        </p:nvSpPr>
        <p:spPr>
          <a:xfrm>
            <a:off x="3013200" y="1432080"/>
            <a:ext cx="1077840" cy="382320"/>
          </a:xfrm>
          <a:custGeom>
            <a:avLst/>
            <a:gdLst/>
            <a:ahLst/>
            <a:rect l="l" t="t" r="r" b="b"/>
            <a:pathLst>
              <a:path w="679" h="241">
                <a:moveTo>
                  <a:pt x="0" y="150"/>
                </a:moveTo>
                <a:lnTo>
                  <a:pt x="11" y="150"/>
                </a:lnTo>
                <a:lnTo>
                  <a:pt x="23" y="150"/>
                </a:lnTo>
                <a:lnTo>
                  <a:pt x="36" y="150"/>
                </a:lnTo>
                <a:lnTo>
                  <a:pt x="47" y="150"/>
                </a:lnTo>
                <a:lnTo>
                  <a:pt x="60" y="140"/>
                </a:lnTo>
                <a:lnTo>
                  <a:pt x="71" y="130"/>
                </a:lnTo>
                <a:lnTo>
                  <a:pt x="84" y="120"/>
                </a:lnTo>
                <a:lnTo>
                  <a:pt x="96" y="109"/>
                </a:lnTo>
                <a:lnTo>
                  <a:pt x="108" y="100"/>
                </a:lnTo>
                <a:lnTo>
                  <a:pt x="108" y="90"/>
                </a:lnTo>
                <a:lnTo>
                  <a:pt x="120" y="79"/>
                </a:lnTo>
                <a:lnTo>
                  <a:pt x="157" y="60"/>
                </a:lnTo>
                <a:lnTo>
                  <a:pt x="157" y="49"/>
                </a:lnTo>
                <a:lnTo>
                  <a:pt x="169" y="49"/>
                </a:lnTo>
                <a:lnTo>
                  <a:pt x="181" y="39"/>
                </a:lnTo>
                <a:lnTo>
                  <a:pt x="193" y="39"/>
                </a:lnTo>
                <a:lnTo>
                  <a:pt x="204" y="39"/>
                </a:lnTo>
                <a:lnTo>
                  <a:pt x="217" y="30"/>
                </a:lnTo>
                <a:lnTo>
                  <a:pt x="230" y="19"/>
                </a:lnTo>
                <a:lnTo>
                  <a:pt x="241" y="19"/>
                </a:lnTo>
                <a:lnTo>
                  <a:pt x="254" y="19"/>
                </a:lnTo>
                <a:lnTo>
                  <a:pt x="266" y="9"/>
                </a:lnTo>
                <a:lnTo>
                  <a:pt x="277" y="9"/>
                </a:lnTo>
                <a:lnTo>
                  <a:pt x="290" y="9"/>
                </a:lnTo>
                <a:lnTo>
                  <a:pt x="303" y="9"/>
                </a:lnTo>
                <a:lnTo>
                  <a:pt x="314" y="0"/>
                </a:lnTo>
                <a:lnTo>
                  <a:pt x="327" y="0"/>
                </a:lnTo>
                <a:lnTo>
                  <a:pt x="338" y="0"/>
                </a:lnTo>
                <a:lnTo>
                  <a:pt x="350" y="0"/>
                </a:lnTo>
                <a:lnTo>
                  <a:pt x="363" y="9"/>
                </a:lnTo>
                <a:lnTo>
                  <a:pt x="374" y="19"/>
                </a:lnTo>
                <a:lnTo>
                  <a:pt x="387" y="30"/>
                </a:lnTo>
                <a:lnTo>
                  <a:pt x="400" y="39"/>
                </a:lnTo>
                <a:lnTo>
                  <a:pt x="411" y="49"/>
                </a:lnTo>
                <a:lnTo>
                  <a:pt x="424" y="60"/>
                </a:lnTo>
                <a:lnTo>
                  <a:pt x="436" y="70"/>
                </a:lnTo>
                <a:lnTo>
                  <a:pt x="447" y="70"/>
                </a:lnTo>
                <a:lnTo>
                  <a:pt x="460" y="79"/>
                </a:lnTo>
                <a:lnTo>
                  <a:pt x="471" y="90"/>
                </a:lnTo>
                <a:lnTo>
                  <a:pt x="497" y="109"/>
                </a:lnTo>
                <a:lnTo>
                  <a:pt x="497" y="120"/>
                </a:lnTo>
                <a:lnTo>
                  <a:pt x="508" y="130"/>
                </a:lnTo>
                <a:lnTo>
                  <a:pt x="520" y="140"/>
                </a:lnTo>
                <a:lnTo>
                  <a:pt x="533" y="150"/>
                </a:lnTo>
                <a:lnTo>
                  <a:pt x="544" y="150"/>
                </a:lnTo>
                <a:lnTo>
                  <a:pt x="557" y="170"/>
                </a:lnTo>
                <a:lnTo>
                  <a:pt x="570" y="170"/>
                </a:lnTo>
                <a:lnTo>
                  <a:pt x="581" y="181"/>
                </a:lnTo>
                <a:lnTo>
                  <a:pt x="593" y="190"/>
                </a:lnTo>
                <a:lnTo>
                  <a:pt x="605" y="190"/>
                </a:lnTo>
                <a:lnTo>
                  <a:pt x="617" y="190"/>
                </a:lnTo>
                <a:lnTo>
                  <a:pt x="630" y="211"/>
                </a:lnTo>
                <a:lnTo>
                  <a:pt x="643" y="221"/>
                </a:lnTo>
                <a:lnTo>
                  <a:pt x="655" y="230"/>
                </a:lnTo>
                <a:lnTo>
                  <a:pt x="666" y="241"/>
                </a:lnTo>
                <a:lnTo>
                  <a:pt x="679" y="241"/>
                </a:lnTo>
              </a:path>
            </a:pathLst>
          </a:custGeom>
          <a:noFill/>
          <a:ln w="176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2930400" y="1050840"/>
            <a:ext cx="1078200" cy="368280"/>
          </a:xfrm>
          <a:custGeom>
            <a:avLst/>
            <a:gdLst/>
            <a:ahLst/>
            <a:rect l="l" t="t" r="r" b="b"/>
            <a:pathLst>
              <a:path w="679" h="232">
                <a:moveTo>
                  <a:pt x="0" y="162"/>
                </a:moveTo>
                <a:lnTo>
                  <a:pt x="12" y="151"/>
                </a:lnTo>
                <a:lnTo>
                  <a:pt x="23" y="151"/>
                </a:lnTo>
                <a:lnTo>
                  <a:pt x="36" y="151"/>
                </a:lnTo>
                <a:lnTo>
                  <a:pt x="49" y="142"/>
                </a:lnTo>
                <a:lnTo>
                  <a:pt x="60" y="151"/>
                </a:lnTo>
                <a:lnTo>
                  <a:pt x="73" y="151"/>
                </a:lnTo>
                <a:lnTo>
                  <a:pt x="84" y="142"/>
                </a:lnTo>
                <a:lnTo>
                  <a:pt x="96" y="132"/>
                </a:lnTo>
                <a:lnTo>
                  <a:pt x="120" y="112"/>
                </a:lnTo>
                <a:lnTo>
                  <a:pt x="120" y="102"/>
                </a:lnTo>
                <a:lnTo>
                  <a:pt x="133" y="91"/>
                </a:lnTo>
                <a:lnTo>
                  <a:pt x="146" y="81"/>
                </a:lnTo>
                <a:lnTo>
                  <a:pt x="157" y="72"/>
                </a:lnTo>
                <a:lnTo>
                  <a:pt x="169" y="61"/>
                </a:lnTo>
                <a:lnTo>
                  <a:pt x="182" y="51"/>
                </a:lnTo>
                <a:lnTo>
                  <a:pt x="193" y="41"/>
                </a:lnTo>
                <a:lnTo>
                  <a:pt x="206" y="41"/>
                </a:lnTo>
                <a:lnTo>
                  <a:pt x="217" y="41"/>
                </a:lnTo>
                <a:lnTo>
                  <a:pt x="230" y="31"/>
                </a:lnTo>
                <a:lnTo>
                  <a:pt x="242" y="31"/>
                </a:lnTo>
                <a:lnTo>
                  <a:pt x="254" y="21"/>
                </a:lnTo>
                <a:lnTo>
                  <a:pt x="266" y="21"/>
                </a:lnTo>
                <a:lnTo>
                  <a:pt x="279" y="11"/>
                </a:lnTo>
                <a:lnTo>
                  <a:pt x="290" y="11"/>
                </a:lnTo>
                <a:lnTo>
                  <a:pt x="303" y="11"/>
                </a:lnTo>
                <a:lnTo>
                  <a:pt x="315" y="11"/>
                </a:lnTo>
                <a:lnTo>
                  <a:pt x="327" y="0"/>
                </a:lnTo>
                <a:lnTo>
                  <a:pt x="339" y="0"/>
                </a:lnTo>
                <a:lnTo>
                  <a:pt x="351" y="0"/>
                </a:lnTo>
                <a:lnTo>
                  <a:pt x="363" y="0"/>
                </a:lnTo>
                <a:lnTo>
                  <a:pt x="376" y="0"/>
                </a:lnTo>
                <a:lnTo>
                  <a:pt x="387" y="21"/>
                </a:lnTo>
                <a:lnTo>
                  <a:pt x="400" y="31"/>
                </a:lnTo>
                <a:lnTo>
                  <a:pt x="412" y="31"/>
                </a:lnTo>
                <a:lnTo>
                  <a:pt x="424" y="41"/>
                </a:lnTo>
                <a:lnTo>
                  <a:pt x="436" y="51"/>
                </a:lnTo>
                <a:lnTo>
                  <a:pt x="449" y="61"/>
                </a:lnTo>
                <a:lnTo>
                  <a:pt x="460" y="72"/>
                </a:lnTo>
                <a:lnTo>
                  <a:pt x="473" y="81"/>
                </a:lnTo>
                <a:lnTo>
                  <a:pt x="484" y="81"/>
                </a:lnTo>
                <a:lnTo>
                  <a:pt x="497" y="91"/>
                </a:lnTo>
                <a:lnTo>
                  <a:pt x="509" y="112"/>
                </a:lnTo>
                <a:lnTo>
                  <a:pt x="520" y="121"/>
                </a:lnTo>
                <a:lnTo>
                  <a:pt x="533" y="132"/>
                </a:lnTo>
                <a:lnTo>
                  <a:pt x="546" y="142"/>
                </a:lnTo>
                <a:lnTo>
                  <a:pt x="557" y="151"/>
                </a:lnTo>
                <a:lnTo>
                  <a:pt x="570" y="162"/>
                </a:lnTo>
                <a:lnTo>
                  <a:pt x="582" y="172"/>
                </a:lnTo>
                <a:lnTo>
                  <a:pt x="593" y="182"/>
                </a:lnTo>
                <a:lnTo>
                  <a:pt x="606" y="182"/>
                </a:lnTo>
                <a:lnTo>
                  <a:pt x="617" y="192"/>
                </a:lnTo>
                <a:lnTo>
                  <a:pt x="631" y="192"/>
                </a:lnTo>
                <a:lnTo>
                  <a:pt x="643" y="202"/>
                </a:lnTo>
                <a:lnTo>
                  <a:pt x="655" y="212"/>
                </a:lnTo>
                <a:lnTo>
                  <a:pt x="679" y="232"/>
                </a:lnTo>
                <a:lnTo>
                  <a:pt x="668" y="232"/>
                </a:lnTo>
              </a:path>
            </a:pathLst>
          </a:custGeom>
          <a:noFill/>
          <a:ln w="176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1052640" y="644400"/>
            <a:ext cx="1030320" cy="52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1313640" y="647640"/>
            <a:ext cx="623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ivial</a:t>
            </a:r>
            <a:endParaRPr b="0" lang="en-US" sz="1800" spc="-1" strike="noStrike">
              <a:solidFill>
                <a:srgbClr val="000000"/>
              </a:solidFill>
              <a:latin typeface="Times New Roman"/>
            </a:endParaRPr>
          </a:p>
        </p:txBody>
      </p:sp>
      <p:sp>
        <p:nvSpPr>
          <p:cNvPr id="2775" name=""/>
          <p:cNvSpPr/>
          <p:nvPr/>
        </p:nvSpPr>
        <p:spPr>
          <a:xfrm>
            <a:off x="1980360" y="64764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76" name=""/>
          <p:cNvSpPr/>
          <p:nvPr/>
        </p:nvSpPr>
        <p:spPr>
          <a:xfrm>
            <a:off x="1145520" y="907920"/>
            <a:ext cx="7765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ches</a:t>
            </a:r>
            <a:endParaRPr b="0" lang="en-US" sz="1800" spc="-1" strike="noStrike">
              <a:solidFill>
                <a:srgbClr val="000000"/>
              </a:solidFill>
              <a:latin typeface="Times New Roman"/>
            </a:endParaRPr>
          </a:p>
        </p:txBody>
      </p:sp>
      <p:grpSp>
        <p:nvGrpSpPr>
          <p:cNvPr id="2777" name=""/>
          <p:cNvGrpSpPr/>
          <p:nvPr/>
        </p:nvGrpSpPr>
        <p:grpSpPr>
          <a:xfrm>
            <a:off x="2082960" y="1020600"/>
            <a:ext cx="815760" cy="285840"/>
            <a:chOff x="2082960" y="1020600"/>
            <a:chExt cx="815760" cy="285840"/>
          </a:xfrm>
        </p:grpSpPr>
        <p:sp>
          <p:nvSpPr>
            <p:cNvPr id="2778" name=""/>
            <p:cNvSpPr/>
            <p:nvPr/>
          </p:nvSpPr>
          <p:spPr>
            <a:xfrm>
              <a:off x="2082960" y="1020600"/>
              <a:ext cx="6984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2684520" y="1155600"/>
              <a:ext cx="214200" cy="150840"/>
            </a:xfrm>
            <a:custGeom>
              <a:avLst/>
              <a:gdLst/>
              <a:ahLst/>
              <a:rect l="l" t="t" r="r" b="b"/>
              <a:pathLst>
                <a:path w="135" h="95">
                  <a:moveTo>
                    <a:pt x="0" y="95"/>
                  </a:moveTo>
                  <a:lnTo>
                    <a:pt x="135" y="84"/>
                  </a:lnTo>
                  <a:lnTo>
                    <a:pt x="44" y="0"/>
                  </a:lnTo>
                  <a:lnTo>
                    <a:pt x="58" y="59"/>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0" name=""/>
          <p:cNvGrpSpPr/>
          <p:nvPr/>
        </p:nvGrpSpPr>
        <p:grpSpPr>
          <a:xfrm>
            <a:off x="2054160" y="1131840"/>
            <a:ext cx="871560" cy="503280"/>
            <a:chOff x="2054160" y="1131840"/>
            <a:chExt cx="871560" cy="503280"/>
          </a:xfrm>
        </p:grpSpPr>
        <p:sp>
          <p:nvSpPr>
            <p:cNvPr id="2781" name=""/>
            <p:cNvSpPr/>
            <p:nvPr/>
          </p:nvSpPr>
          <p:spPr>
            <a:xfrm>
              <a:off x="2054160" y="1131840"/>
              <a:ext cx="766800" cy="4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2712960" y="1477800"/>
              <a:ext cx="212760" cy="157320"/>
            </a:xfrm>
            <a:custGeom>
              <a:avLst/>
              <a:gdLst/>
              <a:ahLst/>
              <a:rect l="l" t="t" r="r" b="b"/>
              <a:pathLst>
                <a:path w="134" h="99">
                  <a:moveTo>
                    <a:pt x="0" y="85"/>
                  </a:moveTo>
                  <a:lnTo>
                    <a:pt x="134" y="99"/>
                  </a:lnTo>
                  <a:lnTo>
                    <a:pt x="66" y="0"/>
                  </a:lnTo>
                  <a:lnTo>
                    <a:pt x="65" y="6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3" name=""/>
          <p:cNvSpPr/>
          <p:nvPr/>
        </p:nvSpPr>
        <p:spPr>
          <a:xfrm>
            <a:off x="2963880" y="1525680"/>
            <a:ext cx="1440" cy="7696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4056120" y="1644480"/>
            <a:ext cx="1440" cy="648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flipH="1">
            <a:off x="2959200" y="2212920"/>
            <a:ext cx="1092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6" name=""/>
          <p:cNvSpPr/>
          <p:nvPr/>
        </p:nvSpPr>
        <p:spPr>
          <a:xfrm>
            <a:off x="3281400" y="2048040"/>
            <a:ext cx="44928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3425760" y="2027160"/>
            <a:ext cx="1958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C</a:t>
            </a:r>
            <a:endParaRPr b="0" lang="en-US" sz="2300" spc="-1" strike="noStrike">
              <a:solidFill>
                <a:srgbClr val="000000"/>
              </a:solidFill>
              <a:latin typeface="Times New Roman"/>
            </a:endParaRPr>
          </a:p>
        </p:txBody>
      </p:sp>
      <p:sp>
        <p:nvSpPr>
          <p:cNvPr id="2788" name=""/>
          <p:cNvSpPr/>
          <p:nvPr/>
        </p:nvSpPr>
        <p:spPr>
          <a:xfrm>
            <a:off x="3716280" y="1963800"/>
            <a:ext cx="96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9" name="PlaceHolder 1"/>
          <p:cNvSpPr>
            <a:spLocks noGrp="1"/>
          </p:cNvSpPr>
          <p:nvPr>
            <p:ph type="title"/>
          </p:nvPr>
        </p:nvSpPr>
        <p:spPr>
          <a:xfrm>
            <a:off x="744480" y="29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K, we can define motifs, but how do we find them?</a:t>
            </a:r>
            <a:endParaRPr b="0" lang="en-US" sz="4400" spc="-1" strike="noStrike">
              <a:solidFill>
                <a:srgbClr val="000000"/>
              </a:solidFill>
              <a:latin typeface="Times New Roman"/>
            </a:endParaRPr>
          </a:p>
        </p:txBody>
      </p:sp>
      <p:sp>
        <p:nvSpPr>
          <p:cNvPr id="2790" name=""/>
          <p:cNvSpPr/>
          <p:nvPr/>
        </p:nvSpPr>
        <p:spPr>
          <a:xfrm>
            <a:off x="263520" y="1860480"/>
            <a:ext cx="866628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bvious brute force search algorithm is just too sl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algorithm is based on a </a:t>
            </a:r>
            <a:r>
              <a:rPr b="0" i="1" lang="en-US" sz="2800" spc="-1" strike="noStrike">
                <a:solidFill>
                  <a:srgbClr val="000000"/>
                </a:solidFill>
                <a:latin typeface="Times New Roman"/>
              </a:rPr>
              <a:t>hot</a:t>
            </a:r>
            <a:r>
              <a:rPr b="0" lang="en-US" sz="2800" spc="-1" strike="noStrike">
                <a:solidFill>
                  <a:srgbClr val="000000"/>
                </a:solidFill>
                <a:latin typeface="Times New Roman"/>
              </a:rPr>
              <a:t> idea from bioinformatics, </a:t>
            </a:r>
            <a:r>
              <a:rPr b="0" i="1" lang="en-US" sz="2800" spc="-1" strike="noStrike">
                <a:solidFill>
                  <a:srgbClr val="000000"/>
                </a:solidFill>
                <a:latin typeface="Times New Roman"/>
              </a:rPr>
              <a:t>random projection</a:t>
            </a:r>
            <a:r>
              <a:rPr b="0" lang="en-US" sz="2800" spc="-1" strike="noStrike">
                <a:solidFill>
                  <a:srgbClr val="000000"/>
                </a:solidFill>
                <a:latin typeface="Times New Roman"/>
              </a:rPr>
              <a:t>* and the fact that SAX allows use to lower bound discrete representations of time seri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J Buhler and M Tompa. </a:t>
            </a:r>
            <a:r>
              <a:rPr b="1" i="1" lang="en-US" sz="2000" spc="-1" strike="noStrike">
                <a:solidFill>
                  <a:srgbClr val="000000"/>
                </a:solidFill>
                <a:latin typeface="Times New Roman"/>
              </a:rPr>
              <a:t>Finding motifs using random projections</a:t>
            </a:r>
            <a:r>
              <a:rPr b="1" lang="en-US" sz="2000" spc="-1" strike="noStrike">
                <a:solidFill>
                  <a:srgbClr val="000000"/>
                </a:solidFill>
                <a:latin typeface="Times New Roman"/>
              </a:rPr>
              <a:t>. In RECOMB'01. 2001.</a:t>
            </a:r>
            <a:br>
              <a:rPr sz="2000"/>
            </a:br>
            <a:endParaRPr b="0" lang="en-US" sz="2000" spc="-1" strike="noStrike">
              <a:solidFill>
                <a:srgbClr val="000000"/>
              </a:solidFill>
              <a:latin typeface="Times New Roman"/>
            </a:endParaRPr>
          </a:p>
        </p:txBody>
      </p:sp>
      <p:pic>
        <p:nvPicPr>
          <p:cNvPr id="2791" name="altri_g3" descr=""/>
          <p:cNvPicPr/>
          <p:nvPr/>
        </p:nvPicPr>
        <p:blipFill>
          <a:blip r:embed="rId1"/>
          <a:stretch/>
        </p:blipFill>
        <p:spPr>
          <a:xfrm>
            <a:off x="6915240" y="4943520"/>
            <a:ext cx="2228760" cy="2022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2" name=""/>
          <p:cNvSpPr/>
          <p:nvPr/>
        </p:nvSpPr>
        <p:spPr>
          <a:xfrm>
            <a:off x="501120" y="175428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793" name=""/>
          <p:cNvSpPr/>
          <p:nvPr/>
        </p:nvSpPr>
        <p:spPr>
          <a:xfrm>
            <a:off x="1146240" y="3871800"/>
            <a:ext cx="350640" cy="236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1310760" y="3875040"/>
            <a:ext cx="1468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a:t>
            </a:r>
            <a:endParaRPr b="0" lang="en-US" sz="2300" spc="-1" strike="noStrike">
              <a:solidFill>
                <a:srgbClr val="000000"/>
              </a:solidFill>
              <a:latin typeface="Times New Roman"/>
            </a:endParaRPr>
          </a:p>
        </p:txBody>
      </p:sp>
      <p:sp>
        <p:nvSpPr>
          <p:cNvPr id="2795" name=""/>
          <p:cNvSpPr/>
          <p:nvPr/>
        </p:nvSpPr>
        <p:spPr>
          <a:xfrm>
            <a:off x="1456200" y="387504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796" name=""/>
          <p:cNvSpPr/>
          <p:nvPr/>
        </p:nvSpPr>
        <p:spPr>
          <a:xfrm>
            <a:off x="1302480" y="4210200"/>
            <a:ext cx="16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b</a:t>
            </a:r>
            <a:endParaRPr b="0" lang="en-US" sz="2300" spc="-1" strike="noStrike">
              <a:solidFill>
                <a:srgbClr val="000000"/>
              </a:solidFill>
              <a:latin typeface="Times New Roman"/>
            </a:endParaRPr>
          </a:p>
        </p:txBody>
      </p:sp>
      <p:sp>
        <p:nvSpPr>
          <p:cNvPr id="2797" name=""/>
          <p:cNvSpPr/>
          <p:nvPr/>
        </p:nvSpPr>
        <p:spPr>
          <a:xfrm>
            <a:off x="1464120" y="421020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798" name=""/>
          <p:cNvSpPr/>
          <p:nvPr/>
        </p:nvSpPr>
        <p:spPr>
          <a:xfrm>
            <a:off x="1367280" y="454032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799" name=""/>
          <p:cNvSpPr/>
          <p:nvPr/>
        </p:nvSpPr>
        <p:spPr>
          <a:xfrm>
            <a:off x="1424520" y="456732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00" name=""/>
          <p:cNvSpPr/>
          <p:nvPr/>
        </p:nvSpPr>
        <p:spPr>
          <a:xfrm>
            <a:off x="1367280" y="489744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801" name=""/>
          <p:cNvSpPr/>
          <p:nvPr/>
        </p:nvSpPr>
        <p:spPr>
          <a:xfrm>
            <a:off x="1424520" y="492444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02" name=""/>
          <p:cNvSpPr/>
          <p:nvPr/>
        </p:nvSpPr>
        <p:spPr>
          <a:xfrm>
            <a:off x="1310760" y="5259240"/>
            <a:ext cx="1468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a:t>
            </a:r>
            <a:endParaRPr b="0" lang="en-US" sz="2300" spc="-1" strike="noStrike">
              <a:solidFill>
                <a:srgbClr val="000000"/>
              </a:solidFill>
              <a:latin typeface="Times New Roman"/>
            </a:endParaRPr>
          </a:p>
        </p:txBody>
      </p:sp>
      <p:sp>
        <p:nvSpPr>
          <p:cNvPr id="2803" name=""/>
          <p:cNvSpPr/>
          <p:nvPr/>
        </p:nvSpPr>
        <p:spPr>
          <a:xfrm>
            <a:off x="1456200" y="525924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04" name=""/>
          <p:cNvSpPr/>
          <p:nvPr/>
        </p:nvSpPr>
        <p:spPr>
          <a:xfrm>
            <a:off x="1367280" y="558972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805" name=""/>
          <p:cNvSpPr/>
          <p:nvPr/>
        </p:nvSpPr>
        <p:spPr>
          <a:xfrm>
            <a:off x="1424520" y="561672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06" name=""/>
          <p:cNvSpPr/>
          <p:nvPr/>
        </p:nvSpPr>
        <p:spPr>
          <a:xfrm>
            <a:off x="1302480" y="5951520"/>
            <a:ext cx="16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b</a:t>
            </a:r>
            <a:endParaRPr b="0" lang="en-US" sz="2300" spc="-1" strike="noStrike">
              <a:solidFill>
                <a:srgbClr val="000000"/>
              </a:solidFill>
              <a:latin typeface="Times New Roman"/>
            </a:endParaRPr>
          </a:p>
        </p:txBody>
      </p:sp>
      <p:sp>
        <p:nvSpPr>
          <p:cNvPr id="2807" name=""/>
          <p:cNvSpPr/>
          <p:nvPr/>
        </p:nvSpPr>
        <p:spPr>
          <a:xfrm>
            <a:off x="1464120" y="595152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08" name=""/>
          <p:cNvSpPr/>
          <p:nvPr/>
        </p:nvSpPr>
        <p:spPr>
          <a:xfrm>
            <a:off x="1495440" y="3871800"/>
            <a:ext cx="351000" cy="236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1666800" y="3875040"/>
            <a:ext cx="13032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a:t>
            </a:r>
            <a:endParaRPr b="0" lang="en-US" sz="2300" spc="-1" strike="noStrike">
              <a:solidFill>
                <a:srgbClr val="000000"/>
              </a:solidFill>
              <a:latin typeface="Times New Roman"/>
            </a:endParaRPr>
          </a:p>
        </p:txBody>
      </p:sp>
      <p:sp>
        <p:nvSpPr>
          <p:cNvPr id="2810" name=""/>
          <p:cNvSpPr/>
          <p:nvPr/>
        </p:nvSpPr>
        <p:spPr>
          <a:xfrm>
            <a:off x="1797480" y="387504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11" name=""/>
          <p:cNvSpPr/>
          <p:nvPr/>
        </p:nvSpPr>
        <p:spPr>
          <a:xfrm>
            <a:off x="1667520" y="4210200"/>
            <a:ext cx="13032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Times New Roman"/>
            </a:endParaRPr>
          </a:p>
        </p:txBody>
      </p:sp>
      <p:sp>
        <p:nvSpPr>
          <p:cNvPr id="2812" name=""/>
          <p:cNvSpPr/>
          <p:nvPr/>
        </p:nvSpPr>
        <p:spPr>
          <a:xfrm>
            <a:off x="1797480" y="421020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13" name=""/>
          <p:cNvSpPr/>
          <p:nvPr/>
        </p:nvSpPr>
        <p:spPr>
          <a:xfrm>
            <a:off x="1716480" y="454032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814" name=""/>
          <p:cNvSpPr/>
          <p:nvPr/>
        </p:nvSpPr>
        <p:spPr>
          <a:xfrm>
            <a:off x="1773720" y="456732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15" name=""/>
          <p:cNvSpPr/>
          <p:nvPr/>
        </p:nvSpPr>
        <p:spPr>
          <a:xfrm>
            <a:off x="1716480" y="489744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816" name=""/>
          <p:cNvSpPr/>
          <p:nvPr/>
        </p:nvSpPr>
        <p:spPr>
          <a:xfrm>
            <a:off x="1773720" y="492444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17" name=""/>
          <p:cNvSpPr/>
          <p:nvPr/>
        </p:nvSpPr>
        <p:spPr>
          <a:xfrm>
            <a:off x="1667520" y="5259240"/>
            <a:ext cx="13032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Times New Roman"/>
            </a:endParaRPr>
          </a:p>
        </p:txBody>
      </p:sp>
      <p:sp>
        <p:nvSpPr>
          <p:cNvPr id="2818" name=""/>
          <p:cNvSpPr/>
          <p:nvPr/>
        </p:nvSpPr>
        <p:spPr>
          <a:xfrm>
            <a:off x="1797480" y="525924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19" name=""/>
          <p:cNvSpPr/>
          <p:nvPr/>
        </p:nvSpPr>
        <p:spPr>
          <a:xfrm>
            <a:off x="1716480" y="558972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820" name=""/>
          <p:cNvSpPr/>
          <p:nvPr/>
        </p:nvSpPr>
        <p:spPr>
          <a:xfrm>
            <a:off x="1773720" y="561672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21" name=""/>
          <p:cNvSpPr/>
          <p:nvPr/>
        </p:nvSpPr>
        <p:spPr>
          <a:xfrm>
            <a:off x="1667520" y="5951520"/>
            <a:ext cx="13032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Times New Roman"/>
            </a:endParaRPr>
          </a:p>
        </p:txBody>
      </p:sp>
      <p:sp>
        <p:nvSpPr>
          <p:cNvPr id="2822" name=""/>
          <p:cNvSpPr/>
          <p:nvPr/>
        </p:nvSpPr>
        <p:spPr>
          <a:xfrm>
            <a:off x="1797480" y="595152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23" name=""/>
          <p:cNvSpPr/>
          <p:nvPr/>
        </p:nvSpPr>
        <p:spPr>
          <a:xfrm>
            <a:off x="1846440" y="3871800"/>
            <a:ext cx="350640" cy="236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2000880" y="3875040"/>
            <a:ext cx="16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b</a:t>
            </a:r>
            <a:endParaRPr b="0" lang="en-US" sz="2300" spc="-1" strike="noStrike">
              <a:solidFill>
                <a:srgbClr val="000000"/>
              </a:solidFill>
              <a:latin typeface="Times New Roman"/>
            </a:endParaRPr>
          </a:p>
        </p:txBody>
      </p:sp>
      <p:sp>
        <p:nvSpPr>
          <p:cNvPr id="2825" name=""/>
          <p:cNvSpPr/>
          <p:nvPr/>
        </p:nvSpPr>
        <p:spPr>
          <a:xfrm>
            <a:off x="2162520" y="387504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26" name=""/>
          <p:cNvSpPr/>
          <p:nvPr/>
        </p:nvSpPr>
        <p:spPr>
          <a:xfrm>
            <a:off x="2010960" y="4210200"/>
            <a:ext cx="1468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a:t>
            </a:r>
            <a:endParaRPr b="0" lang="en-US" sz="2300" spc="-1" strike="noStrike">
              <a:solidFill>
                <a:srgbClr val="000000"/>
              </a:solidFill>
              <a:latin typeface="Times New Roman"/>
            </a:endParaRPr>
          </a:p>
        </p:txBody>
      </p:sp>
      <p:sp>
        <p:nvSpPr>
          <p:cNvPr id="2827" name=""/>
          <p:cNvSpPr/>
          <p:nvPr/>
        </p:nvSpPr>
        <p:spPr>
          <a:xfrm>
            <a:off x="2156040" y="421020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28" name=""/>
          <p:cNvSpPr/>
          <p:nvPr/>
        </p:nvSpPr>
        <p:spPr>
          <a:xfrm>
            <a:off x="2066040" y="454032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829" name=""/>
          <p:cNvSpPr/>
          <p:nvPr/>
        </p:nvSpPr>
        <p:spPr>
          <a:xfrm>
            <a:off x="2122920" y="456732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30" name=""/>
          <p:cNvSpPr/>
          <p:nvPr/>
        </p:nvSpPr>
        <p:spPr>
          <a:xfrm>
            <a:off x="2066040" y="489744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831" name=""/>
          <p:cNvSpPr/>
          <p:nvPr/>
        </p:nvSpPr>
        <p:spPr>
          <a:xfrm>
            <a:off x="2122920" y="492444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32" name=""/>
          <p:cNvSpPr/>
          <p:nvPr/>
        </p:nvSpPr>
        <p:spPr>
          <a:xfrm>
            <a:off x="2016720" y="5259240"/>
            <a:ext cx="13032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Times New Roman"/>
            </a:endParaRPr>
          </a:p>
        </p:txBody>
      </p:sp>
      <p:sp>
        <p:nvSpPr>
          <p:cNvPr id="2833" name=""/>
          <p:cNvSpPr/>
          <p:nvPr/>
        </p:nvSpPr>
        <p:spPr>
          <a:xfrm>
            <a:off x="2146680" y="525924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34" name=""/>
          <p:cNvSpPr/>
          <p:nvPr/>
        </p:nvSpPr>
        <p:spPr>
          <a:xfrm>
            <a:off x="2066040" y="558972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835" name=""/>
          <p:cNvSpPr/>
          <p:nvPr/>
        </p:nvSpPr>
        <p:spPr>
          <a:xfrm>
            <a:off x="2122920" y="561672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36" name=""/>
          <p:cNvSpPr/>
          <p:nvPr/>
        </p:nvSpPr>
        <p:spPr>
          <a:xfrm>
            <a:off x="2016720" y="5951520"/>
            <a:ext cx="13032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Times New Roman"/>
            </a:endParaRPr>
          </a:p>
        </p:txBody>
      </p:sp>
      <p:sp>
        <p:nvSpPr>
          <p:cNvPr id="2837" name=""/>
          <p:cNvSpPr/>
          <p:nvPr/>
        </p:nvSpPr>
        <p:spPr>
          <a:xfrm>
            <a:off x="2142720" y="595476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38" name=""/>
          <p:cNvSpPr/>
          <p:nvPr/>
        </p:nvSpPr>
        <p:spPr>
          <a:xfrm>
            <a:off x="2195640" y="3871800"/>
            <a:ext cx="350640" cy="236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360160" y="3875040"/>
            <a:ext cx="1468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a:t>
            </a:r>
            <a:endParaRPr b="0" lang="en-US" sz="2300" spc="-1" strike="noStrike">
              <a:solidFill>
                <a:srgbClr val="000000"/>
              </a:solidFill>
              <a:latin typeface="Times New Roman"/>
            </a:endParaRPr>
          </a:p>
        </p:txBody>
      </p:sp>
      <p:sp>
        <p:nvSpPr>
          <p:cNvPr id="2840" name=""/>
          <p:cNvSpPr/>
          <p:nvPr/>
        </p:nvSpPr>
        <p:spPr>
          <a:xfrm>
            <a:off x="2505600" y="387504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41" name=""/>
          <p:cNvSpPr/>
          <p:nvPr/>
        </p:nvSpPr>
        <p:spPr>
          <a:xfrm>
            <a:off x="2350080" y="4210200"/>
            <a:ext cx="16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b</a:t>
            </a:r>
            <a:endParaRPr b="0" lang="en-US" sz="2300" spc="-1" strike="noStrike">
              <a:solidFill>
                <a:srgbClr val="000000"/>
              </a:solidFill>
              <a:latin typeface="Times New Roman"/>
            </a:endParaRPr>
          </a:p>
        </p:txBody>
      </p:sp>
      <p:sp>
        <p:nvSpPr>
          <p:cNvPr id="2842" name=""/>
          <p:cNvSpPr/>
          <p:nvPr/>
        </p:nvSpPr>
        <p:spPr>
          <a:xfrm>
            <a:off x="2511720" y="421020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43" name=""/>
          <p:cNvSpPr/>
          <p:nvPr/>
        </p:nvSpPr>
        <p:spPr>
          <a:xfrm>
            <a:off x="2415240" y="454032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844" name=""/>
          <p:cNvSpPr/>
          <p:nvPr/>
        </p:nvSpPr>
        <p:spPr>
          <a:xfrm>
            <a:off x="2472120" y="456732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45" name=""/>
          <p:cNvSpPr/>
          <p:nvPr/>
        </p:nvSpPr>
        <p:spPr>
          <a:xfrm>
            <a:off x="2415240" y="489744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846" name=""/>
          <p:cNvSpPr/>
          <p:nvPr/>
        </p:nvSpPr>
        <p:spPr>
          <a:xfrm>
            <a:off x="2472120" y="492444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47" name=""/>
          <p:cNvSpPr/>
          <p:nvPr/>
        </p:nvSpPr>
        <p:spPr>
          <a:xfrm>
            <a:off x="2360160" y="5259240"/>
            <a:ext cx="1468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a:t>
            </a:r>
            <a:endParaRPr b="0" lang="en-US" sz="2300" spc="-1" strike="noStrike">
              <a:solidFill>
                <a:srgbClr val="000000"/>
              </a:solidFill>
              <a:latin typeface="Times New Roman"/>
            </a:endParaRPr>
          </a:p>
        </p:txBody>
      </p:sp>
      <p:sp>
        <p:nvSpPr>
          <p:cNvPr id="2848" name=""/>
          <p:cNvSpPr/>
          <p:nvPr/>
        </p:nvSpPr>
        <p:spPr>
          <a:xfrm>
            <a:off x="2505600" y="525924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49" name=""/>
          <p:cNvSpPr/>
          <p:nvPr/>
        </p:nvSpPr>
        <p:spPr>
          <a:xfrm>
            <a:off x="2415240" y="558972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850" name=""/>
          <p:cNvSpPr/>
          <p:nvPr/>
        </p:nvSpPr>
        <p:spPr>
          <a:xfrm>
            <a:off x="2472120" y="561672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51" name=""/>
          <p:cNvSpPr/>
          <p:nvPr/>
        </p:nvSpPr>
        <p:spPr>
          <a:xfrm>
            <a:off x="2367720" y="5951520"/>
            <a:ext cx="13032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Times New Roman"/>
            </a:endParaRPr>
          </a:p>
        </p:txBody>
      </p:sp>
      <p:sp>
        <p:nvSpPr>
          <p:cNvPr id="2852" name=""/>
          <p:cNvSpPr/>
          <p:nvPr/>
        </p:nvSpPr>
        <p:spPr>
          <a:xfrm>
            <a:off x="2495880" y="595152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53" name=""/>
          <p:cNvSpPr/>
          <p:nvPr/>
        </p:nvSpPr>
        <p:spPr>
          <a:xfrm>
            <a:off x="615960" y="3871800"/>
            <a:ext cx="401760" cy="251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959400" y="4002120"/>
            <a:ext cx="9684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2855" name=""/>
          <p:cNvSpPr/>
          <p:nvPr/>
        </p:nvSpPr>
        <p:spPr>
          <a:xfrm>
            <a:off x="1056240" y="400212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2856" name=""/>
          <p:cNvSpPr/>
          <p:nvPr/>
        </p:nvSpPr>
        <p:spPr>
          <a:xfrm>
            <a:off x="959400" y="4336920"/>
            <a:ext cx="9684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2857" name=""/>
          <p:cNvSpPr/>
          <p:nvPr/>
        </p:nvSpPr>
        <p:spPr>
          <a:xfrm>
            <a:off x="1056240" y="433692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2858" name=""/>
          <p:cNvSpPr/>
          <p:nvPr/>
        </p:nvSpPr>
        <p:spPr>
          <a:xfrm>
            <a:off x="1018800" y="454032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859" name=""/>
          <p:cNvSpPr/>
          <p:nvPr/>
        </p:nvSpPr>
        <p:spPr>
          <a:xfrm>
            <a:off x="1072800" y="457200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60" name=""/>
          <p:cNvSpPr/>
          <p:nvPr/>
        </p:nvSpPr>
        <p:spPr>
          <a:xfrm>
            <a:off x="1018800" y="489744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861" name=""/>
          <p:cNvSpPr/>
          <p:nvPr/>
        </p:nvSpPr>
        <p:spPr>
          <a:xfrm>
            <a:off x="1072800" y="492768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62" name=""/>
          <p:cNvSpPr/>
          <p:nvPr/>
        </p:nvSpPr>
        <p:spPr>
          <a:xfrm>
            <a:off x="865440" y="5386320"/>
            <a:ext cx="1926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8</a:t>
            </a:r>
            <a:endParaRPr b="0" lang="en-US" sz="1500" spc="-1" strike="noStrike">
              <a:solidFill>
                <a:srgbClr val="000000"/>
              </a:solidFill>
              <a:latin typeface="Times New Roman"/>
            </a:endParaRPr>
          </a:p>
        </p:txBody>
      </p:sp>
      <p:sp>
        <p:nvSpPr>
          <p:cNvPr id="2863" name=""/>
          <p:cNvSpPr/>
          <p:nvPr/>
        </p:nvSpPr>
        <p:spPr>
          <a:xfrm>
            <a:off x="1056240" y="538632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2864" name=""/>
          <p:cNvSpPr/>
          <p:nvPr/>
        </p:nvSpPr>
        <p:spPr>
          <a:xfrm>
            <a:off x="1018800" y="558972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865" name=""/>
          <p:cNvSpPr/>
          <p:nvPr/>
        </p:nvSpPr>
        <p:spPr>
          <a:xfrm>
            <a:off x="1072800" y="561960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66" name=""/>
          <p:cNvSpPr/>
          <p:nvPr/>
        </p:nvSpPr>
        <p:spPr>
          <a:xfrm>
            <a:off x="770040" y="6083280"/>
            <a:ext cx="2887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985</a:t>
            </a:r>
            <a:endParaRPr b="0" lang="en-US" sz="1500" spc="-1" strike="noStrike">
              <a:solidFill>
                <a:srgbClr val="000000"/>
              </a:solidFill>
              <a:latin typeface="Times New Roman"/>
            </a:endParaRPr>
          </a:p>
        </p:txBody>
      </p:sp>
      <p:sp>
        <p:nvSpPr>
          <p:cNvPr id="2867" name=""/>
          <p:cNvSpPr/>
          <p:nvPr/>
        </p:nvSpPr>
        <p:spPr>
          <a:xfrm>
            <a:off x="1072800" y="595800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868" name=""/>
          <p:cNvSpPr/>
          <p:nvPr/>
        </p:nvSpPr>
        <p:spPr>
          <a:xfrm>
            <a:off x="1144440" y="3870360"/>
            <a:ext cx="1800" cy="2448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a:off x="1494000" y="3870360"/>
            <a:ext cx="1440" cy="2448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a:off x="1844640" y="3870360"/>
            <a:ext cx="1800" cy="2448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2193840" y="3870360"/>
            <a:ext cx="1800" cy="2448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2543040" y="3870360"/>
            <a:ext cx="1800" cy="2448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1144440" y="3870360"/>
            <a:ext cx="1398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4" name=""/>
          <p:cNvSpPr/>
          <p:nvPr/>
        </p:nvSpPr>
        <p:spPr>
          <a:xfrm>
            <a:off x="1144440" y="6318360"/>
            <a:ext cx="1398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5" name=""/>
          <p:cNvSpPr/>
          <p:nvPr/>
        </p:nvSpPr>
        <p:spPr>
          <a:xfrm>
            <a:off x="447840" y="2633760"/>
            <a:ext cx="25380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479880" y="263700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877" name=""/>
          <p:cNvSpPr/>
          <p:nvPr/>
        </p:nvSpPr>
        <p:spPr>
          <a:xfrm>
            <a:off x="558360" y="26370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78" name=""/>
          <p:cNvSpPr/>
          <p:nvPr/>
        </p:nvSpPr>
        <p:spPr>
          <a:xfrm>
            <a:off x="2324160" y="2633760"/>
            <a:ext cx="5493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2356200" y="263700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a:t>
            </a:r>
            <a:endParaRPr b="0" lang="en-US" sz="1200" spc="-1" strike="noStrike">
              <a:solidFill>
                <a:srgbClr val="000000"/>
              </a:solidFill>
              <a:latin typeface="Times New Roman"/>
            </a:endParaRPr>
          </a:p>
        </p:txBody>
      </p:sp>
      <p:sp>
        <p:nvSpPr>
          <p:cNvPr id="2880" name=""/>
          <p:cNvSpPr/>
          <p:nvPr/>
        </p:nvSpPr>
        <p:spPr>
          <a:xfrm>
            <a:off x="2598120" y="26370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81" name=""/>
          <p:cNvSpPr/>
          <p:nvPr/>
        </p:nvSpPr>
        <p:spPr>
          <a:xfrm>
            <a:off x="4280040" y="2633760"/>
            <a:ext cx="4381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4311360" y="26370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Times New Roman"/>
            </a:endParaRPr>
          </a:p>
        </p:txBody>
      </p:sp>
      <p:sp>
        <p:nvSpPr>
          <p:cNvPr id="2883" name=""/>
          <p:cNvSpPr/>
          <p:nvPr/>
        </p:nvSpPr>
        <p:spPr>
          <a:xfrm>
            <a:off x="4635000" y="26370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84" name=""/>
          <p:cNvGrpSpPr/>
          <p:nvPr/>
        </p:nvGrpSpPr>
        <p:grpSpPr>
          <a:xfrm>
            <a:off x="506520" y="1773000"/>
            <a:ext cx="4863960" cy="820800"/>
            <a:chOff x="506520" y="1773000"/>
            <a:chExt cx="4863960" cy="820800"/>
          </a:xfrm>
        </p:grpSpPr>
        <p:sp>
          <p:nvSpPr>
            <p:cNvPr id="2885" name=""/>
            <p:cNvSpPr/>
            <p:nvPr/>
          </p:nvSpPr>
          <p:spPr>
            <a:xfrm>
              <a:off x="506520" y="1774800"/>
              <a:ext cx="4862520" cy="817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506520" y="1773360"/>
              <a:ext cx="48625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7" name=""/>
            <p:cNvSpPr/>
            <p:nvPr/>
          </p:nvSpPr>
          <p:spPr>
            <a:xfrm>
              <a:off x="506520" y="2592360"/>
              <a:ext cx="48625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8" name=""/>
            <p:cNvSpPr/>
            <p:nvPr/>
          </p:nvSpPr>
          <p:spPr>
            <a:xfrm flipV="1">
              <a:off x="5369040" y="1773000"/>
              <a:ext cx="1440" cy="819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flipV="1">
              <a:off x="506520" y="1773000"/>
              <a:ext cx="1440" cy="819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506520" y="2592360"/>
              <a:ext cx="48625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1" name=""/>
            <p:cNvSpPr/>
            <p:nvPr/>
          </p:nvSpPr>
          <p:spPr>
            <a:xfrm flipV="1">
              <a:off x="506520" y="1773000"/>
              <a:ext cx="1440" cy="819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flipV="1">
              <a:off x="506520" y="2568600"/>
              <a:ext cx="144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93" name=""/>
            <p:cNvSpPr/>
            <p:nvPr/>
          </p:nvSpPr>
          <p:spPr>
            <a:xfrm>
              <a:off x="506520" y="1773360"/>
              <a:ext cx="14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94" name=""/>
            <p:cNvSpPr/>
            <p:nvPr/>
          </p:nvSpPr>
          <p:spPr>
            <a:xfrm flipV="1">
              <a:off x="2924280" y="2568600"/>
              <a:ext cx="324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95" name=""/>
            <p:cNvSpPr/>
            <p:nvPr/>
          </p:nvSpPr>
          <p:spPr>
            <a:xfrm>
              <a:off x="2924280" y="1773360"/>
              <a:ext cx="32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96" name=""/>
            <p:cNvSpPr/>
            <p:nvPr/>
          </p:nvSpPr>
          <p:spPr>
            <a:xfrm flipV="1">
              <a:off x="5369040" y="2568600"/>
              <a:ext cx="144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97" name=""/>
            <p:cNvSpPr/>
            <p:nvPr/>
          </p:nvSpPr>
          <p:spPr>
            <a:xfrm>
              <a:off x="5369040" y="1773360"/>
              <a:ext cx="14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98" name=""/>
            <p:cNvSpPr/>
            <p:nvPr/>
          </p:nvSpPr>
          <p:spPr>
            <a:xfrm>
              <a:off x="506520" y="2592360"/>
              <a:ext cx="475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9" name=""/>
            <p:cNvSpPr/>
            <p:nvPr/>
          </p:nvSpPr>
          <p:spPr>
            <a:xfrm flipH="1">
              <a:off x="5297040" y="2592360"/>
              <a:ext cx="716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0" name=""/>
            <p:cNvSpPr/>
            <p:nvPr/>
          </p:nvSpPr>
          <p:spPr>
            <a:xfrm>
              <a:off x="506520" y="2316240"/>
              <a:ext cx="475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1" name=""/>
            <p:cNvSpPr/>
            <p:nvPr/>
          </p:nvSpPr>
          <p:spPr>
            <a:xfrm flipH="1">
              <a:off x="5297040" y="2316240"/>
              <a:ext cx="716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2" name=""/>
            <p:cNvSpPr/>
            <p:nvPr/>
          </p:nvSpPr>
          <p:spPr>
            <a:xfrm>
              <a:off x="506520" y="2041560"/>
              <a:ext cx="475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3" name=""/>
            <p:cNvSpPr/>
            <p:nvPr/>
          </p:nvSpPr>
          <p:spPr>
            <a:xfrm flipH="1">
              <a:off x="5297040" y="2041560"/>
              <a:ext cx="716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4" name=""/>
            <p:cNvSpPr/>
            <p:nvPr/>
          </p:nvSpPr>
          <p:spPr>
            <a:xfrm>
              <a:off x="506520" y="1773360"/>
              <a:ext cx="475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5" name=""/>
            <p:cNvSpPr/>
            <p:nvPr/>
          </p:nvSpPr>
          <p:spPr>
            <a:xfrm flipH="1">
              <a:off x="5297040" y="1773360"/>
              <a:ext cx="716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6" name=""/>
            <p:cNvSpPr/>
            <p:nvPr/>
          </p:nvSpPr>
          <p:spPr>
            <a:xfrm>
              <a:off x="506520" y="1773360"/>
              <a:ext cx="48625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7" name=""/>
            <p:cNvSpPr/>
            <p:nvPr/>
          </p:nvSpPr>
          <p:spPr>
            <a:xfrm>
              <a:off x="506520" y="2592360"/>
              <a:ext cx="48625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8" name=""/>
            <p:cNvSpPr/>
            <p:nvPr/>
          </p:nvSpPr>
          <p:spPr>
            <a:xfrm flipV="1">
              <a:off x="5369040" y="1773000"/>
              <a:ext cx="1440" cy="819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flipV="1">
              <a:off x="506520" y="1773000"/>
              <a:ext cx="1440" cy="819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506520" y="1987560"/>
              <a:ext cx="1127160" cy="304920"/>
            </a:xfrm>
            <a:custGeom>
              <a:avLst/>
              <a:gdLst/>
              <a:ahLst/>
              <a:rect l="l" t="t" r="r" b="b"/>
              <a:pathLst>
                <a:path w="1420" h="386">
                  <a:moveTo>
                    <a:pt x="0" y="68"/>
                  </a:moveTo>
                  <a:lnTo>
                    <a:pt x="0" y="78"/>
                  </a:lnTo>
                  <a:lnTo>
                    <a:pt x="0" y="59"/>
                  </a:lnTo>
                  <a:lnTo>
                    <a:pt x="61" y="68"/>
                  </a:lnTo>
                  <a:lnTo>
                    <a:pt x="30" y="68"/>
                  </a:lnTo>
                  <a:lnTo>
                    <a:pt x="61" y="107"/>
                  </a:lnTo>
                  <a:lnTo>
                    <a:pt x="90" y="87"/>
                  </a:lnTo>
                  <a:lnTo>
                    <a:pt x="90" y="98"/>
                  </a:lnTo>
                  <a:lnTo>
                    <a:pt x="90" y="68"/>
                  </a:lnTo>
                  <a:lnTo>
                    <a:pt x="119" y="48"/>
                  </a:lnTo>
                  <a:lnTo>
                    <a:pt x="119" y="68"/>
                  </a:lnTo>
                  <a:lnTo>
                    <a:pt x="119" y="39"/>
                  </a:lnTo>
                  <a:lnTo>
                    <a:pt x="149" y="21"/>
                  </a:lnTo>
                  <a:lnTo>
                    <a:pt x="149" y="0"/>
                  </a:lnTo>
                  <a:lnTo>
                    <a:pt x="149" y="59"/>
                  </a:lnTo>
                  <a:lnTo>
                    <a:pt x="178" y="87"/>
                  </a:lnTo>
                  <a:lnTo>
                    <a:pt x="178" y="98"/>
                  </a:lnTo>
                  <a:lnTo>
                    <a:pt x="208" y="59"/>
                  </a:lnTo>
                  <a:lnTo>
                    <a:pt x="208" y="98"/>
                  </a:lnTo>
                  <a:lnTo>
                    <a:pt x="208" y="30"/>
                  </a:lnTo>
                  <a:lnTo>
                    <a:pt x="237" y="10"/>
                  </a:lnTo>
                  <a:lnTo>
                    <a:pt x="237" y="87"/>
                  </a:lnTo>
                  <a:lnTo>
                    <a:pt x="266" y="107"/>
                  </a:lnTo>
                  <a:lnTo>
                    <a:pt x="266" y="68"/>
                  </a:lnTo>
                  <a:lnTo>
                    <a:pt x="297" y="59"/>
                  </a:lnTo>
                  <a:lnTo>
                    <a:pt x="297" y="107"/>
                  </a:lnTo>
                  <a:lnTo>
                    <a:pt x="327" y="98"/>
                  </a:lnTo>
                  <a:lnTo>
                    <a:pt x="327" y="116"/>
                  </a:lnTo>
                  <a:lnTo>
                    <a:pt x="327" y="87"/>
                  </a:lnTo>
                  <a:lnTo>
                    <a:pt x="356" y="98"/>
                  </a:lnTo>
                  <a:lnTo>
                    <a:pt x="356" y="10"/>
                  </a:lnTo>
                  <a:lnTo>
                    <a:pt x="386" y="30"/>
                  </a:lnTo>
                  <a:lnTo>
                    <a:pt x="386" y="68"/>
                  </a:lnTo>
                  <a:lnTo>
                    <a:pt x="415" y="59"/>
                  </a:lnTo>
                  <a:lnTo>
                    <a:pt x="415" y="78"/>
                  </a:lnTo>
                  <a:lnTo>
                    <a:pt x="415" y="59"/>
                  </a:lnTo>
                  <a:lnTo>
                    <a:pt x="444" y="59"/>
                  </a:lnTo>
                  <a:lnTo>
                    <a:pt x="444" y="78"/>
                  </a:lnTo>
                  <a:lnTo>
                    <a:pt x="444" y="59"/>
                  </a:lnTo>
                  <a:lnTo>
                    <a:pt x="474" y="48"/>
                  </a:lnTo>
                  <a:lnTo>
                    <a:pt x="474" y="59"/>
                  </a:lnTo>
                  <a:lnTo>
                    <a:pt x="503" y="39"/>
                  </a:lnTo>
                  <a:lnTo>
                    <a:pt x="503" y="59"/>
                  </a:lnTo>
                  <a:lnTo>
                    <a:pt x="503" y="30"/>
                  </a:lnTo>
                  <a:lnTo>
                    <a:pt x="503" y="39"/>
                  </a:lnTo>
                  <a:lnTo>
                    <a:pt x="534" y="21"/>
                  </a:lnTo>
                  <a:lnTo>
                    <a:pt x="534" y="68"/>
                  </a:lnTo>
                  <a:lnTo>
                    <a:pt x="534" y="10"/>
                  </a:lnTo>
                  <a:lnTo>
                    <a:pt x="534" y="59"/>
                  </a:lnTo>
                  <a:lnTo>
                    <a:pt x="563" y="68"/>
                  </a:lnTo>
                  <a:lnTo>
                    <a:pt x="563" y="107"/>
                  </a:lnTo>
                  <a:lnTo>
                    <a:pt x="563" y="98"/>
                  </a:lnTo>
                  <a:lnTo>
                    <a:pt x="593" y="87"/>
                  </a:lnTo>
                  <a:lnTo>
                    <a:pt x="593" y="136"/>
                  </a:lnTo>
                  <a:lnTo>
                    <a:pt x="622" y="164"/>
                  </a:lnTo>
                  <a:lnTo>
                    <a:pt x="622" y="125"/>
                  </a:lnTo>
                  <a:lnTo>
                    <a:pt x="652" y="136"/>
                  </a:lnTo>
                  <a:lnTo>
                    <a:pt x="652" y="116"/>
                  </a:lnTo>
                  <a:lnTo>
                    <a:pt x="652" y="136"/>
                  </a:lnTo>
                  <a:lnTo>
                    <a:pt x="681" y="145"/>
                  </a:lnTo>
                  <a:lnTo>
                    <a:pt x="681" y="193"/>
                  </a:lnTo>
                  <a:lnTo>
                    <a:pt x="710" y="184"/>
                  </a:lnTo>
                  <a:lnTo>
                    <a:pt x="710" y="155"/>
                  </a:lnTo>
                  <a:lnTo>
                    <a:pt x="741" y="136"/>
                  </a:lnTo>
                  <a:lnTo>
                    <a:pt x="741" y="116"/>
                  </a:lnTo>
                  <a:lnTo>
                    <a:pt x="771" y="107"/>
                  </a:lnTo>
                  <a:lnTo>
                    <a:pt x="771" y="125"/>
                  </a:lnTo>
                  <a:lnTo>
                    <a:pt x="771" y="116"/>
                  </a:lnTo>
                  <a:lnTo>
                    <a:pt x="800" y="136"/>
                  </a:lnTo>
                  <a:lnTo>
                    <a:pt x="800" y="107"/>
                  </a:lnTo>
                  <a:lnTo>
                    <a:pt x="828" y="116"/>
                  </a:lnTo>
                  <a:lnTo>
                    <a:pt x="828" y="164"/>
                  </a:lnTo>
                  <a:lnTo>
                    <a:pt x="828" y="145"/>
                  </a:lnTo>
                  <a:lnTo>
                    <a:pt x="859" y="145"/>
                  </a:lnTo>
                  <a:lnTo>
                    <a:pt x="859" y="164"/>
                  </a:lnTo>
                  <a:lnTo>
                    <a:pt x="888" y="155"/>
                  </a:lnTo>
                  <a:lnTo>
                    <a:pt x="888" y="78"/>
                  </a:lnTo>
                  <a:lnTo>
                    <a:pt x="888" y="87"/>
                  </a:lnTo>
                  <a:lnTo>
                    <a:pt x="918" y="125"/>
                  </a:lnTo>
                  <a:lnTo>
                    <a:pt x="918" y="87"/>
                  </a:lnTo>
                  <a:lnTo>
                    <a:pt x="947" y="107"/>
                  </a:lnTo>
                  <a:lnTo>
                    <a:pt x="947" y="145"/>
                  </a:lnTo>
                  <a:lnTo>
                    <a:pt x="947" y="116"/>
                  </a:lnTo>
                  <a:lnTo>
                    <a:pt x="978" y="125"/>
                  </a:lnTo>
                  <a:lnTo>
                    <a:pt x="978" y="116"/>
                  </a:lnTo>
                  <a:lnTo>
                    <a:pt x="1007" y="107"/>
                  </a:lnTo>
                  <a:lnTo>
                    <a:pt x="1007" y="145"/>
                  </a:lnTo>
                  <a:lnTo>
                    <a:pt x="1007" y="116"/>
                  </a:lnTo>
                  <a:lnTo>
                    <a:pt x="1035" y="116"/>
                  </a:lnTo>
                  <a:lnTo>
                    <a:pt x="1035" y="87"/>
                  </a:lnTo>
                  <a:lnTo>
                    <a:pt x="1035" y="125"/>
                  </a:lnTo>
                  <a:lnTo>
                    <a:pt x="1064" y="136"/>
                  </a:lnTo>
                  <a:lnTo>
                    <a:pt x="1064" y="175"/>
                  </a:lnTo>
                  <a:lnTo>
                    <a:pt x="1064" y="155"/>
                  </a:lnTo>
                  <a:lnTo>
                    <a:pt x="1096" y="164"/>
                  </a:lnTo>
                  <a:lnTo>
                    <a:pt x="1096" y="175"/>
                  </a:lnTo>
                  <a:lnTo>
                    <a:pt x="1096" y="164"/>
                  </a:lnTo>
                  <a:lnTo>
                    <a:pt x="1125" y="125"/>
                  </a:lnTo>
                  <a:lnTo>
                    <a:pt x="1125" y="212"/>
                  </a:lnTo>
                  <a:lnTo>
                    <a:pt x="1154" y="184"/>
                  </a:lnTo>
                  <a:lnTo>
                    <a:pt x="1154" y="175"/>
                  </a:lnTo>
                  <a:lnTo>
                    <a:pt x="1154" y="184"/>
                  </a:lnTo>
                  <a:lnTo>
                    <a:pt x="1184" y="193"/>
                  </a:lnTo>
                  <a:lnTo>
                    <a:pt x="1184" y="250"/>
                  </a:lnTo>
                  <a:lnTo>
                    <a:pt x="1215" y="232"/>
                  </a:lnTo>
                  <a:lnTo>
                    <a:pt x="1215" y="289"/>
                  </a:lnTo>
                  <a:lnTo>
                    <a:pt x="1242" y="261"/>
                  </a:lnTo>
                  <a:lnTo>
                    <a:pt x="1242" y="250"/>
                  </a:lnTo>
                  <a:lnTo>
                    <a:pt x="1242" y="279"/>
                  </a:lnTo>
                  <a:lnTo>
                    <a:pt x="1272" y="270"/>
                  </a:lnTo>
                  <a:lnTo>
                    <a:pt x="1272" y="279"/>
                  </a:lnTo>
                  <a:lnTo>
                    <a:pt x="1272" y="270"/>
                  </a:lnTo>
                  <a:lnTo>
                    <a:pt x="1301" y="300"/>
                  </a:lnTo>
                  <a:lnTo>
                    <a:pt x="1301" y="289"/>
                  </a:lnTo>
                  <a:lnTo>
                    <a:pt x="1301" y="300"/>
                  </a:lnTo>
                  <a:lnTo>
                    <a:pt x="1332" y="318"/>
                  </a:lnTo>
                  <a:lnTo>
                    <a:pt x="1332" y="347"/>
                  </a:lnTo>
                  <a:lnTo>
                    <a:pt x="1332" y="289"/>
                  </a:lnTo>
                  <a:lnTo>
                    <a:pt x="1332" y="338"/>
                  </a:lnTo>
                  <a:lnTo>
                    <a:pt x="1362" y="347"/>
                  </a:lnTo>
                  <a:lnTo>
                    <a:pt x="1362" y="338"/>
                  </a:lnTo>
                  <a:lnTo>
                    <a:pt x="1362" y="386"/>
                  </a:lnTo>
                  <a:lnTo>
                    <a:pt x="1391" y="367"/>
                  </a:lnTo>
                  <a:lnTo>
                    <a:pt x="1391" y="347"/>
                  </a:lnTo>
                  <a:lnTo>
                    <a:pt x="1420" y="367"/>
                  </a:lnTo>
                  <a:lnTo>
                    <a:pt x="1420" y="338"/>
                  </a:lnTo>
                  <a:lnTo>
                    <a:pt x="1420" y="367"/>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1633680" y="2101680"/>
              <a:ext cx="1128600" cy="276480"/>
            </a:xfrm>
            <a:custGeom>
              <a:avLst/>
              <a:gdLst/>
              <a:ahLst/>
              <a:rect l="l" t="t" r="r" b="b"/>
              <a:pathLst>
                <a:path w="1422" h="347">
                  <a:moveTo>
                    <a:pt x="0" y="222"/>
                  </a:moveTo>
                  <a:lnTo>
                    <a:pt x="30" y="232"/>
                  </a:lnTo>
                  <a:lnTo>
                    <a:pt x="30" y="318"/>
                  </a:lnTo>
                  <a:lnTo>
                    <a:pt x="59" y="347"/>
                  </a:lnTo>
                  <a:lnTo>
                    <a:pt x="59" y="309"/>
                  </a:lnTo>
                  <a:lnTo>
                    <a:pt x="88" y="300"/>
                  </a:lnTo>
                  <a:lnTo>
                    <a:pt x="88" y="309"/>
                  </a:lnTo>
                  <a:lnTo>
                    <a:pt x="88" y="279"/>
                  </a:lnTo>
                  <a:lnTo>
                    <a:pt x="120" y="261"/>
                  </a:lnTo>
                  <a:lnTo>
                    <a:pt x="120" y="202"/>
                  </a:lnTo>
                  <a:lnTo>
                    <a:pt x="120" y="213"/>
                  </a:lnTo>
                  <a:lnTo>
                    <a:pt x="149" y="202"/>
                  </a:lnTo>
                  <a:lnTo>
                    <a:pt x="149" y="213"/>
                  </a:lnTo>
                  <a:lnTo>
                    <a:pt x="149" y="193"/>
                  </a:lnTo>
                  <a:lnTo>
                    <a:pt x="178" y="193"/>
                  </a:lnTo>
                  <a:lnTo>
                    <a:pt x="178" y="145"/>
                  </a:lnTo>
                  <a:lnTo>
                    <a:pt x="178" y="155"/>
                  </a:lnTo>
                  <a:lnTo>
                    <a:pt x="208" y="145"/>
                  </a:lnTo>
                  <a:lnTo>
                    <a:pt x="208" y="164"/>
                  </a:lnTo>
                  <a:lnTo>
                    <a:pt x="208" y="116"/>
                  </a:lnTo>
                  <a:lnTo>
                    <a:pt x="239" y="98"/>
                  </a:lnTo>
                  <a:lnTo>
                    <a:pt x="239" y="48"/>
                  </a:lnTo>
                  <a:lnTo>
                    <a:pt x="239" y="87"/>
                  </a:lnTo>
                  <a:lnTo>
                    <a:pt x="268" y="98"/>
                  </a:lnTo>
                  <a:lnTo>
                    <a:pt x="268" y="145"/>
                  </a:lnTo>
                  <a:lnTo>
                    <a:pt x="296" y="125"/>
                  </a:lnTo>
                  <a:lnTo>
                    <a:pt x="296" y="78"/>
                  </a:lnTo>
                  <a:lnTo>
                    <a:pt x="296" y="87"/>
                  </a:lnTo>
                  <a:lnTo>
                    <a:pt x="325" y="98"/>
                  </a:lnTo>
                  <a:lnTo>
                    <a:pt x="325" y="78"/>
                  </a:lnTo>
                  <a:lnTo>
                    <a:pt x="325" y="107"/>
                  </a:lnTo>
                  <a:lnTo>
                    <a:pt x="356" y="98"/>
                  </a:lnTo>
                  <a:lnTo>
                    <a:pt x="356" y="116"/>
                  </a:lnTo>
                  <a:lnTo>
                    <a:pt x="356" y="78"/>
                  </a:lnTo>
                  <a:lnTo>
                    <a:pt x="386" y="87"/>
                  </a:lnTo>
                  <a:lnTo>
                    <a:pt x="386" y="68"/>
                  </a:lnTo>
                  <a:lnTo>
                    <a:pt x="386" y="134"/>
                  </a:lnTo>
                  <a:lnTo>
                    <a:pt x="415" y="155"/>
                  </a:lnTo>
                  <a:lnTo>
                    <a:pt x="415" y="116"/>
                  </a:lnTo>
                  <a:lnTo>
                    <a:pt x="415" y="125"/>
                  </a:lnTo>
                  <a:lnTo>
                    <a:pt x="444" y="134"/>
                  </a:lnTo>
                  <a:lnTo>
                    <a:pt x="444" y="98"/>
                  </a:lnTo>
                  <a:lnTo>
                    <a:pt x="444" y="116"/>
                  </a:lnTo>
                  <a:lnTo>
                    <a:pt x="475" y="107"/>
                  </a:lnTo>
                  <a:lnTo>
                    <a:pt x="475" y="155"/>
                  </a:lnTo>
                  <a:lnTo>
                    <a:pt x="505" y="184"/>
                  </a:lnTo>
                  <a:lnTo>
                    <a:pt x="505" y="173"/>
                  </a:lnTo>
                  <a:lnTo>
                    <a:pt x="505" y="213"/>
                  </a:lnTo>
                  <a:lnTo>
                    <a:pt x="532" y="193"/>
                  </a:lnTo>
                  <a:lnTo>
                    <a:pt x="532" y="116"/>
                  </a:lnTo>
                  <a:lnTo>
                    <a:pt x="532" y="145"/>
                  </a:lnTo>
                  <a:lnTo>
                    <a:pt x="562" y="125"/>
                  </a:lnTo>
                  <a:lnTo>
                    <a:pt x="562" y="155"/>
                  </a:lnTo>
                  <a:lnTo>
                    <a:pt x="562" y="116"/>
                  </a:lnTo>
                  <a:lnTo>
                    <a:pt x="593" y="145"/>
                  </a:lnTo>
                  <a:lnTo>
                    <a:pt x="593" y="116"/>
                  </a:lnTo>
                  <a:lnTo>
                    <a:pt x="622" y="125"/>
                  </a:lnTo>
                  <a:lnTo>
                    <a:pt x="622" y="68"/>
                  </a:lnTo>
                  <a:lnTo>
                    <a:pt x="652" y="59"/>
                  </a:lnTo>
                  <a:lnTo>
                    <a:pt x="652" y="48"/>
                  </a:lnTo>
                  <a:lnTo>
                    <a:pt x="652" y="78"/>
                  </a:lnTo>
                  <a:lnTo>
                    <a:pt x="681" y="78"/>
                  </a:lnTo>
                  <a:lnTo>
                    <a:pt x="681" y="39"/>
                  </a:lnTo>
                  <a:lnTo>
                    <a:pt x="712" y="68"/>
                  </a:lnTo>
                  <a:lnTo>
                    <a:pt x="712" y="48"/>
                  </a:lnTo>
                  <a:lnTo>
                    <a:pt x="712" y="87"/>
                  </a:lnTo>
                  <a:lnTo>
                    <a:pt x="741" y="98"/>
                  </a:lnTo>
                  <a:lnTo>
                    <a:pt x="741" y="155"/>
                  </a:lnTo>
                  <a:lnTo>
                    <a:pt x="769" y="155"/>
                  </a:lnTo>
                  <a:lnTo>
                    <a:pt x="769" y="202"/>
                  </a:lnTo>
                  <a:lnTo>
                    <a:pt x="798" y="213"/>
                  </a:lnTo>
                  <a:lnTo>
                    <a:pt x="798" y="184"/>
                  </a:lnTo>
                  <a:lnTo>
                    <a:pt x="798" y="193"/>
                  </a:lnTo>
                  <a:lnTo>
                    <a:pt x="830" y="164"/>
                  </a:lnTo>
                  <a:lnTo>
                    <a:pt x="830" y="173"/>
                  </a:lnTo>
                  <a:lnTo>
                    <a:pt x="859" y="155"/>
                  </a:lnTo>
                  <a:lnTo>
                    <a:pt x="859" y="173"/>
                  </a:lnTo>
                  <a:lnTo>
                    <a:pt x="859" y="125"/>
                  </a:lnTo>
                  <a:lnTo>
                    <a:pt x="888" y="78"/>
                  </a:lnTo>
                  <a:lnTo>
                    <a:pt x="888" y="59"/>
                  </a:lnTo>
                  <a:lnTo>
                    <a:pt x="918" y="68"/>
                  </a:lnTo>
                  <a:lnTo>
                    <a:pt x="918" y="134"/>
                  </a:lnTo>
                  <a:lnTo>
                    <a:pt x="918" y="125"/>
                  </a:lnTo>
                  <a:lnTo>
                    <a:pt x="949" y="98"/>
                  </a:lnTo>
                  <a:lnTo>
                    <a:pt x="949" y="87"/>
                  </a:lnTo>
                  <a:lnTo>
                    <a:pt x="949" y="155"/>
                  </a:lnTo>
                  <a:lnTo>
                    <a:pt x="978" y="125"/>
                  </a:lnTo>
                  <a:lnTo>
                    <a:pt x="978" y="155"/>
                  </a:lnTo>
                  <a:lnTo>
                    <a:pt x="978" y="134"/>
                  </a:lnTo>
                  <a:lnTo>
                    <a:pt x="1006" y="125"/>
                  </a:lnTo>
                  <a:lnTo>
                    <a:pt x="1006" y="107"/>
                  </a:lnTo>
                  <a:lnTo>
                    <a:pt x="1006" y="134"/>
                  </a:lnTo>
                  <a:lnTo>
                    <a:pt x="1037" y="155"/>
                  </a:lnTo>
                  <a:lnTo>
                    <a:pt x="1037" y="107"/>
                  </a:lnTo>
                  <a:lnTo>
                    <a:pt x="1037" y="125"/>
                  </a:lnTo>
                  <a:lnTo>
                    <a:pt x="1066" y="145"/>
                  </a:lnTo>
                  <a:lnTo>
                    <a:pt x="1066" y="173"/>
                  </a:lnTo>
                  <a:lnTo>
                    <a:pt x="1066" y="116"/>
                  </a:lnTo>
                  <a:lnTo>
                    <a:pt x="1096" y="98"/>
                  </a:lnTo>
                  <a:lnTo>
                    <a:pt x="1096" y="125"/>
                  </a:lnTo>
                  <a:lnTo>
                    <a:pt x="1125" y="98"/>
                  </a:lnTo>
                  <a:lnTo>
                    <a:pt x="1125" y="145"/>
                  </a:lnTo>
                  <a:lnTo>
                    <a:pt x="1156" y="116"/>
                  </a:lnTo>
                  <a:lnTo>
                    <a:pt x="1156" y="164"/>
                  </a:lnTo>
                  <a:lnTo>
                    <a:pt x="1185" y="145"/>
                  </a:lnTo>
                  <a:lnTo>
                    <a:pt x="1185" y="155"/>
                  </a:lnTo>
                  <a:lnTo>
                    <a:pt x="1185" y="125"/>
                  </a:lnTo>
                  <a:lnTo>
                    <a:pt x="1215" y="155"/>
                  </a:lnTo>
                  <a:lnTo>
                    <a:pt x="1215" y="107"/>
                  </a:lnTo>
                  <a:lnTo>
                    <a:pt x="1215" y="125"/>
                  </a:lnTo>
                  <a:lnTo>
                    <a:pt x="1242" y="98"/>
                  </a:lnTo>
                  <a:lnTo>
                    <a:pt x="1242" y="125"/>
                  </a:lnTo>
                  <a:lnTo>
                    <a:pt x="1242" y="98"/>
                  </a:lnTo>
                  <a:lnTo>
                    <a:pt x="1274" y="87"/>
                  </a:lnTo>
                  <a:lnTo>
                    <a:pt x="1274" y="48"/>
                  </a:lnTo>
                  <a:lnTo>
                    <a:pt x="1303" y="59"/>
                  </a:lnTo>
                  <a:lnTo>
                    <a:pt x="1332" y="11"/>
                  </a:lnTo>
                  <a:lnTo>
                    <a:pt x="1332" y="0"/>
                  </a:lnTo>
                  <a:lnTo>
                    <a:pt x="1332" y="11"/>
                  </a:lnTo>
                  <a:lnTo>
                    <a:pt x="1362" y="21"/>
                  </a:lnTo>
                  <a:lnTo>
                    <a:pt x="1362" y="68"/>
                  </a:lnTo>
                  <a:lnTo>
                    <a:pt x="1362" y="48"/>
                  </a:lnTo>
                  <a:lnTo>
                    <a:pt x="1393" y="78"/>
                  </a:lnTo>
                  <a:lnTo>
                    <a:pt x="1393" y="48"/>
                  </a:lnTo>
                  <a:lnTo>
                    <a:pt x="1422" y="68"/>
                  </a:lnTo>
                  <a:lnTo>
                    <a:pt x="1422" y="39"/>
                  </a:lnTo>
                  <a:lnTo>
                    <a:pt x="1422" y="87"/>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2762280" y="2079720"/>
              <a:ext cx="1101600" cy="198360"/>
            </a:xfrm>
            <a:custGeom>
              <a:avLst/>
              <a:gdLst/>
              <a:ahLst/>
              <a:rect l="l" t="t" r="r" b="b"/>
              <a:pathLst>
                <a:path w="1389" h="251">
                  <a:moveTo>
                    <a:pt x="0" y="116"/>
                  </a:moveTo>
                  <a:lnTo>
                    <a:pt x="29" y="136"/>
                  </a:lnTo>
                  <a:lnTo>
                    <a:pt x="29" y="127"/>
                  </a:lnTo>
                  <a:lnTo>
                    <a:pt x="29" y="174"/>
                  </a:lnTo>
                  <a:lnTo>
                    <a:pt x="57" y="184"/>
                  </a:lnTo>
                  <a:lnTo>
                    <a:pt x="57" y="222"/>
                  </a:lnTo>
                  <a:lnTo>
                    <a:pt x="57" y="204"/>
                  </a:lnTo>
                  <a:lnTo>
                    <a:pt x="88" y="193"/>
                  </a:lnTo>
                  <a:lnTo>
                    <a:pt x="88" y="233"/>
                  </a:lnTo>
                  <a:lnTo>
                    <a:pt x="88" y="213"/>
                  </a:lnTo>
                  <a:lnTo>
                    <a:pt x="118" y="222"/>
                  </a:lnTo>
                  <a:lnTo>
                    <a:pt x="118" y="213"/>
                  </a:lnTo>
                  <a:lnTo>
                    <a:pt x="118" y="242"/>
                  </a:lnTo>
                  <a:lnTo>
                    <a:pt x="147" y="222"/>
                  </a:lnTo>
                  <a:lnTo>
                    <a:pt x="147" y="204"/>
                  </a:lnTo>
                  <a:lnTo>
                    <a:pt x="147" y="213"/>
                  </a:lnTo>
                  <a:lnTo>
                    <a:pt x="176" y="193"/>
                  </a:lnTo>
                  <a:lnTo>
                    <a:pt x="176" y="174"/>
                  </a:lnTo>
                  <a:lnTo>
                    <a:pt x="176" y="193"/>
                  </a:lnTo>
                  <a:lnTo>
                    <a:pt x="207" y="184"/>
                  </a:lnTo>
                  <a:lnTo>
                    <a:pt x="207" y="204"/>
                  </a:lnTo>
                  <a:lnTo>
                    <a:pt x="207" y="184"/>
                  </a:lnTo>
                  <a:lnTo>
                    <a:pt x="237" y="204"/>
                  </a:lnTo>
                  <a:lnTo>
                    <a:pt x="237" y="213"/>
                  </a:lnTo>
                  <a:lnTo>
                    <a:pt x="237" y="184"/>
                  </a:lnTo>
                  <a:lnTo>
                    <a:pt x="264" y="193"/>
                  </a:lnTo>
                  <a:lnTo>
                    <a:pt x="264" y="233"/>
                  </a:lnTo>
                  <a:lnTo>
                    <a:pt x="294" y="213"/>
                  </a:lnTo>
                  <a:lnTo>
                    <a:pt x="294" y="174"/>
                  </a:lnTo>
                  <a:lnTo>
                    <a:pt x="325" y="204"/>
                  </a:lnTo>
                  <a:lnTo>
                    <a:pt x="325" y="251"/>
                  </a:lnTo>
                  <a:lnTo>
                    <a:pt x="325" y="222"/>
                  </a:lnTo>
                  <a:lnTo>
                    <a:pt x="354" y="204"/>
                  </a:lnTo>
                  <a:lnTo>
                    <a:pt x="354" y="242"/>
                  </a:lnTo>
                  <a:lnTo>
                    <a:pt x="354" y="233"/>
                  </a:lnTo>
                  <a:lnTo>
                    <a:pt x="384" y="213"/>
                  </a:lnTo>
                  <a:lnTo>
                    <a:pt x="384" y="193"/>
                  </a:lnTo>
                  <a:lnTo>
                    <a:pt x="384" y="222"/>
                  </a:lnTo>
                  <a:lnTo>
                    <a:pt x="415" y="213"/>
                  </a:lnTo>
                  <a:lnTo>
                    <a:pt x="415" y="174"/>
                  </a:lnTo>
                  <a:lnTo>
                    <a:pt x="444" y="174"/>
                  </a:lnTo>
                  <a:lnTo>
                    <a:pt x="444" y="116"/>
                  </a:lnTo>
                  <a:lnTo>
                    <a:pt x="472" y="107"/>
                  </a:lnTo>
                  <a:lnTo>
                    <a:pt x="472" y="97"/>
                  </a:lnTo>
                  <a:lnTo>
                    <a:pt x="472" y="107"/>
                  </a:lnTo>
                  <a:lnTo>
                    <a:pt x="501" y="88"/>
                  </a:lnTo>
                  <a:lnTo>
                    <a:pt x="501" y="127"/>
                  </a:lnTo>
                  <a:lnTo>
                    <a:pt x="501" y="88"/>
                  </a:lnTo>
                  <a:lnTo>
                    <a:pt x="501" y="107"/>
                  </a:lnTo>
                  <a:lnTo>
                    <a:pt x="532" y="127"/>
                  </a:lnTo>
                  <a:lnTo>
                    <a:pt x="532" y="136"/>
                  </a:lnTo>
                  <a:lnTo>
                    <a:pt x="532" y="97"/>
                  </a:lnTo>
                  <a:lnTo>
                    <a:pt x="562" y="97"/>
                  </a:lnTo>
                  <a:lnTo>
                    <a:pt x="562" y="39"/>
                  </a:lnTo>
                  <a:lnTo>
                    <a:pt x="562" y="50"/>
                  </a:lnTo>
                  <a:lnTo>
                    <a:pt x="591" y="68"/>
                  </a:lnTo>
                  <a:lnTo>
                    <a:pt x="591" y="107"/>
                  </a:lnTo>
                  <a:lnTo>
                    <a:pt x="591" y="88"/>
                  </a:lnTo>
                  <a:lnTo>
                    <a:pt x="620" y="68"/>
                  </a:lnTo>
                  <a:lnTo>
                    <a:pt x="620" y="88"/>
                  </a:lnTo>
                  <a:lnTo>
                    <a:pt x="620" y="50"/>
                  </a:lnTo>
                  <a:lnTo>
                    <a:pt x="651" y="29"/>
                  </a:lnTo>
                  <a:lnTo>
                    <a:pt x="651" y="59"/>
                  </a:lnTo>
                  <a:lnTo>
                    <a:pt x="651" y="39"/>
                  </a:lnTo>
                  <a:lnTo>
                    <a:pt x="679" y="59"/>
                  </a:lnTo>
                  <a:lnTo>
                    <a:pt x="679" y="20"/>
                  </a:lnTo>
                  <a:lnTo>
                    <a:pt x="679" y="77"/>
                  </a:lnTo>
                  <a:lnTo>
                    <a:pt x="708" y="59"/>
                  </a:lnTo>
                  <a:lnTo>
                    <a:pt x="708" y="29"/>
                  </a:lnTo>
                  <a:lnTo>
                    <a:pt x="738" y="59"/>
                  </a:lnTo>
                  <a:lnTo>
                    <a:pt x="738" y="68"/>
                  </a:lnTo>
                  <a:lnTo>
                    <a:pt x="738" y="50"/>
                  </a:lnTo>
                  <a:lnTo>
                    <a:pt x="738" y="59"/>
                  </a:lnTo>
                  <a:lnTo>
                    <a:pt x="769" y="68"/>
                  </a:lnTo>
                  <a:lnTo>
                    <a:pt x="769" y="29"/>
                  </a:lnTo>
                  <a:lnTo>
                    <a:pt x="798" y="20"/>
                  </a:lnTo>
                  <a:lnTo>
                    <a:pt x="798" y="0"/>
                  </a:lnTo>
                  <a:lnTo>
                    <a:pt x="828" y="29"/>
                  </a:lnTo>
                  <a:lnTo>
                    <a:pt x="828" y="59"/>
                  </a:lnTo>
                  <a:lnTo>
                    <a:pt x="828" y="50"/>
                  </a:lnTo>
                  <a:lnTo>
                    <a:pt x="857" y="59"/>
                  </a:lnTo>
                  <a:lnTo>
                    <a:pt x="857" y="77"/>
                  </a:lnTo>
                  <a:lnTo>
                    <a:pt x="886" y="68"/>
                  </a:lnTo>
                  <a:lnTo>
                    <a:pt x="886" y="39"/>
                  </a:lnTo>
                  <a:lnTo>
                    <a:pt x="886" y="68"/>
                  </a:lnTo>
                  <a:lnTo>
                    <a:pt x="916" y="97"/>
                  </a:lnTo>
                  <a:lnTo>
                    <a:pt x="916" y="107"/>
                  </a:lnTo>
                  <a:lnTo>
                    <a:pt x="945" y="88"/>
                  </a:lnTo>
                  <a:lnTo>
                    <a:pt x="945" y="116"/>
                  </a:lnTo>
                  <a:lnTo>
                    <a:pt x="974" y="88"/>
                  </a:lnTo>
                  <a:lnTo>
                    <a:pt x="974" y="116"/>
                  </a:lnTo>
                  <a:lnTo>
                    <a:pt x="1006" y="97"/>
                  </a:lnTo>
                  <a:lnTo>
                    <a:pt x="1006" y="127"/>
                  </a:lnTo>
                  <a:lnTo>
                    <a:pt x="1035" y="154"/>
                  </a:lnTo>
                  <a:lnTo>
                    <a:pt x="1035" y="165"/>
                  </a:lnTo>
                  <a:lnTo>
                    <a:pt x="1035" y="107"/>
                  </a:lnTo>
                  <a:lnTo>
                    <a:pt x="1064" y="127"/>
                  </a:lnTo>
                  <a:lnTo>
                    <a:pt x="1064" y="97"/>
                  </a:lnTo>
                  <a:lnTo>
                    <a:pt x="1064" y="116"/>
                  </a:lnTo>
                  <a:lnTo>
                    <a:pt x="1094" y="107"/>
                  </a:lnTo>
                  <a:lnTo>
                    <a:pt x="1094" y="97"/>
                  </a:lnTo>
                  <a:lnTo>
                    <a:pt x="1123" y="116"/>
                  </a:lnTo>
                  <a:lnTo>
                    <a:pt x="1123" y="145"/>
                  </a:lnTo>
                  <a:lnTo>
                    <a:pt x="1152" y="165"/>
                  </a:lnTo>
                  <a:lnTo>
                    <a:pt x="1152" y="204"/>
                  </a:lnTo>
                  <a:lnTo>
                    <a:pt x="1182" y="165"/>
                  </a:lnTo>
                  <a:lnTo>
                    <a:pt x="1182" y="145"/>
                  </a:lnTo>
                  <a:lnTo>
                    <a:pt x="1182" y="174"/>
                  </a:lnTo>
                  <a:lnTo>
                    <a:pt x="1211" y="145"/>
                  </a:lnTo>
                  <a:lnTo>
                    <a:pt x="1211" y="127"/>
                  </a:lnTo>
                  <a:lnTo>
                    <a:pt x="1242" y="145"/>
                  </a:lnTo>
                  <a:lnTo>
                    <a:pt x="1242" y="88"/>
                  </a:lnTo>
                  <a:lnTo>
                    <a:pt x="1242" y="107"/>
                  </a:lnTo>
                  <a:lnTo>
                    <a:pt x="1272" y="97"/>
                  </a:lnTo>
                  <a:lnTo>
                    <a:pt x="1272" y="29"/>
                  </a:lnTo>
                  <a:lnTo>
                    <a:pt x="1301" y="29"/>
                  </a:lnTo>
                  <a:lnTo>
                    <a:pt x="1301" y="97"/>
                  </a:lnTo>
                  <a:lnTo>
                    <a:pt x="1301" y="88"/>
                  </a:lnTo>
                  <a:lnTo>
                    <a:pt x="1330" y="68"/>
                  </a:lnTo>
                  <a:lnTo>
                    <a:pt x="1330" y="59"/>
                  </a:lnTo>
                  <a:lnTo>
                    <a:pt x="1330" y="97"/>
                  </a:lnTo>
                  <a:lnTo>
                    <a:pt x="1360" y="77"/>
                  </a:lnTo>
                  <a:lnTo>
                    <a:pt x="1360" y="59"/>
                  </a:lnTo>
                  <a:lnTo>
                    <a:pt x="1389" y="68"/>
                  </a:lnTo>
                  <a:lnTo>
                    <a:pt x="1389" y="5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3863880" y="2048040"/>
              <a:ext cx="1174680" cy="230040"/>
            </a:xfrm>
            <a:custGeom>
              <a:avLst/>
              <a:gdLst/>
              <a:ahLst/>
              <a:rect l="l" t="t" r="r" b="b"/>
              <a:pathLst>
                <a:path w="1481" h="289">
                  <a:moveTo>
                    <a:pt x="0" y="86"/>
                  </a:moveTo>
                  <a:lnTo>
                    <a:pt x="0" y="124"/>
                  </a:lnTo>
                  <a:lnTo>
                    <a:pt x="29" y="145"/>
                  </a:lnTo>
                  <a:lnTo>
                    <a:pt x="29" y="154"/>
                  </a:lnTo>
                  <a:lnTo>
                    <a:pt x="29" y="124"/>
                  </a:lnTo>
                  <a:lnTo>
                    <a:pt x="60" y="145"/>
                  </a:lnTo>
                  <a:lnTo>
                    <a:pt x="60" y="163"/>
                  </a:lnTo>
                  <a:lnTo>
                    <a:pt x="60" y="154"/>
                  </a:lnTo>
                  <a:lnTo>
                    <a:pt x="90" y="163"/>
                  </a:lnTo>
                  <a:lnTo>
                    <a:pt x="90" y="183"/>
                  </a:lnTo>
                  <a:lnTo>
                    <a:pt x="90" y="163"/>
                  </a:lnTo>
                  <a:lnTo>
                    <a:pt x="119" y="183"/>
                  </a:lnTo>
                  <a:lnTo>
                    <a:pt x="119" y="163"/>
                  </a:lnTo>
                  <a:lnTo>
                    <a:pt x="149" y="154"/>
                  </a:lnTo>
                  <a:lnTo>
                    <a:pt x="149" y="135"/>
                  </a:lnTo>
                  <a:lnTo>
                    <a:pt x="149" y="145"/>
                  </a:lnTo>
                  <a:lnTo>
                    <a:pt x="178" y="145"/>
                  </a:lnTo>
                  <a:lnTo>
                    <a:pt x="178" y="124"/>
                  </a:lnTo>
                  <a:lnTo>
                    <a:pt x="178" y="145"/>
                  </a:lnTo>
                  <a:lnTo>
                    <a:pt x="207" y="163"/>
                  </a:lnTo>
                  <a:lnTo>
                    <a:pt x="207" y="212"/>
                  </a:lnTo>
                  <a:lnTo>
                    <a:pt x="237" y="222"/>
                  </a:lnTo>
                  <a:lnTo>
                    <a:pt x="237" y="231"/>
                  </a:lnTo>
                  <a:lnTo>
                    <a:pt x="266" y="240"/>
                  </a:lnTo>
                  <a:lnTo>
                    <a:pt x="266" y="271"/>
                  </a:lnTo>
                  <a:lnTo>
                    <a:pt x="266" y="260"/>
                  </a:lnTo>
                  <a:lnTo>
                    <a:pt x="327" y="240"/>
                  </a:lnTo>
                  <a:lnTo>
                    <a:pt x="327" y="222"/>
                  </a:lnTo>
                  <a:lnTo>
                    <a:pt x="327" y="289"/>
                  </a:lnTo>
                  <a:lnTo>
                    <a:pt x="356" y="280"/>
                  </a:lnTo>
                  <a:lnTo>
                    <a:pt x="356" y="192"/>
                  </a:lnTo>
                  <a:lnTo>
                    <a:pt x="385" y="183"/>
                  </a:lnTo>
                  <a:lnTo>
                    <a:pt x="385" y="192"/>
                  </a:lnTo>
                  <a:lnTo>
                    <a:pt x="385" y="163"/>
                  </a:lnTo>
                  <a:lnTo>
                    <a:pt x="415" y="192"/>
                  </a:lnTo>
                  <a:lnTo>
                    <a:pt x="415" y="183"/>
                  </a:lnTo>
                  <a:lnTo>
                    <a:pt x="415" y="201"/>
                  </a:lnTo>
                  <a:lnTo>
                    <a:pt x="444" y="212"/>
                  </a:lnTo>
                  <a:lnTo>
                    <a:pt x="444" y="192"/>
                  </a:lnTo>
                  <a:lnTo>
                    <a:pt x="444" y="201"/>
                  </a:lnTo>
                  <a:lnTo>
                    <a:pt x="473" y="222"/>
                  </a:lnTo>
                  <a:lnTo>
                    <a:pt x="473" y="231"/>
                  </a:lnTo>
                  <a:lnTo>
                    <a:pt x="473" y="201"/>
                  </a:lnTo>
                  <a:lnTo>
                    <a:pt x="503" y="240"/>
                  </a:lnTo>
                  <a:lnTo>
                    <a:pt x="503" y="222"/>
                  </a:lnTo>
                  <a:lnTo>
                    <a:pt x="503" y="231"/>
                  </a:lnTo>
                  <a:lnTo>
                    <a:pt x="534" y="240"/>
                  </a:lnTo>
                  <a:lnTo>
                    <a:pt x="534" y="192"/>
                  </a:lnTo>
                  <a:lnTo>
                    <a:pt x="563" y="192"/>
                  </a:lnTo>
                  <a:lnTo>
                    <a:pt x="563" y="174"/>
                  </a:lnTo>
                  <a:lnTo>
                    <a:pt x="563" y="201"/>
                  </a:lnTo>
                  <a:lnTo>
                    <a:pt x="593" y="222"/>
                  </a:lnTo>
                  <a:lnTo>
                    <a:pt x="593" y="124"/>
                  </a:lnTo>
                  <a:lnTo>
                    <a:pt x="622" y="135"/>
                  </a:lnTo>
                  <a:lnTo>
                    <a:pt x="622" y="124"/>
                  </a:lnTo>
                  <a:lnTo>
                    <a:pt x="651" y="163"/>
                  </a:lnTo>
                  <a:lnTo>
                    <a:pt x="651" y="135"/>
                  </a:lnTo>
                  <a:lnTo>
                    <a:pt x="681" y="145"/>
                  </a:lnTo>
                  <a:lnTo>
                    <a:pt x="681" y="183"/>
                  </a:lnTo>
                  <a:lnTo>
                    <a:pt x="710" y="163"/>
                  </a:lnTo>
                  <a:lnTo>
                    <a:pt x="710" y="201"/>
                  </a:lnTo>
                  <a:lnTo>
                    <a:pt x="710" y="192"/>
                  </a:lnTo>
                  <a:lnTo>
                    <a:pt x="739" y="183"/>
                  </a:lnTo>
                  <a:lnTo>
                    <a:pt x="739" y="212"/>
                  </a:lnTo>
                  <a:lnTo>
                    <a:pt x="739" y="201"/>
                  </a:lnTo>
                  <a:lnTo>
                    <a:pt x="771" y="192"/>
                  </a:lnTo>
                  <a:lnTo>
                    <a:pt x="771" y="115"/>
                  </a:lnTo>
                  <a:lnTo>
                    <a:pt x="800" y="67"/>
                  </a:lnTo>
                  <a:lnTo>
                    <a:pt x="800" y="106"/>
                  </a:lnTo>
                  <a:lnTo>
                    <a:pt x="800" y="86"/>
                  </a:lnTo>
                  <a:lnTo>
                    <a:pt x="829" y="67"/>
                  </a:lnTo>
                  <a:lnTo>
                    <a:pt x="829" y="29"/>
                  </a:lnTo>
                  <a:lnTo>
                    <a:pt x="829" y="47"/>
                  </a:lnTo>
                  <a:lnTo>
                    <a:pt x="859" y="56"/>
                  </a:lnTo>
                  <a:lnTo>
                    <a:pt x="859" y="67"/>
                  </a:lnTo>
                  <a:lnTo>
                    <a:pt x="888" y="86"/>
                  </a:lnTo>
                  <a:lnTo>
                    <a:pt x="888" y="67"/>
                  </a:lnTo>
                  <a:lnTo>
                    <a:pt x="888" y="77"/>
                  </a:lnTo>
                  <a:lnTo>
                    <a:pt x="917" y="67"/>
                  </a:lnTo>
                  <a:lnTo>
                    <a:pt x="947" y="77"/>
                  </a:lnTo>
                  <a:lnTo>
                    <a:pt x="947" y="86"/>
                  </a:lnTo>
                  <a:lnTo>
                    <a:pt x="947" y="38"/>
                  </a:lnTo>
                  <a:lnTo>
                    <a:pt x="978" y="47"/>
                  </a:lnTo>
                  <a:lnTo>
                    <a:pt x="978" y="77"/>
                  </a:lnTo>
                  <a:lnTo>
                    <a:pt x="978" y="29"/>
                  </a:lnTo>
                  <a:lnTo>
                    <a:pt x="1007" y="18"/>
                  </a:lnTo>
                  <a:lnTo>
                    <a:pt x="1007" y="0"/>
                  </a:lnTo>
                  <a:lnTo>
                    <a:pt x="1007" y="9"/>
                  </a:lnTo>
                  <a:lnTo>
                    <a:pt x="1037" y="67"/>
                  </a:lnTo>
                  <a:lnTo>
                    <a:pt x="1037" y="115"/>
                  </a:lnTo>
                  <a:lnTo>
                    <a:pt x="1066" y="124"/>
                  </a:lnTo>
                  <a:lnTo>
                    <a:pt x="1066" y="67"/>
                  </a:lnTo>
                  <a:lnTo>
                    <a:pt x="1095" y="77"/>
                  </a:lnTo>
                  <a:lnTo>
                    <a:pt x="1095" y="86"/>
                  </a:lnTo>
                  <a:lnTo>
                    <a:pt x="1095" y="67"/>
                  </a:lnTo>
                  <a:lnTo>
                    <a:pt x="1125" y="47"/>
                  </a:lnTo>
                  <a:lnTo>
                    <a:pt x="1125" y="67"/>
                  </a:lnTo>
                  <a:lnTo>
                    <a:pt x="1154" y="77"/>
                  </a:lnTo>
                  <a:lnTo>
                    <a:pt x="1154" y="135"/>
                  </a:lnTo>
                  <a:lnTo>
                    <a:pt x="1154" y="115"/>
                  </a:lnTo>
                  <a:lnTo>
                    <a:pt x="1183" y="145"/>
                  </a:lnTo>
                  <a:lnTo>
                    <a:pt x="1183" y="163"/>
                  </a:lnTo>
                  <a:lnTo>
                    <a:pt x="1214" y="192"/>
                  </a:lnTo>
                  <a:lnTo>
                    <a:pt x="1214" y="154"/>
                  </a:lnTo>
                  <a:lnTo>
                    <a:pt x="1214" y="163"/>
                  </a:lnTo>
                  <a:lnTo>
                    <a:pt x="1244" y="145"/>
                  </a:lnTo>
                  <a:lnTo>
                    <a:pt x="1244" y="115"/>
                  </a:lnTo>
                  <a:lnTo>
                    <a:pt x="1273" y="124"/>
                  </a:lnTo>
                  <a:lnTo>
                    <a:pt x="1273" y="163"/>
                  </a:lnTo>
                  <a:lnTo>
                    <a:pt x="1273" y="106"/>
                  </a:lnTo>
                  <a:lnTo>
                    <a:pt x="1303" y="115"/>
                  </a:lnTo>
                  <a:lnTo>
                    <a:pt x="1303" y="124"/>
                  </a:lnTo>
                  <a:lnTo>
                    <a:pt x="1303" y="77"/>
                  </a:lnTo>
                  <a:lnTo>
                    <a:pt x="1332" y="56"/>
                  </a:lnTo>
                  <a:lnTo>
                    <a:pt x="1332" y="0"/>
                  </a:lnTo>
                  <a:lnTo>
                    <a:pt x="1332" y="29"/>
                  </a:lnTo>
                  <a:lnTo>
                    <a:pt x="1361" y="9"/>
                  </a:lnTo>
                  <a:lnTo>
                    <a:pt x="1361" y="18"/>
                  </a:lnTo>
                  <a:lnTo>
                    <a:pt x="1391" y="29"/>
                  </a:lnTo>
                  <a:lnTo>
                    <a:pt x="1391" y="67"/>
                  </a:lnTo>
                  <a:lnTo>
                    <a:pt x="1391" y="56"/>
                  </a:lnTo>
                  <a:lnTo>
                    <a:pt x="1420" y="38"/>
                  </a:lnTo>
                  <a:lnTo>
                    <a:pt x="1420" y="47"/>
                  </a:lnTo>
                  <a:lnTo>
                    <a:pt x="1420" y="29"/>
                  </a:lnTo>
                  <a:lnTo>
                    <a:pt x="1451" y="18"/>
                  </a:lnTo>
                  <a:lnTo>
                    <a:pt x="1451" y="56"/>
                  </a:lnTo>
                  <a:lnTo>
                    <a:pt x="1481" y="67"/>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5038560" y="2079720"/>
              <a:ext cx="330480" cy="152280"/>
            </a:xfrm>
            <a:custGeom>
              <a:avLst/>
              <a:gdLst/>
              <a:ahLst/>
              <a:rect l="l" t="t" r="r" b="b"/>
              <a:pathLst>
                <a:path w="414" h="193">
                  <a:moveTo>
                    <a:pt x="0" y="29"/>
                  </a:moveTo>
                  <a:lnTo>
                    <a:pt x="0" y="59"/>
                  </a:lnTo>
                  <a:lnTo>
                    <a:pt x="0" y="39"/>
                  </a:lnTo>
                  <a:lnTo>
                    <a:pt x="29" y="29"/>
                  </a:lnTo>
                  <a:lnTo>
                    <a:pt x="29" y="11"/>
                  </a:lnTo>
                  <a:lnTo>
                    <a:pt x="29" y="29"/>
                  </a:lnTo>
                  <a:lnTo>
                    <a:pt x="58" y="50"/>
                  </a:lnTo>
                  <a:lnTo>
                    <a:pt x="58" y="20"/>
                  </a:lnTo>
                  <a:lnTo>
                    <a:pt x="88" y="29"/>
                  </a:lnTo>
                  <a:lnTo>
                    <a:pt x="88" y="0"/>
                  </a:lnTo>
                  <a:lnTo>
                    <a:pt x="117" y="20"/>
                  </a:lnTo>
                  <a:lnTo>
                    <a:pt x="117" y="50"/>
                  </a:lnTo>
                  <a:lnTo>
                    <a:pt x="117" y="39"/>
                  </a:lnTo>
                  <a:lnTo>
                    <a:pt x="146" y="29"/>
                  </a:lnTo>
                  <a:lnTo>
                    <a:pt x="146" y="86"/>
                  </a:lnTo>
                  <a:lnTo>
                    <a:pt x="177" y="86"/>
                  </a:lnTo>
                  <a:lnTo>
                    <a:pt x="177" y="134"/>
                  </a:lnTo>
                  <a:lnTo>
                    <a:pt x="177" y="107"/>
                  </a:lnTo>
                  <a:lnTo>
                    <a:pt x="207" y="125"/>
                  </a:lnTo>
                  <a:lnTo>
                    <a:pt x="207" y="68"/>
                  </a:lnTo>
                  <a:lnTo>
                    <a:pt x="207" y="86"/>
                  </a:lnTo>
                  <a:lnTo>
                    <a:pt x="236" y="97"/>
                  </a:lnTo>
                  <a:lnTo>
                    <a:pt x="236" y="163"/>
                  </a:lnTo>
                  <a:lnTo>
                    <a:pt x="264" y="154"/>
                  </a:lnTo>
                  <a:lnTo>
                    <a:pt x="264" y="145"/>
                  </a:lnTo>
                  <a:lnTo>
                    <a:pt x="264" y="193"/>
                  </a:lnTo>
                  <a:lnTo>
                    <a:pt x="295" y="182"/>
                  </a:lnTo>
                  <a:lnTo>
                    <a:pt x="295" y="145"/>
                  </a:lnTo>
                  <a:lnTo>
                    <a:pt x="324" y="107"/>
                  </a:lnTo>
                  <a:lnTo>
                    <a:pt x="324" y="0"/>
                  </a:lnTo>
                  <a:lnTo>
                    <a:pt x="354" y="50"/>
                  </a:lnTo>
                  <a:lnTo>
                    <a:pt x="354" y="68"/>
                  </a:lnTo>
                  <a:lnTo>
                    <a:pt x="354" y="11"/>
                  </a:lnTo>
                  <a:lnTo>
                    <a:pt x="383" y="68"/>
                  </a:lnTo>
                  <a:lnTo>
                    <a:pt x="383" y="77"/>
                  </a:lnTo>
                  <a:lnTo>
                    <a:pt x="383" y="50"/>
                  </a:lnTo>
                  <a:lnTo>
                    <a:pt x="383" y="59"/>
                  </a:lnTo>
                  <a:lnTo>
                    <a:pt x="414" y="29"/>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5" name=""/>
          <p:cNvSpPr/>
          <p:nvPr/>
        </p:nvSpPr>
        <p:spPr>
          <a:xfrm>
            <a:off x="533520" y="2133720"/>
            <a:ext cx="58680" cy="9360"/>
          </a:xfrm>
          <a:custGeom>
            <a:avLst/>
            <a:gdLst/>
            <a:ahLst/>
            <a:rect l="l" t="t" r="r" b="b"/>
            <a:pathLst>
              <a:path w="73" h="11">
                <a:moveTo>
                  <a:pt x="0" y="9"/>
                </a:moveTo>
                <a:lnTo>
                  <a:pt x="9" y="11"/>
                </a:lnTo>
                <a:lnTo>
                  <a:pt x="17" y="11"/>
                </a:lnTo>
                <a:lnTo>
                  <a:pt x="35" y="7"/>
                </a:lnTo>
                <a:lnTo>
                  <a:pt x="55" y="2"/>
                </a:lnTo>
                <a:lnTo>
                  <a:pt x="73" y="0"/>
                </a:lnTo>
              </a:path>
            </a:pathLst>
          </a:custGeom>
          <a:noFill/>
          <a:ln w="176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2916" name=""/>
          <p:cNvGrpSpPr/>
          <p:nvPr/>
        </p:nvGrpSpPr>
        <p:grpSpPr>
          <a:xfrm>
            <a:off x="592200" y="2187720"/>
            <a:ext cx="387360" cy="685800"/>
            <a:chOff x="592200" y="2187720"/>
            <a:chExt cx="387360" cy="685800"/>
          </a:xfrm>
        </p:grpSpPr>
        <p:sp>
          <p:nvSpPr>
            <p:cNvPr id="2917" name=""/>
            <p:cNvSpPr/>
            <p:nvPr/>
          </p:nvSpPr>
          <p:spPr>
            <a:xfrm>
              <a:off x="592200" y="2187720"/>
              <a:ext cx="326880" cy="581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861840" y="2733840"/>
              <a:ext cx="117720" cy="139680"/>
            </a:xfrm>
            <a:custGeom>
              <a:avLst/>
              <a:gdLst/>
              <a:ahLst/>
              <a:rect l="l" t="t" r="r" b="b"/>
              <a:pathLst>
                <a:path w="146" h="174">
                  <a:moveTo>
                    <a:pt x="0" y="77"/>
                  </a:moveTo>
                  <a:lnTo>
                    <a:pt x="146" y="174"/>
                  </a:lnTo>
                  <a:lnTo>
                    <a:pt x="135"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9" name=""/>
          <p:cNvSpPr/>
          <p:nvPr/>
        </p:nvSpPr>
        <p:spPr>
          <a:xfrm>
            <a:off x="2654280" y="3176640"/>
            <a:ext cx="139860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2905560" y="3187800"/>
            <a:ext cx="102492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  c  b  a</a:t>
            </a:r>
            <a:endParaRPr b="0" lang="en-US" sz="2300" spc="-1" strike="noStrike">
              <a:solidFill>
                <a:srgbClr val="000000"/>
              </a:solidFill>
              <a:latin typeface="Times New Roman"/>
            </a:endParaRPr>
          </a:p>
        </p:txBody>
      </p:sp>
      <p:sp>
        <p:nvSpPr>
          <p:cNvPr id="2921" name=""/>
          <p:cNvSpPr/>
          <p:nvPr/>
        </p:nvSpPr>
        <p:spPr>
          <a:xfrm>
            <a:off x="3924720" y="318780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922" name=""/>
          <p:cNvSpPr/>
          <p:nvPr/>
        </p:nvSpPr>
        <p:spPr>
          <a:xfrm>
            <a:off x="3592440" y="1774800"/>
            <a:ext cx="1400400" cy="35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3645000" y="1779480"/>
            <a:ext cx="3405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T    </a:t>
            </a:r>
            <a:endParaRPr b="0" lang="en-US" sz="1700" spc="-1" strike="noStrike">
              <a:solidFill>
                <a:srgbClr val="000000"/>
              </a:solidFill>
              <a:latin typeface="Times New Roman"/>
            </a:endParaRPr>
          </a:p>
        </p:txBody>
      </p:sp>
      <p:sp>
        <p:nvSpPr>
          <p:cNvPr id="2924" name=""/>
          <p:cNvSpPr/>
          <p:nvPr/>
        </p:nvSpPr>
        <p:spPr>
          <a:xfrm>
            <a:off x="3971880" y="182412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925" name=""/>
          <p:cNvSpPr/>
          <p:nvPr/>
        </p:nvSpPr>
        <p:spPr>
          <a:xfrm>
            <a:off x="4050000" y="1824120"/>
            <a:ext cx="60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m= 1000</a:t>
            </a:r>
            <a:endParaRPr b="0" lang="en-US" sz="1300" spc="-1" strike="noStrike">
              <a:solidFill>
                <a:srgbClr val="000000"/>
              </a:solidFill>
              <a:latin typeface="Times New Roman"/>
            </a:endParaRPr>
          </a:p>
        </p:txBody>
      </p:sp>
      <p:sp>
        <p:nvSpPr>
          <p:cNvPr id="2926" name=""/>
          <p:cNvSpPr/>
          <p:nvPr/>
        </p:nvSpPr>
        <p:spPr>
          <a:xfrm>
            <a:off x="4649760" y="182412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927" name=""/>
          <p:cNvSpPr/>
          <p:nvPr/>
        </p:nvSpPr>
        <p:spPr>
          <a:xfrm>
            <a:off x="4714200" y="177948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2928" name=""/>
          <p:cNvSpPr/>
          <p:nvPr/>
        </p:nvSpPr>
        <p:spPr>
          <a:xfrm>
            <a:off x="3122640" y="4562640"/>
            <a:ext cx="1390680" cy="10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3189960" y="4564080"/>
            <a:ext cx="6483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 = 3  </a:t>
            </a:r>
            <a:endParaRPr b="0" lang="en-US" sz="1900" spc="-1" strike="noStrike">
              <a:solidFill>
                <a:srgbClr val="000000"/>
              </a:solidFill>
              <a:latin typeface="Times New Roman"/>
            </a:endParaRPr>
          </a:p>
        </p:txBody>
      </p:sp>
      <p:sp>
        <p:nvSpPr>
          <p:cNvPr id="2930" name=""/>
          <p:cNvSpPr/>
          <p:nvPr/>
        </p:nvSpPr>
        <p:spPr>
          <a:xfrm>
            <a:off x="3827160" y="4564080"/>
            <a:ext cx="11664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931" name=""/>
          <p:cNvSpPr/>
          <p:nvPr/>
        </p:nvSpPr>
        <p:spPr>
          <a:xfrm>
            <a:off x="3944880" y="4560840"/>
            <a:ext cx="1209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a:t>
            </a:r>
            <a:endParaRPr b="0" lang="en-US" sz="1900" spc="-1" strike="noStrike">
              <a:solidFill>
                <a:srgbClr val="000000"/>
              </a:solidFill>
              <a:latin typeface="Times New Roman"/>
            </a:endParaRPr>
          </a:p>
        </p:txBody>
      </p:sp>
      <p:sp>
        <p:nvSpPr>
          <p:cNvPr id="2932" name=""/>
          <p:cNvSpPr/>
          <p:nvPr/>
        </p:nvSpPr>
        <p:spPr>
          <a:xfrm>
            <a:off x="4061880" y="456408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933" name=""/>
          <p:cNvSpPr/>
          <p:nvPr/>
        </p:nvSpPr>
        <p:spPr>
          <a:xfrm>
            <a:off x="4127400" y="4560840"/>
            <a:ext cx="1350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b</a:t>
            </a:r>
            <a:endParaRPr b="0" lang="en-US" sz="1900" spc="-1" strike="noStrike">
              <a:solidFill>
                <a:srgbClr val="000000"/>
              </a:solidFill>
              <a:latin typeface="Times New Roman"/>
            </a:endParaRPr>
          </a:p>
        </p:txBody>
      </p:sp>
      <p:sp>
        <p:nvSpPr>
          <p:cNvPr id="2934" name=""/>
          <p:cNvSpPr/>
          <p:nvPr/>
        </p:nvSpPr>
        <p:spPr>
          <a:xfrm>
            <a:off x="4257000" y="456408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935" name=""/>
          <p:cNvSpPr/>
          <p:nvPr/>
        </p:nvSpPr>
        <p:spPr>
          <a:xfrm>
            <a:off x="4323960" y="4560840"/>
            <a:ext cx="10728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c</a:t>
            </a:r>
            <a:endParaRPr b="0" lang="en-US" sz="1900" spc="-1" strike="noStrike">
              <a:solidFill>
                <a:srgbClr val="000000"/>
              </a:solidFill>
              <a:latin typeface="Times New Roman"/>
            </a:endParaRPr>
          </a:p>
        </p:txBody>
      </p:sp>
      <p:sp>
        <p:nvSpPr>
          <p:cNvPr id="2936" name=""/>
          <p:cNvSpPr/>
          <p:nvPr/>
        </p:nvSpPr>
        <p:spPr>
          <a:xfrm>
            <a:off x="4427280" y="4564080"/>
            <a:ext cx="11664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937" name=""/>
          <p:cNvSpPr/>
          <p:nvPr/>
        </p:nvSpPr>
        <p:spPr>
          <a:xfrm>
            <a:off x="4542840" y="456408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2938" name=""/>
          <p:cNvSpPr/>
          <p:nvPr/>
        </p:nvSpPr>
        <p:spPr>
          <a:xfrm>
            <a:off x="3188880" y="4844880"/>
            <a:ext cx="6469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n = 16</a:t>
            </a:r>
            <a:endParaRPr b="0" lang="en-US" sz="1900" spc="-1" strike="noStrike">
              <a:solidFill>
                <a:srgbClr val="000000"/>
              </a:solidFill>
              <a:latin typeface="Times New Roman"/>
            </a:endParaRPr>
          </a:p>
        </p:txBody>
      </p:sp>
      <p:sp>
        <p:nvSpPr>
          <p:cNvPr id="2939" name=""/>
          <p:cNvSpPr/>
          <p:nvPr/>
        </p:nvSpPr>
        <p:spPr>
          <a:xfrm>
            <a:off x="3825360" y="484488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2940" name=""/>
          <p:cNvSpPr/>
          <p:nvPr/>
        </p:nvSpPr>
        <p:spPr>
          <a:xfrm>
            <a:off x="3178080" y="5129280"/>
            <a:ext cx="1609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w</a:t>
            </a:r>
            <a:endParaRPr b="0" lang="en-US" sz="1900" spc="-1" strike="noStrike">
              <a:solidFill>
                <a:srgbClr val="000000"/>
              </a:solidFill>
              <a:latin typeface="Times New Roman"/>
            </a:endParaRPr>
          </a:p>
        </p:txBody>
      </p:sp>
      <p:sp>
        <p:nvSpPr>
          <p:cNvPr id="2941" name=""/>
          <p:cNvSpPr/>
          <p:nvPr/>
        </p:nvSpPr>
        <p:spPr>
          <a:xfrm>
            <a:off x="3342960" y="5129280"/>
            <a:ext cx="3787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4</a:t>
            </a:r>
            <a:endParaRPr b="0" lang="en-US" sz="1900" spc="-1" strike="noStrike">
              <a:solidFill>
                <a:srgbClr val="000000"/>
              </a:solidFill>
              <a:latin typeface="Times New Roman"/>
            </a:endParaRPr>
          </a:p>
        </p:txBody>
      </p:sp>
      <p:sp>
        <p:nvSpPr>
          <p:cNvPr id="2942" name=""/>
          <p:cNvSpPr/>
          <p:nvPr/>
        </p:nvSpPr>
        <p:spPr>
          <a:xfrm>
            <a:off x="3717360" y="512928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2943" name=""/>
          <p:cNvSpPr/>
          <p:nvPr/>
        </p:nvSpPr>
        <p:spPr>
          <a:xfrm>
            <a:off x="1146240" y="3522600"/>
            <a:ext cx="350640" cy="35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1306800" y="3530520"/>
            <a:ext cx="1468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S</a:t>
            </a:r>
            <a:endParaRPr b="0" lang="en-US" sz="2300" spc="-1" strike="noStrike">
              <a:solidFill>
                <a:srgbClr val="000000"/>
              </a:solidFill>
              <a:latin typeface="Times New Roman"/>
            </a:endParaRPr>
          </a:p>
        </p:txBody>
      </p:sp>
      <p:sp>
        <p:nvSpPr>
          <p:cNvPr id="2945" name=""/>
          <p:cNvSpPr/>
          <p:nvPr/>
        </p:nvSpPr>
        <p:spPr>
          <a:xfrm>
            <a:off x="1452240" y="353052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946" name=""/>
          <p:cNvSpPr/>
          <p:nvPr/>
        </p:nvSpPr>
        <p:spPr>
          <a:xfrm>
            <a:off x="1163520" y="3441600"/>
            <a:ext cx="351000" cy="35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1336320" y="3448080"/>
            <a:ext cx="1134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948" name=""/>
          <p:cNvSpPr/>
          <p:nvPr/>
        </p:nvSpPr>
        <p:spPr>
          <a:xfrm>
            <a:off x="1453680" y="340524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949" name=""/>
          <p:cNvSpPr/>
          <p:nvPr/>
        </p:nvSpPr>
        <p:spPr>
          <a:xfrm>
            <a:off x="1000080" y="2811600"/>
            <a:ext cx="1046160" cy="210960"/>
          </a:xfrm>
          <a:custGeom>
            <a:avLst/>
            <a:gdLst/>
            <a:ahLst/>
            <a:rect l="l" t="t" r="r" b="b"/>
            <a:pathLst>
              <a:path w="1319" h="266">
                <a:moveTo>
                  <a:pt x="0" y="244"/>
                </a:moveTo>
                <a:lnTo>
                  <a:pt x="86" y="244"/>
                </a:lnTo>
                <a:lnTo>
                  <a:pt x="130" y="244"/>
                </a:lnTo>
                <a:lnTo>
                  <a:pt x="173" y="241"/>
                </a:lnTo>
                <a:lnTo>
                  <a:pt x="178" y="239"/>
                </a:lnTo>
                <a:lnTo>
                  <a:pt x="182" y="235"/>
                </a:lnTo>
                <a:lnTo>
                  <a:pt x="185" y="231"/>
                </a:lnTo>
                <a:lnTo>
                  <a:pt x="189" y="228"/>
                </a:lnTo>
                <a:lnTo>
                  <a:pt x="202" y="226"/>
                </a:lnTo>
                <a:lnTo>
                  <a:pt x="217" y="224"/>
                </a:lnTo>
                <a:lnTo>
                  <a:pt x="222" y="217"/>
                </a:lnTo>
                <a:lnTo>
                  <a:pt x="224" y="213"/>
                </a:lnTo>
                <a:lnTo>
                  <a:pt x="226" y="211"/>
                </a:lnTo>
                <a:lnTo>
                  <a:pt x="228" y="211"/>
                </a:lnTo>
                <a:lnTo>
                  <a:pt x="231" y="213"/>
                </a:lnTo>
                <a:lnTo>
                  <a:pt x="239" y="213"/>
                </a:lnTo>
                <a:lnTo>
                  <a:pt x="250" y="211"/>
                </a:lnTo>
                <a:lnTo>
                  <a:pt x="259" y="209"/>
                </a:lnTo>
                <a:lnTo>
                  <a:pt x="270" y="206"/>
                </a:lnTo>
                <a:lnTo>
                  <a:pt x="281" y="200"/>
                </a:lnTo>
                <a:lnTo>
                  <a:pt x="290" y="193"/>
                </a:lnTo>
                <a:lnTo>
                  <a:pt x="299" y="182"/>
                </a:lnTo>
                <a:lnTo>
                  <a:pt x="308" y="169"/>
                </a:lnTo>
                <a:lnTo>
                  <a:pt x="323" y="145"/>
                </a:lnTo>
                <a:lnTo>
                  <a:pt x="329" y="134"/>
                </a:lnTo>
                <a:lnTo>
                  <a:pt x="334" y="125"/>
                </a:lnTo>
                <a:lnTo>
                  <a:pt x="336" y="101"/>
                </a:lnTo>
                <a:lnTo>
                  <a:pt x="336" y="81"/>
                </a:lnTo>
                <a:lnTo>
                  <a:pt x="336" y="63"/>
                </a:lnTo>
                <a:lnTo>
                  <a:pt x="340" y="48"/>
                </a:lnTo>
                <a:lnTo>
                  <a:pt x="349" y="33"/>
                </a:lnTo>
                <a:lnTo>
                  <a:pt x="354" y="28"/>
                </a:lnTo>
                <a:lnTo>
                  <a:pt x="363" y="22"/>
                </a:lnTo>
                <a:lnTo>
                  <a:pt x="374" y="17"/>
                </a:lnTo>
                <a:lnTo>
                  <a:pt x="389" y="11"/>
                </a:lnTo>
                <a:lnTo>
                  <a:pt x="406" y="6"/>
                </a:lnTo>
                <a:lnTo>
                  <a:pt x="426" y="0"/>
                </a:lnTo>
                <a:lnTo>
                  <a:pt x="475" y="2"/>
                </a:lnTo>
                <a:lnTo>
                  <a:pt x="499" y="2"/>
                </a:lnTo>
                <a:lnTo>
                  <a:pt x="523" y="4"/>
                </a:lnTo>
                <a:lnTo>
                  <a:pt x="530" y="6"/>
                </a:lnTo>
                <a:lnTo>
                  <a:pt x="534" y="9"/>
                </a:lnTo>
                <a:lnTo>
                  <a:pt x="538" y="13"/>
                </a:lnTo>
                <a:lnTo>
                  <a:pt x="541" y="17"/>
                </a:lnTo>
                <a:lnTo>
                  <a:pt x="556" y="22"/>
                </a:lnTo>
                <a:lnTo>
                  <a:pt x="569" y="26"/>
                </a:lnTo>
                <a:lnTo>
                  <a:pt x="584" y="33"/>
                </a:lnTo>
                <a:lnTo>
                  <a:pt x="596" y="39"/>
                </a:lnTo>
                <a:lnTo>
                  <a:pt x="609" y="53"/>
                </a:lnTo>
                <a:lnTo>
                  <a:pt x="626" y="64"/>
                </a:lnTo>
                <a:lnTo>
                  <a:pt x="635" y="68"/>
                </a:lnTo>
                <a:lnTo>
                  <a:pt x="648" y="72"/>
                </a:lnTo>
                <a:lnTo>
                  <a:pt x="661" y="74"/>
                </a:lnTo>
                <a:lnTo>
                  <a:pt x="677" y="77"/>
                </a:lnTo>
                <a:lnTo>
                  <a:pt x="681" y="88"/>
                </a:lnTo>
                <a:lnTo>
                  <a:pt x="683" y="97"/>
                </a:lnTo>
                <a:lnTo>
                  <a:pt x="686" y="107"/>
                </a:lnTo>
                <a:lnTo>
                  <a:pt x="692" y="112"/>
                </a:lnTo>
                <a:lnTo>
                  <a:pt x="699" y="118"/>
                </a:lnTo>
                <a:lnTo>
                  <a:pt x="710" y="123"/>
                </a:lnTo>
                <a:lnTo>
                  <a:pt x="729" y="125"/>
                </a:lnTo>
                <a:lnTo>
                  <a:pt x="751" y="129"/>
                </a:lnTo>
                <a:lnTo>
                  <a:pt x="760" y="132"/>
                </a:lnTo>
                <a:lnTo>
                  <a:pt x="767" y="134"/>
                </a:lnTo>
                <a:lnTo>
                  <a:pt x="778" y="138"/>
                </a:lnTo>
                <a:lnTo>
                  <a:pt x="785" y="142"/>
                </a:lnTo>
                <a:lnTo>
                  <a:pt x="795" y="151"/>
                </a:lnTo>
                <a:lnTo>
                  <a:pt x="798" y="154"/>
                </a:lnTo>
                <a:lnTo>
                  <a:pt x="798" y="158"/>
                </a:lnTo>
                <a:lnTo>
                  <a:pt x="800" y="162"/>
                </a:lnTo>
                <a:lnTo>
                  <a:pt x="804" y="164"/>
                </a:lnTo>
                <a:lnTo>
                  <a:pt x="815" y="165"/>
                </a:lnTo>
                <a:lnTo>
                  <a:pt x="831" y="167"/>
                </a:lnTo>
                <a:lnTo>
                  <a:pt x="850" y="169"/>
                </a:lnTo>
                <a:lnTo>
                  <a:pt x="872" y="171"/>
                </a:lnTo>
                <a:lnTo>
                  <a:pt x="892" y="173"/>
                </a:lnTo>
                <a:lnTo>
                  <a:pt x="910" y="175"/>
                </a:lnTo>
                <a:lnTo>
                  <a:pt x="927" y="176"/>
                </a:lnTo>
                <a:lnTo>
                  <a:pt x="940" y="176"/>
                </a:lnTo>
                <a:lnTo>
                  <a:pt x="943" y="187"/>
                </a:lnTo>
                <a:lnTo>
                  <a:pt x="945" y="197"/>
                </a:lnTo>
                <a:lnTo>
                  <a:pt x="949" y="208"/>
                </a:lnTo>
                <a:lnTo>
                  <a:pt x="952" y="211"/>
                </a:lnTo>
                <a:lnTo>
                  <a:pt x="958" y="215"/>
                </a:lnTo>
                <a:lnTo>
                  <a:pt x="963" y="217"/>
                </a:lnTo>
                <a:lnTo>
                  <a:pt x="971" y="220"/>
                </a:lnTo>
                <a:lnTo>
                  <a:pt x="989" y="222"/>
                </a:lnTo>
                <a:lnTo>
                  <a:pt x="996" y="224"/>
                </a:lnTo>
                <a:lnTo>
                  <a:pt x="1004" y="224"/>
                </a:lnTo>
                <a:lnTo>
                  <a:pt x="1009" y="224"/>
                </a:lnTo>
                <a:lnTo>
                  <a:pt x="1011" y="224"/>
                </a:lnTo>
                <a:lnTo>
                  <a:pt x="1037" y="230"/>
                </a:lnTo>
                <a:lnTo>
                  <a:pt x="1061" y="235"/>
                </a:lnTo>
                <a:lnTo>
                  <a:pt x="1086" y="241"/>
                </a:lnTo>
                <a:lnTo>
                  <a:pt x="1112" y="244"/>
                </a:lnTo>
                <a:lnTo>
                  <a:pt x="1128" y="248"/>
                </a:lnTo>
                <a:lnTo>
                  <a:pt x="1145" y="250"/>
                </a:lnTo>
                <a:lnTo>
                  <a:pt x="1152" y="252"/>
                </a:lnTo>
                <a:lnTo>
                  <a:pt x="1160" y="253"/>
                </a:lnTo>
                <a:lnTo>
                  <a:pt x="1163" y="253"/>
                </a:lnTo>
                <a:lnTo>
                  <a:pt x="1165" y="253"/>
                </a:lnTo>
                <a:lnTo>
                  <a:pt x="1220" y="250"/>
                </a:lnTo>
                <a:lnTo>
                  <a:pt x="1248" y="248"/>
                </a:lnTo>
                <a:lnTo>
                  <a:pt x="1275" y="250"/>
                </a:lnTo>
                <a:lnTo>
                  <a:pt x="1281" y="252"/>
                </a:lnTo>
                <a:lnTo>
                  <a:pt x="1284" y="255"/>
                </a:lnTo>
                <a:lnTo>
                  <a:pt x="1288" y="259"/>
                </a:lnTo>
                <a:lnTo>
                  <a:pt x="1292" y="263"/>
                </a:lnTo>
                <a:lnTo>
                  <a:pt x="1299" y="264"/>
                </a:lnTo>
                <a:lnTo>
                  <a:pt x="1308" y="264"/>
                </a:lnTo>
                <a:lnTo>
                  <a:pt x="1316" y="266"/>
                </a:lnTo>
                <a:lnTo>
                  <a:pt x="1319" y="266"/>
                </a:lnTo>
                <a:lnTo>
                  <a:pt x="1319" y="266"/>
                </a:lnTo>
              </a:path>
            </a:pathLst>
          </a:custGeom>
          <a:noFill/>
          <a:ln w="23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723960" y="2816280"/>
            <a:ext cx="420480" cy="39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780480" y="2822400"/>
            <a:ext cx="1609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a:t>
            </a:r>
            <a:endParaRPr b="0" lang="en-US" sz="1900" spc="-1" strike="noStrike">
              <a:solidFill>
                <a:srgbClr val="000000"/>
              </a:solidFill>
              <a:latin typeface="Times New Roman"/>
            </a:endParaRPr>
          </a:p>
        </p:txBody>
      </p:sp>
      <p:sp>
        <p:nvSpPr>
          <p:cNvPr id="2952" name=""/>
          <p:cNvSpPr/>
          <p:nvPr/>
        </p:nvSpPr>
        <p:spPr>
          <a:xfrm>
            <a:off x="923400" y="293688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953" name=""/>
          <p:cNvSpPr/>
          <p:nvPr/>
        </p:nvSpPr>
        <p:spPr>
          <a:xfrm>
            <a:off x="1017720" y="2822400"/>
            <a:ext cx="61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2954" name=""/>
          <p:cNvSpPr/>
          <p:nvPr/>
        </p:nvSpPr>
        <p:spPr>
          <a:xfrm>
            <a:off x="2327400" y="3216240"/>
            <a:ext cx="350640" cy="35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2415600" y="3228840"/>
            <a:ext cx="1958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C</a:t>
            </a:r>
            <a:endParaRPr b="0" lang="en-US" sz="2300" spc="-1" strike="noStrike">
              <a:solidFill>
                <a:srgbClr val="000000"/>
              </a:solidFill>
              <a:latin typeface="Times New Roman"/>
            </a:endParaRPr>
          </a:p>
        </p:txBody>
      </p:sp>
      <p:sp>
        <p:nvSpPr>
          <p:cNvPr id="2956" name=""/>
          <p:cNvSpPr/>
          <p:nvPr/>
        </p:nvSpPr>
        <p:spPr>
          <a:xfrm>
            <a:off x="2594520" y="3352680"/>
            <a:ext cx="9684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2957" name=""/>
          <p:cNvSpPr/>
          <p:nvPr/>
        </p:nvSpPr>
        <p:spPr>
          <a:xfrm>
            <a:off x="2706120" y="322884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958" name=""/>
          <p:cNvSpPr/>
          <p:nvPr/>
        </p:nvSpPr>
        <p:spPr>
          <a:xfrm>
            <a:off x="2319480" y="3137040"/>
            <a:ext cx="350640" cy="35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2490480" y="3143160"/>
            <a:ext cx="1134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960" name=""/>
          <p:cNvSpPr/>
          <p:nvPr/>
        </p:nvSpPr>
        <p:spPr>
          <a:xfrm>
            <a:off x="2609280" y="3100320"/>
            <a:ext cx="7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grpSp>
        <p:nvGrpSpPr>
          <p:cNvPr id="2961" name=""/>
          <p:cNvGrpSpPr/>
          <p:nvPr/>
        </p:nvGrpSpPr>
        <p:grpSpPr>
          <a:xfrm>
            <a:off x="1828800" y="3098880"/>
            <a:ext cx="469800" cy="277560"/>
            <a:chOff x="1828800" y="3098880"/>
            <a:chExt cx="469800" cy="277560"/>
          </a:xfrm>
        </p:grpSpPr>
        <p:sp>
          <p:nvSpPr>
            <p:cNvPr id="2962" name=""/>
            <p:cNvSpPr/>
            <p:nvPr/>
          </p:nvSpPr>
          <p:spPr>
            <a:xfrm>
              <a:off x="1828800" y="3098880"/>
              <a:ext cx="365040" cy="217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2158920" y="3259080"/>
              <a:ext cx="139680" cy="117360"/>
            </a:xfrm>
            <a:custGeom>
              <a:avLst/>
              <a:gdLst/>
              <a:ahLst/>
              <a:rect l="l" t="t" r="r" b="b"/>
              <a:pathLst>
                <a:path w="176" h="148">
                  <a:moveTo>
                    <a:pt x="0" y="135"/>
                  </a:moveTo>
                  <a:lnTo>
                    <a:pt x="176" y="148"/>
                  </a:lnTo>
                  <a:lnTo>
                    <a:pt x="80" y="0"/>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4" name=""/>
          <p:cNvGrpSpPr/>
          <p:nvPr/>
        </p:nvGrpSpPr>
        <p:grpSpPr>
          <a:xfrm>
            <a:off x="2606760" y="3565440"/>
            <a:ext cx="642960" cy="393840"/>
            <a:chOff x="2606760" y="3565440"/>
            <a:chExt cx="642960" cy="393840"/>
          </a:xfrm>
        </p:grpSpPr>
        <p:sp>
          <p:nvSpPr>
            <p:cNvPr id="2965" name=""/>
            <p:cNvSpPr/>
            <p:nvPr/>
          </p:nvSpPr>
          <p:spPr>
            <a:xfrm flipH="1">
              <a:off x="2709720" y="3565440"/>
              <a:ext cx="540000" cy="331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6" name=""/>
            <p:cNvSpPr/>
            <p:nvPr/>
          </p:nvSpPr>
          <p:spPr>
            <a:xfrm>
              <a:off x="2606760" y="3841920"/>
              <a:ext cx="137880" cy="117360"/>
            </a:xfrm>
            <a:custGeom>
              <a:avLst/>
              <a:gdLst/>
              <a:ahLst/>
              <a:rect l="l" t="t" r="r" b="b"/>
              <a:pathLst>
                <a:path w="174" h="148">
                  <a:moveTo>
                    <a:pt x="93" y="0"/>
                  </a:moveTo>
                  <a:lnTo>
                    <a:pt x="0" y="148"/>
                  </a:lnTo>
                  <a:lnTo>
                    <a:pt x="174" y="134"/>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7" name=""/>
          <p:cNvSpPr/>
          <p:nvPr/>
        </p:nvSpPr>
        <p:spPr>
          <a:xfrm>
            <a:off x="5254560" y="3240000"/>
            <a:ext cx="3675240" cy="3212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ume that we have a time series </a:t>
            </a:r>
            <a:r>
              <a:rPr b="0" i="1" lang="en-US" sz="2800" spc="-1" strike="noStrike">
                <a:solidFill>
                  <a:srgbClr val="000000"/>
                </a:solidFill>
                <a:latin typeface="Times New Roman"/>
                <a:ea typeface="Times New Roman"/>
              </a:rPr>
              <a:t>T</a:t>
            </a:r>
            <a:r>
              <a:rPr b="0" lang="en-US" sz="2800" spc="-1" strike="noStrike">
                <a:solidFill>
                  <a:srgbClr val="000000"/>
                </a:solidFill>
                <a:latin typeface="Times New Roman"/>
                <a:ea typeface="Times New Roman"/>
              </a:rPr>
              <a:t> of length 1,000, and a motif of length 16, which occurs twice, at time </a:t>
            </a:r>
            <a:r>
              <a:rPr b="0" i="1" lang="en-US" sz="2800" spc="-1" strike="noStrike">
                <a:solidFill>
                  <a:srgbClr val="000000"/>
                </a:solidFill>
                <a:latin typeface="Times New Roman"/>
                <a:ea typeface="Times New Roman"/>
              </a:rPr>
              <a:t>T</a:t>
            </a:r>
            <a:r>
              <a:rPr b="0" lang="en-US" sz="2800" spc="-1" strike="noStrike" baseline="-30000">
                <a:solidFill>
                  <a:srgbClr val="000000"/>
                </a:solidFill>
                <a:latin typeface="Times New Roman"/>
                <a:ea typeface="Times New Roman"/>
              </a:rPr>
              <a:t>1</a:t>
            </a:r>
            <a:r>
              <a:rPr b="0" lang="en-US" sz="2800" spc="-1" strike="noStrike">
                <a:solidFill>
                  <a:srgbClr val="000000"/>
                </a:solidFill>
                <a:latin typeface="Times New Roman"/>
                <a:ea typeface="Times New Roman"/>
              </a:rPr>
              <a:t> and time </a:t>
            </a:r>
            <a:r>
              <a:rPr b="0" i="1" lang="en-US" sz="2800" spc="-1" strike="noStrike">
                <a:solidFill>
                  <a:srgbClr val="000000"/>
                </a:solidFill>
                <a:latin typeface="Times New Roman"/>
                <a:ea typeface="Times New Roman"/>
              </a:rPr>
              <a:t>T</a:t>
            </a:r>
            <a:r>
              <a:rPr b="0" lang="en-US" sz="2800" spc="-1" strike="noStrike" baseline="-30000">
                <a:solidFill>
                  <a:srgbClr val="000000"/>
                </a:solidFill>
                <a:latin typeface="Times New Roman"/>
                <a:ea typeface="Times New Roman"/>
              </a:rPr>
              <a:t>58</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2968" name=""/>
          <p:cNvSpPr/>
          <p:nvPr/>
        </p:nvSpPr>
        <p:spPr>
          <a:xfrm>
            <a:off x="219960" y="330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worked example of our motif discovery algorithm</a:t>
            </a:r>
            <a:endParaRPr b="0" lang="en-US" sz="2800" spc="-1" strike="noStrike">
              <a:solidFill>
                <a:srgbClr val="000000"/>
              </a:solidFill>
              <a:latin typeface="Times New Roman"/>
            </a:endParaRPr>
          </a:p>
        </p:txBody>
      </p:sp>
      <p:sp>
        <p:nvSpPr>
          <p:cNvPr id="2969" name=""/>
          <p:cNvSpPr/>
          <p:nvPr/>
        </p:nvSpPr>
        <p:spPr>
          <a:xfrm>
            <a:off x="5761440" y="860400"/>
            <a:ext cx="2599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next 4 sli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0" name=""/>
          <p:cNvSpPr/>
          <p:nvPr/>
        </p:nvSpPr>
        <p:spPr>
          <a:xfrm>
            <a:off x="276120" y="2298600"/>
            <a:ext cx="5227920" cy="4378320"/>
          </a:xfrm>
          <a:prstGeom prst="rect">
            <a:avLst/>
          </a:prstGeom>
          <a:solidFill>
            <a:srgbClr val="ffffcc"/>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71" name="" descr=""/>
          <p:cNvPicPr/>
          <p:nvPr/>
        </p:nvPicPr>
        <p:blipFill>
          <a:blip r:embed="rId1"/>
          <a:stretch/>
        </p:blipFill>
        <p:spPr>
          <a:xfrm>
            <a:off x="210960" y="3349800"/>
            <a:ext cx="8444160" cy="3313080"/>
          </a:xfrm>
          <a:prstGeom prst="rect">
            <a:avLst/>
          </a:prstGeom>
          <a:ln w="0">
            <a:noFill/>
          </a:ln>
        </p:spPr>
      </p:pic>
      <p:sp>
        <p:nvSpPr>
          <p:cNvPr id="2972" name=""/>
          <p:cNvSpPr/>
          <p:nvPr/>
        </p:nvSpPr>
        <p:spPr>
          <a:xfrm>
            <a:off x="409680" y="2333520"/>
            <a:ext cx="3295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 mask {1,2} was randomly chosen, so the values in columns {1,2} were used to project matrix into buckets.</a:t>
            </a: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p:txBody>
      </p:sp>
      <p:sp>
        <p:nvSpPr>
          <p:cNvPr id="2973" name=""/>
          <p:cNvSpPr/>
          <p:nvPr/>
        </p:nvSpPr>
        <p:spPr>
          <a:xfrm>
            <a:off x="5977080" y="2433600"/>
            <a:ext cx="2873160" cy="9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lisions are recorded by incrementing the appropriate location in the collision matrix</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4" name=""/>
          <p:cNvSpPr/>
          <p:nvPr/>
        </p:nvSpPr>
        <p:spPr>
          <a:xfrm>
            <a:off x="276120" y="2298600"/>
            <a:ext cx="5227920" cy="4378320"/>
          </a:xfrm>
          <a:prstGeom prst="rect">
            <a:avLst/>
          </a:prstGeom>
          <a:solidFill>
            <a:srgbClr val="ffffcc"/>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409680" y="2333520"/>
            <a:ext cx="329544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mask {2,4} was randomly chosen, so the values in columns {2,4} were used to project matrix into buck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976" name=""/>
          <p:cNvSpPr/>
          <p:nvPr/>
        </p:nvSpPr>
        <p:spPr>
          <a:xfrm>
            <a:off x="6002280" y="2224080"/>
            <a:ext cx="2873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nce again, collisions are recorded by incrementing the appropriate location in the collision matri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977" name="" descr=""/>
          <p:cNvPicPr/>
          <p:nvPr/>
        </p:nvPicPr>
        <p:blipFill>
          <a:blip r:embed="rId1"/>
          <a:stretch/>
        </p:blipFill>
        <p:spPr>
          <a:xfrm>
            <a:off x="390600" y="3279600"/>
            <a:ext cx="8226360" cy="331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094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ime Series are Ubiquitous</a:t>
            </a:r>
            <a:r>
              <a:rPr b="0" lang="en-US" sz="4800" spc="-1" strike="noStrike">
                <a:solidFill>
                  <a:srgbClr val="000000"/>
                </a:solidFill>
                <a:latin typeface="Times New Roman"/>
              </a:rPr>
              <a:t>! I</a:t>
            </a:r>
            <a:endParaRPr b="0" lang="en-US" sz="4800" spc="-1" strike="noStrike">
              <a:solidFill>
                <a:srgbClr val="000000"/>
              </a:solidFill>
              <a:latin typeface="Times New Roman"/>
            </a:endParaRPr>
          </a:p>
        </p:txBody>
      </p:sp>
      <p:sp>
        <p:nvSpPr>
          <p:cNvPr id="125" name=""/>
          <p:cNvSpPr/>
          <p:nvPr/>
        </p:nvSpPr>
        <p:spPr>
          <a:xfrm>
            <a:off x="1508040" y="1230480"/>
            <a:ext cx="6797880" cy="2999160"/>
          </a:xfrm>
          <a:prstGeom prst="rect">
            <a:avLst/>
          </a:prstGeom>
          <a:noFill/>
          <a:ln w="0">
            <a:noFill/>
          </a:ln>
        </p:spPr>
        <p:style>
          <a:lnRef idx="0"/>
          <a:fillRef idx="0"/>
          <a:effectRef idx="0"/>
          <a:fontRef idx="minor"/>
        </p:style>
        <p:txBody>
          <a:bodyPr lIns="90000" rIns="90000" tIns="46800" bIns="46800" anchor="t">
            <a:spAutoFit/>
          </a:bodyPr>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measure things...</a:t>
            </a:r>
            <a:endParaRPr b="0" lang="en-US" sz="3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Schwarzeneggers popularity rat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ir blood pressure.</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annual rainfall in New Zealand.</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value of their Yahoo stock.</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number of web hits per seco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nd things change over time.</a:t>
            </a:r>
            <a:endParaRPr b="0" lang="en-US" sz="3200" spc="-1" strike="noStrike">
              <a:solidFill>
                <a:srgbClr val="000000"/>
              </a:solidFill>
              <a:latin typeface="Times New Roman"/>
            </a:endParaRPr>
          </a:p>
        </p:txBody>
      </p:sp>
      <p:sp>
        <p:nvSpPr>
          <p:cNvPr id="126" name=""/>
          <p:cNvSpPr/>
          <p:nvPr/>
        </p:nvSpPr>
        <p:spPr>
          <a:xfrm>
            <a:off x="228600" y="4495680"/>
            <a:ext cx="2678040" cy="1108080"/>
          </a:xfrm>
          <a:custGeom>
            <a:avLst/>
            <a:gdLst/>
            <a:ahLst/>
            <a:rect l="l" t="t" r="r" b="b"/>
            <a:pathLst>
              <a:path w="2455" h="1514">
                <a:moveTo>
                  <a:pt x="0" y="372"/>
                </a:moveTo>
                <a:lnTo>
                  <a:pt x="6" y="420"/>
                </a:lnTo>
                <a:lnTo>
                  <a:pt x="6" y="430"/>
                </a:lnTo>
                <a:lnTo>
                  <a:pt x="11" y="489"/>
                </a:lnTo>
                <a:lnTo>
                  <a:pt x="11" y="558"/>
                </a:lnTo>
                <a:lnTo>
                  <a:pt x="17" y="510"/>
                </a:lnTo>
                <a:lnTo>
                  <a:pt x="17" y="552"/>
                </a:lnTo>
                <a:lnTo>
                  <a:pt x="17" y="568"/>
                </a:lnTo>
                <a:lnTo>
                  <a:pt x="23" y="627"/>
                </a:lnTo>
                <a:lnTo>
                  <a:pt x="23" y="643"/>
                </a:lnTo>
                <a:lnTo>
                  <a:pt x="28" y="664"/>
                </a:lnTo>
                <a:lnTo>
                  <a:pt x="34" y="653"/>
                </a:lnTo>
                <a:lnTo>
                  <a:pt x="34" y="701"/>
                </a:lnTo>
                <a:lnTo>
                  <a:pt x="34" y="738"/>
                </a:lnTo>
                <a:lnTo>
                  <a:pt x="40" y="749"/>
                </a:lnTo>
                <a:lnTo>
                  <a:pt x="40" y="675"/>
                </a:lnTo>
                <a:lnTo>
                  <a:pt x="45" y="606"/>
                </a:lnTo>
                <a:lnTo>
                  <a:pt x="45" y="632"/>
                </a:lnTo>
                <a:lnTo>
                  <a:pt x="51" y="675"/>
                </a:lnTo>
                <a:lnTo>
                  <a:pt x="51" y="728"/>
                </a:lnTo>
                <a:lnTo>
                  <a:pt x="57" y="723"/>
                </a:lnTo>
                <a:lnTo>
                  <a:pt x="57" y="744"/>
                </a:lnTo>
                <a:lnTo>
                  <a:pt x="57" y="707"/>
                </a:lnTo>
                <a:lnTo>
                  <a:pt x="62" y="680"/>
                </a:lnTo>
                <a:lnTo>
                  <a:pt x="62" y="669"/>
                </a:lnTo>
                <a:lnTo>
                  <a:pt x="68" y="637"/>
                </a:lnTo>
                <a:lnTo>
                  <a:pt x="68" y="606"/>
                </a:lnTo>
                <a:lnTo>
                  <a:pt x="74" y="531"/>
                </a:lnTo>
                <a:lnTo>
                  <a:pt x="74" y="574"/>
                </a:lnTo>
                <a:lnTo>
                  <a:pt x="74" y="590"/>
                </a:lnTo>
                <a:lnTo>
                  <a:pt x="79" y="632"/>
                </a:lnTo>
                <a:lnTo>
                  <a:pt x="79" y="606"/>
                </a:lnTo>
                <a:lnTo>
                  <a:pt x="85" y="616"/>
                </a:lnTo>
                <a:lnTo>
                  <a:pt x="85" y="611"/>
                </a:lnTo>
                <a:lnTo>
                  <a:pt x="91" y="574"/>
                </a:lnTo>
                <a:lnTo>
                  <a:pt x="91" y="542"/>
                </a:lnTo>
                <a:lnTo>
                  <a:pt x="91" y="563"/>
                </a:lnTo>
                <a:lnTo>
                  <a:pt x="96" y="489"/>
                </a:lnTo>
                <a:lnTo>
                  <a:pt x="102" y="478"/>
                </a:lnTo>
                <a:lnTo>
                  <a:pt x="102" y="436"/>
                </a:lnTo>
                <a:lnTo>
                  <a:pt x="108" y="388"/>
                </a:lnTo>
                <a:lnTo>
                  <a:pt x="108" y="436"/>
                </a:lnTo>
                <a:lnTo>
                  <a:pt x="108" y="420"/>
                </a:lnTo>
                <a:lnTo>
                  <a:pt x="113" y="356"/>
                </a:lnTo>
                <a:lnTo>
                  <a:pt x="113" y="313"/>
                </a:lnTo>
                <a:lnTo>
                  <a:pt x="119" y="265"/>
                </a:lnTo>
                <a:lnTo>
                  <a:pt x="119" y="335"/>
                </a:lnTo>
                <a:lnTo>
                  <a:pt x="125" y="409"/>
                </a:lnTo>
                <a:lnTo>
                  <a:pt x="125" y="335"/>
                </a:lnTo>
                <a:lnTo>
                  <a:pt x="130" y="361"/>
                </a:lnTo>
                <a:lnTo>
                  <a:pt x="130" y="313"/>
                </a:lnTo>
                <a:lnTo>
                  <a:pt x="130" y="308"/>
                </a:lnTo>
                <a:lnTo>
                  <a:pt x="136" y="377"/>
                </a:lnTo>
                <a:lnTo>
                  <a:pt x="136" y="388"/>
                </a:lnTo>
                <a:lnTo>
                  <a:pt x="142" y="345"/>
                </a:lnTo>
                <a:lnTo>
                  <a:pt x="142" y="372"/>
                </a:lnTo>
                <a:lnTo>
                  <a:pt x="147" y="382"/>
                </a:lnTo>
                <a:lnTo>
                  <a:pt x="147" y="377"/>
                </a:lnTo>
                <a:lnTo>
                  <a:pt x="147" y="313"/>
                </a:lnTo>
                <a:lnTo>
                  <a:pt x="153" y="356"/>
                </a:lnTo>
                <a:lnTo>
                  <a:pt x="153" y="425"/>
                </a:lnTo>
                <a:lnTo>
                  <a:pt x="159" y="377"/>
                </a:lnTo>
                <a:lnTo>
                  <a:pt x="159" y="329"/>
                </a:lnTo>
                <a:lnTo>
                  <a:pt x="164" y="345"/>
                </a:lnTo>
                <a:lnTo>
                  <a:pt x="164" y="271"/>
                </a:lnTo>
                <a:lnTo>
                  <a:pt x="164" y="250"/>
                </a:lnTo>
                <a:lnTo>
                  <a:pt x="170" y="175"/>
                </a:lnTo>
                <a:lnTo>
                  <a:pt x="176" y="234"/>
                </a:lnTo>
                <a:lnTo>
                  <a:pt x="176" y="308"/>
                </a:lnTo>
                <a:lnTo>
                  <a:pt x="181" y="234"/>
                </a:lnTo>
                <a:lnTo>
                  <a:pt x="181" y="196"/>
                </a:lnTo>
                <a:lnTo>
                  <a:pt x="181" y="154"/>
                </a:lnTo>
                <a:lnTo>
                  <a:pt x="187" y="101"/>
                </a:lnTo>
                <a:lnTo>
                  <a:pt x="187" y="69"/>
                </a:lnTo>
                <a:lnTo>
                  <a:pt x="193" y="21"/>
                </a:lnTo>
                <a:lnTo>
                  <a:pt x="193" y="74"/>
                </a:lnTo>
                <a:lnTo>
                  <a:pt x="198" y="53"/>
                </a:lnTo>
                <a:lnTo>
                  <a:pt x="198" y="5"/>
                </a:lnTo>
                <a:lnTo>
                  <a:pt x="204" y="10"/>
                </a:lnTo>
                <a:lnTo>
                  <a:pt x="204" y="0"/>
                </a:lnTo>
                <a:lnTo>
                  <a:pt x="204" y="10"/>
                </a:lnTo>
                <a:lnTo>
                  <a:pt x="210" y="10"/>
                </a:lnTo>
                <a:lnTo>
                  <a:pt x="210" y="69"/>
                </a:lnTo>
                <a:lnTo>
                  <a:pt x="215" y="16"/>
                </a:lnTo>
                <a:lnTo>
                  <a:pt x="215" y="69"/>
                </a:lnTo>
                <a:lnTo>
                  <a:pt x="221" y="90"/>
                </a:lnTo>
                <a:lnTo>
                  <a:pt x="221" y="64"/>
                </a:lnTo>
                <a:lnTo>
                  <a:pt x="221" y="90"/>
                </a:lnTo>
                <a:lnTo>
                  <a:pt x="227" y="149"/>
                </a:lnTo>
                <a:lnTo>
                  <a:pt x="227" y="180"/>
                </a:lnTo>
                <a:lnTo>
                  <a:pt x="232" y="111"/>
                </a:lnTo>
                <a:lnTo>
                  <a:pt x="232" y="170"/>
                </a:lnTo>
                <a:lnTo>
                  <a:pt x="238" y="165"/>
                </a:lnTo>
                <a:lnTo>
                  <a:pt x="238" y="234"/>
                </a:lnTo>
                <a:lnTo>
                  <a:pt x="238" y="165"/>
                </a:lnTo>
                <a:lnTo>
                  <a:pt x="244" y="111"/>
                </a:lnTo>
                <a:lnTo>
                  <a:pt x="244" y="159"/>
                </a:lnTo>
                <a:lnTo>
                  <a:pt x="249" y="101"/>
                </a:lnTo>
                <a:lnTo>
                  <a:pt x="249" y="154"/>
                </a:lnTo>
                <a:lnTo>
                  <a:pt x="255" y="165"/>
                </a:lnTo>
                <a:lnTo>
                  <a:pt x="255" y="191"/>
                </a:lnTo>
                <a:lnTo>
                  <a:pt x="255" y="127"/>
                </a:lnTo>
                <a:lnTo>
                  <a:pt x="261" y="159"/>
                </a:lnTo>
                <a:lnTo>
                  <a:pt x="261" y="175"/>
                </a:lnTo>
                <a:lnTo>
                  <a:pt x="266" y="170"/>
                </a:lnTo>
                <a:lnTo>
                  <a:pt x="272" y="223"/>
                </a:lnTo>
                <a:lnTo>
                  <a:pt x="272" y="250"/>
                </a:lnTo>
                <a:lnTo>
                  <a:pt x="272" y="207"/>
                </a:lnTo>
                <a:lnTo>
                  <a:pt x="278" y="175"/>
                </a:lnTo>
                <a:lnTo>
                  <a:pt x="278" y="101"/>
                </a:lnTo>
                <a:lnTo>
                  <a:pt x="283" y="111"/>
                </a:lnTo>
                <a:lnTo>
                  <a:pt x="283" y="180"/>
                </a:lnTo>
                <a:lnTo>
                  <a:pt x="289" y="244"/>
                </a:lnTo>
                <a:lnTo>
                  <a:pt x="289" y="292"/>
                </a:lnTo>
                <a:lnTo>
                  <a:pt x="295" y="292"/>
                </a:lnTo>
                <a:lnTo>
                  <a:pt x="295" y="308"/>
                </a:lnTo>
                <a:lnTo>
                  <a:pt x="295" y="297"/>
                </a:lnTo>
                <a:lnTo>
                  <a:pt x="300" y="239"/>
                </a:lnTo>
                <a:lnTo>
                  <a:pt x="300" y="196"/>
                </a:lnTo>
                <a:lnTo>
                  <a:pt x="306" y="165"/>
                </a:lnTo>
                <a:lnTo>
                  <a:pt x="312" y="111"/>
                </a:lnTo>
                <a:lnTo>
                  <a:pt x="312" y="180"/>
                </a:lnTo>
                <a:lnTo>
                  <a:pt x="312" y="228"/>
                </a:lnTo>
                <a:lnTo>
                  <a:pt x="317" y="196"/>
                </a:lnTo>
                <a:lnTo>
                  <a:pt x="317" y="122"/>
                </a:lnTo>
                <a:lnTo>
                  <a:pt x="323" y="106"/>
                </a:lnTo>
                <a:lnTo>
                  <a:pt x="323" y="64"/>
                </a:lnTo>
                <a:lnTo>
                  <a:pt x="329" y="85"/>
                </a:lnTo>
                <a:lnTo>
                  <a:pt x="329" y="64"/>
                </a:lnTo>
                <a:lnTo>
                  <a:pt x="334" y="122"/>
                </a:lnTo>
                <a:lnTo>
                  <a:pt x="334" y="106"/>
                </a:lnTo>
                <a:lnTo>
                  <a:pt x="340" y="64"/>
                </a:lnTo>
                <a:lnTo>
                  <a:pt x="340" y="95"/>
                </a:lnTo>
                <a:lnTo>
                  <a:pt x="346" y="53"/>
                </a:lnTo>
                <a:lnTo>
                  <a:pt x="346" y="58"/>
                </a:lnTo>
                <a:lnTo>
                  <a:pt x="346" y="64"/>
                </a:lnTo>
                <a:lnTo>
                  <a:pt x="351" y="26"/>
                </a:lnTo>
                <a:lnTo>
                  <a:pt x="351" y="32"/>
                </a:lnTo>
                <a:lnTo>
                  <a:pt x="357" y="69"/>
                </a:lnTo>
                <a:lnTo>
                  <a:pt x="357" y="85"/>
                </a:lnTo>
                <a:lnTo>
                  <a:pt x="363" y="64"/>
                </a:lnTo>
                <a:lnTo>
                  <a:pt x="363" y="117"/>
                </a:lnTo>
                <a:lnTo>
                  <a:pt x="368" y="48"/>
                </a:lnTo>
                <a:lnTo>
                  <a:pt x="368" y="117"/>
                </a:lnTo>
                <a:lnTo>
                  <a:pt x="368" y="79"/>
                </a:lnTo>
                <a:lnTo>
                  <a:pt x="374" y="69"/>
                </a:lnTo>
                <a:lnTo>
                  <a:pt x="374" y="95"/>
                </a:lnTo>
                <a:lnTo>
                  <a:pt x="380" y="95"/>
                </a:lnTo>
                <a:lnTo>
                  <a:pt x="380" y="58"/>
                </a:lnTo>
                <a:lnTo>
                  <a:pt x="385" y="21"/>
                </a:lnTo>
                <a:lnTo>
                  <a:pt x="385" y="26"/>
                </a:lnTo>
                <a:lnTo>
                  <a:pt x="385" y="48"/>
                </a:lnTo>
                <a:lnTo>
                  <a:pt x="391" y="111"/>
                </a:lnTo>
                <a:lnTo>
                  <a:pt x="391" y="101"/>
                </a:lnTo>
                <a:lnTo>
                  <a:pt x="397" y="143"/>
                </a:lnTo>
                <a:lnTo>
                  <a:pt x="397" y="202"/>
                </a:lnTo>
                <a:lnTo>
                  <a:pt x="402" y="228"/>
                </a:lnTo>
                <a:lnTo>
                  <a:pt x="402" y="265"/>
                </a:lnTo>
                <a:lnTo>
                  <a:pt x="402" y="228"/>
                </a:lnTo>
                <a:lnTo>
                  <a:pt x="408" y="265"/>
                </a:lnTo>
                <a:lnTo>
                  <a:pt x="408" y="228"/>
                </a:lnTo>
                <a:lnTo>
                  <a:pt x="414" y="292"/>
                </a:lnTo>
                <a:lnTo>
                  <a:pt x="414" y="228"/>
                </a:lnTo>
                <a:lnTo>
                  <a:pt x="419" y="175"/>
                </a:lnTo>
                <a:lnTo>
                  <a:pt x="419" y="127"/>
                </a:lnTo>
                <a:lnTo>
                  <a:pt x="419" y="101"/>
                </a:lnTo>
                <a:lnTo>
                  <a:pt x="425" y="79"/>
                </a:lnTo>
                <a:lnTo>
                  <a:pt x="425" y="117"/>
                </a:lnTo>
                <a:lnTo>
                  <a:pt x="431" y="127"/>
                </a:lnTo>
                <a:lnTo>
                  <a:pt x="431" y="165"/>
                </a:lnTo>
                <a:lnTo>
                  <a:pt x="436" y="101"/>
                </a:lnTo>
                <a:lnTo>
                  <a:pt x="436" y="48"/>
                </a:lnTo>
                <a:lnTo>
                  <a:pt x="442" y="111"/>
                </a:lnTo>
                <a:lnTo>
                  <a:pt x="442" y="53"/>
                </a:lnTo>
                <a:lnTo>
                  <a:pt x="448" y="95"/>
                </a:lnTo>
                <a:lnTo>
                  <a:pt x="448" y="154"/>
                </a:lnTo>
                <a:lnTo>
                  <a:pt x="453" y="212"/>
                </a:lnTo>
                <a:lnTo>
                  <a:pt x="453" y="234"/>
                </a:lnTo>
                <a:lnTo>
                  <a:pt x="459" y="250"/>
                </a:lnTo>
                <a:lnTo>
                  <a:pt x="459" y="271"/>
                </a:lnTo>
                <a:lnTo>
                  <a:pt x="459" y="308"/>
                </a:lnTo>
                <a:lnTo>
                  <a:pt x="465" y="303"/>
                </a:lnTo>
                <a:lnTo>
                  <a:pt x="465" y="340"/>
                </a:lnTo>
                <a:lnTo>
                  <a:pt x="470" y="313"/>
                </a:lnTo>
                <a:lnTo>
                  <a:pt x="470" y="276"/>
                </a:lnTo>
                <a:lnTo>
                  <a:pt x="476" y="287"/>
                </a:lnTo>
                <a:lnTo>
                  <a:pt x="476" y="340"/>
                </a:lnTo>
                <a:lnTo>
                  <a:pt x="476" y="265"/>
                </a:lnTo>
                <a:lnTo>
                  <a:pt x="482" y="313"/>
                </a:lnTo>
                <a:lnTo>
                  <a:pt x="482" y="303"/>
                </a:lnTo>
                <a:lnTo>
                  <a:pt x="487" y="260"/>
                </a:lnTo>
                <a:lnTo>
                  <a:pt x="487" y="186"/>
                </a:lnTo>
                <a:lnTo>
                  <a:pt x="493" y="138"/>
                </a:lnTo>
                <a:lnTo>
                  <a:pt x="493" y="191"/>
                </a:lnTo>
                <a:lnTo>
                  <a:pt x="493" y="138"/>
                </a:lnTo>
                <a:lnTo>
                  <a:pt x="499" y="149"/>
                </a:lnTo>
                <a:lnTo>
                  <a:pt x="499" y="175"/>
                </a:lnTo>
                <a:lnTo>
                  <a:pt x="504" y="170"/>
                </a:lnTo>
                <a:lnTo>
                  <a:pt x="504" y="218"/>
                </a:lnTo>
                <a:lnTo>
                  <a:pt x="510" y="234"/>
                </a:lnTo>
                <a:lnTo>
                  <a:pt x="510" y="191"/>
                </a:lnTo>
                <a:lnTo>
                  <a:pt x="510" y="207"/>
                </a:lnTo>
                <a:lnTo>
                  <a:pt x="516" y="186"/>
                </a:lnTo>
                <a:lnTo>
                  <a:pt x="516" y="122"/>
                </a:lnTo>
                <a:lnTo>
                  <a:pt x="521" y="165"/>
                </a:lnTo>
                <a:lnTo>
                  <a:pt x="521" y="95"/>
                </a:lnTo>
                <a:lnTo>
                  <a:pt x="527" y="101"/>
                </a:lnTo>
                <a:lnTo>
                  <a:pt x="527" y="154"/>
                </a:lnTo>
                <a:lnTo>
                  <a:pt x="533" y="143"/>
                </a:lnTo>
                <a:lnTo>
                  <a:pt x="533" y="79"/>
                </a:lnTo>
                <a:lnTo>
                  <a:pt x="533" y="138"/>
                </a:lnTo>
                <a:lnTo>
                  <a:pt x="539" y="149"/>
                </a:lnTo>
                <a:lnTo>
                  <a:pt x="539" y="180"/>
                </a:lnTo>
                <a:lnTo>
                  <a:pt x="544" y="234"/>
                </a:lnTo>
                <a:lnTo>
                  <a:pt x="544" y="180"/>
                </a:lnTo>
                <a:lnTo>
                  <a:pt x="550" y="196"/>
                </a:lnTo>
                <a:lnTo>
                  <a:pt x="550" y="165"/>
                </a:lnTo>
                <a:lnTo>
                  <a:pt x="550" y="234"/>
                </a:lnTo>
                <a:lnTo>
                  <a:pt x="556" y="212"/>
                </a:lnTo>
                <a:lnTo>
                  <a:pt x="561" y="165"/>
                </a:lnTo>
                <a:lnTo>
                  <a:pt x="561" y="127"/>
                </a:lnTo>
                <a:lnTo>
                  <a:pt x="567" y="95"/>
                </a:lnTo>
                <a:lnTo>
                  <a:pt x="567" y="170"/>
                </a:lnTo>
                <a:lnTo>
                  <a:pt x="567" y="111"/>
                </a:lnTo>
                <a:lnTo>
                  <a:pt x="573" y="180"/>
                </a:lnTo>
                <a:lnTo>
                  <a:pt x="573" y="191"/>
                </a:lnTo>
                <a:lnTo>
                  <a:pt x="578" y="191"/>
                </a:lnTo>
                <a:lnTo>
                  <a:pt x="578" y="244"/>
                </a:lnTo>
                <a:lnTo>
                  <a:pt x="584" y="276"/>
                </a:lnTo>
                <a:lnTo>
                  <a:pt x="584" y="260"/>
                </a:lnTo>
                <a:lnTo>
                  <a:pt x="584" y="281"/>
                </a:lnTo>
                <a:lnTo>
                  <a:pt x="590" y="228"/>
                </a:lnTo>
                <a:lnTo>
                  <a:pt x="590" y="244"/>
                </a:lnTo>
                <a:lnTo>
                  <a:pt x="595" y="218"/>
                </a:lnTo>
                <a:lnTo>
                  <a:pt x="595" y="228"/>
                </a:lnTo>
                <a:lnTo>
                  <a:pt x="601" y="271"/>
                </a:lnTo>
                <a:lnTo>
                  <a:pt x="601" y="218"/>
                </a:lnTo>
                <a:lnTo>
                  <a:pt x="607" y="281"/>
                </a:lnTo>
                <a:lnTo>
                  <a:pt x="607" y="303"/>
                </a:lnTo>
                <a:lnTo>
                  <a:pt x="607" y="377"/>
                </a:lnTo>
                <a:lnTo>
                  <a:pt x="612" y="308"/>
                </a:lnTo>
                <a:lnTo>
                  <a:pt x="612" y="324"/>
                </a:lnTo>
                <a:lnTo>
                  <a:pt x="618" y="303"/>
                </a:lnTo>
                <a:lnTo>
                  <a:pt x="618" y="265"/>
                </a:lnTo>
                <a:lnTo>
                  <a:pt x="624" y="202"/>
                </a:lnTo>
                <a:lnTo>
                  <a:pt x="624" y="143"/>
                </a:lnTo>
                <a:lnTo>
                  <a:pt x="624" y="111"/>
                </a:lnTo>
                <a:lnTo>
                  <a:pt x="629" y="122"/>
                </a:lnTo>
                <a:lnTo>
                  <a:pt x="629" y="159"/>
                </a:lnTo>
                <a:lnTo>
                  <a:pt x="635" y="223"/>
                </a:lnTo>
                <a:lnTo>
                  <a:pt x="641" y="297"/>
                </a:lnTo>
                <a:lnTo>
                  <a:pt x="641" y="351"/>
                </a:lnTo>
                <a:lnTo>
                  <a:pt x="641" y="340"/>
                </a:lnTo>
                <a:lnTo>
                  <a:pt x="646" y="303"/>
                </a:lnTo>
                <a:lnTo>
                  <a:pt x="646" y="324"/>
                </a:lnTo>
                <a:lnTo>
                  <a:pt x="652" y="255"/>
                </a:lnTo>
                <a:lnTo>
                  <a:pt x="652" y="265"/>
                </a:lnTo>
                <a:lnTo>
                  <a:pt x="658" y="324"/>
                </a:lnTo>
                <a:lnTo>
                  <a:pt x="658" y="366"/>
                </a:lnTo>
                <a:lnTo>
                  <a:pt x="658" y="329"/>
                </a:lnTo>
                <a:lnTo>
                  <a:pt x="663" y="287"/>
                </a:lnTo>
                <a:lnTo>
                  <a:pt x="663" y="313"/>
                </a:lnTo>
                <a:lnTo>
                  <a:pt x="669" y="356"/>
                </a:lnTo>
                <a:lnTo>
                  <a:pt x="669" y="404"/>
                </a:lnTo>
                <a:lnTo>
                  <a:pt x="675" y="441"/>
                </a:lnTo>
                <a:lnTo>
                  <a:pt x="675" y="388"/>
                </a:lnTo>
                <a:lnTo>
                  <a:pt x="680" y="324"/>
                </a:lnTo>
                <a:lnTo>
                  <a:pt x="680" y="340"/>
                </a:lnTo>
                <a:lnTo>
                  <a:pt x="680" y="313"/>
                </a:lnTo>
                <a:lnTo>
                  <a:pt x="686" y="313"/>
                </a:lnTo>
                <a:lnTo>
                  <a:pt x="686" y="351"/>
                </a:lnTo>
                <a:lnTo>
                  <a:pt x="692" y="345"/>
                </a:lnTo>
                <a:lnTo>
                  <a:pt x="692" y="271"/>
                </a:lnTo>
                <a:lnTo>
                  <a:pt x="697" y="335"/>
                </a:lnTo>
                <a:lnTo>
                  <a:pt x="697" y="409"/>
                </a:lnTo>
                <a:lnTo>
                  <a:pt x="697" y="478"/>
                </a:lnTo>
                <a:lnTo>
                  <a:pt x="703" y="473"/>
                </a:lnTo>
                <a:lnTo>
                  <a:pt x="703" y="398"/>
                </a:lnTo>
                <a:lnTo>
                  <a:pt x="709" y="414"/>
                </a:lnTo>
                <a:lnTo>
                  <a:pt x="709" y="361"/>
                </a:lnTo>
                <a:lnTo>
                  <a:pt x="714" y="361"/>
                </a:lnTo>
                <a:lnTo>
                  <a:pt x="714" y="430"/>
                </a:lnTo>
                <a:lnTo>
                  <a:pt x="714" y="382"/>
                </a:lnTo>
                <a:lnTo>
                  <a:pt x="720" y="409"/>
                </a:lnTo>
                <a:lnTo>
                  <a:pt x="720" y="372"/>
                </a:lnTo>
                <a:lnTo>
                  <a:pt x="726" y="351"/>
                </a:lnTo>
                <a:lnTo>
                  <a:pt x="726" y="382"/>
                </a:lnTo>
                <a:lnTo>
                  <a:pt x="731" y="436"/>
                </a:lnTo>
                <a:lnTo>
                  <a:pt x="731" y="457"/>
                </a:lnTo>
                <a:lnTo>
                  <a:pt x="731" y="473"/>
                </a:lnTo>
                <a:lnTo>
                  <a:pt x="737" y="499"/>
                </a:lnTo>
                <a:lnTo>
                  <a:pt x="737" y="558"/>
                </a:lnTo>
                <a:lnTo>
                  <a:pt x="743" y="574"/>
                </a:lnTo>
                <a:lnTo>
                  <a:pt x="743" y="595"/>
                </a:lnTo>
                <a:lnTo>
                  <a:pt x="748" y="627"/>
                </a:lnTo>
                <a:lnTo>
                  <a:pt x="748" y="590"/>
                </a:lnTo>
                <a:lnTo>
                  <a:pt x="754" y="563"/>
                </a:lnTo>
                <a:lnTo>
                  <a:pt x="760" y="600"/>
                </a:lnTo>
                <a:lnTo>
                  <a:pt x="765" y="611"/>
                </a:lnTo>
                <a:lnTo>
                  <a:pt x="765" y="637"/>
                </a:lnTo>
                <a:lnTo>
                  <a:pt x="771" y="696"/>
                </a:lnTo>
                <a:lnTo>
                  <a:pt x="771" y="637"/>
                </a:lnTo>
                <a:lnTo>
                  <a:pt x="771" y="574"/>
                </a:lnTo>
                <a:lnTo>
                  <a:pt x="777" y="526"/>
                </a:lnTo>
                <a:lnTo>
                  <a:pt x="777" y="499"/>
                </a:lnTo>
                <a:lnTo>
                  <a:pt x="782" y="478"/>
                </a:lnTo>
                <a:lnTo>
                  <a:pt x="782" y="446"/>
                </a:lnTo>
                <a:lnTo>
                  <a:pt x="788" y="462"/>
                </a:lnTo>
                <a:lnTo>
                  <a:pt x="788" y="478"/>
                </a:lnTo>
                <a:lnTo>
                  <a:pt x="788" y="494"/>
                </a:lnTo>
                <a:lnTo>
                  <a:pt x="794" y="568"/>
                </a:lnTo>
                <a:lnTo>
                  <a:pt x="794" y="637"/>
                </a:lnTo>
                <a:lnTo>
                  <a:pt x="799" y="611"/>
                </a:lnTo>
                <a:lnTo>
                  <a:pt x="799" y="637"/>
                </a:lnTo>
                <a:lnTo>
                  <a:pt x="805" y="627"/>
                </a:lnTo>
                <a:lnTo>
                  <a:pt x="805" y="584"/>
                </a:lnTo>
                <a:lnTo>
                  <a:pt x="805" y="600"/>
                </a:lnTo>
                <a:lnTo>
                  <a:pt x="811" y="653"/>
                </a:lnTo>
                <a:lnTo>
                  <a:pt x="811" y="648"/>
                </a:lnTo>
                <a:lnTo>
                  <a:pt x="816" y="632"/>
                </a:lnTo>
                <a:lnTo>
                  <a:pt x="816" y="563"/>
                </a:lnTo>
                <a:lnTo>
                  <a:pt x="822" y="521"/>
                </a:lnTo>
                <a:lnTo>
                  <a:pt x="822" y="552"/>
                </a:lnTo>
                <a:lnTo>
                  <a:pt x="822" y="547"/>
                </a:lnTo>
                <a:lnTo>
                  <a:pt x="828" y="478"/>
                </a:lnTo>
                <a:lnTo>
                  <a:pt x="828" y="420"/>
                </a:lnTo>
                <a:lnTo>
                  <a:pt x="833" y="420"/>
                </a:lnTo>
                <a:lnTo>
                  <a:pt x="833" y="436"/>
                </a:lnTo>
                <a:lnTo>
                  <a:pt x="839" y="473"/>
                </a:lnTo>
                <a:lnTo>
                  <a:pt x="839" y="478"/>
                </a:lnTo>
                <a:lnTo>
                  <a:pt x="845" y="457"/>
                </a:lnTo>
                <a:lnTo>
                  <a:pt x="845" y="446"/>
                </a:lnTo>
                <a:lnTo>
                  <a:pt x="845" y="483"/>
                </a:lnTo>
                <a:lnTo>
                  <a:pt x="850" y="462"/>
                </a:lnTo>
                <a:lnTo>
                  <a:pt x="850" y="420"/>
                </a:lnTo>
                <a:lnTo>
                  <a:pt x="856" y="425"/>
                </a:lnTo>
                <a:lnTo>
                  <a:pt x="856" y="478"/>
                </a:lnTo>
                <a:lnTo>
                  <a:pt x="862" y="430"/>
                </a:lnTo>
                <a:lnTo>
                  <a:pt x="862" y="473"/>
                </a:lnTo>
                <a:lnTo>
                  <a:pt x="862" y="467"/>
                </a:lnTo>
                <a:lnTo>
                  <a:pt x="867" y="526"/>
                </a:lnTo>
                <a:lnTo>
                  <a:pt x="867" y="499"/>
                </a:lnTo>
                <a:lnTo>
                  <a:pt x="873" y="483"/>
                </a:lnTo>
                <a:lnTo>
                  <a:pt x="873" y="478"/>
                </a:lnTo>
                <a:lnTo>
                  <a:pt x="879" y="521"/>
                </a:lnTo>
                <a:lnTo>
                  <a:pt x="879" y="531"/>
                </a:lnTo>
                <a:lnTo>
                  <a:pt x="879" y="542"/>
                </a:lnTo>
                <a:lnTo>
                  <a:pt x="884" y="483"/>
                </a:lnTo>
                <a:lnTo>
                  <a:pt x="884" y="515"/>
                </a:lnTo>
                <a:lnTo>
                  <a:pt x="890" y="462"/>
                </a:lnTo>
                <a:lnTo>
                  <a:pt x="890" y="483"/>
                </a:lnTo>
                <a:lnTo>
                  <a:pt x="896" y="558"/>
                </a:lnTo>
                <a:lnTo>
                  <a:pt x="896" y="616"/>
                </a:lnTo>
                <a:lnTo>
                  <a:pt x="896" y="637"/>
                </a:lnTo>
                <a:lnTo>
                  <a:pt x="901" y="669"/>
                </a:lnTo>
                <a:lnTo>
                  <a:pt x="901" y="712"/>
                </a:lnTo>
                <a:lnTo>
                  <a:pt x="907" y="643"/>
                </a:lnTo>
                <a:lnTo>
                  <a:pt x="913" y="653"/>
                </a:lnTo>
                <a:lnTo>
                  <a:pt x="913" y="701"/>
                </a:lnTo>
                <a:lnTo>
                  <a:pt x="918" y="733"/>
                </a:lnTo>
                <a:lnTo>
                  <a:pt x="918" y="717"/>
                </a:lnTo>
                <a:lnTo>
                  <a:pt x="918" y="781"/>
                </a:lnTo>
                <a:lnTo>
                  <a:pt x="924" y="744"/>
                </a:lnTo>
                <a:lnTo>
                  <a:pt x="924" y="802"/>
                </a:lnTo>
                <a:lnTo>
                  <a:pt x="930" y="855"/>
                </a:lnTo>
                <a:lnTo>
                  <a:pt x="930" y="802"/>
                </a:lnTo>
                <a:lnTo>
                  <a:pt x="935" y="871"/>
                </a:lnTo>
                <a:lnTo>
                  <a:pt x="935" y="940"/>
                </a:lnTo>
                <a:lnTo>
                  <a:pt x="935" y="898"/>
                </a:lnTo>
                <a:lnTo>
                  <a:pt x="941" y="829"/>
                </a:lnTo>
                <a:lnTo>
                  <a:pt x="941" y="898"/>
                </a:lnTo>
                <a:lnTo>
                  <a:pt x="947" y="834"/>
                </a:lnTo>
                <a:lnTo>
                  <a:pt x="947" y="861"/>
                </a:lnTo>
                <a:lnTo>
                  <a:pt x="952" y="845"/>
                </a:lnTo>
                <a:lnTo>
                  <a:pt x="952" y="850"/>
                </a:lnTo>
                <a:lnTo>
                  <a:pt x="958" y="818"/>
                </a:lnTo>
                <a:lnTo>
                  <a:pt x="958" y="754"/>
                </a:lnTo>
                <a:lnTo>
                  <a:pt x="964" y="696"/>
                </a:lnTo>
                <a:lnTo>
                  <a:pt x="964" y="685"/>
                </a:lnTo>
                <a:lnTo>
                  <a:pt x="969" y="707"/>
                </a:lnTo>
                <a:lnTo>
                  <a:pt x="969" y="685"/>
                </a:lnTo>
                <a:lnTo>
                  <a:pt x="969" y="728"/>
                </a:lnTo>
                <a:lnTo>
                  <a:pt x="975" y="765"/>
                </a:lnTo>
                <a:lnTo>
                  <a:pt x="975" y="691"/>
                </a:lnTo>
                <a:lnTo>
                  <a:pt x="981" y="712"/>
                </a:lnTo>
                <a:lnTo>
                  <a:pt x="981" y="776"/>
                </a:lnTo>
                <a:lnTo>
                  <a:pt x="986" y="712"/>
                </a:lnTo>
                <a:lnTo>
                  <a:pt x="986" y="696"/>
                </a:lnTo>
                <a:lnTo>
                  <a:pt x="986" y="643"/>
                </a:lnTo>
                <a:lnTo>
                  <a:pt x="992" y="584"/>
                </a:lnTo>
                <a:lnTo>
                  <a:pt x="992" y="616"/>
                </a:lnTo>
                <a:lnTo>
                  <a:pt x="998" y="579"/>
                </a:lnTo>
                <a:lnTo>
                  <a:pt x="998" y="531"/>
                </a:lnTo>
                <a:lnTo>
                  <a:pt x="1003" y="595"/>
                </a:lnTo>
                <a:lnTo>
                  <a:pt x="1003" y="627"/>
                </a:lnTo>
                <a:lnTo>
                  <a:pt x="1009" y="637"/>
                </a:lnTo>
                <a:lnTo>
                  <a:pt x="1009" y="648"/>
                </a:lnTo>
                <a:lnTo>
                  <a:pt x="1009" y="701"/>
                </a:lnTo>
                <a:lnTo>
                  <a:pt x="1015" y="643"/>
                </a:lnTo>
                <a:lnTo>
                  <a:pt x="1015" y="701"/>
                </a:lnTo>
                <a:lnTo>
                  <a:pt x="1020" y="685"/>
                </a:lnTo>
                <a:lnTo>
                  <a:pt x="1020" y="707"/>
                </a:lnTo>
                <a:lnTo>
                  <a:pt x="1026" y="659"/>
                </a:lnTo>
                <a:lnTo>
                  <a:pt x="1026" y="648"/>
                </a:lnTo>
                <a:lnTo>
                  <a:pt x="1026" y="595"/>
                </a:lnTo>
                <a:lnTo>
                  <a:pt x="1032" y="600"/>
                </a:lnTo>
                <a:lnTo>
                  <a:pt x="1032" y="595"/>
                </a:lnTo>
                <a:lnTo>
                  <a:pt x="1037" y="537"/>
                </a:lnTo>
                <a:lnTo>
                  <a:pt x="1037" y="600"/>
                </a:lnTo>
                <a:lnTo>
                  <a:pt x="1043" y="675"/>
                </a:lnTo>
                <a:lnTo>
                  <a:pt x="1043" y="653"/>
                </a:lnTo>
                <a:lnTo>
                  <a:pt x="1043" y="648"/>
                </a:lnTo>
                <a:lnTo>
                  <a:pt x="1049" y="669"/>
                </a:lnTo>
                <a:lnTo>
                  <a:pt x="1049" y="675"/>
                </a:lnTo>
                <a:lnTo>
                  <a:pt x="1054" y="744"/>
                </a:lnTo>
                <a:lnTo>
                  <a:pt x="1054" y="723"/>
                </a:lnTo>
                <a:lnTo>
                  <a:pt x="1060" y="691"/>
                </a:lnTo>
                <a:lnTo>
                  <a:pt x="1060" y="760"/>
                </a:lnTo>
                <a:lnTo>
                  <a:pt x="1060" y="786"/>
                </a:lnTo>
                <a:lnTo>
                  <a:pt x="1066" y="834"/>
                </a:lnTo>
                <a:lnTo>
                  <a:pt x="1066" y="909"/>
                </a:lnTo>
                <a:lnTo>
                  <a:pt x="1071" y="898"/>
                </a:lnTo>
                <a:lnTo>
                  <a:pt x="1071" y="935"/>
                </a:lnTo>
                <a:lnTo>
                  <a:pt x="1077" y="967"/>
                </a:lnTo>
                <a:lnTo>
                  <a:pt x="1077" y="972"/>
                </a:lnTo>
                <a:lnTo>
                  <a:pt x="1083" y="914"/>
                </a:lnTo>
                <a:lnTo>
                  <a:pt x="1083" y="866"/>
                </a:lnTo>
                <a:lnTo>
                  <a:pt x="1083" y="909"/>
                </a:lnTo>
                <a:lnTo>
                  <a:pt x="1088" y="935"/>
                </a:lnTo>
                <a:lnTo>
                  <a:pt x="1088" y="940"/>
                </a:lnTo>
                <a:lnTo>
                  <a:pt x="1094" y="898"/>
                </a:lnTo>
                <a:lnTo>
                  <a:pt x="1094" y="882"/>
                </a:lnTo>
                <a:lnTo>
                  <a:pt x="1100" y="813"/>
                </a:lnTo>
                <a:lnTo>
                  <a:pt x="1100" y="738"/>
                </a:lnTo>
                <a:lnTo>
                  <a:pt x="1100" y="760"/>
                </a:lnTo>
                <a:lnTo>
                  <a:pt x="1105" y="792"/>
                </a:lnTo>
                <a:lnTo>
                  <a:pt x="1105" y="797"/>
                </a:lnTo>
                <a:lnTo>
                  <a:pt x="1111" y="818"/>
                </a:lnTo>
                <a:lnTo>
                  <a:pt x="1111" y="871"/>
                </a:lnTo>
                <a:lnTo>
                  <a:pt x="1117" y="808"/>
                </a:lnTo>
                <a:lnTo>
                  <a:pt x="1117" y="749"/>
                </a:lnTo>
                <a:lnTo>
                  <a:pt x="1117" y="754"/>
                </a:lnTo>
                <a:lnTo>
                  <a:pt x="1122" y="823"/>
                </a:lnTo>
                <a:lnTo>
                  <a:pt x="1122" y="749"/>
                </a:lnTo>
                <a:lnTo>
                  <a:pt x="1128" y="738"/>
                </a:lnTo>
                <a:lnTo>
                  <a:pt x="1128" y="781"/>
                </a:lnTo>
                <a:lnTo>
                  <a:pt x="1134" y="802"/>
                </a:lnTo>
                <a:lnTo>
                  <a:pt x="1134" y="808"/>
                </a:lnTo>
                <a:lnTo>
                  <a:pt x="1134" y="738"/>
                </a:lnTo>
                <a:lnTo>
                  <a:pt x="1139" y="786"/>
                </a:lnTo>
                <a:lnTo>
                  <a:pt x="1139" y="781"/>
                </a:lnTo>
                <a:lnTo>
                  <a:pt x="1145" y="802"/>
                </a:lnTo>
                <a:lnTo>
                  <a:pt x="1151" y="797"/>
                </a:lnTo>
                <a:lnTo>
                  <a:pt x="1151" y="754"/>
                </a:lnTo>
                <a:lnTo>
                  <a:pt x="1156" y="754"/>
                </a:lnTo>
                <a:lnTo>
                  <a:pt x="1156" y="802"/>
                </a:lnTo>
                <a:lnTo>
                  <a:pt x="1156" y="818"/>
                </a:lnTo>
                <a:lnTo>
                  <a:pt x="1162" y="770"/>
                </a:lnTo>
                <a:lnTo>
                  <a:pt x="1162" y="765"/>
                </a:lnTo>
                <a:lnTo>
                  <a:pt x="1168" y="707"/>
                </a:lnTo>
                <a:lnTo>
                  <a:pt x="1168" y="675"/>
                </a:lnTo>
                <a:lnTo>
                  <a:pt x="1174" y="637"/>
                </a:lnTo>
                <a:lnTo>
                  <a:pt x="1174" y="712"/>
                </a:lnTo>
                <a:lnTo>
                  <a:pt x="1174" y="728"/>
                </a:lnTo>
                <a:lnTo>
                  <a:pt x="1179" y="786"/>
                </a:lnTo>
                <a:lnTo>
                  <a:pt x="1179" y="813"/>
                </a:lnTo>
                <a:lnTo>
                  <a:pt x="1185" y="738"/>
                </a:lnTo>
                <a:lnTo>
                  <a:pt x="1185" y="733"/>
                </a:lnTo>
                <a:lnTo>
                  <a:pt x="1191" y="744"/>
                </a:lnTo>
                <a:lnTo>
                  <a:pt x="1191" y="696"/>
                </a:lnTo>
                <a:lnTo>
                  <a:pt x="1191" y="744"/>
                </a:lnTo>
                <a:lnTo>
                  <a:pt x="1196" y="738"/>
                </a:lnTo>
                <a:lnTo>
                  <a:pt x="1196" y="776"/>
                </a:lnTo>
                <a:lnTo>
                  <a:pt x="1202" y="802"/>
                </a:lnTo>
                <a:lnTo>
                  <a:pt x="1202" y="813"/>
                </a:lnTo>
                <a:lnTo>
                  <a:pt x="1208" y="861"/>
                </a:lnTo>
                <a:lnTo>
                  <a:pt x="1208" y="903"/>
                </a:lnTo>
                <a:lnTo>
                  <a:pt x="1208" y="893"/>
                </a:lnTo>
                <a:lnTo>
                  <a:pt x="1213" y="887"/>
                </a:lnTo>
                <a:lnTo>
                  <a:pt x="1219" y="898"/>
                </a:lnTo>
                <a:lnTo>
                  <a:pt x="1219" y="855"/>
                </a:lnTo>
                <a:lnTo>
                  <a:pt x="1225" y="786"/>
                </a:lnTo>
                <a:lnTo>
                  <a:pt x="1225" y="823"/>
                </a:lnTo>
                <a:lnTo>
                  <a:pt x="1230" y="802"/>
                </a:lnTo>
                <a:lnTo>
                  <a:pt x="1230" y="781"/>
                </a:lnTo>
                <a:lnTo>
                  <a:pt x="1236" y="770"/>
                </a:lnTo>
                <a:lnTo>
                  <a:pt x="1236" y="754"/>
                </a:lnTo>
                <a:lnTo>
                  <a:pt x="1242" y="744"/>
                </a:lnTo>
                <a:lnTo>
                  <a:pt x="1242" y="760"/>
                </a:lnTo>
                <a:lnTo>
                  <a:pt x="1247" y="723"/>
                </a:lnTo>
                <a:lnTo>
                  <a:pt x="1247" y="765"/>
                </a:lnTo>
                <a:lnTo>
                  <a:pt x="1247" y="818"/>
                </a:lnTo>
                <a:lnTo>
                  <a:pt x="1253" y="749"/>
                </a:lnTo>
                <a:lnTo>
                  <a:pt x="1253" y="818"/>
                </a:lnTo>
                <a:lnTo>
                  <a:pt x="1259" y="823"/>
                </a:lnTo>
                <a:lnTo>
                  <a:pt x="1259" y="754"/>
                </a:lnTo>
                <a:lnTo>
                  <a:pt x="1264" y="691"/>
                </a:lnTo>
                <a:lnTo>
                  <a:pt x="1264" y="749"/>
                </a:lnTo>
                <a:lnTo>
                  <a:pt x="1264" y="776"/>
                </a:lnTo>
                <a:lnTo>
                  <a:pt x="1270" y="712"/>
                </a:lnTo>
                <a:lnTo>
                  <a:pt x="1270" y="760"/>
                </a:lnTo>
                <a:lnTo>
                  <a:pt x="1276" y="797"/>
                </a:lnTo>
                <a:lnTo>
                  <a:pt x="1276" y="850"/>
                </a:lnTo>
                <a:lnTo>
                  <a:pt x="1281" y="882"/>
                </a:lnTo>
                <a:lnTo>
                  <a:pt x="1281" y="898"/>
                </a:lnTo>
                <a:lnTo>
                  <a:pt x="1281" y="845"/>
                </a:lnTo>
                <a:lnTo>
                  <a:pt x="1287" y="877"/>
                </a:lnTo>
                <a:lnTo>
                  <a:pt x="1287" y="871"/>
                </a:lnTo>
                <a:lnTo>
                  <a:pt x="1293" y="909"/>
                </a:lnTo>
                <a:lnTo>
                  <a:pt x="1293" y="962"/>
                </a:lnTo>
                <a:lnTo>
                  <a:pt x="1298" y="914"/>
                </a:lnTo>
                <a:lnTo>
                  <a:pt x="1298" y="956"/>
                </a:lnTo>
                <a:lnTo>
                  <a:pt x="1298" y="914"/>
                </a:lnTo>
                <a:lnTo>
                  <a:pt x="1304" y="909"/>
                </a:lnTo>
                <a:lnTo>
                  <a:pt x="1304" y="924"/>
                </a:lnTo>
                <a:lnTo>
                  <a:pt x="1310" y="887"/>
                </a:lnTo>
                <a:lnTo>
                  <a:pt x="1310" y="813"/>
                </a:lnTo>
                <a:lnTo>
                  <a:pt x="1315" y="829"/>
                </a:lnTo>
                <a:lnTo>
                  <a:pt x="1315" y="898"/>
                </a:lnTo>
                <a:lnTo>
                  <a:pt x="1321" y="861"/>
                </a:lnTo>
                <a:lnTo>
                  <a:pt x="1321" y="866"/>
                </a:lnTo>
                <a:lnTo>
                  <a:pt x="1321" y="839"/>
                </a:lnTo>
                <a:lnTo>
                  <a:pt x="1327" y="903"/>
                </a:lnTo>
                <a:lnTo>
                  <a:pt x="1327" y="871"/>
                </a:lnTo>
                <a:lnTo>
                  <a:pt x="1332" y="861"/>
                </a:lnTo>
                <a:lnTo>
                  <a:pt x="1332" y="871"/>
                </a:lnTo>
                <a:lnTo>
                  <a:pt x="1338" y="797"/>
                </a:lnTo>
                <a:lnTo>
                  <a:pt x="1338" y="776"/>
                </a:lnTo>
                <a:lnTo>
                  <a:pt x="1338" y="797"/>
                </a:lnTo>
                <a:lnTo>
                  <a:pt x="1344" y="813"/>
                </a:lnTo>
                <a:lnTo>
                  <a:pt x="1344" y="760"/>
                </a:lnTo>
                <a:lnTo>
                  <a:pt x="1349" y="765"/>
                </a:lnTo>
                <a:lnTo>
                  <a:pt x="1349" y="749"/>
                </a:lnTo>
                <a:lnTo>
                  <a:pt x="1355" y="733"/>
                </a:lnTo>
                <a:lnTo>
                  <a:pt x="1355" y="765"/>
                </a:lnTo>
                <a:lnTo>
                  <a:pt x="1355" y="786"/>
                </a:lnTo>
                <a:lnTo>
                  <a:pt x="1361" y="813"/>
                </a:lnTo>
                <a:lnTo>
                  <a:pt x="1361" y="754"/>
                </a:lnTo>
                <a:lnTo>
                  <a:pt x="1366" y="792"/>
                </a:lnTo>
                <a:lnTo>
                  <a:pt x="1366" y="839"/>
                </a:lnTo>
                <a:lnTo>
                  <a:pt x="1372" y="823"/>
                </a:lnTo>
                <a:lnTo>
                  <a:pt x="1372" y="893"/>
                </a:lnTo>
                <a:lnTo>
                  <a:pt x="1372" y="818"/>
                </a:lnTo>
                <a:lnTo>
                  <a:pt x="1378" y="792"/>
                </a:lnTo>
                <a:lnTo>
                  <a:pt x="1378" y="845"/>
                </a:lnTo>
                <a:lnTo>
                  <a:pt x="1383" y="882"/>
                </a:lnTo>
                <a:lnTo>
                  <a:pt x="1383" y="808"/>
                </a:lnTo>
                <a:lnTo>
                  <a:pt x="1389" y="871"/>
                </a:lnTo>
                <a:lnTo>
                  <a:pt x="1389" y="898"/>
                </a:lnTo>
                <a:lnTo>
                  <a:pt x="1395" y="866"/>
                </a:lnTo>
                <a:lnTo>
                  <a:pt x="1395" y="839"/>
                </a:lnTo>
                <a:lnTo>
                  <a:pt x="1395" y="818"/>
                </a:lnTo>
                <a:lnTo>
                  <a:pt x="1400" y="850"/>
                </a:lnTo>
                <a:lnTo>
                  <a:pt x="1400" y="887"/>
                </a:lnTo>
                <a:lnTo>
                  <a:pt x="1406" y="877"/>
                </a:lnTo>
                <a:lnTo>
                  <a:pt x="1406" y="940"/>
                </a:lnTo>
                <a:lnTo>
                  <a:pt x="1412" y="914"/>
                </a:lnTo>
                <a:lnTo>
                  <a:pt x="1412" y="887"/>
                </a:lnTo>
                <a:lnTo>
                  <a:pt x="1412" y="909"/>
                </a:lnTo>
                <a:lnTo>
                  <a:pt x="1417" y="946"/>
                </a:lnTo>
                <a:lnTo>
                  <a:pt x="1417" y="877"/>
                </a:lnTo>
                <a:lnTo>
                  <a:pt x="1423" y="898"/>
                </a:lnTo>
                <a:lnTo>
                  <a:pt x="1423" y="882"/>
                </a:lnTo>
                <a:lnTo>
                  <a:pt x="1429" y="887"/>
                </a:lnTo>
                <a:lnTo>
                  <a:pt x="1429" y="823"/>
                </a:lnTo>
                <a:lnTo>
                  <a:pt x="1429" y="776"/>
                </a:lnTo>
                <a:lnTo>
                  <a:pt x="1434" y="749"/>
                </a:lnTo>
                <a:lnTo>
                  <a:pt x="1434" y="754"/>
                </a:lnTo>
                <a:lnTo>
                  <a:pt x="1440" y="685"/>
                </a:lnTo>
                <a:lnTo>
                  <a:pt x="1440" y="616"/>
                </a:lnTo>
                <a:lnTo>
                  <a:pt x="1446" y="568"/>
                </a:lnTo>
                <a:lnTo>
                  <a:pt x="1446" y="574"/>
                </a:lnTo>
                <a:lnTo>
                  <a:pt x="1446" y="595"/>
                </a:lnTo>
                <a:lnTo>
                  <a:pt x="1451" y="622"/>
                </a:lnTo>
                <a:lnTo>
                  <a:pt x="1451" y="637"/>
                </a:lnTo>
                <a:lnTo>
                  <a:pt x="1457" y="637"/>
                </a:lnTo>
                <a:lnTo>
                  <a:pt x="1457" y="584"/>
                </a:lnTo>
                <a:lnTo>
                  <a:pt x="1463" y="643"/>
                </a:lnTo>
                <a:lnTo>
                  <a:pt x="1463" y="717"/>
                </a:lnTo>
                <a:lnTo>
                  <a:pt x="1468" y="792"/>
                </a:lnTo>
                <a:lnTo>
                  <a:pt x="1468" y="808"/>
                </a:lnTo>
                <a:lnTo>
                  <a:pt x="1468" y="866"/>
                </a:lnTo>
                <a:lnTo>
                  <a:pt x="1474" y="813"/>
                </a:lnTo>
                <a:lnTo>
                  <a:pt x="1474" y="829"/>
                </a:lnTo>
                <a:lnTo>
                  <a:pt x="1480" y="760"/>
                </a:lnTo>
                <a:lnTo>
                  <a:pt x="1480" y="829"/>
                </a:lnTo>
                <a:lnTo>
                  <a:pt x="1485" y="893"/>
                </a:lnTo>
                <a:lnTo>
                  <a:pt x="1485" y="855"/>
                </a:lnTo>
                <a:lnTo>
                  <a:pt x="1485" y="797"/>
                </a:lnTo>
                <a:lnTo>
                  <a:pt x="1491" y="728"/>
                </a:lnTo>
                <a:lnTo>
                  <a:pt x="1491" y="680"/>
                </a:lnTo>
                <a:lnTo>
                  <a:pt x="1497" y="712"/>
                </a:lnTo>
                <a:lnTo>
                  <a:pt x="1497" y="744"/>
                </a:lnTo>
                <a:lnTo>
                  <a:pt x="1502" y="765"/>
                </a:lnTo>
                <a:lnTo>
                  <a:pt x="1502" y="792"/>
                </a:lnTo>
                <a:lnTo>
                  <a:pt x="1502" y="744"/>
                </a:lnTo>
                <a:lnTo>
                  <a:pt x="1508" y="717"/>
                </a:lnTo>
                <a:lnTo>
                  <a:pt x="1508" y="765"/>
                </a:lnTo>
                <a:lnTo>
                  <a:pt x="1514" y="733"/>
                </a:lnTo>
                <a:lnTo>
                  <a:pt x="1514" y="712"/>
                </a:lnTo>
                <a:lnTo>
                  <a:pt x="1519" y="781"/>
                </a:lnTo>
                <a:lnTo>
                  <a:pt x="1519" y="850"/>
                </a:lnTo>
                <a:lnTo>
                  <a:pt x="1519" y="808"/>
                </a:lnTo>
                <a:lnTo>
                  <a:pt x="1525" y="744"/>
                </a:lnTo>
                <a:lnTo>
                  <a:pt x="1531" y="754"/>
                </a:lnTo>
                <a:lnTo>
                  <a:pt x="1531" y="792"/>
                </a:lnTo>
                <a:lnTo>
                  <a:pt x="1536" y="808"/>
                </a:lnTo>
                <a:lnTo>
                  <a:pt x="1536" y="733"/>
                </a:lnTo>
                <a:lnTo>
                  <a:pt x="1536" y="744"/>
                </a:lnTo>
                <a:lnTo>
                  <a:pt x="1542" y="776"/>
                </a:lnTo>
                <a:lnTo>
                  <a:pt x="1542" y="733"/>
                </a:lnTo>
                <a:lnTo>
                  <a:pt x="1548" y="808"/>
                </a:lnTo>
                <a:lnTo>
                  <a:pt x="1548" y="792"/>
                </a:lnTo>
                <a:lnTo>
                  <a:pt x="1553" y="781"/>
                </a:lnTo>
                <a:lnTo>
                  <a:pt x="1553" y="829"/>
                </a:lnTo>
                <a:lnTo>
                  <a:pt x="1559" y="818"/>
                </a:lnTo>
                <a:lnTo>
                  <a:pt x="1559" y="792"/>
                </a:lnTo>
                <a:lnTo>
                  <a:pt x="1559" y="770"/>
                </a:lnTo>
                <a:lnTo>
                  <a:pt x="1565" y="770"/>
                </a:lnTo>
                <a:lnTo>
                  <a:pt x="1565" y="808"/>
                </a:lnTo>
                <a:lnTo>
                  <a:pt x="1570" y="797"/>
                </a:lnTo>
                <a:lnTo>
                  <a:pt x="1570" y="749"/>
                </a:lnTo>
                <a:lnTo>
                  <a:pt x="1576" y="792"/>
                </a:lnTo>
                <a:lnTo>
                  <a:pt x="1576" y="765"/>
                </a:lnTo>
                <a:lnTo>
                  <a:pt x="1576" y="818"/>
                </a:lnTo>
                <a:lnTo>
                  <a:pt x="1582" y="845"/>
                </a:lnTo>
                <a:lnTo>
                  <a:pt x="1582" y="909"/>
                </a:lnTo>
                <a:lnTo>
                  <a:pt x="1587" y="898"/>
                </a:lnTo>
                <a:lnTo>
                  <a:pt x="1587" y="877"/>
                </a:lnTo>
                <a:lnTo>
                  <a:pt x="1593" y="893"/>
                </a:lnTo>
                <a:lnTo>
                  <a:pt x="1593" y="898"/>
                </a:lnTo>
                <a:lnTo>
                  <a:pt x="1593" y="887"/>
                </a:lnTo>
                <a:lnTo>
                  <a:pt x="1599" y="877"/>
                </a:lnTo>
                <a:lnTo>
                  <a:pt x="1599" y="903"/>
                </a:lnTo>
                <a:lnTo>
                  <a:pt x="1604" y="877"/>
                </a:lnTo>
                <a:lnTo>
                  <a:pt x="1604" y="887"/>
                </a:lnTo>
                <a:lnTo>
                  <a:pt x="1610" y="882"/>
                </a:lnTo>
                <a:lnTo>
                  <a:pt x="1610" y="940"/>
                </a:lnTo>
                <a:lnTo>
                  <a:pt x="1616" y="898"/>
                </a:lnTo>
                <a:lnTo>
                  <a:pt x="1616" y="850"/>
                </a:lnTo>
                <a:lnTo>
                  <a:pt x="1621" y="909"/>
                </a:lnTo>
                <a:lnTo>
                  <a:pt x="1621" y="866"/>
                </a:lnTo>
                <a:lnTo>
                  <a:pt x="1627" y="909"/>
                </a:lnTo>
                <a:lnTo>
                  <a:pt x="1627" y="866"/>
                </a:lnTo>
                <a:lnTo>
                  <a:pt x="1633" y="887"/>
                </a:lnTo>
                <a:lnTo>
                  <a:pt x="1633" y="924"/>
                </a:lnTo>
                <a:lnTo>
                  <a:pt x="1633" y="930"/>
                </a:lnTo>
                <a:lnTo>
                  <a:pt x="1638" y="956"/>
                </a:lnTo>
                <a:lnTo>
                  <a:pt x="1638" y="983"/>
                </a:lnTo>
                <a:lnTo>
                  <a:pt x="1644" y="994"/>
                </a:lnTo>
                <a:lnTo>
                  <a:pt x="1644" y="983"/>
                </a:lnTo>
                <a:lnTo>
                  <a:pt x="1650" y="1009"/>
                </a:lnTo>
                <a:lnTo>
                  <a:pt x="1650" y="1079"/>
                </a:lnTo>
                <a:lnTo>
                  <a:pt x="1650" y="1047"/>
                </a:lnTo>
                <a:lnTo>
                  <a:pt x="1655" y="1073"/>
                </a:lnTo>
                <a:lnTo>
                  <a:pt x="1655" y="1095"/>
                </a:lnTo>
                <a:lnTo>
                  <a:pt x="1661" y="1169"/>
                </a:lnTo>
                <a:lnTo>
                  <a:pt x="1661" y="1110"/>
                </a:lnTo>
                <a:lnTo>
                  <a:pt x="1667" y="1100"/>
                </a:lnTo>
                <a:lnTo>
                  <a:pt x="1667" y="1169"/>
                </a:lnTo>
                <a:lnTo>
                  <a:pt x="1667" y="1137"/>
                </a:lnTo>
                <a:lnTo>
                  <a:pt x="1672" y="1126"/>
                </a:lnTo>
                <a:lnTo>
                  <a:pt x="1672" y="1110"/>
                </a:lnTo>
                <a:lnTo>
                  <a:pt x="1678" y="1095"/>
                </a:lnTo>
                <a:lnTo>
                  <a:pt x="1678" y="1084"/>
                </a:lnTo>
                <a:lnTo>
                  <a:pt x="1684" y="1020"/>
                </a:lnTo>
                <a:lnTo>
                  <a:pt x="1684" y="946"/>
                </a:lnTo>
                <a:lnTo>
                  <a:pt x="1684" y="988"/>
                </a:lnTo>
                <a:lnTo>
                  <a:pt x="1689" y="1020"/>
                </a:lnTo>
                <a:lnTo>
                  <a:pt x="1689" y="1031"/>
                </a:lnTo>
                <a:lnTo>
                  <a:pt x="1695" y="1036"/>
                </a:lnTo>
                <a:lnTo>
                  <a:pt x="1695" y="1004"/>
                </a:lnTo>
                <a:lnTo>
                  <a:pt x="1701" y="962"/>
                </a:lnTo>
                <a:lnTo>
                  <a:pt x="1701" y="994"/>
                </a:lnTo>
                <a:lnTo>
                  <a:pt x="1706" y="1025"/>
                </a:lnTo>
                <a:lnTo>
                  <a:pt x="1706" y="1068"/>
                </a:lnTo>
                <a:lnTo>
                  <a:pt x="1706" y="1025"/>
                </a:lnTo>
                <a:lnTo>
                  <a:pt x="1712" y="1036"/>
                </a:lnTo>
                <a:lnTo>
                  <a:pt x="1712" y="1089"/>
                </a:lnTo>
                <a:lnTo>
                  <a:pt x="1718" y="1148"/>
                </a:lnTo>
                <a:lnTo>
                  <a:pt x="1718" y="1084"/>
                </a:lnTo>
                <a:lnTo>
                  <a:pt x="1723" y="1158"/>
                </a:lnTo>
                <a:lnTo>
                  <a:pt x="1723" y="1121"/>
                </a:lnTo>
                <a:lnTo>
                  <a:pt x="1723" y="1100"/>
                </a:lnTo>
                <a:lnTo>
                  <a:pt x="1729" y="1095"/>
                </a:lnTo>
                <a:lnTo>
                  <a:pt x="1729" y="1121"/>
                </a:lnTo>
                <a:lnTo>
                  <a:pt x="1735" y="1137"/>
                </a:lnTo>
                <a:lnTo>
                  <a:pt x="1735" y="1169"/>
                </a:lnTo>
                <a:lnTo>
                  <a:pt x="1740" y="1095"/>
                </a:lnTo>
                <a:lnTo>
                  <a:pt x="1740" y="1084"/>
                </a:lnTo>
                <a:lnTo>
                  <a:pt x="1740" y="1009"/>
                </a:lnTo>
                <a:lnTo>
                  <a:pt x="1746" y="1068"/>
                </a:lnTo>
                <a:lnTo>
                  <a:pt x="1746" y="1063"/>
                </a:lnTo>
                <a:lnTo>
                  <a:pt x="1752" y="1095"/>
                </a:lnTo>
                <a:lnTo>
                  <a:pt x="1752" y="1052"/>
                </a:lnTo>
                <a:lnTo>
                  <a:pt x="1757" y="1110"/>
                </a:lnTo>
                <a:lnTo>
                  <a:pt x="1757" y="1095"/>
                </a:lnTo>
                <a:lnTo>
                  <a:pt x="1757" y="1148"/>
                </a:lnTo>
                <a:lnTo>
                  <a:pt x="1763" y="1095"/>
                </a:lnTo>
                <a:lnTo>
                  <a:pt x="1769" y="1089"/>
                </a:lnTo>
                <a:lnTo>
                  <a:pt x="1769" y="1132"/>
                </a:lnTo>
                <a:lnTo>
                  <a:pt x="1774" y="1169"/>
                </a:lnTo>
                <a:lnTo>
                  <a:pt x="1774" y="1201"/>
                </a:lnTo>
                <a:lnTo>
                  <a:pt x="1774" y="1137"/>
                </a:lnTo>
                <a:lnTo>
                  <a:pt x="1780" y="1180"/>
                </a:lnTo>
                <a:lnTo>
                  <a:pt x="1780" y="1105"/>
                </a:lnTo>
                <a:lnTo>
                  <a:pt x="1786" y="1110"/>
                </a:lnTo>
                <a:lnTo>
                  <a:pt x="1786" y="1084"/>
                </a:lnTo>
                <a:lnTo>
                  <a:pt x="1791" y="1137"/>
                </a:lnTo>
                <a:lnTo>
                  <a:pt x="1791" y="1164"/>
                </a:lnTo>
                <a:lnTo>
                  <a:pt x="1797" y="1158"/>
                </a:lnTo>
                <a:lnTo>
                  <a:pt x="1797" y="1227"/>
                </a:lnTo>
                <a:lnTo>
                  <a:pt x="1797" y="1222"/>
                </a:lnTo>
                <a:lnTo>
                  <a:pt x="1803" y="1201"/>
                </a:lnTo>
                <a:lnTo>
                  <a:pt x="1803" y="1132"/>
                </a:lnTo>
                <a:lnTo>
                  <a:pt x="1809" y="1116"/>
                </a:lnTo>
                <a:lnTo>
                  <a:pt x="1809" y="1063"/>
                </a:lnTo>
                <a:lnTo>
                  <a:pt x="1814" y="1089"/>
                </a:lnTo>
                <a:lnTo>
                  <a:pt x="1814" y="1031"/>
                </a:lnTo>
                <a:lnTo>
                  <a:pt x="1814" y="1073"/>
                </a:lnTo>
                <a:lnTo>
                  <a:pt x="1820" y="1079"/>
                </a:lnTo>
                <a:lnTo>
                  <a:pt x="1820" y="1132"/>
                </a:lnTo>
                <a:lnTo>
                  <a:pt x="1826" y="1190"/>
                </a:lnTo>
                <a:lnTo>
                  <a:pt x="1826" y="1132"/>
                </a:lnTo>
                <a:lnTo>
                  <a:pt x="1831" y="1195"/>
                </a:lnTo>
                <a:lnTo>
                  <a:pt x="1831" y="1238"/>
                </a:lnTo>
                <a:lnTo>
                  <a:pt x="1831" y="1302"/>
                </a:lnTo>
                <a:lnTo>
                  <a:pt x="1837" y="1259"/>
                </a:lnTo>
                <a:lnTo>
                  <a:pt x="1843" y="1243"/>
                </a:lnTo>
                <a:lnTo>
                  <a:pt x="1843" y="1318"/>
                </a:lnTo>
                <a:lnTo>
                  <a:pt x="1848" y="1291"/>
                </a:lnTo>
                <a:lnTo>
                  <a:pt x="1848" y="1227"/>
                </a:lnTo>
                <a:lnTo>
                  <a:pt x="1848" y="1206"/>
                </a:lnTo>
                <a:lnTo>
                  <a:pt x="1854" y="1195"/>
                </a:lnTo>
                <a:lnTo>
                  <a:pt x="1854" y="1158"/>
                </a:lnTo>
                <a:lnTo>
                  <a:pt x="1860" y="1148"/>
                </a:lnTo>
                <a:lnTo>
                  <a:pt x="1860" y="1180"/>
                </a:lnTo>
                <a:lnTo>
                  <a:pt x="1865" y="1238"/>
                </a:lnTo>
                <a:lnTo>
                  <a:pt x="1865" y="1217"/>
                </a:lnTo>
                <a:lnTo>
                  <a:pt x="1871" y="1233"/>
                </a:lnTo>
                <a:lnTo>
                  <a:pt x="1871" y="1254"/>
                </a:lnTo>
                <a:lnTo>
                  <a:pt x="1871" y="1318"/>
                </a:lnTo>
                <a:lnTo>
                  <a:pt x="1877" y="1344"/>
                </a:lnTo>
                <a:lnTo>
                  <a:pt x="1877" y="1328"/>
                </a:lnTo>
                <a:lnTo>
                  <a:pt x="1882" y="1344"/>
                </a:lnTo>
                <a:lnTo>
                  <a:pt x="1882" y="1355"/>
                </a:lnTo>
                <a:lnTo>
                  <a:pt x="1888" y="1397"/>
                </a:lnTo>
                <a:lnTo>
                  <a:pt x="1888" y="1355"/>
                </a:lnTo>
                <a:lnTo>
                  <a:pt x="1888" y="1403"/>
                </a:lnTo>
                <a:lnTo>
                  <a:pt x="1894" y="1456"/>
                </a:lnTo>
                <a:lnTo>
                  <a:pt x="1894" y="1403"/>
                </a:lnTo>
                <a:lnTo>
                  <a:pt x="1899" y="1456"/>
                </a:lnTo>
                <a:lnTo>
                  <a:pt x="1899" y="1493"/>
                </a:lnTo>
                <a:lnTo>
                  <a:pt x="1905" y="1509"/>
                </a:lnTo>
                <a:lnTo>
                  <a:pt x="1905" y="1467"/>
                </a:lnTo>
                <a:lnTo>
                  <a:pt x="1905" y="1456"/>
                </a:lnTo>
                <a:lnTo>
                  <a:pt x="1911" y="1456"/>
                </a:lnTo>
                <a:lnTo>
                  <a:pt x="1911" y="1477"/>
                </a:lnTo>
                <a:lnTo>
                  <a:pt x="1916" y="1504"/>
                </a:lnTo>
                <a:lnTo>
                  <a:pt x="1916" y="1435"/>
                </a:lnTo>
                <a:lnTo>
                  <a:pt x="1922" y="1366"/>
                </a:lnTo>
                <a:lnTo>
                  <a:pt x="1922" y="1307"/>
                </a:lnTo>
                <a:lnTo>
                  <a:pt x="1922" y="1265"/>
                </a:lnTo>
                <a:lnTo>
                  <a:pt x="1928" y="1227"/>
                </a:lnTo>
                <a:lnTo>
                  <a:pt x="1928" y="1291"/>
                </a:lnTo>
                <a:lnTo>
                  <a:pt x="1933" y="1233"/>
                </a:lnTo>
                <a:lnTo>
                  <a:pt x="1933" y="1217"/>
                </a:lnTo>
                <a:lnTo>
                  <a:pt x="1939" y="1233"/>
                </a:lnTo>
                <a:lnTo>
                  <a:pt x="1939" y="1291"/>
                </a:lnTo>
                <a:lnTo>
                  <a:pt x="1945" y="1344"/>
                </a:lnTo>
                <a:lnTo>
                  <a:pt x="1945" y="1334"/>
                </a:lnTo>
                <a:lnTo>
                  <a:pt x="1945" y="1344"/>
                </a:lnTo>
                <a:lnTo>
                  <a:pt x="1950" y="1392"/>
                </a:lnTo>
                <a:lnTo>
                  <a:pt x="1950" y="1419"/>
                </a:lnTo>
                <a:lnTo>
                  <a:pt x="1956" y="1467"/>
                </a:lnTo>
                <a:lnTo>
                  <a:pt x="1956" y="1408"/>
                </a:lnTo>
                <a:lnTo>
                  <a:pt x="1962" y="1376"/>
                </a:lnTo>
                <a:lnTo>
                  <a:pt x="1962" y="1339"/>
                </a:lnTo>
                <a:lnTo>
                  <a:pt x="1962" y="1344"/>
                </a:lnTo>
                <a:lnTo>
                  <a:pt x="1967" y="1397"/>
                </a:lnTo>
                <a:lnTo>
                  <a:pt x="1967" y="1339"/>
                </a:lnTo>
                <a:lnTo>
                  <a:pt x="1973" y="1381"/>
                </a:lnTo>
                <a:lnTo>
                  <a:pt x="1973" y="1435"/>
                </a:lnTo>
                <a:lnTo>
                  <a:pt x="1979" y="1477"/>
                </a:lnTo>
                <a:lnTo>
                  <a:pt x="1979" y="1424"/>
                </a:lnTo>
                <a:lnTo>
                  <a:pt x="1979" y="1366"/>
                </a:lnTo>
                <a:lnTo>
                  <a:pt x="1984" y="1381"/>
                </a:lnTo>
                <a:lnTo>
                  <a:pt x="1984" y="1312"/>
                </a:lnTo>
                <a:lnTo>
                  <a:pt x="1990" y="1334"/>
                </a:lnTo>
                <a:lnTo>
                  <a:pt x="1990" y="1387"/>
                </a:lnTo>
                <a:lnTo>
                  <a:pt x="1996" y="1334"/>
                </a:lnTo>
                <a:lnTo>
                  <a:pt x="1996" y="1381"/>
                </a:lnTo>
                <a:lnTo>
                  <a:pt x="1996" y="1429"/>
                </a:lnTo>
                <a:lnTo>
                  <a:pt x="2001" y="1397"/>
                </a:lnTo>
                <a:lnTo>
                  <a:pt x="2001" y="1392"/>
                </a:lnTo>
                <a:lnTo>
                  <a:pt x="2007" y="1318"/>
                </a:lnTo>
                <a:lnTo>
                  <a:pt x="2007" y="1259"/>
                </a:lnTo>
                <a:lnTo>
                  <a:pt x="2013" y="1296"/>
                </a:lnTo>
                <a:lnTo>
                  <a:pt x="2013" y="1291"/>
                </a:lnTo>
                <a:lnTo>
                  <a:pt x="2013" y="1243"/>
                </a:lnTo>
                <a:lnTo>
                  <a:pt x="2018" y="1312"/>
                </a:lnTo>
                <a:lnTo>
                  <a:pt x="2018" y="1238"/>
                </a:lnTo>
                <a:lnTo>
                  <a:pt x="2024" y="1281"/>
                </a:lnTo>
                <a:lnTo>
                  <a:pt x="2024" y="1312"/>
                </a:lnTo>
                <a:lnTo>
                  <a:pt x="2030" y="1323"/>
                </a:lnTo>
                <a:lnTo>
                  <a:pt x="2030" y="1387"/>
                </a:lnTo>
                <a:lnTo>
                  <a:pt x="2035" y="1366"/>
                </a:lnTo>
                <a:lnTo>
                  <a:pt x="2035" y="1424"/>
                </a:lnTo>
                <a:lnTo>
                  <a:pt x="2035" y="1429"/>
                </a:lnTo>
                <a:lnTo>
                  <a:pt x="2041" y="1366"/>
                </a:lnTo>
                <a:lnTo>
                  <a:pt x="2041" y="1328"/>
                </a:lnTo>
                <a:lnTo>
                  <a:pt x="2047" y="1403"/>
                </a:lnTo>
                <a:lnTo>
                  <a:pt x="2047" y="1467"/>
                </a:lnTo>
                <a:lnTo>
                  <a:pt x="2052" y="1403"/>
                </a:lnTo>
                <a:lnTo>
                  <a:pt x="2052" y="1413"/>
                </a:lnTo>
                <a:lnTo>
                  <a:pt x="2058" y="1451"/>
                </a:lnTo>
                <a:lnTo>
                  <a:pt x="2058" y="1477"/>
                </a:lnTo>
                <a:lnTo>
                  <a:pt x="2064" y="1514"/>
                </a:lnTo>
                <a:lnTo>
                  <a:pt x="2064" y="1472"/>
                </a:lnTo>
                <a:lnTo>
                  <a:pt x="2069" y="1424"/>
                </a:lnTo>
                <a:lnTo>
                  <a:pt x="2069" y="1488"/>
                </a:lnTo>
                <a:lnTo>
                  <a:pt x="2069" y="1445"/>
                </a:lnTo>
                <a:lnTo>
                  <a:pt x="2075" y="1371"/>
                </a:lnTo>
                <a:lnTo>
                  <a:pt x="2075" y="1328"/>
                </a:lnTo>
                <a:lnTo>
                  <a:pt x="2081" y="1270"/>
                </a:lnTo>
                <a:lnTo>
                  <a:pt x="2081" y="1217"/>
                </a:lnTo>
                <a:lnTo>
                  <a:pt x="2086" y="1195"/>
                </a:lnTo>
                <a:lnTo>
                  <a:pt x="2086" y="1233"/>
                </a:lnTo>
                <a:lnTo>
                  <a:pt x="2086" y="1296"/>
                </a:lnTo>
                <a:lnTo>
                  <a:pt x="2092" y="1360"/>
                </a:lnTo>
                <a:lnTo>
                  <a:pt x="2092" y="1328"/>
                </a:lnTo>
                <a:lnTo>
                  <a:pt x="2098" y="1270"/>
                </a:lnTo>
                <a:lnTo>
                  <a:pt x="2098" y="1259"/>
                </a:lnTo>
                <a:lnTo>
                  <a:pt x="2103" y="1206"/>
                </a:lnTo>
                <a:lnTo>
                  <a:pt x="2103" y="1259"/>
                </a:lnTo>
                <a:lnTo>
                  <a:pt x="2109" y="1328"/>
                </a:lnTo>
                <a:lnTo>
                  <a:pt x="2109" y="1275"/>
                </a:lnTo>
                <a:lnTo>
                  <a:pt x="2109" y="1233"/>
                </a:lnTo>
                <a:lnTo>
                  <a:pt x="2115" y="1217"/>
                </a:lnTo>
                <a:lnTo>
                  <a:pt x="2115" y="1185"/>
                </a:lnTo>
                <a:lnTo>
                  <a:pt x="2120" y="1158"/>
                </a:lnTo>
                <a:lnTo>
                  <a:pt x="2120" y="1211"/>
                </a:lnTo>
                <a:lnTo>
                  <a:pt x="2126" y="1227"/>
                </a:lnTo>
                <a:lnTo>
                  <a:pt x="2126" y="1233"/>
                </a:lnTo>
                <a:lnTo>
                  <a:pt x="2126" y="1286"/>
                </a:lnTo>
                <a:lnTo>
                  <a:pt x="2132" y="1243"/>
                </a:lnTo>
                <a:lnTo>
                  <a:pt x="2132" y="1270"/>
                </a:lnTo>
                <a:lnTo>
                  <a:pt x="2137" y="1265"/>
                </a:lnTo>
                <a:lnTo>
                  <a:pt x="2137" y="1307"/>
                </a:lnTo>
                <a:lnTo>
                  <a:pt x="2143" y="1366"/>
                </a:lnTo>
                <a:lnTo>
                  <a:pt x="2143" y="1307"/>
                </a:lnTo>
                <a:lnTo>
                  <a:pt x="2143" y="1275"/>
                </a:lnTo>
                <a:lnTo>
                  <a:pt x="2149" y="1344"/>
                </a:lnTo>
                <a:lnTo>
                  <a:pt x="2149" y="1350"/>
                </a:lnTo>
                <a:lnTo>
                  <a:pt x="2154" y="1387"/>
                </a:lnTo>
                <a:lnTo>
                  <a:pt x="2154" y="1392"/>
                </a:lnTo>
                <a:lnTo>
                  <a:pt x="2160" y="1456"/>
                </a:lnTo>
                <a:lnTo>
                  <a:pt x="2160" y="1482"/>
                </a:lnTo>
                <a:lnTo>
                  <a:pt x="2160" y="1419"/>
                </a:lnTo>
                <a:lnTo>
                  <a:pt x="2166" y="1440"/>
                </a:lnTo>
                <a:lnTo>
                  <a:pt x="2166" y="1392"/>
                </a:lnTo>
                <a:lnTo>
                  <a:pt x="2171" y="1323"/>
                </a:lnTo>
                <a:lnTo>
                  <a:pt x="2171" y="1254"/>
                </a:lnTo>
                <a:lnTo>
                  <a:pt x="2177" y="1217"/>
                </a:lnTo>
                <a:lnTo>
                  <a:pt x="2177" y="1243"/>
                </a:lnTo>
                <a:lnTo>
                  <a:pt x="2183" y="1270"/>
                </a:lnTo>
                <a:lnTo>
                  <a:pt x="2183" y="1259"/>
                </a:lnTo>
                <a:lnTo>
                  <a:pt x="2183" y="1206"/>
                </a:lnTo>
                <a:lnTo>
                  <a:pt x="2188" y="1158"/>
                </a:lnTo>
                <a:lnTo>
                  <a:pt x="2188" y="1095"/>
                </a:lnTo>
                <a:lnTo>
                  <a:pt x="2194" y="1132"/>
                </a:lnTo>
                <a:lnTo>
                  <a:pt x="2194" y="1180"/>
                </a:lnTo>
                <a:lnTo>
                  <a:pt x="2200" y="1164"/>
                </a:lnTo>
                <a:lnTo>
                  <a:pt x="2200" y="1137"/>
                </a:lnTo>
                <a:lnTo>
                  <a:pt x="2200" y="1084"/>
                </a:lnTo>
                <a:lnTo>
                  <a:pt x="2205" y="1052"/>
                </a:lnTo>
                <a:lnTo>
                  <a:pt x="2205" y="1063"/>
                </a:lnTo>
                <a:lnTo>
                  <a:pt x="2211" y="1004"/>
                </a:lnTo>
                <a:lnTo>
                  <a:pt x="2211" y="951"/>
                </a:lnTo>
                <a:lnTo>
                  <a:pt x="2217" y="924"/>
                </a:lnTo>
                <a:lnTo>
                  <a:pt x="2217" y="914"/>
                </a:lnTo>
                <a:lnTo>
                  <a:pt x="2217" y="882"/>
                </a:lnTo>
                <a:lnTo>
                  <a:pt x="2222" y="839"/>
                </a:lnTo>
                <a:lnTo>
                  <a:pt x="2222" y="887"/>
                </a:lnTo>
                <a:lnTo>
                  <a:pt x="2228" y="909"/>
                </a:lnTo>
                <a:lnTo>
                  <a:pt x="2228" y="866"/>
                </a:lnTo>
                <a:lnTo>
                  <a:pt x="2234" y="834"/>
                </a:lnTo>
                <a:lnTo>
                  <a:pt x="2234" y="898"/>
                </a:lnTo>
                <a:lnTo>
                  <a:pt x="2234" y="903"/>
                </a:lnTo>
                <a:lnTo>
                  <a:pt x="2239" y="866"/>
                </a:lnTo>
                <a:lnTo>
                  <a:pt x="2239" y="855"/>
                </a:lnTo>
                <a:lnTo>
                  <a:pt x="2245" y="903"/>
                </a:lnTo>
                <a:lnTo>
                  <a:pt x="2245" y="951"/>
                </a:lnTo>
                <a:lnTo>
                  <a:pt x="2251" y="1015"/>
                </a:lnTo>
                <a:lnTo>
                  <a:pt x="2251" y="1068"/>
                </a:lnTo>
                <a:lnTo>
                  <a:pt x="2251" y="1089"/>
                </a:lnTo>
                <a:lnTo>
                  <a:pt x="2256" y="1121"/>
                </a:lnTo>
                <a:lnTo>
                  <a:pt x="2256" y="1089"/>
                </a:lnTo>
                <a:lnTo>
                  <a:pt x="2262" y="1116"/>
                </a:lnTo>
                <a:lnTo>
                  <a:pt x="2262" y="1121"/>
                </a:lnTo>
                <a:lnTo>
                  <a:pt x="2268" y="1084"/>
                </a:lnTo>
                <a:lnTo>
                  <a:pt x="2268" y="1063"/>
                </a:lnTo>
                <a:lnTo>
                  <a:pt x="2273" y="1079"/>
                </a:lnTo>
                <a:lnTo>
                  <a:pt x="2273" y="1041"/>
                </a:lnTo>
                <a:lnTo>
                  <a:pt x="2273" y="1004"/>
                </a:lnTo>
                <a:lnTo>
                  <a:pt x="2279" y="1036"/>
                </a:lnTo>
                <a:lnTo>
                  <a:pt x="2279" y="1031"/>
                </a:lnTo>
                <a:lnTo>
                  <a:pt x="2285" y="994"/>
                </a:lnTo>
                <a:lnTo>
                  <a:pt x="2285" y="924"/>
                </a:lnTo>
                <a:lnTo>
                  <a:pt x="2290" y="887"/>
                </a:lnTo>
                <a:lnTo>
                  <a:pt x="2290" y="914"/>
                </a:lnTo>
                <a:lnTo>
                  <a:pt x="2290" y="978"/>
                </a:lnTo>
                <a:lnTo>
                  <a:pt x="2296" y="935"/>
                </a:lnTo>
                <a:lnTo>
                  <a:pt x="2296" y="871"/>
                </a:lnTo>
                <a:lnTo>
                  <a:pt x="2302" y="924"/>
                </a:lnTo>
                <a:lnTo>
                  <a:pt x="2302" y="951"/>
                </a:lnTo>
                <a:lnTo>
                  <a:pt x="2307" y="1020"/>
                </a:lnTo>
                <a:lnTo>
                  <a:pt x="2307" y="1036"/>
                </a:lnTo>
                <a:lnTo>
                  <a:pt x="2313" y="1031"/>
                </a:lnTo>
                <a:lnTo>
                  <a:pt x="2313" y="956"/>
                </a:lnTo>
                <a:lnTo>
                  <a:pt x="2319" y="946"/>
                </a:lnTo>
                <a:lnTo>
                  <a:pt x="2319" y="1015"/>
                </a:lnTo>
                <a:lnTo>
                  <a:pt x="2324" y="983"/>
                </a:lnTo>
                <a:lnTo>
                  <a:pt x="2324" y="1041"/>
                </a:lnTo>
                <a:lnTo>
                  <a:pt x="2324" y="1073"/>
                </a:lnTo>
                <a:lnTo>
                  <a:pt x="2330" y="1004"/>
                </a:lnTo>
                <a:lnTo>
                  <a:pt x="2330" y="956"/>
                </a:lnTo>
                <a:lnTo>
                  <a:pt x="2336" y="962"/>
                </a:lnTo>
                <a:lnTo>
                  <a:pt x="2336" y="1025"/>
                </a:lnTo>
                <a:lnTo>
                  <a:pt x="2341" y="983"/>
                </a:lnTo>
                <a:lnTo>
                  <a:pt x="2341" y="909"/>
                </a:lnTo>
                <a:lnTo>
                  <a:pt x="2347" y="919"/>
                </a:lnTo>
                <a:lnTo>
                  <a:pt x="2347" y="866"/>
                </a:lnTo>
                <a:lnTo>
                  <a:pt x="2347" y="877"/>
                </a:lnTo>
                <a:lnTo>
                  <a:pt x="2353" y="823"/>
                </a:lnTo>
                <a:lnTo>
                  <a:pt x="2353" y="877"/>
                </a:lnTo>
                <a:lnTo>
                  <a:pt x="2358" y="930"/>
                </a:lnTo>
                <a:lnTo>
                  <a:pt x="2358" y="914"/>
                </a:lnTo>
                <a:lnTo>
                  <a:pt x="2364" y="855"/>
                </a:lnTo>
                <a:lnTo>
                  <a:pt x="2364" y="882"/>
                </a:lnTo>
                <a:lnTo>
                  <a:pt x="2364" y="845"/>
                </a:lnTo>
                <a:lnTo>
                  <a:pt x="2370" y="898"/>
                </a:lnTo>
                <a:lnTo>
                  <a:pt x="2370" y="855"/>
                </a:lnTo>
                <a:lnTo>
                  <a:pt x="2375" y="797"/>
                </a:lnTo>
                <a:lnTo>
                  <a:pt x="2375" y="802"/>
                </a:lnTo>
                <a:lnTo>
                  <a:pt x="2381" y="871"/>
                </a:lnTo>
                <a:lnTo>
                  <a:pt x="2381" y="914"/>
                </a:lnTo>
                <a:lnTo>
                  <a:pt x="2381" y="861"/>
                </a:lnTo>
                <a:lnTo>
                  <a:pt x="2387" y="924"/>
                </a:lnTo>
                <a:lnTo>
                  <a:pt x="2387" y="999"/>
                </a:lnTo>
                <a:lnTo>
                  <a:pt x="2392" y="983"/>
                </a:lnTo>
                <a:lnTo>
                  <a:pt x="2392" y="967"/>
                </a:lnTo>
                <a:lnTo>
                  <a:pt x="2398" y="1009"/>
                </a:lnTo>
                <a:lnTo>
                  <a:pt x="2398" y="983"/>
                </a:lnTo>
                <a:lnTo>
                  <a:pt x="2398" y="1015"/>
                </a:lnTo>
                <a:lnTo>
                  <a:pt x="2404" y="1009"/>
                </a:lnTo>
                <a:lnTo>
                  <a:pt x="2409" y="1020"/>
                </a:lnTo>
                <a:lnTo>
                  <a:pt x="2409" y="988"/>
                </a:lnTo>
                <a:lnTo>
                  <a:pt x="2415" y="924"/>
                </a:lnTo>
                <a:lnTo>
                  <a:pt x="2415" y="887"/>
                </a:lnTo>
                <a:lnTo>
                  <a:pt x="2421" y="940"/>
                </a:lnTo>
                <a:lnTo>
                  <a:pt x="2421" y="866"/>
                </a:lnTo>
                <a:lnTo>
                  <a:pt x="2421" y="808"/>
                </a:lnTo>
                <a:lnTo>
                  <a:pt x="2426" y="776"/>
                </a:lnTo>
                <a:lnTo>
                  <a:pt x="2426" y="701"/>
                </a:lnTo>
                <a:lnTo>
                  <a:pt x="2432" y="685"/>
                </a:lnTo>
                <a:lnTo>
                  <a:pt x="2432" y="659"/>
                </a:lnTo>
                <a:lnTo>
                  <a:pt x="2438" y="627"/>
                </a:lnTo>
                <a:lnTo>
                  <a:pt x="2438" y="552"/>
                </a:lnTo>
                <a:lnTo>
                  <a:pt x="2438" y="510"/>
                </a:lnTo>
                <a:lnTo>
                  <a:pt x="2444" y="568"/>
                </a:lnTo>
                <a:lnTo>
                  <a:pt x="2444" y="563"/>
                </a:lnTo>
                <a:lnTo>
                  <a:pt x="2449" y="552"/>
                </a:lnTo>
                <a:lnTo>
                  <a:pt x="2449" y="521"/>
                </a:lnTo>
                <a:lnTo>
                  <a:pt x="2455" y="494"/>
                </a:lnTo>
                <a:lnTo>
                  <a:pt x="2455" y="425"/>
                </a:ln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41360" y="5832360"/>
            <a:ext cx="8474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time series occur in virtually every medical, scientific and businesses domain.</a:t>
            </a:r>
            <a:endParaRPr b="0" lang="en-US" sz="2400" spc="-1" strike="noStrike">
              <a:solidFill>
                <a:srgbClr val="000000"/>
              </a:solidFill>
              <a:latin typeface="Times New Roman"/>
            </a:endParaRPr>
          </a:p>
        </p:txBody>
      </p:sp>
      <p:sp>
        <p:nvSpPr>
          <p:cNvPr id="128" name=""/>
          <p:cNvSpPr/>
          <p:nvPr/>
        </p:nvSpPr>
        <p:spPr>
          <a:xfrm>
            <a:off x="3276720" y="4419720"/>
            <a:ext cx="2438280" cy="1303200"/>
          </a:xfrm>
          <a:custGeom>
            <a:avLst/>
            <a:gdLst/>
            <a:ahLst/>
            <a:rect l="l" t="t" r="r" b="b"/>
            <a:pathLst>
              <a:path w="2403" h="1589">
                <a:moveTo>
                  <a:pt x="0" y="999"/>
                </a:moveTo>
                <a:lnTo>
                  <a:pt x="5" y="1004"/>
                </a:lnTo>
                <a:lnTo>
                  <a:pt x="11" y="1004"/>
                </a:lnTo>
                <a:lnTo>
                  <a:pt x="11" y="994"/>
                </a:lnTo>
                <a:lnTo>
                  <a:pt x="17" y="983"/>
                </a:lnTo>
                <a:lnTo>
                  <a:pt x="22" y="983"/>
                </a:lnTo>
                <a:lnTo>
                  <a:pt x="28" y="978"/>
                </a:lnTo>
                <a:lnTo>
                  <a:pt x="34" y="962"/>
                </a:lnTo>
                <a:lnTo>
                  <a:pt x="39" y="951"/>
                </a:lnTo>
                <a:lnTo>
                  <a:pt x="45" y="951"/>
                </a:lnTo>
                <a:lnTo>
                  <a:pt x="51" y="940"/>
                </a:lnTo>
                <a:lnTo>
                  <a:pt x="56" y="962"/>
                </a:lnTo>
                <a:lnTo>
                  <a:pt x="62" y="994"/>
                </a:lnTo>
                <a:lnTo>
                  <a:pt x="68" y="999"/>
                </a:lnTo>
                <a:lnTo>
                  <a:pt x="73" y="1004"/>
                </a:lnTo>
                <a:lnTo>
                  <a:pt x="79" y="983"/>
                </a:lnTo>
                <a:lnTo>
                  <a:pt x="85" y="999"/>
                </a:lnTo>
                <a:lnTo>
                  <a:pt x="90" y="1015"/>
                </a:lnTo>
                <a:lnTo>
                  <a:pt x="96" y="1020"/>
                </a:lnTo>
                <a:lnTo>
                  <a:pt x="102" y="1015"/>
                </a:lnTo>
                <a:lnTo>
                  <a:pt x="107" y="1020"/>
                </a:lnTo>
                <a:lnTo>
                  <a:pt x="113" y="1041"/>
                </a:lnTo>
                <a:lnTo>
                  <a:pt x="119" y="1057"/>
                </a:lnTo>
                <a:lnTo>
                  <a:pt x="124" y="1095"/>
                </a:lnTo>
                <a:lnTo>
                  <a:pt x="124" y="1084"/>
                </a:lnTo>
                <a:lnTo>
                  <a:pt x="130" y="1036"/>
                </a:lnTo>
                <a:lnTo>
                  <a:pt x="136" y="1020"/>
                </a:lnTo>
                <a:lnTo>
                  <a:pt x="141" y="1036"/>
                </a:lnTo>
                <a:lnTo>
                  <a:pt x="147" y="1057"/>
                </a:lnTo>
                <a:lnTo>
                  <a:pt x="153" y="1084"/>
                </a:lnTo>
                <a:lnTo>
                  <a:pt x="158" y="1068"/>
                </a:lnTo>
                <a:lnTo>
                  <a:pt x="164" y="1052"/>
                </a:lnTo>
                <a:lnTo>
                  <a:pt x="170" y="1052"/>
                </a:lnTo>
                <a:lnTo>
                  <a:pt x="175" y="1068"/>
                </a:lnTo>
                <a:lnTo>
                  <a:pt x="181" y="1089"/>
                </a:lnTo>
                <a:lnTo>
                  <a:pt x="187" y="1089"/>
                </a:lnTo>
                <a:lnTo>
                  <a:pt x="192" y="1073"/>
                </a:lnTo>
                <a:lnTo>
                  <a:pt x="198" y="1068"/>
                </a:lnTo>
                <a:lnTo>
                  <a:pt x="198" y="1089"/>
                </a:lnTo>
                <a:lnTo>
                  <a:pt x="204" y="1095"/>
                </a:lnTo>
                <a:lnTo>
                  <a:pt x="209" y="1105"/>
                </a:lnTo>
                <a:lnTo>
                  <a:pt x="215" y="1105"/>
                </a:lnTo>
                <a:lnTo>
                  <a:pt x="221" y="1073"/>
                </a:lnTo>
                <a:lnTo>
                  <a:pt x="226" y="1052"/>
                </a:lnTo>
                <a:lnTo>
                  <a:pt x="232" y="1068"/>
                </a:lnTo>
                <a:lnTo>
                  <a:pt x="232" y="1084"/>
                </a:lnTo>
                <a:lnTo>
                  <a:pt x="238" y="1121"/>
                </a:lnTo>
                <a:lnTo>
                  <a:pt x="243" y="1174"/>
                </a:lnTo>
                <a:lnTo>
                  <a:pt x="249" y="1180"/>
                </a:lnTo>
                <a:lnTo>
                  <a:pt x="255" y="1185"/>
                </a:lnTo>
                <a:lnTo>
                  <a:pt x="260" y="1217"/>
                </a:lnTo>
                <a:lnTo>
                  <a:pt x="266" y="1265"/>
                </a:lnTo>
                <a:lnTo>
                  <a:pt x="266" y="1328"/>
                </a:lnTo>
                <a:lnTo>
                  <a:pt x="272" y="1318"/>
                </a:lnTo>
                <a:lnTo>
                  <a:pt x="277" y="1233"/>
                </a:lnTo>
                <a:lnTo>
                  <a:pt x="283" y="1073"/>
                </a:lnTo>
                <a:lnTo>
                  <a:pt x="289" y="930"/>
                </a:lnTo>
                <a:lnTo>
                  <a:pt x="294" y="802"/>
                </a:lnTo>
                <a:lnTo>
                  <a:pt x="300" y="696"/>
                </a:lnTo>
                <a:lnTo>
                  <a:pt x="306" y="574"/>
                </a:lnTo>
                <a:lnTo>
                  <a:pt x="306" y="409"/>
                </a:lnTo>
                <a:lnTo>
                  <a:pt x="311" y="223"/>
                </a:lnTo>
                <a:lnTo>
                  <a:pt x="317" y="69"/>
                </a:lnTo>
                <a:lnTo>
                  <a:pt x="323" y="0"/>
                </a:lnTo>
                <a:lnTo>
                  <a:pt x="328" y="159"/>
                </a:lnTo>
                <a:lnTo>
                  <a:pt x="334" y="563"/>
                </a:lnTo>
                <a:lnTo>
                  <a:pt x="340" y="1004"/>
                </a:lnTo>
                <a:lnTo>
                  <a:pt x="340" y="1227"/>
                </a:lnTo>
                <a:lnTo>
                  <a:pt x="345" y="1254"/>
                </a:lnTo>
                <a:lnTo>
                  <a:pt x="351" y="1201"/>
                </a:lnTo>
                <a:lnTo>
                  <a:pt x="357" y="1148"/>
                </a:lnTo>
                <a:lnTo>
                  <a:pt x="362" y="1158"/>
                </a:lnTo>
                <a:lnTo>
                  <a:pt x="368" y="1121"/>
                </a:lnTo>
                <a:lnTo>
                  <a:pt x="374" y="1105"/>
                </a:lnTo>
                <a:lnTo>
                  <a:pt x="379" y="1105"/>
                </a:lnTo>
                <a:lnTo>
                  <a:pt x="379" y="1148"/>
                </a:lnTo>
                <a:lnTo>
                  <a:pt x="385" y="1148"/>
                </a:lnTo>
                <a:lnTo>
                  <a:pt x="391" y="1121"/>
                </a:lnTo>
                <a:lnTo>
                  <a:pt x="396" y="1126"/>
                </a:lnTo>
                <a:lnTo>
                  <a:pt x="402" y="1137"/>
                </a:lnTo>
                <a:lnTo>
                  <a:pt x="408" y="1126"/>
                </a:lnTo>
                <a:lnTo>
                  <a:pt x="413" y="1158"/>
                </a:lnTo>
                <a:lnTo>
                  <a:pt x="419" y="1158"/>
                </a:lnTo>
                <a:lnTo>
                  <a:pt x="425" y="1137"/>
                </a:lnTo>
                <a:lnTo>
                  <a:pt x="430" y="1121"/>
                </a:lnTo>
                <a:lnTo>
                  <a:pt x="436" y="1111"/>
                </a:lnTo>
                <a:lnTo>
                  <a:pt x="442" y="1142"/>
                </a:lnTo>
                <a:lnTo>
                  <a:pt x="447" y="1174"/>
                </a:lnTo>
                <a:lnTo>
                  <a:pt x="453" y="1158"/>
                </a:lnTo>
                <a:lnTo>
                  <a:pt x="459" y="1142"/>
                </a:lnTo>
                <a:lnTo>
                  <a:pt x="464" y="1142"/>
                </a:lnTo>
                <a:lnTo>
                  <a:pt x="470" y="1174"/>
                </a:lnTo>
                <a:lnTo>
                  <a:pt x="476" y="1164"/>
                </a:lnTo>
                <a:lnTo>
                  <a:pt x="481" y="1148"/>
                </a:lnTo>
                <a:lnTo>
                  <a:pt x="487" y="1126"/>
                </a:lnTo>
                <a:lnTo>
                  <a:pt x="487" y="1137"/>
                </a:lnTo>
                <a:lnTo>
                  <a:pt x="493" y="1137"/>
                </a:lnTo>
                <a:lnTo>
                  <a:pt x="498" y="1137"/>
                </a:lnTo>
                <a:lnTo>
                  <a:pt x="504" y="1164"/>
                </a:lnTo>
                <a:lnTo>
                  <a:pt x="510" y="1158"/>
                </a:lnTo>
                <a:lnTo>
                  <a:pt x="515" y="1148"/>
                </a:lnTo>
                <a:lnTo>
                  <a:pt x="521" y="1137"/>
                </a:lnTo>
                <a:lnTo>
                  <a:pt x="527" y="1142"/>
                </a:lnTo>
                <a:lnTo>
                  <a:pt x="527" y="1164"/>
                </a:lnTo>
                <a:lnTo>
                  <a:pt x="533" y="1180"/>
                </a:lnTo>
                <a:lnTo>
                  <a:pt x="538" y="1174"/>
                </a:lnTo>
                <a:lnTo>
                  <a:pt x="544" y="1158"/>
                </a:lnTo>
                <a:lnTo>
                  <a:pt x="550" y="1137"/>
                </a:lnTo>
                <a:lnTo>
                  <a:pt x="555" y="1137"/>
                </a:lnTo>
                <a:lnTo>
                  <a:pt x="561" y="1158"/>
                </a:lnTo>
                <a:lnTo>
                  <a:pt x="561" y="1174"/>
                </a:lnTo>
                <a:lnTo>
                  <a:pt x="567" y="1142"/>
                </a:lnTo>
                <a:lnTo>
                  <a:pt x="572" y="1180"/>
                </a:lnTo>
                <a:lnTo>
                  <a:pt x="578" y="1158"/>
                </a:lnTo>
                <a:lnTo>
                  <a:pt x="584" y="1148"/>
                </a:lnTo>
                <a:lnTo>
                  <a:pt x="589" y="1158"/>
                </a:lnTo>
                <a:lnTo>
                  <a:pt x="595" y="1185"/>
                </a:lnTo>
                <a:lnTo>
                  <a:pt x="601" y="1164"/>
                </a:lnTo>
                <a:lnTo>
                  <a:pt x="601" y="1148"/>
                </a:lnTo>
                <a:lnTo>
                  <a:pt x="606" y="1158"/>
                </a:lnTo>
                <a:lnTo>
                  <a:pt x="612" y="1180"/>
                </a:lnTo>
                <a:lnTo>
                  <a:pt x="618" y="1201"/>
                </a:lnTo>
                <a:lnTo>
                  <a:pt x="623" y="1185"/>
                </a:lnTo>
                <a:lnTo>
                  <a:pt x="629" y="1196"/>
                </a:lnTo>
                <a:lnTo>
                  <a:pt x="635" y="1180"/>
                </a:lnTo>
                <a:lnTo>
                  <a:pt x="635" y="1158"/>
                </a:lnTo>
                <a:lnTo>
                  <a:pt x="640" y="1185"/>
                </a:lnTo>
                <a:lnTo>
                  <a:pt x="646" y="1180"/>
                </a:lnTo>
                <a:lnTo>
                  <a:pt x="652" y="1196"/>
                </a:lnTo>
                <a:lnTo>
                  <a:pt x="657" y="1185"/>
                </a:lnTo>
                <a:lnTo>
                  <a:pt x="663" y="1158"/>
                </a:lnTo>
                <a:lnTo>
                  <a:pt x="669" y="1158"/>
                </a:lnTo>
                <a:lnTo>
                  <a:pt x="674" y="1180"/>
                </a:lnTo>
                <a:lnTo>
                  <a:pt x="674" y="1201"/>
                </a:lnTo>
                <a:lnTo>
                  <a:pt x="680" y="1217"/>
                </a:lnTo>
                <a:lnTo>
                  <a:pt x="686" y="1212"/>
                </a:lnTo>
                <a:lnTo>
                  <a:pt x="691" y="1180"/>
                </a:lnTo>
                <a:lnTo>
                  <a:pt x="697" y="1180"/>
                </a:lnTo>
                <a:lnTo>
                  <a:pt x="703" y="1201"/>
                </a:lnTo>
                <a:lnTo>
                  <a:pt x="708" y="1217"/>
                </a:lnTo>
                <a:lnTo>
                  <a:pt x="708" y="1233"/>
                </a:lnTo>
                <a:lnTo>
                  <a:pt x="714" y="1249"/>
                </a:lnTo>
                <a:lnTo>
                  <a:pt x="720" y="1238"/>
                </a:lnTo>
                <a:lnTo>
                  <a:pt x="725" y="1238"/>
                </a:lnTo>
                <a:lnTo>
                  <a:pt x="731" y="1238"/>
                </a:lnTo>
                <a:lnTo>
                  <a:pt x="737" y="1249"/>
                </a:lnTo>
                <a:lnTo>
                  <a:pt x="742" y="1270"/>
                </a:lnTo>
                <a:lnTo>
                  <a:pt x="748" y="1281"/>
                </a:lnTo>
                <a:lnTo>
                  <a:pt x="754" y="1281"/>
                </a:lnTo>
                <a:lnTo>
                  <a:pt x="759" y="1302"/>
                </a:lnTo>
                <a:lnTo>
                  <a:pt x="765" y="1307"/>
                </a:lnTo>
                <a:lnTo>
                  <a:pt x="771" y="1323"/>
                </a:lnTo>
                <a:lnTo>
                  <a:pt x="776" y="1323"/>
                </a:lnTo>
                <a:lnTo>
                  <a:pt x="782" y="1328"/>
                </a:lnTo>
                <a:lnTo>
                  <a:pt x="782" y="1318"/>
                </a:lnTo>
                <a:lnTo>
                  <a:pt x="788" y="1328"/>
                </a:lnTo>
                <a:lnTo>
                  <a:pt x="793" y="1355"/>
                </a:lnTo>
                <a:lnTo>
                  <a:pt x="799" y="1355"/>
                </a:lnTo>
                <a:lnTo>
                  <a:pt x="805" y="1355"/>
                </a:lnTo>
                <a:lnTo>
                  <a:pt x="810" y="1355"/>
                </a:lnTo>
                <a:lnTo>
                  <a:pt x="816" y="1344"/>
                </a:lnTo>
                <a:lnTo>
                  <a:pt x="822" y="1371"/>
                </a:lnTo>
                <a:lnTo>
                  <a:pt x="827" y="1376"/>
                </a:lnTo>
                <a:lnTo>
                  <a:pt x="833" y="1371"/>
                </a:lnTo>
                <a:lnTo>
                  <a:pt x="839" y="1355"/>
                </a:lnTo>
                <a:lnTo>
                  <a:pt x="844" y="1339"/>
                </a:lnTo>
                <a:lnTo>
                  <a:pt x="850" y="1339"/>
                </a:lnTo>
                <a:lnTo>
                  <a:pt x="856" y="1318"/>
                </a:lnTo>
                <a:lnTo>
                  <a:pt x="861" y="1291"/>
                </a:lnTo>
                <a:lnTo>
                  <a:pt x="867" y="1286"/>
                </a:lnTo>
                <a:lnTo>
                  <a:pt x="873" y="1249"/>
                </a:lnTo>
                <a:lnTo>
                  <a:pt x="878" y="1238"/>
                </a:lnTo>
                <a:lnTo>
                  <a:pt x="884" y="1254"/>
                </a:lnTo>
                <a:lnTo>
                  <a:pt x="890" y="1254"/>
                </a:lnTo>
                <a:lnTo>
                  <a:pt x="890" y="1233"/>
                </a:lnTo>
                <a:lnTo>
                  <a:pt x="895" y="1212"/>
                </a:lnTo>
                <a:lnTo>
                  <a:pt x="901" y="1174"/>
                </a:lnTo>
                <a:lnTo>
                  <a:pt x="907" y="1164"/>
                </a:lnTo>
                <a:lnTo>
                  <a:pt x="912" y="1164"/>
                </a:lnTo>
                <a:lnTo>
                  <a:pt x="918" y="1164"/>
                </a:lnTo>
                <a:lnTo>
                  <a:pt x="924" y="1148"/>
                </a:lnTo>
                <a:lnTo>
                  <a:pt x="929" y="1121"/>
                </a:lnTo>
                <a:lnTo>
                  <a:pt x="929" y="1095"/>
                </a:lnTo>
                <a:lnTo>
                  <a:pt x="935" y="1105"/>
                </a:lnTo>
                <a:lnTo>
                  <a:pt x="941" y="1121"/>
                </a:lnTo>
                <a:lnTo>
                  <a:pt x="946" y="1121"/>
                </a:lnTo>
                <a:lnTo>
                  <a:pt x="952" y="1111"/>
                </a:lnTo>
                <a:lnTo>
                  <a:pt x="958" y="1095"/>
                </a:lnTo>
                <a:lnTo>
                  <a:pt x="963" y="1089"/>
                </a:lnTo>
                <a:lnTo>
                  <a:pt x="963" y="1121"/>
                </a:lnTo>
                <a:lnTo>
                  <a:pt x="969" y="1105"/>
                </a:lnTo>
                <a:lnTo>
                  <a:pt x="975" y="1142"/>
                </a:lnTo>
                <a:lnTo>
                  <a:pt x="980" y="1137"/>
                </a:lnTo>
                <a:lnTo>
                  <a:pt x="986" y="1121"/>
                </a:lnTo>
                <a:lnTo>
                  <a:pt x="992" y="1121"/>
                </a:lnTo>
                <a:lnTo>
                  <a:pt x="997" y="1105"/>
                </a:lnTo>
                <a:lnTo>
                  <a:pt x="1003" y="1111"/>
                </a:lnTo>
                <a:lnTo>
                  <a:pt x="1003" y="1121"/>
                </a:lnTo>
                <a:lnTo>
                  <a:pt x="1009" y="1137"/>
                </a:lnTo>
                <a:lnTo>
                  <a:pt x="1014" y="1111"/>
                </a:lnTo>
                <a:lnTo>
                  <a:pt x="1020" y="1111"/>
                </a:lnTo>
                <a:lnTo>
                  <a:pt x="1026" y="1105"/>
                </a:lnTo>
                <a:lnTo>
                  <a:pt x="1031" y="1126"/>
                </a:lnTo>
                <a:lnTo>
                  <a:pt x="1037" y="1142"/>
                </a:lnTo>
                <a:lnTo>
                  <a:pt x="1037" y="1126"/>
                </a:lnTo>
                <a:lnTo>
                  <a:pt x="1043" y="1126"/>
                </a:lnTo>
                <a:lnTo>
                  <a:pt x="1048" y="1121"/>
                </a:lnTo>
                <a:lnTo>
                  <a:pt x="1054" y="1121"/>
                </a:lnTo>
                <a:lnTo>
                  <a:pt x="1060" y="1148"/>
                </a:lnTo>
                <a:lnTo>
                  <a:pt x="1065" y="1142"/>
                </a:lnTo>
                <a:lnTo>
                  <a:pt x="1071" y="1158"/>
                </a:lnTo>
                <a:lnTo>
                  <a:pt x="1077" y="1126"/>
                </a:lnTo>
                <a:lnTo>
                  <a:pt x="1077" y="1105"/>
                </a:lnTo>
                <a:lnTo>
                  <a:pt x="1082" y="1105"/>
                </a:lnTo>
                <a:lnTo>
                  <a:pt x="1088" y="1137"/>
                </a:lnTo>
                <a:lnTo>
                  <a:pt x="1094" y="1158"/>
                </a:lnTo>
                <a:lnTo>
                  <a:pt x="1099" y="1174"/>
                </a:lnTo>
                <a:lnTo>
                  <a:pt x="1105" y="1164"/>
                </a:lnTo>
                <a:lnTo>
                  <a:pt x="1111" y="1158"/>
                </a:lnTo>
                <a:lnTo>
                  <a:pt x="1116" y="1164"/>
                </a:lnTo>
                <a:lnTo>
                  <a:pt x="1122" y="1196"/>
                </a:lnTo>
                <a:lnTo>
                  <a:pt x="1128" y="1174"/>
                </a:lnTo>
                <a:lnTo>
                  <a:pt x="1133" y="1164"/>
                </a:lnTo>
                <a:lnTo>
                  <a:pt x="1139" y="1148"/>
                </a:lnTo>
                <a:lnTo>
                  <a:pt x="1145" y="1185"/>
                </a:lnTo>
                <a:lnTo>
                  <a:pt x="1150" y="1201"/>
                </a:lnTo>
                <a:lnTo>
                  <a:pt x="1150" y="1217"/>
                </a:lnTo>
                <a:lnTo>
                  <a:pt x="1156" y="1196"/>
                </a:lnTo>
                <a:lnTo>
                  <a:pt x="1162" y="1185"/>
                </a:lnTo>
                <a:lnTo>
                  <a:pt x="1168" y="1174"/>
                </a:lnTo>
                <a:lnTo>
                  <a:pt x="1173" y="1180"/>
                </a:lnTo>
                <a:lnTo>
                  <a:pt x="1179" y="1174"/>
                </a:lnTo>
                <a:lnTo>
                  <a:pt x="1185" y="1196"/>
                </a:lnTo>
                <a:lnTo>
                  <a:pt x="1185" y="1201"/>
                </a:lnTo>
                <a:lnTo>
                  <a:pt x="1190" y="1185"/>
                </a:lnTo>
                <a:lnTo>
                  <a:pt x="1196" y="1158"/>
                </a:lnTo>
                <a:lnTo>
                  <a:pt x="1202" y="1174"/>
                </a:lnTo>
                <a:lnTo>
                  <a:pt x="1207" y="1174"/>
                </a:lnTo>
                <a:lnTo>
                  <a:pt x="1213" y="1212"/>
                </a:lnTo>
                <a:lnTo>
                  <a:pt x="1219" y="1212"/>
                </a:lnTo>
                <a:lnTo>
                  <a:pt x="1224" y="1196"/>
                </a:lnTo>
                <a:lnTo>
                  <a:pt x="1224" y="1201"/>
                </a:lnTo>
                <a:lnTo>
                  <a:pt x="1230" y="1212"/>
                </a:lnTo>
                <a:lnTo>
                  <a:pt x="1236" y="1212"/>
                </a:lnTo>
                <a:lnTo>
                  <a:pt x="1241" y="1217"/>
                </a:lnTo>
                <a:lnTo>
                  <a:pt x="1247" y="1196"/>
                </a:lnTo>
                <a:lnTo>
                  <a:pt x="1253" y="1180"/>
                </a:lnTo>
                <a:lnTo>
                  <a:pt x="1258" y="1196"/>
                </a:lnTo>
                <a:lnTo>
                  <a:pt x="1258" y="1217"/>
                </a:lnTo>
                <a:lnTo>
                  <a:pt x="1264" y="1227"/>
                </a:lnTo>
                <a:lnTo>
                  <a:pt x="1270" y="1217"/>
                </a:lnTo>
                <a:lnTo>
                  <a:pt x="1275" y="1212"/>
                </a:lnTo>
                <a:lnTo>
                  <a:pt x="1281" y="1227"/>
                </a:lnTo>
                <a:lnTo>
                  <a:pt x="1287" y="1196"/>
                </a:lnTo>
                <a:lnTo>
                  <a:pt x="1292" y="1201"/>
                </a:lnTo>
                <a:lnTo>
                  <a:pt x="1298" y="1227"/>
                </a:lnTo>
                <a:lnTo>
                  <a:pt x="1304" y="1201"/>
                </a:lnTo>
                <a:lnTo>
                  <a:pt x="1309" y="1212"/>
                </a:lnTo>
                <a:lnTo>
                  <a:pt x="1315" y="1185"/>
                </a:lnTo>
                <a:lnTo>
                  <a:pt x="1321" y="1185"/>
                </a:lnTo>
                <a:lnTo>
                  <a:pt x="1326" y="1196"/>
                </a:lnTo>
                <a:lnTo>
                  <a:pt x="1332" y="1201"/>
                </a:lnTo>
                <a:lnTo>
                  <a:pt x="1332" y="1217"/>
                </a:lnTo>
                <a:lnTo>
                  <a:pt x="1338" y="1201"/>
                </a:lnTo>
                <a:lnTo>
                  <a:pt x="1343" y="1201"/>
                </a:lnTo>
                <a:lnTo>
                  <a:pt x="1349" y="1201"/>
                </a:lnTo>
                <a:lnTo>
                  <a:pt x="1355" y="1217"/>
                </a:lnTo>
                <a:lnTo>
                  <a:pt x="1360" y="1217"/>
                </a:lnTo>
                <a:lnTo>
                  <a:pt x="1366" y="1217"/>
                </a:lnTo>
                <a:lnTo>
                  <a:pt x="1366" y="1185"/>
                </a:lnTo>
                <a:lnTo>
                  <a:pt x="1372" y="1174"/>
                </a:lnTo>
                <a:lnTo>
                  <a:pt x="1377" y="1196"/>
                </a:lnTo>
                <a:lnTo>
                  <a:pt x="1383" y="1196"/>
                </a:lnTo>
                <a:lnTo>
                  <a:pt x="1389" y="1201"/>
                </a:lnTo>
                <a:lnTo>
                  <a:pt x="1394" y="1233"/>
                </a:lnTo>
                <a:lnTo>
                  <a:pt x="1400" y="1227"/>
                </a:lnTo>
                <a:lnTo>
                  <a:pt x="1406" y="1212"/>
                </a:lnTo>
                <a:lnTo>
                  <a:pt x="1411" y="1227"/>
                </a:lnTo>
                <a:lnTo>
                  <a:pt x="1417" y="1217"/>
                </a:lnTo>
                <a:lnTo>
                  <a:pt x="1423" y="1227"/>
                </a:lnTo>
                <a:lnTo>
                  <a:pt x="1428" y="1201"/>
                </a:lnTo>
                <a:lnTo>
                  <a:pt x="1434" y="1174"/>
                </a:lnTo>
                <a:lnTo>
                  <a:pt x="1440" y="1174"/>
                </a:lnTo>
                <a:lnTo>
                  <a:pt x="1440" y="1164"/>
                </a:lnTo>
                <a:lnTo>
                  <a:pt x="1445" y="1180"/>
                </a:lnTo>
                <a:lnTo>
                  <a:pt x="1451" y="1174"/>
                </a:lnTo>
                <a:lnTo>
                  <a:pt x="1457" y="1148"/>
                </a:lnTo>
                <a:lnTo>
                  <a:pt x="1462" y="1137"/>
                </a:lnTo>
                <a:lnTo>
                  <a:pt x="1468" y="1148"/>
                </a:lnTo>
                <a:lnTo>
                  <a:pt x="1474" y="1142"/>
                </a:lnTo>
                <a:lnTo>
                  <a:pt x="1479" y="1174"/>
                </a:lnTo>
                <a:lnTo>
                  <a:pt x="1485" y="1137"/>
                </a:lnTo>
                <a:lnTo>
                  <a:pt x="1491" y="1142"/>
                </a:lnTo>
                <a:lnTo>
                  <a:pt x="1496" y="1142"/>
                </a:lnTo>
                <a:lnTo>
                  <a:pt x="1502" y="1148"/>
                </a:lnTo>
                <a:lnTo>
                  <a:pt x="1508" y="1158"/>
                </a:lnTo>
                <a:lnTo>
                  <a:pt x="1513" y="1158"/>
                </a:lnTo>
                <a:lnTo>
                  <a:pt x="1513" y="1142"/>
                </a:lnTo>
                <a:lnTo>
                  <a:pt x="1519" y="1142"/>
                </a:lnTo>
                <a:lnTo>
                  <a:pt x="1525" y="1142"/>
                </a:lnTo>
                <a:lnTo>
                  <a:pt x="1530" y="1164"/>
                </a:lnTo>
                <a:lnTo>
                  <a:pt x="1536" y="1185"/>
                </a:lnTo>
                <a:lnTo>
                  <a:pt x="1542" y="1180"/>
                </a:lnTo>
                <a:lnTo>
                  <a:pt x="1547" y="1185"/>
                </a:lnTo>
                <a:lnTo>
                  <a:pt x="1553" y="1185"/>
                </a:lnTo>
                <a:lnTo>
                  <a:pt x="1553" y="1201"/>
                </a:lnTo>
                <a:lnTo>
                  <a:pt x="1559" y="1201"/>
                </a:lnTo>
                <a:lnTo>
                  <a:pt x="1564" y="1217"/>
                </a:lnTo>
                <a:lnTo>
                  <a:pt x="1570" y="1201"/>
                </a:lnTo>
                <a:lnTo>
                  <a:pt x="1576" y="1196"/>
                </a:lnTo>
                <a:lnTo>
                  <a:pt x="1581" y="1180"/>
                </a:lnTo>
                <a:lnTo>
                  <a:pt x="1587" y="1201"/>
                </a:lnTo>
                <a:lnTo>
                  <a:pt x="1587" y="1217"/>
                </a:lnTo>
                <a:lnTo>
                  <a:pt x="1593" y="1249"/>
                </a:lnTo>
                <a:lnTo>
                  <a:pt x="1598" y="1249"/>
                </a:lnTo>
                <a:lnTo>
                  <a:pt x="1604" y="1254"/>
                </a:lnTo>
                <a:lnTo>
                  <a:pt x="1610" y="1217"/>
                </a:lnTo>
                <a:lnTo>
                  <a:pt x="1615" y="1227"/>
                </a:lnTo>
                <a:lnTo>
                  <a:pt x="1621" y="1233"/>
                </a:lnTo>
                <a:lnTo>
                  <a:pt x="1627" y="1238"/>
                </a:lnTo>
                <a:lnTo>
                  <a:pt x="1632" y="1233"/>
                </a:lnTo>
                <a:lnTo>
                  <a:pt x="1638" y="1212"/>
                </a:lnTo>
                <a:lnTo>
                  <a:pt x="1644" y="1227"/>
                </a:lnTo>
                <a:lnTo>
                  <a:pt x="1649" y="1238"/>
                </a:lnTo>
                <a:lnTo>
                  <a:pt x="1655" y="1238"/>
                </a:lnTo>
                <a:lnTo>
                  <a:pt x="1661" y="1249"/>
                </a:lnTo>
                <a:lnTo>
                  <a:pt x="1661" y="1217"/>
                </a:lnTo>
                <a:lnTo>
                  <a:pt x="1666" y="1217"/>
                </a:lnTo>
                <a:lnTo>
                  <a:pt x="1672" y="1233"/>
                </a:lnTo>
                <a:lnTo>
                  <a:pt x="1678" y="1254"/>
                </a:lnTo>
                <a:lnTo>
                  <a:pt x="1683" y="1286"/>
                </a:lnTo>
                <a:lnTo>
                  <a:pt x="1689" y="1302"/>
                </a:lnTo>
                <a:lnTo>
                  <a:pt x="1695" y="1318"/>
                </a:lnTo>
                <a:lnTo>
                  <a:pt x="1700" y="1328"/>
                </a:lnTo>
                <a:lnTo>
                  <a:pt x="1700" y="1376"/>
                </a:lnTo>
                <a:lnTo>
                  <a:pt x="1706" y="1424"/>
                </a:lnTo>
                <a:lnTo>
                  <a:pt x="1712" y="1413"/>
                </a:lnTo>
                <a:lnTo>
                  <a:pt x="1717" y="1339"/>
                </a:lnTo>
                <a:lnTo>
                  <a:pt x="1723" y="1185"/>
                </a:lnTo>
                <a:lnTo>
                  <a:pt x="1729" y="999"/>
                </a:lnTo>
                <a:lnTo>
                  <a:pt x="1734" y="855"/>
                </a:lnTo>
                <a:lnTo>
                  <a:pt x="1734" y="781"/>
                </a:lnTo>
                <a:lnTo>
                  <a:pt x="1740" y="707"/>
                </a:lnTo>
                <a:lnTo>
                  <a:pt x="1746" y="590"/>
                </a:lnTo>
                <a:lnTo>
                  <a:pt x="1751" y="425"/>
                </a:lnTo>
                <a:lnTo>
                  <a:pt x="1757" y="260"/>
                </a:lnTo>
                <a:lnTo>
                  <a:pt x="1763" y="133"/>
                </a:lnTo>
                <a:lnTo>
                  <a:pt x="1768" y="143"/>
                </a:lnTo>
                <a:lnTo>
                  <a:pt x="1768" y="335"/>
                </a:lnTo>
                <a:lnTo>
                  <a:pt x="1774" y="717"/>
                </a:lnTo>
                <a:lnTo>
                  <a:pt x="1780" y="1126"/>
                </a:lnTo>
                <a:lnTo>
                  <a:pt x="1785" y="1408"/>
                </a:lnTo>
                <a:lnTo>
                  <a:pt x="1791" y="1557"/>
                </a:lnTo>
                <a:lnTo>
                  <a:pt x="1797" y="1589"/>
                </a:lnTo>
                <a:lnTo>
                  <a:pt x="1803" y="1557"/>
                </a:lnTo>
                <a:lnTo>
                  <a:pt x="1808" y="1472"/>
                </a:lnTo>
                <a:lnTo>
                  <a:pt x="1808" y="1398"/>
                </a:lnTo>
                <a:lnTo>
                  <a:pt x="1814" y="1344"/>
                </a:lnTo>
                <a:lnTo>
                  <a:pt x="1820" y="1323"/>
                </a:lnTo>
                <a:lnTo>
                  <a:pt x="1825" y="1307"/>
                </a:lnTo>
                <a:lnTo>
                  <a:pt x="1831" y="1323"/>
                </a:lnTo>
                <a:lnTo>
                  <a:pt x="1837" y="1323"/>
                </a:lnTo>
                <a:lnTo>
                  <a:pt x="1842" y="1302"/>
                </a:lnTo>
                <a:lnTo>
                  <a:pt x="1848" y="1307"/>
                </a:lnTo>
                <a:lnTo>
                  <a:pt x="1854" y="1307"/>
                </a:lnTo>
                <a:lnTo>
                  <a:pt x="1859" y="1318"/>
                </a:lnTo>
                <a:lnTo>
                  <a:pt x="1865" y="1291"/>
                </a:lnTo>
                <a:lnTo>
                  <a:pt x="1871" y="1291"/>
                </a:lnTo>
                <a:lnTo>
                  <a:pt x="1876" y="1291"/>
                </a:lnTo>
                <a:lnTo>
                  <a:pt x="1882" y="1286"/>
                </a:lnTo>
                <a:lnTo>
                  <a:pt x="1882" y="1307"/>
                </a:lnTo>
                <a:lnTo>
                  <a:pt x="1888" y="1323"/>
                </a:lnTo>
                <a:lnTo>
                  <a:pt x="1893" y="1318"/>
                </a:lnTo>
                <a:lnTo>
                  <a:pt x="1899" y="1291"/>
                </a:lnTo>
                <a:lnTo>
                  <a:pt x="1905" y="1281"/>
                </a:lnTo>
                <a:lnTo>
                  <a:pt x="1910" y="1281"/>
                </a:lnTo>
                <a:lnTo>
                  <a:pt x="1916" y="1291"/>
                </a:lnTo>
                <a:lnTo>
                  <a:pt x="1916" y="1323"/>
                </a:lnTo>
                <a:lnTo>
                  <a:pt x="1922" y="1318"/>
                </a:lnTo>
                <a:lnTo>
                  <a:pt x="1927" y="1307"/>
                </a:lnTo>
                <a:lnTo>
                  <a:pt x="1933" y="1286"/>
                </a:lnTo>
                <a:lnTo>
                  <a:pt x="1939" y="1281"/>
                </a:lnTo>
                <a:lnTo>
                  <a:pt x="1944" y="1291"/>
                </a:lnTo>
                <a:lnTo>
                  <a:pt x="1950" y="1302"/>
                </a:lnTo>
                <a:lnTo>
                  <a:pt x="1956" y="1302"/>
                </a:lnTo>
                <a:lnTo>
                  <a:pt x="1956" y="1286"/>
                </a:lnTo>
                <a:lnTo>
                  <a:pt x="1961" y="1281"/>
                </a:lnTo>
                <a:lnTo>
                  <a:pt x="1967" y="1286"/>
                </a:lnTo>
                <a:lnTo>
                  <a:pt x="1973" y="1286"/>
                </a:lnTo>
                <a:lnTo>
                  <a:pt x="1978" y="1302"/>
                </a:lnTo>
                <a:lnTo>
                  <a:pt x="1984" y="1286"/>
                </a:lnTo>
                <a:lnTo>
                  <a:pt x="1990" y="1281"/>
                </a:lnTo>
                <a:lnTo>
                  <a:pt x="1995" y="1281"/>
                </a:lnTo>
                <a:lnTo>
                  <a:pt x="2001" y="1286"/>
                </a:lnTo>
                <a:lnTo>
                  <a:pt x="2007" y="1307"/>
                </a:lnTo>
                <a:lnTo>
                  <a:pt x="2012" y="1307"/>
                </a:lnTo>
                <a:lnTo>
                  <a:pt x="2018" y="1281"/>
                </a:lnTo>
                <a:lnTo>
                  <a:pt x="2024" y="1281"/>
                </a:lnTo>
                <a:lnTo>
                  <a:pt x="2029" y="1265"/>
                </a:lnTo>
                <a:lnTo>
                  <a:pt x="2029" y="1291"/>
                </a:lnTo>
                <a:lnTo>
                  <a:pt x="2035" y="1291"/>
                </a:lnTo>
                <a:lnTo>
                  <a:pt x="2041" y="1302"/>
                </a:lnTo>
                <a:lnTo>
                  <a:pt x="2046" y="1286"/>
                </a:lnTo>
                <a:lnTo>
                  <a:pt x="2052" y="1281"/>
                </a:lnTo>
                <a:lnTo>
                  <a:pt x="2058" y="1291"/>
                </a:lnTo>
                <a:lnTo>
                  <a:pt x="2063" y="1307"/>
                </a:lnTo>
                <a:lnTo>
                  <a:pt x="2069" y="1302"/>
                </a:lnTo>
                <a:lnTo>
                  <a:pt x="2075" y="1291"/>
                </a:lnTo>
                <a:lnTo>
                  <a:pt x="2080" y="1291"/>
                </a:lnTo>
                <a:lnTo>
                  <a:pt x="2086" y="1291"/>
                </a:lnTo>
                <a:lnTo>
                  <a:pt x="2092" y="1307"/>
                </a:lnTo>
                <a:lnTo>
                  <a:pt x="2097" y="1323"/>
                </a:lnTo>
                <a:lnTo>
                  <a:pt x="2103" y="1323"/>
                </a:lnTo>
                <a:lnTo>
                  <a:pt x="2103" y="1291"/>
                </a:lnTo>
                <a:lnTo>
                  <a:pt x="2109" y="1291"/>
                </a:lnTo>
                <a:lnTo>
                  <a:pt x="2114" y="1307"/>
                </a:lnTo>
                <a:lnTo>
                  <a:pt x="2120" y="1318"/>
                </a:lnTo>
                <a:lnTo>
                  <a:pt x="2126" y="1355"/>
                </a:lnTo>
                <a:lnTo>
                  <a:pt x="2131" y="1355"/>
                </a:lnTo>
                <a:lnTo>
                  <a:pt x="2137" y="1339"/>
                </a:lnTo>
                <a:lnTo>
                  <a:pt x="2137" y="1318"/>
                </a:lnTo>
                <a:lnTo>
                  <a:pt x="2143" y="1344"/>
                </a:lnTo>
                <a:lnTo>
                  <a:pt x="2148" y="1360"/>
                </a:lnTo>
                <a:lnTo>
                  <a:pt x="2154" y="1360"/>
                </a:lnTo>
                <a:lnTo>
                  <a:pt x="2160" y="1382"/>
                </a:lnTo>
                <a:lnTo>
                  <a:pt x="2165" y="1376"/>
                </a:lnTo>
                <a:lnTo>
                  <a:pt x="2171" y="1371"/>
                </a:lnTo>
                <a:lnTo>
                  <a:pt x="2177" y="1398"/>
                </a:lnTo>
                <a:lnTo>
                  <a:pt x="2177" y="1408"/>
                </a:lnTo>
                <a:lnTo>
                  <a:pt x="2182" y="1429"/>
                </a:lnTo>
                <a:lnTo>
                  <a:pt x="2188" y="1435"/>
                </a:lnTo>
                <a:lnTo>
                  <a:pt x="2194" y="1413"/>
                </a:lnTo>
                <a:lnTo>
                  <a:pt x="2199" y="1424"/>
                </a:lnTo>
                <a:lnTo>
                  <a:pt x="2205" y="1435"/>
                </a:lnTo>
                <a:lnTo>
                  <a:pt x="2211" y="1467"/>
                </a:lnTo>
                <a:lnTo>
                  <a:pt x="2211" y="1472"/>
                </a:lnTo>
                <a:lnTo>
                  <a:pt x="2216" y="1483"/>
                </a:lnTo>
                <a:lnTo>
                  <a:pt x="2222" y="1467"/>
                </a:lnTo>
                <a:lnTo>
                  <a:pt x="2228" y="1461"/>
                </a:lnTo>
                <a:lnTo>
                  <a:pt x="2233" y="1467"/>
                </a:lnTo>
                <a:lnTo>
                  <a:pt x="2239" y="1483"/>
                </a:lnTo>
                <a:lnTo>
                  <a:pt x="2245" y="1498"/>
                </a:lnTo>
                <a:lnTo>
                  <a:pt x="2245" y="1514"/>
                </a:lnTo>
                <a:lnTo>
                  <a:pt x="2250" y="1488"/>
                </a:lnTo>
                <a:lnTo>
                  <a:pt x="2256" y="1498"/>
                </a:lnTo>
                <a:lnTo>
                  <a:pt x="2262" y="1498"/>
                </a:lnTo>
                <a:lnTo>
                  <a:pt x="2267" y="1483"/>
                </a:lnTo>
                <a:lnTo>
                  <a:pt x="2273" y="1488"/>
                </a:lnTo>
                <a:lnTo>
                  <a:pt x="2279" y="1467"/>
                </a:lnTo>
                <a:lnTo>
                  <a:pt x="2284" y="1461"/>
                </a:lnTo>
                <a:lnTo>
                  <a:pt x="2284" y="1429"/>
                </a:lnTo>
                <a:lnTo>
                  <a:pt x="2290" y="1413"/>
                </a:lnTo>
                <a:lnTo>
                  <a:pt x="2296" y="1398"/>
                </a:lnTo>
                <a:lnTo>
                  <a:pt x="2301" y="1413"/>
                </a:lnTo>
                <a:lnTo>
                  <a:pt x="2307" y="1376"/>
                </a:lnTo>
                <a:lnTo>
                  <a:pt x="2313" y="1323"/>
                </a:lnTo>
                <a:lnTo>
                  <a:pt x="2318" y="1291"/>
                </a:lnTo>
                <a:lnTo>
                  <a:pt x="2318" y="1286"/>
                </a:lnTo>
                <a:lnTo>
                  <a:pt x="2324" y="1270"/>
                </a:lnTo>
                <a:lnTo>
                  <a:pt x="2330" y="1281"/>
                </a:lnTo>
                <a:lnTo>
                  <a:pt x="2335" y="1281"/>
                </a:lnTo>
                <a:lnTo>
                  <a:pt x="2341" y="1249"/>
                </a:lnTo>
                <a:lnTo>
                  <a:pt x="2347" y="1217"/>
                </a:lnTo>
                <a:lnTo>
                  <a:pt x="2352" y="1196"/>
                </a:lnTo>
                <a:lnTo>
                  <a:pt x="2358" y="1201"/>
                </a:lnTo>
                <a:lnTo>
                  <a:pt x="2364" y="1185"/>
                </a:lnTo>
                <a:lnTo>
                  <a:pt x="2369" y="1174"/>
                </a:lnTo>
                <a:lnTo>
                  <a:pt x="2375" y="1158"/>
                </a:lnTo>
                <a:lnTo>
                  <a:pt x="2381" y="1158"/>
                </a:lnTo>
                <a:lnTo>
                  <a:pt x="2386" y="1174"/>
                </a:lnTo>
                <a:lnTo>
                  <a:pt x="2392" y="1174"/>
                </a:lnTo>
                <a:lnTo>
                  <a:pt x="2398" y="1158"/>
                </a:lnTo>
                <a:lnTo>
                  <a:pt x="2403" y="1137"/>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095880" y="4419720"/>
            <a:ext cx="2590920" cy="1276200"/>
          </a:xfrm>
          <a:custGeom>
            <a:avLst/>
            <a:gdLst/>
            <a:ahLst/>
            <a:rect l="l" t="t" r="r" b="b"/>
            <a:pathLst>
              <a:path w="2455" h="1812">
                <a:moveTo>
                  <a:pt x="0" y="1802"/>
                </a:moveTo>
                <a:lnTo>
                  <a:pt x="6" y="1802"/>
                </a:lnTo>
                <a:lnTo>
                  <a:pt x="11" y="1796"/>
                </a:lnTo>
                <a:lnTo>
                  <a:pt x="11" y="1791"/>
                </a:lnTo>
                <a:lnTo>
                  <a:pt x="17" y="1770"/>
                </a:lnTo>
                <a:lnTo>
                  <a:pt x="17" y="1748"/>
                </a:lnTo>
                <a:lnTo>
                  <a:pt x="17" y="1727"/>
                </a:lnTo>
                <a:lnTo>
                  <a:pt x="23" y="1717"/>
                </a:lnTo>
                <a:lnTo>
                  <a:pt x="23" y="1727"/>
                </a:lnTo>
                <a:lnTo>
                  <a:pt x="28" y="1738"/>
                </a:lnTo>
                <a:lnTo>
                  <a:pt x="28" y="1754"/>
                </a:lnTo>
                <a:lnTo>
                  <a:pt x="34" y="1759"/>
                </a:lnTo>
                <a:lnTo>
                  <a:pt x="34" y="1754"/>
                </a:lnTo>
                <a:lnTo>
                  <a:pt x="34" y="1748"/>
                </a:lnTo>
                <a:lnTo>
                  <a:pt x="40" y="1738"/>
                </a:lnTo>
                <a:lnTo>
                  <a:pt x="40" y="1733"/>
                </a:lnTo>
                <a:lnTo>
                  <a:pt x="45" y="1727"/>
                </a:lnTo>
                <a:lnTo>
                  <a:pt x="45" y="1722"/>
                </a:lnTo>
                <a:lnTo>
                  <a:pt x="51" y="1711"/>
                </a:lnTo>
                <a:lnTo>
                  <a:pt x="57" y="1717"/>
                </a:lnTo>
                <a:lnTo>
                  <a:pt x="57" y="1722"/>
                </a:lnTo>
                <a:lnTo>
                  <a:pt x="62" y="1727"/>
                </a:lnTo>
                <a:lnTo>
                  <a:pt x="68" y="1733"/>
                </a:lnTo>
                <a:lnTo>
                  <a:pt x="74" y="1733"/>
                </a:lnTo>
                <a:lnTo>
                  <a:pt x="74" y="1722"/>
                </a:lnTo>
                <a:lnTo>
                  <a:pt x="79" y="1717"/>
                </a:lnTo>
                <a:lnTo>
                  <a:pt x="85" y="1722"/>
                </a:lnTo>
                <a:lnTo>
                  <a:pt x="85" y="1717"/>
                </a:lnTo>
                <a:lnTo>
                  <a:pt x="91" y="1722"/>
                </a:lnTo>
                <a:lnTo>
                  <a:pt x="91" y="1727"/>
                </a:lnTo>
                <a:lnTo>
                  <a:pt x="91" y="1722"/>
                </a:lnTo>
                <a:lnTo>
                  <a:pt x="96" y="1701"/>
                </a:lnTo>
                <a:lnTo>
                  <a:pt x="96" y="1669"/>
                </a:lnTo>
                <a:lnTo>
                  <a:pt x="102" y="1626"/>
                </a:lnTo>
                <a:lnTo>
                  <a:pt x="102" y="1573"/>
                </a:lnTo>
                <a:lnTo>
                  <a:pt x="108" y="1525"/>
                </a:lnTo>
                <a:lnTo>
                  <a:pt x="108" y="1493"/>
                </a:lnTo>
                <a:lnTo>
                  <a:pt x="108" y="1456"/>
                </a:lnTo>
                <a:lnTo>
                  <a:pt x="113" y="1414"/>
                </a:lnTo>
                <a:lnTo>
                  <a:pt x="113" y="1382"/>
                </a:lnTo>
                <a:lnTo>
                  <a:pt x="119" y="1345"/>
                </a:lnTo>
                <a:lnTo>
                  <a:pt x="119" y="1313"/>
                </a:lnTo>
                <a:lnTo>
                  <a:pt x="125" y="1286"/>
                </a:lnTo>
                <a:lnTo>
                  <a:pt x="125" y="1260"/>
                </a:lnTo>
                <a:lnTo>
                  <a:pt x="130" y="1233"/>
                </a:lnTo>
                <a:lnTo>
                  <a:pt x="130" y="1206"/>
                </a:lnTo>
                <a:lnTo>
                  <a:pt x="130" y="1190"/>
                </a:lnTo>
                <a:lnTo>
                  <a:pt x="136" y="1175"/>
                </a:lnTo>
                <a:lnTo>
                  <a:pt x="136" y="1164"/>
                </a:lnTo>
                <a:lnTo>
                  <a:pt x="142" y="1159"/>
                </a:lnTo>
                <a:lnTo>
                  <a:pt x="147" y="1164"/>
                </a:lnTo>
                <a:lnTo>
                  <a:pt x="147" y="1169"/>
                </a:lnTo>
                <a:lnTo>
                  <a:pt x="147" y="1175"/>
                </a:lnTo>
                <a:lnTo>
                  <a:pt x="153" y="1180"/>
                </a:lnTo>
                <a:lnTo>
                  <a:pt x="153" y="1206"/>
                </a:lnTo>
                <a:lnTo>
                  <a:pt x="159" y="1238"/>
                </a:lnTo>
                <a:lnTo>
                  <a:pt x="159" y="1254"/>
                </a:lnTo>
                <a:lnTo>
                  <a:pt x="164" y="1244"/>
                </a:lnTo>
                <a:lnTo>
                  <a:pt x="164" y="1238"/>
                </a:lnTo>
                <a:lnTo>
                  <a:pt x="164" y="1233"/>
                </a:lnTo>
                <a:lnTo>
                  <a:pt x="170" y="1228"/>
                </a:lnTo>
                <a:lnTo>
                  <a:pt x="170" y="1217"/>
                </a:lnTo>
                <a:lnTo>
                  <a:pt x="176" y="1206"/>
                </a:lnTo>
                <a:lnTo>
                  <a:pt x="176" y="1196"/>
                </a:lnTo>
                <a:lnTo>
                  <a:pt x="181" y="1185"/>
                </a:lnTo>
                <a:lnTo>
                  <a:pt x="187" y="1180"/>
                </a:lnTo>
                <a:lnTo>
                  <a:pt x="193" y="1180"/>
                </a:lnTo>
                <a:lnTo>
                  <a:pt x="198" y="1175"/>
                </a:lnTo>
                <a:lnTo>
                  <a:pt x="198" y="1169"/>
                </a:lnTo>
                <a:lnTo>
                  <a:pt x="204" y="1164"/>
                </a:lnTo>
                <a:lnTo>
                  <a:pt x="204" y="1159"/>
                </a:lnTo>
                <a:lnTo>
                  <a:pt x="204" y="1153"/>
                </a:lnTo>
                <a:lnTo>
                  <a:pt x="210" y="1148"/>
                </a:lnTo>
                <a:lnTo>
                  <a:pt x="215" y="1148"/>
                </a:lnTo>
                <a:lnTo>
                  <a:pt x="221" y="1143"/>
                </a:lnTo>
                <a:lnTo>
                  <a:pt x="221" y="1137"/>
                </a:lnTo>
                <a:lnTo>
                  <a:pt x="227" y="1132"/>
                </a:lnTo>
                <a:lnTo>
                  <a:pt x="232" y="1121"/>
                </a:lnTo>
                <a:lnTo>
                  <a:pt x="232" y="1116"/>
                </a:lnTo>
                <a:lnTo>
                  <a:pt x="238" y="1111"/>
                </a:lnTo>
                <a:lnTo>
                  <a:pt x="238" y="1100"/>
                </a:lnTo>
                <a:lnTo>
                  <a:pt x="244" y="1095"/>
                </a:lnTo>
                <a:lnTo>
                  <a:pt x="249" y="1089"/>
                </a:lnTo>
                <a:lnTo>
                  <a:pt x="255" y="1084"/>
                </a:lnTo>
                <a:lnTo>
                  <a:pt x="255" y="1079"/>
                </a:lnTo>
                <a:lnTo>
                  <a:pt x="261" y="1074"/>
                </a:lnTo>
                <a:lnTo>
                  <a:pt x="266" y="1068"/>
                </a:lnTo>
                <a:lnTo>
                  <a:pt x="272" y="1063"/>
                </a:lnTo>
                <a:lnTo>
                  <a:pt x="272" y="1058"/>
                </a:lnTo>
                <a:lnTo>
                  <a:pt x="272" y="1052"/>
                </a:lnTo>
                <a:lnTo>
                  <a:pt x="278" y="1047"/>
                </a:lnTo>
                <a:lnTo>
                  <a:pt x="283" y="1042"/>
                </a:lnTo>
                <a:lnTo>
                  <a:pt x="283" y="1031"/>
                </a:lnTo>
                <a:lnTo>
                  <a:pt x="289" y="1026"/>
                </a:lnTo>
                <a:lnTo>
                  <a:pt x="295" y="1020"/>
                </a:lnTo>
                <a:lnTo>
                  <a:pt x="295" y="1015"/>
                </a:lnTo>
                <a:lnTo>
                  <a:pt x="300" y="1010"/>
                </a:lnTo>
                <a:lnTo>
                  <a:pt x="306" y="1004"/>
                </a:lnTo>
                <a:lnTo>
                  <a:pt x="312" y="999"/>
                </a:lnTo>
                <a:lnTo>
                  <a:pt x="317" y="994"/>
                </a:lnTo>
                <a:lnTo>
                  <a:pt x="317" y="989"/>
                </a:lnTo>
                <a:lnTo>
                  <a:pt x="323" y="983"/>
                </a:lnTo>
                <a:lnTo>
                  <a:pt x="323" y="978"/>
                </a:lnTo>
                <a:lnTo>
                  <a:pt x="329" y="973"/>
                </a:lnTo>
                <a:lnTo>
                  <a:pt x="329" y="967"/>
                </a:lnTo>
                <a:lnTo>
                  <a:pt x="334" y="962"/>
                </a:lnTo>
                <a:lnTo>
                  <a:pt x="340" y="957"/>
                </a:lnTo>
                <a:lnTo>
                  <a:pt x="346" y="957"/>
                </a:lnTo>
                <a:lnTo>
                  <a:pt x="351" y="962"/>
                </a:lnTo>
                <a:lnTo>
                  <a:pt x="357" y="957"/>
                </a:lnTo>
                <a:lnTo>
                  <a:pt x="357" y="951"/>
                </a:lnTo>
                <a:lnTo>
                  <a:pt x="363" y="893"/>
                </a:lnTo>
                <a:lnTo>
                  <a:pt x="363" y="877"/>
                </a:lnTo>
                <a:lnTo>
                  <a:pt x="368" y="872"/>
                </a:lnTo>
                <a:lnTo>
                  <a:pt x="368" y="866"/>
                </a:lnTo>
                <a:lnTo>
                  <a:pt x="374" y="861"/>
                </a:lnTo>
                <a:lnTo>
                  <a:pt x="380" y="856"/>
                </a:lnTo>
                <a:lnTo>
                  <a:pt x="385" y="850"/>
                </a:lnTo>
                <a:lnTo>
                  <a:pt x="385" y="856"/>
                </a:lnTo>
                <a:lnTo>
                  <a:pt x="391" y="861"/>
                </a:lnTo>
                <a:lnTo>
                  <a:pt x="391" y="866"/>
                </a:lnTo>
                <a:lnTo>
                  <a:pt x="397" y="872"/>
                </a:lnTo>
                <a:lnTo>
                  <a:pt x="402" y="877"/>
                </a:lnTo>
                <a:lnTo>
                  <a:pt x="408" y="877"/>
                </a:lnTo>
                <a:lnTo>
                  <a:pt x="414" y="882"/>
                </a:lnTo>
                <a:lnTo>
                  <a:pt x="419" y="882"/>
                </a:lnTo>
                <a:lnTo>
                  <a:pt x="425" y="888"/>
                </a:lnTo>
                <a:lnTo>
                  <a:pt x="425" y="893"/>
                </a:lnTo>
                <a:lnTo>
                  <a:pt x="431" y="898"/>
                </a:lnTo>
                <a:lnTo>
                  <a:pt x="431" y="909"/>
                </a:lnTo>
                <a:lnTo>
                  <a:pt x="436" y="914"/>
                </a:lnTo>
                <a:lnTo>
                  <a:pt x="442" y="919"/>
                </a:lnTo>
                <a:lnTo>
                  <a:pt x="442" y="925"/>
                </a:lnTo>
                <a:lnTo>
                  <a:pt x="442" y="930"/>
                </a:lnTo>
                <a:lnTo>
                  <a:pt x="448" y="935"/>
                </a:lnTo>
                <a:lnTo>
                  <a:pt x="453" y="941"/>
                </a:lnTo>
                <a:lnTo>
                  <a:pt x="453" y="946"/>
                </a:lnTo>
                <a:lnTo>
                  <a:pt x="459" y="951"/>
                </a:lnTo>
                <a:lnTo>
                  <a:pt x="459" y="957"/>
                </a:lnTo>
                <a:lnTo>
                  <a:pt x="465" y="962"/>
                </a:lnTo>
                <a:lnTo>
                  <a:pt x="465" y="967"/>
                </a:lnTo>
                <a:lnTo>
                  <a:pt x="470" y="973"/>
                </a:lnTo>
                <a:lnTo>
                  <a:pt x="476" y="978"/>
                </a:lnTo>
                <a:lnTo>
                  <a:pt x="476" y="983"/>
                </a:lnTo>
                <a:lnTo>
                  <a:pt x="482" y="989"/>
                </a:lnTo>
                <a:lnTo>
                  <a:pt x="487" y="994"/>
                </a:lnTo>
                <a:lnTo>
                  <a:pt x="493" y="999"/>
                </a:lnTo>
                <a:lnTo>
                  <a:pt x="499" y="1004"/>
                </a:lnTo>
                <a:lnTo>
                  <a:pt x="504" y="1010"/>
                </a:lnTo>
                <a:lnTo>
                  <a:pt x="510" y="1015"/>
                </a:lnTo>
                <a:lnTo>
                  <a:pt x="510" y="1020"/>
                </a:lnTo>
                <a:lnTo>
                  <a:pt x="510" y="1026"/>
                </a:lnTo>
                <a:lnTo>
                  <a:pt x="516" y="1031"/>
                </a:lnTo>
                <a:lnTo>
                  <a:pt x="521" y="1036"/>
                </a:lnTo>
                <a:lnTo>
                  <a:pt x="521" y="1042"/>
                </a:lnTo>
                <a:lnTo>
                  <a:pt x="527" y="1047"/>
                </a:lnTo>
                <a:lnTo>
                  <a:pt x="533" y="1042"/>
                </a:lnTo>
                <a:lnTo>
                  <a:pt x="539" y="1047"/>
                </a:lnTo>
                <a:lnTo>
                  <a:pt x="539" y="1058"/>
                </a:lnTo>
                <a:lnTo>
                  <a:pt x="544" y="1074"/>
                </a:lnTo>
                <a:lnTo>
                  <a:pt x="544" y="1084"/>
                </a:lnTo>
                <a:lnTo>
                  <a:pt x="550" y="1095"/>
                </a:lnTo>
                <a:lnTo>
                  <a:pt x="550" y="1105"/>
                </a:lnTo>
                <a:lnTo>
                  <a:pt x="550" y="1116"/>
                </a:lnTo>
                <a:lnTo>
                  <a:pt x="556" y="1127"/>
                </a:lnTo>
                <a:lnTo>
                  <a:pt x="556" y="1137"/>
                </a:lnTo>
                <a:lnTo>
                  <a:pt x="561" y="1148"/>
                </a:lnTo>
                <a:lnTo>
                  <a:pt x="561" y="1159"/>
                </a:lnTo>
                <a:lnTo>
                  <a:pt x="567" y="1169"/>
                </a:lnTo>
                <a:lnTo>
                  <a:pt x="567" y="1175"/>
                </a:lnTo>
                <a:lnTo>
                  <a:pt x="567" y="1185"/>
                </a:lnTo>
                <a:lnTo>
                  <a:pt x="573" y="1190"/>
                </a:lnTo>
                <a:lnTo>
                  <a:pt x="573" y="1196"/>
                </a:lnTo>
                <a:lnTo>
                  <a:pt x="578" y="1201"/>
                </a:lnTo>
                <a:lnTo>
                  <a:pt x="578" y="1206"/>
                </a:lnTo>
                <a:lnTo>
                  <a:pt x="584" y="1212"/>
                </a:lnTo>
                <a:lnTo>
                  <a:pt x="590" y="1206"/>
                </a:lnTo>
                <a:lnTo>
                  <a:pt x="595" y="1206"/>
                </a:lnTo>
                <a:lnTo>
                  <a:pt x="595" y="1217"/>
                </a:lnTo>
                <a:lnTo>
                  <a:pt x="601" y="1228"/>
                </a:lnTo>
                <a:lnTo>
                  <a:pt x="607" y="1233"/>
                </a:lnTo>
                <a:lnTo>
                  <a:pt x="607" y="1244"/>
                </a:lnTo>
                <a:lnTo>
                  <a:pt x="612" y="1249"/>
                </a:lnTo>
                <a:lnTo>
                  <a:pt x="612" y="1260"/>
                </a:lnTo>
                <a:lnTo>
                  <a:pt x="618" y="1265"/>
                </a:lnTo>
                <a:lnTo>
                  <a:pt x="618" y="1270"/>
                </a:lnTo>
                <a:lnTo>
                  <a:pt x="624" y="1275"/>
                </a:lnTo>
                <a:lnTo>
                  <a:pt x="624" y="1286"/>
                </a:lnTo>
                <a:lnTo>
                  <a:pt x="624" y="1291"/>
                </a:lnTo>
                <a:lnTo>
                  <a:pt x="629" y="1297"/>
                </a:lnTo>
                <a:lnTo>
                  <a:pt x="635" y="1302"/>
                </a:lnTo>
                <a:lnTo>
                  <a:pt x="635" y="1307"/>
                </a:lnTo>
                <a:lnTo>
                  <a:pt x="641" y="1313"/>
                </a:lnTo>
                <a:lnTo>
                  <a:pt x="641" y="1318"/>
                </a:lnTo>
                <a:lnTo>
                  <a:pt x="646" y="1323"/>
                </a:lnTo>
                <a:lnTo>
                  <a:pt x="652" y="1329"/>
                </a:lnTo>
                <a:lnTo>
                  <a:pt x="658" y="1323"/>
                </a:lnTo>
                <a:lnTo>
                  <a:pt x="663" y="1329"/>
                </a:lnTo>
                <a:lnTo>
                  <a:pt x="669" y="1323"/>
                </a:lnTo>
                <a:lnTo>
                  <a:pt x="669" y="1318"/>
                </a:lnTo>
                <a:lnTo>
                  <a:pt x="675" y="1313"/>
                </a:lnTo>
                <a:lnTo>
                  <a:pt x="680" y="1313"/>
                </a:lnTo>
                <a:lnTo>
                  <a:pt x="686" y="1313"/>
                </a:lnTo>
                <a:lnTo>
                  <a:pt x="692" y="1313"/>
                </a:lnTo>
                <a:lnTo>
                  <a:pt x="697" y="1307"/>
                </a:lnTo>
                <a:lnTo>
                  <a:pt x="697" y="1302"/>
                </a:lnTo>
                <a:lnTo>
                  <a:pt x="703" y="1297"/>
                </a:lnTo>
                <a:lnTo>
                  <a:pt x="703" y="1291"/>
                </a:lnTo>
                <a:lnTo>
                  <a:pt x="709" y="1286"/>
                </a:lnTo>
                <a:lnTo>
                  <a:pt x="709" y="1281"/>
                </a:lnTo>
                <a:lnTo>
                  <a:pt x="714" y="1275"/>
                </a:lnTo>
                <a:lnTo>
                  <a:pt x="714" y="1270"/>
                </a:lnTo>
                <a:lnTo>
                  <a:pt x="714" y="1265"/>
                </a:lnTo>
                <a:lnTo>
                  <a:pt x="720" y="1260"/>
                </a:lnTo>
                <a:lnTo>
                  <a:pt x="720" y="1249"/>
                </a:lnTo>
                <a:lnTo>
                  <a:pt x="726" y="1238"/>
                </a:lnTo>
                <a:lnTo>
                  <a:pt x="726" y="1228"/>
                </a:lnTo>
                <a:lnTo>
                  <a:pt x="731" y="1222"/>
                </a:lnTo>
                <a:lnTo>
                  <a:pt x="731" y="1212"/>
                </a:lnTo>
                <a:lnTo>
                  <a:pt x="731" y="1201"/>
                </a:lnTo>
                <a:lnTo>
                  <a:pt x="737" y="1196"/>
                </a:lnTo>
                <a:lnTo>
                  <a:pt x="737" y="1185"/>
                </a:lnTo>
                <a:lnTo>
                  <a:pt x="743" y="1180"/>
                </a:lnTo>
                <a:lnTo>
                  <a:pt x="743" y="1169"/>
                </a:lnTo>
                <a:lnTo>
                  <a:pt x="748" y="1164"/>
                </a:lnTo>
                <a:lnTo>
                  <a:pt x="748" y="1153"/>
                </a:lnTo>
                <a:lnTo>
                  <a:pt x="748" y="1148"/>
                </a:lnTo>
                <a:lnTo>
                  <a:pt x="754" y="1137"/>
                </a:lnTo>
                <a:lnTo>
                  <a:pt x="754" y="1132"/>
                </a:lnTo>
                <a:lnTo>
                  <a:pt x="760" y="1121"/>
                </a:lnTo>
                <a:lnTo>
                  <a:pt x="760" y="1116"/>
                </a:lnTo>
                <a:lnTo>
                  <a:pt x="765" y="1105"/>
                </a:lnTo>
                <a:lnTo>
                  <a:pt x="765" y="1100"/>
                </a:lnTo>
                <a:lnTo>
                  <a:pt x="771" y="1095"/>
                </a:lnTo>
                <a:lnTo>
                  <a:pt x="771" y="1089"/>
                </a:lnTo>
                <a:lnTo>
                  <a:pt x="771" y="1079"/>
                </a:lnTo>
                <a:lnTo>
                  <a:pt x="777" y="1074"/>
                </a:lnTo>
                <a:lnTo>
                  <a:pt x="777" y="1068"/>
                </a:lnTo>
                <a:lnTo>
                  <a:pt x="782" y="1063"/>
                </a:lnTo>
                <a:lnTo>
                  <a:pt x="782" y="1052"/>
                </a:lnTo>
                <a:lnTo>
                  <a:pt x="788" y="1047"/>
                </a:lnTo>
                <a:lnTo>
                  <a:pt x="794" y="1042"/>
                </a:lnTo>
                <a:lnTo>
                  <a:pt x="799" y="1042"/>
                </a:lnTo>
                <a:lnTo>
                  <a:pt x="805" y="1042"/>
                </a:lnTo>
                <a:lnTo>
                  <a:pt x="811" y="1042"/>
                </a:lnTo>
                <a:lnTo>
                  <a:pt x="816" y="1036"/>
                </a:lnTo>
                <a:lnTo>
                  <a:pt x="822" y="1026"/>
                </a:lnTo>
                <a:lnTo>
                  <a:pt x="822" y="1020"/>
                </a:lnTo>
                <a:lnTo>
                  <a:pt x="828" y="1015"/>
                </a:lnTo>
                <a:lnTo>
                  <a:pt x="828" y="1004"/>
                </a:lnTo>
                <a:lnTo>
                  <a:pt x="833" y="999"/>
                </a:lnTo>
                <a:lnTo>
                  <a:pt x="833" y="989"/>
                </a:lnTo>
                <a:lnTo>
                  <a:pt x="839" y="983"/>
                </a:lnTo>
                <a:lnTo>
                  <a:pt x="839" y="973"/>
                </a:lnTo>
                <a:lnTo>
                  <a:pt x="845" y="967"/>
                </a:lnTo>
                <a:lnTo>
                  <a:pt x="845" y="962"/>
                </a:lnTo>
                <a:lnTo>
                  <a:pt x="845" y="951"/>
                </a:lnTo>
                <a:lnTo>
                  <a:pt x="850" y="946"/>
                </a:lnTo>
                <a:lnTo>
                  <a:pt x="850" y="941"/>
                </a:lnTo>
                <a:lnTo>
                  <a:pt x="856" y="935"/>
                </a:lnTo>
                <a:lnTo>
                  <a:pt x="856" y="930"/>
                </a:lnTo>
                <a:lnTo>
                  <a:pt x="862" y="919"/>
                </a:lnTo>
                <a:lnTo>
                  <a:pt x="862" y="914"/>
                </a:lnTo>
                <a:lnTo>
                  <a:pt x="867" y="909"/>
                </a:lnTo>
                <a:lnTo>
                  <a:pt x="873" y="903"/>
                </a:lnTo>
                <a:lnTo>
                  <a:pt x="879" y="898"/>
                </a:lnTo>
                <a:lnTo>
                  <a:pt x="884" y="898"/>
                </a:lnTo>
                <a:lnTo>
                  <a:pt x="890" y="893"/>
                </a:lnTo>
                <a:lnTo>
                  <a:pt x="890" y="888"/>
                </a:lnTo>
                <a:lnTo>
                  <a:pt x="896" y="882"/>
                </a:lnTo>
                <a:lnTo>
                  <a:pt x="896" y="877"/>
                </a:lnTo>
                <a:lnTo>
                  <a:pt x="896" y="872"/>
                </a:lnTo>
                <a:lnTo>
                  <a:pt x="901" y="877"/>
                </a:lnTo>
                <a:lnTo>
                  <a:pt x="907" y="872"/>
                </a:lnTo>
                <a:lnTo>
                  <a:pt x="907" y="866"/>
                </a:lnTo>
                <a:lnTo>
                  <a:pt x="913" y="861"/>
                </a:lnTo>
                <a:lnTo>
                  <a:pt x="918" y="856"/>
                </a:lnTo>
                <a:lnTo>
                  <a:pt x="924" y="861"/>
                </a:lnTo>
                <a:lnTo>
                  <a:pt x="930" y="856"/>
                </a:lnTo>
                <a:lnTo>
                  <a:pt x="935" y="850"/>
                </a:lnTo>
                <a:lnTo>
                  <a:pt x="941" y="845"/>
                </a:lnTo>
                <a:lnTo>
                  <a:pt x="947" y="845"/>
                </a:lnTo>
                <a:lnTo>
                  <a:pt x="952" y="840"/>
                </a:lnTo>
                <a:lnTo>
                  <a:pt x="952" y="845"/>
                </a:lnTo>
                <a:lnTo>
                  <a:pt x="952" y="850"/>
                </a:lnTo>
                <a:lnTo>
                  <a:pt x="958" y="856"/>
                </a:lnTo>
                <a:lnTo>
                  <a:pt x="958" y="861"/>
                </a:lnTo>
                <a:lnTo>
                  <a:pt x="964" y="866"/>
                </a:lnTo>
                <a:lnTo>
                  <a:pt x="964" y="877"/>
                </a:lnTo>
                <a:lnTo>
                  <a:pt x="969" y="882"/>
                </a:lnTo>
                <a:lnTo>
                  <a:pt x="969" y="888"/>
                </a:lnTo>
                <a:lnTo>
                  <a:pt x="969" y="893"/>
                </a:lnTo>
                <a:lnTo>
                  <a:pt x="975" y="898"/>
                </a:lnTo>
                <a:lnTo>
                  <a:pt x="981" y="903"/>
                </a:lnTo>
                <a:lnTo>
                  <a:pt x="981" y="909"/>
                </a:lnTo>
                <a:lnTo>
                  <a:pt x="986" y="914"/>
                </a:lnTo>
                <a:lnTo>
                  <a:pt x="986" y="919"/>
                </a:lnTo>
                <a:lnTo>
                  <a:pt x="986" y="925"/>
                </a:lnTo>
                <a:lnTo>
                  <a:pt x="992" y="930"/>
                </a:lnTo>
                <a:lnTo>
                  <a:pt x="992" y="935"/>
                </a:lnTo>
                <a:lnTo>
                  <a:pt x="998" y="941"/>
                </a:lnTo>
                <a:lnTo>
                  <a:pt x="998" y="946"/>
                </a:lnTo>
                <a:lnTo>
                  <a:pt x="1003" y="951"/>
                </a:lnTo>
                <a:lnTo>
                  <a:pt x="1009" y="957"/>
                </a:lnTo>
                <a:lnTo>
                  <a:pt x="1009" y="962"/>
                </a:lnTo>
                <a:lnTo>
                  <a:pt x="1009" y="973"/>
                </a:lnTo>
                <a:lnTo>
                  <a:pt x="1015" y="978"/>
                </a:lnTo>
                <a:lnTo>
                  <a:pt x="1015" y="989"/>
                </a:lnTo>
                <a:lnTo>
                  <a:pt x="1020" y="994"/>
                </a:lnTo>
                <a:lnTo>
                  <a:pt x="1020" y="1004"/>
                </a:lnTo>
                <a:lnTo>
                  <a:pt x="1026" y="1004"/>
                </a:lnTo>
                <a:lnTo>
                  <a:pt x="1026" y="1015"/>
                </a:lnTo>
                <a:lnTo>
                  <a:pt x="1032" y="1020"/>
                </a:lnTo>
                <a:lnTo>
                  <a:pt x="1032" y="1026"/>
                </a:lnTo>
                <a:lnTo>
                  <a:pt x="1037" y="1036"/>
                </a:lnTo>
                <a:lnTo>
                  <a:pt x="1037" y="1042"/>
                </a:lnTo>
                <a:lnTo>
                  <a:pt x="1043" y="1047"/>
                </a:lnTo>
                <a:lnTo>
                  <a:pt x="1043" y="1052"/>
                </a:lnTo>
                <a:lnTo>
                  <a:pt x="1043" y="1058"/>
                </a:lnTo>
                <a:lnTo>
                  <a:pt x="1049" y="1063"/>
                </a:lnTo>
                <a:lnTo>
                  <a:pt x="1049" y="1068"/>
                </a:lnTo>
                <a:lnTo>
                  <a:pt x="1054" y="1074"/>
                </a:lnTo>
                <a:lnTo>
                  <a:pt x="1060" y="1079"/>
                </a:lnTo>
                <a:lnTo>
                  <a:pt x="1060" y="1084"/>
                </a:lnTo>
                <a:lnTo>
                  <a:pt x="1066" y="1089"/>
                </a:lnTo>
                <a:lnTo>
                  <a:pt x="1071" y="1095"/>
                </a:lnTo>
                <a:lnTo>
                  <a:pt x="1077" y="1100"/>
                </a:lnTo>
                <a:lnTo>
                  <a:pt x="1083" y="1111"/>
                </a:lnTo>
                <a:lnTo>
                  <a:pt x="1083" y="1121"/>
                </a:lnTo>
                <a:lnTo>
                  <a:pt x="1083" y="1127"/>
                </a:lnTo>
                <a:lnTo>
                  <a:pt x="1088" y="1137"/>
                </a:lnTo>
                <a:lnTo>
                  <a:pt x="1088" y="1143"/>
                </a:lnTo>
                <a:lnTo>
                  <a:pt x="1094" y="1153"/>
                </a:lnTo>
                <a:lnTo>
                  <a:pt x="1100" y="1159"/>
                </a:lnTo>
                <a:lnTo>
                  <a:pt x="1100" y="1164"/>
                </a:lnTo>
                <a:lnTo>
                  <a:pt x="1105" y="1169"/>
                </a:lnTo>
                <a:lnTo>
                  <a:pt x="1105" y="1175"/>
                </a:lnTo>
                <a:lnTo>
                  <a:pt x="1111" y="1185"/>
                </a:lnTo>
                <a:lnTo>
                  <a:pt x="1111" y="1196"/>
                </a:lnTo>
                <a:lnTo>
                  <a:pt x="1117" y="1206"/>
                </a:lnTo>
                <a:lnTo>
                  <a:pt x="1117" y="1212"/>
                </a:lnTo>
                <a:lnTo>
                  <a:pt x="1117" y="1222"/>
                </a:lnTo>
                <a:lnTo>
                  <a:pt x="1122" y="1228"/>
                </a:lnTo>
                <a:lnTo>
                  <a:pt x="1122" y="1233"/>
                </a:lnTo>
                <a:lnTo>
                  <a:pt x="1128" y="1244"/>
                </a:lnTo>
                <a:lnTo>
                  <a:pt x="1128" y="1249"/>
                </a:lnTo>
                <a:lnTo>
                  <a:pt x="1134" y="1254"/>
                </a:lnTo>
                <a:lnTo>
                  <a:pt x="1134" y="1260"/>
                </a:lnTo>
                <a:lnTo>
                  <a:pt x="1134" y="1265"/>
                </a:lnTo>
                <a:lnTo>
                  <a:pt x="1139" y="1270"/>
                </a:lnTo>
                <a:lnTo>
                  <a:pt x="1139" y="1275"/>
                </a:lnTo>
                <a:lnTo>
                  <a:pt x="1145" y="1281"/>
                </a:lnTo>
                <a:lnTo>
                  <a:pt x="1151" y="1286"/>
                </a:lnTo>
                <a:lnTo>
                  <a:pt x="1151" y="1291"/>
                </a:lnTo>
                <a:lnTo>
                  <a:pt x="1156" y="1286"/>
                </a:lnTo>
                <a:lnTo>
                  <a:pt x="1156" y="1281"/>
                </a:lnTo>
                <a:lnTo>
                  <a:pt x="1156" y="1286"/>
                </a:lnTo>
                <a:lnTo>
                  <a:pt x="1162" y="1291"/>
                </a:lnTo>
                <a:lnTo>
                  <a:pt x="1168" y="1297"/>
                </a:lnTo>
                <a:lnTo>
                  <a:pt x="1168" y="1302"/>
                </a:lnTo>
                <a:lnTo>
                  <a:pt x="1174" y="1307"/>
                </a:lnTo>
                <a:lnTo>
                  <a:pt x="1174" y="1313"/>
                </a:lnTo>
                <a:lnTo>
                  <a:pt x="1179" y="1318"/>
                </a:lnTo>
                <a:lnTo>
                  <a:pt x="1185" y="1323"/>
                </a:lnTo>
                <a:lnTo>
                  <a:pt x="1191" y="1329"/>
                </a:lnTo>
                <a:lnTo>
                  <a:pt x="1196" y="1334"/>
                </a:lnTo>
                <a:lnTo>
                  <a:pt x="1202" y="1339"/>
                </a:lnTo>
                <a:lnTo>
                  <a:pt x="1208" y="1334"/>
                </a:lnTo>
                <a:lnTo>
                  <a:pt x="1208" y="1329"/>
                </a:lnTo>
                <a:lnTo>
                  <a:pt x="1213" y="1323"/>
                </a:lnTo>
                <a:lnTo>
                  <a:pt x="1213" y="1318"/>
                </a:lnTo>
                <a:lnTo>
                  <a:pt x="1219" y="1313"/>
                </a:lnTo>
                <a:lnTo>
                  <a:pt x="1219" y="1307"/>
                </a:lnTo>
                <a:lnTo>
                  <a:pt x="1225" y="1302"/>
                </a:lnTo>
                <a:lnTo>
                  <a:pt x="1225" y="1297"/>
                </a:lnTo>
                <a:lnTo>
                  <a:pt x="1230" y="1291"/>
                </a:lnTo>
                <a:lnTo>
                  <a:pt x="1230" y="1286"/>
                </a:lnTo>
                <a:lnTo>
                  <a:pt x="1230" y="1281"/>
                </a:lnTo>
                <a:lnTo>
                  <a:pt x="1236" y="1275"/>
                </a:lnTo>
                <a:lnTo>
                  <a:pt x="1242" y="1270"/>
                </a:lnTo>
                <a:lnTo>
                  <a:pt x="1247" y="1265"/>
                </a:lnTo>
                <a:lnTo>
                  <a:pt x="1253" y="1260"/>
                </a:lnTo>
                <a:lnTo>
                  <a:pt x="1259" y="1286"/>
                </a:lnTo>
                <a:lnTo>
                  <a:pt x="1259" y="1350"/>
                </a:lnTo>
                <a:lnTo>
                  <a:pt x="1264" y="1424"/>
                </a:lnTo>
                <a:lnTo>
                  <a:pt x="1264" y="1488"/>
                </a:lnTo>
                <a:lnTo>
                  <a:pt x="1264" y="1552"/>
                </a:lnTo>
                <a:lnTo>
                  <a:pt x="1270" y="1610"/>
                </a:lnTo>
                <a:lnTo>
                  <a:pt x="1270" y="1669"/>
                </a:lnTo>
                <a:lnTo>
                  <a:pt x="1276" y="1722"/>
                </a:lnTo>
                <a:lnTo>
                  <a:pt x="1276" y="1764"/>
                </a:lnTo>
                <a:lnTo>
                  <a:pt x="1281" y="1796"/>
                </a:lnTo>
                <a:lnTo>
                  <a:pt x="1281" y="1812"/>
                </a:lnTo>
                <a:lnTo>
                  <a:pt x="1287" y="1786"/>
                </a:lnTo>
                <a:lnTo>
                  <a:pt x="1287" y="1748"/>
                </a:lnTo>
                <a:lnTo>
                  <a:pt x="1293" y="1695"/>
                </a:lnTo>
                <a:lnTo>
                  <a:pt x="1293" y="1626"/>
                </a:lnTo>
                <a:lnTo>
                  <a:pt x="1298" y="1568"/>
                </a:lnTo>
                <a:lnTo>
                  <a:pt x="1298" y="1504"/>
                </a:lnTo>
                <a:lnTo>
                  <a:pt x="1298" y="1440"/>
                </a:lnTo>
                <a:lnTo>
                  <a:pt x="1304" y="1376"/>
                </a:lnTo>
                <a:lnTo>
                  <a:pt x="1304" y="1313"/>
                </a:lnTo>
                <a:lnTo>
                  <a:pt x="1310" y="1249"/>
                </a:lnTo>
                <a:lnTo>
                  <a:pt x="1310" y="1180"/>
                </a:lnTo>
                <a:lnTo>
                  <a:pt x="1315" y="1105"/>
                </a:lnTo>
                <a:lnTo>
                  <a:pt x="1315" y="1042"/>
                </a:lnTo>
                <a:lnTo>
                  <a:pt x="1321" y="978"/>
                </a:lnTo>
                <a:lnTo>
                  <a:pt x="1321" y="909"/>
                </a:lnTo>
                <a:lnTo>
                  <a:pt x="1321" y="866"/>
                </a:lnTo>
                <a:lnTo>
                  <a:pt x="1327" y="872"/>
                </a:lnTo>
                <a:lnTo>
                  <a:pt x="1327" y="882"/>
                </a:lnTo>
                <a:lnTo>
                  <a:pt x="1332" y="893"/>
                </a:lnTo>
                <a:lnTo>
                  <a:pt x="1332" y="903"/>
                </a:lnTo>
                <a:lnTo>
                  <a:pt x="1338" y="909"/>
                </a:lnTo>
                <a:lnTo>
                  <a:pt x="1338" y="919"/>
                </a:lnTo>
                <a:lnTo>
                  <a:pt x="1338" y="930"/>
                </a:lnTo>
                <a:lnTo>
                  <a:pt x="1344" y="941"/>
                </a:lnTo>
                <a:lnTo>
                  <a:pt x="1344" y="951"/>
                </a:lnTo>
                <a:lnTo>
                  <a:pt x="1349" y="962"/>
                </a:lnTo>
                <a:lnTo>
                  <a:pt x="1349" y="973"/>
                </a:lnTo>
                <a:lnTo>
                  <a:pt x="1355" y="983"/>
                </a:lnTo>
                <a:lnTo>
                  <a:pt x="1355" y="999"/>
                </a:lnTo>
                <a:lnTo>
                  <a:pt x="1355" y="1010"/>
                </a:lnTo>
                <a:lnTo>
                  <a:pt x="1361" y="1020"/>
                </a:lnTo>
                <a:lnTo>
                  <a:pt x="1361" y="1036"/>
                </a:lnTo>
                <a:lnTo>
                  <a:pt x="1366" y="1047"/>
                </a:lnTo>
                <a:lnTo>
                  <a:pt x="1366" y="1063"/>
                </a:lnTo>
                <a:lnTo>
                  <a:pt x="1372" y="1079"/>
                </a:lnTo>
                <a:lnTo>
                  <a:pt x="1372" y="1095"/>
                </a:lnTo>
                <a:lnTo>
                  <a:pt x="1372" y="1111"/>
                </a:lnTo>
                <a:lnTo>
                  <a:pt x="1378" y="1127"/>
                </a:lnTo>
                <a:lnTo>
                  <a:pt x="1378" y="1143"/>
                </a:lnTo>
                <a:lnTo>
                  <a:pt x="1383" y="1153"/>
                </a:lnTo>
                <a:lnTo>
                  <a:pt x="1383" y="1132"/>
                </a:lnTo>
                <a:lnTo>
                  <a:pt x="1389" y="1089"/>
                </a:lnTo>
                <a:lnTo>
                  <a:pt x="1389" y="1052"/>
                </a:lnTo>
                <a:lnTo>
                  <a:pt x="1395" y="1015"/>
                </a:lnTo>
                <a:lnTo>
                  <a:pt x="1395" y="978"/>
                </a:lnTo>
                <a:lnTo>
                  <a:pt x="1395" y="930"/>
                </a:lnTo>
                <a:lnTo>
                  <a:pt x="1400" y="877"/>
                </a:lnTo>
                <a:lnTo>
                  <a:pt x="1400" y="850"/>
                </a:lnTo>
                <a:lnTo>
                  <a:pt x="1406" y="850"/>
                </a:lnTo>
                <a:lnTo>
                  <a:pt x="1412" y="856"/>
                </a:lnTo>
                <a:lnTo>
                  <a:pt x="1417" y="861"/>
                </a:lnTo>
                <a:lnTo>
                  <a:pt x="1417" y="866"/>
                </a:lnTo>
                <a:lnTo>
                  <a:pt x="1423" y="872"/>
                </a:lnTo>
                <a:lnTo>
                  <a:pt x="1423" y="882"/>
                </a:lnTo>
                <a:lnTo>
                  <a:pt x="1429" y="893"/>
                </a:lnTo>
                <a:lnTo>
                  <a:pt x="1429" y="903"/>
                </a:lnTo>
                <a:lnTo>
                  <a:pt x="1434" y="898"/>
                </a:lnTo>
                <a:lnTo>
                  <a:pt x="1434" y="893"/>
                </a:lnTo>
                <a:lnTo>
                  <a:pt x="1440" y="888"/>
                </a:lnTo>
                <a:lnTo>
                  <a:pt x="1446" y="882"/>
                </a:lnTo>
                <a:lnTo>
                  <a:pt x="1451" y="888"/>
                </a:lnTo>
                <a:lnTo>
                  <a:pt x="1457" y="888"/>
                </a:lnTo>
                <a:lnTo>
                  <a:pt x="1463" y="893"/>
                </a:lnTo>
                <a:lnTo>
                  <a:pt x="1468" y="898"/>
                </a:lnTo>
                <a:lnTo>
                  <a:pt x="1468" y="903"/>
                </a:lnTo>
                <a:lnTo>
                  <a:pt x="1474" y="898"/>
                </a:lnTo>
                <a:lnTo>
                  <a:pt x="1480" y="893"/>
                </a:lnTo>
                <a:lnTo>
                  <a:pt x="1485" y="888"/>
                </a:lnTo>
                <a:lnTo>
                  <a:pt x="1491" y="882"/>
                </a:lnTo>
                <a:lnTo>
                  <a:pt x="1491" y="877"/>
                </a:lnTo>
                <a:lnTo>
                  <a:pt x="1497" y="872"/>
                </a:lnTo>
                <a:lnTo>
                  <a:pt x="1502" y="866"/>
                </a:lnTo>
                <a:lnTo>
                  <a:pt x="1508" y="861"/>
                </a:lnTo>
                <a:lnTo>
                  <a:pt x="1514" y="856"/>
                </a:lnTo>
                <a:lnTo>
                  <a:pt x="1519" y="850"/>
                </a:lnTo>
                <a:lnTo>
                  <a:pt x="1525" y="845"/>
                </a:lnTo>
                <a:lnTo>
                  <a:pt x="1531" y="840"/>
                </a:lnTo>
                <a:lnTo>
                  <a:pt x="1531" y="834"/>
                </a:lnTo>
                <a:lnTo>
                  <a:pt x="1536" y="829"/>
                </a:lnTo>
                <a:lnTo>
                  <a:pt x="1536" y="824"/>
                </a:lnTo>
                <a:lnTo>
                  <a:pt x="1542" y="818"/>
                </a:lnTo>
                <a:lnTo>
                  <a:pt x="1542" y="808"/>
                </a:lnTo>
                <a:lnTo>
                  <a:pt x="1548" y="803"/>
                </a:lnTo>
                <a:lnTo>
                  <a:pt x="1548" y="797"/>
                </a:lnTo>
                <a:lnTo>
                  <a:pt x="1553" y="792"/>
                </a:lnTo>
                <a:lnTo>
                  <a:pt x="1553" y="781"/>
                </a:lnTo>
                <a:lnTo>
                  <a:pt x="1559" y="787"/>
                </a:lnTo>
                <a:lnTo>
                  <a:pt x="1559" y="792"/>
                </a:lnTo>
                <a:lnTo>
                  <a:pt x="1559" y="818"/>
                </a:lnTo>
                <a:lnTo>
                  <a:pt x="1565" y="866"/>
                </a:lnTo>
                <a:lnTo>
                  <a:pt x="1565" y="877"/>
                </a:lnTo>
                <a:lnTo>
                  <a:pt x="1570" y="861"/>
                </a:lnTo>
                <a:lnTo>
                  <a:pt x="1576" y="856"/>
                </a:lnTo>
                <a:lnTo>
                  <a:pt x="1582" y="850"/>
                </a:lnTo>
                <a:lnTo>
                  <a:pt x="1587" y="845"/>
                </a:lnTo>
                <a:lnTo>
                  <a:pt x="1587" y="840"/>
                </a:lnTo>
                <a:lnTo>
                  <a:pt x="1593" y="834"/>
                </a:lnTo>
                <a:lnTo>
                  <a:pt x="1599" y="829"/>
                </a:lnTo>
                <a:lnTo>
                  <a:pt x="1604" y="824"/>
                </a:lnTo>
                <a:lnTo>
                  <a:pt x="1610" y="818"/>
                </a:lnTo>
                <a:lnTo>
                  <a:pt x="1616" y="818"/>
                </a:lnTo>
                <a:lnTo>
                  <a:pt x="1621" y="824"/>
                </a:lnTo>
                <a:lnTo>
                  <a:pt x="1627" y="829"/>
                </a:lnTo>
                <a:lnTo>
                  <a:pt x="1627" y="834"/>
                </a:lnTo>
                <a:lnTo>
                  <a:pt x="1633" y="840"/>
                </a:lnTo>
                <a:lnTo>
                  <a:pt x="1638" y="840"/>
                </a:lnTo>
                <a:lnTo>
                  <a:pt x="1644" y="840"/>
                </a:lnTo>
                <a:lnTo>
                  <a:pt x="1650" y="845"/>
                </a:lnTo>
                <a:lnTo>
                  <a:pt x="1655" y="850"/>
                </a:lnTo>
                <a:lnTo>
                  <a:pt x="1661" y="856"/>
                </a:lnTo>
                <a:lnTo>
                  <a:pt x="1661" y="861"/>
                </a:lnTo>
                <a:lnTo>
                  <a:pt x="1667" y="866"/>
                </a:lnTo>
                <a:lnTo>
                  <a:pt x="1667" y="861"/>
                </a:lnTo>
                <a:lnTo>
                  <a:pt x="1672" y="856"/>
                </a:lnTo>
                <a:lnTo>
                  <a:pt x="1678" y="850"/>
                </a:lnTo>
                <a:lnTo>
                  <a:pt x="1684" y="845"/>
                </a:lnTo>
                <a:lnTo>
                  <a:pt x="1689" y="845"/>
                </a:lnTo>
                <a:lnTo>
                  <a:pt x="1695" y="850"/>
                </a:lnTo>
                <a:lnTo>
                  <a:pt x="1701" y="856"/>
                </a:lnTo>
                <a:lnTo>
                  <a:pt x="1706" y="861"/>
                </a:lnTo>
                <a:lnTo>
                  <a:pt x="1712" y="856"/>
                </a:lnTo>
                <a:lnTo>
                  <a:pt x="1712" y="850"/>
                </a:lnTo>
                <a:lnTo>
                  <a:pt x="1718" y="824"/>
                </a:lnTo>
                <a:lnTo>
                  <a:pt x="1718" y="787"/>
                </a:lnTo>
                <a:lnTo>
                  <a:pt x="1723" y="749"/>
                </a:lnTo>
                <a:lnTo>
                  <a:pt x="1723" y="712"/>
                </a:lnTo>
                <a:lnTo>
                  <a:pt x="1723" y="680"/>
                </a:lnTo>
                <a:lnTo>
                  <a:pt x="1729" y="638"/>
                </a:lnTo>
                <a:lnTo>
                  <a:pt x="1729" y="595"/>
                </a:lnTo>
                <a:lnTo>
                  <a:pt x="1735" y="553"/>
                </a:lnTo>
                <a:lnTo>
                  <a:pt x="1735" y="505"/>
                </a:lnTo>
                <a:lnTo>
                  <a:pt x="1740" y="462"/>
                </a:lnTo>
                <a:lnTo>
                  <a:pt x="1740" y="420"/>
                </a:lnTo>
                <a:lnTo>
                  <a:pt x="1740" y="377"/>
                </a:lnTo>
                <a:lnTo>
                  <a:pt x="1746" y="335"/>
                </a:lnTo>
                <a:lnTo>
                  <a:pt x="1746" y="292"/>
                </a:lnTo>
                <a:lnTo>
                  <a:pt x="1752" y="245"/>
                </a:lnTo>
                <a:lnTo>
                  <a:pt x="1752" y="207"/>
                </a:lnTo>
                <a:lnTo>
                  <a:pt x="1757" y="170"/>
                </a:lnTo>
                <a:lnTo>
                  <a:pt x="1757" y="138"/>
                </a:lnTo>
                <a:lnTo>
                  <a:pt x="1757" y="101"/>
                </a:lnTo>
                <a:lnTo>
                  <a:pt x="1763" y="74"/>
                </a:lnTo>
                <a:lnTo>
                  <a:pt x="1763" y="48"/>
                </a:lnTo>
                <a:lnTo>
                  <a:pt x="1769" y="32"/>
                </a:lnTo>
                <a:lnTo>
                  <a:pt x="1769" y="16"/>
                </a:lnTo>
                <a:lnTo>
                  <a:pt x="1774" y="16"/>
                </a:lnTo>
                <a:lnTo>
                  <a:pt x="1780" y="11"/>
                </a:lnTo>
                <a:lnTo>
                  <a:pt x="1786" y="5"/>
                </a:lnTo>
                <a:lnTo>
                  <a:pt x="1791" y="0"/>
                </a:lnTo>
                <a:lnTo>
                  <a:pt x="1797" y="5"/>
                </a:lnTo>
                <a:lnTo>
                  <a:pt x="1803" y="11"/>
                </a:lnTo>
                <a:lnTo>
                  <a:pt x="1809" y="11"/>
                </a:lnTo>
                <a:lnTo>
                  <a:pt x="1814" y="16"/>
                </a:lnTo>
                <a:lnTo>
                  <a:pt x="1814" y="21"/>
                </a:lnTo>
                <a:lnTo>
                  <a:pt x="1820" y="27"/>
                </a:lnTo>
                <a:lnTo>
                  <a:pt x="1826" y="32"/>
                </a:lnTo>
                <a:lnTo>
                  <a:pt x="1831" y="37"/>
                </a:lnTo>
                <a:lnTo>
                  <a:pt x="1837" y="43"/>
                </a:lnTo>
                <a:lnTo>
                  <a:pt x="1843" y="43"/>
                </a:lnTo>
                <a:lnTo>
                  <a:pt x="1848" y="43"/>
                </a:lnTo>
                <a:lnTo>
                  <a:pt x="1854" y="48"/>
                </a:lnTo>
                <a:lnTo>
                  <a:pt x="1860" y="43"/>
                </a:lnTo>
                <a:lnTo>
                  <a:pt x="1865" y="43"/>
                </a:lnTo>
                <a:lnTo>
                  <a:pt x="1871" y="37"/>
                </a:lnTo>
                <a:lnTo>
                  <a:pt x="1877" y="32"/>
                </a:lnTo>
                <a:lnTo>
                  <a:pt x="1877" y="27"/>
                </a:lnTo>
                <a:lnTo>
                  <a:pt x="1882" y="21"/>
                </a:lnTo>
                <a:lnTo>
                  <a:pt x="1882" y="16"/>
                </a:lnTo>
                <a:lnTo>
                  <a:pt x="1888" y="11"/>
                </a:lnTo>
                <a:lnTo>
                  <a:pt x="1894" y="11"/>
                </a:lnTo>
                <a:lnTo>
                  <a:pt x="1899" y="11"/>
                </a:lnTo>
                <a:lnTo>
                  <a:pt x="1905" y="5"/>
                </a:lnTo>
                <a:lnTo>
                  <a:pt x="1911" y="0"/>
                </a:lnTo>
                <a:lnTo>
                  <a:pt x="1916" y="5"/>
                </a:lnTo>
                <a:lnTo>
                  <a:pt x="1922" y="11"/>
                </a:lnTo>
                <a:lnTo>
                  <a:pt x="1928" y="16"/>
                </a:lnTo>
                <a:lnTo>
                  <a:pt x="1933" y="16"/>
                </a:lnTo>
                <a:lnTo>
                  <a:pt x="1939" y="16"/>
                </a:lnTo>
                <a:lnTo>
                  <a:pt x="1945" y="11"/>
                </a:lnTo>
                <a:lnTo>
                  <a:pt x="1950" y="5"/>
                </a:lnTo>
                <a:lnTo>
                  <a:pt x="1956" y="5"/>
                </a:lnTo>
                <a:lnTo>
                  <a:pt x="1962" y="11"/>
                </a:lnTo>
                <a:lnTo>
                  <a:pt x="1967" y="16"/>
                </a:lnTo>
                <a:lnTo>
                  <a:pt x="1973" y="21"/>
                </a:lnTo>
                <a:lnTo>
                  <a:pt x="1979" y="27"/>
                </a:lnTo>
                <a:lnTo>
                  <a:pt x="1984" y="32"/>
                </a:lnTo>
                <a:lnTo>
                  <a:pt x="1990" y="37"/>
                </a:lnTo>
                <a:lnTo>
                  <a:pt x="1996" y="37"/>
                </a:lnTo>
                <a:lnTo>
                  <a:pt x="2001" y="37"/>
                </a:lnTo>
                <a:lnTo>
                  <a:pt x="2007" y="32"/>
                </a:lnTo>
                <a:lnTo>
                  <a:pt x="2013" y="27"/>
                </a:lnTo>
                <a:lnTo>
                  <a:pt x="2018" y="21"/>
                </a:lnTo>
                <a:lnTo>
                  <a:pt x="2024" y="16"/>
                </a:lnTo>
                <a:lnTo>
                  <a:pt x="2024" y="21"/>
                </a:lnTo>
                <a:lnTo>
                  <a:pt x="2030" y="32"/>
                </a:lnTo>
                <a:lnTo>
                  <a:pt x="2030" y="48"/>
                </a:lnTo>
                <a:lnTo>
                  <a:pt x="2035" y="74"/>
                </a:lnTo>
                <a:lnTo>
                  <a:pt x="2035" y="112"/>
                </a:lnTo>
                <a:lnTo>
                  <a:pt x="2035" y="154"/>
                </a:lnTo>
                <a:lnTo>
                  <a:pt x="2041" y="207"/>
                </a:lnTo>
                <a:lnTo>
                  <a:pt x="2041" y="229"/>
                </a:lnTo>
                <a:lnTo>
                  <a:pt x="2047" y="234"/>
                </a:lnTo>
                <a:lnTo>
                  <a:pt x="2052" y="239"/>
                </a:lnTo>
                <a:lnTo>
                  <a:pt x="2052" y="245"/>
                </a:lnTo>
                <a:lnTo>
                  <a:pt x="2058" y="250"/>
                </a:lnTo>
                <a:lnTo>
                  <a:pt x="2064" y="245"/>
                </a:lnTo>
                <a:lnTo>
                  <a:pt x="2069" y="239"/>
                </a:lnTo>
                <a:lnTo>
                  <a:pt x="2075" y="234"/>
                </a:lnTo>
                <a:lnTo>
                  <a:pt x="2081" y="229"/>
                </a:lnTo>
                <a:lnTo>
                  <a:pt x="2086" y="223"/>
                </a:lnTo>
                <a:lnTo>
                  <a:pt x="2086" y="218"/>
                </a:lnTo>
                <a:lnTo>
                  <a:pt x="2092" y="213"/>
                </a:lnTo>
                <a:lnTo>
                  <a:pt x="2098" y="207"/>
                </a:lnTo>
                <a:lnTo>
                  <a:pt x="2103" y="213"/>
                </a:lnTo>
                <a:lnTo>
                  <a:pt x="2103" y="223"/>
                </a:lnTo>
                <a:lnTo>
                  <a:pt x="2109" y="229"/>
                </a:lnTo>
                <a:lnTo>
                  <a:pt x="2109" y="234"/>
                </a:lnTo>
                <a:lnTo>
                  <a:pt x="2115" y="239"/>
                </a:lnTo>
                <a:lnTo>
                  <a:pt x="2120" y="239"/>
                </a:lnTo>
                <a:lnTo>
                  <a:pt x="2126" y="239"/>
                </a:lnTo>
                <a:lnTo>
                  <a:pt x="2132" y="234"/>
                </a:lnTo>
                <a:lnTo>
                  <a:pt x="2137" y="229"/>
                </a:lnTo>
                <a:lnTo>
                  <a:pt x="2143" y="223"/>
                </a:lnTo>
                <a:lnTo>
                  <a:pt x="2149" y="223"/>
                </a:lnTo>
                <a:lnTo>
                  <a:pt x="2154" y="218"/>
                </a:lnTo>
                <a:lnTo>
                  <a:pt x="2160" y="213"/>
                </a:lnTo>
                <a:lnTo>
                  <a:pt x="2160" y="207"/>
                </a:lnTo>
                <a:lnTo>
                  <a:pt x="2166" y="202"/>
                </a:lnTo>
                <a:lnTo>
                  <a:pt x="2171" y="207"/>
                </a:lnTo>
                <a:lnTo>
                  <a:pt x="2171" y="213"/>
                </a:lnTo>
                <a:lnTo>
                  <a:pt x="2177" y="218"/>
                </a:lnTo>
                <a:lnTo>
                  <a:pt x="2183" y="223"/>
                </a:lnTo>
                <a:lnTo>
                  <a:pt x="2188" y="223"/>
                </a:lnTo>
                <a:lnTo>
                  <a:pt x="2194" y="218"/>
                </a:lnTo>
                <a:lnTo>
                  <a:pt x="2200" y="213"/>
                </a:lnTo>
                <a:lnTo>
                  <a:pt x="2200" y="207"/>
                </a:lnTo>
                <a:lnTo>
                  <a:pt x="2205" y="202"/>
                </a:lnTo>
                <a:lnTo>
                  <a:pt x="2211" y="197"/>
                </a:lnTo>
                <a:lnTo>
                  <a:pt x="2217" y="202"/>
                </a:lnTo>
                <a:lnTo>
                  <a:pt x="2222" y="207"/>
                </a:lnTo>
                <a:lnTo>
                  <a:pt x="2228" y="207"/>
                </a:lnTo>
                <a:lnTo>
                  <a:pt x="2228" y="218"/>
                </a:lnTo>
                <a:lnTo>
                  <a:pt x="2234" y="223"/>
                </a:lnTo>
                <a:lnTo>
                  <a:pt x="2234" y="229"/>
                </a:lnTo>
                <a:lnTo>
                  <a:pt x="2234" y="234"/>
                </a:lnTo>
                <a:lnTo>
                  <a:pt x="2239" y="239"/>
                </a:lnTo>
                <a:lnTo>
                  <a:pt x="2245" y="239"/>
                </a:lnTo>
                <a:lnTo>
                  <a:pt x="2251" y="245"/>
                </a:lnTo>
                <a:lnTo>
                  <a:pt x="2256" y="245"/>
                </a:lnTo>
                <a:lnTo>
                  <a:pt x="2262" y="239"/>
                </a:lnTo>
                <a:lnTo>
                  <a:pt x="2268" y="234"/>
                </a:lnTo>
                <a:lnTo>
                  <a:pt x="2273" y="234"/>
                </a:lnTo>
                <a:lnTo>
                  <a:pt x="2279" y="234"/>
                </a:lnTo>
                <a:lnTo>
                  <a:pt x="2285" y="234"/>
                </a:lnTo>
                <a:lnTo>
                  <a:pt x="2290" y="239"/>
                </a:lnTo>
                <a:lnTo>
                  <a:pt x="2296" y="234"/>
                </a:lnTo>
                <a:lnTo>
                  <a:pt x="2302" y="229"/>
                </a:lnTo>
                <a:lnTo>
                  <a:pt x="2307" y="223"/>
                </a:lnTo>
                <a:lnTo>
                  <a:pt x="2313" y="223"/>
                </a:lnTo>
                <a:lnTo>
                  <a:pt x="2319" y="223"/>
                </a:lnTo>
                <a:lnTo>
                  <a:pt x="2324" y="229"/>
                </a:lnTo>
                <a:lnTo>
                  <a:pt x="2330" y="229"/>
                </a:lnTo>
                <a:lnTo>
                  <a:pt x="2336" y="223"/>
                </a:lnTo>
                <a:lnTo>
                  <a:pt x="2341" y="218"/>
                </a:lnTo>
                <a:lnTo>
                  <a:pt x="2347" y="213"/>
                </a:lnTo>
                <a:lnTo>
                  <a:pt x="2353" y="207"/>
                </a:lnTo>
                <a:lnTo>
                  <a:pt x="2358" y="207"/>
                </a:lnTo>
                <a:lnTo>
                  <a:pt x="2364" y="202"/>
                </a:lnTo>
                <a:lnTo>
                  <a:pt x="2364" y="207"/>
                </a:lnTo>
                <a:lnTo>
                  <a:pt x="2370" y="213"/>
                </a:lnTo>
                <a:lnTo>
                  <a:pt x="2370" y="223"/>
                </a:lnTo>
                <a:lnTo>
                  <a:pt x="2375" y="229"/>
                </a:lnTo>
                <a:lnTo>
                  <a:pt x="2375" y="234"/>
                </a:lnTo>
                <a:lnTo>
                  <a:pt x="2381" y="239"/>
                </a:lnTo>
                <a:lnTo>
                  <a:pt x="2387" y="234"/>
                </a:lnTo>
                <a:lnTo>
                  <a:pt x="2392" y="234"/>
                </a:lnTo>
                <a:lnTo>
                  <a:pt x="2398" y="229"/>
                </a:lnTo>
                <a:lnTo>
                  <a:pt x="2398" y="223"/>
                </a:lnTo>
                <a:lnTo>
                  <a:pt x="2404" y="218"/>
                </a:lnTo>
                <a:lnTo>
                  <a:pt x="2409" y="218"/>
                </a:lnTo>
                <a:lnTo>
                  <a:pt x="2415" y="213"/>
                </a:lnTo>
                <a:lnTo>
                  <a:pt x="2421" y="207"/>
                </a:lnTo>
                <a:lnTo>
                  <a:pt x="2421" y="202"/>
                </a:lnTo>
                <a:lnTo>
                  <a:pt x="2426" y="213"/>
                </a:lnTo>
                <a:lnTo>
                  <a:pt x="2426" y="218"/>
                </a:lnTo>
                <a:lnTo>
                  <a:pt x="2432" y="223"/>
                </a:lnTo>
                <a:lnTo>
                  <a:pt x="2432" y="229"/>
                </a:lnTo>
                <a:lnTo>
                  <a:pt x="2438" y="234"/>
                </a:lnTo>
                <a:lnTo>
                  <a:pt x="2444" y="239"/>
                </a:lnTo>
                <a:lnTo>
                  <a:pt x="2449" y="239"/>
                </a:lnTo>
                <a:lnTo>
                  <a:pt x="2455" y="234"/>
                </a:lnTo>
              </a:path>
            </a:pathLst>
          </a:custGeom>
          <a:noFill/>
          <a:ln w="158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8" name=""/>
          <p:cNvSpPr/>
          <p:nvPr/>
        </p:nvSpPr>
        <p:spPr>
          <a:xfrm>
            <a:off x="6114960" y="5834160"/>
            <a:ext cx="42876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6321600" y="600552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980" name=""/>
          <p:cNvSpPr/>
          <p:nvPr/>
        </p:nvSpPr>
        <p:spPr>
          <a:xfrm>
            <a:off x="6451200" y="593892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81" name=""/>
          <p:cNvSpPr/>
          <p:nvPr/>
        </p:nvSpPr>
        <p:spPr>
          <a:xfrm>
            <a:off x="6541920" y="5834160"/>
            <a:ext cx="42552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6745680" y="600552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983" name=""/>
          <p:cNvSpPr/>
          <p:nvPr/>
        </p:nvSpPr>
        <p:spPr>
          <a:xfrm>
            <a:off x="6874920" y="593892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84" name=""/>
          <p:cNvSpPr/>
          <p:nvPr/>
        </p:nvSpPr>
        <p:spPr>
          <a:xfrm>
            <a:off x="6966000" y="5834160"/>
            <a:ext cx="42840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5" name=""/>
          <p:cNvSpPr/>
          <p:nvPr/>
        </p:nvSpPr>
        <p:spPr>
          <a:xfrm>
            <a:off x="7219080" y="6008760"/>
            <a:ext cx="64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986" name=""/>
          <p:cNvSpPr/>
          <p:nvPr/>
        </p:nvSpPr>
        <p:spPr>
          <a:xfrm>
            <a:off x="7278120" y="595620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87" name=""/>
          <p:cNvSpPr/>
          <p:nvPr/>
        </p:nvSpPr>
        <p:spPr>
          <a:xfrm>
            <a:off x="7391520" y="5834160"/>
            <a:ext cx="42696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a:off x="7539480" y="600552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8</a:t>
            </a:r>
            <a:endParaRPr b="0" lang="en-US" sz="1800" spc="-1" strike="noStrike">
              <a:solidFill>
                <a:srgbClr val="000000"/>
              </a:solidFill>
              <a:latin typeface="Times New Roman"/>
            </a:endParaRPr>
          </a:p>
        </p:txBody>
      </p:sp>
      <p:sp>
        <p:nvSpPr>
          <p:cNvPr id="2989" name=""/>
          <p:cNvSpPr/>
          <p:nvPr/>
        </p:nvSpPr>
        <p:spPr>
          <a:xfrm>
            <a:off x="7781400" y="593892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90" name=""/>
          <p:cNvSpPr/>
          <p:nvPr/>
        </p:nvSpPr>
        <p:spPr>
          <a:xfrm>
            <a:off x="7815240" y="5834160"/>
            <a:ext cx="42876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1" name=""/>
          <p:cNvSpPr/>
          <p:nvPr/>
        </p:nvSpPr>
        <p:spPr>
          <a:xfrm>
            <a:off x="8070120" y="6008760"/>
            <a:ext cx="64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992" name=""/>
          <p:cNvSpPr/>
          <p:nvPr/>
        </p:nvSpPr>
        <p:spPr>
          <a:xfrm>
            <a:off x="8129160" y="595620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93" name=""/>
          <p:cNvSpPr/>
          <p:nvPr/>
        </p:nvSpPr>
        <p:spPr>
          <a:xfrm>
            <a:off x="8242200" y="5834160"/>
            <a:ext cx="42876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8333280" y="600552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8</a:t>
            </a:r>
            <a:endParaRPr b="0" lang="en-US" sz="1800" spc="-1" strike="noStrike">
              <a:solidFill>
                <a:srgbClr val="000000"/>
              </a:solidFill>
              <a:latin typeface="Times New Roman"/>
            </a:endParaRPr>
          </a:p>
        </p:txBody>
      </p:sp>
      <p:sp>
        <p:nvSpPr>
          <p:cNvPr id="2995" name=""/>
          <p:cNvSpPr/>
          <p:nvPr/>
        </p:nvSpPr>
        <p:spPr>
          <a:xfrm>
            <a:off x="8561880" y="600552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996" name=""/>
          <p:cNvSpPr/>
          <p:nvPr/>
        </p:nvSpPr>
        <p:spPr>
          <a:xfrm>
            <a:off x="8691120" y="593892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97" name=""/>
          <p:cNvSpPr/>
          <p:nvPr/>
        </p:nvSpPr>
        <p:spPr>
          <a:xfrm>
            <a:off x="5691240" y="3282840"/>
            <a:ext cx="426960" cy="42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5893200" y="345132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999" name=""/>
          <p:cNvSpPr/>
          <p:nvPr/>
        </p:nvSpPr>
        <p:spPr>
          <a:xfrm>
            <a:off x="6006960" y="345132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00" name=""/>
          <p:cNvSpPr/>
          <p:nvPr/>
        </p:nvSpPr>
        <p:spPr>
          <a:xfrm>
            <a:off x="5691240" y="3706920"/>
            <a:ext cx="42696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5893200" y="387504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002" name=""/>
          <p:cNvSpPr/>
          <p:nvPr/>
        </p:nvSpPr>
        <p:spPr>
          <a:xfrm>
            <a:off x="6022440" y="380844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03" name=""/>
          <p:cNvSpPr/>
          <p:nvPr/>
        </p:nvSpPr>
        <p:spPr>
          <a:xfrm>
            <a:off x="5691240" y="4132440"/>
            <a:ext cx="42696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5942880" y="4305240"/>
            <a:ext cx="64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005" name=""/>
          <p:cNvSpPr/>
          <p:nvPr/>
        </p:nvSpPr>
        <p:spPr>
          <a:xfrm>
            <a:off x="6001920" y="425448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06" name=""/>
          <p:cNvSpPr/>
          <p:nvPr/>
        </p:nvSpPr>
        <p:spPr>
          <a:xfrm>
            <a:off x="5691240" y="4984920"/>
            <a:ext cx="426960" cy="42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5942880" y="5156280"/>
            <a:ext cx="64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008" name=""/>
          <p:cNvSpPr/>
          <p:nvPr/>
        </p:nvSpPr>
        <p:spPr>
          <a:xfrm>
            <a:off x="6001920" y="510552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09" name=""/>
          <p:cNvSpPr/>
          <p:nvPr/>
        </p:nvSpPr>
        <p:spPr>
          <a:xfrm>
            <a:off x="5691240" y="4557600"/>
            <a:ext cx="42696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5837760" y="472752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8</a:t>
            </a:r>
            <a:endParaRPr b="0" lang="en-US" sz="1800" spc="-1" strike="noStrike">
              <a:solidFill>
                <a:srgbClr val="000000"/>
              </a:solidFill>
              <a:latin typeface="Times New Roman"/>
            </a:endParaRPr>
          </a:p>
        </p:txBody>
      </p:sp>
      <p:sp>
        <p:nvSpPr>
          <p:cNvPr id="3011" name=""/>
          <p:cNvSpPr/>
          <p:nvPr/>
        </p:nvSpPr>
        <p:spPr>
          <a:xfrm>
            <a:off x="6079680" y="466092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12" name=""/>
          <p:cNvSpPr/>
          <p:nvPr/>
        </p:nvSpPr>
        <p:spPr>
          <a:xfrm>
            <a:off x="5691240" y="5408640"/>
            <a:ext cx="42696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5780520" y="557676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8</a:t>
            </a:r>
            <a:endParaRPr b="0" lang="en-US" sz="1800" spc="-1" strike="noStrike">
              <a:solidFill>
                <a:srgbClr val="000000"/>
              </a:solidFill>
              <a:latin typeface="Times New Roman"/>
            </a:endParaRPr>
          </a:p>
        </p:txBody>
      </p:sp>
      <p:sp>
        <p:nvSpPr>
          <p:cNvPr id="3014" name=""/>
          <p:cNvSpPr/>
          <p:nvPr/>
        </p:nvSpPr>
        <p:spPr>
          <a:xfrm>
            <a:off x="6009120" y="557676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015" name=""/>
          <p:cNvSpPr/>
          <p:nvPr/>
        </p:nvSpPr>
        <p:spPr>
          <a:xfrm>
            <a:off x="6138360" y="551016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16" name=""/>
          <p:cNvSpPr/>
          <p:nvPr/>
        </p:nvSpPr>
        <p:spPr>
          <a:xfrm>
            <a:off x="6114960" y="3282840"/>
            <a:ext cx="2554200" cy="42408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6541920" y="3706920"/>
            <a:ext cx="2127240" cy="4255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6966000" y="4132440"/>
            <a:ext cx="1703160" cy="42516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a:off x="7391520" y="4557600"/>
            <a:ext cx="1277640" cy="4273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7815240" y="4984920"/>
            <a:ext cx="853920" cy="4237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8242200" y="5408640"/>
            <a:ext cx="426960" cy="4255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6114960" y="3282840"/>
            <a:ext cx="1800" cy="2551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6114960" y="3282840"/>
            <a:ext cx="25513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4" name=""/>
          <p:cNvSpPr/>
          <p:nvPr/>
        </p:nvSpPr>
        <p:spPr>
          <a:xfrm>
            <a:off x="6114960" y="5834160"/>
            <a:ext cx="2551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5" name=""/>
          <p:cNvSpPr/>
          <p:nvPr/>
        </p:nvSpPr>
        <p:spPr>
          <a:xfrm>
            <a:off x="8666280" y="3282840"/>
            <a:ext cx="1440" cy="2551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6114960" y="3706920"/>
            <a:ext cx="2551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7" name=""/>
          <p:cNvSpPr/>
          <p:nvPr/>
        </p:nvSpPr>
        <p:spPr>
          <a:xfrm>
            <a:off x="6114960" y="4132440"/>
            <a:ext cx="2551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8" name=""/>
          <p:cNvSpPr/>
          <p:nvPr/>
        </p:nvSpPr>
        <p:spPr>
          <a:xfrm>
            <a:off x="6114960" y="4556160"/>
            <a:ext cx="2551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9" name=""/>
          <p:cNvSpPr/>
          <p:nvPr/>
        </p:nvSpPr>
        <p:spPr>
          <a:xfrm>
            <a:off x="6114960" y="4984920"/>
            <a:ext cx="2551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0" name=""/>
          <p:cNvSpPr/>
          <p:nvPr/>
        </p:nvSpPr>
        <p:spPr>
          <a:xfrm>
            <a:off x="6114960" y="5408640"/>
            <a:ext cx="2551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1" name=""/>
          <p:cNvSpPr/>
          <p:nvPr/>
        </p:nvSpPr>
        <p:spPr>
          <a:xfrm>
            <a:off x="6541920" y="3282840"/>
            <a:ext cx="1800" cy="2551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6966000" y="3282840"/>
            <a:ext cx="1440" cy="2551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7391520" y="3282840"/>
            <a:ext cx="1440" cy="2551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a:off x="7815240" y="3282840"/>
            <a:ext cx="1440" cy="2551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a:off x="8242200" y="3282840"/>
            <a:ext cx="1800" cy="2551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6114960" y="4557600"/>
            <a:ext cx="42876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6224400" y="465768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7</a:t>
            </a:r>
            <a:endParaRPr b="0" lang="en-US" sz="1800" spc="-1" strike="noStrike">
              <a:solidFill>
                <a:srgbClr val="000000"/>
              </a:solidFill>
              <a:latin typeface="Times New Roman"/>
            </a:endParaRPr>
          </a:p>
        </p:txBody>
      </p:sp>
      <p:sp>
        <p:nvSpPr>
          <p:cNvPr id="3038" name=""/>
          <p:cNvSpPr/>
          <p:nvPr/>
        </p:nvSpPr>
        <p:spPr>
          <a:xfrm>
            <a:off x="6532560" y="5419800"/>
            <a:ext cx="425520" cy="42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6721200" y="549108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040" name=""/>
          <p:cNvSpPr/>
          <p:nvPr/>
        </p:nvSpPr>
        <p:spPr>
          <a:xfrm>
            <a:off x="6865560" y="552456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41" name=""/>
          <p:cNvSpPr/>
          <p:nvPr/>
        </p:nvSpPr>
        <p:spPr>
          <a:xfrm>
            <a:off x="338616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042" name=""/>
          <p:cNvGraphicFramePr/>
          <p:nvPr/>
        </p:nvGraphicFramePr>
        <p:xfrm>
          <a:off x="168120" y="1628640"/>
          <a:ext cx="8461440" cy="1257480"/>
        </p:xfrm>
        <a:graphic>
          <a:graphicData uri="http://schemas.openxmlformats.org/presentationml/2006/ole">
            <p:oleObj r:id="rId1" spid="">
              <p:embed/>
              <p:pic>
                <p:nvPicPr>
                  <p:cNvPr id="3043" name="" descr=""/>
                  <p:cNvPicPr/>
                  <p:nvPr/>
                </p:nvPicPr>
                <p:blipFill>
                  <a:blip r:embed="rId2"/>
                  <a:stretch/>
                </p:blipFill>
                <p:spPr>
                  <a:xfrm>
                    <a:off x="168120" y="1628640"/>
                    <a:ext cx="8461440" cy="1257480"/>
                  </a:xfrm>
                  <a:prstGeom prst="rect">
                    <a:avLst/>
                  </a:prstGeom>
                  <a:ln w="0">
                    <a:noFill/>
                  </a:ln>
                </p:spPr>
              </p:pic>
            </p:oleObj>
          </a:graphicData>
        </a:graphic>
      </p:graphicFrame>
      <p:sp>
        <p:nvSpPr>
          <p:cNvPr id="3044" name=""/>
          <p:cNvSpPr/>
          <p:nvPr/>
        </p:nvSpPr>
        <p:spPr>
          <a:xfrm>
            <a:off x="150840" y="309600"/>
            <a:ext cx="8226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calculate the expected values in the matrix, assuming there are NO patterns…</a:t>
            </a:r>
            <a:endParaRPr b="0" lang="en-US" sz="3200" spc="-1" strike="noStrike">
              <a:solidFill>
                <a:srgbClr val="000000"/>
              </a:solidFill>
              <a:latin typeface="Times New Roman"/>
            </a:endParaRPr>
          </a:p>
        </p:txBody>
      </p:sp>
      <p:sp>
        <p:nvSpPr>
          <p:cNvPr id="3045" name=""/>
          <p:cNvSpPr/>
          <p:nvPr/>
        </p:nvSpPr>
        <p:spPr>
          <a:xfrm>
            <a:off x="6243120" y="505944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046" name=""/>
          <p:cNvSpPr/>
          <p:nvPr/>
        </p:nvSpPr>
        <p:spPr>
          <a:xfrm>
            <a:off x="6695640" y="51102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047" name=""/>
          <p:cNvSpPr/>
          <p:nvPr/>
        </p:nvSpPr>
        <p:spPr>
          <a:xfrm>
            <a:off x="6251040" y="423864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048" name=""/>
          <p:cNvSpPr/>
          <p:nvPr/>
        </p:nvSpPr>
        <p:spPr>
          <a:xfrm>
            <a:off x="6294240" y="549432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049" name=""/>
          <p:cNvSpPr/>
          <p:nvPr/>
        </p:nvSpPr>
        <p:spPr>
          <a:xfrm>
            <a:off x="6686280" y="465624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050" name=""/>
          <p:cNvSpPr/>
          <p:nvPr/>
        </p:nvSpPr>
        <p:spPr>
          <a:xfrm>
            <a:off x="7121160" y="549756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051" name=""/>
          <p:cNvSpPr/>
          <p:nvPr/>
        </p:nvSpPr>
        <p:spPr>
          <a:xfrm>
            <a:off x="7507080" y="549432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052" name=""/>
          <p:cNvSpPr/>
          <p:nvPr/>
        </p:nvSpPr>
        <p:spPr>
          <a:xfrm>
            <a:off x="7087680" y="468144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053" name=""/>
          <p:cNvSpPr/>
          <p:nvPr/>
        </p:nvSpPr>
        <p:spPr>
          <a:xfrm>
            <a:off x="6660720" y="42642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054" name=""/>
          <p:cNvSpPr/>
          <p:nvPr/>
        </p:nvSpPr>
        <p:spPr>
          <a:xfrm>
            <a:off x="6256080" y="382284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055" name=""/>
          <p:cNvSpPr/>
          <p:nvPr/>
        </p:nvSpPr>
        <p:spPr>
          <a:xfrm>
            <a:off x="7087680" y="50832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056" name=""/>
          <p:cNvSpPr/>
          <p:nvPr/>
        </p:nvSpPr>
        <p:spPr>
          <a:xfrm>
            <a:off x="7549920" y="506556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057" name=""/>
          <p:cNvSpPr/>
          <p:nvPr/>
        </p:nvSpPr>
        <p:spPr>
          <a:xfrm>
            <a:off x="7900560" y="548496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058" name=""/>
          <p:cNvSpPr/>
          <p:nvPr/>
        </p:nvSpPr>
        <p:spPr>
          <a:xfrm>
            <a:off x="317880" y="5059440"/>
            <a:ext cx="24804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i="1" lang="en-US" sz="2800" spc="-1" strike="noStrike">
                <a:solidFill>
                  <a:srgbClr val="000000"/>
                </a:solidFill>
                <a:latin typeface="Times New Roman"/>
              </a:rPr>
              <a:t>k,a,w,d,t</a:t>
            </a:r>
            <a:r>
              <a:rPr b="0" lang="en-US" sz="2800" spc="-1" strike="noStrike">
                <a:solidFill>
                  <a:srgbClr val="000000"/>
                </a:solidFill>
                <a:latin typeface="Times New Roman"/>
              </a:rPr>
              <a:t>) =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9" name="" descr=""/>
          <p:cNvPicPr/>
          <p:nvPr/>
        </p:nvPicPr>
        <p:blipFill>
          <a:blip r:embed="rId1"/>
          <a:stretch/>
        </p:blipFill>
        <p:spPr>
          <a:xfrm>
            <a:off x="504720" y="4414680"/>
            <a:ext cx="8199720" cy="2235240"/>
          </a:xfrm>
          <a:prstGeom prst="rect">
            <a:avLst/>
          </a:prstGeom>
          <a:ln w="0">
            <a:noFill/>
          </a:ln>
        </p:spPr>
      </p:pic>
      <p:sp>
        <p:nvSpPr>
          <p:cNvPr id="3060" name=""/>
          <p:cNvSpPr/>
          <p:nvPr/>
        </p:nvSpPr>
        <p:spPr>
          <a:xfrm>
            <a:off x="659160" y="301932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061" name=""/>
          <p:cNvSpPr/>
          <p:nvPr/>
        </p:nvSpPr>
        <p:spPr>
          <a:xfrm>
            <a:off x="596880" y="3021120"/>
            <a:ext cx="2757600" cy="963360"/>
          </a:xfrm>
          <a:prstGeom prst="rect">
            <a:avLst/>
          </a:prstGeom>
          <a:noFill/>
          <a:ln cap="rnd"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596880" y="3021120"/>
            <a:ext cx="275436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3" name=""/>
          <p:cNvSpPr/>
          <p:nvPr/>
        </p:nvSpPr>
        <p:spPr>
          <a:xfrm>
            <a:off x="596880" y="3021120"/>
            <a:ext cx="2754360" cy="963360"/>
          </a:xfrm>
          <a:custGeom>
            <a:avLst/>
            <a:gdLst/>
            <a:ahLst/>
            <a:rect l="l" t="t" r="r" b="b"/>
            <a:pathLst>
              <a:path w="1735" h="607">
                <a:moveTo>
                  <a:pt x="0" y="607"/>
                </a:moveTo>
                <a:lnTo>
                  <a:pt x="1735" y="607"/>
                </a:lnTo>
                <a:lnTo>
                  <a:pt x="1735" y="0"/>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flipV="1">
            <a:off x="596880" y="3021120"/>
            <a:ext cx="1440" cy="9633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596880" y="3984480"/>
            <a:ext cx="2754360" cy="1800"/>
          </a:xfrm>
          <a:prstGeom prst="line">
            <a:avLst/>
          </a:prstGeom>
          <a:ln cap="rnd"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6" name=""/>
          <p:cNvSpPr/>
          <p:nvPr/>
        </p:nvSpPr>
        <p:spPr>
          <a:xfrm flipV="1">
            <a:off x="596880" y="3021120"/>
            <a:ext cx="1440" cy="9633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flipV="1">
            <a:off x="596880" y="3970080"/>
            <a:ext cx="1440" cy="14040"/>
          </a:xfrm>
          <a:prstGeom prst="line">
            <a:avLst/>
          </a:prstGeom>
          <a:ln cap="rnd"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68" name=""/>
          <p:cNvSpPr/>
          <p:nvPr/>
        </p:nvSpPr>
        <p:spPr>
          <a:xfrm>
            <a:off x="596880" y="3021120"/>
            <a:ext cx="1440" cy="12600"/>
          </a:xfrm>
          <a:prstGeom prst="line">
            <a:avLst/>
          </a:prstGeom>
          <a:ln cap="rnd"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69" name=""/>
          <p:cNvSpPr/>
          <p:nvPr/>
        </p:nvSpPr>
        <p:spPr>
          <a:xfrm>
            <a:off x="585720" y="3990960"/>
            <a:ext cx="8244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0" name=""/>
          <p:cNvSpPr/>
          <p:nvPr/>
        </p:nvSpPr>
        <p:spPr>
          <a:xfrm>
            <a:off x="634680" y="399096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3071" name=""/>
          <p:cNvSpPr/>
          <p:nvPr/>
        </p:nvSpPr>
        <p:spPr>
          <a:xfrm>
            <a:off x="792360" y="38336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072" name=""/>
          <p:cNvSpPr/>
          <p:nvPr/>
        </p:nvSpPr>
        <p:spPr>
          <a:xfrm flipV="1">
            <a:off x="985680" y="3970080"/>
            <a:ext cx="6480" cy="14040"/>
          </a:xfrm>
          <a:prstGeom prst="line">
            <a:avLst/>
          </a:prstGeom>
          <a:ln cap="rnd"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3" name=""/>
          <p:cNvSpPr/>
          <p:nvPr/>
        </p:nvSpPr>
        <p:spPr>
          <a:xfrm>
            <a:off x="985680" y="3021120"/>
            <a:ext cx="6480" cy="12600"/>
          </a:xfrm>
          <a:prstGeom prst="line">
            <a:avLst/>
          </a:prstGeom>
          <a:ln cap="rnd"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4" name=""/>
          <p:cNvSpPr/>
          <p:nvPr/>
        </p:nvSpPr>
        <p:spPr>
          <a:xfrm>
            <a:off x="961920" y="3990960"/>
            <a:ext cx="1666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5" name=""/>
          <p:cNvSpPr/>
          <p:nvPr/>
        </p:nvSpPr>
        <p:spPr>
          <a:xfrm>
            <a:off x="1028520" y="3990960"/>
            <a:ext cx="982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a:t>
            </a:r>
            <a:endParaRPr b="0" lang="en-US" sz="700" spc="-1" strike="noStrike">
              <a:solidFill>
                <a:srgbClr val="000000"/>
              </a:solidFill>
              <a:latin typeface="Times New Roman"/>
            </a:endParaRPr>
          </a:p>
        </p:txBody>
      </p:sp>
      <p:sp>
        <p:nvSpPr>
          <p:cNvPr id="3076" name=""/>
          <p:cNvSpPr/>
          <p:nvPr/>
        </p:nvSpPr>
        <p:spPr>
          <a:xfrm>
            <a:off x="1252800" y="38336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077" name=""/>
          <p:cNvSpPr/>
          <p:nvPr/>
        </p:nvSpPr>
        <p:spPr>
          <a:xfrm flipV="1">
            <a:off x="1380960" y="3970080"/>
            <a:ext cx="3240" cy="14040"/>
          </a:xfrm>
          <a:prstGeom prst="line">
            <a:avLst/>
          </a:prstGeom>
          <a:ln cap="rnd"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8" name=""/>
          <p:cNvSpPr/>
          <p:nvPr/>
        </p:nvSpPr>
        <p:spPr>
          <a:xfrm>
            <a:off x="1380960" y="3021120"/>
            <a:ext cx="3240" cy="12600"/>
          </a:xfrm>
          <a:prstGeom prst="line">
            <a:avLst/>
          </a:prstGeom>
          <a:ln cap="rnd"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9" name=""/>
          <p:cNvSpPr/>
          <p:nvPr/>
        </p:nvSpPr>
        <p:spPr>
          <a:xfrm>
            <a:off x="1363680" y="3990960"/>
            <a:ext cx="16524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0" name=""/>
          <p:cNvSpPr/>
          <p:nvPr/>
        </p:nvSpPr>
        <p:spPr>
          <a:xfrm>
            <a:off x="1427040" y="3990960"/>
            <a:ext cx="982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0</a:t>
            </a:r>
            <a:endParaRPr b="0" lang="en-US" sz="700" spc="-1" strike="noStrike">
              <a:solidFill>
                <a:srgbClr val="000000"/>
              </a:solidFill>
              <a:latin typeface="Times New Roman"/>
            </a:endParaRPr>
          </a:p>
        </p:txBody>
      </p:sp>
      <p:sp>
        <p:nvSpPr>
          <p:cNvPr id="3081" name=""/>
          <p:cNvSpPr/>
          <p:nvPr/>
        </p:nvSpPr>
        <p:spPr>
          <a:xfrm>
            <a:off x="1649880" y="38336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082" name=""/>
          <p:cNvSpPr/>
          <p:nvPr/>
        </p:nvSpPr>
        <p:spPr>
          <a:xfrm flipV="1">
            <a:off x="1778040" y="3970080"/>
            <a:ext cx="1440" cy="14040"/>
          </a:xfrm>
          <a:prstGeom prst="line">
            <a:avLst/>
          </a:prstGeom>
          <a:ln cap="rnd"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83" name=""/>
          <p:cNvSpPr/>
          <p:nvPr/>
        </p:nvSpPr>
        <p:spPr>
          <a:xfrm>
            <a:off x="1778040" y="3021120"/>
            <a:ext cx="1440" cy="12600"/>
          </a:xfrm>
          <a:prstGeom prst="line">
            <a:avLst/>
          </a:prstGeom>
          <a:ln cap="rnd"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4" name=""/>
          <p:cNvSpPr/>
          <p:nvPr/>
        </p:nvSpPr>
        <p:spPr>
          <a:xfrm>
            <a:off x="1751040" y="3990960"/>
            <a:ext cx="1666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5" name=""/>
          <p:cNvSpPr/>
          <p:nvPr/>
        </p:nvSpPr>
        <p:spPr>
          <a:xfrm>
            <a:off x="1817640" y="3990960"/>
            <a:ext cx="982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0</a:t>
            </a:r>
            <a:endParaRPr b="0" lang="en-US" sz="700" spc="-1" strike="noStrike">
              <a:solidFill>
                <a:srgbClr val="000000"/>
              </a:solidFill>
              <a:latin typeface="Times New Roman"/>
            </a:endParaRPr>
          </a:p>
        </p:txBody>
      </p:sp>
      <p:sp>
        <p:nvSpPr>
          <p:cNvPr id="3086" name=""/>
          <p:cNvSpPr/>
          <p:nvPr/>
        </p:nvSpPr>
        <p:spPr>
          <a:xfrm>
            <a:off x="2041920" y="38336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087" name=""/>
          <p:cNvSpPr/>
          <p:nvPr/>
        </p:nvSpPr>
        <p:spPr>
          <a:xfrm flipV="1">
            <a:off x="2166840" y="3970080"/>
            <a:ext cx="6480" cy="14040"/>
          </a:xfrm>
          <a:prstGeom prst="line">
            <a:avLst/>
          </a:prstGeom>
          <a:ln cap="rnd"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88" name=""/>
          <p:cNvSpPr/>
          <p:nvPr/>
        </p:nvSpPr>
        <p:spPr>
          <a:xfrm>
            <a:off x="2166840" y="3021120"/>
            <a:ext cx="6480" cy="12600"/>
          </a:xfrm>
          <a:prstGeom prst="line">
            <a:avLst/>
          </a:prstGeom>
          <a:ln cap="rnd"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9" name=""/>
          <p:cNvSpPr/>
          <p:nvPr/>
        </p:nvSpPr>
        <p:spPr>
          <a:xfrm>
            <a:off x="2149560" y="3990960"/>
            <a:ext cx="1666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0" name=""/>
          <p:cNvSpPr/>
          <p:nvPr/>
        </p:nvSpPr>
        <p:spPr>
          <a:xfrm>
            <a:off x="2216160" y="3990960"/>
            <a:ext cx="982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0</a:t>
            </a:r>
            <a:endParaRPr b="0" lang="en-US" sz="700" spc="-1" strike="noStrike">
              <a:solidFill>
                <a:srgbClr val="000000"/>
              </a:solidFill>
              <a:latin typeface="Times New Roman"/>
            </a:endParaRPr>
          </a:p>
        </p:txBody>
      </p:sp>
      <p:sp>
        <p:nvSpPr>
          <p:cNvPr id="3091" name=""/>
          <p:cNvSpPr/>
          <p:nvPr/>
        </p:nvSpPr>
        <p:spPr>
          <a:xfrm>
            <a:off x="2440440" y="38336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092" name=""/>
          <p:cNvSpPr/>
          <p:nvPr/>
        </p:nvSpPr>
        <p:spPr>
          <a:xfrm flipV="1">
            <a:off x="2567160" y="3970080"/>
            <a:ext cx="1440" cy="14040"/>
          </a:xfrm>
          <a:prstGeom prst="line">
            <a:avLst/>
          </a:prstGeom>
          <a:ln cap="rnd"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93" name=""/>
          <p:cNvSpPr/>
          <p:nvPr/>
        </p:nvSpPr>
        <p:spPr>
          <a:xfrm>
            <a:off x="2567160" y="3021120"/>
            <a:ext cx="1440" cy="12600"/>
          </a:xfrm>
          <a:prstGeom prst="line">
            <a:avLst/>
          </a:prstGeom>
          <a:ln cap="rnd"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4" name=""/>
          <p:cNvSpPr/>
          <p:nvPr/>
        </p:nvSpPr>
        <p:spPr>
          <a:xfrm>
            <a:off x="2532240" y="3990960"/>
            <a:ext cx="25236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5" name=""/>
          <p:cNvSpPr/>
          <p:nvPr/>
        </p:nvSpPr>
        <p:spPr>
          <a:xfrm>
            <a:off x="2614320" y="3990960"/>
            <a:ext cx="1468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a:t>
            </a:r>
            <a:endParaRPr b="0" lang="en-US" sz="700" spc="-1" strike="noStrike">
              <a:solidFill>
                <a:srgbClr val="000000"/>
              </a:solidFill>
              <a:latin typeface="Times New Roman"/>
            </a:endParaRPr>
          </a:p>
        </p:txBody>
      </p:sp>
      <p:sp>
        <p:nvSpPr>
          <p:cNvPr id="3096" name=""/>
          <p:cNvSpPr/>
          <p:nvPr/>
        </p:nvSpPr>
        <p:spPr>
          <a:xfrm>
            <a:off x="2905560" y="38336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097" name=""/>
          <p:cNvSpPr/>
          <p:nvPr/>
        </p:nvSpPr>
        <p:spPr>
          <a:xfrm flipV="1">
            <a:off x="2959200" y="3970080"/>
            <a:ext cx="1440" cy="14040"/>
          </a:xfrm>
          <a:prstGeom prst="line">
            <a:avLst/>
          </a:prstGeom>
          <a:ln cap="rnd"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98" name=""/>
          <p:cNvSpPr/>
          <p:nvPr/>
        </p:nvSpPr>
        <p:spPr>
          <a:xfrm>
            <a:off x="2959200" y="3021120"/>
            <a:ext cx="1440" cy="12600"/>
          </a:xfrm>
          <a:prstGeom prst="line">
            <a:avLst/>
          </a:prstGeom>
          <a:ln cap="rnd"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9" name=""/>
          <p:cNvSpPr/>
          <p:nvPr/>
        </p:nvSpPr>
        <p:spPr>
          <a:xfrm>
            <a:off x="2924280" y="3990960"/>
            <a:ext cx="2491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0" name=""/>
          <p:cNvSpPr/>
          <p:nvPr/>
        </p:nvSpPr>
        <p:spPr>
          <a:xfrm>
            <a:off x="3003120" y="3990960"/>
            <a:ext cx="1468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0</a:t>
            </a:r>
            <a:endParaRPr b="0" lang="en-US" sz="700" spc="-1" strike="noStrike">
              <a:solidFill>
                <a:srgbClr val="000000"/>
              </a:solidFill>
              <a:latin typeface="Times New Roman"/>
            </a:endParaRPr>
          </a:p>
        </p:txBody>
      </p:sp>
      <p:sp>
        <p:nvSpPr>
          <p:cNvPr id="3101" name=""/>
          <p:cNvSpPr/>
          <p:nvPr/>
        </p:nvSpPr>
        <p:spPr>
          <a:xfrm>
            <a:off x="3294360" y="38336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102" name=""/>
          <p:cNvSpPr/>
          <p:nvPr/>
        </p:nvSpPr>
        <p:spPr>
          <a:xfrm flipV="1">
            <a:off x="3354480" y="3970080"/>
            <a:ext cx="1440" cy="14040"/>
          </a:xfrm>
          <a:prstGeom prst="line">
            <a:avLst/>
          </a:prstGeom>
          <a:ln cap="rnd"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03" name=""/>
          <p:cNvSpPr/>
          <p:nvPr/>
        </p:nvSpPr>
        <p:spPr>
          <a:xfrm>
            <a:off x="3354480" y="3021120"/>
            <a:ext cx="1440" cy="12600"/>
          </a:xfrm>
          <a:prstGeom prst="line">
            <a:avLst/>
          </a:prstGeom>
          <a:ln cap="rnd"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04" name=""/>
          <p:cNvSpPr/>
          <p:nvPr/>
        </p:nvSpPr>
        <p:spPr>
          <a:xfrm>
            <a:off x="596880" y="3984480"/>
            <a:ext cx="23760" cy="1800"/>
          </a:xfrm>
          <a:prstGeom prst="line">
            <a:avLst/>
          </a:prstGeom>
          <a:ln cap="rnd"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5" name=""/>
          <p:cNvSpPr/>
          <p:nvPr/>
        </p:nvSpPr>
        <p:spPr>
          <a:xfrm flipH="1">
            <a:off x="3327120" y="3984480"/>
            <a:ext cx="27000" cy="1800"/>
          </a:xfrm>
          <a:prstGeom prst="line">
            <a:avLst/>
          </a:prstGeom>
          <a:ln cap="rnd"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6" name=""/>
          <p:cNvSpPr/>
          <p:nvPr/>
        </p:nvSpPr>
        <p:spPr>
          <a:xfrm flipV="1">
            <a:off x="596880" y="3822840"/>
            <a:ext cx="2376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flipH="1" flipV="1">
            <a:off x="3327120" y="3822840"/>
            <a:ext cx="2700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8" name=""/>
          <p:cNvSpPr/>
          <p:nvPr/>
        </p:nvSpPr>
        <p:spPr>
          <a:xfrm>
            <a:off x="596880" y="3664080"/>
            <a:ext cx="2376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flipH="1">
            <a:off x="3327120" y="3664080"/>
            <a:ext cx="2700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0" name=""/>
          <p:cNvSpPr/>
          <p:nvPr/>
        </p:nvSpPr>
        <p:spPr>
          <a:xfrm flipV="1">
            <a:off x="596880" y="3503160"/>
            <a:ext cx="23760" cy="1800"/>
          </a:xfrm>
          <a:prstGeom prst="line">
            <a:avLst/>
          </a:prstGeom>
          <a:ln cap="rnd"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1" name=""/>
          <p:cNvSpPr/>
          <p:nvPr/>
        </p:nvSpPr>
        <p:spPr>
          <a:xfrm flipH="1" flipV="1">
            <a:off x="3327120" y="3503160"/>
            <a:ext cx="27000" cy="1800"/>
          </a:xfrm>
          <a:prstGeom prst="line">
            <a:avLst/>
          </a:prstGeom>
          <a:ln cap="rnd"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2" name=""/>
          <p:cNvSpPr/>
          <p:nvPr/>
        </p:nvSpPr>
        <p:spPr>
          <a:xfrm>
            <a:off x="596880" y="3341520"/>
            <a:ext cx="23760" cy="1800"/>
          </a:xfrm>
          <a:prstGeom prst="line">
            <a:avLst/>
          </a:prstGeom>
          <a:ln cap="rnd"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3" name=""/>
          <p:cNvSpPr/>
          <p:nvPr/>
        </p:nvSpPr>
        <p:spPr>
          <a:xfrm flipH="1">
            <a:off x="3327120" y="3341520"/>
            <a:ext cx="27000" cy="1800"/>
          </a:xfrm>
          <a:prstGeom prst="line">
            <a:avLst/>
          </a:prstGeom>
          <a:ln cap="rnd"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4" name=""/>
          <p:cNvSpPr/>
          <p:nvPr/>
        </p:nvSpPr>
        <p:spPr>
          <a:xfrm>
            <a:off x="596880" y="3179880"/>
            <a:ext cx="2376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flipH="1">
            <a:off x="3327120" y="3179880"/>
            <a:ext cx="2700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6" name=""/>
          <p:cNvSpPr/>
          <p:nvPr/>
        </p:nvSpPr>
        <p:spPr>
          <a:xfrm>
            <a:off x="596880" y="3021120"/>
            <a:ext cx="2376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7" name=""/>
          <p:cNvSpPr/>
          <p:nvPr/>
        </p:nvSpPr>
        <p:spPr>
          <a:xfrm flipH="1">
            <a:off x="3327120" y="3021120"/>
            <a:ext cx="2700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96880" y="3021120"/>
            <a:ext cx="275436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9" name=""/>
          <p:cNvSpPr/>
          <p:nvPr/>
        </p:nvSpPr>
        <p:spPr>
          <a:xfrm>
            <a:off x="596880" y="3021120"/>
            <a:ext cx="2754360" cy="963360"/>
          </a:xfrm>
          <a:custGeom>
            <a:avLst/>
            <a:gdLst/>
            <a:ahLst/>
            <a:rect l="l" t="t" r="r" b="b"/>
            <a:pathLst>
              <a:path w="1735" h="607">
                <a:moveTo>
                  <a:pt x="0" y="607"/>
                </a:moveTo>
                <a:lnTo>
                  <a:pt x="1735" y="607"/>
                </a:lnTo>
                <a:lnTo>
                  <a:pt x="1735" y="0"/>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flipV="1">
            <a:off x="596880" y="3021120"/>
            <a:ext cx="1440" cy="9633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615960" y="3149640"/>
            <a:ext cx="2496960" cy="700200"/>
          </a:xfrm>
          <a:custGeom>
            <a:avLst/>
            <a:gdLst/>
            <a:ahLst/>
            <a:rect l="l" t="t" r="r" b="b"/>
            <a:pathLst>
              <a:path w="1573" h="441">
                <a:moveTo>
                  <a:pt x="0" y="364"/>
                </a:moveTo>
                <a:lnTo>
                  <a:pt x="13" y="304"/>
                </a:lnTo>
                <a:lnTo>
                  <a:pt x="26" y="323"/>
                </a:lnTo>
                <a:lnTo>
                  <a:pt x="37" y="303"/>
                </a:lnTo>
                <a:lnTo>
                  <a:pt x="48" y="290"/>
                </a:lnTo>
                <a:lnTo>
                  <a:pt x="63" y="308"/>
                </a:lnTo>
                <a:lnTo>
                  <a:pt x="73" y="244"/>
                </a:lnTo>
                <a:lnTo>
                  <a:pt x="86" y="242"/>
                </a:lnTo>
                <a:lnTo>
                  <a:pt x="99" y="193"/>
                </a:lnTo>
                <a:lnTo>
                  <a:pt x="110" y="180"/>
                </a:lnTo>
                <a:lnTo>
                  <a:pt x="123" y="173"/>
                </a:lnTo>
                <a:lnTo>
                  <a:pt x="136" y="144"/>
                </a:lnTo>
                <a:lnTo>
                  <a:pt x="147" y="126"/>
                </a:lnTo>
                <a:lnTo>
                  <a:pt x="160" y="164"/>
                </a:lnTo>
                <a:lnTo>
                  <a:pt x="174" y="123"/>
                </a:lnTo>
                <a:lnTo>
                  <a:pt x="185" y="0"/>
                </a:lnTo>
                <a:lnTo>
                  <a:pt x="198" y="111"/>
                </a:lnTo>
                <a:lnTo>
                  <a:pt x="211" y="149"/>
                </a:lnTo>
                <a:lnTo>
                  <a:pt x="222" y="190"/>
                </a:lnTo>
                <a:lnTo>
                  <a:pt x="235" y="268"/>
                </a:lnTo>
                <a:lnTo>
                  <a:pt x="248" y="287"/>
                </a:lnTo>
                <a:lnTo>
                  <a:pt x="259" y="352"/>
                </a:lnTo>
                <a:lnTo>
                  <a:pt x="273" y="325"/>
                </a:lnTo>
                <a:lnTo>
                  <a:pt x="286" y="335"/>
                </a:lnTo>
                <a:lnTo>
                  <a:pt x="297" y="361"/>
                </a:lnTo>
                <a:lnTo>
                  <a:pt x="310" y="343"/>
                </a:lnTo>
                <a:lnTo>
                  <a:pt x="323" y="354"/>
                </a:lnTo>
                <a:lnTo>
                  <a:pt x="334" y="312"/>
                </a:lnTo>
                <a:lnTo>
                  <a:pt x="347" y="372"/>
                </a:lnTo>
                <a:lnTo>
                  <a:pt x="360" y="433"/>
                </a:lnTo>
                <a:lnTo>
                  <a:pt x="372" y="379"/>
                </a:lnTo>
                <a:lnTo>
                  <a:pt x="385" y="418"/>
                </a:lnTo>
                <a:lnTo>
                  <a:pt x="398" y="418"/>
                </a:lnTo>
                <a:lnTo>
                  <a:pt x="407" y="428"/>
                </a:lnTo>
                <a:lnTo>
                  <a:pt x="422" y="428"/>
                </a:lnTo>
                <a:lnTo>
                  <a:pt x="435" y="300"/>
                </a:lnTo>
                <a:lnTo>
                  <a:pt x="444" y="441"/>
                </a:lnTo>
                <a:lnTo>
                  <a:pt x="458" y="422"/>
                </a:lnTo>
                <a:lnTo>
                  <a:pt x="473" y="416"/>
                </a:lnTo>
                <a:lnTo>
                  <a:pt x="482" y="427"/>
                </a:lnTo>
                <a:lnTo>
                  <a:pt x="495" y="418"/>
                </a:lnTo>
                <a:lnTo>
                  <a:pt x="508" y="364"/>
                </a:lnTo>
                <a:lnTo>
                  <a:pt x="519" y="366"/>
                </a:lnTo>
                <a:lnTo>
                  <a:pt x="532" y="345"/>
                </a:lnTo>
                <a:lnTo>
                  <a:pt x="545" y="348"/>
                </a:lnTo>
                <a:lnTo>
                  <a:pt x="557" y="375"/>
                </a:lnTo>
                <a:lnTo>
                  <a:pt x="570" y="346"/>
                </a:lnTo>
                <a:lnTo>
                  <a:pt x="583" y="314"/>
                </a:lnTo>
                <a:lnTo>
                  <a:pt x="594" y="361"/>
                </a:lnTo>
                <a:lnTo>
                  <a:pt x="607" y="319"/>
                </a:lnTo>
                <a:lnTo>
                  <a:pt x="620" y="324"/>
                </a:lnTo>
                <a:lnTo>
                  <a:pt x="631" y="335"/>
                </a:lnTo>
                <a:lnTo>
                  <a:pt x="644" y="313"/>
                </a:lnTo>
                <a:lnTo>
                  <a:pt x="658" y="365"/>
                </a:lnTo>
                <a:lnTo>
                  <a:pt x="669" y="325"/>
                </a:lnTo>
                <a:lnTo>
                  <a:pt x="682" y="318"/>
                </a:lnTo>
                <a:lnTo>
                  <a:pt x="695" y="309"/>
                </a:lnTo>
                <a:lnTo>
                  <a:pt x="706" y="303"/>
                </a:lnTo>
                <a:lnTo>
                  <a:pt x="719" y="355"/>
                </a:lnTo>
                <a:lnTo>
                  <a:pt x="732" y="325"/>
                </a:lnTo>
                <a:lnTo>
                  <a:pt x="744" y="316"/>
                </a:lnTo>
                <a:lnTo>
                  <a:pt x="757" y="335"/>
                </a:lnTo>
                <a:lnTo>
                  <a:pt x="770" y="302"/>
                </a:lnTo>
                <a:lnTo>
                  <a:pt x="781" y="351"/>
                </a:lnTo>
                <a:lnTo>
                  <a:pt x="792" y="319"/>
                </a:lnTo>
                <a:lnTo>
                  <a:pt x="805" y="409"/>
                </a:lnTo>
                <a:lnTo>
                  <a:pt x="816" y="325"/>
                </a:lnTo>
                <a:lnTo>
                  <a:pt x="829" y="312"/>
                </a:lnTo>
                <a:lnTo>
                  <a:pt x="843" y="285"/>
                </a:lnTo>
                <a:lnTo>
                  <a:pt x="856" y="267"/>
                </a:lnTo>
                <a:lnTo>
                  <a:pt x="867" y="267"/>
                </a:lnTo>
                <a:lnTo>
                  <a:pt x="880" y="260"/>
                </a:lnTo>
                <a:lnTo>
                  <a:pt x="893" y="279"/>
                </a:lnTo>
                <a:lnTo>
                  <a:pt x="904" y="288"/>
                </a:lnTo>
                <a:lnTo>
                  <a:pt x="917" y="260"/>
                </a:lnTo>
                <a:lnTo>
                  <a:pt x="930" y="150"/>
                </a:lnTo>
                <a:lnTo>
                  <a:pt x="942" y="238"/>
                </a:lnTo>
                <a:lnTo>
                  <a:pt x="955" y="317"/>
                </a:lnTo>
                <a:lnTo>
                  <a:pt x="968" y="279"/>
                </a:lnTo>
                <a:lnTo>
                  <a:pt x="979" y="387"/>
                </a:lnTo>
                <a:lnTo>
                  <a:pt x="992" y="364"/>
                </a:lnTo>
                <a:lnTo>
                  <a:pt x="1005" y="307"/>
                </a:lnTo>
                <a:lnTo>
                  <a:pt x="1016" y="333"/>
                </a:lnTo>
                <a:lnTo>
                  <a:pt x="1029" y="332"/>
                </a:lnTo>
                <a:lnTo>
                  <a:pt x="1043" y="337"/>
                </a:lnTo>
                <a:lnTo>
                  <a:pt x="1054" y="414"/>
                </a:lnTo>
                <a:lnTo>
                  <a:pt x="1067" y="381"/>
                </a:lnTo>
                <a:lnTo>
                  <a:pt x="1080" y="346"/>
                </a:lnTo>
                <a:lnTo>
                  <a:pt x="1089" y="359"/>
                </a:lnTo>
                <a:lnTo>
                  <a:pt x="1102" y="379"/>
                </a:lnTo>
                <a:lnTo>
                  <a:pt x="1115" y="304"/>
                </a:lnTo>
                <a:lnTo>
                  <a:pt x="1127" y="317"/>
                </a:lnTo>
                <a:lnTo>
                  <a:pt x="1140" y="323"/>
                </a:lnTo>
                <a:lnTo>
                  <a:pt x="1153" y="278"/>
                </a:lnTo>
                <a:lnTo>
                  <a:pt x="1164" y="302"/>
                </a:lnTo>
                <a:lnTo>
                  <a:pt x="1177" y="302"/>
                </a:lnTo>
                <a:lnTo>
                  <a:pt x="1190" y="250"/>
                </a:lnTo>
                <a:lnTo>
                  <a:pt x="1201" y="243"/>
                </a:lnTo>
                <a:lnTo>
                  <a:pt x="1214" y="265"/>
                </a:lnTo>
                <a:lnTo>
                  <a:pt x="1228" y="245"/>
                </a:lnTo>
                <a:lnTo>
                  <a:pt x="1239" y="208"/>
                </a:lnTo>
                <a:lnTo>
                  <a:pt x="1252" y="237"/>
                </a:lnTo>
                <a:lnTo>
                  <a:pt x="1265" y="186"/>
                </a:lnTo>
                <a:lnTo>
                  <a:pt x="1276" y="206"/>
                </a:lnTo>
                <a:lnTo>
                  <a:pt x="1289" y="214"/>
                </a:lnTo>
                <a:lnTo>
                  <a:pt x="1302" y="227"/>
                </a:lnTo>
                <a:lnTo>
                  <a:pt x="1314" y="157"/>
                </a:lnTo>
                <a:lnTo>
                  <a:pt x="1327" y="156"/>
                </a:lnTo>
                <a:lnTo>
                  <a:pt x="1340" y="193"/>
                </a:lnTo>
                <a:lnTo>
                  <a:pt x="1351" y="145"/>
                </a:lnTo>
                <a:lnTo>
                  <a:pt x="1364" y="150"/>
                </a:lnTo>
                <a:lnTo>
                  <a:pt x="1377" y="177"/>
                </a:lnTo>
                <a:lnTo>
                  <a:pt x="1386" y="135"/>
                </a:lnTo>
                <a:lnTo>
                  <a:pt x="1401" y="157"/>
                </a:lnTo>
                <a:lnTo>
                  <a:pt x="1414" y="156"/>
                </a:lnTo>
                <a:lnTo>
                  <a:pt x="1424" y="90"/>
                </a:lnTo>
                <a:lnTo>
                  <a:pt x="1437" y="114"/>
                </a:lnTo>
                <a:lnTo>
                  <a:pt x="1452" y="87"/>
                </a:lnTo>
                <a:lnTo>
                  <a:pt x="1461" y="167"/>
                </a:lnTo>
                <a:lnTo>
                  <a:pt x="1474" y="164"/>
                </a:lnTo>
                <a:lnTo>
                  <a:pt x="1487" y="237"/>
                </a:lnTo>
                <a:lnTo>
                  <a:pt x="1499" y="275"/>
                </a:lnTo>
                <a:lnTo>
                  <a:pt x="1512" y="227"/>
                </a:lnTo>
                <a:lnTo>
                  <a:pt x="1525" y="335"/>
                </a:lnTo>
                <a:lnTo>
                  <a:pt x="1536" y="302"/>
                </a:lnTo>
                <a:lnTo>
                  <a:pt x="1549" y="304"/>
                </a:lnTo>
                <a:lnTo>
                  <a:pt x="1562" y="330"/>
                </a:lnTo>
                <a:lnTo>
                  <a:pt x="1573" y="293"/>
                </a:lnTo>
              </a:path>
            </a:pathLst>
          </a:custGeom>
          <a:noFill/>
          <a:ln cap="rnd" w="1116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615960" y="3046320"/>
            <a:ext cx="2496960" cy="908280"/>
          </a:xfrm>
          <a:custGeom>
            <a:avLst/>
            <a:gdLst/>
            <a:ahLst/>
            <a:rect l="l" t="t" r="r" b="b"/>
            <a:pathLst>
              <a:path w="1573" h="572">
                <a:moveTo>
                  <a:pt x="0" y="420"/>
                </a:moveTo>
                <a:lnTo>
                  <a:pt x="13" y="388"/>
                </a:lnTo>
                <a:lnTo>
                  <a:pt x="26" y="371"/>
                </a:lnTo>
                <a:lnTo>
                  <a:pt x="37" y="368"/>
                </a:lnTo>
                <a:lnTo>
                  <a:pt x="48" y="305"/>
                </a:lnTo>
                <a:lnTo>
                  <a:pt x="63" y="339"/>
                </a:lnTo>
                <a:lnTo>
                  <a:pt x="73" y="400"/>
                </a:lnTo>
                <a:lnTo>
                  <a:pt x="86" y="294"/>
                </a:lnTo>
                <a:lnTo>
                  <a:pt x="99" y="310"/>
                </a:lnTo>
                <a:lnTo>
                  <a:pt x="110" y="247"/>
                </a:lnTo>
                <a:lnTo>
                  <a:pt x="123" y="231"/>
                </a:lnTo>
                <a:lnTo>
                  <a:pt x="136" y="242"/>
                </a:lnTo>
                <a:lnTo>
                  <a:pt x="147" y="180"/>
                </a:lnTo>
                <a:lnTo>
                  <a:pt x="160" y="196"/>
                </a:lnTo>
                <a:lnTo>
                  <a:pt x="174" y="183"/>
                </a:lnTo>
                <a:lnTo>
                  <a:pt x="185" y="164"/>
                </a:lnTo>
                <a:lnTo>
                  <a:pt x="198" y="0"/>
                </a:lnTo>
                <a:lnTo>
                  <a:pt x="211" y="132"/>
                </a:lnTo>
                <a:lnTo>
                  <a:pt x="222" y="369"/>
                </a:lnTo>
                <a:lnTo>
                  <a:pt x="235" y="370"/>
                </a:lnTo>
                <a:lnTo>
                  <a:pt x="248" y="370"/>
                </a:lnTo>
                <a:lnTo>
                  <a:pt x="259" y="520"/>
                </a:lnTo>
                <a:lnTo>
                  <a:pt x="273" y="429"/>
                </a:lnTo>
                <a:lnTo>
                  <a:pt x="286" y="399"/>
                </a:lnTo>
                <a:lnTo>
                  <a:pt x="297" y="437"/>
                </a:lnTo>
                <a:lnTo>
                  <a:pt x="310" y="397"/>
                </a:lnTo>
                <a:lnTo>
                  <a:pt x="323" y="439"/>
                </a:lnTo>
                <a:lnTo>
                  <a:pt x="334" y="423"/>
                </a:lnTo>
                <a:lnTo>
                  <a:pt x="347" y="428"/>
                </a:lnTo>
                <a:lnTo>
                  <a:pt x="360" y="483"/>
                </a:lnTo>
                <a:lnTo>
                  <a:pt x="372" y="497"/>
                </a:lnTo>
                <a:lnTo>
                  <a:pt x="385" y="537"/>
                </a:lnTo>
                <a:lnTo>
                  <a:pt x="398" y="524"/>
                </a:lnTo>
                <a:lnTo>
                  <a:pt x="407" y="548"/>
                </a:lnTo>
                <a:lnTo>
                  <a:pt x="422" y="562"/>
                </a:lnTo>
                <a:lnTo>
                  <a:pt x="435" y="552"/>
                </a:lnTo>
                <a:lnTo>
                  <a:pt x="444" y="570"/>
                </a:lnTo>
                <a:lnTo>
                  <a:pt x="458" y="572"/>
                </a:lnTo>
                <a:lnTo>
                  <a:pt x="473" y="520"/>
                </a:lnTo>
                <a:lnTo>
                  <a:pt x="482" y="494"/>
                </a:lnTo>
                <a:lnTo>
                  <a:pt x="495" y="497"/>
                </a:lnTo>
                <a:lnTo>
                  <a:pt x="508" y="462"/>
                </a:lnTo>
                <a:lnTo>
                  <a:pt x="519" y="426"/>
                </a:lnTo>
                <a:lnTo>
                  <a:pt x="532" y="410"/>
                </a:lnTo>
                <a:lnTo>
                  <a:pt x="545" y="417"/>
                </a:lnTo>
                <a:lnTo>
                  <a:pt x="557" y="446"/>
                </a:lnTo>
                <a:lnTo>
                  <a:pt x="570" y="433"/>
                </a:lnTo>
                <a:lnTo>
                  <a:pt x="583" y="454"/>
                </a:lnTo>
                <a:lnTo>
                  <a:pt x="594" y="368"/>
                </a:lnTo>
                <a:lnTo>
                  <a:pt x="607" y="450"/>
                </a:lnTo>
                <a:lnTo>
                  <a:pt x="620" y="380"/>
                </a:lnTo>
                <a:lnTo>
                  <a:pt x="631" y="420"/>
                </a:lnTo>
                <a:lnTo>
                  <a:pt x="644" y="480"/>
                </a:lnTo>
                <a:lnTo>
                  <a:pt x="658" y="318"/>
                </a:lnTo>
                <a:lnTo>
                  <a:pt x="669" y="380"/>
                </a:lnTo>
                <a:lnTo>
                  <a:pt x="682" y="393"/>
                </a:lnTo>
                <a:lnTo>
                  <a:pt x="695" y="422"/>
                </a:lnTo>
                <a:lnTo>
                  <a:pt x="706" y="374"/>
                </a:lnTo>
                <a:lnTo>
                  <a:pt x="719" y="365"/>
                </a:lnTo>
                <a:lnTo>
                  <a:pt x="732" y="410"/>
                </a:lnTo>
                <a:lnTo>
                  <a:pt x="744" y="414"/>
                </a:lnTo>
                <a:lnTo>
                  <a:pt x="757" y="391"/>
                </a:lnTo>
                <a:lnTo>
                  <a:pt x="770" y="408"/>
                </a:lnTo>
                <a:lnTo>
                  <a:pt x="781" y="381"/>
                </a:lnTo>
                <a:lnTo>
                  <a:pt x="792" y="426"/>
                </a:lnTo>
                <a:lnTo>
                  <a:pt x="805" y="389"/>
                </a:lnTo>
                <a:lnTo>
                  <a:pt x="816" y="458"/>
                </a:lnTo>
                <a:lnTo>
                  <a:pt x="829" y="335"/>
                </a:lnTo>
                <a:lnTo>
                  <a:pt x="843" y="311"/>
                </a:lnTo>
                <a:lnTo>
                  <a:pt x="856" y="331"/>
                </a:lnTo>
                <a:lnTo>
                  <a:pt x="867" y="368"/>
                </a:lnTo>
                <a:lnTo>
                  <a:pt x="880" y="370"/>
                </a:lnTo>
                <a:lnTo>
                  <a:pt x="893" y="391"/>
                </a:lnTo>
                <a:lnTo>
                  <a:pt x="904" y="387"/>
                </a:lnTo>
                <a:lnTo>
                  <a:pt x="917" y="284"/>
                </a:lnTo>
                <a:lnTo>
                  <a:pt x="930" y="268"/>
                </a:lnTo>
                <a:lnTo>
                  <a:pt x="942" y="238"/>
                </a:lnTo>
                <a:lnTo>
                  <a:pt x="955" y="370"/>
                </a:lnTo>
                <a:lnTo>
                  <a:pt x="968" y="410"/>
                </a:lnTo>
                <a:lnTo>
                  <a:pt x="979" y="450"/>
                </a:lnTo>
                <a:lnTo>
                  <a:pt x="992" y="559"/>
                </a:lnTo>
                <a:lnTo>
                  <a:pt x="1005" y="394"/>
                </a:lnTo>
                <a:lnTo>
                  <a:pt x="1016" y="418"/>
                </a:lnTo>
                <a:lnTo>
                  <a:pt x="1029" y="371"/>
                </a:lnTo>
                <a:lnTo>
                  <a:pt x="1043" y="392"/>
                </a:lnTo>
                <a:lnTo>
                  <a:pt x="1054" y="429"/>
                </a:lnTo>
                <a:lnTo>
                  <a:pt x="1067" y="472"/>
                </a:lnTo>
                <a:lnTo>
                  <a:pt x="1080" y="452"/>
                </a:lnTo>
                <a:lnTo>
                  <a:pt x="1089" y="393"/>
                </a:lnTo>
                <a:lnTo>
                  <a:pt x="1102" y="449"/>
                </a:lnTo>
                <a:lnTo>
                  <a:pt x="1115" y="411"/>
                </a:lnTo>
                <a:lnTo>
                  <a:pt x="1127" y="353"/>
                </a:lnTo>
                <a:lnTo>
                  <a:pt x="1140" y="428"/>
                </a:lnTo>
                <a:lnTo>
                  <a:pt x="1153" y="311"/>
                </a:lnTo>
                <a:lnTo>
                  <a:pt x="1164" y="342"/>
                </a:lnTo>
                <a:lnTo>
                  <a:pt x="1177" y="394"/>
                </a:lnTo>
                <a:lnTo>
                  <a:pt x="1190" y="322"/>
                </a:lnTo>
                <a:lnTo>
                  <a:pt x="1201" y="310"/>
                </a:lnTo>
                <a:lnTo>
                  <a:pt x="1214" y="319"/>
                </a:lnTo>
                <a:lnTo>
                  <a:pt x="1228" y="334"/>
                </a:lnTo>
                <a:lnTo>
                  <a:pt x="1239" y="294"/>
                </a:lnTo>
                <a:lnTo>
                  <a:pt x="1252" y="302"/>
                </a:lnTo>
                <a:lnTo>
                  <a:pt x="1265" y="294"/>
                </a:lnTo>
                <a:lnTo>
                  <a:pt x="1276" y="260"/>
                </a:lnTo>
                <a:lnTo>
                  <a:pt x="1289" y="288"/>
                </a:lnTo>
                <a:lnTo>
                  <a:pt x="1302" y="271"/>
                </a:lnTo>
                <a:lnTo>
                  <a:pt x="1314" y="231"/>
                </a:lnTo>
                <a:lnTo>
                  <a:pt x="1327" y="262"/>
                </a:lnTo>
                <a:lnTo>
                  <a:pt x="1340" y="235"/>
                </a:lnTo>
                <a:lnTo>
                  <a:pt x="1351" y="222"/>
                </a:lnTo>
                <a:lnTo>
                  <a:pt x="1364" y="255"/>
                </a:lnTo>
                <a:lnTo>
                  <a:pt x="1377" y="244"/>
                </a:lnTo>
                <a:lnTo>
                  <a:pt x="1386" y="195"/>
                </a:lnTo>
                <a:lnTo>
                  <a:pt x="1401" y="226"/>
                </a:lnTo>
                <a:lnTo>
                  <a:pt x="1414" y="271"/>
                </a:lnTo>
                <a:lnTo>
                  <a:pt x="1424" y="164"/>
                </a:lnTo>
                <a:lnTo>
                  <a:pt x="1437" y="179"/>
                </a:lnTo>
                <a:lnTo>
                  <a:pt x="1452" y="229"/>
                </a:lnTo>
                <a:lnTo>
                  <a:pt x="1461" y="171"/>
                </a:lnTo>
                <a:lnTo>
                  <a:pt x="1474" y="387"/>
                </a:lnTo>
                <a:lnTo>
                  <a:pt x="1487" y="248"/>
                </a:lnTo>
                <a:lnTo>
                  <a:pt x="1499" y="451"/>
                </a:lnTo>
                <a:lnTo>
                  <a:pt x="1512" y="371"/>
                </a:lnTo>
                <a:lnTo>
                  <a:pt x="1525" y="354"/>
                </a:lnTo>
                <a:lnTo>
                  <a:pt x="1536" y="418"/>
                </a:lnTo>
                <a:lnTo>
                  <a:pt x="1549" y="388"/>
                </a:lnTo>
                <a:lnTo>
                  <a:pt x="1562" y="427"/>
                </a:lnTo>
                <a:lnTo>
                  <a:pt x="1573" y="380"/>
                </a:lnTo>
              </a:path>
            </a:pathLst>
          </a:custGeom>
          <a:noFill/>
          <a:ln cap="rnd" w="3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1030320" y="3457440"/>
            <a:ext cx="519120" cy="22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1289520" y="3510000"/>
            <a:ext cx="831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ff"/>
                </a:solidFill>
                <a:latin typeface="Times New Roman"/>
              </a:rPr>
              <a:t>A</a:t>
            </a:r>
            <a:endParaRPr b="0" lang="en-US" sz="900" spc="-1" strike="noStrike">
              <a:solidFill>
                <a:srgbClr val="000000"/>
              </a:solidFill>
              <a:latin typeface="Times New Roman"/>
            </a:endParaRPr>
          </a:p>
        </p:txBody>
      </p:sp>
      <p:sp>
        <p:nvSpPr>
          <p:cNvPr id="3125" name=""/>
          <p:cNvSpPr/>
          <p:nvPr/>
        </p:nvSpPr>
        <p:spPr>
          <a:xfrm>
            <a:off x="1409040" y="3510000"/>
            <a:ext cx="295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ff"/>
                </a:solidFill>
                <a:latin typeface="Times New Roman"/>
              </a:rPr>
              <a:t> </a:t>
            </a:r>
            <a:endParaRPr b="0" lang="en-US" sz="900" spc="-1" strike="noStrike">
              <a:solidFill>
                <a:srgbClr val="000000"/>
              </a:solidFill>
              <a:latin typeface="Times New Roman"/>
            </a:endParaRPr>
          </a:p>
        </p:txBody>
      </p:sp>
      <p:sp>
        <p:nvSpPr>
          <p:cNvPr id="3126" name=""/>
          <p:cNvSpPr/>
          <p:nvPr/>
        </p:nvSpPr>
        <p:spPr>
          <a:xfrm>
            <a:off x="1241280" y="3789360"/>
            <a:ext cx="50832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1497960" y="3841920"/>
            <a:ext cx="770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cc"/>
                </a:solidFill>
                <a:latin typeface="Times New Roman"/>
              </a:rPr>
              <a:t>B</a:t>
            </a:r>
            <a:endParaRPr b="0" lang="en-US" sz="900" spc="-1" strike="noStrike">
              <a:solidFill>
                <a:srgbClr val="000000"/>
              </a:solidFill>
              <a:latin typeface="Times New Roman"/>
            </a:endParaRPr>
          </a:p>
        </p:txBody>
      </p:sp>
      <p:sp>
        <p:nvSpPr>
          <p:cNvPr id="3128" name=""/>
          <p:cNvSpPr/>
          <p:nvPr/>
        </p:nvSpPr>
        <p:spPr>
          <a:xfrm>
            <a:off x="1610640" y="3841920"/>
            <a:ext cx="295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cc"/>
                </a:solidFill>
                <a:latin typeface="Times New Roman"/>
              </a:rPr>
              <a:t> </a:t>
            </a:r>
            <a:endParaRPr b="0" lang="en-US" sz="900" spc="-1" strike="noStrike">
              <a:solidFill>
                <a:srgbClr val="000000"/>
              </a:solidFill>
              <a:latin typeface="Times New Roman"/>
            </a:endParaRPr>
          </a:p>
        </p:txBody>
      </p:sp>
      <p:sp>
        <p:nvSpPr>
          <p:cNvPr id="3129" name=""/>
          <p:cNvSpPr/>
          <p:nvPr/>
        </p:nvSpPr>
        <p:spPr>
          <a:xfrm>
            <a:off x="3676680" y="3021120"/>
            <a:ext cx="2754360" cy="963360"/>
          </a:xfrm>
          <a:prstGeom prst="rect">
            <a:avLst/>
          </a:prstGeom>
          <a:noFill/>
          <a:ln cap="rnd"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676680" y="3021120"/>
            <a:ext cx="275436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1" name=""/>
          <p:cNvSpPr/>
          <p:nvPr/>
        </p:nvSpPr>
        <p:spPr>
          <a:xfrm>
            <a:off x="3676680" y="3021120"/>
            <a:ext cx="2754360" cy="963360"/>
          </a:xfrm>
          <a:custGeom>
            <a:avLst/>
            <a:gdLst/>
            <a:ahLst/>
            <a:rect l="l" t="t" r="r" b="b"/>
            <a:pathLst>
              <a:path w="1735" h="607">
                <a:moveTo>
                  <a:pt x="0" y="607"/>
                </a:moveTo>
                <a:lnTo>
                  <a:pt x="1735" y="607"/>
                </a:lnTo>
                <a:lnTo>
                  <a:pt x="1735" y="0"/>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flipV="1">
            <a:off x="3676680" y="3021120"/>
            <a:ext cx="1440" cy="9633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3676680" y="3984480"/>
            <a:ext cx="2754360" cy="1800"/>
          </a:xfrm>
          <a:prstGeom prst="line">
            <a:avLst/>
          </a:prstGeom>
          <a:ln cap="rnd"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4" name=""/>
          <p:cNvSpPr/>
          <p:nvPr/>
        </p:nvSpPr>
        <p:spPr>
          <a:xfrm flipV="1">
            <a:off x="3676680" y="3021120"/>
            <a:ext cx="1440" cy="9633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flipV="1">
            <a:off x="3676680" y="3970080"/>
            <a:ext cx="1440" cy="14040"/>
          </a:xfrm>
          <a:prstGeom prst="line">
            <a:avLst/>
          </a:prstGeom>
          <a:ln cap="rnd"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36" name=""/>
          <p:cNvSpPr/>
          <p:nvPr/>
        </p:nvSpPr>
        <p:spPr>
          <a:xfrm>
            <a:off x="3676680" y="3021120"/>
            <a:ext cx="1440" cy="12600"/>
          </a:xfrm>
          <a:prstGeom prst="line">
            <a:avLst/>
          </a:prstGeom>
          <a:ln cap="rnd"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37" name=""/>
          <p:cNvSpPr/>
          <p:nvPr/>
        </p:nvSpPr>
        <p:spPr>
          <a:xfrm>
            <a:off x="3665520" y="3990960"/>
            <a:ext cx="8244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8" name=""/>
          <p:cNvSpPr/>
          <p:nvPr/>
        </p:nvSpPr>
        <p:spPr>
          <a:xfrm>
            <a:off x="3711240" y="399096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3139" name=""/>
          <p:cNvSpPr/>
          <p:nvPr/>
        </p:nvSpPr>
        <p:spPr>
          <a:xfrm>
            <a:off x="3869280" y="38336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140" name=""/>
          <p:cNvSpPr/>
          <p:nvPr/>
        </p:nvSpPr>
        <p:spPr>
          <a:xfrm flipV="1">
            <a:off x="4065480" y="3970080"/>
            <a:ext cx="3240" cy="14040"/>
          </a:xfrm>
          <a:prstGeom prst="line">
            <a:avLst/>
          </a:prstGeom>
          <a:ln cap="rnd"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1" name=""/>
          <p:cNvSpPr/>
          <p:nvPr/>
        </p:nvSpPr>
        <p:spPr>
          <a:xfrm>
            <a:off x="4065480" y="3021120"/>
            <a:ext cx="3240" cy="12600"/>
          </a:xfrm>
          <a:prstGeom prst="line">
            <a:avLst/>
          </a:prstGeom>
          <a:ln cap="rnd"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42" name=""/>
          <p:cNvSpPr/>
          <p:nvPr/>
        </p:nvSpPr>
        <p:spPr>
          <a:xfrm>
            <a:off x="4041720" y="3990960"/>
            <a:ext cx="1666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3" name=""/>
          <p:cNvSpPr/>
          <p:nvPr/>
        </p:nvSpPr>
        <p:spPr>
          <a:xfrm>
            <a:off x="4105080" y="3990960"/>
            <a:ext cx="982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a:t>
            </a:r>
            <a:endParaRPr b="0" lang="en-US" sz="700" spc="-1" strike="noStrike">
              <a:solidFill>
                <a:srgbClr val="000000"/>
              </a:solidFill>
              <a:latin typeface="Times New Roman"/>
            </a:endParaRPr>
          </a:p>
        </p:txBody>
      </p:sp>
      <p:sp>
        <p:nvSpPr>
          <p:cNvPr id="3144" name=""/>
          <p:cNvSpPr/>
          <p:nvPr/>
        </p:nvSpPr>
        <p:spPr>
          <a:xfrm>
            <a:off x="4329360" y="38336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145" name=""/>
          <p:cNvSpPr/>
          <p:nvPr/>
        </p:nvSpPr>
        <p:spPr>
          <a:xfrm flipV="1">
            <a:off x="4457880" y="3970080"/>
            <a:ext cx="2880" cy="14040"/>
          </a:xfrm>
          <a:prstGeom prst="line">
            <a:avLst/>
          </a:prstGeom>
          <a:ln cap="rnd"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6" name=""/>
          <p:cNvSpPr/>
          <p:nvPr/>
        </p:nvSpPr>
        <p:spPr>
          <a:xfrm>
            <a:off x="4457880" y="3021120"/>
            <a:ext cx="2880" cy="12600"/>
          </a:xfrm>
          <a:prstGeom prst="line">
            <a:avLst/>
          </a:prstGeom>
          <a:ln cap="rnd"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47" name=""/>
          <p:cNvSpPr/>
          <p:nvPr/>
        </p:nvSpPr>
        <p:spPr>
          <a:xfrm>
            <a:off x="4440240" y="3990960"/>
            <a:ext cx="16524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8" name=""/>
          <p:cNvSpPr/>
          <p:nvPr/>
        </p:nvSpPr>
        <p:spPr>
          <a:xfrm>
            <a:off x="4506840" y="3990960"/>
            <a:ext cx="982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0</a:t>
            </a:r>
            <a:endParaRPr b="0" lang="en-US" sz="700" spc="-1" strike="noStrike">
              <a:solidFill>
                <a:srgbClr val="000000"/>
              </a:solidFill>
              <a:latin typeface="Times New Roman"/>
            </a:endParaRPr>
          </a:p>
        </p:txBody>
      </p:sp>
      <p:sp>
        <p:nvSpPr>
          <p:cNvPr id="3149" name=""/>
          <p:cNvSpPr/>
          <p:nvPr/>
        </p:nvSpPr>
        <p:spPr>
          <a:xfrm>
            <a:off x="4729680" y="38336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150" name=""/>
          <p:cNvSpPr/>
          <p:nvPr/>
        </p:nvSpPr>
        <p:spPr>
          <a:xfrm flipV="1">
            <a:off x="4857840" y="3970080"/>
            <a:ext cx="1440" cy="14040"/>
          </a:xfrm>
          <a:prstGeom prst="line">
            <a:avLst/>
          </a:prstGeom>
          <a:ln cap="rnd"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1" name=""/>
          <p:cNvSpPr/>
          <p:nvPr/>
        </p:nvSpPr>
        <p:spPr>
          <a:xfrm>
            <a:off x="4857840" y="3021120"/>
            <a:ext cx="1440" cy="12600"/>
          </a:xfrm>
          <a:prstGeom prst="line">
            <a:avLst/>
          </a:prstGeom>
          <a:ln cap="rnd"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2" name=""/>
          <p:cNvSpPr/>
          <p:nvPr/>
        </p:nvSpPr>
        <p:spPr>
          <a:xfrm>
            <a:off x="4829040" y="3990960"/>
            <a:ext cx="1684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3" name=""/>
          <p:cNvSpPr/>
          <p:nvPr/>
        </p:nvSpPr>
        <p:spPr>
          <a:xfrm>
            <a:off x="4895640" y="3990960"/>
            <a:ext cx="982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0</a:t>
            </a:r>
            <a:endParaRPr b="0" lang="en-US" sz="700" spc="-1" strike="noStrike">
              <a:solidFill>
                <a:srgbClr val="000000"/>
              </a:solidFill>
              <a:latin typeface="Times New Roman"/>
            </a:endParaRPr>
          </a:p>
        </p:txBody>
      </p:sp>
      <p:sp>
        <p:nvSpPr>
          <p:cNvPr id="3154" name=""/>
          <p:cNvSpPr/>
          <p:nvPr/>
        </p:nvSpPr>
        <p:spPr>
          <a:xfrm>
            <a:off x="5118480" y="38336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155" name=""/>
          <p:cNvSpPr/>
          <p:nvPr/>
        </p:nvSpPr>
        <p:spPr>
          <a:xfrm flipV="1">
            <a:off x="5246640" y="3970080"/>
            <a:ext cx="3240" cy="14040"/>
          </a:xfrm>
          <a:prstGeom prst="line">
            <a:avLst/>
          </a:prstGeom>
          <a:ln cap="rnd"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6" name=""/>
          <p:cNvSpPr/>
          <p:nvPr/>
        </p:nvSpPr>
        <p:spPr>
          <a:xfrm>
            <a:off x="5246640" y="3021120"/>
            <a:ext cx="3240" cy="12600"/>
          </a:xfrm>
          <a:prstGeom prst="line">
            <a:avLst/>
          </a:prstGeom>
          <a:ln cap="rnd"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7" name=""/>
          <p:cNvSpPr/>
          <p:nvPr/>
        </p:nvSpPr>
        <p:spPr>
          <a:xfrm>
            <a:off x="5229360" y="3990960"/>
            <a:ext cx="1666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8" name=""/>
          <p:cNvSpPr/>
          <p:nvPr/>
        </p:nvSpPr>
        <p:spPr>
          <a:xfrm>
            <a:off x="5292720" y="3990960"/>
            <a:ext cx="982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0</a:t>
            </a:r>
            <a:endParaRPr b="0" lang="en-US" sz="700" spc="-1" strike="noStrike">
              <a:solidFill>
                <a:srgbClr val="000000"/>
              </a:solidFill>
              <a:latin typeface="Times New Roman"/>
            </a:endParaRPr>
          </a:p>
        </p:txBody>
      </p:sp>
      <p:sp>
        <p:nvSpPr>
          <p:cNvPr id="3159" name=""/>
          <p:cNvSpPr/>
          <p:nvPr/>
        </p:nvSpPr>
        <p:spPr>
          <a:xfrm>
            <a:off x="5517000" y="38336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160" name=""/>
          <p:cNvSpPr/>
          <p:nvPr/>
        </p:nvSpPr>
        <p:spPr>
          <a:xfrm flipV="1">
            <a:off x="5645160" y="3970080"/>
            <a:ext cx="1440" cy="14040"/>
          </a:xfrm>
          <a:prstGeom prst="line">
            <a:avLst/>
          </a:prstGeom>
          <a:ln cap="rnd"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61" name=""/>
          <p:cNvSpPr/>
          <p:nvPr/>
        </p:nvSpPr>
        <p:spPr>
          <a:xfrm>
            <a:off x="5645160" y="3021120"/>
            <a:ext cx="1440" cy="12600"/>
          </a:xfrm>
          <a:prstGeom prst="line">
            <a:avLst/>
          </a:prstGeom>
          <a:ln cap="rnd"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62" name=""/>
          <p:cNvSpPr/>
          <p:nvPr/>
        </p:nvSpPr>
        <p:spPr>
          <a:xfrm>
            <a:off x="5611680" y="3990960"/>
            <a:ext cx="24948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3" name=""/>
          <p:cNvSpPr/>
          <p:nvPr/>
        </p:nvSpPr>
        <p:spPr>
          <a:xfrm>
            <a:off x="5690880" y="3990960"/>
            <a:ext cx="1468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a:t>
            </a:r>
            <a:endParaRPr b="0" lang="en-US" sz="700" spc="-1" strike="noStrike">
              <a:solidFill>
                <a:srgbClr val="000000"/>
              </a:solidFill>
              <a:latin typeface="Times New Roman"/>
            </a:endParaRPr>
          </a:p>
        </p:txBody>
      </p:sp>
      <p:sp>
        <p:nvSpPr>
          <p:cNvPr id="3164" name=""/>
          <p:cNvSpPr/>
          <p:nvPr/>
        </p:nvSpPr>
        <p:spPr>
          <a:xfrm>
            <a:off x="5982120" y="38336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165" name=""/>
          <p:cNvSpPr/>
          <p:nvPr/>
        </p:nvSpPr>
        <p:spPr>
          <a:xfrm flipV="1">
            <a:off x="6035760" y="3970080"/>
            <a:ext cx="1440" cy="14040"/>
          </a:xfrm>
          <a:prstGeom prst="line">
            <a:avLst/>
          </a:prstGeom>
          <a:ln cap="rnd"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66" name=""/>
          <p:cNvSpPr/>
          <p:nvPr/>
        </p:nvSpPr>
        <p:spPr>
          <a:xfrm>
            <a:off x="6035760" y="3021120"/>
            <a:ext cx="1440" cy="12600"/>
          </a:xfrm>
          <a:prstGeom prst="line">
            <a:avLst/>
          </a:prstGeom>
          <a:ln cap="rnd"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67" name=""/>
          <p:cNvSpPr/>
          <p:nvPr/>
        </p:nvSpPr>
        <p:spPr>
          <a:xfrm>
            <a:off x="6000840" y="3990960"/>
            <a:ext cx="25236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8" name=""/>
          <p:cNvSpPr/>
          <p:nvPr/>
        </p:nvSpPr>
        <p:spPr>
          <a:xfrm>
            <a:off x="6082920" y="3990960"/>
            <a:ext cx="1468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0</a:t>
            </a:r>
            <a:endParaRPr b="0" lang="en-US" sz="700" spc="-1" strike="noStrike">
              <a:solidFill>
                <a:srgbClr val="000000"/>
              </a:solidFill>
              <a:latin typeface="Times New Roman"/>
            </a:endParaRPr>
          </a:p>
        </p:txBody>
      </p:sp>
      <p:sp>
        <p:nvSpPr>
          <p:cNvPr id="3169" name=""/>
          <p:cNvSpPr/>
          <p:nvPr/>
        </p:nvSpPr>
        <p:spPr>
          <a:xfrm>
            <a:off x="6374160" y="38336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170" name=""/>
          <p:cNvSpPr/>
          <p:nvPr/>
        </p:nvSpPr>
        <p:spPr>
          <a:xfrm flipV="1">
            <a:off x="6434280" y="3970080"/>
            <a:ext cx="1440" cy="14040"/>
          </a:xfrm>
          <a:prstGeom prst="line">
            <a:avLst/>
          </a:prstGeom>
          <a:ln cap="rnd"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71" name=""/>
          <p:cNvSpPr/>
          <p:nvPr/>
        </p:nvSpPr>
        <p:spPr>
          <a:xfrm>
            <a:off x="6434280" y="3021120"/>
            <a:ext cx="1440" cy="12600"/>
          </a:xfrm>
          <a:prstGeom prst="line">
            <a:avLst/>
          </a:prstGeom>
          <a:ln cap="rnd"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2" name=""/>
          <p:cNvSpPr/>
          <p:nvPr/>
        </p:nvSpPr>
        <p:spPr>
          <a:xfrm>
            <a:off x="3676680" y="3984480"/>
            <a:ext cx="22320" cy="1800"/>
          </a:xfrm>
          <a:prstGeom prst="line">
            <a:avLst/>
          </a:prstGeom>
          <a:ln cap="rnd"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3" name=""/>
          <p:cNvSpPr/>
          <p:nvPr/>
        </p:nvSpPr>
        <p:spPr>
          <a:xfrm flipH="1">
            <a:off x="6406920" y="3984480"/>
            <a:ext cx="27000" cy="1800"/>
          </a:xfrm>
          <a:prstGeom prst="line">
            <a:avLst/>
          </a:prstGeom>
          <a:ln cap="rnd"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4" name=""/>
          <p:cNvSpPr/>
          <p:nvPr/>
        </p:nvSpPr>
        <p:spPr>
          <a:xfrm flipV="1">
            <a:off x="3676680" y="3822840"/>
            <a:ext cx="2232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5" name=""/>
          <p:cNvSpPr/>
          <p:nvPr/>
        </p:nvSpPr>
        <p:spPr>
          <a:xfrm flipH="1" flipV="1">
            <a:off x="6406920" y="3822840"/>
            <a:ext cx="2700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6" name=""/>
          <p:cNvSpPr/>
          <p:nvPr/>
        </p:nvSpPr>
        <p:spPr>
          <a:xfrm>
            <a:off x="3676680" y="3664080"/>
            <a:ext cx="2232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7" name=""/>
          <p:cNvSpPr/>
          <p:nvPr/>
        </p:nvSpPr>
        <p:spPr>
          <a:xfrm flipH="1">
            <a:off x="6406920" y="3664080"/>
            <a:ext cx="2700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8" name=""/>
          <p:cNvSpPr/>
          <p:nvPr/>
        </p:nvSpPr>
        <p:spPr>
          <a:xfrm flipV="1">
            <a:off x="3676680" y="3503160"/>
            <a:ext cx="22320" cy="1800"/>
          </a:xfrm>
          <a:prstGeom prst="line">
            <a:avLst/>
          </a:prstGeom>
          <a:ln cap="rnd"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9" name=""/>
          <p:cNvSpPr/>
          <p:nvPr/>
        </p:nvSpPr>
        <p:spPr>
          <a:xfrm flipH="1" flipV="1">
            <a:off x="6406920" y="3503160"/>
            <a:ext cx="27000" cy="1800"/>
          </a:xfrm>
          <a:prstGeom prst="line">
            <a:avLst/>
          </a:prstGeom>
          <a:ln cap="rnd"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0" name=""/>
          <p:cNvSpPr/>
          <p:nvPr/>
        </p:nvSpPr>
        <p:spPr>
          <a:xfrm>
            <a:off x="3676680" y="3341520"/>
            <a:ext cx="22320" cy="1800"/>
          </a:xfrm>
          <a:prstGeom prst="line">
            <a:avLst/>
          </a:prstGeom>
          <a:ln cap="rnd"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1" name=""/>
          <p:cNvSpPr/>
          <p:nvPr/>
        </p:nvSpPr>
        <p:spPr>
          <a:xfrm flipH="1">
            <a:off x="6406920" y="3341520"/>
            <a:ext cx="27000" cy="1800"/>
          </a:xfrm>
          <a:prstGeom prst="line">
            <a:avLst/>
          </a:prstGeom>
          <a:ln cap="rnd"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2" name=""/>
          <p:cNvSpPr/>
          <p:nvPr/>
        </p:nvSpPr>
        <p:spPr>
          <a:xfrm>
            <a:off x="3676680" y="3179880"/>
            <a:ext cx="2232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3" name=""/>
          <p:cNvSpPr/>
          <p:nvPr/>
        </p:nvSpPr>
        <p:spPr>
          <a:xfrm flipH="1">
            <a:off x="6406920" y="3179880"/>
            <a:ext cx="2700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4" name=""/>
          <p:cNvSpPr/>
          <p:nvPr/>
        </p:nvSpPr>
        <p:spPr>
          <a:xfrm>
            <a:off x="3676680" y="3021120"/>
            <a:ext cx="2232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5" name=""/>
          <p:cNvSpPr/>
          <p:nvPr/>
        </p:nvSpPr>
        <p:spPr>
          <a:xfrm flipH="1">
            <a:off x="6406920" y="3021120"/>
            <a:ext cx="2700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6" name=""/>
          <p:cNvSpPr/>
          <p:nvPr/>
        </p:nvSpPr>
        <p:spPr>
          <a:xfrm>
            <a:off x="3676680" y="3021120"/>
            <a:ext cx="275436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7" name=""/>
          <p:cNvSpPr/>
          <p:nvPr/>
        </p:nvSpPr>
        <p:spPr>
          <a:xfrm>
            <a:off x="3676680" y="3021120"/>
            <a:ext cx="2754360" cy="963360"/>
          </a:xfrm>
          <a:custGeom>
            <a:avLst/>
            <a:gdLst/>
            <a:ahLst/>
            <a:rect l="l" t="t" r="r" b="b"/>
            <a:pathLst>
              <a:path w="1735" h="607">
                <a:moveTo>
                  <a:pt x="0" y="607"/>
                </a:moveTo>
                <a:lnTo>
                  <a:pt x="1735" y="607"/>
                </a:lnTo>
                <a:lnTo>
                  <a:pt x="1735" y="0"/>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flipV="1">
            <a:off x="3676680" y="3021120"/>
            <a:ext cx="1440" cy="9633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a:off x="3757680" y="3133800"/>
            <a:ext cx="5191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4016880" y="3187800"/>
            <a:ext cx="831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Times New Roman"/>
              </a:rPr>
              <a:t>C</a:t>
            </a:r>
            <a:endParaRPr b="0" lang="en-US" sz="900" spc="-1" strike="noStrike">
              <a:solidFill>
                <a:srgbClr val="000000"/>
              </a:solidFill>
              <a:latin typeface="Times New Roman"/>
            </a:endParaRPr>
          </a:p>
        </p:txBody>
      </p:sp>
      <p:sp>
        <p:nvSpPr>
          <p:cNvPr id="3191" name=""/>
          <p:cNvSpPr/>
          <p:nvPr/>
        </p:nvSpPr>
        <p:spPr>
          <a:xfrm>
            <a:off x="4136400" y="3187800"/>
            <a:ext cx="295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Times New Roman"/>
              </a:rPr>
              <a:t> </a:t>
            </a:r>
            <a:endParaRPr b="0" lang="en-US" sz="900" spc="-1" strike="noStrike">
              <a:solidFill>
                <a:srgbClr val="000000"/>
              </a:solidFill>
              <a:latin typeface="Times New Roman"/>
            </a:endParaRPr>
          </a:p>
        </p:txBody>
      </p:sp>
      <p:sp>
        <p:nvSpPr>
          <p:cNvPr id="3192" name=""/>
          <p:cNvSpPr/>
          <p:nvPr/>
        </p:nvSpPr>
        <p:spPr>
          <a:xfrm>
            <a:off x="3836880" y="3606840"/>
            <a:ext cx="507960" cy="34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4096080" y="3662280"/>
            <a:ext cx="831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9900"/>
                </a:solidFill>
                <a:latin typeface="Times New Roman"/>
              </a:rPr>
              <a:t>D</a:t>
            </a:r>
            <a:endParaRPr b="0" lang="en-US" sz="900" spc="-1" strike="noStrike">
              <a:solidFill>
                <a:srgbClr val="000000"/>
              </a:solidFill>
              <a:latin typeface="Times New Roman"/>
            </a:endParaRPr>
          </a:p>
        </p:txBody>
      </p:sp>
      <p:sp>
        <p:nvSpPr>
          <p:cNvPr id="3194" name=""/>
          <p:cNvSpPr/>
          <p:nvPr/>
        </p:nvSpPr>
        <p:spPr>
          <a:xfrm>
            <a:off x="4215960" y="3662280"/>
            <a:ext cx="295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9900"/>
                </a:solidFill>
                <a:latin typeface="Times New Roman"/>
              </a:rPr>
              <a:t> </a:t>
            </a:r>
            <a:endParaRPr b="0" lang="en-US" sz="900" spc="-1" strike="noStrike">
              <a:solidFill>
                <a:srgbClr val="000000"/>
              </a:solidFill>
              <a:latin typeface="Times New Roman"/>
            </a:endParaRPr>
          </a:p>
        </p:txBody>
      </p:sp>
      <p:sp>
        <p:nvSpPr>
          <p:cNvPr id="3195" name=""/>
          <p:cNvSpPr/>
          <p:nvPr/>
        </p:nvSpPr>
        <p:spPr>
          <a:xfrm>
            <a:off x="3724200" y="3030480"/>
            <a:ext cx="2508480" cy="941400"/>
          </a:xfrm>
          <a:custGeom>
            <a:avLst/>
            <a:gdLst/>
            <a:ahLst/>
            <a:rect l="l" t="t" r="r" b="b"/>
            <a:pathLst>
              <a:path w="1580" h="593">
                <a:moveTo>
                  <a:pt x="0" y="405"/>
                </a:moveTo>
                <a:lnTo>
                  <a:pt x="13" y="166"/>
                </a:lnTo>
                <a:lnTo>
                  <a:pt x="25" y="382"/>
                </a:lnTo>
                <a:lnTo>
                  <a:pt x="38" y="247"/>
                </a:lnTo>
                <a:lnTo>
                  <a:pt x="49" y="385"/>
                </a:lnTo>
                <a:lnTo>
                  <a:pt x="62" y="372"/>
                </a:lnTo>
                <a:lnTo>
                  <a:pt x="73" y="382"/>
                </a:lnTo>
                <a:lnTo>
                  <a:pt x="84" y="347"/>
                </a:lnTo>
                <a:lnTo>
                  <a:pt x="98" y="368"/>
                </a:lnTo>
                <a:lnTo>
                  <a:pt x="114" y="344"/>
                </a:lnTo>
                <a:lnTo>
                  <a:pt x="126" y="380"/>
                </a:lnTo>
                <a:lnTo>
                  <a:pt x="137" y="383"/>
                </a:lnTo>
                <a:lnTo>
                  <a:pt x="150" y="432"/>
                </a:lnTo>
                <a:lnTo>
                  <a:pt x="161" y="302"/>
                </a:lnTo>
                <a:lnTo>
                  <a:pt x="174" y="325"/>
                </a:lnTo>
                <a:lnTo>
                  <a:pt x="185" y="375"/>
                </a:lnTo>
                <a:lnTo>
                  <a:pt x="198" y="263"/>
                </a:lnTo>
                <a:lnTo>
                  <a:pt x="210" y="252"/>
                </a:lnTo>
                <a:lnTo>
                  <a:pt x="223" y="304"/>
                </a:lnTo>
                <a:lnTo>
                  <a:pt x="238" y="312"/>
                </a:lnTo>
                <a:lnTo>
                  <a:pt x="251" y="209"/>
                </a:lnTo>
                <a:lnTo>
                  <a:pt x="262" y="240"/>
                </a:lnTo>
                <a:lnTo>
                  <a:pt x="275" y="254"/>
                </a:lnTo>
                <a:lnTo>
                  <a:pt x="286" y="176"/>
                </a:lnTo>
                <a:lnTo>
                  <a:pt x="297" y="151"/>
                </a:lnTo>
                <a:lnTo>
                  <a:pt x="311" y="171"/>
                </a:lnTo>
                <a:lnTo>
                  <a:pt x="322" y="66"/>
                </a:lnTo>
                <a:lnTo>
                  <a:pt x="335" y="83"/>
                </a:lnTo>
                <a:lnTo>
                  <a:pt x="346" y="72"/>
                </a:lnTo>
                <a:lnTo>
                  <a:pt x="363" y="62"/>
                </a:lnTo>
                <a:lnTo>
                  <a:pt x="374" y="46"/>
                </a:lnTo>
                <a:lnTo>
                  <a:pt x="387" y="0"/>
                </a:lnTo>
                <a:lnTo>
                  <a:pt x="398" y="103"/>
                </a:lnTo>
                <a:lnTo>
                  <a:pt x="412" y="73"/>
                </a:lnTo>
                <a:lnTo>
                  <a:pt x="423" y="229"/>
                </a:lnTo>
                <a:lnTo>
                  <a:pt x="436" y="188"/>
                </a:lnTo>
                <a:lnTo>
                  <a:pt x="447" y="292"/>
                </a:lnTo>
                <a:lnTo>
                  <a:pt x="458" y="352"/>
                </a:lnTo>
                <a:lnTo>
                  <a:pt x="471" y="323"/>
                </a:lnTo>
                <a:lnTo>
                  <a:pt x="486" y="427"/>
                </a:lnTo>
                <a:lnTo>
                  <a:pt x="499" y="315"/>
                </a:lnTo>
                <a:lnTo>
                  <a:pt x="511" y="461"/>
                </a:lnTo>
                <a:lnTo>
                  <a:pt x="524" y="359"/>
                </a:lnTo>
                <a:lnTo>
                  <a:pt x="535" y="374"/>
                </a:lnTo>
                <a:lnTo>
                  <a:pt x="548" y="391"/>
                </a:lnTo>
                <a:lnTo>
                  <a:pt x="559" y="391"/>
                </a:lnTo>
                <a:lnTo>
                  <a:pt x="572" y="375"/>
                </a:lnTo>
                <a:lnTo>
                  <a:pt x="583" y="398"/>
                </a:lnTo>
                <a:lnTo>
                  <a:pt x="597" y="364"/>
                </a:lnTo>
                <a:lnTo>
                  <a:pt x="611" y="367"/>
                </a:lnTo>
                <a:lnTo>
                  <a:pt x="625" y="378"/>
                </a:lnTo>
                <a:lnTo>
                  <a:pt x="636" y="395"/>
                </a:lnTo>
                <a:lnTo>
                  <a:pt x="649" y="380"/>
                </a:lnTo>
                <a:lnTo>
                  <a:pt x="660" y="315"/>
                </a:lnTo>
                <a:lnTo>
                  <a:pt x="671" y="294"/>
                </a:lnTo>
                <a:lnTo>
                  <a:pt x="684" y="284"/>
                </a:lnTo>
                <a:lnTo>
                  <a:pt x="696" y="203"/>
                </a:lnTo>
                <a:lnTo>
                  <a:pt x="709" y="202"/>
                </a:lnTo>
                <a:lnTo>
                  <a:pt x="720" y="242"/>
                </a:lnTo>
                <a:lnTo>
                  <a:pt x="737" y="174"/>
                </a:lnTo>
                <a:lnTo>
                  <a:pt x="748" y="155"/>
                </a:lnTo>
                <a:lnTo>
                  <a:pt x="761" y="106"/>
                </a:lnTo>
                <a:lnTo>
                  <a:pt x="772" y="174"/>
                </a:lnTo>
                <a:lnTo>
                  <a:pt x="785" y="205"/>
                </a:lnTo>
                <a:lnTo>
                  <a:pt x="797" y="281"/>
                </a:lnTo>
                <a:lnTo>
                  <a:pt x="810" y="308"/>
                </a:lnTo>
                <a:lnTo>
                  <a:pt x="821" y="422"/>
                </a:lnTo>
                <a:lnTo>
                  <a:pt x="832" y="383"/>
                </a:lnTo>
                <a:lnTo>
                  <a:pt x="845" y="372"/>
                </a:lnTo>
                <a:lnTo>
                  <a:pt x="860" y="398"/>
                </a:lnTo>
                <a:lnTo>
                  <a:pt x="873" y="354"/>
                </a:lnTo>
                <a:lnTo>
                  <a:pt x="884" y="451"/>
                </a:lnTo>
                <a:lnTo>
                  <a:pt x="897" y="380"/>
                </a:lnTo>
                <a:lnTo>
                  <a:pt x="909" y="380"/>
                </a:lnTo>
                <a:lnTo>
                  <a:pt x="922" y="407"/>
                </a:lnTo>
                <a:lnTo>
                  <a:pt x="933" y="407"/>
                </a:lnTo>
                <a:lnTo>
                  <a:pt x="946" y="419"/>
                </a:lnTo>
                <a:lnTo>
                  <a:pt x="957" y="409"/>
                </a:lnTo>
                <a:lnTo>
                  <a:pt x="970" y="395"/>
                </a:lnTo>
                <a:lnTo>
                  <a:pt x="985" y="367"/>
                </a:lnTo>
                <a:lnTo>
                  <a:pt x="998" y="367"/>
                </a:lnTo>
                <a:lnTo>
                  <a:pt x="1010" y="380"/>
                </a:lnTo>
                <a:lnTo>
                  <a:pt x="1021" y="385"/>
                </a:lnTo>
                <a:lnTo>
                  <a:pt x="1034" y="378"/>
                </a:lnTo>
                <a:lnTo>
                  <a:pt x="1045" y="352"/>
                </a:lnTo>
                <a:lnTo>
                  <a:pt x="1058" y="370"/>
                </a:lnTo>
                <a:lnTo>
                  <a:pt x="1069" y="362"/>
                </a:lnTo>
                <a:lnTo>
                  <a:pt x="1082" y="352"/>
                </a:lnTo>
                <a:lnTo>
                  <a:pt x="1094" y="360"/>
                </a:lnTo>
                <a:lnTo>
                  <a:pt x="1110" y="359"/>
                </a:lnTo>
                <a:lnTo>
                  <a:pt x="1122" y="367"/>
                </a:lnTo>
                <a:lnTo>
                  <a:pt x="1135" y="294"/>
                </a:lnTo>
                <a:lnTo>
                  <a:pt x="1146" y="390"/>
                </a:lnTo>
                <a:lnTo>
                  <a:pt x="1159" y="299"/>
                </a:lnTo>
                <a:lnTo>
                  <a:pt x="1170" y="422"/>
                </a:lnTo>
                <a:lnTo>
                  <a:pt x="1182" y="307"/>
                </a:lnTo>
                <a:lnTo>
                  <a:pt x="1195" y="370"/>
                </a:lnTo>
                <a:lnTo>
                  <a:pt x="1206" y="395"/>
                </a:lnTo>
                <a:lnTo>
                  <a:pt x="1219" y="347"/>
                </a:lnTo>
                <a:lnTo>
                  <a:pt x="1234" y="401"/>
                </a:lnTo>
                <a:lnTo>
                  <a:pt x="1247" y="325"/>
                </a:lnTo>
                <a:lnTo>
                  <a:pt x="1258" y="390"/>
                </a:lnTo>
                <a:lnTo>
                  <a:pt x="1271" y="362"/>
                </a:lnTo>
                <a:lnTo>
                  <a:pt x="1282" y="297"/>
                </a:lnTo>
                <a:lnTo>
                  <a:pt x="1296" y="357"/>
                </a:lnTo>
                <a:lnTo>
                  <a:pt x="1307" y="310"/>
                </a:lnTo>
                <a:lnTo>
                  <a:pt x="1320" y="405"/>
                </a:lnTo>
                <a:lnTo>
                  <a:pt x="1331" y="374"/>
                </a:lnTo>
                <a:lnTo>
                  <a:pt x="1342" y="318"/>
                </a:lnTo>
                <a:lnTo>
                  <a:pt x="1359" y="414"/>
                </a:lnTo>
                <a:lnTo>
                  <a:pt x="1372" y="362"/>
                </a:lnTo>
                <a:lnTo>
                  <a:pt x="1383" y="364"/>
                </a:lnTo>
                <a:lnTo>
                  <a:pt x="1395" y="385"/>
                </a:lnTo>
                <a:lnTo>
                  <a:pt x="1408" y="393"/>
                </a:lnTo>
                <a:lnTo>
                  <a:pt x="1419" y="405"/>
                </a:lnTo>
                <a:lnTo>
                  <a:pt x="1432" y="411"/>
                </a:lnTo>
                <a:lnTo>
                  <a:pt x="1443" y="430"/>
                </a:lnTo>
                <a:lnTo>
                  <a:pt x="1456" y="456"/>
                </a:lnTo>
                <a:lnTo>
                  <a:pt x="1467" y="469"/>
                </a:lnTo>
                <a:lnTo>
                  <a:pt x="1484" y="500"/>
                </a:lnTo>
                <a:lnTo>
                  <a:pt x="1495" y="511"/>
                </a:lnTo>
                <a:lnTo>
                  <a:pt x="1509" y="593"/>
                </a:lnTo>
                <a:lnTo>
                  <a:pt x="1520" y="531"/>
                </a:lnTo>
                <a:lnTo>
                  <a:pt x="1533" y="521"/>
                </a:lnTo>
                <a:lnTo>
                  <a:pt x="1544" y="562"/>
                </a:lnTo>
                <a:lnTo>
                  <a:pt x="1555" y="550"/>
                </a:lnTo>
                <a:lnTo>
                  <a:pt x="1568" y="427"/>
                </a:lnTo>
                <a:lnTo>
                  <a:pt x="1580" y="438"/>
                </a:lnTo>
              </a:path>
            </a:pathLst>
          </a:custGeom>
          <a:noFill/>
          <a:ln cap="rnd"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a:off x="3724200" y="3162240"/>
            <a:ext cx="2508480" cy="739800"/>
          </a:xfrm>
          <a:custGeom>
            <a:avLst/>
            <a:gdLst/>
            <a:ahLst/>
            <a:rect l="l" t="t" r="r" b="b"/>
            <a:pathLst>
              <a:path w="1580" h="466">
                <a:moveTo>
                  <a:pt x="0" y="321"/>
                </a:moveTo>
                <a:lnTo>
                  <a:pt x="13" y="295"/>
                </a:lnTo>
                <a:lnTo>
                  <a:pt x="25" y="299"/>
                </a:lnTo>
                <a:lnTo>
                  <a:pt x="38" y="310"/>
                </a:lnTo>
                <a:lnTo>
                  <a:pt x="49" y="314"/>
                </a:lnTo>
                <a:lnTo>
                  <a:pt x="62" y="300"/>
                </a:lnTo>
                <a:lnTo>
                  <a:pt x="73" y="295"/>
                </a:lnTo>
                <a:lnTo>
                  <a:pt x="84" y="287"/>
                </a:lnTo>
                <a:lnTo>
                  <a:pt x="98" y="287"/>
                </a:lnTo>
                <a:lnTo>
                  <a:pt x="114" y="297"/>
                </a:lnTo>
                <a:lnTo>
                  <a:pt x="126" y="312"/>
                </a:lnTo>
                <a:lnTo>
                  <a:pt x="137" y="326"/>
                </a:lnTo>
                <a:lnTo>
                  <a:pt x="150" y="359"/>
                </a:lnTo>
                <a:lnTo>
                  <a:pt x="161" y="264"/>
                </a:lnTo>
                <a:lnTo>
                  <a:pt x="174" y="284"/>
                </a:lnTo>
                <a:lnTo>
                  <a:pt x="185" y="268"/>
                </a:lnTo>
                <a:lnTo>
                  <a:pt x="198" y="250"/>
                </a:lnTo>
                <a:lnTo>
                  <a:pt x="210" y="276"/>
                </a:lnTo>
                <a:lnTo>
                  <a:pt x="223" y="211"/>
                </a:lnTo>
                <a:lnTo>
                  <a:pt x="238" y="274"/>
                </a:lnTo>
                <a:lnTo>
                  <a:pt x="251" y="204"/>
                </a:lnTo>
                <a:lnTo>
                  <a:pt x="262" y="172"/>
                </a:lnTo>
                <a:lnTo>
                  <a:pt x="275" y="238"/>
                </a:lnTo>
                <a:lnTo>
                  <a:pt x="286" y="141"/>
                </a:lnTo>
                <a:lnTo>
                  <a:pt x="297" y="93"/>
                </a:lnTo>
                <a:lnTo>
                  <a:pt x="311" y="162"/>
                </a:lnTo>
                <a:lnTo>
                  <a:pt x="322" y="60"/>
                </a:lnTo>
                <a:lnTo>
                  <a:pt x="335" y="23"/>
                </a:lnTo>
                <a:lnTo>
                  <a:pt x="346" y="95"/>
                </a:lnTo>
                <a:lnTo>
                  <a:pt x="363" y="52"/>
                </a:lnTo>
                <a:lnTo>
                  <a:pt x="374" y="0"/>
                </a:lnTo>
                <a:lnTo>
                  <a:pt x="387" y="10"/>
                </a:lnTo>
                <a:lnTo>
                  <a:pt x="398" y="52"/>
                </a:lnTo>
                <a:lnTo>
                  <a:pt x="412" y="99"/>
                </a:lnTo>
                <a:lnTo>
                  <a:pt x="423" y="155"/>
                </a:lnTo>
                <a:lnTo>
                  <a:pt x="436" y="208"/>
                </a:lnTo>
                <a:lnTo>
                  <a:pt x="447" y="307"/>
                </a:lnTo>
                <a:lnTo>
                  <a:pt x="458" y="316"/>
                </a:lnTo>
                <a:lnTo>
                  <a:pt x="471" y="344"/>
                </a:lnTo>
                <a:lnTo>
                  <a:pt x="486" y="271"/>
                </a:lnTo>
                <a:lnTo>
                  <a:pt x="499" y="291"/>
                </a:lnTo>
                <a:lnTo>
                  <a:pt x="511" y="334"/>
                </a:lnTo>
                <a:lnTo>
                  <a:pt x="524" y="217"/>
                </a:lnTo>
                <a:lnTo>
                  <a:pt x="535" y="295"/>
                </a:lnTo>
                <a:lnTo>
                  <a:pt x="548" y="336"/>
                </a:lnTo>
                <a:lnTo>
                  <a:pt x="559" y="321"/>
                </a:lnTo>
                <a:lnTo>
                  <a:pt x="572" y="320"/>
                </a:lnTo>
                <a:lnTo>
                  <a:pt x="583" y="277"/>
                </a:lnTo>
                <a:lnTo>
                  <a:pt x="597" y="289"/>
                </a:lnTo>
                <a:lnTo>
                  <a:pt x="611" y="307"/>
                </a:lnTo>
                <a:lnTo>
                  <a:pt x="625" y="300"/>
                </a:lnTo>
                <a:lnTo>
                  <a:pt x="636" y="337"/>
                </a:lnTo>
                <a:lnTo>
                  <a:pt x="649" y="341"/>
                </a:lnTo>
                <a:lnTo>
                  <a:pt x="660" y="240"/>
                </a:lnTo>
                <a:lnTo>
                  <a:pt x="671" y="240"/>
                </a:lnTo>
                <a:lnTo>
                  <a:pt x="684" y="180"/>
                </a:lnTo>
                <a:lnTo>
                  <a:pt x="696" y="128"/>
                </a:lnTo>
                <a:lnTo>
                  <a:pt x="709" y="194"/>
                </a:lnTo>
                <a:lnTo>
                  <a:pt x="720" y="177"/>
                </a:lnTo>
                <a:lnTo>
                  <a:pt x="737" y="60"/>
                </a:lnTo>
                <a:lnTo>
                  <a:pt x="748" y="136"/>
                </a:lnTo>
                <a:lnTo>
                  <a:pt x="761" y="76"/>
                </a:lnTo>
                <a:lnTo>
                  <a:pt x="772" y="32"/>
                </a:lnTo>
                <a:lnTo>
                  <a:pt x="785" y="194"/>
                </a:lnTo>
                <a:lnTo>
                  <a:pt x="797" y="206"/>
                </a:lnTo>
                <a:lnTo>
                  <a:pt x="810" y="287"/>
                </a:lnTo>
                <a:lnTo>
                  <a:pt x="821" y="386"/>
                </a:lnTo>
                <a:lnTo>
                  <a:pt x="832" y="266"/>
                </a:lnTo>
                <a:lnTo>
                  <a:pt x="845" y="320"/>
                </a:lnTo>
                <a:lnTo>
                  <a:pt x="860" y="208"/>
                </a:lnTo>
                <a:lnTo>
                  <a:pt x="873" y="287"/>
                </a:lnTo>
                <a:lnTo>
                  <a:pt x="884" y="345"/>
                </a:lnTo>
                <a:lnTo>
                  <a:pt x="897" y="277"/>
                </a:lnTo>
                <a:lnTo>
                  <a:pt x="909" y="300"/>
                </a:lnTo>
                <a:lnTo>
                  <a:pt x="922" y="324"/>
                </a:lnTo>
                <a:lnTo>
                  <a:pt x="933" y="300"/>
                </a:lnTo>
                <a:lnTo>
                  <a:pt x="946" y="295"/>
                </a:lnTo>
                <a:lnTo>
                  <a:pt x="957" y="291"/>
                </a:lnTo>
                <a:lnTo>
                  <a:pt x="970" y="300"/>
                </a:lnTo>
                <a:lnTo>
                  <a:pt x="985" y="289"/>
                </a:lnTo>
                <a:lnTo>
                  <a:pt x="998" y="291"/>
                </a:lnTo>
                <a:lnTo>
                  <a:pt x="1010" y="266"/>
                </a:lnTo>
                <a:lnTo>
                  <a:pt x="1021" y="285"/>
                </a:lnTo>
                <a:lnTo>
                  <a:pt x="1034" y="300"/>
                </a:lnTo>
                <a:lnTo>
                  <a:pt x="1045" y="292"/>
                </a:lnTo>
                <a:lnTo>
                  <a:pt x="1058" y="279"/>
                </a:lnTo>
                <a:lnTo>
                  <a:pt x="1069" y="266"/>
                </a:lnTo>
                <a:lnTo>
                  <a:pt x="1082" y="258"/>
                </a:lnTo>
                <a:lnTo>
                  <a:pt x="1094" y="276"/>
                </a:lnTo>
                <a:lnTo>
                  <a:pt x="1110" y="281"/>
                </a:lnTo>
                <a:lnTo>
                  <a:pt x="1122" y="297"/>
                </a:lnTo>
                <a:lnTo>
                  <a:pt x="1135" y="254"/>
                </a:lnTo>
                <a:lnTo>
                  <a:pt x="1146" y="360"/>
                </a:lnTo>
                <a:lnTo>
                  <a:pt x="1159" y="245"/>
                </a:lnTo>
                <a:lnTo>
                  <a:pt x="1170" y="269"/>
                </a:lnTo>
                <a:lnTo>
                  <a:pt x="1182" y="229"/>
                </a:lnTo>
                <a:lnTo>
                  <a:pt x="1195" y="334"/>
                </a:lnTo>
                <a:lnTo>
                  <a:pt x="1206" y="256"/>
                </a:lnTo>
                <a:lnTo>
                  <a:pt x="1219" y="295"/>
                </a:lnTo>
                <a:lnTo>
                  <a:pt x="1234" y="310"/>
                </a:lnTo>
                <a:lnTo>
                  <a:pt x="1247" y="245"/>
                </a:lnTo>
                <a:lnTo>
                  <a:pt x="1258" y="281"/>
                </a:lnTo>
                <a:lnTo>
                  <a:pt x="1271" y="295"/>
                </a:lnTo>
                <a:lnTo>
                  <a:pt x="1282" y="329"/>
                </a:lnTo>
                <a:lnTo>
                  <a:pt x="1296" y="269"/>
                </a:lnTo>
                <a:lnTo>
                  <a:pt x="1307" y="260"/>
                </a:lnTo>
                <a:lnTo>
                  <a:pt x="1320" y="295"/>
                </a:lnTo>
                <a:lnTo>
                  <a:pt x="1331" y="269"/>
                </a:lnTo>
                <a:lnTo>
                  <a:pt x="1342" y="305"/>
                </a:lnTo>
                <a:lnTo>
                  <a:pt x="1359" y="285"/>
                </a:lnTo>
                <a:lnTo>
                  <a:pt x="1372" y="254"/>
                </a:lnTo>
                <a:lnTo>
                  <a:pt x="1383" y="246"/>
                </a:lnTo>
                <a:lnTo>
                  <a:pt x="1395" y="287"/>
                </a:lnTo>
                <a:lnTo>
                  <a:pt x="1408" y="300"/>
                </a:lnTo>
                <a:lnTo>
                  <a:pt x="1419" y="344"/>
                </a:lnTo>
                <a:lnTo>
                  <a:pt x="1432" y="334"/>
                </a:lnTo>
                <a:lnTo>
                  <a:pt x="1443" y="357"/>
                </a:lnTo>
                <a:lnTo>
                  <a:pt x="1456" y="383"/>
                </a:lnTo>
                <a:lnTo>
                  <a:pt x="1467" y="391"/>
                </a:lnTo>
                <a:lnTo>
                  <a:pt x="1484" y="436"/>
                </a:lnTo>
                <a:lnTo>
                  <a:pt x="1495" y="420"/>
                </a:lnTo>
                <a:lnTo>
                  <a:pt x="1509" y="466"/>
                </a:lnTo>
                <a:lnTo>
                  <a:pt x="1520" y="399"/>
                </a:lnTo>
                <a:lnTo>
                  <a:pt x="1533" y="430"/>
                </a:lnTo>
                <a:lnTo>
                  <a:pt x="1544" y="443"/>
                </a:lnTo>
                <a:lnTo>
                  <a:pt x="1555" y="357"/>
                </a:lnTo>
                <a:lnTo>
                  <a:pt x="1568" y="326"/>
                </a:lnTo>
                <a:lnTo>
                  <a:pt x="1580" y="359"/>
                </a:lnTo>
              </a:path>
            </a:pathLst>
          </a:custGeom>
          <a:noFill/>
          <a:ln cap="rnd" w="11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7" name=""/>
          <p:cNvSpPr/>
          <p:nvPr/>
        </p:nvSpPr>
        <p:spPr>
          <a:xfrm>
            <a:off x="1687320" y="388800"/>
            <a:ext cx="549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 Simple Experiment</a:t>
            </a:r>
            <a:endParaRPr b="0" lang="en-US" sz="4800" spc="-1" strike="noStrike">
              <a:solidFill>
                <a:srgbClr val="000000"/>
              </a:solidFill>
              <a:latin typeface="Times New Roman"/>
            </a:endParaRPr>
          </a:p>
        </p:txBody>
      </p:sp>
      <p:sp>
        <p:nvSpPr>
          <p:cNvPr id="3198" name=""/>
          <p:cNvSpPr/>
          <p:nvPr/>
        </p:nvSpPr>
        <p:spPr>
          <a:xfrm>
            <a:off x="520560" y="1622520"/>
            <a:ext cx="7118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imbed two motifs into a random walk time series, and see if we can recover th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9" name=""/>
          <p:cNvSpPr/>
          <p:nvPr/>
        </p:nvSpPr>
        <p:spPr>
          <a:xfrm>
            <a:off x="3089160" y="184320"/>
            <a:ext cx="5842080" cy="5572080"/>
          </a:xfrm>
          <a:custGeom>
            <a:avLst/>
            <a:gdLst/>
            <a:ahLst/>
            <a:rect l="l" t="t" r="r" b="b"/>
            <a:pathLst>
              <a:path w="3680" h="3510">
                <a:moveTo>
                  <a:pt x="3680" y="0"/>
                </a:moveTo>
                <a:lnTo>
                  <a:pt x="0" y="0"/>
                </a:lnTo>
                <a:lnTo>
                  <a:pt x="0" y="3510"/>
                </a:lnTo>
                <a:lnTo>
                  <a:pt x="3680" y="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2782800" y="4676760"/>
            <a:ext cx="4103640" cy="3240"/>
          </a:xfrm>
          <a:prstGeom prst="line">
            <a:avLst/>
          </a:prstGeom>
          <a:ln cap="rnd" w="15840">
            <a:solidFill>
              <a:srgbClr val="dddddd"/>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01" name=""/>
          <p:cNvSpPr/>
          <p:nvPr/>
        </p:nvSpPr>
        <p:spPr>
          <a:xfrm>
            <a:off x="2805120" y="3795840"/>
            <a:ext cx="5027760" cy="2880"/>
          </a:xfrm>
          <a:prstGeom prst="line">
            <a:avLst/>
          </a:prstGeom>
          <a:ln cap="rnd" w="15840">
            <a:solidFill>
              <a:srgbClr val="dddddd"/>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02" name=""/>
          <p:cNvSpPr/>
          <p:nvPr/>
        </p:nvSpPr>
        <p:spPr>
          <a:xfrm flipV="1">
            <a:off x="6886440" y="4660920"/>
            <a:ext cx="1800" cy="1154160"/>
          </a:xfrm>
          <a:prstGeom prst="line">
            <a:avLst/>
          </a:prstGeom>
          <a:ln cap="rnd" w="1584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flipV="1">
            <a:off x="7845480" y="3795480"/>
            <a:ext cx="7920" cy="2052360"/>
          </a:xfrm>
          <a:prstGeom prst="line">
            <a:avLst/>
          </a:prstGeom>
          <a:ln cap="rnd" w="1584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3095640" y="166680"/>
            <a:ext cx="5864040" cy="5589720"/>
          </a:xfrm>
          <a:prstGeom prst="rect">
            <a:avLst/>
          </a:prstGeom>
          <a:noFill/>
          <a:ln cap="rnd"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3095640" y="166680"/>
            <a:ext cx="5864040" cy="3240"/>
          </a:xfrm>
          <a:prstGeom prst="line">
            <a:avLst/>
          </a:prstGeom>
          <a:ln cap="rnd"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06" name=""/>
          <p:cNvSpPr/>
          <p:nvPr/>
        </p:nvSpPr>
        <p:spPr>
          <a:xfrm>
            <a:off x="3095640" y="166680"/>
            <a:ext cx="5864040" cy="5589720"/>
          </a:xfrm>
          <a:custGeom>
            <a:avLst/>
            <a:gdLst/>
            <a:ahLst/>
            <a:rect l="l" t="t" r="r" b="b"/>
            <a:pathLst>
              <a:path w="3694" h="3521">
                <a:moveTo>
                  <a:pt x="0" y="3521"/>
                </a:moveTo>
                <a:lnTo>
                  <a:pt x="3694" y="3521"/>
                </a:lnTo>
                <a:lnTo>
                  <a:pt x="3694" y="0"/>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flipV="1">
            <a:off x="3095640" y="166320"/>
            <a:ext cx="3240" cy="55897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3095640" y="5759280"/>
            <a:ext cx="5864040" cy="3240"/>
          </a:xfrm>
          <a:prstGeom prst="line">
            <a:avLst/>
          </a:prstGeom>
          <a:ln cap="rnd"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09" name=""/>
          <p:cNvSpPr/>
          <p:nvPr/>
        </p:nvSpPr>
        <p:spPr>
          <a:xfrm flipV="1">
            <a:off x="3095640" y="166320"/>
            <a:ext cx="3240" cy="55897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flipV="1">
            <a:off x="3662280" y="5692320"/>
            <a:ext cx="324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11" name=""/>
          <p:cNvSpPr/>
          <p:nvPr/>
        </p:nvSpPr>
        <p:spPr>
          <a:xfrm>
            <a:off x="3662280" y="166680"/>
            <a:ext cx="324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12" name=""/>
          <p:cNvSpPr/>
          <p:nvPr/>
        </p:nvSpPr>
        <p:spPr>
          <a:xfrm flipV="1">
            <a:off x="4262400" y="5692320"/>
            <a:ext cx="324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13" name=""/>
          <p:cNvSpPr/>
          <p:nvPr/>
        </p:nvSpPr>
        <p:spPr>
          <a:xfrm>
            <a:off x="4262400" y="166680"/>
            <a:ext cx="324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14" name=""/>
          <p:cNvSpPr/>
          <p:nvPr/>
        </p:nvSpPr>
        <p:spPr>
          <a:xfrm flipV="1">
            <a:off x="4846680" y="5692320"/>
            <a:ext cx="144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15" name=""/>
          <p:cNvSpPr/>
          <p:nvPr/>
        </p:nvSpPr>
        <p:spPr>
          <a:xfrm>
            <a:off x="4846680" y="166680"/>
            <a:ext cx="144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16" name=""/>
          <p:cNvSpPr/>
          <p:nvPr/>
        </p:nvSpPr>
        <p:spPr>
          <a:xfrm flipV="1">
            <a:off x="5429160" y="5692320"/>
            <a:ext cx="180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17" name=""/>
          <p:cNvSpPr/>
          <p:nvPr/>
        </p:nvSpPr>
        <p:spPr>
          <a:xfrm>
            <a:off x="5429160" y="166680"/>
            <a:ext cx="180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18" name=""/>
          <p:cNvSpPr/>
          <p:nvPr/>
        </p:nvSpPr>
        <p:spPr>
          <a:xfrm flipV="1">
            <a:off x="6010200" y="5692320"/>
            <a:ext cx="324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19" name=""/>
          <p:cNvSpPr/>
          <p:nvPr/>
        </p:nvSpPr>
        <p:spPr>
          <a:xfrm>
            <a:off x="6010200" y="166680"/>
            <a:ext cx="324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0" name=""/>
          <p:cNvSpPr/>
          <p:nvPr/>
        </p:nvSpPr>
        <p:spPr>
          <a:xfrm flipV="1">
            <a:off x="6610320" y="5692320"/>
            <a:ext cx="648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21" name=""/>
          <p:cNvSpPr/>
          <p:nvPr/>
        </p:nvSpPr>
        <p:spPr>
          <a:xfrm>
            <a:off x="6610320" y="166680"/>
            <a:ext cx="648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2" name=""/>
          <p:cNvSpPr/>
          <p:nvPr/>
        </p:nvSpPr>
        <p:spPr>
          <a:xfrm flipV="1">
            <a:off x="7192800" y="5692320"/>
            <a:ext cx="648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23" name=""/>
          <p:cNvSpPr/>
          <p:nvPr/>
        </p:nvSpPr>
        <p:spPr>
          <a:xfrm>
            <a:off x="7192800" y="166680"/>
            <a:ext cx="648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4" name=""/>
          <p:cNvSpPr/>
          <p:nvPr/>
        </p:nvSpPr>
        <p:spPr>
          <a:xfrm>
            <a:off x="7002360" y="5808600"/>
            <a:ext cx="227160" cy="15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7107840" y="596736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226" name=""/>
          <p:cNvSpPr/>
          <p:nvPr/>
        </p:nvSpPr>
        <p:spPr>
          <a:xfrm flipV="1">
            <a:off x="7780320" y="5692320"/>
            <a:ext cx="324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27" name=""/>
          <p:cNvSpPr/>
          <p:nvPr/>
        </p:nvSpPr>
        <p:spPr>
          <a:xfrm>
            <a:off x="7780320" y="166680"/>
            <a:ext cx="324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8" name=""/>
          <p:cNvSpPr/>
          <p:nvPr/>
        </p:nvSpPr>
        <p:spPr>
          <a:xfrm>
            <a:off x="7585200" y="5808600"/>
            <a:ext cx="228600" cy="15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7690320" y="596736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230" name=""/>
          <p:cNvSpPr/>
          <p:nvPr/>
        </p:nvSpPr>
        <p:spPr>
          <a:xfrm flipV="1">
            <a:off x="8364600" y="5692320"/>
            <a:ext cx="144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31" name=""/>
          <p:cNvSpPr/>
          <p:nvPr/>
        </p:nvSpPr>
        <p:spPr>
          <a:xfrm>
            <a:off x="8364600" y="166680"/>
            <a:ext cx="144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32" name=""/>
          <p:cNvSpPr/>
          <p:nvPr/>
        </p:nvSpPr>
        <p:spPr>
          <a:xfrm>
            <a:off x="8169120" y="5808600"/>
            <a:ext cx="223920" cy="15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8274600" y="596736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234" name=""/>
          <p:cNvSpPr/>
          <p:nvPr/>
        </p:nvSpPr>
        <p:spPr>
          <a:xfrm flipV="1">
            <a:off x="8959680" y="5692320"/>
            <a:ext cx="324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35" name=""/>
          <p:cNvSpPr/>
          <p:nvPr/>
        </p:nvSpPr>
        <p:spPr>
          <a:xfrm>
            <a:off x="8959680" y="166680"/>
            <a:ext cx="3240" cy="46080"/>
          </a:xfrm>
          <a:prstGeom prst="line">
            <a:avLst/>
          </a:prstGeom>
          <a:ln cap="rnd" w="6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36" name=""/>
          <p:cNvSpPr/>
          <p:nvPr/>
        </p:nvSpPr>
        <p:spPr>
          <a:xfrm>
            <a:off x="3095640" y="5202360"/>
            <a:ext cx="52200" cy="2880"/>
          </a:xfrm>
          <a:prstGeom prst="line">
            <a:avLst/>
          </a:prstGeom>
          <a:ln cap="rnd"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7" name=""/>
          <p:cNvSpPr/>
          <p:nvPr/>
        </p:nvSpPr>
        <p:spPr>
          <a:xfrm flipH="1">
            <a:off x="8894880" y="5202360"/>
            <a:ext cx="64800" cy="2880"/>
          </a:xfrm>
          <a:prstGeom prst="line">
            <a:avLst/>
          </a:prstGeom>
          <a:ln cap="rnd"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8" name=""/>
          <p:cNvSpPr/>
          <p:nvPr/>
        </p:nvSpPr>
        <p:spPr>
          <a:xfrm>
            <a:off x="3095640" y="4627440"/>
            <a:ext cx="52200" cy="3240"/>
          </a:xfrm>
          <a:prstGeom prst="line">
            <a:avLst/>
          </a:prstGeom>
          <a:ln cap="rnd"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39" name=""/>
          <p:cNvSpPr/>
          <p:nvPr/>
        </p:nvSpPr>
        <p:spPr>
          <a:xfrm flipH="1">
            <a:off x="8894880" y="4627440"/>
            <a:ext cx="64800" cy="3240"/>
          </a:xfrm>
          <a:prstGeom prst="line">
            <a:avLst/>
          </a:prstGeom>
          <a:ln cap="rnd"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40" name=""/>
          <p:cNvSpPr/>
          <p:nvPr/>
        </p:nvSpPr>
        <p:spPr>
          <a:xfrm>
            <a:off x="2670120" y="4498920"/>
            <a:ext cx="2239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3095640" y="4073400"/>
            <a:ext cx="522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2" name=""/>
          <p:cNvSpPr/>
          <p:nvPr/>
        </p:nvSpPr>
        <p:spPr>
          <a:xfrm flipH="1">
            <a:off x="8894880" y="4073400"/>
            <a:ext cx="648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3" name=""/>
          <p:cNvSpPr/>
          <p:nvPr/>
        </p:nvSpPr>
        <p:spPr>
          <a:xfrm>
            <a:off x="2670120" y="3941640"/>
            <a:ext cx="223920" cy="16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3095640" y="3519360"/>
            <a:ext cx="522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5" name=""/>
          <p:cNvSpPr/>
          <p:nvPr/>
        </p:nvSpPr>
        <p:spPr>
          <a:xfrm flipH="1">
            <a:off x="8894880" y="3519360"/>
            <a:ext cx="648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6" name=""/>
          <p:cNvSpPr/>
          <p:nvPr/>
        </p:nvSpPr>
        <p:spPr>
          <a:xfrm>
            <a:off x="2670120" y="3387600"/>
            <a:ext cx="2239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3095640" y="2957400"/>
            <a:ext cx="52200" cy="7920"/>
          </a:xfrm>
          <a:prstGeom prst="line">
            <a:avLst/>
          </a:prstGeom>
          <a:ln cap="rnd" w="6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8" name=""/>
          <p:cNvSpPr/>
          <p:nvPr/>
        </p:nvSpPr>
        <p:spPr>
          <a:xfrm flipH="1">
            <a:off x="8894880" y="2957400"/>
            <a:ext cx="64800" cy="7920"/>
          </a:xfrm>
          <a:prstGeom prst="line">
            <a:avLst/>
          </a:prstGeom>
          <a:ln cap="rnd" w="6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3095640" y="2387520"/>
            <a:ext cx="52200" cy="3240"/>
          </a:xfrm>
          <a:prstGeom prst="line">
            <a:avLst/>
          </a:prstGeom>
          <a:ln cap="rnd"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0" name=""/>
          <p:cNvSpPr/>
          <p:nvPr/>
        </p:nvSpPr>
        <p:spPr>
          <a:xfrm flipH="1">
            <a:off x="8894880" y="2387520"/>
            <a:ext cx="64800" cy="3240"/>
          </a:xfrm>
          <a:prstGeom prst="line">
            <a:avLst/>
          </a:prstGeom>
          <a:ln cap="rnd"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1" name=""/>
          <p:cNvSpPr/>
          <p:nvPr/>
        </p:nvSpPr>
        <p:spPr>
          <a:xfrm>
            <a:off x="3095640" y="1833480"/>
            <a:ext cx="522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2" name=""/>
          <p:cNvSpPr/>
          <p:nvPr/>
        </p:nvSpPr>
        <p:spPr>
          <a:xfrm flipH="1">
            <a:off x="8894880" y="1833480"/>
            <a:ext cx="648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3" name=""/>
          <p:cNvSpPr/>
          <p:nvPr/>
        </p:nvSpPr>
        <p:spPr>
          <a:xfrm>
            <a:off x="3095640" y="1279440"/>
            <a:ext cx="522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4" name=""/>
          <p:cNvSpPr/>
          <p:nvPr/>
        </p:nvSpPr>
        <p:spPr>
          <a:xfrm flipH="1">
            <a:off x="8894880" y="1279440"/>
            <a:ext cx="648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5" name=""/>
          <p:cNvSpPr/>
          <p:nvPr/>
        </p:nvSpPr>
        <p:spPr>
          <a:xfrm>
            <a:off x="3095640" y="723960"/>
            <a:ext cx="5220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6" name=""/>
          <p:cNvSpPr/>
          <p:nvPr/>
        </p:nvSpPr>
        <p:spPr>
          <a:xfrm flipH="1">
            <a:off x="8894880" y="723960"/>
            <a:ext cx="6480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3095640" y="166680"/>
            <a:ext cx="52200" cy="3240"/>
          </a:xfrm>
          <a:prstGeom prst="line">
            <a:avLst/>
          </a:prstGeom>
          <a:ln cap="rnd"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8" name=""/>
          <p:cNvSpPr/>
          <p:nvPr/>
        </p:nvSpPr>
        <p:spPr>
          <a:xfrm flipH="1">
            <a:off x="8894880" y="166680"/>
            <a:ext cx="64800" cy="3240"/>
          </a:xfrm>
          <a:prstGeom prst="line">
            <a:avLst/>
          </a:prstGeom>
          <a:ln cap="rnd"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9" name=""/>
          <p:cNvSpPr/>
          <p:nvPr/>
        </p:nvSpPr>
        <p:spPr>
          <a:xfrm>
            <a:off x="3095640" y="166680"/>
            <a:ext cx="5864040" cy="3240"/>
          </a:xfrm>
          <a:prstGeom prst="line">
            <a:avLst/>
          </a:prstGeom>
          <a:ln cap="rnd"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0" name=""/>
          <p:cNvSpPr/>
          <p:nvPr/>
        </p:nvSpPr>
        <p:spPr>
          <a:xfrm>
            <a:off x="3095640" y="166680"/>
            <a:ext cx="5864040" cy="5589720"/>
          </a:xfrm>
          <a:custGeom>
            <a:avLst/>
            <a:gdLst/>
            <a:ahLst/>
            <a:rect l="l" t="t" r="r" b="b"/>
            <a:pathLst>
              <a:path w="3694" h="3521">
                <a:moveTo>
                  <a:pt x="0" y="3521"/>
                </a:moveTo>
                <a:lnTo>
                  <a:pt x="3694" y="3521"/>
                </a:lnTo>
                <a:lnTo>
                  <a:pt x="369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flipV="1">
            <a:off x="3095640" y="166320"/>
            <a:ext cx="3240" cy="55897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a:off x="8016840" y="531648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3" name=""/>
          <p:cNvSpPr/>
          <p:nvPr/>
        </p:nvSpPr>
        <p:spPr>
          <a:xfrm>
            <a:off x="8016840" y="5316480"/>
            <a:ext cx="1800" cy="1800"/>
          </a:xfrm>
          <a:prstGeom prst="line">
            <a:avLst/>
          </a:prstGeom>
          <a:ln cap="rnd" w="3240">
            <a:solidFill>
              <a:srgbClr val="00008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4" name=""/>
          <p:cNvSpPr/>
          <p:nvPr/>
        </p:nvSpPr>
        <p:spPr>
          <a:xfrm>
            <a:off x="7829640" y="3730680"/>
            <a:ext cx="85680" cy="82440"/>
          </a:xfrm>
          <a:custGeom>
            <a:avLst/>
            <a:gdLst/>
            <a:ahLst/>
            <a:rect l="l" t="t" r="r" b="b"/>
            <a:pathLst>
              <a:path w="54" h="52">
                <a:moveTo>
                  <a:pt x="54" y="0"/>
                </a:moveTo>
                <a:lnTo>
                  <a:pt x="54" y="0"/>
                </a:lnTo>
                <a:lnTo>
                  <a:pt x="54" y="10"/>
                </a:lnTo>
                <a:lnTo>
                  <a:pt x="44" y="10"/>
                </a:lnTo>
                <a:lnTo>
                  <a:pt x="44" y="21"/>
                </a:lnTo>
                <a:lnTo>
                  <a:pt x="33" y="31"/>
                </a:lnTo>
                <a:lnTo>
                  <a:pt x="23" y="41"/>
                </a:lnTo>
                <a:lnTo>
                  <a:pt x="13" y="41"/>
                </a:lnTo>
                <a:lnTo>
                  <a:pt x="13" y="52"/>
                </a:lnTo>
                <a:lnTo>
                  <a:pt x="0" y="52"/>
                </a:lnTo>
                <a:lnTo>
                  <a:pt x="0" y="41"/>
                </a:lnTo>
                <a:lnTo>
                  <a:pt x="13" y="31"/>
                </a:lnTo>
                <a:lnTo>
                  <a:pt x="13" y="21"/>
                </a:lnTo>
                <a:lnTo>
                  <a:pt x="23" y="21"/>
                </a:lnTo>
                <a:lnTo>
                  <a:pt x="23" y="10"/>
                </a:lnTo>
                <a:lnTo>
                  <a:pt x="33" y="10"/>
                </a:lnTo>
                <a:lnTo>
                  <a:pt x="44" y="0"/>
                </a:lnTo>
                <a:lnTo>
                  <a:pt x="5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5" name=""/>
          <p:cNvSpPr/>
          <p:nvPr/>
        </p:nvSpPr>
        <p:spPr>
          <a:xfrm>
            <a:off x="7829640" y="3730680"/>
            <a:ext cx="85680" cy="82440"/>
          </a:xfrm>
          <a:custGeom>
            <a:avLst/>
            <a:gdLst/>
            <a:ahLst/>
            <a:rect l="l" t="t" r="r" b="b"/>
            <a:pathLst>
              <a:path w="54" h="52">
                <a:moveTo>
                  <a:pt x="54" y="0"/>
                </a:moveTo>
                <a:lnTo>
                  <a:pt x="54" y="0"/>
                </a:lnTo>
                <a:lnTo>
                  <a:pt x="54" y="10"/>
                </a:lnTo>
                <a:lnTo>
                  <a:pt x="44" y="10"/>
                </a:lnTo>
                <a:lnTo>
                  <a:pt x="44" y="21"/>
                </a:lnTo>
                <a:lnTo>
                  <a:pt x="33" y="31"/>
                </a:lnTo>
                <a:lnTo>
                  <a:pt x="23" y="41"/>
                </a:lnTo>
                <a:lnTo>
                  <a:pt x="13" y="41"/>
                </a:lnTo>
                <a:lnTo>
                  <a:pt x="13" y="52"/>
                </a:lnTo>
                <a:lnTo>
                  <a:pt x="0" y="52"/>
                </a:lnTo>
                <a:lnTo>
                  <a:pt x="0" y="41"/>
                </a:lnTo>
                <a:lnTo>
                  <a:pt x="13" y="31"/>
                </a:lnTo>
                <a:lnTo>
                  <a:pt x="13" y="21"/>
                </a:lnTo>
                <a:lnTo>
                  <a:pt x="23" y="21"/>
                </a:lnTo>
                <a:lnTo>
                  <a:pt x="23" y="10"/>
                </a:lnTo>
                <a:lnTo>
                  <a:pt x="33" y="10"/>
                </a:lnTo>
                <a:lnTo>
                  <a:pt x="44" y="0"/>
                </a:lnTo>
                <a:lnTo>
                  <a:pt x="54" y="0"/>
                </a:lnTo>
              </a:path>
            </a:pathLst>
          </a:custGeom>
          <a:noFill/>
          <a:ln cap="rnd" w="3240">
            <a:solidFill>
              <a:srgbClr val="00008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6" name=""/>
          <p:cNvSpPr/>
          <p:nvPr/>
        </p:nvSpPr>
        <p:spPr>
          <a:xfrm>
            <a:off x="7642080" y="2997360"/>
            <a:ext cx="1800" cy="17280"/>
          </a:xfrm>
          <a:custGeom>
            <a:avLst/>
            <a:gdLst/>
            <a:ahLst/>
            <a:rect l="l" t="t" r="r" b="b"/>
            <a:pathLst>
              <a:path w="0"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7" name=""/>
          <p:cNvSpPr/>
          <p:nvPr/>
        </p:nvSpPr>
        <p:spPr>
          <a:xfrm>
            <a:off x="7642080" y="2997360"/>
            <a:ext cx="1800" cy="17280"/>
          </a:xfrm>
          <a:custGeom>
            <a:avLst/>
            <a:gdLst/>
            <a:ahLst/>
            <a:rect l="l" t="t" r="r" b="b"/>
            <a:pathLst>
              <a:path w="0" h="11">
                <a:moveTo>
                  <a:pt x="0" y="0"/>
                </a:moveTo>
                <a:lnTo>
                  <a:pt x="0" y="0"/>
                </a:lnTo>
                <a:lnTo>
                  <a:pt x="0" y="11"/>
                </a:lnTo>
                <a:lnTo>
                  <a:pt x="0" y="0"/>
                </a:lnTo>
              </a:path>
            </a:pathLst>
          </a:custGeom>
          <a:noFill/>
          <a:ln cap="rnd" w="3240">
            <a:solidFill>
              <a:srgbClr val="00008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8" name=""/>
          <p:cNvSpPr/>
          <p:nvPr/>
        </p:nvSpPr>
        <p:spPr>
          <a:xfrm>
            <a:off x="7624800" y="2997360"/>
            <a:ext cx="1440" cy="17280"/>
          </a:xfrm>
          <a:custGeom>
            <a:avLst/>
            <a:gdLst/>
            <a:ahLst/>
            <a:rect l="l" t="t" r="r" b="b"/>
            <a:pathLst>
              <a:path w="0"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9" name=""/>
          <p:cNvSpPr/>
          <p:nvPr/>
        </p:nvSpPr>
        <p:spPr>
          <a:xfrm>
            <a:off x="7624800" y="2997360"/>
            <a:ext cx="1440" cy="17280"/>
          </a:xfrm>
          <a:custGeom>
            <a:avLst/>
            <a:gdLst/>
            <a:ahLst/>
            <a:rect l="l" t="t" r="r" b="b"/>
            <a:pathLst>
              <a:path w="0" h="11">
                <a:moveTo>
                  <a:pt x="0" y="0"/>
                </a:moveTo>
                <a:lnTo>
                  <a:pt x="0" y="0"/>
                </a:lnTo>
                <a:lnTo>
                  <a:pt x="0" y="11"/>
                </a:lnTo>
                <a:lnTo>
                  <a:pt x="0" y="0"/>
                </a:lnTo>
              </a:path>
            </a:pathLst>
          </a:custGeom>
          <a:noFill/>
          <a:ln cap="rnd" w="3240">
            <a:solidFill>
              <a:srgbClr val="00008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70" name=""/>
          <p:cNvSpPr/>
          <p:nvPr/>
        </p:nvSpPr>
        <p:spPr>
          <a:xfrm>
            <a:off x="7589880" y="3014640"/>
            <a:ext cx="15840" cy="15840"/>
          </a:xfrm>
          <a:custGeom>
            <a:avLst/>
            <a:gdLst/>
            <a:ahLst/>
            <a:rect l="l" t="t" r="r" b="b"/>
            <a:pathLst>
              <a:path w="10" h="10">
                <a:moveTo>
                  <a:pt x="10" y="0"/>
                </a:moveTo>
                <a:lnTo>
                  <a:pt x="10" y="0"/>
                </a:lnTo>
                <a:lnTo>
                  <a:pt x="10" y="10"/>
                </a:lnTo>
                <a:lnTo>
                  <a:pt x="0" y="10"/>
                </a:lnTo>
                <a:lnTo>
                  <a:pt x="0"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71" name=""/>
          <p:cNvSpPr/>
          <p:nvPr/>
        </p:nvSpPr>
        <p:spPr>
          <a:xfrm>
            <a:off x="7589880" y="3014640"/>
            <a:ext cx="15840" cy="15840"/>
          </a:xfrm>
          <a:custGeom>
            <a:avLst/>
            <a:gdLst/>
            <a:ahLst/>
            <a:rect l="l" t="t" r="r" b="b"/>
            <a:pathLst>
              <a:path w="10" h="10">
                <a:moveTo>
                  <a:pt x="10" y="0"/>
                </a:moveTo>
                <a:lnTo>
                  <a:pt x="10" y="0"/>
                </a:lnTo>
                <a:lnTo>
                  <a:pt x="10" y="10"/>
                </a:lnTo>
                <a:lnTo>
                  <a:pt x="0" y="10"/>
                </a:lnTo>
                <a:lnTo>
                  <a:pt x="0" y="0"/>
                </a:lnTo>
                <a:lnTo>
                  <a:pt x="10" y="0"/>
                </a:lnTo>
              </a:path>
            </a:pathLst>
          </a:custGeom>
          <a:noFill/>
          <a:ln cap="rnd" w="3240">
            <a:solidFill>
              <a:srgbClr val="0000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72" name=""/>
          <p:cNvSpPr/>
          <p:nvPr/>
        </p:nvSpPr>
        <p:spPr>
          <a:xfrm>
            <a:off x="7504200" y="3060720"/>
            <a:ext cx="6120" cy="3240"/>
          </a:xfrm>
          <a:prstGeom prst="rect">
            <a:avLst/>
          </a:prstGeom>
          <a:solidFill>
            <a:srgbClr val="000000"/>
          </a:solidFill>
          <a:ln cap="rnd" w="3240">
            <a:solidFill>
              <a:srgbClr val="00008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73" name=""/>
          <p:cNvSpPr/>
          <p:nvPr/>
        </p:nvSpPr>
        <p:spPr>
          <a:xfrm>
            <a:off x="7470720" y="3176640"/>
            <a:ext cx="52560" cy="46080"/>
          </a:xfrm>
          <a:custGeom>
            <a:avLst/>
            <a:gdLst/>
            <a:ahLst/>
            <a:rect l="l" t="t" r="r" b="b"/>
            <a:pathLst>
              <a:path w="33" h="29">
                <a:moveTo>
                  <a:pt x="21" y="0"/>
                </a:moveTo>
                <a:lnTo>
                  <a:pt x="21" y="0"/>
                </a:lnTo>
                <a:lnTo>
                  <a:pt x="21" y="10"/>
                </a:lnTo>
                <a:lnTo>
                  <a:pt x="33" y="10"/>
                </a:lnTo>
                <a:lnTo>
                  <a:pt x="21" y="10"/>
                </a:lnTo>
                <a:lnTo>
                  <a:pt x="21" y="18"/>
                </a:lnTo>
                <a:lnTo>
                  <a:pt x="21" y="10"/>
                </a:lnTo>
                <a:lnTo>
                  <a:pt x="21" y="18"/>
                </a:lnTo>
                <a:lnTo>
                  <a:pt x="21" y="29"/>
                </a:lnTo>
                <a:lnTo>
                  <a:pt x="10" y="18"/>
                </a:lnTo>
                <a:lnTo>
                  <a:pt x="0" y="10"/>
                </a:lnTo>
                <a:lnTo>
                  <a:pt x="10" y="10"/>
                </a:lnTo>
                <a:lnTo>
                  <a:pt x="10" y="0"/>
                </a:lnTo>
                <a:lnTo>
                  <a:pt x="21" y="0"/>
                </a:lnTo>
                <a:lnTo>
                  <a:pt x="21" y="10"/>
                </a:lnTo>
                <a:lnTo>
                  <a:pt x="2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74" name=""/>
          <p:cNvSpPr/>
          <p:nvPr/>
        </p:nvSpPr>
        <p:spPr>
          <a:xfrm>
            <a:off x="7470720" y="3176640"/>
            <a:ext cx="52560" cy="46080"/>
          </a:xfrm>
          <a:custGeom>
            <a:avLst/>
            <a:gdLst/>
            <a:ahLst/>
            <a:rect l="l" t="t" r="r" b="b"/>
            <a:pathLst>
              <a:path w="33" h="29">
                <a:moveTo>
                  <a:pt x="21" y="0"/>
                </a:moveTo>
                <a:lnTo>
                  <a:pt x="21" y="0"/>
                </a:lnTo>
                <a:lnTo>
                  <a:pt x="21" y="10"/>
                </a:lnTo>
                <a:lnTo>
                  <a:pt x="33" y="10"/>
                </a:lnTo>
                <a:lnTo>
                  <a:pt x="21" y="10"/>
                </a:lnTo>
                <a:lnTo>
                  <a:pt x="21" y="18"/>
                </a:lnTo>
                <a:lnTo>
                  <a:pt x="21" y="10"/>
                </a:lnTo>
                <a:lnTo>
                  <a:pt x="21" y="18"/>
                </a:lnTo>
                <a:lnTo>
                  <a:pt x="21" y="29"/>
                </a:lnTo>
                <a:lnTo>
                  <a:pt x="10" y="18"/>
                </a:lnTo>
                <a:lnTo>
                  <a:pt x="0" y="10"/>
                </a:lnTo>
                <a:lnTo>
                  <a:pt x="10" y="10"/>
                </a:lnTo>
                <a:lnTo>
                  <a:pt x="10" y="0"/>
                </a:lnTo>
                <a:lnTo>
                  <a:pt x="21" y="0"/>
                </a:lnTo>
                <a:lnTo>
                  <a:pt x="21" y="10"/>
                </a:lnTo>
                <a:lnTo>
                  <a:pt x="21" y="0"/>
                </a:lnTo>
              </a:path>
            </a:pathLst>
          </a:custGeom>
          <a:noFill/>
          <a:ln cap="rnd" w="3240">
            <a:solidFill>
              <a:srgbClr val="00008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75" name=""/>
          <p:cNvSpPr/>
          <p:nvPr/>
        </p:nvSpPr>
        <p:spPr>
          <a:xfrm>
            <a:off x="7434360" y="3192480"/>
            <a:ext cx="36360" cy="15840"/>
          </a:xfrm>
          <a:custGeom>
            <a:avLst/>
            <a:gdLst/>
            <a:ahLst/>
            <a:rect l="l" t="t" r="r" b="b"/>
            <a:pathLst>
              <a:path w="23" h="10">
                <a:moveTo>
                  <a:pt x="23" y="0"/>
                </a:moveTo>
                <a:lnTo>
                  <a:pt x="23" y="0"/>
                </a:lnTo>
                <a:lnTo>
                  <a:pt x="23" y="10"/>
                </a:lnTo>
                <a:lnTo>
                  <a:pt x="12" y="10"/>
                </a:lnTo>
                <a:lnTo>
                  <a:pt x="12" y="0"/>
                </a:lnTo>
                <a:lnTo>
                  <a:pt x="0" y="10"/>
                </a:lnTo>
                <a:lnTo>
                  <a:pt x="0" y="0"/>
                </a:lnTo>
                <a:lnTo>
                  <a:pt x="12" y="0"/>
                </a:lnTo>
                <a:lnTo>
                  <a:pt x="2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76" name=""/>
          <p:cNvSpPr/>
          <p:nvPr/>
        </p:nvSpPr>
        <p:spPr>
          <a:xfrm>
            <a:off x="7434360" y="3192480"/>
            <a:ext cx="36360" cy="15840"/>
          </a:xfrm>
          <a:custGeom>
            <a:avLst/>
            <a:gdLst/>
            <a:ahLst/>
            <a:rect l="l" t="t" r="r" b="b"/>
            <a:pathLst>
              <a:path w="23" h="10">
                <a:moveTo>
                  <a:pt x="23" y="0"/>
                </a:moveTo>
                <a:lnTo>
                  <a:pt x="23" y="0"/>
                </a:lnTo>
                <a:lnTo>
                  <a:pt x="23" y="10"/>
                </a:lnTo>
                <a:lnTo>
                  <a:pt x="12" y="10"/>
                </a:lnTo>
                <a:lnTo>
                  <a:pt x="12" y="0"/>
                </a:lnTo>
                <a:lnTo>
                  <a:pt x="0" y="10"/>
                </a:lnTo>
                <a:lnTo>
                  <a:pt x="0" y="0"/>
                </a:lnTo>
                <a:lnTo>
                  <a:pt x="12" y="0"/>
                </a:lnTo>
                <a:lnTo>
                  <a:pt x="23" y="0"/>
                </a:lnTo>
              </a:path>
            </a:pathLst>
          </a:custGeom>
          <a:noFill/>
          <a:ln cap="rnd" w="3240">
            <a:solidFill>
              <a:srgbClr val="0000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77" name=""/>
          <p:cNvSpPr/>
          <p:nvPr/>
        </p:nvSpPr>
        <p:spPr>
          <a:xfrm>
            <a:off x="7453440" y="3222720"/>
            <a:ext cx="17280" cy="15840"/>
          </a:xfrm>
          <a:custGeom>
            <a:avLst/>
            <a:gdLst/>
            <a:ahLst/>
            <a:rect l="l" t="t" r="r" b="b"/>
            <a:pathLst>
              <a:path w="11" h="10">
                <a:moveTo>
                  <a:pt x="11" y="0"/>
                </a:moveTo>
                <a:lnTo>
                  <a:pt x="11" y="0"/>
                </a:lnTo>
                <a:lnTo>
                  <a:pt x="11" y="10"/>
                </a:lnTo>
                <a:lnTo>
                  <a:pt x="0" y="10"/>
                </a:lnTo>
                <a:lnTo>
                  <a:pt x="0" y="0"/>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78" name=""/>
          <p:cNvSpPr/>
          <p:nvPr/>
        </p:nvSpPr>
        <p:spPr>
          <a:xfrm>
            <a:off x="7453440" y="3222720"/>
            <a:ext cx="17280" cy="15840"/>
          </a:xfrm>
          <a:custGeom>
            <a:avLst/>
            <a:gdLst/>
            <a:ahLst/>
            <a:rect l="l" t="t" r="r" b="b"/>
            <a:pathLst>
              <a:path w="11" h="10">
                <a:moveTo>
                  <a:pt x="11" y="0"/>
                </a:moveTo>
                <a:lnTo>
                  <a:pt x="11" y="0"/>
                </a:lnTo>
                <a:lnTo>
                  <a:pt x="11" y="10"/>
                </a:lnTo>
                <a:lnTo>
                  <a:pt x="0" y="10"/>
                </a:lnTo>
                <a:lnTo>
                  <a:pt x="0" y="0"/>
                </a:lnTo>
                <a:lnTo>
                  <a:pt x="11" y="0"/>
                </a:lnTo>
              </a:path>
            </a:pathLst>
          </a:custGeom>
          <a:noFill/>
          <a:ln cap="rnd" w="3240">
            <a:solidFill>
              <a:srgbClr val="0000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79" name=""/>
          <p:cNvSpPr/>
          <p:nvPr/>
        </p:nvSpPr>
        <p:spPr>
          <a:xfrm>
            <a:off x="7434360" y="3255840"/>
            <a:ext cx="19080" cy="1800"/>
          </a:xfrm>
          <a:custGeom>
            <a:avLst/>
            <a:gdLst/>
            <a:ahLst/>
            <a:rect l="l" t="t" r="r" b="b"/>
            <a:pathLst>
              <a:path w="12" h="0">
                <a:moveTo>
                  <a:pt x="12" y="0"/>
                </a:moveTo>
                <a:lnTo>
                  <a:pt x="12" y="0"/>
                </a:lnTo>
                <a:lnTo>
                  <a:pt x="0" y="0"/>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0" name=""/>
          <p:cNvSpPr/>
          <p:nvPr/>
        </p:nvSpPr>
        <p:spPr>
          <a:xfrm>
            <a:off x="7434360" y="3255840"/>
            <a:ext cx="19080" cy="1800"/>
          </a:xfrm>
          <a:custGeom>
            <a:avLst/>
            <a:gdLst/>
            <a:ahLst/>
            <a:rect l="l" t="t" r="r" b="b"/>
            <a:pathLst>
              <a:path w="12" h="0">
                <a:moveTo>
                  <a:pt x="12" y="0"/>
                </a:moveTo>
                <a:lnTo>
                  <a:pt x="12" y="0"/>
                </a:lnTo>
                <a:lnTo>
                  <a:pt x="0" y="0"/>
                </a:lnTo>
                <a:lnTo>
                  <a:pt x="12" y="0"/>
                </a:lnTo>
              </a:path>
            </a:pathLst>
          </a:custGeom>
          <a:noFill/>
          <a:ln cap="rnd" w="3240">
            <a:solidFill>
              <a:srgbClr val="00008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1" name=""/>
          <p:cNvSpPr/>
          <p:nvPr/>
        </p:nvSpPr>
        <p:spPr>
          <a:xfrm>
            <a:off x="7418520" y="3222720"/>
            <a:ext cx="15840" cy="15840"/>
          </a:xfrm>
          <a:custGeom>
            <a:avLst/>
            <a:gdLst/>
            <a:ahLst/>
            <a:rect l="l" t="t" r="r" b="b"/>
            <a:pathLst>
              <a:path w="10" h="10">
                <a:moveTo>
                  <a:pt x="0" y="0"/>
                </a:moveTo>
                <a:lnTo>
                  <a:pt x="1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2" name=""/>
          <p:cNvSpPr/>
          <p:nvPr/>
        </p:nvSpPr>
        <p:spPr>
          <a:xfrm>
            <a:off x="7418520" y="3222720"/>
            <a:ext cx="15840" cy="15840"/>
          </a:xfrm>
          <a:custGeom>
            <a:avLst/>
            <a:gdLst/>
            <a:ahLst/>
            <a:rect l="l" t="t" r="r" b="b"/>
            <a:pathLst>
              <a:path w="10" h="10">
                <a:moveTo>
                  <a:pt x="0" y="0"/>
                </a:moveTo>
                <a:lnTo>
                  <a:pt x="10" y="0"/>
                </a:lnTo>
                <a:lnTo>
                  <a:pt x="0" y="10"/>
                </a:lnTo>
                <a:lnTo>
                  <a:pt x="0" y="0"/>
                </a:lnTo>
              </a:path>
            </a:pathLst>
          </a:custGeom>
          <a:noFill/>
          <a:ln cap="rnd" w="3240">
            <a:solidFill>
              <a:srgbClr val="0000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3" name=""/>
          <p:cNvSpPr/>
          <p:nvPr/>
        </p:nvSpPr>
        <p:spPr>
          <a:xfrm>
            <a:off x="7418520" y="3255840"/>
            <a:ext cx="15840" cy="1800"/>
          </a:xfrm>
          <a:custGeom>
            <a:avLst/>
            <a:gdLst/>
            <a:ahLst/>
            <a:rect l="l" t="t" r="r" b="b"/>
            <a:pathLst>
              <a:path w="10" h="0">
                <a:moveTo>
                  <a:pt x="0" y="0"/>
                </a:moveTo>
                <a:lnTo>
                  <a:pt x="1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4" name=""/>
          <p:cNvSpPr/>
          <p:nvPr/>
        </p:nvSpPr>
        <p:spPr>
          <a:xfrm>
            <a:off x="7418520" y="3255840"/>
            <a:ext cx="15840" cy="1800"/>
          </a:xfrm>
          <a:custGeom>
            <a:avLst/>
            <a:gdLst/>
            <a:ahLst/>
            <a:rect l="l" t="t" r="r" b="b"/>
            <a:pathLst>
              <a:path w="10" h="0">
                <a:moveTo>
                  <a:pt x="0" y="0"/>
                </a:moveTo>
                <a:lnTo>
                  <a:pt x="10" y="0"/>
                </a:lnTo>
                <a:lnTo>
                  <a:pt x="0" y="0"/>
                </a:lnTo>
              </a:path>
            </a:pathLst>
          </a:custGeom>
          <a:noFill/>
          <a:ln cap="rnd" w="3240">
            <a:solidFill>
              <a:srgbClr val="00008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5" name=""/>
          <p:cNvSpPr/>
          <p:nvPr/>
        </p:nvSpPr>
        <p:spPr>
          <a:xfrm>
            <a:off x="7418520" y="3271680"/>
            <a:ext cx="15840" cy="1800"/>
          </a:xfrm>
          <a:custGeom>
            <a:avLst/>
            <a:gdLst/>
            <a:ahLst/>
            <a:rect l="l" t="t" r="r" b="b"/>
            <a:pathLst>
              <a:path w="10" h="0">
                <a:moveTo>
                  <a:pt x="0" y="0"/>
                </a:moveTo>
                <a:lnTo>
                  <a:pt x="1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6" name=""/>
          <p:cNvSpPr/>
          <p:nvPr/>
        </p:nvSpPr>
        <p:spPr>
          <a:xfrm>
            <a:off x="7418520" y="3271680"/>
            <a:ext cx="15840" cy="1800"/>
          </a:xfrm>
          <a:custGeom>
            <a:avLst/>
            <a:gdLst/>
            <a:ahLst/>
            <a:rect l="l" t="t" r="r" b="b"/>
            <a:pathLst>
              <a:path w="10" h="0">
                <a:moveTo>
                  <a:pt x="0" y="0"/>
                </a:moveTo>
                <a:lnTo>
                  <a:pt x="10" y="0"/>
                </a:lnTo>
                <a:lnTo>
                  <a:pt x="0" y="0"/>
                </a:lnTo>
              </a:path>
            </a:pathLst>
          </a:custGeom>
          <a:noFill/>
          <a:ln cap="rnd" w="3240">
            <a:solidFill>
              <a:srgbClr val="00008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7" name=""/>
          <p:cNvSpPr/>
          <p:nvPr/>
        </p:nvSpPr>
        <p:spPr>
          <a:xfrm>
            <a:off x="7400880" y="3222720"/>
            <a:ext cx="17640" cy="15840"/>
          </a:xfrm>
          <a:custGeom>
            <a:avLst/>
            <a:gdLst/>
            <a:ahLst/>
            <a:rect l="l" t="t" r="r" b="b"/>
            <a:pathLst>
              <a:path w="11" h="10">
                <a:moveTo>
                  <a:pt x="0" y="0"/>
                </a:moveTo>
                <a:lnTo>
                  <a:pt x="11"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8" name=""/>
          <p:cNvSpPr/>
          <p:nvPr/>
        </p:nvSpPr>
        <p:spPr>
          <a:xfrm>
            <a:off x="7400880" y="3222720"/>
            <a:ext cx="17640" cy="15840"/>
          </a:xfrm>
          <a:custGeom>
            <a:avLst/>
            <a:gdLst/>
            <a:ahLst/>
            <a:rect l="l" t="t" r="r" b="b"/>
            <a:pathLst>
              <a:path w="11" h="10">
                <a:moveTo>
                  <a:pt x="0" y="0"/>
                </a:moveTo>
                <a:lnTo>
                  <a:pt x="11" y="0"/>
                </a:lnTo>
                <a:lnTo>
                  <a:pt x="0" y="10"/>
                </a:lnTo>
                <a:lnTo>
                  <a:pt x="0" y="0"/>
                </a:lnTo>
              </a:path>
            </a:pathLst>
          </a:custGeom>
          <a:noFill/>
          <a:ln cap="rnd" w="3240">
            <a:solidFill>
              <a:srgbClr val="0000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9" name=""/>
          <p:cNvSpPr/>
          <p:nvPr/>
        </p:nvSpPr>
        <p:spPr>
          <a:xfrm>
            <a:off x="7400880" y="3255840"/>
            <a:ext cx="17640" cy="1800"/>
          </a:xfrm>
          <a:custGeom>
            <a:avLst/>
            <a:gdLst/>
            <a:ahLst/>
            <a:rect l="l" t="t" r="r" b="b"/>
            <a:pathLst>
              <a:path w="11" h="0">
                <a:moveTo>
                  <a:pt x="0" y="0"/>
                </a:moveTo>
                <a:lnTo>
                  <a:pt x="11"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0" name=""/>
          <p:cNvSpPr/>
          <p:nvPr/>
        </p:nvSpPr>
        <p:spPr>
          <a:xfrm>
            <a:off x="7400880" y="3255840"/>
            <a:ext cx="17640" cy="1800"/>
          </a:xfrm>
          <a:custGeom>
            <a:avLst/>
            <a:gdLst/>
            <a:ahLst/>
            <a:rect l="l" t="t" r="r" b="b"/>
            <a:pathLst>
              <a:path w="11" h="0">
                <a:moveTo>
                  <a:pt x="0" y="0"/>
                </a:moveTo>
                <a:lnTo>
                  <a:pt x="11" y="0"/>
                </a:lnTo>
                <a:lnTo>
                  <a:pt x="0" y="0"/>
                </a:lnTo>
              </a:path>
            </a:pathLst>
          </a:custGeom>
          <a:noFill/>
          <a:ln cap="rnd" w="3240">
            <a:solidFill>
              <a:srgbClr val="00008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1" name=""/>
          <p:cNvSpPr/>
          <p:nvPr/>
        </p:nvSpPr>
        <p:spPr>
          <a:xfrm>
            <a:off x="7385040" y="3208320"/>
            <a:ext cx="3240" cy="1440"/>
          </a:xfrm>
          <a:prstGeom prst="rect">
            <a:avLst/>
          </a:prstGeom>
          <a:solidFill>
            <a:srgbClr val="000000"/>
          </a:solidFill>
          <a:ln cap="rnd" w="3240">
            <a:solidFill>
              <a:srgbClr val="00008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2" name=""/>
          <p:cNvSpPr/>
          <p:nvPr/>
        </p:nvSpPr>
        <p:spPr>
          <a:xfrm>
            <a:off x="7385040" y="3222720"/>
            <a:ext cx="15840" cy="1440"/>
          </a:xfrm>
          <a:custGeom>
            <a:avLst/>
            <a:gdLst/>
            <a:ahLst/>
            <a:rect l="l" t="t" r="r" b="b"/>
            <a:pathLst>
              <a:path w="10" h="0">
                <a:moveTo>
                  <a:pt x="0" y="0"/>
                </a:moveTo>
                <a:lnTo>
                  <a:pt x="1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3" name=""/>
          <p:cNvSpPr/>
          <p:nvPr/>
        </p:nvSpPr>
        <p:spPr>
          <a:xfrm>
            <a:off x="7385040" y="3222720"/>
            <a:ext cx="15840" cy="1440"/>
          </a:xfrm>
          <a:custGeom>
            <a:avLst/>
            <a:gdLst/>
            <a:ahLst/>
            <a:rect l="l" t="t" r="r" b="b"/>
            <a:pathLst>
              <a:path w="10" h="0">
                <a:moveTo>
                  <a:pt x="0" y="0"/>
                </a:moveTo>
                <a:lnTo>
                  <a:pt x="10" y="0"/>
                </a:lnTo>
                <a:lnTo>
                  <a:pt x="0" y="0"/>
                </a:lnTo>
              </a:path>
            </a:pathLst>
          </a:custGeom>
          <a:noFill/>
          <a:ln cap="rnd" w="3240">
            <a:solidFill>
              <a:srgbClr val="00008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4" name=""/>
          <p:cNvSpPr/>
          <p:nvPr/>
        </p:nvSpPr>
        <p:spPr>
          <a:xfrm>
            <a:off x="7332840" y="3192480"/>
            <a:ext cx="1440" cy="15840"/>
          </a:xfrm>
          <a:custGeom>
            <a:avLst/>
            <a:gdLst/>
            <a:ahLst/>
            <a:rect l="l" t="t" r="r" b="b"/>
            <a:pathLst>
              <a:path w="0" h="10">
                <a:moveTo>
                  <a:pt x="0" y="0"/>
                </a:moveTo>
                <a:lnTo>
                  <a:pt x="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5" name=""/>
          <p:cNvSpPr/>
          <p:nvPr/>
        </p:nvSpPr>
        <p:spPr>
          <a:xfrm>
            <a:off x="7332840" y="3192480"/>
            <a:ext cx="1440" cy="15840"/>
          </a:xfrm>
          <a:custGeom>
            <a:avLst/>
            <a:gdLst/>
            <a:ahLst/>
            <a:rect l="l" t="t" r="r" b="b"/>
            <a:pathLst>
              <a:path w="0" h="10">
                <a:moveTo>
                  <a:pt x="0" y="0"/>
                </a:moveTo>
                <a:lnTo>
                  <a:pt x="0" y="0"/>
                </a:lnTo>
                <a:lnTo>
                  <a:pt x="0" y="10"/>
                </a:lnTo>
                <a:lnTo>
                  <a:pt x="0" y="0"/>
                </a:lnTo>
              </a:path>
            </a:pathLst>
          </a:custGeom>
          <a:noFill/>
          <a:ln cap="rnd" w="3240">
            <a:solidFill>
              <a:srgbClr val="0000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6" name=""/>
          <p:cNvSpPr/>
          <p:nvPr/>
        </p:nvSpPr>
        <p:spPr>
          <a:xfrm>
            <a:off x="7110360" y="4465800"/>
            <a:ext cx="1800" cy="14040"/>
          </a:xfrm>
          <a:custGeom>
            <a:avLst/>
            <a:gdLst/>
            <a:ahLst/>
            <a:rect l="l" t="t" r="r" b="b"/>
            <a:pathLst>
              <a:path w="0" h="9">
                <a:moveTo>
                  <a:pt x="0" y="0"/>
                </a:moveTo>
                <a:lnTo>
                  <a:pt x="0" y="0"/>
                </a:lnTo>
                <a:lnTo>
                  <a:pt x="0" y="9"/>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97" name=""/>
          <p:cNvSpPr/>
          <p:nvPr/>
        </p:nvSpPr>
        <p:spPr>
          <a:xfrm>
            <a:off x="7110360" y="4465800"/>
            <a:ext cx="1800" cy="14040"/>
          </a:xfrm>
          <a:custGeom>
            <a:avLst/>
            <a:gdLst/>
            <a:ahLst/>
            <a:rect l="l" t="t" r="r" b="b"/>
            <a:pathLst>
              <a:path w="0" h="9">
                <a:moveTo>
                  <a:pt x="0" y="0"/>
                </a:moveTo>
                <a:lnTo>
                  <a:pt x="0" y="0"/>
                </a:lnTo>
                <a:lnTo>
                  <a:pt x="0" y="9"/>
                </a:lnTo>
                <a:lnTo>
                  <a:pt x="0" y="0"/>
                </a:lnTo>
              </a:path>
            </a:pathLst>
          </a:custGeom>
          <a:noFill/>
          <a:ln cap="rnd" w="3240">
            <a:solidFill>
              <a:srgbClr val="00008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98" name=""/>
          <p:cNvSpPr/>
          <p:nvPr/>
        </p:nvSpPr>
        <p:spPr>
          <a:xfrm>
            <a:off x="7110360" y="4479840"/>
            <a:ext cx="3240" cy="6480"/>
          </a:xfrm>
          <a:prstGeom prst="rect">
            <a:avLst/>
          </a:prstGeom>
          <a:solidFill>
            <a:srgbClr val="000000"/>
          </a:solidFill>
          <a:ln cap="rnd" w="3240">
            <a:solidFill>
              <a:srgbClr val="00008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9" name=""/>
          <p:cNvSpPr/>
          <p:nvPr/>
        </p:nvSpPr>
        <p:spPr>
          <a:xfrm>
            <a:off x="7061040" y="4465800"/>
            <a:ext cx="14400" cy="14040"/>
          </a:xfrm>
          <a:custGeom>
            <a:avLst/>
            <a:gdLst/>
            <a:ahLst/>
            <a:rect l="l" t="t" r="r" b="b"/>
            <a:pathLst>
              <a:path w="9" h="9">
                <a:moveTo>
                  <a:pt x="9" y="0"/>
                </a:moveTo>
                <a:lnTo>
                  <a:pt x="9" y="0"/>
                </a:lnTo>
                <a:lnTo>
                  <a:pt x="9" y="9"/>
                </a:lnTo>
                <a:lnTo>
                  <a:pt x="0" y="9"/>
                </a:lnTo>
                <a:lnTo>
                  <a:pt x="0" y="0"/>
                </a:lnTo>
                <a:lnTo>
                  <a:pt x="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00" name=""/>
          <p:cNvSpPr/>
          <p:nvPr/>
        </p:nvSpPr>
        <p:spPr>
          <a:xfrm>
            <a:off x="7061040" y="4465800"/>
            <a:ext cx="14400" cy="14040"/>
          </a:xfrm>
          <a:custGeom>
            <a:avLst/>
            <a:gdLst/>
            <a:ahLst/>
            <a:rect l="l" t="t" r="r" b="b"/>
            <a:pathLst>
              <a:path w="9" h="9">
                <a:moveTo>
                  <a:pt x="9" y="0"/>
                </a:moveTo>
                <a:lnTo>
                  <a:pt x="9" y="0"/>
                </a:lnTo>
                <a:lnTo>
                  <a:pt x="9" y="9"/>
                </a:lnTo>
                <a:lnTo>
                  <a:pt x="0" y="9"/>
                </a:lnTo>
                <a:lnTo>
                  <a:pt x="0" y="0"/>
                </a:lnTo>
                <a:lnTo>
                  <a:pt x="9" y="0"/>
                </a:lnTo>
              </a:path>
            </a:pathLst>
          </a:custGeom>
          <a:noFill/>
          <a:ln cap="rnd" w="3240">
            <a:solidFill>
              <a:srgbClr val="00008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01" name=""/>
          <p:cNvSpPr/>
          <p:nvPr/>
        </p:nvSpPr>
        <p:spPr>
          <a:xfrm>
            <a:off x="7075440" y="4519440"/>
            <a:ext cx="3240" cy="1800"/>
          </a:xfrm>
          <a:prstGeom prst="rect">
            <a:avLst/>
          </a:prstGeom>
          <a:solidFill>
            <a:srgbClr val="000000"/>
          </a:solidFill>
          <a:ln cap="rnd" w="3240">
            <a:solidFill>
              <a:srgbClr val="00008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2" name=""/>
          <p:cNvSpPr/>
          <p:nvPr/>
        </p:nvSpPr>
        <p:spPr>
          <a:xfrm>
            <a:off x="5000760" y="4871880"/>
            <a:ext cx="17280" cy="1800"/>
          </a:xfrm>
          <a:custGeom>
            <a:avLst/>
            <a:gdLst/>
            <a:ahLst/>
            <a:rect l="l" t="t" r="r" b="b"/>
            <a:pathLst>
              <a:path w="11" h="0">
                <a:moveTo>
                  <a:pt x="0" y="0"/>
                </a:moveTo>
                <a:lnTo>
                  <a:pt x="11"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3" name=""/>
          <p:cNvSpPr/>
          <p:nvPr/>
        </p:nvSpPr>
        <p:spPr>
          <a:xfrm>
            <a:off x="5000760" y="4871880"/>
            <a:ext cx="17280" cy="1800"/>
          </a:xfrm>
          <a:custGeom>
            <a:avLst/>
            <a:gdLst/>
            <a:ahLst/>
            <a:rect l="l" t="t" r="r" b="b"/>
            <a:pathLst>
              <a:path w="11" h="0">
                <a:moveTo>
                  <a:pt x="0" y="0"/>
                </a:moveTo>
                <a:lnTo>
                  <a:pt x="11" y="0"/>
                </a:lnTo>
                <a:lnTo>
                  <a:pt x="0" y="0"/>
                </a:lnTo>
              </a:path>
            </a:pathLst>
          </a:custGeom>
          <a:noFill/>
          <a:ln cap="rnd" w="3240">
            <a:solidFill>
              <a:srgbClr val="00008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4" name=""/>
          <p:cNvSpPr/>
          <p:nvPr/>
        </p:nvSpPr>
        <p:spPr>
          <a:xfrm>
            <a:off x="7021440" y="4551480"/>
            <a:ext cx="23760" cy="1440"/>
          </a:xfrm>
          <a:custGeom>
            <a:avLst/>
            <a:gdLst/>
            <a:ahLst/>
            <a:rect l="l" t="t" r="r" b="b"/>
            <a:pathLst>
              <a:path w="15" h="0">
                <a:moveTo>
                  <a:pt x="15" y="0"/>
                </a:moveTo>
                <a:lnTo>
                  <a:pt x="15" y="0"/>
                </a:lnTo>
                <a:lnTo>
                  <a:pt x="0" y="0"/>
                </a:lnTo>
                <a:lnTo>
                  <a:pt x="1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5" name=""/>
          <p:cNvSpPr/>
          <p:nvPr/>
        </p:nvSpPr>
        <p:spPr>
          <a:xfrm>
            <a:off x="7021440" y="4551480"/>
            <a:ext cx="23760" cy="1440"/>
          </a:xfrm>
          <a:custGeom>
            <a:avLst/>
            <a:gdLst/>
            <a:ahLst/>
            <a:rect l="l" t="t" r="r" b="b"/>
            <a:pathLst>
              <a:path w="15" h="0">
                <a:moveTo>
                  <a:pt x="15" y="0"/>
                </a:moveTo>
                <a:lnTo>
                  <a:pt x="15" y="0"/>
                </a:lnTo>
                <a:lnTo>
                  <a:pt x="0" y="0"/>
                </a:lnTo>
                <a:lnTo>
                  <a:pt x="15" y="0"/>
                </a:lnTo>
              </a:path>
            </a:pathLst>
          </a:custGeom>
          <a:noFill/>
          <a:ln cap="rnd" w="3240">
            <a:solidFill>
              <a:srgbClr val="00008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6" name=""/>
          <p:cNvSpPr/>
          <p:nvPr/>
        </p:nvSpPr>
        <p:spPr>
          <a:xfrm>
            <a:off x="7021440" y="453240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7" name=""/>
          <p:cNvSpPr/>
          <p:nvPr/>
        </p:nvSpPr>
        <p:spPr>
          <a:xfrm>
            <a:off x="7021440" y="4532400"/>
            <a:ext cx="1800" cy="1440"/>
          </a:xfrm>
          <a:prstGeom prst="line">
            <a:avLst/>
          </a:prstGeom>
          <a:ln cap="rnd" w="3240">
            <a:solidFill>
              <a:srgbClr val="00008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8" name=""/>
          <p:cNvSpPr/>
          <p:nvPr/>
        </p:nvSpPr>
        <p:spPr>
          <a:xfrm>
            <a:off x="7021440" y="4551480"/>
            <a:ext cx="1800" cy="14040"/>
          </a:xfrm>
          <a:custGeom>
            <a:avLst/>
            <a:gdLst/>
            <a:ahLst/>
            <a:rect l="l" t="t" r="r" b="b"/>
            <a:pathLst>
              <a:path w="0" h="9">
                <a:moveTo>
                  <a:pt x="0" y="0"/>
                </a:moveTo>
                <a:lnTo>
                  <a:pt x="0" y="9"/>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09" name=""/>
          <p:cNvSpPr/>
          <p:nvPr/>
        </p:nvSpPr>
        <p:spPr>
          <a:xfrm>
            <a:off x="7021440" y="4551480"/>
            <a:ext cx="1800" cy="14040"/>
          </a:xfrm>
          <a:custGeom>
            <a:avLst/>
            <a:gdLst/>
            <a:ahLst/>
            <a:rect l="l" t="t" r="r" b="b"/>
            <a:pathLst>
              <a:path w="0" h="9">
                <a:moveTo>
                  <a:pt x="0" y="0"/>
                </a:moveTo>
                <a:lnTo>
                  <a:pt x="0" y="9"/>
                </a:lnTo>
                <a:lnTo>
                  <a:pt x="0" y="0"/>
                </a:lnTo>
              </a:path>
            </a:pathLst>
          </a:custGeom>
          <a:noFill/>
          <a:ln cap="rnd" w="3240">
            <a:solidFill>
              <a:srgbClr val="00008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10" name=""/>
          <p:cNvSpPr/>
          <p:nvPr/>
        </p:nvSpPr>
        <p:spPr>
          <a:xfrm>
            <a:off x="6989760" y="4565520"/>
            <a:ext cx="15840" cy="32040"/>
          </a:xfrm>
          <a:custGeom>
            <a:avLst/>
            <a:gdLst/>
            <a:ahLst/>
            <a:rect l="l" t="t" r="r" b="b"/>
            <a:pathLst>
              <a:path w="10" h="20">
                <a:moveTo>
                  <a:pt x="10" y="0"/>
                </a:moveTo>
                <a:lnTo>
                  <a:pt x="10" y="10"/>
                </a:lnTo>
                <a:lnTo>
                  <a:pt x="10" y="20"/>
                </a:lnTo>
                <a:lnTo>
                  <a:pt x="0" y="10"/>
                </a:lnTo>
                <a:lnTo>
                  <a:pt x="10" y="10"/>
                </a:lnTo>
                <a:lnTo>
                  <a:pt x="1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1" name=""/>
          <p:cNvSpPr/>
          <p:nvPr/>
        </p:nvSpPr>
        <p:spPr>
          <a:xfrm>
            <a:off x="6989760" y="4565520"/>
            <a:ext cx="15840" cy="32040"/>
          </a:xfrm>
          <a:custGeom>
            <a:avLst/>
            <a:gdLst/>
            <a:ahLst/>
            <a:rect l="l" t="t" r="r" b="b"/>
            <a:pathLst>
              <a:path w="10" h="20">
                <a:moveTo>
                  <a:pt x="10" y="0"/>
                </a:moveTo>
                <a:lnTo>
                  <a:pt x="10" y="10"/>
                </a:lnTo>
                <a:lnTo>
                  <a:pt x="10" y="20"/>
                </a:lnTo>
                <a:lnTo>
                  <a:pt x="0" y="10"/>
                </a:lnTo>
                <a:lnTo>
                  <a:pt x="10" y="10"/>
                </a:lnTo>
                <a:lnTo>
                  <a:pt x="10" y="0"/>
                </a:lnTo>
              </a:path>
            </a:pathLst>
          </a:custGeom>
          <a:noFill/>
          <a:ln cap="rnd" w="3240">
            <a:solidFill>
              <a:srgbClr val="00008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2" name=""/>
          <p:cNvSpPr/>
          <p:nvPr/>
        </p:nvSpPr>
        <p:spPr>
          <a:xfrm>
            <a:off x="7005600" y="4551480"/>
            <a:ext cx="3240" cy="1440"/>
          </a:xfrm>
          <a:prstGeom prst="rect">
            <a:avLst/>
          </a:prstGeom>
          <a:solidFill>
            <a:srgbClr val="000000"/>
          </a:solidFill>
          <a:ln cap="rnd" w="3240">
            <a:solidFill>
              <a:srgbClr val="00008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3" name=""/>
          <p:cNvSpPr/>
          <p:nvPr/>
        </p:nvSpPr>
        <p:spPr>
          <a:xfrm>
            <a:off x="6956280" y="4581360"/>
            <a:ext cx="33480" cy="46080"/>
          </a:xfrm>
          <a:custGeom>
            <a:avLst/>
            <a:gdLst/>
            <a:ahLst/>
            <a:rect l="l" t="t" r="r" b="b"/>
            <a:pathLst>
              <a:path w="21" h="29">
                <a:moveTo>
                  <a:pt x="21" y="0"/>
                </a:moveTo>
                <a:lnTo>
                  <a:pt x="21" y="10"/>
                </a:lnTo>
                <a:lnTo>
                  <a:pt x="21" y="21"/>
                </a:lnTo>
                <a:lnTo>
                  <a:pt x="10" y="21"/>
                </a:lnTo>
                <a:lnTo>
                  <a:pt x="10" y="10"/>
                </a:lnTo>
                <a:lnTo>
                  <a:pt x="10" y="21"/>
                </a:lnTo>
                <a:lnTo>
                  <a:pt x="10" y="29"/>
                </a:lnTo>
                <a:lnTo>
                  <a:pt x="0" y="29"/>
                </a:lnTo>
                <a:lnTo>
                  <a:pt x="0" y="21"/>
                </a:lnTo>
                <a:lnTo>
                  <a:pt x="0" y="10"/>
                </a:lnTo>
                <a:lnTo>
                  <a:pt x="10" y="10"/>
                </a:lnTo>
                <a:lnTo>
                  <a:pt x="10" y="0"/>
                </a:lnTo>
                <a:lnTo>
                  <a:pt x="2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14" name=""/>
          <p:cNvSpPr/>
          <p:nvPr/>
        </p:nvSpPr>
        <p:spPr>
          <a:xfrm>
            <a:off x="6956280" y="4581360"/>
            <a:ext cx="33480" cy="46080"/>
          </a:xfrm>
          <a:custGeom>
            <a:avLst/>
            <a:gdLst/>
            <a:ahLst/>
            <a:rect l="l" t="t" r="r" b="b"/>
            <a:pathLst>
              <a:path w="21" h="29">
                <a:moveTo>
                  <a:pt x="21" y="0"/>
                </a:moveTo>
                <a:lnTo>
                  <a:pt x="21" y="10"/>
                </a:lnTo>
                <a:lnTo>
                  <a:pt x="21" y="21"/>
                </a:lnTo>
                <a:lnTo>
                  <a:pt x="10" y="21"/>
                </a:lnTo>
                <a:lnTo>
                  <a:pt x="10" y="10"/>
                </a:lnTo>
                <a:lnTo>
                  <a:pt x="10" y="21"/>
                </a:lnTo>
                <a:lnTo>
                  <a:pt x="10" y="29"/>
                </a:lnTo>
                <a:lnTo>
                  <a:pt x="0" y="29"/>
                </a:lnTo>
                <a:lnTo>
                  <a:pt x="0" y="21"/>
                </a:lnTo>
                <a:lnTo>
                  <a:pt x="0" y="10"/>
                </a:lnTo>
                <a:lnTo>
                  <a:pt x="10" y="10"/>
                </a:lnTo>
                <a:lnTo>
                  <a:pt x="10" y="0"/>
                </a:lnTo>
                <a:lnTo>
                  <a:pt x="21" y="0"/>
                </a:lnTo>
              </a:path>
            </a:pathLst>
          </a:custGeom>
          <a:noFill/>
          <a:ln cap="rnd" w="3240">
            <a:solidFill>
              <a:srgbClr val="00008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15" name=""/>
          <p:cNvSpPr/>
          <p:nvPr/>
        </p:nvSpPr>
        <p:spPr>
          <a:xfrm>
            <a:off x="6919920" y="4627440"/>
            <a:ext cx="19080" cy="15840"/>
          </a:xfrm>
          <a:custGeom>
            <a:avLst/>
            <a:gdLst/>
            <a:ahLst/>
            <a:rect l="l" t="t" r="r" b="b"/>
            <a:pathLst>
              <a:path w="12" h="10">
                <a:moveTo>
                  <a:pt x="12" y="0"/>
                </a:moveTo>
                <a:lnTo>
                  <a:pt x="12" y="0"/>
                </a:lnTo>
                <a:lnTo>
                  <a:pt x="12" y="10"/>
                </a:lnTo>
                <a:lnTo>
                  <a:pt x="0" y="10"/>
                </a:lnTo>
                <a:lnTo>
                  <a:pt x="0" y="0"/>
                </a:lnTo>
                <a:lnTo>
                  <a:pt x="1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16" name=""/>
          <p:cNvSpPr/>
          <p:nvPr/>
        </p:nvSpPr>
        <p:spPr>
          <a:xfrm>
            <a:off x="6919920" y="4627440"/>
            <a:ext cx="19080" cy="15840"/>
          </a:xfrm>
          <a:custGeom>
            <a:avLst/>
            <a:gdLst/>
            <a:ahLst/>
            <a:rect l="l" t="t" r="r" b="b"/>
            <a:pathLst>
              <a:path w="12" h="10">
                <a:moveTo>
                  <a:pt x="12" y="0"/>
                </a:moveTo>
                <a:lnTo>
                  <a:pt x="12" y="0"/>
                </a:lnTo>
                <a:lnTo>
                  <a:pt x="12" y="10"/>
                </a:lnTo>
                <a:lnTo>
                  <a:pt x="0" y="10"/>
                </a:lnTo>
                <a:lnTo>
                  <a:pt x="0" y="0"/>
                </a:lnTo>
                <a:lnTo>
                  <a:pt x="12" y="0"/>
                </a:lnTo>
              </a:path>
            </a:pathLst>
          </a:custGeom>
          <a:noFill/>
          <a:ln cap="rnd" w="3240">
            <a:solidFill>
              <a:srgbClr val="0000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17" name=""/>
          <p:cNvSpPr/>
          <p:nvPr/>
        </p:nvSpPr>
        <p:spPr>
          <a:xfrm>
            <a:off x="6904080" y="4643280"/>
            <a:ext cx="15840" cy="33480"/>
          </a:xfrm>
          <a:custGeom>
            <a:avLst/>
            <a:gdLst/>
            <a:ahLst/>
            <a:rect l="l" t="t" r="r" b="b"/>
            <a:pathLst>
              <a:path w="10" h="21">
                <a:moveTo>
                  <a:pt x="10" y="0"/>
                </a:moveTo>
                <a:lnTo>
                  <a:pt x="10" y="0"/>
                </a:lnTo>
                <a:lnTo>
                  <a:pt x="10" y="11"/>
                </a:lnTo>
                <a:lnTo>
                  <a:pt x="10" y="21"/>
                </a:lnTo>
                <a:lnTo>
                  <a:pt x="0" y="21"/>
                </a:lnTo>
                <a:lnTo>
                  <a:pt x="0" y="11"/>
                </a:lnTo>
                <a:lnTo>
                  <a:pt x="0" y="0"/>
                </a:lnTo>
                <a:lnTo>
                  <a:pt x="1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18" name=""/>
          <p:cNvSpPr/>
          <p:nvPr/>
        </p:nvSpPr>
        <p:spPr>
          <a:xfrm>
            <a:off x="6904080" y="4643280"/>
            <a:ext cx="15840" cy="33480"/>
          </a:xfrm>
          <a:custGeom>
            <a:avLst/>
            <a:gdLst/>
            <a:ahLst/>
            <a:rect l="l" t="t" r="r" b="b"/>
            <a:pathLst>
              <a:path w="10" h="21">
                <a:moveTo>
                  <a:pt x="10" y="0"/>
                </a:moveTo>
                <a:lnTo>
                  <a:pt x="10" y="0"/>
                </a:lnTo>
                <a:lnTo>
                  <a:pt x="10" y="11"/>
                </a:lnTo>
                <a:lnTo>
                  <a:pt x="10" y="21"/>
                </a:lnTo>
                <a:lnTo>
                  <a:pt x="0" y="21"/>
                </a:lnTo>
                <a:lnTo>
                  <a:pt x="0" y="11"/>
                </a:lnTo>
                <a:lnTo>
                  <a:pt x="0" y="0"/>
                </a:lnTo>
                <a:lnTo>
                  <a:pt x="10" y="0"/>
                </a:lnTo>
              </a:path>
            </a:pathLst>
          </a:custGeom>
          <a:noFill/>
          <a:ln cap="rnd" w="3240">
            <a:solidFill>
              <a:srgbClr val="00008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19" name=""/>
          <p:cNvSpPr/>
          <p:nvPr/>
        </p:nvSpPr>
        <p:spPr>
          <a:xfrm>
            <a:off x="6886440" y="467676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20" name=""/>
          <p:cNvSpPr/>
          <p:nvPr/>
        </p:nvSpPr>
        <p:spPr>
          <a:xfrm>
            <a:off x="6886440" y="4676760"/>
            <a:ext cx="17640" cy="17640"/>
          </a:xfrm>
          <a:prstGeom prst="rect">
            <a:avLst/>
          </a:prstGeom>
          <a:noFill/>
          <a:ln cap="rnd" w="3240">
            <a:solidFill>
              <a:srgbClr val="00008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21" name=""/>
          <p:cNvSpPr/>
          <p:nvPr/>
        </p:nvSpPr>
        <p:spPr>
          <a:xfrm>
            <a:off x="6856560" y="4694400"/>
            <a:ext cx="17280" cy="18720"/>
          </a:xfrm>
          <a:custGeom>
            <a:avLst/>
            <a:gdLst/>
            <a:ahLst/>
            <a:rect l="l" t="t" r="r" b="b"/>
            <a:pathLst>
              <a:path w="11" h="12">
                <a:moveTo>
                  <a:pt x="11" y="0"/>
                </a:moveTo>
                <a:lnTo>
                  <a:pt x="11" y="0"/>
                </a:lnTo>
                <a:lnTo>
                  <a:pt x="11" y="12"/>
                </a:lnTo>
                <a:lnTo>
                  <a:pt x="0" y="12"/>
                </a:lnTo>
                <a:lnTo>
                  <a:pt x="11" y="12"/>
                </a:lnTo>
                <a:lnTo>
                  <a:pt x="1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22" name=""/>
          <p:cNvSpPr/>
          <p:nvPr/>
        </p:nvSpPr>
        <p:spPr>
          <a:xfrm>
            <a:off x="6856560" y="4694400"/>
            <a:ext cx="17280" cy="18720"/>
          </a:xfrm>
          <a:custGeom>
            <a:avLst/>
            <a:gdLst/>
            <a:ahLst/>
            <a:rect l="l" t="t" r="r" b="b"/>
            <a:pathLst>
              <a:path w="11" h="12">
                <a:moveTo>
                  <a:pt x="11" y="0"/>
                </a:moveTo>
                <a:lnTo>
                  <a:pt x="11" y="0"/>
                </a:lnTo>
                <a:lnTo>
                  <a:pt x="11" y="12"/>
                </a:lnTo>
                <a:lnTo>
                  <a:pt x="0" y="12"/>
                </a:lnTo>
                <a:lnTo>
                  <a:pt x="11" y="12"/>
                </a:lnTo>
                <a:lnTo>
                  <a:pt x="11" y="0"/>
                </a:lnTo>
              </a:path>
            </a:pathLst>
          </a:custGeom>
          <a:noFill/>
          <a:ln cap="rnd" w="3240">
            <a:solidFill>
              <a:srgbClr val="00008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23" name=""/>
          <p:cNvSpPr/>
          <p:nvPr/>
        </p:nvSpPr>
        <p:spPr>
          <a:xfrm>
            <a:off x="6818400" y="4730760"/>
            <a:ext cx="3240" cy="1440"/>
          </a:xfrm>
          <a:prstGeom prst="rect">
            <a:avLst/>
          </a:prstGeom>
          <a:solidFill>
            <a:srgbClr val="000000"/>
          </a:solidFill>
          <a:ln cap="rnd" w="3240">
            <a:solidFill>
              <a:srgbClr val="00008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4" name=""/>
          <p:cNvSpPr/>
          <p:nvPr/>
        </p:nvSpPr>
        <p:spPr>
          <a:xfrm>
            <a:off x="6478560" y="5037120"/>
            <a:ext cx="1440" cy="15840"/>
          </a:xfrm>
          <a:custGeom>
            <a:avLst/>
            <a:gdLst/>
            <a:ahLst/>
            <a:rect l="l" t="t" r="r" b="b"/>
            <a:pathLst>
              <a:path w="0" h="10">
                <a:moveTo>
                  <a:pt x="0" y="0"/>
                </a:move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25" name=""/>
          <p:cNvSpPr/>
          <p:nvPr/>
        </p:nvSpPr>
        <p:spPr>
          <a:xfrm>
            <a:off x="6478560" y="5037120"/>
            <a:ext cx="1440" cy="15840"/>
          </a:xfrm>
          <a:custGeom>
            <a:avLst/>
            <a:gdLst/>
            <a:ahLst/>
            <a:rect l="l" t="t" r="r" b="b"/>
            <a:pathLst>
              <a:path w="0" h="10">
                <a:moveTo>
                  <a:pt x="0" y="0"/>
                </a:moveTo>
                <a:lnTo>
                  <a:pt x="0" y="10"/>
                </a:lnTo>
                <a:lnTo>
                  <a:pt x="0" y="0"/>
                </a:lnTo>
              </a:path>
            </a:pathLst>
          </a:custGeom>
          <a:noFill/>
          <a:ln cap="rnd" w="3240">
            <a:solidFill>
              <a:srgbClr val="0000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26" name=""/>
          <p:cNvSpPr/>
          <p:nvPr/>
        </p:nvSpPr>
        <p:spPr>
          <a:xfrm>
            <a:off x="6438960" y="5052960"/>
            <a:ext cx="22320" cy="1800"/>
          </a:xfrm>
          <a:custGeom>
            <a:avLst/>
            <a:gdLst/>
            <a:ahLst/>
            <a:rect l="l" t="t" r="r" b="b"/>
            <a:pathLst>
              <a:path w="14" h="0">
                <a:moveTo>
                  <a:pt x="14" y="0"/>
                </a:moveTo>
                <a:lnTo>
                  <a:pt x="14" y="0"/>
                </a:lnTo>
                <a:lnTo>
                  <a:pt x="0" y="0"/>
                </a:lnTo>
                <a:lnTo>
                  <a:pt x="14"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7" name=""/>
          <p:cNvSpPr/>
          <p:nvPr/>
        </p:nvSpPr>
        <p:spPr>
          <a:xfrm>
            <a:off x="6438960" y="5052960"/>
            <a:ext cx="22320" cy="1800"/>
          </a:xfrm>
          <a:custGeom>
            <a:avLst/>
            <a:gdLst/>
            <a:ahLst/>
            <a:rect l="l" t="t" r="r" b="b"/>
            <a:pathLst>
              <a:path w="14" h="0">
                <a:moveTo>
                  <a:pt x="14" y="0"/>
                </a:moveTo>
                <a:lnTo>
                  <a:pt x="14" y="0"/>
                </a:lnTo>
                <a:lnTo>
                  <a:pt x="0" y="0"/>
                </a:lnTo>
                <a:lnTo>
                  <a:pt x="14" y="0"/>
                </a:lnTo>
              </a:path>
            </a:pathLst>
          </a:custGeom>
          <a:noFill/>
          <a:ln cap="rnd" w="3240">
            <a:solidFill>
              <a:srgbClr val="00008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8" name=""/>
          <p:cNvSpPr/>
          <p:nvPr/>
        </p:nvSpPr>
        <p:spPr>
          <a:xfrm>
            <a:off x="6438960" y="5070600"/>
            <a:ext cx="22320" cy="19080"/>
          </a:xfrm>
          <a:custGeom>
            <a:avLst/>
            <a:gdLst/>
            <a:ahLst/>
            <a:rect l="l" t="t" r="r" b="b"/>
            <a:pathLst>
              <a:path w="14" h="12">
                <a:moveTo>
                  <a:pt x="14" y="0"/>
                </a:moveTo>
                <a:lnTo>
                  <a:pt x="14" y="0"/>
                </a:lnTo>
                <a:lnTo>
                  <a:pt x="14" y="12"/>
                </a:lnTo>
                <a:lnTo>
                  <a:pt x="0" y="12"/>
                </a:lnTo>
                <a:lnTo>
                  <a:pt x="0" y="0"/>
                </a:lnTo>
                <a:lnTo>
                  <a:pt x="1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29" name=""/>
          <p:cNvSpPr/>
          <p:nvPr/>
        </p:nvSpPr>
        <p:spPr>
          <a:xfrm>
            <a:off x="6438960" y="5070600"/>
            <a:ext cx="22320" cy="19080"/>
          </a:xfrm>
          <a:custGeom>
            <a:avLst/>
            <a:gdLst/>
            <a:ahLst/>
            <a:rect l="l" t="t" r="r" b="b"/>
            <a:pathLst>
              <a:path w="14" h="12">
                <a:moveTo>
                  <a:pt x="14" y="0"/>
                </a:moveTo>
                <a:lnTo>
                  <a:pt x="14" y="0"/>
                </a:lnTo>
                <a:lnTo>
                  <a:pt x="14" y="12"/>
                </a:lnTo>
                <a:lnTo>
                  <a:pt x="0" y="12"/>
                </a:lnTo>
                <a:lnTo>
                  <a:pt x="0" y="0"/>
                </a:lnTo>
                <a:lnTo>
                  <a:pt x="14" y="0"/>
                </a:lnTo>
              </a:path>
            </a:pathLst>
          </a:custGeom>
          <a:noFill/>
          <a:ln cap="rnd" w="3240">
            <a:solidFill>
              <a:srgbClr val="00008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30" name=""/>
          <p:cNvSpPr/>
          <p:nvPr/>
        </p:nvSpPr>
        <p:spPr>
          <a:xfrm>
            <a:off x="6338880" y="4970520"/>
            <a:ext cx="82440" cy="82440"/>
          </a:xfrm>
          <a:custGeom>
            <a:avLst/>
            <a:gdLst/>
            <a:ahLst/>
            <a:rect l="l" t="t" r="r" b="b"/>
            <a:pathLst>
              <a:path w="52" h="52">
                <a:moveTo>
                  <a:pt x="52" y="0"/>
                </a:moveTo>
                <a:lnTo>
                  <a:pt x="52" y="11"/>
                </a:lnTo>
                <a:lnTo>
                  <a:pt x="52" y="21"/>
                </a:lnTo>
                <a:lnTo>
                  <a:pt x="42" y="21"/>
                </a:lnTo>
                <a:lnTo>
                  <a:pt x="32" y="21"/>
                </a:lnTo>
                <a:lnTo>
                  <a:pt x="32" y="31"/>
                </a:lnTo>
                <a:lnTo>
                  <a:pt x="21" y="31"/>
                </a:lnTo>
                <a:lnTo>
                  <a:pt x="21" y="42"/>
                </a:lnTo>
                <a:lnTo>
                  <a:pt x="11" y="42"/>
                </a:lnTo>
                <a:lnTo>
                  <a:pt x="11" y="52"/>
                </a:lnTo>
                <a:lnTo>
                  <a:pt x="0" y="52"/>
                </a:lnTo>
                <a:lnTo>
                  <a:pt x="0" y="42"/>
                </a:lnTo>
                <a:lnTo>
                  <a:pt x="0" y="31"/>
                </a:lnTo>
                <a:lnTo>
                  <a:pt x="11" y="31"/>
                </a:lnTo>
                <a:lnTo>
                  <a:pt x="11" y="21"/>
                </a:lnTo>
                <a:lnTo>
                  <a:pt x="21" y="21"/>
                </a:lnTo>
                <a:lnTo>
                  <a:pt x="32" y="21"/>
                </a:lnTo>
                <a:lnTo>
                  <a:pt x="32" y="11"/>
                </a:lnTo>
                <a:lnTo>
                  <a:pt x="42" y="11"/>
                </a:lnTo>
                <a:lnTo>
                  <a:pt x="52" y="11"/>
                </a:lnTo>
                <a:lnTo>
                  <a:pt x="5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1" name=""/>
          <p:cNvSpPr/>
          <p:nvPr/>
        </p:nvSpPr>
        <p:spPr>
          <a:xfrm>
            <a:off x="6338880" y="4970520"/>
            <a:ext cx="82440" cy="82440"/>
          </a:xfrm>
          <a:custGeom>
            <a:avLst/>
            <a:gdLst/>
            <a:ahLst/>
            <a:rect l="l" t="t" r="r" b="b"/>
            <a:pathLst>
              <a:path w="52" h="52">
                <a:moveTo>
                  <a:pt x="52" y="0"/>
                </a:moveTo>
                <a:lnTo>
                  <a:pt x="52" y="11"/>
                </a:lnTo>
                <a:lnTo>
                  <a:pt x="52" y="21"/>
                </a:lnTo>
                <a:lnTo>
                  <a:pt x="42" y="21"/>
                </a:lnTo>
                <a:lnTo>
                  <a:pt x="32" y="21"/>
                </a:lnTo>
                <a:lnTo>
                  <a:pt x="32" y="31"/>
                </a:lnTo>
                <a:lnTo>
                  <a:pt x="21" y="31"/>
                </a:lnTo>
                <a:lnTo>
                  <a:pt x="21" y="42"/>
                </a:lnTo>
                <a:lnTo>
                  <a:pt x="11" y="42"/>
                </a:lnTo>
                <a:lnTo>
                  <a:pt x="11" y="52"/>
                </a:lnTo>
                <a:lnTo>
                  <a:pt x="0" y="52"/>
                </a:lnTo>
                <a:lnTo>
                  <a:pt x="0" y="42"/>
                </a:lnTo>
                <a:lnTo>
                  <a:pt x="0" y="31"/>
                </a:lnTo>
                <a:lnTo>
                  <a:pt x="11" y="31"/>
                </a:lnTo>
                <a:lnTo>
                  <a:pt x="11" y="21"/>
                </a:lnTo>
                <a:lnTo>
                  <a:pt x="21" y="21"/>
                </a:lnTo>
                <a:lnTo>
                  <a:pt x="32" y="21"/>
                </a:lnTo>
                <a:lnTo>
                  <a:pt x="32" y="11"/>
                </a:lnTo>
                <a:lnTo>
                  <a:pt x="42" y="11"/>
                </a:lnTo>
                <a:lnTo>
                  <a:pt x="52" y="11"/>
                </a:lnTo>
                <a:lnTo>
                  <a:pt x="52" y="0"/>
                </a:lnTo>
              </a:path>
            </a:pathLst>
          </a:custGeom>
          <a:noFill/>
          <a:ln cap="rnd" w="3240">
            <a:solidFill>
              <a:srgbClr val="00008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2" name=""/>
          <p:cNvSpPr/>
          <p:nvPr/>
        </p:nvSpPr>
        <p:spPr>
          <a:xfrm>
            <a:off x="6405480" y="400680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3" name=""/>
          <p:cNvSpPr/>
          <p:nvPr/>
        </p:nvSpPr>
        <p:spPr>
          <a:xfrm>
            <a:off x="6405480" y="4006800"/>
            <a:ext cx="1800" cy="1800"/>
          </a:xfrm>
          <a:prstGeom prst="line">
            <a:avLst/>
          </a:prstGeom>
          <a:ln cap="rnd" w="3240">
            <a:solidFill>
              <a:srgbClr val="00008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4" name=""/>
          <p:cNvSpPr/>
          <p:nvPr/>
        </p:nvSpPr>
        <p:spPr>
          <a:xfrm>
            <a:off x="6353280" y="5019840"/>
            <a:ext cx="15840" cy="17280"/>
          </a:xfrm>
          <a:custGeom>
            <a:avLst/>
            <a:gdLst/>
            <a:ahLst/>
            <a:rect l="l" t="t" r="r" b="b"/>
            <a:pathLst>
              <a:path w="10" h="11">
                <a:moveTo>
                  <a:pt x="10" y="0"/>
                </a:moveTo>
                <a:lnTo>
                  <a:pt x="10" y="0"/>
                </a:lnTo>
                <a:lnTo>
                  <a:pt x="0" y="0"/>
                </a:lnTo>
                <a:lnTo>
                  <a:pt x="10" y="11"/>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35" name=""/>
          <p:cNvSpPr/>
          <p:nvPr/>
        </p:nvSpPr>
        <p:spPr>
          <a:xfrm>
            <a:off x="6353280" y="5019840"/>
            <a:ext cx="15840" cy="17280"/>
          </a:xfrm>
          <a:custGeom>
            <a:avLst/>
            <a:gdLst/>
            <a:ahLst/>
            <a:rect l="l" t="t" r="r" b="b"/>
            <a:pathLst>
              <a:path w="10" h="11">
                <a:moveTo>
                  <a:pt x="10" y="0"/>
                </a:moveTo>
                <a:lnTo>
                  <a:pt x="10" y="0"/>
                </a:lnTo>
                <a:lnTo>
                  <a:pt x="0" y="0"/>
                </a:lnTo>
                <a:lnTo>
                  <a:pt x="10" y="11"/>
                </a:lnTo>
                <a:lnTo>
                  <a:pt x="10" y="0"/>
                </a:lnTo>
              </a:path>
            </a:pathLst>
          </a:custGeom>
          <a:noFill/>
          <a:ln cap="rnd" w="3240">
            <a:solidFill>
              <a:srgbClr val="00008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36" name=""/>
          <p:cNvSpPr/>
          <p:nvPr/>
        </p:nvSpPr>
        <p:spPr>
          <a:xfrm>
            <a:off x="6338880" y="5070600"/>
            <a:ext cx="1440" cy="2880"/>
          </a:xfrm>
          <a:prstGeom prst="rect">
            <a:avLst/>
          </a:prstGeom>
          <a:solidFill>
            <a:srgbClr val="000000"/>
          </a:solidFill>
          <a:ln cap="rnd" w="3240">
            <a:solidFill>
              <a:srgbClr val="00008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37" name=""/>
          <p:cNvSpPr/>
          <p:nvPr/>
        </p:nvSpPr>
        <p:spPr>
          <a:xfrm>
            <a:off x="6289560" y="5089680"/>
            <a:ext cx="1800" cy="1440"/>
          </a:xfrm>
          <a:prstGeom prst="rect">
            <a:avLst/>
          </a:prstGeom>
          <a:solidFill>
            <a:srgbClr val="000000"/>
          </a:solidFill>
          <a:ln cap="rnd" w="3240">
            <a:solidFill>
              <a:srgbClr val="00008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8" name=""/>
          <p:cNvSpPr/>
          <p:nvPr/>
        </p:nvSpPr>
        <p:spPr>
          <a:xfrm>
            <a:off x="7899480" y="3730680"/>
            <a:ext cx="15840" cy="144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9" name=""/>
          <p:cNvSpPr/>
          <p:nvPr/>
        </p:nvSpPr>
        <p:spPr>
          <a:xfrm>
            <a:off x="7899480" y="3730680"/>
            <a:ext cx="15840" cy="1440"/>
          </a:xfrm>
          <a:custGeom>
            <a:avLst/>
            <a:gdLst/>
            <a:ahLst/>
            <a:rect l="l" t="t" r="r" b="b"/>
            <a:pathLst>
              <a:path w="10" h="0">
                <a:moveTo>
                  <a:pt x="10" y="0"/>
                </a:moveTo>
                <a:lnTo>
                  <a:pt x="10" y="0"/>
                </a:lnTo>
                <a:lnTo>
                  <a:pt x="0" y="0"/>
                </a:lnTo>
                <a:lnTo>
                  <a:pt x="10" y="0"/>
                </a:lnTo>
              </a:path>
            </a:pathLst>
          </a:custGeom>
          <a:noFill/>
          <a:ln cap="rnd" w="3240">
            <a:solidFill>
              <a:srgbClr val="0000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0" name=""/>
          <p:cNvSpPr/>
          <p:nvPr/>
        </p:nvSpPr>
        <p:spPr>
          <a:xfrm>
            <a:off x="7845480" y="3730680"/>
            <a:ext cx="54000" cy="82440"/>
          </a:xfrm>
          <a:custGeom>
            <a:avLst/>
            <a:gdLst/>
            <a:ahLst/>
            <a:rect l="l" t="t" r="r" b="b"/>
            <a:pathLst>
              <a:path w="34" h="52">
                <a:moveTo>
                  <a:pt x="34" y="10"/>
                </a:moveTo>
                <a:lnTo>
                  <a:pt x="34" y="10"/>
                </a:lnTo>
                <a:lnTo>
                  <a:pt x="34" y="21"/>
                </a:lnTo>
                <a:lnTo>
                  <a:pt x="23" y="21"/>
                </a:lnTo>
                <a:lnTo>
                  <a:pt x="23" y="31"/>
                </a:lnTo>
                <a:lnTo>
                  <a:pt x="13" y="31"/>
                </a:lnTo>
                <a:lnTo>
                  <a:pt x="13" y="41"/>
                </a:lnTo>
                <a:lnTo>
                  <a:pt x="0" y="41"/>
                </a:lnTo>
                <a:lnTo>
                  <a:pt x="0" y="52"/>
                </a:lnTo>
                <a:lnTo>
                  <a:pt x="0" y="41"/>
                </a:lnTo>
                <a:lnTo>
                  <a:pt x="0" y="31"/>
                </a:lnTo>
                <a:lnTo>
                  <a:pt x="0" y="21"/>
                </a:lnTo>
                <a:lnTo>
                  <a:pt x="13" y="21"/>
                </a:lnTo>
                <a:lnTo>
                  <a:pt x="23" y="21"/>
                </a:lnTo>
                <a:lnTo>
                  <a:pt x="23" y="10"/>
                </a:lnTo>
                <a:lnTo>
                  <a:pt x="34" y="10"/>
                </a:lnTo>
                <a:lnTo>
                  <a:pt x="34" y="0"/>
                </a:lnTo>
                <a:lnTo>
                  <a:pt x="34" y="10"/>
                </a:lnTo>
                <a:lnTo>
                  <a:pt x="23" y="10"/>
                </a:lnTo>
                <a:lnTo>
                  <a:pt x="34" y="21"/>
                </a:lnTo>
                <a:lnTo>
                  <a:pt x="34"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41" name=""/>
          <p:cNvSpPr/>
          <p:nvPr/>
        </p:nvSpPr>
        <p:spPr>
          <a:xfrm>
            <a:off x="7845480" y="3730680"/>
            <a:ext cx="54000" cy="82440"/>
          </a:xfrm>
          <a:custGeom>
            <a:avLst/>
            <a:gdLst/>
            <a:ahLst/>
            <a:rect l="l" t="t" r="r" b="b"/>
            <a:pathLst>
              <a:path w="34" h="52">
                <a:moveTo>
                  <a:pt x="34" y="10"/>
                </a:moveTo>
                <a:lnTo>
                  <a:pt x="34" y="10"/>
                </a:lnTo>
                <a:lnTo>
                  <a:pt x="34" y="21"/>
                </a:lnTo>
                <a:lnTo>
                  <a:pt x="23" y="21"/>
                </a:lnTo>
                <a:lnTo>
                  <a:pt x="23" y="31"/>
                </a:lnTo>
                <a:lnTo>
                  <a:pt x="13" y="31"/>
                </a:lnTo>
                <a:lnTo>
                  <a:pt x="13" y="41"/>
                </a:lnTo>
                <a:lnTo>
                  <a:pt x="0" y="41"/>
                </a:lnTo>
                <a:lnTo>
                  <a:pt x="0" y="52"/>
                </a:lnTo>
                <a:lnTo>
                  <a:pt x="0" y="41"/>
                </a:lnTo>
                <a:lnTo>
                  <a:pt x="0" y="31"/>
                </a:lnTo>
                <a:lnTo>
                  <a:pt x="0" y="21"/>
                </a:lnTo>
                <a:lnTo>
                  <a:pt x="13" y="21"/>
                </a:lnTo>
                <a:lnTo>
                  <a:pt x="23" y="21"/>
                </a:lnTo>
                <a:lnTo>
                  <a:pt x="23" y="10"/>
                </a:lnTo>
                <a:lnTo>
                  <a:pt x="34" y="10"/>
                </a:lnTo>
                <a:lnTo>
                  <a:pt x="34" y="0"/>
                </a:lnTo>
                <a:lnTo>
                  <a:pt x="34" y="10"/>
                </a:lnTo>
                <a:lnTo>
                  <a:pt x="23" y="10"/>
                </a:lnTo>
                <a:lnTo>
                  <a:pt x="34" y="21"/>
                </a:lnTo>
                <a:lnTo>
                  <a:pt x="34" y="10"/>
                </a:lnTo>
              </a:path>
            </a:pathLst>
          </a:custGeom>
          <a:noFill/>
          <a:ln cap="rnd" w="3240">
            <a:solidFill>
              <a:srgbClr val="0000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42" name=""/>
          <p:cNvSpPr/>
          <p:nvPr/>
        </p:nvSpPr>
        <p:spPr>
          <a:xfrm>
            <a:off x="7866000" y="3780000"/>
            <a:ext cx="3240" cy="2880"/>
          </a:xfrm>
          <a:prstGeom prst="rect">
            <a:avLst/>
          </a:prstGeom>
          <a:solidFill>
            <a:srgbClr val="000000"/>
          </a:solidFill>
          <a:ln cap="rnd" w="324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43" name=""/>
          <p:cNvSpPr/>
          <p:nvPr/>
        </p:nvSpPr>
        <p:spPr>
          <a:xfrm>
            <a:off x="7486560" y="3192480"/>
            <a:ext cx="17640" cy="15840"/>
          </a:xfrm>
          <a:custGeom>
            <a:avLst/>
            <a:gdLst/>
            <a:ahLst/>
            <a:rect l="l" t="t" r="r" b="b"/>
            <a:pathLst>
              <a:path w="11" h="10">
                <a:moveTo>
                  <a:pt x="11" y="0"/>
                </a:moveTo>
                <a:lnTo>
                  <a:pt x="11" y="0"/>
                </a:lnTo>
                <a:lnTo>
                  <a:pt x="11" y="10"/>
                </a:lnTo>
                <a:lnTo>
                  <a:pt x="0" y="0"/>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4" name=""/>
          <p:cNvSpPr/>
          <p:nvPr/>
        </p:nvSpPr>
        <p:spPr>
          <a:xfrm>
            <a:off x="7486560" y="3192480"/>
            <a:ext cx="17640" cy="15840"/>
          </a:xfrm>
          <a:custGeom>
            <a:avLst/>
            <a:gdLst/>
            <a:ahLst/>
            <a:rect l="l" t="t" r="r" b="b"/>
            <a:pathLst>
              <a:path w="11" h="10">
                <a:moveTo>
                  <a:pt x="11" y="0"/>
                </a:moveTo>
                <a:lnTo>
                  <a:pt x="11" y="0"/>
                </a:lnTo>
                <a:lnTo>
                  <a:pt x="11" y="10"/>
                </a:lnTo>
                <a:lnTo>
                  <a:pt x="0" y="0"/>
                </a:lnTo>
                <a:lnTo>
                  <a:pt x="11" y="0"/>
                </a:lnTo>
              </a:path>
            </a:pathLst>
          </a:custGeom>
          <a:noFill/>
          <a:ln cap="rnd" w="3240">
            <a:solidFill>
              <a:srgbClr val="0000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5" name=""/>
          <p:cNvSpPr/>
          <p:nvPr/>
        </p:nvSpPr>
        <p:spPr>
          <a:xfrm>
            <a:off x="7470720" y="3222720"/>
            <a:ext cx="1800" cy="15840"/>
          </a:xfrm>
          <a:custGeom>
            <a:avLst/>
            <a:gdLst/>
            <a:ahLst/>
            <a:rect l="l" t="t" r="r" b="b"/>
            <a:pathLst>
              <a:path w="0" h="10">
                <a:moveTo>
                  <a:pt x="0" y="0"/>
                </a:moveTo>
                <a:lnTo>
                  <a:pt x="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6" name=""/>
          <p:cNvSpPr/>
          <p:nvPr/>
        </p:nvSpPr>
        <p:spPr>
          <a:xfrm>
            <a:off x="7470720" y="3222720"/>
            <a:ext cx="1800" cy="15840"/>
          </a:xfrm>
          <a:custGeom>
            <a:avLst/>
            <a:gdLst/>
            <a:ahLst/>
            <a:rect l="l" t="t" r="r" b="b"/>
            <a:pathLst>
              <a:path w="0" h="10">
                <a:moveTo>
                  <a:pt x="0" y="0"/>
                </a:moveTo>
                <a:lnTo>
                  <a:pt x="0" y="0"/>
                </a:lnTo>
                <a:lnTo>
                  <a:pt x="0" y="10"/>
                </a:lnTo>
                <a:lnTo>
                  <a:pt x="0" y="0"/>
                </a:lnTo>
              </a:path>
            </a:pathLst>
          </a:custGeom>
          <a:noFill/>
          <a:ln cap="rnd" w="3240">
            <a:solidFill>
              <a:srgbClr val="0000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7" name=""/>
          <p:cNvSpPr/>
          <p:nvPr/>
        </p:nvSpPr>
        <p:spPr>
          <a:xfrm>
            <a:off x="7110360" y="4465800"/>
            <a:ext cx="1800" cy="14040"/>
          </a:xfrm>
          <a:custGeom>
            <a:avLst/>
            <a:gdLst/>
            <a:ahLst/>
            <a:rect l="l" t="t" r="r" b="b"/>
            <a:pathLst>
              <a:path w="0" h="9">
                <a:moveTo>
                  <a:pt x="0" y="0"/>
                </a:moveTo>
                <a:lnTo>
                  <a:pt x="0" y="0"/>
                </a:lnTo>
                <a:lnTo>
                  <a:pt x="0" y="9"/>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48" name=""/>
          <p:cNvSpPr/>
          <p:nvPr/>
        </p:nvSpPr>
        <p:spPr>
          <a:xfrm>
            <a:off x="7110360" y="4465800"/>
            <a:ext cx="1800" cy="14040"/>
          </a:xfrm>
          <a:custGeom>
            <a:avLst/>
            <a:gdLst/>
            <a:ahLst/>
            <a:rect l="l" t="t" r="r" b="b"/>
            <a:pathLst>
              <a:path w="0" h="9">
                <a:moveTo>
                  <a:pt x="0" y="0"/>
                </a:moveTo>
                <a:lnTo>
                  <a:pt x="0" y="0"/>
                </a:lnTo>
                <a:lnTo>
                  <a:pt x="0" y="9"/>
                </a:lnTo>
                <a:lnTo>
                  <a:pt x="0" y="0"/>
                </a:lnTo>
              </a:path>
            </a:pathLst>
          </a:custGeom>
          <a:noFill/>
          <a:ln cap="rnd" w="3240">
            <a:solidFill>
              <a:srgbClr val="0000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49" name=""/>
          <p:cNvSpPr/>
          <p:nvPr/>
        </p:nvSpPr>
        <p:spPr>
          <a:xfrm>
            <a:off x="6989760" y="4581360"/>
            <a:ext cx="15840" cy="16200"/>
          </a:xfrm>
          <a:custGeom>
            <a:avLst/>
            <a:gdLst/>
            <a:ahLst/>
            <a:rect l="l" t="t" r="r" b="b"/>
            <a:pathLst>
              <a:path w="10" h="10">
                <a:moveTo>
                  <a:pt x="10" y="0"/>
                </a:moveTo>
                <a:lnTo>
                  <a:pt x="10" y="0"/>
                </a:lnTo>
                <a:lnTo>
                  <a:pt x="10" y="10"/>
                </a:lnTo>
                <a:lnTo>
                  <a:pt x="0" y="0"/>
                </a:lnTo>
                <a:lnTo>
                  <a:pt x="1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50" name=""/>
          <p:cNvSpPr/>
          <p:nvPr/>
        </p:nvSpPr>
        <p:spPr>
          <a:xfrm>
            <a:off x="6989760" y="4581360"/>
            <a:ext cx="15840" cy="16200"/>
          </a:xfrm>
          <a:custGeom>
            <a:avLst/>
            <a:gdLst/>
            <a:ahLst/>
            <a:rect l="l" t="t" r="r" b="b"/>
            <a:pathLst>
              <a:path w="10" h="10">
                <a:moveTo>
                  <a:pt x="10" y="0"/>
                </a:moveTo>
                <a:lnTo>
                  <a:pt x="10" y="0"/>
                </a:lnTo>
                <a:lnTo>
                  <a:pt x="10" y="10"/>
                </a:lnTo>
                <a:lnTo>
                  <a:pt x="0" y="0"/>
                </a:lnTo>
                <a:lnTo>
                  <a:pt x="10" y="0"/>
                </a:lnTo>
              </a:path>
            </a:pathLst>
          </a:custGeom>
          <a:noFill/>
          <a:ln cap="rnd" w="3240">
            <a:solidFill>
              <a:srgbClr val="0000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51" name=""/>
          <p:cNvSpPr/>
          <p:nvPr/>
        </p:nvSpPr>
        <p:spPr>
          <a:xfrm>
            <a:off x="6972480" y="4581360"/>
            <a:ext cx="17280" cy="33480"/>
          </a:xfrm>
          <a:custGeom>
            <a:avLst/>
            <a:gdLst/>
            <a:ahLst/>
            <a:rect l="l" t="t" r="r" b="b"/>
            <a:pathLst>
              <a:path w="11" h="21">
                <a:moveTo>
                  <a:pt x="11" y="0"/>
                </a:moveTo>
                <a:lnTo>
                  <a:pt x="11" y="10"/>
                </a:lnTo>
                <a:lnTo>
                  <a:pt x="0" y="10"/>
                </a:lnTo>
                <a:lnTo>
                  <a:pt x="0" y="21"/>
                </a:lnTo>
                <a:lnTo>
                  <a:pt x="0" y="10"/>
                </a:lnTo>
                <a:lnTo>
                  <a:pt x="11"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52" name=""/>
          <p:cNvSpPr/>
          <p:nvPr/>
        </p:nvSpPr>
        <p:spPr>
          <a:xfrm>
            <a:off x="6972480" y="4581360"/>
            <a:ext cx="17280" cy="33480"/>
          </a:xfrm>
          <a:custGeom>
            <a:avLst/>
            <a:gdLst/>
            <a:ahLst/>
            <a:rect l="l" t="t" r="r" b="b"/>
            <a:pathLst>
              <a:path w="11" h="21">
                <a:moveTo>
                  <a:pt x="11" y="0"/>
                </a:moveTo>
                <a:lnTo>
                  <a:pt x="11" y="10"/>
                </a:lnTo>
                <a:lnTo>
                  <a:pt x="0" y="10"/>
                </a:lnTo>
                <a:lnTo>
                  <a:pt x="0" y="21"/>
                </a:lnTo>
                <a:lnTo>
                  <a:pt x="0" y="10"/>
                </a:lnTo>
                <a:lnTo>
                  <a:pt x="11" y="0"/>
                </a:lnTo>
              </a:path>
            </a:pathLst>
          </a:custGeom>
          <a:noFill/>
          <a:ln cap="rnd" w="3240">
            <a:solidFill>
              <a:srgbClr val="0000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53" name=""/>
          <p:cNvSpPr/>
          <p:nvPr/>
        </p:nvSpPr>
        <p:spPr>
          <a:xfrm>
            <a:off x="6956280" y="4618080"/>
            <a:ext cx="16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4" name=""/>
          <p:cNvSpPr/>
          <p:nvPr/>
        </p:nvSpPr>
        <p:spPr>
          <a:xfrm>
            <a:off x="6956280" y="4618080"/>
            <a:ext cx="16200" cy="9360"/>
          </a:xfrm>
          <a:prstGeom prst="rect">
            <a:avLst/>
          </a:prstGeom>
          <a:noFill/>
          <a:ln cap="rnd" w="3240">
            <a:solidFill>
              <a:srgbClr val="0000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5" name=""/>
          <p:cNvSpPr/>
          <p:nvPr/>
        </p:nvSpPr>
        <p:spPr>
          <a:xfrm>
            <a:off x="6939000" y="4627440"/>
            <a:ext cx="1440" cy="15840"/>
          </a:xfrm>
          <a:custGeom>
            <a:avLst/>
            <a:gdLst/>
            <a:ahLst/>
            <a:rect l="l" t="t" r="r" b="b"/>
            <a:pathLst>
              <a:path w="0" h="10">
                <a:moveTo>
                  <a:pt x="0" y="0"/>
                </a:moveTo>
                <a:lnTo>
                  <a:pt x="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56" name=""/>
          <p:cNvSpPr/>
          <p:nvPr/>
        </p:nvSpPr>
        <p:spPr>
          <a:xfrm>
            <a:off x="6939000" y="4627440"/>
            <a:ext cx="1440" cy="15840"/>
          </a:xfrm>
          <a:custGeom>
            <a:avLst/>
            <a:gdLst/>
            <a:ahLst/>
            <a:rect l="l" t="t" r="r" b="b"/>
            <a:pathLst>
              <a:path w="0" h="10">
                <a:moveTo>
                  <a:pt x="0" y="0"/>
                </a:moveTo>
                <a:lnTo>
                  <a:pt x="0" y="0"/>
                </a:lnTo>
                <a:lnTo>
                  <a:pt x="0" y="10"/>
                </a:lnTo>
                <a:lnTo>
                  <a:pt x="0" y="0"/>
                </a:lnTo>
              </a:path>
            </a:pathLst>
          </a:custGeom>
          <a:noFill/>
          <a:ln cap="rnd" w="3240">
            <a:solidFill>
              <a:srgbClr val="0000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57" name=""/>
          <p:cNvSpPr/>
          <p:nvPr/>
        </p:nvSpPr>
        <p:spPr>
          <a:xfrm>
            <a:off x="6904080" y="4643280"/>
            <a:ext cx="15840" cy="33480"/>
          </a:xfrm>
          <a:custGeom>
            <a:avLst/>
            <a:gdLst/>
            <a:ahLst/>
            <a:rect l="l" t="t" r="r" b="b"/>
            <a:pathLst>
              <a:path w="10" h="21">
                <a:moveTo>
                  <a:pt x="10" y="0"/>
                </a:moveTo>
                <a:lnTo>
                  <a:pt x="10" y="11"/>
                </a:lnTo>
                <a:lnTo>
                  <a:pt x="10" y="21"/>
                </a:lnTo>
                <a:lnTo>
                  <a:pt x="0" y="21"/>
                </a:lnTo>
                <a:lnTo>
                  <a:pt x="0" y="11"/>
                </a:lnTo>
                <a:lnTo>
                  <a:pt x="1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58" name=""/>
          <p:cNvSpPr/>
          <p:nvPr/>
        </p:nvSpPr>
        <p:spPr>
          <a:xfrm>
            <a:off x="6904080" y="4643280"/>
            <a:ext cx="15840" cy="33480"/>
          </a:xfrm>
          <a:custGeom>
            <a:avLst/>
            <a:gdLst/>
            <a:ahLst/>
            <a:rect l="l" t="t" r="r" b="b"/>
            <a:pathLst>
              <a:path w="10" h="21">
                <a:moveTo>
                  <a:pt x="10" y="0"/>
                </a:moveTo>
                <a:lnTo>
                  <a:pt x="10" y="11"/>
                </a:lnTo>
                <a:lnTo>
                  <a:pt x="10" y="21"/>
                </a:lnTo>
                <a:lnTo>
                  <a:pt x="0" y="21"/>
                </a:lnTo>
                <a:lnTo>
                  <a:pt x="0" y="11"/>
                </a:lnTo>
                <a:lnTo>
                  <a:pt x="10" y="0"/>
                </a:lnTo>
              </a:path>
            </a:pathLst>
          </a:custGeom>
          <a:noFill/>
          <a:ln cap="rnd" w="3240">
            <a:solidFill>
              <a:srgbClr val="0000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59" name=""/>
          <p:cNvSpPr/>
          <p:nvPr/>
        </p:nvSpPr>
        <p:spPr>
          <a:xfrm>
            <a:off x="6886440" y="4676760"/>
            <a:ext cx="17640" cy="17640"/>
          </a:xfrm>
          <a:custGeom>
            <a:avLst/>
            <a:gdLst/>
            <a:ahLst/>
            <a:rect l="l" t="t" r="r" b="b"/>
            <a:pathLst>
              <a:path w="11" h="11">
                <a:moveTo>
                  <a:pt x="0" y="0"/>
                </a:moveTo>
                <a:lnTo>
                  <a:pt x="11" y="0"/>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0" name=""/>
          <p:cNvSpPr/>
          <p:nvPr/>
        </p:nvSpPr>
        <p:spPr>
          <a:xfrm>
            <a:off x="6886440" y="4676760"/>
            <a:ext cx="17640" cy="17640"/>
          </a:xfrm>
          <a:custGeom>
            <a:avLst/>
            <a:gdLst/>
            <a:ahLst/>
            <a:rect l="l" t="t" r="r" b="b"/>
            <a:pathLst>
              <a:path w="11" h="11">
                <a:moveTo>
                  <a:pt x="0" y="0"/>
                </a:moveTo>
                <a:lnTo>
                  <a:pt x="11" y="0"/>
                </a:lnTo>
                <a:lnTo>
                  <a:pt x="0" y="11"/>
                </a:lnTo>
                <a:lnTo>
                  <a:pt x="0" y="0"/>
                </a:lnTo>
              </a:path>
            </a:pathLst>
          </a:custGeom>
          <a:noFill/>
          <a:ln cap="rnd" w="3240">
            <a:solidFill>
              <a:srgbClr val="0000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1" name=""/>
          <p:cNvSpPr/>
          <p:nvPr/>
        </p:nvSpPr>
        <p:spPr>
          <a:xfrm>
            <a:off x="6873840" y="471312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2" name=""/>
          <p:cNvSpPr/>
          <p:nvPr/>
        </p:nvSpPr>
        <p:spPr>
          <a:xfrm>
            <a:off x="6873840" y="4713120"/>
            <a:ext cx="1800" cy="1800"/>
          </a:xfrm>
          <a:prstGeom prst="line">
            <a:avLst/>
          </a:prstGeom>
          <a:ln cap="rnd" w="32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3" name=""/>
          <p:cNvSpPr/>
          <p:nvPr/>
        </p:nvSpPr>
        <p:spPr>
          <a:xfrm>
            <a:off x="6405480" y="4987800"/>
            <a:ext cx="15840" cy="180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4" name=""/>
          <p:cNvSpPr/>
          <p:nvPr/>
        </p:nvSpPr>
        <p:spPr>
          <a:xfrm>
            <a:off x="6405480" y="4987800"/>
            <a:ext cx="15840" cy="1800"/>
          </a:xfrm>
          <a:custGeom>
            <a:avLst/>
            <a:gdLst/>
            <a:ahLst/>
            <a:rect l="l" t="t" r="r" b="b"/>
            <a:pathLst>
              <a:path w="10" h="0">
                <a:moveTo>
                  <a:pt x="10" y="0"/>
                </a:moveTo>
                <a:lnTo>
                  <a:pt x="10" y="0"/>
                </a:lnTo>
                <a:lnTo>
                  <a:pt x="0" y="0"/>
                </a:lnTo>
                <a:lnTo>
                  <a:pt x="10" y="0"/>
                </a:lnTo>
              </a:path>
            </a:pathLst>
          </a:custGeom>
          <a:noFill/>
          <a:ln cap="rnd" w="3240">
            <a:solidFill>
              <a:srgbClr val="0000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5" name=""/>
          <p:cNvSpPr/>
          <p:nvPr/>
        </p:nvSpPr>
        <p:spPr>
          <a:xfrm>
            <a:off x="6405480" y="4991040"/>
            <a:ext cx="3240" cy="1800"/>
          </a:xfrm>
          <a:prstGeom prst="rect">
            <a:avLst/>
          </a:prstGeom>
          <a:solidFill>
            <a:srgbClr val="000000"/>
          </a:solidFill>
          <a:ln cap="rnd" w="32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6" name=""/>
          <p:cNvSpPr/>
          <p:nvPr/>
        </p:nvSpPr>
        <p:spPr>
          <a:xfrm>
            <a:off x="6353280" y="5019840"/>
            <a:ext cx="15840" cy="144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7" name=""/>
          <p:cNvSpPr/>
          <p:nvPr/>
        </p:nvSpPr>
        <p:spPr>
          <a:xfrm>
            <a:off x="6353280" y="5019840"/>
            <a:ext cx="15840" cy="1440"/>
          </a:xfrm>
          <a:custGeom>
            <a:avLst/>
            <a:gdLst/>
            <a:ahLst/>
            <a:rect l="l" t="t" r="r" b="b"/>
            <a:pathLst>
              <a:path w="10" h="0">
                <a:moveTo>
                  <a:pt x="10" y="0"/>
                </a:moveTo>
                <a:lnTo>
                  <a:pt x="10" y="0"/>
                </a:lnTo>
                <a:lnTo>
                  <a:pt x="0" y="0"/>
                </a:lnTo>
                <a:lnTo>
                  <a:pt x="10" y="0"/>
                </a:lnTo>
              </a:path>
            </a:pathLst>
          </a:custGeom>
          <a:noFill/>
          <a:ln cap="rnd" w="3240">
            <a:solidFill>
              <a:srgbClr val="0000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6338880" y="5019840"/>
            <a:ext cx="14400" cy="33120"/>
          </a:xfrm>
          <a:custGeom>
            <a:avLst/>
            <a:gdLst/>
            <a:ahLst/>
            <a:rect l="l" t="t" r="r" b="b"/>
            <a:pathLst>
              <a:path w="9" h="21">
                <a:moveTo>
                  <a:pt x="9" y="0"/>
                </a:moveTo>
                <a:lnTo>
                  <a:pt x="9" y="11"/>
                </a:lnTo>
                <a:lnTo>
                  <a:pt x="9" y="21"/>
                </a:lnTo>
                <a:lnTo>
                  <a:pt x="0" y="11"/>
                </a:lnTo>
                <a:lnTo>
                  <a:pt x="9"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69" name=""/>
          <p:cNvSpPr/>
          <p:nvPr/>
        </p:nvSpPr>
        <p:spPr>
          <a:xfrm>
            <a:off x="6338880" y="5019840"/>
            <a:ext cx="14400" cy="33120"/>
          </a:xfrm>
          <a:custGeom>
            <a:avLst/>
            <a:gdLst/>
            <a:ahLst/>
            <a:rect l="l" t="t" r="r" b="b"/>
            <a:pathLst>
              <a:path w="9" h="21">
                <a:moveTo>
                  <a:pt x="9" y="0"/>
                </a:moveTo>
                <a:lnTo>
                  <a:pt x="9" y="11"/>
                </a:lnTo>
                <a:lnTo>
                  <a:pt x="9" y="21"/>
                </a:lnTo>
                <a:lnTo>
                  <a:pt x="0" y="11"/>
                </a:lnTo>
                <a:lnTo>
                  <a:pt x="9" y="0"/>
                </a:lnTo>
              </a:path>
            </a:pathLst>
          </a:custGeom>
          <a:noFill/>
          <a:ln cap="rnd" w="3240">
            <a:solidFill>
              <a:srgbClr val="0000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70" name=""/>
          <p:cNvSpPr/>
          <p:nvPr/>
        </p:nvSpPr>
        <p:spPr>
          <a:xfrm>
            <a:off x="6338880" y="5040360"/>
            <a:ext cx="1440" cy="1440"/>
          </a:xfrm>
          <a:prstGeom prst="rect">
            <a:avLst/>
          </a:prstGeom>
          <a:solidFill>
            <a:srgbClr val="000000"/>
          </a:solidFill>
          <a:ln cap="rnd" w="3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1" name=""/>
          <p:cNvSpPr/>
          <p:nvPr/>
        </p:nvSpPr>
        <p:spPr>
          <a:xfrm>
            <a:off x="7899480" y="3730680"/>
            <a:ext cx="1440" cy="15840"/>
          </a:xfrm>
          <a:custGeom>
            <a:avLst/>
            <a:gdLst/>
            <a:ahLst/>
            <a:rect l="l" t="t" r="r" b="b"/>
            <a:pathLst>
              <a:path w="0" h="10">
                <a:moveTo>
                  <a:pt x="0" y="0"/>
                </a:move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2" name=""/>
          <p:cNvSpPr/>
          <p:nvPr/>
        </p:nvSpPr>
        <p:spPr>
          <a:xfrm>
            <a:off x="7899480" y="3730680"/>
            <a:ext cx="1440" cy="15840"/>
          </a:xfrm>
          <a:custGeom>
            <a:avLst/>
            <a:gdLst/>
            <a:ahLst/>
            <a:rect l="l" t="t" r="r" b="b"/>
            <a:pathLst>
              <a:path w="0" h="10">
                <a:moveTo>
                  <a:pt x="0" y="0"/>
                </a:moveTo>
                <a:lnTo>
                  <a:pt x="0" y="10"/>
                </a:lnTo>
                <a:lnTo>
                  <a:pt x="0" y="0"/>
                </a:lnTo>
              </a:path>
            </a:pathLst>
          </a:custGeom>
          <a:noFill/>
          <a:ln cap="rnd" w="3240">
            <a:solidFill>
              <a:srgbClr val="006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3" name=""/>
          <p:cNvSpPr/>
          <p:nvPr/>
        </p:nvSpPr>
        <p:spPr>
          <a:xfrm>
            <a:off x="7845480" y="3763800"/>
            <a:ext cx="36360" cy="32040"/>
          </a:xfrm>
          <a:custGeom>
            <a:avLst/>
            <a:gdLst/>
            <a:ahLst/>
            <a:rect l="l" t="t" r="r" b="b"/>
            <a:pathLst>
              <a:path w="23" h="20">
                <a:moveTo>
                  <a:pt x="23" y="0"/>
                </a:moveTo>
                <a:lnTo>
                  <a:pt x="23" y="0"/>
                </a:lnTo>
                <a:lnTo>
                  <a:pt x="23" y="10"/>
                </a:lnTo>
                <a:lnTo>
                  <a:pt x="13" y="10"/>
                </a:lnTo>
                <a:lnTo>
                  <a:pt x="0" y="10"/>
                </a:lnTo>
                <a:lnTo>
                  <a:pt x="0" y="20"/>
                </a:lnTo>
                <a:lnTo>
                  <a:pt x="13" y="20"/>
                </a:lnTo>
                <a:lnTo>
                  <a:pt x="0" y="20"/>
                </a:lnTo>
                <a:lnTo>
                  <a:pt x="0" y="10"/>
                </a:lnTo>
                <a:lnTo>
                  <a:pt x="0" y="0"/>
                </a:lnTo>
                <a:lnTo>
                  <a:pt x="13" y="0"/>
                </a:lnTo>
                <a:lnTo>
                  <a:pt x="23"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74" name=""/>
          <p:cNvSpPr/>
          <p:nvPr/>
        </p:nvSpPr>
        <p:spPr>
          <a:xfrm>
            <a:off x="7845480" y="3763800"/>
            <a:ext cx="36360" cy="32040"/>
          </a:xfrm>
          <a:custGeom>
            <a:avLst/>
            <a:gdLst/>
            <a:ahLst/>
            <a:rect l="l" t="t" r="r" b="b"/>
            <a:pathLst>
              <a:path w="23" h="20">
                <a:moveTo>
                  <a:pt x="23" y="0"/>
                </a:moveTo>
                <a:lnTo>
                  <a:pt x="23" y="0"/>
                </a:lnTo>
                <a:lnTo>
                  <a:pt x="23" y="10"/>
                </a:lnTo>
                <a:lnTo>
                  <a:pt x="13" y="10"/>
                </a:lnTo>
                <a:lnTo>
                  <a:pt x="0" y="10"/>
                </a:lnTo>
                <a:lnTo>
                  <a:pt x="0" y="20"/>
                </a:lnTo>
                <a:lnTo>
                  <a:pt x="13" y="20"/>
                </a:lnTo>
                <a:lnTo>
                  <a:pt x="0" y="20"/>
                </a:lnTo>
                <a:lnTo>
                  <a:pt x="0" y="10"/>
                </a:lnTo>
                <a:lnTo>
                  <a:pt x="0" y="0"/>
                </a:lnTo>
                <a:lnTo>
                  <a:pt x="13" y="0"/>
                </a:lnTo>
                <a:lnTo>
                  <a:pt x="23" y="0"/>
                </a:lnTo>
              </a:path>
            </a:pathLst>
          </a:custGeom>
          <a:noFill/>
          <a:ln cap="rnd" w="3240">
            <a:solidFill>
              <a:srgbClr val="006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75" name=""/>
          <p:cNvSpPr/>
          <p:nvPr/>
        </p:nvSpPr>
        <p:spPr>
          <a:xfrm>
            <a:off x="6989760" y="4581360"/>
            <a:ext cx="15840" cy="180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6" name=""/>
          <p:cNvSpPr/>
          <p:nvPr/>
        </p:nvSpPr>
        <p:spPr>
          <a:xfrm>
            <a:off x="6989760" y="4581360"/>
            <a:ext cx="15840" cy="1800"/>
          </a:xfrm>
          <a:custGeom>
            <a:avLst/>
            <a:gdLst/>
            <a:ahLst/>
            <a:rect l="l" t="t" r="r" b="b"/>
            <a:pathLst>
              <a:path w="10" h="0">
                <a:moveTo>
                  <a:pt x="10" y="0"/>
                </a:moveTo>
                <a:lnTo>
                  <a:pt x="10" y="0"/>
                </a:lnTo>
                <a:lnTo>
                  <a:pt x="0" y="0"/>
                </a:lnTo>
                <a:lnTo>
                  <a:pt x="10" y="0"/>
                </a:lnTo>
              </a:path>
            </a:pathLst>
          </a:custGeom>
          <a:noFill/>
          <a:ln cap="rnd" w="3240">
            <a:solidFill>
              <a:srgbClr val="006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7" name=""/>
          <p:cNvSpPr/>
          <p:nvPr/>
        </p:nvSpPr>
        <p:spPr>
          <a:xfrm>
            <a:off x="6989760" y="4581360"/>
            <a:ext cx="1440" cy="16200"/>
          </a:xfrm>
          <a:custGeom>
            <a:avLst/>
            <a:gdLst/>
            <a:ahLst/>
            <a:rect l="l" t="t" r="r" b="b"/>
            <a:pathLst>
              <a:path w="0" h="10">
                <a:moveTo>
                  <a:pt x="0" y="0"/>
                </a:moveTo>
                <a:lnTo>
                  <a:pt x="0" y="1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78" name=""/>
          <p:cNvSpPr/>
          <p:nvPr/>
        </p:nvSpPr>
        <p:spPr>
          <a:xfrm>
            <a:off x="6989760" y="4581360"/>
            <a:ext cx="1440" cy="16200"/>
          </a:xfrm>
          <a:custGeom>
            <a:avLst/>
            <a:gdLst/>
            <a:ahLst/>
            <a:rect l="l" t="t" r="r" b="b"/>
            <a:pathLst>
              <a:path w="0" h="10">
                <a:moveTo>
                  <a:pt x="0" y="0"/>
                </a:moveTo>
                <a:lnTo>
                  <a:pt x="0" y="10"/>
                </a:lnTo>
                <a:lnTo>
                  <a:pt x="0" y="0"/>
                </a:lnTo>
              </a:path>
            </a:pathLst>
          </a:custGeom>
          <a:noFill/>
          <a:ln cap="rnd" w="3240">
            <a:solidFill>
              <a:srgbClr val="006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79" name=""/>
          <p:cNvSpPr/>
          <p:nvPr/>
        </p:nvSpPr>
        <p:spPr>
          <a:xfrm>
            <a:off x="6972480" y="4597560"/>
            <a:ext cx="2880" cy="1440"/>
          </a:xfrm>
          <a:prstGeom prst="rect">
            <a:avLst/>
          </a:prstGeom>
          <a:solidFill>
            <a:srgbClr val="000000"/>
          </a:solidFill>
          <a:ln cap="rnd" w="3240">
            <a:solidFill>
              <a:srgbClr val="006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6956280" y="4618080"/>
            <a:ext cx="16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1" name=""/>
          <p:cNvSpPr/>
          <p:nvPr/>
        </p:nvSpPr>
        <p:spPr>
          <a:xfrm>
            <a:off x="6956280" y="4618080"/>
            <a:ext cx="16200" cy="9360"/>
          </a:xfrm>
          <a:prstGeom prst="rect">
            <a:avLst/>
          </a:prstGeom>
          <a:noFill/>
          <a:ln cap="rnd" w="3240">
            <a:solidFill>
              <a:srgbClr val="006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2" name=""/>
          <p:cNvSpPr/>
          <p:nvPr/>
        </p:nvSpPr>
        <p:spPr>
          <a:xfrm>
            <a:off x="6939000" y="4627440"/>
            <a:ext cx="1440" cy="15840"/>
          </a:xfrm>
          <a:custGeom>
            <a:avLst/>
            <a:gdLst/>
            <a:ahLst/>
            <a:rect l="l" t="t" r="r" b="b"/>
            <a:pathLst>
              <a:path w="0" h="10">
                <a:moveTo>
                  <a:pt x="0" y="0"/>
                </a:moveTo>
                <a:lnTo>
                  <a:pt x="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3" name=""/>
          <p:cNvSpPr/>
          <p:nvPr/>
        </p:nvSpPr>
        <p:spPr>
          <a:xfrm>
            <a:off x="6939000" y="4627440"/>
            <a:ext cx="1440" cy="15840"/>
          </a:xfrm>
          <a:custGeom>
            <a:avLst/>
            <a:gdLst/>
            <a:ahLst/>
            <a:rect l="l" t="t" r="r" b="b"/>
            <a:pathLst>
              <a:path w="0" h="10">
                <a:moveTo>
                  <a:pt x="0" y="0"/>
                </a:moveTo>
                <a:lnTo>
                  <a:pt x="0" y="0"/>
                </a:lnTo>
                <a:lnTo>
                  <a:pt x="0" y="10"/>
                </a:lnTo>
                <a:lnTo>
                  <a:pt x="0" y="0"/>
                </a:lnTo>
              </a:path>
            </a:pathLst>
          </a:custGeom>
          <a:noFill/>
          <a:ln cap="rnd" w="3240">
            <a:solidFill>
              <a:srgbClr val="006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4" name=""/>
          <p:cNvSpPr/>
          <p:nvPr/>
        </p:nvSpPr>
        <p:spPr>
          <a:xfrm>
            <a:off x="6904080" y="4660920"/>
            <a:ext cx="15840" cy="15840"/>
          </a:xfrm>
          <a:custGeom>
            <a:avLst/>
            <a:gdLst/>
            <a:ahLst/>
            <a:rect l="l" t="t" r="r" b="b"/>
            <a:pathLst>
              <a:path w="10" h="10">
                <a:moveTo>
                  <a:pt x="10" y="0"/>
                </a:moveTo>
                <a:lnTo>
                  <a:pt x="10" y="0"/>
                </a:lnTo>
                <a:lnTo>
                  <a:pt x="10" y="10"/>
                </a:lnTo>
                <a:lnTo>
                  <a:pt x="0"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5" name=""/>
          <p:cNvSpPr/>
          <p:nvPr/>
        </p:nvSpPr>
        <p:spPr>
          <a:xfrm>
            <a:off x="6904080" y="4660920"/>
            <a:ext cx="15840" cy="15840"/>
          </a:xfrm>
          <a:custGeom>
            <a:avLst/>
            <a:gdLst/>
            <a:ahLst/>
            <a:rect l="l" t="t" r="r" b="b"/>
            <a:pathLst>
              <a:path w="10" h="10">
                <a:moveTo>
                  <a:pt x="10" y="0"/>
                </a:moveTo>
                <a:lnTo>
                  <a:pt x="10" y="0"/>
                </a:lnTo>
                <a:lnTo>
                  <a:pt x="10" y="10"/>
                </a:lnTo>
                <a:lnTo>
                  <a:pt x="0" y="0"/>
                </a:lnTo>
                <a:lnTo>
                  <a:pt x="10" y="0"/>
                </a:lnTo>
              </a:path>
            </a:pathLst>
          </a:custGeom>
          <a:noFill/>
          <a:ln cap="rnd" w="3240">
            <a:solidFill>
              <a:srgbClr val="006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6" name=""/>
          <p:cNvSpPr/>
          <p:nvPr/>
        </p:nvSpPr>
        <p:spPr>
          <a:xfrm>
            <a:off x="6886440" y="4676760"/>
            <a:ext cx="17640" cy="17640"/>
          </a:xfrm>
          <a:custGeom>
            <a:avLst/>
            <a:gdLst/>
            <a:ahLst/>
            <a:rect l="l" t="t" r="r" b="b"/>
            <a:pathLst>
              <a:path w="11" h="11">
                <a:moveTo>
                  <a:pt x="0" y="0"/>
                </a:moveTo>
                <a:lnTo>
                  <a:pt x="11" y="0"/>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87" name=""/>
          <p:cNvSpPr/>
          <p:nvPr/>
        </p:nvSpPr>
        <p:spPr>
          <a:xfrm>
            <a:off x="6886440" y="4676760"/>
            <a:ext cx="17640" cy="17640"/>
          </a:xfrm>
          <a:custGeom>
            <a:avLst/>
            <a:gdLst/>
            <a:ahLst/>
            <a:rect l="l" t="t" r="r" b="b"/>
            <a:pathLst>
              <a:path w="11" h="11">
                <a:moveTo>
                  <a:pt x="0" y="0"/>
                </a:moveTo>
                <a:lnTo>
                  <a:pt x="11" y="0"/>
                </a:lnTo>
                <a:lnTo>
                  <a:pt x="0" y="11"/>
                </a:lnTo>
                <a:lnTo>
                  <a:pt x="0" y="0"/>
                </a:lnTo>
              </a:path>
            </a:pathLst>
          </a:custGeom>
          <a:noFill/>
          <a:ln cap="rnd" w="3240">
            <a:solidFill>
              <a:srgbClr val="006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88" name=""/>
          <p:cNvSpPr/>
          <p:nvPr/>
        </p:nvSpPr>
        <p:spPr>
          <a:xfrm>
            <a:off x="6372360" y="5022720"/>
            <a:ext cx="2880" cy="1800"/>
          </a:xfrm>
          <a:prstGeom prst="rect">
            <a:avLst/>
          </a:prstGeom>
          <a:solidFill>
            <a:srgbClr val="000000"/>
          </a:solidFill>
          <a:ln cap="rnd" w="3240">
            <a:solidFill>
              <a:srgbClr val="006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9" name=""/>
          <p:cNvSpPr/>
          <p:nvPr/>
        </p:nvSpPr>
        <p:spPr>
          <a:xfrm>
            <a:off x="6338880" y="5037120"/>
            <a:ext cx="14400" cy="15840"/>
          </a:xfrm>
          <a:custGeom>
            <a:avLst/>
            <a:gdLst/>
            <a:ahLst/>
            <a:rect l="l" t="t" r="r" b="b"/>
            <a:pathLst>
              <a:path w="9" h="10">
                <a:moveTo>
                  <a:pt x="9" y="0"/>
                </a:moveTo>
                <a:lnTo>
                  <a:pt x="9" y="0"/>
                </a:lnTo>
                <a:lnTo>
                  <a:pt x="9" y="10"/>
                </a:lnTo>
                <a:lnTo>
                  <a:pt x="0" y="0"/>
                </a:lnTo>
                <a:lnTo>
                  <a:pt x="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0" name=""/>
          <p:cNvSpPr/>
          <p:nvPr/>
        </p:nvSpPr>
        <p:spPr>
          <a:xfrm>
            <a:off x="6338880" y="5037120"/>
            <a:ext cx="14400" cy="15840"/>
          </a:xfrm>
          <a:custGeom>
            <a:avLst/>
            <a:gdLst/>
            <a:ahLst/>
            <a:rect l="l" t="t" r="r" b="b"/>
            <a:pathLst>
              <a:path w="9" h="10">
                <a:moveTo>
                  <a:pt x="9" y="0"/>
                </a:moveTo>
                <a:lnTo>
                  <a:pt x="9" y="0"/>
                </a:lnTo>
                <a:lnTo>
                  <a:pt x="9" y="10"/>
                </a:lnTo>
                <a:lnTo>
                  <a:pt x="0" y="0"/>
                </a:lnTo>
                <a:lnTo>
                  <a:pt x="9" y="0"/>
                </a:lnTo>
              </a:path>
            </a:pathLst>
          </a:custGeom>
          <a:noFill/>
          <a:ln cap="rnd" w="3240">
            <a:solidFill>
              <a:srgbClr val="006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1" name=""/>
          <p:cNvSpPr/>
          <p:nvPr/>
        </p:nvSpPr>
        <p:spPr>
          <a:xfrm>
            <a:off x="7899480" y="3730680"/>
            <a:ext cx="1440" cy="15840"/>
          </a:xfrm>
          <a:custGeom>
            <a:avLst/>
            <a:gdLst/>
            <a:ahLst/>
            <a:rect l="l" t="t" r="r" b="b"/>
            <a:pathLst>
              <a:path w="0" h="10">
                <a:moveTo>
                  <a:pt x="0" y="0"/>
                </a:move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2" name=""/>
          <p:cNvSpPr/>
          <p:nvPr/>
        </p:nvSpPr>
        <p:spPr>
          <a:xfrm>
            <a:off x="7899480" y="3730680"/>
            <a:ext cx="1440" cy="15840"/>
          </a:xfrm>
          <a:custGeom>
            <a:avLst/>
            <a:gdLst/>
            <a:ahLst/>
            <a:rect l="l" t="t" r="r" b="b"/>
            <a:pathLst>
              <a:path w="0" h="10">
                <a:moveTo>
                  <a:pt x="0" y="0"/>
                </a:moveTo>
                <a:lnTo>
                  <a:pt x="0" y="10"/>
                </a:lnTo>
                <a:lnTo>
                  <a:pt x="0" y="0"/>
                </a:lnTo>
              </a:path>
            </a:pathLst>
          </a:custGeom>
          <a:noFill/>
          <a:ln cap="rnd" w="3240">
            <a:solidFill>
              <a:srgbClr val="00d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3" name=""/>
          <p:cNvSpPr/>
          <p:nvPr/>
        </p:nvSpPr>
        <p:spPr>
          <a:xfrm>
            <a:off x="7845480" y="3763800"/>
            <a:ext cx="36360" cy="16200"/>
          </a:xfrm>
          <a:custGeom>
            <a:avLst/>
            <a:gdLst/>
            <a:ahLst/>
            <a:rect l="l" t="t" r="r" b="b"/>
            <a:pathLst>
              <a:path w="23" h="10">
                <a:moveTo>
                  <a:pt x="23" y="0"/>
                </a:moveTo>
                <a:lnTo>
                  <a:pt x="23" y="0"/>
                </a:lnTo>
                <a:lnTo>
                  <a:pt x="23" y="10"/>
                </a:lnTo>
                <a:lnTo>
                  <a:pt x="13" y="10"/>
                </a:lnTo>
                <a:lnTo>
                  <a:pt x="0" y="10"/>
                </a:lnTo>
                <a:lnTo>
                  <a:pt x="13" y="10"/>
                </a:lnTo>
                <a:lnTo>
                  <a:pt x="13" y="0"/>
                </a:lnTo>
                <a:lnTo>
                  <a:pt x="23"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94" name=""/>
          <p:cNvSpPr/>
          <p:nvPr/>
        </p:nvSpPr>
        <p:spPr>
          <a:xfrm>
            <a:off x="7845480" y="3763800"/>
            <a:ext cx="36360" cy="16200"/>
          </a:xfrm>
          <a:custGeom>
            <a:avLst/>
            <a:gdLst/>
            <a:ahLst/>
            <a:rect l="l" t="t" r="r" b="b"/>
            <a:pathLst>
              <a:path w="23" h="10">
                <a:moveTo>
                  <a:pt x="23" y="0"/>
                </a:moveTo>
                <a:lnTo>
                  <a:pt x="23" y="0"/>
                </a:lnTo>
                <a:lnTo>
                  <a:pt x="23" y="10"/>
                </a:lnTo>
                <a:lnTo>
                  <a:pt x="13" y="10"/>
                </a:lnTo>
                <a:lnTo>
                  <a:pt x="0" y="10"/>
                </a:lnTo>
                <a:lnTo>
                  <a:pt x="13" y="10"/>
                </a:lnTo>
                <a:lnTo>
                  <a:pt x="13" y="0"/>
                </a:lnTo>
                <a:lnTo>
                  <a:pt x="23" y="0"/>
                </a:lnTo>
              </a:path>
            </a:pathLst>
          </a:custGeom>
          <a:noFill/>
          <a:ln cap="rnd" w="3240">
            <a:solidFill>
              <a:srgbClr val="00d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95" name=""/>
          <p:cNvSpPr/>
          <p:nvPr/>
        </p:nvSpPr>
        <p:spPr>
          <a:xfrm>
            <a:off x="7845480" y="3780000"/>
            <a:ext cx="1440" cy="15840"/>
          </a:xfrm>
          <a:custGeom>
            <a:avLst/>
            <a:gdLst/>
            <a:ahLst/>
            <a:rect l="l" t="t" r="r" b="b"/>
            <a:pathLst>
              <a:path w="0" h="10">
                <a:moveTo>
                  <a:pt x="0" y="0"/>
                </a:moveTo>
                <a:lnTo>
                  <a:pt x="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6" name=""/>
          <p:cNvSpPr/>
          <p:nvPr/>
        </p:nvSpPr>
        <p:spPr>
          <a:xfrm>
            <a:off x="7845480" y="3780000"/>
            <a:ext cx="1440" cy="15840"/>
          </a:xfrm>
          <a:custGeom>
            <a:avLst/>
            <a:gdLst/>
            <a:ahLst/>
            <a:rect l="l" t="t" r="r" b="b"/>
            <a:pathLst>
              <a:path w="0" h="10">
                <a:moveTo>
                  <a:pt x="0" y="0"/>
                </a:moveTo>
                <a:lnTo>
                  <a:pt x="0" y="0"/>
                </a:lnTo>
                <a:lnTo>
                  <a:pt x="0" y="10"/>
                </a:lnTo>
                <a:lnTo>
                  <a:pt x="0" y="0"/>
                </a:lnTo>
              </a:path>
            </a:pathLst>
          </a:custGeom>
          <a:noFill/>
          <a:ln cap="rnd" w="3240">
            <a:solidFill>
              <a:srgbClr val="00d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7" name=""/>
          <p:cNvSpPr/>
          <p:nvPr/>
        </p:nvSpPr>
        <p:spPr>
          <a:xfrm>
            <a:off x="6989760" y="4581360"/>
            <a:ext cx="15840" cy="180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8" name=""/>
          <p:cNvSpPr/>
          <p:nvPr/>
        </p:nvSpPr>
        <p:spPr>
          <a:xfrm>
            <a:off x="6989760" y="4581360"/>
            <a:ext cx="15840" cy="1800"/>
          </a:xfrm>
          <a:custGeom>
            <a:avLst/>
            <a:gdLst/>
            <a:ahLst/>
            <a:rect l="l" t="t" r="r" b="b"/>
            <a:pathLst>
              <a:path w="10" h="0">
                <a:moveTo>
                  <a:pt x="10" y="0"/>
                </a:moveTo>
                <a:lnTo>
                  <a:pt x="10" y="0"/>
                </a:lnTo>
                <a:lnTo>
                  <a:pt x="0" y="0"/>
                </a:lnTo>
                <a:lnTo>
                  <a:pt x="10" y="0"/>
                </a:lnTo>
              </a:path>
            </a:pathLst>
          </a:custGeom>
          <a:noFill/>
          <a:ln cap="rnd" w="3240">
            <a:solidFill>
              <a:srgbClr val="00d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9" name=""/>
          <p:cNvSpPr/>
          <p:nvPr/>
        </p:nvSpPr>
        <p:spPr>
          <a:xfrm>
            <a:off x="6989760" y="459756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0" name=""/>
          <p:cNvSpPr/>
          <p:nvPr/>
        </p:nvSpPr>
        <p:spPr>
          <a:xfrm>
            <a:off x="6989760" y="4597560"/>
            <a:ext cx="1440" cy="1440"/>
          </a:xfrm>
          <a:prstGeom prst="line">
            <a:avLst/>
          </a:prstGeom>
          <a:ln cap="rnd" w="3240">
            <a:solidFill>
              <a:srgbClr val="00d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1" name=""/>
          <p:cNvSpPr/>
          <p:nvPr/>
        </p:nvSpPr>
        <p:spPr>
          <a:xfrm>
            <a:off x="6956280" y="4618080"/>
            <a:ext cx="16200" cy="9360"/>
          </a:xfrm>
          <a:custGeom>
            <a:avLst/>
            <a:gdLst/>
            <a:ahLst/>
            <a:rect l="l" t="t" r="r" b="b"/>
            <a:pathLst>
              <a:path w="10" h="6">
                <a:moveTo>
                  <a:pt x="0" y="0"/>
                </a:moveTo>
                <a:lnTo>
                  <a:pt x="0" y="0"/>
                </a:lnTo>
                <a:lnTo>
                  <a:pt x="10" y="0"/>
                </a:lnTo>
                <a:lnTo>
                  <a:pt x="10" y="6"/>
                </a:lnTo>
                <a:lnTo>
                  <a:pt x="0" y="6"/>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02" name=""/>
          <p:cNvSpPr/>
          <p:nvPr/>
        </p:nvSpPr>
        <p:spPr>
          <a:xfrm>
            <a:off x="6956280" y="4618080"/>
            <a:ext cx="16200" cy="9360"/>
          </a:xfrm>
          <a:custGeom>
            <a:avLst/>
            <a:gdLst/>
            <a:ahLst/>
            <a:rect l="l" t="t" r="r" b="b"/>
            <a:pathLst>
              <a:path w="10" h="6">
                <a:moveTo>
                  <a:pt x="0" y="0"/>
                </a:moveTo>
                <a:lnTo>
                  <a:pt x="0" y="0"/>
                </a:lnTo>
                <a:lnTo>
                  <a:pt x="10" y="0"/>
                </a:lnTo>
                <a:lnTo>
                  <a:pt x="10" y="6"/>
                </a:lnTo>
                <a:lnTo>
                  <a:pt x="0" y="6"/>
                </a:lnTo>
                <a:lnTo>
                  <a:pt x="0" y="0"/>
                </a:lnTo>
              </a:path>
            </a:pathLst>
          </a:custGeom>
          <a:noFill/>
          <a:ln cap="rnd" w="3240">
            <a:solidFill>
              <a:srgbClr val="00d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03" name=""/>
          <p:cNvSpPr/>
          <p:nvPr/>
        </p:nvSpPr>
        <p:spPr>
          <a:xfrm>
            <a:off x="6939000" y="4627440"/>
            <a:ext cx="1440" cy="15840"/>
          </a:xfrm>
          <a:custGeom>
            <a:avLst/>
            <a:gdLst/>
            <a:ahLst/>
            <a:rect l="l" t="t" r="r" b="b"/>
            <a:pathLst>
              <a:path w="0" h="10">
                <a:moveTo>
                  <a:pt x="0" y="0"/>
                </a:moveTo>
                <a:lnTo>
                  <a:pt x="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04" name=""/>
          <p:cNvSpPr/>
          <p:nvPr/>
        </p:nvSpPr>
        <p:spPr>
          <a:xfrm>
            <a:off x="6939000" y="4627440"/>
            <a:ext cx="1440" cy="15840"/>
          </a:xfrm>
          <a:custGeom>
            <a:avLst/>
            <a:gdLst/>
            <a:ahLst/>
            <a:rect l="l" t="t" r="r" b="b"/>
            <a:pathLst>
              <a:path w="0" h="10">
                <a:moveTo>
                  <a:pt x="0" y="0"/>
                </a:moveTo>
                <a:lnTo>
                  <a:pt x="0" y="0"/>
                </a:lnTo>
                <a:lnTo>
                  <a:pt x="0" y="10"/>
                </a:lnTo>
                <a:lnTo>
                  <a:pt x="0" y="0"/>
                </a:lnTo>
              </a:path>
            </a:pathLst>
          </a:custGeom>
          <a:noFill/>
          <a:ln cap="rnd" w="3240">
            <a:solidFill>
              <a:srgbClr val="00d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05" name=""/>
          <p:cNvSpPr/>
          <p:nvPr/>
        </p:nvSpPr>
        <p:spPr>
          <a:xfrm>
            <a:off x="6904080" y="4660920"/>
            <a:ext cx="15840" cy="15840"/>
          </a:xfrm>
          <a:custGeom>
            <a:avLst/>
            <a:gdLst/>
            <a:ahLst/>
            <a:rect l="l" t="t" r="r" b="b"/>
            <a:pathLst>
              <a:path w="10" h="10">
                <a:moveTo>
                  <a:pt x="10" y="0"/>
                </a:moveTo>
                <a:lnTo>
                  <a:pt x="10" y="0"/>
                </a:lnTo>
                <a:lnTo>
                  <a:pt x="10" y="10"/>
                </a:lnTo>
                <a:lnTo>
                  <a:pt x="0"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06" name=""/>
          <p:cNvSpPr/>
          <p:nvPr/>
        </p:nvSpPr>
        <p:spPr>
          <a:xfrm>
            <a:off x="6904080" y="4660920"/>
            <a:ext cx="15840" cy="15840"/>
          </a:xfrm>
          <a:custGeom>
            <a:avLst/>
            <a:gdLst/>
            <a:ahLst/>
            <a:rect l="l" t="t" r="r" b="b"/>
            <a:pathLst>
              <a:path w="10" h="10">
                <a:moveTo>
                  <a:pt x="10" y="0"/>
                </a:moveTo>
                <a:lnTo>
                  <a:pt x="10" y="0"/>
                </a:lnTo>
                <a:lnTo>
                  <a:pt x="10" y="10"/>
                </a:lnTo>
                <a:lnTo>
                  <a:pt x="0" y="0"/>
                </a:lnTo>
                <a:lnTo>
                  <a:pt x="10" y="0"/>
                </a:lnTo>
              </a:path>
            </a:pathLst>
          </a:custGeom>
          <a:noFill/>
          <a:ln cap="rnd" w="3240">
            <a:solidFill>
              <a:srgbClr val="00d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07" name=""/>
          <p:cNvSpPr/>
          <p:nvPr/>
        </p:nvSpPr>
        <p:spPr>
          <a:xfrm>
            <a:off x="6886440" y="4676760"/>
            <a:ext cx="17640" cy="17640"/>
          </a:xfrm>
          <a:custGeom>
            <a:avLst/>
            <a:gdLst/>
            <a:ahLst/>
            <a:rect l="l" t="t" r="r" b="b"/>
            <a:pathLst>
              <a:path w="11" h="11">
                <a:moveTo>
                  <a:pt x="0" y="0"/>
                </a:moveTo>
                <a:lnTo>
                  <a:pt x="11" y="0"/>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08" name=""/>
          <p:cNvSpPr/>
          <p:nvPr/>
        </p:nvSpPr>
        <p:spPr>
          <a:xfrm>
            <a:off x="6886440" y="4676760"/>
            <a:ext cx="17640" cy="17640"/>
          </a:xfrm>
          <a:custGeom>
            <a:avLst/>
            <a:gdLst/>
            <a:ahLst/>
            <a:rect l="l" t="t" r="r" b="b"/>
            <a:pathLst>
              <a:path w="11" h="11">
                <a:moveTo>
                  <a:pt x="0" y="0"/>
                </a:moveTo>
                <a:lnTo>
                  <a:pt x="11" y="0"/>
                </a:lnTo>
                <a:lnTo>
                  <a:pt x="0" y="11"/>
                </a:lnTo>
                <a:lnTo>
                  <a:pt x="0" y="0"/>
                </a:lnTo>
              </a:path>
            </a:pathLst>
          </a:custGeom>
          <a:noFill/>
          <a:ln cap="rnd" w="3240">
            <a:solidFill>
              <a:srgbClr val="00d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09" name=""/>
          <p:cNvSpPr/>
          <p:nvPr/>
        </p:nvSpPr>
        <p:spPr>
          <a:xfrm>
            <a:off x="7899480" y="37465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0" name=""/>
          <p:cNvSpPr/>
          <p:nvPr/>
        </p:nvSpPr>
        <p:spPr>
          <a:xfrm>
            <a:off x="7899480" y="3746520"/>
            <a:ext cx="1440" cy="1440"/>
          </a:xfrm>
          <a:prstGeom prst="line">
            <a:avLst/>
          </a:prstGeom>
          <a:ln cap="rnd" w="3240">
            <a:solidFill>
              <a:srgbClr val="4fffa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1" name=""/>
          <p:cNvSpPr/>
          <p:nvPr/>
        </p:nvSpPr>
        <p:spPr>
          <a:xfrm>
            <a:off x="7866000" y="3763800"/>
            <a:ext cx="15840" cy="16200"/>
          </a:xfrm>
          <a:custGeom>
            <a:avLst/>
            <a:gdLst/>
            <a:ahLst/>
            <a:rect l="l" t="t" r="r" b="b"/>
            <a:pathLst>
              <a:path w="10" h="10">
                <a:moveTo>
                  <a:pt x="10" y="0"/>
                </a:moveTo>
                <a:lnTo>
                  <a:pt x="10" y="0"/>
                </a:lnTo>
                <a:lnTo>
                  <a:pt x="10" y="10"/>
                </a:lnTo>
                <a:lnTo>
                  <a:pt x="0" y="10"/>
                </a:lnTo>
                <a:lnTo>
                  <a:pt x="0" y="0"/>
                </a:lnTo>
                <a:lnTo>
                  <a:pt x="1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12" name=""/>
          <p:cNvSpPr/>
          <p:nvPr/>
        </p:nvSpPr>
        <p:spPr>
          <a:xfrm>
            <a:off x="7866000" y="3763800"/>
            <a:ext cx="15840" cy="16200"/>
          </a:xfrm>
          <a:custGeom>
            <a:avLst/>
            <a:gdLst/>
            <a:ahLst/>
            <a:rect l="l" t="t" r="r" b="b"/>
            <a:pathLst>
              <a:path w="10" h="10">
                <a:moveTo>
                  <a:pt x="10" y="0"/>
                </a:moveTo>
                <a:lnTo>
                  <a:pt x="10" y="0"/>
                </a:lnTo>
                <a:lnTo>
                  <a:pt x="10" y="10"/>
                </a:lnTo>
                <a:lnTo>
                  <a:pt x="0" y="10"/>
                </a:lnTo>
                <a:lnTo>
                  <a:pt x="0" y="0"/>
                </a:lnTo>
                <a:lnTo>
                  <a:pt x="10" y="0"/>
                </a:lnTo>
              </a:path>
            </a:pathLst>
          </a:custGeom>
          <a:noFill/>
          <a:ln cap="rnd" w="3240">
            <a:solidFill>
              <a:srgbClr val="4fffa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13" name=""/>
          <p:cNvSpPr/>
          <p:nvPr/>
        </p:nvSpPr>
        <p:spPr>
          <a:xfrm>
            <a:off x="7866000" y="3780000"/>
            <a:ext cx="3240" cy="2880"/>
          </a:xfrm>
          <a:prstGeom prst="rect">
            <a:avLst/>
          </a:prstGeom>
          <a:solidFill>
            <a:srgbClr val="000000"/>
          </a:solidFill>
          <a:ln cap="rnd" w="3240">
            <a:solidFill>
              <a:srgbClr val="4fffa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14" name=""/>
          <p:cNvSpPr/>
          <p:nvPr/>
        </p:nvSpPr>
        <p:spPr>
          <a:xfrm>
            <a:off x="7845480" y="3780000"/>
            <a:ext cx="1440" cy="15840"/>
          </a:xfrm>
          <a:custGeom>
            <a:avLst/>
            <a:gdLst/>
            <a:ahLst/>
            <a:rect l="l" t="t" r="r" b="b"/>
            <a:pathLst>
              <a:path w="0" h="10">
                <a:moveTo>
                  <a:pt x="0" y="0"/>
                </a:moveTo>
                <a:lnTo>
                  <a:pt x="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15" name=""/>
          <p:cNvSpPr/>
          <p:nvPr/>
        </p:nvSpPr>
        <p:spPr>
          <a:xfrm>
            <a:off x="7845480" y="3780000"/>
            <a:ext cx="1440" cy="15840"/>
          </a:xfrm>
          <a:custGeom>
            <a:avLst/>
            <a:gdLst/>
            <a:ahLst/>
            <a:rect l="l" t="t" r="r" b="b"/>
            <a:pathLst>
              <a:path w="0" h="10">
                <a:moveTo>
                  <a:pt x="0" y="0"/>
                </a:moveTo>
                <a:lnTo>
                  <a:pt x="0" y="0"/>
                </a:lnTo>
                <a:lnTo>
                  <a:pt x="0" y="10"/>
                </a:lnTo>
                <a:lnTo>
                  <a:pt x="0" y="0"/>
                </a:lnTo>
              </a:path>
            </a:pathLst>
          </a:custGeom>
          <a:noFill/>
          <a:ln cap="rnd" w="3240">
            <a:solidFill>
              <a:srgbClr val="4fffa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16" name=""/>
          <p:cNvSpPr/>
          <p:nvPr/>
        </p:nvSpPr>
        <p:spPr>
          <a:xfrm>
            <a:off x="6989760" y="4581360"/>
            <a:ext cx="15840" cy="180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7" name=""/>
          <p:cNvSpPr/>
          <p:nvPr/>
        </p:nvSpPr>
        <p:spPr>
          <a:xfrm>
            <a:off x="6989760" y="4581360"/>
            <a:ext cx="15840" cy="1800"/>
          </a:xfrm>
          <a:custGeom>
            <a:avLst/>
            <a:gdLst/>
            <a:ahLst/>
            <a:rect l="l" t="t" r="r" b="b"/>
            <a:pathLst>
              <a:path w="10" h="0">
                <a:moveTo>
                  <a:pt x="10" y="0"/>
                </a:moveTo>
                <a:lnTo>
                  <a:pt x="10" y="0"/>
                </a:lnTo>
                <a:lnTo>
                  <a:pt x="0" y="0"/>
                </a:lnTo>
                <a:lnTo>
                  <a:pt x="10" y="0"/>
                </a:lnTo>
              </a:path>
            </a:pathLst>
          </a:custGeom>
          <a:noFill/>
          <a:ln cap="rnd" w="3240">
            <a:solidFill>
              <a:srgbClr val="4fffa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8" name=""/>
          <p:cNvSpPr/>
          <p:nvPr/>
        </p:nvSpPr>
        <p:spPr>
          <a:xfrm>
            <a:off x="6989760" y="4597560"/>
            <a:ext cx="3240" cy="1440"/>
          </a:xfrm>
          <a:prstGeom prst="rect">
            <a:avLst/>
          </a:prstGeom>
          <a:solidFill>
            <a:srgbClr val="000000"/>
          </a:solidFill>
          <a:ln cap="rnd" w="3240">
            <a:solidFill>
              <a:srgbClr val="4fffa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9" name=""/>
          <p:cNvSpPr/>
          <p:nvPr/>
        </p:nvSpPr>
        <p:spPr>
          <a:xfrm>
            <a:off x="6956280" y="4618080"/>
            <a:ext cx="1800" cy="9360"/>
          </a:xfrm>
          <a:custGeom>
            <a:avLst/>
            <a:gdLst/>
            <a:ahLst/>
            <a:rect l="l" t="t" r="r" b="b"/>
            <a:pathLst>
              <a:path w="0" h="6">
                <a:moveTo>
                  <a:pt x="0" y="0"/>
                </a:moveTo>
                <a:lnTo>
                  <a:pt x="0" y="0"/>
                </a:lnTo>
                <a:lnTo>
                  <a:pt x="0" y="6"/>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20" name=""/>
          <p:cNvSpPr/>
          <p:nvPr/>
        </p:nvSpPr>
        <p:spPr>
          <a:xfrm>
            <a:off x="6956280" y="4618080"/>
            <a:ext cx="1800" cy="9360"/>
          </a:xfrm>
          <a:custGeom>
            <a:avLst/>
            <a:gdLst/>
            <a:ahLst/>
            <a:rect l="l" t="t" r="r" b="b"/>
            <a:pathLst>
              <a:path w="0" h="6">
                <a:moveTo>
                  <a:pt x="0" y="0"/>
                </a:moveTo>
                <a:lnTo>
                  <a:pt x="0" y="0"/>
                </a:lnTo>
                <a:lnTo>
                  <a:pt x="0" y="6"/>
                </a:lnTo>
                <a:lnTo>
                  <a:pt x="0" y="0"/>
                </a:lnTo>
              </a:path>
            </a:pathLst>
          </a:custGeom>
          <a:noFill/>
          <a:ln cap="rnd" w="3240">
            <a:solidFill>
              <a:srgbClr val="4fffa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21" name=""/>
          <p:cNvSpPr/>
          <p:nvPr/>
        </p:nvSpPr>
        <p:spPr>
          <a:xfrm>
            <a:off x="6904080" y="4660920"/>
            <a:ext cx="15840" cy="15840"/>
          </a:xfrm>
          <a:custGeom>
            <a:avLst/>
            <a:gdLst/>
            <a:ahLst/>
            <a:rect l="l" t="t" r="r" b="b"/>
            <a:pathLst>
              <a:path w="10" h="10">
                <a:moveTo>
                  <a:pt x="10" y="0"/>
                </a:moveTo>
                <a:lnTo>
                  <a:pt x="10" y="0"/>
                </a:lnTo>
                <a:lnTo>
                  <a:pt x="10" y="10"/>
                </a:ln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22" name=""/>
          <p:cNvSpPr/>
          <p:nvPr/>
        </p:nvSpPr>
        <p:spPr>
          <a:xfrm>
            <a:off x="6904080" y="4660920"/>
            <a:ext cx="15840" cy="15840"/>
          </a:xfrm>
          <a:custGeom>
            <a:avLst/>
            <a:gdLst/>
            <a:ahLst/>
            <a:rect l="l" t="t" r="r" b="b"/>
            <a:pathLst>
              <a:path w="10" h="10">
                <a:moveTo>
                  <a:pt x="10" y="0"/>
                </a:moveTo>
                <a:lnTo>
                  <a:pt x="10" y="0"/>
                </a:lnTo>
                <a:lnTo>
                  <a:pt x="10" y="10"/>
                </a:lnTo>
                <a:lnTo>
                  <a:pt x="10" y="0"/>
                </a:lnTo>
                <a:lnTo>
                  <a:pt x="0" y="0"/>
                </a:lnTo>
                <a:lnTo>
                  <a:pt x="10" y="0"/>
                </a:lnTo>
              </a:path>
            </a:pathLst>
          </a:custGeom>
          <a:noFill/>
          <a:ln cap="rnd" w="3240">
            <a:solidFill>
              <a:srgbClr val="4fffa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23" name=""/>
          <p:cNvSpPr/>
          <p:nvPr/>
        </p:nvSpPr>
        <p:spPr>
          <a:xfrm>
            <a:off x="6886440" y="4676760"/>
            <a:ext cx="17640" cy="17640"/>
          </a:xfrm>
          <a:custGeom>
            <a:avLst/>
            <a:gdLst/>
            <a:ahLst/>
            <a:rect l="l" t="t" r="r" b="b"/>
            <a:pathLst>
              <a:path w="11" h="11">
                <a:moveTo>
                  <a:pt x="0" y="0"/>
                </a:moveTo>
                <a:lnTo>
                  <a:pt x="0" y="0"/>
                </a:lnTo>
                <a:lnTo>
                  <a:pt x="11" y="0"/>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24" name=""/>
          <p:cNvSpPr/>
          <p:nvPr/>
        </p:nvSpPr>
        <p:spPr>
          <a:xfrm>
            <a:off x="6886440" y="4676760"/>
            <a:ext cx="17640" cy="17640"/>
          </a:xfrm>
          <a:custGeom>
            <a:avLst/>
            <a:gdLst/>
            <a:ahLst/>
            <a:rect l="l" t="t" r="r" b="b"/>
            <a:pathLst>
              <a:path w="11" h="11">
                <a:moveTo>
                  <a:pt x="0" y="0"/>
                </a:moveTo>
                <a:lnTo>
                  <a:pt x="0" y="0"/>
                </a:lnTo>
                <a:lnTo>
                  <a:pt x="11" y="0"/>
                </a:lnTo>
                <a:lnTo>
                  <a:pt x="0" y="11"/>
                </a:lnTo>
                <a:lnTo>
                  <a:pt x="0" y="0"/>
                </a:lnTo>
              </a:path>
            </a:pathLst>
          </a:custGeom>
          <a:noFill/>
          <a:ln cap="rnd" w="3240">
            <a:solidFill>
              <a:srgbClr val="4fffa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25" name=""/>
          <p:cNvSpPr/>
          <p:nvPr/>
        </p:nvSpPr>
        <p:spPr>
          <a:xfrm>
            <a:off x="7899480" y="3746520"/>
            <a:ext cx="3240" cy="3240"/>
          </a:xfrm>
          <a:prstGeom prst="rect">
            <a:avLst/>
          </a:prstGeom>
          <a:solidFill>
            <a:srgbClr val="000000"/>
          </a:solidFill>
          <a:ln cap="rnd" w="3240">
            <a:solidFill>
              <a:srgbClr val="bfff3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6" name=""/>
          <p:cNvSpPr/>
          <p:nvPr/>
        </p:nvSpPr>
        <p:spPr>
          <a:xfrm>
            <a:off x="7866000" y="3763800"/>
            <a:ext cx="15840" cy="16200"/>
          </a:xfrm>
          <a:custGeom>
            <a:avLst/>
            <a:gdLst/>
            <a:ahLst/>
            <a:rect l="l" t="t" r="r" b="b"/>
            <a:pathLst>
              <a:path w="10" h="10">
                <a:moveTo>
                  <a:pt x="10" y="0"/>
                </a:moveTo>
                <a:lnTo>
                  <a:pt x="10" y="0"/>
                </a:lnTo>
                <a:lnTo>
                  <a:pt x="10" y="10"/>
                </a:lnTo>
                <a:lnTo>
                  <a:pt x="0" y="0"/>
                </a:lnTo>
                <a:lnTo>
                  <a:pt x="1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27" name=""/>
          <p:cNvSpPr/>
          <p:nvPr/>
        </p:nvSpPr>
        <p:spPr>
          <a:xfrm>
            <a:off x="7866000" y="3763800"/>
            <a:ext cx="15840" cy="16200"/>
          </a:xfrm>
          <a:custGeom>
            <a:avLst/>
            <a:gdLst/>
            <a:ahLst/>
            <a:rect l="l" t="t" r="r" b="b"/>
            <a:pathLst>
              <a:path w="10" h="10">
                <a:moveTo>
                  <a:pt x="10" y="0"/>
                </a:moveTo>
                <a:lnTo>
                  <a:pt x="10" y="0"/>
                </a:lnTo>
                <a:lnTo>
                  <a:pt x="10" y="10"/>
                </a:lnTo>
                <a:lnTo>
                  <a:pt x="0" y="0"/>
                </a:lnTo>
                <a:lnTo>
                  <a:pt x="10" y="0"/>
                </a:lnTo>
              </a:path>
            </a:pathLst>
          </a:custGeom>
          <a:noFill/>
          <a:ln cap="rnd" w="3240">
            <a:solidFill>
              <a:srgbClr val="bfff3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28" name=""/>
          <p:cNvSpPr/>
          <p:nvPr/>
        </p:nvSpPr>
        <p:spPr>
          <a:xfrm>
            <a:off x="7845480" y="3780000"/>
            <a:ext cx="1440" cy="15840"/>
          </a:xfrm>
          <a:custGeom>
            <a:avLst/>
            <a:gdLst/>
            <a:ahLst/>
            <a:rect l="l" t="t" r="r" b="b"/>
            <a:pathLst>
              <a:path w="0" h="10">
                <a:moveTo>
                  <a:pt x="0" y="0"/>
                </a:moveTo>
                <a:lnTo>
                  <a:pt x="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29" name=""/>
          <p:cNvSpPr/>
          <p:nvPr/>
        </p:nvSpPr>
        <p:spPr>
          <a:xfrm>
            <a:off x="7845480" y="3780000"/>
            <a:ext cx="1440" cy="15840"/>
          </a:xfrm>
          <a:custGeom>
            <a:avLst/>
            <a:gdLst/>
            <a:ahLst/>
            <a:rect l="l" t="t" r="r" b="b"/>
            <a:pathLst>
              <a:path w="0" h="10">
                <a:moveTo>
                  <a:pt x="0" y="0"/>
                </a:moveTo>
                <a:lnTo>
                  <a:pt x="0" y="0"/>
                </a:lnTo>
                <a:lnTo>
                  <a:pt x="0" y="10"/>
                </a:lnTo>
                <a:lnTo>
                  <a:pt x="0" y="0"/>
                </a:lnTo>
              </a:path>
            </a:pathLst>
          </a:custGeom>
          <a:noFill/>
          <a:ln cap="rnd" w="3240">
            <a:solidFill>
              <a:srgbClr val="bfff3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30" name=""/>
          <p:cNvSpPr/>
          <p:nvPr/>
        </p:nvSpPr>
        <p:spPr>
          <a:xfrm>
            <a:off x="6989760" y="4597560"/>
            <a:ext cx="3240" cy="1440"/>
          </a:xfrm>
          <a:prstGeom prst="rect">
            <a:avLst/>
          </a:prstGeom>
          <a:solidFill>
            <a:srgbClr val="000000"/>
          </a:solidFill>
          <a:ln cap="rnd" w="3240">
            <a:solidFill>
              <a:srgbClr val="bfff3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1" name=""/>
          <p:cNvSpPr/>
          <p:nvPr/>
        </p:nvSpPr>
        <p:spPr>
          <a:xfrm>
            <a:off x="6919920" y="46609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6919920" y="4660920"/>
            <a:ext cx="1440" cy="1440"/>
          </a:xfrm>
          <a:prstGeom prst="line">
            <a:avLst/>
          </a:prstGeom>
          <a:ln cap="rnd" w="3240">
            <a:solidFill>
              <a:srgbClr val="bfff3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3" name=""/>
          <p:cNvSpPr/>
          <p:nvPr/>
        </p:nvSpPr>
        <p:spPr>
          <a:xfrm>
            <a:off x="6886440" y="4676760"/>
            <a:ext cx="1800" cy="17640"/>
          </a:xfrm>
          <a:custGeom>
            <a:avLst/>
            <a:gdLst/>
            <a:ahLst/>
            <a:rect l="l" t="t" r="r" b="b"/>
            <a:pathLst>
              <a:path w="0"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34" name=""/>
          <p:cNvSpPr/>
          <p:nvPr/>
        </p:nvSpPr>
        <p:spPr>
          <a:xfrm>
            <a:off x="6886440" y="4676760"/>
            <a:ext cx="1800" cy="17640"/>
          </a:xfrm>
          <a:custGeom>
            <a:avLst/>
            <a:gdLst/>
            <a:ahLst/>
            <a:rect l="l" t="t" r="r" b="b"/>
            <a:pathLst>
              <a:path w="0" h="11">
                <a:moveTo>
                  <a:pt x="0" y="0"/>
                </a:moveTo>
                <a:lnTo>
                  <a:pt x="0" y="0"/>
                </a:lnTo>
                <a:lnTo>
                  <a:pt x="0" y="11"/>
                </a:lnTo>
                <a:lnTo>
                  <a:pt x="0" y="0"/>
                </a:lnTo>
              </a:path>
            </a:pathLst>
          </a:custGeom>
          <a:noFill/>
          <a:ln cap="rnd" w="3240">
            <a:solidFill>
              <a:srgbClr val="bfff3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35" name=""/>
          <p:cNvSpPr/>
          <p:nvPr/>
        </p:nvSpPr>
        <p:spPr>
          <a:xfrm>
            <a:off x="7866000" y="3763800"/>
            <a:ext cx="15840" cy="16200"/>
          </a:xfrm>
          <a:custGeom>
            <a:avLst/>
            <a:gdLst/>
            <a:ahLst/>
            <a:rect l="l" t="t" r="r" b="b"/>
            <a:pathLst>
              <a:path w="10" h="10">
                <a:moveTo>
                  <a:pt x="10" y="0"/>
                </a:moveTo>
                <a:lnTo>
                  <a:pt x="10" y="0"/>
                </a:lnTo>
                <a:lnTo>
                  <a:pt x="10" y="10"/>
                </a:lnTo>
                <a:lnTo>
                  <a:pt x="0" y="0"/>
                </a:lnTo>
                <a:lnTo>
                  <a:pt x="1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36" name=""/>
          <p:cNvSpPr/>
          <p:nvPr/>
        </p:nvSpPr>
        <p:spPr>
          <a:xfrm>
            <a:off x="7866000" y="3763800"/>
            <a:ext cx="15840" cy="16200"/>
          </a:xfrm>
          <a:custGeom>
            <a:avLst/>
            <a:gdLst/>
            <a:ahLst/>
            <a:rect l="l" t="t" r="r" b="b"/>
            <a:pathLst>
              <a:path w="10" h="10">
                <a:moveTo>
                  <a:pt x="10" y="0"/>
                </a:moveTo>
                <a:lnTo>
                  <a:pt x="10" y="0"/>
                </a:lnTo>
                <a:lnTo>
                  <a:pt x="10" y="10"/>
                </a:lnTo>
                <a:lnTo>
                  <a:pt x="0" y="0"/>
                </a:lnTo>
                <a:lnTo>
                  <a:pt x="10" y="0"/>
                </a:lnTo>
              </a:path>
            </a:pathLst>
          </a:custGeom>
          <a:noFill/>
          <a:ln cap="rnd" w="3240">
            <a:solidFill>
              <a:srgbClr val="ffcf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37" name=""/>
          <p:cNvSpPr/>
          <p:nvPr/>
        </p:nvSpPr>
        <p:spPr>
          <a:xfrm>
            <a:off x="7845480" y="3780000"/>
            <a:ext cx="1440" cy="15840"/>
          </a:xfrm>
          <a:custGeom>
            <a:avLst/>
            <a:gdLst/>
            <a:ahLst/>
            <a:rect l="l" t="t" r="r" b="b"/>
            <a:pathLst>
              <a:path w="0" h="10">
                <a:moveTo>
                  <a:pt x="0" y="0"/>
                </a:move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38" name=""/>
          <p:cNvSpPr/>
          <p:nvPr/>
        </p:nvSpPr>
        <p:spPr>
          <a:xfrm>
            <a:off x="7845480" y="3780000"/>
            <a:ext cx="1440" cy="15840"/>
          </a:xfrm>
          <a:custGeom>
            <a:avLst/>
            <a:gdLst/>
            <a:ahLst/>
            <a:rect l="l" t="t" r="r" b="b"/>
            <a:pathLst>
              <a:path w="0" h="10">
                <a:moveTo>
                  <a:pt x="0" y="0"/>
                </a:moveTo>
                <a:lnTo>
                  <a:pt x="0" y="10"/>
                </a:lnTo>
                <a:lnTo>
                  <a:pt x="0" y="0"/>
                </a:lnTo>
              </a:path>
            </a:pathLst>
          </a:custGeom>
          <a:noFill/>
          <a:ln cap="rnd" w="3240">
            <a:solidFill>
              <a:srgbClr val="ffcf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39" name=""/>
          <p:cNvSpPr/>
          <p:nvPr/>
        </p:nvSpPr>
        <p:spPr>
          <a:xfrm>
            <a:off x="6919920" y="4660920"/>
            <a:ext cx="3240" cy="3240"/>
          </a:xfrm>
          <a:prstGeom prst="rect">
            <a:avLst/>
          </a:prstGeom>
          <a:solidFill>
            <a:srgbClr val="000000"/>
          </a:solidFill>
          <a:ln cap="rnd" w="3240">
            <a:solidFill>
              <a:srgbClr val="ffc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0" name=""/>
          <p:cNvSpPr/>
          <p:nvPr/>
        </p:nvSpPr>
        <p:spPr>
          <a:xfrm>
            <a:off x="6886440" y="4676760"/>
            <a:ext cx="1800" cy="17640"/>
          </a:xfrm>
          <a:custGeom>
            <a:avLst/>
            <a:gdLst/>
            <a:ahLst/>
            <a:rect l="l" t="t" r="r" b="b"/>
            <a:pathLst>
              <a:path w="0"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41" name=""/>
          <p:cNvSpPr/>
          <p:nvPr/>
        </p:nvSpPr>
        <p:spPr>
          <a:xfrm>
            <a:off x="6886440" y="4676760"/>
            <a:ext cx="1800" cy="17640"/>
          </a:xfrm>
          <a:custGeom>
            <a:avLst/>
            <a:gdLst/>
            <a:ahLst/>
            <a:rect l="l" t="t" r="r" b="b"/>
            <a:pathLst>
              <a:path w="0" h="11">
                <a:moveTo>
                  <a:pt x="0" y="0"/>
                </a:moveTo>
                <a:lnTo>
                  <a:pt x="0" y="0"/>
                </a:lnTo>
                <a:lnTo>
                  <a:pt x="0" y="11"/>
                </a:lnTo>
                <a:lnTo>
                  <a:pt x="0" y="0"/>
                </a:lnTo>
              </a:path>
            </a:pathLst>
          </a:custGeom>
          <a:noFill/>
          <a:ln cap="rnd" w="3240">
            <a:solidFill>
              <a:srgbClr val="ffcf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42" name=""/>
          <p:cNvSpPr/>
          <p:nvPr/>
        </p:nvSpPr>
        <p:spPr>
          <a:xfrm>
            <a:off x="7866000" y="3763800"/>
            <a:ext cx="15840" cy="180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3" name=""/>
          <p:cNvSpPr/>
          <p:nvPr/>
        </p:nvSpPr>
        <p:spPr>
          <a:xfrm>
            <a:off x="7866000" y="3763800"/>
            <a:ext cx="15840" cy="1800"/>
          </a:xfrm>
          <a:custGeom>
            <a:avLst/>
            <a:gdLst/>
            <a:ahLst/>
            <a:rect l="l" t="t" r="r" b="b"/>
            <a:pathLst>
              <a:path w="10" h="0">
                <a:moveTo>
                  <a:pt x="10" y="0"/>
                </a:moveTo>
                <a:lnTo>
                  <a:pt x="10" y="0"/>
                </a:lnTo>
                <a:lnTo>
                  <a:pt x="0" y="0"/>
                </a:lnTo>
                <a:lnTo>
                  <a:pt x="10" y="0"/>
                </a:lnTo>
              </a:path>
            </a:pathLst>
          </a:custGeom>
          <a:noFill/>
          <a:ln cap="rnd" w="3240">
            <a:solidFill>
              <a:srgbClr val="ff5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4" name=""/>
          <p:cNvSpPr/>
          <p:nvPr/>
        </p:nvSpPr>
        <p:spPr>
          <a:xfrm>
            <a:off x="7845480" y="3780000"/>
            <a:ext cx="1440" cy="15840"/>
          </a:xfrm>
          <a:custGeom>
            <a:avLst/>
            <a:gdLst/>
            <a:ahLst/>
            <a:rect l="l" t="t" r="r" b="b"/>
            <a:pathLst>
              <a:path w="0" h="10">
                <a:moveTo>
                  <a:pt x="0" y="0"/>
                </a:move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45" name=""/>
          <p:cNvSpPr/>
          <p:nvPr/>
        </p:nvSpPr>
        <p:spPr>
          <a:xfrm>
            <a:off x="7845480" y="3780000"/>
            <a:ext cx="1440" cy="15840"/>
          </a:xfrm>
          <a:custGeom>
            <a:avLst/>
            <a:gdLst/>
            <a:ahLst/>
            <a:rect l="l" t="t" r="r" b="b"/>
            <a:pathLst>
              <a:path w="0" h="10">
                <a:moveTo>
                  <a:pt x="0" y="0"/>
                </a:moveTo>
                <a:lnTo>
                  <a:pt x="0" y="10"/>
                </a:lnTo>
                <a:lnTo>
                  <a:pt x="0" y="0"/>
                </a:lnTo>
              </a:path>
            </a:pathLst>
          </a:custGeom>
          <a:noFill/>
          <a:ln cap="rnd" w="3240">
            <a:solidFill>
              <a:srgbClr val="ff5f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46" name=""/>
          <p:cNvSpPr/>
          <p:nvPr/>
        </p:nvSpPr>
        <p:spPr>
          <a:xfrm>
            <a:off x="6919920" y="4660920"/>
            <a:ext cx="3240" cy="3240"/>
          </a:xfrm>
          <a:prstGeom prst="rect">
            <a:avLst/>
          </a:prstGeom>
          <a:solidFill>
            <a:srgbClr val="000000"/>
          </a:solidFill>
          <a:ln cap="rnd" w="3240">
            <a:solidFill>
              <a:srgbClr val="ff5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7" name=""/>
          <p:cNvSpPr/>
          <p:nvPr/>
        </p:nvSpPr>
        <p:spPr>
          <a:xfrm>
            <a:off x="6886440" y="4676760"/>
            <a:ext cx="1800" cy="17640"/>
          </a:xfrm>
          <a:custGeom>
            <a:avLst/>
            <a:gdLst/>
            <a:ahLst/>
            <a:rect l="l" t="t" r="r" b="b"/>
            <a:pathLst>
              <a:path w="0"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48" name=""/>
          <p:cNvSpPr/>
          <p:nvPr/>
        </p:nvSpPr>
        <p:spPr>
          <a:xfrm>
            <a:off x="6886440" y="4676760"/>
            <a:ext cx="1800" cy="17640"/>
          </a:xfrm>
          <a:custGeom>
            <a:avLst/>
            <a:gdLst/>
            <a:ahLst/>
            <a:rect l="l" t="t" r="r" b="b"/>
            <a:pathLst>
              <a:path w="0" h="11">
                <a:moveTo>
                  <a:pt x="0" y="0"/>
                </a:moveTo>
                <a:lnTo>
                  <a:pt x="0" y="0"/>
                </a:lnTo>
                <a:lnTo>
                  <a:pt x="0" y="11"/>
                </a:lnTo>
                <a:lnTo>
                  <a:pt x="0" y="0"/>
                </a:lnTo>
              </a:path>
            </a:pathLst>
          </a:custGeom>
          <a:noFill/>
          <a:ln cap="rnd" w="3240">
            <a:solidFill>
              <a:srgbClr val="ff5f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49" name=""/>
          <p:cNvSpPr/>
          <p:nvPr/>
        </p:nvSpPr>
        <p:spPr>
          <a:xfrm>
            <a:off x="7866000" y="3763800"/>
            <a:ext cx="15840" cy="180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0" name=""/>
          <p:cNvSpPr/>
          <p:nvPr/>
        </p:nvSpPr>
        <p:spPr>
          <a:xfrm>
            <a:off x="7866000" y="3763800"/>
            <a:ext cx="15840" cy="1800"/>
          </a:xfrm>
          <a:custGeom>
            <a:avLst/>
            <a:gdLst/>
            <a:ahLst/>
            <a:rect l="l" t="t" r="r" b="b"/>
            <a:pathLst>
              <a:path w="10" h="0">
                <a:moveTo>
                  <a:pt x="10" y="0"/>
                </a:moveTo>
                <a:lnTo>
                  <a:pt x="10" y="0"/>
                </a:lnTo>
                <a:lnTo>
                  <a:pt x="0" y="0"/>
                </a:lnTo>
                <a:lnTo>
                  <a:pt x="10" y="0"/>
                </a:lnTo>
              </a:path>
            </a:pathLst>
          </a:custGeom>
          <a:noFill/>
          <a:ln cap="rnd" w="3240">
            <a:solidFill>
              <a:srgbClr val="ef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1" name=""/>
          <p:cNvSpPr/>
          <p:nvPr/>
        </p:nvSpPr>
        <p:spPr>
          <a:xfrm>
            <a:off x="7845480" y="3795840"/>
            <a:ext cx="7920" cy="2880"/>
          </a:xfrm>
          <a:prstGeom prst="rect">
            <a:avLst/>
          </a:prstGeom>
          <a:solidFill>
            <a:srgbClr val="000000"/>
          </a:solidFill>
          <a:ln cap="rnd" w="3240">
            <a:solidFill>
              <a:srgbClr val="e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52" name=""/>
          <p:cNvSpPr/>
          <p:nvPr/>
        </p:nvSpPr>
        <p:spPr>
          <a:xfrm>
            <a:off x="6886440" y="4676760"/>
            <a:ext cx="1800" cy="17640"/>
          </a:xfrm>
          <a:custGeom>
            <a:avLst/>
            <a:gdLst/>
            <a:ahLst/>
            <a:rect l="l" t="t" r="r" b="b"/>
            <a:pathLst>
              <a:path w="0"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3" name=""/>
          <p:cNvSpPr/>
          <p:nvPr/>
        </p:nvSpPr>
        <p:spPr>
          <a:xfrm>
            <a:off x="6886440" y="4676760"/>
            <a:ext cx="1800" cy="17640"/>
          </a:xfrm>
          <a:custGeom>
            <a:avLst/>
            <a:gdLst/>
            <a:ahLst/>
            <a:rect l="l" t="t" r="r" b="b"/>
            <a:pathLst>
              <a:path w="0" h="11">
                <a:moveTo>
                  <a:pt x="0" y="0"/>
                </a:moveTo>
                <a:lnTo>
                  <a:pt x="0" y="0"/>
                </a:lnTo>
                <a:lnTo>
                  <a:pt x="0" y="11"/>
                </a:lnTo>
                <a:lnTo>
                  <a:pt x="0" y="0"/>
                </a:lnTo>
              </a:path>
            </a:pathLst>
          </a:custGeom>
          <a:noFill/>
          <a:ln cap="rnd" w="3240">
            <a:solidFill>
              <a:srgbClr val="e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4" name=""/>
          <p:cNvSpPr/>
          <p:nvPr/>
        </p:nvSpPr>
        <p:spPr>
          <a:xfrm>
            <a:off x="7866000" y="3763800"/>
            <a:ext cx="15840" cy="180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5" name=""/>
          <p:cNvSpPr/>
          <p:nvPr/>
        </p:nvSpPr>
        <p:spPr>
          <a:xfrm>
            <a:off x="7866000" y="3763800"/>
            <a:ext cx="15840" cy="1800"/>
          </a:xfrm>
          <a:custGeom>
            <a:avLst/>
            <a:gdLst/>
            <a:ahLst/>
            <a:rect l="l" t="t" r="r" b="b"/>
            <a:pathLst>
              <a:path w="10" h="0">
                <a:moveTo>
                  <a:pt x="10" y="0"/>
                </a:moveTo>
                <a:lnTo>
                  <a:pt x="10" y="0"/>
                </a:lnTo>
                <a:lnTo>
                  <a:pt x="0" y="0"/>
                </a:lnTo>
                <a:lnTo>
                  <a:pt x="10" y="0"/>
                </a:lnTo>
              </a:path>
            </a:pathLst>
          </a:custGeom>
          <a:noFill/>
          <a:ln cap="rnd" w="3240">
            <a:solidFill>
              <a:srgbClr val="7f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6" name=""/>
          <p:cNvSpPr/>
          <p:nvPr/>
        </p:nvSpPr>
        <p:spPr>
          <a:xfrm>
            <a:off x="7845480" y="3795840"/>
            <a:ext cx="7920" cy="2880"/>
          </a:xfrm>
          <a:prstGeom prst="rect">
            <a:avLst/>
          </a:prstGeom>
          <a:solidFill>
            <a:srgbClr val="000000"/>
          </a:solidFill>
          <a:ln cap="rnd" w="3240">
            <a:solidFill>
              <a:srgbClr val="7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57" name=""/>
          <p:cNvSpPr/>
          <p:nvPr/>
        </p:nvSpPr>
        <p:spPr>
          <a:xfrm>
            <a:off x="6886440" y="4676760"/>
            <a:ext cx="3240" cy="3240"/>
          </a:xfrm>
          <a:prstGeom prst="rect">
            <a:avLst/>
          </a:prstGeom>
          <a:solidFill>
            <a:srgbClr val="000000"/>
          </a:solidFill>
          <a:ln cap="rnd" w="3240">
            <a:solidFill>
              <a:srgbClr val="7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58" name=""/>
          <p:cNvSpPr/>
          <p:nvPr/>
        </p:nvSpPr>
        <p:spPr>
          <a:xfrm>
            <a:off x="2683800" y="4627440"/>
            <a:ext cx="13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a:t>
            </a:r>
            <a:endParaRPr b="0" lang="en-US" sz="1500" spc="-1" strike="noStrike">
              <a:solidFill>
                <a:srgbClr val="000000"/>
              </a:solidFill>
              <a:latin typeface="Times New Roman"/>
            </a:endParaRPr>
          </a:p>
        </p:txBody>
      </p:sp>
      <p:sp>
        <p:nvSpPr>
          <p:cNvPr id="3459" name=""/>
          <p:cNvSpPr/>
          <p:nvPr/>
        </p:nvSpPr>
        <p:spPr>
          <a:xfrm>
            <a:off x="2620800" y="3736800"/>
            <a:ext cx="13824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a:off x="2670840" y="3736800"/>
            <a:ext cx="13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3461" name=""/>
          <p:cNvSpPr/>
          <p:nvPr/>
        </p:nvSpPr>
        <p:spPr>
          <a:xfrm>
            <a:off x="2804040" y="37368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462" name=""/>
          <p:cNvSpPr/>
          <p:nvPr/>
        </p:nvSpPr>
        <p:spPr>
          <a:xfrm>
            <a:off x="6824520" y="5835600"/>
            <a:ext cx="12888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3" name=""/>
          <p:cNvSpPr/>
          <p:nvPr/>
        </p:nvSpPr>
        <p:spPr>
          <a:xfrm>
            <a:off x="6872760" y="5835600"/>
            <a:ext cx="1270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B</a:t>
            </a:r>
            <a:endParaRPr b="0" lang="en-US" sz="1500" spc="-1" strike="noStrike">
              <a:solidFill>
                <a:srgbClr val="000000"/>
              </a:solidFill>
              <a:latin typeface="Times New Roman"/>
            </a:endParaRPr>
          </a:p>
        </p:txBody>
      </p:sp>
      <p:sp>
        <p:nvSpPr>
          <p:cNvPr id="3464" name=""/>
          <p:cNvSpPr/>
          <p:nvPr/>
        </p:nvSpPr>
        <p:spPr>
          <a:xfrm>
            <a:off x="7839000" y="5835600"/>
            <a:ext cx="13968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7889040" y="5835600"/>
            <a:ext cx="13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3466" name=""/>
          <p:cNvSpPr/>
          <p:nvPr/>
        </p:nvSpPr>
        <p:spPr>
          <a:xfrm>
            <a:off x="8023680" y="58356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467" name=""/>
          <p:cNvSpPr/>
          <p:nvPr/>
        </p:nvSpPr>
        <p:spPr>
          <a:xfrm>
            <a:off x="1066680" y="3444840"/>
            <a:ext cx="1503360" cy="563760"/>
          </a:xfrm>
          <a:custGeom>
            <a:avLst/>
            <a:gdLst/>
            <a:ahLst/>
            <a:rect l="l" t="t" r="r" b="b"/>
            <a:pathLst>
              <a:path w="1580" h="593">
                <a:moveTo>
                  <a:pt x="0" y="405"/>
                </a:moveTo>
                <a:lnTo>
                  <a:pt x="13" y="166"/>
                </a:lnTo>
                <a:lnTo>
                  <a:pt x="25" y="382"/>
                </a:lnTo>
                <a:lnTo>
                  <a:pt x="38" y="247"/>
                </a:lnTo>
                <a:lnTo>
                  <a:pt x="49" y="385"/>
                </a:lnTo>
                <a:lnTo>
                  <a:pt x="62" y="372"/>
                </a:lnTo>
                <a:lnTo>
                  <a:pt x="73" y="382"/>
                </a:lnTo>
                <a:lnTo>
                  <a:pt x="84" y="347"/>
                </a:lnTo>
                <a:lnTo>
                  <a:pt x="98" y="368"/>
                </a:lnTo>
                <a:lnTo>
                  <a:pt x="114" y="344"/>
                </a:lnTo>
                <a:lnTo>
                  <a:pt x="126" y="380"/>
                </a:lnTo>
                <a:lnTo>
                  <a:pt x="137" y="383"/>
                </a:lnTo>
                <a:lnTo>
                  <a:pt x="150" y="432"/>
                </a:lnTo>
                <a:lnTo>
                  <a:pt x="161" y="302"/>
                </a:lnTo>
                <a:lnTo>
                  <a:pt x="174" y="325"/>
                </a:lnTo>
                <a:lnTo>
                  <a:pt x="185" y="375"/>
                </a:lnTo>
                <a:lnTo>
                  <a:pt x="198" y="263"/>
                </a:lnTo>
                <a:lnTo>
                  <a:pt x="210" y="252"/>
                </a:lnTo>
                <a:lnTo>
                  <a:pt x="223" y="304"/>
                </a:lnTo>
                <a:lnTo>
                  <a:pt x="238" y="312"/>
                </a:lnTo>
                <a:lnTo>
                  <a:pt x="251" y="209"/>
                </a:lnTo>
                <a:lnTo>
                  <a:pt x="262" y="240"/>
                </a:lnTo>
                <a:lnTo>
                  <a:pt x="275" y="254"/>
                </a:lnTo>
                <a:lnTo>
                  <a:pt x="286" y="176"/>
                </a:lnTo>
                <a:lnTo>
                  <a:pt x="297" y="151"/>
                </a:lnTo>
                <a:lnTo>
                  <a:pt x="311" y="171"/>
                </a:lnTo>
                <a:lnTo>
                  <a:pt x="322" y="66"/>
                </a:lnTo>
                <a:lnTo>
                  <a:pt x="335" y="83"/>
                </a:lnTo>
                <a:lnTo>
                  <a:pt x="346" y="72"/>
                </a:lnTo>
                <a:lnTo>
                  <a:pt x="363" y="62"/>
                </a:lnTo>
                <a:lnTo>
                  <a:pt x="374" y="46"/>
                </a:lnTo>
                <a:lnTo>
                  <a:pt x="387" y="0"/>
                </a:lnTo>
                <a:lnTo>
                  <a:pt x="398" y="103"/>
                </a:lnTo>
                <a:lnTo>
                  <a:pt x="412" y="73"/>
                </a:lnTo>
                <a:lnTo>
                  <a:pt x="423" y="229"/>
                </a:lnTo>
                <a:lnTo>
                  <a:pt x="436" y="188"/>
                </a:lnTo>
                <a:lnTo>
                  <a:pt x="447" y="292"/>
                </a:lnTo>
                <a:lnTo>
                  <a:pt x="458" y="352"/>
                </a:lnTo>
                <a:lnTo>
                  <a:pt x="471" y="323"/>
                </a:lnTo>
                <a:lnTo>
                  <a:pt x="486" y="427"/>
                </a:lnTo>
                <a:lnTo>
                  <a:pt x="499" y="315"/>
                </a:lnTo>
                <a:lnTo>
                  <a:pt x="511" y="461"/>
                </a:lnTo>
                <a:lnTo>
                  <a:pt x="524" y="359"/>
                </a:lnTo>
                <a:lnTo>
                  <a:pt x="535" y="374"/>
                </a:lnTo>
                <a:lnTo>
                  <a:pt x="548" y="391"/>
                </a:lnTo>
                <a:lnTo>
                  <a:pt x="559" y="391"/>
                </a:lnTo>
                <a:lnTo>
                  <a:pt x="572" y="375"/>
                </a:lnTo>
                <a:lnTo>
                  <a:pt x="583" y="398"/>
                </a:lnTo>
                <a:lnTo>
                  <a:pt x="597" y="364"/>
                </a:lnTo>
                <a:lnTo>
                  <a:pt x="611" y="367"/>
                </a:lnTo>
                <a:lnTo>
                  <a:pt x="625" y="378"/>
                </a:lnTo>
                <a:lnTo>
                  <a:pt x="636" y="395"/>
                </a:lnTo>
                <a:lnTo>
                  <a:pt x="649" y="380"/>
                </a:lnTo>
                <a:lnTo>
                  <a:pt x="660" y="315"/>
                </a:lnTo>
                <a:lnTo>
                  <a:pt x="671" y="294"/>
                </a:lnTo>
                <a:lnTo>
                  <a:pt x="684" y="284"/>
                </a:lnTo>
                <a:lnTo>
                  <a:pt x="696" y="203"/>
                </a:lnTo>
                <a:lnTo>
                  <a:pt x="709" y="202"/>
                </a:lnTo>
                <a:lnTo>
                  <a:pt x="720" y="242"/>
                </a:lnTo>
                <a:lnTo>
                  <a:pt x="737" y="174"/>
                </a:lnTo>
                <a:lnTo>
                  <a:pt x="748" y="155"/>
                </a:lnTo>
                <a:lnTo>
                  <a:pt x="761" y="106"/>
                </a:lnTo>
                <a:lnTo>
                  <a:pt x="772" y="174"/>
                </a:lnTo>
                <a:lnTo>
                  <a:pt x="785" y="205"/>
                </a:lnTo>
                <a:lnTo>
                  <a:pt x="797" y="281"/>
                </a:lnTo>
                <a:lnTo>
                  <a:pt x="810" y="308"/>
                </a:lnTo>
                <a:lnTo>
                  <a:pt x="821" y="422"/>
                </a:lnTo>
                <a:lnTo>
                  <a:pt x="832" y="383"/>
                </a:lnTo>
                <a:lnTo>
                  <a:pt x="845" y="372"/>
                </a:lnTo>
                <a:lnTo>
                  <a:pt x="860" y="398"/>
                </a:lnTo>
                <a:lnTo>
                  <a:pt x="873" y="354"/>
                </a:lnTo>
                <a:lnTo>
                  <a:pt x="884" y="451"/>
                </a:lnTo>
                <a:lnTo>
                  <a:pt x="897" y="380"/>
                </a:lnTo>
                <a:lnTo>
                  <a:pt x="909" y="380"/>
                </a:lnTo>
                <a:lnTo>
                  <a:pt x="922" y="407"/>
                </a:lnTo>
                <a:lnTo>
                  <a:pt x="933" y="407"/>
                </a:lnTo>
                <a:lnTo>
                  <a:pt x="946" y="419"/>
                </a:lnTo>
                <a:lnTo>
                  <a:pt x="957" y="409"/>
                </a:lnTo>
                <a:lnTo>
                  <a:pt x="970" y="395"/>
                </a:lnTo>
                <a:lnTo>
                  <a:pt x="985" y="367"/>
                </a:lnTo>
                <a:lnTo>
                  <a:pt x="998" y="367"/>
                </a:lnTo>
                <a:lnTo>
                  <a:pt x="1010" y="380"/>
                </a:lnTo>
                <a:lnTo>
                  <a:pt x="1021" y="385"/>
                </a:lnTo>
                <a:lnTo>
                  <a:pt x="1034" y="378"/>
                </a:lnTo>
                <a:lnTo>
                  <a:pt x="1045" y="352"/>
                </a:lnTo>
                <a:lnTo>
                  <a:pt x="1058" y="370"/>
                </a:lnTo>
                <a:lnTo>
                  <a:pt x="1069" y="362"/>
                </a:lnTo>
                <a:lnTo>
                  <a:pt x="1082" y="352"/>
                </a:lnTo>
                <a:lnTo>
                  <a:pt x="1094" y="360"/>
                </a:lnTo>
                <a:lnTo>
                  <a:pt x="1110" y="359"/>
                </a:lnTo>
                <a:lnTo>
                  <a:pt x="1122" y="367"/>
                </a:lnTo>
                <a:lnTo>
                  <a:pt x="1135" y="294"/>
                </a:lnTo>
                <a:lnTo>
                  <a:pt x="1146" y="390"/>
                </a:lnTo>
                <a:lnTo>
                  <a:pt x="1159" y="299"/>
                </a:lnTo>
                <a:lnTo>
                  <a:pt x="1170" y="422"/>
                </a:lnTo>
                <a:lnTo>
                  <a:pt x="1182" y="307"/>
                </a:lnTo>
                <a:lnTo>
                  <a:pt x="1195" y="370"/>
                </a:lnTo>
                <a:lnTo>
                  <a:pt x="1206" y="395"/>
                </a:lnTo>
                <a:lnTo>
                  <a:pt x="1219" y="347"/>
                </a:lnTo>
                <a:lnTo>
                  <a:pt x="1234" y="401"/>
                </a:lnTo>
                <a:lnTo>
                  <a:pt x="1247" y="325"/>
                </a:lnTo>
                <a:lnTo>
                  <a:pt x="1258" y="390"/>
                </a:lnTo>
                <a:lnTo>
                  <a:pt x="1271" y="362"/>
                </a:lnTo>
                <a:lnTo>
                  <a:pt x="1282" y="297"/>
                </a:lnTo>
                <a:lnTo>
                  <a:pt x="1296" y="357"/>
                </a:lnTo>
                <a:lnTo>
                  <a:pt x="1307" y="310"/>
                </a:lnTo>
                <a:lnTo>
                  <a:pt x="1320" y="405"/>
                </a:lnTo>
                <a:lnTo>
                  <a:pt x="1331" y="374"/>
                </a:lnTo>
                <a:lnTo>
                  <a:pt x="1342" y="318"/>
                </a:lnTo>
                <a:lnTo>
                  <a:pt x="1359" y="414"/>
                </a:lnTo>
                <a:lnTo>
                  <a:pt x="1372" y="362"/>
                </a:lnTo>
                <a:lnTo>
                  <a:pt x="1383" y="364"/>
                </a:lnTo>
                <a:lnTo>
                  <a:pt x="1395" y="385"/>
                </a:lnTo>
                <a:lnTo>
                  <a:pt x="1408" y="393"/>
                </a:lnTo>
                <a:lnTo>
                  <a:pt x="1419" y="405"/>
                </a:lnTo>
                <a:lnTo>
                  <a:pt x="1432" y="411"/>
                </a:lnTo>
                <a:lnTo>
                  <a:pt x="1443" y="430"/>
                </a:lnTo>
                <a:lnTo>
                  <a:pt x="1456" y="456"/>
                </a:lnTo>
                <a:lnTo>
                  <a:pt x="1467" y="469"/>
                </a:lnTo>
                <a:lnTo>
                  <a:pt x="1484" y="500"/>
                </a:lnTo>
                <a:lnTo>
                  <a:pt x="1495" y="511"/>
                </a:lnTo>
                <a:lnTo>
                  <a:pt x="1509" y="593"/>
                </a:lnTo>
                <a:lnTo>
                  <a:pt x="1520" y="531"/>
                </a:lnTo>
                <a:lnTo>
                  <a:pt x="1533" y="521"/>
                </a:lnTo>
                <a:lnTo>
                  <a:pt x="1544" y="562"/>
                </a:lnTo>
                <a:lnTo>
                  <a:pt x="1555" y="550"/>
                </a:lnTo>
                <a:lnTo>
                  <a:pt x="1568" y="427"/>
                </a:lnTo>
                <a:lnTo>
                  <a:pt x="1580" y="438"/>
                </a:lnTo>
              </a:path>
            </a:pathLst>
          </a:custGeom>
          <a:noFill/>
          <a:ln cap="rnd" w="158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7426440" y="6099120"/>
            <a:ext cx="1503360" cy="444600"/>
          </a:xfrm>
          <a:custGeom>
            <a:avLst/>
            <a:gdLst/>
            <a:ahLst/>
            <a:rect l="l" t="t" r="r" b="b"/>
            <a:pathLst>
              <a:path w="1580" h="466">
                <a:moveTo>
                  <a:pt x="0" y="321"/>
                </a:moveTo>
                <a:lnTo>
                  <a:pt x="13" y="295"/>
                </a:lnTo>
                <a:lnTo>
                  <a:pt x="25" y="299"/>
                </a:lnTo>
                <a:lnTo>
                  <a:pt x="38" y="310"/>
                </a:lnTo>
                <a:lnTo>
                  <a:pt x="49" y="314"/>
                </a:lnTo>
                <a:lnTo>
                  <a:pt x="62" y="300"/>
                </a:lnTo>
                <a:lnTo>
                  <a:pt x="73" y="295"/>
                </a:lnTo>
                <a:lnTo>
                  <a:pt x="84" y="287"/>
                </a:lnTo>
                <a:lnTo>
                  <a:pt x="98" y="287"/>
                </a:lnTo>
                <a:lnTo>
                  <a:pt x="114" y="297"/>
                </a:lnTo>
                <a:lnTo>
                  <a:pt x="126" y="312"/>
                </a:lnTo>
                <a:lnTo>
                  <a:pt x="137" y="326"/>
                </a:lnTo>
                <a:lnTo>
                  <a:pt x="150" y="359"/>
                </a:lnTo>
                <a:lnTo>
                  <a:pt x="161" y="264"/>
                </a:lnTo>
                <a:lnTo>
                  <a:pt x="174" y="284"/>
                </a:lnTo>
                <a:lnTo>
                  <a:pt x="185" y="268"/>
                </a:lnTo>
                <a:lnTo>
                  <a:pt x="198" y="250"/>
                </a:lnTo>
                <a:lnTo>
                  <a:pt x="210" y="276"/>
                </a:lnTo>
                <a:lnTo>
                  <a:pt x="223" y="211"/>
                </a:lnTo>
                <a:lnTo>
                  <a:pt x="238" y="274"/>
                </a:lnTo>
                <a:lnTo>
                  <a:pt x="251" y="204"/>
                </a:lnTo>
                <a:lnTo>
                  <a:pt x="262" y="172"/>
                </a:lnTo>
                <a:lnTo>
                  <a:pt x="275" y="238"/>
                </a:lnTo>
                <a:lnTo>
                  <a:pt x="286" y="141"/>
                </a:lnTo>
                <a:lnTo>
                  <a:pt x="297" y="93"/>
                </a:lnTo>
                <a:lnTo>
                  <a:pt x="311" y="162"/>
                </a:lnTo>
                <a:lnTo>
                  <a:pt x="322" y="60"/>
                </a:lnTo>
                <a:lnTo>
                  <a:pt x="335" y="23"/>
                </a:lnTo>
                <a:lnTo>
                  <a:pt x="346" y="95"/>
                </a:lnTo>
                <a:lnTo>
                  <a:pt x="363" y="52"/>
                </a:lnTo>
                <a:lnTo>
                  <a:pt x="374" y="0"/>
                </a:lnTo>
                <a:lnTo>
                  <a:pt x="387" y="10"/>
                </a:lnTo>
                <a:lnTo>
                  <a:pt x="398" y="52"/>
                </a:lnTo>
                <a:lnTo>
                  <a:pt x="412" y="99"/>
                </a:lnTo>
                <a:lnTo>
                  <a:pt x="423" y="155"/>
                </a:lnTo>
                <a:lnTo>
                  <a:pt x="436" y="208"/>
                </a:lnTo>
                <a:lnTo>
                  <a:pt x="447" y="307"/>
                </a:lnTo>
                <a:lnTo>
                  <a:pt x="458" y="316"/>
                </a:lnTo>
                <a:lnTo>
                  <a:pt x="471" y="344"/>
                </a:lnTo>
                <a:lnTo>
                  <a:pt x="486" y="271"/>
                </a:lnTo>
                <a:lnTo>
                  <a:pt x="499" y="291"/>
                </a:lnTo>
                <a:lnTo>
                  <a:pt x="511" y="334"/>
                </a:lnTo>
                <a:lnTo>
                  <a:pt x="524" y="217"/>
                </a:lnTo>
                <a:lnTo>
                  <a:pt x="535" y="295"/>
                </a:lnTo>
                <a:lnTo>
                  <a:pt x="548" y="336"/>
                </a:lnTo>
                <a:lnTo>
                  <a:pt x="559" y="321"/>
                </a:lnTo>
                <a:lnTo>
                  <a:pt x="572" y="320"/>
                </a:lnTo>
                <a:lnTo>
                  <a:pt x="583" y="277"/>
                </a:lnTo>
                <a:lnTo>
                  <a:pt x="597" y="289"/>
                </a:lnTo>
                <a:lnTo>
                  <a:pt x="611" y="307"/>
                </a:lnTo>
                <a:lnTo>
                  <a:pt x="625" y="300"/>
                </a:lnTo>
                <a:lnTo>
                  <a:pt x="636" y="337"/>
                </a:lnTo>
                <a:lnTo>
                  <a:pt x="649" y="341"/>
                </a:lnTo>
                <a:lnTo>
                  <a:pt x="660" y="240"/>
                </a:lnTo>
                <a:lnTo>
                  <a:pt x="671" y="240"/>
                </a:lnTo>
                <a:lnTo>
                  <a:pt x="684" y="180"/>
                </a:lnTo>
                <a:lnTo>
                  <a:pt x="696" y="128"/>
                </a:lnTo>
                <a:lnTo>
                  <a:pt x="709" y="194"/>
                </a:lnTo>
                <a:lnTo>
                  <a:pt x="720" y="177"/>
                </a:lnTo>
                <a:lnTo>
                  <a:pt x="737" y="60"/>
                </a:lnTo>
                <a:lnTo>
                  <a:pt x="748" y="136"/>
                </a:lnTo>
                <a:lnTo>
                  <a:pt x="761" y="76"/>
                </a:lnTo>
                <a:lnTo>
                  <a:pt x="772" y="32"/>
                </a:lnTo>
                <a:lnTo>
                  <a:pt x="785" y="194"/>
                </a:lnTo>
                <a:lnTo>
                  <a:pt x="797" y="206"/>
                </a:lnTo>
                <a:lnTo>
                  <a:pt x="810" y="287"/>
                </a:lnTo>
                <a:lnTo>
                  <a:pt x="821" y="386"/>
                </a:lnTo>
                <a:lnTo>
                  <a:pt x="832" y="266"/>
                </a:lnTo>
                <a:lnTo>
                  <a:pt x="845" y="320"/>
                </a:lnTo>
                <a:lnTo>
                  <a:pt x="860" y="208"/>
                </a:lnTo>
                <a:lnTo>
                  <a:pt x="873" y="287"/>
                </a:lnTo>
                <a:lnTo>
                  <a:pt x="884" y="345"/>
                </a:lnTo>
                <a:lnTo>
                  <a:pt x="897" y="277"/>
                </a:lnTo>
                <a:lnTo>
                  <a:pt x="909" y="300"/>
                </a:lnTo>
                <a:lnTo>
                  <a:pt x="922" y="324"/>
                </a:lnTo>
                <a:lnTo>
                  <a:pt x="933" y="300"/>
                </a:lnTo>
                <a:lnTo>
                  <a:pt x="946" y="295"/>
                </a:lnTo>
                <a:lnTo>
                  <a:pt x="957" y="291"/>
                </a:lnTo>
                <a:lnTo>
                  <a:pt x="970" y="300"/>
                </a:lnTo>
                <a:lnTo>
                  <a:pt x="985" y="289"/>
                </a:lnTo>
                <a:lnTo>
                  <a:pt x="998" y="291"/>
                </a:lnTo>
                <a:lnTo>
                  <a:pt x="1010" y="266"/>
                </a:lnTo>
                <a:lnTo>
                  <a:pt x="1021" y="285"/>
                </a:lnTo>
                <a:lnTo>
                  <a:pt x="1034" y="300"/>
                </a:lnTo>
                <a:lnTo>
                  <a:pt x="1045" y="292"/>
                </a:lnTo>
                <a:lnTo>
                  <a:pt x="1058" y="279"/>
                </a:lnTo>
                <a:lnTo>
                  <a:pt x="1069" y="266"/>
                </a:lnTo>
                <a:lnTo>
                  <a:pt x="1082" y="258"/>
                </a:lnTo>
                <a:lnTo>
                  <a:pt x="1094" y="276"/>
                </a:lnTo>
                <a:lnTo>
                  <a:pt x="1110" y="281"/>
                </a:lnTo>
                <a:lnTo>
                  <a:pt x="1122" y="297"/>
                </a:lnTo>
                <a:lnTo>
                  <a:pt x="1135" y="254"/>
                </a:lnTo>
                <a:lnTo>
                  <a:pt x="1146" y="360"/>
                </a:lnTo>
                <a:lnTo>
                  <a:pt x="1159" y="245"/>
                </a:lnTo>
                <a:lnTo>
                  <a:pt x="1170" y="269"/>
                </a:lnTo>
                <a:lnTo>
                  <a:pt x="1182" y="229"/>
                </a:lnTo>
                <a:lnTo>
                  <a:pt x="1195" y="334"/>
                </a:lnTo>
                <a:lnTo>
                  <a:pt x="1206" y="256"/>
                </a:lnTo>
                <a:lnTo>
                  <a:pt x="1219" y="295"/>
                </a:lnTo>
                <a:lnTo>
                  <a:pt x="1234" y="310"/>
                </a:lnTo>
                <a:lnTo>
                  <a:pt x="1247" y="245"/>
                </a:lnTo>
                <a:lnTo>
                  <a:pt x="1258" y="281"/>
                </a:lnTo>
                <a:lnTo>
                  <a:pt x="1271" y="295"/>
                </a:lnTo>
                <a:lnTo>
                  <a:pt x="1282" y="329"/>
                </a:lnTo>
                <a:lnTo>
                  <a:pt x="1296" y="269"/>
                </a:lnTo>
                <a:lnTo>
                  <a:pt x="1307" y="260"/>
                </a:lnTo>
                <a:lnTo>
                  <a:pt x="1320" y="295"/>
                </a:lnTo>
                <a:lnTo>
                  <a:pt x="1331" y="269"/>
                </a:lnTo>
                <a:lnTo>
                  <a:pt x="1342" y="305"/>
                </a:lnTo>
                <a:lnTo>
                  <a:pt x="1359" y="285"/>
                </a:lnTo>
                <a:lnTo>
                  <a:pt x="1372" y="254"/>
                </a:lnTo>
                <a:lnTo>
                  <a:pt x="1383" y="246"/>
                </a:lnTo>
                <a:lnTo>
                  <a:pt x="1395" y="287"/>
                </a:lnTo>
                <a:lnTo>
                  <a:pt x="1408" y="300"/>
                </a:lnTo>
                <a:lnTo>
                  <a:pt x="1419" y="344"/>
                </a:lnTo>
                <a:lnTo>
                  <a:pt x="1432" y="334"/>
                </a:lnTo>
                <a:lnTo>
                  <a:pt x="1443" y="357"/>
                </a:lnTo>
                <a:lnTo>
                  <a:pt x="1456" y="383"/>
                </a:lnTo>
                <a:lnTo>
                  <a:pt x="1467" y="391"/>
                </a:lnTo>
                <a:lnTo>
                  <a:pt x="1484" y="436"/>
                </a:lnTo>
                <a:lnTo>
                  <a:pt x="1495" y="420"/>
                </a:lnTo>
                <a:lnTo>
                  <a:pt x="1509" y="466"/>
                </a:lnTo>
                <a:lnTo>
                  <a:pt x="1520" y="399"/>
                </a:lnTo>
                <a:lnTo>
                  <a:pt x="1533" y="430"/>
                </a:lnTo>
                <a:lnTo>
                  <a:pt x="1544" y="443"/>
                </a:lnTo>
                <a:lnTo>
                  <a:pt x="1555" y="357"/>
                </a:lnTo>
                <a:lnTo>
                  <a:pt x="1568" y="326"/>
                </a:lnTo>
                <a:lnTo>
                  <a:pt x="1580" y="359"/>
                </a:lnTo>
              </a:path>
            </a:pathLst>
          </a:custGeom>
          <a:noFill/>
          <a:ln cap="rnd" w="158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836280" y="433692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470" name=""/>
          <p:cNvSpPr/>
          <p:nvPr/>
        </p:nvSpPr>
        <p:spPr>
          <a:xfrm>
            <a:off x="809640" y="4338720"/>
            <a:ext cx="1590840" cy="555480"/>
          </a:xfrm>
          <a:prstGeom prst="rect">
            <a:avLst/>
          </a:prstGeom>
          <a:noFill/>
          <a:ln cap="rnd"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906120" y="480708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472" name=""/>
          <p:cNvSpPr/>
          <p:nvPr/>
        </p:nvSpPr>
        <p:spPr>
          <a:xfrm>
            <a:off x="1171440" y="480708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473" name=""/>
          <p:cNvSpPr/>
          <p:nvPr/>
        </p:nvSpPr>
        <p:spPr>
          <a:xfrm>
            <a:off x="1400040" y="480708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474" name=""/>
          <p:cNvSpPr/>
          <p:nvPr/>
        </p:nvSpPr>
        <p:spPr>
          <a:xfrm>
            <a:off x="1626840" y="480708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475" name=""/>
          <p:cNvSpPr/>
          <p:nvPr/>
        </p:nvSpPr>
        <p:spPr>
          <a:xfrm>
            <a:off x="1857240" y="480708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476" name=""/>
          <p:cNvSpPr/>
          <p:nvPr/>
        </p:nvSpPr>
        <p:spPr>
          <a:xfrm>
            <a:off x="2125440" y="480708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477" name=""/>
          <p:cNvSpPr/>
          <p:nvPr/>
        </p:nvSpPr>
        <p:spPr>
          <a:xfrm>
            <a:off x="2349360" y="480708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478" name=""/>
          <p:cNvSpPr/>
          <p:nvPr/>
        </p:nvSpPr>
        <p:spPr>
          <a:xfrm>
            <a:off x="1055520" y="4487760"/>
            <a:ext cx="1440000" cy="405000"/>
          </a:xfrm>
          <a:custGeom>
            <a:avLst/>
            <a:gdLst/>
            <a:ahLst/>
            <a:rect l="l" t="t" r="r" b="b"/>
            <a:pathLst>
              <a:path w="1573" h="441">
                <a:moveTo>
                  <a:pt x="0" y="364"/>
                </a:moveTo>
                <a:lnTo>
                  <a:pt x="13" y="304"/>
                </a:lnTo>
                <a:lnTo>
                  <a:pt x="26" y="323"/>
                </a:lnTo>
                <a:lnTo>
                  <a:pt x="37" y="303"/>
                </a:lnTo>
                <a:lnTo>
                  <a:pt x="48" y="290"/>
                </a:lnTo>
                <a:lnTo>
                  <a:pt x="63" y="308"/>
                </a:lnTo>
                <a:lnTo>
                  <a:pt x="73" y="244"/>
                </a:lnTo>
                <a:lnTo>
                  <a:pt x="86" y="242"/>
                </a:lnTo>
                <a:lnTo>
                  <a:pt x="99" y="193"/>
                </a:lnTo>
                <a:lnTo>
                  <a:pt x="110" y="180"/>
                </a:lnTo>
                <a:lnTo>
                  <a:pt x="123" y="173"/>
                </a:lnTo>
                <a:lnTo>
                  <a:pt x="136" y="144"/>
                </a:lnTo>
                <a:lnTo>
                  <a:pt x="147" y="126"/>
                </a:lnTo>
                <a:lnTo>
                  <a:pt x="160" y="164"/>
                </a:lnTo>
                <a:lnTo>
                  <a:pt x="174" y="123"/>
                </a:lnTo>
                <a:lnTo>
                  <a:pt x="185" y="0"/>
                </a:lnTo>
                <a:lnTo>
                  <a:pt x="198" y="111"/>
                </a:lnTo>
                <a:lnTo>
                  <a:pt x="211" y="149"/>
                </a:lnTo>
                <a:lnTo>
                  <a:pt x="222" y="190"/>
                </a:lnTo>
                <a:lnTo>
                  <a:pt x="235" y="268"/>
                </a:lnTo>
                <a:lnTo>
                  <a:pt x="248" y="287"/>
                </a:lnTo>
                <a:lnTo>
                  <a:pt x="259" y="352"/>
                </a:lnTo>
                <a:lnTo>
                  <a:pt x="273" y="325"/>
                </a:lnTo>
                <a:lnTo>
                  <a:pt x="286" y="335"/>
                </a:lnTo>
                <a:lnTo>
                  <a:pt x="297" y="361"/>
                </a:lnTo>
                <a:lnTo>
                  <a:pt x="310" y="343"/>
                </a:lnTo>
                <a:lnTo>
                  <a:pt x="323" y="354"/>
                </a:lnTo>
                <a:lnTo>
                  <a:pt x="334" y="312"/>
                </a:lnTo>
                <a:lnTo>
                  <a:pt x="347" y="372"/>
                </a:lnTo>
                <a:lnTo>
                  <a:pt x="360" y="433"/>
                </a:lnTo>
                <a:lnTo>
                  <a:pt x="372" y="379"/>
                </a:lnTo>
                <a:lnTo>
                  <a:pt x="385" y="418"/>
                </a:lnTo>
                <a:lnTo>
                  <a:pt x="398" y="418"/>
                </a:lnTo>
                <a:lnTo>
                  <a:pt x="407" y="428"/>
                </a:lnTo>
                <a:lnTo>
                  <a:pt x="422" y="428"/>
                </a:lnTo>
                <a:lnTo>
                  <a:pt x="435" y="300"/>
                </a:lnTo>
                <a:lnTo>
                  <a:pt x="444" y="441"/>
                </a:lnTo>
                <a:lnTo>
                  <a:pt x="458" y="422"/>
                </a:lnTo>
                <a:lnTo>
                  <a:pt x="473" y="416"/>
                </a:lnTo>
                <a:lnTo>
                  <a:pt x="482" y="427"/>
                </a:lnTo>
                <a:lnTo>
                  <a:pt x="495" y="418"/>
                </a:lnTo>
                <a:lnTo>
                  <a:pt x="508" y="364"/>
                </a:lnTo>
                <a:lnTo>
                  <a:pt x="519" y="366"/>
                </a:lnTo>
                <a:lnTo>
                  <a:pt x="532" y="345"/>
                </a:lnTo>
                <a:lnTo>
                  <a:pt x="545" y="348"/>
                </a:lnTo>
                <a:lnTo>
                  <a:pt x="557" y="375"/>
                </a:lnTo>
                <a:lnTo>
                  <a:pt x="570" y="346"/>
                </a:lnTo>
                <a:lnTo>
                  <a:pt x="583" y="314"/>
                </a:lnTo>
                <a:lnTo>
                  <a:pt x="594" y="361"/>
                </a:lnTo>
                <a:lnTo>
                  <a:pt x="607" y="319"/>
                </a:lnTo>
                <a:lnTo>
                  <a:pt x="620" y="324"/>
                </a:lnTo>
                <a:lnTo>
                  <a:pt x="631" y="335"/>
                </a:lnTo>
                <a:lnTo>
                  <a:pt x="644" y="313"/>
                </a:lnTo>
                <a:lnTo>
                  <a:pt x="658" y="365"/>
                </a:lnTo>
                <a:lnTo>
                  <a:pt x="669" y="325"/>
                </a:lnTo>
                <a:lnTo>
                  <a:pt x="682" y="318"/>
                </a:lnTo>
                <a:lnTo>
                  <a:pt x="695" y="309"/>
                </a:lnTo>
                <a:lnTo>
                  <a:pt x="706" y="303"/>
                </a:lnTo>
                <a:lnTo>
                  <a:pt x="719" y="355"/>
                </a:lnTo>
                <a:lnTo>
                  <a:pt x="732" y="325"/>
                </a:lnTo>
                <a:lnTo>
                  <a:pt x="744" y="316"/>
                </a:lnTo>
                <a:lnTo>
                  <a:pt x="757" y="335"/>
                </a:lnTo>
                <a:lnTo>
                  <a:pt x="770" y="302"/>
                </a:lnTo>
                <a:lnTo>
                  <a:pt x="781" y="351"/>
                </a:lnTo>
                <a:lnTo>
                  <a:pt x="792" y="319"/>
                </a:lnTo>
                <a:lnTo>
                  <a:pt x="805" y="409"/>
                </a:lnTo>
                <a:lnTo>
                  <a:pt x="816" y="325"/>
                </a:lnTo>
                <a:lnTo>
                  <a:pt x="829" y="312"/>
                </a:lnTo>
                <a:lnTo>
                  <a:pt x="843" y="285"/>
                </a:lnTo>
                <a:lnTo>
                  <a:pt x="856" y="267"/>
                </a:lnTo>
                <a:lnTo>
                  <a:pt x="867" y="267"/>
                </a:lnTo>
                <a:lnTo>
                  <a:pt x="880" y="260"/>
                </a:lnTo>
                <a:lnTo>
                  <a:pt x="893" y="279"/>
                </a:lnTo>
                <a:lnTo>
                  <a:pt x="904" y="288"/>
                </a:lnTo>
                <a:lnTo>
                  <a:pt x="917" y="260"/>
                </a:lnTo>
                <a:lnTo>
                  <a:pt x="930" y="150"/>
                </a:lnTo>
                <a:lnTo>
                  <a:pt x="942" y="238"/>
                </a:lnTo>
                <a:lnTo>
                  <a:pt x="955" y="317"/>
                </a:lnTo>
                <a:lnTo>
                  <a:pt x="968" y="279"/>
                </a:lnTo>
                <a:lnTo>
                  <a:pt x="979" y="387"/>
                </a:lnTo>
                <a:lnTo>
                  <a:pt x="992" y="364"/>
                </a:lnTo>
                <a:lnTo>
                  <a:pt x="1005" y="307"/>
                </a:lnTo>
                <a:lnTo>
                  <a:pt x="1016" y="333"/>
                </a:lnTo>
                <a:lnTo>
                  <a:pt x="1029" y="332"/>
                </a:lnTo>
                <a:lnTo>
                  <a:pt x="1043" y="337"/>
                </a:lnTo>
                <a:lnTo>
                  <a:pt x="1054" y="414"/>
                </a:lnTo>
                <a:lnTo>
                  <a:pt x="1067" y="381"/>
                </a:lnTo>
                <a:lnTo>
                  <a:pt x="1080" y="346"/>
                </a:lnTo>
                <a:lnTo>
                  <a:pt x="1089" y="359"/>
                </a:lnTo>
                <a:lnTo>
                  <a:pt x="1102" y="379"/>
                </a:lnTo>
                <a:lnTo>
                  <a:pt x="1115" y="304"/>
                </a:lnTo>
                <a:lnTo>
                  <a:pt x="1127" y="317"/>
                </a:lnTo>
                <a:lnTo>
                  <a:pt x="1140" y="323"/>
                </a:lnTo>
                <a:lnTo>
                  <a:pt x="1153" y="278"/>
                </a:lnTo>
                <a:lnTo>
                  <a:pt x="1164" y="302"/>
                </a:lnTo>
                <a:lnTo>
                  <a:pt x="1177" y="302"/>
                </a:lnTo>
                <a:lnTo>
                  <a:pt x="1190" y="250"/>
                </a:lnTo>
                <a:lnTo>
                  <a:pt x="1201" y="243"/>
                </a:lnTo>
                <a:lnTo>
                  <a:pt x="1214" y="265"/>
                </a:lnTo>
                <a:lnTo>
                  <a:pt x="1228" y="245"/>
                </a:lnTo>
                <a:lnTo>
                  <a:pt x="1239" y="208"/>
                </a:lnTo>
                <a:lnTo>
                  <a:pt x="1252" y="237"/>
                </a:lnTo>
                <a:lnTo>
                  <a:pt x="1265" y="186"/>
                </a:lnTo>
                <a:lnTo>
                  <a:pt x="1276" y="206"/>
                </a:lnTo>
                <a:lnTo>
                  <a:pt x="1289" y="214"/>
                </a:lnTo>
                <a:lnTo>
                  <a:pt x="1302" y="227"/>
                </a:lnTo>
                <a:lnTo>
                  <a:pt x="1314" y="157"/>
                </a:lnTo>
                <a:lnTo>
                  <a:pt x="1327" y="156"/>
                </a:lnTo>
                <a:lnTo>
                  <a:pt x="1340" y="193"/>
                </a:lnTo>
                <a:lnTo>
                  <a:pt x="1351" y="145"/>
                </a:lnTo>
                <a:lnTo>
                  <a:pt x="1364" y="150"/>
                </a:lnTo>
                <a:lnTo>
                  <a:pt x="1377" y="177"/>
                </a:lnTo>
                <a:lnTo>
                  <a:pt x="1386" y="135"/>
                </a:lnTo>
                <a:lnTo>
                  <a:pt x="1401" y="157"/>
                </a:lnTo>
                <a:lnTo>
                  <a:pt x="1414" y="156"/>
                </a:lnTo>
                <a:lnTo>
                  <a:pt x="1424" y="90"/>
                </a:lnTo>
                <a:lnTo>
                  <a:pt x="1437" y="114"/>
                </a:lnTo>
                <a:lnTo>
                  <a:pt x="1452" y="87"/>
                </a:lnTo>
                <a:lnTo>
                  <a:pt x="1461" y="167"/>
                </a:lnTo>
                <a:lnTo>
                  <a:pt x="1474" y="164"/>
                </a:lnTo>
                <a:lnTo>
                  <a:pt x="1487" y="237"/>
                </a:lnTo>
                <a:lnTo>
                  <a:pt x="1499" y="275"/>
                </a:lnTo>
                <a:lnTo>
                  <a:pt x="1512" y="227"/>
                </a:lnTo>
                <a:lnTo>
                  <a:pt x="1525" y="335"/>
                </a:lnTo>
                <a:lnTo>
                  <a:pt x="1536" y="302"/>
                </a:lnTo>
                <a:lnTo>
                  <a:pt x="1549" y="304"/>
                </a:lnTo>
                <a:lnTo>
                  <a:pt x="1562" y="330"/>
                </a:lnTo>
                <a:lnTo>
                  <a:pt x="1573" y="293"/>
                </a:lnTo>
              </a:path>
            </a:pathLst>
          </a:custGeom>
          <a:noFill/>
          <a:ln cap="rnd" w="1584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9" name=""/>
          <p:cNvSpPr/>
          <p:nvPr/>
        </p:nvSpPr>
        <p:spPr>
          <a:xfrm>
            <a:off x="5745240" y="6046920"/>
            <a:ext cx="1439640" cy="523800"/>
          </a:xfrm>
          <a:custGeom>
            <a:avLst/>
            <a:gdLst/>
            <a:ahLst/>
            <a:rect l="l" t="t" r="r" b="b"/>
            <a:pathLst>
              <a:path w="1573" h="572">
                <a:moveTo>
                  <a:pt x="0" y="420"/>
                </a:moveTo>
                <a:lnTo>
                  <a:pt x="13" y="388"/>
                </a:lnTo>
                <a:lnTo>
                  <a:pt x="26" y="371"/>
                </a:lnTo>
                <a:lnTo>
                  <a:pt x="37" y="368"/>
                </a:lnTo>
                <a:lnTo>
                  <a:pt x="48" y="305"/>
                </a:lnTo>
                <a:lnTo>
                  <a:pt x="63" y="339"/>
                </a:lnTo>
                <a:lnTo>
                  <a:pt x="73" y="400"/>
                </a:lnTo>
                <a:lnTo>
                  <a:pt x="86" y="294"/>
                </a:lnTo>
                <a:lnTo>
                  <a:pt x="99" y="310"/>
                </a:lnTo>
                <a:lnTo>
                  <a:pt x="110" y="247"/>
                </a:lnTo>
                <a:lnTo>
                  <a:pt x="123" y="231"/>
                </a:lnTo>
                <a:lnTo>
                  <a:pt x="136" y="242"/>
                </a:lnTo>
                <a:lnTo>
                  <a:pt x="147" y="180"/>
                </a:lnTo>
                <a:lnTo>
                  <a:pt x="160" y="196"/>
                </a:lnTo>
                <a:lnTo>
                  <a:pt x="174" y="183"/>
                </a:lnTo>
                <a:lnTo>
                  <a:pt x="185" y="164"/>
                </a:lnTo>
                <a:lnTo>
                  <a:pt x="198" y="0"/>
                </a:lnTo>
                <a:lnTo>
                  <a:pt x="211" y="132"/>
                </a:lnTo>
                <a:lnTo>
                  <a:pt x="222" y="369"/>
                </a:lnTo>
                <a:lnTo>
                  <a:pt x="235" y="370"/>
                </a:lnTo>
                <a:lnTo>
                  <a:pt x="248" y="370"/>
                </a:lnTo>
                <a:lnTo>
                  <a:pt x="259" y="520"/>
                </a:lnTo>
                <a:lnTo>
                  <a:pt x="273" y="429"/>
                </a:lnTo>
                <a:lnTo>
                  <a:pt x="286" y="399"/>
                </a:lnTo>
                <a:lnTo>
                  <a:pt x="297" y="437"/>
                </a:lnTo>
                <a:lnTo>
                  <a:pt x="310" y="397"/>
                </a:lnTo>
                <a:lnTo>
                  <a:pt x="323" y="439"/>
                </a:lnTo>
                <a:lnTo>
                  <a:pt x="334" y="423"/>
                </a:lnTo>
                <a:lnTo>
                  <a:pt x="347" y="428"/>
                </a:lnTo>
                <a:lnTo>
                  <a:pt x="360" y="483"/>
                </a:lnTo>
                <a:lnTo>
                  <a:pt x="372" y="497"/>
                </a:lnTo>
                <a:lnTo>
                  <a:pt x="385" y="537"/>
                </a:lnTo>
                <a:lnTo>
                  <a:pt x="398" y="524"/>
                </a:lnTo>
                <a:lnTo>
                  <a:pt x="407" y="548"/>
                </a:lnTo>
                <a:lnTo>
                  <a:pt x="422" y="562"/>
                </a:lnTo>
                <a:lnTo>
                  <a:pt x="435" y="552"/>
                </a:lnTo>
                <a:lnTo>
                  <a:pt x="444" y="570"/>
                </a:lnTo>
                <a:lnTo>
                  <a:pt x="458" y="572"/>
                </a:lnTo>
                <a:lnTo>
                  <a:pt x="473" y="520"/>
                </a:lnTo>
                <a:lnTo>
                  <a:pt x="482" y="494"/>
                </a:lnTo>
                <a:lnTo>
                  <a:pt x="495" y="497"/>
                </a:lnTo>
                <a:lnTo>
                  <a:pt x="508" y="462"/>
                </a:lnTo>
                <a:lnTo>
                  <a:pt x="519" y="426"/>
                </a:lnTo>
                <a:lnTo>
                  <a:pt x="532" y="410"/>
                </a:lnTo>
                <a:lnTo>
                  <a:pt x="545" y="417"/>
                </a:lnTo>
                <a:lnTo>
                  <a:pt x="557" y="446"/>
                </a:lnTo>
                <a:lnTo>
                  <a:pt x="570" y="433"/>
                </a:lnTo>
                <a:lnTo>
                  <a:pt x="583" y="454"/>
                </a:lnTo>
                <a:lnTo>
                  <a:pt x="594" y="368"/>
                </a:lnTo>
                <a:lnTo>
                  <a:pt x="607" y="450"/>
                </a:lnTo>
                <a:lnTo>
                  <a:pt x="620" y="380"/>
                </a:lnTo>
                <a:lnTo>
                  <a:pt x="631" y="420"/>
                </a:lnTo>
                <a:lnTo>
                  <a:pt x="644" y="480"/>
                </a:lnTo>
                <a:lnTo>
                  <a:pt x="658" y="318"/>
                </a:lnTo>
                <a:lnTo>
                  <a:pt x="669" y="380"/>
                </a:lnTo>
                <a:lnTo>
                  <a:pt x="682" y="393"/>
                </a:lnTo>
                <a:lnTo>
                  <a:pt x="695" y="422"/>
                </a:lnTo>
                <a:lnTo>
                  <a:pt x="706" y="374"/>
                </a:lnTo>
                <a:lnTo>
                  <a:pt x="719" y="365"/>
                </a:lnTo>
                <a:lnTo>
                  <a:pt x="732" y="410"/>
                </a:lnTo>
                <a:lnTo>
                  <a:pt x="744" y="414"/>
                </a:lnTo>
                <a:lnTo>
                  <a:pt x="757" y="391"/>
                </a:lnTo>
                <a:lnTo>
                  <a:pt x="770" y="408"/>
                </a:lnTo>
                <a:lnTo>
                  <a:pt x="781" y="381"/>
                </a:lnTo>
                <a:lnTo>
                  <a:pt x="792" y="426"/>
                </a:lnTo>
                <a:lnTo>
                  <a:pt x="805" y="389"/>
                </a:lnTo>
                <a:lnTo>
                  <a:pt x="816" y="458"/>
                </a:lnTo>
                <a:lnTo>
                  <a:pt x="829" y="335"/>
                </a:lnTo>
                <a:lnTo>
                  <a:pt x="843" y="311"/>
                </a:lnTo>
                <a:lnTo>
                  <a:pt x="856" y="331"/>
                </a:lnTo>
                <a:lnTo>
                  <a:pt x="867" y="368"/>
                </a:lnTo>
                <a:lnTo>
                  <a:pt x="880" y="370"/>
                </a:lnTo>
                <a:lnTo>
                  <a:pt x="893" y="391"/>
                </a:lnTo>
                <a:lnTo>
                  <a:pt x="904" y="387"/>
                </a:lnTo>
                <a:lnTo>
                  <a:pt x="917" y="284"/>
                </a:lnTo>
                <a:lnTo>
                  <a:pt x="930" y="268"/>
                </a:lnTo>
                <a:lnTo>
                  <a:pt x="942" y="238"/>
                </a:lnTo>
                <a:lnTo>
                  <a:pt x="955" y="370"/>
                </a:lnTo>
                <a:lnTo>
                  <a:pt x="968" y="410"/>
                </a:lnTo>
                <a:lnTo>
                  <a:pt x="979" y="450"/>
                </a:lnTo>
                <a:lnTo>
                  <a:pt x="992" y="559"/>
                </a:lnTo>
                <a:lnTo>
                  <a:pt x="1005" y="394"/>
                </a:lnTo>
                <a:lnTo>
                  <a:pt x="1016" y="418"/>
                </a:lnTo>
                <a:lnTo>
                  <a:pt x="1029" y="371"/>
                </a:lnTo>
                <a:lnTo>
                  <a:pt x="1043" y="392"/>
                </a:lnTo>
                <a:lnTo>
                  <a:pt x="1054" y="429"/>
                </a:lnTo>
                <a:lnTo>
                  <a:pt x="1067" y="472"/>
                </a:lnTo>
                <a:lnTo>
                  <a:pt x="1080" y="452"/>
                </a:lnTo>
                <a:lnTo>
                  <a:pt x="1089" y="393"/>
                </a:lnTo>
                <a:lnTo>
                  <a:pt x="1102" y="449"/>
                </a:lnTo>
                <a:lnTo>
                  <a:pt x="1115" y="411"/>
                </a:lnTo>
                <a:lnTo>
                  <a:pt x="1127" y="353"/>
                </a:lnTo>
                <a:lnTo>
                  <a:pt x="1140" y="428"/>
                </a:lnTo>
                <a:lnTo>
                  <a:pt x="1153" y="311"/>
                </a:lnTo>
                <a:lnTo>
                  <a:pt x="1164" y="342"/>
                </a:lnTo>
                <a:lnTo>
                  <a:pt x="1177" y="394"/>
                </a:lnTo>
                <a:lnTo>
                  <a:pt x="1190" y="322"/>
                </a:lnTo>
                <a:lnTo>
                  <a:pt x="1201" y="310"/>
                </a:lnTo>
                <a:lnTo>
                  <a:pt x="1214" y="319"/>
                </a:lnTo>
                <a:lnTo>
                  <a:pt x="1228" y="334"/>
                </a:lnTo>
                <a:lnTo>
                  <a:pt x="1239" y="294"/>
                </a:lnTo>
                <a:lnTo>
                  <a:pt x="1252" y="302"/>
                </a:lnTo>
                <a:lnTo>
                  <a:pt x="1265" y="294"/>
                </a:lnTo>
                <a:lnTo>
                  <a:pt x="1276" y="260"/>
                </a:lnTo>
                <a:lnTo>
                  <a:pt x="1289" y="288"/>
                </a:lnTo>
                <a:lnTo>
                  <a:pt x="1302" y="271"/>
                </a:lnTo>
                <a:lnTo>
                  <a:pt x="1314" y="231"/>
                </a:lnTo>
                <a:lnTo>
                  <a:pt x="1327" y="262"/>
                </a:lnTo>
                <a:lnTo>
                  <a:pt x="1340" y="235"/>
                </a:lnTo>
                <a:lnTo>
                  <a:pt x="1351" y="222"/>
                </a:lnTo>
                <a:lnTo>
                  <a:pt x="1364" y="255"/>
                </a:lnTo>
                <a:lnTo>
                  <a:pt x="1377" y="244"/>
                </a:lnTo>
                <a:lnTo>
                  <a:pt x="1386" y="195"/>
                </a:lnTo>
                <a:lnTo>
                  <a:pt x="1401" y="226"/>
                </a:lnTo>
                <a:lnTo>
                  <a:pt x="1414" y="271"/>
                </a:lnTo>
                <a:lnTo>
                  <a:pt x="1424" y="164"/>
                </a:lnTo>
                <a:lnTo>
                  <a:pt x="1437" y="179"/>
                </a:lnTo>
                <a:lnTo>
                  <a:pt x="1452" y="229"/>
                </a:lnTo>
                <a:lnTo>
                  <a:pt x="1461" y="171"/>
                </a:lnTo>
                <a:lnTo>
                  <a:pt x="1474" y="387"/>
                </a:lnTo>
                <a:lnTo>
                  <a:pt x="1487" y="248"/>
                </a:lnTo>
                <a:lnTo>
                  <a:pt x="1499" y="451"/>
                </a:lnTo>
                <a:lnTo>
                  <a:pt x="1512" y="371"/>
                </a:lnTo>
                <a:lnTo>
                  <a:pt x="1525" y="354"/>
                </a:lnTo>
                <a:lnTo>
                  <a:pt x="1536" y="418"/>
                </a:lnTo>
                <a:lnTo>
                  <a:pt x="1549" y="388"/>
                </a:lnTo>
                <a:lnTo>
                  <a:pt x="1562" y="427"/>
                </a:lnTo>
                <a:lnTo>
                  <a:pt x="1573" y="380"/>
                </a:lnTo>
              </a:path>
            </a:pathLst>
          </a:custGeom>
          <a:noFill/>
          <a:ln cap="rnd"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0" name=""/>
          <p:cNvSpPr/>
          <p:nvPr/>
        </p:nvSpPr>
        <p:spPr>
          <a:xfrm>
            <a:off x="1058760" y="4589640"/>
            <a:ext cx="30024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1" name=""/>
          <p:cNvSpPr/>
          <p:nvPr/>
        </p:nvSpPr>
        <p:spPr>
          <a:xfrm>
            <a:off x="1271160" y="4619520"/>
            <a:ext cx="295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ff"/>
                </a:solidFill>
                <a:latin typeface="Times New Roman"/>
              </a:rPr>
              <a:t> </a:t>
            </a:r>
            <a:endParaRPr b="0" lang="en-US" sz="900" spc="-1" strike="noStrike">
              <a:solidFill>
                <a:srgbClr val="000000"/>
              </a:solidFill>
              <a:latin typeface="Times New Roman"/>
            </a:endParaRPr>
          </a:p>
        </p:txBody>
      </p:sp>
      <p:sp>
        <p:nvSpPr>
          <p:cNvPr id="3482" name=""/>
          <p:cNvSpPr/>
          <p:nvPr/>
        </p:nvSpPr>
        <p:spPr>
          <a:xfrm>
            <a:off x="1387080" y="4811760"/>
            <a:ext cx="295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cc"/>
                </a:solidFill>
                <a:latin typeface="Times New Roman"/>
              </a:rPr>
              <a:t> </a:t>
            </a:r>
            <a:endParaRPr b="0" lang="en-US" sz="900" spc="-1" strike="noStrike">
              <a:solidFill>
                <a:srgbClr val="000000"/>
              </a:solidFill>
              <a:latin typeface="Times New Roman"/>
            </a:endParaRPr>
          </a:p>
        </p:txBody>
      </p:sp>
      <p:sp>
        <p:nvSpPr>
          <p:cNvPr id="3483" name=""/>
          <p:cNvSpPr/>
          <p:nvPr/>
        </p:nvSpPr>
        <p:spPr>
          <a:xfrm>
            <a:off x="300240" y="1309680"/>
            <a:ext cx="228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ed Motif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
          <p:cNvSpPr/>
          <p:nvPr/>
        </p:nvSpPr>
        <p:spPr>
          <a:xfrm>
            <a:off x="3089160" y="184320"/>
            <a:ext cx="5842080" cy="5572080"/>
          </a:xfrm>
          <a:custGeom>
            <a:avLst/>
            <a:gdLst/>
            <a:ahLst/>
            <a:rect l="l" t="t" r="r" b="b"/>
            <a:pathLst>
              <a:path w="3680" h="3510">
                <a:moveTo>
                  <a:pt x="3680" y="0"/>
                </a:moveTo>
                <a:lnTo>
                  <a:pt x="0" y="0"/>
                </a:lnTo>
                <a:lnTo>
                  <a:pt x="0" y="3510"/>
                </a:lnTo>
                <a:lnTo>
                  <a:pt x="3680" y="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2824200" y="5029200"/>
            <a:ext cx="3516120" cy="3240"/>
          </a:xfrm>
          <a:prstGeom prst="line">
            <a:avLst/>
          </a:prstGeom>
          <a:ln cap="rnd" w="158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86" name=""/>
          <p:cNvSpPr/>
          <p:nvPr/>
        </p:nvSpPr>
        <p:spPr>
          <a:xfrm>
            <a:off x="2890800" y="3218040"/>
            <a:ext cx="4489560" cy="2880"/>
          </a:xfrm>
          <a:prstGeom prst="line">
            <a:avLst/>
          </a:prstGeom>
          <a:ln cap="rnd" w="15840">
            <a:solidFill>
              <a:srgbClr val="993366"/>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87" name=""/>
          <p:cNvSpPr/>
          <p:nvPr/>
        </p:nvSpPr>
        <p:spPr>
          <a:xfrm flipV="1">
            <a:off x="6359400" y="5046480"/>
            <a:ext cx="1800" cy="1153800"/>
          </a:xfrm>
          <a:prstGeom prst="line">
            <a:avLst/>
          </a:prstGeom>
          <a:ln cap="rnd"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8" name=""/>
          <p:cNvSpPr/>
          <p:nvPr/>
        </p:nvSpPr>
        <p:spPr>
          <a:xfrm flipV="1">
            <a:off x="7405560" y="3292200"/>
            <a:ext cx="11160" cy="2865240"/>
          </a:xfrm>
          <a:prstGeom prst="line">
            <a:avLst/>
          </a:prstGeom>
          <a:ln cap="rnd" w="1584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9" name=""/>
          <p:cNvSpPr/>
          <p:nvPr/>
        </p:nvSpPr>
        <p:spPr>
          <a:xfrm>
            <a:off x="3095640" y="166680"/>
            <a:ext cx="5864040" cy="5589720"/>
          </a:xfrm>
          <a:prstGeom prst="rect">
            <a:avLst/>
          </a:prstGeom>
          <a:noFill/>
          <a:ln cap="rnd"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0" name=""/>
          <p:cNvSpPr/>
          <p:nvPr/>
        </p:nvSpPr>
        <p:spPr>
          <a:xfrm>
            <a:off x="3095640" y="166680"/>
            <a:ext cx="5864040" cy="3240"/>
          </a:xfrm>
          <a:prstGeom prst="line">
            <a:avLst/>
          </a:prstGeom>
          <a:ln cap="rnd"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91" name=""/>
          <p:cNvSpPr/>
          <p:nvPr/>
        </p:nvSpPr>
        <p:spPr>
          <a:xfrm>
            <a:off x="3095640" y="166680"/>
            <a:ext cx="5864040" cy="5589720"/>
          </a:xfrm>
          <a:custGeom>
            <a:avLst/>
            <a:gdLst/>
            <a:ahLst/>
            <a:rect l="l" t="t" r="r" b="b"/>
            <a:pathLst>
              <a:path w="3694" h="3521">
                <a:moveTo>
                  <a:pt x="0" y="3521"/>
                </a:moveTo>
                <a:lnTo>
                  <a:pt x="3694" y="3521"/>
                </a:lnTo>
                <a:lnTo>
                  <a:pt x="3694" y="0"/>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flipV="1">
            <a:off x="3095640" y="166320"/>
            <a:ext cx="3240" cy="55897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flipV="1">
            <a:off x="3095640" y="166320"/>
            <a:ext cx="3240" cy="55897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4" name=""/>
          <p:cNvSpPr/>
          <p:nvPr/>
        </p:nvSpPr>
        <p:spPr>
          <a:xfrm flipV="1">
            <a:off x="3662280" y="5692320"/>
            <a:ext cx="324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95" name=""/>
          <p:cNvSpPr/>
          <p:nvPr/>
        </p:nvSpPr>
        <p:spPr>
          <a:xfrm>
            <a:off x="3662280" y="166680"/>
            <a:ext cx="324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96" name=""/>
          <p:cNvSpPr/>
          <p:nvPr/>
        </p:nvSpPr>
        <p:spPr>
          <a:xfrm flipV="1">
            <a:off x="4262400" y="5692320"/>
            <a:ext cx="324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97" name=""/>
          <p:cNvSpPr/>
          <p:nvPr/>
        </p:nvSpPr>
        <p:spPr>
          <a:xfrm>
            <a:off x="4262400" y="166680"/>
            <a:ext cx="324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98" name=""/>
          <p:cNvSpPr/>
          <p:nvPr/>
        </p:nvSpPr>
        <p:spPr>
          <a:xfrm flipV="1">
            <a:off x="4846680" y="5692320"/>
            <a:ext cx="144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99" name=""/>
          <p:cNvSpPr/>
          <p:nvPr/>
        </p:nvSpPr>
        <p:spPr>
          <a:xfrm>
            <a:off x="4846680" y="166680"/>
            <a:ext cx="144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00" name=""/>
          <p:cNvSpPr/>
          <p:nvPr/>
        </p:nvSpPr>
        <p:spPr>
          <a:xfrm flipV="1">
            <a:off x="5429160" y="5692320"/>
            <a:ext cx="180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01" name=""/>
          <p:cNvSpPr/>
          <p:nvPr/>
        </p:nvSpPr>
        <p:spPr>
          <a:xfrm>
            <a:off x="5429160" y="166680"/>
            <a:ext cx="180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02" name=""/>
          <p:cNvSpPr/>
          <p:nvPr/>
        </p:nvSpPr>
        <p:spPr>
          <a:xfrm flipV="1">
            <a:off x="6010200" y="5692320"/>
            <a:ext cx="324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03" name=""/>
          <p:cNvSpPr/>
          <p:nvPr/>
        </p:nvSpPr>
        <p:spPr>
          <a:xfrm>
            <a:off x="6010200" y="166680"/>
            <a:ext cx="324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04" name=""/>
          <p:cNvSpPr/>
          <p:nvPr/>
        </p:nvSpPr>
        <p:spPr>
          <a:xfrm flipV="1">
            <a:off x="6610320" y="5692320"/>
            <a:ext cx="648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05" name=""/>
          <p:cNvSpPr/>
          <p:nvPr/>
        </p:nvSpPr>
        <p:spPr>
          <a:xfrm>
            <a:off x="6610320" y="166680"/>
            <a:ext cx="648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06" name=""/>
          <p:cNvSpPr/>
          <p:nvPr/>
        </p:nvSpPr>
        <p:spPr>
          <a:xfrm flipV="1">
            <a:off x="7192800" y="5692320"/>
            <a:ext cx="648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07" name=""/>
          <p:cNvSpPr/>
          <p:nvPr/>
        </p:nvSpPr>
        <p:spPr>
          <a:xfrm>
            <a:off x="7192800" y="166680"/>
            <a:ext cx="648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08" name=""/>
          <p:cNvSpPr/>
          <p:nvPr/>
        </p:nvSpPr>
        <p:spPr>
          <a:xfrm flipV="1">
            <a:off x="7780320" y="5692320"/>
            <a:ext cx="324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09" name=""/>
          <p:cNvSpPr/>
          <p:nvPr/>
        </p:nvSpPr>
        <p:spPr>
          <a:xfrm>
            <a:off x="7780320" y="166680"/>
            <a:ext cx="324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10" name=""/>
          <p:cNvSpPr/>
          <p:nvPr/>
        </p:nvSpPr>
        <p:spPr>
          <a:xfrm flipV="1">
            <a:off x="8364600" y="5692320"/>
            <a:ext cx="144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11" name=""/>
          <p:cNvSpPr/>
          <p:nvPr/>
        </p:nvSpPr>
        <p:spPr>
          <a:xfrm>
            <a:off x="8364600" y="166680"/>
            <a:ext cx="144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12" name=""/>
          <p:cNvSpPr/>
          <p:nvPr/>
        </p:nvSpPr>
        <p:spPr>
          <a:xfrm flipV="1">
            <a:off x="8959680" y="5692320"/>
            <a:ext cx="3240" cy="63720"/>
          </a:xfrm>
          <a:prstGeom prst="line">
            <a:avLst/>
          </a:prstGeom>
          <a:ln cap="rnd"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13" name=""/>
          <p:cNvSpPr/>
          <p:nvPr/>
        </p:nvSpPr>
        <p:spPr>
          <a:xfrm>
            <a:off x="8959680" y="166680"/>
            <a:ext cx="3240" cy="46080"/>
          </a:xfrm>
          <a:prstGeom prst="line">
            <a:avLst/>
          </a:prstGeom>
          <a:ln cap="rnd" w="6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14" name=""/>
          <p:cNvSpPr/>
          <p:nvPr/>
        </p:nvSpPr>
        <p:spPr>
          <a:xfrm>
            <a:off x="3095640" y="5202360"/>
            <a:ext cx="52200" cy="2880"/>
          </a:xfrm>
          <a:prstGeom prst="line">
            <a:avLst/>
          </a:prstGeom>
          <a:ln cap="rnd"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15" name=""/>
          <p:cNvSpPr/>
          <p:nvPr/>
        </p:nvSpPr>
        <p:spPr>
          <a:xfrm flipH="1">
            <a:off x="8894880" y="5202360"/>
            <a:ext cx="64800" cy="2880"/>
          </a:xfrm>
          <a:prstGeom prst="line">
            <a:avLst/>
          </a:prstGeom>
          <a:ln cap="rnd"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16" name=""/>
          <p:cNvSpPr/>
          <p:nvPr/>
        </p:nvSpPr>
        <p:spPr>
          <a:xfrm>
            <a:off x="3095640" y="4627440"/>
            <a:ext cx="52200" cy="3240"/>
          </a:xfrm>
          <a:prstGeom prst="line">
            <a:avLst/>
          </a:prstGeom>
          <a:ln cap="rnd"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17" name=""/>
          <p:cNvSpPr/>
          <p:nvPr/>
        </p:nvSpPr>
        <p:spPr>
          <a:xfrm flipH="1">
            <a:off x="8894880" y="4627440"/>
            <a:ext cx="64800" cy="3240"/>
          </a:xfrm>
          <a:prstGeom prst="line">
            <a:avLst/>
          </a:prstGeom>
          <a:ln cap="rnd"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18" name=""/>
          <p:cNvSpPr/>
          <p:nvPr/>
        </p:nvSpPr>
        <p:spPr>
          <a:xfrm>
            <a:off x="3095640" y="4073400"/>
            <a:ext cx="522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9" name=""/>
          <p:cNvSpPr/>
          <p:nvPr/>
        </p:nvSpPr>
        <p:spPr>
          <a:xfrm flipH="1">
            <a:off x="8894880" y="4073400"/>
            <a:ext cx="648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0" name=""/>
          <p:cNvSpPr/>
          <p:nvPr/>
        </p:nvSpPr>
        <p:spPr>
          <a:xfrm>
            <a:off x="3095640" y="3519360"/>
            <a:ext cx="522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flipH="1">
            <a:off x="8894880" y="3519360"/>
            <a:ext cx="648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2" name=""/>
          <p:cNvSpPr/>
          <p:nvPr/>
        </p:nvSpPr>
        <p:spPr>
          <a:xfrm>
            <a:off x="3095640" y="2957400"/>
            <a:ext cx="52200" cy="7920"/>
          </a:xfrm>
          <a:prstGeom prst="line">
            <a:avLst/>
          </a:prstGeom>
          <a:ln cap="rnd" w="6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3" name=""/>
          <p:cNvSpPr/>
          <p:nvPr/>
        </p:nvSpPr>
        <p:spPr>
          <a:xfrm flipH="1">
            <a:off x="8894880" y="2957400"/>
            <a:ext cx="64800" cy="7920"/>
          </a:xfrm>
          <a:prstGeom prst="line">
            <a:avLst/>
          </a:prstGeom>
          <a:ln cap="rnd" w="6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4" name=""/>
          <p:cNvSpPr/>
          <p:nvPr/>
        </p:nvSpPr>
        <p:spPr>
          <a:xfrm>
            <a:off x="3095640" y="2387520"/>
            <a:ext cx="52200" cy="3240"/>
          </a:xfrm>
          <a:prstGeom prst="line">
            <a:avLst/>
          </a:prstGeom>
          <a:ln cap="rnd"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25" name=""/>
          <p:cNvSpPr/>
          <p:nvPr/>
        </p:nvSpPr>
        <p:spPr>
          <a:xfrm flipH="1">
            <a:off x="8894880" y="2387520"/>
            <a:ext cx="64800" cy="3240"/>
          </a:xfrm>
          <a:prstGeom prst="line">
            <a:avLst/>
          </a:prstGeom>
          <a:ln cap="rnd"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26" name=""/>
          <p:cNvSpPr/>
          <p:nvPr/>
        </p:nvSpPr>
        <p:spPr>
          <a:xfrm>
            <a:off x="3095640" y="1833480"/>
            <a:ext cx="522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7" name=""/>
          <p:cNvSpPr/>
          <p:nvPr/>
        </p:nvSpPr>
        <p:spPr>
          <a:xfrm flipH="1">
            <a:off x="8894880" y="1833480"/>
            <a:ext cx="648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8" name=""/>
          <p:cNvSpPr/>
          <p:nvPr/>
        </p:nvSpPr>
        <p:spPr>
          <a:xfrm>
            <a:off x="3095640" y="1279440"/>
            <a:ext cx="522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9" name=""/>
          <p:cNvSpPr/>
          <p:nvPr/>
        </p:nvSpPr>
        <p:spPr>
          <a:xfrm flipH="1">
            <a:off x="8894880" y="1279440"/>
            <a:ext cx="648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0" name=""/>
          <p:cNvSpPr/>
          <p:nvPr/>
        </p:nvSpPr>
        <p:spPr>
          <a:xfrm>
            <a:off x="3095640" y="723960"/>
            <a:ext cx="5220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1" name=""/>
          <p:cNvSpPr/>
          <p:nvPr/>
        </p:nvSpPr>
        <p:spPr>
          <a:xfrm flipH="1">
            <a:off x="8894880" y="723960"/>
            <a:ext cx="6480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2" name=""/>
          <p:cNvSpPr/>
          <p:nvPr/>
        </p:nvSpPr>
        <p:spPr>
          <a:xfrm>
            <a:off x="2774880" y="592200"/>
            <a:ext cx="3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3" name=""/>
          <p:cNvSpPr/>
          <p:nvPr/>
        </p:nvSpPr>
        <p:spPr>
          <a:xfrm>
            <a:off x="3095640" y="166680"/>
            <a:ext cx="52200" cy="3240"/>
          </a:xfrm>
          <a:prstGeom prst="line">
            <a:avLst/>
          </a:prstGeom>
          <a:ln cap="rnd"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34" name=""/>
          <p:cNvSpPr/>
          <p:nvPr/>
        </p:nvSpPr>
        <p:spPr>
          <a:xfrm flipH="1">
            <a:off x="8894880" y="166680"/>
            <a:ext cx="64800" cy="3240"/>
          </a:xfrm>
          <a:prstGeom prst="line">
            <a:avLst/>
          </a:prstGeom>
          <a:ln cap="rnd"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35" name=""/>
          <p:cNvSpPr/>
          <p:nvPr/>
        </p:nvSpPr>
        <p:spPr>
          <a:xfrm>
            <a:off x="2697120" y="272880"/>
            <a:ext cx="360" cy="427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6" name=""/>
          <p:cNvSpPr/>
          <p:nvPr/>
        </p:nvSpPr>
        <p:spPr>
          <a:xfrm>
            <a:off x="3095640" y="166680"/>
            <a:ext cx="5864040" cy="3240"/>
          </a:xfrm>
          <a:prstGeom prst="line">
            <a:avLst/>
          </a:prstGeom>
          <a:ln cap="rnd"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37" name=""/>
          <p:cNvSpPr/>
          <p:nvPr/>
        </p:nvSpPr>
        <p:spPr>
          <a:xfrm>
            <a:off x="3095640" y="166680"/>
            <a:ext cx="5864040" cy="5589720"/>
          </a:xfrm>
          <a:custGeom>
            <a:avLst/>
            <a:gdLst/>
            <a:ahLst/>
            <a:rect l="l" t="t" r="r" b="b"/>
            <a:pathLst>
              <a:path w="3694" h="3521">
                <a:moveTo>
                  <a:pt x="0" y="3521"/>
                </a:moveTo>
                <a:lnTo>
                  <a:pt x="3694" y="3521"/>
                </a:lnTo>
                <a:lnTo>
                  <a:pt x="369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flipV="1">
            <a:off x="3095640" y="166320"/>
            <a:ext cx="3240" cy="55897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9" name=""/>
          <p:cNvSpPr/>
          <p:nvPr/>
        </p:nvSpPr>
        <p:spPr>
          <a:xfrm>
            <a:off x="8016840" y="531648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0" name=""/>
          <p:cNvSpPr/>
          <p:nvPr/>
        </p:nvSpPr>
        <p:spPr>
          <a:xfrm>
            <a:off x="8016840" y="5316480"/>
            <a:ext cx="1800" cy="1800"/>
          </a:xfrm>
          <a:prstGeom prst="line">
            <a:avLst/>
          </a:prstGeom>
          <a:ln cap="rnd" w="3240">
            <a:solidFill>
              <a:srgbClr val="00008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1" name=""/>
          <p:cNvSpPr/>
          <p:nvPr/>
        </p:nvSpPr>
        <p:spPr>
          <a:xfrm>
            <a:off x="7829640" y="3730680"/>
            <a:ext cx="85680" cy="82440"/>
          </a:xfrm>
          <a:custGeom>
            <a:avLst/>
            <a:gdLst/>
            <a:ahLst/>
            <a:rect l="l" t="t" r="r" b="b"/>
            <a:pathLst>
              <a:path w="54" h="52">
                <a:moveTo>
                  <a:pt x="54" y="0"/>
                </a:moveTo>
                <a:lnTo>
                  <a:pt x="54" y="0"/>
                </a:lnTo>
                <a:lnTo>
                  <a:pt x="54" y="10"/>
                </a:lnTo>
                <a:lnTo>
                  <a:pt x="44" y="10"/>
                </a:lnTo>
                <a:lnTo>
                  <a:pt x="44" y="21"/>
                </a:lnTo>
                <a:lnTo>
                  <a:pt x="33" y="31"/>
                </a:lnTo>
                <a:lnTo>
                  <a:pt x="23" y="41"/>
                </a:lnTo>
                <a:lnTo>
                  <a:pt x="13" y="41"/>
                </a:lnTo>
                <a:lnTo>
                  <a:pt x="13" y="52"/>
                </a:lnTo>
                <a:lnTo>
                  <a:pt x="0" y="52"/>
                </a:lnTo>
                <a:lnTo>
                  <a:pt x="0" y="41"/>
                </a:lnTo>
                <a:lnTo>
                  <a:pt x="13" y="31"/>
                </a:lnTo>
                <a:lnTo>
                  <a:pt x="13" y="21"/>
                </a:lnTo>
                <a:lnTo>
                  <a:pt x="23" y="21"/>
                </a:lnTo>
                <a:lnTo>
                  <a:pt x="23" y="10"/>
                </a:lnTo>
                <a:lnTo>
                  <a:pt x="33" y="10"/>
                </a:lnTo>
                <a:lnTo>
                  <a:pt x="44" y="0"/>
                </a:lnTo>
                <a:lnTo>
                  <a:pt x="5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2" name=""/>
          <p:cNvSpPr/>
          <p:nvPr/>
        </p:nvSpPr>
        <p:spPr>
          <a:xfrm>
            <a:off x="7829640" y="3730680"/>
            <a:ext cx="85680" cy="82440"/>
          </a:xfrm>
          <a:custGeom>
            <a:avLst/>
            <a:gdLst/>
            <a:ahLst/>
            <a:rect l="l" t="t" r="r" b="b"/>
            <a:pathLst>
              <a:path w="54" h="52">
                <a:moveTo>
                  <a:pt x="54" y="0"/>
                </a:moveTo>
                <a:lnTo>
                  <a:pt x="54" y="0"/>
                </a:lnTo>
                <a:lnTo>
                  <a:pt x="54" y="10"/>
                </a:lnTo>
                <a:lnTo>
                  <a:pt x="44" y="10"/>
                </a:lnTo>
                <a:lnTo>
                  <a:pt x="44" y="21"/>
                </a:lnTo>
                <a:lnTo>
                  <a:pt x="33" y="31"/>
                </a:lnTo>
                <a:lnTo>
                  <a:pt x="23" y="41"/>
                </a:lnTo>
                <a:lnTo>
                  <a:pt x="13" y="41"/>
                </a:lnTo>
                <a:lnTo>
                  <a:pt x="13" y="52"/>
                </a:lnTo>
                <a:lnTo>
                  <a:pt x="0" y="52"/>
                </a:lnTo>
                <a:lnTo>
                  <a:pt x="0" y="41"/>
                </a:lnTo>
                <a:lnTo>
                  <a:pt x="13" y="31"/>
                </a:lnTo>
                <a:lnTo>
                  <a:pt x="13" y="21"/>
                </a:lnTo>
                <a:lnTo>
                  <a:pt x="23" y="21"/>
                </a:lnTo>
                <a:lnTo>
                  <a:pt x="23" y="10"/>
                </a:lnTo>
                <a:lnTo>
                  <a:pt x="33" y="10"/>
                </a:lnTo>
                <a:lnTo>
                  <a:pt x="44" y="0"/>
                </a:lnTo>
                <a:lnTo>
                  <a:pt x="54" y="0"/>
                </a:lnTo>
              </a:path>
            </a:pathLst>
          </a:custGeom>
          <a:noFill/>
          <a:ln cap="rnd" w="3240">
            <a:solidFill>
              <a:srgbClr val="00008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3" name=""/>
          <p:cNvSpPr/>
          <p:nvPr/>
        </p:nvSpPr>
        <p:spPr>
          <a:xfrm>
            <a:off x="7642080" y="2997360"/>
            <a:ext cx="1800" cy="17280"/>
          </a:xfrm>
          <a:custGeom>
            <a:avLst/>
            <a:gdLst/>
            <a:ahLst/>
            <a:rect l="l" t="t" r="r" b="b"/>
            <a:pathLst>
              <a:path w="0"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44" name=""/>
          <p:cNvSpPr/>
          <p:nvPr/>
        </p:nvSpPr>
        <p:spPr>
          <a:xfrm>
            <a:off x="7642080" y="2997360"/>
            <a:ext cx="1800" cy="17280"/>
          </a:xfrm>
          <a:custGeom>
            <a:avLst/>
            <a:gdLst/>
            <a:ahLst/>
            <a:rect l="l" t="t" r="r" b="b"/>
            <a:pathLst>
              <a:path w="0" h="11">
                <a:moveTo>
                  <a:pt x="0" y="0"/>
                </a:moveTo>
                <a:lnTo>
                  <a:pt x="0" y="0"/>
                </a:lnTo>
                <a:lnTo>
                  <a:pt x="0" y="11"/>
                </a:lnTo>
                <a:lnTo>
                  <a:pt x="0" y="0"/>
                </a:lnTo>
              </a:path>
            </a:pathLst>
          </a:custGeom>
          <a:noFill/>
          <a:ln cap="rnd" w="3240">
            <a:solidFill>
              <a:srgbClr val="00008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45" name=""/>
          <p:cNvSpPr/>
          <p:nvPr/>
        </p:nvSpPr>
        <p:spPr>
          <a:xfrm>
            <a:off x="7624800" y="2997360"/>
            <a:ext cx="1440" cy="17280"/>
          </a:xfrm>
          <a:custGeom>
            <a:avLst/>
            <a:gdLst/>
            <a:ahLst/>
            <a:rect l="l" t="t" r="r" b="b"/>
            <a:pathLst>
              <a:path w="0"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46" name=""/>
          <p:cNvSpPr/>
          <p:nvPr/>
        </p:nvSpPr>
        <p:spPr>
          <a:xfrm>
            <a:off x="7624800" y="2997360"/>
            <a:ext cx="1440" cy="17280"/>
          </a:xfrm>
          <a:custGeom>
            <a:avLst/>
            <a:gdLst/>
            <a:ahLst/>
            <a:rect l="l" t="t" r="r" b="b"/>
            <a:pathLst>
              <a:path w="0" h="11">
                <a:moveTo>
                  <a:pt x="0" y="0"/>
                </a:moveTo>
                <a:lnTo>
                  <a:pt x="0" y="0"/>
                </a:lnTo>
                <a:lnTo>
                  <a:pt x="0" y="11"/>
                </a:lnTo>
                <a:lnTo>
                  <a:pt x="0" y="0"/>
                </a:lnTo>
              </a:path>
            </a:pathLst>
          </a:custGeom>
          <a:noFill/>
          <a:ln cap="rnd" w="3240">
            <a:solidFill>
              <a:srgbClr val="00008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47" name=""/>
          <p:cNvSpPr/>
          <p:nvPr/>
        </p:nvSpPr>
        <p:spPr>
          <a:xfrm>
            <a:off x="7589880" y="3014640"/>
            <a:ext cx="15840" cy="15840"/>
          </a:xfrm>
          <a:custGeom>
            <a:avLst/>
            <a:gdLst/>
            <a:ahLst/>
            <a:rect l="l" t="t" r="r" b="b"/>
            <a:pathLst>
              <a:path w="10" h="10">
                <a:moveTo>
                  <a:pt x="10" y="0"/>
                </a:moveTo>
                <a:lnTo>
                  <a:pt x="10" y="0"/>
                </a:lnTo>
                <a:lnTo>
                  <a:pt x="10" y="10"/>
                </a:lnTo>
                <a:lnTo>
                  <a:pt x="0" y="10"/>
                </a:lnTo>
                <a:lnTo>
                  <a:pt x="0"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48" name=""/>
          <p:cNvSpPr/>
          <p:nvPr/>
        </p:nvSpPr>
        <p:spPr>
          <a:xfrm>
            <a:off x="7589880" y="3014640"/>
            <a:ext cx="15840" cy="15840"/>
          </a:xfrm>
          <a:custGeom>
            <a:avLst/>
            <a:gdLst/>
            <a:ahLst/>
            <a:rect l="l" t="t" r="r" b="b"/>
            <a:pathLst>
              <a:path w="10" h="10">
                <a:moveTo>
                  <a:pt x="10" y="0"/>
                </a:moveTo>
                <a:lnTo>
                  <a:pt x="10" y="0"/>
                </a:lnTo>
                <a:lnTo>
                  <a:pt x="10" y="10"/>
                </a:lnTo>
                <a:lnTo>
                  <a:pt x="0" y="10"/>
                </a:lnTo>
                <a:lnTo>
                  <a:pt x="0" y="0"/>
                </a:lnTo>
                <a:lnTo>
                  <a:pt x="10" y="0"/>
                </a:lnTo>
              </a:path>
            </a:pathLst>
          </a:custGeom>
          <a:noFill/>
          <a:ln cap="rnd" w="3240">
            <a:solidFill>
              <a:srgbClr val="0000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49" name=""/>
          <p:cNvSpPr/>
          <p:nvPr/>
        </p:nvSpPr>
        <p:spPr>
          <a:xfrm>
            <a:off x="7504200" y="3060720"/>
            <a:ext cx="6120" cy="3240"/>
          </a:xfrm>
          <a:prstGeom prst="rect">
            <a:avLst/>
          </a:prstGeom>
          <a:solidFill>
            <a:srgbClr val="000000"/>
          </a:solidFill>
          <a:ln cap="rnd" w="3240">
            <a:solidFill>
              <a:srgbClr val="00008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50" name=""/>
          <p:cNvSpPr/>
          <p:nvPr/>
        </p:nvSpPr>
        <p:spPr>
          <a:xfrm>
            <a:off x="7470720" y="3176640"/>
            <a:ext cx="52560" cy="46080"/>
          </a:xfrm>
          <a:custGeom>
            <a:avLst/>
            <a:gdLst/>
            <a:ahLst/>
            <a:rect l="l" t="t" r="r" b="b"/>
            <a:pathLst>
              <a:path w="33" h="29">
                <a:moveTo>
                  <a:pt x="21" y="0"/>
                </a:moveTo>
                <a:lnTo>
                  <a:pt x="21" y="0"/>
                </a:lnTo>
                <a:lnTo>
                  <a:pt x="21" y="10"/>
                </a:lnTo>
                <a:lnTo>
                  <a:pt x="33" y="10"/>
                </a:lnTo>
                <a:lnTo>
                  <a:pt x="21" y="10"/>
                </a:lnTo>
                <a:lnTo>
                  <a:pt x="21" y="18"/>
                </a:lnTo>
                <a:lnTo>
                  <a:pt x="21" y="10"/>
                </a:lnTo>
                <a:lnTo>
                  <a:pt x="21" y="18"/>
                </a:lnTo>
                <a:lnTo>
                  <a:pt x="21" y="29"/>
                </a:lnTo>
                <a:lnTo>
                  <a:pt x="10" y="18"/>
                </a:lnTo>
                <a:lnTo>
                  <a:pt x="0" y="10"/>
                </a:lnTo>
                <a:lnTo>
                  <a:pt x="10" y="10"/>
                </a:lnTo>
                <a:lnTo>
                  <a:pt x="10" y="0"/>
                </a:lnTo>
                <a:lnTo>
                  <a:pt x="21" y="0"/>
                </a:lnTo>
                <a:lnTo>
                  <a:pt x="21" y="10"/>
                </a:lnTo>
                <a:lnTo>
                  <a:pt x="2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51" name=""/>
          <p:cNvSpPr/>
          <p:nvPr/>
        </p:nvSpPr>
        <p:spPr>
          <a:xfrm>
            <a:off x="7470720" y="3176640"/>
            <a:ext cx="52560" cy="46080"/>
          </a:xfrm>
          <a:custGeom>
            <a:avLst/>
            <a:gdLst/>
            <a:ahLst/>
            <a:rect l="l" t="t" r="r" b="b"/>
            <a:pathLst>
              <a:path w="33" h="29">
                <a:moveTo>
                  <a:pt x="21" y="0"/>
                </a:moveTo>
                <a:lnTo>
                  <a:pt x="21" y="0"/>
                </a:lnTo>
                <a:lnTo>
                  <a:pt x="21" y="10"/>
                </a:lnTo>
                <a:lnTo>
                  <a:pt x="33" y="10"/>
                </a:lnTo>
                <a:lnTo>
                  <a:pt x="21" y="10"/>
                </a:lnTo>
                <a:lnTo>
                  <a:pt x="21" y="18"/>
                </a:lnTo>
                <a:lnTo>
                  <a:pt x="21" y="10"/>
                </a:lnTo>
                <a:lnTo>
                  <a:pt x="21" y="18"/>
                </a:lnTo>
                <a:lnTo>
                  <a:pt x="21" y="29"/>
                </a:lnTo>
                <a:lnTo>
                  <a:pt x="10" y="18"/>
                </a:lnTo>
                <a:lnTo>
                  <a:pt x="0" y="10"/>
                </a:lnTo>
                <a:lnTo>
                  <a:pt x="10" y="10"/>
                </a:lnTo>
                <a:lnTo>
                  <a:pt x="10" y="0"/>
                </a:lnTo>
                <a:lnTo>
                  <a:pt x="21" y="0"/>
                </a:lnTo>
                <a:lnTo>
                  <a:pt x="21" y="10"/>
                </a:lnTo>
                <a:lnTo>
                  <a:pt x="21" y="0"/>
                </a:lnTo>
              </a:path>
            </a:pathLst>
          </a:custGeom>
          <a:noFill/>
          <a:ln cap="rnd" w="3240">
            <a:solidFill>
              <a:srgbClr val="00008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52" name=""/>
          <p:cNvSpPr/>
          <p:nvPr/>
        </p:nvSpPr>
        <p:spPr>
          <a:xfrm>
            <a:off x="7434360" y="3192480"/>
            <a:ext cx="36360" cy="15840"/>
          </a:xfrm>
          <a:custGeom>
            <a:avLst/>
            <a:gdLst/>
            <a:ahLst/>
            <a:rect l="l" t="t" r="r" b="b"/>
            <a:pathLst>
              <a:path w="23" h="10">
                <a:moveTo>
                  <a:pt x="23" y="0"/>
                </a:moveTo>
                <a:lnTo>
                  <a:pt x="23" y="0"/>
                </a:lnTo>
                <a:lnTo>
                  <a:pt x="23" y="10"/>
                </a:lnTo>
                <a:lnTo>
                  <a:pt x="12" y="10"/>
                </a:lnTo>
                <a:lnTo>
                  <a:pt x="12" y="0"/>
                </a:lnTo>
                <a:lnTo>
                  <a:pt x="0" y="10"/>
                </a:lnTo>
                <a:lnTo>
                  <a:pt x="0" y="0"/>
                </a:lnTo>
                <a:lnTo>
                  <a:pt x="12" y="0"/>
                </a:lnTo>
                <a:lnTo>
                  <a:pt x="2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53" name=""/>
          <p:cNvSpPr/>
          <p:nvPr/>
        </p:nvSpPr>
        <p:spPr>
          <a:xfrm>
            <a:off x="7434360" y="3192480"/>
            <a:ext cx="36360" cy="15840"/>
          </a:xfrm>
          <a:custGeom>
            <a:avLst/>
            <a:gdLst/>
            <a:ahLst/>
            <a:rect l="l" t="t" r="r" b="b"/>
            <a:pathLst>
              <a:path w="23" h="10">
                <a:moveTo>
                  <a:pt x="23" y="0"/>
                </a:moveTo>
                <a:lnTo>
                  <a:pt x="23" y="0"/>
                </a:lnTo>
                <a:lnTo>
                  <a:pt x="23" y="10"/>
                </a:lnTo>
                <a:lnTo>
                  <a:pt x="12" y="10"/>
                </a:lnTo>
                <a:lnTo>
                  <a:pt x="12" y="0"/>
                </a:lnTo>
                <a:lnTo>
                  <a:pt x="0" y="10"/>
                </a:lnTo>
                <a:lnTo>
                  <a:pt x="0" y="0"/>
                </a:lnTo>
                <a:lnTo>
                  <a:pt x="12" y="0"/>
                </a:lnTo>
                <a:lnTo>
                  <a:pt x="23" y="0"/>
                </a:lnTo>
              </a:path>
            </a:pathLst>
          </a:custGeom>
          <a:noFill/>
          <a:ln cap="rnd" w="3240">
            <a:solidFill>
              <a:srgbClr val="0000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54" name=""/>
          <p:cNvSpPr/>
          <p:nvPr/>
        </p:nvSpPr>
        <p:spPr>
          <a:xfrm>
            <a:off x="7453440" y="3222720"/>
            <a:ext cx="17280" cy="15840"/>
          </a:xfrm>
          <a:custGeom>
            <a:avLst/>
            <a:gdLst/>
            <a:ahLst/>
            <a:rect l="l" t="t" r="r" b="b"/>
            <a:pathLst>
              <a:path w="11" h="10">
                <a:moveTo>
                  <a:pt x="11" y="0"/>
                </a:moveTo>
                <a:lnTo>
                  <a:pt x="11" y="0"/>
                </a:lnTo>
                <a:lnTo>
                  <a:pt x="11" y="10"/>
                </a:lnTo>
                <a:lnTo>
                  <a:pt x="0" y="10"/>
                </a:lnTo>
                <a:lnTo>
                  <a:pt x="0" y="0"/>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55" name=""/>
          <p:cNvSpPr/>
          <p:nvPr/>
        </p:nvSpPr>
        <p:spPr>
          <a:xfrm>
            <a:off x="7453440" y="3222720"/>
            <a:ext cx="17280" cy="15840"/>
          </a:xfrm>
          <a:custGeom>
            <a:avLst/>
            <a:gdLst/>
            <a:ahLst/>
            <a:rect l="l" t="t" r="r" b="b"/>
            <a:pathLst>
              <a:path w="11" h="10">
                <a:moveTo>
                  <a:pt x="11" y="0"/>
                </a:moveTo>
                <a:lnTo>
                  <a:pt x="11" y="0"/>
                </a:lnTo>
                <a:lnTo>
                  <a:pt x="11" y="10"/>
                </a:lnTo>
                <a:lnTo>
                  <a:pt x="0" y="10"/>
                </a:lnTo>
                <a:lnTo>
                  <a:pt x="0" y="0"/>
                </a:lnTo>
                <a:lnTo>
                  <a:pt x="11" y="0"/>
                </a:lnTo>
              </a:path>
            </a:pathLst>
          </a:custGeom>
          <a:noFill/>
          <a:ln cap="rnd" w="3240">
            <a:solidFill>
              <a:srgbClr val="0000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56" name=""/>
          <p:cNvSpPr/>
          <p:nvPr/>
        </p:nvSpPr>
        <p:spPr>
          <a:xfrm>
            <a:off x="7434360" y="3255840"/>
            <a:ext cx="19080" cy="1800"/>
          </a:xfrm>
          <a:custGeom>
            <a:avLst/>
            <a:gdLst/>
            <a:ahLst/>
            <a:rect l="l" t="t" r="r" b="b"/>
            <a:pathLst>
              <a:path w="12" h="0">
                <a:moveTo>
                  <a:pt x="12" y="0"/>
                </a:moveTo>
                <a:lnTo>
                  <a:pt x="12" y="0"/>
                </a:lnTo>
                <a:lnTo>
                  <a:pt x="0" y="0"/>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7" name=""/>
          <p:cNvSpPr/>
          <p:nvPr/>
        </p:nvSpPr>
        <p:spPr>
          <a:xfrm>
            <a:off x="7434360" y="3255840"/>
            <a:ext cx="19080" cy="1800"/>
          </a:xfrm>
          <a:custGeom>
            <a:avLst/>
            <a:gdLst/>
            <a:ahLst/>
            <a:rect l="l" t="t" r="r" b="b"/>
            <a:pathLst>
              <a:path w="12" h="0">
                <a:moveTo>
                  <a:pt x="12" y="0"/>
                </a:moveTo>
                <a:lnTo>
                  <a:pt x="12" y="0"/>
                </a:lnTo>
                <a:lnTo>
                  <a:pt x="0" y="0"/>
                </a:lnTo>
                <a:lnTo>
                  <a:pt x="12" y="0"/>
                </a:lnTo>
              </a:path>
            </a:pathLst>
          </a:custGeom>
          <a:noFill/>
          <a:ln cap="rnd" w="3240">
            <a:solidFill>
              <a:srgbClr val="00008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8" name=""/>
          <p:cNvSpPr/>
          <p:nvPr/>
        </p:nvSpPr>
        <p:spPr>
          <a:xfrm>
            <a:off x="7418520" y="3222720"/>
            <a:ext cx="15840" cy="15840"/>
          </a:xfrm>
          <a:custGeom>
            <a:avLst/>
            <a:gdLst/>
            <a:ahLst/>
            <a:rect l="l" t="t" r="r" b="b"/>
            <a:pathLst>
              <a:path w="10" h="10">
                <a:moveTo>
                  <a:pt x="0" y="0"/>
                </a:moveTo>
                <a:lnTo>
                  <a:pt x="1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59" name=""/>
          <p:cNvSpPr/>
          <p:nvPr/>
        </p:nvSpPr>
        <p:spPr>
          <a:xfrm>
            <a:off x="7418520" y="3222720"/>
            <a:ext cx="15840" cy="15840"/>
          </a:xfrm>
          <a:custGeom>
            <a:avLst/>
            <a:gdLst/>
            <a:ahLst/>
            <a:rect l="l" t="t" r="r" b="b"/>
            <a:pathLst>
              <a:path w="10" h="10">
                <a:moveTo>
                  <a:pt x="0" y="0"/>
                </a:moveTo>
                <a:lnTo>
                  <a:pt x="10" y="0"/>
                </a:lnTo>
                <a:lnTo>
                  <a:pt x="0" y="10"/>
                </a:lnTo>
                <a:lnTo>
                  <a:pt x="0" y="0"/>
                </a:lnTo>
              </a:path>
            </a:pathLst>
          </a:custGeom>
          <a:noFill/>
          <a:ln cap="rnd" w="3240">
            <a:solidFill>
              <a:srgbClr val="0000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60" name=""/>
          <p:cNvSpPr/>
          <p:nvPr/>
        </p:nvSpPr>
        <p:spPr>
          <a:xfrm>
            <a:off x="7418520" y="3255840"/>
            <a:ext cx="15840" cy="1800"/>
          </a:xfrm>
          <a:custGeom>
            <a:avLst/>
            <a:gdLst/>
            <a:ahLst/>
            <a:rect l="l" t="t" r="r" b="b"/>
            <a:pathLst>
              <a:path w="10" h="0">
                <a:moveTo>
                  <a:pt x="0" y="0"/>
                </a:moveTo>
                <a:lnTo>
                  <a:pt x="1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1" name=""/>
          <p:cNvSpPr/>
          <p:nvPr/>
        </p:nvSpPr>
        <p:spPr>
          <a:xfrm>
            <a:off x="7418520" y="3255840"/>
            <a:ext cx="15840" cy="1800"/>
          </a:xfrm>
          <a:custGeom>
            <a:avLst/>
            <a:gdLst/>
            <a:ahLst/>
            <a:rect l="l" t="t" r="r" b="b"/>
            <a:pathLst>
              <a:path w="10" h="0">
                <a:moveTo>
                  <a:pt x="0" y="0"/>
                </a:moveTo>
                <a:lnTo>
                  <a:pt x="10" y="0"/>
                </a:lnTo>
                <a:lnTo>
                  <a:pt x="0" y="0"/>
                </a:lnTo>
              </a:path>
            </a:pathLst>
          </a:custGeom>
          <a:noFill/>
          <a:ln cap="rnd" w="3240">
            <a:solidFill>
              <a:srgbClr val="00008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2" name=""/>
          <p:cNvSpPr/>
          <p:nvPr/>
        </p:nvSpPr>
        <p:spPr>
          <a:xfrm>
            <a:off x="7418520" y="3271680"/>
            <a:ext cx="15840" cy="1800"/>
          </a:xfrm>
          <a:custGeom>
            <a:avLst/>
            <a:gdLst/>
            <a:ahLst/>
            <a:rect l="l" t="t" r="r" b="b"/>
            <a:pathLst>
              <a:path w="10" h="0">
                <a:moveTo>
                  <a:pt x="0" y="0"/>
                </a:moveTo>
                <a:lnTo>
                  <a:pt x="1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3" name=""/>
          <p:cNvSpPr/>
          <p:nvPr/>
        </p:nvSpPr>
        <p:spPr>
          <a:xfrm>
            <a:off x="7418520" y="3271680"/>
            <a:ext cx="15840" cy="1800"/>
          </a:xfrm>
          <a:custGeom>
            <a:avLst/>
            <a:gdLst/>
            <a:ahLst/>
            <a:rect l="l" t="t" r="r" b="b"/>
            <a:pathLst>
              <a:path w="10" h="0">
                <a:moveTo>
                  <a:pt x="0" y="0"/>
                </a:moveTo>
                <a:lnTo>
                  <a:pt x="10" y="0"/>
                </a:lnTo>
                <a:lnTo>
                  <a:pt x="0" y="0"/>
                </a:lnTo>
              </a:path>
            </a:pathLst>
          </a:custGeom>
          <a:noFill/>
          <a:ln cap="rnd" w="3240">
            <a:solidFill>
              <a:srgbClr val="00008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4" name=""/>
          <p:cNvSpPr/>
          <p:nvPr/>
        </p:nvSpPr>
        <p:spPr>
          <a:xfrm>
            <a:off x="7400880" y="3222720"/>
            <a:ext cx="17640" cy="15840"/>
          </a:xfrm>
          <a:custGeom>
            <a:avLst/>
            <a:gdLst/>
            <a:ahLst/>
            <a:rect l="l" t="t" r="r" b="b"/>
            <a:pathLst>
              <a:path w="11" h="10">
                <a:moveTo>
                  <a:pt x="0" y="0"/>
                </a:moveTo>
                <a:lnTo>
                  <a:pt x="11"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65" name=""/>
          <p:cNvSpPr/>
          <p:nvPr/>
        </p:nvSpPr>
        <p:spPr>
          <a:xfrm>
            <a:off x="7400880" y="3222720"/>
            <a:ext cx="17640" cy="15840"/>
          </a:xfrm>
          <a:custGeom>
            <a:avLst/>
            <a:gdLst/>
            <a:ahLst/>
            <a:rect l="l" t="t" r="r" b="b"/>
            <a:pathLst>
              <a:path w="11" h="10">
                <a:moveTo>
                  <a:pt x="0" y="0"/>
                </a:moveTo>
                <a:lnTo>
                  <a:pt x="11" y="0"/>
                </a:lnTo>
                <a:lnTo>
                  <a:pt x="0" y="10"/>
                </a:lnTo>
                <a:lnTo>
                  <a:pt x="0" y="0"/>
                </a:lnTo>
              </a:path>
            </a:pathLst>
          </a:custGeom>
          <a:noFill/>
          <a:ln cap="rnd" w="3240">
            <a:solidFill>
              <a:srgbClr val="0000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66" name=""/>
          <p:cNvSpPr/>
          <p:nvPr/>
        </p:nvSpPr>
        <p:spPr>
          <a:xfrm>
            <a:off x="7400880" y="3255840"/>
            <a:ext cx="17640" cy="1800"/>
          </a:xfrm>
          <a:custGeom>
            <a:avLst/>
            <a:gdLst/>
            <a:ahLst/>
            <a:rect l="l" t="t" r="r" b="b"/>
            <a:pathLst>
              <a:path w="11" h="0">
                <a:moveTo>
                  <a:pt x="0" y="0"/>
                </a:moveTo>
                <a:lnTo>
                  <a:pt x="11"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7" name=""/>
          <p:cNvSpPr/>
          <p:nvPr/>
        </p:nvSpPr>
        <p:spPr>
          <a:xfrm>
            <a:off x="7400880" y="3255840"/>
            <a:ext cx="17640" cy="1800"/>
          </a:xfrm>
          <a:custGeom>
            <a:avLst/>
            <a:gdLst/>
            <a:ahLst/>
            <a:rect l="l" t="t" r="r" b="b"/>
            <a:pathLst>
              <a:path w="11" h="0">
                <a:moveTo>
                  <a:pt x="0" y="0"/>
                </a:moveTo>
                <a:lnTo>
                  <a:pt x="11" y="0"/>
                </a:lnTo>
                <a:lnTo>
                  <a:pt x="0" y="0"/>
                </a:lnTo>
              </a:path>
            </a:pathLst>
          </a:custGeom>
          <a:noFill/>
          <a:ln cap="rnd" w="3240">
            <a:solidFill>
              <a:srgbClr val="00008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8" name=""/>
          <p:cNvSpPr/>
          <p:nvPr/>
        </p:nvSpPr>
        <p:spPr>
          <a:xfrm>
            <a:off x="7385040" y="3208320"/>
            <a:ext cx="3240" cy="1440"/>
          </a:xfrm>
          <a:prstGeom prst="rect">
            <a:avLst/>
          </a:prstGeom>
          <a:solidFill>
            <a:srgbClr val="000000"/>
          </a:solidFill>
          <a:ln cap="rnd" w="3240">
            <a:solidFill>
              <a:srgbClr val="00008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7385040" y="3222720"/>
            <a:ext cx="15840" cy="1440"/>
          </a:xfrm>
          <a:custGeom>
            <a:avLst/>
            <a:gdLst/>
            <a:ahLst/>
            <a:rect l="l" t="t" r="r" b="b"/>
            <a:pathLst>
              <a:path w="10" h="0">
                <a:moveTo>
                  <a:pt x="0" y="0"/>
                </a:moveTo>
                <a:lnTo>
                  <a:pt x="1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0" name=""/>
          <p:cNvSpPr/>
          <p:nvPr/>
        </p:nvSpPr>
        <p:spPr>
          <a:xfrm>
            <a:off x="7385040" y="3222720"/>
            <a:ext cx="15840" cy="1440"/>
          </a:xfrm>
          <a:custGeom>
            <a:avLst/>
            <a:gdLst/>
            <a:ahLst/>
            <a:rect l="l" t="t" r="r" b="b"/>
            <a:pathLst>
              <a:path w="10" h="0">
                <a:moveTo>
                  <a:pt x="0" y="0"/>
                </a:moveTo>
                <a:lnTo>
                  <a:pt x="10" y="0"/>
                </a:lnTo>
                <a:lnTo>
                  <a:pt x="0" y="0"/>
                </a:lnTo>
              </a:path>
            </a:pathLst>
          </a:custGeom>
          <a:noFill/>
          <a:ln cap="rnd" w="3240">
            <a:solidFill>
              <a:srgbClr val="00008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1" name=""/>
          <p:cNvSpPr/>
          <p:nvPr/>
        </p:nvSpPr>
        <p:spPr>
          <a:xfrm>
            <a:off x="7332840" y="3192480"/>
            <a:ext cx="1440" cy="15840"/>
          </a:xfrm>
          <a:custGeom>
            <a:avLst/>
            <a:gdLst/>
            <a:ahLst/>
            <a:rect l="l" t="t" r="r" b="b"/>
            <a:pathLst>
              <a:path w="0" h="10">
                <a:moveTo>
                  <a:pt x="0" y="0"/>
                </a:moveTo>
                <a:lnTo>
                  <a:pt x="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2" name=""/>
          <p:cNvSpPr/>
          <p:nvPr/>
        </p:nvSpPr>
        <p:spPr>
          <a:xfrm>
            <a:off x="7332840" y="3192480"/>
            <a:ext cx="1440" cy="15840"/>
          </a:xfrm>
          <a:custGeom>
            <a:avLst/>
            <a:gdLst/>
            <a:ahLst/>
            <a:rect l="l" t="t" r="r" b="b"/>
            <a:pathLst>
              <a:path w="0" h="10">
                <a:moveTo>
                  <a:pt x="0" y="0"/>
                </a:moveTo>
                <a:lnTo>
                  <a:pt x="0" y="0"/>
                </a:lnTo>
                <a:lnTo>
                  <a:pt x="0" y="10"/>
                </a:lnTo>
                <a:lnTo>
                  <a:pt x="0" y="0"/>
                </a:lnTo>
              </a:path>
            </a:pathLst>
          </a:custGeom>
          <a:noFill/>
          <a:ln cap="rnd" w="3240">
            <a:solidFill>
              <a:srgbClr val="0000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3" name=""/>
          <p:cNvSpPr/>
          <p:nvPr/>
        </p:nvSpPr>
        <p:spPr>
          <a:xfrm>
            <a:off x="7110360" y="4465800"/>
            <a:ext cx="1800" cy="14040"/>
          </a:xfrm>
          <a:custGeom>
            <a:avLst/>
            <a:gdLst/>
            <a:ahLst/>
            <a:rect l="l" t="t" r="r" b="b"/>
            <a:pathLst>
              <a:path w="0" h="9">
                <a:moveTo>
                  <a:pt x="0" y="0"/>
                </a:moveTo>
                <a:lnTo>
                  <a:pt x="0" y="0"/>
                </a:lnTo>
                <a:lnTo>
                  <a:pt x="0" y="9"/>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74" name=""/>
          <p:cNvSpPr/>
          <p:nvPr/>
        </p:nvSpPr>
        <p:spPr>
          <a:xfrm>
            <a:off x="7110360" y="4465800"/>
            <a:ext cx="1800" cy="14040"/>
          </a:xfrm>
          <a:custGeom>
            <a:avLst/>
            <a:gdLst/>
            <a:ahLst/>
            <a:rect l="l" t="t" r="r" b="b"/>
            <a:pathLst>
              <a:path w="0" h="9">
                <a:moveTo>
                  <a:pt x="0" y="0"/>
                </a:moveTo>
                <a:lnTo>
                  <a:pt x="0" y="0"/>
                </a:lnTo>
                <a:lnTo>
                  <a:pt x="0" y="9"/>
                </a:lnTo>
                <a:lnTo>
                  <a:pt x="0" y="0"/>
                </a:lnTo>
              </a:path>
            </a:pathLst>
          </a:custGeom>
          <a:noFill/>
          <a:ln cap="rnd" w="3240">
            <a:solidFill>
              <a:srgbClr val="00008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75" name=""/>
          <p:cNvSpPr/>
          <p:nvPr/>
        </p:nvSpPr>
        <p:spPr>
          <a:xfrm>
            <a:off x="7110360" y="4479840"/>
            <a:ext cx="3240" cy="6480"/>
          </a:xfrm>
          <a:prstGeom prst="rect">
            <a:avLst/>
          </a:prstGeom>
          <a:solidFill>
            <a:srgbClr val="000000"/>
          </a:solidFill>
          <a:ln cap="rnd" w="3240">
            <a:solidFill>
              <a:srgbClr val="00008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76" name=""/>
          <p:cNvSpPr/>
          <p:nvPr/>
        </p:nvSpPr>
        <p:spPr>
          <a:xfrm>
            <a:off x="7061040" y="4465800"/>
            <a:ext cx="14400" cy="14040"/>
          </a:xfrm>
          <a:custGeom>
            <a:avLst/>
            <a:gdLst/>
            <a:ahLst/>
            <a:rect l="l" t="t" r="r" b="b"/>
            <a:pathLst>
              <a:path w="9" h="9">
                <a:moveTo>
                  <a:pt x="9" y="0"/>
                </a:moveTo>
                <a:lnTo>
                  <a:pt x="9" y="0"/>
                </a:lnTo>
                <a:lnTo>
                  <a:pt x="9" y="9"/>
                </a:lnTo>
                <a:lnTo>
                  <a:pt x="0" y="9"/>
                </a:lnTo>
                <a:lnTo>
                  <a:pt x="0" y="0"/>
                </a:lnTo>
                <a:lnTo>
                  <a:pt x="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77" name=""/>
          <p:cNvSpPr/>
          <p:nvPr/>
        </p:nvSpPr>
        <p:spPr>
          <a:xfrm>
            <a:off x="7061040" y="4465800"/>
            <a:ext cx="14400" cy="14040"/>
          </a:xfrm>
          <a:custGeom>
            <a:avLst/>
            <a:gdLst/>
            <a:ahLst/>
            <a:rect l="l" t="t" r="r" b="b"/>
            <a:pathLst>
              <a:path w="9" h="9">
                <a:moveTo>
                  <a:pt x="9" y="0"/>
                </a:moveTo>
                <a:lnTo>
                  <a:pt x="9" y="0"/>
                </a:lnTo>
                <a:lnTo>
                  <a:pt x="9" y="9"/>
                </a:lnTo>
                <a:lnTo>
                  <a:pt x="0" y="9"/>
                </a:lnTo>
                <a:lnTo>
                  <a:pt x="0" y="0"/>
                </a:lnTo>
                <a:lnTo>
                  <a:pt x="9" y="0"/>
                </a:lnTo>
              </a:path>
            </a:pathLst>
          </a:custGeom>
          <a:noFill/>
          <a:ln cap="rnd" w="3240">
            <a:solidFill>
              <a:srgbClr val="00008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78" name=""/>
          <p:cNvSpPr/>
          <p:nvPr/>
        </p:nvSpPr>
        <p:spPr>
          <a:xfrm>
            <a:off x="7075440" y="4519440"/>
            <a:ext cx="3240" cy="1800"/>
          </a:xfrm>
          <a:prstGeom prst="rect">
            <a:avLst/>
          </a:prstGeom>
          <a:solidFill>
            <a:srgbClr val="000000"/>
          </a:solidFill>
          <a:ln cap="rnd" w="3240">
            <a:solidFill>
              <a:srgbClr val="00008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9" name=""/>
          <p:cNvSpPr/>
          <p:nvPr/>
        </p:nvSpPr>
        <p:spPr>
          <a:xfrm>
            <a:off x="5000760" y="4871880"/>
            <a:ext cx="17280" cy="1800"/>
          </a:xfrm>
          <a:custGeom>
            <a:avLst/>
            <a:gdLst/>
            <a:ahLst/>
            <a:rect l="l" t="t" r="r" b="b"/>
            <a:pathLst>
              <a:path w="11" h="0">
                <a:moveTo>
                  <a:pt x="0" y="0"/>
                </a:moveTo>
                <a:lnTo>
                  <a:pt x="11"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0" name=""/>
          <p:cNvSpPr/>
          <p:nvPr/>
        </p:nvSpPr>
        <p:spPr>
          <a:xfrm>
            <a:off x="5000760" y="4871880"/>
            <a:ext cx="17280" cy="1800"/>
          </a:xfrm>
          <a:custGeom>
            <a:avLst/>
            <a:gdLst/>
            <a:ahLst/>
            <a:rect l="l" t="t" r="r" b="b"/>
            <a:pathLst>
              <a:path w="11" h="0">
                <a:moveTo>
                  <a:pt x="0" y="0"/>
                </a:moveTo>
                <a:lnTo>
                  <a:pt x="11" y="0"/>
                </a:lnTo>
                <a:lnTo>
                  <a:pt x="0" y="0"/>
                </a:lnTo>
              </a:path>
            </a:pathLst>
          </a:custGeom>
          <a:noFill/>
          <a:ln cap="rnd" w="3240">
            <a:solidFill>
              <a:srgbClr val="00008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1" name=""/>
          <p:cNvSpPr/>
          <p:nvPr/>
        </p:nvSpPr>
        <p:spPr>
          <a:xfrm>
            <a:off x="7021440" y="4551480"/>
            <a:ext cx="23760" cy="1440"/>
          </a:xfrm>
          <a:custGeom>
            <a:avLst/>
            <a:gdLst/>
            <a:ahLst/>
            <a:rect l="l" t="t" r="r" b="b"/>
            <a:pathLst>
              <a:path w="15" h="0">
                <a:moveTo>
                  <a:pt x="15" y="0"/>
                </a:moveTo>
                <a:lnTo>
                  <a:pt x="15" y="0"/>
                </a:lnTo>
                <a:lnTo>
                  <a:pt x="0" y="0"/>
                </a:lnTo>
                <a:lnTo>
                  <a:pt x="1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2" name=""/>
          <p:cNvSpPr/>
          <p:nvPr/>
        </p:nvSpPr>
        <p:spPr>
          <a:xfrm>
            <a:off x="7021440" y="4551480"/>
            <a:ext cx="23760" cy="1440"/>
          </a:xfrm>
          <a:custGeom>
            <a:avLst/>
            <a:gdLst/>
            <a:ahLst/>
            <a:rect l="l" t="t" r="r" b="b"/>
            <a:pathLst>
              <a:path w="15" h="0">
                <a:moveTo>
                  <a:pt x="15" y="0"/>
                </a:moveTo>
                <a:lnTo>
                  <a:pt x="15" y="0"/>
                </a:lnTo>
                <a:lnTo>
                  <a:pt x="0" y="0"/>
                </a:lnTo>
                <a:lnTo>
                  <a:pt x="15" y="0"/>
                </a:lnTo>
              </a:path>
            </a:pathLst>
          </a:custGeom>
          <a:noFill/>
          <a:ln cap="rnd" w="3240">
            <a:solidFill>
              <a:srgbClr val="00008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3" name=""/>
          <p:cNvSpPr/>
          <p:nvPr/>
        </p:nvSpPr>
        <p:spPr>
          <a:xfrm>
            <a:off x="7021440" y="453240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4" name=""/>
          <p:cNvSpPr/>
          <p:nvPr/>
        </p:nvSpPr>
        <p:spPr>
          <a:xfrm>
            <a:off x="7021440" y="4532400"/>
            <a:ext cx="1800" cy="1440"/>
          </a:xfrm>
          <a:prstGeom prst="line">
            <a:avLst/>
          </a:prstGeom>
          <a:ln cap="rnd" w="3240">
            <a:solidFill>
              <a:srgbClr val="00008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5" name=""/>
          <p:cNvSpPr/>
          <p:nvPr/>
        </p:nvSpPr>
        <p:spPr>
          <a:xfrm>
            <a:off x="7021440" y="4551480"/>
            <a:ext cx="1800" cy="14040"/>
          </a:xfrm>
          <a:custGeom>
            <a:avLst/>
            <a:gdLst/>
            <a:ahLst/>
            <a:rect l="l" t="t" r="r" b="b"/>
            <a:pathLst>
              <a:path w="0" h="9">
                <a:moveTo>
                  <a:pt x="0" y="0"/>
                </a:moveTo>
                <a:lnTo>
                  <a:pt x="0" y="9"/>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6" name=""/>
          <p:cNvSpPr/>
          <p:nvPr/>
        </p:nvSpPr>
        <p:spPr>
          <a:xfrm>
            <a:off x="7021440" y="4551480"/>
            <a:ext cx="1800" cy="14040"/>
          </a:xfrm>
          <a:custGeom>
            <a:avLst/>
            <a:gdLst/>
            <a:ahLst/>
            <a:rect l="l" t="t" r="r" b="b"/>
            <a:pathLst>
              <a:path w="0" h="9">
                <a:moveTo>
                  <a:pt x="0" y="0"/>
                </a:moveTo>
                <a:lnTo>
                  <a:pt x="0" y="9"/>
                </a:lnTo>
                <a:lnTo>
                  <a:pt x="0" y="0"/>
                </a:lnTo>
              </a:path>
            </a:pathLst>
          </a:custGeom>
          <a:noFill/>
          <a:ln cap="rnd" w="3240">
            <a:solidFill>
              <a:srgbClr val="00008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7" name=""/>
          <p:cNvSpPr/>
          <p:nvPr/>
        </p:nvSpPr>
        <p:spPr>
          <a:xfrm>
            <a:off x="6989760" y="4565520"/>
            <a:ext cx="15840" cy="32040"/>
          </a:xfrm>
          <a:custGeom>
            <a:avLst/>
            <a:gdLst/>
            <a:ahLst/>
            <a:rect l="l" t="t" r="r" b="b"/>
            <a:pathLst>
              <a:path w="10" h="20">
                <a:moveTo>
                  <a:pt x="10" y="0"/>
                </a:moveTo>
                <a:lnTo>
                  <a:pt x="10" y="10"/>
                </a:lnTo>
                <a:lnTo>
                  <a:pt x="10" y="20"/>
                </a:lnTo>
                <a:lnTo>
                  <a:pt x="0" y="10"/>
                </a:lnTo>
                <a:lnTo>
                  <a:pt x="10" y="10"/>
                </a:lnTo>
                <a:lnTo>
                  <a:pt x="1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88" name=""/>
          <p:cNvSpPr/>
          <p:nvPr/>
        </p:nvSpPr>
        <p:spPr>
          <a:xfrm>
            <a:off x="6989760" y="4565520"/>
            <a:ext cx="15840" cy="32040"/>
          </a:xfrm>
          <a:custGeom>
            <a:avLst/>
            <a:gdLst/>
            <a:ahLst/>
            <a:rect l="l" t="t" r="r" b="b"/>
            <a:pathLst>
              <a:path w="10" h="20">
                <a:moveTo>
                  <a:pt x="10" y="0"/>
                </a:moveTo>
                <a:lnTo>
                  <a:pt x="10" y="10"/>
                </a:lnTo>
                <a:lnTo>
                  <a:pt x="10" y="20"/>
                </a:lnTo>
                <a:lnTo>
                  <a:pt x="0" y="10"/>
                </a:lnTo>
                <a:lnTo>
                  <a:pt x="10" y="10"/>
                </a:lnTo>
                <a:lnTo>
                  <a:pt x="10" y="0"/>
                </a:lnTo>
              </a:path>
            </a:pathLst>
          </a:custGeom>
          <a:noFill/>
          <a:ln cap="rnd" w="3240">
            <a:solidFill>
              <a:srgbClr val="00008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89" name=""/>
          <p:cNvSpPr/>
          <p:nvPr/>
        </p:nvSpPr>
        <p:spPr>
          <a:xfrm>
            <a:off x="7005600" y="4551480"/>
            <a:ext cx="3240" cy="1440"/>
          </a:xfrm>
          <a:prstGeom prst="rect">
            <a:avLst/>
          </a:prstGeom>
          <a:solidFill>
            <a:srgbClr val="000000"/>
          </a:solidFill>
          <a:ln cap="rnd" w="3240">
            <a:solidFill>
              <a:srgbClr val="00008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0" name=""/>
          <p:cNvSpPr/>
          <p:nvPr/>
        </p:nvSpPr>
        <p:spPr>
          <a:xfrm>
            <a:off x="6956280" y="4581360"/>
            <a:ext cx="33480" cy="46080"/>
          </a:xfrm>
          <a:custGeom>
            <a:avLst/>
            <a:gdLst/>
            <a:ahLst/>
            <a:rect l="l" t="t" r="r" b="b"/>
            <a:pathLst>
              <a:path w="21" h="29">
                <a:moveTo>
                  <a:pt x="21" y="0"/>
                </a:moveTo>
                <a:lnTo>
                  <a:pt x="21" y="10"/>
                </a:lnTo>
                <a:lnTo>
                  <a:pt x="21" y="21"/>
                </a:lnTo>
                <a:lnTo>
                  <a:pt x="10" y="21"/>
                </a:lnTo>
                <a:lnTo>
                  <a:pt x="10" y="10"/>
                </a:lnTo>
                <a:lnTo>
                  <a:pt x="10" y="21"/>
                </a:lnTo>
                <a:lnTo>
                  <a:pt x="10" y="29"/>
                </a:lnTo>
                <a:lnTo>
                  <a:pt x="0" y="29"/>
                </a:lnTo>
                <a:lnTo>
                  <a:pt x="0" y="21"/>
                </a:lnTo>
                <a:lnTo>
                  <a:pt x="0" y="10"/>
                </a:lnTo>
                <a:lnTo>
                  <a:pt x="10" y="10"/>
                </a:lnTo>
                <a:lnTo>
                  <a:pt x="10" y="0"/>
                </a:lnTo>
                <a:lnTo>
                  <a:pt x="2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91" name=""/>
          <p:cNvSpPr/>
          <p:nvPr/>
        </p:nvSpPr>
        <p:spPr>
          <a:xfrm>
            <a:off x="6956280" y="4581360"/>
            <a:ext cx="33480" cy="46080"/>
          </a:xfrm>
          <a:custGeom>
            <a:avLst/>
            <a:gdLst/>
            <a:ahLst/>
            <a:rect l="l" t="t" r="r" b="b"/>
            <a:pathLst>
              <a:path w="21" h="29">
                <a:moveTo>
                  <a:pt x="21" y="0"/>
                </a:moveTo>
                <a:lnTo>
                  <a:pt x="21" y="10"/>
                </a:lnTo>
                <a:lnTo>
                  <a:pt x="21" y="21"/>
                </a:lnTo>
                <a:lnTo>
                  <a:pt x="10" y="21"/>
                </a:lnTo>
                <a:lnTo>
                  <a:pt x="10" y="10"/>
                </a:lnTo>
                <a:lnTo>
                  <a:pt x="10" y="21"/>
                </a:lnTo>
                <a:lnTo>
                  <a:pt x="10" y="29"/>
                </a:lnTo>
                <a:lnTo>
                  <a:pt x="0" y="29"/>
                </a:lnTo>
                <a:lnTo>
                  <a:pt x="0" y="21"/>
                </a:lnTo>
                <a:lnTo>
                  <a:pt x="0" y="10"/>
                </a:lnTo>
                <a:lnTo>
                  <a:pt x="10" y="10"/>
                </a:lnTo>
                <a:lnTo>
                  <a:pt x="10" y="0"/>
                </a:lnTo>
                <a:lnTo>
                  <a:pt x="21" y="0"/>
                </a:lnTo>
              </a:path>
            </a:pathLst>
          </a:custGeom>
          <a:noFill/>
          <a:ln cap="rnd" w="3240">
            <a:solidFill>
              <a:srgbClr val="00008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92" name=""/>
          <p:cNvSpPr/>
          <p:nvPr/>
        </p:nvSpPr>
        <p:spPr>
          <a:xfrm>
            <a:off x="6919920" y="4627440"/>
            <a:ext cx="19080" cy="15840"/>
          </a:xfrm>
          <a:custGeom>
            <a:avLst/>
            <a:gdLst/>
            <a:ahLst/>
            <a:rect l="l" t="t" r="r" b="b"/>
            <a:pathLst>
              <a:path w="12" h="10">
                <a:moveTo>
                  <a:pt x="12" y="0"/>
                </a:moveTo>
                <a:lnTo>
                  <a:pt x="12" y="0"/>
                </a:lnTo>
                <a:lnTo>
                  <a:pt x="12" y="10"/>
                </a:lnTo>
                <a:lnTo>
                  <a:pt x="0" y="10"/>
                </a:lnTo>
                <a:lnTo>
                  <a:pt x="0" y="0"/>
                </a:lnTo>
                <a:lnTo>
                  <a:pt x="1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3" name=""/>
          <p:cNvSpPr/>
          <p:nvPr/>
        </p:nvSpPr>
        <p:spPr>
          <a:xfrm>
            <a:off x="6919920" y="4627440"/>
            <a:ext cx="19080" cy="15840"/>
          </a:xfrm>
          <a:custGeom>
            <a:avLst/>
            <a:gdLst/>
            <a:ahLst/>
            <a:rect l="l" t="t" r="r" b="b"/>
            <a:pathLst>
              <a:path w="12" h="10">
                <a:moveTo>
                  <a:pt x="12" y="0"/>
                </a:moveTo>
                <a:lnTo>
                  <a:pt x="12" y="0"/>
                </a:lnTo>
                <a:lnTo>
                  <a:pt x="12" y="10"/>
                </a:lnTo>
                <a:lnTo>
                  <a:pt x="0" y="10"/>
                </a:lnTo>
                <a:lnTo>
                  <a:pt x="0" y="0"/>
                </a:lnTo>
                <a:lnTo>
                  <a:pt x="12" y="0"/>
                </a:lnTo>
              </a:path>
            </a:pathLst>
          </a:custGeom>
          <a:noFill/>
          <a:ln cap="rnd" w="3240">
            <a:solidFill>
              <a:srgbClr val="0000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4" name=""/>
          <p:cNvSpPr/>
          <p:nvPr/>
        </p:nvSpPr>
        <p:spPr>
          <a:xfrm>
            <a:off x="6904080" y="4643280"/>
            <a:ext cx="15840" cy="33480"/>
          </a:xfrm>
          <a:custGeom>
            <a:avLst/>
            <a:gdLst/>
            <a:ahLst/>
            <a:rect l="l" t="t" r="r" b="b"/>
            <a:pathLst>
              <a:path w="10" h="21">
                <a:moveTo>
                  <a:pt x="10" y="0"/>
                </a:moveTo>
                <a:lnTo>
                  <a:pt x="10" y="0"/>
                </a:lnTo>
                <a:lnTo>
                  <a:pt x="10" y="11"/>
                </a:lnTo>
                <a:lnTo>
                  <a:pt x="10" y="21"/>
                </a:lnTo>
                <a:lnTo>
                  <a:pt x="0" y="21"/>
                </a:lnTo>
                <a:lnTo>
                  <a:pt x="0" y="11"/>
                </a:lnTo>
                <a:lnTo>
                  <a:pt x="0" y="0"/>
                </a:lnTo>
                <a:lnTo>
                  <a:pt x="1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95" name=""/>
          <p:cNvSpPr/>
          <p:nvPr/>
        </p:nvSpPr>
        <p:spPr>
          <a:xfrm>
            <a:off x="6904080" y="4643280"/>
            <a:ext cx="15840" cy="33480"/>
          </a:xfrm>
          <a:custGeom>
            <a:avLst/>
            <a:gdLst/>
            <a:ahLst/>
            <a:rect l="l" t="t" r="r" b="b"/>
            <a:pathLst>
              <a:path w="10" h="21">
                <a:moveTo>
                  <a:pt x="10" y="0"/>
                </a:moveTo>
                <a:lnTo>
                  <a:pt x="10" y="0"/>
                </a:lnTo>
                <a:lnTo>
                  <a:pt x="10" y="11"/>
                </a:lnTo>
                <a:lnTo>
                  <a:pt x="10" y="21"/>
                </a:lnTo>
                <a:lnTo>
                  <a:pt x="0" y="21"/>
                </a:lnTo>
                <a:lnTo>
                  <a:pt x="0" y="11"/>
                </a:lnTo>
                <a:lnTo>
                  <a:pt x="0" y="0"/>
                </a:lnTo>
                <a:lnTo>
                  <a:pt x="10" y="0"/>
                </a:lnTo>
              </a:path>
            </a:pathLst>
          </a:custGeom>
          <a:noFill/>
          <a:ln cap="rnd" w="3240">
            <a:solidFill>
              <a:srgbClr val="00008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96" name=""/>
          <p:cNvSpPr/>
          <p:nvPr/>
        </p:nvSpPr>
        <p:spPr>
          <a:xfrm>
            <a:off x="6886440" y="467676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97" name=""/>
          <p:cNvSpPr/>
          <p:nvPr/>
        </p:nvSpPr>
        <p:spPr>
          <a:xfrm>
            <a:off x="6886440" y="4676760"/>
            <a:ext cx="17640" cy="17640"/>
          </a:xfrm>
          <a:prstGeom prst="rect">
            <a:avLst/>
          </a:prstGeom>
          <a:noFill/>
          <a:ln cap="rnd" w="3240">
            <a:solidFill>
              <a:srgbClr val="00008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98" name=""/>
          <p:cNvSpPr/>
          <p:nvPr/>
        </p:nvSpPr>
        <p:spPr>
          <a:xfrm>
            <a:off x="6856560" y="4694400"/>
            <a:ext cx="17280" cy="18720"/>
          </a:xfrm>
          <a:custGeom>
            <a:avLst/>
            <a:gdLst/>
            <a:ahLst/>
            <a:rect l="l" t="t" r="r" b="b"/>
            <a:pathLst>
              <a:path w="11" h="12">
                <a:moveTo>
                  <a:pt x="11" y="0"/>
                </a:moveTo>
                <a:lnTo>
                  <a:pt x="11" y="0"/>
                </a:lnTo>
                <a:lnTo>
                  <a:pt x="11" y="12"/>
                </a:lnTo>
                <a:lnTo>
                  <a:pt x="0" y="12"/>
                </a:lnTo>
                <a:lnTo>
                  <a:pt x="11" y="12"/>
                </a:lnTo>
                <a:lnTo>
                  <a:pt x="1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99" name=""/>
          <p:cNvSpPr/>
          <p:nvPr/>
        </p:nvSpPr>
        <p:spPr>
          <a:xfrm>
            <a:off x="6856560" y="4694400"/>
            <a:ext cx="17280" cy="18720"/>
          </a:xfrm>
          <a:custGeom>
            <a:avLst/>
            <a:gdLst/>
            <a:ahLst/>
            <a:rect l="l" t="t" r="r" b="b"/>
            <a:pathLst>
              <a:path w="11" h="12">
                <a:moveTo>
                  <a:pt x="11" y="0"/>
                </a:moveTo>
                <a:lnTo>
                  <a:pt x="11" y="0"/>
                </a:lnTo>
                <a:lnTo>
                  <a:pt x="11" y="12"/>
                </a:lnTo>
                <a:lnTo>
                  <a:pt x="0" y="12"/>
                </a:lnTo>
                <a:lnTo>
                  <a:pt x="11" y="12"/>
                </a:lnTo>
                <a:lnTo>
                  <a:pt x="11" y="0"/>
                </a:lnTo>
              </a:path>
            </a:pathLst>
          </a:custGeom>
          <a:noFill/>
          <a:ln cap="rnd" w="3240">
            <a:solidFill>
              <a:srgbClr val="00008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00" name=""/>
          <p:cNvSpPr/>
          <p:nvPr/>
        </p:nvSpPr>
        <p:spPr>
          <a:xfrm>
            <a:off x="6818400" y="4730760"/>
            <a:ext cx="3240" cy="1440"/>
          </a:xfrm>
          <a:prstGeom prst="rect">
            <a:avLst/>
          </a:prstGeom>
          <a:solidFill>
            <a:srgbClr val="000000"/>
          </a:solidFill>
          <a:ln cap="rnd" w="3240">
            <a:solidFill>
              <a:srgbClr val="00008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1" name=""/>
          <p:cNvSpPr/>
          <p:nvPr/>
        </p:nvSpPr>
        <p:spPr>
          <a:xfrm>
            <a:off x="6478560" y="5037120"/>
            <a:ext cx="1440" cy="15840"/>
          </a:xfrm>
          <a:custGeom>
            <a:avLst/>
            <a:gdLst/>
            <a:ahLst/>
            <a:rect l="l" t="t" r="r" b="b"/>
            <a:pathLst>
              <a:path w="0" h="10">
                <a:moveTo>
                  <a:pt x="0" y="0"/>
                </a:move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02" name=""/>
          <p:cNvSpPr/>
          <p:nvPr/>
        </p:nvSpPr>
        <p:spPr>
          <a:xfrm>
            <a:off x="6478560" y="5037120"/>
            <a:ext cx="1440" cy="15840"/>
          </a:xfrm>
          <a:custGeom>
            <a:avLst/>
            <a:gdLst/>
            <a:ahLst/>
            <a:rect l="l" t="t" r="r" b="b"/>
            <a:pathLst>
              <a:path w="0" h="10">
                <a:moveTo>
                  <a:pt x="0" y="0"/>
                </a:moveTo>
                <a:lnTo>
                  <a:pt x="0" y="10"/>
                </a:lnTo>
                <a:lnTo>
                  <a:pt x="0" y="0"/>
                </a:lnTo>
              </a:path>
            </a:pathLst>
          </a:custGeom>
          <a:noFill/>
          <a:ln cap="rnd" w="3240">
            <a:solidFill>
              <a:srgbClr val="00008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03" name=""/>
          <p:cNvSpPr/>
          <p:nvPr/>
        </p:nvSpPr>
        <p:spPr>
          <a:xfrm>
            <a:off x="6438960" y="5052960"/>
            <a:ext cx="22320" cy="1800"/>
          </a:xfrm>
          <a:custGeom>
            <a:avLst/>
            <a:gdLst/>
            <a:ahLst/>
            <a:rect l="l" t="t" r="r" b="b"/>
            <a:pathLst>
              <a:path w="14" h="0">
                <a:moveTo>
                  <a:pt x="14" y="0"/>
                </a:moveTo>
                <a:lnTo>
                  <a:pt x="14" y="0"/>
                </a:lnTo>
                <a:lnTo>
                  <a:pt x="0" y="0"/>
                </a:lnTo>
                <a:lnTo>
                  <a:pt x="14"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4" name=""/>
          <p:cNvSpPr/>
          <p:nvPr/>
        </p:nvSpPr>
        <p:spPr>
          <a:xfrm>
            <a:off x="6438960" y="5052960"/>
            <a:ext cx="22320" cy="1800"/>
          </a:xfrm>
          <a:custGeom>
            <a:avLst/>
            <a:gdLst/>
            <a:ahLst/>
            <a:rect l="l" t="t" r="r" b="b"/>
            <a:pathLst>
              <a:path w="14" h="0">
                <a:moveTo>
                  <a:pt x="14" y="0"/>
                </a:moveTo>
                <a:lnTo>
                  <a:pt x="14" y="0"/>
                </a:lnTo>
                <a:lnTo>
                  <a:pt x="0" y="0"/>
                </a:lnTo>
                <a:lnTo>
                  <a:pt x="14" y="0"/>
                </a:lnTo>
              </a:path>
            </a:pathLst>
          </a:custGeom>
          <a:noFill/>
          <a:ln cap="rnd" w="3240">
            <a:solidFill>
              <a:srgbClr val="00008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5" name=""/>
          <p:cNvSpPr/>
          <p:nvPr/>
        </p:nvSpPr>
        <p:spPr>
          <a:xfrm>
            <a:off x="6438960" y="5070600"/>
            <a:ext cx="22320" cy="19080"/>
          </a:xfrm>
          <a:custGeom>
            <a:avLst/>
            <a:gdLst/>
            <a:ahLst/>
            <a:rect l="l" t="t" r="r" b="b"/>
            <a:pathLst>
              <a:path w="14" h="12">
                <a:moveTo>
                  <a:pt x="14" y="0"/>
                </a:moveTo>
                <a:lnTo>
                  <a:pt x="14" y="0"/>
                </a:lnTo>
                <a:lnTo>
                  <a:pt x="14" y="12"/>
                </a:lnTo>
                <a:lnTo>
                  <a:pt x="0" y="12"/>
                </a:lnTo>
                <a:lnTo>
                  <a:pt x="0" y="0"/>
                </a:lnTo>
                <a:lnTo>
                  <a:pt x="1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06" name=""/>
          <p:cNvSpPr/>
          <p:nvPr/>
        </p:nvSpPr>
        <p:spPr>
          <a:xfrm>
            <a:off x="6438960" y="5070600"/>
            <a:ext cx="22320" cy="19080"/>
          </a:xfrm>
          <a:custGeom>
            <a:avLst/>
            <a:gdLst/>
            <a:ahLst/>
            <a:rect l="l" t="t" r="r" b="b"/>
            <a:pathLst>
              <a:path w="14" h="12">
                <a:moveTo>
                  <a:pt x="14" y="0"/>
                </a:moveTo>
                <a:lnTo>
                  <a:pt x="14" y="0"/>
                </a:lnTo>
                <a:lnTo>
                  <a:pt x="14" y="12"/>
                </a:lnTo>
                <a:lnTo>
                  <a:pt x="0" y="12"/>
                </a:lnTo>
                <a:lnTo>
                  <a:pt x="0" y="0"/>
                </a:lnTo>
                <a:lnTo>
                  <a:pt x="14" y="0"/>
                </a:lnTo>
              </a:path>
            </a:pathLst>
          </a:custGeom>
          <a:noFill/>
          <a:ln cap="rnd" w="3240">
            <a:solidFill>
              <a:srgbClr val="00008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07" name=""/>
          <p:cNvSpPr/>
          <p:nvPr/>
        </p:nvSpPr>
        <p:spPr>
          <a:xfrm>
            <a:off x="6338880" y="4970520"/>
            <a:ext cx="82440" cy="82440"/>
          </a:xfrm>
          <a:custGeom>
            <a:avLst/>
            <a:gdLst/>
            <a:ahLst/>
            <a:rect l="l" t="t" r="r" b="b"/>
            <a:pathLst>
              <a:path w="52" h="52">
                <a:moveTo>
                  <a:pt x="52" y="0"/>
                </a:moveTo>
                <a:lnTo>
                  <a:pt x="52" y="11"/>
                </a:lnTo>
                <a:lnTo>
                  <a:pt x="52" y="21"/>
                </a:lnTo>
                <a:lnTo>
                  <a:pt x="42" y="21"/>
                </a:lnTo>
                <a:lnTo>
                  <a:pt x="32" y="21"/>
                </a:lnTo>
                <a:lnTo>
                  <a:pt x="32" y="31"/>
                </a:lnTo>
                <a:lnTo>
                  <a:pt x="21" y="31"/>
                </a:lnTo>
                <a:lnTo>
                  <a:pt x="21" y="42"/>
                </a:lnTo>
                <a:lnTo>
                  <a:pt x="11" y="42"/>
                </a:lnTo>
                <a:lnTo>
                  <a:pt x="11" y="52"/>
                </a:lnTo>
                <a:lnTo>
                  <a:pt x="0" y="52"/>
                </a:lnTo>
                <a:lnTo>
                  <a:pt x="0" y="42"/>
                </a:lnTo>
                <a:lnTo>
                  <a:pt x="0" y="31"/>
                </a:lnTo>
                <a:lnTo>
                  <a:pt x="11" y="31"/>
                </a:lnTo>
                <a:lnTo>
                  <a:pt x="11" y="21"/>
                </a:lnTo>
                <a:lnTo>
                  <a:pt x="21" y="21"/>
                </a:lnTo>
                <a:lnTo>
                  <a:pt x="32" y="21"/>
                </a:lnTo>
                <a:lnTo>
                  <a:pt x="32" y="11"/>
                </a:lnTo>
                <a:lnTo>
                  <a:pt x="42" y="11"/>
                </a:lnTo>
                <a:lnTo>
                  <a:pt x="52" y="11"/>
                </a:lnTo>
                <a:lnTo>
                  <a:pt x="5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8" name=""/>
          <p:cNvSpPr/>
          <p:nvPr/>
        </p:nvSpPr>
        <p:spPr>
          <a:xfrm>
            <a:off x="6338880" y="4970520"/>
            <a:ext cx="82440" cy="82440"/>
          </a:xfrm>
          <a:custGeom>
            <a:avLst/>
            <a:gdLst/>
            <a:ahLst/>
            <a:rect l="l" t="t" r="r" b="b"/>
            <a:pathLst>
              <a:path w="52" h="52">
                <a:moveTo>
                  <a:pt x="52" y="0"/>
                </a:moveTo>
                <a:lnTo>
                  <a:pt x="52" y="11"/>
                </a:lnTo>
                <a:lnTo>
                  <a:pt x="52" y="21"/>
                </a:lnTo>
                <a:lnTo>
                  <a:pt x="42" y="21"/>
                </a:lnTo>
                <a:lnTo>
                  <a:pt x="32" y="21"/>
                </a:lnTo>
                <a:lnTo>
                  <a:pt x="32" y="31"/>
                </a:lnTo>
                <a:lnTo>
                  <a:pt x="21" y="31"/>
                </a:lnTo>
                <a:lnTo>
                  <a:pt x="21" y="42"/>
                </a:lnTo>
                <a:lnTo>
                  <a:pt x="11" y="42"/>
                </a:lnTo>
                <a:lnTo>
                  <a:pt x="11" y="52"/>
                </a:lnTo>
                <a:lnTo>
                  <a:pt x="0" y="52"/>
                </a:lnTo>
                <a:lnTo>
                  <a:pt x="0" y="42"/>
                </a:lnTo>
                <a:lnTo>
                  <a:pt x="0" y="31"/>
                </a:lnTo>
                <a:lnTo>
                  <a:pt x="11" y="31"/>
                </a:lnTo>
                <a:lnTo>
                  <a:pt x="11" y="21"/>
                </a:lnTo>
                <a:lnTo>
                  <a:pt x="21" y="21"/>
                </a:lnTo>
                <a:lnTo>
                  <a:pt x="32" y="21"/>
                </a:lnTo>
                <a:lnTo>
                  <a:pt x="32" y="11"/>
                </a:lnTo>
                <a:lnTo>
                  <a:pt x="42" y="11"/>
                </a:lnTo>
                <a:lnTo>
                  <a:pt x="52" y="11"/>
                </a:lnTo>
                <a:lnTo>
                  <a:pt x="52" y="0"/>
                </a:lnTo>
              </a:path>
            </a:pathLst>
          </a:custGeom>
          <a:noFill/>
          <a:ln cap="rnd" w="3240">
            <a:solidFill>
              <a:srgbClr val="00008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9" name=""/>
          <p:cNvSpPr/>
          <p:nvPr/>
        </p:nvSpPr>
        <p:spPr>
          <a:xfrm>
            <a:off x="6405480" y="400680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0" name=""/>
          <p:cNvSpPr/>
          <p:nvPr/>
        </p:nvSpPr>
        <p:spPr>
          <a:xfrm>
            <a:off x="6405480" y="4006800"/>
            <a:ext cx="1800" cy="1800"/>
          </a:xfrm>
          <a:prstGeom prst="line">
            <a:avLst/>
          </a:prstGeom>
          <a:ln cap="rnd" w="3240">
            <a:solidFill>
              <a:srgbClr val="00008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1" name=""/>
          <p:cNvSpPr/>
          <p:nvPr/>
        </p:nvSpPr>
        <p:spPr>
          <a:xfrm>
            <a:off x="6353280" y="5019840"/>
            <a:ext cx="15840" cy="17280"/>
          </a:xfrm>
          <a:custGeom>
            <a:avLst/>
            <a:gdLst/>
            <a:ahLst/>
            <a:rect l="l" t="t" r="r" b="b"/>
            <a:pathLst>
              <a:path w="10" h="11">
                <a:moveTo>
                  <a:pt x="10" y="0"/>
                </a:moveTo>
                <a:lnTo>
                  <a:pt x="10" y="0"/>
                </a:lnTo>
                <a:lnTo>
                  <a:pt x="0" y="0"/>
                </a:lnTo>
                <a:lnTo>
                  <a:pt x="10" y="11"/>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2" name=""/>
          <p:cNvSpPr/>
          <p:nvPr/>
        </p:nvSpPr>
        <p:spPr>
          <a:xfrm>
            <a:off x="6353280" y="5019840"/>
            <a:ext cx="15840" cy="17280"/>
          </a:xfrm>
          <a:custGeom>
            <a:avLst/>
            <a:gdLst/>
            <a:ahLst/>
            <a:rect l="l" t="t" r="r" b="b"/>
            <a:pathLst>
              <a:path w="10" h="11">
                <a:moveTo>
                  <a:pt x="10" y="0"/>
                </a:moveTo>
                <a:lnTo>
                  <a:pt x="10" y="0"/>
                </a:lnTo>
                <a:lnTo>
                  <a:pt x="0" y="0"/>
                </a:lnTo>
                <a:lnTo>
                  <a:pt x="10" y="11"/>
                </a:lnTo>
                <a:lnTo>
                  <a:pt x="10" y="0"/>
                </a:lnTo>
              </a:path>
            </a:pathLst>
          </a:custGeom>
          <a:noFill/>
          <a:ln cap="rnd" w="3240">
            <a:solidFill>
              <a:srgbClr val="00008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3" name=""/>
          <p:cNvSpPr/>
          <p:nvPr/>
        </p:nvSpPr>
        <p:spPr>
          <a:xfrm>
            <a:off x="6338880" y="5070600"/>
            <a:ext cx="1440" cy="2880"/>
          </a:xfrm>
          <a:prstGeom prst="rect">
            <a:avLst/>
          </a:prstGeom>
          <a:solidFill>
            <a:srgbClr val="000000"/>
          </a:solidFill>
          <a:ln cap="rnd" w="3240">
            <a:solidFill>
              <a:srgbClr val="00008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14" name=""/>
          <p:cNvSpPr/>
          <p:nvPr/>
        </p:nvSpPr>
        <p:spPr>
          <a:xfrm>
            <a:off x="6289560" y="5089680"/>
            <a:ext cx="1800" cy="1440"/>
          </a:xfrm>
          <a:prstGeom prst="rect">
            <a:avLst/>
          </a:prstGeom>
          <a:solidFill>
            <a:srgbClr val="000000"/>
          </a:solidFill>
          <a:ln cap="rnd" w="3240">
            <a:solidFill>
              <a:srgbClr val="00008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5" name=""/>
          <p:cNvSpPr/>
          <p:nvPr/>
        </p:nvSpPr>
        <p:spPr>
          <a:xfrm>
            <a:off x="7899480" y="3730680"/>
            <a:ext cx="15840" cy="144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6" name=""/>
          <p:cNvSpPr/>
          <p:nvPr/>
        </p:nvSpPr>
        <p:spPr>
          <a:xfrm>
            <a:off x="7899480" y="3730680"/>
            <a:ext cx="15840" cy="1440"/>
          </a:xfrm>
          <a:custGeom>
            <a:avLst/>
            <a:gdLst/>
            <a:ahLst/>
            <a:rect l="l" t="t" r="r" b="b"/>
            <a:pathLst>
              <a:path w="10" h="0">
                <a:moveTo>
                  <a:pt x="10" y="0"/>
                </a:moveTo>
                <a:lnTo>
                  <a:pt x="10" y="0"/>
                </a:lnTo>
                <a:lnTo>
                  <a:pt x="0" y="0"/>
                </a:lnTo>
                <a:lnTo>
                  <a:pt x="10" y="0"/>
                </a:lnTo>
              </a:path>
            </a:pathLst>
          </a:custGeom>
          <a:noFill/>
          <a:ln cap="rnd" w="3240">
            <a:solidFill>
              <a:srgbClr val="0000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7" name=""/>
          <p:cNvSpPr/>
          <p:nvPr/>
        </p:nvSpPr>
        <p:spPr>
          <a:xfrm>
            <a:off x="7845480" y="3730680"/>
            <a:ext cx="54000" cy="82440"/>
          </a:xfrm>
          <a:custGeom>
            <a:avLst/>
            <a:gdLst/>
            <a:ahLst/>
            <a:rect l="l" t="t" r="r" b="b"/>
            <a:pathLst>
              <a:path w="34" h="52">
                <a:moveTo>
                  <a:pt x="34" y="10"/>
                </a:moveTo>
                <a:lnTo>
                  <a:pt x="34" y="10"/>
                </a:lnTo>
                <a:lnTo>
                  <a:pt x="34" y="21"/>
                </a:lnTo>
                <a:lnTo>
                  <a:pt x="23" y="21"/>
                </a:lnTo>
                <a:lnTo>
                  <a:pt x="23" y="31"/>
                </a:lnTo>
                <a:lnTo>
                  <a:pt x="13" y="31"/>
                </a:lnTo>
                <a:lnTo>
                  <a:pt x="13" y="41"/>
                </a:lnTo>
                <a:lnTo>
                  <a:pt x="0" y="41"/>
                </a:lnTo>
                <a:lnTo>
                  <a:pt x="0" y="52"/>
                </a:lnTo>
                <a:lnTo>
                  <a:pt x="0" y="41"/>
                </a:lnTo>
                <a:lnTo>
                  <a:pt x="0" y="31"/>
                </a:lnTo>
                <a:lnTo>
                  <a:pt x="0" y="21"/>
                </a:lnTo>
                <a:lnTo>
                  <a:pt x="13" y="21"/>
                </a:lnTo>
                <a:lnTo>
                  <a:pt x="23" y="21"/>
                </a:lnTo>
                <a:lnTo>
                  <a:pt x="23" y="10"/>
                </a:lnTo>
                <a:lnTo>
                  <a:pt x="34" y="10"/>
                </a:lnTo>
                <a:lnTo>
                  <a:pt x="34" y="0"/>
                </a:lnTo>
                <a:lnTo>
                  <a:pt x="34" y="10"/>
                </a:lnTo>
                <a:lnTo>
                  <a:pt x="23" y="10"/>
                </a:lnTo>
                <a:lnTo>
                  <a:pt x="34" y="21"/>
                </a:lnTo>
                <a:lnTo>
                  <a:pt x="34"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18" name=""/>
          <p:cNvSpPr/>
          <p:nvPr/>
        </p:nvSpPr>
        <p:spPr>
          <a:xfrm>
            <a:off x="7845480" y="3730680"/>
            <a:ext cx="54000" cy="82440"/>
          </a:xfrm>
          <a:custGeom>
            <a:avLst/>
            <a:gdLst/>
            <a:ahLst/>
            <a:rect l="l" t="t" r="r" b="b"/>
            <a:pathLst>
              <a:path w="34" h="52">
                <a:moveTo>
                  <a:pt x="34" y="10"/>
                </a:moveTo>
                <a:lnTo>
                  <a:pt x="34" y="10"/>
                </a:lnTo>
                <a:lnTo>
                  <a:pt x="34" y="21"/>
                </a:lnTo>
                <a:lnTo>
                  <a:pt x="23" y="21"/>
                </a:lnTo>
                <a:lnTo>
                  <a:pt x="23" y="31"/>
                </a:lnTo>
                <a:lnTo>
                  <a:pt x="13" y="31"/>
                </a:lnTo>
                <a:lnTo>
                  <a:pt x="13" y="41"/>
                </a:lnTo>
                <a:lnTo>
                  <a:pt x="0" y="41"/>
                </a:lnTo>
                <a:lnTo>
                  <a:pt x="0" y="52"/>
                </a:lnTo>
                <a:lnTo>
                  <a:pt x="0" y="41"/>
                </a:lnTo>
                <a:lnTo>
                  <a:pt x="0" y="31"/>
                </a:lnTo>
                <a:lnTo>
                  <a:pt x="0" y="21"/>
                </a:lnTo>
                <a:lnTo>
                  <a:pt x="13" y="21"/>
                </a:lnTo>
                <a:lnTo>
                  <a:pt x="23" y="21"/>
                </a:lnTo>
                <a:lnTo>
                  <a:pt x="23" y="10"/>
                </a:lnTo>
                <a:lnTo>
                  <a:pt x="34" y="10"/>
                </a:lnTo>
                <a:lnTo>
                  <a:pt x="34" y="0"/>
                </a:lnTo>
                <a:lnTo>
                  <a:pt x="34" y="10"/>
                </a:lnTo>
                <a:lnTo>
                  <a:pt x="23" y="10"/>
                </a:lnTo>
                <a:lnTo>
                  <a:pt x="34" y="21"/>
                </a:lnTo>
                <a:lnTo>
                  <a:pt x="34" y="10"/>
                </a:lnTo>
              </a:path>
            </a:pathLst>
          </a:custGeom>
          <a:noFill/>
          <a:ln cap="rnd" w="3240">
            <a:solidFill>
              <a:srgbClr val="0000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19" name=""/>
          <p:cNvSpPr/>
          <p:nvPr/>
        </p:nvSpPr>
        <p:spPr>
          <a:xfrm>
            <a:off x="7866000" y="3780000"/>
            <a:ext cx="3240" cy="2880"/>
          </a:xfrm>
          <a:prstGeom prst="rect">
            <a:avLst/>
          </a:prstGeom>
          <a:solidFill>
            <a:srgbClr val="000000"/>
          </a:solidFill>
          <a:ln cap="rnd" w="324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20" name=""/>
          <p:cNvSpPr/>
          <p:nvPr/>
        </p:nvSpPr>
        <p:spPr>
          <a:xfrm>
            <a:off x="7486560" y="3192480"/>
            <a:ext cx="17640" cy="15840"/>
          </a:xfrm>
          <a:custGeom>
            <a:avLst/>
            <a:gdLst/>
            <a:ahLst/>
            <a:rect l="l" t="t" r="r" b="b"/>
            <a:pathLst>
              <a:path w="11" h="10">
                <a:moveTo>
                  <a:pt x="11" y="0"/>
                </a:moveTo>
                <a:lnTo>
                  <a:pt x="11" y="0"/>
                </a:lnTo>
                <a:lnTo>
                  <a:pt x="11" y="10"/>
                </a:lnTo>
                <a:lnTo>
                  <a:pt x="0" y="0"/>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21" name=""/>
          <p:cNvSpPr/>
          <p:nvPr/>
        </p:nvSpPr>
        <p:spPr>
          <a:xfrm>
            <a:off x="7486560" y="3192480"/>
            <a:ext cx="17640" cy="15840"/>
          </a:xfrm>
          <a:custGeom>
            <a:avLst/>
            <a:gdLst/>
            <a:ahLst/>
            <a:rect l="l" t="t" r="r" b="b"/>
            <a:pathLst>
              <a:path w="11" h="10">
                <a:moveTo>
                  <a:pt x="11" y="0"/>
                </a:moveTo>
                <a:lnTo>
                  <a:pt x="11" y="0"/>
                </a:lnTo>
                <a:lnTo>
                  <a:pt x="11" y="10"/>
                </a:lnTo>
                <a:lnTo>
                  <a:pt x="0" y="0"/>
                </a:lnTo>
                <a:lnTo>
                  <a:pt x="11" y="0"/>
                </a:lnTo>
              </a:path>
            </a:pathLst>
          </a:custGeom>
          <a:noFill/>
          <a:ln cap="rnd" w="3240">
            <a:solidFill>
              <a:srgbClr val="0000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22" name=""/>
          <p:cNvSpPr/>
          <p:nvPr/>
        </p:nvSpPr>
        <p:spPr>
          <a:xfrm>
            <a:off x="7470720" y="3222720"/>
            <a:ext cx="1800" cy="15840"/>
          </a:xfrm>
          <a:custGeom>
            <a:avLst/>
            <a:gdLst/>
            <a:ahLst/>
            <a:rect l="l" t="t" r="r" b="b"/>
            <a:pathLst>
              <a:path w="0" h="10">
                <a:moveTo>
                  <a:pt x="0" y="0"/>
                </a:moveTo>
                <a:lnTo>
                  <a:pt x="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23" name=""/>
          <p:cNvSpPr/>
          <p:nvPr/>
        </p:nvSpPr>
        <p:spPr>
          <a:xfrm>
            <a:off x="7470720" y="3222720"/>
            <a:ext cx="1800" cy="15840"/>
          </a:xfrm>
          <a:custGeom>
            <a:avLst/>
            <a:gdLst/>
            <a:ahLst/>
            <a:rect l="l" t="t" r="r" b="b"/>
            <a:pathLst>
              <a:path w="0" h="10">
                <a:moveTo>
                  <a:pt x="0" y="0"/>
                </a:moveTo>
                <a:lnTo>
                  <a:pt x="0" y="0"/>
                </a:lnTo>
                <a:lnTo>
                  <a:pt x="0" y="10"/>
                </a:lnTo>
                <a:lnTo>
                  <a:pt x="0" y="0"/>
                </a:lnTo>
              </a:path>
            </a:pathLst>
          </a:custGeom>
          <a:noFill/>
          <a:ln cap="rnd" w="3240">
            <a:solidFill>
              <a:srgbClr val="0000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24" name=""/>
          <p:cNvSpPr/>
          <p:nvPr/>
        </p:nvSpPr>
        <p:spPr>
          <a:xfrm>
            <a:off x="7110360" y="4465800"/>
            <a:ext cx="1800" cy="14040"/>
          </a:xfrm>
          <a:custGeom>
            <a:avLst/>
            <a:gdLst/>
            <a:ahLst/>
            <a:rect l="l" t="t" r="r" b="b"/>
            <a:pathLst>
              <a:path w="0" h="9">
                <a:moveTo>
                  <a:pt x="0" y="0"/>
                </a:moveTo>
                <a:lnTo>
                  <a:pt x="0" y="0"/>
                </a:lnTo>
                <a:lnTo>
                  <a:pt x="0" y="9"/>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25" name=""/>
          <p:cNvSpPr/>
          <p:nvPr/>
        </p:nvSpPr>
        <p:spPr>
          <a:xfrm>
            <a:off x="7110360" y="4465800"/>
            <a:ext cx="1800" cy="14040"/>
          </a:xfrm>
          <a:custGeom>
            <a:avLst/>
            <a:gdLst/>
            <a:ahLst/>
            <a:rect l="l" t="t" r="r" b="b"/>
            <a:pathLst>
              <a:path w="0" h="9">
                <a:moveTo>
                  <a:pt x="0" y="0"/>
                </a:moveTo>
                <a:lnTo>
                  <a:pt x="0" y="0"/>
                </a:lnTo>
                <a:lnTo>
                  <a:pt x="0" y="9"/>
                </a:lnTo>
                <a:lnTo>
                  <a:pt x="0" y="0"/>
                </a:lnTo>
              </a:path>
            </a:pathLst>
          </a:custGeom>
          <a:noFill/>
          <a:ln cap="rnd" w="3240">
            <a:solidFill>
              <a:srgbClr val="0000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26" name=""/>
          <p:cNvSpPr/>
          <p:nvPr/>
        </p:nvSpPr>
        <p:spPr>
          <a:xfrm>
            <a:off x="6989760" y="4581360"/>
            <a:ext cx="15840" cy="16200"/>
          </a:xfrm>
          <a:custGeom>
            <a:avLst/>
            <a:gdLst/>
            <a:ahLst/>
            <a:rect l="l" t="t" r="r" b="b"/>
            <a:pathLst>
              <a:path w="10" h="10">
                <a:moveTo>
                  <a:pt x="10" y="0"/>
                </a:moveTo>
                <a:lnTo>
                  <a:pt x="10" y="0"/>
                </a:lnTo>
                <a:lnTo>
                  <a:pt x="10" y="10"/>
                </a:lnTo>
                <a:lnTo>
                  <a:pt x="0" y="0"/>
                </a:lnTo>
                <a:lnTo>
                  <a:pt x="1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27" name=""/>
          <p:cNvSpPr/>
          <p:nvPr/>
        </p:nvSpPr>
        <p:spPr>
          <a:xfrm>
            <a:off x="6989760" y="4581360"/>
            <a:ext cx="15840" cy="16200"/>
          </a:xfrm>
          <a:custGeom>
            <a:avLst/>
            <a:gdLst/>
            <a:ahLst/>
            <a:rect l="l" t="t" r="r" b="b"/>
            <a:pathLst>
              <a:path w="10" h="10">
                <a:moveTo>
                  <a:pt x="10" y="0"/>
                </a:moveTo>
                <a:lnTo>
                  <a:pt x="10" y="0"/>
                </a:lnTo>
                <a:lnTo>
                  <a:pt x="10" y="10"/>
                </a:lnTo>
                <a:lnTo>
                  <a:pt x="0" y="0"/>
                </a:lnTo>
                <a:lnTo>
                  <a:pt x="10" y="0"/>
                </a:lnTo>
              </a:path>
            </a:pathLst>
          </a:custGeom>
          <a:noFill/>
          <a:ln cap="rnd" w="3240">
            <a:solidFill>
              <a:srgbClr val="0000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28" name=""/>
          <p:cNvSpPr/>
          <p:nvPr/>
        </p:nvSpPr>
        <p:spPr>
          <a:xfrm>
            <a:off x="6972480" y="4581360"/>
            <a:ext cx="17280" cy="33480"/>
          </a:xfrm>
          <a:custGeom>
            <a:avLst/>
            <a:gdLst/>
            <a:ahLst/>
            <a:rect l="l" t="t" r="r" b="b"/>
            <a:pathLst>
              <a:path w="11" h="21">
                <a:moveTo>
                  <a:pt x="11" y="0"/>
                </a:moveTo>
                <a:lnTo>
                  <a:pt x="11" y="10"/>
                </a:lnTo>
                <a:lnTo>
                  <a:pt x="0" y="10"/>
                </a:lnTo>
                <a:lnTo>
                  <a:pt x="0" y="21"/>
                </a:lnTo>
                <a:lnTo>
                  <a:pt x="0" y="10"/>
                </a:lnTo>
                <a:lnTo>
                  <a:pt x="11"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29" name=""/>
          <p:cNvSpPr/>
          <p:nvPr/>
        </p:nvSpPr>
        <p:spPr>
          <a:xfrm>
            <a:off x="6972480" y="4581360"/>
            <a:ext cx="17280" cy="33480"/>
          </a:xfrm>
          <a:custGeom>
            <a:avLst/>
            <a:gdLst/>
            <a:ahLst/>
            <a:rect l="l" t="t" r="r" b="b"/>
            <a:pathLst>
              <a:path w="11" h="21">
                <a:moveTo>
                  <a:pt x="11" y="0"/>
                </a:moveTo>
                <a:lnTo>
                  <a:pt x="11" y="10"/>
                </a:lnTo>
                <a:lnTo>
                  <a:pt x="0" y="10"/>
                </a:lnTo>
                <a:lnTo>
                  <a:pt x="0" y="21"/>
                </a:lnTo>
                <a:lnTo>
                  <a:pt x="0" y="10"/>
                </a:lnTo>
                <a:lnTo>
                  <a:pt x="11" y="0"/>
                </a:lnTo>
              </a:path>
            </a:pathLst>
          </a:custGeom>
          <a:noFill/>
          <a:ln cap="rnd" w="3240">
            <a:solidFill>
              <a:srgbClr val="0000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30" name=""/>
          <p:cNvSpPr/>
          <p:nvPr/>
        </p:nvSpPr>
        <p:spPr>
          <a:xfrm>
            <a:off x="6956280" y="4618080"/>
            <a:ext cx="16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1" name=""/>
          <p:cNvSpPr/>
          <p:nvPr/>
        </p:nvSpPr>
        <p:spPr>
          <a:xfrm>
            <a:off x="6956280" y="4618080"/>
            <a:ext cx="16200" cy="9360"/>
          </a:xfrm>
          <a:prstGeom prst="rect">
            <a:avLst/>
          </a:prstGeom>
          <a:noFill/>
          <a:ln cap="rnd" w="3240">
            <a:solidFill>
              <a:srgbClr val="0000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2" name=""/>
          <p:cNvSpPr/>
          <p:nvPr/>
        </p:nvSpPr>
        <p:spPr>
          <a:xfrm>
            <a:off x="6939000" y="4627440"/>
            <a:ext cx="1440" cy="15840"/>
          </a:xfrm>
          <a:custGeom>
            <a:avLst/>
            <a:gdLst/>
            <a:ahLst/>
            <a:rect l="l" t="t" r="r" b="b"/>
            <a:pathLst>
              <a:path w="0" h="10">
                <a:moveTo>
                  <a:pt x="0" y="0"/>
                </a:moveTo>
                <a:lnTo>
                  <a:pt x="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33" name=""/>
          <p:cNvSpPr/>
          <p:nvPr/>
        </p:nvSpPr>
        <p:spPr>
          <a:xfrm>
            <a:off x="6939000" y="4627440"/>
            <a:ext cx="1440" cy="15840"/>
          </a:xfrm>
          <a:custGeom>
            <a:avLst/>
            <a:gdLst/>
            <a:ahLst/>
            <a:rect l="l" t="t" r="r" b="b"/>
            <a:pathLst>
              <a:path w="0" h="10">
                <a:moveTo>
                  <a:pt x="0" y="0"/>
                </a:moveTo>
                <a:lnTo>
                  <a:pt x="0" y="0"/>
                </a:lnTo>
                <a:lnTo>
                  <a:pt x="0" y="10"/>
                </a:lnTo>
                <a:lnTo>
                  <a:pt x="0" y="0"/>
                </a:lnTo>
              </a:path>
            </a:pathLst>
          </a:custGeom>
          <a:noFill/>
          <a:ln cap="rnd" w="3240">
            <a:solidFill>
              <a:srgbClr val="0000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34" name=""/>
          <p:cNvSpPr/>
          <p:nvPr/>
        </p:nvSpPr>
        <p:spPr>
          <a:xfrm>
            <a:off x="6904080" y="4643280"/>
            <a:ext cx="15840" cy="33480"/>
          </a:xfrm>
          <a:custGeom>
            <a:avLst/>
            <a:gdLst/>
            <a:ahLst/>
            <a:rect l="l" t="t" r="r" b="b"/>
            <a:pathLst>
              <a:path w="10" h="21">
                <a:moveTo>
                  <a:pt x="10" y="0"/>
                </a:moveTo>
                <a:lnTo>
                  <a:pt x="10" y="11"/>
                </a:lnTo>
                <a:lnTo>
                  <a:pt x="10" y="21"/>
                </a:lnTo>
                <a:lnTo>
                  <a:pt x="0" y="21"/>
                </a:lnTo>
                <a:lnTo>
                  <a:pt x="0" y="11"/>
                </a:lnTo>
                <a:lnTo>
                  <a:pt x="1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35" name=""/>
          <p:cNvSpPr/>
          <p:nvPr/>
        </p:nvSpPr>
        <p:spPr>
          <a:xfrm>
            <a:off x="6904080" y="4643280"/>
            <a:ext cx="15840" cy="33480"/>
          </a:xfrm>
          <a:custGeom>
            <a:avLst/>
            <a:gdLst/>
            <a:ahLst/>
            <a:rect l="l" t="t" r="r" b="b"/>
            <a:pathLst>
              <a:path w="10" h="21">
                <a:moveTo>
                  <a:pt x="10" y="0"/>
                </a:moveTo>
                <a:lnTo>
                  <a:pt x="10" y="11"/>
                </a:lnTo>
                <a:lnTo>
                  <a:pt x="10" y="21"/>
                </a:lnTo>
                <a:lnTo>
                  <a:pt x="0" y="21"/>
                </a:lnTo>
                <a:lnTo>
                  <a:pt x="0" y="11"/>
                </a:lnTo>
                <a:lnTo>
                  <a:pt x="10" y="0"/>
                </a:lnTo>
              </a:path>
            </a:pathLst>
          </a:custGeom>
          <a:noFill/>
          <a:ln cap="rnd" w="3240">
            <a:solidFill>
              <a:srgbClr val="0000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36" name=""/>
          <p:cNvSpPr/>
          <p:nvPr/>
        </p:nvSpPr>
        <p:spPr>
          <a:xfrm>
            <a:off x="6886440" y="4676760"/>
            <a:ext cx="17640" cy="17640"/>
          </a:xfrm>
          <a:custGeom>
            <a:avLst/>
            <a:gdLst/>
            <a:ahLst/>
            <a:rect l="l" t="t" r="r" b="b"/>
            <a:pathLst>
              <a:path w="11" h="11">
                <a:moveTo>
                  <a:pt x="0" y="0"/>
                </a:moveTo>
                <a:lnTo>
                  <a:pt x="11" y="0"/>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37" name=""/>
          <p:cNvSpPr/>
          <p:nvPr/>
        </p:nvSpPr>
        <p:spPr>
          <a:xfrm>
            <a:off x="6886440" y="4676760"/>
            <a:ext cx="17640" cy="17640"/>
          </a:xfrm>
          <a:custGeom>
            <a:avLst/>
            <a:gdLst/>
            <a:ahLst/>
            <a:rect l="l" t="t" r="r" b="b"/>
            <a:pathLst>
              <a:path w="11" h="11">
                <a:moveTo>
                  <a:pt x="0" y="0"/>
                </a:moveTo>
                <a:lnTo>
                  <a:pt x="11" y="0"/>
                </a:lnTo>
                <a:lnTo>
                  <a:pt x="0" y="11"/>
                </a:lnTo>
                <a:lnTo>
                  <a:pt x="0" y="0"/>
                </a:lnTo>
              </a:path>
            </a:pathLst>
          </a:custGeom>
          <a:noFill/>
          <a:ln cap="rnd" w="3240">
            <a:solidFill>
              <a:srgbClr val="0000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38" name=""/>
          <p:cNvSpPr/>
          <p:nvPr/>
        </p:nvSpPr>
        <p:spPr>
          <a:xfrm>
            <a:off x="6873840" y="471312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9" name=""/>
          <p:cNvSpPr/>
          <p:nvPr/>
        </p:nvSpPr>
        <p:spPr>
          <a:xfrm>
            <a:off x="6873840" y="4713120"/>
            <a:ext cx="1800" cy="1800"/>
          </a:xfrm>
          <a:prstGeom prst="line">
            <a:avLst/>
          </a:prstGeom>
          <a:ln cap="rnd" w="32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0" name=""/>
          <p:cNvSpPr/>
          <p:nvPr/>
        </p:nvSpPr>
        <p:spPr>
          <a:xfrm>
            <a:off x="6405480" y="4987800"/>
            <a:ext cx="15840" cy="180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1" name=""/>
          <p:cNvSpPr/>
          <p:nvPr/>
        </p:nvSpPr>
        <p:spPr>
          <a:xfrm>
            <a:off x="6405480" y="4987800"/>
            <a:ext cx="15840" cy="1800"/>
          </a:xfrm>
          <a:custGeom>
            <a:avLst/>
            <a:gdLst/>
            <a:ahLst/>
            <a:rect l="l" t="t" r="r" b="b"/>
            <a:pathLst>
              <a:path w="10" h="0">
                <a:moveTo>
                  <a:pt x="10" y="0"/>
                </a:moveTo>
                <a:lnTo>
                  <a:pt x="10" y="0"/>
                </a:lnTo>
                <a:lnTo>
                  <a:pt x="0" y="0"/>
                </a:lnTo>
                <a:lnTo>
                  <a:pt x="10" y="0"/>
                </a:lnTo>
              </a:path>
            </a:pathLst>
          </a:custGeom>
          <a:noFill/>
          <a:ln cap="rnd" w="3240">
            <a:solidFill>
              <a:srgbClr val="0000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2" name=""/>
          <p:cNvSpPr/>
          <p:nvPr/>
        </p:nvSpPr>
        <p:spPr>
          <a:xfrm>
            <a:off x="6405480" y="4991040"/>
            <a:ext cx="3240" cy="1800"/>
          </a:xfrm>
          <a:prstGeom prst="rect">
            <a:avLst/>
          </a:prstGeom>
          <a:solidFill>
            <a:srgbClr val="000000"/>
          </a:solidFill>
          <a:ln cap="rnd" w="32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3" name=""/>
          <p:cNvSpPr/>
          <p:nvPr/>
        </p:nvSpPr>
        <p:spPr>
          <a:xfrm>
            <a:off x="6353280" y="5019840"/>
            <a:ext cx="15840" cy="144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4" name=""/>
          <p:cNvSpPr/>
          <p:nvPr/>
        </p:nvSpPr>
        <p:spPr>
          <a:xfrm>
            <a:off x="6353280" y="5019840"/>
            <a:ext cx="15840" cy="1440"/>
          </a:xfrm>
          <a:custGeom>
            <a:avLst/>
            <a:gdLst/>
            <a:ahLst/>
            <a:rect l="l" t="t" r="r" b="b"/>
            <a:pathLst>
              <a:path w="10" h="0">
                <a:moveTo>
                  <a:pt x="10" y="0"/>
                </a:moveTo>
                <a:lnTo>
                  <a:pt x="10" y="0"/>
                </a:lnTo>
                <a:lnTo>
                  <a:pt x="0" y="0"/>
                </a:lnTo>
                <a:lnTo>
                  <a:pt x="10" y="0"/>
                </a:lnTo>
              </a:path>
            </a:pathLst>
          </a:custGeom>
          <a:noFill/>
          <a:ln cap="rnd" w="3240">
            <a:solidFill>
              <a:srgbClr val="0000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5" name=""/>
          <p:cNvSpPr/>
          <p:nvPr/>
        </p:nvSpPr>
        <p:spPr>
          <a:xfrm>
            <a:off x="6338880" y="5019840"/>
            <a:ext cx="14400" cy="33120"/>
          </a:xfrm>
          <a:custGeom>
            <a:avLst/>
            <a:gdLst/>
            <a:ahLst/>
            <a:rect l="l" t="t" r="r" b="b"/>
            <a:pathLst>
              <a:path w="9" h="21">
                <a:moveTo>
                  <a:pt x="9" y="0"/>
                </a:moveTo>
                <a:lnTo>
                  <a:pt x="9" y="11"/>
                </a:lnTo>
                <a:lnTo>
                  <a:pt x="9" y="21"/>
                </a:lnTo>
                <a:lnTo>
                  <a:pt x="0" y="11"/>
                </a:lnTo>
                <a:lnTo>
                  <a:pt x="9"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46" name=""/>
          <p:cNvSpPr/>
          <p:nvPr/>
        </p:nvSpPr>
        <p:spPr>
          <a:xfrm>
            <a:off x="6338880" y="5019840"/>
            <a:ext cx="14400" cy="33120"/>
          </a:xfrm>
          <a:custGeom>
            <a:avLst/>
            <a:gdLst/>
            <a:ahLst/>
            <a:rect l="l" t="t" r="r" b="b"/>
            <a:pathLst>
              <a:path w="9" h="21">
                <a:moveTo>
                  <a:pt x="9" y="0"/>
                </a:moveTo>
                <a:lnTo>
                  <a:pt x="9" y="11"/>
                </a:lnTo>
                <a:lnTo>
                  <a:pt x="9" y="21"/>
                </a:lnTo>
                <a:lnTo>
                  <a:pt x="0" y="11"/>
                </a:lnTo>
                <a:lnTo>
                  <a:pt x="9" y="0"/>
                </a:lnTo>
              </a:path>
            </a:pathLst>
          </a:custGeom>
          <a:noFill/>
          <a:ln cap="rnd" w="3240">
            <a:solidFill>
              <a:srgbClr val="0000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47" name=""/>
          <p:cNvSpPr/>
          <p:nvPr/>
        </p:nvSpPr>
        <p:spPr>
          <a:xfrm>
            <a:off x="6338880" y="5040360"/>
            <a:ext cx="1440" cy="1440"/>
          </a:xfrm>
          <a:prstGeom prst="rect">
            <a:avLst/>
          </a:prstGeom>
          <a:solidFill>
            <a:srgbClr val="000000"/>
          </a:solidFill>
          <a:ln cap="rnd" w="3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8" name=""/>
          <p:cNvSpPr/>
          <p:nvPr/>
        </p:nvSpPr>
        <p:spPr>
          <a:xfrm>
            <a:off x="7899480" y="3730680"/>
            <a:ext cx="1440" cy="15840"/>
          </a:xfrm>
          <a:custGeom>
            <a:avLst/>
            <a:gdLst/>
            <a:ahLst/>
            <a:rect l="l" t="t" r="r" b="b"/>
            <a:pathLst>
              <a:path w="0" h="10">
                <a:moveTo>
                  <a:pt x="0" y="0"/>
                </a:move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49" name=""/>
          <p:cNvSpPr/>
          <p:nvPr/>
        </p:nvSpPr>
        <p:spPr>
          <a:xfrm>
            <a:off x="7899480" y="3730680"/>
            <a:ext cx="1440" cy="15840"/>
          </a:xfrm>
          <a:custGeom>
            <a:avLst/>
            <a:gdLst/>
            <a:ahLst/>
            <a:rect l="l" t="t" r="r" b="b"/>
            <a:pathLst>
              <a:path w="0" h="10">
                <a:moveTo>
                  <a:pt x="0" y="0"/>
                </a:moveTo>
                <a:lnTo>
                  <a:pt x="0" y="10"/>
                </a:lnTo>
                <a:lnTo>
                  <a:pt x="0" y="0"/>
                </a:lnTo>
              </a:path>
            </a:pathLst>
          </a:custGeom>
          <a:noFill/>
          <a:ln cap="rnd" w="3240">
            <a:solidFill>
              <a:srgbClr val="006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50" name=""/>
          <p:cNvSpPr/>
          <p:nvPr/>
        </p:nvSpPr>
        <p:spPr>
          <a:xfrm>
            <a:off x="7845480" y="3763800"/>
            <a:ext cx="36360" cy="32040"/>
          </a:xfrm>
          <a:custGeom>
            <a:avLst/>
            <a:gdLst/>
            <a:ahLst/>
            <a:rect l="l" t="t" r="r" b="b"/>
            <a:pathLst>
              <a:path w="23" h="20">
                <a:moveTo>
                  <a:pt x="23" y="0"/>
                </a:moveTo>
                <a:lnTo>
                  <a:pt x="23" y="0"/>
                </a:lnTo>
                <a:lnTo>
                  <a:pt x="23" y="10"/>
                </a:lnTo>
                <a:lnTo>
                  <a:pt x="13" y="10"/>
                </a:lnTo>
                <a:lnTo>
                  <a:pt x="0" y="10"/>
                </a:lnTo>
                <a:lnTo>
                  <a:pt x="0" y="20"/>
                </a:lnTo>
                <a:lnTo>
                  <a:pt x="13" y="20"/>
                </a:lnTo>
                <a:lnTo>
                  <a:pt x="0" y="20"/>
                </a:lnTo>
                <a:lnTo>
                  <a:pt x="0" y="10"/>
                </a:lnTo>
                <a:lnTo>
                  <a:pt x="0" y="0"/>
                </a:lnTo>
                <a:lnTo>
                  <a:pt x="13" y="0"/>
                </a:lnTo>
                <a:lnTo>
                  <a:pt x="23"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51" name=""/>
          <p:cNvSpPr/>
          <p:nvPr/>
        </p:nvSpPr>
        <p:spPr>
          <a:xfrm>
            <a:off x="7845480" y="3763800"/>
            <a:ext cx="36360" cy="32040"/>
          </a:xfrm>
          <a:custGeom>
            <a:avLst/>
            <a:gdLst/>
            <a:ahLst/>
            <a:rect l="l" t="t" r="r" b="b"/>
            <a:pathLst>
              <a:path w="23" h="20">
                <a:moveTo>
                  <a:pt x="23" y="0"/>
                </a:moveTo>
                <a:lnTo>
                  <a:pt x="23" y="0"/>
                </a:lnTo>
                <a:lnTo>
                  <a:pt x="23" y="10"/>
                </a:lnTo>
                <a:lnTo>
                  <a:pt x="13" y="10"/>
                </a:lnTo>
                <a:lnTo>
                  <a:pt x="0" y="10"/>
                </a:lnTo>
                <a:lnTo>
                  <a:pt x="0" y="20"/>
                </a:lnTo>
                <a:lnTo>
                  <a:pt x="13" y="20"/>
                </a:lnTo>
                <a:lnTo>
                  <a:pt x="0" y="20"/>
                </a:lnTo>
                <a:lnTo>
                  <a:pt x="0" y="10"/>
                </a:lnTo>
                <a:lnTo>
                  <a:pt x="0" y="0"/>
                </a:lnTo>
                <a:lnTo>
                  <a:pt x="13" y="0"/>
                </a:lnTo>
                <a:lnTo>
                  <a:pt x="23" y="0"/>
                </a:lnTo>
              </a:path>
            </a:pathLst>
          </a:custGeom>
          <a:noFill/>
          <a:ln cap="rnd" w="3240">
            <a:solidFill>
              <a:srgbClr val="006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52" name=""/>
          <p:cNvSpPr/>
          <p:nvPr/>
        </p:nvSpPr>
        <p:spPr>
          <a:xfrm>
            <a:off x="6989760" y="4581360"/>
            <a:ext cx="15840" cy="180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3" name=""/>
          <p:cNvSpPr/>
          <p:nvPr/>
        </p:nvSpPr>
        <p:spPr>
          <a:xfrm>
            <a:off x="6989760" y="4581360"/>
            <a:ext cx="15840" cy="1800"/>
          </a:xfrm>
          <a:custGeom>
            <a:avLst/>
            <a:gdLst/>
            <a:ahLst/>
            <a:rect l="l" t="t" r="r" b="b"/>
            <a:pathLst>
              <a:path w="10" h="0">
                <a:moveTo>
                  <a:pt x="10" y="0"/>
                </a:moveTo>
                <a:lnTo>
                  <a:pt x="10" y="0"/>
                </a:lnTo>
                <a:lnTo>
                  <a:pt x="0" y="0"/>
                </a:lnTo>
                <a:lnTo>
                  <a:pt x="10" y="0"/>
                </a:lnTo>
              </a:path>
            </a:pathLst>
          </a:custGeom>
          <a:noFill/>
          <a:ln cap="rnd" w="3240">
            <a:solidFill>
              <a:srgbClr val="006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4" name=""/>
          <p:cNvSpPr/>
          <p:nvPr/>
        </p:nvSpPr>
        <p:spPr>
          <a:xfrm>
            <a:off x="6989760" y="4581360"/>
            <a:ext cx="1440" cy="16200"/>
          </a:xfrm>
          <a:custGeom>
            <a:avLst/>
            <a:gdLst/>
            <a:ahLst/>
            <a:rect l="l" t="t" r="r" b="b"/>
            <a:pathLst>
              <a:path w="0" h="10">
                <a:moveTo>
                  <a:pt x="0" y="0"/>
                </a:moveTo>
                <a:lnTo>
                  <a:pt x="0" y="1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55" name=""/>
          <p:cNvSpPr/>
          <p:nvPr/>
        </p:nvSpPr>
        <p:spPr>
          <a:xfrm>
            <a:off x="6989760" y="4581360"/>
            <a:ext cx="1440" cy="16200"/>
          </a:xfrm>
          <a:custGeom>
            <a:avLst/>
            <a:gdLst/>
            <a:ahLst/>
            <a:rect l="l" t="t" r="r" b="b"/>
            <a:pathLst>
              <a:path w="0" h="10">
                <a:moveTo>
                  <a:pt x="0" y="0"/>
                </a:moveTo>
                <a:lnTo>
                  <a:pt x="0" y="10"/>
                </a:lnTo>
                <a:lnTo>
                  <a:pt x="0" y="0"/>
                </a:lnTo>
              </a:path>
            </a:pathLst>
          </a:custGeom>
          <a:noFill/>
          <a:ln cap="rnd" w="3240">
            <a:solidFill>
              <a:srgbClr val="006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56" name=""/>
          <p:cNvSpPr/>
          <p:nvPr/>
        </p:nvSpPr>
        <p:spPr>
          <a:xfrm>
            <a:off x="6972480" y="4597560"/>
            <a:ext cx="2880" cy="1440"/>
          </a:xfrm>
          <a:prstGeom prst="rect">
            <a:avLst/>
          </a:prstGeom>
          <a:solidFill>
            <a:srgbClr val="000000"/>
          </a:solidFill>
          <a:ln cap="rnd" w="3240">
            <a:solidFill>
              <a:srgbClr val="006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7" name=""/>
          <p:cNvSpPr/>
          <p:nvPr/>
        </p:nvSpPr>
        <p:spPr>
          <a:xfrm>
            <a:off x="6956280" y="4618080"/>
            <a:ext cx="16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8" name=""/>
          <p:cNvSpPr/>
          <p:nvPr/>
        </p:nvSpPr>
        <p:spPr>
          <a:xfrm>
            <a:off x="6956280" y="4618080"/>
            <a:ext cx="16200" cy="9360"/>
          </a:xfrm>
          <a:prstGeom prst="rect">
            <a:avLst/>
          </a:prstGeom>
          <a:noFill/>
          <a:ln cap="rnd" w="3240">
            <a:solidFill>
              <a:srgbClr val="006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9" name=""/>
          <p:cNvSpPr/>
          <p:nvPr/>
        </p:nvSpPr>
        <p:spPr>
          <a:xfrm>
            <a:off x="6939000" y="4627440"/>
            <a:ext cx="1440" cy="15840"/>
          </a:xfrm>
          <a:custGeom>
            <a:avLst/>
            <a:gdLst/>
            <a:ahLst/>
            <a:rect l="l" t="t" r="r" b="b"/>
            <a:pathLst>
              <a:path w="0" h="10">
                <a:moveTo>
                  <a:pt x="0" y="0"/>
                </a:moveTo>
                <a:lnTo>
                  <a:pt x="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0" name=""/>
          <p:cNvSpPr/>
          <p:nvPr/>
        </p:nvSpPr>
        <p:spPr>
          <a:xfrm>
            <a:off x="6939000" y="4627440"/>
            <a:ext cx="1440" cy="15840"/>
          </a:xfrm>
          <a:custGeom>
            <a:avLst/>
            <a:gdLst/>
            <a:ahLst/>
            <a:rect l="l" t="t" r="r" b="b"/>
            <a:pathLst>
              <a:path w="0" h="10">
                <a:moveTo>
                  <a:pt x="0" y="0"/>
                </a:moveTo>
                <a:lnTo>
                  <a:pt x="0" y="0"/>
                </a:lnTo>
                <a:lnTo>
                  <a:pt x="0" y="10"/>
                </a:lnTo>
                <a:lnTo>
                  <a:pt x="0" y="0"/>
                </a:lnTo>
              </a:path>
            </a:pathLst>
          </a:custGeom>
          <a:noFill/>
          <a:ln cap="rnd" w="3240">
            <a:solidFill>
              <a:srgbClr val="006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1" name=""/>
          <p:cNvSpPr/>
          <p:nvPr/>
        </p:nvSpPr>
        <p:spPr>
          <a:xfrm>
            <a:off x="6904080" y="4660920"/>
            <a:ext cx="15840" cy="15840"/>
          </a:xfrm>
          <a:custGeom>
            <a:avLst/>
            <a:gdLst/>
            <a:ahLst/>
            <a:rect l="l" t="t" r="r" b="b"/>
            <a:pathLst>
              <a:path w="10" h="10">
                <a:moveTo>
                  <a:pt x="10" y="0"/>
                </a:moveTo>
                <a:lnTo>
                  <a:pt x="10" y="0"/>
                </a:lnTo>
                <a:lnTo>
                  <a:pt x="10" y="10"/>
                </a:lnTo>
                <a:lnTo>
                  <a:pt x="0"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2" name=""/>
          <p:cNvSpPr/>
          <p:nvPr/>
        </p:nvSpPr>
        <p:spPr>
          <a:xfrm>
            <a:off x="6904080" y="4660920"/>
            <a:ext cx="15840" cy="15840"/>
          </a:xfrm>
          <a:custGeom>
            <a:avLst/>
            <a:gdLst/>
            <a:ahLst/>
            <a:rect l="l" t="t" r="r" b="b"/>
            <a:pathLst>
              <a:path w="10" h="10">
                <a:moveTo>
                  <a:pt x="10" y="0"/>
                </a:moveTo>
                <a:lnTo>
                  <a:pt x="10" y="0"/>
                </a:lnTo>
                <a:lnTo>
                  <a:pt x="10" y="10"/>
                </a:lnTo>
                <a:lnTo>
                  <a:pt x="0" y="0"/>
                </a:lnTo>
                <a:lnTo>
                  <a:pt x="10" y="0"/>
                </a:lnTo>
              </a:path>
            </a:pathLst>
          </a:custGeom>
          <a:noFill/>
          <a:ln cap="rnd" w="3240">
            <a:solidFill>
              <a:srgbClr val="006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3" name=""/>
          <p:cNvSpPr/>
          <p:nvPr/>
        </p:nvSpPr>
        <p:spPr>
          <a:xfrm>
            <a:off x="6886440" y="4676760"/>
            <a:ext cx="17640" cy="17640"/>
          </a:xfrm>
          <a:custGeom>
            <a:avLst/>
            <a:gdLst/>
            <a:ahLst/>
            <a:rect l="l" t="t" r="r" b="b"/>
            <a:pathLst>
              <a:path w="11" h="11">
                <a:moveTo>
                  <a:pt x="0" y="0"/>
                </a:moveTo>
                <a:lnTo>
                  <a:pt x="11" y="0"/>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64" name=""/>
          <p:cNvSpPr/>
          <p:nvPr/>
        </p:nvSpPr>
        <p:spPr>
          <a:xfrm>
            <a:off x="6886440" y="4676760"/>
            <a:ext cx="17640" cy="17640"/>
          </a:xfrm>
          <a:custGeom>
            <a:avLst/>
            <a:gdLst/>
            <a:ahLst/>
            <a:rect l="l" t="t" r="r" b="b"/>
            <a:pathLst>
              <a:path w="11" h="11">
                <a:moveTo>
                  <a:pt x="0" y="0"/>
                </a:moveTo>
                <a:lnTo>
                  <a:pt x="11" y="0"/>
                </a:lnTo>
                <a:lnTo>
                  <a:pt x="0" y="11"/>
                </a:lnTo>
                <a:lnTo>
                  <a:pt x="0" y="0"/>
                </a:lnTo>
              </a:path>
            </a:pathLst>
          </a:custGeom>
          <a:noFill/>
          <a:ln cap="rnd" w="3240">
            <a:solidFill>
              <a:srgbClr val="006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65" name=""/>
          <p:cNvSpPr/>
          <p:nvPr/>
        </p:nvSpPr>
        <p:spPr>
          <a:xfrm>
            <a:off x="6372360" y="5022720"/>
            <a:ext cx="2880" cy="1800"/>
          </a:xfrm>
          <a:prstGeom prst="rect">
            <a:avLst/>
          </a:prstGeom>
          <a:solidFill>
            <a:srgbClr val="000000"/>
          </a:solidFill>
          <a:ln cap="rnd" w="3240">
            <a:solidFill>
              <a:srgbClr val="006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6" name=""/>
          <p:cNvSpPr/>
          <p:nvPr/>
        </p:nvSpPr>
        <p:spPr>
          <a:xfrm>
            <a:off x="6338880" y="5037120"/>
            <a:ext cx="14400" cy="15840"/>
          </a:xfrm>
          <a:custGeom>
            <a:avLst/>
            <a:gdLst/>
            <a:ahLst/>
            <a:rect l="l" t="t" r="r" b="b"/>
            <a:pathLst>
              <a:path w="9" h="10">
                <a:moveTo>
                  <a:pt x="9" y="0"/>
                </a:moveTo>
                <a:lnTo>
                  <a:pt x="9" y="0"/>
                </a:lnTo>
                <a:lnTo>
                  <a:pt x="9" y="10"/>
                </a:lnTo>
                <a:lnTo>
                  <a:pt x="0" y="0"/>
                </a:lnTo>
                <a:lnTo>
                  <a:pt x="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7" name=""/>
          <p:cNvSpPr/>
          <p:nvPr/>
        </p:nvSpPr>
        <p:spPr>
          <a:xfrm>
            <a:off x="6338880" y="5037120"/>
            <a:ext cx="14400" cy="15840"/>
          </a:xfrm>
          <a:custGeom>
            <a:avLst/>
            <a:gdLst/>
            <a:ahLst/>
            <a:rect l="l" t="t" r="r" b="b"/>
            <a:pathLst>
              <a:path w="9" h="10">
                <a:moveTo>
                  <a:pt x="9" y="0"/>
                </a:moveTo>
                <a:lnTo>
                  <a:pt x="9" y="0"/>
                </a:lnTo>
                <a:lnTo>
                  <a:pt x="9" y="10"/>
                </a:lnTo>
                <a:lnTo>
                  <a:pt x="0" y="0"/>
                </a:lnTo>
                <a:lnTo>
                  <a:pt x="9" y="0"/>
                </a:lnTo>
              </a:path>
            </a:pathLst>
          </a:custGeom>
          <a:noFill/>
          <a:ln cap="rnd" w="3240">
            <a:solidFill>
              <a:srgbClr val="006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8" name=""/>
          <p:cNvSpPr/>
          <p:nvPr/>
        </p:nvSpPr>
        <p:spPr>
          <a:xfrm>
            <a:off x="7899480" y="3730680"/>
            <a:ext cx="1440" cy="15840"/>
          </a:xfrm>
          <a:custGeom>
            <a:avLst/>
            <a:gdLst/>
            <a:ahLst/>
            <a:rect l="l" t="t" r="r" b="b"/>
            <a:pathLst>
              <a:path w="0" h="10">
                <a:moveTo>
                  <a:pt x="0" y="0"/>
                </a:move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9" name=""/>
          <p:cNvSpPr/>
          <p:nvPr/>
        </p:nvSpPr>
        <p:spPr>
          <a:xfrm>
            <a:off x="7899480" y="3730680"/>
            <a:ext cx="1440" cy="15840"/>
          </a:xfrm>
          <a:custGeom>
            <a:avLst/>
            <a:gdLst/>
            <a:ahLst/>
            <a:rect l="l" t="t" r="r" b="b"/>
            <a:pathLst>
              <a:path w="0" h="10">
                <a:moveTo>
                  <a:pt x="0" y="0"/>
                </a:moveTo>
                <a:lnTo>
                  <a:pt x="0" y="10"/>
                </a:lnTo>
                <a:lnTo>
                  <a:pt x="0" y="0"/>
                </a:lnTo>
              </a:path>
            </a:pathLst>
          </a:custGeom>
          <a:noFill/>
          <a:ln cap="rnd" w="3240">
            <a:solidFill>
              <a:srgbClr val="00d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70" name=""/>
          <p:cNvSpPr/>
          <p:nvPr/>
        </p:nvSpPr>
        <p:spPr>
          <a:xfrm>
            <a:off x="7845480" y="3763800"/>
            <a:ext cx="36360" cy="16200"/>
          </a:xfrm>
          <a:custGeom>
            <a:avLst/>
            <a:gdLst/>
            <a:ahLst/>
            <a:rect l="l" t="t" r="r" b="b"/>
            <a:pathLst>
              <a:path w="23" h="10">
                <a:moveTo>
                  <a:pt x="23" y="0"/>
                </a:moveTo>
                <a:lnTo>
                  <a:pt x="23" y="0"/>
                </a:lnTo>
                <a:lnTo>
                  <a:pt x="23" y="10"/>
                </a:lnTo>
                <a:lnTo>
                  <a:pt x="13" y="10"/>
                </a:lnTo>
                <a:lnTo>
                  <a:pt x="0" y="10"/>
                </a:lnTo>
                <a:lnTo>
                  <a:pt x="13" y="10"/>
                </a:lnTo>
                <a:lnTo>
                  <a:pt x="13" y="0"/>
                </a:lnTo>
                <a:lnTo>
                  <a:pt x="23"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71" name=""/>
          <p:cNvSpPr/>
          <p:nvPr/>
        </p:nvSpPr>
        <p:spPr>
          <a:xfrm>
            <a:off x="7845480" y="3763800"/>
            <a:ext cx="36360" cy="16200"/>
          </a:xfrm>
          <a:custGeom>
            <a:avLst/>
            <a:gdLst/>
            <a:ahLst/>
            <a:rect l="l" t="t" r="r" b="b"/>
            <a:pathLst>
              <a:path w="23" h="10">
                <a:moveTo>
                  <a:pt x="23" y="0"/>
                </a:moveTo>
                <a:lnTo>
                  <a:pt x="23" y="0"/>
                </a:lnTo>
                <a:lnTo>
                  <a:pt x="23" y="10"/>
                </a:lnTo>
                <a:lnTo>
                  <a:pt x="13" y="10"/>
                </a:lnTo>
                <a:lnTo>
                  <a:pt x="0" y="10"/>
                </a:lnTo>
                <a:lnTo>
                  <a:pt x="13" y="10"/>
                </a:lnTo>
                <a:lnTo>
                  <a:pt x="13" y="0"/>
                </a:lnTo>
                <a:lnTo>
                  <a:pt x="23" y="0"/>
                </a:lnTo>
              </a:path>
            </a:pathLst>
          </a:custGeom>
          <a:noFill/>
          <a:ln cap="rnd" w="3240">
            <a:solidFill>
              <a:srgbClr val="00d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72" name=""/>
          <p:cNvSpPr/>
          <p:nvPr/>
        </p:nvSpPr>
        <p:spPr>
          <a:xfrm>
            <a:off x="7845480" y="3780000"/>
            <a:ext cx="1440" cy="15840"/>
          </a:xfrm>
          <a:custGeom>
            <a:avLst/>
            <a:gdLst/>
            <a:ahLst/>
            <a:rect l="l" t="t" r="r" b="b"/>
            <a:pathLst>
              <a:path w="0" h="10">
                <a:moveTo>
                  <a:pt x="0" y="0"/>
                </a:moveTo>
                <a:lnTo>
                  <a:pt x="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73" name=""/>
          <p:cNvSpPr/>
          <p:nvPr/>
        </p:nvSpPr>
        <p:spPr>
          <a:xfrm>
            <a:off x="7845480" y="3780000"/>
            <a:ext cx="1440" cy="15840"/>
          </a:xfrm>
          <a:custGeom>
            <a:avLst/>
            <a:gdLst/>
            <a:ahLst/>
            <a:rect l="l" t="t" r="r" b="b"/>
            <a:pathLst>
              <a:path w="0" h="10">
                <a:moveTo>
                  <a:pt x="0" y="0"/>
                </a:moveTo>
                <a:lnTo>
                  <a:pt x="0" y="0"/>
                </a:lnTo>
                <a:lnTo>
                  <a:pt x="0" y="10"/>
                </a:lnTo>
                <a:lnTo>
                  <a:pt x="0" y="0"/>
                </a:lnTo>
              </a:path>
            </a:pathLst>
          </a:custGeom>
          <a:noFill/>
          <a:ln cap="rnd" w="3240">
            <a:solidFill>
              <a:srgbClr val="00d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74" name=""/>
          <p:cNvSpPr/>
          <p:nvPr/>
        </p:nvSpPr>
        <p:spPr>
          <a:xfrm>
            <a:off x="6989760" y="4581360"/>
            <a:ext cx="15840" cy="180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5" name=""/>
          <p:cNvSpPr/>
          <p:nvPr/>
        </p:nvSpPr>
        <p:spPr>
          <a:xfrm>
            <a:off x="6989760" y="4581360"/>
            <a:ext cx="15840" cy="1800"/>
          </a:xfrm>
          <a:custGeom>
            <a:avLst/>
            <a:gdLst/>
            <a:ahLst/>
            <a:rect l="l" t="t" r="r" b="b"/>
            <a:pathLst>
              <a:path w="10" h="0">
                <a:moveTo>
                  <a:pt x="10" y="0"/>
                </a:moveTo>
                <a:lnTo>
                  <a:pt x="10" y="0"/>
                </a:lnTo>
                <a:lnTo>
                  <a:pt x="0" y="0"/>
                </a:lnTo>
                <a:lnTo>
                  <a:pt x="10" y="0"/>
                </a:lnTo>
              </a:path>
            </a:pathLst>
          </a:custGeom>
          <a:noFill/>
          <a:ln cap="rnd" w="3240">
            <a:solidFill>
              <a:srgbClr val="00d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6" name=""/>
          <p:cNvSpPr/>
          <p:nvPr/>
        </p:nvSpPr>
        <p:spPr>
          <a:xfrm>
            <a:off x="6989760" y="459756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7" name=""/>
          <p:cNvSpPr/>
          <p:nvPr/>
        </p:nvSpPr>
        <p:spPr>
          <a:xfrm>
            <a:off x="6989760" y="4597560"/>
            <a:ext cx="1440" cy="1440"/>
          </a:xfrm>
          <a:prstGeom prst="line">
            <a:avLst/>
          </a:prstGeom>
          <a:ln cap="rnd" w="3240">
            <a:solidFill>
              <a:srgbClr val="00d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6956280" y="4618080"/>
            <a:ext cx="16200" cy="9360"/>
          </a:xfrm>
          <a:custGeom>
            <a:avLst/>
            <a:gdLst/>
            <a:ahLst/>
            <a:rect l="l" t="t" r="r" b="b"/>
            <a:pathLst>
              <a:path w="10" h="6">
                <a:moveTo>
                  <a:pt x="0" y="0"/>
                </a:moveTo>
                <a:lnTo>
                  <a:pt x="0" y="0"/>
                </a:lnTo>
                <a:lnTo>
                  <a:pt x="10" y="0"/>
                </a:lnTo>
                <a:lnTo>
                  <a:pt x="10" y="6"/>
                </a:lnTo>
                <a:lnTo>
                  <a:pt x="0" y="6"/>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9" name=""/>
          <p:cNvSpPr/>
          <p:nvPr/>
        </p:nvSpPr>
        <p:spPr>
          <a:xfrm>
            <a:off x="6956280" y="4618080"/>
            <a:ext cx="16200" cy="9360"/>
          </a:xfrm>
          <a:custGeom>
            <a:avLst/>
            <a:gdLst/>
            <a:ahLst/>
            <a:rect l="l" t="t" r="r" b="b"/>
            <a:pathLst>
              <a:path w="10" h="6">
                <a:moveTo>
                  <a:pt x="0" y="0"/>
                </a:moveTo>
                <a:lnTo>
                  <a:pt x="0" y="0"/>
                </a:lnTo>
                <a:lnTo>
                  <a:pt x="10" y="0"/>
                </a:lnTo>
                <a:lnTo>
                  <a:pt x="10" y="6"/>
                </a:lnTo>
                <a:lnTo>
                  <a:pt x="0" y="6"/>
                </a:lnTo>
                <a:lnTo>
                  <a:pt x="0" y="0"/>
                </a:lnTo>
              </a:path>
            </a:pathLst>
          </a:custGeom>
          <a:noFill/>
          <a:ln cap="rnd" w="3240">
            <a:solidFill>
              <a:srgbClr val="00d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80" name=""/>
          <p:cNvSpPr/>
          <p:nvPr/>
        </p:nvSpPr>
        <p:spPr>
          <a:xfrm>
            <a:off x="6939000" y="4627440"/>
            <a:ext cx="1440" cy="15840"/>
          </a:xfrm>
          <a:custGeom>
            <a:avLst/>
            <a:gdLst/>
            <a:ahLst/>
            <a:rect l="l" t="t" r="r" b="b"/>
            <a:pathLst>
              <a:path w="0" h="10">
                <a:moveTo>
                  <a:pt x="0" y="0"/>
                </a:moveTo>
                <a:lnTo>
                  <a:pt x="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81" name=""/>
          <p:cNvSpPr/>
          <p:nvPr/>
        </p:nvSpPr>
        <p:spPr>
          <a:xfrm>
            <a:off x="6939000" y="4627440"/>
            <a:ext cx="1440" cy="15840"/>
          </a:xfrm>
          <a:custGeom>
            <a:avLst/>
            <a:gdLst/>
            <a:ahLst/>
            <a:rect l="l" t="t" r="r" b="b"/>
            <a:pathLst>
              <a:path w="0" h="10">
                <a:moveTo>
                  <a:pt x="0" y="0"/>
                </a:moveTo>
                <a:lnTo>
                  <a:pt x="0" y="0"/>
                </a:lnTo>
                <a:lnTo>
                  <a:pt x="0" y="10"/>
                </a:lnTo>
                <a:lnTo>
                  <a:pt x="0" y="0"/>
                </a:lnTo>
              </a:path>
            </a:pathLst>
          </a:custGeom>
          <a:noFill/>
          <a:ln cap="rnd" w="3240">
            <a:solidFill>
              <a:srgbClr val="00d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82" name=""/>
          <p:cNvSpPr/>
          <p:nvPr/>
        </p:nvSpPr>
        <p:spPr>
          <a:xfrm>
            <a:off x="6904080" y="4660920"/>
            <a:ext cx="15840" cy="15840"/>
          </a:xfrm>
          <a:custGeom>
            <a:avLst/>
            <a:gdLst/>
            <a:ahLst/>
            <a:rect l="l" t="t" r="r" b="b"/>
            <a:pathLst>
              <a:path w="10" h="10">
                <a:moveTo>
                  <a:pt x="10" y="0"/>
                </a:moveTo>
                <a:lnTo>
                  <a:pt x="10" y="0"/>
                </a:lnTo>
                <a:lnTo>
                  <a:pt x="10" y="10"/>
                </a:lnTo>
                <a:lnTo>
                  <a:pt x="0"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83" name=""/>
          <p:cNvSpPr/>
          <p:nvPr/>
        </p:nvSpPr>
        <p:spPr>
          <a:xfrm>
            <a:off x="6904080" y="4660920"/>
            <a:ext cx="15840" cy="15840"/>
          </a:xfrm>
          <a:custGeom>
            <a:avLst/>
            <a:gdLst/>
            <a:ahLst/>
            <a:rect l="l" t="t" r="r" b="b"/>
            <a:pathLst>
              <a:path w="10" h="10">
                <a:moveTo>
                  <a:pt x="10" y="0"/>
                </a:moveTo>
                <a:lnTo>
                  <a:pt x="10" y="0"/>
                </a:lnTo>
                <a:lnTo>
                  <a:pt x="10" y="10"/>
                </a:lnTo>
                <a:lnTo>
                  <a:pt x="0" y="0"/>
                </a:lnTo>
                <a:lnTo>
                  <a:pt x="10" y="0"/>
                </a:lnTo>
              </a:path>
            </a:pathLst>
          </a:custGeom>
          <a:noFill/>
          <a:ln cap="rnd" w="3240">
            <a:solidFill>
              <a:srgbClr val="00d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84" name=""/>
          <p:cNvSpPr/>
          <p:nvPr/>
        </p:nvSpPr>
        <p:spPr>
          <a:xfrm>
            <a:off x="6886440" y="4676760"/>
            <a:ext cx="17640" cy="17640"/>
          </a:xfrm>
          <a:custGeom>
            <a:avLst/>
            <a:gdLst/>
            <a:ahLst/>
            <a:rect l="l" t="t" r="r" b="b"/>
            <a:pathLst>
              <a:path w="11" h="11">
                <a:moveTo>
                  <a:pt x="0" y="0"/>
                </a:moveTo>
                <a:lnTo>
                  <a:pt x="11" y="0"/>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85" name=""/>
          <p:cNvSpPr/>
          <p:nvPr/>
        </p:nvSpPr>
        <p:spPr>
          <a:xfrm>
            <a:off x="6886440" y="4676760"/>
            <a:ext cx="17640" cy="17640"/>
          </a:xfrm>
          <a:custGeom>
            <a:avLst/>
            <a:gdLst/>
            <a:ahLst/>
            <a:rect l="l" t="t" r="r" b="b"/>
            <a:pathLst>
              <a:path w="11" h="11">
                <a:moveTo>
                  <a:pt x="0" y="0"/>
                </a:moveTo>
                <a:lnTo>
                  <a:pt x="11" y="0"/>
                </a:lnTo>
                <a:lnTo>
                  <a:pt x="0" y="11"/>
                </a:lnTo>
                <a:lnTo>
                  <a:pt x="0" y="0"/>
                </a:lnTo>
              </a:path>
            </a:pathLst>
          </a:custGeom>
          <a:noFill/>
          <a:ln cap="rnd" w="3240">
            <a:solidFill>
              <a:srgbClr val="00d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86" name=""/>
          <p:cNvSpPr/>
          <p:nvPr/>
        </p:nvSpPr>
        <p:spPr>
          <a:xfrm>
            <a:off x="7899480" y="37465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7" name=""/>
          <p:cNvSpPr/>
          <p:nvPr/>
        </p:nvSpPr>
        <p:spPr>
          <a:xfrm>
            <a:off x="7899480" y="3746520"/>
            <a:ext cx="1440" cy="1440"/>
          </a:xfrm>
          <a:prstGeom prst="line">
            <a:avLst/>
          </a:prstGeom>
          <a:ln cap="rnd" w="3240">
            <a:solidFill>
              <a:srgbClr val="4fffa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7866000" y="3763800"/>
            <a:ext cx="15840" cy="16200"/>
          </a:xfrm>
          <a:custGeom>
            <a:avLst/>
            <a:gdLst/>
            <a:ahLst/>
            <a:rect l="l" t="t" r="r" b="b"/>
            <a:pathLst>
              <a:path w="10" h="10">
                <a:moveTo>
                  <a:pt x="10" y="0"/>
                </a:moveTo>
                <a:lnTo>
                  <a:pt x="10" y="0"/>
                </a:lnTo>
                <a:lnTo>
                  <a:pt x="10" y="10"/>
                </a:lnTo>
                <a:lnTo>
                  <a:pt x="0" y="10"/>
                </a:lnTo>
                <a:lnTo>
                  <a:pt x="0" y="0"/>
                </a:lnTo>
                <a:lnTo>
                  <a:pt x="1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89" name=""/>
          <p:cNvSpPr/>
          <p:nvPr/>
        </p:nvSpPr>
        <p:spPr>
          <a:xfrm>
            <a:off x="7866000" y="3763800"/>
            <a:ext cx="15840" cy="16200"/>
          </a:xfrm>
          <a:custGeom>
            <a:avLst/>
            <a:gdLst/>
            <a:ahLst/>
            <a:rect l="l" t="t" r="r" b="b"/>
            <a:pathLst>
              <a:path w="10" h="10">
                <a:moveTo>
                  <a:pt x="10" y="0"/>
                </a:moveTo>
                <a:lnTo>
                  <a:pt x="10" y="0"/>
                </a:lnTo>
                <a:lnTo>
                  <a:pt x="10" y="10"/>
                </a:lnTo>
                <a:lnTo>
                  <a:pt x="0" y="10"/>
                </a:lnTo>
                <a:lnTo>
                  <a:pt x="0" y="0"/>
                </a:lnTo>
                <a:lnTo>
                  <a:pt x="10" y="0"/>
                </a:lnTo>
              </a:path>
            </a:pathLst>
          </a:custGeom>
          <a:noFill/>
          <a:ln cap="rnd" w="3240">
            <a:solidFill>
              <a:srgbClr val="4fffa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90" name=""/>
          <p:cNvSpPr/>
          <p:nvPr/>
        </p:nvSpPr>
        <p:spPr>
          <a:xfrm>
            <a:off x="7866000" y="3780000"/>
            <a:ext cx="3240" cy="2880"/>
          </a:xfrm>
          <a:prstGeom prst="rect">
            <a:avLst/>
          </a:prstGeom>
          <a:solidFill>
            <a:srgbClr val="000000"/>
          </a:solidFill>
          <a:ln cap="rnd" w="3240">
            <a:solidFill>
              <a:srgbClr val="4fffa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91" name=""/>
          <p:cNvSpPr/>
          <p:nvPr/>
        </p:nvSpPr>
        <p:spPr>
          <a:xfrm>
            <a:off x="7845480" y="3780000"/>
            <a:ext cx="1440" cy="15840"/>
          </a:xfrm>
          <a:custGeom>
            <a:avLst/>
            <a:gdLst/>
            <a:ahLst/>
            <a:rect l="l" t="t" r="r" b="b"/>
            <a:pathLst>
              <a:path w="0" h="10">
                <a:moveTo>
                  <a:pt x="0" y="0"/>
                </a:moveTo>
                <a:lnTo>
                  <a:pt x="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92" name=""/>
          <p:cNvSpPr/>
          <p:nvPr/>
        </p:nvSpPr>
        <p:spPr>
          <a:xfrm>
            <a:off x="7845480" y="3780000"/>
            <a:ext cx="1440" cy="15840"/>
          </a:xfrm>
          <a:custGeom>
            <a:avLst/>
            <a:gdLst/>
            <a:ahLst/>
            <a:rect l="l" t="t" r="r" b="b"/>
            <a:pathLst>
              <a:path w="0" h="10">
                <a:moveTo>
                  <a:pt x="0" y="0"/>
                </a:moveTo>
                <a:lnTo>
                  <a:pt x="0" y="0"/>
                </a:lnTo>
                <a:lnTo>
                  <a:pt x="0" y="10"/>
                </a:lnTo>
                <a:lnTo>
                  <a:pt x="0" y="0"/>
                </a:lnTo>
              </a:path>
            </a:pathLst>
          </a:custGeom>
          <a:noFill/>
          <a:ln cap="rnd" w="3240">
            <a:solidFill>
              <a:srgbClr val="4fffa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93" name=""/>
          <p:cNvSpPr/>
          <p:nvPr/>
        </p:nvSpPr>
        <p:spPr>
          <a:xfrm>
            <a:off x="6989760" y="4581360"/>
            <a:ext cx="15840" cy="180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4" name=""/>
          <p:cNvSpPr/>
          <p:nvPr/>
        </p:nvSpPr>
        <p:spPr>
          <a:xfrm>
            <a:off x="6989760" y="4581360"/>
            <a:ext cx="15840" cy="1800"/>
          </a:xfrm>
          <a:custGeom>
            <a:avLst/>
            <a:gdLst/>
            <a:ahLst/>
            <a:rect l="l" t="t" r="r" b="b"/>
            <a:pathLst>
              <a:path w="10" h="0">
                <a:moveTo>
                  <a:pt x="10" y="0"/>
                </a:moveTo>
                <a:lnTo>
                  <a:pt x="10" y="0"/>
                </a:lnTo>
                <a:lnTo>
                  <a:pt x="0" y="0"/>
                </a:lnTo>
                <a:lnTo>
                  <a:pt x="10" y="0"/>
                </a:lnTo>
              </a:path>
            </a:pathLst>
          </a:custGeom>
          <a:noFill/>
          <a:ln cap="rnd" w="3240">
            <a:solidFill>
              <a:srgbClr val="4fffa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5" name=""/>
          <p:cNvSpPr/>
          <p:nvPr/>
        </p:nvSpPr>
        <p:spPr>
          <a:xfrm>
            <a:off x="6989760" y="4597560"/>
            <a:ext cx="3240" cy="1440"/>
          </a:xfrm>
          <a:prstGeom prst="rect">
            <a:avLst/>
          </a:prstGeom>
          <a:solidFill>
            <a:srgbClr val="000000"/>
          </a:solidFill>
          <a:ln cap="rnd" w="3240">
            <a:solidFill>
              <a:srgbClr val="4fffa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6" name=""/>
          <p:cNvSpPr/>
          <p:nvPr/>
        </p:nvSpPr>
        <p:spPr>
          <a:xfrm>
            <a:off x="6956280" y="4618080"/>
            <a:ext cx="1800" cy="9360"/>
          </a:xfrm>
          <a:custGeom>
            <a:avLst/>
            <a:gdLst/>
            <a:ahLst/>
            <a:rect l="l" t="t" r="r" b="b"/>
            <a:pathLst>
              <a:path w="0" h="6">
                <a:moveTo>
                  <a:pt x="0" y="0"/>
                </a:moveTo>
                <a:lnTo>
                  <a:pt x="0" y="0"/>
                </a:lnTo>
                <a:lnTo>
                  <a:pt x="0" y="6"/>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97" name=""/>
          <p:cNvSpPr/>
          <p:nvPr/>
        </p:nvSpPr>
        <p:spPr>
          <a:xfrm>
            <a:off x="6956280" y="4618080"/>
            <a:ext cx="1800" cy="9360"/>
          </a:xfrm>
          <a:custGeom>
            <a:avLst/>
            <a:gdLst/>
            <a:ahLst/>
            <a:rect l="l" t="t" r="r" b="b"/>
            <a:pathLst>
              <a:path w="0" h="6">
                <a:moveTo>
                  <a:pt x="0" y="0"/>
                </a:moveTo>
                <a:lnTo>
                  <a:pt x="0" y="0"/>
                </a:lnTo>
                <a:lnTo>
                  <a:pt x="0" y="6"/>
                </a:lnTo>
                <a:lnTo>
                  <a:pt x="0" y="0"/>
                </a:lnTo>
              </a:path>
            </a:pathLst>
          </a:custGeom>
          <a:noFill/>
          <a:ln cap="rnd" w="3240">
            <a:solidFill>
              <a:srgbClr val="4fffa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98" name=""/>
          <p:cNvSpPr/>
          <p:nvPr/>
        </p:nvSpPr>
        <p:spPr>
          <a:xfrm>
            <a:off x="6904080" y="4660920"/>
            <a:ext cx="15840" cy="15840"/>
          </a:xfrm>
          <a:custGeom>
            <a:avLst/>
            <a:gdLst/>
            <a:ahLst/>
            <a:rect l="l" t="t" r="r" b="b"/>
            <a:pathLst>
              <a:path w="10" h="10">
                <a:moveTo>
                  <a:pt x="10" y="0"/>
                </a:moveTo>
                <a:lnTo>
                  <a:pt x="10" y="0"/>
                </a:lnTo>
                <a:lnTo>
                  <a:pt x="10" y="10"/>
                </a:ln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99" name=""/>
          <p:cNvSpPr/>
          <p:nvPr/>
        </p:nvSpPr>
        <p:spPr>
          <a:xfrm>
            <a:off x="6904080" y="4660920"/>
            <a:ext cx="15840" cy="15840"/>
          </a:xfrm>
          <a:custGeom>
            <a:avLst/>
            <a:gdLst/>
            <a:ahLst/>
            <a:rect l="l" t="t" r="r" b="b"/>
            <a:pathLst>
              <a:path w="10" h="10">
                <a:moveTo>
                  <a:pt x="10" y="0"/>
                </a:moveTo>
                <a:lnTo>
                  <a:pt x="10" y="0"/>
                </a:lnTo>
                <a:lnTo>
                  <a:pt x="10" y="10"/>
                </a:lnTo>
                <a:lnTo>
                  <a:pt x="10" y="0"/>
                </a:lnTo>
                <a:lnTo>
                  <a:pt x="0" y="0"/>
                </a:lnTo>
                <a:lnTo>
                  <a:pt x="10" y="0"/>
                </a:lnTo>
              </a:path>
            </a:pathLst>
          </a:custGeom>
          <a:noFill/>
          <a:ln cap="rnd" w="3240">
            <a:solidFill>
              <a:srgbClr val="4fffa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00" name=""/>
          <p:cNvSpPr/>
          <p:nvPr/>
        </p:nvSpPr>
        <p:spPr>
          <a:xfrm>
            <a:off x="6886440" y="4676760"/>
            <a:ext cx="17640" cy="17640"/>
          </a:xfrm>
          <a:custGeom>
            <a:avLst/>
            <a:gdLst/>
            <a:ahLst/>
            <a:rect l="l" t="t" r="r" b="b"/>
            <a:pathLst>
              <a:path w="11" h="11">
                <a:moveTo>
                  <a:pt x="0" y="0"/>
                </a:moveTo>
                <a:lnTo>
                  <a:pt x="0" y="0"/>
                </a:lnTo>
                <a:lnTo>
                  <a:pt x="11" y="0"/>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01" name=""/>
          <p:cNvSpPr/>
          <p:nvPr/>
        </p:nvSpPr>
        <p:spPr>
          <a:xfrm>
            <a:off x="6886440" y="4676760"/>
            <a:ext cx="17640" cy="17640"/>
          </a:xfrm>
          <a:custGeom>
            <a:avLst/>
            <a:gdLst/>
            <a:ahLst/>
            <a:rect l="l" t="t" r="r" b="b"/>
            <a:pathLst>
              <a:path w="11" h="11">
                <a:moveTo>
                  <a:pt x="0" y="0"/>
                </a:moveTo>
                <a:lnTo>
                  <a:pt x="0" y="0"/>
                </a:lnTo>
                <a:lnTo>
                  <a:pt x="11" y="0"/>
                </a:lnTo>
                <a:lnTo>
                  <a:pt x="0" y="11"/>
                </a:lnTo>
                <a:lnTo>
                  <a:pt x="0" y="0"/>
                </a:lnTo>
              </a:path>
            </a:pathLst>
          </a:custGeom>
          <a:noFill/>
          <a:ln cap="rnd" w="3240">
            <a:solidFill>
              <a:srgbClr val="4fffa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02" name=""/>
          <p:cNvSpPr/>
          <p:nvPr/>
        </p:nvSpPr>
        <p:spPr>
          <a:xfrm>
            <a:off x="7899480" y="3746520"/>
            <a:ext cx="3240" cy="3240"/>
          </a:xfrm>
          <a:prstGeom prst="rect">
            <a:avLst/>
          </a:prstGeom>
          <a:solidFill>
            <a:srgbClr val="000000"/>
          </a:solidFill>
          <a:ln cap="rnd" w="3240">
            <a:solidFill>
              <a:srgbClr val="bfff3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3" name=""/>
          <p:cNvSpPr/>
          <p:nvPr/>
        </p:nvSpPr>
        <p:spPr>
          <a:xfrm>
            <a:off x="7866000" y="3763800"/>
            <a:ext cx="15840" cy="16200"/>
          </a:xfrm>
          <a:custGeom>
            <a:avLst/>
            <a:gdLst/>
            <a:ahLst/>
            <a:rect l="l" t="t" r="r" b="b"/>
            <a:pathLst>
              <a:path w="10" h="10">
                <a:moveTo>
                  <a:pt x="10" y="0"/>
                </a:moveTo>
                <a:lnTo>
                  <a:pt x="10" y="0"/>
                </a:lnTo>
                <a:lnTo>
                  <a:pt x="10" y="10"/>
                </a:lnTo>
                <a:lnTo>
                  <a:pt x="0" y="0"/>
                </a:lnTo>
                <a:lnTo>
                  <a:pt x="1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04" name=""/>
          <p:cNvSpPr/>
          <p:nvPr/>
        </p:nvSpPr>
        <p:spPr>
          <a:xfrm>
            <a:off x="7866000" y="3763800"/>
            <a:ext cx="15840" cy="16200"/>
          </a:xfrm>
          <a:custGeom>
            <a:avLst/>
            <a:gdLst/>
            <a:ahLst/>
            <a:rect l="l" t="t" r="r" b="b"/>
            <a:pathLst>
              <a:path w="10" h="10">
                <a:moveTo>
                  <a:pt x="10" y="0"/>
                </a:moveTo>
                <a:lnTo>
                  <a:pt x="10" y="0"/>
                </a:lnTo>
                <a:lnTo>
                  <a:pt x="10" y="10"/>
                </a:lnTo>
                <a:lnTo>
                  <a:pt x="0" y="0"/>
                </a:lnTo>
                <a:lnTo>
                  <a:pt x="10" y="0"/>
                </a:lnTo>
              </a:path>
            </a:pathLst>
          </a:custGeom>
          <a:noFill/>
          <a:ln cap="rnd" w="3240">
            <a:solidFill>
              <a:srgbClr val="bfff3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05" name=""/>
          <p:cNvSpPr/>
          <p:nvPr/>
        </p:nvSpPr>
        <p:spPr>
          <a:xfrm>
            <a:off x="7845480" y="3780000"/>
            <a:ext cx="1440" cy="15840"/>
          </a:xfrm>
          <a:custGeom>
            <a:avLst/>
            <a:gdLst/>
            <a:ahLst/>
            <a:rect l="l" t="t" r="r" b="b"/>
            <a:pathLst>
              <a:path w="0" h="10">
                <a:moveTo>
                  <a:pt x="0" y="0"/>
                </a:moveTo>
                <a:lnTo>
                  <a:pt x="0" y="0"/>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06" name=""/>
          <p:cNvSpPr/>
          <p:nvPr/>
        </p:nvSpPr>
        <p:spPr>
          <a:xfrm>
            <a:off x="7845480" y="3780000"/>
            <a:ext cx="1440" cy="15840"/>
          </a:xfrm>
          <a:custGeom>
            <a:avLst/>
            <a:gdLst/>
            <a:ahLst/>
            <a:rect l="l" t="t" r="r" b="b"/>
            <a:pathLst>
              <a:path w="0" h="10">
                <a:moveTo>
                  <a:pt x="0" y="0"/>
                </a:moveTo>
                <a:lnTo>
                  <a:pt x="0" y="0"/>
                </a:lnTo>
                <a:lnTo>
                  <a:pt x="0" y="10"/>
                </a:lnTo>
                <a:lnTo>
                  <a:pt x="0" y="0"/>
                </a:lnTo>
              </a:path>
            </a:pathLst>
          </a:custGeom>
          <a:noFill/>
          <a:ln cap="rnd" w="3240">
            <a:solidFill>
              <a:srgbClr val="bfff3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07" name=""/>
          <p:cNvSpPr/>
          <p:nvPr/>
        </p:nvSpPr>
        <p:spPr>
          <a:xfrm>
            <a:off x="6989760" y="4597560"/>
            <a:ext cx="3240" cy="1440"/>
          </a:xfrm>
          <a:prstGeom prst="rect">
            <a:avLst/>
          </a:prstGeom>
          <a:solidFill>
            <a:srgbClr val="000000"/>
          </a:solidFill>
          <a:ln cap="rnd" w="3240">
            <a:solidFill>
              <a:srgbClr val="bfff3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6919920" y="46609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9" name=""/>
          <p:cNvSpPr/>
          <p:nvPr/>
        </p:nvSpPr>
        <p:spPr>
          <a:xfrm>
            <a:off x="6919920" y="4660920"/>
            <a:ext cx="1440" cy="1440"/>
          </a:xfrm>
          <a:prstGeom prst="line">
            <a:avLst/>
          </a:prstGeom>
          <a:ln cap="rnd" w="3240">
            <a:solidFill>
              <a:srgbClr val="bfff3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6886440" y="4676760"/>
            <a:ext cx="1800" cy="17640"/>
          </a:xfrm>
          <a:custGeom>
            <a:avLst/>
            <a:gdLst/>
            <a:ahLst/>
            <a:rect l="l" t="t" r="r" b="b"/>
            <a:pathLst>
              <a:path w="0"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1" name=""/>
          <p:cNvSpPr/>
          <p:nvPr/>
        </p:nvSpPr>
        <p:spPr>
          <a:xfrm>
            <a:off x="6886440" y="4676760"/>
            <a:ext cx="1800" cy="17640"/>
          </a:xfrm>
          <a:custGeom>
            <a:avLst/>
            <a:gdLst/>
            <a:ahLst/>
            <a:rect l="l" t="t" r="r" b="b"/>
            <a:pathLst>
              <a:path w="0" h="11">
                <a:moveTo>
                  <a:pt x="0" y="0"/>
                </a:moveTo>
                <a:lnTo>
                  <a:pt x="0" y="0"/>
                </a:lnTo>
                <a:lnTo>
                  <a:pt x="0" y="11"/>
                </a:lnTo>
                <a:lnTo>
                  <a:pt x="0" y="0"/>
                </a:lnTo>
              </a:path>
            </a:pathLst>
          </a:custGeom>
          <a:noFill/>
          <a:ln cap="rnd" w="3240">
            <a:solidFill>
              <a:srgbClr val="bfff3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2" name=""/>
          <p:cNvSpPr/>
          <p:nvPr/>
        </p:nvSpPr>
        <p:spPr>
          <a:xfrm>
            <a:off x="7866000" y="3763800"/>
            <a:ext cx="15840" cy="16200"/>
          </a:xfrm>
          <a:custGeom>
            <a:avLst/>
            <a:gdLst/>
            <a:ahLst/>
            <a:rect l="l" t="t" r="r" b="b"/>
            <a:pathLst>
              <a:path w="10" h="10">
                <a:moveTo>
                  <a:pt x="10" y="0"/>
                </a:moveTo>
                <a:lnTo>
                  <a:pt x="10" y="0"/>
                </a:lnTo>
                <a:lnTo>
                  <a:pt x="10" y="10"/>
                </a:lnTo>
                <a:lnTo>
                  <a:pt x="0" y="0"/>
                </a:lnTo>
                <a:lnTo>
                  <a:pt x="1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13" name=""/>
          <p:cNvSpPr/>
          <p:nvPr/>
        </p:nvSpPr>
        <p:spPr>
          <a:xfrm>
            <a:off x="7866000" y="3763800"/>
            <a:ext cx="15840" cy="16200"/>
          </a:xfrm>
          <a:custGeom>
            <a:avLst/>
            <a:gdLst/>
            <a:ahLst/>
            <a:rect l="l" t="t" r="r" b="b"/>
            <a:pathLst>
              <a:path w="10" h="10">
                <a:moveTo>
                  <a:pt x="10" y="0"/>
                </a:moveTo>
                <a:lnTo>
                  <a:pt x="10" y="0"/>
                </a:lnTo>
                <a:lnTo>
                  <a:pt x="10" y="10"/>
                </a:lnTo>
                <a:lnTo>
                  <a:pt x="0" y="0"/>
                </a:lnTo>
                <a:lnTo>
                  <a:pt x="10" y="0"/>
                </a:lnTo>
              </a:path>
            </a:pathLst>
          </a:custGeom>
          <a:noFill/>
          <a:ln cap="rnd" w="3240">
            <a:solidFill>
              <a:srgbClr val="ffcf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14" name=""/>
          <p:cNvSpPr/>
          <p:nvPr/>
        </p:nvSpPr>
        <p:spPr>
          <a:xfrm>
            <a:off x="7845480" y="3780000"/>
            <a:ext cx="1440" cy="15840"/>
          </a:xfrm>
          <a:custGeom>
            <a:avLst/>
            <a:gdLst/>
            <a:ahLst/>
            <a:rect l="l" t="t" r="r" b="b"/>
            <a:pathLst>
              <a:path w="0" h="10">
                <a:moveTo>
                  <a:pt x="0" y="0"/>
                </a:move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5" name=""/>
          <p:cNvSpPr/>
          <p:nvPr/>
        </p:nvSpPr>
        <p:spPr>
          <a:xfrm>
            <a:off x="7845480" y="3780000"/>
            <a:ext cx="1440" cy="15840"/>
          </a:xfrm>
          <a:custGeom>
            <a:avLst/>
            <a:gdLst/>
            <a:ahLst/>
            <a:rect l="l" t="t" r="r" b="b"/>
            <a:pathLst>
              <a:path w="0" h="10">
                <a:moveTo>
                  <a:pt x="0" y="0"/>
                </a:moveTo>
                <a:lnTo>
                  <a:pt x="0" y="10"/>
                </a:lnTo>
                <a:lnTo>
                  <a:pt x="0" y="0"/>
                </a:lnTo>
              </a:path>
            </a:pathLst>
          </a:custGeom>
          <a:noFill/>
          <a:ln cap="rnd" w="3240">
            <a:solidFill>
              <a:srgbClr val="ffcf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6" name=""/>
          <p:cNvSpPr/>
          <p:nvPr/>
        </p:nvSpPr>
        <p:spPr>
          <a:xfrm>
            <a:off x="6919920" y="4660920"/>
            <a:ext cx="3240" cy="3240"/>
          </a:xfrm>
          <a:prstGeom prst="rect">
            <a:avLst/>
          </a:prstGeom>
          <a:solidFill>
            <a:srgbClr val="000000"/>
          </a:solidFill>
          <a:ln cap="rnd" w="3240">
            <a:solidFill>
              <a:srgbClr val="ffc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7" name=""/>
          <p:cNvSpPr/>
          <p:nvPr/>
        </p:nvSpPr>
        <p:spPr>
          <a:xfrm>
            <a:off x="6886440" y="4676760"/>
            <a:ext cx="1800" cy="17640"/>
          </a:xfrm>
          <a:custGeom>
            <a:avLst/>
            <a:gdLst/>
            <a:ahLst/>
            <a:rect l="l" t="t" r="r" b="b"/>
            <a:pathLst>
              <a:path w="0"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8" name=""/>
          <p:cNvSpPr/>
          <p:nvPr/>
        </p:nvSpPr>
        <p:spPr>
          <a:xfrm>
            <a:off x="6886440" y="4676760"/>
            <a:ext cx="1800" cy="17640"/>
          </a:xfrm>
          <a:custGeom>
            <a:avLst/>
            <a:gdLst/>
            <a:ahLst/>
            <a:rect l="l" t="t" r="r" b="b"/>
            <a:pathLst>
              <a:path w="0" h="11">
                <a:moveTo>
                  <a:pt x="0" y="0"/>
                </a:moveTo>
                <a:lnTo>
                  <a:pt x="0" y="0"/>
                </a:lnTo>
                <a:lnTo>
                  <a:pt x="0" y="11"/>
                </a:lnTo>
                <a:lnTo>
                  <a:pt x="0" y="0"/>
                </a:lnTo>
              </a:path>
            </a:pathLst>
          </a:custGeom>
          <a:noFill/>
          <a:ln cap="rnd" w="3240">
            <a:solidFill>
              <a:srgbClr val="ffcf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9" name=""/>
          <p:cNvSpPr/>
          <p:nvPr/>
        </p:nvSpPr>
        <p:spPr>
          <a:xfrm>
            <a:off x="7866000" y="3763800"/>
            <a:ext cx="15840" cy="180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0" name=""/>
          <p:cNvSpPr/>
          <p:nvPr/>
        </p:nvSpPr>
        <p:spPr>
          <a:xfrm>
            <a:off x="7866000" y="3763800"/>
            <a:ext cx="15840" cy="1800"/>
          </a:xfrm>
          <a:custGeom>
            <a:avLst/>
            <a:gdLst/>
            <a:ahLst/>
            <a:rect l="l" t="t" r="r" b="b"/>
            <a:pathLst>
              <a:path w="10" h="0">
                <a:moveTo>
                  <a:pt x="10" y="0"/>
                </a:moveTo>
                <a:lnTo>
                  <a:pt x="10" y="0"/>
                </a:lnTo>
                <a:lnTo>
                  <a:pt x="0" y="0"/>
                </a:lnTo>
                <a:lnTo>
                  <a:pt x="10" y="0"/>
                </a:lnTo>
              </a:path>
            </a:pathLst>
          </a:custGeom>
          <a:noFill/>
          <a:ln cap="rnd" w="3240">
            <a:solidFill>
              <a:srgbClr val="ff5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1" name=""/>
          <p:cNvSpPr/>
          <p:nvPr/>
        </p:nvSpPr>
        <p:spPr>
          <a:xfrm>
            <a:off x="7845480" y="3780000"/>
            <a:ext cx="1440" cy="15840"/>
          </a:xfrm>
          <a:custGeom>
            <a:avLst/>
            <a:gdLst/>
            <a:ahLst/>
            <a:rect l="l" t="t" r="r" b="b"/>
            <a:pathLst>
              <a:path w="0" h="10">
                <a:moveTo>
                  <a:pt x="0" y="0"/>
                </a:move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22" name=""/>
          <p:cNvSpPr/>
          <p:nvPr/>
        </p:nvSpPr>
        <p:spPr>
          <a:xfrm>
            <a:off x="7845480" y="3780000"/>
            <a:ext cx="1440" cy="15840"/>
          </a:xfrm>
          <a:custGeom>
            <a:avLst/>
            <a:gdLst/>
            <a:ahLst/>
            <a:rect l="l" t="t" r="r" b="b"/>
            <a:pathLst>
              <a:path w="0" h="10">
                <a:moveTo>
                  <a:pt x="0" y="0"/>
                </a:moveTo>
                <a:lnTo>
                  <a:pt x="0" y="10"/>
                </a:lnTo>
                <a:lnTo>
                  <a:pt x="0" y="0"/>
                </a:lnTo>
              </a:path>
            </a:pathLst>
          </a:custGeom>
          <a:noFill/>
          <a:ln cap="rnd" w="3240">
            <a:solidFill>
              <a:srgbClr val="ff5f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23" name=""/>
          <p:cNvSpPr/>
          <p:nvPr/>
        </p:nvSpPr>
        <p:spPr>
          <a:xfrm>
            <a:off x="6919920" y="4660920"/>
            <a:ext cx="3240" cy="3240"/>
          </a:xfrm>
          <a:prstGeom prst="rect">
            <a:avLst/>
          </a:prstGeom>
          <a:solidFill>
            <a:srgbClr val="000000"/>
          </a:solidFill>
          <a:ln cap="rnd" w="3240">
            <a:solidFill>
              <a:srgbClr val="ff5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24" name=""/>
          <p:cNvSpPr/>
          <p:nvPr/>
        </p:nvSpPr>
        <p:spPr>
          <a:xfrm>
            <a:off x="6886440" y="4676760"/>
            <a:ext cx="1800" cy="17640"/>
          </a:xfrm>
          <a:custGeom>
            <a:avLst/>
            <a:gdLst/>
            <a:ahLst/>
            <a:rect l="l" t="t" r="r" b="b"/>
            <a:pathLst>
              <a:path w="0"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25" name=""/>
          <p:cNvSpPr/>
          <p:nvPr/>
        </p:nvSpPr>
        <p:spPr>
          <a:xfrm>
            <a:off x="6886440" y="4676760"/>
            <a:ext cx="1800" cy="17640"/>
          </a:xfrm>
          <a:custGeom>
            <a:avLst/>
            <a:gdLst/>
            <a:ahLst/>
            <a:rect l="l" t="t" r="r" b="b"/>
            <a:pathLst>
              <a:path w="0" h="11">
                <a:moveTo>
                  <a:pt x="0" y="0"/>
                </a:moveTo>
                <a:lnTo>
                  <a:pt x="0" y="0"/>
                </a:lnTo>
                <a:lnTo>
                  <a:pt x="0" y="11"/>
                </a:lnTo>
                <a:lnTo>
                  <a:pt x="0" y="0"/>
                </a:lnTo>
              </a:path>
            </a:pathLst>
          </a:custGeom>
          <a:noFill/>
          <a:ln cap="rnd" w="3240">
            <a:solidFill>
              <a:srgbClr val="ff5f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26" name=""/>
          <p:cNvSpPr/>
          <p:nvPr/>
        </p:nvSpPr>
        <p:spPr>
          <a:xfrm>
            <a:off x="7866000" y="3763800"/>
            <a:ext cx="15840" cy="180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7" name=""/>
          <p:cNvSpPr/>
          <p:nvPr/>
        </p:nvSpPr>
        <p:spPr>
          <a:xfrm>
            <a:off x="7866000" y="3763800"/>
            <a:ext cx="15840" cy="1800"/>
          </a:xfrm>
          <a:custGeom>
            <a:avLst/>
            <a:gdLst/>
            <a:ahLst/>
            <a:rect l="l" t="t" r="r" b="b"/>
            <a:pathLst>
              <a:path w="10" h="0">
                <a:moveTo>
                  <a:pt x="10" y="0"/>
                </a:moveTo>
                <a:lnTo>
                  <a:pt x="10" y="0"/>
                </a:lnTo>
                <a:lnTo>
                  <a:pt x="0" y="0"/>
                </a:lnTo>
                <a:lnTo>
                  <a:pt x="10" y="0"/>
                </a:lnTo>
              </a:path>
            </a:pathLst>
          </a:custGeom>
          <a:noFill/>
          <a:ln cap="rnd" w="3240">
            <a:solidFill>
              <a:srgbClr val="ef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8" name=""/>
          <p:cNvSpPr/>
          <p:nvPr/>
        </p:nvSpPr>
        <p:spPr>
          <a:xfrm>
            <a:off x="7845480" y="3795840"/>
            <a:ext cx="7920" cy="2880"/>
          </a:xfrm>
          <a:prstGeom prst="rect">
            <a:avLst/>
          </a:prstGeom>
          <a:solidFill>
            <a:srgbClr val="000000"/>
          </a:solidFill>
          <a:ln cap="rnd" w="3240">
            <a:solidFill>
              <a:srgbClr val="e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9" name=""/>
          <p:cNvSpPr/>
          <p:nvPr/>
        </p:nvSpPr>
        <p:spPr>
          <a:xfrm>
            <a:off x="6886440" y="4676760"/>
            <a:ext cx="1800" cy="17640"/>
          </a:xfrm>
          <a:custGeom>
            <a:avLst/>
            <a:gdLst/>
            <a:ahLst/>
            <a:rect l="l" t="t" r="r" b="b"/>
            <a:pathLst>
              <a:path w="0"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30" name=""/>
          <p:cNvSpPr/>
          <p:nvPr/>
        </p:nvSpPr>
        <p:spPr>
          <a:xfrm>
            <a:off x="6886440" y="4676760"/>
            <a:ext cx="1800" cy="17640"/>
          </a:xfrm>
          <a:custGeom>
            <a:avLst/>
            <a:gdLst/>
            <a:ahLst/>
            <a:rect l="l" t="t" r="r" b="b"/>
            <a:pathLst>
              <a:path w="0" h="11">
                <a:moveTo>
                  <a:pt x="0" y="0"/>
                </a:moveTo>
                <a:lnTo>
                  <a:pt x="0" y="0"/>
                </a:lnTo>
                <a:lnTo>
                  <a:pt x="0" y="11"/>
                </a:lnTo>
                <a:lnTo>
                  <a:pt x="0" y="0"/>
                </a:lnTo>
              </a:path>
            </a:pathLst>
          </a:custGeom>
          <a:noFill/>
          <a:ln cap="rnd" w="3240">
            <a:solidFill>
              <a:srgbClr val="e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31" name=""/>
          <p:cNvSpPr/>
          <p:nvPr/>
        </p:nvSpPr>
        <p:spPr>
          <a:xfrm>
            <a:off x="7866000" y="3763800"/>
            <a:ext cx="15840" cy="1800"/>
          </a:xfrm>
          <a:custGeom>
            <a:avLst/>
            <a:gdLst/>
            <a:ahLst/>
            <a:rect l="l" t="t" r="r" b="b"/>
            <a:pathLst>
              <a:path w="10" h="0">
                <a:moveTo>
                  <a:pt x="10" y="0"/>
                </a:moveTo>
                <a:lnTo>
                  <a:pt x="10" y="0"/>
                </a:lnTo>
                <a:lnTo>
                  <a:pt x="0"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2" name=""/>
          <p:cNvSpPr/>
          <p:nvPr/>
        </p:nvSpPr>
        <p:spPr>
          <a:xfrm>
            <a:off x="7866000" y="3763800"/>
            <a:ext cx="15840" cy="1800"/>
          </a:xfrm>
          <a:custGeom>
            <a:avLst/>
            <a:gdLst/>
            <a:ahLst/>
            <a:rect l="l" t="t" r="r" b="b"/>
            <a:pathLst>
              <a:path w="10" h="0">
                <a:moveTo>
                  <a:pt x="10" y="0"/>
                </a:moveTo>
                <a:lnTo>
                  <a:pt x="10" y="0"/>
                </a:lnTo>
                <a:lnTo>
                  <a:pt x="0" y="0"/>
                </a:lnTo>
                <a:lnTo>
                  <a:pt x="10" y="0"/>
                </a:lnTo>
              </a:path>
            </a:pathLst>
          </a:custGeom>
          <a:noFill/>
          <a:ln cap="rnd" w="3240">
            <a:solidFill>
              <a:srgbClr val="7f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3" name=""/>
          <p:cNvSpPr/>
          <p:nvPr/>
        </p:nvSpPr>
        <p:spPr>
          <a:xfrm>
            <a:off x="7845480" y="3795840"/>
            <a:ext cx="7920" cy="2880"/>
          </a:xfrm>
          <a:prstGeom prst="rect">
            <a:avLst/>
          </a:prstGeom>
          <a:solidFill>
            <a:srgbClr val="000000"/>
          </a:solidFill>
          <a:ln cap="rnd" w="3240">
            <a:solidFill>
              <a:srgbClr val="7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4" name=""/>
          <p:cNvSpPr/>
          <p:nvPr/>
        </p:nvSpPr>
        <p:spPr>
          <a:xfrm>
            <a:off x="6886440" y="4676760"/>
            <a:ext cx="3240" cy="3240"/>
          </a:xfrm>
          <a:prstGeom prst="rect">
            <a:avLst/>
          </a:prstGeom>
          <a:solidFill>
            <a:srgbClr val="000000"/>
          </a:solidFill>
          <a:ln cap="rnd" w="3240">
            <a:solidFill>
              <a:srgbClr val="7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5" name=""/>
          <p:cNvSpPr/>
          <p:nvPr/>
        </p:nvSpPr>
        <p:spPr>
          <a:xfrm>
            <a:off x="836280" y="433692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736" name=""/>
          <p:cNvSpPr/>
          <p:nvPr/>
        </p:nvSpPr>
        <p:spPr>
          <a:xfrm>
            <a:off x="809640" y="4338720"/>
            <a:ext cx="1590840" cy="555480"/>
          </a:xfrm>
          <a:prstGeom prst="rect">
            <a:avLst/>
          </a:prstGeom>
          <a:noFill/>
          <a:ln cap="rnd"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906120" y="480708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738" name=""/>
          <p:cNvSpPr/>
          <p:nvPr/>
        </p:nvSpPr>
        <p:spPr>
          <a:xfrm>
            <a:off x="1171440" y="480708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3739" name=""/>
          <p:cNvSpPr/>
          <p:nvPr/>
        </p:nvSpPr>
        <p:spPr>
          <a:xfrm>
            <a:off x="1058760" y="4589640"/>
            <a:ext cx="30024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1271160" y="4619520"/>
            <a:ext cx="295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ff"/>
                </a:solidFill>
                <a:latin typeface="Times New Roman"/>
              </a:rPr>
              <a:t> </a:t>
            </a:r>
            <a:endParaRPr b="0" lang="en-US" sz="900" spc="-1" strike="noStrike">
              <a:solidFill>
                <a:srgbClr val="000000"/>
              </a:solidFill>
              <a:latin typeface="Times New Roman"/>
            </a:endParaRPr>
          </a:p>
        </p:txBody>
      </p:sp>
      <p:sp>
        <p:nvSpPr>
          <p:cNvPr id="3741" name=""/>
          <p:cNvSpPr/>
          <p:nvPr/>
        </p:nvSpPr>
        <p:spPr>
          <a:xfrm>
            <a:off x="142920" y="2228760"/>
            <a:ext cx="2452680" cy="167976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142920" y="2228760"/>
            <a:ext cx="245268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43" name=""/>
          <p:cNvSpPr/>
          <p:nvPr/>
        </p:nvSpPr>
        <p:spPr>
          <a:xfrm>
            <a:off x="142920" y="2228760"/>
            <a:ext cx="2452680" cy="1679760"/>
          </a:xfrm>
          <a:custGeom>
            <a:avLst/>
            <a:gdLst/>
            <a:ahLst/>
            <a:rect l="l" t="t" r="r" b="b"/>
            <a:pathLst>
              <a:path w="890" h="590">
                <a:moveTo>
                  <a:pt x="0" y="590"/>
                </a:moveTo>
                <a:lnTo>
                  <a:pt x="890" y="590"/>
                </a:lnTo>
                <a:lnTo>
                  <a:pt x="89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flipV="1">
            <a:off x="142920" y="2228760"/>
            <a:ext cx="1440" cy="16797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142920" y="3908520"/>
            <a:ext cx="245268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46" name=""/>
          <p:cNvSpPr/>
          <p:nvPr/>
        </p:nvSpPr>
        <p:spPr>
          <a:xfrm flipV="1">
            <a:off x="142920" y="2228760"/>
            <a:ext cx="1440" cy="16797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flipV="1">
            <a:off x="142920" y="3886200"/>
            <a:ext cx="14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8" name=""/>
          <p:cNvSpPr/>
          <p:nvPr/>
        </p:nvSpPr>
        <p:spPr>
          <a:xfrm>
            <a:off x="142920" y="2228760"/>
            <a:ext cx="14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9" name=""/>
          <p:cNvSpPr/>
          <p:nvPr/>
        </p:nvSpPr>
        <p:spPr>
          <a:xfrm>
            <a:off x="131760" y="3919680"/>
            <a:ext cx="7452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128880" y="39196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3751" name=""/>
          <p:cNvSpPr/>
          <p:nvPr/>
        </p:nvSpPr>
        <p:spPr>
          <a:xfrm>
            <a:off x="202680" y="3675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752" name=""/>
          <p:cNvSpPr/>
          <p:nvPr/>
        </p:nvSpPr>
        <p:spPr>
          <a:xfrm flipV="1">
            <a:off x="487440" y="3886200"/>
            <a:ext cx="14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53" name=""/>
          <p:cNvSpPr/>
          <p:nvPr/>
        </p:nvSpPr>
        <p:spPr>
          <a:xfrm>
            <a:off x="487440" y="2228760"/>
            <a:ext cx="14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54" name=""/>
          <p:cNvSpPr/>
          <p:nvPr/>
        </p:nvSpPr>
        <p:spPr>
          <a:xfrm>
            <a:off x="468360" y="3919680"/>
            <a:ext cx="14436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465120" y="39196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Times New Roman"/>
            </a:endParaRPr>
          </a:p>
        </p:txBody>
      </p:sp>
      <p:sp>
        <p:nvSpPr>
          <p:cNvPr id="3756" name=""/>
          <p:cNvSpPr/>
          <p:nvPr/>
        </p:nvSpPr>
        <p:spPr>
          <a:xfrm>
            <a:off x="610560" y="3675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757" name=""/>
          <p:cNvSpPr/>
          <p:nvPr/>
        </p:nvSpPr>
        <p:spPr>
          <a:xfrm flipV="1">
            <a:off x="836640" y="3886200"/>
            <a:ext cx="32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58" name=""/>
          <p:cNvSpPr/>
          <p:nvPr/>
        </p:nvSpPr>
        <p:spPr>
          <a:xfrm>
            <a:off x="836640" y="2228760"/>
            <a:ext cx="32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59" name=""/>
          <p:cNvSpPr/>
          <p:nvPr/>
        </p:nvSpPr>
        <p:spPr>
          <a:xfrm>
            <a:off x="820800" y="3919680"/>
            <a:ext cx="14760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0" name=""/>
          <p:cNvSpPr/>
          <p:nvPr/>
        </p:nvSpPr>
        <p:spPr>
          <a:xfrm>
            <a:off x="820080" y="39196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0</a:t>
            </a:r>
            <a:endParaRPr b="0" lang="en-US" sz="600" spc="-1" strike="noStrike">
              <a:solidFill>
                <a:srgbClr val="000000"/>
              </a:solidFill>
              <a:latin typeface="Times New Roman"/>
            </a:endParaRPr>
          </a:p>
        </p:txBody>
      </p:sp>
      <p:sp>
        <p:nvSpPr>
          <p:cNvPr id="3761" name=""/>
          <p:cNvSpPr/>
          <p:nvPr/>
        </p:nvSpPr>
        <p:spPr>
          <a:xfrm>
            <a:off x="967680" y="3675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762" name=""/>
          <p:cNvSpPr/>
          <p:nvPr/>
        </p:nvSpPr>
        <p:spPr>
          <a:xfrm flipV="1">
            <a:off x="1192320" y="3886200"/>
            <a:ext cx="32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63" name=""/>
          <p:cNvSpPr/>
          <p:nvPr/>
        </p:nvSpPr>
        <p:spPr>
          <a:xfrm>
            <a:off x="1192320" y="2228760"/>
            <a:ext cx="32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64" name=""/>
          <p:cNvSpPr/>
          <p:nvPr/>
        </p:nvSpPr>
        <p:spPr>
          <a:xfrm>
            <a:off x="1166760" y="3919680"/>
            <a:ext cx="14940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5" name=""/>
          <p:cNvSpPr/>
          <p:nvPr/>
        </p:nvSpPr>
        <p:spPr>
          <a:xfrm>
            <a:off x="1166760" y="39196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0</a:t>
            </a:r>
            <a:endParaRPr b="0" lang="en-US" sz="600" spc="-1" strike="noStrike">
              <a:solidFill>
                <a:srgbClr val="000000"/>
              </a:solidFill>
              <a:latin typeface="Times New Roman"/>
            </a:endParaRPr>
          </a:p>
        </p:txBody>
      </p:sp>
      <p:sp>
        <p:nvSpPr>
          <p:cNvPr id="3766" name=""/>
          <p:cNvSpPr/>
          <p:nvPr/>
        </p:nvSpPr>
        <p:spPr>
          <a:xfrm>
            <a:off x="1312200" y="3675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767" name=""/>
          <p:cNvSpPr/>
          <p:nvPr/>
        </p:nvSpPr>
        <p:spPr>
          <a:xfrm flipV="1">
            <a:off x="1539720" y="3886200"/>
            <a:ext cx="180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68" name=""/>
          <p:cNvSpPr/>
          <p:nvPr/>
        </p:nvSpPr>
        <p:spPr>
          <a:xfrm>
            <a:off x="1539720" y="2228760"/>
            <a:ext cx="180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69" name=""/>
          <p:cNvSpPr/>
          <p:nvPr/>
        </p:nvSpPr>
        <p:spPr>
          <a:xfrm>
            <a:off x="1522440" y="3919680"/>
            <a:ext cx="1490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0" name=""/>
          <p:cNvSpPr/>
          <p:nvPr/>
        </p:nvSpPr>
        <p:spPr>
          <a:xfrm>
            <a:off x="1519920" y="39196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0</a:t>
            </a:r>
            <a:endParaRPr b="0" lang="en-US" sz="600" spc="-1" strike="noStrike">
              <a:solidFill>
                <a:srgbClr val="000000"/>
              </a:solidFill>
              <a:latin typeface="Times New Roman"/>
            </a:endParaRPr>
          </a:p>
        </p:txBody>
      </p:sp>
      <p:sp>
        <p:nvSpPr>
          <p:cNvPr id="3771" name=""/>
          <p:cNvSpPr/>
          <p:nvPr/>
        </p:nvSpPr>
        <p:spPr>
          <a:xfrm>
            <a:off x="1667880" y="3675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772" name=""/>
          <p:cNvSpPr/>
          <p:nvPr/>
        </p:nvSpPr>
        <p:spPr>
          <a:xfrm flipV="1">
            <a:off x="1895400" y="3886200"/>
            <a:ext cx="180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73" name=""/>
          <p:cNvSpPr/>
          <p:nvPr/>
        </p:nvSpPr>
        <p:spPr>
          <a:xfrm>
            <a:off x="1895400" y="2228760"/>
            <a:ext cx="180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74" name=""/>
          <p:cNvSpPr/>
          <p:nvPr/>
        </p:nvSpPr>
        <p:spPr>
          <a:xfrm>
            <a:off x="1865160" y="3919680"/>
            <a:ext cx="22248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5" name=""/>
          <p:cNvSpPr/>
          <p:nvPr/>
        </p:nvSpPr>
        <p:spPr>
          <a:xfrm>
            <a:off x="1862280" y="3919680"/>
            <a:ext cx="12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0</a:t>
            </a:r>
            <a:endParaRPr b="0" lang="en-US" sz="600" spc="-1" strike="noStrike">
              <a:solidFill>
                <a:srgbClr val="000000"/>
              </a:solidFill>
              <a:latin typeface="Times New Roman"/>
            </a:endParaRPr>
          </a:p>
        </p:txBody>
      </p:sp>
      <p:sp>
        <p:nvSpPr>
          <p:cNvPr id="3776" name=""/>
          <p:cNvSpPr/>
          <p:nvPr/>
        </p:nvSpPr>
        <p:spPr>
          <a:xfrm>
            <a:off x="2083680" y="3675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777" name=""/>
          <p:cNvSpPr/>
          <p:nvPr/>
        </p:nvSpPr>
        <p:spPr>
          <a:xfrm flipV="1">
            <a:off x="2241720" y="3886200"/>
            <a:ext cx="288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78" name=""/>
          <p:cNvSpPr/>
          <p:nvPr/>
        </p:nvSpPr>
        <p:spPr>
          <a:xfrm>
            <a:off x="2241720" y="2228760"/>
            <a:ext cx="288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79" name=""/>
          <p:cNvSpPr/>
          <p:nvPr/>
        </p:nvSpPr>
        <p:spPr>
          <a:xfrm>
            <a:off x="2211480" y="3919680"/>
            <a:ext cx="22392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0" name=""/>
          <p:cNvSpPr/>
          <p:nvPr/>
        </p:nvSpPr>
        <p:spPr>
          <a:xfrm>
            <a:off x="2211840" y="3919680"/>
            <a:ext cx="12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0</a:t>
            </a:r>
            <a:endParaRPr b="0" lang="en-US" sz="600" spc="-1" strike="noStrike">
              <a:solidFill>
                <a:srgbClr val="000000"/>
              </a:solidFill>
              <a:latin typeface="Times New Roman"/>
            </a:endParaRPr>
          </a:p>
        </p:txBody>
      </p:sp>
      <p:sp>
        <p:nvSpPr>
          <p:cNvPr id="3781" name=""/>
          <p:cNvSpPr/>
          <p:nvPr/>
        </p:nvSpPr>
        <p:spPr>
          <a:xfrm>
            <a:off x="2431440" y="3675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782" name=""/>
          <p:cNvSpPr/>
          <p:nvPr/>
        </p:nvSpPr>
        <p:spPr>
          <a:xfrm flipV="1">
            <a:off x="2597040" y="3886200"/>
            <a:ext cx="32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83" name=""/>
          <p:cNvSpPr/>
          <p:nvPr/>
        </p:nvSpPr>
        <p:spPr>
          <a:xfrm>
            <a:off x="2597040" y="2228760"/>
            <a:ext cx="32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84" name=""/>
          <p:cNvSpPr/>
          <p:nvPr/>
        </p:nvSpPr>
        <p:spPr>
          <a:xfrm>
            <a:off x="142920" y="3908520"/>
            <a:ext cx="158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85" name=""/>
          <p:cNvSpPr/>
          <p:nvPr/>
        </p:nvSpPr>
        <p:spPr>
          <a:xfrm flipH="1">
            <a:off x="2573280" y="3908520"/>
            <a:ext cx="2376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86" name=""/>
          <p:cNvSpPr/>
          <p:nvPr/>
        </p:nvSpPr>
        <p:spPr>
          <a:xfrm>
            <a:off x="142920" y="3625920"/>
            <a:ext cx="158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87" name=""/>
          <p:cNvSpPr/>
          <p:nvPr/>
        </p:nvSpPr>
        <p:spPr>
          <a:xfrm flipH="1">
            <a:off x="2573280" y="3625920"/>
            <a:ext cx="2376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88" name=""/>
          <p:cNvSpPr/>
          <p:nvPr/>
        </p:nvSpPr>
        <p:spPr>
          <a:xfrm>
            <a:off x="142920" y="3348000"/>
            <a:ext cx="158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89" name=""/>
          <p:cNvSpPr/>
          <p:nvPr/>
        </p:nvSpPr>
        <p:spPr>
          <a:xfrm flipH="1">
            <a:off x="2573280" y="3348000"/>
            <a:ext cx="2376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0" name=""/>
          <p:cNvSpPr/>
          <p:nvPr/>
        </p:nvSpPr>
        <p:spPr>
          <a:xfrm flipV="1">
            <a:off x="142920" y="3068280"/>
            <a:ext cx="158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1" name=""/>
          <p:cNvSpPr/>
          <p:nvPr/>
        </p:nvSpPr>
        <p:spPr>
          <a:xfrm flipH="1" flipV="1">
            <a:off x="2573280" y="3068280"/>
            <a:ext cx="2376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2" name=""/>
          <p:cNvSpPr/>
          <p:nvPr/>
        </p:nvSpPr>
        <p:spPr>
          <a:xfrm>
            <a:off x="142920" y="2786040"/>
            <a:ext cx="158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3" name=""/>
          <p:cNvSpPr/>
          <p:nvPr/>
        </p:nvSpPr>
        <p:spPr>
          <a:xfrm flipH="1">
            <a:off x="2573280" y="2786040"/>
            <a:ext cx="2376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4" name=""/>
          <p:cNvSpPr/>
          <p:nvPr/>
        </p:nvSpPr>
        <p:spPr>
          <a:xfrm>
            <a:off x="142920" y="2508120"/>
            <a:ext cx="158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5" name=""/>
          <p:cNvSpPr/>
          <p:nvPr/>
        </p:nvSpPr>
        <p:spPr>
          <a:xfrm flipH="1">
            <a:off x="2573280" y="2508120"/>
            <a:ext cx="2376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6" name=""/>
          <p:cNvSpPr/>
          <p:nvPr/>
        </p:nvSpPr>
        <p:spPr>
          <a:xfrm>
            <a:off x="142920" y="2228760"/>
            <a:ext cx="1584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7" name=""/>
          <p:cNvSpPr/>
          <p:nvPr/>
        </p:nvSpPr>
        <p:spPr>
          <a:xfrm flipH="1">
            <a:off x="2573280" y="2228760"/>
            <a:ext cx="2376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8" name=""/>
          <p:cNvSpPr/>
          <p:nvPr/>
        </p:nvSpPr>
        <p:spPr>
          <a:xfrm>
            <a:off x="142920" y="2228760"/>
            <a:ext cx="245268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9" name=""/>
          <p:cNvSpPr/>
          <p:nvPr/>
        </p:nvSpPr>
        <p:spPr>
          <a:xfrm>
            <a:off x="142920" y="2228760"/>
            <a:ext cx="2452680" cy="1679760"/>
          </a:xfrm>
          <a:custGeom>
            <a:avLst/>
            <a:gdLst/>
            <a:ahLst/>
            <a:rect l="l" t="t" r="r" b="b"/>
            <a:pathLst>
              <a:path w="890" h="590">
                <a:moveTo>
                  <a:pt x="0" y="590"/>
                </a:moveTo>
                <a:lnTo>
                  <a:pt x="890" y="590"/>
                </a:lnTo>
                <a:lnTo>
                  <a:pt x="89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0" name=""/>
          <p:cNvSpPr/>
          <p:nvPr/>
        </p:nvSpPr>
        <p:spPr>
          <a:xfrm flipV="1">
            <a:off x="142920" y="2228760"/>
            <a:ext cx="1440" cy="16797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1" name=""/>
          <p:cNvSpPr/>
          <p:nvPr/>
        </p:nvSpPr>
        <p:spPr>
          <a:xfrm>
            <a:off x="189000" y="2565360"/>
            <a:ext cx="2238120" cy="1332000"/>
          </a:xfrm>
          <a:custGeom>
            <a:avLst/>
            <a:gdLst/>
            <a:ahLst/>
            <a:rect l="l" t="t" r="r" b="b"/>
            <a:pathLst>
              <a:path w="812" h="468">
                <a:moveTo>
                  <a:pt x="0" y="336"/>
                </a:moveTo>
                <a:lnTo>
                  <a:pt x="7" y="333"/>
                </a:lnTo>
                <a:lnTo>
                  <a:pt x="12" y="323"/>
                </a:lnTo>
                <a:lnTo>
                  <a:pt x="19" y="331"/>
                </a:lnTo>
                <a:lnTo>
                  <a:pt x="25" y="325"/>
                </a:lnTo>
                <a:lnTo>
                  <a:pt x="32" y="312"/>
                </a:lnTo>
                <a:lnTo>
                  <a:pt x="37" y="323"/>
                </a:lnTo>
                <a:lnTo>
                  <a:pt x="44" y="314"/>
                </a:lnTo>
                <a:lnTo>
                  <a:pt x="50" y="309"/>
                </a:lnTo>
                <a:lnTo>
                  <a:pt x="58" y="321"/>
                </a:lnTo>
                <a:lnTo>
                  <a:pt x="64" y="318"/>
                </a:lnTo>
                <a:lnTo>
                  <a:pt x="71" y="301"/>
                </a:lnTo>
                <a:lnTo>
                  <a:pt x="77" y="312"/>
                </a:lnTo>
                <a:lnTo>
                  <a:pt x="83" y="328"/>
                </a:lnTo>
                <a:lnTo>
                  <a:pt x="89" y="290"/>
                </a:lnTo>
                <a:lnTo>
                  <a:pt x="95" y="297"/>
                </a:lnTo>
                <a:lnTo>
                  <a:pt x="102" y="312"/>
                </a:lnTo>
                <a:lnTo>
                  <a:pt x="107" y="294"/>
                </a:lnTo>
                <a:lnTo>
                  <a:pt x="114" y="364"/>
                </a:lnTo>
                <a:lnTo>
                  <a:pt x="122" y="318"/>
                </a:lnTo>
                <a:lnTo>
                  <a:pt x="128" y="386"/>
                </a:lnTo>
                <a:lnTo>
                  <a:pt x="134" y="360"/>
                </a:lnTo>
                <a:lnTo>
                  <a:pt x="141" y="354"/>
                </a:lnTo>
                <a:lnTo>
                  <a:pt x="147" y="376"/>
                </a:lnTo>
                <a:lnTo>
                  <a:pt x="153" y="364"/>
                </a:lnTo>
                <a:lnTo>
                  <a:pt x="159" y="378"/>
                </a:lnTo>
                <a:lnTo>
                  <a:pt x="166" y="362"/>
                </a:lnTo>
                <a:lnTo>
                  <a:pt x="172" y="439"/>
                </a:lnTo>
                <a:lnTo>
                  <a:pt x="178" y="468"/>
                </a:lnTo>
                <a:lnTo>
                  <a:pt x="186" y="340"/>
                </a:lnTo>
                <a:lnTo>
                  <a:pt x="193" y="316"/>
                </a:lnTo>
                <a:lnTo>
                  <a:pt x="198" y="283"/>
                </a:lnTo>
                <a:lnTo>
                  <a:pt x="205" y="244"/>
                </a:lnTo>
                <a:lnTo>
                  <a:pt x="211" y="255"/>
                </a:lnTo>
                <a:lnTo>
                  <a:pt x="218" y="270"/>
                </a:lnTo>
                <a:lnTo>
                  <a:pt x="223" y="261"/>
                </a:lnTo>
                <a:lnTo>
                  <a:pt x="229" y="246"/>
                </a:lnTo>
                <a:lnTo>
                  <a:pt x="236" y="251"/>
                </a:lnTo>
                <a:lnTo>
                  <a:pt x="242" y="331"/>
                </a:lnTo>
                <a:lnTo>
                  <a:pt x="250" y="292"/>
                </a:lnTo>
                <a:lnTo>
                  <a:pt x="256" y="316"/>
                </a:lnTo>
                <a:lnTo>
                  <a:pt x="263" y="277"/>
                </a:lnTo>
                <a:lnTo>
                  <a:pt x="268" y="277"/>
                </a:lnTo>
                <a:lnTo>
                  <a:pt x="275" y="279"/>
                </a:lnTo>
                <a:lnTo>
                  <a:pt x="281" y="301"/>
                </a:lnTo>
                <a:lnTo>
                  <a:pt x="288" y="369"/>
                </a:lnTo>
                <a:lnTo>
                  <a:pt x="293" y="384"/>
                </a:lnTo>
                <a:lnTo>
                  <a:pt x="300" y="347"/>
                </a:lnTo>
                <a:lnTo>
                  <a:pt x="306" y="422"/>
                </a:lnTo>
                <a:lnTo>
                  <a:pt x="314" y="389"/>
                </a:lnTo>
                <a:lnTo>
                  <a:pt x="320" y="382"/>
                </a:lnTo>
                <a:lnTo>
                  <a:pt x="327" y="402"/>
                </a:lnTo>
                <a:lnTo>
                  <a:pt x="333" y="378"/>
                </a:lnTo>
                <a:lnTo>
                  <a:pt x="339" y="408"/>
                </a:lnTo>
                <a:lnTo>
                  <a:pt x="345" y="446"/>
                </a:lnTo>
                <a:lnTo>
                  <a:pt x="351" y="454"/>
                </a:lnTo>
                <a:lnTo>
                  <a:pt x="358" y="437"/>
                </a:lnTo>
                <a:lnTo>
                  <a:pt x="363" y="429"/>
                </a:lnTo>
                <a:lnTo>
                  <a:pt x="370" y="410"/>
                </a:lnTo>
                <a:lnTo>
                  <a:pt x="378" y="338"/>
                </a:lnTo>
                <a:lnTo>
                  <a:pt x="385" y="290"/>
                </a:lnTo>
                <a:lnTo>
                  <a:pt x="390" y="211"/>
                </a:lnTo>
                <a:lnTo>
                  <a:pt x="397" y="101"/>
                </a:lnTo>
                <a:lnTo>
                  <a:pt x="403" y="92"/>
                </a:lnTo>
                <a:lnTo>
                  <a:pt x="409" y="92"/>
                </a:lnTo>
                <a:lnTo>
                  <a:pt x="415" y="97"/>
                </a:lnTo>
                <a:lnTo>
                  <a:pt x="422" y="99"/>
                </a:lnTo>
                <a:lnTo>
                  <a:pt x="428" y="94"/>
                </a:lnTo>
                <a:lnTo>
                  <a:pt x="434" y="92"/>
                </a:lnTo>
                <a:lnTo>
                  <a:pt x="442" y="90"/>
                </a:lnTo>
                <a:lnTo>
                  <a:pt x="449" y="90"/>
                </a:lnTo>
                <a:lnTo>
                  <a:pt x="455" y="92"/>
                </a:lnTo>
                <a:lnTo>
                  <a:pt x="461" y="97"/>
                </a:lnTo>
                <a:lnTo>
                  <a:pt x="467" y="101"/>
                </a:lnTo>
                <a:lnTo>
                  <a:pt x="474" y="112"/>
                </a:lnTo>
                <a:lnTo>
                  <a:pt x="479" y="84"/>
                </a:lnTo>
                <a:lnTo>
                  <a:pt x="485" y="88"/>
                </a:lnTo>
                <a:lnTo>
                  <a:pt x="492" y="84"/>
                </a:lnTo>
                <a:lnTo>
                  <a:pt x="498" y="79"/>
                </a:lnTo>
                <a:lnTo>
                  <a:pt x="506" y="86"/>
                </a:lnTo>
                <a:lnTo>
                  <a:pt x="512" y="66"/>
                </a:lnTo>
                <a:lnTo>
                  <a:pt x="519" y="86"/>
                </a:lnTo>
                <a:lnTo>
                  <a:pt x="525" y="64"/>
                </a:lnTo>
                <a:lnTo>
                  <a:pt x="531" y="53"/>
                </a:lnTo>
                <a:lnTo>
                  <a:pt x="537" y="75"/>
                </a:lnTo>
                <a:lnTo>
                  <a:pt x="544" y="44"/>
                </a:lnTo>
                <a:lnTo>
                  <a:pt x="550" y="29"/>
                </a:lnTo>
                <a:lnTo>
                  <a:pt x="556" y="51"/>
                </a:lnTo>
                <a:lnTo>
                  <a:pt x="562" y="17"/>
                </a:lnTo>
                <a:lnTo>
                  <a:pt x="571" y="7"/>
                </a:lnTo>
                <a:lnTo>
                  <a:pt x="576" y="29"/>
                </a:lnTo>
                <a:lnTo>
                  <a:pt x="583" y="15"/>
                </a:lnTo>
                <a:lnTo>
                  <a:pt x="589" y="0"/>
                </a:lnTo>
                <a:lnTo>
                  <a:pt x="596" y="2"/>
                </a:lnTo>
                <a:lnTo>
                  <a:pt x="601" y="15"/>
                </a:lnTo>
                <a:lnTo>
                  <a:pt x="607" y="31"/>
                </a:lnTo>
                <a:lnTo>
                  <a:pt x="614" y="48"/>
                </a:lnTo>
                <a:lnTo>
                  <a:pt x="620" y="64"/>
                </a:lnTo>
                <a:lnTo>
                  <a:pt x="626" y="97"/>
                </a:lnTo>
                <a:lnTo>
                  <a:pt x="634" y="99"/>
                </a:lnTo>
                <a:lnTo>
                  <a:pt x="641" y="108"/>
                </a:lnTo>
                <a:lnTo>
                  <a:pt x="646" y="86"/>
                </a:lnTo>
                <a:lnTo>
                  <a:pt x="653" y="90"/>
                </a:lnTo>
                <a:lnTo>
                  <a:pt x="659" y="106"/>
                </a:lnTo>
                <a:lnTo>
                  <a:pt x="666" y="68"/>
                </a:lnTo>
                <a:lnTo>
                  <a:pt x="671" y="92"/>
                </a:lnTo>
                <a:lnTo>
                  <a:pt x="678" y="106"/>
                </a:lnTo>
                <a:lnTo>
                  <a:pt x="684" y="101"/>
                </a:lnTo>
                <a:lnTo>
                  <a:pt x="691" y="101"/>
                </a:lnTo>
                <a:lnTo>
                  <a:pt x="698" y="86"/>
                </a:lnTo>
                <a:lnTo>
                  <a:pt x="705" y="90"/>
                </a:lnTo>
                <a:lnTo>
                  <a:pt x="711" y="97"/>
                </a:lnTo>
                <a:lnTo>
                  <a:pt x="717" y="94"/>
                </a:lnTo>
                <a:lnTo>
                  <a:pt x="723" y="106"/>
                </a:lnTo>
                <a:lnTo>
                  <a:pt x="730" y="106"/>
                </a:lnTo>
                <a:lnTo>
                  <a:pt x="736" y="75"/>
                </a:lnTo>
                <a:lnTo>
                  <a:pt x="741" y="75"/>
                </a:lnTo>
                <a:lnTo>
                  <a:pt x="748" y="58"/>
                </a:lnTo>
                <a:lnTo>
                  <a:pt x="754" y="39"/>
                </a:lnTo>
                <a:lnTo>
                  <a:pt x="762" y="62"/>
                </a:lnTo>
                <a:lnTo>
                  <a:pt x="768" y="55"/>
                </a:lnTo>
                <a:lnTo>
                  <a:pt x="775" y="17"/>
                </a:lnTo>
                <a:lnTo>
                  <a:pt x="781" y="42"/>
                </a:lnTo>
                <a:lnTo>
                  <a:pt x="787" y="24"/>
                </a:lnTo>
                <a:lnTo>
                  <a:pt x="793" y="9"/>
                </a:lnTo>
                <a:lnTo>
                  <a:pt x="800" y="60"/>
                </a:lnTo>
                <a:lnTo>
                  <a:pt x="806" y="64"/>
                </a:lnTo>
                <a:lnTo>
                  <a:pt x="812" y="90"/>
                </a:lnTo>
              </a:path>
            </a:pathLst>
          </a:custGeom>
          <a:noFill/>
          <a:ln cap="rnd" w="15840">
            <a:solidFill>
              <a:srgbClr val="cc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2" name=""/>
          <p:cNvSpPr/>
          <p:nvPr/>
        </p:nvSpPr>
        <p:spPr>
          <a:xfrm>
            <a:off x="196920" y="2246400"/>
            <a:ext cx="2238480" cy="1568520"/>
          </a:xfrm>
          <a:custGeom>
            <a:avLst/>
            <a:gdLst/>
            <a:ahLst/>
            <a:rect l="l" t="t" r="r" b="b"/>
            <a:pathLst>
              <a:path w="812" h="551">
                <a:moveTo>
                  <a:pt x="0" y="486"/>
                </a:moveTo>
                <a:lnTo>
                  <a:pt x="6" y="469"/>
                </a:lnTo>
                <a:lnTo>
                  <a:pt x="12" y="471"/>
                </a:lnTo>
                <a:lnTo>
                  <a:pt x="19" y="478"/>
                </a:lnTo>
                <a:lnTo>
                  <a:pt x="25" y="480"/>
                </a:lnTo>
                <a:lnTo>
                  <a:pt x="31" y="482"/>
                </a:lnTo>
                <a:lnTo>
                  <a:pt x="37" y="484"/>
                </a:lnTo>
                <a:lnTo>
                  <a:pt x="44" y="490"/>
                </a:lnTo>
                <a:lnTo>
                  <a:pt x="50" y="497"/>
                </a:lnTo>
                <a:lnTo>
                  <a:pt x="58" y="501"/>
                </a:lnTo>
                <a:lnTo>
                  <a:pt x="64" y="510"/>
                </a:lnTo>
                <a:lnTo>
                  <a:pt x="71" y="514"/>
                </a:lnTo>
                <a:lnTo>
                  <a:pt x="76" y="536"/>
                </a:lnTo>
                <a:lnTo>
                  <a:pt x="82" y="517"/>
                </a:lnTo>
                <a:lnTo>
                  <a:pt x="89" y="516"/>
                </a:lnTo>
                <a:lnTo>
                  <a:pt x="95" y="527"/>
                </a:lnTo>
                <a:lnTo>
                  <a:pt x="101" y="523"/>
                </a:lnTo>
                <a:lnTo>
                  <a:pt x="107" y="488"/>
                </a:lnTo>
                <a:lnTo>
                  <a:pt x="114" y="492"/>
                </a:lnTo>
                <a:lnTo>
                  <a:pt x="122" y="499"/>
                </a:lnTo>
                <a:lnTo>
                  <a:pt x="128" y="462"/>
                </a:lnTo>
                <a:lnTo>
                  <a:pt x="134" y="443"/>
                </a:lnTo>
                <a:lnTo>
                  <a:pt x="141" y="473"/>
                </a:lnTo>
                <a:lnTo>
                  <a:pt x="146" y="424"/>
                </a:lnTo>
                <a:lnTo>
                  <a:pt x="153" y="418"/>
                </a:lnTo>
                <a:lnTo>
                  <a:pt x="159" y="390"/>
                </a:lnTo>
                <a:lnTo>
                  <a:pt x="166" y="424"/>
                </a:lnTo>
                <a:lnTo>
                  <a:pt x="171" y="428"/>
                </a:lnTo>
                <a:lnTo>
                  <a:pt x="178" y="416"/>
                </a:lnTo>
                <a:lnTo>
                  <a:pt x="186" y="410"/>
                </a:lnTo>
                <a:lnTo>
                  <a:pt x="193" y="412"/>
                </a:lnTo>
                <a:lnTo>
                  <a:pt x="198" y="448"/>
                </a:lnTo>
                <a:lnTo>
                  <a:pt x="205" y="418"/>
                </a:lnTo>
                <a:lnTo>
                  <a:pt x="211" y="442"/>
                </a:lnTo>
                <a:lnTo>
                  <a:pt x="217" y="468"/>
                </a:lnTo>
                <a:lnTo>
                  <a:pt x="223" y="482"/>
                </a:lnTo>
                <a:lnTo>
                  <a:pt x="229" y="448"/>
                </a:lnTo>
                <a:lnTo>
                  <a:pt x="236" y="420"/>
                </a:lnTo>
                <a:lnTo>
                  <a:pt x="241" y="440"/>
                </a:lnTo>
                <a:lnTo>
                  <a:pt x="250" y="434"/>
                </a:lnTo>
                <a:lnTo>
                  <a:pt x="256" y="454"/>
                </a:lnTo>
                <a:lnTo>
                  <a:pt x="263" y="493"/>
                </a:lnTo>
                <a:lnTo>
                  <a:pt x="268" y="506"/>
                </a:lnTo>
                <a:lnTo>
                  <a:pt x="275" y="471"/>
                </a:lnTo>
                <a:lnTo>
                  <a:pt x="281" y="464"/>
                </a:lnTo>
                <a:lnTo>
                  <a:pt x="288" y="462"/>
                </a:lnTo>
                <a:lnTo>
                  <a:pt x="293" y="395"/>
                </a:lnTo>
                <a:lnTo>
                  <a:pt x="300" y="445"/>
                </a:lnTo>
                <a:lnTo>
                  <a:pt x="306" y="466"/>
                </a:lnTo>
                <a:lnTo>
                  <a:pt x="314" y="497"/>
                </a:lnTo>
                <a:lnTo>
                  <a:pt x="320" y="551"/>
                </a:lnTo>
                <a:lnTo>
                  <a:pt x="327" y="504"/>
                </a:lnTo>
                <a:lnTo>
                  <a:pt x="333" y="450"/>
                </a:lnTo>
                <a:lnTo>
                  <a:pt x="338" y="466"/>
                </a:lnTo>
                <a:lnTo>
                  <a:pt x="345" y="534"/>
                </a:lnTo>
                <a:lnTo>
                  <a:pt x="351" y="480"/>
                </a:lnTo>
                <a:lnTo>
                  <a:pt x="358" y="510"/>
                </a:lnTo>
                <a:lnTo>
                  <a:pt x="363" y="468"/>
                </a:lnTo>
                <a:lnTo>
                  <a:pt x="370" y="426"/>
                </a:lnTo>
                <a:lnTo>
                  <a:pt x="378" y="426"/>
                </a:lnTo>
                <a:lnTo>
                  <a:pt x="384" y="493"/>
                </a:lnTo>
                <a:lnTo>
                  <a:pt x="390" y="492"/>
                </a:lnTo>
                <a:lnTo>
                  <a:pt x="397" y="471"/>
                </a:lnTo>
                <a:lnTo>
                  <a:pt x="403" y="402"/>
                </a:lnTo>
                <a:lnTo>
                  <a:pt x="409" y="412"/>
                </a:lnTo>
                <a:lnTo>
                  <a:pt x="415" y="414"/>
                </a:lnTo>
                <a:lnTo>
                  <a:pt x="422" y="382"/>
                </a:lnTo>
                <a:lnTo>
                  <a:pt x="428" y="382"/>
                </a:lnTo>
                <a:lnTo>
                  <a:pt x="434" y="356"/>
                </a:lnTo>
                <a:lnTo>
                  <a:pt x="442" y="298"/>
                </a:lnTo>
                <a:lnTo>
                  <a:pt x="449" y="295"/>
                </a:lnTo>
                <a:lnTo>
                  <a:pt x="454" y="253"/>
                </a:lnTo>
                <a:lnTo>
                  <a:pt x="461" y="239"/>
                </a:lnTo>
                <a:lnTo>
                  <a:pt x="467" y="245"/>
                </a:lnTo>
                <a:lnTo>
                  <a:pt x="473" y="225"/>
                </a:lnTo>
                <a:lnTo>
                  <a:pt x="479" y="243"/>
                </a:lnTo>
                <a:lnTo>
                  <a:pt x="485" y="207"/>
                </a:lnTo>
                <a:lnTo>
                  <a:pt x="492" y="213"/>
                </a:lnTo>
                <a:lnTo>
                  <a:pt x="498" y="195"/>
                </a:lnTo>
                <a:lnTo>
                  <a:pt x="506" y="273"/>
                </a:lnTo>
                <a:lnTo>
                  <a:pt x="512" y="241"/>
                </a:lnTo>
                <a:lnTo>
                  <a:pt x="519" y="278"/>
                </a:lnTo>
                <a:lnTo>
                  <a:pt x="524" y="315"/>
                </a:lnTo>
                <a:lnTo>
                  <a:pt x="531" y="302"/>
                </a:lnTo>
                <a:lnTo>
                  <a:pt x="537" y="255"/>
                </a:lnTo>
                <a:lnTo>
                  <a:pt x="544" y="211"/>
                </a:lnTo>
                <a:lnTo>
                  <a:pt x="549" y="213"/>
                </a:lnTo>
                <a:lnTo>
                  <a:pt x="556" y="167"/>
                </a:lnTo>
                <a:lnTo>
                  <a:pt x="562" y="83"/>
                </a:lnTo>
                <a:lnTo>
                  <a:pt x="570" y="109"/>
                </a:lnTo>
                <a:lnTo>
                  <a:pt x="576" y="118"/>
                </a:lnTo>
                <a:lnTo>
                  <a:pt x="583" y="161"/>
                </a:lnTo>
                <a:lnTo>
                  <a:pt x="589" y="179"/>
                </a:lnTo>
                <a:lnTo>
                  <a:pt x="594" y="211"/>
                </a:lnTo>
                <a:lnTo>
                  <a:pt x="601" y="249"/>
                </a:lnTo>
                <a:lnTo>
                  <a:pt x="607" y="189"/>
                </a:lnTo>
                <a:lnTo>
                  <a:pt x="614" y="150"/>
                </a:lnTo>
                <a:lnTo>
                  <a:pt x="619" y="187"/>
                </a:lnTo>
                <a:lnTo>
                  <a:pt x="626" y="189"/>
                </a:lnTo>
                <a:lnTo>
                  <a:pt x="634" y="135"/>
                </a:lnTo>
                <a:lnTo>
                  <a:pt x="641" y="124"/>
                </a:lnTo>
                <a:lnTo>
                  <a:pt x="646" y="72"/>
                </a:lnTo>
                <a:lnTo>
                  <a:pt x="653" y="133"/>
                </a:lnTo>
                <a:lnTo>
                  <a:pt x="659" y="118"/>
                </a:lnTo>
                <a:lnTo>
                  <a:pt x="665" y="96"/>
                </a:lnTo>
                <a:lnTo>
                  <a:pt x="671" y="126"/>
                </a:lnTo>
                <a:lnTo>
                  <a:pt x="678" y="66"/>
                </a:lnTo>
                <a:lnTo>
                  <a:pt x="684" y="46"/>
                </a:lnTo>
                <a:lnTo>
                  <a:pt x="690" y="129"/>
                </a:lnTo>
                <a:lnTo>
                  <a:pt x="698" y="183"/>
                </a:lnTo>
                <a:lnTo>
                  <a:pt x="705" y="137"/>
                </a:lnTo>
                <a:lnTo>
                  <a:pt x="711" y="135"/>
                </a:lnTo>
                <a:lnTo>
                  <a:pt x="717" y="90"/>
                </a:lnTo>
                <a:lnTo>
                  <a:pt x="723" y="94"/>
                </a:lnTo>
                <a:lnTo>
                  <a:pt x="729" y="76"/>
                </a:lnTo>
                <a:lnTo>
                  <a:pt x="735" y="129"/>
                </a:lnTo>
                <a:lnTo>
                  <a:pt x="741" y="150"/>
                </a:lnTo>
                <a:lnTo>
                  <a:pt x="748" y="163"/>
                </a:lnTo>
                <a:lnTo>
                  <a:pt x="754" y="120"/>
                </a:lnTo>
                <a:lnTo>
                  <a:pt x="762" y="137"/>
                </a:lnTo>
                <a:lnTo>
                  <a:pt x="768" y="133"/>
                </a:lnTo>
                <a:lnTo>
                  <a:pt x="775" y="131"/>
                </a:lnTo>
                <a:lnTo>
                  <a:pt x="781" y="157"/>
                </a:lnTo>
                <a:lnTo>
                  <a:pt x="787" y="114"/>
                </a:lnTo>
                <a:lnTo>
                  <a:pt x="793" y="60"/>
                </a:lnTo>
                <a:lnTo>
                  <a:pt x="800" y="50"/>
                </a:lnTo>
                <a:lnTo>
                  <a:pt x="806" y="28"/>
                </a:lnTo>
                <a:lnTo>
                  <a:pt x="812" y="0"/>
                </a:lnTo>
              </a:path>
            </a:pathLst>
          </a:custGeom>
          <a:noFill/>
          <a:ln cap="rnd" w="15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3" name=""/>
          <p:cNvSpPr/>
          <p:nvPr/>
        </p:nvSpPr>
        <p:spPr>
          <a:xfrm>
            <a:off x="136080" y="4365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04" name=""/>
          <p:cNvSpPr/>
          <p:nvPr/>
        </p:nvSpPr>
        <p:spPr>
          <a:xfrm>
            <a:off x="147600" y="4368960"/>
            <a:ext cx="2455920" cy="1677960"/>
          </a:xfrm>
          <a:prstGeom prst="rect">
            <a:avLst/>
          </a:prstGeom>
          <a:noFill/>
          <a:ln cap="rnd"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5" name=""/>
          <p:cNvSpPr/>
          <p:nvPr/>
        </p:nvSpPr>
        <p:spPr>
          <a:xfrm>
            <a:off x="147600" y="4368960"/>
            <a:ext cx="245448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06" name=""/>
          <p:cNvSpPr/>
          <p:nvPr/>
        </p:nvSpPr>
        <p:spPr>
          <a:xfrm>
            <a:off x="147600" y="4368960"/>
            <a:ext cx="2454480" cy="1677960"/>
          </a:xfrm>
          <a:custGeom>
            <a:avLst/>
            <a:gdLst/>
            <a:ahLst/>
            <a:rect l="l" t="t" r="r" b="b"/>
            <a:pathLst>
              <a:path w="890" h="590">
                <a:moveTo>
                  <a:pt x="0" y="590"/>
                </a:moveTo>
                <a:lnTo>
                  <a:pt x="890" y="590"/>
                </a:lnTo>
                <a:lnTo>
                  <a:pt x="89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7" name=""/>
          <p:cNvSpPr/>
          <p:nvPr/>
        </p:nvSpPr>
        <p:spPr>
          <a:xfrm flipV="1">
            <a:off x="147600" y="4368600"/>
            <a:ext cx="3240" cy="16779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8" name=""/>
          <p:cNvSpPr/>
          <p:nvPr/>
        </p:nvSpPr>
        <p:spPr>
          <a:xfrm>
            <a:off x="147600" y="6046920"/>
            <a:ext cx="245448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09" name=""/>
          <p:cNvSpPr/>
          <p:nvPr/>
        </p:nvSpPr>
        <p:spPr>
          <a:xfrm flipV="1">
            <a:off x="147600" y="4368600"/>
            <a:ext cx="3240" cy="16779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flipV="1">
            <a:off x="147600" y="6024600"/>
            <a:ext cx="32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11" name=""/>
          <p:cNvSpPr/>
          <p:nvPr/>
        </p:nvSpPr>
        <p:spPr>
          <a:xfrm>
            <a:off x="147600" y="4368960"/>
            <a:ext cx="32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12" name=""/>
          <p:cNvSpPr/>
          <p:nvPr/>
        </p:nvSpPr>
        <p:spPr>
          <a:xfrm>
            <a:off x="136440" y="6058080"/>
            <a:ext cx="7452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3" name=""/>
          <p:cNvSpPr/>
          <p:nvPr/>
        </p:nvSpPr>
        <p:spPr>
          <a:xfrm>
            <a:off x="136800" y="60580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3814" name=""/>
          <p:cNvSpPr/>
          <p:nvPr/>
        </p:nvSpPr>
        <p:spPr>
          <a:xfrm>
            <a:off x="210600" y="5813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815" name=""/>
          <p:cNvSpPr/>
          <p:nvPr/>
        </p:nvSpPr>
        <p:spPr>
          <a:xfrm flipV="1">
            <a:off x="495360" y="6024600"/>
            <a:ext cx="14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16" name=""/>
          <p:cNvSpPr/>
          <p:nvPr/>
        </p:nvSpPr>
        <p:spPr>
          <a:xfrm>
            <a:off x="495360" y="4368960"/>
            <a:ext cx="14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17" name=""/>
          <p:cNvSpPr/>
          <p:nvPr/>
        </p:nvSpPr>
        <p:spPr>
          <a:xfrm>
            <a:off x="473040" y="6058080"/>
            <a:ext cx="14940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8" name=""/>
          <p:cNvSpPr/>
          <p:nvPr/>
        </p:nvSpPr>
        <p:spPr>
          <a:xfrm>
            <a:off x="473040" y="60580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Times New Roman"/>
            </a:endParaRPr>
          </a:p>
        </p:txBody>
      </p:sp>
      <p:sp>
        <p:nvSpPr>
          <p:cNvPr id="3819" name=""/>
          <p:cNvSpPr/>
          <p:nvPr/>
        </p:nvSpPr>
        <p:spPr>
          <a:xfrm>
            <a:off x="621720" y="5813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820" name=""/>
          <p:cNvSpPr/>
          <p:nvPr/>
        </p:nvSpPr>
        <p:spPr>
          <a:xfrm flipV="1">
            <a:off x="844560" y="6024600"/>
            <a:ext cx="32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21" name=""/>
          <p:cNvSpPr/>
          <p:nvPr/>
        </p:nvSpPr>
        <p:spPr>
          <a:xfrm>
            <a:off x="844560" y="4368960"/>
            <a:ext cx="32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22" name=""/>
          <p:cNvSpPr/>
          <p:nvPr/>
        </p:nvSpPr>
        <p:spPr>
          <a:xfrm>
            <a:off x="828720" y="6058080"/>
            <a:ext cx="1490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3" name=""/>
          <p:cNvSpPr/>
          <p:nvPr/>
        </p:nvSpPr>
        <p:spPr>
          <a:xfrm>
            <a:off x="825480" y="60580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0</a:t>
            </a:r>
            <a:endParaRPr b="0" lang="en-US" sz="600" spc="-1" strike="noStrike">
              <a:solidFill>
                <a:srgbClr val="000000"/>
              </a:solidFill>
              <a:latin typeface="Times New Roman"/>
            </a:endParaRPr>
          </a:p>
        </p:txBody>
      </p:sp>
      <p:sp>
        <p:nvSpPr>
          <p:cNvPr id="3824" name=""/>
          <p:cNvSpPr/>
          <p:nvPr/>
        </p:nvSpPr>
        <p:spPr>
          <a:xfrm>
            <a:off x="974160" y="5813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825" name=""/>
          <p:cNvSpPr/>
          <p:nvPr/>
        </p:nvSpPr>
        <p:spPr>
          <a:xfrm flipV="1">
            <a:off x="1200240" y="6024600"/>
            <a:ext cx="32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26" name=""/>
          <p:cNvSpPr/>
          <p:nvPr/>
        </p:nvSpPr>
        <p:spPr>
          <a:xfrm>
            <a:off x="1200240" y="4368960"/>
            <a:ext cx="32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27" name=""/>
          <p:cNvSpPr/>
          <p:nvPr/>
        </p:nvSpPr>
        <p:spPr>
          <a:xfrm>
            <a:off x="1176480" y="6058080"/>
            <a:ext cx="14760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8" name=""/>
          <p:cNvSpPr/>
          <p:nvPr/>
        </p:nvSpPr>
        <p:spPr>
          <a:xfrm>
            <a:off x="1176480" y="60580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0</a:t>
            </a:r>
            <a:endParaRPr b="0" lang="en-US" sz="600" spc="-1" strike="noStrike">
              <a:solidFill>
                <a:srgbClr val="000000"/>
              </a:solidFill>
              <a:latin typeface="Times New Roman"/>
            </a:endParaRPr>
          </a:p>
        </p:txBody>
      </p:sp>
      <p:sp>
        <p:nvSpPr>
          <p:cNvPr id="3829" name=""/>
          <p:cNvSpPr/>
          <p:nvPr/>
        </p:nvSpPr>
        <p:spPr>
          <a:xfrm>
            <a:off x="1323360" y="5813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830" name=""/>
          <p:cNvSpPr/>
          <p:nvPr/>
        </p:nvSpPr>
        <p:spPr>
          <a:xfrm flipV="1">
            <a:off x="1544760" y="6024600"/>
            <a:ext cx="612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31" name=""/>
          <p:cNvSpPr/>
          <p:nvPr/>
        </p:nvSpPr>
        <p:spPr>
          <a:xfrm>
            <a:off x="1544760" y="4368960"/>
            <a:ext cx="612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32" name=""/>
          <p:cNvSpPr/>
          <p:nvPr/>
        </p:nvSpPr>
        <p:spPr>
          <a:xfrm>
            <a:off x="1531800" y="6058080"/>
            <a:ext cx="14616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a:off x="1531800" y="60580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0</a:t>
            </a:r>
            <a:endParaRPr b="0" lang="en-US" sz="600" spc="-1" strike="noStrike">
              <a:solidFill>
                <a:srgbClr val="000000"/>
              </a:solidFill>
              <a:latin typeface="Times New Roman"/>
            </a:endParaRPr>
          </a:p>
        </p:txBody>
      </p:sp>
      <p:sp>
        <p:nvSpPr>
          <p:cNvPr id="3834" name=""/>
          <p:cNvSpPr/>
          <p:nvPr/>
        </p:nvSpPr>
        <p:spPr>
          <a:xfrm>
            <a:off x="1677240" y="5813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835" name=""/>
          <p:cNvSpPr/>
          <p:nvPr/>
        </p:nvSpPr>
        <p:spPr>
          <a:xfrm flipV="1">
            <a:off x="1903320" y="6024600"/>
            <a:ext cx="32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36" name=""/>
          <p:cNvSpPr/>
          <p:nvPr/>
        </p:nvSpPr>
        <p:spPr>
          <a:xfrm>
            <a:off x="1903320" y="4368960"/>
            <a:ext cx="32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37" name=""/>
          <p:cNvSpPr/>
          <p:nvPr/>
        </p:nvSpPr>
        <p:spPr>
          <a:xfrm>
            <a:off x="1870200" y="6058080"/>
            <a:ext cx="22680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8" name=""/>
          <p:cNvSpPr/>
          <p:nvPr/>
        </p:nvSpPr>
        <p:spPr>
          <a:xfrm>
            <a:off x="1869120" y="6058080"/>
            <a:ext cx="12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0</a:t>
            </a:r>
            <a:endParaRPr b="0" lang="en-US" sz="600" spc="-1" strike="noStrike">
              <a:solidFill>
                <a:srgbClr val="000000"/>
              </a:solidFill>
              <a:latin typeface="Times New Roman"/>
            </a:endParaRPr>
          </a:p>
        </p:txBody>
      </p:sp>
      <p:sp>
        <p:nvSpPr>
          <p:cNvPr id="3839" name=""/>
          <p:cNvSpPr/>
          <p:nvPr/>
        </p:nvSpPr>
        <p:spPr>
          <a:xfrm>
            <a:off x="2093400" y="5813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840" name=""/>
          <p:cNvSpPr/>
          <p:nvPr/>
        </p:nvSpPr>
        <p:spPr>
          <a:xfrm flipV="1">
            <a:off x="2251080" y="6024600"/>
            <a:ext cx="32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1" name=""/>
          <p:cNvSpPr/>
          <p:nvPr/>
        </p:nvSpPr>
        <p:spPr>
          <a:xfrm>
            <a:off x="2251080" y="4368960"/>
            <a:ext cx="32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42" name=""/>
          <p:cNvSpPr/>
          <p:nvPr/>
        </p:nvSpPr>
        <p:spPr>
          <a:xfrm>
            <a:off x="2220840" y="6058080"/>
            <a:ext cx="22068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3" name=""/>
          <p:cNvSpPr/>
          <p:nvPr/>
        </p:nvSpPr>
        <p:spPr>
          <a:xfrm>
            <a:off x="2218320" y="6058080"/>
            <a:ext cx="12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0</a:t>
            </a:r>
            <a:endParaRPr b="0" lang="en-US" sz="600" spc="-1" strike="noStrike">
              <a:solidFill>
                <a:srgbClr val="000000"/>
              </a:solidFill>
              <a:latin typeface="Times New Roman"/>
            </a:endParaRPr>
          </a:p>
        </p:txBody>
      </p:sp>
      <p:sp>
        <p:nvSpPr>
          <p:cNvPr id="3844" name=""/>
          <p:cNvSpPr/>
          <p:nvPr/>
        </p:nvSpPr>
        <p:spPr>
          <a:xfrm>
            <a:off x="2441160" y="5813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845" name=""/>
          <p:cNvSpPr/>
          <p:nvPr/>
        </p:nvSpPr>
        <p:spPr>
          <a:xfrm flipV="1">
            <a:off x="2603520" y="6024600"/>
            <a:ext cx="3240" cy="22320"/>
          </a:xfrm>
          <a:prstGeom prst="line">
            <a:avLst/>
          </a:prstGeom>
          <a:ln cap="rnd"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6" name=""/>
          <p:cNvSpPr/>
          <p:nvPr/>
        </p:nvSpPr>
        <p:spPr>
          <a:xfrm>
            <a:off x="2603520" y="4368960"/>
            <a:ext cx="3240" cy="21960"/>
          </a:xfrm>
          <a:prstGeom prst="line">
            <a:avLst/>
          </a:prstGeom>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47" name=""/>
          <p:cNvSpPr/>
          <p:nvPr/>
        </p:nvSpPr>
        <p:spPr>
          <a:xfrm>
            <a:off x="147600" y="6046920"/>
            <a:ext cx="2232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48" name=""/>
          <p:cNvSpPr/>
          <p:nvPr/>
        </p:nvSpPr>
        <p:spPr>
          <a:xfrm flipH="1">
            <a:off x="2579760" y="6046920"/>
            <a:ext cx="2376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49" name=""/>
          <p:cNvSpPr/>
          <p:nvPr/>
        </p:nvSpPr>
        <p:spPr>
          <a:xfrm>
            <a:off x="147600" y="5765760"/>
            <a:ext cx="2232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0" name=""/>
          <p:cNvSpPr/>
          <p:nvPr/>
        </p:nvSpPr>
        <p:spPr>
          <a:xfrm flipH="1">
            <a:off x="2579760" y="5765760"/>
            <a:ext cx="23760" cy="1800"/>
          </a:xfrm>
          <a:prstGeom prst="line">
            <a:avLst/>
          </a:prstGeom>
          <a:ln cap="rnd"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1" name=""/>
          <p:cNvSpPr/>
          <p:nvPr/>
        </p:nvSpPr>
        <p:spPr>
          <a:xfrm>
            <a:off x="147600" y="5486400"/>
            <a:ext cx="223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2" name=""/>
          <p:cNvSpPr/>
          <p:nvPr/>
        </p:nvSpPr>
        <p:spPr>
          <a:xfrm flipH="1">
            <a:off x="2579760" y="5486400"/>
            <a:ext cx="2376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3" name=""/>
          <p:cNvSpPr/>
          <p:nvPr/>
        </p:nvSpPr>
        <p:spPr>
          <a:xfrm flipV="1">
            <a:off x="147600" y="5206680"/>
            <a:ext cx="223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4" name=""/>
          <p:cNvSpPr/>
          <p:nvPr/>
        </p:nvSpPr>
        <p:spPr>
          <a:xfrm flipH="1" flipV="1">
            <a:off x="2579760" y="5206680"/>
            <a:ext cx="2376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5" name=""/>
          <p:cNvSpPr/>
          <p:nvPr/>
        </p:nvSpPr>
        <p:spPr>
          <a:xfrm>
            <a:off x="147600" y="4925880"/>
            <a:ext cx="223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6" name=""/>
          <p:cNvSpPr/>
          <p:nvPr/>
        </p:nvSpPr>
        <p:spPr>
          <a:xfrm flipH="1">
            <a:off x="2579760" y="4925880"/>
            <a:ext cx="2376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7" name=""/>
          <p:cNvSpPr/>
          <p:nvPr/>
        </p:nvSpPr>
        <p:spPr>
          <a:xfrm>
            <a:off x="147600" y="4646520"/>
            <a:ext cx="2232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8" name=""/>
          <p:cNvSpPr/>
          <p:nvPr/>
        </p:nvSpPr>
        <p:spPr>
          <a:xfrm flipH="1">
            <a:off x="2579760" y="4646520"/>
            <a:ext cx="23760" cy="3240"/>
          </a:xfrm>
          <a:prstGeom prst="line">
            <a:avLst/>
          </a:prstGeom>
          <a:ln cap="rnd"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9" name=""/>
          <p:cNvSpPr/>
          <p:nvPr/>
        </p:nvSpPr>
        <p:spPr>
          <a:xfrm>
            <a:off x="147600" y="4368960"/>
            <a:ext cx="2232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60" name=""/>
          <p:cNvSpPr/>
          <p:nvPr/>
        </p:nvSpPr>
        <p:spPr>
          <a:xfrm flipH="1">
            <a:off x="2579760" y="4368960"/>
            <a:ext cx="2376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61" name=""/>
          <p:cNvSpPr/>
          <p:nvPr/>
        </p:nvSpPr>
        <p:spPr>
          <a:xfrm>
            <a:off x="147600" y="4368960"/>
            <a:ext cx="2454480" cy="2880"/>
          </a:xfrm>
          <a:prstGeom prst="line">
            <a:avLst/>
          </a:prstGeom>
          <a:ln cap="rnd"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62" name=""/>
          <p:cNvSpPr/>
          <p:nvPr/>
        </p:nvSpPr>
        <p:spPr>
          <a:xfrm>
            <a:off x="147600" y="4368960"/>
            <a:ext cx="2454480" cy="1677960"/>
          </a:xfrm>
          <a:custGeom>
            <a:avLst/>
            <a:gdLst/>
            <a:ahLst/>
            <a:rect l="l" t="t" r="r" b="b"/>
            <a:pathLst>
              <a:path w="890" h="590">
                <a:moveTo>
                  <a:pt x="0" y="590"/>
                </a:moveTo>
                <a:lnTo>
                  <a:pt x="890" y="590"/>
                </a:lnTo>
                <a:lnTo>
                  <a:pt x="89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flipV="1">
            <a:off x="147600" y="4368600"/>
            <a:ext cx="3240" cy="1677960"/>
          </a:xfrm>
          <a:prstGeom prst="line">
            <a:avLst/>
          </a:prstGeom>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192240" y="4481640"/>
            <a:ext cx="2241360" cy="1357200"/>
          </a:xfrm>
          <a:custGeom>
            <a:avLst/>
            <a:gdLst/>
            <a:ahLst/>
            <a:rect l="l" t="t" r="r" b="b"/>
            <a:pathLst>
              <a:path w="813" h="477">
                <a:moveTo>
                  <a:pt x="0" y="152"/>
                </a:moveTo>
                <a:lnTo>
                  <a:pt x="6" y="158"/>
                </a:lnTo>
                <a:lnTo>
                  <a:pt x="13" y="161"/>
                </a:lnTo>
                <a:lnTo>
                  <a:pt x="18" y="197"/>
                </a:lnTo>
                <a:lnTo>
                  <a:pt x="25" y="199"/>
                </a:lnTo>
                <a:lnTo>
                  <a:pt x="31" y="186"/>
                </a:lnTo>
                <a:lnTo>
                  <a:pt x="37" y="72"/>
                </a:lnTo>
                <a:lnTo>
                  <a:pt x="43" y="21"/>
                </a:lnTo>
                <a:lnTo>
                  <a:pt x="50" y="0"/>
                </a:lnTo>
                <a:lnTo>
                  <a:pt x="58" y="15"/>
                </a:lnTo>
                <a:lnTo>
                  <a:pt x="63" y="100"/>
                </a:lnTo>
                <a:lnTo>
                  <a:pt x="70" y="26"/>
                </a:lnTo>
                <a:lnTo>
                  <a:pt x="77" y="73"/>
                </a:lnTo>
                <a:lnTo>
                  <a:pt x="83" y="53"/>
                </a:lnTo>
                <a:lnTo>
                  <a:pt x="88" y="23"/>
                </a:lnTo>
                <a:lnTo>
                  <a:pt x="95" y="73"/>
                </a:lnTo>
                <a:lnTo>
                  <a:pt x="101" y="154"/>
                </a:lnTo>
                <a:lnTo>
                  <a:pt x="108" y="112"/>
                </a:lnTo>
                <a:lnTo>
                  <a:pt x="113" y="117"/>
                </a:lnTo>
                <a:lnTo>
                  <a:pt x="122" y="77"/>
                </a:lnTo>
                <a:lnTo>
                  <a:pt x="128" y="111"/>
                </a:lnTo>
                <a:lnTo>
                  <a:pt x="134" y="96"/>
                </a:lnTo>
                <a:lnTo>
                  <a:pt x="140" y="107"/>
                </a:lnTo>
                <a:lnTo>
                  <a:pt x="147" y="105"/>
                </a:lnTo>
                <a:lnTo>
                  <a:pt x="153" y="73"/>
                </a:lnTo>
                <a:lnTo>
                  <a:pt x="159" y="69"/>
                </a:lnTo>
                <a:lnTo>
                  <a:pt x="165" y="124"/>
                </a:lnTo>
                <a:lnTo>
                  <a:pt x="172" y="150"/>
                </a:lnTo>
                <a:lnTo>
                  <a:pt x="178" y="77"/>
                </a:lnTo>
                <a:lnTo>
                  <a:pt x="186" y="82"/>
                </a:lnTo>
                <a:lnTo>
                  <a:pt x="192" y="90"/>
                </a:lnTo>
                <a:lnTo>
                  <a:pt x="199" y="84"/>
                </a:lnTo>
                <a:lnTo>
                  <a:pt x="204" y="9"/>
                </a:lnTo>
                <a:lnTo>
                  <a:pt x="211" y="100"/>
                </a:lnTo>
                <a:lnTo>
                  <a:pt x="217" y="128"/>
                </a:lnTo>
                <a:lnTo>
                  <a:pt x="224" y="197"/>
                </a:lnTo>
                <a:lnTo>
                  <a:pt x="229" y="196"/>
                </a:lnTo>
                <a:lnTo>
                  <a:pt x="236" y="214"/>
                </a:lnTo>
                <a:lnTo>
                  <a:pt x="242" y="178"/>
                </a:lnTo>
                <a:lnTo>
                  <a:pt x="250" y="197"/>
                </a:lnTo>
                <a:lnTo>
                  <a:pt x="256" y="186"/>
                </a:lnTo>
                <a:lnTo>
                  <a:pt x="263" y="197"/>
                </a:lnTo>
                <a:lnTo>
                  <a:pt x="269" y="222"/>
                </a:lnTo>
                <a:lnTo>
                  <a:pt x="275" y="206"/>
                </a:lnTo>
                <a:lnTo>
                  <a:pt x="281" y="116"/>
                </a:lnTo>
                <a:lnTo>
                  <a:pt x="287" y="98"/>
                </a:lnTo>
                <a:lnTo>
                  <a:pt x="294" y="196"/>
                </a:lnTo>
                <a:lnTo>
                  <a:pt x="299" y="250"/>
                </a:lnTo>
                <a:lnTo>
                  <a:pt x="306" y="314"/>
                </a:lnTo>
                <a:lnTo>
                  <a:pt x="314" y="248"/>
                </a:lnTo>
                <a:lnTo>
                  <a:pt x="321" y="241"/>
                </a:lnTo>
                <a:lnTo>
                  <a:pt x="326" y="212"/>
                </a:lnTo>
                <a:lnTo>
                  <a:pt x="333" y="248"/>
                </a:lnTo>
                <a:lnTo>
                  <a:pt x="339" y="252"/>
                </a:lnTo>
                <a:lnTo>
                  <a:pt x="345" y="269"/>
                </a:lnTo>
                <a:lnTo>
                  <a:pt x="351" y="314"/>
                </a:lnTo>
                <a:lnTo>
                  <a:pt x="358" y="378"/>
                </a:lnTo>
                <a:lnTo>
                  <a:pt x="364" y="400"/>
                </a:lnTo>
                <a:lnTo>
                  <a:pt x="370" y="389"/>
                </a:lnTo>
                <a:lnTo>
                  <a:pt x="378" y="359"/>
                </a:lnTo>
                <a:lnTo>
                  <a:pt x="385" y="383"/>
                </a:lnTo>
                <a:lnTo>
                  <a:pt x="391" y="453"/>
                </a:lnTo>
                <a:lnTo>
                  <a:pt x="396" y="435"/>
                </a:lnTo>
                <a:lnTo>
                  <a:pt x="403" y="440"/>
                </a:lnTo>
                <a:lnTo>
                  <a:pt x="410" y="434"/>
                </a:lnTo>
                <a:lnTo>
                  <a:pt x="416" y="430"/>
                </a:lnTo>
                <a:lnTo>
                  <a:pt x="422" y="435"/>
                </a:lnTo>
                <a:lnTo>
                  <a:pt x="428" y="416"/>
                </a:lnTo>
                <a:lnTo>
                  <a:pt x="434" y="414"/>
                </a:lnTo>
                <a:lnTo>
                  <a:pt x="442" y="398"/>
                </a:lnTo>
                <a:lnTo>
                  <a:pt x="449" y="395"/>
                </a:lnTo>
                <a:lnTo>
                  <a:pt x="455" y="393"/>
                </a:lnTo>
                <a:lnTo>
                  <a:pt x="461" y="383"/>
                </a:lnTo>
                <a:lnTo>
                  <a:pt x="467" y="378"/>
                </a:lnTo>
                <a:lnTo>
                  <a:pt x="473" y="389"/>
                </a:lnTo>
                <a:lnTo>
                  <a:pt x="480" y="378"/>
                </a:lnTo>
                <a:lnTo>
                  <a:pt x="486" y="337"/>
                </a:lnTo>
                <a:lnTo>
                  <a:pt x="492" y="374"/>
                </a:lnTo>
                <a:lnTo>
                  <a:pt x="498" y="386"/>
                </a:lnTo>
                <a:lnTo>
                  <a:pt x="507" y="398"/>
                </a:lnTo>
                <a:lnTo>
                  <a:pt x="512" y="423"/>
                </a:lnTo>
                <a:lnTo>
                  <a:pt x="519" y="428"/>
                </a:lnTo>
                <a:lnTo>
                  <a:pt x="525" y="449"/>
                </a:lnTo>
                <a:lnTo>
                  <a:pt x="532" y="440"/>
                </a:lnTo>
                <a:lnTo>
                  <a:pt x="537" y="444"/>
                </a:lnTo>
                <a:lnTo>
                  <a:pt x="544" y="453"/>
                </a:lnTo>
                <a:lnTo>
                  <a:pt x="550" y="447"/>
                </a:lnTo>
                <a:lnTo>
                  <a:pt x="557" y="451"/>
                </a:lnTo>
                <a:lnTo>
                  <a:pt x="562" y="436"/>
                </a:lnTo>
                <a:lnTo>
                  <a:pt x="571" y="456"/>
                </a:lnTo>
                <a:lnTo>
                  <a:pt x="577" y="475"/>
                </a:lnTo>
                <a:lnTo>
                  <a:pt x="583" y="458"/>
                </a:lnTo>
                <a:lnTo>
                  <a:pt x="589" y="470"/>
                </a:lnTo>
                <a:lnTo>
                  <a:pt x="596" y="470"/>
                </a:lnTo>
                <a:lnTo>
                  <a:pt x="602" y="473"/>
                </a:lnTo>
                <a:lnTo>
                  <a:pt x="607" y="473"/>
                </a:lnTo>
                <a:lnTo>
                  <a:pt x="614" y="434"/>
                </a:lnTo>
                <a:lnTo>
                  <a:pt x="620" y="477"/>
                </a:lnTo>
                <a:lnTo>
                  <a:pt x="627" y="472"/>
                </a:lnTo>
                <a:lnTo>
                  <a:pt x="635" y="470"/>
                </a:lnTo>
                <a:lnTo>
                  <a:pt x="641" y="473"/>
                </a:lnTo>
                <a:lnTo>
                  <a:pt x="647" y="470"/>
                </a:lnTo>
                <a:lnTo>
                  <a:pt x="653" y="453"/>
                </a:lnTo>
                <a:lnTo>
                  <a:pt x="660" y="454"/>
                </a:lnTo>
                <a:lnTo>
                  <a:pt x="666" y="447"/>
                </a:lnTo>
                <a:lnTo>
                  <a:pt x="672" y="449"/>
                </a:lnTo>
                <a:lnTo>
                  <a:pt x="678" y="456"/>
                </a:lnTo>
                <a:lnTo>
                  <a:pt x="684" y="447"/>
                </a:lnTo>
                <a:lnTo>
                  <a:pt x="691" y="436"/>
                </a:lnTo>
                <a:lnTo>
                  <a:pt x="699" y="453"/>
                </a:lnTo>
                <a:lnTo>
                  <a:pt x="705" y="438"/>
                </a:lnTo>
                <a:lnTo>
                  <a:pt x="711" y="440"/>
                </a:lnTo>
                <a:lnTo>
                  <a:pt x="718" y="444"/>
                </a:lnTo>
                <a:lnTo>
                  <a:pt x="723" y="436"/>
                </a:lnTo>
                <a:lnTo>
                  <a:pt x="730" y="454"/>
                </a:lnTo>
                <a:lnTo>
                  <a:pt x="736" y="440"/>
                </a:lnTo>
                <a:lnTo>
                  <a:pt x="743" y="438"/>
                </a:lnTo>
                <a:lnTo>
                  <a:pt x="748" y="436"/>
                </a:lnTo>
                <a:lnTo>
                  <a:pt x="755" y="434"/>
                </a:lnTo>
                <a:lnTo>
                  <a:pt x="763" y="451"/>
                </a:lnTo>
                <a:lnTo>
                  <a:pt x="769" y="440"/>
                </a:lnTo>
                <a:lnTo>
                  <a:pt x="775" y="436"/>
                </a:lnTo>
                <a:lnTo>
                  <a:pt x="782" y="444"/>
                </a:lnTo>
                <a:lnTo>
                  <a:pt x="788" y="434"/>
                </a:lnTo>
                <a:lnTo>
                  <a:pt x="793" y="449"/>
                </a:lnTo>
                <a:lnTo>
                  <a:pt x="800" y="438"/>
                </a:lnTo>
                <a:lnTo>
                  <a:pt x="807" y="468"/>
                </a:lnTo>
                <a:lnTo>
                  <a:pt x="813" y="440"/>
                </a:lnTo>
              </a:path>
            </a:pathLst>
          </a:custGeom>
          <a:noFill/>
          <a:ln cap="rnd" w="19080">
            <a:solidFill>
              <a:srgbClr val="99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192240" y="4673520"/>
            <a:ext cx="2241360" cy="1347840"/>
          </a:xfrm>
          <a:custGeom>
            <a:avLst/>
            <a:gdLst/>
            <a:ahLst/>
            <a:rect l="l" t="t" r="r" b="b"/>
            <a:pathLst>
              <a:path w="813" h="474">
                <a:moveTo>
                  <a:pt x="0" y="130"/>
                </a:moveTo>
                <a:lnTo>
                  <a:pt x="6" y="76"/>
                </a:lnTo>
                <a:lnTo>
                  <a:pt x="13" y="141"/>
                </a:lnTo>
                <a:lnTo>
                  <a:pt x="18" y="125"/>
                </a:lnTo>
                <a:lnTo>
                  <a:pt x="25" y="100"/>
                </a:lnTo>
                <a:lnTo>
                  <a:pt x="31" y="132"/>
                </a:lnTo>
                <a:lnTo>
                  <a:pt x="37" y="70"/>
                </a:lnTo>
                <a:lnTo>
                  <a:pt x="43" y="49"/>
                </a:lnTo>
                <a:lnTo>
                  <a:pt x="50" y="138"/>
                </a:lnTo>
                <a:lnTo>
                  <a:pt x="58" y="194"/>
                </a:lnTo>
                <a:lnTo>
                  <a:pt x="63" y="145"/>
                </a:lnTo>
                <a:lnTo>
                  <a:pt x="70" y="143"/>
                </a:lnTo>
                <a:lnTo>
                  <a:pt x="77" y="94"/>
                </a:lnTo>
                <a:lnTo>
                  <a:pt x="83" y="99"/>
                </a:lnTo>
                <a:lnTo>
                  <a:pt x="88" y="80"/>
                </a:lnTo>
                <a:lnTo>
                  <a:pt x="95" y="136"/>
                </a:lnTo>
                <a:lnTo>
                  <a:pt x="101" y="158"/>
                </a:lnTo>
                <a:lnTo>
                  <a:pt x="108" y="171"/>
                </a:lnTo>
                <a:lnTo>
                  <a:pt x="113" y="125"/>
                </a:lnTo>
                <a:lnTo>
                  <a:pt x="122" y="145"/>
                </a:lnTo>
                <a:lnTo>
                  <a:pt x="128" y="139"/>
                </a:lnTo>
                <a:lnTo>
                  <a:pt x="134" y="139"/>
                </a:lnTo>
                <a:lnTo>
                  <a:pt x="140" y="166"/>
                </a:lnTo>
                <a:lnTo>
                  <a:pt x="147" y="120"/>
                </a:lnTo>
                <a:lnTo>
                  <a:pt x="153" y="62"/>
                </a:lnTo>
                <a:lnTo>
                  <a:pt x="159" y="52"/>
                </a:lnTo>
                <a:lnTo>
                  <a:pt x="165" y="29"/>
                </a:lnTo>
                <a:lnTo>
                  <a:pt x="172" y="0"/>
                </a:lnTo>
                <a:lnTo>
                  <a:pt x="178" y="50"/>
                </a:lnTo>
                <a:lnTo>
                  <a:pt x="186" y="2"/>
                </a:lnTo>
                <a:lnTo>
                  <a:pt x="192" y="80"/>
                </a:lnTo>
                <a:lnTo>
                  <a:pt x="199" y="120"/>
                </a:lnTo>
                <a:lnTo>
                  <a:pt x="204" y="143"/>
                </a:lnTo>
                <a:lnTo>
                  <a:pt x="211" y="127"/>
                </a:lnTo>
                <a:lnTo>
                  <a:pt x="217" y="115"/>
                </a:lnTo>
                <a:lnTo>
                  <a:pt x="224" y="138"/>
                </a:lnTo>
                <a:lnTo>
                  <a:pt x="229" y="190"/>
                </a:lnTo>
                <a:lnTo>
                  <a:pt x="236" y="167"/>
                </a:lnTo>
                <a:lnTo>
                  <a:pt x="242" y="194"/>
                </a:lnTo>
                <a:lnTo>
                  <a:pt x="250" y="169"/>
                </a:lnTo>
                <a:lnTo>
                  <a:pt x="256" y="148"/>
                </a:lnTo>
                <a:lnTo>
                  <a:pt x="263" y="99"/>
                </a:lnTo>
                <a:lnTo>
                  <a:pt x="269" y="143"/>
                </a:lnTo>
                <a:lnTo>
                  <a:pt x="275" y="172"/>
                </a:lnTo>
                <a:lnTo>
                  <a:pt x="281" y="158"/>
                </a:lnTo>
                <a:lnTo>
                  <a:pt x="287" y="204"/>
                </a:lnTo>
                <a:lnTo>
                  <a:pt x="294" y="230"/>
                </a:lnTo>
                <a:lnTo>
                  <a:pt x="299" y="233"/>
                </a:lnTo>
                <a:lnTo>
                  <a:pt x="306" y="244"/>
                </a:lnTo>
                <a:lnTo>
                  <a:pt x="314" y="214"/>
                </a:lnTo>
                <a:lnTo>
                  <a:pt x="321" y="243"/>
                </a:lnTo>
                <a:lnTo>
                  <a:pt x="326" y="221"/>
                </a:lnTo>
                <a:lnTo>
                  <a:pt x="333" y="245"/>
                </a:lnTo>
                <a:lnTo>
                  <a:pt x="339" y="284"/>
                </a:lnTo>
                <a:lnTo>
                  <a:pt x="345" y="218"/>
                </a:lnTo>
                <a:lnTo>
                  <a:pt x="351" y="221"/>
                </a:lnTo>
                <a:lnTo>
                  <a:pt x="358" y="228"/>
                </a:lnTo>
                <a:lnTo>
                  <a:pt x="364" y="252"/>
                </a:lnTo>
                <a:lnTo>
                  <a:pt x="370" y="270"/>
                </a:lnTo>
                <a:lnTo>
                  <a:pt x="378" y="228"/>
                </a:lnTo>
                <a:lnTo>
                  <a:pt x="385" y="256"/>
                </a:lnTo>
                <a:lnTo>
                  <a:pt x="391" y="291"/>
                </a:lnTo>
                <a:lnTo>
                  <a:pt x="396" y="309"/>
                </a:lnTo>
                <a:lnTo>
                  <a:pt x="403" y="371"/>
                </a:lnTo>
                <a:lnTo>
                  <a:pt x="410" y="359"/>
                </a:lnTo>
                <a:lnTo>
                  <a:pt x="416" y="386"/>
                </a:lnTo>
                <a:lnTo>
                  <a:pt x="422" y="296"/>
                </a:lnTo>
                <a:lnTo>
                  <a:pt x="428" y="263"/>
                </a:lnTo>
                <a:lnTo>
                  <a:pt x="434" y="305"/>
                </a:lnTo>
                <a:lnTo>
                  <a:pt x="442" y="224"/>
                </a:lnTo>
                <a:lnTo>
                  <a:pt x="449" y="224"/>
                </a:lnTo>
                <a:lnTo>
                  <a:pt x="455" y="249"/>
                </a:lnTo>
                <a:lnTo>
                  <a:pt x="461" y="279"/>
                </a:lnTo>
                <a:lnTo>
                  <a:pt x="467" y="275"/>
                </a:lnTo>
                <a:lnTo>
                  <a:pt x="473" y="277"/>
                </a:lnTo>
                <a:lnTo>
                  <a:pt x="480" y="243"/>
                </a:lnTo>
                <a:lnTo>
                  <a:pt x="486" y="239"/>
                </a:lnTo>
                <a:lnTo>
                  <a:pt x="492" y="233"/>
                </a:lnTo>
                <a:lnTo>
                  <a:pt x="498" y="282"/>
                </a:lnTo>
                <a:lnTo>
                  <a:pt x="507" y="316"/>
                </a:lnTo>
                <a:lnTo>
                  <a:pt x="512" y="333"/>
                </a:lnTo>
                <a:lnTo>
                  <a:pt x="519" y="267"/>
                </a:lnTo>
                <a:lnTo>
                  <a:pt x="525" y="339"/>
                </a:lnTo>
                <a:lnTo>
                  <a:pt x="532" y="380"/>
                </a:lnTo>
                <a:lnTo>
                  <a:pt x="537" y="395"/>
                </a:lnTo>
                <a:lnTo>
                  <a:pt x="544" y="406"/>
                </a:lnTo>
                <a:lnTo>
                  <a:pt x="550" y="420"/>
                </a:lnTo>
                <a:lnTo>
                  <a:pt x="557" y="474"/>
                </a:lnTo>
                <a:lnTo>
                  <a:pt x="562" y="375"/>
                </a:lnTo>
                <a:lnTo>
                  <a:pt x="571" y="335"/>
                </a:lnTo>
                <a:lnTo>
                  <a:pt x="577" y="324"/>
                </a:lnTo>
                <a:lnTo>
                  <a:pt x="583" y="319"/>
                </a:lnTo>
                <a:lnTo>
                  <a:pt x="589" y="319"/>
                </a:lnTo>
                <a:lnTo>
                  <a:pt x="596" y="298"/>
                </a:lnTo>
                <a:lnTo>
                  <a:pt x="602" y="310"/>
                </a:lnTo>
                <a:lnTo>
                  <a:pt x="607" y="329"/>
                </a:lnTo>
                <a:lnTo>
                  <a:pt x="614" y="294"/>
                </a:lnTo>
                <a:lnTo>
                  <a:pt x="620" y="300"/>
                </a:lnTo>
                <a:lnTo>
                  <a:pt x="627" y="281"/>
                </a:lnTo>
                <a:lnTo>
                  <a:pt x="635" y="275"/>
                </a:lnTo>
                <a:lnTo>
                  <a:pt x="641" y="279"/>
                </a:lnTo>
                <a:lnTo>
                  <a:pt x="647" y="260"/>
                </a:lnTo>
                <a:lnTo>
                  <a:pt x="653" y="265"/>
                </a:lnTo>
                <a:lnTo>
                  <a:pt x="660" y="260"/>
                </a:lnTo>
                <a:lnTo>
                  <a:pt x="666" y="254"/>
                </a:lnTo>
                <a:lnTo>
                  <a:pt x="672" y="202"/>
                </a:lnTo>
                <a:lnTo>
                  <a:pt x="678" y="244"/>
                </a:lnTo>
                <a:lnTo>
                  <a:pt x="684" y="319"/>
                </a:lnTo>
                <a:lnTo>
                  <a:pt x="691" y="319"/>
                </a:lnTo>
                <a:lnTo>
                  <a:pt x="699" y="319"/>
                </a:lnTo>
                <a:lnTo>
                  <a:pt x="705" y="367"/>
                </a:lnTo>
                <a:lnTo>
                  <a:pt x="711" y="339"/>
                </a:lnTo>
                <a:lnTo>
                  <a:pt x="718" y="329"/>
                </a:lnTo>
                <a:lnTo>
                  <a:pt x="723" y="340"/>
                </a:lnTo>
                <a:lnTo>
                  <a:pt x="730" y="328"/>
                </a:lnTo>
                <a:lnTo>
                  <a:pt x="736" y="342"/>
                </a:lnTo>
                <a:lnTo>
                  <a:pt x="743" y="337"/>
                </a:lnTo>
                <a:lnTo>
                  <a:pt x="748" y="339"/>
                </a:lnTo>
                <a:lnTo>
                  <a:pt x="755" y="356"/>
                </a:lnTo>
                <a:lnTo>
                  <a:pt x="763" y="359"/>
                </a:lnTo>
                <a:lnTo>
                  <a:pt x="769" y="371"/>
                </a:lnTo>
                <a:lnTo>
                  <a:pt x="775" y="367"/>
                </a:lnTo>
                <a:lnTo>
                  <a:pt x="782" y="375"/>
                </a:lnTo>
                <a:lnTo>
                  <a:pt x="788" y="380"/>
                </a:lnTo>
                <a:lnTo>
                  <a:pt x="793" y="376"/>
                </a:lnTo>
                <a:lnTo>
                  <a:pt x="800" y="384"/>
                </a:lnTo>
                <a:lnTo>
                  <a:pt x="807" y="384"/>
                </a:lnTo>
                <a:lnTo>
                  <a:pt x="813" y="367"/>
                </a:lnTo>
              </a:path>
            </a:pathLst>
          </a:custGeom>
          <a:noFill/>
          <a:ln cap="rnd"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301320" y="1309680"/>
            <a:ext cx="218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eal” Motif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7" name="PlaceHolder 1"/>
          <p:cNvSpPr>
            <a:spLocks noGrp="1"/>
          </p:cNvSpPr>
          <p:nvPr>
            <p:ph type="title"/>
          </p:nvPr>
        </p:nvSpPr>
        <p:spPr>
          <a:xfrm>
            <a:off x="6681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Examples of Real Motifs</a:t>
            </a:r>
            <a:endParaRPr b="0" lang="en-US" sz="4400" spc="-1" strike="noStrike">
              <a:solidFill>
                <a:srgbClr val="000000"/>
              </a:solidFill>
              <a:latin typeface="Times New Roman"/>
            </a:endParaRPr>
          </a:p>
        </p:txBody>
      </p:sp>
      <p:pic>
        <p:nvPicPr>
          <p:cNvPr id="3868" name="" descr=""/>
          <p:cNvPicPr/>
          <p:nvPr/>
        </p:nvPicPr>
        <p:blipFill>
          <a:blip r:embed="rId1"/>
          <a:stretch/>
        </p:blipFill>
        <p:spPr>
          <a:xfrm>
            <a:off x="358920" y="2114640"/>
            <a:ext cx="8196120" cy="1739880"/>
          </a:xfrm>
          <a:prstGeom prst="rect">
            <a:avLst/>
          </a:prstGeom>
          <a:ln w="0">
            <a:noFill/>
          </a:ln>
        </p:spPr>
      </p:pic>
      <p:sp>
        <p:nvSpPr>
          <p:cNvPr id="3869" name=""/>
          <p:cNvSpPr/>
          <p:nvPr/>
        </p:nvSpPr>
        <p:spPr>
          <a:xfrm>
            <a:off x="461880" y="4633920"/>
            <a:ext cx="10296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870" name=""/>
          <p:cNvSpPr/>
          <p:nvPr/>
        </p:nvSpPr>
        <p:spPr>
          <a:xfrm>
            <a:off x="453960" y="5254560"/>
            <a:ext cx="4694400" cy="836640"/>
          </a:xfrm>
          <a:prstGeom prst="rect">
            <a:avLst/>
          </a:prstGeom>
          <a:noFill/>
          <a:ln cap="rnd"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453960" y="5254560"/>
            <a:ext cx="4694400" cy="3240"/>
          </a:xfrm>
          <a:prstGeom prst="line">
            <a:avLst/>
          </a:prstGeom>
          <a:ln cap="rnd"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2" name=""/>
          <p:cNvSpPr/>
          <p:nvPr/>
        </p:nvSpPr>
        <p:spPr>
          <a:xfrm>
            <a:off x="453960" y="5254560"/>
            <a:ext cx="4694400" cy="836640"/>
          </a:xfrm>
          <a:custGeom>
            <a:avLst/>
            <a:gdLst/>
            <a:ahLst/>
            <a:rect l="l" t="t" r="r" b="b"/>
            <a:pathLst>
              <a:path w="2957" h="527">
                <a:moveTo>
                  <a:pt x="0" y="527"/>
                </a:moveTo>
                <a:lnTo>
                  <a:pt x="2957" y="527"/>
                </a:lnTo>
                <a:lnTo>
                  <a:pt x="2957" y="0"/>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flipV="1">
            <a:off x="453960" y="5254560"/>
            <a:ext cx="1800" cy="836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453960" y="6091200"/>
            <a:ext cx="469440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5" name=""/>
          <p:cNvSpPr/>
          <p:nvPr/>
        </p:nvSpPr>
        <p:spPr>
          <a:xfrm flipV="1">
            <a:off x="453960" y="5254560"/>
            <a:ext cx="1800" cy="836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flipV="1">
            <a:off x="528480" y="6041520"/>
            <a:ext cx="1800" cy="49320"/>
          </a:xfrm>
          <a:prstGeom prst="line">
            <a:avLst/>
          </a:prstGeom>
          <a:ln cap="rnd"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77" name=""/>
          <p:cNvSpPr/>
          <p:nvPr/>
        </p:nvSpPr>
        <p:spPr>
          <a:xfrm>
            <a:off x="528480" y="5254560"/>
            <a:ext cx="1800" cy="39600"/>
          </a:xfrm>
          <a:prstGeom prst="line">
            <a:avLst/>
          </a:prstGeom>
          <a:ln cap="rnd"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78" name=""/>
          <p:cNvSpPr/>
          <p:nvPr/>
        </p:nvSpPr>
        <p:spPr>
          <a:xfrm>
            <a:off x="376200" y="6108840"/>
            <a:ext cx="37800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a:off x="413640" y="6108840"/>
            <a:ext cx="298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3880" name=""/>
          <p:cNvSpPr/>
          <p:nvPr/>
        </p:nvSpPr>
        <p:spPr>
          <a:xfrm>
            <a:off x="414360" y="63054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3881" name=""/>
          <p:cNvSpPr/>
          <p:nvPr/>
        </p:nvSpPr>
        <p:spPr>
          <a:xfrm>
            <a:off x="507600" y="630540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882" name=""/>
          <p:cNvSpPr/>
          <p:nvPr/>
        </p:nvSpPr>
        <p:spPr>
          <a:xfrm flipV="1">
            <a:off x="995400" y="6041520"/>
            <a:ext cx="1440" cy="49320"/>
          </a:xfrm>
          <a:prstGeom prst="line">
            <a:avLst/>
          </a:prstGeom>
          <a:ln cap="rnd"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83" name=""/>
          <p:cNvSpPr/>
          <p:nvPr/>
        </p:nvSpPr>
        <p:spPr>
          <a:xfrm>
            <a:off x="995400" y="5254560"/>
            <a:ext cx="1440" cy="39600"/>
          </a:xfrm>
          <a:prstGeom prst="line">
            <a:avLst/>
          </a:prstGeom>
          <a:ln cap="rnd"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84" name=""/>
          <p:cNvSpPr/>
          <p:nvPr/>
        </p:nvSpPr>
        <p:spPr>
          <a:xfrm flipV="1">
            <a:off x="1459080" y="6041520"/>
            <a:ext cx="2880" cy="49320"/>
          </a:xfrm>
          <a:prstGeom prst="line">
            <a:avLst/>
          </a:prstGeom>
          <a:ln cap="rnd"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85" name=""/>
          <p:cNvSpPr/>
          <p:nvPr/>
        </p:nvSpPr>
        <p:spPr>
          <a:xfrm>
            <a:off x="1459080" y="5254560"/>
            <a:ext cx="2880" cy="39600"/>
          </a:xfrm>
          <a:prstGeom prst="line">
            <a:avLst/>
          </a:prstGeom>
          <a:ln cap="rnd"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86" name=""/>
          <p:cNvSpPr/>
          <p:nvPr/>
        </p:nvSpPr>
        <p:spPr>
          <a:xfrm>
            <a:off x="1306440" y="6108840"/>
            <a:ext cx="37800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7" name=""/>
          <p:cNvSpPr/>
          <p:nvPr/>
        </p:nvSpPr>
        <p:spPr>
          <a:xfrm>
            <a:off x="1343880" y="6108840"/>
            <a:ext cx="298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3888" name=""/>
          <p:cNvSpPr/>
          <p:nvPr/>
        </p:nvSpPr>
        <p:spPr>
          <a:xfrm>
            <a:off x="1344600" y="63054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3889" name=""/>
          <p:cNvSpPr/>
          <p:nvPr/>
        </p:nvSpPr>
        <p:spPr>
          <a:xfrm>
            <a:off x="1439640" y="630540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890" name=""/>
          <p:cNvSpPr/>
          <p:nvPr/>
        </p:nvSpPr>
        <p:spPr>
          <a:xfrm flipV="1">
            <a:off x="1933560" y="6041520"/>
            <a:ext cx="1440" cy="49320"/>
          </a:xfrm>
          <a:prstGeom prst="line">
            <a:avLst/>
          </a:prstGeom>
          <a:ln cap="rnd"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91" name=""/>
          <p:cNvSpPr/>
          <p:nvPr/>
        </p:nvSpPr>
        <p:spPr>
          <a:xfrm>
            <a:off x="1933560" y="5254560"/>
            <a:ext cx="1440" cy="39600"/>
          </a:xfrm>
          <a:prstGeom prst="line">
            <a:avLst/>
          </a:prstGeom>
          <a:ln cap="rnd"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92" name=""/>
          <p:cNvSpPr/>
          <p:nvPr/>
        </p:nvSpPr>
        <p:spPr>
          <a:xfrm flipV="1">
            <a:off x="2397240" y="6041520"/>
            <a:ext cx="4680" cy="49320"/>
          </a:xfrm>
          <a:prstGeom prst="line">
            <a:avLst/>
          </a:prstGeom>
          <a:ln cap="rnd"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93" name=""/>
          <p:cNvSpPr/>
          <p:nvPr/>
        </p:nvSpPr>
        <p:spPr>
          <a:xfrm>
            <a:off x="2397240" y="5254560"/>
            <a:ext cx="4680" cy="39600"/>
          </a:xfrm>
          <a:prstGeom prst="line">
            <a:avLst/>
          </a:prstGeom>
          <a:ln cap="rnd"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94" name=""/>
          <p:cNvSpPr/>
          <p:nvPr/>
        </p:nvSpPr>
        <p:spPr>
          <a:xfrm>
            <a:off x="2249640" y="6108840"/>
            <a:ext cx="37296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a:off x="2282040" y="6108840"/>
            <a:ext cx="298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a:t>
            </a:r>
            <a:endParaRPr b="0" lang="en-US" sz="1400" spc="-1" strike="noStrike">
              <a:solidFill>
                <a:srgbClr val="000000"/>
              </a:solidFill>
              <a:latin typeface="Times New Roman"/>
            </a:endParaRPr>
          </a:p>
        </p:txBody>
      </p:sp>
      <p:sp>
        <p:nvSpPr>
          <p:cNvPr id="3896" name=""/>
          <p:cNvSpPr/>
          <p:nvPr/>
        </p:nvSpPr>
        <p:spPr>
          <a:xfrm>
            <a:off x="2282760" y="63054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3897" name=""/>
          <p:cNvSpPr/>
          <p:nvPr/>
        </p:nvSpPr>
        <p:spPr>
          <a:xfrm>
            <a:off x="2377800" y="630540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898" name=""/>
          <p:cNvSpPr/>
          <p:nvPr/>
        </p:nvSpPr>
        <p:spPr>
          <a:xfrm flipV="1">
            <a:off x="2876400" y="6041520"/>
            <a:ext cx="1800" cy="49320"/>
          </a:xfrm>
          <a:prstGeom prst="line">
            <a:avLst/>
          </a:prstGeom>
          <a:ln cap="rnd"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99" name=""/>
          <p:cNvSpPr/>
          <p:nvPr/>
        </p:nvSpPr>
        <p:spPr>
          <a:xfrm>
            <a:off x="2876400" y="5254560"/>
            <a:ext cx="1800" cy="39600"/>
          </a:xfrm>
          <a:prstGeom prst="line">
            <a:avLst/>
          </a:prstGeom>
          <a:ln cap="rnd"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00" name=""/>
          <p:cNvSpPr/>
          <p:nvPr/>
        </p:nvSpPr>
        <p:spPr>
          <a:xfrm flipV="1">
            <a:off x="3343320" y="6041520"/>
            <a:ext cx="1440" cy="49320"/>
          </a:xfrm>
          <a:prstGeom prst="line">
            <a:avLst/>
          </a:prstGeom>
          <a:ln cap="rnd"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01" name=""/>
          <p:cNvSpPr/>
          <p:nvPr/>
        </p:nvSpPr>
        <p:spPr>
          <a:xfrm>
            <a:off x="3343320" y="5254560"/>
            <a:ext cx="1440" cy="39600"/>
          </a:xfrm>
          <a:prstGeom prst="line">
            <a:avLst/>
          </a:prstGeom>
          <a:ln cap="rnd"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02" name=""/>
          <p:cNvSpPr/>
          <p:nvPr/>
        </p:nvSpPr>
        <p:spPr>
          <a:xfrm>
            <a:off x="3187800" y="6108840"/>
            <a:ext cx="37764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a:off x="3222000" y="6108840"/>
            <a:ext cx="298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0</a:t>
            </a:r>
            <a:endParaRPr b="0" lang="en-US" sz="1400" spc="-1" strike="noStrike">
              <a:solidFill>
                <a:srgbClr val="000000"/>
              </a:solidFill>
              <a:latin typeface="Times New Roman"/>
            </a:endParaRPr>
          </a:p>
        </p:txBody>
      </p:sp>
      <p:sp>
        <p:nvSpPr>
          <p:cNvPr id="3904" name=""/>
          <p:cNvSpPr/>
          <p:nvPr/>
        </p:nvSpPr>
        <p:spPr>
          <a:xfrm>
            <a:off x="3222720" y="63054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3905" name=""/>
          <p:cNvSpPr/>
          <p:nvPr/>
        </p:nvSpPr>
        <p:spPr>
          <a:xfrm>
            <a:off x="3315960" y="630540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906" name=""/>
          <p:cNvSpPr/>
          <p:nvPr/>
        </p:nvSpPr>
        <p:spPr>
          <a:xfrm flipV="1">
            <a:off x="3807000" y="6041520"/>
            <a:ext cx="4680" cy="49320"/>
          </a:xfrm>
          <a:prstGeom prst="line">
            <a:avLst/>
          </a:prstGeom>
          <a:ln cap="rnd"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07" name=""/>
          <p:cNvSpPr/>
          <p:nvPr/>
        </p:nvSpPr>
        <p:spPr>
          <a:xfrm>
            <a:off x="3807000" y="5254560"/>
            <a:ext cx="4680" cy="39600"/>
          </a:xfrm>
          <a:prstGeom prst="line">
            <a:avLst/>
          </a:prstGeom>
          <a:ln cap="rnd"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08" name=""/>
          <p:cNvSpPr/>
          <p:nvPr/>
        </p:nvSpPr>
        <p:spPr>
          <a:xfrm flipV="1">
            <a:off x="4282920" y="6041520"/>
            <a:ext cx="1800" cy="49320"/>
          </a:xfrm>
          <a:prstGeom prst="line">
            <a:avLst/>
          </a:prstGeom>
          <a:ln cap="rnd"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09" name=""/>
          <p:cNvSpPr/>
          <p:nvPr/>
        </p:nvSpPr>
        <p:spPr>
          <a:xfrm>
            <a:off x="4282920" y="5254560"/>
            <a:ext cx="1800" cy="39600"/>
          </a:xfrm>
          <a:prstGeom prst="line">
            <a:avLst/>
          </a:prstGeom>
          <a:ln cap="rnd"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10" name=""/>
          <p:cNvSpPr/>
          <p:nvPr/>
        </p:nvSpPr>
        <p:spPr>
          <a:xfrm>
            <a:off x="4130640" y="6108840"/>
            <a:ext cx="37800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1" name=""/>
          <p:cNvSpPr/>
          <p:nvPr/>
        </p:nvSpPr>
        <p:spPr>
          <a:xfrm>
            <a:off x="4168080" y="6108840"/>
            <a:ext cx="298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0</a:t>
            </a:r>
            <a:endParaRPr b="0" lang="en-US" sz="1400" spc="-1" strike="noStrike">
              <a:solidFill>
                <a:srgbClr val="000000"/>
              </a:solidFill>
              <a:latin typeface="Times New Roman"/>
            </a:endParaRPr>
          </a:p>
        </p:txBody>
      </p:sp>
      <p:sp>
        <p:nvSpPr>
          <p:cNvPr id="3912" name=""/>
          <p:cNvSpPr/>
          <p:nvPr/>
        </p:nvSpPr>
        <p:spPr>
          <a:xfrm>
            <a:off x="4168800" y="63054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3913" name=""/>
          <p:cNvSpPr/>
          <p:nvPr/>
        </p:nvSpPr>
        <p:spPr>
          <a:xfrm>
            <a:off x="4263840" y="630540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914" name=""/>
          <p:cNvSpPr/>
          <p:nvPr/>
        </p:nvSpPr>
        <p:spPr>
          <a:xfrm flipV="1">
            <a:off x="4749840" y="6041520"/>
            <a:ext cx="1440" cy="49320"/>
          </a:xfrm>
          <a:prstGeom prst="line">
            <a:avLst/>
          </a:prstGeom>
          <a:ln cap="rnd"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15" name=""/>
          <p:cNvSpPr/>
          <p:nvPr/>
        </p:nvSpPr>
        <p:spPr>
          <a:xfrm>
            <a:off x="4749840" y="5254560"/>
            <a:ext cx="1440" cy="39600"/>
          </a:xfrm>
          <a:prstGeom prst="line">
            <a:avLst/>
          </a:prstGeom>
          <a:ln cap="rnd"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16" name=""/>
          <p:cNvSpPr/>
          <p:nvPr/>
        </p:nvSpPr>
        <p:spPr>
          <a:xfrm>
            <a:off x="453960" y="6091200"/>
            <a:ext cx="4140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7" name=""/>
          <p:cNvSpPr/>
          <p:nvPr/>
        </p:nvSpPr>
        <p:spPr>
          <a:xfrm flipH="1">
            <a:off x="5094360" y="6091200"/>
            <a:ext cx="5400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8" name=""/>
          <p:cNvSpPr/>
          <p:nvPr/>
        </p:nvSpPr>
        <p:spPr>
          <a:xfrm>
            <a:off x="453960" y="5754600"/>
            <a:ext cx="4140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9" name=""/>
          <p:cNvSpPr/>
          <p:nvPr/>
        </p:nvSpPr>
        <p:spPr>
          <a:xfrm flipH="1">
            <a:off x="5094360" y="5754600"/>
            <a:ext cx="5400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0" name=""/>
          <p:cNvSpPr/>
          <p:nvPr/>
        </p:nvSpPr>
        <p:spPr>
          <a:xfrm>
            <a:off x="453960" y="5418000"/>
            <a:ext cx="4140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1" name=""/>
          <p:cNvSpPr/>
          <p:nvPr/>
        </p:nvSpPr>
        <p:spPr>
          <a:xfrm flipH="1">
            <a:off x="5094360" y="5418000"/>
            <a:ext cx="5400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2" name=""/>
          <p:cNvSpPr/>
          <p:nvPr/>
        </p:nvSpPr>
        <p:spPr>
          <a:xfrm>
            <a:off x="453960" y="5254560"/>
            <a:ext cx="4694400" cy="3240"/>
          </a:xfrm>
          <a:prstGeom prst="line">
            <a:avLst/>
          </a:prstGeom>
          <a:ln cap="rnd"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23" name=""/>
          <p:cNvSpPr/>
          <p:nvPr/>
        </p:nvSpPr>
        <p:spPr>
          <a:xfrm>
            <a:off x="453960" y="5254560"/>
            <a:ext cx="4694400" cy="836640"/>
          </a:xfrm>
          <a:custGeom>
            <a:avLst/>
            <a:gdLst/>
            <a:ahLst/>
            <a:rect l="l" t="t" r="r" b="b"/>
            <a:pathLst>
              <a:path w="2957" h="527">
                <a:moveTo>
                  <a:pt x="0" y="527"/>
                </a:moveTo>
                <a:lnTo>
                  <a:pt x="2957" y="527"/>
                </a:lnTo>
                <a:lnTo>
                  <a:pt x="2957" y="0"/>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4" name=""/>
          <p:cNvSpPr/>
          <p:nvPr/>
        </p:nvSpPr>
        <p:spPr>
          <a:xfrm flipV="1">
            <a:off x="453960" y="5254560"/>
            <a:ext cx="1800" cy="836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a:off x="528480" y="5254560"/>
            <a:ext cx="19080" cy="52560"/>
          </a:xfrm>
          <a:custGeom>
            <a:avLst/>
            <a:gdLst/>
            <a:ahLst/>
            <a:rect l="l" t="t" r="r" b="b"/>
            <a:pathLst>
              <a:path w="12" h="33">
                <a:moveTo>
                  <a:pt x="0" y="0"/>
                </a:moveTo>
                <a:lnTo>
                  <a:pt x="0" y="7"/>
                </a:lnTo>
                <a:lnTo>
                  <a:pt x="5" y="13"/>
                </a:lnTo>
                <a:lnTo>
                  <a:pt x="5" y="33"/>
                </a:lnTo>
                <a:lnTo>
                  <a:pt x="5" y="20"/>
                </a:lnTo>
                <a:lnTo>
                  <a:pt x="12" y="13"/>
                </a:lnTo>
                <a:lnTo>
                  <a:pt x="12" y="0"/>
                </a:lnTo>
              </a:path>
            </a:pathLst>
          </a:custGeom>
          <a:noFill/>
          <a:ln cap="rnd" w="4680">
            <a:solidFill>
              <a:srgbClr val="0000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26" name=""/>
          <p:cNvSpPr/>
          <p:nvPr/>
        </p:nvSpPr>
        <p:spPr>
          <a:xfrm>
            <a:off x="601560" y="5254560"/>
            <a:ext cx="790560" cy="722520"/>
          </a:xfrm>
          <a:custGeom>
            <a:avLst/>
            <a:gdLst/>
            <a:ahLst/>
            <a:rect l="l" t="t" r="r" b="b"/>
            <a:pathLst>
              <a:path w="498" h="455">
                <a:moveTo>
                  <a:pt x="0" y="0"/>
                </a:moveTo>
                <a:lnTo>
                  <a:pt x="0" y="51"/>
                </a:lnTo>
                <a:lnTo>
                  <a:pt x="8" y="59"/>
                </a:lnTo>
                <a:lnTo>
                  <a:pt x="8" y="95"/>
                </a:lnTo>
                <a:lnTo>
                  <a:pt x="21" y="82"/>
                </a:lnTo>
                <a:lnTo>
                  <a:pt x="21" y="72"/>
                </a:lnTo>
                <a:lnTo>
                  <a:pt x="28" y="77"/>
                </a:lnTo>
                <a:lnTo>
                  <a:pt x="28" y="116"/>
                </a:lnTo>
                <a:lnTo>
                  <a:pt x="34" y="121"/>
                </a:lnTo>
                <a:lnTo>
                  <a:pt x="34" y="173"/>
                </a:lnTo>
                <a:lnTo>
                  <a:pt x="41" y="181"/>
                </a:lnTo>
                <a:lnTo>
                  <a:pt x="41" y="212"/>
                </a:lnTo>
                <a:lnTo>
                  <a:pt x="49" y="219"/>
                </a:lnTo>
                <a:lnTo>
                  <a:pt x="49" y="232"/>
                </a:lnTo>
                <a:lnTo>
                  <a:pt x="54" y="238"/>
                </a:lnTo>
                <a:lnTo>
                  <a:pt x="54" y="256"/>
                </a:lnTo>
                <a:lnTo>
                  <a:pt x="70" y="269"/>
                </a:lnTo>
                <a:lnTo>
                  <a:pt x="62" y="269"/>
                </a:lnTo>
                <a:lnTo>
                  <a:pt x="70" y="256"/>
                </a:lnTo>
                <a:lnTo>
                  <a:pt x="70" y="263"/>
                </a:lnTo>
                <a:lnTo>
                  <a:pt x="77" y="269"/>
                </a:lnTo>
                <a:lnTo>
                  <a:pt x="77" y="289"/>
                </a:lnTo>
                <a:lnTo>
                  <a:pt x="83" y="294"/>
                </a:lnTo>
                <a:lnTo>
                  <a:pt x="83" y="315"/>
                </a:lnTo>
                <a:lnTo>
                  <a:pt x="90" y="307"/>
                </a:lnTo>
                <a:lnTo>
                  <a:pt x="90" y="294"/>
                </a:lnTo>
                <a:lnTo>
                  <a:pt x="96" y="289"/>
                </a:lnTo>
                <a:lnTo>
                  <a:pt x="96" y="269"/>
                </a:lnTo>
                <a:lnTo>
                  <a:pt x="103" y="263"/>
                </a:lnTo>
                <a:lnTo>
                  <a:pt x="103" y="276"/>
                </a:lnTo>
                <a:lnTo>
                  <a:pt x="111" y="284"/>
                </a:lnTo>
                <a:lnTo>
                  <a:pt x="111" y="341"/>
                </a:lnTo>
                <a:lnTo>
                  <a:pt x="116" y="346"/>
                </a:lnTo>
                <a:lnTo>
                  <a:pt x="116" y="398"/>
                </a:lnTo>
                <a:lnTo>
                  <a:pt x="124" y="406"/>
                </a:lnTo>
                <a:lnTo>
                  <a:pt x="124" y="393"/>
                </a:lnTo>
                <a:lnTo>
                  <a:pt x="129" y="385"/>
                </a:lnTo>
                <a:lnTo>
                  <a:pt x="129" y="367"/>
                </a:lnTo>
                <a:lnTo>
                  <a:pt x="137" y="359"/>
                </a:lnTo>
                <a:lnTo>
                  <a:pt x="137" y="341"/>
                </a:lnTo>
                <a:lnTo>
                  <a:pt x="152" y="328"/>
                </a:lnTo>
                <a:lnTo>
                  <a:pt x="152" y="320"/>
                </a:lnTo>
                <a:lnTo>
                  <a:pt x="165" y="333"/>
                </a:lnTo>
                <a:lnTo>
                  <a:pt x="165" y="346"/>
                </a:lnTo>
                <a:lnTo>
                  <a:pt x="170" y="354"/>
                </a:lnTo>
                <a:lnTo>
                  <a:pt x="170" y="367"/>
                </a:lnTo>
                <a:lnTo>
                  <a:pt x="178" y="372"/>
                </a:lnTo>
                <a:lnTo>
                  <a:pt x="178" y="398"/>
                </a:lnTo>
                <a:lnTo>
                  <a:pt x="186" y="393"/>
                </a:lnTo>
                <a:lnTo>
                  <a:pt x="186" y="385"/>
                </a:lnTo>
                <a:lnTo>
                  <a:pt x="191" y="380"/>
                </a:lnTo>
                <a:lnTo>
                  <a:pt x="191" y="341"/>
                </a:lnTo>
                <a:lnTo>
                  <a:pt x="199" y="333"/>
                </a:lnTo>
                <a:lnTo>
                  <a:pt x="199" y="294"/>
                </a:lnTo>
                <a:lnTo>
                  <a:pt x="207" y="289"/>
                </a:lnTo>
                <a:lnTo>
                  <a:pt x="212" y="284"/>
                </a:lnTo>
                <a:lnTo>
                  <a:pt x="219" y="284"/>
                </a:lnTo>
                <a:lnTo>
                  <a:pt x="227" y="289"/>
                </a:lnTo>
                <a:lnTo>
                  <a:pt x="232" y="294"/>
                </a:lnTo>
                <a:lnTo>
                  <a:pt x="232" y="315"/>
                </a:lnTo>
                <a:lnTo>
                  <a:pt x="240" y="320"/>
                </a:lnTo>
                <a:lnTo>
                  <a:pt x="240" y="359"/>
                </a:lnTo>
                <a:lnTo>
                  <a:pt x="248" y="367"/>
                </a:lnTo>
                <a:lnTo>
                  <a:pt x="248" y="393"/>
                </a:lnTo>
                <a:lnTo>
                  <a:pt x="253" y="398"/>
                </a:lnTo>
                <a:lnTo>
                  <a:pt x="253" y="411"/>
                </a:lnTo>
                <a:lnTo>
                  <a:pt x="261" y="406"/>
                </a:lnTo>
                <a:lnTo>
                  <a:pt x="261" y="385"/>
                </a:lnTo>
                <a:lnTo>
                  <a:pt x="266" y="380"/>
                </a:lnTo>
                <a:lnTo>
                  <a:pt x="266" y="333"/>
                </a:lnTo>
                <a:lnTo>
                  <a:pt x="274" y="328"/>
                </a:lnTo>
                <a:lnTo>
                  <a:pt x="274" y="315"/>
                </a:lnTo>
                <a:lnTo>
                  <a:pt x="281" y="320"/>
                </a:lnTo>
                <a:lnTo>
                  <a:pt x="281" y="333"/>
                </a:lnTo>
                <a:lnTo>
                  <a:pt x="294" y="320"/>
                </a:lnTo>
                <a:lnTo>
                  <a:pt x="294" y="307"/>
                </a:lnTo>
                <a:lnTo>
                  <a:pt x="300" y="315"/>
                </a:lnTo>
                <a:lnTo>
                  <a:pt x="300" y="367"/>
                </a:lnTo>
                <a:lnTo>
                  <a:pt x="307" y="372"/>
                </a:lnTo>
                <a:lnTo>
                  <a:pt x="307" y="398"/>
                </a:lnTo>
                <a:lnTo>
                  <a:pt x="315" y="406"/>
                </a:lnTo>
                <a:lnTo>
                  <a:pt x="328" y="406"/>
                </a:lnTo>
                <a:lnTo>
                  <a:pt x="323" y="406"/>
                </a:lnTo>
                <a:lnTo>
                  <a:pt x="328" y="398"/>
                </a:lnTo>
                <a:lnTo>
                  <a:pt x="328" y="406"/>
                </a:lnTo>
                <a:lnTo>
                  <a:pt x="343" y="406"/>
                </a:lnTo>
                <a:lnTo>
                  <a:pt x="336" y="406"/>
                </a:lnTo>
                <a:lnTo>
                  <a:pt x="343" y="398"/>
                </a:lnTo>
                <a:lnTo>
                  <a:pt x="356" y="385"/>
                </a:lnTo>
                <a:lnTo>
                  <a:pt x="349" y="385"/>
                </a:lnTo>
                <a:lnTo>
                  <a:pt x="356" y="393"/>
                </a:lnTo>
                <a:lnTo>
                  <a:pt x="362" y="398"/>
                </a:lnTo>
                <a:lnTo>
                  <a:pt x="362" y="419"/>
                </a:lnTo>
                <a:lnTo>
                  <a:pt x="369" y="424"/>
                </a:lnTo>
                <a:lnTo>
                  <a:pt x="369" y="444"/>
                </a:lnTo>
                <a:lnTo>
                  <a:pt x="377" y="437"/>
                </a:lnTo>
                <a:lnTo>
                  <a:pt x="377" y="419"/>
                </a:lnTo>
                <a:lnTo>
                  <a:pt x="385" y="411"/>
                </a:lnTo>
                <a:lnTo>
                  <a:pt x="385" y="393"/>
                </a:lnTo>
                <a:lnTo>
                  <a:pt x="390" y="398"/>
                </a:lnTo>
                <a:lnTo>
                  <a:pt x="390" y="411"/>
                </a:lnTo>
                <a:lnTo>
                  <a:pt x="398" y="419"/>
                </a:lnTo>
                <a:lnTo>
                  <a:pt x="398" y="444"/>
                </a:lnTo>
                <a:lnTo>
                  <a:pt x="403" y="450"/>
                </a:lnTo>
                <a:lnTo>
                  <a:pt x="403" y="455"/>
                </a:lnTo>
                <a:lnTo>
                  <a:pt x="411" y="450"/>
                </a:lnTo>
                <a:lnTo>
                  <a:pt x="411" y="432"/>
                </a:lnTo>
                <a:lnTo>
                  <a:pt x="418" y="424"/>
                </a:lnTo>
                <a:lnTo>
                  <a:pt x="418" y="393"/>
                </a:lnTo>
                <a:lnTo>
                  <a:pt x="423" y="385"/>
                </a:lnTo>
                <a:lnTo>
                  <a:pt x="423" y="359"/>
                </a:lnTo>
                <a:lnTo>
                  <a:pt x="436" y="372"/>
                </a:lnTo>
                <a:lnTo>
                  <a:pt x="436" y="393"/>
                </a:lnTo>
                <a:lnTo>
                  <a:pt x="444" y="398"/>
                </a:lnTo>
                <a:lnTo>
                  <a:pt x="444" y="393"/>
                </a:lnTo>
                <a:lnTo>
                  <a:pt x="452" y="385"/>
                </a:lnTo>
                <a:lnTo>
                  <a:pt x="452" y="393"/>
                </a:lnTo>
                <a:lnTo>
                  <a:pt x="452" y="385"/>
                </a:lnTo>
                <a:lnTo>
                  <a:pt x="465" y="385"/>
                </a:lnTo>
                <a:lnTo>
                  <a:pt x="465" y="406"/>
                </a:lnTo>
                <a:lnTo>
                  <a:pt x="478" y="419"/>
                </a:lnTo>
                <a:lnTo>
                  <a:pt x="473" y="419"/>
                </a:lnTo>
                <a:lnTo>
                  <a:pt x="478" y="406"/>
                </a:lnTo>
                <a:lnTo>
                  <a:pt x="485" y="398"/>
                </a:lnTo>
                <a:lnTo>
                  <a:pt x="485" y="367"/>
                </a:lnTo>
                <a:lnTo>
                  <a:pt x="498" y="354"/>
                </a:lnTo>
                <a:lnTo>
                  <a:pt x="493" y="354"/>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1384200" y="5672160"/>
            <a:ext cx="824040" cy="338040"/>
          </a:xfrm>
          <a:custGeom>
            <a:avLst/>
            <a:gdLst/>
            <a:ahLst/>
            <a:rect l="l" t="t" r="r" b="b"/>
            <a:pathLst>
              <a:path w="519" h="213">
                <a:moveTo>
                  <a:pt x="0" y="91"/>
                </a:moveTo>
                <a:lnTo>
                  <a:pt x="5" y="104"/>
                </a:lnTo>
                <a:lnTo>
                  <a:pt x="13" y="96"/>
                </a:lnTo>
                <a:lnTo>
                  <a:pt x="21" y="91"/>
                </a:lnTo>
                <a:lnTo>
                  <a:pt x="21" y="78"/>
                </a:lnTo>
                <a:lnTo>
                  <a:pt x="26" y="70"/>
                </a:lnTo>
                <a:lnTo>
                  <a:pt x="26" y="60"/>
                </a:lnTo>
                <a:lnTo>
                  <a:pt x="34" y="52"/>
                </a:lnTo>
                <a:lnTo>
                  <a:pt x="34" y="26"/>
                </a:lnTo>
                <a:lnTo>
                  <a:pt x="39" y="21"/>
                </a:lnTo>
                <a:lnTo>
                  <a:pt x="39" y="0"/>
                </a:lnTo>
                <a:lnTo>
                  <a:pt x="54" y="16"/>
                </a:lnTo>
                <a:lnTo>
                  <a:pt x="54" y="65"/>
                </a:lnTo>
                <a:lnTo>
                  <a:pt x="62" y="70"/>
                </a:lnTo>
                <a:lnTo>
                  <a:pt x="62" y="78"/>
                </a:lnTo>
                <a:lnTo>
                  <a:pt x="62" y="70"/>
                </a:lnTo>
                <a:lnTo>
                  <a:pt x="67" y="65"/>
                </a:lnTo>
                <a:lnTo>
                  <a:pt x="67" y="52"/>
                </a:lnTo>
                <a:lnTo>
                  <a:pt x="83" y="65"/>
                </a:lnTo>
                <a:lnTo>
                  <a:pt x="83" y="86"/>
                </a:lnTo>
                <a:lnTo>
                  <a:pt x="88" y="78"/>
                </a:lnTo>
                <a:lnTo>
                  <a:pt x="88" y="70"/>
                </a:lnTo>
                <a:lnTo>
                  <a:pt x="101" y="65"/>
                </a:lnTo>
                <a:lnTo>
                  <a:pt x="101" y="60"/>
                </a:lnTo>
                <a:lnTo>
                  <a:pt x="101" y="65"/>
                </a:lnTo>
                <a:lnTo>
                  <a:pt x="109" y="70"/>
                </a:lnTo>
                <a:lnTo>
                  <a:pt x="109" y="86"/>
                </a:lnTo>
                <a:lnTo>
                  <a:pt x="116" y="91"/>
                </a:lnTo>
                <a:lnTo>
                  <a:pt x="116" y="122"/>
                </a:lnTo>
                <a:lnTo>
                  <a:pt x="122" y="130"/>
                </a:lnTo>
                <a:lnTo>
                  <a:pt x="122" y="156"/>
                </a:lnTo>
                <a:lnTo>
                  <a:pt x="137" y="140"/>
                </a:lnTo>
                <a:lnTo>
                  <a:pt x="137" y="122"/>
                </a:lnTo>
                <a:lnTo>
                  <a:pt x="142" y="117"/>
                </a:lnTo>
                <a:lnTo>
                  <a:pt x="158" y="130"/>
                </a:lnTo>
                <a:lnTo>
                  <a:pt x="158" y="140"/>
                </a:lnTo>
                <a:lnTo>
                  <a:pt x="171" y="156"/>
                </a:lnTo>
                <a:lnTo>
                  <a:pt x="171" y="174"/>
                </a:lnTo>
                <a:lnTo>
                  <a:pt x="176" y="179"/>
                </a:lnTo>
                <a:lnTo>
                  <a:pt x="176" y="200"/>
                </a:lnTo>
                <a:lnTo>
                  <a:pt x="191" y="213"/>
                </a:lnTo>
                <a:lnTo>
                  <a:pt x="184" y="213"/>
                </a:lnTo>
                <a:lnTo>
                  <a:pt x="191" y="200"/>
                </a:lnTo>
                <a:lnTo>
                  <a:pt x="196" y="192"/>
                </a:lnTo>
                <a:lnTo>
                  <a:pt x="196" y="161"/>
                </a:lnTo>
                <a:lnTo>
                  <a:pt x="204" y="156"/>
                </a:lnTo>
                <a:lnTo>
                  <a:pt x="204" y="135"/>
                </a:lnTo>
                <a:lnTo>
                  <a:pt x="212" y="130"/>
                </a:lnTo>
                <a:lnTo>
                  <a:pt x="212" y="117"/>
                </a:lnTo>
                <a:lnTo>
                  <a:pt x="212" y="122"/>
                </a:lnTo>
                <a:lnTo>
                  <a:pt x="217" y="117"/>
                </a:lnTo>
                <a:lnTo>
                  <a:pt x="233" y="130"/>
                </a:lnTo>
                <a:lnTo>
                  <a:pt x="233" y="148"/>
                </a:lnTo>
                <a:lnTo>
                  <a:pt x="238" y="148"/>
                </a:lnTo>
                <a:lnTo>
                  <a:pt x="245" y="140"/>
                </a:lnTo>
                <a:lnTo>
                  <a:pt x="245" y="148"/>
                </a:lnTo>
                <a:lnTo>
                  <a:pt x="245" y="140"/>
                </a:lnTo>
                <a:lnTo>
                  <a:pt x="251" y="135"/>
                </a:lnTo>
                <a:lnTo>
                  <a:pt x="251" y="122"/>
                </a:lnTo>
                <a:lnTo>
                  <a:pt x="258" y="117"/>
                </a:lnTo>
                <a:lnTo>
                  <a:pt x="258" y="109"/>
                </a:lnTo>
                <a:lnTo>
                  <a:pt x="266" y="104"/>
                </a:lnTo>
                <a:lnTo>
                  <a:pt x="266" y="109"/>
                </a:lnTo>
                <a:lnTo>
                  <a:pt x="279" y="122"/>
                </a:lnTo>
                <a:lnTo>
                  <a:pt x="279" y="135"/>
                </a:lnTo>
                <a:lnTo>
                  <a:pt x="292" y="148"/>
                </a:lnTo>
                <a:lnTo>
                  <a:pt x="287" y="148"/>
                </a:lnTo>
                <a:lnTo>
                  <a:pt x="292" y="140"/>
                </a:lnTo>
                <a:lnTo>
                  <a:pt x="300" y="135"/>
                </a:lnTo>
                <a:lnTo>
                  <a:pt x="300" y="130"/>
                </a:lnTo>
                <a:lnTo>
                  <a:pt x="307" y="122"/>
                </a:lnTo>
                <a:lnTo>
                  <a:pt x="307" y="109"/>
                </a:lnTo>
                <a:lnTo>
                  <a:pt x="313" y="104"/>
                </a:lnTo>
                <a:lnTo>
                  <a:pt x="328" y="117"/>
                </a:lnTo>
                <a:lnTo>
                  <a:pt x="328" y="122"/>
                </a:lnTo>
                <a:lnTo>
                  <a:pt x="328" y="117"/>
                </a:lnTo>
                <a:lnTo>
                  <a:pt x="333" y="109"/>
                </a:lnTo>
                <a:lnTo>
                  <a:pt x="333" y="91"/>
                </a:lnTo>
                <a:lnTo>
                  <a:pt x="341" y="86"/>
                </a:lnTo>
                <a:lnTo>
                  <a:pt x="341" y="70"/>
                </a:lnTo>
                <a:lnTo>
                  <a:pt x="346" y="70"/>
                </a:lnTo>
                <a:lnTo>
                  <a:pt x="354" y="78"/>
                </a:lnTo>
                <a:lnTo>
                  <a:pt x="354" y="91"/>
                </a:lnTo>
                <a:lnTo>
                  <a:pt x="362" y="96"/>
                </a:lnTo>
                <a:lnTo>
                  <a:pt x="362" y="130"/>
                </a:lnTo>
                <a:lnTo>
                  <a:pt x="369" y="135"/>
                </a:lnTo>
                <a:lnTo>
                  <a:pt x="375" y="140"/>
                </a:lnTo>
                <a:lnTo>
                  <a:pt x="375" y="148"/>
                </a:lnTo>
                <a:lnTo>
                  <a:pt x="375" y="140"/>
                </a:lnTo>
                <a:lnTo>
                  <a:pt x="382" y="135"/>
                </a:lnTo>
                <a:lnTo>
                  <a:pt x="388" y="130"/>
                </a:lnTo>
                <a:lnTo>
                  <a:pt x="388" y="117"/>
                </a:lnTo>
                <a:lnTo>
                  <a:pt x="395" y="122"/>
                </a:lnTo>
                <a:lnTo>
                  <a:pt x="403" y="130"/>
                </a:lnTo>
                <a:lnTo>
                  <a:pt x="403" y="156"/>
                </a:lnTo>
                <a:lnTo>
                  <a:pt x="408" y="161"/>
                </a:lnTo>
                <a:lnTo>
                  <a:pt x="408" y="187"/>
                </a:lnTo>
                <a:lnTo>
                  <a:pt x="416" y="192"/>
                </a:lnTo>
                <a:lnTo>
                  <a:pt x="421" y="187"/>
                </a:lnTo>
                <a:lnTo>
                  <a:pt x="421" y="174"/>
                </a:lnTo>
                <a:lnTo>
                  <a:pt x="429" y="169"/>
                </a:lnTo>
                <a:lnTo>
                  <a:pt x="429" y="140"/>
                </a:lnTo>
                <a:lnTo>
                  <a:pt x="437" y="135"/>
                </a:lnTo>
                <a:lnTo>
                  <a:pt x="437" y="130"/>
                </a:lnTo>
                <a:lnTo>
                  <a:pt x="444" y="135"/>
                </a:lnTo>
                <a:lnTo>
                  <a:pt x="444" y="140"/>
                </a:lnTo>
                <a:lnTo>
                  <a:pt x="444" y="135"/>
                </a:lnTo>
                <a:lnTo>
                  <a:pt x="449" y="130"/>
                </a:lnTo>
                <a:lnTo>
                  <a:pt x="457" y="122"/>
                </a:lnTo>
                <a:lnTo>
                  <a:pt x="462" y="117"/>
                </a:lnTo>
                <a:lnTo>
                  <a:pt x="462" y="104"/>
                </a:lnTo>
                <a:lnTo>
                  <a:pt x="470" y="96"/>
                </a:lnTo>
                <a:lnTo>
                  <a:pt x="470" y="70"/>
                </a:lnTo>
                <a:lnTo>
                  <a:pt x="483" y="60"/>
                </a:lnTo>
                <a:lnTo>
                  <a:pt x="478" y="60"/>
                </a:lnTo>
                <a:lnTo>
                  <a:pt x="483" y="70"/>
                </a:lnTo>
                <a:lnTo>
                  <a:pt x="491" y="65"/>
                </a:lnTo>
                <a:lnTo>
                  <a:pt x="491" y="70"/>
                </a:lnTo>
                <a:lnTo>
                  <a:pt x="491" y="65"/>
                </a:lnTo>
                <a:lnTo>
                  <a:pt x="496" y="60"/>
                </a:lnTo>
                <a:lnTo>
                  <a:pt x="496" y="70"/>
                </a:lnTo>
                <a:lnTo>
                  <a:pt x="504" y="78"/>
                </a:lnTo>
                <a:lnTo>
                  <a:pt x="504" y="122"/>
                </a:lnTo>
                <a:lnTo>
                  <a:pt x="511" y="130"/>
                </a:lnTo>
                <a:lnTo>
                  <a:pt x="511" y="161"/>
                </a:lnTo>
                <a:lnTo>
                  <a:pt x="519" y="156"/>
                </a:lnTo>
                <a:lnTo>
                  <a:pt x="519" y="140"/>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8" name=""/>
          <p:cNvSpPr/>
          <p:nvPr/>
        </p:nvSpPr>
        <p:spPr>
          <a:xfrm>
            <a:off x="2208240" y="5762520"/>
            <a:ext cx="782640" cy="214560"/>
          </a:xfrm>
          <a:custGeom>
            <a:avLst/>
            <a:gdLst/>
            <a:ahLst/>
            <a:rect l="l" t="t" r="r" b="b"/>
            <a:pathLst>
              <a:path w="493" h="135">
                <a:moveTo>
                  <a:pt x="0" y="86"/>
                </a:moveTo>
                <a:lnTo>
                  <a:pt x="5" y="78"/>
                </a:lnTo>
                <a:lnTo>
                  <a:pt x="5" y="52"/>
                </a:lnTo>
                <a:lnTo>
                  <a:pt x="18" y="39"/>
                </a:lnTo>
                <a:lnTo>
                  <a:pt x="13" y="39"/>
                </a:lnTo>
                <a:lnTo>
                  <a:pt x="18" y="39"/>
                </a:lnTo>
                <a:lnTo>
                  <a:pt x="34" y="52"/>
                </a:lnTo>
                <a:lnTo>
                  <a:pt x="34" y="86"/>
                </a:lnTo>
                <a:lnTo>
                  <a:pt x="39" y="91"/>
                </a:lnTo>
                <a:lnTo>
                  <a:pt x="39" y="104"/>
                </a:lnTo>
                <a:lnTo>
                  <a:pt x="47" y="99"/>
                </a:lnTo>
                <a:lnTo>
                  <a:pt x="47" y="78"/>
                </a:lnTo>
                <a:lnTo>
                  <a:pt x="52" y="73"/>
                </a:lnTo>
                <a:lnTo>
                  <a:pt x="52" y="21"/>
                </a:lnTo>
                <a:lnTo>
                  <a:pt x="60" y="13"/>
                </a:lnTo>
                <a:lnTo>
                  <a:pt x="60" y="0"/>
                </a:lnTo>
                <a:lnTo>
                  <a:pt x="60" y="8"/>
                </a:lnTo>
                <a:lnTo>
                  <a:pt x="67" y="13"/>
                </a:lnTo>
                <a:lnTo>
                  <a:pt x="67" y="29"/>
                </a:lnTo>
                <a:lnTo>
                  <a:pt x="80" y="39"/>
                </a:lnTo>
                <a:lnTo>
                  <a:pt x="75" y="39"/>
                </a:lnTo>
                <a:lnTo>
                  <a:pt x="80" y="21"/>
                </a:lnTo>
                <a:lnTo>
                  <a:pt x="93" y="8"/>
                </a:lnTo>
                <a:lnTo>
                  <a:pt x="88" y="8"/>
                </a:lnTo>
                <a:lnTo>
                  <a:pt x="93" y="8"/>
                </a:lnTo>
                <a:lnTo>
                  <a:pt x="101" y="13"/>
                </a:lnTo>
                <a:lnTo>
                  <a:pt x="101" y="29"/>
                </a:lnTo>
                <a:lnTo>
                  <a:pt x="109" y="34"/>
                </a:lnTo>
                <a:lnTo>
                  <a:pt x="114" y="34"/>
                </a:lnTo>
                <a:lnTo>
                  <a:pt x="122" y="39"/>
                </a:lnTo>
                <a:lnTo>
                  <a:pt x="122" y="52"/>
                </a:lnTo>
                <a:lnTo>
                  <a:pt x="127" y="60"/>
                </a:lnTo>
                <a:lnTo>
                  <a:pt x="127" y="73"/>
                </a:lnTo>
                <a:lnTo>
                  <a:pt x="142" y="86"/>
                </a:lnTo>
                <a:lnTo>
                  <a:pt x="142" y="104"/>
                </a:lnTo>
                <a:lnTo>
                  <a:pt x="147" y="112"/>
                </a:lnTo>
                <a:lnTo>
                  <a:pt x="147" y="130"/>
                </a:lnTo>
                <a:lnTo>
                  <a:pt x="155" y="124"/>
                </a:lnTo>
                <a:lnTo>
                  <a:pt x="155" y="117"/>
                </a:lnTo>
                <a:lnTo>
                  <a:pt x="163" y="112"/>
                </a:lnTo>
                <a:lnTo>
                  <a:pt x="163" y="78"/>
                </a:lnTo>
                <a:lnTo>
                  <a:pt x="168" y="73"/>
                </a:lnTo>
                <a:lnTo>
                  <a:pt x="168" y="52"/>
                </a:lnTo>
                <a:lnTo>
                  <a:pt x="176" y="60"/>
                </a:lnTo>
                <a:lnTo>
                  <a:pt x="189" y="73"/>
                </a:lnTo>
                <a:lnTo>
                  <a:pt x="189" y="78"/>
                </a:lnTo>
                <a:lnTo>
                  <a:pt x="202" y="91"/>
                </a:lnTo>
                <a:lnTo>
                  <a:pt x="196" y="91"/>
                </a:lnTo>
                <a:lnTo>
                  <a:pt x="202" y="91"/>
                </a:lnTo>
                <a:lnTo>
                  <a:pt x="215" y="91"/>
                </a:lnTo>
                <a:lnTo>
                  <a:pt x="209" y="91"/>
                </a:lnTo>
                <a:lnTo>
                  <a:pt x="215" y="78"/>
                </a:lnTo>
                <a:lnTo>
                  <a:pt x="222" y="73"/>
                </a:lnTo>
                <a:lnTo>
                  <a:pt x="222" y="52"/>
                </a:lnTo>
                <a:lnTo>
                  <a:pt x="230" y="47"/>
                </a:lnTo>
                <a:lnTo>
                  <a:pt x="230" y="39"/>
                </a:lnTo>
                <a:lnTo>
                  <a:pt x="230" y="60"/>
                </a:lnTo>
                <a:lnTo>
                  <a:pt x="238" y="65"/>
                </a:lnTo>
                <a:lnTo>
                  <a:pt x="238" y="117"/>
                </a:lnTo>
                <a:lnTo>
                  <a:pt x="251" y="130"/>
                </a:lnTo>
                <a:lnTo>
                  <a:pt x="243" y="130"/>
                </a:lnTo>
                <a:lnTo>
                  <a:pt x="251" y="86"/>
                </a:lnTo>
                <a:lnTo>
                  <a:pt x="256" y="78"/>
                </a:lnTo>
                <a:lnTo>
                  <a:pt x="264" y="86"/>
                </a:lnTo>
                <a:lnTo>
                  <a:pt x="264" y="117"/>
                </a:lnTo>
                <a:lnTo>
                  <a:pt x="271" y="124"/>
                </a:lnTo>
                <a:lnTo>
                  <a:pt x="271" y="130"/>
                </a:lnTo>
                <a:lnTo>
                  <a:pt x="271" y="124"/>
                </a:lnTo>
                <a:lnTo>
                  <a:pt x="276" y="117"/>
                </a:lnTo>
                <a:lnTo>
                  <a:pt x="276" y="104"/>
                </a:lnTo>
                <a:lnTo>
                  <a:pt x="284" y="99"/>
                </a:lnTo>
                <a:lnTo>
                  <a:pt x="289" y="104"/>
                </a:lnTo>
                <a:lnTo>
                  <a:pt x="289" y="117"/>
                </a:lnTo>
                <a:lnTo>
                  <a:pt x="297" y="124"/>
                </a:lnTo>
                <a:lnTo>
                  <a:pt x="297" y="135"/>
                </a:lnTo>
                <a:lnTo>
                  <a:pt x="305" y="135"/>
                </a:lnTo>
                <a:lnTo>
                  <a:pt x="313" y="130"/>
                </a:lnTo>
                <a:lnTo>
                  <a:pt x="313" y="104"/>
                </a:lnTo>
                <a:lnTo>
                  <a:pt x="318" y="99"/>
                </a:lnTo>
                <a:lnTo>
                  <a:pt x="318" y="52"/>
                </a:lnTo>
                <a:lnTo>
                  <a:pt x="326" y="47"/>
                </a:lnTo>
                <a:lnTo>
                  <a:pt x="326" y="39"/>
                </a:lnTo>
                <a:lnTo>
                  <a:pt x="326" y="47"/>
                </a:lnTo>
                <a:lnTo>
                  <a:pt x="331" y="52"/>
                </a:lnTo>
                <a:lnTo>
                  <a:pt x="331" y="91"/>
                </a:lnTo>
                <a:lnTo>
                  <a:pt x="338" y="99"/>
                </a:lnTo>
                <a:lnTo>
                  <a:pt x="338" y="78"/>
                </a:lnTo>
                <a:lnTo>
                  <a:pt x="344" y="73"/>
                </a:lnTo>
                <a:lnTo>
                  <a:pt x="344" y="29"/>
                </a:lnTo>
                <a:lnTo>
                  <a:pt x="351" y="21"/>
                </a:lnTo>
                <a:lnTo>
                  <a:pt x="351" y="13"/>
                </a:lnTo>
                <a:lnTo>
                  <a:pt x="351" y="39"/>
                </a:lnTo>
                <a:lnTo>
                  <a:pt x="359" y="47"/>
                </a:lnTo>
                <a:lnTo>
                  <a:pt x="359" y="78"/>
                </a:lnTo>
                <a:lnTo>
                  <a:pt x="364" y="86"/>
                </a:lnTo>
                <a:lnTo>
                  <a:pt x="364" y="104"/>
                </a:lnTo>
                <a:lnTo>
                  <a:pt x="377" y="104"/>
                </a:lnTo>
                <a:lnTo>
                  <a:pt x="377" y="78"/>
                </a:lnTo>
                <a:lnTo>
                  <a:pt x="385" y="73"/>
                </a:lnTo>
                <a:lnTo>
                  <a:pt x="385" y="60"/>
                </a:lnTo>
                <a:lnTo>
                  <a:pt x="393" y="65"/>
                </a:lnTo>
                <a:lnTo>
                  <a:pt x="393" y="73"/>
                </a:lnTo>
                <a:lnTo>
                  <a:pt x="400" y="78"/>
                </a:lnTo>
                <a:lnTo>
                  <a:pt x="400" y="65"/>
                </a:lnTo>
                <a:lnTo>
                  <a:pt x="406" y="60"/>
                </a:lnTo>
                <a:lnTo>
                  <a:pt x="406" y="39"/>
                </a:lnTo>
                <a:lnTo>
                  <a:pt x="413" y="34"/>
                </a:lnTo>
                <a:lnTo>
                  <a:pt x="413" y="47"/>
                </a:lnTo>
                <a:lnTo>
                  <a:pt x="418" y="52"/>
                </a:lnTo>
                <a:lnTo>
                  <a:pt x="418" y="65"/>
                </a:lnTo>
                <a:lnTo>
                  <a:pt x="434" y="78"/>
                </a:lnTo>
                <a:lnTo>
                  <a:pt x="434" y="91"/>
                </a:lnTo>
                <a:lnTo>
                  <a:pt x="439" y="99"/>
                </a:lnTo>
                <a:lnTo>
                  <a:pt x="452" y="99"/>
                </a:lnTo>
                <a:lnTo>
                  <a:pt x="452" y="86"/>
                </a:lnTo>
                <a:lnTo>
                  <a:pt x="460" y="78"/>
                </a:lnTo>
                <a:lnTo>
                  <a:pt x="460" y="65"/>
                </a:lnTo>
                <a:lnTo>
                  <a:pt x="468" y="60"/>
                </a:lnTo>
                <a:lnTo>
                  <a:pt x="468" y="52"/>
                </a:lnTo>
                <a:lnTo>
                  <a:pt x="468" y="60"/>
                </a:lnTo>
                <a:lnTo>
                  <a:pt x="475" y="65"/>
                </a:lnTo>
                <a:lnTo>
                  <a:pt x="475" y="86"/>
                </a:lnTo>
                <a:lnTo>
                  <a:pt x="480" y="91"/>
                </a:lnTo>
                <a:lnTo>
                  <a:pt x="480" y="112"/>
                </a:lnTo>
                <a:lnTo>
                  <a:pt x="493" y="112"/>
                </a:lnTo>
                <a:lnTo>
                  <a:pt x="488" y="112"/>
                </a:lnTo>
                <a:lnTo>
                  <a:pt x="493" y="11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a:off x="2990880" y="5821200"/>
            <a:ext cx="824040" cy="200160"/>
          </a:xfrm>
          <a:custGeom>
            <a:avLst/>
            <a:gdLst/>
            <a:ahLst/>
            <a:rect l="l" t="t" r="r" b="b"/>
            <a:pathLst>
              <a:path w="519" h="126">
                <a:moveTo>
                  <a:pt x="0" y="82"/>
                </a:moveTo>
                <a:lnTo>
                  <a:pt x="8" y="75"/>
                </a:lnTo>
                <a:lnTo>
                  <a:pt x="16" y="69"/>
                </a:lnTo>
                <a:lnTo>
                  <a:pt x="16" y="36"/>
                </a:lnTo>
                <a:lnTo>
                  <a:pt x="21" y="31"/>
                </a:lnTo>
                <a:lnTo>
                  <a:pt x="21" y="18"/>
                </a:lnTo>
                <a:lnTo>
                  <a:pt x="29" y="25"/>
                </a:lnTo>
                <a:lnTo>
                  <a:pt x="29" y="36"/>
                </a:lnTo>
                <a:lnTo>
                  <a:pt x="34" y="43"/>
                </a:lnTo>
                <a:lnTo>
                  <a:pt x="42" y="36"/>
                </a:lnTo>
                <a:lnTo>
                  <a:pt x="42" y="18"/>
                </a:lnTo>
                <a:lnTo>
                  <a:pt x="57" y="18"/>
                </a:lnTo>
                <a:lnTo>
                  <a:pt x="57" y="31"/>
                </a:lnTo>
                <a:lnTo>
                  <a:pt x="62" y="36"/>
                </a:lnTo>
                <a:lnTo>
                  <a:pt x="62" y="49"/>
                </a:lnTo>
                <a:lnTo>
                  <a:pt x="70" y="56"/>
                </a:lnTo>
                <a:lnTo>
                  <a:pt x="75" y="64"/>
                </a:lnTo>
                <a:lnTo>
                  <a:pt x="83" y="69"/>
                </a:lnTo>
                <a:lnTo>
                  <a:pt x="83" y="82"/>
                </a:lnTo>
                <a:lnTo>
                  <a:pt x="91" y="87"/>
                </a:lnTo>
                <a:lnTo>
                  <a:pt x="91" y="100"/>
                </a:lnTo>
                <a:lnTo>
                  <a:pt x="96" y="108"/>
                </a:lnTo>
                <a:lnTo>
                  <a:pt x="96" y="119"/>
                </a:lnTo>
                <a:lnTo>
                  <a:pt x="109" y="119"/>
                </a:lnTo>
                <a:lnTo>
                  <a:pt x="109" y="87"/>
                </a:lnTo>
                <a:lnTo>
                  <a:pt x="117" y="82"/>
                </a:lnTo>
                <a:lnTo>
                  <a:pt x="117" y="49"/>
                </a:lnTo>
                <a:lnTo>
                  <a:pt x="124" y="43"/>
                </a:lnTo>
                <a:lnTo>
                  <a:pt x="132" y="49"/>
                </a:lnTo>
                <a:lnTo>
                  <a:pt x="132" y="64"/>
                </a:lnTo>
                <a:lnTo>
                  <a:pt x="137" y="69"/>
                </a:lnTo>
                <a:lnTo>
                  <a:pt x="145" y="64"/>
                </a:lnTo>
                <a:lnTo>
                  <a:pt x="145" y="49"/>
                </a:lnTo>
                <a:lnTo>
                  <a:pt x="158" y="36"/>
                </a:lnTo>
                <a:lnTo>
                  <a:pt x="150" y="36"/>
                </a:lnTo>
                <a:lnTo>
                  <a:pt x="158" y="43"/>
                </a:lnTo>
                <a:lnTo>
                  <a:pt x="166" y="49"/>
                </a:lnTo>
                <a:lnTo>
                  <a:pt x="166" y="75"/>
                </a:lnTo>
                <a:lnTo>
                  <a:pt x="179" y="87"/>
                </a:lnTo>
                <a:lnTo>
                  <a:pt x="171" y="87"/>
                </a:lnTo>
                <a:lnTo>
                  <a:pt x="179" y="75"/>
                </a:lnTo>
                <a:lnTo>
                  <a:pt x="184" y="69"/>
                </a:lnTo>
                <a:lnTo>
                  <a:pt x="184" y="56"/>
                </a:lnTo>
                <a:lnTo>
                  <a:pt x="199" y="43"/>
                </a:lnTo>
                <a:lnTo>
                  <a:pt x="199" y="36"/>
                </a:lnTo>
                <a:lnTo>
                  <a:pt x="207" y="31"/>
                </a:lnTo>
                <a:lnTo>
                  <a:pt x="212" y="36"/>
                </a:lnTo>
                <a:lnTo>
                  <a:pt x="212" y="25"/>
                </a:lnTo>
                <a:lnTo>
                  <a:pt x="225" y="12"/>
                </a:lnTo>
                <a:lnTo>
                  <a:pt x="220" y="12"/>
                </a:lnTo>
                <a:lnTo>
                  <a:pt x="225" y="12"/>
                </a:lnTo>
                <a:lnTo>
                  <a:pt x="241" y="25"/>
                </a:lnTo>
                <a:lnTo>
                  <a:pt x="233" y="25"/>
                </a:lnTo>
                <a:lnTo>
                  <a:pt x="241" y="25"/>
                </a:lnTo>
                <a:lnTo>
                  <a:pt x="246" y="31"/>
                </a:lnTo>
                <a:lnTo>
                  <a:pt x="246" y="49"/>
                </a:lnTo>
                <a:lnTo>
                  <a:pt x="253" y="56"/>
                </a:lnTo>
                <a:lnTo>
                  <a:pt x="253" y="69"/>
                </a:lnTo>
                <a:lnTo>
                  <a:pt x="266" y="69"/>
                </a:lnTo>
                <a:lnTo>
                  <a:pt x="266" y="95"/>
                </a:lnTo>
                <a:lnTo>
                  <a:pt x="274" y="100"/>
                </a:lnTo>
                <a:lnTo>
                  <a:pt x="274" y="108"/>
                </a:lnTo>
                <a:lnTo>
                  <a:pt x="274" y="100"/>
                </a:lnTo>
                <a:lnTo>
                  <a:pt x="282" y="95"/>
                </a:lnTo>
                <a:lnTo>
                  <a:pt x="282" y="56"/>
                </a:lnTo>
                <a:lnTo>
                  <a:pt x="287" y="49"/>
                </a:lnTo>
                <a:lnTo>
                  <a:pt x="287" y="36"/>
                </a:lnTo>
                <a:lnTo>
                  <a:pt x="295" y="43"/>
                </a:lnTo>
                <a:lnTo>
                  <a:pt x="295" y="69"/>
                </a:lnTo>
                <a:lnTo>
                  <a:pt x="300" y="64"/>
                </a:lnTo>
                <a:lnTo>
                  <a:pt x="300" y="43"/>
                </a:lnTo>
                <a:lnTo>
                  <a:pt x="308" y="36"/>
                </a:lnTo>
                <a:lnTo>
                  <a:pt x="308" y="5"/>
                </a:lnTo>
                <a:lnTo>
                  <a:pt x="315" y="0"/>
                </a:lnTo>
                <a:lnTo>
                  <a:pt x="315" y="18"/>
                </a:lnTo>
                <a:lnTo>
                  <a:pt x="321" y="25"/>
                </a:lnTo>
                <a:lnTo>
                  <a:pt x="321" y="49"/>
                </a:lnTo>
                <a:lnTo>
                  <a:pt x="328" y="56"/>
                </a:lnTo>
                <a:lnTo>
                  <a:pt x="328" y="87"/>
                </a:lnTo>
                <a:lnTo>
                  <a:pt x="341" y="100"/>
                </a:lnTo>
                <a:lnTo>
                  <a:pt x="333" y="100"/>
                </a:lnTo>
                <a:lnTo>
                  <a:pt x="341" y="69"/>
                </a:lnTo>
                <a:lnTo>
                  <a:pt x="349" y="64"/>
                </a:lnTo>
                <a:lnTo>
                  <a:pt x="349" y="43"/>
                </a:lnTo>
                <a:lnTo>
                  <a:pt x="357" y="36"/>
                </a:lnTo>
                <a:lnTo>
                  <a:pt x="357" y="43"/>
                </a:lnTo>
                <a:lnTo>
                  <a:pt x="362" y="49"/>
                </a:lnTo>
                <a:lnTo>
                  <a:pt x="362" y="75"/>
                </a:lnTo>
                <a:lnTo>
                  <a:pt x="370" y="82"/>
                </a:lnTo>
                <a:lnTo>
                  <a:pt x="370" y="95"/>
                </a:lnTo>
                <a:lnTo>
                  <a:pt x="375" y="87"/>
                </a:lnTo>
                <a:lnTo>
                  <a:pt x="375" y="69"/>
                </a:lnTo>
                <a:lnTo>
                  <a:pt x="383" y="64"/>
                </a:lnTo>
                <a:lnTo>
                  <a:pt x="383" y="43"/>
                </a:lnTo>
                <a:lnTo>
                  <a:pt x="390" y="49"/>
                </a:lnTo>
                <a:lnTo>
                  <a:pt x="395" y="56"/>
                </a:lnTo>
                <a:lnTo>
                  <a:pt x="395" y="75"/>
                </a:lnTo>
                <a:lnTo>
                  <a:pt x="408" y="87"/>
                </a:lnTo>
                <a:lnTo>
                  <a:pt x="403" y="87"/>
                </a:lnTo>
                <a:lnTo>
                  <a:pt x="408" y="82"/>
                </a:lnTo>
                <a:lnTo>
                  <a:pt x="416" y="75"/>
                </a:lnTo>
                <a:lnTo>
                  <a:pt x="416" y="56"/>
                </a:lnTo>
                <a:lnTo>
                  <a:pt x="424" y="49"/>
                </a:lnTo>
                <a:lnTo>
                  <a:pt x="429" y="43"/>
                </a:lnTo>
                <a:lnTo>
                  <a:pt x="429" y="64"/>
                </a:lnTo>
                <a:lnTo>
                  <a:pt x="437" y="69"/>
                </a:lnTo>
                <a:lnTo>
                  <a:pt x="437" y="108"/>
                </a:lnTo>
                <a:lnTo>
                  <a:pt x="444" y="113"/>
                </a:lnTo>
                <a:lnTo>
                  <a:pt x="444" y="126"/>
                </a:lnTo>
                <a:lnTo>
                  <a:pt x="450" y="119"/>
                </a:lnTo>
                <a:lnTo>
                  <a:pt x="450" y="100"/>
                </a:lnTo>
                <a:lnTo>
                  <a:pt x="457" y="95"/>
                </a:lnTo>
                <a:lnTo>
                  <a:pt x="457" y="87"/>
                </a:lnTo>
                <a:lnTo>
                  <a:pt x="465" y="82"/>
                </a:lnTo>
                <a:lnTo>
                  <a:pt x="465" y="69"/>
                </a:lnTo>
                <a:lnTo>
                  <a:pt x="470" y="64"/>
                </a:lnTo>
                <a:lnTo>
                  <a:pt x="470" y="36"/>
                </a:lnTo>
                <a:lnTo>
                  <a:pt x="478" y="43"/>
                </a:lnTo>
                <a:lnTo>
                  <a:pt x="483" y="49"/>
                </a:lnTo>
                <a:lnTo>
                  <a:pt x="483" y="75"/>
                </a:lnTo>
                <a:lnTo>
                  <a:pt x="491" y="69"/>
                </a:lnTo>
                <a:lnTo>
                  <a:pt x="504" y="69"/>
                </a:lnTo>
                <a:lnTo>
                  <a:pt x="504" y="75"/>
                </a:lnTo>
                <a:lnTo>
                  <a:pt x="504" y="69"/>
                </a:lnTo>
                <a:lnTo>
                  <a:pt x="512" y="64"/>
                </a:lnTo>
                <a:lnTo>
                  <a:pt x="512" y="43"/>
                </a:lnTo>
                <a:lnTo>
                  <a:pt x="519" y="36"/>
                </a:lnTo>
                <a:lnTo>
                  <a:pt x="519" y="12"/>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0" name=""/>
          <p:cNvSpPr/>
          <p:nvPr/>
        </p:nvSpPr>
        <p:spPr>
          <a:xfrm>
            <a:off x="3814920" y="5791320"/>
            <a:ext cx="771480" cy="230040"/>
          </a:xfrm>
          <a:custGeom>
            <a:avLst/>
            <a:gdLst/>
            <a:ahLst/>
            <a:rect l="l" t="t" r="r" b="b"/>
            <a:pathLst>
              <a:path w="486" h="145">
                <a:moveTo>
                  <a:pt x="0" y="29"/>
                </a:moveTo>
                <a:lnTo>
                  <a:pt x="6" y="21"/>
                </a:lnTo>
                <a:lnTo>
                  <a:pt x="6" y="34"/>
                </a:lnTo>
                <a:lnTo>
                  <a:pt x="13" y="42"/>
                </a:lnTo>
                <a:lnTo>
                  <a:pt x="13" y="60"/>
                </a:lnTo>
                <a:lnTo>
                  <a:pt x="26" y="73"/>
                </a:lnTo>
                <a:lnTo>
                  <a:pt x="21" y="73"/>
                </a:lnTo>
                <a:lnTo>
                  <a:pt x="26" y="73"/>
                </a:lnTo>
                <a:lnTo>
                  <a:pt x="39" y="73"/>
                </a:lnTo>
                <a:lnTo>
                  <a:pt x="39" y="88"/>
                </a:lnTo>
                <a:lnTo>
                  <a:pt x="34" y="73"/>
                </a:lnTo>
                <a:lnTo>
                  <a:pt x="39" y="81"/>
                </a:lnTo>
                <a:lnTo>
                  <a:pt x="47" y="73"/>
                </a:lnTo>
                <a:lnTo>
                  <a:pt x="47" y="34"/>
                </a:lnTo>
                <a:lnTo>
                  <a:pt x="55" y="29"/>
                </a:lnTo>
                <a:lnTo>
                  <a:pt x="55" y="0"/>
                </a:lnTo>
                <a:lnTo>
                  <a:pt x="60" y="8"/>
                </a:lnTo>
                <a:lnTo>
                  <a:pt x="60" y="21"/>
                </a:lnTo>
                <a:lnTo>
                  <a:pt x="68" y="29"/>
                </a:lnTo>
                <a:lnTo>
                  <a:pt x="68" y="42"/>
                </a:lnTo>
                <a:lnTo>
                  <a:pt x="75" y="34"/>
                </a:lnTo>
                <a:lnTo>
                  <a:pt x="75" y="16"/>
                </a:lnTo>
                <a:lnTo>
                  <a:pt x="75" y="21"/>
                </a:lnTo>
                <a:lnTo>
                  <a:pt x="88" y="8"/>
                </a:lnTo>
                <a:lnTo>
                  <a:pt x="83" y="8"/>
                </a:lnTo>
                <a:lnTo>
                  <a:pt x="88" y="42"/>
                </a:lnTo>
                <a:lnTo>
                  <a:pt x="96" y="47"/>
                </a:lnTo>
                <a:lnTo>
                  <a:pt x="96" y="68"/>
                </a:lnTo>
                <a:lnTo>
                  <a:pt x="101" y="73"/>
                </a:lnTo>
                <a:lnTo>
                  <a:pt x="109" y="68"/>
                </a:lnTo>
                <a:lnTo>
                  <a:pt x="109" y="47"/>
                </a:lnTo>
                <a:lnTo>
                  <a:pt x="117" y="42"/>
                </a:lnTo>
                <a:lnTo>
                  <a:pt x="117" y="34"/>
                </a:lnTo>
                <a:lnTo>
                  <a:pt x="117" y="42"/>
                </a:lnTo>
                <a:lnTo>
                  <a:pt x="122" y="47"/>
                </a:lnTo>
                <a:lnTo>
                  <a:pt x="122" y="60"/>
                </a:lnTo>
                <a:lnTo>
                  <a:pt x="129" y="68"/>
                </a:lnTo>
                <a:lnTo>
                  <a:pt x="129" y="88"/>
                </a:lnTo>
                <a:lnTo>
                  <a:pt x="137" y="94"/>
                </a:lnTo>
                <a:lnTo>
                  <a:pt x="137" y="106"/>
                </a:lnTo>
                <a:lnTo>
                  <a:pt x="142" y="112"/>
                </a:lnTo>
                <a:lnTo>
                  <a:pt x="142" y="119"/>
                </a:lnTo>
                <a:lnTo>
                  <a:pt x="150" y="125"/>
                </a:lnTo>
                <a:lnTo>
                  <a:pt x="150" y="106"/>
                </a:lnTo>
                <a:lnTo>
                  <a:pt x="158" y="101"/>
                </a:lnTo>
                <a:lnTo>
                  <a:pt x="158" y="68"/>
                </a:lnTo>
                <a:lnTo>
                  <a:pt x="163" y="60"/>
                </a:lnTo>
                <a:lnTo>
                  <a:pt x="163" y="55"/>
                </a:lnTo>
                <a:lnTo>
                  <a:pt x="163" y="60"/>
                </a:lnTo>
                <a:lnTo>
                  <a:pt x="171" y="68"/>
                </a:lnTo>
                <a:lnTo>
                  <a:pt x="171" y="81"/>
                </a:lnTo>
                <a:lnTo>
                  <a:pt x="179" y="88"/>
                </a:lnTo>
                <a:lnTo>
                  <a:pt x="179" y="101"/>
                </a:lnTo>
                <a:lnTo>
                  <a:pt x="191" y="101"/>
                </a:lnTo>
                <a:lnTo>
                  <a:pt x="191" y="94"/>
                </a:lnTo>
                <a:lnTo>
                  <a:pt x="199" y="88"/>
                </a:lnTo>
                <a:lnTo>
                  <a:pt x="199" y="68"/>
                </a:lnTo>
                <a:lnTo>
                  <a:pt x="212" y="68"/>
                </a:lnTo>
                <a:lnTo>
                  <a:pt x="212" y="60"/>
                </a:lnTo>
                <a:lnTo>
                  <a:pt x="212" y="68"/>
                </a:lnTo>
                <a:lnTo>
                  <a:pt x="217" y="60"/>
                </a:lnTo>
                <a:lnTo>
                  <a:pt x="217" y="55"/>
                </a:lnTo>
                <a:lnTo>
                  <a:pt x="225" y="60"/>
                </a:lnTo>
                <a:lnTo>
                  <a:pt x="225" y="68"/>
                </a:lnTo>
                <a:lnTo>
                  <a:pt x="240" y="68"/>
                </a:lnTo>
                <a:lnTo>
                  <a:pt x="240" y="55"/>
                </a:lnTo>
                <a:lnTo>
                  <a:pt x="246" y="47"/>
                </a:lnTo>
                <a:lnTo>
                  <a:pt x="246" y="55"/>
                </a:lnTo>
                <a:lnTo>
                  <a:pt x="253" y="60"/>
                </a:lnTo>
                <a:lnTo>
                  <a:pt x="253" y="73"/>
                </a:lnTo>
                <a:lnTo>
                  <a:pt x="259" y="81"/>
                </a:lnTo>
                <a:lnTo>
                  <a:pt x="259" y="60"/>
                </a:lnTo>
                <a:lnTo>
                  <a:pt x="266" y="55"/>
                </a:lnTo>
                <a:lnTo>
                  <a:pt x="266" y="29"/>
                </a:lnTo>
                <a:lnTo>
                  <a:pt x="274" y="21"/>
                </a:lnTo>
                <a:lnTo>
                  <a:pt x="274" y="16"/>
                </a:lnTo>
                <a:lnTo>
                  <a:pt x="274" y="29"/>
                </a:lnTo>
                <a:lnTo>
                  <a:pt x="279" y="34"/>
                </a:lnTo>
                <a:lnTo>
                  <a:pt x="279" y="60"/>
                </a:lnTo>
                <a:lnTo>
                  <a:pt x="287" y="68"/>
                </a:lnTo>
                <a:lnTo>
                  <a:pt x="287" y="94"/>
                </a:lnTo>
                <a:lnTo>
                  <a:pt x="300" y="106"/>
                </a:lnTo>
                <a:lnTo>
                  <a:pt x="300" y="119"/>
                </a:lnTo>
                <a:lnTo>
                  <a:pt x="308" y="125"/>
                </a:lnTo>
                <a:lnTo>
                  <a:pt x="308" y="145"/>
                </a:lnTo>
                <a:lnTo>
                  <a:pt x="321" y="145"/>
                </a:lnTo>
                <a:lnTo>
                  <a:pt x="321" y="112"/>
                </a:lnTo>
                <a:lnTo>
                  <a:pt x="328" y="106"/>
                </a:lnTo>
                <a:lnTo>
                  <a:pt x="328" y="81"/>
                </a:lnTo>
                <a:lnTo>
                  <a:pt x="341" y="94"/>
                </a:lnTo>
                <a:lnTo>
                  <a:pt x="341" y="112"/>
                </a:lnTo>
                <a:lnTo>
                  <a:pt x="341" y="106"/>
                </a:lnTo>
                <a:lnTo>
                  <a:pt x="349" y="101"/>
                </a:lnTo>
                <a:lnTo>
                  <a:pt x="349" y="94"/>
                </a:lnTo>
                <a:lnTo>
                  <a:pt x="357" y="88"/>
                </a:lnTo>
                <a:lnTo>
                  <a:pt x="357" y="42"/>
                </a:lnTo>
                <a:lnTo>
                  <a:pt x="362" y="34"/>
                </a:lnTo>
                <a:lnTo>
                  <a:pt x="362" y="21"/>
                </a:lnTo>
                <a:lnTo>
                  <a:pt x="370" y="29"/>
                </a:lnTo>
                <a:lnTo>
                  <a:pt x="370" y="47"/>
                </a:lnTo>
                <a:lnTo>
                  <a:pt x="375" y="55"/>
                </a:lnTo>
                <a:lnTo>
                  <a:pt x="375" y="88"/>
                </a:lnTo>
                <a:lnTo>
                  <a:pt x="383" y="81"/>
                </a:lnTo>
                <a:lnTo>
                  <a:pt x="390" y="73"/>
                </a:lnTo>
                <a:lnTo>
                  <a:pt x="390" y="55"/>
                </a:lnTo>
                <a:lnTo>
                  <a:pt x="398" y="60"/>
                </a:lnTo>
                <a:lnTo>
                  <a:pt x="398" y="68"/>
                </a:lnTo>
                <a:lnTo>
                  <a:pt x="398" y="60"/>
                </a:lnTo>
                <a:lnTo>
                  <a:pt x="403" y="68"/>
                </a:lnTo>
                <a:lnTo>
                  <a:pt x="403" y="88"/>
                </a:lnTo>
                <a:lnTo>
                  <a:pt x="411" y="88"/>
                </a:lnTo>
                <a:lnTo>
                  <a:pt x="416" y="81"/>
                </a:lnTo>
                <a:lnTo>
                  <a:pt x="424" y="88"/>
                </a:lnTo>
                <a:lnTo>
                  <a:pt x="437" y="73"/>
                </a:lnTo>
                <a:lnTo>
                  <a:pt x="437" y="29"/>
                </a:lnTo>
                <a:lnTo>
                  <a:pt x="444" y="21"/>
                </a:lnTo>
                <a:lnTo>
                  <a:pt x="444" y="29"/>
                </a:lnTo>
                <a:lnTo>
                  <a:pt x="452" y="34"/>
                </a:lnTo>
                <a:lnTo>
                  <a:pt x="452" y="68"/>
                </a:lnTo>
                <a:lnTo>
                  <a:pt x="457" y="73"/>
                </a:lnTo>
                <a:lnTo>
                  <a:pt x="457" y="81"/>
                </a:lnTo>
                <a:lnTo>
                  <a:pt x="457" y="73"/>
                </a:lnTo>
                <a:lnTo>
                  <a:pt x="465" y="68"/>
                </a:lnTo>
                <a:lnTo>
                  <a:pt x="465" y="47"/>
                </a:lnTo>
                <a:lnTo>
                  <a:pt x="473" y="55"/>
                </a:lnTo>
                <a:lnTo>
                  <a:pt x="478" y="60"/>
                </a:lnTo>
                <a:lnTo>
                  <a:pt x="478" y="81"/>
                </a:lnTo>
                <a:lnTo>
                  <a:pt x="486" y="88"/>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1" name=""/>
          <p:cNvSpPr/>
          <p:nvPr/>
        </p:nvSpPr>
        <p:spPr>
          <a:xfrm>
            <a:off x="4586400" y="5821200"/>
            <a:ext cx="573120" cy="200160"/>
          </a:xfrm>
          <a:custGeom>
            <a:avLst/>
            <a:gdLst/>
            <a:ahLst/>
            <a:rect l="l" t="t" r="r" b="b"/>
            <a:pathLst>
              <a:path w="361" h="126">
                <a:moveTo>
                  <a:pt x="0" y="69"/>
                </a:moveTo>
                <a:lnTo>
                  <a:pt x="0" y="82"/>
                </a:lnTo>
                <a:lnTo>
                  <a:pt x="8" y="87"/>
                </a:lnTo>
                <a:lnTo>
                  <a:pt x="8" y="119"/>
                </a:lnTo>
                <a:lnTo>
                  <a:pt x="13" y="126"/>
                </a:lnTo>
                <a:lnTo>
                  <a:pt x="13" y="119"/>
                </a:lnTo>
                <a:lnTo>
                  <a:pt x="28" y="108"/>
                </a:lnTo>
                <a:lnTo>
                  <a:pt x="20" y="108"/>
                </a:lnTo>
                <a:lnTo>
                  <a:pt x="28" y="108"/>
                </a:lnTo>
                <a:lnTo>
                  <a:pt x="33" y="100"/>
                </a:lnTo>
                <a:lnTo>
                  <a:pt x="33" y="87"/>
                </a:lnTo>
                <a:lnTo>
                  <a:pt x="46" y="75"/>
                </a:lnTo>
                <a:lnTo>
                  <a:pt x="46" y="64"/>
                </a:lnTo>
                <a:lnTo>
                  <a:pt x="54" y="56"/>
                </a:lnTo>
                <a:lnTo>
                  <a:pt x="54" y="36"/>
                </a:lnTo>
                <a:lnTo>
                  <a:pt x="70" y="25"/>
                </a:lnTo>
                <a:lnTo>
                  <a:pt x="62" y="25"/>
                </a:lnTo>
                <a:lnTo>
                  <a:pt x="70" y="31"/>
                </a:lnTo>
                <a:lnTo>
                  <a:pt x="75" y="25"/>
                </a:lnTo>
                <a:lnTo>
                  <a:pt x="75" y="12"/>
                </a:lnTo>
                <a:lnTo>
                  <a:pt x="88" y="12"/>
                </a:lnTo>
                <a:lnTo>
                  <a:pt x="88" y="49"/>
                </a:lnTo>
                <a:lnTo>
                  <a:pt x="95" y="56"/>
                </a:lnTo>
                <a:lnTo>
                  <a:pt x="95" y="95"/>
                </a:lnTo>
                <a:lnTo>
                  <a:pt x="103" y="87"/>
                </a:lnTo>
                <a:lnTo>
                  <a:pt x="103" y="82"/>
                </a:lnTo>
                <a:lnTo>
                  <a:pt x="108" y="75"/>
                </a:lnTo>
                <a:lnTo>
                  <a:pt x="108" y="56"/>
                </a:lnTo>
                <a:lnTo>
                  <a:pt x="121" y="56"/>
                </a:lnTo>
                <a:lnTo>
                  <a:pt x="121" y="64"/>
                </a:lnTo>
                <a:lnTo>
                  <a:pt x="129" y="69"/>
                </a:lnTo>
                <a:lnTo>
                  <a:pt x="129" y="82"/>
                </a:lnTo>
                <a:lnTo>
                  <a:pt x="137" y="87"/>
                </a:lnTo>
                <a:lnTo>
                  <a:pt x="137" y="100"/>
                </a:lnTo>
                <a:lnTo>
                  <a:pt x="144" y="108"/>
                </a:lnTo>
                <a:lnTo>
                  <a:pt x="144" y="100"/>
                </a:lnTo>
                <a:lnTo>
                  <a:pt x="150" y="95"/>
                </a:lnTo>
                <a:lnTo>
                  <a:pt x="150" y="75"/>
                </a:lnTo>
                <a:lnTo>
                  <a:pt x="157" y="69"/>
                </a:lnTo>
                <a:lnTo>
                  <a:pt x="157" y="43"/>
                </a:lnTo>
                <a:lnTo>
                  <a:pt x="165" y="36"/>
                </a:lnTo>
                <a:lnTo>
                  <a:pt x="165" y="12"/>
                </a:lnTo>
                <a:lnTo>
                  <a:pt x="170" y="18"/>
                </a:lnTo>
                <a:lnTo>
                  <a:pt x="178" y="25"/>
                </a:lnTo>
                <a:lnTo>
                  <a:pt x="178" y="36"/>
                </a:lnTo>
                <a:lnTo>
                  <a:pt x="183" y="31"/>
                </a:lnTo>
                <a:lnTo>
                  <a:pt x="191" y="25"/>
                </a:lnTo>
                <a:lnTo>
                  <a:pt x="191" y="5"/>
                </a:lnTo>
                <a:lnTo>
                  <a:pt x="199" y="0"/>
                </a:lnTo>
                <a:lnTo>
                  <a:pt x="199" y="12"/>
                </a:lnTo>
                <a:lnTo>
                  <a:pt x="204" y="18"/>
                </a:lnTo>
                <a:lnTo>
                  <a:pt x="204" y="43"/>
                </a:lnTo>
                <a:lnTo>
                  <a:pt x="212" y="43"/>
                </a:lnTo>
                <a:lnTo>
                  <a:pt x="219" y="36"/>
                </a:lnTo>
                <a:lnTo>
                  <a:pt x="224" y="43"/>
                </a:lnTo>
                <a:lnTo>
                  <a:pt x="224" y="64"/>
                </a:lnTo>
                <a:lnTo>
                  <a:pt x="232" y="69"/>
                </a:lnTo>
                <a:lnTo>
                  <a:pt x="232" y="64"/>
                </a:lnTo>
                <a:lnTo>
                  <a:pt x="240" y="69"/>
                </a:lnTo>
                <a:lnTo>
                  <a:pt x="240" y="75"/>
                </a:lnTo>
                <a:lnTo>
                  <a:pt x="253" y="87"/>
                </a:lnTo>
                <a:lnTo>
                  <a:pt x="245" y="87"/>
                </a:lnTo>
                <a:lnTo>
                  <a:pt x="253" y="69"/>
                </a:lnTo>
                <a:lnTo>
                  <a:pt x="261" y="64"/>
                </a:lnTo>
                <a:lnTo>
                  <a:pt x="261" y="49"/>
                </a:lnTo>
                <a:lnTo>
                  <a:pt x="273" y="64"/>
                </a:lnTo>
                <a:lnTo>
                  <a:pt x="273" y="75"/>
                </a:lnTo>
                <a:lnTo>
                  <a:pt x="279" y="69"/>
                </a:lnTo>
                <a:lnTo>
                  <a:pt x="279" y="82"/>
                </a:lnTo>
                <a:lnTo>
                  <a:pt x="294" y="69"/>
                </a:lnTo>
                <a:lnTo>
                  <a:pt x="294" y="64"/>
                </a:lnTo>
                <a:lnTo>
                  <a:pt x="302" y="56"/>
                </a:lnTo>
                <a:lnTo>
                  <a:pt x="315" y="56"/>
                </a:lnTo>
                <a:lnTo>
                  <a:pt x="315" y="43"/>
                </a:lnTo>
                <a:lnTo>
                  <a:pt x="320" y="36"/>
                </a:lnTo>
                <a:lnTo>
                  <a:pt x="320" y="18"/>
                </a:lnTo>
                <a:lnTo>
                  <a:pt x="328" y="25"/>
                </a:lnTo>
                <a:lnTo>
                  <a:pt x="335" y="31"/>
                </a:lnTo>
                <a:lnTo>
                  <a:pt x="335" y="36"/>
                </a:lnTo>
                <a:lnTo>
                  <a:pt x="348" y="25"/>
                </a:lnTo>
                <a:lnTo>
                  <a:pt x="348" y="18"/>
                </a:lnTo>
                <a:lnTo>
                  <a:pt x="348" y="25"/>
                </a:lnTo>
                <a:lnTo>
                  <a:pt x="354" y="31"/>
                </a:lnTo>
                <a:lnTo>
                  <a:pt x="354" y="49"/>
                </a:lnTo>
                <a:lnTo>
                  <a:pt x="361" y="4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2077920" y="5762520"/>
            <a:ext cx="244440" cy="168480"/>
          </a:xfrm>
          <a:custGeom>
            <a:avLst/>
            <a:gdLst/>
            <a:ahLst/>
            <a:rect l="l" t="t" r="r" b="b"/>
            <a:pathLst>
              <a:path w="154" h="106">
                <a:moveTo>
                  <a:pt x="0" y="73"/>
                </a:moveTo>
                <a:lnTo>
                  <a:pt x="5" y="80"/>
                </a:lnTo>
                <a:lnTo>
                  <a:pt x="5" y="86"/>
                </a:lnTo>
                <a:lnTo>
                  <a:pt x="5" y="80"/>
                </a:lnTo>
                <a:lnTo>
                  <a:pt x="12" y="73"/>
                </a:lnTo>
                <a:lnTo>
                  <a:pt x="18" y="68"/>
                </a:lnTo>
                <a:lnTo>
                  <a:pt x="25" y="60"/>
                </a:lnTo>
                <a:lnTo>
                  <a:pt x="25" y="47"/>
                </a:lnTo>
                <a:lnTo>
                  <a:pt x="33" y="42"/>
                </a:lnTo>
                <a:lnTo>
                  <a:pt x="33" y="13"/>
                </a:lnTo>
                <a:lnTo>
                  <a:pt x="46" y="0"/>
                </a:lnTo>
                <a:lnTo>
                  <a:pt x="38" y="0"/>
                </a:lnTo>
                <a:lnTo>
                  <a:pt x="46" y="13"/>
                </a:lnTo>
                <a:lnTo>
                  <a:pt x="51" y="8"/>
                </a:lnTo>
                <a:lnTo>
                  <a:pt x="51" y="13"/>
                </a:lnTo>
                <a:lnTo>
                  <a:pt x="51" y="8"/>
                </a:lnTo>
                <a:lnTo>
                  <a:pt x="59" y="0"/>
                </a:lnTo>
                <a:lnTo>
                  <a:pt x="59" y="13"/>
                </a:lnTo>
                <a:lnTo>
                  <a:pt x="67" y="21"/>
                </a:lnTo>
                <a:lnTo>
                  <a:pt x="67" y="68"/>
                </a:lnTo>
                <a:lnTo>
                  <a:pt x="72" y="73"/>
                </a:lnTo>
                <a:lnTo>
                  <a:pt x="72" y="106"/>
                </a:lnTo>
                <a:lnTo>
                  <a:pt x="80" y="99"/>
                </a:lnTo>
                <a:lnTo>
                  <a:pt x="80" y="86"/>
                </a:lnTo>
                <a:lnTo>
                  <a:pt x="87" y="80"/>
                </a:lnTo>
                <a:lnTo>
                  <a:pt x="87" y="55"/>
                </a:lnTo>
                <a:lnTo>
                  <a:pt x="100" y="42"/>
                </a:lnTo>
                <a:lnTo>
                  <a:pt x="95" y="42"/>
                </a:lnTo>
                <a:lnTo>
                  <a:pt x="100" y="42"/>
                </a:lnTo>
                <a:lnTo>
                  <a:pt x="113" y="55"/>
                </a:lnTo>
                <a:lnTo>
                  <a:pt x="113" y="86"/>
                </a:lnTo>
                <a:lnTo>
                  <a:pt x="121" y="93"/>
                </a:lnTo>
                <a:lnTo>
                  <a:pt x="121" y="106"/>
                </a:lnTo>
                <a:lnTo>
                  <a:pt x="129" y="99"/>
                </a:lnTo>
                <a:lnTo>
                  <a:pt x="129" y="80"/>
                </a:lnTo>
                <a:lnTo>
                  <a:pt x="134" y="73"/>
                </a:lnTo>
                <a:lnTo>
                  <a:pt x="134" y="21"/>
                </a:lnTo>
                <a:lnTo>
                  <a:pt x="142" y="13"/>
                </a:lnTo>
                <a:lnTo>
                  <a:pt x="142" y="0"/>
                </a:lnTo>
                <a:lnTo>
                  <a:pt x="142" y="8"/>
                </a:lnTo>
                <a:lnTo>
                  <a:pt x="147" y="13"/>
                </a:lnTo>
                <a:lnTo>
                  <a:pt x="147" y="29"/>
                </a:lnTo>
                <a:lnTo>
                  <a:pt x="154" y="29"/>
                </a:lnTo>
              </a:path>
            </a:pathLst>
          </a:custGeom>
          <a:noFill/>
          <a:ln cap="rnd" w="158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4618080" y="5837400"/>
            <a:ext cx="235080" cy="152280"/>
          </a:xfrm>
          <a:custGeom>
            <a:avLst/>
            <a:gdLst/>
            <a:ahLst/>
            <a:rect l="l" t="t" r="r" b="b"/>
            <a:pathLst>
              <a:path w="148" h="96">
                <a:moveTo>
                  <a:pt x="8" y="96"/>
                </a:moveTo>
                <a:lnTo>
                  <a:pt x="0" y="96"/>
                </a:lnTo>
                <a:lnTo>
                  <a:pt x="8" y="96"/>
                </a:lnTo>
                <a:lnTo>
                  <a:pt x="13" y="90"/>
                </a:lnTo>
                <a:lnTo>
                  <a:pt x="13" y="77"/>
                </a:lnTo>
                <a:lnTo>
                  <a:pt x="26" y="65"/>
                </a:lnTo>
                <a:lnTo>
                  <a:pt x="26" y="52"/>
                </a:lnTo>
                <a:lnTo>
                  <a:pt x="34" y="44"/>
                </a:lnTo>
                <a:lnTo>
                  <a:pt x="34" y="26"/>
                </a:lnTo>
                <a:lnTo>
                  <a:pt x="47" y="13"/>
                </a:lnTo>
                <a:lnTo>
                  <a:pt x="42" y="13"/>
                </a:lnTo>
                <a:lnTo>
                  <a:pt x="47" y="18"/>
                </a:lnTo>
                <a:lnTo>
                  <a:pt x="55" y="13"/>
                </a:lnTo>
                <a:lnTo>
                  <a:pt x="55" y="0"/>
                </a:lnTo>
                <a:lnTo>
                  <a:pt x="68" y="0"/>
                </a:lnTo>
                <a:lnTo>
                  <a:pt x="68" y="39"/>
                </a:lnTo>
                <a:lnTo>
                  <a:pt x="75" y="44"/>
                </a:lnTo>
                <a:lnTo>
                  <a:pt x="75" y="83"/>
                </a:lnTo>
                <a:lnTo>
                  <a:pt x="80" y="77"/>
                </a:lnTo>
                <a:lnTo>
                  <a:pt x="80" y="72"/>
                </a:lnTo>
                <a:lnTo>
                  <a:pt x="88" y="65"/>
                </a:lnTo>
                <a:lnTo>
                  <a:pt x="88" y="44"/>
                </a:lnTo>
                <a:lnTo>
                  <a:pt x="101" y="44"/>
                </a:lnTo>
                <a:lnTo>
                  <a:pt x="101" y="52"/>
                </a:lnTo>
                <a:lnTo>
                  <a:pt x="109" y="59"/>
                </a:lnTo>
                <a:lnTo>
                  <a:pt x="109" y="72"/>
                </a:lnTo>
                <a:lnTo>
                  <a:pt x="117" y="77"/>
                </a:lnTo>
                <a:lnTo>
                  <a:pt x="117" y="90"/>
                </a:lnTo>
                <a:lnTo>
                  <a:pt x="122" y="96"/>
                </a:lnTo>
                <a:lnTo>
                  <a:pt x="122" y="90"/>
                </a:lnTo>
                <a:lnTo>
                  <a:pt x="130" y="83"/>
                </a:lnTo>
                <a:lnTo>
                  <a:pt x="130" y="65"/>
                </a:lnTo>
                <a:lnTo>
                  <a:pt x="135" y="59"/>
                </a:lnTo>
                <a:lnTo>
                  <a:pt x="135" y="31"/>
                </a:lnTo>
                <a:lnTo>
                  <a:pt x="142" y="26"/>
                </a:lnTo>
                <a:lnTo>
                  <a:pt x="142" y="0"/>
                </a:lnTo>
                <a:lnTo>
                  <a:pt x="148" y="0"/>
                </a:lnTo>
              </a:path>
            </a:pathLst>
          </a:custGeom>
          <a:noFill/>
          <a:ln cap="rnd" w="158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4" name=""/>
          <p:cNvGrpSpPr/>
          <p:nvPr/>
        </p:nvGrpSpPr>
        <p:grpSpPr>
          <a:xfrm>
            <a:off x="5389560" y="4638600"/>
            <a:ext cx="3098880" cy="1666800"/>
            <a:chOff x="5389560" y="4638600"/>
            <a:chExt cx="3098880" cy="1666800"/>
          </a:xfrm>
        </p:grpSpPr>
        <p:sp>
          <p:nvSpPr>
            <p:cNvPr id="3935" name=""/>
            <p:cNvSpPr/>
            <p:nvPr/>
          </p:nvSpPr>
          <p:spPr>
            <a:xfrm>
              <a:off x="5610240" y="4967280"/>
              <a:ext cx="1393920" cy="1235160"/>
            </a:xfrm>
            <a:custGeom>
              <a:avLst/>
              <a:gdLst/>
              <a:ahLst/>
              <a:rect l="l" t="t" r="r" b="b"/>
              <a:pathLst>
                <a:path w="878" h="778">
                  <a:moveTo>
                    <a:pt x="0" y="535"/>
                  </a:moveTo>
                  <a:lnTo>
                    <a:pt x="5" y="550"/>
                  </a:lnTo>
                  <a:lnTo>
                    <a:pt x="13" y="563"/>
                  </a:lnTo>
                  <a:lnTo>
                    <a:pt x="18" y="576"/>
                  </a:lnTo>
                  <a:lnTo>
                    <a:pt x="24" y="584"/>
                  </a:lnTo>
                  <a:lnTo>
                    <a:pt x="34" y="597"/>
                  </a:lnTo>
                  <a:lnTo>
                    <a:pt x="39" y="607"/>
                  </a:lnTo>
                  <a:lnTo>
                    <a:pt x="47" y="618"/>
                  </a:lnTo>
                  <a:lnTo>
                    <a:pt x="52" y="625"/>
                  </a:lnTo>
                  <a:lnTo>
                    <a:pt x="62" y="625"/>
                  </a:lnTo>
                  <a:lnTo>
                    <a:pt x="67" y="625"/>
                  </a:lnTo>
                  <a:lnTo>
                    <a:pt x="75" y="623"/>
                  </a:lnTo>
                  <a:lnTo>
                    <a:pt x="80" y="615"/>
                  </a:lnTo>
                  <a:lnTo>
                    <a:pt x="86" y="607"/>
                  </a:lnTo>
                  <a:lnTo>
                    <a:pt x="96" y="607"/>
                  </a:lnTo>
                  <a:lnTo>
                    <a:pt x="101" y="607"/>
                  </a:lnTo>
                  <a:lnTo>
                    <a:pt x="109" y="605"/>
                  </a:lnTo>
                  <a:lnTo>
                    <a:pt x="114" y="600"/>
                  </a:lnTo>
                  <a:lnTo>
                    <a:pt x="124" y="597"/>
                  </a:lnTo>
                  <a:lnTo>
                    <a:pt x="129" y="592"/>
                  </a:lnTo>
                  <a:lnTo>
                    <a:pt x="140" y="589"/>
                  </a:lnTo>
                  <a:lnTo>
                    <a:pt x="142" y="584"/>
                  </a:lnTo>
                  <a:lnTo>
                    <a:pt x="147" y="581"/>
                  </a:lnTo>
                  <a:lnTo>
                    <a:pt x="158" y="576"/>
                  </a:lnTo>
                  <a:lnTo>
                    <a:pt x="163" y="569"/>
                  </a:lnTo>
                  <a:lnTo>
                    <a:pt x="173" y="550"/>
                  </a:lnTo>
                  <a:lnTo>
                    <a:pt x="176" y="535"/>
                  </a:lnTo>
                  <a:lnTo>
                    <a:pt x="186" y="519"/>
                  </a:lnTo>
                  <a:lnTo>
                    <a:pt x="191" y="506"/>
                  </a:lnTo>
                  <a:lnTo>
                    <a:pt x="202" y="491"/>
                  </a:lnTo>
                  <a:lnTo>
                    <a:pt x="207" y="475"/>
                  </a:lnTo>
                  <a:lnTo>
                    <a:pt x="209" y="468"/>
                  </a:lnTo>
                  <a:lnTo>
                    <a:pt x="220" y="465"/>
                  </a:lnTo>
                  <a:lnTo>
                    <a:pt x="225" y="460"/>
                  </a:lnTo>
                  <a:lnTo>
                    <a:pt x="235" y="460"/>
                  </a:lnTo>
                  <a:lnTo>
                    <a:pt x="240" y="468"/>
                  </a:lnTo>
                  <a:lnTo>
                    <a:pt x="248" y="473"/>
                  </a:lnTo>
                  <a:lnTo>
                    <a:pt x="253" y="473"/>
                  </a:lnTo>
                  <a:lnTo>
                    <a:pt x="264" y="460"/>
                  </a:lnTo>
                  <a:lnTo>
                    <a:pt x="269" y="457"/>
                  </a:lnTo>
                  <a:lnTo>
                    <a:pt x="274" y="450"/>
                  </a:lnTo>
                  <a:lnTo>
                    <a:pt x="282" y="450"/>
                  </a:lnTo>
                  <a:lnTo>
                    <a:pt x="287" y="444"/>
                  </a:lnTo>
                  <a:lnTo>
                    <a:pt x="297" y="437"/>
                  </a:lnTo>
                  <a:lnTo>
                    <a:pt x="302" y="426"/>
                  </a:lnTo>
                  <a:lnTo>
                    <a:pt x="310" y="416"/>
                  </a:lnTo>
                  <a:lnTo>
                    <a:pt x="315" y="395"/>
                  </a:lnTo>
                  <a:lnTo>
                    <a:pt x="326" y="377"/>
                  </a:lnTo>
                  <a:lnTo>
                    <a:pt x="331" y="359"/>
                  </a:lnTo>
                  <a:lnTo>
                    <a:pt x="341" y="338"/>
                  </a:lnTo>
                  <a:lnTo>
                    <a:pt x="344" y="325"/>
                  </a:lnTo>
                  <a:lnTo>
                    <a:pt x="349" y="302"/>
                  </a:lnTo>
                  <a:lnTo>
                    <a:pt x="359" y="279"/>
                  </a:lnTo>
                  <a:lnTo>
                    <a:pt x="364" y="256"/>
                  </a:lnTo>
                  <a:lnTo>
                    <a:pt x="375" y="235"/>
                  </a:lnTo>
                  <a:lnTo>
                    <a:pt x="377" y="214"/>
                  </a:lnTo>
                  <a:lnTo>
                    <a:pt x="388" y="188"/>
                  </a:lnTo>
                  <a:lnTo>
                    <a:pt x="393" y="165"/>
                  </a:lnTo>
                  <a:lnTo>
                    <a:pt x="403" y="137"/>
                  </a:lnTo>
                  <a:lnTo>
                    <a:pt x="408" y="113"/>
                  </a:lnTo>
                  <a:lnTo>
                    <a:pt x="411" y="87"/>
                  </a:lnTo>
                  <a:lnTo>
                    <a:pt x="421" y="67"/>
                  </a:lnTo>
                  <a:lnTo>
                    <a:pt x="426" y="54"/>
                  </a:lnTo>
                  <a:lnTo>
                    <a:pt x="437" y="49"/>
                  </a:lnTo>
                  <a:lnTo>
                    <a:pt x="442" y="33"/>
                  </a:lnTo>
                  <a:lnTo>
                    <a:pt x="450" y="25"/>
                  </a:lnTo>
                  <a:lnTo>
                    <a:pt x="455" y="15"/>
                  </a:lnTo>
                  <a:lnTo>
                    <a:pt x="465" y="5"/>
                  </a:lnTo>
                  <a:lnTo>
                    <a:pt x="470" y="0"/>
                  </a:lnTo>
                  <a:lnTo>
                    <a:pt x="475" y="0"/>
                  </a:lnTo>
                  <a:lnTo>
                    <a:pt x="483" y="5"/>
                  </a:lnTo>
                  <a:lnTo>
                    <a:pt x="488" y="7"/>
                  </a:lnTo>
                  <a:lnTo>
                    <a:pt x="499" y="15"/>
                  </a:lnTo>
                  <a:lnTo>
                    <a:pt x="504" y="20"/>
                  </a:lnTo>
                  <a:lnTo>
                    <a:pt x="512" y="20"/>
                  </a:lnTo>
                  <a:lnTo>
                    <a:pt x="517" y="23"/>
                  </a:lnTo>
                  <a:lnTo>
                    <a:pt x="527" y="33"/>
                  </a:lnTo>
                  <a:lnTo>
                    <a:pt x="532" y="46"/>
                  </a:lnTo>
                  <a:lnTo>
                    <a:pt x="537" y="56"/>
                  </a:lnTo>
                  <a:lnTo>
                    <a:pt x="545" y="64"/>
                  </a:lnTo>
                  <a:lnTo>
                    <a:pt x="550" y="67"/>
                  </a:lnTo>
                  <a:lnTo>
                    <a:pt x="561" y="72"/>
                  </a:lnTo>
                  <a:lnTo>
                    <a:pt x="566" y="67"/>
                  </a:lnTo>
                  <a:lnTo>
                    <a:pt x="576" y="64"/>
                  </a:lnTo>
                  <a:lnTo>
                    <a:pt x="579" y="64"/>
                  </a:lnTo>
                  <a:lnTo>
                    <a:pt x="589" y="67"/>
                  </a:lnTo>
                  <a:lnTo>
                    <a:pt x="594" y="67"/>
                  </a:lnTo>
                  <a:lnTo>
                    <a:pt x="599" y="62"/>
                  </a:lnTo>
                  <a:lnTo>
                    <a:pt x="610" y="54"/>
                  </a:lnTo>
                  <a:lnTo>
                    <a:pt x="612" y="49"/>
                  </a:lnTo>
                  <a:lnTo>
                    <a:pt x="623" y="49"/>
                  </a:lnTo>
                  <a:lnTo>
                    <a:pt x="628" y="49"/>
                  </a:lnTo>
                  <a:lnTo>
                    <a:pt x="638" y="46"/>
                  </a:lnTo>
                  <a:lnTo>
                    <a:pt x="643" y="41"/>
                  </a:lnTo>
                  <a:lnTo>
                    <a:pt x="651" y="33"/>
                  </a:lnTo>
                  <a:lnTo>
                    <a:pt x="656" y="25"/>
                  </a:lnTo>
                  <a:lnTo>
                    <a:pt x="666" y="20"/>
                  </a:lnTo>
                  <a:lnTo>
                    <a:pt x="672" y="15"/>
                  </a:lnTo>
                  <a:lnTo>
                    <a:pt x="677" y="15"/>
                  </a:lnTo>
                  <a:lnTo>
                    <a:pt x="685" y="15"/>
                  </a:lnTo>
                  <a:lnTo>
                    <a:pt x="690" y="23"/>
                  </a:lnTo>
                  <a:lnTo>
                    <a:pt x="700" y="25"/>
                  </a:lnTo>
                  <a:lnTo>
                    <a:pt x="705" y="38"/>
                  </a:lnTo>
                  <a:lnTo>
                    <a:pt x="713" y="54"/>
                  </a:lnTo>
                  <a:lnTo>
                    <a:pt x="718" y="72"/>
                  </a:lnTo>
                  <a:lnTo>
                    <a:pt x="728" y="98"/>
                  </a:lnTo>
                  <a:lnTo>
                    <a:pt x="734" y="124"/>
                  </a:lnTo>
                  <a:lnTo>
                    <a:pt x="739" y="162"/>
                  </a:lnTo>
                  <a:lnTo>
                    <a:pt x="749" y="201"/>
                  </a:lnTo>
                  <a:lnTo>
                    <a:pt x="752" y="235"/>
                  </a:lnTo>
                  <a:lnTo>
                    <a:pt x="762" y="269"/>
                  </a:lnTo>
                  <a:lnTo>
                    <a:pt x="767" y="305"/>
                  </a:lnTo>
                  <a:lnTo>
                    <a:pt x="778" y="338"/>
                  </a:lnTo>
                  <a:lnTo>
                    <a:pt x="783" y="375"/>
                  </a:lnTo>
                  <a:lnTo>
                    <a:pt x="790" y="408"/>
                  </a:lnTo>
                  <a:lnTo>
                    <a:pt x="796" y="434"/>
                  </a:lnTo>
                  <a:lnTo>
                    <a:pt x="801" y="460"/>
                  </a:lnTo>
                  <a:lnTo>
                    <a:pt x="811" y="483"/>
                  </a:lnTo>
                  <a:lnTo>
                    <a:pt x="816" y="517"/>
                  </a:lnTo>
                  <a:lnTo>
                    <a:pt x="824" y="548"/>
                  </a:lnTo>
                  <a:lnTo>
                    <a:pt x="829" y="584"/>
                  </a:lnTo>
                  <a:lnTo>
                    <a:pt x="839" y="618"/>
                  </a:lnTo>
                  <a:lnTo>
                    <a:pt x="845" y="646"/>
                  </a:lnTo>
                  <a:lnTo>
                    <a:pt x="852" y="680"/>
                  </a:lnTo>
                  <a:lnTo>
                    <a:pt x="858" y="713"/>
                  </a:lnTo>
                  <a:lnTo>
                    <a:pt x="863" y="737"/>
                  </a:lnTo>
                  <a:lnTo>
                    <a:pt x="873" y="757"/>
                  </a:lnTo>
                  <a:lnTo>
                    <a:pt x="878" y="778"/>
                  </a:lnTo>
                </a:path>
              </a:pathLst>
            </a:custGeom>
            <a:noFill/>
            <a:ln cap="rnd" w="23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6" name=""/>
            <p:cNvSpPr/>
            <p:nvPr/>
          </p:nvSpPr>
          <p:spPr>
            <a:xfrm>
              <a:off x="7004160" y="4986360"/>
              <a:ext cx="1401480" cy="1231920"/>
            </a:xfrm>
            <a:custGeom>
              <a:avLst/>
              <a:gdLst/>
              <a:ahLst/>
              <a:rect l="l" t="t" r="r" b="b"/>
              <a:pathLst>
                <a:path w="883" h="776">
                  <a:moveTo>
                    <a:pt x="0" y="766"/>
                  </a:moveTo>
                  <a:lnTo>
                    <a:pt x="8" y="776"/>
                  </a:lnTo>
                  <a:lnTo>
                    <a:pt x="13" y="776"/>
                  </a:lnTo>
                  <a:lnTo>
                    <a:pt x="23" y="774"/>
                  </a:lnTo>
                  <a:lnTo>
                    <a:pt x="29" y="766"/>
                  </a:lnTo>
                  <a:lnTo>
                    <a:pt x="39" y="753"/>
                  </a:lnTo>
                  <a:lnTo>
                    <a:pt x="42" y="743"/>
                  </a:lnTo>
                  <a:lnTo>
                    <a:pt x="47" y="732"/>
                  </a:lnTo>
                  <a:lnTo>
                    <a:pt x="57" y="717"/>
                  </a:lnTo>
                  <a:lnTo>
                    <a:pt x="62" y="701"/>
                  </a:lnTo>
                  <a:lnTo>
                    <a:pt x="73" y="691"/>
                  </a:lnTo>
                  <a:lnTo>
                    <a:pt x="75" y="676"/>
                  </a:lnTo>
                  <a:lnTo>
                    <a:pt x="85" y="660"/>
                  </a:lnTo>
                  <a:lnTo>
                    <a:pt x="91" y="642"/>
                  </a:lnTo>
                  <a:lnTo>
                    <a:pt x="101" y="621"/>
                  </a:lnTo>
                  <a:lnTo>
                    <a:pt x="106" y="611"/>
                  </a:lnTo>
                  <a:lnTo>
                    <a:pt x="114" y="593"/>
                  </a:lnTo>
                  <a:lnTo>
                    <a:pt x="119" y="577"/>
                  </a:lnTo>
                  <a:lnTo>
                    <a:pt x="124" y="559"/>
                  </a:lnTo>
                  <a:lnTo>
                    <a:pt x="134" y="536"/>
                  </a:lnTo>
                  <a:lnTo>
                    <a:pt x="140" y="513"/>
                  </a:lnTo>
                  <a:lnTo>
                    <a:pt x="147" y="482"/>
                  </a:lnTo>
                  <a:lnTo>
                    <a:pt x="153" y="448"/>
                  </a:lnTo>
                  <a:lnTo>
                    <a:pt x="163" y="414"/>
                  </a:lnTo>
                  <a:lnTo>
                    <a:pt x="168" y="386"/>
                  </a:lnTo>
                  <a:lnTo>
                    <a:pt x="176" y="357"/>
                  </a:lnTo>
                  <a:lnTo>
                    <a:pt x="181" y="332"/>
                  </a:lnTo>
                  <a:lnTo>
                    <a:pt x="186" y="316"/>
                  </a:lnTo>
                  <a:lnTo>
                    <a:pt x="196" y="306"/>
                  </a:lnTo>
                  <a:lnTo>
                    <a:pt x="202" y="300"/>
                  </a:lnTo>
                  <a:lnTo>
                    <a:pt x="209" y="295"/>
                  </a:lnTo>
                  <a:lnTo>
                    <a:pt x="215" y="288"/>
                  </a:lnTo>
                  <a:lnTo>
                    <a:pt x="225" y="275"/>
                  </a:lnTo>
                  <a:lnTo>
                    <a:pt x="230" y="272"/>
                  </a:lnTo>
                  <a:lnTo>
                    <a:pt x="240" y="259"/>
                  </a:lnTo>
                  <a:lnTo>
                    <a:pt x="243" y="259"/>
                  </a:lnTo>
                  <a:lnTo>
                    <a:pt x="248" y="257"/>
                  </a:lnTo>
                  <a:lnTo>
                    <a:pt x="258" y="259"/>
                  </a:lnTo>
                  <a:lnTo>
                    <a:pt x="264" y="267"/>
                  </a:lnTo>
                  <a:lnTo>
                    <a:pt x="274" y="280"/>
                  </a:lnTo>
                  <a:lnTo>
                    <a:pt x="277" y="275"/>
                  </a:lnTo>
                  <a:lnTo>
                    <a:pt x="287" y="272"/>
                  </a:lnTo>
                  <a:lnTo>
                    <a:pt x="292" y="259"/>
                  </a:lnTo>
                  <a:lnTo>
                    <a:pt x="302" y="259"/>
                  </a:lnTo>
                  <a:lnTo>
                    <a:pt x="307" y="259"/>
                  </a:lnTo>
                  <a:lnTo>
                    <a:pt x="313" y="259"/>
                  </a:lnTo>
                  <a:lnTo>
                    <a:pt x="320" y="267"/>
                  </a:lnTo>
                  <a:lnTo>
                    <a:pt x="326" y="282"/>
                  </a:lnTo>
                  <a:lnTo>
                    <a:pt x="336" y="298"/>
                  </a:lnTo>
                  <a:lnTo>
                    <a:pt x="341" y="313"/>
                  </a:lnTo>
                  <a:lnTo>
                    <a:pt x="349" y="324"/>
                  </a:lnTo>
                  <a:lnTo>
                    <a:pt x="354" y="332"/>
                  </a:lnTo>
                  <a:lnTo>
                    <a:pt x="364" y="339"/>
                  </a:lnTo>
                  <a:lnTo>
                    <a:pt x="369" y="344"/>
                  </a:lnTo>
                  <a:lnTo>
                    <a:pt x="375" y="344"/>
                  </a:lnTo>
                  <a:lnTo>
                    <a:pt x="382" y="347"/>
                  </a:lnTo>
                  <a:lnTo>
                    <a:pt x="388" y="357"/>
                  </a:lnTo>
                  <a:lnTo>
                    <a:pt x="398" y="370"/>
                  </a:lnTo>
                  <a:lnTo>
                    <a:pt x="403" y="381"/>
                  </a:lnTo>
                  <a:lnTo>
                    <a:pt x="413" y="391"/>
                  </a:lnTo>
                  <a:lnTo>
                    <a:pt x="416" y="399"/>
                  </a:lnTo>
                  <a:lnTo>
                    <a:pt x="426" y="412"/>
                  </a:lnTo>
                  <a:lnTo>
                    <a:pt x="431" y="422"/>
                  </a:lnTo>
                  <a:lnTo>
                    <a:pt x="437" y="430"/>
                  </a:lnTo>
                  <a:lnTo>
                    <a:pt x="447" y="445"/>
                  </a:lnTo>
                  <a:lnTo>
                    <a:pt x="450" y="469"/>
                  </a:lnTo>
                  <a:lnTo>
                    <a:pt x="460" y="497"/>
                  </a:lnTo>
                  <a:lnTo>
                    <a:pt x="465" y="528"/>
                  </a:lnTo>
                  <a:lnTo>
                    <a:pt x="475" y="559"/>
                  </a:lnTo>
                  <a:lnTo>
                    <a:pt x="480" y="585"/>
                  </a:lnTo>
                  <a:lnTo>
                    <a:pt x="488" y="611"/>
                  </a:lnTo>
                  <a:lnTo>
                    <a:pt x="493" y="626"/>
                  </a:lnTo>
                  <a:lnTo>
                    <a:pt x="504" y="637"/>
                  </a:lnTo>
                  <a:lnTo>
                    <a:pt x="509" y="650"/>
                  </a:lnTo>
                  <a:lnTo>
                    <a:pt x="514" y="663"/>
                  </a:lnTo>
                  <a:lnTo>
                    <a:pt x="522" y="686"/>
                  </a:lnTo>
                  <a:lnTo>
                    <a:pt x="527" y="709"/>
                  </a:lnTo>
                  <a:lnTo>
                    <a:pt x="537" y="720"/>
                  </a:lnTo>
                  <a:lnTo>
                    <a:pt x="542" y="740"/>
                  </a:lnTo>
                  <a:lnTo>
                    <a:pt x="550" y="753"/>
                  </a:lnTo>
                  <a:lnTo>
                    <a:pt x="555" y="766"/>
                  </a:lnTo>
                  <a:lnTo>
                    <a:pt x="566" y="774"/>
                  </a:lnTo>
                  <a:lnTo>
                    <a:pt x="571" y="774"/>
                  </a:lnTo>
                  <a:lnTo>
                    <a:pt x="576" y="766"/>
                  </a:lnTo>
                  <a:lnTo>
                    <a:pt x="584" y="753"/>
                  </a:lnTo>
                  <a:lnTo>
                    <a:pt x="589" y="751"/>
                  </a:lnTo>
                  <a:lnTo>
                    <a:pt x="599" y="740"/>
                  </a:lnTo>
                  <a:lnTo>
                    <a:pt x="604" y="727"/>
                  </a:lnTo>
                  <a:lnTo>
                    <a:pt x="615" y="717"/>
                  </a:lnTo>
                  <a:lnTo>
                    <a:pt x="617" y="694"/>
                  </a:lnTo>
                  <a:lnTo>
                    <a:pt x="628" y="663"/>
                  </a:lnTo>
                  <a:lnTo>
                    <a:pt x="633" y="626"/>
                  </a:lnTo>
                  <a:lnTo>
                    <a:pt x="638" y="588"/>
                  </a:lnTo>
                  <a:lnTo>
                    <a:pt x="648" y="554"/>
                  </a:lnTo>
                  <a:lnTo>
                    <a:pt x="653" y="518"/>
                  </a:lnTo>
                  <a:lnTo>
                    <a:pt x="661" y="482"/>
                  </a:lnTo>
                  <a:lnTo>
                    <a:pt x="666" y="453"/>
                  </a:lnTo>
                  <a:lnTo>
                    <a:pt x="677" y="427"/>
                  </a:lnTo>
                  <a:lnTo>
                    <a:pt x="682" y="396"/>
                  </a:lnTo>
                  <a:lnTo>
                    <a:pt x="690" y="357"/>
                  </a:lnTo>
                  <a:lnTo>
                    <a:pt x="695" y="316"/>
                  </a:lnTo>
                  <a:lnTo>
                    <a:pt x="700" y="275"/>
                  </a:lnTo>
                  <a:lnTo>
                    <a:pt x="710" y="241"/>
                  </a:lnTo>
                  <a:lnTo>
                    <a:pt x="715" y="207"/>
                  </a:lnTo>
                  <a:lnTo>
                    <a:pt x="723" y="174"/>
                  </a:lnTo>
                  <a:lnTo>
                    <a:pt x="728" y="143"/>
                  </a:lnTo>
                  <a:lnTo>
                    <a:pt x="739" y="117"/>
                  </a:lnTo>
                  <a:lnTo>
                    <a:pt x="744" y="91"/>
                  </a:lnTo>
                  <a:lnTo>
                    <a:pt x="754" y="75"/>
                  </a:lnTo>
                  <a:lnTo>
                    <a:pt x="757" y="60"/>
                  </a:lnTo>
                  <a:lnTo>
                    <a:pt x="762" y="44"/>
                  </a:lnTo>
                  <a:lnTo>
                    <a:pt x="772" y="26"/>
                  </a:lnTo>
                  <a:lnTo>
                    <a:pt x="777" y="16"/>
                  </a:lnTo>
                  <a:lnTo>
                    <a:pt x="788" y="3"/>
                  </a:lnTo>
                  <a:lnTo>
                    <a:pt x="790" y="0"/>
                  </a:lnTo>
                  <a:lnTo>
                    <a:pt x="801" y="0"/>
                  </a:lnTo>
                  <a:lnTo>
                    <a:pt x="806" y="8"/>
                  </a:lnTo>
                  <a:lnTo>
                    <a:pt x="816" y="11"/>
                  </a:lnTo>
                  <a:lnTo>
                    <a:pt x="821" y="8"/>
                  </a:lnTo>
                  <a:lnTo>
                    <a:pt x="829" y="16"/>
                  </a:lnTo>
                  <a:lnTo>
                    <a:pt x="834" y="29"/>
                  </a:lnTo>
                  <a:lnTo>
                    <a:pt x="839" y="44"/>
                  </a:lnTo>
                  <a:lnTo>
                    <a:pt x="850" y="60"/>
                  </a:lnTo>
                  <a:lnTo>
                    <a:pt x="855" y="83"/>
                  </a:lnTo>
                  <a:lnTo>
                    <a:pt x="863" y="106"/>
                  </a:lnTo>
                  <a:lnTo>
                    <a:pt x="868" y="125"/>
                  </a:lnTo>
                  <a:lnTo>
                    <a:pt x="878" y="148"/>
                  </a:lnTo>
                  <a:lnTo>
                    <a:pt x="883" y="169"/>
                  </a:lnTo>
                </a:path>
              </a:pathLst>
            </a:custGeom>
            <a:noFill/>
            <a:ln cap="rnd" w="23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7" name=""/>
            <p:cNvSpPr/>
            <p:nvPr/>
          </p:nvSpPr>
          <p:spPr>
            <a:xfrm>
              <a:off x="5648400" y="4843440"/>
              <a:ext cx="1392120" cy="1436760"/>
            </a:xfrm>
            <a:custGeom>
              <a:avLst/>
              <a:gdLst/>
              <a:ahLst/>
              <a:rect l="l" t="t" r="r" b="b"/>
              <a:pathLst>
                <a:path w="877" h="905">
                  <a:moveTo>
                    <a:pt x="0" y="905"/>
                  </a:moveTo>
                  <a:lnTo>
                    <a:pt x="5" y="890"/>
                  </a:lnTo>
                  <a:lnTo>
                    <a:pt x="12" y="877"/>
                  </a:lnTo>
                  <a:lnTo>
                    <a:pt x="18" y="866"/>
                  </a:lnTo>
                  <a:lnTo>
                    <a:pt x="23" y="853"/>
                  </a:lnTo>
                  <a:lnTo>
                    <a:pt x="33" y="838"/>
                  </a:lnTo>
                  <a:lnTo>
                    <a:pt x="38" y="822"/>
                  </a:lnTo>
                  <a:lnTo>
                    <a:pt x="46" y="817"/>
                  </a:lnTo>
                  <a:lnTo>
                    <a:pt x="51" y="822"/>
                  </a:lnTo>
                  <a:lnTo>
                    <a:pt x="62" y="825"/>
                  </a:lnTo>
                  <a:lnTo>
                    <a:pt x="67" y="830"/>
                  </a:lnTo>
                  <a:lnTo>
                    <a:pt x="77" y="830"/>
                  </a:lnTo>
                  <a:lnTo>
                    <a:pt x="80" y="830"/>
                  </a:lnTo>
                  <a:lnTo>
                    <a:pt x="85" y="830"/>
                  </a:lnTo>
                  <a:lnTo>
                    <a:pt x="95" y="830"/>
                  </a:lnTo>
                  <a:lnTo>
                    <a:pt x="100" y="825"/>
                  </a:lnTo>
                  <a:lnTo>
                    <a:pt x="111" y="825"/>
                  </a:lnTo>
                  <a:lnTo>
                    <a:pt x="113" y="822"/>
                  </a:lnTo>
                  <a:lnTo>
                    <a:pt x="123" y="810"/>
                  </a:lnTo>
                  <a:lnTo>
                    <a:pt x="129" y="804"/>
                  </a:lnTo>
                  <a:lnTo>
                    <a:pt x="139" y="802"/>
                  </a:lnTo>
                  <a:lnTo>
                    <a:pt x="144" y="794"/>
                  </a:lnTo>
                  <a:lnTo>
                    <a:pt x="147" y="786"/>
                  </a:lnTo>
                  <a:lnTo>
                    <a:pt x="157" y="773"/>
                  </a:lnTo>
                  <a:lnTo>
                    <a:pt x="162" y="760"/>
                  </a:lnTo>
                  <a:lnTo>
                    <a:pt x="173" y="750"/>
                  </a:lnTo>
                  <a:lnTo>
                    <a:pt x="178" y="740"/>
                  </a:lnTo>
                  <a:lnTo>
                    <a:pt x="185" y="724"/>
                  </a:lnTo>
                  <a:lnTo>
                    <a:pt x="191" y="714"/>
                  </a:lnTo>
                  <a:lnTo>
                    <a:pt x="201" y="693"/>
                  </a:lnTo>
                  <a:lnTo>
                    <a:pt x="206" y="680"/>
                  </a:lnTo>
                  <a:lnTo>
                    <a:pt x="211" y="672"/>
                  </a:lnTo>
                  <a:lnTo>
                    <a:pt x="219" y="657"/>
                  </a:lnTo>
                  <a:lnTo>
                    <a:pt x="224" y="636"/>
                  </a:lnTo>
                  <a:lnTo>
                    <a:pt x="235" y="623"/>
                  </a:lnTo>
                  <a:lnTo>
                    <a:pt x="240" y="616"/>
                  </a:lnTo>
                  <a:lnTo>
                    <a:pt x="247" y="608"/>
                  </a:lnTo>
                  <a:lnTo>
                    <a:pt x="253" y="600"/>
                  </a:lnTo>
                  <a:lnTo>
                    <a:pt x="263" y="587"/>
                  </a:lnTo>
                  <a:lnTo>
                    <a:pt x="268" y="584"/>
                  </a:lnTo>
                  <a:lnTo>
                    <a:pt x="273" y="584"/>
                  </a:lnTo>
                  <a:lnTo>
                    <a:pt x="281" y="572"/>
                  </a:lnTo>
                  <a:lnTo>
                    <a:pt x="286" y="564"/>
                  </a:lnTo>
                  <a:lnTo>
                    <a:pt x="296" y="556"/>
                  </a:lnTo>
                  <a:lnTo>
                    <a:pt x="302" y="548"/>
                  </a:lnTo>
                  <a:lnTo>
                    <a:pt x="312" y="528"/>
                  </a:lnTo>
                  <a:lnTo>
                    <a:pt x="315" y="512"/>
                  </a:lnTo>
                  <a:lnTo>
                    <a:pt x="325" y="504"/>
                  </a:lnTo>
                  <a:lnTo>
                    <a:pt x="330" y="499"/>
                  </a:lnTo>
                  <a:lnTo>
                    <a:pt x="340" y="497"/>
                  </a:lnTo>
                  <a:lnTo>
                    <a:pt x="346" y="486"/>
                  </a:lnTo>
                  <a:lnTo>
                    <a:pt x="348" y="471"/>
                  </a:lnTo>
                  <a:lnTo>
                    <a:pt x="358" y="463"/>
                  </a:lnTo>
                  <a:lnTo>
                    <a:pt x="364" y="450"/>
                  </a:lnTo>
                  <a:lnTo>
                    <a:pt x="374" y="447"/>
                  </a:lnTo>
                  <a:lnTo>
                    <a:pt x="379" y="440"/>
                  </a:lnTo>
                  <a:lnTo>
                    <a:pt x="387" y="419"/>
                  </a:lnTo>
                  <a:lnTo>
                    <a:pt x="392" y="403"/>
                  </a:lnTo>
                  <a:lnTo>
                    <a:pt x="402" y="390"/>
                  </a:lnTo>
                  <a:lnTo>
                    <a:pt x="408" y="367"/>
                  </a:lnTo>
                  <a:lnTo>
                    <a:pt x="413" y="334"/>
                  </a:lnTo>
                  <a:lnTo>
                    <a:pt x="420" y="305"/>
                  </a:lnTo>
                  <a:lnTo>
                    <a:pt x="426" y="282"/>
                  </a:lnTo>
                  <a:lnTo>
                    <a:pt x="436" y="259"/>
                  </a:lnTo>
                  <a:lnTo>
                    <a:pt x="441" y="233"/>
                  </a:lnTo>
                  <a:lnTo>
                    <a:pt x="449" y="207"/>
                  </a:lnTo>
                  <a:lnTo>
                    <a:pt x="454" y="196"/>
                  </a:lnTo>
                  <a:lnTo>
                    <a:pt x="464" y="189"/>
                  </a:lnTo>
                  <a:lnTo>
                    <a:pt x="469" y="189"/>
                  </a:lnTo>
                  <a:lnTo>
                    <a:pt x="475" y="186"/>
                  </a:lnTo>
                  <a:lnTo>
                    <a:pt x="482" y="189"/>
                  </a:lnTo>
                  <a:lnTo>
                    <a:pt x="488" y="189"/>
                  </a:lnTo>
                  <a:lnTo>
                    <a:pt x="498" y="186"/>
                  </a:lnTo>
                  <a:lnTo>
                    <a:pt x="503" y="181"/>
                  </a:lnTo>
                  <a:lnTo>
                    <a:pt x="513" y="173"/>
                  </a:lnTo>
                  <a:lnTo>
                    <a:pt x="516" y="171"/>
                  </a:lnTo>
                  <a:lnTo>
                    <a:pt x="526" y="171"/>
                  </a:lnTo>
                  <a:lnTo>
                    <a:pt x="531" y="165"/>
                  </a:lnTo>
                  <a:lnTo>
                    <a:pt x="537" y="160"/>
                  </a:lnTo>
                  <a:lnTo>
                    <a:pt x="547" y="150"/>
                  </a:lnTo>
                  <a:lnTo>
                    <a:pt x="550" y="142"/>
                  </a:lnTo>
                  <a:lnTo>
                    <a:pt x="560" y="142"/>
                  </a:lnTo>
                  <a:lnTo>
                    <a:pt x="565" y="134"/>
                  </a:lnTo>
                  <a:lnTo>
                    <a:pt x="575" y="137"/>
                  </a:lnTo>
                  <a:lnTo>
                    <a:pt x="581" y="145"/>
                  </a:lnTo>
                  <a:lnTo>
                    <a:pt x="588" y="160"/>
                  </a:lnTo>
                  <a:lnTo>
                    <a:pt x="593" y="171"/>
                  </a:lnTo>
                  <a:lnTo>
                    <a:pt x="599" y="178"/>
                  </a:lnTo>
                  <a:lnTo>
                    <a:pt x="609" y="186"/>
                  </a:lnTo>
                  <a:lnTo>
                    <a:pt x="614" y="194"/>
                  </a:lnTo>
                  <a:lnTo>
                    <a:pt x="622" y="194"/>
                  </a:lnTo>
                  <a:lnTo>
                    <a:pt x="627" y="186"/>
                  </a:lnTo>
                  <a:lnTo>
                    <a:pt x="637" y="171"/>
                  </a:lnTo>
                  <a:lnTo>
                    <a:pt x="642" y="150"/>
                  </a:lnTo>
                  <a:lnTo>
                    <a:pt x="653" y="134"/>
                  </a:lnTo>
                  <a:lnTo>
                    <a:pt x="655" y="114"/>
                  </a:lnTo>
                  <a:lnTo>
                    <a:pt x="666" y="98"/>
                  </a:lnTo>
                  <a:lnTo>
                    <a:pt x="671" y="80"/>
                  </a:lnTo>
                  <a:lnTo>
                    <a:pt x="676" y="65"/>
                  </a:lnTo>
                  <a:lnTo>
                    <a:pt x="686" y="44"/>
                  </a:lnTo>
                  <a:lnTo>
                    <a:pt x="689" y="28"/>
                  </a:lnTo>
                  <a:lnTo>
                    <a:pt x="699" y="26"/>
                  </a:lnTo>
                  <a:lnTo>
                    <a:pt x="704" y="15"/>
                  </a:lnTo>
                  <a:lnTo>
                    <a:pt x="715" y="8"/>
                  </a:lnTo>
                  <a:lnTo>
                    <a:pt x="720" y="5"/>
                  </a:lnTo>
                  <a:lnTo>
                    <a:pt x="728" y="5"/>
                  </a:lnTo>
                  <a:lnTo>
                    <a:pt x="733" y="0"/>
                  </a:lnTo>
                  <a:lnTo>
                    <a:pt x="738" y="8"/>
                  </a:lnTo>
                  <a:lnTo>
                    <a:pt x="748" y="15"/>
                  </a:lnTo>
                  <a:lnTo>
                    <a:pt x="754" y="26"/>
                  </a:lnTo>
                  <a:lnTo>
                    <a:pt x="761" y="26"/>
                  </a:lnTo>
                  <a:lnTo>
                    <a:pt x="766" y="36"/>
                  </a:lnTo>
                  <a:lnTo>
                    <a:pt x="777" y="44"/>
                  </a:lnTo>
                  <a:lnTo>
                    <a:pt x="782" y="52"/>
                  </a:lnTo>
                  <a:lnTo>
                    <a:pt x="790" y="70"/>
                  </a:lnTo>
                  <a:lnTo>
                    <a:pt x="795" y="85"/>
                  </a:lnTo>
                  <a:lnTo>
                    <a:pt x="800" y="116"/>
                  </a:lnTo>
                  <a:lnTo>
                    <a:pt x="810" y="150"/>
                  </a:lnTo>
                  <a:lnTo>
                    <a:pt x="815" y="189"/>
                  </a:lnTo>
                  <a:lnTo>
                    <a:pt x="823" y="225"/>
                  </a:lnTo>
                  <a:lnTo>
                    <a:pt x="828" y="274"/>
                  </a:lnTo>
                  <a:lnTo>
                    <a:pt x="839" y="315"/>
                  </a:lnTo>
                  <a:lnTo>
                    <a:pt x="844" y="359"/>
                  </a:lnTo>
                  <a:lnTo>
                    <a:pt x="854" y="406"/>
                  </a:lnTo>
                  <a:lnTo>
                    <a:pt x="857" y="460"/>
                  </a:lnTo>
                  <a:lnTo>
                    <a:pt x="862" y="504"/>
                  </a:lnTo>
                  <a:lnTo>
                    <a:pt x="872" y="541"/>
                  </a:lnTo>
                  <a:lnTo>
                    <a:pt x="877" y="577"/>
                  </a:lnTo>
                </a:path>
              </a:pathLst>
            </a:custGeom>
            <a:noFill/>
            <a:ln cap="rnd" w="237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8" name=""/>
            <p:cNvSpPr/>
            <p:nvPr/>
          </p:nvSpPr>
          <p:spPr>
            <a:xfrm>
              <a:off x="7040520" y="4897440"/>
              <a:ext cx="1403280" cy="1263600"/>
            </a:xfrm>
            <a:custGeom>
              <a:avLst/>
              <a:gdLst/>
              <a:ahLst/>
              <a:rect l="l" t="t" r="r" b="b"/>
              <a:pathLst>
                <a:path w="884" h="796">
                  <a:moveTo>
                    <a:pt x="0" y="543"/>
                  </a:moveTo>
                  <a:lnTo>
                    <a:pt x="11" y="579"/>
                  </a:lnTo>
                  <a:lnTo>
                    <a:pt x="13" y="610"/>
                  </a:lnTo>
                  <a:lnTo>
                    <a:pt x="24" y="644"/>
                  </a:lnTo>
                  <a:lnTo>
                    <a:pt x="29" y="669"/>
                  </a:lnTo>
                  <a:lnTo>
                    <a:pt x="39" y="690"/>
                  </a:lnTo>
                  <a:lnTo>
                    <a:pt x="44" y="695"/>
                  </a:lnTo>
                  <a:lnTo>
                    <a:pt x="47" y="698"/>
                  </a:lnTo>
                  <a:lnTo>
                    <a:pt x="57" y="703"/>
                  </a:lnTo>
                  <a:lnTo>
                    <a:pt x="62" y="706"/>
                  </a:lnTo>
                  <a:lnTo>
                    <a:pt x="73" y="716"/>
                  </a:lnTo>
                  <a:lnTo>
                    <a:pt x="78" y="711"/>
                  </a:lnTo>
                  <a:lnTo>
                    <a:pt x="86" y="703"/>
                  </a:lnTo>
                  <a:lnTo>
                    <a:pt x="91" y="695"/>
                  </a:lnTo>
                  <a:lnTo>
                    <a:pt x="101" y="682"/>
                  </a:lnTo>
                  <a:lnTo>
                    <a:pt x="106" y="662"/>
                  </a:lnTo>
                  <a:lnTo>
                    <a:pt x="114" y="633"/>
                  </a:lnTo>
                  <a:lnTo>
                    <a:pt x="119" y="607"/>
                  </a:lnTo>
                  <a:lnTo>
                    <a:pt x="124" y="571"/>
                  </a:lnTo>
                  <a:lnTo>
                    <a:pt x="135" y="545"/>
                  </a:lnTo>
                  <a:lnTo>
                    <a:pt x="140" y="522"/>
                  </a:lnTo>
                  <a:lnTo>
                    <a:pt x="148" y="494"/>
                  </a:lnTo>
                  <a:lnTo>
                    <a:pt x="153" y="463"/>
                  </a:lnTo>
                  <a:lnTo>
                    <a:pt x="163" y="437"/>
                  </a:lnTo>
                  <a:lnTo>
                    <a:pt x="168" y="421"/>
                  </a:lnTo>
                  <a:lnTo>
                    <a:pt x="179" y="408"/>
                  </a:lnTo>
                  <a:lnTo>
                    <a:pt x="181" y="393"/>
                  </a:lnTo>
                  <a:lnTo>
                    <a:pt x="186" y="380"/>
                  </a:lnTo>
                  <a:lnTo>
                    <a:pt x="197" y="364"/>
                  </a:lnTo>
                  <a:lnTo>
                    <a:pt x="202" y="354"/>
                  </a:lnTo>
                  <a:lnTo>
                    <a:pt x="212" y="354"/>
                  </a:lnTo>
                  <a:lnTo>
                    <a:pt x="215" y="356"/>
                  </a:lnTo>
                  <a:lnTo>
                    <a:pt x="225" y="362"/>
                  </a:lnTo>
                  <a:lnTo>
                    <a:pt x="230" y="364"/>
                  </a:lnTo>
                  <a:lnTo>
                    <a:pt x="241" y="362"/>
                  </a:lnTo>
                  <a:lnTo>
                    <a:pt x="246" y="349"/>
                  </a:lnTo>
                  <a:lnTo>
                    <a:pt x="251" y="344"/>
                  </a:lnTo>
                  <a:lnTo>
                    <a:pt x="259" y="354"/>
                  </a:lnTo>
                  <a:lnTo>
                    <a:pt x="264" y="356"/>
                  </a:lnTo>
                  <a:lnTo>
                    <a:pt x="274" y="356"/>
                  </a:lnTo>
                  <a:lnTo>
                    <a:pt x="279" y="356"/>
                  </a:lnTo>
                  <a:lnTo>
                    <a:pt x="287" y="369"/>
                  </a:lnTo>
                  <a:lnTo>
                    <a:pt x="292" y="385"/>
                  </a:lnTo>
                  <a:lnTo>
                    <a:pt x="303" y="400"/>
                  </a:lnTo>
                  <a:lnTo>
                    <a:pt x="308" y="406"/>
                  </a:lnTo>
                  <a:lnTo>
                    <a:pt x="313" y="413"/>
                  </a:lnTo>
                  <a:lnTo>
                    <a:pt x="321" y="426"/>
                  </a:lnTo>
                  <a:lnTo>
                    <a:pt x="326" y="434"/>
                  </a:lnTo>
                  <a:lnTo>
                    <a:pt x="336" y="437"/>
                  </a:lnTo>
                  <a:lnTo>
                    <a:pt x="341" y="434"/>
                  </a:lnTo>
                  <a:lnTo>
                    <a:pt x="352" y="429"/>
                  </a:lnTo>
                  <a:lnTo>
                    <a:pt x="354" y="434"/>
                  </a:lnTo>
                  <a:lnTo>
                    <a:pt x="365" y="434"/>
                  </a:lnTo>
                  <a:lnTo>
                    <a:pt x="370" y="437"/>
                  </a:lnTo>
                  <a:lnTo>
                    <a:pt x="375" y="437"/>
                  </a:lnTo>
                  <a:lnTo>
                    <a:pt x="385" y="434"/>
                  </a:lnTo>
                  <a:lnTo>
                    <a:pt x="388" y="434"/>
                  </a:lnTo>
                  <a:lnTo>
                    <a:pt x="398" y="434"/>
                  </a:lnTo>
                  <a:lnTo>
                    <a:pt x="403" y="437"/>
                  </a:lnTo>
                  <a:lnTo>
                    <a:pt x="414" y="457"/>
                  </a:lnTo>
                  <a:lnTo>
                    <a:pt x="419" y="486"/>
                  </a:lnTo>
                  <a:lnTo>
                    <a:pt x="427" y="514"/>
                  </a:lnTo>
                  <a:lnTo>
                    <a:pt x="432" y="530"/>
                  </a:lnTo>
                  <a:lnTo>
                    <a:pt x="437" y="553"/>
                  </a:lnTo>
                  <a:lnTo>
                    <a:pt x="447" y="582"/>
                  </a:lnTo>
                  <a:lnTo>
                    <a:pt x="452" y="602"/>
                  </a:lnTo>
                  <a:lnTo>
                    <a:pt x="460" y="618"/>
                  </a:lnTo>
                  <a:lnTo>
                    <a:pt x="465" y="631"/>
                  </a:lnTo>
                  <a:lnTo>
                    <a:pt x="476" y="646"/>
                  </a:lnTo>
                  <a:lnTo>
                    <a:pt x="481" y="667"/>
                  </a:lnTo>
                  <a:lnTo>
                    <a:pt x="488" y="680"/>
                  </a:lnTo>
                  <a:lnTo>
                    <a:pt x="494" y="682"/>
                  </a:lnTo>
                  <a:lnTo>
                    <a:pt x="504" y="695"/>
                  </a:lnTo>
                  <a:lnTo>
                    <a:pt x="509" y="711"/>
                  </a:lnTo>
                  <a:lnTo>
                    <a:pt x="514" y="734"/>
                  </a:lnTo>
                  <a:lnTo>
                    <a:pt x="522" y="755"/>
                  </a:lnTo>
                  <a:lnTo>
                    <a:pt x="527" y="768"/>
                  </a:lnTo>
                  <a:lnTo>
                    <a:pt x="538" y="776"/>
                  </a:lnTo>
                  <a:lnTo>
                    <a:pt x="543" y="783"/>
                  </a:lnTo>
                  <a:lnTo>
                    <a:pt x="553" y="791"/>
                  </a:lnTo>
                  <a:lnTo>
                    <a:pt x="556" y="791"/>
                  </a:lnTo>
                  <a:lnTo>
                    <a:pt x="566" y="791"/>
                  </a:lnTo>
                  <a:lnTo>
                    <a:pt x="571" y="796"/>
                  </a:lnTo>
                  <a:lnTo>
                    <a:pt x="576" y="791"/>
                  </a:lnTo>
                  <a:lnTo>
                    <a:pt x="587" y="776"/>
                  </a:lnTo>
                  <a:lnTo>
                    <a:pt x="592" y="752"/>
                  </a:lnTo>
                  <a:lnTo>
                    <a:pt x="600" y="732"/>
                  </a:lnTo>
                  <a:lnTo>
                    <a:pt x="605" y="716"/>
                  </a:lnTo>
                  <a:lnTo>
                    <a:pt x="615" y="698"/>
                  </a:lnTo>
                  <a:lnTo>
                    <a:pt x="620" y="680"/>
                  </a:lnTo>
                  <a:lnTo>
                    <a:pt x="628" y="667"/>
                  </a:lnTo>
                  <a:lnTo>
                    <a:pt x="633" y="659"/>
                  </a:lnTo>
                  <a:lnTo>
                    <a:pt x="638" y="646"/>
                  </a:lnTo>
                  <a:lnTo>
                    <a:pt x="649" y="633"/>
                  </a:lnTo>
                  <a:lnTo>
                    <a:pt x="654" y="623"/>
                  </a:lnTo>
                  <a:lnTo>
                    <a:pt x="661" y="615"/>
                  </a:lnTo>
                  <a:lnTo>
                    <a:pt x="667" y="607"/>
                  </a:lnTo>
                  <a:lnTo>
                    <a:pt x="677" y="594"/>
                  </a:lnTo>
                  <a:lnTo>
                    <a:pt x="682" y="571"/>
                  </a:lnTo>
                  <a:lnTo>
                    <a:pt x="692" y="535"/>
                  </a:lnTo>
                  <a:lnTo>
                    <a:pt x="695" y="507"/>
                  </a:lnTo>
                  <a:lnTo>
                    <a:pt x="700" y="473"/>
                  </a:lnTo>
                  <a:lnTo>
                    <a:pt x="711" y="450"/>
                  </a:lnTo>
                  <a:lnTo>
                    <a:pt x="716" y="429"/>
                  </a:lnTo>
                  <a:lnTo>
                    <a:pt x="726" y="406"/>
                  </a:lnTo>
                  <a:lnTo>
                    <a:pt x="729" y="385"/>
                  </a:lnTo>
                  <a:lnTo>
                    <a:pt x="739" y="364"/>
                  </a:lnTo>
                  <a:lnTo>
                    <a:pt x="744" y="336"/>
                  </a:lnTo>
                  <a:lnTo>
                    <a:pt x="754" y="318"/>
                  </a:lnTo>
                  <a:lnTo>
                    <a:pt x="760" y="305"/>
                  </a:lnTo>
                  <a:lnTo>
                    <a:pt x="762" y="292"/>
                  </a:lnTo>
                  <a:lnTo>
                    <a:pt x="773" y="284"/>
                  </a:lnTo>
                  <a:lnTo>
                    <a:pt x="778" y="261"/>
                  </a:lnTo>
                  <a:lnTo>
                    <a:pt x="788" y="240"/>
                  </a:lnTo>
                  <a:lnTo>
                    <a:pt x="793" y="219"/>
                  </a:lnTo>
                  <a:lnTo>
                    <a:pt x="801" y="201"/>
                  </a:lnTo>
                  <a:lnTo>
                    <a:pt x="806" y="168"/>
                  </a:lnTo>
                  <a:lnTo>
                    <a:pt x="816" y="139"/>
                  </a:lnTo>
                  <a:lnTo>
                    <a:pt x="822" y="111"/>
                  </a:lnTo>
                  <a:lnTo>
                    <a:pt x="829" y="82"/>
                  </a:lnTo>
                  <a:lnTo>
                    <a:pt x="834" y="51"/>
                  </a:lnTo>
                  <a:lnTo>
                    <a:pt x="840" y="28"/>
                  </a:lnTo>
                  <a:lnTo>
                    <a:pt x="850" y="7"/>
                  </a:lnTo>
                  <a:lnTo>
                    <a:pt x="855" y="0"/>
                  </a:lnTo>
                  <a:lnTo>
                    <a:pt x="863" y="7"/>
                  </a:lnTo>
                  <a:lnTo>
                    <a:pt x="868" y="7"/>
                  </a:lnTo>
                  <a:lnTo>
                    <a:pt x="878" y="10"/>
                  </a:lnTo>
                  <a:lnTo>
                    <a:pt x="884" y="10"/>
                  </a:lnTo>
                </a:path>
              </a:pathLst>
            </a:custGeom>
            <a:noFill/>
            <a:ln cap="rnd" w="237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9" name=""/>
            <p:cNvSpPr/>
            <p:nvPr/>
          </p:nvSpPr>
          <p:spPr>
            <a:xfrm>
              <a:off x="5389560" y="6297480"/>
              <a:ext cx="3094200" cy="7920"/>
            </a:xfrm>
            <a:prstGeom prst="line">
              <a:avLst/>
            </a:prstGeom>
            <a:ln cap="rnd"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0" name=""/>
            <p:cNvSpPr/>
            <p:nvPr/>
          </p:nvSpPr>
          <p:spPr>
            <a:xfrm flipV="1">
              <a:off x="5389560" y="4638600"/>
              <a:ext cx="7920" cy="16588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flipV="1">
              <a:off x="5389560" y="6267240"/>
              <a:ext cx="792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42" name=""/>
            <p:cNvSpPr/>
            <p:nvPr/>
          </p:nvSpPr>
          <p:spPr>
            <a:xfrm flipV="1">
              <a:off x="5835600" y="6267240"/>
              <a:ext cx="468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43" name=""/>
            <p:cNvSpPr/>
            <p:nvPr/>
          </p:nvSpPr>
          <p:spPr>
            <a:xfrm flipV="1">
              <a:off x="6278400" y="6267240"/>
              <a:ext cx="180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44" name=""/>
            <p:cNvSpPr/>
            <p:nvPr/>
          </p:nvSpPr>
          <p:spPr>
            <a:xfrm flipV="1">
              <a:off x="6716880" y="6267240"/>
              <a:ext cx="468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45" name=""/>
            <p:cNvSpPr/>
            <p:nvPr/>
          </p:nvSpPr>
          <p:spPr>
            <a:xfrm flipV="1">
              <a:off x="7159680" y="6267240"/>
              <a:ext cx="144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46" name=""/>
            <p:cNvSpPr/>
            <p:nvPr/>
          </p:nvSpPr>
          <p:spPr>
            <a:xfrm flipV="1">
              <a:off x="7599240" y="6267240"/>
              <a:ext cx="324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47" name=""/>
            <p:cNvSpPr/>
            <p:nvPr/>
          </p:nvSpPr>
          <p:spPr>
            <a:xfrm flipV="1">
              <a:off x="8040600" y="6267240"/>
              <a:ext cx="180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48" name=""/>
            <p:cNvSpPr/>
            <p:nvPr/>
          </p:nvSpPr>
          <p:spPr>
            <a:xfrm flipV="1">
              <a:off x="8483760" y="6267240"/>
              <a:ext cx="468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49" name=""/>
            <p:cNvSpPr/>
            <p:nvPr/>
          </p:nvSpPr>
          <p:spPr>
            <a:xfrm>
              <a:off x="5389560" y="6297480"/>
              <a:ext cx="28440" cy="7920"/>
            </a:xfrm>
            <a:prstGeom prst="line">
              <a:avLst/>
            </a:prstGeom>
            <a:ln cap="rnd"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3950" name=""/>
          <p:cNvSpPr/>
          <p:nvPr/>
        </p:nvSpPr>
        <p:spPr>
          <a:xfrm>
            <a:off x="1031760" y="4638600"/>
            <a:ext cx="3508560" cy="40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1" name=""/>
          <p:cNvSpPr/>
          <p:nvPr/>
        </p:nvSpPr>
        <p:spPr>
          <a:xfrm>
            <a:off x="1173600" y="4641840"/>
            <a:ext cx="23126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trophysics </a:t>
            </a: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952" name=""/>
          <p:cNvSpPr/>
          <p:nvPr/>
        </p:nvSpPr>
        <p:spPr>
          <a:xfrm>
            <a:off x="3471840" y="4818240"/>
            <a:ext cx="14745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hoton Count) </a:t>
            </a:r>
            <a:endParaRPr b="0" lang="en-US" sz="1900" spc="-1" strike="noStrike">
              <a:solidFill>
                <a:srgbClr val="000000"/>
              </a:solidFill>
              <a:latin typeface="Times New Roman"/>
            </a:endParaRPr>
          </a:p>
        </p:txBody>
      </p:sp>
      <p:sp>
        <p:nvSpPr>
          <p:cNvPr id="3953" name=""/>
          <p:cNvSpPr/>
          <p:nvPr/>
        </p:nvSpPr>
        <p:spPr>
          <a:xfrm>
            <a:off x="1741680" y="5114880"/>
            <a:ext cx="6768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954" name=""/>
          <p:cNvSpPr/>
          <p:nvPr/>
        </p:nvSpPr>
        <p:spPr>
          <a:xfrm>
            <a:off x="1808280" y="5114880"/>
            <a:ext cx="6768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5" name="PlaceHolder 1"/>
          <p:cNvSpPr>
            <a:spLocks noGrp="1"/>
          </p:cNvSpPr>
          <p:nvPr>
            <p:ph type="title"/>
          </p:nvPr>
        </p:nvSpPr>
        <p:spPr>
          <a:xfrm>
            <a:off x="685800" y="282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Fast can we find Motifs?</a:t>
            </a:r>
            <a:endParaRPr b="0" lang="en-US" sz="4400" spc="-1" strike="noStrike">
              <a:solidFill>
                <a:srgbClr val="000000"/>
              </a:solidFill>
              <a:latin typeface="Times New Roman"/>
            </a:endParaRPr>
          </a:p>
        </p:txBody>
      </p:sp>
      <p:sp>
        <p:nvSpPr>
          <p:cNvPr id="3956" name=""/>
          <p:cNvSpPr/>
          <p:nvPr/>
        </p:nvSpPr>
        <p:spPr>
          <a:xfrm>
            <a:off x="541080" y="1822320"/>
            <a:ext cx="109080" cy="518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p:txBody>
      </p:sp>
      <p:sp>
        <p:nvSpPr>
          <p:cNvPr id="3957" name=""/>
          <p:cNvSpPr/>
          <p:nvPr/>
        </p:nvSpPr>
        <p:spPr>
          <a:xfrm>
            <a:off x="450720" y="1822320"/>
            <a:ext cx="8421840" cy="4245120"/>
          </a:xfrm>
          <a:prstGeom prst="rect">
            <a:avLst/>
          </a:prstGeom>
          <a:solidFill>
            <a:srgbClr val="ffffff"/>
          </a:solidFill>
          <a:ln cap="rnd"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8" name=""/>
          <p:cNvSpPr/>
          <p:nvPr/>
        </p:nvSpPr>
        <p:spPr>
          <a:xfrm>
            <a:off x="6066000" y="2489040"/>
            <a:ext cx="2590560" cy="1536840"/>
          </a:xfrm>
          <a:prstGeom prst="rect">
            <a:avLst/>
          </a:prstGeom>
          <a:solidFill>
            <a:srgbClr val="ffffff"/>
          </a:solidFill>
          <a:ln cap="rnd"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9" name=""/>
          <p:cNvSpPr/>
          <p:nvPr/>
        </p:nvSpPr>
        <p:spPr>
          <a:xfrm>
            <a:off x="6178680" y="2860560"/>
            <a:ext cx="685800" cy="6480"/>
          </a:xfrm>
          <a:prstGeom prst="line">
            <a:avLst/>
          </a:prstGeom>
          <a:ln w="6516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60" name=""/>
          <p:cNvSpPr/>
          <p:nvPr/>
        </p:nvSpPr>
        <p:spPr>
          <a:xfrm>
            <a:off x="6946920" y="2612880"/>
            <a:ext cx="1511280" cy="53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1" name=""/>
          <p:cNvSpPr/>
          <p:nvPr/>
        </p:nvSpPr>
        <p:spPr>
          <a:xfrm>
            <a:off x="7013520" y="2620800"/>
            <a:ext cx="15292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rute Force</a:t>
            </a:r>
            <a:endParaRPr b="0" lang="en-US" sz="2300" spc="-1" strike="noStrike">
              <a:solidFill>
                <a:srgbClr val="000000"/>
              </a:solidFill>
              <a:latin typeface="Times New Roman"/>
            </a:endParaRPr>
          </a:p>
        </p:txBody>
      </p:sp>
      <p:sp>
        <p:nvSpPr>
          <p:cNvPr id="3962" name=""/>
          <p:cNvSpPr/>
          <p:nvPr/>
        </p:nvSpPr>
        <p:spPr>
          <a:xfrm>
            <a:off x="8518320" y="262080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Times New Roman"/>
            </a:endParaRPr>
          </a:p>
        </p:txBody>
      </p:sp>
      <p:sp>
        <p:nvSpPr>
          <p:cNvPr id="3963" name=""/>
          <p:cNvSpPr/>
          <p:nvPr/>
        </p:nvSpPr>
        <p:spPr>
          <a:xfrm>
            <a:off x="8666280" y="3013200"/>
            <a:ext cx="159120" cy="686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ial"/>
              </a:rPr>
              <a:t> </a:t>
            </a:r>
            <a:endParaRPr b="0" lang="en-US" sz="4500" spc="-1" strike="noStrike">
              <a:solidFill>
                <a:srgbClr val="000000"/>
              </a:solidFill>
              <a:latin typeface="Times New Roman"/>
            </a:endParaRPr>
          </a:p>
        </p:txBody>
      </p:sp>
      <p:sp>
        <p:nvSpPr>
          <p:cNvPr id="3964" name=""/>
          <p:cNvSpPr/>
          <p:nvPr/>
        </p:nvSpPr>
        <p:spPr>
          <a:xfrm>
            <a:off x="6178680" y="3551400"/>
            <a:ext cx="685800" cy="7920"/>
          </a:xfrm>
          <a:prstGeom prst="line">
            <a:avLst/>
          </a:prstGeom>
          <a:ln cap="rnd" w="30240">
            <a:solidFill>
              <a:srgbClr val="0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5" name=""/>
          <p:cNvSpPr/>
          <p:nvPr/>
        </p:nvSpPr>
        <p:spPr>
          <a:xfrm>
            <a:off x="6946920" y="4191120"/>
            <a:ext cx="1333440" cy="53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7011720" y="3265560"/>
            <a:ext cx="37404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S</a:t>
            </a:r>
            <a:endParaRPr b="0" lang="en-US" sz="2300" spc="-1" strike="noStrike">
              <a:solidFill>
                <a:srgbClr val="000000"/>
              </a:solidFill>
              <a:latin typeface="Times New Roman"/>
            </a:endParaRPr>
          </a:p>
        </p:txBody>
      </p:sp>
      <p:sp>
        <p:nvSpPr>
          <p:cNvPr id="3967" name=""/>
          <p:cNvSpPr/>
          <p:nvPr/>
        </p:nvSpPr>
        <p:spPr>
          <a:xfrm>
            <a:off x="7382880" y="3265560"/>
            <a:ext cx="982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endParaRPr b="0" lang="en-US" sz="2300" spc="-1" strike="noStrike">
              <a:solidFill>
                <a:srgbClr val="000000"/>
              </a:solidFill>
              <a:latin typeface="Times New Roman"/>
            </a:endParaRPr>
          </a:p>
        </p:txBody>
      </p:sp>
      <p:sp>
        <p:nvSpPr>
          <p:cNvPr id="3968" name=""/>
          <p:cNvSpPr/>
          <p:nvPr/>
        </p:nvSpPr>
        <p:spPr>
          <a:xfrm>
            <a:off x="7477200" y="3265560"/>
            <a:ext cx="43812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   </a:t>
            </a:r>
            <a:endParaRPr b="0" lang="en-US" sz="2300" spc="-1" strike="noStrike">
              <a:solidFill>
                <a:srgbClr val="000000"/>
              </a:solidFill>
              <a:latin typeface="Times New Roman"/>
            </a:endParaRPr>
          </a:p>
        </p:txBody>
      </p:sp>
      <p:sp>
        <p:nvSpPr>
          <p:cNvPr id="3969" name=""/>
          <p:cNvSpPr/>
          <p:nvPr/>
        </p:nvSpPr>
        <p:spPr>
          <a:xfrm>
            <a:off x="8121600" y="4251240"/>
            <a:ext cx="3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0" name=""/>
          <p:cNvSpPr/>
          <p:nvPr/>
        </p:nvSpPr>
        <p:spPr>
          <a:xfrm>
            <a:off x="8402760" y="3805200"/>
            <a:ext cx="159120" cy="686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Arial"/>
              </a:rPr>
              <a:t> </a:t>
            </a:r>
            <a:endParaRPr b="0" lang="en-US" sz="4500" spc="-1" strike="noStrike">
              <a:solidFill>
                <a:srgbClr val="000000"/>
              </a:solidFill>
              <a:latin typeface="Times New Roman"/>
            </a:endParaRPr>
          </a:p>
        </p:txBody>
      </p:sp>
      <p:sp>
        <p:nvSpPr>
          <p:cNvPr id="3971" name=""/>
          <p:cNvSpPr/>
          <p:nvPr/>
        </p:nvSpPr>
        <p:spPr>
          <a:xfrm>
            <a:off x="1432080" y="2154240"/>
            <a:ext cx="4365360" cy="280656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1414440" y="4417920"/>
            <a:ext cx="436248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3" name=""/>
          <p:cNvSpPr/>
          <p:nvPr/>
        </p:nvSpPr>
        <p:spPr>
          <a:xfrm>
            <a:off x="1414440" y="3857760"/>
            <a:ext cx="4362480" cy="2880"/>
          </a:xfrm>
          <a:prstGeom prst="line">
            <a:avLst/>
          </a:prstGeom>
          <a:ln cap="rnd"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74" name=""/>
          <p:cNvSpPr/>
          <p:nvPr/>
        </p:nvSpPr>
        <p:spPr>
          <a:xfrm>
            <a:off x="1414440" y="3298680"/>
            <a:ext cx="4362480" cy="3240"/>
          </a:xfrm>
          <a:prstGeom prst="line">
            <a:avLst/>
          </a:prstGeom>
          <a:ln cap="rnd"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75" name=""/>
          <p:cNvSpPr/>
          <p:nvPr/>
        </p:nvSpPr>
        <p:spPr>
          <a:xfrm>
            <a:off x="1414440" y="2720880"/>
            <a:ext cx="436248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6" name=""/>
          <p:cNvSpPr/>
          <p:nvPr/>
        </p:nvSpPr>
        <p:spPr>
          <a:xfrm>
            <a:off x="1414440" y="2162160"/>
            <a:ext cx="436248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7" name=""/>
          <p:cNvSpPr/>
          <p:nvPr/>
        </p:nvSpPr>
        <p:spPr>
          <a:xfrm>
            <a:off x="1414440" y="2154240"/>
            <a:ext cx="4362480" cy="2822400"/>
          </a:xfrm>
          <a:prstGeom prst="rect">
            <a:avLst/>
          </a:prstGeom>
          <a:noFill/>
          <a:ln cap="rnd"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1414440" y="2154240"/>
            <a:ext cx="3240" cy="282240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1357200" y="4976640"/>
            <a:ext cx="5724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0" name=""/>
          <p:cNvSpPr/>
          <p:nvPr/>
        </p:nvSpPr>
        <p:spPr>
          <a:xfrm>
            <a:off x="1357200" y="4417920"/>
            <a:ext cx="5724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1" name=""/>
          <p:cNvSpPr/>
          <p:nvPr/>
        </p:nvSpPr>
        <p:spPr>
          <a:xfrm>
            <a:off x="1357200" y="3857760"/>
            <a:ext cx="57240" cy="2880"/>
          </a:xfrm>
          <a:prstGeom prst="line">
            <a:avLst/>
          </a:prstGeom>
          <a:ln cap="rnd"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82" name=""/>
          <p:cNvSpPr/>
          <p:nvPr/>
        </p:nvSpPr>
        <p:spPr>
          <a:xfrm>
            <a:off x="1357200" y="3298680"/>
            <a:ext cx="57240" cy="3240"/>
          </a:xfrm>
          <a:prstGeom prst="line">
            <a:avLst/>
          </a:prstGeom>
          <a:ln cap="rnd"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83" name=""/>
          <p:cNvSpPr/>
          <p:nvPr/>
        </p:nvSpPr>
        <p:spPr>
          <a:xfrm>
            <a:off x="1357200" y="2720880"/>
            <a:ext cx="5724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4" name=""/>
          <p:cNvSpPr/>
          <p:nvPr/>
        </p:nvSpPr>
        <p:spPr>
          <a:xfrm>
            <a:off x="1357200" y="2162160"/>
            <a:ext cx="5724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5" name=""/>
          <p:cNvSpPr/>
          <p:nvPr/>
        </p:nvSpPr>
        <p:spPr>
          <a:xfrm>
            <a:off x="1414440" y="4976640"/>
            <a:ext cx="4362480" cy="1800"/>
          </a:xfrm>
          <a:prstGeom prst="line">
            <a:avLst/>
          </a:prstGeom>
          <a:ln cap="rnd"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6" name=""/>
          <p:cNvSpPr/>
          <p:nvPr/>
        </p:nvSpPr>
        <p:spPr>
          <a:xfrm flipV="1">
            <a:off x="1414440" y="4976640"/>
            <a:ext cx="3240" cy="46080"/>
          </a:xfrm>
          <a:prstGeom prst="line">
            <a:avLst/>
          </a:prstGeom>
          <a:ln cap="rnd"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87" name=""/>
          <p:cNvSpPr/>
          <p:nvPr/>
        </p:nvSpPr>
        <p:spPr>
          <a:xfrm flipV="1">
            <a:off x="2278080" y="4976640"/>
            <a:ext cx="4680" cy="46080"/>
          </a:xfrm>
          <a:prstGeom prst="line">
            <a:avLst/>
          </a:prstGeom>
          <a:ln cap="rnd"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88" name=""/>
          <p:cNvSpPr/>
          <p:nvPr/>
        </p:nvSpPr>
        <p:spPr>
          <a:xfrm flipV="1">
            <a:off x="3164040" y="4976640"/>
            <a:ext cx="1440" cy="46080"/>
          </a:xfrm>
          <a:prstGeom prst="line">
            <a:avLst/>
          </a:prstGeom>
          <a:ln cap="rnd"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89" name=""/>
          <p:cNvSpPr/>
          <p:nvPr/>
        </p:nvSpPr>
        <p:spPr>
          <a:xfrm flipV="1">
            <a:off x="4027320" y="4976640"/>
            <a:ext cx="3240" cy="46080"/>
          </a:xfrm>
          <a:prstGeom prst="line">
            <a:avLst/>
          </a:prstGeom>
          <a:ln cap="rnd"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90" name=""/>
          <p:cNvSpPr/>
          <p:nvPr/>
        </p:nvSpPr>
        <p:spPr>
          <a:xfrm flipV="1">
            <a:off x="4908600" y="4976640"/>
            <a:ext cx="3240" cy="46080"/>
          </a:xfrm>
          <a:prstGeom prst="line">
            <a:avLst/>
          </a:prstGeom>
          <a:ln cap="rnd"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91" name=""/>
          <p:cNvSpPr/>
          <p:nvPr/>
        </p:nvSpPr>
        <p:spPr>
          <a:xfrm flipV="1">
            <a:off x="5776920" y="4976640"/>
            <a:ext cx="1440" cy="46080"/>
          </a:xfrm>
          <a:prstGeom prst="line">
            <a:avLst/>
          </a:prstGeom>
          <a:ln cap="rnd"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92" name=""/>
          <p:cNvSpPr/>
          <p:nvPr/>
        </p:nvSpPr>
        <p:spPr>
          <a:xfrm>
            <a:off x="1846440" y="2268360"/>
            <a:ext cx="3497040" cy="2587680"/>
          </a:xfrm>
          <a:custGeom>
            <a:avLst/>
            <a:gdLst/>
            <a:ahLst/>
            <a:rect l="l" t="t" r="r" b="b"/>
            <a:pathLst>
              <a:path w="2203" h="1060">
                <a:moveTo>
                  <a:pt x="0" y="1060"/>
                </a:moveTo>
                <a:lnTo>
                  <a:pt x="557" y="926"/>
                </a:lnTo>
                <a:lnTo>
                  <a:pt x="1102" y="711"/>
                </a:lnTo>
                <a:lnTo>
                  <a:pt x="1646" y="395"/>
                </a:lnTo>
                <a:lnTo>
                  <a:pt x="2203" y="0"/>
                </a:lnTo>
              </a:path>
            </a:pathLst>
          </a:custGeom>
          <a:noFill/>
          <a:ln w="65160">
            <a:solidFill>
              <a:srgbClr val="99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1846440" y="4883040"/>
            <a:ext cx="3497040" cy="32040"/>
          </a:xfrm>
          <a:custGeom>
            <a:avLst/>
            <a:gdLst/>
            <a:ahLst/>
            <a:rect l="l" t="t" r="r" b="b"/>
            <a:pathLst>
              <a:path w="2203" h="13">
                <a:moveTo>
                  <a:pt x="0" y="13"/>
                </a:moveTo>
                <a:lnTo>
                  <a:pt x="557" y="5"/>
                </a:lnTo>
                <a:lnTo>
                  <a:pt x="1102" y="5"/>
                </a:lnTo>
                <a:lnTo>
                  <a:pt x="1646" y="0"/>
                </a:lnTo>
                <a:lnTo>
                  <a:pt x="2203" y="0"/>
                </a:lnTo>
              </a:path>
            </a:pathLst>
          </a:custGeom>
          <a:noFill/>
          <a:ln cap="rnd" w="30240">
            <a:solidFill>
              <a:srgbClr val="0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94" name=""/>
          <p:cNvSpPr/>
          <p:nvPr/>
        </p:nvSpPr>
        <p:spPr>
          <a:xfrm>
            <a:off x="1141560" y="4856040"/>
            <a:ext cx="12060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1185840" y="48610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3996" name=""/>
          <p:cNvSpPr/>
          <p:nvPr/>
        </p:nvSpPr>
        <p:spPr>
          <a:xfrm>
            <a:off x="1306440" y="4861080"/>
            <a:ext cx="60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3997" name=""/>
          <p:cNvSpPr/>
          <p:nvPr/>
        </p:nvSpPr>
        <p:spPr>
          <a:xfrm>
            <a:off x="1000080" y="4305240"/>
            <a:ext cx="228600" cy="39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8" name=""/>
          <p:cNvSpPr/>
          <p:nvPr/>
        </p:nvSpPr>
        <p:spPr>
          <a:xfrm>
            <a:off x="1047240" y="4309920"/>
            <a:ext cx="229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k</a:t>
            </a:r>
            <a:endParaRPr b="0" lang="en-US" sz="1700" spc="-1" strike="noStrike">
              <a:solidFill>
                <a:srgbClr val="000000"/>
              </a:solidFill>
              <a:latin typeface="Times New Roman"/>
            </a:endParaRPr>
          </a:p>
        </p:txBody>
      </p:sp>
      <p:sp>
        <p:nvSpPr>
          <p:cNvPr id="3999" name=""/>
          <p:cNvSpPr/>
          <p:nvPr/>
        </p:nvSpPr>
        <p:spPr>
          <a:xfrm>
            <a:off x="1276200" y="4309920"/>
            <a:ext cx="60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000" name=""/>
          <p:cNvSpPr/>
          <p:nvPr/>
        </p:nvSpPr>
        <p:spPr>
          <a:xfrm>
            <a:off x="1000080" y="3746520"/>
            <a:ext cx="228600" cy="39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1047240" y="3751200"/>
            <a:ext cx="229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k</a:t>
            </a:r>
            <a:endParaRPr b="0" lang="en-US" sz="1700" spc="-1" strike="noStrike">
              <a:solidFill>
                <a:srgbClr val="000000"/>
              </a:solidFill>
              <a:latin typeface="Times New Roman"/>
            </a:endParaRPr>
          </a:p>
        </p:txBody>
      </p:sp>
      <p:sp>
        <p:nvSpPr>
          <p:cNvPr id="4002" name=""/>
          <p:cNvSpPr/>
          <p:nvPr/>
        </p:nvSpPr>
        <p:spPr>
          <a:xfrm>
            <a:off x="1276200" y="3751200"/>
            <a:ext cx="60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003" name=""/>
          <p:cNvSpPr/>
          <p:nvPr/>
        </p:nvSpPr>
        <p:spPr>
          <a:xfrm>
            <a:off x="1000080" y="3179880"/>
            <a:ext cx="2286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4" name=""/>
          <p:cNvSpPr/>
          <p:nvPr/>
        </p:nvSpPr>
        <p:spPr>
          <a:xfrm>
            <a:off x="1047240" y="3187800"/>
            <a:ext cx="229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k</a:t>
            </a:r>
            <a:endParaRPr b="0" lang="en-US" sz="1700" spc="-1" strike="noStrike">
              <a:solidFill>
                <a:srgbClr val="000000"/>
              </a:solidFill>
              <a:latin typeface="Times New Roman"/>
            </a:endParaRPr>
          </a:p>
        </p:txBody>
      </p:sp>
      <p:sp>
        <p:nvSpPr>
          <p:cNvPr id="4005" name=""/>
          <p:cNvSpPr/>
          <p:nvPr/>
        </p:nvSpPr>
        <p:spPr>
          <a:xfrm>
            <a:off x="1276200" y="3187800"/>
            <a:ext cx="60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006" name=""/>
          <p:cNvSpPr/>
          <p:nvPr/>
        </p:nvSpPr>
        <p:spPr>
          <a:xfrm>
            <a:off x="1000080" y="2608200"/>
            <a:ext cx="22860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7" name=""/>
          <p:cNvSpPr/>
          <p:nvPr/>
        </p:nvSpPr>
        <p:spPr>
          <a:xfrm>
            <a:off x="1047240" y="2612880"/>
            <a:ext cx="229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8k</a:t>
            </a:r>
            <a:endParaRPr b="0" lang="en-US" sz="1700" spc="-1" strike="noStrike">
              <a:solidFill>
                <a:srgbClr val="000000"/>
              </a:solidFill>
              <a:latin typeface="Times New Roman"/>
            </a:endParaRPr>
          </a:p>
        </p:txBody>
      </p:sp>
      <p:sp>
        <p:nvSpPr>
          <p:cNvPr id="4008" name=""/>
          <p:cNvSpPr/>
          <p:nvPr/>
        </p:nvSpPr>
        <p:spPr>
          <a:xfrm>
            <a:off x="1276200" y="2612880"/>
            <a:ext cx="60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009" name=""/>
          <p:cNvSpPr/>
          <p:nvPr/>
        </p:nvSpPr>
        <p:spPr>
          <a:xfrm>
            <a:off x="882720" y="2054160"/>
            <a:ext cx="34920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0" name=""/>
          <p:cNvSpPr/>
          <p:nvPr/>
        </p:nvSpPr>
        <p:spPr>
          <a:xfrm>
            <a:off x="930240" y="2054160"/>
            <a:ext cx="349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k</a:t>
            </a:r>
            <a:endParaRPr b="0" lang="en-US" sz="1700" spc="-1" strike="noStrike">
              <a:solidFill>
                <a:srgbClr val="000000"/>
              </a:solidFill>
              <a:latin typeface="Times New Roman"/>
            </a:endParaRPr>
          </a:p>
        </p:txBody>
      </p:sp>
      <p:sp>
        <p:nvSpPr>
          <p:cNvPr id="4011" name=""/>
          <p:cNvSpPr/>
          <p:nvPr/>
        </p:nvSpPr>
        <p:spPr>
          <a:xfrm>
            <a:off x="1279440" y="2054160"/>
            <a:ext cx="60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012" name=""/>
          <p:cNvSpPr/>
          <p:nvPr/>
        </p:nvSpPr>
        <p:spPr>
          <a:xfrm>
            <a:off x="1789200" y="5127480"/>
            <a:ext cx="484200" cy="4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3" name=""/>
          <p:cNvSpPr/>
          <p:nvPr/>
        </p:nvSpPr>
        <p:spPr>
          <a:xfrm>
            <a:off x="1833480" y="5135400"/>
            <a:ext cx="4824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00</a:t>
            </a:r>
            <a:endParaRPr b="0" lang="en-US" sz="1700" spc="-1" strike="noStrike">
              <a:solidFill>
                <a:srgbClr val="000000"/>
              </a:solidFill>
              <a:latin typeface="Times New Roman"/>
            </a:endParaRPr>
          </a:p>
        </p:txBody>
      </p:sp>
      <p:sp>
        <p:nvSpPr>
          <p:cNvPr id="4014" name=""/>
          <p:cNvSpPr/>
          <p:nvPr/>
        </p:nvSpPr>
        <p:spPr>
          <a:xfrm>
            <a:off x="2316240" y="5135400"/>
            <a:ext cx="60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015" name=""/>
          <p:cNvSpPr/>
          <p:nvPr/>
        </p:nvSpPr>
        <p:spPr>
          <a:xfrm>
            <a:off x="2674800" y="5127480"/>
            <a:ext cx="484200" cy="4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6" name=""/>
          <p:cNvSpPr/>
          <p:nvPr/>
        </p:nvSpPr>
        <p:spPr>
          <a:xfrm>
            <a:off x="2717640" y="5135400"/>
            <a:ext cx="4824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000</a:t>
            </a:r>
            <a:endParaRPr b="0" lang="en-US" sz="1700" spc="-1" strike="noStrike">
              <a:solidFill>
                <a:srgbClr val="000000"/>
              </a:solidFill>
              <a:latin typeface="Times New Roman"/>
            </a:endParaRPr>
          </a:p>
        </p:txBody>
      </p:sp>
      <p:sp>
        <p:nvSpPr>
          <p:cNvPr id="4017" name=""/>
          <p:cNvSpPr/>
          <p:nvPr/>
        </p:nvSpPr>
        <p:spPr>
          <a:xfrm>
            <a:off x="3201840" y="5135400"/>
            <a:ext cx="60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018" name=""/>
          <p:cNvSpPr/>
          <p:nvPr/>
        </p:nvSpPr>
        <p:spPr>
          <a:xfrm>
            <a:off x="3538440" y="5127480"/>
            <a:ext cx="484200" cy="4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9" name=""/>
          <p:cNvSpPr/>
          <p:nvPr/>
        </p:nvSpPr>
        <p:spPr>
          <a:xfrm>
            <a:off x="3583080" y="5135400"/>
            <a:ext cx="4824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000</a:t>
            </a:r>
            <a:endParaRPr b="0" lang="en-US" sz="1700" spc="-1" strike="noStrike">
              <a:solidFill>
                <a:srgbClr val="000000"/>
              </a:solidFill>
              <a:latin typeface="Times New Roman"/>
            </a:endParaRPr>
          </a:p>
        </p:txBody>
      </p:sp>
      <p:sp>
        <p:nvSpPr>
          <p:cNvPr id="4020" name=""/>
          <p:cNvSpPr/>
          <p:nvPr/>
        </p:nvSpPr>
        <p:spPr>
          <a:xfrm>
            <a:off x="4065480" y="5135400"/>
            <a:ext cx="60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021" name=""/>
          <p:cNvSpPr/>
          <p:nvPr/>
        </p:nvSpPr>
        <p:spPr>
          <a:xfrm>
            <a:off x="4402080" y="5127480"/>
            <a:ext cx="484200" cy="4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a:off x="4446720" y="5135400"/>
            <a:ext cx="4824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000</a:t>
            </a:r>
            <a:endParaRPr b="0" lang="en-US" sz="1700" spc="-1" strike="noStrike">
              <a:solidFill>
                <a:srgbClr val="000000"/>
              </a:solidFill>
              <a:latin typeface="Times New Roman"/>
            </a:endParaRPr>
          </a:p>
        </p:txBody>
      </p:sp>
      <p:sp>
        <p:nvSpPr>
          <p:cNvPr id="4023" name=""/>
          <p:cNvSpPr/>
          <p:nvPr/>
        </p:nvSpPr>
        <p:spPr>
          <a:xfrm>
            <a:off x="4929120" y="5135400"/>
            <a:ext cx="60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024" name=""/>
          <p:cNvSpPr/>
          <p:nvPr/>
        </p:nvSpPr>
        <p:spPr>
          <a:xfrm>
            <a:off x="5283360" y="5127480"/>
            <a:ext cx="484200" cy="4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5" name=""/>
          <p:cNvSpPr/>
          <p:nvPr/>
        </p:nvSpPr>
        <p:spPr>
          <a:xfrm>
            <a:off x="5327640" y="5135400"/>
            <a:ext cx="4824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000</a:t>
            </a:r>
            <a:endParaRPr b="0" lang="en-US" sz="1700" spc="-1" strike="noStrike">
              <a:solidFill>
                <a:srgbClr val="000000"/>
              </a:solidFill>
              <a:latin typeface="Times New Roman"/>
            </a:endParaRPr>
          </a:p>
        </p:txBody>
      </p:sp>
      <p:sp>
        <p:nvSpPr>
          <p:cNvPr id="4026" name=""/>
          <p:cNvSpPr/>
          <p:nvPr/>
        </p:nvSpPr>
        <p:spPr>
          <a:xfrm>
            <a:off x="5810400" y="5135400"/>
            <a:ext cx="60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027" name=""/>
          <p:cNvSpPr/>
          <p:nvPr/>
        </p:nvSpPr>
        <p:spPr>
          <a:xfrm rot="16200000">
            <a:off x="-804600" y="3300480"/>
            <a:ext cx="30700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s</a:t>
            </a:r>
            <a:endParaRPr b="0" lang="en-US" sz="3000" spc="-1" strike="noStrike">
              <a:solidFill>
                <a:srgbClr val="000000"/>
              </a:solidFill>
              <a:latin typeface="Times New Roman"/>
            </a:endParaRPr>
          </a:p>
        </p:txBody>
      </p:sp>
      <p:sp>
        <p:nvSpPr>
          <p:cNvPr id="4028" name=""/>
          <p:cNvSpPr/>
          <p:nvPr/>
        </p:nvSpPr>
        <p:spPr>
          <a:xfrm rot="16200000">
            <a:off x="1209600" y="3199320"/>
            <a:ext cx="1209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endParaRPr b="0" lang="en-US" sz="3400" spc="-1" strike="noStrike">
              <a:solidFill>
                <a:srgbClr val="000000"/>
              </a:solidFill>
              <a:latin typeface="Times New Roman"/>
            </a:endParaRPr>
          </a:p>
        </p:txBody>
      </p:sp>
      <p:sp>
        <p:nvSpPr>
          <p:cNvPr id="4029" name=""/>
          <p:cNvSpPr/>
          <p:nvPr/>
        </p:nvSpPr>
        <p:spPr>
          <a:xfrm>
            <a:off x="2246040" y="5489640"/>
            <a:ext cx="28641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ngth of Time Series</a:t>
            </a:r>
            <a:endParaRPr b="0" lang="en-US" sz="2300" spc="-1" strike="noStrike">
              <a:solidFill>
                <a:srgbClr val="000000"/>
              </a:solidFill>
              <a:latin typeface="Times New Roman"/>
            </a:endParaRPr>
          </a:p>
        </p:txBody>
      </p:sp>
      <p:sp>
        <p:nvSpPr>
          <p:cNvPr id="4030" name=""/>
          <p:cNvSpPr/>
          <p:nvPr/>
        </p:nvSpPr>
        <p:spPr>
          <a:xfrm>
            <a:off x="5064120" y="548964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1" name="PlaceHolder 1"/>
          <p:cNvSpPr>
            <a:spLocks noGrp="1"/>
          </p:cNvSpPr>
          <p:nvPr>
            <p:ph type="title"/>
          </p:nvPr>
        </p:nvSpPr>
        <p:spPr>
          <a:xfrm>
            <a:off x="607680" y="104400"/>
            <a:ext cx="7754760" cy="287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 us very quickly look at some other problems where SAX may make a contribution</a:t>
            </a:r>
            <a:endParaRPr b="0" lang="en-US" sz="4400" spc="-1" strike="noStrike">
              <a:solidFill>
                <a:srgbClr val="000000"/>
              </a:solidFill>
              <a:latin typeface="Times New Roman"/>
            </a:endParaRPr>
          </a:p>
        </p:txBody>
      </p:sp>
      <p:sp>
        <p:nvSpPr>
          <p:cNvPr id="4032" name=""/>
          <p:cNvSpPr/>
          <p:nvPr/>
        </p:nvSpPr>
        <p:spPr>
          <a:xfrm>
            <a:off x="156960" y="3081240"/>
            <a:ext cx="8471160" cy="94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derstanding the “why” of classification and cluste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34" name="" descr=""/>
          <p:cNvPicPr/>
          <p:nvPr/>
        </p:nvPicPr>
        <p:blipFill>
          <a:blip r:embed="rId1"/>
          <a:stretch/>
        </p:blipFill>
        <p:spPr>
          <a:xfrm>
            <a:off x="0" y="0"/>
            <a:ext cx="9144000" cy="6870600"/>
          </a:xfrm>
          <a:prstGeom prst="rect">
            <a:avLst/>
          </a:prstGeom>
          <a:ln w="0">
            <a:noFill/>
          </a:ln>
        </p:spPr>
      </p:pic>
      <p:sp>
        <p:nvSpPr>
          <p:cNvPr id="4035" name=""/>
          <p:cNvSpPr/>
          <p:nvPr/>
        </p:nvSpPr>
        <p:spPr>
          <a:xfrm>
            <a:off x="1760400" y="2886120"/>
            <a:ext cx="3395880" cy="1144440"/>
          </a:xfrm>
          <a:prstGeom prst="rect">
            <a:avLst/>
          </a:prstGeom>
          <a:solidFill>
            <a:srgbClr val="f8f8f8">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6" name=""/>
          <p:cNvSpPr/>
          <p:nvPr/>
        </p:nvSpPr>
        <p:spPr>
          <a:xfrm>
            <a:off x="0" y="0"/>
            <a:ext cx="9144000" cy="6858000"/>
          </a:xfrm>
          <a:prstGeom prst="rect">
            <a:avLst/>
          </a:prstGeom>
          <a:solidFill>
            <a:srgbClr val="afa7a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37" name="" descr=""/>
          <p:cNvPicPr/>
          <p:nvPr/>
        </p:nvPicPr>
        <p:blipFill>
          <a:blip r:embed="rId1"/>
          <a:stretch/>
        </p:blipFill>
        <p:spPr>
          <a:xfrm>
            <a:off x="0" y="0"/>
            <a:ext cx="5029200" cy="3782880"/>
          </a:xfrm>
          <a:prstGeom prst="rect">
            <a:avLst/>
          </a:prstGeom>
          <a:ln w="0">
            <a:noFill/>
          </a:ln>
        </p:spPr>
      </p:pic>
      <p:pic>
        <p:nvPicPr>
          <p:cNvPr id="4038" name="" descr=""/>
          <p:cNvPicPr/>
          <p:nvPr/>
        </p:nvPicPr>
        <p:blipFill>
          <a:blip r:embed="rId2"/>
          <a:stretch/>
        </p:blipFill>
        <p:spPr>
          <a:xfrm>
            <a:off x="4114800" y="0"/>
            <a:ext cx="5029200" cy="3781440"/>
          </a:xfrm>
          <a:prstGeom prst="rect">
            <a:avLst/>
          </a:prstGeom>
          <a:ln w="0">
            <a:noFill/>
          </a:ln>
        </p:spPr>
      </p:pic>
      <p:pic>
        <p:nvPicPr>
          <p:cNvPr id="4039" name="" descr=""/>
          <p:cNvPicPr/>
          <p:nvPr/>
        </p:nvPicPr>
        <p:blipFill>
          <a:blip r:embed="rId3"/>
          <a:stretch/>
        </p:blipFill>
        <p:spPr>
          <a:xfrm>
            <a:off x="0" y="3075120"/>
            <a:ext cx="5029200" cy="3782880"/>
          </a:xfrm>
          <a:prstGeom prst="rect">
            <a:avLst/>
          </a:prstGeom>
          <a:ln w="0">
            <a:noFill/>
          </a:ln>
        </p:spPr>
      </p:pic>
      <p:pic>
        <p:nvPicPr>
          <p:cNvPr id="4040" name="" descr=""/>
          <p:cNvPicPr/>
          <p:nvPr/>
        </p:nvPicPr>
        <p:blipFill>
          <a:blip r:embed="rId4"/>
          <a:stretch/>
        </p:blipFill>
        <p:spPr>
          <a:xfrm>
            <a:off x="4114800" y="3076560"/>
            <a:ext cx="5029200" cy="3781440"/>
          </a:xfrm>
          <a:prstGeom prst="rect">
            <a:avLst/>
          </a:prstGeom>
          <a:ln w="0">
            <a:noFill/>
          </a:ln>
        </p:spPr>
      </p:pic>
      <p:sp>
        <p:nvSpPr>
          <p:cNvPr id="4041" name=""/>
          <p:cNvSpPr/>
          <p:nvPr/>
        </p:nvSpPr>
        <p:spPr>
          <a:xfrm>
            <a:off x="-9000" y="6400800"/>
            <a:ext cx="710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Understanding the “why” in classification and clust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2" name="Lisa_Sax_5" descr=""/>
          <p:cNvPicPr/>
          <p:nvPr/>
        </p:nvPicPr>
        <p:blipFill>
          <a:blip r:embed="rId1"/>
          <a:stretch/>
        </p:blipFill>
        <p:spPr>
          <a:xfrm>
            <a:off x="4983120" y="1839960"/>
            <a:ext cx="4268880" cy="4821120"/>
          </a:xfrm>
          <a:prstGeom prst="rect">
            <a:avLst/>
          </a:prstGeom>
          <a:ln w="0">
            <a:noFill/>
          </a:ln>
        </p:spPr>
      </p:pic>
      <p:sp>
        <p:nvSpPr>
          <p:cNvPr id="4043" name=""/>
          <p:cNvSpPr/>
          <p:nvPr/>
        </p:nvSpPr>
        <p:spPr>
          <a:xfrm>
            <a:off x="154080" y="1003320"/>
            <a:ext cx="5734080" cy="4960440"/>
          </a:xfrm>
          <a:prstGeom prst="rect">
            <a:avLst/>
          </a:prstGeom>
          <a:noFill/>
          <a:ln w="0">
            <a:noFill/>
          </a:ln>
        </p:spPr>
        <p:style>
          <a:lnRef idx="0"/>
          <a:fillRef idx="0"/>
          <a:effectRef idx="0"/>
          <a:fontRef idx="minor"/>
        </p:style>
        <p:txBody>
          <a:bodyPr lIns="90000" rIns="90000" tIns="46800" bIns="46800" anchor="t">
            <a:spAutoFit/>
          </a:bodyPr>
          <a:p>
            <a:pPr>
              <a:spcAft>
                <a:spcPts val="15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 most classic data mining tasks (classification, clustering and indexing), SAX is at least as good as the raw data, DFT, DWT, SVD etc.</a:t>
            </a:r>
            <a:endParaRPr b="0" lang="en-US" sz="2800" spc="-1" strike="noStrike">
              <a:solidFill>
                <a:srgbClr val="000000"/>
              </a:solidFill>
              <a:latin typeface="Times New Roman"/>
            </a:endParaRPr>
          </a:p>
          <a:p>
            <a:pPr>
              <a:spcAft>
                <a:spcPts val="15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AX allows the best anomaly detection algorithm. </a:t>
            </a:r>
            <a:endParaRPr b="0" lang="en-US" sz="2800" spc="-1" strike="noStrike">
              <a:solidFill>
                <a:srgbClr val="000000"/>
              </a:solidFill>
              <a:latin typeface="Times New Roman"/>
            </a:endParaRPr>
          </a:p>
          <a:p>
            <a:pPr>
              <a:spcAft>
                <a:spcPts val="15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AX is the </a:t>
            </a:r>
            <a:r>
              <a:rPr b="0" i="1" lang="en-US" sz="2800" spc="-1" strike="noStrike">
                <a:solidFill>
                  <a:srgbClr val="000000"/>
                </a:solidFill>
                <a:latin typeface="Times New Roman"/>
                <a:ea typeface="Times New Roman"/>
              </a:rPr>
              <a:t>engine</a:t>
            </a:r>
            <a:r>
              <a:rPr b="0" lang="en-US" sz="2800" spc="-1" strike="noStrike">
                <a:solidFill>
                  <a:srgbClr val="000000"/>
                </a:solidFill>
                <a:latin typeface="Times New Roman"/>
                <a:ea typeface="Times New Roman"/>
              </a:rPr>
              <a:t> behind the only realistic time series motif discovery algorithm.</a:t>
            </a:r>
            <a:endParaRPr b="0" lang="en-US" sz="2800" spc="-1" strike="noStrike">
              <a:solidFill>
                <a:srgbClr val="000000"/>
              </a:solidFill>
              <a:latin typeface="Times New Roman"/>
            </a:endParaRPr>
          </a:p>
          <a:p>
            <a:pPr>
              <a:spcAft>
                <a:spcPts val="15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4" name="PlaceHolder 1"/>
          <p:cNvSpPr>
            <a:spLocks noGrp="1"/>
          </p:cNvSpPr>
          <p:nvPr>
            <p:ph type="title"/>
          </p:nvPr>
        </p:nvSpPr>
        <p:spPr>
          <a:xfrm>
            <a:off x="668160" y="147240"/>
            <a:ext cx="7772400" cy="101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X Summary</a:t>
            </a:r>
            <a:endParaRPr b="0" lang="en-US" sz="4400" spc="-1" strike="noStrike">
              <a:solidFill>
                <a:srgbClr val="000000"/>
              </a:solidFill>
              <a:latin typeface="Times New Roman"/>
            </a:endParaRPr>
          </a:p>
        </p:txBody>
      </p:sp>
      <p:sp>
        <p:nvSpPr>
          <p:cNvPr id="4045" name=""/>
          <p:cNvSpPr/>
          <p:nvPr/>
        </p:nvSpPr>
        <p:spPr>
          <a:xfrm>
            <a:off x="8421840" y="6378480"/>
            <a:ext cx="722160" cy="33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22400" y="42840"/>
            <a:ext cx="8071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mage data, may best be thought of as time series…</a:t>
            </a:r>
            <a:endParaRPr b="0" lang="en-US" sz="3000" spc="-1" strike="noStrike">
              <a:solidFill>
                <a:srgbClr val="000000"/>
              </a:solidFill>
              <a:latin typeface="Times New Roman"/>
            </a:endParaRPr>
          </a:p>
        </p:txBody>
      </p:sp>
      <p:sp>
        <p:nvSpPr>
          <p:cNvPr id="131" name=""/>
          <p:cNvSpPr/>
          <p:nvPr/>
        </p:nvSpPr>
        <p:spPr>
          <a:xfrm>
            <a:off x="824040" y="-3189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569880" y="266760"/>
            <a:ext cx="3481560" cy="3146400"/>
          </a:xfrm>
          <a:prstGeom prst="rect">
            <a:avLst/>
          </a:prstGeom>
          <a:ln w="0">
            <a:noFill/>
          </a:ln>
        </p:spPr>
      </p:pic>
      <p:pic>
        <p:nvPicPr>
          <p:cNvPr id="133" name="" descr=""/>
          <p:cNvPicPr/>
          <p:nvPr/>
        </p:nvPicPr>
        <p:blipFill>
          <a:blip r:embed="rId2"/>
          <a:stretch/>
        </p:blipFill>
        <p:spPr>
          <a:xfrm>
            <a:off x="-1193760" y="3833640"/>
            <a:ext cx="11433240" cy="3461040"/>
          </a:xfrm>
          <a:prstGeom prst="rect">
            <a:avLst/>
          </a:prstGeom>
          <a:ln w="0">
            <a:noFill/>
          </a:ln>
        </p:spPr>
      </p:pic>
      <p:sp>
        <p:nvSpPr>
          <p:cNvPr id="134" name=""/>
          <p:cNvSpPr/>
          <p:nvPr/>
        </p:nvSpPr>
        <p:spPr>
          <a:xfrm flipH="1" flipV="1">
            <a:off x="1638000" y="1839960"/>
            <a:ext cx="4824360" cy="2432160"/>
          </a:xfrm>
          <a:prstGeom prst="line">
            <a:avLst/>
          </a:prstGeom>
          <a:ln w="3240">
            <a:solidFill>
              <a:srgbClr val="c4c4c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847880" y="2575080"/>
            <a:ext cx="5769000" cy="1952640"/>
          </a:xfrm>
          <a:prstGeom prst="line">
            <a:avLst/>
          </a:prstGeom>
          <a:ln w="3240">
            <a:solidFill>
              <a:srgbClr val="c4c4c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1682640" y="2176200"/>
            <a:ext cx="5516640" cy="3468600"/>
          </a:xfrm>
          <a:prstGeom prst="line">
            <a:avLst/>
          </a:prstGeom>
          <a:ln w="9360">
            <a:solidFill>
              <a:srgbClr val="c4c4c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7" name="" descr=""/>
          <p:cNvPicPr/>
          <p:nvPr/>
        </p:nvPicPr>
        <p:blipFill>
          <a:blip r:embed="rId3"/>
          <a:stretch/>
        </p:blipFill>
        <p:spPr>
          <a:xfrm>
            <a:off x="5310360" y="706320"/>
            <a:ext cx="2201760" cy="2287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6" name=""/>
          <p:cNvGraphicFramePr/>
          <p:nvPr/>
        </p:nvGraphicFramePr>
        <p:xfrm>
          <a:off x="0" y="0"/>
          <a:ext cx="9144000" cy="6880320"/>
        </p:xfrm>
        <a:graphic>
          <a:graphicData uri="http://schemas.openxmlformats.org/presentationml/2006/ole">
            <p:oleObj r:id="rId1" spid="">
              <p:embed/>
              <p:pic>
                <p:nvPicPr>
                  <p:cNvPr id="4047" name="" descr=""/>
                  <p:cNvPicPr/>
                  <p:nvPr/>
                </p:nvPicPr>
                <p:blipFill>
                  <a:blip r:embed="rId2"/>
                  <a:stretch/>
                </p:blipFill>
                <p:spPr>
                  <a:xfrm>
                    <a:off x="0" y="0"/>
                    <a:ext cx="9144000" cy="6880320"/>
                  </a:xfrm>
                  <a:prstGeom prst="rect">
                    <a:avLst/>
                  </a:prstGeom>
                  <a:ln w="0">
                    <a:noFill/>
                  </a:ln>
                </p:spPr>
              </p:pic>
            </p:oleObj>
          </a:graphicData>
        </a:graphic>
      </p:graphicFrame>
      <p:sp>
        <p:nvSpPr>
          <p:cNvPr id="4048" name=""/>
          <p:cNvSpPr/>
          <p:nvPr/>
        </p:nvSpPr>
        <p:spPr>
          <a:xfrm>
            <a:off x="4110120" y="4037040"/>
            <a:ext cx="50338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ea typeface="Times New Roman"/>
              </a:rPr>
              <a:t>The Last Word</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Comic Sans MS"/>
                <a:ea typeface="Times New Roman"/>
              </a:rPr>
              <a:t>The sun is setting on all other symbolic representations of time series, SAX is the </a:t>
            </a:r>
            <a:r>
              <a:rPr b="0" i="1" lang="en-US" sz="2700" spc="-1" strike="noStrike">
                <a:solidFill>
                  <a:srgbClr val="ffff00"/>
                </a:solidFill>
                <a:latin typeface="Comic Sans MS"/>
                <a:ea typeface="Times New Roman"/>
              </a:rPr>
              <a:t>only</a:t>
            </a:r>
            <a:r>
              <a:rPr b="0" lang="en-US" sz="2700" spc="-1" strike="noStrike">
                <a:solidFill>
                  <a:srgbClr val="ffff00"/>
                </a:solidFill>
                <a:latin typeface="Comic Sans MS"/>
                <a:ea typeface="Times New Roman"/>
              </a:rPr>
              <a:t> way to go</a:t>
            </a:r>
            <a:r>
              <a:rPr b="0" lang="en-US" sz="2700" spc="-1" strike="noStrike">
                <a:solidFill>
                  <a:srgbClr val="ffff00"/>
                </a:solidFill>
                <a:latin typeface="Comic Sans MS"/>
                <a:ea typeface="Times New Roman"/>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9" name="PlaceHolder 1"/>
          <p:cNvSpPr>
            <a:spLocks noGrp="1"/>
          </p:cNvSpPr>
          <p:nvPr>
            <p:ph type="title"/>
          </p:nvPr>
        </p:nvSpPr>
        <p:spPr>
          <a:xfrm>
            <a:off x="6429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onclusions</a:t>
            </a:r>
            <a:endParaRPr b="0" lang="en-US" sz="5400" spc="-1" strike="noStrike">
              <a:solidFill>
                <a:srgbClr val="000000"/>
              </a:solidFill>
              <a:latin typeface="Times New Roman"/>
            </a:endParaRPr>
          </a:p>
        </p:txBody>
      </p:sp>
      <p:sp>
        <p:nvSpPr>
          <p:cNvPr id="4050" name=""/>
          <p:cNvSpPr/>
          <p:nvPr/>
        </p:nvSpPr>
        <p:spPr>
          <a:xfrm>
            <a:off x="284040" y="1120680"/>
            <a:ext cx="8444160" cy="3474000"/>
          </a:xfrm>
          <a:prstGeom prst="rect">
            <a:avLst/>
          </a:prstGeom>
          <a:noFill/>
          <a:ln w="0">
            <a:noFill/>
          </a:ln>
        </p:spPr>
        <p:style>
          <a:lnRef idx="0"/>
          <a:fillRef idx="0"/>
          <a:effectRef idx="0"/>
          <a:fontRef idx="minor"/>
        </p:style>
        <p:txBody>
          <a:bodyPr lIns="90000" rIns="90000" tIns="46800" bIns="46800" anchor="t">
            <a:spAutoFit/>
          </a:bodyPr>
          <a:p>
            <a:pPr>
              <a:spcBef>
                <a:spcPts val="191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400" spc="-1" strike="noStrike">
                <a:solidFill>
                  <a:srgbClr val="000000"/>
                </a:solidFill>
                <a:latin typeface="Times New Roman"/>
              </a:rPr>
              <a:t>SAX is posed to make major contributions to time series data mining in the next few years.</a:t>
            </a:r>
            <a:endParaRPr b="0" lang="en-US" sz="3400" spc="-1" strike="noStrike">
              <a:solidFill>
                <a:srgbClr val="000000"/>
              </a:solidFill>
              <a:latin typeface="Times New Roman"/>
            </a:endParaRPr>
          </a:p>
          <a:p>
            <a:pPr>
              <a:spcBef>
                <a:spcPts val="191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 more general conclusion, if you want to solve you data mining problem, think representation, representation, representation.</a:t>
            </a:r>
            <a:endParaRPr b="0" lang="en-US" sz="3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1" name=""/>
          <p:cNvSpPr/>
          <p:nvPr/>
        </p:nvSpPr>
        <p:spPr>
          <a:xfrm>
            <a:off x="368280" y="1195560"/>
            <a:ext cx="7858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lides that follow demonstrate that SAX is as good as DFT, DWT etc for the classic data mining tasks, this is important, but not very exciting, thus relegated to this appendix.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al Validation</a:t>
            </a:r>
            <a:endParaRPr b="0" lang="en-US" sz="4400" spc="-1" strike="noStrike">
              <a:solidFill>
                <a:srgbClr val="000000"/>
              </a:solidFill>
              <a:latin typeface="Times New Roman"/>
            </a:endParaRPr>
          </a:p>
        </p:txBody>
      </p:sp>
      <p:sp>
        <p:nvSpPr>
          <p:cNvPr id="40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ing</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erarchical</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tional</a:t>
            </a:r>
            <a:endParaRPr b="0" lang="en-US" sz="24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arest Neighbor</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Tree</a:t>
            </a:r>
            <a:endParaRPr b="0" lang="en-US" sz="24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ing</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 File</a:t>
            </a:r>
            <a:endParaRPr b="0" lang="en-US" sz="24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rete Data only</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maly Detection</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f Discovery</a:t>
            </a:r>
            <a:endParaRPr b="0" lang="en-US" sz="2400" spc="-1" strike="noStrike">
              <a:solidFill>
                <a:srgbClr val="000000"/>
              </a:solidFill>
              <a:latin typeface="Times New Roman"/>
            </a:endParaRPr>
          </a:p>
          <a:p>
            <a:pPr lvl="1" marL="639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ustering</a:t>
            </a:r>
            <a:endParaRPr b="0" lang="en-US" sz="4400" spc="-1" strike="noStrike">
              <a:solidFill>
                <a:srgbClr val="000000"/>
              </a:solidFill>
              <a:latin typeface="Times New Roman"/>
            </a:endParaRPr>
          </a:p>
        </p:txBody>
      </p:sp>
      <p:sp>
        <p:nvSpPr>
          <p:cNvPr id="40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Cluster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pairwise distance, merge similar clusters bottom-u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d with Euclidean, IMPACTS, and S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a:t>
            </a:r>
            <a:endParaRPr b="0" lang="en-US" sz="4400" spc="-1" strike="noStrike">
              <a:solidFill>
                <a:srgbClr val="000000"/>
              </a:solidFill>
              <a:latin typeface="Times New Roman"/>
            </a:endParaRPr>
          </a:p>
        </p:txBody>
      </p:sp>
      <p:pic>
        <p:nvPicPr>
          <p:cNvPr id="4057" name="" descr=""/>
          <p:cNvPicPr/>
          <p:nvPr/>
        </p:nvPicPr>
        <p:blipFill>
          <a:blip r:embed="rId1"/>
          <a:stretch/>
        </p:blipFill>
        <p:spPr>
          <a:xfrm>
            <a:off x="1981080" y="1447920"/>
            <a:ext cx="5334120" cy="4856040"/>
          </a:xfrm>
          <a:prstGeom prst="rect">
            <a:avLst/>
          </a:prstGeom>
          <a:ln w="0">
            <a:noFill/>
          </a:ln>
        </p:spPr>
      </p:pic>
      <p:sp>
        <p:nvSpPr>
          <p:cNvPr id="4058" name=""/>
          <p:cNvSpPr/>
          <p:nvPr/>
        </p:nvSpPr>
        <p:spPr>
          <a:xfrm>
            <a:off x="3124080" y="63244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Cluster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ustering</a:t>
            </a:r>
            <a:endParaRPr b="0" lang="en-US" sz="4400" spc="-1" strike="noStrike">
              <a:solidFill>
                <a:srgbClr val="000000"/>
              </a:solidFill>
              <a:latin typeface="Times New Roman"/>
            </a:endParaRPr>
          </a:p>
        </p:txBody>
      </p:sp>
      <p:sp>
        <p:nvSpPr>
          <p:cNvPr id="40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archical Cluster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pairwise distance, merge similar clusters bottom-u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d with Euclidean, IMPACTS, and SDA</a:t>
            </a:r>
            <a:endParaRPr b="0" lang="en-US" sz="24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artitional Cluster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ea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e the objective function by minimizing the sum of squared intra-cluster err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d with Raw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tional (K-means) Clustering</a:t>
            </a:r>
            <a:endParaRPr b="0" lang="en-US" sz="4400" spc="-1" strike="noStrike">
              <a:solidFill>
                <a:srgbClr val="000000"/>
              </a:solidFill>
              <a:latin typeface="Times New Roman"/>
            </a:endParaRPr>
          </a:p>
        </p:txBody>
      </p:sp>
      <p:sp>
        <p:nvSpPr>
          <p:cNvPr id="4062" name=""/>
          <p:cNvSpPr/>
          <p:nvPr/>
        </p:nvSpPr>
        <p:spPr>
          <a:xfrm>
            <a:off x="2895480" y="6324480"/>
            <a:ext cx="381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tional (k-means) Clustering</a:t>
            </a:r>
            <a:endParaRPr b="0" lang="en-US" sz="1800" spc="-1" strike="noStrike">
              <a:solidFill>
                <a:srgbClr val="000000"/>
              </a:solidFill>
              <a:latin typeface="Times New Roman"/>
            </a:endParaRPr>
          </a:p>
        </p:txBody>
      </p:sp>
      <p:pic>
        <p:nvPicPr>
          <p:cNvPr id="4063" name="" descr=""/>
          <p:cNvPicPr/>
          <p:nvPr/>
        </p:nvPicPr>
        <p:blipFill>
          <a:blip r:embed="rId1"/>
          <a:stretch/>
        </p:blipFill>
        <p:spPr>
          <a:xfrm>
            <a:off x="1828800" y="2189160"/>
            <a:ext cx="5334120" cy="38750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4" name="PlaceHolder 1"/>
          <p:cNvSpPr>
            <a:spLocks noGrp="1"/>
          </p:cNvSpPr>
          <p:nvPr>
            <p:ph type="title"/>
          </p:nvPr>
        </p:nvSpPr>
        <p:spPr>
          <a:xfrm>
            <a:off x="685440" y="277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ication</a:t>
            </a:r>
            <a:endParaRPr b="0" lang="en-US" sz="4400" spc="-1" strike="noStrike">
              <a:solidFill>
                <a:srgbClr val="000000"/>
              </a:solidFill>
              <a:latin typeface="Times New Roman"/>
            </a:endParaRPr>
          </a:p>
        </p:txBody>
      </p:sp>
      <p:sp>
        <p:nvSpPr>
          <p:cNvPr id="40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arest Neighb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ving-one-out cross valid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d with Euclidean Distance, IMPACTS, SDA, and LP</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sets: Control Charts &amp; CBF (Cylinder, Bell, Funn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6" name="PlaceHolder 1"/>
          <p:cNvSpPr>
            <a:spLocks noGrp="1"/>
          </p:cNvSpPr>
          <p:nvPr>
            <p:ph type="title"/>
          </p:nvPr>
        </p:nvSpPr>
        <p:spPr>
          <a:xfrm>
            <a:off x="533520" y="277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arest Neighbor</a:t>
            </a:r>
            <a:endParaRPr b="0" lang="en-US" sz="4400" spc="-1" strike="noStrike">
              <a:solidFill>
                <a:srgbClr val="000000"/>
              </a:solidFill>
              <a:latin typeface="Times New Roman"/>
            </a:endParaRPr>
          </a:p>
        </p:txBody>
      </p:sp>
      <p:pic>
        <p:nvPicPr>
          <p:cNvPr id="4067" name="" descr=""/>
          <p:cNvPicPr/>
          <p:nvPr/>
        </p:nvPicPr>
        <p:blipFill>
          <a:blip r:embed="rId1"/>
          <a:stretch/>
        </p:blipFill>
        <p:spPr>
          <a:xfrm>
            <a:off x="1000080" y="2535120"/>
            <a:ext cx="6391440" cy="3256200"/>
          </a:xfrm>
          <a:prstGeom prst="rect">
            <a:avLst/>
          </a:prstGeom>
          <a:ln w="0">
            <a:noFill/>
          </a:ln>
        </p:spPr>
      </p:pic>
      <p:sp>
        <p:nvSpPr>
          <p:cNvPr id="4068" name=""/>
          <p:cNvSpPr/>
          <p:nvPr/>
        </p:nvSpPr>
        <p:spPr>
          <a:xfrm>
            <a:off x="3429000" y="58816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est Neighb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6451560" y="831600"/>
            <a:ext cx="3240" cy="277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451560" y="3611520"/>
            <a:ext cx="2203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6451560" y="831600"/>
            <a:ext cx="3240" cy="277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6451560" y="3568320"/>
            <a:ext cx="32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2" name=""/>
          <p:cNvSpPr/>
          <p:nvPr/>
        </p:nvSpPr>
        <p:spPr>
          <a:xfrm>
            <a:off x="6451560" y="839880"/>
            <a:ext cx="32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 name=""/>
          <p:cNvSpPr/>
          <p:nvPr/>
        </p:nvSpPr>
        <p:spPr>
          <a:xfrm>
            <a:off x="6437160" y="3632040"/>
            <a:ext cx="10476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Times New Roman"/>
            </a:endParaRPr>
          </a:p>
        </p:txBody>
      </p:sp>
      <p:sp>
        <p:nvSpPr>
          <p:cNvPr id="144" name=""/>
          <p:cNvSpPr/>
          <p:nvPr/>
        </p:nvSpPr>
        <p:spPr>
          <a:xfrm flipV="1">
            <a:off x="6696000" y="356832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 name=""/>
          <p:cNvSpPr/>
          <p:nvPr/>
        </p:nvSpPr>
        <p:spPr>
          <a:xfrm>
            <a:off x="6659640" y="3632040"/>
            <a:ext cx="2095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000000"/>
              </a:solidFill>
              <a:latin typeface="Times New Roman"/>
            </a:endParaRPr>
          </a:p>
        </p:txBody>
      </p:sp>
      <p:sp>
        <p:nvSpPr>
          <p:cNvPr id="146" name=""/>
          <p:cNvSpPr/>
          <p:nvPr/>
        </p:nvSpPr>
        <p:spPr>
          <a:xfrm flipV="1">
            <a:off x="6940440" y="356832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a:off x="6904080" y="3632040"/>
            <a:ext cx="2095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000000"/>
              </a:solidFill>
              <a:latin typeface="Times New Roman"/>
            </a:endParaRPr>
          </a:p>
        </p:txBody>
      </p:sp>
      <p:sp>
        <p:nvSpPr>
          <p:cNvPr id="148" name=""/>
          <p:cNvSpPr/>
          <p:nvPr/>
        </p:nvSpPr>
        <p:spPr>
          <a:xfrm flipV="1">
            <a:off x="7182000" y="3568320"/>
            <a:ext cx="28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 name=""/>
          <p:cNvSpPr/>
          <p:nvPr/>
        </p:nvSpPr>
        <p:spPr>
          <a:xfrm>
            <a:off x="7148520" y="3632040"/>
            <a:ext cx="2095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000000"/>
              </a:solidFill>
              <a:latin typeface="Times New Roman"/>
            </a:endParaRPr>
          </a:p>
        </p:txBody>
      </p:sp>
      <p:sp>
        <p:nvSpPr>
          <p:cNvPr id="150" name=""/>
          <p:cNvSpPr/>
          <p:nvPr/>
        </p:nvSpPr>
        <p:spPr>
          <a:xfrm flipV="1">
            <a:off x="7426440" y="356832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7392960" y="3632040"/>
            <a:ext cx="2095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000000"/>
              </a:solidFill>
              <a:latin typeface="Times New Roman"/>
            </a:endParaRPr>
          </a:p>
        </p:txBody>
      </p:sp>
      <p:sp>
        <p:nvSpPr>
          <p:cNvPr id="152" name=""/>
          <p:cNvSpPr/>
          <p:nvPr/>
        </p:nvSpPr>
        <p:spPr>
          <a:xfrm flipV="1">
            <a:off x="7674120" y="3568320"/>
            <a:ext cx="28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3" name=""/>
          <p:cNvSpPr/>
          <p:nvPr/>
        </p:nvSpPr>
        <p:spPr>
          <a:xfrm>
            <a:off x="7639200" y="3632040"/>
            <a:ext cx="21096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000000"/>
              </a:solidFill>
              <a:latin typeface="Times New Roman"/>
            </a:endParaRPr>
          </a:p>
        </p:txBody>
      </p:sp>
      <p:sp>
        <p:nvSpPr>
          <p:cNvPr id="154" name=""/>
          <p:cNvSpPr/>
          <p:nvPr/>
        </p:nvSpPr>
        <p:spPr>
          <a:xfrm flipV="1">
            <a:off x="7918560" y="356832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 name=""/>
          <p:cNvSpPr/>
          <p:nvPr/>
        </p:nvSpPr>
        <p:spPr>
          <a:xfrm>
            <a:off x="7881840" y="3632040"/>
            <a:ext cx="2095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0</a:t>
            </a:r>
            <a:endParaRPr b="0" lang="en-US" sz="500" spc="-1" strike="noStrike">
              <a:solidFill>
                <a:srgbClr val="000000"/>
              </a:solidFill>
              <a:latin typeface="Times New Roman"/>
            </a:endParaRPr>
          </a:p>
        </p:txBody>
      </p:sp>
      <p:sp>
        <p:nvSpPr>
          <p:cNvPr id="156" name=""/>
          <p:cNvSpPr/>
          <p:nvPr/>
        </p:nvSpPr>
        <p:spPr>
          <a:xfrm flipV="1">
            <a:off x="8163000" y="356832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7" name=""/>
          <p:cNvSpPr/>
          <p:nvPr/>
        </p:nvSpPr>
        <p:spPr>
          <a:xfrm>
            <a:off x="8128080" y="3632040"/>
            <a:ext cx="21096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0</a:t>
            </a:r>
            <a:endParaRPr b="0" lang="en-US" sz="500" spc="-1" strike="noStrike">
              <a:solidFill>
                <a:srgbClr val="000000"/>
              </a:solidFill>
              <a:latin typeface="Times New Roman"/>
            </a:endParaRPr>
          </a:p>
        </p:txBody>
      </p:sp>
      <p:sp>
        <p:nvSpPr>
          <p:cNvPr id="158" name=""/>
          <p:cNvSpPr/>
          <p:nvPr/>
        </p:nvSpPr>
        <p:spPr>
          <a:xfrm flipV="1">
            <a:off x="8404200" y="3568320"/>
            <a:ext cx="32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 name=""/>
          <p:cNvSpPr/>
          <p:nvPr/>
        </p:nvSpPr>
        <p:spPr>
          <a:xfrm>
            <a:off x="8370720" y="3632040"/>
            <a:ext cx="2098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0</a:t>
            </a:r>
            <a:endParaRPr b="0" lang="en-US" sz="500" spc="-1" strike="noStrike">
              <a:solidFill>
                <a:srgbClr val="000000"/>
              </a:solidFill>
              <a:latin typeface="Times New Roman"/>
            </a:endParaRPr>
          </a:p>
        </p:txBody>
      </p:sp>
      <p:sp>
        <p:nvSpPr>
          <p:cNvPr id="160" name=""/>
          <p:cNvSpPr/>
          <p:nvPr/>
        </p:nvSpPr>
        <p:spPr>
          <a:xfrm flipV="1">
            <a:off x="8655120" y="356832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 name=""/>
          <p:cNvSpPr/>
          <p:nvPr/>
        </p:nvSpPr>
        <p:spPr>
          <a:xfrm>
            <a:off x="8616960" y="3632040"/>
            <a:ext cx="21096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0</a:t>
            </a:r>
            <a:endParaRPr b="0" lang="en-US" sz="500" spc="-1" strike="noStrike">
              <a:solidFill>
                <a:srgbClr val="000000"/>
              </a:solidFill>
              <a:latin typeface="Times New Roman"/>
            </a:endParaRPr>
          </a:p>
        </p:txBody>
      </p:sp>
      <p:sp>
        <p:nvSpPr>
          <p:cNvPr id="162" name=""/>
          <p:cNvSpPr/>
          <p:nvPr/>
        </p:nvSpPr>
        <p:spPr>
          <a:xfrm>
            <a:off x="6451560" y="361152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8629200" y="3611520"/>
            <a:ext cx="25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451560" y="314964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451560" y="268776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451560" y="222552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451560" y="176364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451560" y="130176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451560" y="83988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6451560" y="831600"/>
            <a:ext cx="3240" cy="277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473880" y="1219320"/>
            <a:ext cx="2077920" cy="2244600"/>
          </a:xfrm>
          <a:custGeom>
            <a:avLst/>
            <a:gdLst/>
            <a:ahLst/>
            <a:rect l="l" t="t" r="r" b="b"/>
            <a:pathLst>
              <a:path w="2324" h="1653">
                <a:moveTo>
                  <a:pt x="0" y="1648"/>
                </a:moveTo>
                <a:lnTo>
                  <a:pt x="28" y="1648"/>
                </a:lnTo>
                <a:lnTo>
                  <a:pt x="56" y="1648"/>
                </a:lnTo>
                <a:lnTo>
                  <a:pt x="85" y="1653"/>
                </a:lnTo>
                <a:lnTo>
                  <a:pt x="113" y="1653"/>
                </a:lnTo>
                <a:lnTo>
                  <a:pt x="136" y="1653"/>
                </a:lnTo>
                <a:lnTo>
                  <a:pt x="164" y="1648"/>
                </a:lnTo>
                <a:lnTo>
                  <a:pt x="192" y="1637"/>
                </a:lnTo>
                <a:lnTo>
                  <a:pt x="221" y="1626"/>
                </a:lnTo>
                <a:lnTo>
                  <a:pt x="249" y="1616"/>
                </a:lnTo>
                <a:lnTo>
                  <a:pt x="277" y="1594"/>
                </a:lnTo>
                <a:lnTo>
                  <a:pt x="300" y="1573"/>
                </a:lnTo>
                <a:lnTo>
                  <a:pt x="328" y="1552"/>
                </a:lnTo>
                <a:lnTo>
                  <a:pt x="357" y="1531"/>
                </a:lnTo>
                <a:lnTo>
                  <a:pt x="385" y="1504"/>
                </a:lnTo>
                <a:lnTo>
                  <a:pt x="413" y="1462"/>
                </a:lnTo>
                <a:lnTo>
                  <a:pt x="436" y="1398"/>
                </a:lnTo>
                <a:lnTo>
                  <a:pt x="464" y="1313"/>
                </a:lnTo>
                <a:lnTo>
                  <a:pt x="493" y="1196"/>
                </a:lnTo>
                <a:lnTo>
                  <a:pt x="521" y="1052"/>
                </a:lnTo>
                <a:lnTo>
                  <a:pt x="550" y="872"/>
                </a:lnTo>
                <a:lnTo>
                  <a:pt x="578" y="675"/>
                </a:lnTo>
                <a:lnTo>
                  <a:pt x="601" y="478"/>
                </a:lnTo>
                <a:lnTo>
                  <a:pt x="629" y="298"/>
                </a:lnTo>
                <a:lnTo>
                  <a:pt x="657" y="176"/>
                </a:lnTo>
                <a:lnTo>
                  <a:pt x="686" y="85"/>
                </a:lnTo>
                <a:lnTo>
                  <a:pt x="714" y="53"/>
                </a:lnTo>
                <a:lnTo>
                  <a:pt x="742" y="27"/>
                </a:lnTo>
                <a:lnTo>
                  <a:pt x="765" y="5"/>
                </a:lnTo>
                <a:lnTo>
                  <a:pt x="793" y="0"/>
                </a:lnTo>
                <a:lnTo>
                  <a:pt x="822" y="5"/>
                </a:lnTo>
                <a:lnTo>
                  <a:pt x="850" y="5"/>
                </a:lnTo>
                <a:lnTo>
                  <a:pt x="878" y="11"/>
                </a:lnTo>
                <a:lnTo>
                  <a:pt x="901" y="21"/>
                </a:lnTo>
                <a:lnTo>
                  <a:pt x="929" y="16"/>
                </a:lnTo>
                <a:lnTo>
                  <a:pt x="958" y="21"/>
                </a:lnTo>
                <a:lnTo>
                  <a:pt x="986" y="21"/>
                </a:lnTo>
                <a:lnTo>
                  <a:pt x="1014" y="21"/>
                </a:lnTo>
                <a:lnTo>
                  <a:pt x="1043" y="27"/>
                </a:lnTo>
                <a:lnTo>
                  <a:pt x="1065" y="21"/>
                </a:lnTo>
                <a:lnTo>
                  <a:pt x="1094" y="21"/>
                </a:lnTo>
                <a:lnTo>
                  <a:pt x="1122" y="16"/>
                </a:lnTo>
                <a:lnTo>
                  <a:pt x="1151" y="21"/>
                </a:lnTo>
                <a:lnTo>
                  <a:pt x="1179" y="32"/>
                </a:lnTo>
                <a:lnTo>
                  <a:pt x="1207" y="32"/>
                </a:lnTo>
                <a:lnTo>
                  <a:pt x="1230" y="32"/>
                </a:lnTo>
                <a:lnTo>
                  <a:pt x="1258" y="32"/>
                </a:lnTo>
                <a:lnTo>
                  <a:pt x="1287" y="37"/>
                </a:lnTo>
                <a:lnTo>
                  <a:pt x="1315" y="37"/>
                </a:lnTo>
                <a:lnTo>
                  <a:pt x="1343" y="37"/>
                </a:lnTo>
                <a:lnTo>
                  <a:pt x="1366" y="37"/>
                </a:lnTo>
                <a:lnTo>
                  <a:pt x="1394" y="37"/>
                </a:lnTo>
                <a:lnTo>
                  <a:pt x="1423" y="37"/>
                </a:lnTo>
                <a:lnTo>
                  <a:pt x="1451" y="37"/>
                </a:lnTo>
                <a:lnTo>
                  <a:pt x="1479" y="43"/>
                </a:lnTo>
                <a:lnTo>
                  <a:pt x="1508" y="43"/>
                </a:lnTo>
                <a:lnTo>
                  <a:pt x="1530" y="37"/>
                </a:lnTo>
                <a:lnTo>
                  <a:pt x="1559" y="37"/>
                </a:lnTo>
                <a:lnTo>
                  <a:pt x="1587" y="37"/>
                </a:lnTo>
                <a:lnTo>
                  <a:pt x="1615" y="37"/>
                </a:lnTo>
                <a:lnTo>
                  <a:pt x="1644" y="37"/>
                </a:lnTo>
                <a:lnTo>
                  <a:pt x="1666" y="37"/>
                </a:lnTo>
                <a:lnTo>
                  <a:pt x="1695" y="37"/>
                </a:lnTo>
                <a:lnTo>
                  <a:pt x="1723" y="37"/>
                </a:lnTo>
                <a:lnTo>
                  <a:pt x="1751" y="37"/>
                </a:lnTo>
                <a:lnTo>
                  <a:pt x="1780" y="32"/>
                </a:lnTo>
                <a:lnTo>
                  <a:pt x="1808" y="32"/>
                </a:lnTo>
                <a:lnTo>
                  <a:pt x="1831" y="32"/>
                </a:lnTo>
                <a:lnTo>
                  <a:pt x="1859" y="32"/>
                </a:lnTo>
                <a:lnTo>
                  <a:pt x="1888" y="37"/>
                </a:lnTo>
                <a:lnTo>
                  <a:pt x="1916" y="37"/>
                </a:lnTo>
                <a:lnTo>
                  <a:pt x="1944" y="37"/>
                </a:lnTo>
                <a:lnTo>
                  <a:pt x="1973" y="37"/>
                </a:lnTo>
                <a:lnTo>
                  <a:pt x="1995" y="37"/>
                </a:lnTo>
                <a:lnTo>
                  <a:pt x="2024" y="37"/>
                </a:lnTo>
                <a:lnTo>
                  <a:pt x="2052" y="37"/>
                </a:lnTo>
                <a:lnTo>
                  <a:pt x="2080" y="37"/>
                </a:lnTo>
                <a:lnTo>
                  <a:pt x="2109" y="37"/>
                </a:lnTo>
                <a:lnTo>
                  <a:pt x="2131" y="37"/>
                </a:lnTo>
                <a:lnTo>
                  <a:pt x="2160" y="37"/>
                </a:lnTo>
                <a:lnTo>
                  <a:pt x="2188" y="37"/>
                </a:lnTo>
                <a:lnTo>
                  <a:pt x="2216" y="37"/>
                </a:lnTo>
                <a:lnTo>
                  <a:pt x="2245" y="37"/>
                </a:lnTo>
                <a:lnTo>
                  <a:pt x="2273" y="37"/>
                </a:lnTo>
                <a:lnTo>
                  <a:pt x="2296" y="37"/>
                </a:lnTo>
                <a:lnTo>
                  <a:pt x="2324" y="37"/>
                </a:lnTo>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473880" y="870120"/>
            <a:ext cx="2077920" cy="2481120"/>
          </a:xfrm>
          <a:custGeom>
            <a:avLst/>
            <a:gdLst/>
            <a:ahLst/>
            <a:rect l="l" t="t" r="r" b="b"/>
            <a:pathLst>
              <a:path w="2324" h="1567">
                <a:moveTo>
                  <a:pt x="0" y="1551"/>
                </a:moveTo>
                <a:lnTo>
                  <a:pt x="28" y="1551"/>
                </a:lnTo>
                <a:lnTo>
                  <a:pt x="56" y="1551"/>
                </a:lnTo>
                <a:lnTo>
                  <a:pt x="85" y="1551"/>
                </a:lnTo>
                <a:lnTo>
                  <a:pt x="113" y="1551"/>
                </a:lnTo>
                <a:lnTo>
                  <a:pt x="136" y="1557"/>
                </a:lnTo>
                <a:lnTo>
                  <a:pt x="164" y="1562"/>
                </a:lnTo>
                <a:lnTo>
                  <a:pt x="192" y="1567"/>
                </a:lnTo>
                <a:lnTo>
                  <a:pt x="221" y="1562"/>
                </a:lnTo>
                <a:lnTo>
                  <a:pt x="249" y="1551"/>
                </a:lnTo>
                <a:lnTo>
                  <a:pt x="277" y="1530"/>
                </a:lnTo>
                <a:lnTo>
                  <a:pt x="300" y="1488"/>
                </a:lnTo>
                <a:lnTo>
                  <a:pt x="328" y="1440"/>
                </a:lnTo>
                <a:lnTo>
                  <a:pt x="357" y="1365"/>
                </a:lnTo>
                <a:lnTo>
                  <a:pt x="385" y="1280"/>
                </a:lnTo>
                <a:lnTo>
                  <a:pt x="413" y="1185"/>
                </a:lnTo>
                <a:lnTo>
                  <a:pt x="436" y="1068"/>
                </a:lnTo>
                <a:lnTo>
                  <a:pt x="464" y="946"/>
                </a:lnTo>
                <a:lnTo>
                  <a:pt x="493" y="813"/>
                </a:lnTo>
                <a:lnTo>
                  <a:pt x="521" y="685"/>
                </a:lnTo>
                <a:lnTo>
                  <a:pt x="550" y="568"/>
                </a:lnTo>
                <a:lnTo>
                  <a:pt x="578" y="462"/>
                </a:lnTo>
                <a:lnTo>
                  <a:pt x="601" y="366"/>
                </a:lnTo>
                <a:lnTo>
                  <a:pt x="629" y="303"/>
                </a:lnTo>
                <a:lnTo>
                  <a:pt x="657" y="249"/>
                </a:lnTo>
                <a:lnTo>
                  <a:pt x="686" y="196"/>
                </a:lnTo>
                <a:lnTo>
                  <a:pt x="714" y="159"/>
                </a:lnTo>
                <a:lnTo>
                  <a:pt x="742" y="133"/>
                </a:lnTo>
                <a:lnTo>
                  <a:pt x="765" y="101"/>
                </a:lnTo>
                <a:lnTo>
                  <a:pt x="793" y="74"/>
                </a:lnTo>
                <a:lnTo>
                  <a:pt x="822" y="58"/>
                </a:lnTo>
                <a:lnTo>
                  <a:pt x="850" y="32"/>
                </a:lnTo>
                <a:lnTo>
                  <a:pt x="878" y="21"/>
                </a:lnTo>
                <a:lnTo>
                  <a:pt x="901" y="10"/>
                </a:lnTo>
                <a:lnTo>
                  <a:pt x="929" y="5"/>
                </a:lnTo>
                <a:lnTo>
                  <a:pt x="958" y="5"/>
                </a:lnTo>
                <a:lnTo>
                  <a:pt x="986" y="5"/>
                </a:lnTo>
                <a:lnTo>
                  <a:pt x="1014" y="5"/>
                </a:lnTo>
                <a:lnTo>
                  <a:pt x="1043" y="5"/>
                </a:lnTo>
                <a:lnTo>
                  <a:pt x="1065" y="10"/>
                </a:lnTo>
                <a:lnTo>
                  <a:pt x="1094" y="10"/>
                </a:lnTo>
                <a:lnTo>
                  <a:pt x="1122" y="10"/>
                </a:lnTo>
                <a:lnTo>
                  <a:pt x="1151" y="16"/>
                </a:lnTo>
                <a:lnTo>
                  <a:pt x="1179" y="16"/>
                </a:lnTo>
                <a:lnTo>
                  <a:pt x="1207" y="16"/>
                </a:lnTo>
                <a:lnTo>
                  <a:pt x="1230" y="16"/>
                </a:lnTo>
                <a:lnTo>
                  <a:pt x="1258" y="21"/>
                </a:lnTo>
                <a:lnTo>
                  <a:pt x="1287" y="21"/>
                </a:lnTo>
                <a:lnTo>
                  <a:pt x="1315" y="21"/>
                </a:lnTo>
                <a:lnTo>
                  <a:pt x="1343" y="16"/>
                </a:lnTo>
                <a:lnTo>
                  <a:pt x="1366" y="16"/>
                </a:lnTo>
                <a:lnTo>
                  <a:pt x="1394" y="16"/>
                </a:lnTo>
                <a:lnTo>
                  <a:pt x="1423" y="16"/>
                </a:lnTo>
                <a:lnTo>
                  <a:pt x="1451" y="16"/>
                </a:lnTo>
                <a:lnTo>
                  <a:pt x="1479" y="16"/>
                </a:lnTo>
                <a:lnTo>
                  <a:pt x="1508" y="10"/>
                </a:lnTo>
                <a:lnTo>
                  <a:pt x="1530" y="10"/>
                </a:lnTo>
                <a:lnTo>
                  <a:pt x="1559" y="10"/>
                </a:lnTo>
                <a:lnTo>
                  <a:pt x="1587" y="10"/>
                </a:lnTo>
                <a:lnTo>
                  <a:pt x="1615" y="10"/>
                </a:lnTo>
                <a:lnTo>
                  <a:pt x="1644" y="5"/>
                </a:lnTo>
                <a:lnTo>
                  <a:pt x="1666" y="5"/>
                </a:lnTo>
                <a:lnTo>
                  <a:pt x="1695" y="10"/>
                </a:lnTo>
                <a:lnTo>
                  <a:pt x="1723" y="10"/>
                </a:lnTo>
                <a:lnTo>
                  <a:pt x="1751" y="5"/>
                </a:lnTo>
                <a:lnTo>
                  <a:pt x="1780" y="5"/>
                </a:lnTo>
                <a:lnTo>
                  <a:pt x="1808" y="10"/>
                </a:lnTo>
                <a:lnTo>
                  <a:pt x="1831" y="5"/>
                </a:lnTo>
                <a:lnTo>
                  <a:pt x="1859" y="5"/>
                </a:lnTo>
                <a:lnTo>
                  <a:pt x="1888" y="5"/>
                </a:lnTo>
                <a:lnTo>
                  <a:pt x="1916" y="5"/>
                </a:lnTo>
                <a:lnTo>
                  <a:pt x="1944" y="5"/>
                </a:lnTo>
                <a:lnTo>
                  <a:pt x="1973" y="0"/>
                </a:lnTo>
                <a:lnTo>
                  <a:pt x="1995" y="0"/>
                </a:lnTo>
                <a:lnTo>
                  <a:pt x="2024" y="0"/>
                </a:lnTo>
                <a:lnTo>
                  <a:pt x="2052" y="0"/>
                </a:lnTo>
                <a:lnTo>
                  <a:pt x="2080" y="0"/>
                </a:lnTo>
                <a:lnTo>
                  <a:pt x="2109" y="0"/>
                </a:lnTo>
                <a:lnTo>
                  <a:pt x="2131" y="0"/>
                </a:lnTo>
                <a:lnTo>
                  <a:pt x="2160" y="0"/>
                </a:lnTo>
                <a:lnTo>
                  <a:pt x="2188" y="0"/>
                </a:lnTo>
                <a:lnTo>
                  <a:pt x="2216" y="0"/>
                </a:lnTo>
                <a:lnTo>
                  <a:pt x="2245" y="5"/>
                </a:lnTo>
                <a:lnTo>
                  <a:pt x="2273" y="0"/>
                </a:lnTo>
                <a:lnTo>
                  <a:pt x="2296" y="0"/>
                </a:lnTo>
                <a:lnTo>
                  <a:pt x="2324" y="0"/>
                </a:lnTo>
              </a:path>
            </a:pathLst>
          </a:custGeom>
          <a:noFill/>
          <a:ln w="15840">
            <a:solidFill>
              <a:srgbClr val="007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469200" y="1332000"/>
            <a:ext cx="2077920" cy="2219400"/>
          </a:xfrm>
          <a:custGeom>
            <a:avLst/>
            <a:gdLst/>
            <a:ahLst/>
            <a:rect l="l" t="t" r="r" b="b"/>
            <a:pathLst>
              <a:path w="2324" h="1663">
                <a:moveTo>
                  <a:pt x="0" y="1663"/>
                </a:moveTo>
                <a:lnTo>
                  <a:pt x="28" y="1658"/>
                </a:lnTo>
                <a:lnTo>
                  <a:pt x="56" y="1658"/>
                </a:lnTo>
                <a:lnTo>
                  <a:pt x="85" y="1658"/>
                </a:lnTo>
                <a:lnTo>
                  <a:pt x="113" y="1653"/>
                </a:lnTo>
                <a:lnTo>
                  <a:pt x="136" y="1653"/>
                </a:lnTo>
                <a:lnTo>
                  <a:pt x="164" y="1653"/>
                </a:lnTo>
                <a:lnTo>
                  <a:pt x="192" y="1647"/>
                </a:lnTo>
                <a:lnTo>
                  <a:pt x="221" y="1647"/>
                </a:lnTo>
                <a:lnTo>
                  <a:pt x="249" y="1647"/>
                </a:lnTo>
                <a:lnTo>
                  <a:pt x="277" y="1642"/>
                </a:lnTo>
                <a:lnTo>
                  <a:pt x="300" y="1647"/>
                </a:lnTo>
                <a:lnTo>
                  <a:pt x="328" y="1647"/>
                </a:lnTo>
                <a:lnTo>
                  <a:pt x="357" y="1653"/>
                </a:lnTo>
                <a:lnTo>
                  <a:pt x="385" y="1658"/>
                </a:lnTo>
                <a:lnTo>
                  <a:pt x="413" y="1663"/>
                </a:lnTo>
                <a:lnTo>
                  <a:pt x="436" y="1658"/>
                </a:lnTo>
                <a:lnTo>
                  <a:pt x="464" y="1642"/>
                </a:lnTo>
                <a:lnTo>
                  <a:pt x="493" y="1616"/>
                </a:lnTo>
                <a:lnTo>
                  <a:pt x="521" y="1573"/>
                </a:lnTo>
                <a:lnTo>
                  <a:pt x="550" y="1520"/>
                </a:lnTo>
                <a:lnTo>
                  <a:pt x="578" y="1446"/>
                </a:lnTo>
                <a:lnTo>
                  <a:pt x="601" y="1360"/>
                </a:lnTo>
                <a:lnTo>
                  <a:pt x="629" y="1265"/>
                </a:lnTo>
                <a:lnTo>
                  <a:pt x="657" y="1159"/>
                </a:lnTo>
                <a:lnTo>
                  <a:pt x="686" y="1047"/>
                </a:lnTo>
                <a:lnTo>
                  <a:pt x="714" y="919"/>
                </a:lnTo>
                <a:lnTo>
                  <a:pt x="742" y="787"/>
                </a:lnTo>
                <a:lnTo>
                  <a:pt x="765" y="654"/>
                </a:lnTo>
                <a:lnTo>
                  <a:pt x="793" y="526"/>
                </a:lnTo>
                <a:lnTo>
                  <a:pt x="822" y="404"/>
                </a:lnTo>
                <a:lnTo>
                  <a:pt x="850" y="314"/>
                </a:lnTo>
                <a:lnTo>
                  <a:pt x="878" y="239"/>
                </a:lnTo>
                <a:lnTo>
                  <a:pt x="901" y="181"/>
                </a:lnTo>
                <a:lnTo>
                  <a:pt x="929" y="122"/>
                </a:lnTo>
                <a:lnTo>
                  <a:pt x="958" y="74"/>
                </a:lnTo>
                <a:lnTo>
                  <a:pt x="986" y="53"/>
                </a:lnTo>
                <a:lnTo>
                  <a:pt x="1014" y="32"/>
                </a:lnTo>
                <a:lnTo>
                  <a:pt x="1043" y="11"/>
                </a:lnTo>
                <a:lnTo>
                  <a:pt x="1065" y="5"/>
                </a:lnTo>
                <a:lnTo>
                  <a:pt x="1094" y="5"/>
                </a:lnTo>
                <a:lnTo>
                  <a:pt x="1122" y="5"/>
                </a:lnTo>
                <a:lnTo>
                  <a:pt x="1151" y="0"/>
                </a:lnTo>
                <a:lnTo>
                  <a:pt x="1179" y="0"/>
                </a:lnTo>
                <a:lnTo>
                  <a:pt x="1207" y="0"/>
                </a:lnTo>
                <a:lnTo>
                  <a:pt x="1230" y="5"/>
                </a:lnTo>
                <a:lnTo>
                  <a:pt x="1258" y="11"/>
                </a:lnTo>
                <a:lnTo>
                  <a:pt x="1287" y="16"/>
                </a:lnTo>
                <a:lnTo>
                  <a:pt x="1315" y="16"/>
                </a:lnTo>
                <a:lnTo>
                  <a:pt x="1343" y="11"/>
                </a:lnTo>
                <a:lnTo>
                  <a:pt x="1366" y="11"/>
                </a:lnTo>
                <a:lnTo>
                  <a:pt x="1394" y="5"/>
                </a:lnTo>
                <a:lnTo>
                  <a:pt x="1423" y="5"/>
                </a:lnTo>
                <a:lnTo>
                  <a:pt x="1451" y="5"/>
                </a:lnTo>
                <a:lnTo>
                  <a:pt x="1479" y="5"/>
                </a:lnTo>
                <a:lnTo>
                  <a:pt x="1508" y="5"/>
                </a:lnTo>
                <a:lnTo>
                  <a:pt x="1530" y="0"/>
                </a:lnTo>
                <a:lnTo>
                  <a:pt x="1559" y="0"/>
                </a:lnTo>
                <a:lnTo>
                  <a:pt x="1587" y="0"/>
                </a:lnTo>
                <a:lnTo>
                  <a:pt x="1615" y="0"/>
                </a:lnTo>
                <a:lnTo>
                  <a:pt x="1644" y="0"/>
                </a:lnTo>
                <a:lnTo>
                  <a:pt x="1666" y="5"/>
                </a:lnTo>
                <a:lnTo>
                  <a:pt x="1695" y="0"/>
                </a:lnTo>
                <a:lnTo>
                  <a:pt x="1723" y="0"/>
                </a:lnTo>
                <a:lnTo>
                  <a:pt x="1751" y="5"/>
                </a:lnTo>
                <a:lnTo>
                  <a:pt x="1780" y="0"/>
                </a:lnTo>
                <a:lnTo>
                  <a:pt x="1808" y="5"/>
                </a:lnTo>
                <a:lnTo>
                  <a:pt x="1831" y="5"/>
                </a:lnTo>
                <a:lnTo>
                  <a:pt x="1859" y="5"/>
                </a:lnTo>
                <a:lnTo>
                  <a:pt x="1888" y="0"/>
                </a:lnTo>
                <a:lnTo>
                  <a:pt x="1916" y="5"/>
                </a:lnTo>
                <a:lnTo>
                  <a:pt x="1944" y="5"/>
                </a:lnTo>
                <a:lnTo>
                  <a:pt x="1973" y="5"/>
                </a:lnTo>
                <a:lnTo>
                  <a:pt x="1995" y="5"/>
                </a:lnTo>
                <a:lnTo>
                  <a:pt x="2024" y="5"/>
                </a:lnTo>
                <a:lnTo>
                  <a:pt x="2052" y="5"/>
                </a:lnTo>
                <a:lnTo>
                  <a:pt x="2080" y="11"/>
                </a:lnTo>
                <a:lnTo>
                  <a:pt x="2109" y="5"/>
                </a:lnTo>
                <a:lnTo>
                  <a:pt x="2131" y="5"/>
                </a:lnTo>
                <a:lnTo>
                  <a:pt x="2160" y="5"/>
                </a:lnTo>
                <a:lnTo>
                  <a:pt x="2188" y="0"/>
                </a:lnTo>
                <a:lnTo>
                  <a:pt x="2216" y="11"/>
                </a:lnTo>
                <a:lnTo>
                  <a:pt x="2245" y="5"/>
                </a:lnTo>
                <a:lnTo>
                  <a:pt x="2273" y="5"/>
                </a:lnTo>
                <a:lnTo>
                  <a:pt x="2296" y="5"/>
                </a:lnTo>
                <a:lnTo>
                  <a:pt x="2324" y="5"/>
                </a:lnTo>
              </a:path>
            </a:pathLst>
          </a:custGeom>
          <a:noFill/>
          <a:ln w="15840">
            <a:solidFill>
              <a:srgbClr val="bf00b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445520" y="3227400"/>
            <a:ext cx="17078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nd at rest</a:t>
            </a:r>
            <a:endParaRPr b="0" lang="en-US" sz="1600" spc="-1" strike="noStrike">
              <a:solidFill>
                <a:srgbClr val="000000"/>
              </a:solidFill>
              <a:latin typeface="Times New Roman"/>
            </a:endParaRPr>
          </a:p>
        </p:txBody>
      </p:sp>
      <p:sp>
        <p:nvSpPr>
          <p:cNvPr id="175" name=""/>
          <p:cNvSpPr/>
          <p:nvPr/>
        </p:nvSpPr>
        <p:spPr>
          <a:xfrm>
            <a:off x="7626240" y="2363760"/>
            <a:ext cx="13496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nd moving to shoulder level</a:t>
            </a:r>
            <a:endParaRPr b="0" lang="en-US" sz="1600" spc="-1" strike="noStrike">
              <a:solidFill>
                <a:srgbClr val="000000"/>
              </a:solidFill>
              <a:latin typeface="Times New Roman"/>
            </a:endParaRPr>
          </a:p>
        </p:txBody>
      </p:sp>
      <p:sp>
        <p:nvSpPr>
          <p:cNvPr id="176" name=""/>
          <p:cNvSpPr/>
          <p:nvPr/>
        </p:nvSpPr>
        <p:spPr>
          <a:xfrm>
            <a:off x="7915320" y="1741320"/>
            <a:ext cx="103176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ady pointing</a:t>
            </a:r>
            <a:endParaRPr b="0" lang="en-US" sz="1600" spc="-1" strike="noStrike">
              <a:solidFill>
                <a:srgbClr val="000000"/>
              </a:solidFill>
              <a:latin typeface="Times New Roman"/>
            </a:endParaRPr>
          </a:p>
        </p:txBody>
      </p:sp>
      <p:sp>
        <p:nvSpPr>
          <p:cNvPr id="177" name=""/>
          <p:cNvSpPr/>
          <p:nvPr/>
        </p:nvSpPr>
        <p:spPr>
          <a:xfrm flipH="1" flipV="1">
            <a:off x="7728120" y="1469880"/>
            <a:ext cx="164880" cy="316080"/>
          </a:xfrm>
          <a:prstGeom prst="line">
            <a:avLst/>
          </a:prstGeom>
          <a:ln w="3240">
            <a:solidFill>
              <a:srgbClr val="333333"/>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flipV="1">
            <a:off x="7329240" y="2355480"/>
            <a:ext cx="228600" cy="136440"/>
          </a:xfrm>
          <a:prstGeom prst="line">
            <a:avLst/>
          </a:prstGeom>
          <a:ln w="3240">
            <a:solidFill>
              <a:srgbClr val="333333"/>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7021440" y="3362400"/>
            <a:ext cx="357120" cy="129960"/>
          </a:xfrm>
          <a:prstGeom prst="line">
            <a:avLst/>
          </a:prstGeom>
          <a:ln w="3240">
            <a:solidFill>
              <a:srgbClr val="333333"/>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6423120" y="3895200"/>
            <a:ext cx="3240" cy="2778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423120" y="6673680"/>
            <a:ext cx="2203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6423120" y="3895200"/>
            <a:ext cx="3240" cy="2778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6423120" y="6632640"/>
            <a:ext cx="32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4" name=""/>
          <p:cNvSpPr/>
          <p:nvPr/>
        </p:nvSpPr>
        <p:spPr>
          <a:xfrm>
            <a:off x="6423120" y="3902040"/>
            <a:ext cx="32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5" name=""/>
          <p:cNvSpPr/>
          <p:nvPr/>
        </p:nvSpPr>
        <p:spPr>
          <a:xfrm>
            <a:off x="6408720" y="6694560"/>
            <a:ext cx="9684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Times New Roman"/>
            </a:endParaRPr>
          </a:p>
        </p:txBody>
      </p:sp>
      <p:sp>
        <p:nvSpPr>
          <p:cNvPr id="186" name=""/>
          <p:cNvSpPr/>
          <p:nvPr/>
        </p:nvSpPr>
        <p:spPr>
          <a:xfrm flipV="1">
            <a:off x="6667560" y="663264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7" name=""/>
          <p:cNvSpPr/>
          <p:nvPr/>
        </p:nvSpPr>
        <p:spPr>
          <a:xfrm>
            <a:off x="6630840" y="6694560"/>
            <a:ext cx="19224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a:t>
            </a:r>
            <a:endParaRPr b="0" lang="en-US" sz="500" spc="-1" strike="noStrike">
              <a:solidFill>
                <a:srgbClr val="000000"/>
              </a:solidFill>
              <a:latin typeface="Times New Roman"/>
            </a:endParaRPr>
          </a:p>
        </p:txBody>
      </p:sp>
      <p:sp>
        <p:nvSpPr>
          <p:cNvPr id="188" name=""/>
          <p:cNvSpPr/>
          <p:nvPr/>
        </p:nvSpPr>
        <p:spPr>
          <a:xfrm flipV="1">
            <a:off x="6912000" y="663264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9" name=""/>
          <p:cNvSpPr/>
          <p:nvPr/>
        </p:nvSpPr>
        <p:spPr>
          <a:xfrm>
            <a:off x="6875640" y="6694560"/>
            <a:ext cx="1933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000000"/>
              </a:solidFill>
              <a:latin typeface="Times New Roman"/>
            </a:endParaRPr>
          </a:p>
        </p:txBody>
      </p:sp>
      <p:sp>
        <p:nvSpPr>
          <p:cNvPr id="190" name=""/>
          <p:cNvSpPr/>
          <p:nvPr/>
        </p:nvSpPr>
        <p:spPr>
          <a:xfrm flipV="1">
            <a:off x="7153200" y="6632640"/>
            <a:ext cx="32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 name=""/>
          <p:cNvSpPr/>
          <p:nvPr/>
        </p:nvSpPr>
        <p:spPr>
          <a:xfrm>
            <a:off x="7120080" y="6694560"/>
            <a:ext cx="1936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a:t>
            </a:r>
            <a:endParaRPr b="0" lang="en-US" sz="500" spc="-1" strike="noStrike">
              <a:solidFill>
                <a:srgbClr val="000000"/>
              </a:solidFill>
              <a:latin typeface="Times New Roman"/>
            </a:endParaRPr>
          </a:p>
        </p:txBody>
      </p:sp>
      <p:sp>
        <p:nvSpPr>
          <p:cNvPr id="192" name=""/>
          <p:cNvSpPr/>
          <p:nvPr/>
        </p:nvSpPr>
        <p:spPr>
          <a:xfrm flipV="1">
            <a:off x="7397640" y="663264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3" name=""/>
          <p:cNvSpPr/>
          <p:nvPr/>
        </p:nvSpPr>
        <p:spPr>
          <a:xfrm>
            <a:off x="7364520" y="6694560"/>
            <a:ext cx="1936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000000"/>
              </a:solidFill>
              <a:latin typeface="Times New Roman"/>
            </a:endParaRPr>
          </a:p>
        </p:txBody>
      </p:sp>
      <p:sp>
        <p:nvSpPr>
          <p:cNvPr id="194" name=""/>
          <p:cNvSpPr/>
          <p:nvPr/>
        </p:nvSpPr>
        <p:spPr>
          <a:xfrm flipV="1">
            <a:off x="7645320" y="6632640"/>
            <a:ext cx="32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 name=""/>
          <p:cNvSpPr/>
          <p:nvPr/>
        </p:nvSpPr>
        <p:spPr>
          <a:xfrm>
            <a:off x="7612200" y="6694560"/>
            <a:ext cx="1918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0</a:t>
            </a:r>
            <a:endParaRPr b="0" lang="en-US" sz="500" spc="-1" strike="noStrike">
              <a:solidFill>
                <a:srgbClr val="000000"/>
              </a:solidFill>
              <a:latin typeface="Times New Roman"/>
            </a:endParaRPr>
          </a:p>
        </p:txBody>
      </p:sp>
      <p:sp>
        <p:nvSpPr>
          <p:cNvPr id="196" name=""/>
          <p:cNvSpPr/>
          <p:nvPr/>
        </p:nvSpPr>
        <p:spPr>
          <a:xfrm flipV="1">
            <a:off x="7889760" y="663264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7" name=""/>
          <p:cNvSpPr/>
          <p:nvPr/>
        </p:nvSpPr>
        <p:spPr>
          <a:xfrm>
            <a:off x="7853400" y="6694560"/>
            <a:ext cx="1936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0</a:t>
            </a:r>
            <a:endParaRPr b="0" lang="en-US" sz="500" spc="-1" strike="noStrike">
              <a:solidFill>
                <a:srgbClr val="000000"/>
              </a:solidFill>
              <a:latin typeface="Times New Roman"/>
            </a:endParaRPr>
          </a:p>
        </p:txBody>
      </p:sp>
      <p:sp>
        <p:nvSpPr>
          <p:cNvPr id="198" name=""/>
          <p:cNvSpPr/>
          <p:nvPr/>
        </p:nvSpPr>
        <p:spPr>
          <a:xfrm flipV="1">
            <a:off x="8134200" y="663264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9" name=""/>
          <p:cNvSpPr/>
          <p:nvPr/>
        </p:nvSpPr>
        <p:spPr>
          <a:xfrm>
            <a:off x="8101080" y="6694560"/>
            <a:ext cx="1918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0</a:t>
            </a:r>
            <a:endParaRPr b="0" lang="en-US" sz="500" spc="-1" strike="noStrike">
              <a:solidFill>
                <a:srgbClr val="000000"/>
              </a:solidFill>
              <a:latin typeface="Times New Roman"/>
            </a:endParaRPr>
          </a:p>
        </p:txBody>
      </p:sp>
      <p:sp>
        <p:nvSpPr>
          <p:cNvPr id="200" name=""/>
          <p:cNvSpPr/>
          <p:nvPr/>
        </p:nvSpPr>
        <p:spPr>
          <a:xfrm flipV="1">
            <a:off x="8375760" y="6632640"/>
            <a:ext cx="32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1" name=""/>
          <p:cNvSpPr/>
          <p:nvPr/>
        </p:nvSpPr>
        <p:spPr>
          <a:xfrm>
            <a:off x="8342280" y="6694560"/>
            <a:ext cx="1936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0</a:t>
            </a:r>
            <a:endParaRPr b="0" lang="en-US" sz="500" spc="-1" strike="noStrike">
              <a:solidFill>
                <a:srgbClr val="000000"/>
              </a:solidFill>
              <a:latin typeface="Times New Roman"/>
            </a:endParaRPr>
          </a:p>
        </p:txBody>
      </p:sp>
      <p:sp>
        <p:nvSpPr>
          <p:cNvPr id="202" name=""/>
          <p:cNvSpPr/>
          <p:nvPr/>
        </p:nvSpPr>
        <p:spPr>
          <a:xfrm flipV="1">
            <a:off x="8626320" y="663264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8589960" y="6694560"/>
            <a:ext cx="1936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0</a:t>
            </a:r>
            <a:endParaRPr b="0" lang="en-US" sz="500" spc="-1" strike="noStrike">
              <a:solidFill>
                <a:srgbClr val="000000"/>
              </a:solidFill>
              <a:latin typeface="Times New Roman"/>
            </a:endParaRPr>
          </a:p>
        </p:txBody>
      </p:sp>
      <p:sp>
        <p:nvSpPr>
          <p:cNvPr id="204" name=""/>
          <p:cNvSpPr/>
          <p:nvPr/>
        </p:nvSpPr>
        <p:spPr>
          <a:xfrm>
            <a:off x="6423120" y="6673680"/>
            <a:ext cx="21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8601120" y="6673680"/>
            <a:ext cx="25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423120" y="6211800"/>
            <a:ext cx="21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423120" y="5749920"/>
            <a:ext cx="21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423120" y="5288040"/>
            <a:ext cx="21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423120" y="4826160"/>
            <a:ext cx="21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23120" y="4363920"/>
            <a:ext cx="21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423120" y="3902040"/>
            <a:ext cx="21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6423120" y="3895200"/>
            <a:ext cx="3240" cy="2778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445080" y="4102200"/>
            <a:ext cx="2079720" cy="2263680"/>
          </a:xfrm>
          <a:custGeom>
            <a:avLst/>
            <a:gdLst/>
            <a:ahLst/>
            <a:rect l="l" t="t" r="r" b="b"/>
            <a:pathLst>
              <a:path w="2324" h="1636">
                <a:moveTo>
                  <a:pt x="0" y="1636"/>
                </a:moveTo>
                <a:lnTo>
                  <a:pt x="28" y="1636"/>
                </a:lnTo>
                <a:lnTo>
                  <a:pt x="56" y="1631"/>
                </a:lnTo>
                <a:lnTo>
                  <a:pt x="85" y="1631"/>
                </a:lnTo>
                <a:lnTo>
                  <a:pt x="113" y="1631"/>
                </a:lnTo>
                <a:lnTo>
                  <a:pt x="136" y="1631"/>
                </a:lnTo>
                <a:lnTo>
                  <a:pt x="164" y="1631"/>
                </a:lnTo>
                <a:lnTo>
                  <a:pt x="192" y="1631"/>
                </a:lnTo>
                <a:lnTo>
                  <a:pt x="221" y="1631"/>
                </a:lnTo>
                <a:lnTo>
                  <a:pt x="249" y="1631"/>
                </a:lnTo>
                <a:lnTo>
                  <a:pt x="277" y="1631"/>
                </a:lnTo>
                <a:lnTo>
                  <a:pt x="300" y="1631"/>
                </a:lnTo>
                <a:lnTo>
                  <a:pt x="328" y="1626"/>
                </a:lnTo>
                <a:lnTo>
                  <a:pt x="357" y="1631"/>
                </a:lnTo>
                <a:lnTo>
                  <a:pt x="385" y="1621"/>
                </a:lnTo>
                <a:lnTo>
                  <a:pt x="413" y="1610"/>
                </a:lnTo>
                <a:lnTo>
                  <a:pt x="436" y="1589"/>
                </a:lnTo>
                <a:lnTo>
                  <a:pt x="464" y="1567"/>
                </a:lnTo>
                <a:lnTo>
                  <a:pt x="493" y="1541"/>
                </a:lnTo>
                <a:lnTo>
                  <a:pt x="521" y="1493"/>
                </a:lnTo>
                <a:lnTo>
                  <a:pt x="550" y="1456"/>
                </a:lnTo>
                <a:lnTo>
                  <a:pt x="578" y="1403"/>
                </a:lnTo>
                <a:lnTo>
                  <a:pt x="601" y="1339"/>
                </a:lnTo>
                <a:lnTo>
                  <a:pt x="629" y="1270"/>
                </a:lnTo>
                <a:lnTo>
                  <a:pt x="657" y="1190"/>
                </a:lnTo>
                <a:lnTo>
                  <a:pt x="686" y="1110"/>
                </a:lnTo>
                <a:lnTo>
                  <a:pt x="714" y="1020"/>
                </a:lnTo>
                <a:lnTo>
                  <a:pt x="742" y="930"/>
                </a:lnTo>
                <a:lnTo>
                  <a:pt x="765" y="839"/>
                </a:lnTo>
                <a:lnTo>
                  <a:pt x="793" y="754"/>
                </a:lnTo>
                <a:lnTo>
                  <a:pt x="822" y="691"/>
                </a:lnTo>
                <a:lnTo>
                  <a:pt x="850" y="637"/>
                </a:lnTo>
                <a:lnTo>
                  <a:pt x="878" y="595"/>
                </a:lnTo>
                <a:lnTo>
                  <a:pt x="901" y="558"/>
                </a:lnTo>
                <a:lnTo>
                  <a:pt x="929" y="520"/>
                </a:lnTo>
                <a:lnTo>
                  <a:pt x="958" y="494"/>
                </a:lnTo>
                <a:lnTo>
                  <a:pt x="986" y="457"/>
                </a:lnTo>
                <a:lnTo>
                  <a:pt x="1014" y="425"/>
                </a:lnTo>
                <a:lnTo>
                  <a:pt x="1043" y="388"/>
                </a:lnTo>
                <a:lnTo>
                  <a:pt x="1065" y="350"/>
                </a:lnTo>
                <a:lnTo>
                  <a:pt x="1094" y="313"/>
                </a:lnTo>
                <a:lnTo>
                  <a:pt x="1122" y="287"/>
                </a:lnTo>
                <a:lnTo>
                  <a:pt x="1151" y="271"/>
                </a:lnTo>
                <a:lnTo>
                  <a:pt x="1179" y="271"/>
                </a:lnTo>
                <a:lnTo>
                  <a:pt x="1207" y="271"/>
                </a:lnTo>
                <a:lnTo>
                  <a:pt x="1230" y="281"/>
                </a:lnTo>
                <a:lnTo>
                  <a:pt x="1258" y="292"/>
                </a:lnTo>
                <a:lnTo>
                  <a:pt x="1287" y="303"/>
                </a:lnTo>
                <a:lnTo>
                  <a:pt x="1315" y="297"/>
                </a:lnTo>
                <a:lnTo>
                  <a:pt x="1343" y="297"/>
                </a:lnTo>
                <a:lnTo>
                  <a:pt x="1366" y="287"/>
                </a:lnTo>
                <a:lnTo>
                  <a:pt x="1394" y="271"/>
                </a:lnTo>
                <a:lnTo>
                  <a:pt x="1423" y="249"/>
                </a:lnTo>
                <a:lnTo>
                  <a:pt x="1451" y="218"/>
                </a:lnTo>
                <a:lnTo>
                  <a:pt x="1479" y="175"/>
                </a:lnTo>
                <a:lnTo>
                  <a:pt x="1508" y="133"/>
                </a:lnTo>
                <a:lnTo>
                  <a:pt x="1530" y="95"/>
                </a:lnTo>
                <a:lnTo>
                  <a:pt x="1559" y="63"/>
                </a:lnTo>
                <a:lnTo>
                  <a:pt x="1587" y="48"/>
                </a:lnTo>
                <a:lnTo>
                  <a:pt x="1615" y="37"/>
                </a:lnTo>
                <a:lnTo>
                  <a:pt x="1644" y="26"/>
                </a:lnTo>
                <a:lnTo>
                  <a:pt x="1666" y="21"/>
                </a:lnTo>
                <a:lnTo>
                  <a:pt x="1695" y="21"/>
                </a:lnTo>
                <a:lnTo>
                  <a:pt x="1723" y="16"/>
                </a:lnTo>
                <a:lnTo>
                  <a:pt x="1751" y="10"/>
                </a:lnTo>
                <a:lnTo>
                  <a:pt x="1780" y="10"/>
                </a:lnTo>
                <a:lnTo>
                  <a:pt x="1808" y="10"/>
                </a:lnTo>
                <a:lnTo>
                  <a:pt x="1831" y="5"/>
                </a:lnTo>
                <a:lnTo>
                  <a:pt x="1859" y="0"/>
                </a:lnTo>
                <a:lnTo>
                  <a:pt x="1888" y="0"/>
                </a:lnTo>
                <a:lnTo>
                  <a:pt x="1916" y="0"/>
                </a:lnTo>
                <a:lnTo>
                  <a:pt x="1944" y="5"/>
                </a:lnTo>
                <a:lnTo>
                  <a:pt x="1973" y="0"/>
                </a:lnTo>
                <a:lnTo>
                  <a:pt x="1995" y="0"/>
                </a:lnTo>
                <a:lnTo>
                  <a:pt x="2024" y="0"/>
                </a:lnTo>
                <a:lnTo>
                  <a:pt x="2052" y="0"/>
                </a:lnTo>
                <a:lnTo>
                  <a:pt x="2080" y="0"/>
                </a:lnTo>
                <a:lnTo>
                  <a:pt x="2109" y="0"/>
                </a:lnTo>
                <a:lnTo>
                  <a:pt x="2131" y="0"/>
                </a:lnTo>
                <a:lnTo>
                  <a:pt x="2160" y="5"/>
                </a:lnTo>
                <a:lnTo>
                  <a:pt x="2188" y="0"/>
                </a:lnTo>
                <a:lnTo>
                  <a:pt x="2216" y="5"/>
                </a:lnTo>
                <a:lnTo>
                  <a:pt x="2245" y="5"/>
                </a:lnTo>
                <a:lnTo>
                  <a:pt x="2273" y="5"/>
                </a:lnTo>
                <a:lnTo>
                  <a:pt x="2296" y="5"/>
                </a:lnTo>
                <a:lnTo>
                  <a:pt x="2324" y="5"/>
                </a:lnTo>
              </a:path>
            </a:pathLst>
          </a:custGeom>
          <a:noFill/>
          <a:ln w="15840">
            <a:solidFill>
              <a:srgbClr val="007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45080" y="3978360"/>
            <a:ext cx="2079720" cy="2219400"/>
          </a:xfrm>
          <a:custGeom>
            <a:avLst/>
            <a:gdLst/>
            <a:ahLst/>
            <a:rect l="l" t="t" r="r" b="b"/>
            <a:pathLst>
              <a:path w="2324" h="1605">
                <a:moveTo>
                  <a:pt x="0" y="1531"/>
                </a:moveTo>
                <a:lnTo>
                  <a:pt x="28" y="1541"/>
                </a:lnTo>
                <a:lnTo>
                  <a:pt x="56" y="1547"/>
                </a:lnTo>
                <a:lnTo>
                  <a:pt x="85" y="1557"/>
                </a:lnTo>
                <a:lnTo>
                  <a:pt x="113" y="1563"/>
                </a:lnTo>
                <a:lnTo>
                  <a:pt x="136" y="1573"/>
                </a:lnTo>
                <a:lnTo>
                  <a:pt x="164" y="1579"/>
                </a:lnTo>
                <a:lnTo>
                  <a:pt x="192" y="1584"/>
                </a:lnTo>
                <a:lnTo>
                  <a:pt x="221" y="1589"/>
                </a:lnTo>
                <a:lnTo>
                  <a:pt x="249" y="1595"/>
                </a:lnTo>
                <a:lnTo>
                  <a:pt x="277" y="1600"/>
                </a:lnTo>
                <a:lnTo>
                  <a:pt x="300" y="1605"/>
                </a:lnTo>
                <a:lnTo>
                  <a:pt x="328" y="1589"/>
                </a:lnTo>
                <a:lnTo>
                  <a:pt x="357" y="1573"/>
                </a:lnTo>
                <a:lnTo>
                  <a:pt x="385" y="1531"/>
                </a:lnTo>
                <a:lnTo>
                  <a:pt x="413" y="1478"/>
                </a:lnTo>
                <a:lnTo>
                  <a:pt x="436" y="1414"/>
                </a:lnTo>
                <a:lnTo>
                  <a:pt x="464" y="1329"/>
                </a:lnTo>
                <a:lnTo>
                  <a:pt x="493" y="1244"/>
                </a:lnTo>
                <a:lnTo>
                  <a:pt x="521" y="1153"/>
                </a:lnTo>
                <a:lnTo>
                  <a:pt x="550" y="1058"/>
                </a:lnTo>
                <a:lnTo>
                  <a:pt x="578" y="967"/>
                </a:lnTo>
                <a:lnTo>
                  <a:pt x="601" y="893"/>
                </a:lnTo>
                <a:lnTo>
                  <a:pt x="629" y="792"/>
                </a:lnTo>
                <a:lnTo>
                  <a:pt x="657" y="718"/>
                </a:lnTo>
                <a:lnTo>
                  <a:pt x="686" y="665"/>
                </a:lnTo>
                <a:lnTo>
                  <a:pt x="714" y="611"/>
                </a:lnTo>
                <a:lnTo>
                  <a:pt x="742" y="564"/>
                </a:lnTo>
                <a:lnTo>
                  <a:pt x="765" y="526"/>
                </a:lnTo>
                <a:lnTo>
                  <a:pt x="793" y="489"/>
                </a:lnTo>
                <a:lnTo>
                  <a:pt x="822" y="447"/>
                </a:lnTo>
                <a:lnTo>
                  <a:pt x="850" y="404"/>
                </a:lnTo>
                <a:lnTo>
                  <a:pt x="878" y="372"/>
                </a:lnTo>
                <a:lnTo>
                  <a:pt x="901" y="335"/>
                </a:lnTo>
                <a:lnTo>
                  <a:pt x="929" y="303"/>
                </a:lnTo>
                <a:lnTo>
                  <a:pt x="958" y="277"/>
                </a:lnTo>
                <a:lnTo>
                  <a:pt x="986" y="261"/>
                </a:lnTo>
                <a:lnTo>
                  <a:pt x="1014" y="255"/>
                </a:lnTo>
                <a:lnTo>
                  <a:pt x="1043" y="255"/>
                </a:lnTo>
                <a:lnTo>
                  <a:pt x="1065" y="271"/>
                </a:lnTo>
                <a:lnTo>
                  <a:pt x="1094" y="282"/>
                </a:lnTo>
                <a:lnTo>
                  <a:pt x="1122" y="293"/>
                </a:lnTo>
                <a:lnTo>
                  <a:pt x="1151" y="287"/>
                </a:lnTo>
                <a:lnTo>
                  <a:pt x="1179" y="277"/>
                </a:lnTo>
                <a:lnTo>
                  <a:pt x="1207" y="250"/>
                </a:lnTo>
                <a:lnTo>
                  <a:pt x="1230" y="202"/>
                </a:lnTo>
                <a:lnTo>
                  <a:pt x="1258" y="154"/>
                </a:lnTo>
                <a:lnTo>
                  <a:pt x="1287" y="112"/>
                </a:lnTo>
                <a:lnTo>
                  <a:pt x="1315" y="75"/>
                </a:lnTo>
                <a:lnTo>
                  <a:pt x="1343" y="43"/>
                </a:lnTo>
                <a:lnTo>
                  <a:pt x="1366" y="22"/>
                </a:lnTo>
                <a:lnTo>
                  <a:pt x="1394" y="11"/>
                </a:lnTo>
                <a:lnTo>
                  <a:pt x="1423" y="6"/>
                </a:lnTo>
                <a:lnTo>
                  <a:pt x="1451" y="6"/>
                </a:lnTo>
                <a:lnTo>
                  <a:pt x="1479" y="6"/>
                </a:lnTo>
                <a:lnTo>
                  <a:pt x="1508" y="6"/>
                </a:lnTo>
                <a:lnTo>
                  <a:pt x="1530" y="0"/>
                </a:lnTo>
                <a:lnTo>
                  <a:pt x="1559" y="0"/>
                </a:lnTo>
                <a:lnTo>
                  <a:pt x="1587" y="0"/>
                </a:lnTo>
                <a:lnTo>
                  <a:pt x="1615" y="0"/>
                </a:lnTo>
                <a:lnTo>
                  <a:pt x="1644" y="0"/>
                </a:lnTo>
                <a:lnTo>
                  <a:pt x="1666" y="0"/>
                </a:lnTo>
                <a:lnTo>
                  <a:pt x="1695" y="0"/>
                </a:lnTo>
                <a:lnTo>
                  <a:pt x="1723" y="0"/>
                </a:lnTo>
                <a:lnTo>
                  <a:pt x="1751" y="0"/>
                </a:lnTo>
                <a:lnTo>
                  <a:pt x="1780" y="0"/>
                </a:lnTo>
                <a:lnTo>
                  <a:pt x="1808" y="0"/>
                </a:lnTo>
                <a:lnTo>
                  <a:pt x="1831" y="6"/>
                </a:lnTo>
                <a:lnTo>
                  <a:pt x="1859" y="0"/>
                </a:lnTo>
                <a:lnTo>
                  <a:pt x="1888" y="0"/>
                </a:lnTo>
                <a:lnTo>
                  <a:pt x="1916" y="6"/>
                </a:lnTo>
                <a:lnTo>
                  <a:pt x="1944" y="6"/>
                </a:lnTo>
                <a:lnTo>
                  <a:pt x="1973" y="6"/>
                </a:lnTo>
                <a:lnTo>
                  <a:pt x="1995" y="6"/>
                </a:lnTo>
                <a:lnTo>
                  <a:pt x="2024" y="6"/>
                </a:lnTo>
                <a:lnTo>
                  <a:pt x="2052" y="6"/>
                </a:lnTo>
                <a:lnTo>
                  <a:pt x="2080" y="6"/>
                </a:lnTo>
                <a:lnTo>
                  <a:pt x="2109" y="6"/>
                </a:lnTo>
                <a:lnTo>
                  <a:pt x="2131" y="6"/>
                </a:lnTo>
                <a:lnTo>
                  <a:pt x="2160" y="6"/>
                </a:lnTo>
                <a:lnTo>
                  <a:pt x="2188" y="6"/>
                </a:lnTo>
                <a:lnTo>
                  <a:pt x="2216" y="6"/>
                </a:lnTo>
                <a:lnTo>
                  <a:pt x="2245" y="6"/>
                </a:lnTo>
                <a:lnTo>
                  <a:pt x="2273" y="6"/>
                </a:lnTo>
                <a:lnTo>
                  <a:pt x="2296" y="6"/>
                </a:lnTo>
                <a:lnTo>
                  <a:pt x="2324" y="6"/>
                </a:lnTo>
              </a:path>
            </a:pathLst>
          </a:custGeom>
          <a:noFill/>
          <a:ln w="158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445080" y="4452840"/>
            <a:ext cx="2079720" cy="2187720"/>
          </a:xfrm>
          <a:custGeom>
            <a:avLst/>
            <a:gdLst/>
            <a:ahLst/>
            <a:rect l="l" t="t" r="r" b="b"/>
            <a:pathLst>
              <a:path w="2324" h="1579">
                <a:moveTo>
                  <a:pt x="0" y="1563"/>
                </a:moveTo>
                <a:lnTo>
                  <a:pt x="28" y="1563"/>
                </a:lnTo>
                <a:lnTo>
                  <a:pt x="56" y="1557"/>
                </a:lnTo>
                <a:lnTo>
                  <a:pt x="85" y="1552"/>
                </a:lnTo>
                <a:lnTo>
                  <a:pt x="113" y="1552"/>
                </a:lnTo>
                <a:lnTo>
                  <a:pt x="136" y="1541"/>
                </a:lnTo>
                <a:lnTo>
                  <a:pt x="164" y="1541"/>
                </a:lnTo>
                <a:lnTo>
                  <a:pt x="192" y="1541"/>
                </a:lnTo>
                <a:lnTo>
                  <a:pt x="221" y="1541"/>
                </a:lnTo>
                <a:lnTo>
                  <a:pt x="249" y="1541"/>
                </a:lnTo>
                <a:lnTo>
                  <a:pt x="277" y="1547"/>
                </a:lnTo>
                <a:lnTo>
                  <a:pt x="300" y="1557"/>
                </a:lnTo>
                <a:lnTo>
                  <a:pt x="328" y="1563"/>
                </a:lnTo>
                <a:lnTo>
                  <a:pt x="357" y="1579"/>
                </a:lnTo>
                <a:lnTo>
                  <a:pt x="385" y="1579"/>
                </a:lnTo>
                <a:lnTo>
                  <a:pt x="413" y="1573"/>
                </a:lnTo>
                <a:lnTo>
                  <a:pt x="436" y="1563"/>
                </a:lnTo>
                <a:lnTo>
                  <a:pt x="464" y="1547"/>
                </a:lnTo>
                <a:lnTo>
                  <a:pt x="493" y="1520"/>
                </a:lnTo>
                <a:lnTo>
                  <a:pt x="521" y="1478"/>
                </a:lnTo>
                <a:lnTo>
                  <a:pt x="550" y="1451"/>
                </a:lnTo>
                <a:lnTo>
                  <a:pt x="578" y="1414"/>
                </a:lnTo>
                <a:lnTo>
                  <a:pt x="601" y="1366"/>
                </a:lnTo>
                <a:lnTo>
                  <a:pt x="629" y="1302"/>
                </a:lnTo>
                <a:lnTo>
                  <a:pt x="657" y="1228"/>
                </a:lnTo>
                <a:lnTo>
                  <a:pt x="686" y="1148"/>
                </a:lnTo>
                <a:lnTo>
                  <a:pt x="714" y="1058"/>
                </a:lnTo>
                <a:lnTo>
                  <a:pt x="742" y="978"/>
                </a:lnTo>
                <a:lnTo>
                  <a:pt x="765" y="904"/>
                </a:lnTo>
                <a:lnTo>
                  <a:pt x="793" y="819"/>
                </a:lnTo>
                <a:lnTo>
                  <a:pt x="822" y="755"/>
                </a:lnTo>
                <a:lnTo>
                  <a:pt x="850" y="691"/>
                </a:lnTo>
                <a:lnTo>
                  <a:pt x="878" y="643"/>
                </a:lnTo>
                <a:lnTo>
                  <a:pt x="901" y="596"/>
                </a:lnTo>
                <a:lnTo>
                  <a:pt x="929" y="558"/>
                </a:lnTo>
                <a:lnTo>
                  <a:pt x="958" y="521"/>
                </a:lnTo>
                <a:lnTo>
                  <a:pt x="986" y="484"/>
                </a:lnTo>
                <a:lnTo>
                  <a:pt x="1014" y="441"/>
                </a:lnTo>
                <a:lnTo>
                  <a:pt x="1043" y="399"/>
                </a:lnTo>
                <a:lnTo>
                  <a:pt x="1065" y="362"/>
                </a:lnTo>
                <a:lnTo>
                  <a:pt x="1094" y="340"/>
                </a:lnTo>
                <a:lnTo>
                  <a:pt x="1122" y="324"/>
                </a:lnTo>
                <a:lnTo>
                  <a:pt x="1151" y="330"/>
                </a:lnTo>
                <a:lnTo>
                  <a:pt x="1179" y="340"/>
                </a:lnTo>
                <a:lnTo>
                  <a:pt x="1207" y="351"/>
                </a:lnTo>
                <a:lnTo>
                  <a:pt x="1230" y="351"/>
                </a:lnTo>
                <a:lnTo>
                  <a:pt x="1258" y="340"/>
                </a:lnTo>
                <a:lnTo>
                  <a:pt x="1287" y="314"/>
                </a:lnTo>
                <a:lnTo>
                  <a:pt x="1315" y="271"/>
                </a:lnTo>
                <a:lnTo>
                  <a:pt x="1343" y="208"/>
                </a:lnTo>
                <a:lnTo>
                  <a:pt x="1366" y="154"/>
                </a:lnTo>
                <a:lnTo>
                  <a:pt x="1394" y="112"/>
                </a:lnTo>
                <a:lnTo>
                  <a:pt x="1423" y="64"/>
                </a:lnTo>
                <a:lnTo>
                  <a:pt x="1451" y="38"/>
                </a:lnTo>
                <a:lnTo>
                  <a:pt x="1479" y="16"/>
                </a:lnTo>
                <a:lnTo>
                  <a:pt x="1508" y="6"/>
                </a:lnTo>
                <a:lnTo>
                  <a:pt x="1530" y="0"/>
                </a:lnTo>
                <a:lnTo>
                  <a:pt x="1559" y="0"/>
                </a:lnTo>
                <a:lnTo>
                  <a:pt x="1587" y="6"/>
                </a:lnTo>
                <a:lnTo>
                  <a:pt x="1615" y="6"/>
                </a:lnTo>
                <a:lnTo>
                  <a:pt x="1644" y="6"/>
                </a:lnTo>
                <a:lnTo>
                  <a:pt x="1666" y="6"/>
                </a:lnTo>
                <a:lnTo>
                  <a:pt x="1695" y="0"/>
                </a:lnTo>
                <a:lnTo>
                  <a:pt x="1723" y="0"/>
                </a:lnTo>
                <a:lnTo>
                  <a:pt x="1751" y="6"/>
                </a:lnTo>
                <a:lnTo>
                  <a:pt x="1780" y="0"/>
                </a:lnTo>
                <a:lnTo>
                  <a:pt x="1808" y="0"/>
                </a:lnTo>
                <a:lnTo>
                  <a:pt x="1831" y="0"/>
                </a:lnTo>
                <a:lnTo>
                  <a:pt x="1859" y="6"/>
                </a:lnTo>
                <a:lnTo>
                  <a:pt x="1888" y="6"/>
                </a:lnTo>
                <a:lnTo>
                  <a:pt x="1916" y="0"/>
                </a:lnTo>
                <a:lnTo>
                  <a:pt x="1944" y="6"/>
                </a:lnTo>
                <a:lnTo>
                  <a:pt x="1973" y="0"/>
                </a:lnTo>
                <a:lnTo>
                  <a:pt x="1995" y="6"/>
                </a:lnTo>
                <a:lnTo>
                  <a:pt x="2024" y="6"/>
                </a:lnTo>
                <a:lnTo>
                  <a:pt x="2052" y="6"/>
                </a:lnTo>
                <a:lnTo>
                  <a:pt x="2080" y="6"/>
                </a:lnTo>
                <a:lnTo>
                  <a:pt x="2109" y="0"/>
                </a:lnTo>
                <a:lnTo>
                  <a:pt x="2131" y="0"/>
                </a:lnTo>
                <a:lnTo>
                  <a:pt x="2160" y="6"/>
                </a:lnTo>
                <a:lnTo>
                  <a:pt x="2188" y="0"/>
                </a:lnTo>
                <a:lnTo>
                  <a:pt x="2216" y="0"/>
                </a:lnTo>
                <a:lnTo>
                  <a:pt x="2245" y="0"/>
                </a:lnTo>
                <a:lnTo>
                  <a:pt x="2273" y="0"/>
                </a:lnTo>
                <a:lnTo>
                  <a:pt x="2296" y="0"/>
                </a:lnTo>
                <a:lnTo>
                  <a:pt x="2324" y="0"/>
                </a:lnTo>
              </a:path>
            </a:pathLst>
          </a:custGeom>
          <a:noFill/>
          <a:ln w="15840">
            <a:solidFill>
              <a:srgbClr val="bf00b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6972480" y="6510240"/>
            <a:ext cx="272880" cy="34920"/>
          </a:xfrm>
          <a:prstGeom prst="line">
            <a:avLst/>
          </a:prstGeom>
          <a:ln w="3240">
            <a:solidFill>
              <a:srgbClr val="333333"/>
            </a:solidFill>
            <a:miter/>
            <a:tailEnd len="sm" type="stealth" w="sm"/>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7" name=""/>
          <p:cNvSpPr/>
          <p:nvPr/>
        </p:nvSpPr>
        <p:spPr>
          <a:xfrm>
            <a:off x="7300800" y="6396120"/>
            <a:ext cx="16192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d at rest</a:t>
            </a:r>
            <a:endParaRPr b="0" lang="en-US" sz="1400" spc="-1" strike="noStrike">
              <a:solidFill>
                <a:srgbClr val="000000"/>
              </a:solidFill>
              <a:latin typeface="Times New Roman"/>
            </a:endParaRPr>
          </a:p>
        </p:txBody>
      </p:sp>
      <p:sp>
        <p:nvSpPr>
          <p:cNvPr id="218" name=""/>
          <p:cNvSpPr/>
          <p:nvPr/>
        </p:nvSpPr>
        <p:spPr>
          <a:xfrm>
            <a:off x="7577280" y="5969160"/>
            <a:ext cx="140796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d moving above holster</a:t>
            </a:r>
            <a:endParaRPr b="0" lang="en-US" sz="1400" spc="-1" strike="noStrike">
              <a:solidFill>
                <a:srgbClr val="000000"/>
              </a:solidFill>
              <a:latin typeface="Times New Roman"/>
            </a:endParaRPr>
          </a:p>
        </p:txBody>
      </p:sp>
      <p:sp>
        <p:nvSpPr>
          <p:cNvPr id="219" name=""/>
          <p:cNvSpPr/>
          <p:nvPr/>
        </p:nvSpPr>
        <p:spPr>
          <a:xfrm flipH="1" flipV="1">
            <a:off x="7229520" y="5946840"/>
            <a:ext cx="239760" cy="201600"/>
          </a:xfrm>
          <a:prstGeom prst="line">
            <a:avLst/>
          </a:prstGeom>
          <a:ln w="3240">
            <a:solidFill>
              <a:srgbClr val="333333"/>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flipV="1">
            <a:off x="7534440" y="5013000"/>
            <a:ext cx="180720" cy="517320"/>
          </a:xfrm>
          <a:prstGeom prst="line">
            <a:avLst/>
          </a:prstGeom>
          <a:ln w="3240">
            <a:solidFill>
              <a:srgbClr val="333333"/>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758000" y="5518080"/>
            <a:ext cx="135756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d moving down to grasp gun</a:t>
            </a:r>
            <a:endParaRPr b="0" lang="en-US" sz="1400" spc="-1" strike="noStrike">
              <a:solidFill>
                <a:srgbClr val="000000"/>
              </a:solidFill>
              <a:latin typeface="Times New Roman"/>
            </a:endParaRPr>
          </a:p>
        </p:txBody>
      </p:sp>
      <p:sp>
        <p:nvSpPr>
          <p:cNvPr id="222" name=""/>
          <p:cNvSpPr/>
          <p:nvPr/>
        </p:nvSpPr>
        <p:spPr>
          <a:xfrm flipH="1" flipV="1">
            <a:off x="7716600" y="4781160"/>
            <a:ext cx="153720" cy="230040"/>
          </a:xfrm>
          <a:prstGeom prst="line">
            <a:avLst/>
          </a:prstGeom>
          <a:ln w="3240">
            <a:solidFill>
              <a:srgbClr val="333333"/>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912080" y="5027760"/>
            <a:ext cx="14130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d moving to shoulder level</a:t>
            </a:r>
            <a:endParaRPr b="0" lang="en-US" sz="1400" spc="-1" strike="noStrike">
              <a:solidFill>
                <a:srgbClr val="000000"/>
              </a:solidFill>
              <a:latin typeface="Times New Roman"/>
            </a:endParaRPr>
          </a:p>
        </p:txBody>
      </p:sp>
      <p:sp>
        <p:nvSpPr>
          <p:cNvPr id="224" name=""/>
          <p:cNvSpPr/>
          <p:nvPr/>
        </p:nvSpPr>
        <p:spPr>
          <a:xfrm>
            <a:off x="8367840" y="4492800"/>
            <a:ext cx="74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ady pointing</a:t>
            </a:r>
            <a:endParaRPr b="0" lang="en-US" sz="1400" spc="-1" strike="noStrike">
              <a:solidFill>
                <a:srgbClr val="000000"/>
              </a:solidFill>
              <a:latin typeface="Times New Roman"/>
            </a:endParaRPr>
          </a:p>
        </p:txBody>
      </p:sp>
      <p:sp>
        <p:nvSpPr>
          <p:cNvPr id="225" name=""/>
          <p:cNvSpPr/>
          <p:nvPr/>
        </p:nvSpPr>
        <p:spPr>
          <a:xfrm flipH="1" flipV="1">
            <a:off x="8079840" y="4510080"/>
            <a:ext cx="211320" cy="201600"/>
          </a:xfrm>
          <a:prstGeom prst="line">
            <a:avLst/>
          </a:prstGeom>
          <a:ln w="3240">
            <a:solidFill>
              <a:srgbClr val="333333"/>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6" name="ann_nogun" descr=""/>
          <p:cNvPicPr/>
          <p:nvPr/>
        </p:nvPicPr>
        <p:blipFill>
          <a:blip r:embed="rId1"/>
          <a:stretch/>
        </p:blipFill>
        <p:spPr>
          <a:xfrm>
            <a:off x="114480" y="1290600"/>
            <a:ext cx="6048360" cy="2419560"/>
          </a:xfrm>
          <a:prstGeom prst="rect">
            <a:avLst/>
          </a:prstGeom>
          <a:ln w="0">
            <a:noFill/>
          </a:ln>
        </p:spPr>
      </p:pic>
      <p:pic>
        <p:nvPicPr>
          <p:cNvPr id="227" name="ann_gun" descr=""/>
          <p:cNvPicPr/>
          <p:nvPr/>
        </p:nvPicPr>
        <p:blipFill>
          <a:blip r:embed="rId2"/>
          <a:stretch/>
        </p:blipFill>
        <p:spPr>
          <a:xfrm>
            <a:off x="114480" y="4057560"/>
            <a:ext cx="6271920" cy="2509920"/>
          </a:xfrm>
          <a:prstGeom prst="rect">
            <a:avLst/>
          </a:prstGeom>
          <a:ln w="0">
            <a:noFill/>
          </a:ln>
        </p:spPr>
      </p:pic>
      <p:sp>
        <p:nvSpPr>
          <p:cNvPr id="228" name=""/>
          <p:cNvSpPr/>
          <p:nvPr/>
        </p:nvSpPr>
        <p:spPr>
          <a:xfrm>
            <a:off x="121320" y="42840"/>
            <a:ext cx="8052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ideo data, may best be thought of as time series…</a:t>
            </a:r>
            <a:endParaRPr b="0" lang="en-US" sz="3000" spc="-1" strike="noStrike">
              <a:solidFill>
                <a:srgbClr val="000000"/>
              </a:solidFill>
              <a:latin typeface="Times New Roman"/>
            </a:endParaRPr>
          </a:p>
        </p:txBody>
      </p:sp>
      <p:sp>
        <p:nvSpPr>
          <p:cNvPr id="229" name=""/>
          <p:cNvSpPr/>
          <p:nvPr/>
        </p:nvSpPr>
        <p:spPr>
          <a:xfrm>
            <a:off x="9360" y="3695760"/>
            <a:ext cx="9144000" cy="206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256360" y="2997360"/>
            <a:ext cx="690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a:t>
            </a:r>
            <a:endParaRPr b="0" lang="en-US" sz="2000" spc="-1" strike="noStrike">
              <a:solidFill>
                <a:srgbClr val="000000"/>
              </a:solidFill>
              <a:latin typeface="Times New Roman"/>
            </a:endParaRPr>
          </a:p>
        </p:txBody>
      </p:sp>
      <p:sp>
        <p:nvSpPr>
          <p:cNvPr id="231" name=""/>
          <p:cNvSpPr/>
          <p:nvPr/>
        </p:nvSpPr>
        <p:spPr>
          <a:xfrm>
            <a:off x="5135400" y="5749920"/>
            <a:ext cx="140652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un-Dr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ication</a:t>
            </a:r>
            <a:endParaRPr b="0" lang="en-US" sz="4400" spc="-1" strike="noStrike">
              <a:solidFill>
                <a:srgbClr val="000000"/>
              </a:solidFill>
              <a:latin typeface="Times New Roman"/>
            </a:endParaRPr>
          </a:p>
        </p:txBody>
      </p:sp>
      <p:sp>
        <p:nvSpPr>
          <p:cNvPr id="4070" name="PlaceHolder 2"/>
          <p:cNvSpPr>
            <a:spLocks noGrp="1"/>
          </p:cNvSpPr>
          <p:nvPr>
            <p:ph/>
          </p:nvPr>
        </p:nvSpPr>
        <p:spPr>
          <a:xfrm>
            <a:off x="533520" y="1599840"/>
            <a:ext cx="670536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est Neighb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ving-one-out cross valid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ed with Euclidean Distance, IMPACTS, SDA, and LP</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sets: Control Charts &amp; CBF (Cylinder, Bell, Funn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ecision Tre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d for real data, but attempting to use DT on time series raw data would be a mistake</a:t>
            </a:r>
            <a:endParaRPr b="0" lang="en-US" sz="20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 dimensionality/Noise level would result in deep, bushy trees</a:t>
            </a: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urts (’01) suggests representng time series as Regression Tree, and training decision tree on i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1" name=""/>
          <p:cNvSpPr/>
          <p:nvPr/>
        </p:nvSpPr>
        <p:spPr>
          <a:xfrm>
            <a:off x="1589040" y="160344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72" name=""/>
          <p:cNvSpPr/>
          <p:nvPr/>
        </p:nvSpPr>
        <p:spPr>
          <a:xfrm>
            <a:off x="5302080" y="1600200"/>
            <a:ext cx="1687680" cy="64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73" name=""/>
          <p:cNvGrpSpPr/>
          <p:nvPr/>
        </p:nvGrpSpPr>
        <p:grpSpPr>
          <a:xfrm>
            <a:off x="7316640" y="3809880"/>
            <a:ext cx="1598760" cy="2403360"/>
            <a:chOff x="7316640" y="3809880"/>
            <a:chExt cx="1598760" cy="2403360"/>
          </a:xfrm>
        </p:grpSpPr>
        <p:sp>
          <p:nvSpPr>
            <p:cNvPr id="4074" name=""/>
            <p:cNvSpPr/>
            <p:nvPr/>
          </p:nvSpPr>
          <p:spPr>
            <a:xfrm>
              <a:off x="7353360" y="5960880"/>
              <a:ext cx="1562040" cy="3240"/>
            </a:xfrm>
            <a:prstGeom prst="line">
              <a:avLst/>
            </a:prstGeom>
            <a:ln w="6480">
              <a:solidFill>
                <a:srgbClr val="969696"/>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75" name=""/>
            <p:cNvSpPr/>
            <p:nvPr/>
          </p:nvSpPr>
          <p:spPr>
            <a:xfrm>
              <a:off x="7326360" y="5994360"/>
              <a:ext cx="12996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6" name=""/>
            <p:cNvSpPr/>
            <p:nvPr/>
          </p:nvSpPr>
          <p:spPr>
            <a:xfrm>
              <a:off x="7324200" y="59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4077" name=""/>
            <p:cNvSpPr/>
            <p:nvPr/>
          </p:nvSpPr>
          <p:spPr>
            <a:xfrm>
              <a:off x="7387920" y="578628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78" name=""/>
            <p:cNvSpPr/>
            <p:nvPr/>
          </p:nvSpPr>
          <p:spPr>
            <a:xfrm flipV="1">
              <a:off x="7956360" y="5941440"/>
              <a:ext cx="1800" cy="19080"/>
            </a:xfrm>
            <a:prstGeom prst="line">
              <a:avLst/>
            </a:prstGeom>
            <a:ln w="6480">
              <a:solidFill>
                <a:srgbClr val="96969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79" name=""/>
            <p:cNvSpPr/>
            <p:nvPr/>
          </p:nvSpPr>
          <p:spPr>
            <a:xfrm>
              <a:off x="7888320" y="5994360"/>
              <a:ext cx="19836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0" name=""/>
            <p:cNvSpPr/>
            <p:nvPr/>
          </p:nvSpPr>
          <p:spPr>
            <a:xfrm>
              <a:off x="7887240" y="599580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a:t>
              </a:r>
              <a:endParaRPr b="0" lang="en-US" sz="900" spc="-1" strike="noStrike">
                <a:solidFill>
                  <a:srgbClr val="000000"/>
                </a:solidFill>
                <a:latin typeface="Times New Roman"/>
              </a:endParaRPr>
            </a:p>
          </p:txBody>
        </p:sp>
        <p:sp>
          <p:nvSpPr>
            <p:cNvPr id="4081" name=""/>
            <p:cNvSpPr/>
            <p:nvPr/>
          </p:nvSpPr>
          <p:spPr>
            <a:xfrm>
              <a:off x="8016840" y="578628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82" name=""/>
            <p:cNvSpPr/>
            <p:nvPr/>
          </p:nvSpPr>
          <p:spPr>
            <a:xfrm flipV="1">
              <a:off x="8556480" y="5941440"/>
              <a:ext cx="1800" cy="19080"/>
            </a:xfrm>
            <a:prstGeom prst="line">
              <a:avLst/>
            </a:prstGeom>
            <a:ln w="6480">
              <a:solidFill>
                <a:srgbClr val="96969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83" name=""/>
            <p:cNvSpPr/>
            <p:nvPr/>
          </p:nvSpPr>
          <p:spPr>
            <a:xfrm>
              <a:off x="8461440" y="5994360"/>
              <a:ext cx="27432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a:off x="8458560" y="599580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a:t>
              </a:r>
              <a:endParaRPr b="0" lang="en-US" sz="900" spc="-1" strike="noStrike">
                <a:solidFill>
                  <a:srgbClr val="000000"/>
                </a:solidFill>
                <a:latin typeface="Times New Roman"/>
              </a:endParaRPr>
            </a:p>
          </p:txBody>
        </p:sp>
        <p:sp>
          <p:nvSpPr>
            <p:cNvPr id="4085" name=""/>
            <p:cNvSpPr/>
            <p:nvPr/>
          </p:nvSpPr>
          <p:spPr>
            <a:xfrm>
              <a:off x="8653320" y="578628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4086" name=""/>
            <p:cNvGrpSpPr/>
            <p:nvPr/>
          </p:nvGrpSpPr>
          <p:grpSpPr>
            <a:xfrm>
              <a:off x="7364160" y="4844880"/>
              <a:ext cx="1538280" cy="973080"/>
              <a:chOff x="7364160" y="4844880"/>
              <a:chExt cx="1538280" cy="973080"/>
            </a:xfrm>
          </p:grpSpPr>
          <p:sp>
            <p:nvSpPr>
              <p:cNvPr id="4087" name=""/>
              <p:cNvSpPr/>
              <p:nvPr/>
            </p:nvSpPr>
            <p:spPr>
              <a:xfrm>
                <a:off x="7364160" y="4844880"/>
                <a:ext cx="1527480" cy="300240"/>
              </a:xfrm>
              <a:custGeom>
                <a:avLst/>
                <a:gdLst/>
                <a:ahLst/>
                <a:rect l="l" t="t" r="r" b="b"/>
                <a:pathLst>
                  <a:path w="962" h="189">
                    <a:moveTo>
                      <a:pt x="0" y="189"/>
                    </a:moveTo>
                    <a:lnTo>
                      <a:pt x="7" y="0"/>
                    </a:lnTo>
                    <a:lnTo>
                      <a:pt x="12" y="0"/>
                    </a:lnTo>
                    <a:lnTo>
                      <a:pt x="19" y="0"/>
                    </a:lnTo>
                    <a:lnTo>
                      <a:pt x="31" y="0"/>
                    </a:lnTo>
                    <a:lnTo>
                      <a:pt x="37" y="0"/>
                    </a:lnTo>
                    <a:lnTo>
                      <a:pt x="44" y="0"/>
                    </a:lnTo>
                    <a:lnTo>
                      <a:pt x="49" y="0"/>
                    </a:lnTo>
                    <a:lnTo>
                      <a:pt x="56" y="0"/>
                    </a:lnTo>
                    <a:lnTo>
                      <a:pt x="68" y="0"/>
                    </a:lnTo>
                    <a:lnTo>
                      <a:pt x="75" y="0"/>
                    </a:lnTo>
                    <a:lnTo>
                      <a:pt x="81" y="0"/>
                    </a:lnTo>
                    <a:lnTo>
                      <a:pt x="87" y="0"/>
                    </a:lnTo>
                    <a:lnTo>
                      <a:pt x="99" y="0"/>
                    </a:lnTo>
                    <a:lnTo>
                      <a:pt x="105" y="0"/>
                    </a:lnTo>
                    <a:lnTo>
                      <a:pt x="112" y="0"/>
                    </a:lnTo>
                    <a:lnTo>
                      <a:pt x="118" y="0"/>
                    </a:lnTo>
                    <a:lnTo>
                      <a:pt x="124" y="0"/>
                    </a:lnTo>
                    <a:lnTo>
                      <a:pt x="136" y="0"/>
                    </a:lnTo>
                    <a:lnTo>
                      <a:pt x="143" y="0"/>
                    </a:lnTo>
                    <a:lnTo>
                      <a:pt x="149" y="0"/>
                    </a:lnTo>
                    <a:lnTo>
                      <a:pt x="155" y="0"/>
                    </a:lnTo>
                    <a:lnTo>
                      <a:pt x="168" y="189"/>
                    </a:lnTo>
                    <a:lnTo>
                      <a:pt x="174" y="189"/>
                    </a:lnTo>
                    <a:lnTo>
                      <a:pt x="180" y="189"/>
                    </a:lnTo>
                    <a:lnTo>
                      <a:pt x="187" y="189"/>
                    </a:lnTo>
                    <a:lnTo>
                      <a:pt x="192" y="189"/>
                    </a:lnTo>
                    <a:lnTo>
                      <a:pt x="204" y="189"/>
                    </a:lnTo>
                    <a:lnTo>
                      <a:pt x="211" y="189"/>
                    </a:lnTo>
                    <a:lnTo>
                      <a:pt x="218" y="189"/>
                    </a:lnTo>
                    <a:lnTo>
                      <a:pt x="223" y="189"/>
                    </a:lnTo>
                    <a:lnTo>
                      <a:pt x="236" y="189"/>
                    </a:lnTo>
                    <a:lnTo>
                      <a:pt x="242" y="189"/>
                    </a:lnTo>
                    <a:lnTo>
                      <a:pt x="248" y="189"/>
                    </a:lnTo>
                    <a:lnTo>
                      <a:pt x="255" y="189"/>
                    </a:lnTo>
                    <a:lnTo>
                      <a:pt x="261" y="189"/>
                    </a:lnTo>
                    <a:lnTo>
                      <a:pt x="274" y="189"/>
                    </a:lnTo>
                    <a:lnTo>
                      <a:pt x="279" y="189"/>
                    </a:lnTo>
                    <a:lnTo>
                      <a:pt x="286" y="189"/>
                    </a:lnTo>
                    <a:lnTo>
                      <a:pt x="291" y="189"/>
                    </a:lnTo>
                    <a:lnTo>
                      <a:pt x="305" y="189"/>
                    </a:lnTo>
                    <a:lnTo>
                      <a:pt x="310" y="189"/>
                    </a:lnTo>
                    <a:lnTo>
                      <a:pt x="317" y="189"/>
                    </a:lnTo>
                    <a:lnTo>
                      <a:pt x="323" y="189"/>
                    </a:lnTo>
                    <a:lnTo>
                      <a:pt x="329" y="189"/>
                    </a:lnTo>
                    <a:lnTo>
                      <a:pt x="342" y="189"/>
                    </a:lnTo>
                    <a:lnTo>
                      <a:pt x="347" y="189"/>
                    </a:lnTo>
                    <a:lnTo>
                      <a:pt x="354" y="189"/>
                    </a:lnTo>
                    <a:lnTo>
                      <a:pt x="361" y="189"/>
                    </a:lnTo>
                    <a:lnTo>
                      <a:pt x="373" y="189"/>
                    </a:lnTo>
                    <a:lnTo>
                      <a:pt x="379" y="189"/>
                    </a:lnTo>
                    <a:lnTo>
                      <a:pt x="385" y="189"/>
                    </a:lnTo>
                    <a:lnTo>
                      <a:pt x="391" y="189"/>
                    </a:lnTo>
                    <a:lnTo>
                      <a:pt x="397" y="189"/>
                    </a:lnTo>
                    <a:lnTo>
                      <a:pt x="410" y="189"/>
                    </a:lnTo>
                    <a:lnTo>
                      <a:pt x="416" y="189"/>
                    </a:lnTo>
                    <a:lnTo>
                      <a:pt x="422" y="189"/>
                    </a:lnTo>
                    <a:lnTo>
                      <a:pt x="429" y="189"/>
                    </a:lnTo>
                    <a:lnTo>
                      <a:pt x="434" y="189"/>
                    </a:lnTo>
                    <a:lnTo>
                      <a:pt x="448" y="189"/>
                    </a:lnTo>
                    <a:lnTo>
                      <a:pt x="453" y="189"/>
                    </a:lnTo>
                    <a:lnTo>
                      <a:pt x="460" y="189"/>
                    </a:lnTo>
                    <a:lnTo>
                      <a:pt x="466" y="189"/>
                    </a:lnTo>
                    <a:lnTo>
                      <a:pt x="478" y="189"/>
                    </a:lnTo>
                    <a:lnTo>
                      <a:pt x="484" y="189"/>
                    </a:lnTo>
                    <a:lnTo>
                      <a:pt x="490" y="189"/>
                    </a:lnTo>
                    <a:lnTo>
                      <a:pt x="497" y="189"/>
                    </a:lnTo>
                    <a:lnTo>
                      <a:pt x="503" y="189"/>
                    </a:lnTo>
                    <a:lnTo>
                      <a:pt x="516" y="189"/>
                    </a:lnTo>
                    <a:lnTo>
                      <a:pt x="521" y="189"/>
                    </a:lnTo>
                    <a:lnTo>
                      <a:pt x="528" y="189"/>
                    </a:lnTo>
                    <a:lnTo>
                      <a:pt x="534" y="189"/>
                    </a:lnTo>
                    <a:lnTo>
                      <a:pt x="547" y="189"/>
                    </a:lnTo>
                    <a:lnTo>
                      <a:pt x="553" y="189"/>
                    </a:lnTo>
                    <a:lnTo>
                      <a:pt x="559" y="189"/>
                    </a:lnTo>
                    <a:lnTo>
                      <a:pt x="565" y="189"/>
                    </a:lnTo>
                    <a:lnTo>
                      <a:pt x="572" y="189"/>
                    </a:lnTo>
                    <a:lnTo>
                      <a:pt x="584" y="189"/>
                    </a:lnTo>
                    <a:lnTo>
                      <a:pt x="589" y="189"/>
                    </a:lnTo>
                    <a:lnTo>
                      <a:pt x="596" y="189"/>
                    </a:lnTo>
                    <a:lnTo>
                      <a:pt x="603" y="189"/>
                    </a:lnTo>
                    <a:lnTo>
                      <a:pt x="615" y="189"/>
                    </a:lnTo>
                    <a:lnTo>
                      <a:pt x="621" y="189"/>
                    </a:lnTo>
                    <a:lnTo>
                      <a:pt x="627" y="189"/>
                    </a:lnTo>
                    <a:lnTo>
                      <a:pt x="633" y="189"/>
                    </a:lnTo>
                    <a:lnTo>
                      <a:pt x="640" y="189"/>
                    </a:lnTo>
                    <a:lnTo>
                      <a:pt x="652" y="189"/>
                    </a:lnTo>
                    <a:lnTo>
                      <a:pt x="659" y="189"/>
                    </a:lnTo>
                    <a:lnTo>
                      <a:pt x="664" y="189"/>
                    </a:lnTo>
                    <a:lnTo>
                      <a:pt x="671" y="189"/>
                    </a:lnTo>
                    <a:lnTo>
                      <a:pt x="683" y="189"/>
                    </a:lnTo>
                    <a:lnTo>
                      <a:pt x="690" y="189"/>
                    </a:lnTo>
                    <a:lnTo>
                      <a:pt x="695" y="189"/>
                    </a:lnTo>
                    <a:lnTo>
                      <a:pt x="702" y="189"/>
                    </a:lnTo>
                    <a:lnTo>
                      <a:pt x="708" y="189"/>
                    </a:lnTo>
                    <a:lnTo>
                      <a:pt x="720" y="189"/>
                    </a:lnTo>
                    <a:lnTo>
                      <a:pt x="727" y="189"/>
                    </a:lnTo>
                    <a:lnTo>
                      <a:pt x="732" y="189"/>
                    </a:lnTo>
                    <a:lnTo>
                      <a:pt x="739" y="189"/>
                    </a:lnTo>
                    <a:lnTo>
                      <a:pt x="751" y="189"/>
                    </a:lnTo>
                    <a:lnTo>
                      <a:pt x="758" y="189"/>
                    </a:lnTo>
                    <a:lnTo>
                      <a:pt x="764" y="189"/>
                    </a:lnTo>
                    <a:lnTo>
                      <a:pt x="770" y="189"/>
                    </a:lnTo>
                    <a:lnTo>
                      <a:pt x="776" y="189"/>
                    </a:lnTo>
                    <a:lnTo>
                      <a:pt x="789" y="189"/>
                    </a:lnTo>
                    <a:lnTo>
                      <a:pt x="795" y="189"/>
                    </a:lnTo>
                    <a:lnTo>
                      <a:pt x="801" y="189"/>
                    </a:lnTo>
                    <a:lnTo>
                      <a:pt x="807" y="189"/>
                    </a:lnTo>
                    <a:lnTo>
                      <a:pt x="814" y="189"/>
                    </a:lnTo>
                    <a:lnTo>
                      <a:pt x="826" y="189"/>
                    </a:lnTo>
                    <a:lnTo>
                      <a:pt x="833" y="189"/>
                    </a:lnTo>
                    <a:lnTo>
                      <a:pt x="838" y="189"/>
                    </a:lnTo>
                    <a:lnTo>
                      <a:pt x="845" y="189"/>
                    </a:lnTo>
                    <a:lnTo>
                      <a:pt x="857" y="189"/>
                    </a:lnTo>
                    <a:lnTo>
                      <a:pt x="863" y="189"/>
                    </a:lnTo>
                    <a:lnTo>
                      <a:pt x="869" y="189"/>
                    </a:lnTo>
                    <a:lnTo>
                      <a:pt x="875" y="189"/>
                    </a:lnTo>
                    <a:lnTo>
                      <a:pt x="882" y="189"/>
                    </a:lnTo>
                    <a:lnTo>
                      <a:pt x="894" y="189"/>
                    </a:lnTo>
                    <a:lnTo>
                      <a:pt x="901" y="189"/>
                    </a:lnTo>
                    <a:lnTo>
                      <a:pt x="906" y="189"/>
                    </a:lnTo>
                    <a:lnTo>
                      <a:pt x="913" y="189"/>
                    </a:lnTo>
                    <a:lnTo>
                      <a:pt x="925" y="189"/>
                    </a:lnTo>
                    <a:lnTo>
                      <a:pt x="932" y="189"/>
                    </a:lnTo>
                    <a:lnTo>
                      <a:pt x="938" y="189"/>
                    </a:lnTo>
                    <a:lnTo>
                      <a:pt x="944" y="189"/>
                    </a:lnTo>
                    <a:lnTo>
                      <a:pt x="950" y="189"/>
                    </a:lnTo>
                    <a:lnTo>
                      <a:pt x="962" y="189"/>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8891640" y="5145120"/>
                <a:ext cx="10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9" name=""/>
              <p:cNvSpPr/>
              <p:nvPr/>
            </p:nvSpPr>
            <p:spPr>
              <a:xfrm>
                <a:off x="7364160" y="5207040"/>
                <a:ext cx="1527480" cy="174600"/>
              </a:xfrm>
              <a:custGeom>
                <a:avLst/>
                <a:gdLst/>
                <a:ahLst/>
                <a:rect l="l" t="t" r="r" b="b"/>
                <a:pathLst>
                  <a:path w="962" h="110">
                    <a:moveTo>
                      <a:pt x="0" y="110"/>
                    </a:moveTo>
                    <a:lnTo>
                      <a:pt x="7" y="110"/>
                    </a:lnTo>
                    <a:lnTo>
                      <a:pt x="12" y="110"/>
                    </a:lnTo>
                    <a:lnTo>
                      <a:pt x="19" y="110"/>
                    </a:lnTo>
                    <a:lnTo>
                      <a:pt x="31" y="110"/>
                    </a:lnTo>
                    <a:lnTo>
                      <a:pt x="37" y="110"/>
                    </a:lnTo>
                    <a:lnTo>
                      <a:pt x="44" y="110"/>
                    </a:lnTo>
                    <a:lnTo>
                      <a:pt x="49" y="110"/>
                    </a:lnTo>
                    <a:lnTo>
                      <a:pt x="56" y="110"/>
                    </a:lnTo>
                    <a:lnTo>
                      <a:pt x="68" y="110"/>
                    </a:lnTo>
                    <a:lnTo>
                      <a:pt x="75" y="110"/>
                    </a:lnTo>
                    <a:lnTo>
                      <a:pt x="81" y="110"/>
                    </a:lnTo>
                    <a:lnTo>
                      <a:pt x="87" y="110"/>
                    </a:lnTo>
                    <a:lnTo>
                      <a:pt x="99" y="110"/>
                    </a:lnTo>
                    <a:lnTo>
                      <a:pt x="105" y="110"/>
                    </a:lnTo>
                    <a:lnTo>
                      <a:pt x="112" y="110"/>
                    </a:lnTo>
                    <a:lnTo>
                      <a:pt x="118" y="110"/>
                    </a:lnTo>
                    <a:lnTo>
                      <a:pt x="124" y="110"/>
                    </a:lnTo>
                    <a:lnTo>
                      <a:pt x="136" y="110"/>
                    </a:lnTo>
                    <a:lnTo>
                      <a:pt x="143" y="110"/>
                    </a:lnTo>
                    <a:lnTo>
                      <a:pt x="149" y="110"/>
                    </a:lnTo>
                    <a:lnTo>
                      <a:pt x="155" y="110"/>
                    </a:lnTo>
                    <a:lnTo>
                      <a:pt x="168" y="0"/>
                    </a:lnTo>
                    <a:lnTo>
                      <a:pt x="174" y="0"/>
                    </a:lnTo>
                    <a:lnTo>
                      <a:pt x="180" y="0"/>
                    </a:lnTo>
                    <a:lnTo>
                      <a:pt x="187" y="0"/>
                    </a:lnTo>
                    <a:lnTo>
                      <a:pt x="192" y="0"/>
                    </a:lnTo>
                    <a:lnTo>
                      <a:pt x="204" y="0"/>
                    </a:lnTo>
                    <a:lnTo>
                      <a:pt x="211" y="0"/>
                    </a:lnTo>
                    <a:lnTo>
                      <a:pt x="218" y="0"/>
                    </a:lnTo>
                    <a:lnTo>
                      <a:pt x="223" y="0"/>
                    </a:lnTo>
                    <a:lnTo>
                      <a:pt x="236" y="0"/>
                    </a:lnTo>
                    <a:lnTo>
                      <a:pt x="242" y="0"/>
                    </a:lnTo>
                    <a:lnTo>
                      <a:pt x="248" y="0"/>
                    </a:lnTo>
                    <a:lnTo>
                      <a:pt x="255" y="0"/>
                    </a:lnTo>
                    <a:lnTo>
                      <a:pt x="261" y="0"/>
                    </a:lnTo>
                    <a:lnTo>
                      <a:pt x="274" y="0"/>
                    </a:lnTo>
                    <a:lnTo>
                      <a:pt x="279" y="0"/>
                    </a:lnTo>
                    <a:lnTo>
                      <a:pt x="286" y="0"/>
                    </a:lnTo>
                    <a:lnTo>
                      <a:pt x="291" y="0"/>
                    </a:lnTo>
                    <a:lnTo>
                      <a:pt x="305" y="0"/>
                    </a:lnTo>
                    <a:lnTo>
                      <a:pt x="310" y="0"/>
                    </a:lnTo>
                    <a:lnTo>
                      <a:pt x="317" y="0"/>
                    </a:lnTo>
                    <a:lnTo>
                      <a:pt x="323" y="0"/>
                    </a:lnTo>
                    <a:lnTo>
                      <a:pt x="329" y="0"/>
                    </a:lnTo>
                    <a:lnTo>
                      <a:pt x="342" y="0"/>
                    </a:lnTo>
                    <a:lnTo>
                      <a:pt x="347" y="0"/>
                    </a:lnTo>
                    <a:lnTo>
                      <a:pt x="354" y="0"/>
                    </a:lnTo>
                    <a:lnTo>
                      <a:pt x="361" y="0"/>
                    </a:lnTo>
                    <a:lnTo>
                      <a:pt x="373" y="0"/>
                    </a:lnTo>
                    <a:lnTo>
                      <a:pt x="379" y="0"/>
                    </a:lnTo>
                    <a:lnTo>
                      <a:pt x="385" y="0"/>
                    </a:lnTo>
                    <a:lnTo>
                      <a:pt x="391" y="0"/>
                    </a:lnTo>
                    <a:lnTo>
                      <a:pt x="397" y="0"/>
                    </a:lnTo>
                    <a:lnTo>
                      <a:pt x="410" y="0"/>
                    </a:lnTo>
                    <a:lnTo>
                      <a:pt x="416" y="0"/>
                    </a:lnTo>
                    <a:lnTo>
                      <a:pt x="422" y="0"/>
                    </a:lnTo>
                    <a:lnTo>
                      <a:pt x="429" y="0"/>
                    </a:lnTo>
                    <a:lnTo>
                      <a:pt x="434" y="0"/>
                    </a:lnTo>
                    <a:lnTo>
                      <a:pt x="448" y="0"/>
                    </a:lnTo>
                    <a:lnTo>
                      <a:pt x="453" y="0"/>
                    </a:lnTo>
                    <a:lnTo>
                      <a:pt x="460" y="0"/>
                    </a:lnTo>
                    <a:lnTo>
                      <a:pt x="466" y="0"/>
                    </a:lnTo>
                    <a:lnTo>
                      <a:pt x="478" y="0"/>
                    </a:lnTo>
                    <a:lnTo>
                      <a:pt x="484" y="0"/>
                    </a:lnTo>
                    <a:lnTo>
                      <a:pt x="490" y="0"/>
                    </a:lnTo>
                    <a:lnTo>
                      <a:pt x="497" y="0"/>
                    </a:lnTo>
                    <a:lnTo>
                      <a:pt x="503" y="0"/>
                    </a:lnTo>
                    <a:lnTo>
                      <a:pt x="516" y="0"/>
                    </a:lnTo>
                    <a:lnTo>
                      <a:pt x="521" y="0"/>
                    </a:lnTo>
                    <a:lnTo>
                      <a:pt x="528" y="0"/>
                    </a:lnTo>
                    <a:lnTo>
                      <a:pt x="534" y="0"/>
                    </a:lnTo>
                    <a:lnTo>
                      <a:pt x="547" y="0"/>
                    </a:lnTo>
                    <a:lnTo>
                      <a:pt x="553" y="0"/>
                    </a:lnTo>
                    <a:lnTo>
                      <a:pt x="559" y="0"/>
                    </a:lnTo>
                    <a:lnTo>
                      <a:pt x="565" y="0"/>
                    </a:lnTo>
                    <a:lnTo>
                      <a:pt x="572" y="0"/>
                    </a:lnTo>
                    <a:lnTo>
                      <a:pt x="584" y="0"/>
                    </a:lnTo>
                    <a:lnTo>
                      <a:pt x="589" y="0"/>
                    </a:lnTo>
                    <a:lnTo>
                      <a:pt x="596" y="0"/>
                    </a:lnTo>
                    <a:lnTo>
                      <a:pt x="603" y="0"/>
                    </a:lnTo>
                    <a:lnTo>
                      <a:pt x="615" y="0"/>
                    </a:lnTo>
                    <a:lnTo>
                      <a:pt x="621" y="110"/>
                    </a:lnTo>
                    <a:lnTo>
                      <a:pt x="627" y="110"/>
                    </a:lnTo>
                    <a:lnTo>
                      <a:pt x="633" y="110"/>
                    </a:lnTo>
                    <a:lnTo>
                      <a:pt x="640" y="110"/>
                    </a:lnTo>
                    <a:lnTo>
                      <a:pt x="652" y="110"/>
                    </a:lnTo>
                    <a:lnTo>
                      <a:pt x="659" y="110"/>
                    </a:lnTo>
                    <a:lnTo>
                      <a:pt x="664" y="110"/>
                    </a:lnTo>
                    <a:lnTo>
                      <a:pt x="671" y="110"/>
                    </a:lnTo>
                    <a:lnTo>
                      <a:pt x="683" y="110"/>
                    </a:lnTo>
                    <a:lnTo>
                      <a:pt x="690" y="110"/>
                    </a:lnTo>
                    <a:lnTo>
                      <a:pt x="695" y="110"/>
                    </a:lnTo>
                    <a:lnTo>
                      <a:pt x="702" y="110"/>
                    </a:lnTo>
                    <a:lnTo>
                      <a:pt x="708" y="110"/>
                    </a:lnTo>
                    <a:lnTo>
                      <a:pt x="720" y="110"/>
                    </a:lnTo>
                    <a:lnTo>
                      <a:pt x="727" y="110"/>
                    </a:lnTo>
                    <a:lnTo>
                      <a:pt x="732" y="110"/>
                    </a:lnTo>
                    <a:lnTo>
                      <a:pt x="739" y="110"/>
                    </a:lnTo>
                    <a:lnTo>
                      <a:pt x="751" y="110"/>
                    </a:lnTo>
                    <a:lnTo>
                      <a:pt x="758" y="110"/>
                    </a:lnTo>
                    <a:lnTo>
                      <a:pt x="764" y="110"/>
                    </a:lnTo>
                    <a:lnTo>
                      <a:pt x="770" y="110"/>
                    </a:lnTo>
                    <a:lnTo>
                      <a:pt x="776" y="110"/>
                    </a:lnTo>
                    <a:lnTo>
                      <a:pt x="789" y="110"/>
                    </a:lnTo>
                    <a:lnTo>
                      <a:pt x="795" y="110"/>
                    </a:lnTo>
                    <a:lnTo>
                      <a:pt x="801" y="110"/>
                    </a:lnTo>
                    <a:lnTo>
                      <a:pt x="807" y="110"/>
                    </a:lnTo>
                    <a:lnTo>
                      <a:pt x="814" y="110"/>
                    </a:lnTo>
                    <a:lnTo>
                      <a:pt x="826" y="110"/>
                    </a:lnTo>
                    <a:lnTo>
                      <a:pt x="833" y="110"/>
                    </a:lnTo>
                    <a:lnTo>
                      <a:pt x="838" y="110"/>
                    </a:lnTo>
                    <a:lnTo>
                      <a:pt x="845" y="110"/>
                    </a:lnTo>
                    <a:lnTo>
                      <a:pt x="857" y="110"/>
                    </a:lnTo>
                    <a:lnTo>
                      <a:pt x="863" y="110"/>
                    </a:lnTo>
                    <a:lnTo>
                      <a:pt x="869" y="110"/>
                    </a:lnTo>
                    <a:lnTo>
                      <a:pt x="875" y="110"/>
                    </a:lnTo>
                    <a:lnTo>
                      <a:pt x="882" y="110"/>
                    </a:lnTo>
                    <a:lnTo>
                      <a:pt x="894" y="110"/>
                    </a:lnTo>
                    <a:lnTo>
                      <a:pt x="901" y="110"/>
                    </a:lnTo>
                    <a:lnTo>
                      <a:pt x="906" y="110"/>
                    </a:lnTo>
                    <a:lnTo>
                      <a:pt x="913" y="110"/>
                    </a:lnTo>
                    <a:lnTo>
                      <a:pt x="925" y="110"/>
                    </a:lnTo>
                    <a:lnTo>
                      <a:pt x="932" y="110"/>
                    </a:lnTo>
                    <a:lnTo>
                      <a:pt x="938" y="110"/>
                    </a:lnTo>
                    <a:lnTo>
                      <a:pt x="944" y="110"/>
                    </a:lnTo>
                    <a:lnTo>
                      <a:pt x="950" y="110"/>
                    </a:lnTo>
                    <a:lnTo>
                      <a:pt x="962" y="11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8891640" y="5381640"/>
                <a:ext cx="10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1" name=""/>
              <p:cNvSpPr/>
              <p:nvPr/>
            </p:nvSpPr>
            <p:spPr>
              <a:xfrm>
                <a:off x="7364160" y="5468760"/>
                <a:ext cx="1527480" cy="36720"/>
              </a:xfrm>
              <a:custGeom>
                <a:avLst/>
                <a:gdLst/>
                <a:ahLst/>
                <a:rect l="l" t="t" r="r" b="b"/>
                <a:pathLst>
                  <a:path w="962" h="23">
                    <a:moveTo>
                      <a:pt x="0" y="23"/>
                    </a:moveTo>
                    <a:lnTo>
                      <a:pt x="7" y="23"/>
                    </a:lnTo>
                    <a:lnTo>
                      <a:pt x="12" y="23"/>
                    </a:lnTo>
                    <a:lnTo>
                      <a:pt x="19" y="23"/>
                    </a:lnTo>
                    <a:lnTo>
                      <a:pt x="31" y="23"/>
                    </a:lnTo>
                    <a:lnTo>
                      <a:pt x="37" y="23"/>
                    </a:lnTo>
                    <a:lnTo>
                      <a:pt x="44" y="23"/>
                    </a:lnTo>
                    <a:lnTo>
                      <a:pt x="49" y="23"/>
                    </a:lnTo>
                    <a:lnTo>
                      <a:pt x="56" y="23"/>
                    </a:lnTo>
                    <a:lnTo>
                      <a:pt x="68" y="23"/>
                    </a:lnTo>
                    <a:lnTo>
                      <a:pt x="75" y="23"/>
                    </a:lnTo>
                    <a:lnTo>
                      <a:pt x="81" y="23"/>
                    </a:lnTo>
                    <a:lnTo>
                      <a:pt x="87" y="23"/>
                    </a:lnTo>
                    <a:lnTo>
                      <a:pt x="99" y="23"/>
                    </a:lnTo>
                    <a:lnTo>
                      <a:pt x="105" y="23"/>
                    </a:lnTo>
                    <a:lnTo>
                      <a:pt x="112" y="23"/>
                    </a:lnTo>
                    <a:lnTo>
                      <a:pt x="118" y="23"/>
                    </a:lnTo>
                    <a:lnTo>
                      <a:pt x="124" y="23"/>
                    </a:lnTo>
                    <a:lnTo>
                      <a:pt x="136" y="23"/>
                    </a:lnTo>
                    <a:lnTo>
                      <a:pt x="143" y="23"/>
                    </a:lnTo>
                    <a:lnTo>
                      <a:pt x="149" y="23"/>
                    </a:lnTo>
                    <a:lnTo>
                      <a:pt x="155" y="23"/>
                    </a:lnTo>
                    <a:lnTo>
                      <a:pt x="168" y="23"/>
                    </a:lnTo>
                    <a:lnTo>
                      <a:pt x="174" y="23"/>
                    </a:lnTo>
                    <a:lnTo>
                      <a:pt x="180" y="23"/>
                    </a:lnTo>
                    <a:lnTo>
                      <a:pt x="187" y="23"/>
                    </a:lnTo>
                    <a:lnTo>
                      <a:pt x="192" y="23"/>
                    </a:lnTo>
                    <a:lnTo>
                      <a:pt x="204" y="23"/>
                    </a:lnTo>
                    <a:lnTo>
                      <a:pt x="211" y="23"/>
                    </a:lnTo>
                    <a:lnTo>
                      <a:pt x="218" y="23"/>
                    </a:lnTo>
                    <a:lnTo>
                      <a:pt x="223" y="23"/>
                    </a:lnTo>
                    <a:lnTo>
                      <a:pt x="236" y="23"/>
                    </a:lnTo>
                    <a:lnTo>
                      <a:pt x="242" y="23"/>
                    </a:lnTo>
                    <a:lnTo>
                      <a:pt x="248" y="23"/>
                    </a:lnTo>
                    <a:lnTo>
                      <a:pt x="255" y="23"/>
                    </a:lnTo>
                    <a:lnTo>
                      <a:pt x="261" y="23"/>
                    </a:lnTo>
                    <a:lnTo>
                      <a:pt x="274" y="23"/>
                    </a:lnTo>
                    <a:lnTo>
                      <a:pt x="279" y="23"/>
                    </a:lnTo>
                    <a:lnTo>
                      <a:pt x="286" y="23"/>
                    </a:lnTo>
                    <a:lnTo>
                      <a:pt x="291" y="23"/>
                    </a:lnTo>
                    <a:lnTo>
                      <a:pt x="305" y="23"/>
                    </a:lnTo>
                    <a:lnTo>
                      <a:pt x="310" y="23"/>
                    </a:lnTo>
                    <a:lnTo>
                      <a:pt x="317" y="23"/>
                    </a:lnTo>
                    <a:lnTo>
                      <a:pt x="323" y="23"/>
                    </a:lnTo>
                    <a:lnTo>
                      <a:pt x="329" y="23"/>
                    </a:lnTo>
                    <a:lnTo>
                      <a:pt x="342" y="23"/>
                    </a:lnTo>
                    <a:lnTo>
                      <a:pt x="347" y="23"/>
                    </a:lnTo>
                    <a:lnTo>
                      <a:pt x="354" y="23"/>
                    </a:lnTo>
                    <a:lnTo>
                      <a:pt x="361" y="23"/>
                    </a:lnTo>
                    <a:lnTo>
                      <a:pt x="373" y="23"/>
                    </a:lnTo>
                    <a:lnTo>
                      <a:pt x="379" y="23"/>
                    </a:lnTo>
                    <a:lnTo>
                      <a:pt x="385" y="23"/>
                    </a:lnTo>
                    <a:lnTo>
                      <a:pt x="391" y="23"/>
                    </a:lnTo>
                    <a:lnTo>
                      <a:pt x="397" y="23"/>
                    </a:lnTo>
                    <a:lnTo>
                      <a:pt x="410" y="23"/>
                    </a:lnTo>
                    <a:lnTo>
                      <a:pt x="416" y="23"/>
                    </a:lnTo>
                    <a:lnTo>
                      <a:pt x="422" y="23"/>
                    </a:lnTo>
                    <a:lnTo>
                      <a:pt x="429" y="23"/>
                    </a:lnTo>
                    <a:lnTo>
                      <a:pt x="434" y="23"/>
                    </a:lnTo>
                    <a:lnTo>
                      <a:pt x="448" y="23"/>
                    </a:lnTo>
                    <a:lnTo>
                      <a:pt x="453" y="23"/>
                    </a:lnTo>
                    <a:lnTo>
                      <a:pt x="460" y="23"/>
                    </a:lnTo>
                    <a:lnTo>
                      <a:pt x="466" y="23"/>
                    </a:lnTo>
                    <a:lnTo>
                      <a:pt x="478" y="23"/>
                    </a:lnTo>
                    <a:lnTo>
                      <a:pt x="484" y="23"/>
                    </a:lnTo>
                    <a:lnTo>
                      <a:pt x="490" y="23"/>
                    </a:lnTo>
                    <a:lnTo>
                      <a:pt x="497" y="23"/>
                    </a:lnTo>
                    <a:lnTo>
                      <a:pt x="503" y="23"/>
                    </a:lnTo>
                    <a:lnTo>
                      <a:pt x="516" y="23"/>
                    </a:lnTo>
                    <a:lnTo>
                      <a:pt x="521" y="23"/>
                    </a:lnTo>
                    <a:lnTo>
                      <a:pt x="528" y="23"/>
                    </a:lnTo>
                    <a:lnTo>
                      <a:pt x="534" y="23"/>
                    </a:lnTo>
                    <a:lnTo>
                      <a:pt x="547" y="23"/>
                    </a:lnTo>
                    <a:lnTo>
                      <a:pt x="553" y="23"/>
                    </a:lnTo>
                    <a:lnTo>
                      <a:pt x="559" y="23"/>
                    </a:lnTo>
                    <a:lnTo>
                      <a:pt x="565" y="23"/>
                    </a:lnTo>
                    <a:lnTo>
                      <a:pt x="572" y="23"/>
                    </a:lnTo>
                    <a:lnTo>
                      <a:pt x="584" y="23"/>
                    </a:lnTo>
                    <a:lnTo>
                      <a:pt x="589" y="23"/>
                    </a:lnTo>
                    <a:lnTo>
                      <a:pt x="596" y="23"/>
                    </a:lnTo>
                    <a:lnTo>
                      <a:pt x="603" y="23"/>
                    </a:lnTo>
                    <a:lnTo>
                      <a:pt x="615" y="23"/>
                    </a:lnTo>
                    <a:lnTo>
                      <a:pt x="621" y="0"/>
                    </a:lnTo>
                    <a:lnTo>
                      <a:pt x="627" y="0"/>
                    </a:lnTo>
                    <a:lnTo>
                      <a:pt x="633" y="0"/>
                    </a:lnTo>
                    <a:lnTo>
                      <a:pt x="640" y="0"/>
                    </a:lnTo>
                    <a:lnTo>
                      <a:pt x="652" y="0"/>
                    </a:lnTo>
                    <a:lnTo>
                      <a:pt x="659" y="0"/>
                    </a:lnTo>
                    <a:lnTo>
                      <a:pt x="664" y="0"/>
                    </a:lnTo>
                    <a:lnTo>
                      <a:pt x="671" y="0"/>
                    </a:lnTo>
                    <a:lnTo>
                      <a:pt x="683" y="0"/>
                    </a:lnTo>
                    <a:lnTo>
                      <a:pt x="690" y="0"/>
                    </a:lnTo>
                    <a:lnTo>
                      <a:pt x="695" y="0"/>
                    </a:lnTo>
                    <a:lnTo>
                      <a:pt x="702" y="0"/>
                    </a:lnTo>
                    <a:lnTo>
                      <a:pt x="708" y="0"/>
                    </a:lnTo>
                    <a:lnTo>
                      <a:pt x="720" y="0"/>
                    </a:lnTo>
                    <a:lnTo>
                      <a:pt x="727" y="0"/>
                    </a:lnTo>
                    <a:lnTo>
                      <a:pt x="732" y="0"/>
                    </a:lnTo>
                    <a:lnTo>
                      <a:pt x="739" y="0"/>
                    </a:lnTo>
                    <a:lnTo>
                      <a:pt x="751" y="0"/>
                    </a:lnTo>
                    <a:lnTo>
                      <a:pt x="758" y="0"/>
                    </a:lnTo>
                    <a:lnTo>
                      <a:pt x="764" y="0"/>
                    </a:lnTo>
                    <a:lnTo>
                      <a:pt x="770" y="0"/>
                    </a:lnTo>
                    <a:lnTo>
                      <a:pt x="776" y="0"/>
                    </a:lnTo>
                    <a:lnTo>
                      <a:pt x="789" y="0"/>
                    </a:lnTo>
                    <a:lnTo>
                      <a:pt x="795" y="0"/>
                    </a:lnTo>
                    <a:lnTo>
                      <a:pt x="801" y="23"/>
                    </a:lnTo>
                    <a:lnTo>
                      <a:pt x="807" y="23"/>
                    </a:lnTo>
                    <a:lnTo>
                      <a:pt x="814" y="23"/>
                    </a:lnTo>
                    <a:lnTo>
                      <a:pt x="826" y="23"/>
                    </a:lnTo>
                    <a:lnTo>
                      <a:pt x="833" y="23"/>
                    </a:lnTo>
                    <a:lnTo>
                      <a:pt x="838" y="23"/>
                    </a:lnTo>
                    <a:lnTo>
                      <a:pt x="845" y="23"/>
                    </a:lnTo>
                    <a:lnTo>
                      <a:pt x="857" y="23"/>
                    </a:lnTo>
                    <a:lnTo>
                      <a:pt x="863" y="23"/>
                    </a:lnTo>
                    <a:lnTo>
                      <a:pt x="869" y="23"/>
                    </a:lnTo>
                    <a:lnTo>
                      <a:pt x="875" y="23"/>
                    </a:lnTo>
                    <a:lnTo>
                      <a:pt x="882" y="23"/>
                    </a:lnTo>
                    <a:lnTo>
                      <a:pt x="894" y="23"/>
                    </a:lnTo>
                    <a:lnTo>
                      <a:pt x="901" y="23"/>
                    </a:lnTo>
                    <a:lnTo>
                      <a:pt x="906" y="23"/>
                    </a:lnTo>
                    <a:lnTo>
                      <a:pt x="913" y="23"/>
                    </a:lnTo>
                    <a:lnTo>
                      <a:pt x="925" y="23"/>
                    </a:lnTo>
                    <a:lnTo>
                      <a:pt x="932" y="23"/>
                    </a:lnTo>
                    <a:lnTo>
                      <a:pt x="938" y="23"/>
                    </a:lnTo>
                    <a:lnTo>
                      <a:pt x="944" y="23"/>
                    </a:lnTo>
                    <a:lnTo>
                      <a:pt x="950" y="23"/>
                    </a:lnTo>
                    <a:lnTo>
                      <a:pt x="962" y="23"/>
                    </a:lnTo>
                  </a:path>
                </a:pathLst>
              </a:custGeom>
              <a:noFill/>
              <a:ln w="144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92" name=""/>
              <p:cNvSpPr/>
              <p:nvPr/>
            </p:nvSpPr>
            <p:spPr>
              <a:xfrm>
                <a:off x="8891640" y="5505480"/>
                <a:ext cx="10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3" name=""/>
              <p:cNvSpPr/>
              <p:nvPr/>
            </p:nvSpPr>
            <p:spPr>
              <a:xfrm>
                <a:off x="7364160" y="5630760"/>
                <a:ext cx="1527480" cy="187200"/>
              </a:xfrm>
              <a:custGeom>
                <a:avLst/>
                <a:gdLst/>
                <a:ahLst/>
                <a:rect l="l" t="t" r="r" b="b"/>
                <a:pathLst>
                  <a:path w="962" h="118">
                    <a:moveTo>
                      <a:pt x="0" y="118"/>
                    </a:moveTo>
                    <a:lnTo>
                      <a:pt x="7" y="118"/>
                    </a:lnTo>
                    <a:lnTo>
                      <a:pt x="12" y="118"/>
                    </a:lnTo>
                    <a:lnTo>
                      <a:pt x="19" y="118"/>
                    </a:lnTo>
                    <a:lnTo>
                      <a:pt x="31" y="118"/>
                    </a:lnTo>
                    <a:lnTo>
                      <a:pt x="37" y="118"/>
                    </a:lnTo>
                    <a:lnTo>
                      <a:pt x="44" y="118"/>
                    </a:lnTo>
                    <a:lnTo>
                      <a:pt x="49" y="118"/>
                    </a:lnTo>
                    <a:lnTo>
                      <a:pt x="56" y="118"/>
                    </a:lnTo>
                    <a:lnTo>
                      <a:pt x="68" y="118"/>
                    </a:lnTo>
                    <a:lnTo>
                      <a:pt x="75" y="118"/>
                    </a:lnTo>
                    <a:lnTo>
                      <a:pt x="81" y="118"/>
                    </a:lnTo>
                    <a:lnTo>
                      <a:pt x="87" y="118"/>
                    </a:lnTo>
                    <a:lnTo>
                      <a:pt x="99" y="118"/>
                    </a:lnTo>
                    <a:lnTo>
                      <a:pt x="105" y="118"/>
                    </a:lnTo>
                    <a:lnTo>
                      <a:pt x="112" y="118"/>
                    </a:lnTo>
                    <a:lnTo>
                      <a:pt x="118" y="118"/>
                    </a:lnTo>
                    <a:lnTo>
                      <a:pt x="124" y="118"/>
                    </a:lnTo>
                    <a:lnTo>
                      <a:pt x="136" y="118"/>
                    </a:lnTo>
                    <a:lnTo>
                      <a:pt x="143" y="118"/>
                    </a:lnTo>
                    <a:lnTo>
                      <a:pt x="149" y="118"/>
                    </a:lnTo>
                    <a:lnTo>
                      <a:pt x="155" y="118"/>
                    </a:lnTo>
                    <a:lnTo>
                      <a:pt x="168" y="118"/>
                    </a:lnTo>
                    <a:lnTo>
                      <a:pt x="174" y="118"/>
                    </a:lnTo>
                    <a:lnTo>
                      <a:pt x="180" y="118"/>
                    </a:lnTo>
                    <a:lnTo>
                      <a:pt x="187" y="118"/>
                    </a:lnTo>
                    <a:lnTo>
                      <a:pt x="192" y="118"/>
                    </a:lnTo>
                    <a:lnTo>
                      <a:pt x="204" y="118"/>
                    </a:lnTo>
                    <a:lnTo>
                      <a:pt x="211" y="118"/>
                    </a:lnTo>
                    <a:lnTo>
                      <a:pt x="218" y="118"/>
                    </a:lnTo>
                    <a:lnTo>
                      <a:pt x="223" y="118"/>
                    </a:lnTo>
                    <a:lnTo>
                      <a:pt x="236" y="118"/>
                    </a:lnTo>
                    <a:lnTo>
                      <a:pt x="242" y="118"/>
                    </a:lnTo>
                    <a:lnTo>
                      <a:pt x="248" y="118"/>
                    </a:lnTo>
                    <a:lnTo>
                      <a:pt x="255" y="118"/>
                    </a:lnTo>
                    <a:lnTo>
                      <a:pt x="261" y="118"/>
                    </a:lnTo>
                    <a:lnTo>
                      <a:pt x="274" y="118"/>
                    </a:lnTo>
                    <a:lnTo>
                      <a:pt x="279" y="118"/>
                    </a:lnTo>
                    <a:lnTo>
                      <a:pt x="286" y="118"/>
                    </a:lnTo>
                    <a:lnTo>
                      <a:pt x="291" y="118"/>
                    </a:lnTo>
                    <a:lnTo>
                      <a:pt x="305" y="118"/>
                    </a:lnTo>
                    <a:lnTo>
                      <a:pt x="310" y="118"/>
                    </a:lnTo>
                    <a:lnTo>
                      <a:pt x="317" y="118"/>
                    </a:lnTo>
                    <a:lnTo>
                      <a:pt x="323" y="118"/>
                    </a:lnTo>
                    <a:lnTo>
                      <a:pt x="329" y="118"/>
                    </a:lnTo>
                    <a:lnTo>
                      <a:pt x="342" y="118"/>
                    </a:lnTo>
                    <a:lnTo>
                      <a:pt x="347" y="118"/>
                    </a:lnTo>
                    <a:lnTo>
                      <a:pt x="354" y="118"/>
                    </a:lnTo>
                    <a:lnTo>
                      <a:pt x="361" y="118"/>
                    </a:lnTo>
                    <a:lnTo>
                      <a:pt x="373" y="118"/>
                    </a:lnTo>
                    <a:lnTo>
                      <a:pt x="379" y="118"/>
                    </a:lnTo>
                    <a:lnTo>
                      <a:pt x="385" y="118"/>
                    </a:lnTo>
                    <a:lnTo>
                      <a:pt x="391" y="118"/>
                    </a:lnTo>
                    <a:lnTo>
                      <a:pt x="397" y="118"/>
                    </a:lnTo>
                    <a:lnTo>
                      <a:pt x="410" y="118"/>
                    </a:lnTo>
                    <a:lnTo>
                      <a:pt x="416" y="118"/>
                    </a:lnTo>
                    <a:lnTo>
                      <a:pt x="422" y="118"/>
                    </a:lnTo>
                    <a:lnTo>
                      <a:pt x="429" y="118"/>
                    </a:lnTo>
                    <a:lnTo>
                      <a:pt x="434" y="118"/>
                    </a:lnTo>
                    <a:lnTo>
                      <a:pt x="448" y="118"/>
                    </a:lnTo>
                    <a:lnTo>
                      <a:pt x="453" y="118"/>
                    </a:lnTo>
                    <a:lnTo>
                      <a:pt x="460" y="118"/>
                    </a:lnTo>
                    <a:lnTo>
                      <a:pt x="466" y="118"/>
                    </a:lnTo>
                    <a:lnTo>
                      <a:pt x="478" y="118"/>
                    </a:lnTo>
                    <a:lnTo>
                      <a:pt x="484" y="118"/>
                    </a:lnTo>
                    <a:lnTo>
                      <a:pt x="490" y="118"/>
                    </a:lnTo>
                    <a:lnTo>
                      <a:pt x="497" y="118"/>
                    </a:lnTo>
                    <a:lnTo>
                      <a:pt x="503" y="118"/>
                    </a:lnTo>
                    <a:lnTo>
                      <a:pt x="516" y="118"/>
                    </a:lnTo>
                    <a:lnTo>
                      <a:pt x="521" y="118"/>
                    </a:lnTo>
                    <a:lnTo>
                      <a:pt x="528" y="118"/>
                    </a:lnTo>
                    <a:lnTo>
                      <a:pt x="534" y="118"/>
                    </a:lnTo>
                    <a:lnTo>
                      <a:pt x="547" y="118"/>
                    </a:lnTo>
                    <a:lnTo>
                      <a:pt x="553" y="118"/>
                    </a:lnTo>
                    <a:lnTo>
                      <a:pt x="559" y="118"/>
                    </a:lnTo>
                    <a:lnTo>
                      <a:pt x="565" y="118"/>
                    </a:lnTo>
                    <a:lnTo>
                      <a:pt x="572" y="118"/>
                    </a:lnTo>
                    <a:lnTo>
                      <a:pt x="584" y="118"/>
                    </a:lnTo>
                    <a:lnTo>
                      <a:pt x="589" y="118"/>
                    </a:lnTo>
                    <a:lnTo>
                      <a:pt x="596" y="118"/>
                    </a:lnTo>
                    <a:lnTo>
                      <a:pt x="603" y="118"/>
                    </a:lnTo>
                    <a:lnTo>
                      <a:pt x="615" y="118"/>
                    </a:lnTo>
                    <a:lnTo>
                      <a:pt x="621" y="118"/>
                    </a:lnTo>
                    <a:lnTo>
                      <a:pt x="627" y="118"/>
                    </a:lnTo>
                    <a:lnTo>
                      <a:pt x="633" y="118"/>
                    </a:lnTo>
                    <a:lnTo>
                      <a:pt x="640" y="118"/>
                    </a:lnTo>
                    <a:lnTo>
                      <a:pt x="652" y="118"/>
                    </a:lnTo>
                    <a:lnTo>
                      <a:pt x="659" y="118"/>
                    </a:lnTo>
                    <a:lnTo>
                      <a:pt x="664" y="118"/>
                    </a:lnTo>
                    <a:lnTo>
                      <a:pt x="671" y="118"/>
                    </a:lnTo>
                    <a:lnTo>
                      <a:pt x="683" y="118"/>
                    </a:lnTo>
                    <a:lnTo>
                      <a:pt x="690" y="118"/>
                    </a:lnTo>
                    <a:lnTo>
                      <a:pt x="695" y="118"/>
                    </a:lnTo>
                    <a:lnTo>
                      <a:pt x="702" y="118"/>
                    </a:lnTo>
                    <a:lnTo>
                      <a:pt x="708" y="118"/>
                    </a:lnTo>
                    <a:lnTo>
                      <a:pt x="720" y="118"/>
                    </a:lnTo>
                    <a:lnTo>
                      <a:pt x="727" y="118"/>
                    </a:lnTo>
                    <a:lnTo>
                      <a:pt x="732" y="118"/>
                    </a:lnTo>
                    <a:lnTo>
                      <a:pt x="739" y="118"/>
                    </a:lnTo>
                    <a:lnTo>
                      <a:pt x="751" y="118"/>
                    </a:lnTo>
                    <a:lnTo>
                      <a:pt x="758" y="118"/>
                    </a:lnTo>
                    <a:lnTo>
                      <a:pt x="764" y="118"/>
                    </a:lnTo>
                    <a:lnTo>
                      <a:pt x="770" y="118"/>
                    </a:lnTo>
                    <a:lnTo>
                      <a:pt x="776" y="118"/>
                    </a:lnTo>
                    <a:lnTo>
                      <a:pt x="789" y="118"/>
                    </a:lnTo>
                    <a:lnTo>
                      <a:pt x="795" y="118"/>
                    </a:lnTo>
                    <a:lnTo>
                      <a:pt x="801" y="0"/>
                    </a:lnTo>
                    <a:lnTo>
                      <a:pt x="807" y="0"/>
                    </a:lnTo>
                    <a:lnTo>
                      <a:pt x="814" y="0"/>
                    </a:lnTo>
                    <a:lnTo>
                      <a:pt x="826" y="0"/>
                    </a:lnTo>
                    <a:lnTo>
                      <a:pt x="833" y="0"/>
                    </a:lnTo>
                    <a:lnTo>
                      <a:pt x="838" y="0"/>
                    </a:lnTo>
                    <a:lnTo>
                      <a:pt x="845" y="0"/>
                    </a:lnTo>
                    <a:lnTo>
                      <a:pt x="857" y="0"/>
                    </a:lnTo>
                    <a:lnTo>
                      <a:pt x="863" y="0"/>
                    </a:lnTo>
                    <a:lnTo>
                      <a:pt x="869" y="0"/>
                    </a:lnTo>
                    <a:lnTo>
                      <a:pt x="875" y="0"/>
                    </a:lnTo>
                    <a:lnTo>
                      <a:pt x="882" y="0"/>
                    </a:lnTo>
                    <a:lnTo>
                      <a:pt x="894" y="0"/>
                    </a:lnTo>
                    <a:lnTo>
                      <a:pt x="901" y="0"/>
                    </a:lnTo>
                    <a:lnTo>
                      <a:pt x="906" y="0"/>
                    </a:lnTo>
                    <a:lnTo>
                      <a:pt x="913" y="0"/>
                    </a:lnTo>
                    <a:lnTo>
                      <a:pt x="925" y="0"/>
                    </a:lnTo>
                    <a:lnTo>
                      <a:pt x="932" y="0"/>
                    </a:lnTo>
                    <a:lnTo>
                      <a:pt x="938" y="0"/>
                    </a:lnTo>
                    <a:lnTo>
                      <a:pt x="944" y="0"/>
                    </a:lnTo>
                    <a:lnTo>
                      <a:pt x="950" y="0"/>
                    </a:lnTo>
                    <a:lnTo>
                      <a:pt x="96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8891640" y="5630760"/>
                <a:ext cx="10800" cy="187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5" name=""/>
            <p:cNvSpPr/>
            <p:nvPr/>
          </p:nvSpPr>
          <p:spPr>
            <a:xfrm>
              <a:off x="7364160" y="4208400"/>
              <a:ext cx="1528920" cy="376200"/>
            </a:xfrm>
            <a:custGeom>
              <a:avLst/>
              <a:gdLst/>
              <a:ahLst/>
              <a:rect l="l" t="t" r="r" b="b"/>
              <a:pathLst>
                <a:path w="963" h="237">
                  <a:moveTo>
                    <a:pt x="0" y="53"/>
                  </a:moveTo>
                  <a:lnTo>
                    <a:pt x="7" y="53"/>
                  </a:lnTo>
                  <a:lnTo>
                    <a:pt x="12" y="53"/>
                  </a:lnTo>
                  <a:lnTo>
                    <a:pt x="19" y="53"/>
                  </a:lnTo>
                  <a:lnTo>
                    <a:pt x="31" y="44"/>
                  </a:lnTo>
                  <a:lnTo>
                    <a:pt x="37" y="35"/>
                  </a:lnTo>
                  <a:lnTo>
                    <a:pt x="44" y="26"/>
                  </a:lnTo>
                  <a:lnTo>
                    <a:pt x="49" y="18"/>
                  </a:lnTo>
                  <a:lnTo>
                    <a:pt x="56" y="18"/>
                  </a:lnTo>
                  <a:lnTo>
                    <a:pt x="68" y="9"/>
                  </a:lnTo>
                  <a:lnTo>
                    <a:pt x="75" y="9"/>
                  </a:lnTo>
                  <a:lnTo>
                    <a:pt x="81" y="9"/>
                  </a:lnTo>
                  <a:lnTo>
                    <a:pt x="87" y="9"/>
                  </a:lnTo>
                  <a:lnTo>
                    <a:pt x="100" y="0"/>
                  </a:lnTo>
                  <a:lnTo>
                    <a:pt x="105" y="9"/>
                  </a:lnTo>
                  <a:lnTo>
                    <a:pt x="112" y="9"/>
                  </a:lnTo>
                  <a:lnTo>
                    <a:pt x="119" y="18"/>
                  </a:lnTo>
                  <a:lnTo>
                    <a:pt x="124" y="18"/>
                  </a:lnTo>
                  <a:lnTo>
                    <a:pt x="136" y="18"/>
                  </a:lnTo>
                  <a:lnTo>
                    <a:pt x="143" y="26"/>
                  </a:lnTo>
                  <a:lnTo>
                    <a:pt x="149" y="26"/>
                  </a:lnTo>
                  <a:lnTo>
                    <a:pt x="155" y="35"/>
                  </a:lnTo>
                  <a:lnTo>
                    <a:pt x="168" y="35"/>
                  </a:lnTo>
                  <a:lnTo>
                    <a:pt x="174" y="44"/>
                  </a:lnTo>
                  <a:lnTo>
                    <a:pt x="180" y="53"/>
                  </a:lnTo>
                  <a:lnTo>
                    <a:pt x="187" y="53"/>
                  </a:lnTo>
                  <a:lnTo>
                    <a:pt x="192" y="62"/>
                  </a:lnTo>
                  <a:lnTo>
                    <a:pt x="206" y="62"/>
                  </a:lnTo>
                  <a:lnTo>
                    <a:pt x="211" y="71"/>
                  </a:lnTo>
                  <a:lnTo>
                    <a:pt x="218" y="71"/>
                  </a:lnTo>
                  <a:lnTo>
                    <a:pt x="224" y="71"/>
                  </a:lnTo>
                  <a:lnTo>
                    <a:pt x="236" y="79"/>
                  </a:lnTo>
                  <a:lnTo>
                    <a:pt x="243" y="79"/>
                  </a:lnTo>
                  <a:lnTo>
                    <a:pt x="248" y="88"/>
                  </a:lnTo>
                  <a:lnTo>
                    <a:pt x="255" y="88"/>
                  </a:lnTo>
                  <a:lnTo>
                    <a:pt x="261" y="88"/>
                  </a:lnTo>
                  <a:lnTo>
                    <a:pt x="274" y="97"/>
                  </a:lnTo>
                  <a:lnTo>
                    <a:pt x="279" y="106"/>
                  </a:lnTo>
                  <a:lnTo>
                    <a:pt x="286" y="106"/>
                  </a:lnTo>
                  <a:lnTo>
                    <a:pt x="292" y="115"/>
                  </a:lnTo>
                  <a:lnTo>
                    <a:pt x="305" y="106"/>
                  </a:lnTo>
                  <a:lnTo>
                    <a:pt x="311" y="106"/>
                  </a:lnTo>
                  <a:lnTo>
                    <a:pt x="317" y="106"/>
                  </a:lnTo>
                  <a:lnTo>
                    <a:pt x="323" y="115"/>
                  </a:lnTo>
                  <a:lnTo>
                    <a:pt x="330" y="122"/>
                  </a:lnTo>
                  <a:lnTo>
                    <a:pt x="342" y="131"/>
                  </a:lnTo>
                  <a:lnTo>
                    <a:pt x="349" y="131"/>
                  </a:lnTo>
                  <a:lnTo>
                    <a:pt x="354" y="140"/>
                  </a:lnTo>
                  <a:lnTo>
                    <a:pt x="361" y="149"/>
                  </a:lnTo>
                  <a:lnTo>
                    <a:pt x="373" y="158"/>
                  </a:lnTo>
                  <a:lnTo>
                    <a:pt x="379" y="166"/>
                  </a:lnTo>
                  <a:lnTo>
                    <a:pt x="385" y="175"/>
                  </a:lnTo>
                  <a:lnTo>
                    <a:pt x="391" y="184"/>
                  </a:lnTo>
                  <a:lnTo>
                    <a:pt x="398" y="184"/>
                  </a:lnTo>
                  <a:lnTo>
                    <a:pt x="410" y="175"/>
                  </a:lnTo>
                  <a:lnTo>
                    <a:pt x="417" y="184"/>
                  </a:lnTo>
                  <a:lnTo>
                    <a:pt x="422" y="175"/>
                  </a:lnTo>
                  <a:lnTo>
                    <a:pt x="429" y="175"/>
                  </a:lnTo>
                  <a:lnTo>
                    <a:pt x="435" y="175"/>
                  </a:lnTo>
                  <a:lnTo>
                    <a:pt x="448" y="175"/>
                  </a:lnTo>
                  <a:lnTo>
                    <a:pt x="454" y="175"/>
                  </a:lnTo>
                  <a:lnTo>
                    <a:pt x="460" y="166"/>
                  </a:lnTo>
                  <a:lnTo>
                    <a:pt x="466" y="166"/>
                  </a:lnTo>
                  <a:lnTo>
                    <a:pt x="478" y="158"/>
                  </a:lnTo>
                  <a:lnTo>
                    <a:pt x="485" y="140"/>
                  </a:lnTo>
                  <a:lnTo>
                    <a:pt x="492" y="131"/>
                  </a:lnTo>
                  <a:lnTo>
                    <a:pt x="497" y="115"/>
                  </a:lnTo>
                  <a:lnTo>
                    <a:pt x="504" y="106"/>
                  </a:lnTo>
                  <a:lnTo>
                    <a:pt x="516" y="88"/>
                  </a:lnTo>
                  <a:lnTo>
                    <a:pt x="522" y="79"/>
                  </a:lnTo>
                  <a:lnTo>
                    <a:pt x="528" y="71"/>
                  </a:lnTo>
                  <a:lnTo>
                    <a:pt x="534" y="71"/>
                  </a:lnTo>
                  <a:lnTo>
                    <a:pt x="547" y="71"/>
                  </a:lnTo>
                  <a:lnTo>
                    <a:pt x="553" y="71"/>
                  </a:lnTo>
                  <a:lnTo>
                    <a:pt x="560" y="79"/>
                  </a:lnTo>
                  <a:lnTo>
                    <a:pt x="565" y="88"/>
                  </a:lnTo>
                  <a:lnTo>
                    <a:pt x="572" y="97"/>
                  </a:lnTo>
                  <a:lnTo>
                    <a:pt x="584" y="106"/>
                  </a:lnTo>
                  <a:lnTo>
                    <a:pt x="591" y="106"/>
                  </a:lnTo>
                  <a:lnTo>
                    <a:pt x="597" y="115"/>
                  </a:lnTo>
                  <a:lnTo>
                    <a:pt x="603" y="122"/>
                  </a:lnTo>
                  <a:lnTo>
                    <a:pt x="616" y="131"/>
                  </a:lnTo>
                  <a:lnTo>
                    <a:pt x="621" y="149"/>
                  </a:lnTo>
                  <a:lnTo>
                    <a:pt x="628" y="158"/>
                  </a:lnTo>
                  <a:lnTo>
                    <a:pt x="635" y="158"/>
                  </a:lnTo>
                  <a:lnTo>
                    <a:pt x="640" y="166"/>
                  </a:lnTo>
                  <a:lnTo>
                    <a:pt x="652" y="166"/>
                  </a:lnTo>
                  <a:lnTo>
                    <a:pt x="659" y="175"/>
                  </a:lnTo>
                  <a:lnTo>
                    <a:pt x="665" y="184"/>
                  </a:lnTo>
                  <a:lnTo>
                    <a:pt x="671" y="202"/>
                  </a:lnTo>
                  <a:lnTo>
                    <a:pt x="684" y="210"/>
                  </a:lnTo>
                  <a:lnTo>
                    <a:pt x="690" y="210"/>
                  </a:lnTo>
                  <a:lnTo>
                    <a:pt x="696" y="219"/>
                  </a:lnTo>
                  <a:lnTo>
                    <a:pt x="703" y="219"/>
                  </a:lnTo>
                  <a:lnTo>
                    <a:pt x="708" y="228"/>
                  </a:lnTo>
                  <a:lnTo>
                    <a:pt x="721" y="228"/>
                  </a:lnTo>
                  <a:lnTo>
                    <a:pt x="727" y="237"/>
                  </a:lnTo>
                  <a:lnTo>
                    <a:pt x="734" y="237"/>
                  </a:lnTo>
                  <a:lnTo>
                    <a:pt x="740" y="237"/>
                  </a:lnTo>
                  <a:lnTo>
                    <a:pt x="752" y="228"/>
                  </a:lnTo>
                  <a:lnTo>
                    <a:pt x="759" y="228"/>
                  </a:lnTo>
                  <a:lnTo>
                    <a:pt x="764" y="219"/>
                  </a:lnTo>
                  <a:lnTo>
                    <a:pt x="771" y="219"/>
                  </a:lnTo>
                  <a:lnTo>
                    <a:pt x="776" y="219"/>
                  </a:lnTo>
                  <a:lnTo>
                    <a:pt x="790" y="210"/>
                  </a:lnTo>
                  <a:lnTo>
                    <a:pt x="795" y="193"/>
                  </a:lnTo>
                  <a:lnTo>
                    <a:pt x="802" y="184"/>
                  </a:lnTo>
                  <a:lnTo>
                    <a:pt x="808" y="166"/>
                  </a:lnTo>
                  <a:lnTo>
                    <a:pt x="814" y="158"/>
                  </a:lnTo>
                  <a:lnTo>
                    <a:pt x="827" y="149"/>
                  </a:lnTo>
                  <a:lnTo>
                    <a:pt x="833" y="131"/>
                  </a:lnTo>
                  <a:lnTo>
                    <a:pt x="839" y="122"/>
                  </a:lnTo>
                  <a:lnTo>
                    <a:pt x="846" y="115"/>
                  </a:lnTo>
                  <a:lnTo>
                    <a:pt x="858" y="115"/>
                  </a:lnTo>
                  <a:lnTo>
                    <a:pt x="864" y="106"/>
                  </a:lnTo>
                  <a:lnTo>
                    <a:pt x="870" y="97"/>
                  </a:lnTo>
                  <a:lnTo>
                    <a:pt x="877" y="97"/>
                  </a:lnTo>
                  <a:lnTo>
                    <a:pt x="883" y="88"/>
                  </a:lnTo>
                  <a:lnTo>
                    <a:pt x="895" y="88"/>
                  </a:lnTo>
                  <a:lnTo>
                    <a:pt x="901" y="88"/>
                  </a:lnTo>
                  <a:lnTo>
                    <a:pt x="907" y="79"/>
                  </a:lnTo>
                  <a:lnTo>
                    <a:pt x="914" y="79"/>
                  </a:lnTo>
                  <a:lnTo>
                    <a:pt x="926" y="79"/>
                  </a:lnTo>
                  <a:lnTo>
                    <a:pt x="933" y="79"/>
                  </a:lnTo>
                  <a:lnTo>
                    <a:pt x="938" y="79"/>
                  </a:lnTo>
                  <a:lnTo>
                    <a:pt x="945" y="79"/>
                  </a:lnTo>
                  <a:lnTo>
                    <a:pt x="951" y="79"/>
                  </a:lnTo>
                  <a:lnTo>
                    <a:pt x="963" y="88"/>
                  </a:lnTo>
                </a:path>
              </a:pathLst>
            </a:custGeom>
            <a:noFill/>
            <a:ln w="20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7364160" y="4446360"/>
              <a:ext cx="1528920" cy="320760"/>
            </a:xfrm>
            <a:custGeom>
              <a:avLst/>
              <a:gdLst/>
              <a:ahLst/>
              <a:rect l="l" t="t" r="r" b="b"/>
              <a:pathLst>
                <a:path w="963" h="202">
                  <a:moveTo>
                    <a:pt x="0" y="0"/>
                  </a:moveTo>
                  <a:lnTo>
                    <a:pt x="0" y="27"/>
                  </a:lnTo>
                  <a:lnTo>
                    <a:pt x="7" y="27"/>
                  </a:lnTo>
                  <a:lnTo>
                    <a:pt x="12" y="27"/>
                  </a:lnTo>
                  <a:lnTo>
                    <a:pt x="19" y="27"/>
                  </a:lnTo>
                  <a:lnTo>
                    <a:pt x="31" y="27"/>
                  </a:lnTo>
                  <a:lnTo>
                    <a:pt x="37" y="27"/>
                  </a:lnTo>
                  <a:lnTo>
                    <a:pt x="44" y="27"/>
                  </a:lnTo>
                  <a:lnTo>
                    <a:pt x="49" y="27"/>
                  </a:lnTo>
                  <a:lnTo>
                    <a:pt x="56" y="27"/>
                  </a:lnTo>
                  <a:lnTo>
                    <a:pt x="68" y="27"/>
                  </a:lnTo>
                  <a:lnTo>
                    <a:pt x="75" y="27"/>
                  </a:lnTo>
                  <a:lnTo>
                    <a:pt x="81" y="27"/>
                  </a:lnTo>
                  <a:lnTo>
                    <a:pt x="87" y="27"/>
                  </a:lnTo>
                  <a:lnTo>
                    <a:pt x="100" y="27"/>
                  </a:lnTo>
                  <a:lnTo>
                    <a:pt x="105" y="27"/>
                  </a:lnTo>
                  <a:lnTo>
                    <a:pt x="112" y="27"/>
                  </a:lnTo>
                  <a:lnTo>
                    <a:pt x="119" y="27"/>
                  </a:lnTo>
                  <a:lnTo>
                    <a:pt x="124" y="27"/>
                  </a:lnTo>
                  <a:lnTo>
                    <a:pt x="136" y="27"/>
                  </a:lnTo>
                  <a:lnTo>
                    <a:pt x="143" y="27"/>
                  </a:lnTo>
                  <a:lnTo>
                    <a:pt x="149" y="27"/>
                  </a:lnTo>
                  <a:lnTo>
                    <a:pt x="155" y="27"/>
                  </a:lnTo>
                  <a:lnTo>
                    <a:pt x="155" y="13"/>
                  </a:lnTo>
                  <a:lnTo>
                    <a:pt x="143" y="19"/>
                  </a:lnTo>
                  <a:lnTo>
                    <a:pt x="145" y="23"/>
                  </a:lnTo>
                  <a:lnTo>
                    <a:pt x="149" y="25"/>
                  </a:lnTo>
                  <a:lnTo>
                    <a:pt x="142" y="15"/>
                  </a:lnTo>
                  <a:lnTo>
                    <a:pt x="155" y="102"/>
                  </a:lnTo>
                  <a:lnTo>
                    <a:pt x="156" y="106"/>
                  </a:lnTo>
                  <a:lnTo>
                    <a:pt x="158" y="110"/>
                  </a:lnTo>
                  <a:lnTo>
                    <a:pt x="163" y="112"/>
                  </a:lnTo>
                  <a:lnTo>
                    <a:pt x="168" y="114"/>
                  </a:lnTo>
                  <a:lnTo>
                    <a:pt x="174" y="114"/>
                  </a:lnTo>
                  <a:lnTo>
                    <a:pt x="180" y="114"/>
                  </a:lnTo>
                  <a:lnTo>
                    <a:pt x="187" y="114"/>
                  </a:lnTo>
                  <a:lnTo>
                    <a:pt x="192" y="114"/>
                  </a:lnTo>
                  <a:lnTo>
                    <a:pt x="206" y="114"/>
                  </a:lnTo>
                  <a:lnTo>
                    <a:pt x="211" y="114"/>
                  </a:lnTo>
                  <a:lnTo>
                    <a:pt x="218" y="114"/>
                  </a:lnTo>
                  <a:lnTo>
                    <a:pt x="224" y="114"/>
                  </a:lnTo>
                  <a:lnTo>
                    <a:pt x="236" y="114"/>
                  </a:lnTo>
                  <a:lnTo>
                    <a:pt x="243" y="114"/>
                  </a:lnTo>
                  <a:lnTo>
                    <a:pt x="248" y="114"/>
                  </a:lnTo>
                  <a:lnTo>
                    <a:pt x="255" y="114"/>
                  </a:lnTo>
                  <a:lnTo>
                    <a:pt x="261" y="114"/>
                  </a:lnTo>
                  <a:lnTo>
                    <a:pt x="274" y="114"/>
                  </a:lnTo>
                  <a:lnTo>
                    <a:pt x="279" y="114"/>
                  </a:lnTo>
                  <a:lnTo>
                    <a:pt x="286" y="114"/>
                  </a:lnTo>
                  <a:lnTo>
                    <a:pt x="292" y="114"/>
                  </a:lnTo>
                  <a:lnTo>
                    <a:pt x="305" y="114"/>
                  </a:lnTo>
                  <a:lnTo>
                    <a:pt x="311" y="114"/>
                  </a:lnTo>
                  <a:lnTo>
                    <a:pt x="317" y="114"/>
                  </a:lnTo>
                  <a:lnTo>
                    <a:pt x="323" y="114"/>
                  </a:lnTo>
                  <a:lnTo>
                    <a:pt x="330" y="114"/>
                  </a:lnTo>
                  <a:lnTo>
                    <a:pt x="342" y="114"/>
                  </a:lnTo>
                  <a:lnTo>
                    <a:pt x="349" y="114"/>
                  </a:lnTo>
                  <a:lnTo>
                    <a:pt x="354" y="114"/>
                  </a:lnTo>
                  <a:lnTo>
                    <a:pt x="361" y="114"/>
                  </a:lnTo>
                  <a:lnTo>
                    <a:pt x="373" y="114"/>
                  </a:lnTo>
                  <a:lnTo>
                    <a:pt x="379" y="114"/>
                  </a:lnTo>
                  <a:lnTo>
                    <a:pt x="385" y="114"/>
                  </a:lnTo>
                  <a:lnTo>
                    <a:pt x="391" y="114"/>
                  </a:lnTo>
                  <a:lnTo>
                    <a:pt x="398" y="114"/>
                  </a:lnTo>
                  <a:lnTo>
                    <a:pt x="410" y="114"/>
                  </a:lnTo>
                  <a:lnTo>
                    <a:pt x="417" y="114"/>
                  </a:lnTo>
                  <a:lnTo>
                    <a:pt x="422" y="114"/>
                  </a:lnTo>
                  <a:lnTo>
                    <a:pt x="429" y="114"/>
                  </a:lnTo>
                  <a:lnTo>
                    <a:pt x="435" y="114"/>
                  </a:lnTo>
                  <a:lnTo>
                    <a:pt x="448" y="114"/>
                  </a:lnTo>
                  <a:lnTo>
                    <a:pt x="454" y="114"/>
                  </a:lnTo>
                  <a:lnTo>
                    <a:pt x="460" y="114"/>
                  </a:lnTo>
                  <a:lnTo>
                    <a:pt x="466" y="114"/>
                  </a:lnTo>
                  <a:lnTo>
                    <a:pt x="478" y="114"/>
                  </a:lnTo>
                  <a:lnTo>
                    <a:pt x="485" y="114"/>
                  </a:lnTo>
                  <a:lnTo>
                    <a:pt x="492" y="114"/>
                  </a:lnTo>
                  <a:lnTo>
                    <a:pt x="497" y="114"/>
                  </a:lnTo>
                  <a:lnTo>
                    <a:pt x="504" y="114"/>
                  </a:lnTo>
                  <a:lnTo>
                    <a:pt x="516" y="114"/>
                  </a:lnTo>
                  <a:lnTo>
                    <a:pt x="522" y="114"/>
                  </a:lnTo>
                  <a:lnTo>
                    <a:pt x="528" y="114"/>
                  </a:lnTo>
                  <a:lnTo>
                    <a:pt x="534" y="114"/>
                  </a:lnTo>
                  <a:lnTo>
                    <a:pt x="547" y="114"/>
                  </a:lnTo>
                  <a:lnTo>
                    <a:pt x="553" y="114"/>
                  </a:lnTo>
                  <a:lnTo>
                    <a:pt x="560" y="114"/>
                  </a:lnTo>
                  <a:lnTo>
                    <a:pt x="565" y="114"/>
                  </a:lnTo>
                  <a:lnTo>
                    <a:pt x="572" y="114"/>
                  </a:lnTo>
                  <a:lnTo>
                    <a:pt x="584" y="114"/>
                  </a:lnTo>
                  <a:lnTo>
                    <a:pt x="591" y="114"/>
                  </a:lnTo>
                  <a:lnTo>
                    <a:pt x="597" y="114"/>
                  </a:lnTo>
                  <a:lnTo>
                    <a:pt x="603" y="114"/>
                  </a:lnTo>
                  <a:lnTo>
                    <a:pt x="616" y="114"/>
                  </a:lnTo>
                  <a:lnTo>
                    <a:pt x="616" y="100"/>
                  </a:lnTo>
                  <a:lnTo>
                    <a:pt x="604" y="106"/>
                  </a:lnTo>
                  <a:lnTo>
                    <a:pt x="606" y="110"/>
                  </a:lnTo>
                  <a:lnTo>
                    <a:pt x="610" y="112"/>
                  </a:lnTo>
                  <a:lnTo>
                    <a:pt x="603" y="101"/>
                  </a:lnTo>
                  <a:lnTo>
                    <a:pt x="608" y="189"/>
                  </a:lnTo>
                  <a:lnTo>
                    <a:pt x="609" y="194"/>
                  </a:lnTo>
                  <a:lnTo>
                    <a:pt x="611" y="198"/>
                  </a:lnTo>
                  <a:lnTo>
                    <a:pt x="616" y="200"/>
                  </a:lnTo>
                  <a:lnTo>
                    <a:pt x="621" y="202"/>
                  </a:lnTo>
                  <a:lnTo>
                    <a:pt x="628" y="202"/>
                  </a:lnTo>
                  <a:lnTo>
                    <a:pt x="635" y="202"/>
                  </a:lnTo>
                  <a:lnTo>
                    <a:pt x="640" y="202"/>
                  </a:lnTo>
                  <a:lnTo>
                    <a:pt x="652" y="202"/>
                  </a:lnTo>
                  <a:lnTo>
                    <a:pt x="659" y="202"/>
                  </a:lnTo>
                  <a:lnTo>
                    <a:pt x="665" y="202"/>
                  </a:lnTo>
                  <a:lnTo>
                    <a:pt x="671" y="202"/>
                  </a:lnTo>
                  <a:lnTo>
                    <a:pt x="684" y="202"/>
                  </a:lnTo>
                  <a:lnTo>
                    <a:pt x="690" y="202"/>
                  </a:lnTo>
                  <a:lnTo>
                    <a:pt x="696" y="202"/>
                  </a:lnTo>
                  <a:lnTo>
                    <a:pt x="703" y="202"/>
                  </a:lnTo>
                  <a:lnTo>
                    <a:pt x="708" y="202"/>
                  </a:lnTo>
                  <a:lnTo>
                    <a:pt x="721" y="202"/>
                  </a:lnTo>
                  <a:lnTo>
                    <a:pt x="727" y="202"/>
                  </a:lnTo>
                  <a:lnTo>
                    <a:pt x="734" y="202"/>
                  </a:lnTo>
                  <a:lnTo>
                    <a:pt x="740" y="202"/>
                  </a:lnTo>
                  <a:lnTo>
                    <a:pt x="752" y="202"/>
                  </a:lnTo>
                  <a:lnTo>
                    <a:pt x="759" y="202"/>
                  </a:lnTo>
                  <a:lnTo>
                    <a:pt x="764" y="202"/>
                  </a:lnTo>
                  <a:lnTo>
                    <a:pt x="771" y="202"/>
                  </a:lnTo>
                  <a:lnTo>
                    <a:pt x="776" y="202"/>
                  </a:lnTo>
                  <a:lnTo>
                    <a:pt x="790" y="202"/>
                  </a:lnTo>
                  <a:lnTo>
                    <a:pt x="795" y="202"/>
                  </a:lnTo>
                  <a:lnTo>
                    <a:pt x="795" y="201"/>
                  </a:lnTo>
                  <a:lnTo>
                    <a:pt x="801" y="200"/>
                  </a:lnTo>
                  <a:lnTo>
                    <a:pt x="805" y="198"/>
                  </a:lnTo>
                  <a:lnTo>
                    <a:pt x="807" y="194"/>
                  </a:lnTo>
                  <a:lnTo>
                    <a:pt x="809" y="189"/>
                  </a:lnTo>
                  <a:lnTo>
                    <a:pt x="816" y="93"/>
                  </a:lnTo>
                  <a:lnTo>
                    <a:pt x="802" y="92"/>
                  </a:lnTo>
                  <a:lnTo>
                    <a:pt x="802" y="106"/>
                  </a:lnTo>
                  <a:lnTo>
                    <a:pt x="807" y="104"/>
                  </a:lnTo>
                  <a:lnTo>
                    <a:pt x="812" y="102"/>
                  </a:lnTo>
                  <a:lnTo>
                    <a:pt x="814" y="98"/>
                  </a:lnTo>
                  <a:lnTo>
                    <a:pt x="802" y="107"/>
                  </a:lnTo>
                  <a:lnTo>
                    <a:pt x="808" y="107"/>
                  </a:lnTo>
                  <a:lnTo>
                    <a:pt x="814" y="107"/>
                  </a:lnTo>
                  <a:lnTo>
                    <a:pt x="827" y="107"/>
                  </a:lnTo>
                  <a:lnTo>
                    <a:pt x="833" y="107"/>
                  </a:lnTo>
                  <a:lnTo>
                    <a:pt x="839" y="107"/>
                  </a:lnTo>
                  <a:lnTo>
                    <a:pt x="846" y="107"/>
                  </a:lnTo>
                  <a:lnTo>
                    <a:pt x="858" y="107"/>
                  </a:lnTo>
                  <a:lnTo>
                    <a:pt x="864" y="107"/>
                  </a:lnTo>
                  <a:lnTo>
                    <a:pt x="870" y="107"/>
                  </a:lnTo>
                  <a:lnTo>
                    <a:pt x="877" y="107"/>
                  </a:lnTo>
                  <a:lnTo>
                    <a:pt x="883" y="107"/>
                  </a:lnTo>
                  <a:lnTo>
                    <a:pt x="895" y="107"/>
                  </a:lnTo>
                  <a:lnTo>
                    <a:pt x="901" y="107"/>
                  </a:lnTo>
                  <a:lnTo>
                    <a:pt x="907" y="107"/>
                  </a:lnTo>
                  <a:lnTo>
                    <a:pt x="914" y="107"/>
                  </a:lnTo>
                  <a:lnTo>
                    <a:pt x="926" y="107"/>
                  </a:lnTo>
                  <a:lnTo>
                    <a:pt x="933" y="107"/>
                  </a:lnTo>
                  <a:lnTo>
                    <a:pt x="938" y="107"/>
                  </a:lnTo>
                  <a:lnTo>
                    <a:pt x="945" y="107"/>
                  </a:lnTo>
                  <a:lnTo>
                    <a:pt x="951" y="107"/>
                  </a:lnTo>
                  <a:lnTo>
                    <a:pt x="963" y="107"/>
                  </a:lnTo>
                  <a:lnTo>
                    <a:pt x="963" y="79"/>
                  </a:lnTo>
                  <a:lnTo>
                    <a:pt x="951" y="79"/>
                  </a:lnTo>
                  <a:lnTo>
                    <a:pt x="945" y="79"/>
                  </a:lnTo>
                  <a:lnTo>
                    <a:pt x="938" y="79"/>
                  </a:lnTo>
                  <a:lnTo>
                    <a:pt x="933" y="79"/>
                  </a:lnTo>
                  <a:lnTo>
                    <a:pt x="926" y="79"/>
                  </a:lnTo>
                  <a:lnTo>
                    <a:pt x="914" y="79"/>
                  </a:lnTo>
                  <a:lnTo>
                    <a:pt x="907" y="79"/>
                  </a:lnTo>
                  <a:lnTo>
                    <a:pt x="901" y="79"/>
                  </a:lnTo>
                  <a:lnTo>
                    <a:pt x="895" y="79"/>
                  </a:lnTo>
                  <a:lnTo>
                    <a:pt x="883" y="79"/>
                  </a:lnTo>
                  <a:lnTo>
                    <a:pt x="877" y="79"/>
                  </a:lnTo>
                  <a:lnTo>
                    <a:pt x="870" y="79"/>
                  </a:lnTo>
                  <a:lnTo>
                    <a:pt x="864" y="79"/>
                  </a:lnTo>
                  <a:lnTo>
                    <a:pt x="858" y="79"/>
                  </a:lnTo>
                  <a:lnTo>
                    <a:pt x="846" y="79"/>
                  </a:lnTo>
                  <a:lnTo>
                    <a:pt x="839" y="79"/>
                  </a:lnTo>
                  <a:lnTo>
                    <a:pt x="833" y="79"/>
                  </a:lnTo>
                  <a:lnTo>
                    <a:pt x="827" y="79"/>
                  </a:lnTo>
                  <a:lnTo>
                    <a:pt x="814" y="79"/>
                  </a:lnTo>
                  <a:lnTo>
                    <a:pt x="808" y="79"/>
                  </a:lnTo>
                  <a:lnTo>
                    <a:pt x="802" y="79"/>
                  </a:lnTo>
                  <a:lnTo>
                    <a:pt x="802" y="79"/>
                  </a:lnTo>
                  <a:lnTo>
                    <a:pt x="796" y="80"/>
                  </a:lnTo>
                  <a:lnTo>
                    <a:pt x="792" y="82"/>
                  </a:lnTo>
                  <a:lnTo>
                    <a:pt x="790" y="87"/>
                  </a:lnTo>
                  <a:lnTo>
                    <a:pt x="789" y="92"/>
                  </a:lnTo>
                  <a:lnTo>
                    <a:pt x="789" y="91"/>
                  </a:lnTo>
                  <a:lnTo>
                    <a:pt x="782" y="187"/>
                  </a:lnTo>
                  <a:lnTo>
                    <a:pt x="795" y="175"/>
                  </a:lnTo>
                  <a:lnTo>
                    <a:pt x="790" y="176"/>
                  </a:lnTo>
                  <a:lnTo>
                    <a:pt x="785" y="178"/>
                  </a:lnTo>
                  <a:lnTo>
                    <a:pt x="783" y="183"/>
                  </a:lnTo>
                  <a:lnTo>
                    <a:pt x="782" y="188"/>
                  </a:lnTo>
                  <a:lnTo>
                    <a:pt x="795" y="188"/>
                  </a:lnTo>
                  <a:lnTo>
                    <a:pt x="795" y="175"/>
                  </a:lnTo>
                  <a:lnTo>
                    <a:pt x="790" y="175"/>
                  </a:lnTo>
                  <a:lnTo>
                    <a:pt x="776" y="175"/>
                  </a:lnTo>
                  <a:lnTo>
                    <a:pt x="771" y="175"/>
                  </a:lnTo>
                  <a:lnTo>
                    <a:pt x="764" y="175"/>
                  </a:lnTo>
                  <a:lnTo>
                    <a:pt x="759" y="175"/>
                  </a:lnTo>
                  <a:lnTo>
                    <a:pt x="752" y="175"/>
                  </a:lnTo>
                  <a:lnTo>
                    <a:pt x="740" y="175"/>
                  </a:lnTo>
                  <a:lnTo>
                    <a:pt x="734" y="175"/>
                  </a:lnTo>
                  <a:lnTo>
                    <a:pt x="727" y="175"/>
                  </a:lnTo>
                  <a:lnTo>
                    <a:pt x="721" y="175"/>
                  </a:lnTo>
                  <a:lnTo>
                    <a:pt x="708" y="175"/>
                  </a:lnTo>
                  <a:lnTo>
                    <a:pt x="703" y="175"/>
                  </a:lnTo>
                  <a:lnTo>
                    <a:pt x="696" y="175"/>
                  </a:lnTo>
                  <a:lnTo>
                    <a:pt x="690" y="175"/>
                  </a:lnTo>
                  <a:lnTo>
                    <a:pt x="684" y="175"/>
                  </a:lnTo>
                  <a:lnTo>
                    <a:pt x="671" y="175"/>
                  </a:lnTo>
                  <a:lnTo>
                    <a:pt x="665" y="175"/>
                  </a:lnTo>
                  <a:lnTo>
                    <a:pt x="659" y="175"/>
                  </a:lnTo>
                  <a:lnTo>
                    <a:pt x="652" y="175"/>
                  </a:lnTo>
                  <a:lnTo>
                    <a:pt x="640" y="175"/>
                  </a:lnTo>
                  <a:lnTo>
                    <a:pt x="635" y="175"/>
                  </a:lnTo>
                  <a:lnTo>
                    <a:pt x="628" y="175"/>
                  </a:lnTo>
                  <a:lnTo>
                    <a:pt x="621" y="175"/>
                  </a:lnTo>
                  <a:lnTo>
                    <a:pt x="633" y="183"/>
                  </a:lnTo>
                  <a:lnTo>
                    <a:pt x="631" y="178"/>
                  </a:lnTo>
                  <a:lnTo>
                    <a:pt x="627" y="176"/>
                  </a:lnTo>
                  <a:lnTo>
                    <a:pt x="621" y="188"/>
                  </a:lnTo>
                  <a:lnTo>
                    <a:pt x="636" y="187"/>
                  </a:lnTo>
                  <a:lnTo>
                    <a:pt x="630" y="99"/>
                  </a:lnTo>
                  <a:lnTo>
                    <a:pt x="628" y="95"/>
                  </a:lnTo>
                  <a:lnTo>
                    <a:pt x="626" y="90"/>
                  </a:lnTo>
                  <a:lnTo>
                    <a:pt x="621" y="88"/>
                  </a:lnTo>
                  <a:lnTo>
                    <a:pt x="616" y="87"/>
                  </a:lnTo>
                  <a:lnTo>
                    <a:pt x="603" y="87"/>
                  </a:lnTo>
                  <a:lnTo>
                    <a:pt x="597" y="87"/>
                  </a:lnTo>
                  <a:lnTo>
                    <a:pt x="591" y="87"/>
                  </a:lnTo>
                  <a:lnTo>
                    <a:pt x="584" y="87"/>
                  </a:lnTo>
                  <a:lnTo>
                    <a:pt x="572" y="87"/>
                  </a:lnTo>
                  <a:lnTo>
                    <a:pt x="565" y="87"/>
                  </a:lnTo>
                  <a:lnTo>
                    <a:pt x="560" y="87"/>
                  </a:lnTo>
                  <a:lnTo>
                    <a:pt x="553" y="87"/>
                  </a:lnTo>
                  <a:lnTo>
                    <a:pt x="547" y="87"/>
                  </a:lnTo>
                  <a:lnTo>
                    <a:pt x="534" y="87"/>
                  </a:lnTo>
                  <a:lnTo>
                    <a:pt x="528" y="87"/>
                  </a:lnTo>
                  <a:lnTo>
                    <a:pt x="522" y="87"/>
                  </a:lnTo>
                  <a:lnTo>
                    <a:pt x="516" y="87"/>
                  </a:lnTo>
                  <a:lnTo>
                    <a:pt x="504" y="87"/>
                  </a:lnTo>
                  <a:lnTo>
                    <a:pt x="497" y="87"/>
                  </a:lnTo>
                  <a:lnTo>
                    <a:pt x="492" y="87"/>
                  </a:lnTo>
                  <a:lnTo>
                    <a:pt x="485" y="87"/>
                  </a:lnTo>
                  <a:lnTo>
                    <a:pt x="478" y="87"/>
                  </a:lnTo>
                  <a:lnTo>
                    <a:pt x="466" y="87"/>
                  </a:lnTo>
                  <a:lnTo>
                    <a:pt x="460" y="87"/>
                  </a:lnTo>
                  <a:lnTo>
                    <a:pt x="454" y="87"/>
                  </a:lnTo>
                  <a:lnTo>
                    <a:pt x="448" y="87"/>
                  </a:lnTo>
                  <a:lnTo>
                    <a:pt x="435" y="87"/>
                  </a:lnTo>
                  <a:lnTo>
                    <a:pt x="429" y="87"/>
                  </a:lnTo>
                  <a:lnTo>
                    <a:pt x="422" y="87"/>
                  </a:lnTo>
                  <a:lnTo>
                    <a:pt x="417" y="87"/>
                  </a:lnTo>
                  <a:lnTo>
                    <a:pt x="410" y="87"/>
                  </a:lnTo>
                  <a:lnTo>
                    <a:pt x="398" y="87"/>
                  </a:lnTo>
                  <a:lnTo>
                    <a:pt x="391" y="87"/>
                  </a:lnTo>
                  <a:lnTo>
                    <a:pt x="385" y="87"/>
                  </a:lnTo>
                  <a:lnTo>
                    <a:pt x="379" y="87"/>
                  </a:lnTo>
                  <a:lnTo>
                    <a:pt x="373" y="87"/>
                  </a:lnTo>
                  <a:lnTo>
                    <a:pt x="361" y="87"/>
                  </a:lnTo>
                  <a:lnTo>
                    <a:pt x="354" y="87"/>
                  </a:lnTo>
                  <a:lnTo>
                    <a:pt x="349" y="87"/>
                  </a:lnTo>
                  <a:lnTo>
                    <a:pt x="342" y="87"/>
                  </a:lnTo>
                  <a:lnTo>
                    <a:pt x="330" y="87"/>
                  </a:lnTo>
                  <a:lnTo>
                    <a:pt x="323" y="87"/>
                  </a:lnTo>
                  <a:lnTo>
                    <a:pt x="317" y="87"/>
                  </a:lnTo>
                  <a:lnTo>
                    <a:pt x="311" y="87"/>
                  </a:lnTo>
                  <a:lnTo>
                    <a:pt x="305" y="87"/>
                  </a:lnTo>
                  <a:lnTo>
                    <a:pt x="292" y="87"/>
                  </a:lnTo>
                  <a:lnTo>
                    <a:pt x="286" y="87"/>
                  </a:lnTo>
                  <a:lnTo>
                    <a:pt x="279" y="87"/>
                  </a:lnTo>
                  <a:lnTo>
                    <a:pt x="274" y="87"/>
                  </a:lnTo>
                  <a:lnTo>
                    <a:pt x="261" y="87"/>
                  </a:lnTo>
                  <a:lnTo>
                    <a:pt x="255" y="87"/>
                  </a:lnTo>
                  <a:lnTo>
                    <a:pt x="248" y="87"/>
                  </a:lnTo>
                  <a:lnTo>
                    <a:pt x="243" y="87"/>
                  </a:lnTo>
                  <a:lnTo>
                    <a:pt x="236" y="87"/>
                  </a:lnTo>
                  <a:lnTo>
                    <a:pt x="224" y="87"/>
                  </a:lnTo>
                  <a:lnTo>
                    <a:pt x="218" y="87"/>
                  </a:lnTo>
                  <a:lnTo>
                    <a:pt x="211" y="87"/>
                  </a:lnTo>
                  <a:lnTo>
                    <a:pt x="206" y="87"/>
                  </a:lnTo>
                  <a:lnTo>
                    <a:pt x="192" y="87"/>
                  </a:lnTo>
                  <a:lnTo>
                    <a:pt x="187" y="87"/>
                  </a:lnTo>
                  <a:lnTo>
                    <a:pt x="180" y="87"/>
                  </a:lnTo>
                  <a:lnTo>
                    <a:pt x="174" y="87"/>
                  </a:lnTo>
                  <a:lnTo>
                    <a:pt x="168" y="87"/>
                  </a:lnTo>
                  <a:lnTo>
                    <a:pt x="180" y="95"/>
                  </a:lnTo>
                  <a:lnTo>
                    <a:pt x="178" y="90"/>
                  </a:lnTo>
                  <a:lnTo>
                    <a:pt x="174" y="88"/>
                  </a:lnTo>
                  <a:lnTo>
                    <a:pt x="168" y="100"/>
                  </a:lnTo>
                  <a:lnTo>
                    <a:pt x="181" y="98"/>
                  </a:lnTo>
                  <a:lnTo>
                    <a:pt x="168" y="11"/>
                  </a:lnTo>
                  <a:lnTo>
                    <a:pt x="167" y="8"/>
                  </a:lnTo>
                  <a:lnTo>
                    <a:pt x="165" y="3"/>
                  </a:lnTo>
                  <a:lnTo>
                    <a:pt x="160" y="1"/>
                  </a:lnTo>
                  <a:lnTo>
                    <a:pt x="155" y="0"/>
                  </a:lnTo>
                  <a:lnTo>
                    <a:pt x="149" y="0"/>
                  </a:lnTo>
                  <a:lnTo>
                    <a:pt x="143" y="0"/>
                  </a:lnTo>
                  <a:lnTo>
                    <a:pt x="136" y="0"/>
                  </a:lnTo>
                  <a:lnTo>
                    <a:pt x="124" y="0"/>
                  </a:lnTo>
                  <a:lnTo>
                    <a:pt x="119" y="0"/>
                  </a:lnTo>
                  <a:lnTo>
                    <a:pt x="112" y="0"/>
                  </a:lnTo>
                  <a:lnTo>
                    <a:pt x="105" y="0"/>
                  </a:lnTo>
                  <a:lnTo>
                    <a:pt x="100" y="0"/>
                  </a:lnTo>
                  <a:lnTo>
                    <a:pt x="87" y="0"/>
                  </a:lnTo>
                  <a:lnTo>
                    <a:pt x="81" y="0"/>
                  </a:lnTo>
                  <a:lnTo>
                    <a:pt x="75" y="0"/>
                  </a:lnTo>
                  <a:lnTo>
                    <a:pt x="68" y="0"/>
                  </a:lnTo>
                  <a:lnTo>
                    <a:pt x="56" y="0"/>
                  </a:lnTo>
                  <a:lnTo>
                    <a:pt x="49" y="0"/>
                  </a:lnTo>
                  <a:lnTo>
                    <a:pt x="44" y="0"/>
                  </a:lnTo>
                  <a:lnTo>
                    <a:pt x="37" y="0"/>
                  </a:lnTo>
                  <a:lnTo>
                    <a:pt x="31" y="0"/>
                  </a:lnTo>
                  <a:lnTo>
                    <a:pt x="19" y="0"/>
                  </a:lnTo>
                  <a:lnTo>
                    <a:pt x="12" y="0"/>
                  </a:lnTo>
                  <a:lnTo>
                    <a:pt x="7" y="0"/>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7316640" y="3809880"/>
              <a:ext cx="1590840" cy="64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7530840" y="3811320"/>
              <a:ext cx="1148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aptive Piecewise </a:t>
              </a:r>
              <a:endParaRPr b="0" lang="en-US" sz="1100" spc="-1" strike="noStrike">
                <a:solidFill>
                  <a:srgbClr val="000000"/>
                </a:solidFill>
                <a:latin typeface="Times New Roman"/>
              </a:endParaRPr>
            </a:p>
          </p:txBody>
        </p:sp>
        <p:sp>
          <p:nvSpPr>
            <p:cNvPr id="4099" name=""/>
            <p:cNvSpPr/>
            <p:nvPr/>
          </p:nvSpPr>
          <p:spPr>
            <a:xfrm>
              <a:off x="7381080" y="3978000"/>
              <a:ext cx="1395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stant Approximation</a:t>
              </a:r>
              <a:endParaRPr b="0" lang="en-US" sz="1100" spc="-1" strike="noStrike">
                <a:solidFill>
                  <a:srgbClr val="000000"/>
                </a:solidFill>
                <a:latin typeface="Times New Roman"/>
              </a:endParaRPr>
            </a:p>
          </p:txBody>
        </p:sp>
        <p:sp>
          <p:nvSpPr>
            <p:cNvPr id="4100" name=""/>
            <p:cNvSpPr/>
            <p:nvPr/>
          </p:nvSpPr>
          <p:spPr>
            <a:xfrm>
              <a:off x="8829360" y="39780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101" name=""/>
            <p:cNvSpPr/>
            <p:nvPr/>
          </p:nvSpPr>
          <p:spPr>
            <a:xfrm>
              <a:off x="8110080" y="41497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2" name="PlaceHolder 1"/>
          <p:cNvSpPr>
            <a:spLocks noGrp="1"/>
          </p:cNvSpPr>
          <p:nvPr>
            <p:ph type="title"/>
          </p:nvPr>
        </p:nvSpPr>
        <p:spPr>
          <a:xfrm>
            <a:off x="76212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ision (Regression) Tree</a:t>
            </a:r>
            <a:endParaRPr b="0" lang="en-US" sz="4400" spc="-1" strike="noStrike">
              <a:solidFill>
                <a:srgbClr val="000000"/>
              </a:solidFill>
              <a:latin typeface="Times New Roman"/>
            </a:endParaRPr>
          </a:p>
        </p:txBody>
      </p:sp>
      <p:pic>
        <p:nvPicPr>
          <p:cNvPr id="4103" name="" descr=""/>
          <p:cNvPicPr/>
          <p:nvPr/>
        </p:nvPicPr>
        <p:blipFill>
          <a:blip r:embed="rId1"/>
          <a:srcRect l="0" t="0" r="50003" b="5312"/>
          <a:stretch/>
        </p:blipFill>
        <p:spPr>
          <a:xfrm>
            <a:off x="380880" y="2968560"/>
            <a:ext cx="8458200" cy="16351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exing</a:t>
            </a:r>
            <a:endParaRPr b="0" lang="en-US" sz="4400" spc="-1" strike="noStrike">
              <a:solidFill>
                <a:srgbClr val="000000"/>
              </a:solidFill>
              <a:latin typeface="Times New Roman"/>
            </a:endParaRPr>
          </a:p>
        </p:txBody>
      </p:sp>
      <p:sp>
        <p:nvSpPr>
          <p:cNvPr id="4105" name="PlaceHolder 2"/>
          <p:cNvSpPr>
            <a:spLocks noGrp="1"/>
          </p:cNvSpPr>
          <p:nvPr>
            <p:ph/>
          </p:nvPr>
        </p:nvSpPr>
        <p:spPr>
          <a:xfrm>
            <a:off x="685800" y="1980720"/>
            <a:ext cx="7772400" cy="3598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xing scheme similar to VA (Vector Approximation) Fi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set is large and disk-resid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d dimensionality could still be too high for R-tree to perform wel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with Haar Wavel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exing</a:t>
            </a:r>
            <a:endParaRPr b="0" lang="en-US" sz="4400" spc="-1" strike="noStrike">
              <a:solidFill>
                <a:srgbClr val="000000"/>
              </a:solidFill>
              <a:latin typeface="Times New Roman"/>
            </a:endParaRPr>
          </a:p>
        </p:txBody>
      </p:sp>
      <p:pic>
        <p:nvPicPr>
          <p:cNvPr id="4107" name="" descr=""/>
          <p:cNvPicPr/>
          <p:nvPr/>
        </p:nvPicPr>
        <p:blipFill>
          <a:blip r:embed="rId1"/>
          <a:stretch/>
        </p:blipFill>
        <p:spPr>
          <a:xfrm>
            <a:off x="990720" y="2603520"/>
            <a:ext cx="6933960" cy="3252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60" y="267840"/>
            <a:ext cx="904068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What do we want to do with the time series data?</a:t>
            </a:r>
            <a:endParaRPr b="0" lang="en-US" sz="3400" spc="-1" strike="noStrike">
              <a:solidFill>
                <a:srgbClr val="000000"/>
              </a:solidFill>
              <a:latin typeface="Times New Roman"/>
            </a:endParaRPr>
          </a:p>
        </p:txBody>
      </p:sp>
      <p:sp>
        <p:nvSpPr>
          <p:cNvPr id="233" name=""/>
          <p:cNvSpPr/>
          <p:nvPr/>
        </p:nvSpPr>
        <p:spPr>
          <a:xfrm>
            <a:off x="5614920" y="3457440"/>
            <a:ext cx="3394080" cy="171936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82520" y="1368360"/>
            <a:ext cx="3463920" cy="187812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884760" y="1352520"/>
            <a:ext cx="5124240" cy="190188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509760" y="1676520"/>
            <a:ext cx="2818800" cy="1407600"/>
            <a:chOff x="509760" y="1676520"/>
            <a:chExt cx="2818800" cy="1407600"/>
          </a:xfrm>
        </p:grpSpPr>
        <p:sp>
          <p:nvSpPr>
            <p:cNvPr id="237" name=""/>
            <p:cNvSpPr/>
            <p:nvPr/>
          </p:nvSpPr>
          <p:spPr>
            <a:xfrm>
              <a:off x="509760" y="2760120"/>
              <a:ext cx="1537920" cy="324000"/>
            </a:xfrm>
            <a:custGeom>
              <a:avLst/>
              <a:gdLst/>
              <a:ahLst/>
              <a:rect l="l" t="t" r="r" b="b"/>
              <a:pathLst>
                <a:path w="2566" h="975">
                  <a:moveTo>
                    <a:pt x="0" y="975"/>
                  </a:moveTo>
                  <a:lnTo>
                    <a:pt x="45" y="975"/>
                  </a:lnTo>
                  <a:lnTo>
                    <a:pt x="75" y="975"/>
                  </a:lnTo>
                  <a:lnTo>
                    <a:pt x="105" y="975"/>
                  </a:lnTo>
                  <a:lnTo>
                    <a:pt x="135" y="975"/>
                  </a:lnTo>
                  <a:lnTo>
                    <a:pt x="165" y="975"/>
                  </a:lnTo>
                  <a:lnTo>
                    <a:pt x="195" y="975"/>
                  </a:lnTo>
                  <a:lnTo>
                    <a:pt x="240" y="975"/>
                  </a:lnTo>
                  <a:lnTo>
                    <a:pt x="270" y="885"/>
                  </a:lnTo>
                  <a:lnTo>
                    <a:pt x="300" y="975"/>
                  </a:lnTo>
                  <a:lnTo>
                    <a:pt x="330" y="975"/>
                  </a:lnTo>
                  <a:lnTo>
                    <a:pt x="360" y="885"/>
                  </a:lnTo>
                  <a:lnTo>
                    <a:pt x="390" y="885"/>
                  </a:lnTo>
                  <a:lnTo>
                    <a:pt x="435" y="780"/>
                  </a:lnTo>
                  <a:lnTo>
                    <a:pt x="465" y="780"/>
                  </a:lnTo>
                  <a:lnTo>
                    <a:pt x="495" y="735"/>
                  </a:lnTo>
                  <a:lnTo>
                    <a:pt x="525" y="780"/>
                  </a:lnTo>
                  <a:lnTo>
                    <a:pt x="555" y="690"/>
                  </a:lnTo>
                  <a:lnTo>
                    <a:pt x="585" y="750"/>
                  </a:lnTo>
                  <a:lnTo>
                    <a:pt x="630" y="705"/>
                  </a:lnTo>
                  <a:lnTo>
                    <a:pt x="660" y="630"/>
                  </a:lnTo>
                  <a:lnTo>
                    <a:pt x="690" y="585"/>
                  </a:lnTo>
                  <a:lnTo>
                    <a:pt x="720" y="600"/>
                  </a:lnTo>
                  <a:lnTo>
                    <a:pt x="750" y="525"/>
                  </a:lnTo>
                  <a:lnTo>
                    <a:pt x="780" y="585"/>
                  </a:lnTo>
                  <a:lnTo>
                    <a:pt x="825" y="540"/>
                  </a:lnTo>
                  <a:lnTo>
                    <a:pt x="855" y="495"/>
                  </a:lnTo>
                  <a:lnTo>
                    <a:pt x="885" y="480"/>
                  </a:lnTo>
                  <a:lnTo>
                    <a:pt x="915" y="465"/>
                  </a:lnTo>
                  <a:lnTo>
                    <a:pt x="945" y="435"/>
                  </a:lnTo>
                  <a:lnTo>
                    <a:pt x="975" y="450"/>
                  </a:lnTo>
                  <a:lnTo>
                    <a:pt x="1020" y="405"/>
                  </a:lnTo>
                  <a:lnTo>
                    <a:pt x="1050" y="405"/>
                  </a:lnTo>
                  <a:lnTo>
                    <a:pt x="1080" y="360"/>
                  </a:lnTo>
                  <a:lnTo>
                    <a:pt x="1110" y="375"/>
                  </a:lnTo>
                  <a:lnTo>
                    <a:pt x="1140" y="315"/>
                  </a:lnTo>
                  <a:lnTo>
                    <a:pt x="1170" y="345"/>
                  </a:lnTo>
                  <a:lnTo>
                    <a:pt x="1215" y="330"/>
                  </a:lnTo>
                  <a:lnTo>
                    <a:pt x="1245" y="285"/>
                  </a:lnTo>
                  <a:lnTo>
                    <a:pt x="1275" y="285"/>
                  </a:lnTo>
                  <a:lnTo>
                    <a:pt x="1305" y="255"/>
                  </a:lnTo>
                  <a:lnTo>
                    <a:pt x="1335" y="255"/>
                  </a:lnTo>
                  <a:lnTo>
                    <a:pt x="1365" y="225"/>
                  </a:lnTo>
                  <a:lnTo>
                    <a:pt x="1410" y="195"/>
                  </a:lnTo>
                  <a:lnTo>
                    <a:pt x="1440" y="180"/>
                  </a:lnTo>
                  <a:lnTo>
                    <a:pt x="1470" y="165"/>
                  </a:lnTo>
                  <a:lnTo>
                    <a:pt x="1500" y="165"/>
                  </a:lnTo>
                  <a:lnTo>
                    <a:pt x="1530" y="150"/>
                  </a:lnTo>
                  <a:lnTo>
                    <a:pt x="1560" y="120"/>
                  </a:lnTo>
                  <a:lnTo>
                    <a:pt x="1605" y="105"/>
                  </a:lnTo>
                  <a:lnTo>
                    <a:pt x="1635" y="90"/>
                  </a:lnTo>
                  <a:lnTo>
                    <a:pt x="1665" y="75"/>
                  </a:lnTo>
                  <a:lnTo>
                    <a:pt x="1695" y="45"/>
                  </a:lnTo>
                  <a:lnTo>
                    <a:pt x="1725" y="30"/>
                  </a:lnTo>
                  <a:lnTo>
                    <a:pt x="1755" y="30"/>
                  </a:lnTo>
                  <a:lnTo>
                    <a:pt x="1801" y="15"/>
                  </a:lnTo>
                  <a:lnTo>
                    <a:pt x="1831" y="0"/>
                  </a:lnTo>
                  <a:lnTo>
                    <a:pt x="1861" y="0"/>
                  </a:lnTo>
                  <a:lnTo>
                    <a:pt x="1891" y="0"/>
                  </a:lnTo>
                  <a:lnTo>
                    <a:pt x="1921" y="0"/>
                  </a:lnTo>
                  <a:lnTo>
                    <a:pt x="1951" y="0"/>
                  </a:lnTo>
                  <a:lnTo>
                    <a:pt x="1996" y="30"/>
                  </a:lnTo>
                  <a:lnTo>
                    <a:pt x="2026" y="30"/>
                  </a:lnTo>
                  <a:lnTo>
                    <a:pt x="2056" y="75"/>
                  </a:lnTo>
                  <a:lnTo>
                    <a:pt x="2086" y="105"/>
                  </a:lnTo>
                  <a:lnTo>
                    <a:pt x="2116" y="180"/>
                  </a:lnTo>
                  <a:lnTo>
                    <a:pt x="2146" y="300"/>
                  </a:lnTo>
                  <a:lnTo>
                    <a:pt x="2191" y="510"/>
                  </a:lnTo>
                  <a:lnTo>
                    <a:pt x="2221" y="645"/>
                  </a:lnTo>
                  <a:lnTo>
                    <a:pt x="2251" y="975"/>
                  </a:lnTo>
                  <a:lnTo>
                    <a:pt x="2281" y="975"/>
                  </a:lnTo>
                  <a:lnTo>
                    <a:pt x="2311" y="975"/>
                  </a:lnTo>
                  <a:lnTo>
                    <a:pt x="2341" y="975"/>
                  </a:lnTo>
                  <a:lnTo>
                    <a:pt x="2371" y="975"/>
                  </a:lnTo>
                  <a:lnTo>
                    <a:pt x="2416" y="975"/>
                  </a:lnTo>
                  <a:lnTo>
                    <a:pt x="2446" y="975"/>
                  </a:lnTo>
                  <a:lnTo>
                    <a:pt x="2476" y="975"/>
                  </a:lnTo>
                  <a:lnTo>
                    <a:pt x="2506" y="975"/>
                  </a:lnTo>
                  <a:lnTo>
                    <a:pt x="2536" y="975"/>
                  </a:lnTo>
                  <a:lnTo>
                    <a:pt x="2566" y="975"/>
                  </a:ln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09760" y="2398320"/>
              <a:ext cx="1537920" cy="328320"/>
            </a:xfrm>
            <a:custGeom>
              <a:avLst/>
              <a:gdLst/>
              <a:ahLst/>
              <a:rect l="l" t="t" r="r" b="b"/>
              <a:pathLst>
                <a:path w="2566" h="990">
                  <a:moveTo>
                    <a:pt x="0" y="900"/>
                  </a:moveTo>
                  <a:lnTo>
                    <a:pt x="45" y="990"/>
                  </a:lnTo>
                  <a:lnTo>
                    <a:pt x="75" y="990"/>
                  </a:lnTo>
                  <a:lnTo>
                    <a:pt x="105" y="840"/>
                  </a:lnTo>
                  <a:lnTo>
                    <a:pt x="135" y="990"/>
                  </a:lnTo>
                  <a:lnTo>
                    <a:pt x="165" y="900"/>
                  </a:lnTo>
                  <a:lnTo>
                    <a:pt x="195" y="990"/>
                  </a:lnTo>
                  <a:lnTo>
                    <a:pt x="240" y="900"/>
                  </a:lnTo>
                  <a:lnTo>
                    <a:pt x="270" y="735"/>
                  </a:lnTo>
                  <a:lnTo>
                    <a:pt x="300" y="840"/>
                  </a:lnTo>
                  <a:lnTo>
                    <a:pt x="330" y="810"/>
                  </a:lnTo>
                  <a:lnTo>
                    <a:pt x="360" y="780"/>
                  </a:lnTo>
                  <a:lnTo>
                    <a:pt x="390" y="840"/>
                  </a:lnTo>
                  <a:lnTo>
                    <a:pt x="435" y="720"/>
                  </a:lnTo>
                  <a:lnTo>
                    <a:pt x="465" y="750"/>
                  </a:lnTo>
                  <a:lnTo>
                    <a:pt x="495" y="720"/>
                  </a:lnTo>
                  <a:lnTo>
                    <a:pt x="525" y="675"/>
                  </a:lnTo>
                  <a:lnTo>
                    <a:pt x="555" y="735"/>
                  </a:lnTo>
                  <a:lnTo>
                    <a:pt x="585" y="645"/>
                  </a:lnTo>
                  <a:lnTo>
                    <a:pt x="630" y="630"/>
                  </a:lnTo>
                  <a:lnTo>
                    <a:pt x="660" y="600"/>
                  </a:lnTo>
                  <a:lnTo>
                    <a:pt x="690" y="585"/>
                  </a:lnTo>
                  <a:lnTo>
                    <a:pt x="720" y="525"/>
                  </a:lnTo>
                  <a:lnTo>
                    <a:pt x="750" y="555"/>
                  </a:lnTo>
                  <a:lnTo>
                    <a:pt x="780" y="510"/>
                  </a:lnTo>
                  <a:lnTo>
                    <a:pt x="825" y="480"/>
                  </a:lnTo>
                  <a:lnTo>
                    <a:pt x="855" y="510"/>
                  </a:lnTo>
                  <a:lnTo>
                    <a:pt x="885" y="450"/>
                  </a:lnTo>
                  <a:lnTo>
                    <a:pt x="915" y="450"/>
                  </a:lnTo>
                  <a:lnTo>
                    <a:pt x="945" y="405"/>
                  </a:lnTo>
                  <a:lnTo>
                    <a:pt x="975" y="405"/>
                  </a:lnTo>
                  <a:lnTo>
                    <a:pt x="1020" y="390"/>
                  </a:lnTo>
                  <a:lnTo>
                    <a:pt x="1050" y="360"/>
                  </a:lnTo>
                  <a:lnTo>
                    <a:pt x="1080" y="330"/>
                  </a:lnTo>
                  <a:lnTo>
                    <a:pt x="1110" y="315"/>
                  </a:lnTo>
                  <a:lnTo>
                    <a:pt x="1140" y="300"/>
                  </a:lnTo>
                  <a:lnTo>
                    <a:pt x="1170" y="270"/>
                  </a:lnTo>
                  <a:lnTo>
                    <a:pt x="1215" y="255"/>
                  </a:lnTo>
                  <a:lnTo>
                    <a:pt x="1245" y="240"/>
                  </a:lnTo>
                  <a:lnTo>
                    <a:pt x="1275" y="210"/>
                  </a:lnTo>
                  <a:lnTo>
                    <a:pt x="1305" y="195"/>
                  </a:lnTo>
                  <a:lnTo>
                    <a:pt x="1335" y="180"/>
                  </a:lnTo>
                  <a:lnTo>
                    <a:pt x="1365" y="165"/>
                  </a:lnTo>
                  <a:lnTo>
                    <a:pt x="1410" y="150"/>
                  </a:lnTo>
                  <a:lnTo>
                    <a:pt x="1440" y="135"/>
                  </a:lnTo>
                  <a:lnTo>
                    <a:pt x="1470" y="105"/>
                  </a:lnTo>
                  <a:lnTo>
                    <a:pt x="1500" y="90"/>
                  </a:lnTo>
                  <a:lnTo>
                    <a:pt x="1530" y="60"/>
                  </a:lnTo>
                  <a:lnTo>
                    <a:pt x="1560" y="60"/>
                  </a:lnTo>
                  <a:lnTo>
                    <a:pt x="1605" y="45"/>
                  </a:lnTo>
                  <a:lnTo>
                    <a:pt x="1635" y="30"/>
                  </a:lnTo>
                  <a:lnTo>
                    <a:pt x="1665" y="15"/>
                  </a:lnTo>
                  <a:lnTo>
                    <a:pt x="1695" y="15"/>
                  </a:lnTo>
                  <a:lnTo>
                    <a:pt x="1725" y="0"/>
                  </a:lnTo>
                  <a:lnTo>
                    <a:pt x="1755" y="0"/>
                  </a:lnTo>
                  <a:lnTo>
                    <a:pt x="1801" y="15"/>
                  </a:lnTo>
                  <a:lnTo>
                    <a:pt x="1831" y="60"/>
                  </a:lnTo>
                  <a:lnTo>
                    <a:pt x="1861" y="165"/>
                  </a:lnTo>
                  <a:lnTo>
                    <a:pt x="1891" y="285"/>
                  </a:lnTo>
                  <a:lnTo>
                    <a:pt x="1921" y="405"/>
                  </a:lnTo>
                  <a:lnTo>
                    <a:pt x="1951" y="510"/>
                  </a:lnTo>
                  <a:lnTo>
                    <a:pt x="1996" y="660"/>
                  </a:lnTo>
                  <a:lnTo>
                    <a:pt x="2026" y="735"/>
                  </a:lnTo>
                  <a:lnTo>
                    <a:pt x="2056" y="840"/>
                  </a:lnTo>
                  <a:lnTo>
                    <a:pt x="2086" y="900"/>
                  </a:lnTo>
                  <a:lnTo>
                    <a:pt x="2116" y="900"/>
                  </a:lnTo>
                  <a:lnTo>
                    <a:pt x="2146" y="900"/>
                  </a:lnTo>
                  <a:lnTo>
                    <a:pt x="2191" y="840"/>
                  </a:lnTo>
                  <a:lnTo>
                    <a:pt x="2221" y="990"/>
                  </a:lnTo>
                  <a:lnTo>
                    <a:pt x="2251" y="990"/>
                  </a:lnTo>
                  <a:lnTo>
                    <a:pt x="2281" y="840"/>
                  </a:lnTo>
                  <a:lnTo>
                    <a:pt x="2311" y="990"/>
                  </a:lnTo>
                  <a:lnTo>
                    <a:pt x="2341" y="990"/>
                  </a:lnTo>
                  <a:lnTo>
                    <a:pt x="2371" y="990"/>
                  </a:lnTo>
                  <a:lnTo>
                    <a:pt x="2416" y="990"/>
                  </a:lnTo>
                  <a:lnTo>
                    <a:pt x="2446" y="990"/>
                  </a:lnTo>
                  <a:lnTo>
                    <a:pt x="2476" y="990"/>
                  </a:lnTo>
                  <a:lnTo>
                    <a:pt x="2506" y="990"/>
                  </a:lnTo>
                  <a:lnTo>
                    <a:pt x="2536" y="990"/>
                  </a:lnTo>
                  <a:lnTo>
                    <a:pt x="2566" y="990"/>
                  </a:lnTo>
                </a:path>
              </a:pathLst>
            </a:custGeom>
            <a:noFill/>
            <a:ln w="255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9760" y="2039760"/>
              <a:ext cx="1537920" cy="322560"/>
            </a:xfrm>
            <a:custGeom>
              <a:avLst/>
              <a:gdLst/>
              <a:ahLst/>
              <a:rect l="l" t="t" r="r" b="b"/>
              <a:pathLst>
                <a:path w="2566" h="975">
                  <a:moveTo>
                    <a:pt x="0" y="975"/>
                  </a:moveTo>
                  <a:lnTo>
                    <a:pt x="45" y="975"/>
                  </a:lnTo>
                  <a:lnTo>
                    <a:pt x="75" y="870"/>
                  </a:lnTo>
                  <a:lnTo>
                    <a:pt x="105" y="975"/>
                  </a:lnTo>
                  <a:lnTo>
                    <a:pt x="135" y="765"/>
                  </a:lnTo>
                  <a:lnTo>
                    <a:pt x="165" y="870"/>
                  </a:lnTo>
                  <a:lnTo>
                    <a:pt x="195" y="705"/>
                  </a:lnTo>
                  <a:lnTo>
                    <a:pt x="240" y="765"/>
                  </a:lnTo>
                  <a:lnTo>
                    <a:pt x="270" y="870"/>
                  </a:lnTo>
                  <a:lnTo>
                    <a:pt x="300" y="765"/>
                  </a:lnTo>
                  <a:lnTo>
                    <a:pt x="330" y="765"/>
                  </a:lnTo>
                  <a:lnTo>
                    <a:pt x="360" y="675"/>
                  </a:lnTo>
                  <a:lnTo>
                    <a:pt x="390" y="660"/>
                  </a:lnTo>
                  <a:lnTo>
                    <a:pt x="435" y="570"/>
                  </a:lnTo>
                  <a:lnTo>
                    <a:pt x="465" y="705"/>
                  </a:lnTo>
                  <a:lnTo>
                    <a:pt x="495" y="600"/>
                  </a:lnTo>
                  <a:lnTo>
                    <a:pt x="525" y="540"/>
                  </a:lnTo>
                  <a:lnTo>
                    <a:pt x="555" y="540"/>
                  </a:lnTo>
                  <a:lnTo>
                    <a:pt x="585" y="420"/>
                  </a:lnTo>
                  <a:lnTo>
                    <a:pt x="630" y="495"/>
                  </a:lnTo>
                  <a:lnTo>
                    <a:pt x="660" y="495"/>
                  </a:lnTo>
                  <a:lnTo>
                    <a:pt x="690" y="405"/>
                  </a:lnTo>
                  <a:lnTo>
                    <a:pt x="720" y="360"/>
                  </a:lnTo>
                  <a:lnTo>
                    <a:pt x="750" y="390"/>
                  </a:lnTo>
                  <a:lnTo>
                    <a:pt x="780" y="300"/>
                  </a:lnTo>
                  <a:lnTo>
                    <a:pt x="825" y="285"/>
                  </a:lnTo>
                  <a:lnTo>
                    <a:pt x="855" y="240"/>
                  </a:lnTo>
                  <a:lnTo>
                    <a:pt x="885" y="195"/>
                  </a:lnTo>
                  <a:lnTo>
                    <a:pt x="915" y="165"/>
                  </a:lnTo>
                  <a:lnTo>
                    <a:pt x="945" y="165"/>
                  </a:lnTo>
                  <a:lnTo>
                    <a:pt x="975" y="105"/>
                  </a:lnTo>
                  <a:lnTo>
                    <a:pt x="1020" y="60"/>
                  </a:lnTo>
                  <a:lnTo>
                    <a:pt x="1050" y="45"/>
                  </a:lnTo>
                  <a:lnTo>
                    <a:pt x="1080" y="15"/>
                  </a:lnTo>
                  <a:lnTo>
                    <a:pt x="1110" y="30"/>
                  </a:lnTo>
                  <a:lnTo>
                    <a:pt x="1140" y="15"/>
                  </a:lnTo>
                  <a:lnTo>
                    <a:pt x="1170" y="15"/>
                  </a:lnTo>
                  <a:lnTo>
                    <a:pt x="1215" y="15"/>
                  </a:lnTo>
                  <a:lnTo>
                    <a:pt x="1245" y="15"/>
                  </a:lnTo>
                  <a:lnTo>
                    <a:pt x="1275" y="0"/>
                  </a:lnTo>
                  <a:lnTo>
                    <a:pt x="1305" y="0"/>
                  </a:lnTo>
                  <a:lnTo>
                    <a:pt x="1335" y="30"/>
                  </a:lnTo>
                  <a:lnTo>
                    <a:pt x="1365" y="105"/>
                  </a:lnTo>
                  <a:lnTo>
                    <a:pt x="1410" y="255"/>
                  </a:lnTo>
                  <a:lnTo>
                    <a:pt x="1440" y="420"/>
                  </a:lnTo>
                  <a:lnTo>
                    <a:pt x="1470" y="570"/>
                  </a:lnTo>
                  <a:lnTo>
                    <a:pt x="1500" y="600"/>
                  </a:lnTo>
                  <a:lnTo>
                    <a:pt x="1530" y="660"/>
                  </a:lnTo>
                  <a:lnTo>
                    <a:pt x="1560" y="705"/>
                  </a:lnTo>
                  <a:lnTo>
                    <a:pt x="1605" y="735"/>
                  </a:lnTo>
                  <a:lnTo>
                    <a:pt x="1635" y="810"/>
                  </a:lnTo>
                  <a:lnTo>
                    <a:pt x="1665" y="810"/>
                  </a:lnTo>
                  <a:lnTo>
                    <a:pt x="1695" y="870"/>
                  </a:lnTo>
                  <a:lnTo>
                    <a:pt x="1725" y="870"/>
                  </a:lnTo>
                  <a:lnTo>
                    <a:pt x="1755" y="975"/>
                  </a:lnTo>
                  <a:lnTo>
                    <a:pt x="1801" y="870"/>
                  </a:lnTo>
                  <a:lnTo>
                    <a:pt x="1831" y="870"/>
                  </a:lnTo>
                  <a:lnTo>
                    <a:pt x="1861" y="975"/>
                  </a:lnTo>
                  <a:lnTo>
                    <a:pt x="1891" y="975"/>
                  </a:lnTo>
                  <a:lnTo>
                    <a:pt x="1921" y="975"/>
                  </a:lnTo>
                  <a:lnTo>
                    <a:pt x="1951" y="975"/>
                  </a:lnTo>
                  <a:lnTo>
                    <a:pt x="1996" y="975"/>
                  </a:lnTo>
                  <a:lnTo>
                    <a:pt x="2026" y="975"/>
                  </a:lnTo>
                  <a:lnTo>
                    <a:pt x="2056" y="975"/>
                  </a:lnTo>
                  <a:lnTo>
                    <a:pt x="2086" y="975"/>
                  </a:lnTo>
                  <a:lnTo>
                    <a:pt x="2116" y="975"/>
                  </a:lnTo>
                  <a:lnTo>
                    <a:pt x="2146" y="975"/>
                  </a:lnTo>
                  <a:lnTo>
                    <a:pt x="2191" y="975"/>
                  </a:lnTo>
                  <a:lnTo>
                    <a:pt x="2221" y="975"/>
                  </a:lnTo>
                  <a:lnTo>
                    <a:pt x="2251" y="975"/>
                  </a:lnTo>
                  <a:lnTo>
                    <a:pt x="2281" y="975"/>
                  </a:lnTo>
                  <a:lnTo>
                    <a:pt x="2311" y="975"/>
                  </a:lnTo>
                  <a:lnTo>
                    <a:pt x="2341" y="975"/>
                  </a:lnTo>
                  <a:lnTo>
                    <a:pt x="2371" y="975"/>
                  </a:lnTo>
                  <a:lnTo>
                    <a:pt x="2416" y="975"/>
                  </a:lnTo>
                  <a:lnTo>
                    <a:pt x="2446" y="975"/>
                  </a:lnTo>
                  <a:lnTo>
                    <a:pt x="2476" y="975"/>
                  </a:lnTo>
                  <a:lnTo>
                    <a:pt x="2506" y="975"/>
                  </a:lnTo>
                  <a:lnTo>
                    <a:pt x="2536" y="975"/>
                  </a:lnTo>
                  <a:lnTo>
                    <a:pt x="2566" y="975"/>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09760" y="1676520"/>
              <a:ext cx="1537920" cy="328320"/>
            </a:xfrm>
            <a:custGeom>
              <a:avLst/>
              <a:gdLst/>
              <a:ahLst/>
              <a:rect l="l" t="t" r="r" b="b"/>
              <a:pathLst>
                <a:path w="2566" h="990">
                  <a:moveTo>
                    <a:pt x="0" y="0"/>
                  </a:moveTo>
                  <a:lnTo>
                    <a:pt x="45" y="15"/>
                  </a:lnTo>
                  <a:lnTo>
                    <a:pt x="75" y="30"/>
                  </a:lnTo>
                  <a:lnTo>
                    <a:pt x="105" y="45"/>
                  </a:lnTo>
                  <a:lnTo>
                    <a:pt x="135" y="60"/>
                  </a:lnTo>
                  <a:lnTo>
                    <a:pt x="165" y="60"/>
                  </a:lnTo>
                  <a:lnTo>
                    <a:pt x="195" y="75"/>
                  </a:lnTo>
                  <a:lnTo>
                    <a:pt x="240" y="90"/>
                  </a:lnTo>
                  <a:lnTo>
                    <a:pt x="270" y="105"/>
                  </a:lnTo>
                  <a:lnTo>
                    <a:pt x="300" y="120"/>
                  </a:lnTo>
                  <a:lnTo>
                    <a:pt x="330" y="135"/>
                  </a:lnTo>
                  <a:lnTo>
                    <a:pt x="360" y="135"/>
                  </a:lnTo>
                  <a:lnTo>
                    <a:pt x="390" y="150"/>
                  </a:lnTo>
                  <a:lnTo>
                    <a:pt x="435" y="165"/>
                  </a:lnTo>
                  <a:lnTo>
                    <a:pt x="465" y="180"/>
                  </a:lnTo>
                  <a:lnTo>
                    <a:pt x="495" y="195"/>
                  </a:lnTo>
                  <a:lnTo>
                    <a:pt x="525" y="195"/>
                  </a:lnTo>
                  <a:lnTo>
                    <a:pt x="555" y="210"/>
                  </a:lnTo>
                  <a:lnTo>
                    <a:pt x="585" y="225"/>
                  </a:lnTo>
                  <a:lnTo>
                    <a:pt x="630" y="240"/>
                  </a:lnTo>
                  <a:lnTo>
                    <a:pt x="660" y="255"/>
                  </a:lnTo>
                  <a:lnTo>
                    <a:pt x="690" y="270"/>
                  </a:lnTo>
                  <a:lnTo>
                    <a:pt x="720" y="270"/>
                  </a:lnTo>
                  <a:lnTo>
                    <a:pt x="750" y="285"/>
                  </a:lnTo>
                  <a:lnTo>
                    <a:pt x="780" y="300"/>
                  </a:lnTo>
                  <a:lnTo>
                    <a:pt x="825" y="315"/>
                  </a:lnTo>
                  <a:lnTo>
                    <a:pt x="855" y="330"/>
                  </a:lnTo>
                  <a:lnTo>
                    <a:pt x="885" y="345"/>
                  </a:lnTo>
                  <a:lnTo>
                    <a:pt x="915" y="345"/>
                  </a:lnTo>
                  <a:lnTo>
                    <a:pt x="945" y="360"/>
                  </a:lnTo>
                  <a:lnTo>
                    <a:pt x="975" y="375"/>
                  </a:lnTo>
                  <a:lnTo>
                    <a:pt x="1020" y="390"/>
                  </a:lnTo>
                  <a:lnTo>
                    <a:pt x="1050" y="405"/>
                  </a:lnTo>
                  <a:lnTo>
                    <a:pt x="1080" y="420"/>
                  </a:lnTo>
                  <a:lnTo>
                    <a:pt x="1110" y="420"/>
                  </a:lnTo>
                  <a:lnTo>
                    <a:pt x="1140" y="435"/>
                  </a:lnTo>
                  <a:lnTo>
                    <a:pt x="1170" y="450"/>
                  </a:lnTo>
                  <a:lnTo>
                    <a:pt x="1215" y="465"/>
                  </a:lnTo>
                  <a:lnTo>
                    <a:pt x="1245" y="480"/>
                  </a:lnTo>
                  <a:lnTo>
                    <a:pt x="1275" y="480"/>
                  </a:lnTo>
                  <a:lnTo>
                    <a:pt x="1305" y="495"/>
                  </a:lnTo>
                  <a:lnTo>
                    <a:pt x="1335" y="510"/>
                  </a:lnTo>
                  <a:lnTo>
                    <a:pt x="1365" y="525"/>
                  </a:lnTo>
                  <a:lnTo>
                    <a:pt x="1410" y="540"/>
                  </a:lnTo>
                  <a:lnTo>
                    <a:pt x="1440" y="555"/>
                  </a:lnTo>
                  <a:lnTo>
                    <a:pt x="1470" y="555"/>
                  </a:lnTo>
                  <a:lnTo>
                    <a:pt x="1500" y="570"/>
                  </a:lnTo>
                  <a:lnTo>
                    <a:pt x="1530" y="585"/>
                  </a:lnTo>
                  <a:lnTo>
                    <a:pt x="1560" y="600"/>
                  </a:lnTo>
                  <a:lnTo>
                    <a:pt x="1605" y="615"/>
                  </a:lnTo>
                  <a:lnTo>
                    <a:pt x="1635" y="630"/>
                  </a:lnTo>
                  <a:lnTo>
                    <a:pt x="1665" y="630"/>
                  </a:lnTo>
                  <a:lnTo>
                    <a:pt x="1695" y="645"/>
                  </a:lnTo>
                  <a:lnTo>
                    <a:pt x="1725" y="660"/>
                  </a:lnTo>
                  <a:lnTo>
                    <a:pt x="1755" y="675"/>
                  </a:lnTo>
                  <a:lnTo>
                    <a:pt x="1801" y="690"/>
                  </a:lnTo>
                  <a:lnTo>
                    <a:pt x="1831" y="705"/>
                  </a:lnTo>
                  <a:lnTo>
                    <a:pt x="1861" y="705"/>
                  </a:lnTo>
                  <a:lnTo>
                    <a:pt x="1891" y="720"/>
                  </a:lnTo>
                  <a:lnTo>
                    <a:pt x="1921" y="735"/>
                  </a:lnTo>
                  <a:lnTo>
                    <a:pt x="1951" y="750"/>
                  </a:lnTo>
                  <a:lnTo>
                    <a:pt x="1996" y="765"/>
                  </a:lnTo>
                  <a:lnTo>
                    <a:pt x="2026" y="765"/>
                  </a:lnTo>
                  <a:lnTo>
                    <a:pt x="2056" y="780"/>
                  </a:lnTo>
                  <a:lnTo>
                    <a:pt x="2086" y="795"/>
                  </a:lnTo>
                  <a:lnTo>
                    <a:pt x="2116" y="810"/>
                  </a:lnTo>
                  <a:lnTo>
                    <a:pt x="2146" y="825"/>
                  </a:lnTo>
                  <a:lnTo>
                    <a:pt x="2191" y="840"/>
                  </a:lnTo>
                  <a:lnTo>
                    <a:pt x="2221" y="840"/>
                  </a:lnTo>
                  <a:lnTo>
                    <a:pt x="2251" y="855"/>
                  </a:lnTo>
                  <a:lnTo>
                    <a:pt x="2281" y="870"/>
                  </a:lnTo>
                  <a:lnTo>
                    <a:pt x="2311" y="885"/>
                  </a:lnTo>
                  <a:lnTo>
                    <a:pt x="2341" y="900"/>
                  </a:lnTo>
                  <a:lnTo>
                    <a:pt x="2371" y="915"/>
                  </a:lnTo>
                  <a:lnTo>
                    <a:pt x="2416" y="915"/>
                  </a:lnTo>
                  <a:lnTo>
                    <a:pt x="2446" y="930"/>
                  </a:lnTo>
                  <a:lnTo>
                    <a:pt x="2476" y="945"/>
                  </a:lnTo>
                  <a:lnTo>
                    <a:pt x="2506" y="960"/>
                  </a:lnTo>
                  <a:lnTo>
                    <a:pt x="2536" y="975"/>
                  </a:lnTo>
                  <a:lnTo>
                    <a:pt x="2566" y="990"/>
                  </a:lnTo>
                </a:path>
              </a:pathLst>
            </a:custGeom>
            <a:noFill/>
            <a:ln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
            <p:cNvGrpSpPr/>
            <p:nvPr/>
          </p:nvGrpSpPr>
          <p:grpSpPr>
            <a:xfrm>
              <a:off x="2190600" y="1810440"/>
              <a:ext cx="1137960" cy="1099440"/>
              <a:chOff x="2190600" y="1810440"/>
              <a:chExt cx="1137960" cy="1099440"/>
            </a:xfrm>
          </p:grpSpPr>
          <p:sp>
            <p:nvSpPr>
              <p:cNvPr id="242" name=""/>
              <p:cNvSpPr/>
              <p:nvPr/>
            </p:nvSpPr>
            <p:spPr>
              <a:xfrm>
                <a:off x="2190600" y="2894760"/>
                <a:ext cx="18720" cy="15120"/>
              </a:xfrm>
              <a:prstGeom prst="ellipse">
                <a:avLst/>
              </a:prstGeom>
              <a:solidFill>
                <a:srgbClr val="000000"/>
              </a:solidFill>
              <a:ln w="5400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3" name=""/>
              <p:cNvSpPr/>
              <p:nvPr/>
            </p:nvSpPr>
            <p:spPr>
              <a:xfrm>
                <a:off x="2190600" y="2532240"/>
                <a:ext cx="18720" cy="14400"/>
              </a:xfrm>
              <a:prstGeom prst="ellipse">
                <a:avLst/>
              </a:prstGeom>
              <a:solidFill>
                <a:srgbClr val="000000"/>
              </a:solidFill>
              <a:ln w="540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4" name=""/>
              <p:cNvSpPr/>
              <p:nvPr/>
            </p:nvSpPr>
            <p:spPr>
              <a:xfrm>
                <a:off x="2190600" y="2173680"/>
                <a:ext cx="18720" cy="14400"/>
              </a:xfrm>
              <a:prstGeom prst="ellipse">
                <a:avLst/>
              </a:prstGeom>
              <a:solidFill>
                <a:srgbClr val="000000"/>
              </a:solidFill>
              <a:ln w="540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5" name=""/>
              <p:cNvSpPr/>
              <p:nvPr/>
            </p:nvSpPr>
            <p:spPr>
              <a:xfrm>
                <a:off x="2190600" y="1810440"/>
                <a:ext cx="18720" cy="15120"/>
              </a:xfrm>
              <a:prstGeom prst="ellipse">
                <a:avLst/>
              </a:prstGeom>
              <a:solidFill>
                <a:srgbClr val="000000"/>
              </a:solidFill>
              <a:ln w="5400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6" name=""/>
              <p:cNvSpPr/>
              <p:nvPr/>
            </p:nvSpPr>
            <p:spPr>
              <a:xfrm>
                <a:off x="2202480" y="2904840"/>
                <a:ext cx="6120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7" name=""/>
              <p:cNvSpPr/>
              <p:nvPr/>
            </p:nvSpPr>
            <p:spPr>
              <a:xfrm>
                <a:off x="2202480" y="2542320"/>
                <a:ext cx="6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2264040" y="2541960"/>
                <a:ext cx="360" cy="362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264040" y="2726280"/>
                <a:ext cx="40356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 name=""/>
              <p:cNvSpPr/>
              <p:nvPr/>
            </p:nvSpPr>
            <p:spPr>
              <a:xfrm>
                <a:off x="2202480" y="2183760"/>
                <a:ext cx="464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2667600" y="2183760"/>
                <a:ext cx="360" cy="54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667600" y="2452680"/>
                <a:ext cx="59292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 name=""/>
              <p:cNvSpPr/>
              <p:nvPr/>
            </p:nvSpPr>
            <p:spPr>
              <a:xfrm>
                <a:off x="2202480" y="1820160"/>
                <a:ext cx="105804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4" name=""/>
              <p:cNvSpPr/>
              <p:nvPr/>
            </p:nvSpPr>
            <p:spPr>
              <a:xfrm flipV="1">
                <a:off x="3260520" y="1820160"/>
                <a:ext cx="360" cy="63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63400" y="2146680"/>
                <a:ext cx="65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6" name=""/>
          <p:cNvSpPr/>
          <p:nvPr/>
        </p:nvSpPr>
        <p:spPr>
          <a:xfrm>
            <a:off x="1167840" y="1266120"/>
            <a:ext cx="15555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Clustering</a:t>
            </a:r>
            <a:endParaRPr b="0" lang="en-US" sz="2400" spc="-1" strike="noStrike">
              <a:solidFill>
                <a:srgbClr val="000000"/>
              </a:solidFill>
              <a:latin typeface="Times New Roman"/>
            </a:endParaRPr>
          </a:p>
        </p:txBody>
      </p:sp>
      <p:pic>
        <p:nvPicPr>
          <p:cNvPr id="257" name="" descr=""/>
          <p:cNvPicPr/>
          <p:nvPr/>
        </p:nvPicPr>
        <p:blipFill>
          <a:blip r:embed="rId1"/>
          <a:stretch/>
        </p:blipFill>
        <p:spPr>
          <a:xfrm>
            <a:off x="4051440" y="1693800"/>
            <a:ext cx="1538280" cy="1527120"/>
          </a:xfrm>
          <a:prstGeom prst="rect">
            <a:avLst/>
          </a:prstGeom>
          <a:ln w="0">
            <a:noFill/>
          </a:ln>
        </p:spPr>
      </p:pic>
      <p:pic>
        <p:nvPicPr>
          <p:cNvPr id="258" name="" descr=""/>
          <p:cNvPicPr/>
          <p:nvPr/>
        </p:nvPicPr>
        <p:blipFill>
          <a:blip r:embed="rId2"/>
          <a:stretch/>
        </p:blipFill>
        <p:spPr>
          <a:xfrm>
            <a:off x="5894280" y="1406520"/>
            <a:ext cx="2989440" cy="1743120"/>
          </a:xfrm>
          <a:prstGeom prst="rect">
            <a:avLst/>
          </a:prstGeom>
          <a:ln w="0">
            <a:noFill/>
          </a:ln>
        </p:spPr>
      </p:pic>
      <p:sp>
        <p:nvSpPr>
          <p:cNvPr id="259" name=""/>
          <p:cNvSpPr/>
          <p:nvPr/>
        </p:nvSpPr>
        <p:spPr>
          <a:xfrm>
            <a:off x="3814200" y="1234080"/>
            <a:ext cx="19638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Classification</a:t>
            </a:r>
            <a:endParaRPr b="0" lang="en-US" sz="2400" spc="-1" strike="noStrike">
              <a:solidFill>
                <a:srgbClr val="000000"/>
              </a:solidFill>
              <a:latin typeface="Times New Roman"/>
            </a:endParaRPr>
          </a:p>
        </p:txBody>
      </p:sp>
      <p:pic>
        <p:nvPicPr>
          <p:cNvPr id="260" name="" descr=""/>
          <p:cNvPicPr/>
          <p:nvPr/>
        </p:nvPicPr>
        <p:blipFill>
          <a:blip r:embed="rId3"/>
          <a:stretch/>
        </p:blipFill>
        <p:spPr>
          <a:xfrm>
            <a:off x="5711760" y="3852720"/>
            <a:ext cx="1587600" cy="1265400"/>
          </a:xfrm>
          <a:prstGeom prst="rect">
            <a:avLst/>
          </a:prstGeom>
          <a:ln w="0">
            <a:noFill/>
          </a:ln>
        </p:spPr>
      </p:pic>
      <p:sp>
        <p:nvSpPr>
          <p:cNvPr id="261" name=""/>
          <p:cNvSpPr/>
          <p:nvPr/>
        </p:nvSpPr>
        <p:spPr>
          <a:xfrm>
            <a:off x="5102280" y="3413160"/>
            <a:ext cx="2290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ry by Content</a:t>
            </a:r>
            <a:endParaRPr b="0" lang="en-US" sz="2400" spc="-1" strike="noStrike">
              <a:solidFill>
                <a:srgbClr val="000000"/>
              </a:solidFill>
              <a:latin typeface="Times New Roman"/>
            </a:endParaRPr>
          </a:p>
        </p:txBody>
      </p:sp>
      <p:pic>
        <p:nvPicPr>
          <p:cNvPr id="262" name="" descr=""/>
          <p:cNvPicPr/>
          <p:nvPr/>
        </p:nvPicPr>
        <p:blipFill>
          <a:blip r:embed="rId4"/>
          <a:stretch/>
        </p:blipFill>
        <p:spPr>
          <a:xfrm>
            <a:off x="7377120" y="3611520"/>
            <a:ext cx="1485720" cy="1405080"/>
          </a:xfrm>
          <a:prstGeom prst="rect">
            <a:avLst/>
          </a:prstGeom>
          <a:ln w="0">
            <a:noFill/>
          </a:ln>
        </p:spPr>
      </p:pic>
      <p:sp>
        <p:nvSpPr>
          <p:cNvPr id="263" name=""/>
          <p:cNvSpPr/>
          <p:nvPr/>
        </p:nvSpPr>
        <p:spPr>
          <a:xfrm>
            <a:off x="2487600" y="3454560"/>
            <a:ext cx="2994120" cy="171756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427120" y="3453120"/>
            <a:ext cx="155916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 Discovery</a:t>
            </a:r>
            <a:endParaRPr b="0" lang="en-US" sz="2400" spc="-1" strike="noStrike">
              <a:solidFill>
                <a:srgbClr val="000000"/>
              </a:solidFill>
              <a:latin typeface="Times New Roman"/>
            </a:endParaRPr>
          </a:p>
        </p:txBody>
      </p:sp>
      <p:sp>
        <p:nvSpPr>
          <p:cNvPr id="265" name=""/>
          <p:cNvSpPr/>
          <p:nvPr/>
        </p:nvSpPr>
        <p:spPr>
          <a:xfrm flipV="1">
            <a:off x="4516560" y="4302000"/>
            <a:ext cx="900000" cy="392400"/>
          </a:xfrm>
          <a:custGeom>
            <a:avLst/>
            <a:gdLst/>
            <a:ahLst/>
            <a:rect l="l" t="t" r="r" b="b"/>
            <a:pathLst>
              <a:path w="2566" h="975">
                <a:moveTo>
                  <a:pt x="0" y="975"/>
                </a:moveTo>
                <a:lnTo>
                  <a:pt x="45" y="975"/>
                </a:lnTo>
                <a:lnTo>
                  <a:pt x="75" y="975"/>
                </a:lnTo>
                <a:lnTo>
                  <a:pt x="105" y="975"/>
                </a:lnTo>
                <a:lnTo>
                  <a:pt x="135" y="975"/>
                </a:lnTo>
                <a:lnTo>
                  <a:pt x="165" y="975"/>
                </a:lnTo>
                <a:lnTo>
                  <a:pt x="195" y="975"/>
                </a:lnTo>
                <a:lnTo>
                  <a:pt x="240" y="975"/>
                </a:lnTo>
                <a:lnTo>
                  <a:pt x="270" y="885"/>
                </a:lnTo>
                <a:lnTo>
                  <a:pt x="300" y="975"/>
                </a:lnTo>
                <a:lnTo>
                  <a:pt x="330" y="975"/>
                </a:lnTo>
                <a:lnTo>
                  <a:pt x="360" y="885"/>
                </a:lnTo>
                <a:lnTo>
                  <a:pt x="390" y="885"/>
                </a:lnTo>
                <a:lnTo>
                  <a:pt x="435" y="780"/>
                </a:lnTo>
                <a:lnTo>
                  <a:pt x="465" y="780"/>
                </a:lnTo>
                <a:lnTo>
                  <a:pt x="495" y="735"/>
                </a:lnTo>
                <a:lnTo>
                  <a:pt x="525" y="780"/>
                </a:lnTo>
                <a:lnTo>
                  <a:pt x="555" y="690"/>
                </a:lnTo>
                <a:lnTo>
                  <a:pt x="585" y="750"/>
                </a:lnTo>
                <a:lnTo>
                  <a:pt x="630" y="705"/>
                </a:lnTo>
                <a:lnTo>
                  <a:pt x="660" y="630"/>
                </a:lnTo>
                <a:lnTo>
                  <a:pt x="690" y="585"/>
                </a:lnTo>
                <a:lnTo>
                  <a:pt x="720" y="600"/>
                </a:lnTo>
                <a:lnTo>
                  <a:pt x="750" y="525"/>
                </a:lnTo>
                <a:lnTo>
                  <a:pt x="780" y="585"/>
                </a:lnTo>
                <a:lnTo>
                  <a:pt x="825" y="540"/>
                </a:lnTo>
                <a:lnTo>
                  <a:pt x="855" y="495"/>
                </a:lnTo>
                <a:lnTo>
                  <a:pt x="885" y="480"/>
                </a:lnTo>
                <a:lnTo>
                  <a:pt x="915" y="465"/>
                </a:lnTo>
                <a:lnTo>
                  <a:pt x="945" y="435"/>
                </a:lnTo>
                <a:lnTo>
                  <a:pt x="975" y="450"/>
                </a:lnTo>
                <a:lnTo>
                  <a:pt x="1020" y="405"/>
                </a:lnTo>
                <a:lnTo>
                  <a:pt x="1050" y="405"/>
                </a:lnTo>
                <a:lnTo>
                  <a:pt x="1080" y="360"/>
                </a:lnTo>
                <a:lnTo>
                  <a:pt x="1110" y="375"/>
                </a:lnTo>
                <a:lnTo>
                  <a:pt x="1140" y="315"/>
                </a:lnTo>
                <a:lnTo>
                  <a:pt x="1170" y="345"/>
                </a:lnTo>
                <a:lnTo>
                  <a:pt x="1215" y="330"/>
                </a:lnTo>
                <a:lnTo>
                  <a:pt x="1245" y="285"/>
                </a:lnTo>
                <a:lnTo>
                  <a:pt x="1275" y="285"/>
                </a:lnTo>
                <a:lnTo>
                  <a:pt x="1305" y="255"/>
                </a:lnTo>
                <a:lnTo>
                  <a:pt x="1335" y="255"/>
                </a:lnTo>
                <a:lnTo>
                  <a:pt x="1365" y="225"/>
                </a:lnTo>
                <a:lnTo>
                  <a:pt x="1410" y="195"/>
                </a:lnTo>
                <a:lnTo>
                  <a:pt x="1440" y="180"/>
                </a:lnTo>
                <a:lnTo>
                  <a:pt x="1470" y="165"/>
                </a:lnTo>
                <a:lnTo>
                  <a:pt x="1500" y="165"/>
                </a:lnTo>
                <a:lnTo>
                  <a:pt x="1530" y="150"/>
                </a:lnTo>
                <a:lnTo>
                  <a:pt x="1560" y="120"/>
                </a:lnTo>
                <a:lnTo>
                  <a:pt x="1605" y="105"/>
                </a:lnTo>
                <a:lnTo>
                  <a:pt x="1635" y="90"/>
                </a:lnTo>
                <a:lnTo>
                  <a:pt x="1665" y="75"/>
                </a:lnTo>
                <a:lnTo>
                  <a:pt x="1695" y="45"/>
                </a:lnTo>
                <a:lnTo>
                  <a:pt x="1725" y="30"/>
                </a:lnTo>
                <a:lnTo>
                  <a:pt x="1755" y="30"/>
                </a:lnTo>
                <a:lnTo>
                  <a:pt x="1801" y="15"/>
                </a:lnTo>
                <a:lnTo>
                  <a:pt x="1831" y="0"/>
                </a:lnTo>
                <a:lnTo>
                  <a:pt x="1861" y="0"/>
                </a:lnTo>
                <a:lnTo>
                  <a:pt x="1891" y="0"/>
                </a:lnTo>
                <a:lnTo>
                  <a:pt x="1921" y="0"/>
                </a:lnTo>
                <a:lnTo>
                  <a:pt x="1951" y="0"/>
                </a:lnTo>
                <a:lnTo>
                  <a:pt x="1996" y="30"/>
                </a:lnTo>
                <a:lnTo>
                  <a:pt x="2026" y="30"/>
                </a:lnTo>
                <a:lnTo>
                  <a:pt x="2056" y="75"/>
                </a:lnTo>
                <a:lnTo>
                  <a:pt x="2086" y="105"/>
                </a:lnTo>
                <a:lnTo>
                  <a:pt x="2116" y="180"/>
                </a:lnTo>
                <a:lnTo>
                  <a:pt x="2146" y="300"/>
                </a:lnTo>
                <a:lnTo>
                  <a:pt x="2191" y="510"/>
                </a:lnTo>
                <a:lnTo>
                  <a:pt x="2221" y="645"/>
                </a:lnTo>
                <a:lnTo>
                  <a:pt x="2251" y="975"/>
                </a:lnTo>
                <a:lnTo>
                  <a:pt x="2281" y="975"/>
                </a:lnTo>
                <a:lnTo>
                  <a:pt x="2311" y="975"/>
                </a:lnTo>
                <a:lnTo>
                  <a:pt x="2341" y="975"/>
                </a:lnTo>
                <a:lnTo>
                  <a:pt x="2371" y="975"/>
                </a:lnTo>
                <a:lnTo>
                  <a:pt x="2416" y="975"/>
                </a:lnTo>
                <a:lnTo>
                  <a:pt x="2446" y="975"/>
                </a:lnTo>
                <a:lnTo>
                  <a:pt x="2476" y="975"/>
                </a:lnTo>
                <a:lnTo>
                  <a:pt x="2506" y="975"/>
                </a:lnTo>
                <a:lnTo>
                  <a:pt x="2536" y="975"/>
                </a:lnTo>
                <a:lnTo>
                  <a:pt x="2566" y="975"/>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852000" y="3648240"/>
            <a:ext cx="740160" cy="1495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ymbol"/>
                <a:ea typeface="Symbol"/>
              </a:rPr>
              <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r>
              <a:rPr b="0" lang="en-US" sz="1600" spc="-1" strike="noStrike">
                <a:solidFill>
                  <a:srgbClr val="000000"/>
                </a:solidFill>
                <a:latin typeface="Times New Roman"/>
              </a:rPr>
              <a:t> = 0.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r>
              <a:rPr b="0" lang="en-US" sz="1600" spc="-1" strike="noStrike">
                <a:solidFill>
                  <a:srgbClr val="000000"/>
                </a:solidFill>
                <a:latin typeface="Times New Roman"/>
              </a:rPr>
              <a:t> = 0.3</a:t>
            </a:r>
            <a:endParaRPr b="0" lang="en-US" sz="1600" spc="-1" strike="noStrike">
              <a:solidFill>
                <a:srgbClr val="000000"/>
              </a:solidFill>
              <a:latin typeface="Times New Roman"/>
            </a:endParaRPr>
          </a:p>
        </p:txBody>
      </p:sp>
      <p:grpSp>
        <p:nvGrpSpPr>
          <p:cNvPr id="267" name=""/>
          <p:cNvGrpSpPr/>
          <p:nvPr/>
        </p:nvGrpSpPr>
        <p:grpSpPr>
          <a:xfrm>
            <a:off x="2538360" y="4289400"/>
            <a:ext cx="1366200" cy="498240"/>
            <a:chOff x="2538360" y="4289400"/>
            <a:chExt cx="1366200" cy="498240"/>
          </a:xfrm>
        </p:grpSpPr>
        <p:sp>
          <p:nvSpPr>
            <p:cNvPr id="268" name=""/>
            <p:cNvSpPr/>
            <p:nvPr/>
          </p:nvSpPr>
          <p:spPr>
            <a:xfrm>
              <a:off x="3219480" y="4295520"/>
              <a:ext cx="685080" cy="492120"/>
            </a:xfrm>
            <a:custGeom>
              <a:avLst/>
              <a:gdLst/>
              <a:ahLst/>
              <a:rect l="l" t="t" r="r" b="b"/>
              <a:pathLst>
                <a:path w="2566" h="990">
                  <a:moveTo>
                    <a:pt x="0" y="900"/>
                  </a:moveTo>
                  <a:lnTo>
                    <a:pt x="45" y="990"/>
                  </a:lnTo>
                  <a:lnTo>
                    <a:pt x="75" y="990"/>
                  </a:lnTo>
                  <a:lnTo>
                    <a:pt x="105" y="840"/>
                  </a:lnTo>
                  <a:lnTo>
                    <a:pt x="135" y="990"/>
                  </a:lnTo>
                  <a:lnTo>
                    <a:pt x="165" y="900"/>
                  </a:lnTo>
                  <a:lnTo>
                    <a:pt x="195" y="990"/>
                  </a:lnTo>
                  <a:lnTo>
                    <a:pt x="240" y="900"/>
                  </a:lnTo>
                  <a:lnTo>
                    <a:pt x="270" y="735"/>
                  </a:lnTo>
                  <a:lnTo>
                    <a:pt x="300" y="840"/>
                  </a:lnTo>
                  <a:lnTo>
                    <a:pt x="330" y="810"/>
                  </a:lnTo>
                  <a:lnTo>
                    <a:pt x="360" y="780"/>
                  </a:lnTo>
                  <a:lnTo>
                    <a:pt x="390" y="840"/>
                  </a:lnTo>
                  <a:lnTo>
                    <a:pt x="435" y="720"/>
                  </a:lnTo>
                  <a:lnTo>
                    <a:pt x="465" y="750"/>
                  </a:lnTo>
                  <a:lnTo>
                    <a:pt x="495" y="720"/>
                  </a:lnTo>
                  <a:lnTo>
                    <a:pt x="525" y="675"/>
                  </a:lnTo>
                  <a:lnTo>
                    <a:pt x="555" y="735"/>
                  </a:lnTo>
                  <a:lnTo>
                    <a:pt x="585" y="645"/>
                  </a:lnTo>
                  <a:lnTo>
                    <a:pt x="630" y="630"/>
                  </a:lnTo>
                  <a:lnTo>
                    <a:pt x="660" y="600"/>
                  </a:lnTo>
                  <a:lnTo>
                    <a:pt x="690" y="585"/>
                  </a:lnTo>
                  <a:lnTo>
                    <a:pt x="720" y="525"/>
                  </a:lnTo>
                  <a:lnTo>
                    <a:pt x="750" y="555"/>
                  </a:lnTo>
                  <a:lnTo>
                    <a:pt x="780" y="510"/>
                  </a:lnTo>
                  <a:lnTo>
                    <a:pt x="825" y="480"/>
                  </a:lnTo>
                  <a:lnTo>
                    <a:pt x="855" y="510"/>
                  </a:lnTo>
                  <a:lnTo>
                    <a:pt x="885" y="450"/>
                  </a:lnTo>
                  <a:lnTo>
                    <a:pt x="915" y="450"/>
                  </a:lnTo>
                  <a:lnTo>
                    <a:pt x="945" y="405"/>
                  </a:lnTo>
                  <a:lnTo>
                    <a:pt x="975" y="405"/>
                  </a:lnTo>
                  <a:lnTo>
                    <a:pt x="1020" y="390"/>
                  </a:lnTo>
                  <a:lnTo>
                    <a:pt x="1050" y="360"/>
                  </a:lnTo>
                  <a:lnTo>
                    <a:pt x="1080" y="330"/>
                  </a:lnTo>
                  <a:lnTo>
                    <a:pt x="1110" y="315"/>
                  </a:lnTo>
                  <a:lnTo>
                    <a:pt x="1140" y="300"/>
                  </a:lnTo>
                  <a:lnTo>
                    <a:pt x="1170" y="270"/>
                  </a:lnTo>
                  <a:lnTo>
                    <a:pt x="1215" y="255"/>
                  </a:lnTo>
                  <a:lnTo>
                    <a:pt x="1245" y="240"/>
                  </a:lnTo>
                  <a:lnTo>
                    <a:pt x="1275" y="210"/>
                  </a:lnTo>
                  <a:lnTo>
                    <a:pt x="1305" y="195"/>
                  </a:lnTo>
                  <a:lnTo>
                    <a:pt x="1335" y="180"/>
                  </a:lnTo>
                  <a:lnTo>
                    <a:pt x="1365" y="165"/>
                  </a:lnTo>
                  <a:lnTo>
                    <a:pt x="1410" y="150"/>
                  </a:lnTo>
                  <a:lnTo>
                    <a:pt x="1440" y="135"/>
                  </a:lnTo>
                  <a:lnTo>
                    <a:pt x="1470" y="105"/>
                  </a:lnTo>
                  <a:lnTo>
                    <a:pt x="1500" y="90"/>
                  </a:lnTo>
                  <a:lnTo>
                    <a:pt x="1530" y="60"/>
                  </a:lnTo>
                  <a:lnTo>
                    <a:pt x="1560" y="60"/>
                  </a:lnTo>
                  <a:lnTo>
                    <a:pt x="1605" y="45"/>
                  </a:lnTo>
                  <a:lnTo>
                    <a:pt x="1635" y="30"/>
                  </a:lnTo>
                  <a:lnTo>
                    <a:pt x="1665" y="15"/>
                  </a:lnTo>
                  <a:lnTo>
                    <a:pt x="1695" y="15"/>
                  </a:lnTo>
                  <a:lnTo>
                    <a:pt x="1725" y="0"/>
                  </a:lnTo>
                  <a:lnTo>
                    <a:pt x="1755" y="0"/>
                  </a:lnTo>
                  <a:lnTo>
                    <a:pt x="1801" y="15"/>
                  </a:lnTo>
                  <a:lnTo>
                    <a:pt x="1831" y="60"/>
                  </a:lnTo>
                  <a:lnTo>
                    <a:pt x="1861" y="165"/>
                  </a:lnTo>
                  <a:lnTo>
                    <a:pt x="1891" y="285"/>
                  </a:lnTo>
                  <a:lnTo>
                    <a:pt x="1921" y="405"/>
                  </a:lnTo>
                  <a:lnTo>
                    <a:pt x="1951" y="510"/>
                  </a:lnTo>
                  <a:lnTo>
                    <a:pt x="1996" y="660"/>
                  </a:lnTo>
                  <a:lnTo>
                    <a:pt x="2026" y="735"/>
                  </a:lnTo>
                  <a:lnTo>
                    <a:pt x="2056" y="840"/>
                  </a:lnTo>
                  <a:lnTo>
                    <a:pt x="2086" y="900"/>
                  </a:lnTo>
                  <a:lnTo>
                    <a:pt x="2116" y="900"/>
                  </a:lnTo>
                  <a:lnTo>
                    <a:pt x="2146" y="900"/>
                  </a:lnTo>
                  <a:lnTo>
                    <a:pt x="2191" y="840"/>
                  </a:lnTo>
                  <a:lnTo>
                    <a:pt x="2221" y="990"/>
                  </a:lnTo>
                  <a:lnTo>
                    <a:pt x="2251" y="990"/>
                  </a:lnTo>
                  <a:lnTo>
                    <a:pt x="2281" y="840"/>
                  </a:lnTo>
                  <a:lnTo>
                    <a:pt x="2311" y="990"/>
                  </a:lnTo>
                  <a:lnTo>
                    <a:pt x="2341" y="990"/>
                  </a:lnTo>
                  <a:lnTo>
                    <a:pt x="2371" y="990"/>
                  </a:lnTo>
                  <a:lnTo>
                    <a:pt x="2416" y="990"/>
                  </a:lnTo>
                  <a:lnTo>
                    <a:pt x="2446" y="990"/>
                  </a:lnTo>
                  <a:lnTo>
                    <a:pt x="2476" y="990"/>
                  </a:lnTo>
                  <a:lnTo>
                    <a:pt x="2506" y="990"/>
                  </a:lnTo>
                  <a:lnTo>
                    <a:pt x="2536" y="990"/>
                  </a:lnTo>
                  <a:lnTo>
                    <a:pt x="2566" y="990"/>
                  </a:lnTo>
                </a:path>
              </a:pathLst>
            </a:custGeom>
            <a:noFill/>
            <a:ln w="255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538360" y="4289400"/>
              <a:ext cx="685080" cy="491760"/>
            </a:xfrm>
            <a:custGeom>
              <a:avLst/>
              <a:gdLst/>
              <a:ahLst/>
              <a:rect l="l" t="t" r="r" b="b"/>
              <a:pathLst>
                <a:path w="2566" h="990">
                  <a:moveTo>
                    <a:pt x="0" y="900"/>
                  </a:moveTo>
                  <a:lnTo>
                    <a:pt x="45" y="990"/>
                  </a:lnTo>
                  <a:lnTo>
                    <a:pt x="75" y="990"/>
                  </a:lnTo>
                  <a:lnTo>
                    <a:pt x="105" y="840"/>
                  </a:lnTo>
                  <a:lnTo>
                    <a:pt x="135" y="990"/>
                  </a:lnTo>
                  <a:lnTo>
                    <a:pt x="165" y="900"/>
                  </a:lnTo>
                  <a:lnTo>
                    <a:pt x="195" y="990"/>
                  </a:lnTo>
                  <a:lnTo>
                    <a:pt x="240" y="900"/>
                  </a:lnTo>
                  <a:lnTo>
                    <a:pt x="270" y="735"/>
                  </a:lnTo>
                  <a:lnTo>
                    <a:pt x="300" y="840"/>
                  </a:lnTo>
                  <a:lnTo>
                    <a:pt x="330" y="810"/>
                  </a:lnTo>
                  <a:lnTo>
                    <a:pt x="360" y="780"/>
                  </a:lnTo>
                  <a:lnTo>
                    <a:pt x="390" y="840"/>
                  </a:lnTo>
                  <a:lnTo>
                    <a:pt x="435" y="720"/>
                  </a:lnTo>
                  <a:lnTo>
                    <a:pt x="465" y="750"/>
                  </a:lnTo>
                  <a:lnTo>
                    <a:pt x="495" y="720"/>
                  </a:lnTo>
                  <a:lnTo>
                    <a:pt x="525" y="675"/>
                  </a:lnTo>
                  <a:lnTo>
                    <a:pt x="555" y="735"/>
                  </a:lnTo>
                  <a:lnTo>
                    <a:pt x="585" y="645"/>
                  </a:lnTo>
                  <a:lnTo>
                    <a:pt x="630" y="630"/>
                  </a:lnTo>
                  <a:lnTo>
                    <a:pt x="660" y="600"/>
                  </a:lnTo>
                  <a:lnTo>
                    <a:pt x="690" y="585"/>
                  </a:lnTo>
                  <a:lnTo>
                    <a:pt x="720" y="525"/>
                  </a:lnTo>
                  <a:lnTo>
                    <a:pt x="750" y="555"/>
                  </a:lnTo>
                  <a:lnTo>
                    <a:pt x="780" y="510"/>
                  </a:lnTo>
                  <a:lnTo>
                    <a:pt x="825" y="480"/>
                  </a:lnTo>
                  <a:lnTo>
                    <a:pt x="855" y="510"/>
                  </a:lnTo>
                  <a:lnTo>
                    <a:pt x="885" y="450"/>
                  </a:lnTo>
                  <a:lnTo>
                    <a:pt x="915" y="450"/>
                  </a:lnTo>
                  <a:lnTo>
                    <a:pt x="945" y="405"/>
                  </a:lnTo>
                  <a:lnTo>
                    <a:pt x="975" y="405"/>
                  </a:lnTo>
                  <a:lnTo>
                    <a:pt x="1020" y="390"/>
                  </a:lnTo>
                  <a:lnTo>
                    <a:pt x="1050" y="360"/>
                  </a:lnTo>
                  <a:lnTo>
                    <a:pt x="1080" y="330"/>
                  </a:lnTo>
                  <a:lnTo>
                    <a:pt x="1110" y="315"/>
                  </a:lnTo>
                  <a:lnTo>
                    <a:pt x="1140" y="300"/>
                  </a:lnTo>
                  <a:lnTo>
                    <a:pt x="1170" y="270"/>
                  </a:lnTo>
                  <a:lnTo>
                    <a:pt x="1215" y="255"/>
                  </a:lnTo>
                  <a:lnTo>
                    <a:pt x="1245" y="240"/>
                  </a:lnTo>
                  <a:lnTo>
                    <a:pt x="1275" y="210"/>
                  </a:lnTo>
                  <a:lnTo>
                    <a:pt x="1305" y="195"/>
                  </a:lnTo>
                  <a:lnTo>
                    <a:pt x="1335" y="180"/>
                  </a:lnTo>
                  <a:lnTo>
                    <a:pt x="1365" y="165"/>
                  </a:lnTo>
                  <a:lnTo>
                    <a:pt x="1410" y="150"/>
                  </a:lnTo>
                  <a:lnTo>
                    <a:pt x="1440" y="135"/>
                  </a:lnTo>
                  <a:lnTo>
                    <a:pt x="1470" y="105"/>
                  </a:lnTo>
                  <a:lnTo>
                    <a:pt x="1500" y="90"/>
                  </a:lnTo>
                  <a:lnTo>
                    <a:pt x="1530" y="60"/>
                  </a:lnTo>
                  <a:lnTo>
                    <a:pt x="1560" y="60"/>
                  </a:lnTo>
                  <a:lnTo>
                    <a:pt x="1605" y="45"/>
                  </a:lnTo>
                  <a:lnTo>
                    <a:pt x="1635" y="30"/>
                  </a:lnTo>
                  <a:lnTo>
                    <a:pt x="1665" y="15"/>
                  </a:lnTo>
                  <a:lnTo>
                    <a:pt x="1695" y="15"/>
                  </a:lnTo>
                  <a:lnTo>
                    <a:pt x="1725" y="0"/>
                  </a:lnTo>
                  <a:lnTo>
                    <a:pt x="1755" y="0"/>
                  </a:lnTo>
                  <a:lnTo>
                    <a:pt x="1801" y="15"/>
                  </a:lnTo>
                  <a:lnTo>
                    <a:pt x="1831" y="60"/>
                  </a:lnTo>
                  <a:lnTo>
                    <a:pt x="1861" y="165"/>
                  </a:lnTo>
                  <a:lnTo>
                    <a:pt x="1891" y="285"/>
                  </a:lnTo>
                  <a:lnTo>
                    <a:pt x="1921" y="405"/>
                  </a:lnTo>
                  <a:lnTo>
                    <a:pt x="1951" y="510"/>
                  </a:lnTo>
                  <a:lnTo>
                    <a:pt x="1996" y="660"/>
                  </a:lnTo>
                  <a:lnTo>
                    <a:pt x="2026" y="735"/>
                  </a:lnTo>
                  <a:lnTo>
                    <a:pt x="2056" y="840"/>
                  </a:lnTo>
                  <a:lnTo>
                    <a:pt x="2086" y="900"/>
                  </a:lnTo>
                  <a:lnTo>
                    <a:pt x="2116" y="900"/>
                  </a:lnTo>
                  <a:lnTo>
                    <a:pt x="2146" y="900"/>
                  </a:lnTo>
                  <a:lnTo>
                    <a:pt x="2191" y="840"/>
                  </a:lnTo>
                  <a:lnTo>
                    <a:pt x="2221" y="990"/>
                  </a:lnTo>
                  <a:lnTo>
                    <a:pt x="2251" y="990"/>
                  </a:lnTo>
                  <a:lnTo>
                    <a:pt x="2281" y="840"/>
                  </a:lnTo>
                  <a:lnTo>
                    <a:pt x="2311" y="990"/>
                  </a:lnTo>
                  <a:lnTo>
                    <a:pt x="2341" y="990"/>
                  </a:lnTo>
                  <a:lnTo>
                    <a:pt x="2371" y="990"/>
                  </a:lnTo>
                  <a:lnTo>
                    <a:pt x="2416" y="990"/>
                  </a:lnTo>
                  <a:lnTo>
                    <a:pt x="2446" y="990"/>
                  </a:lnTo>
                  <a:lnTo>
                    <a:pt x="2476" y="990"/>
                  </a:lnTo>
                  <a:lnTo>
                    <a:pt x="2506" y="990"/>
                  </a:lnTo>
                  <a:lnTo>
                    <a:pt x="2536" y="990"/>
                  </a:lnTo>
                  <a:lnTo>
                    <a:pt x="2566" y="990"/>
                  </a:lnTo>
                </a:path>
              </a:pathLst>
            </a:custGeom>
            <a:noFill/>
            <a:ln w="255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192240" y="3467160"/>
            <a:ext cx="2157120" cy="170028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196920" y="3947760"/>
            <a:ext cx="2109240" cy="1049400"/>
            <a:chOff x="196920" y="3947760"/>
            <a:chExt cx="2109240" cy="1049400"/>
          </a:xfrm>
        </p:grpSpPr>
        <p:sp>
          <p:nvSpPr>
            <p:cNvPr id="272" name=""/>
            <p:cNvSpPr/>
            <p:nvPr/>
          </p:nvSpPr>
          <p:spPr>
            <a:xfrm>
              <a:off x="347040" y="4154760"/>
              <a:ext cx="948960" cy="777600"/>
            </a:xfrm>
            <a:custGeom>
              <a:avLst/>
              <a:gdLst/>
              <a:ahLst/>
              <a:rect l="l" t="t" r="r" b="b"/>
              <a:pathLst>
                <a:path w="878" h="778">
                  <a:moveTo>
                    <a:pt x="0" y="535"/>
                  </a:moveTo>
                  <a:lnTo>
                    <a:pt x="5" y="550"/>
                  </a:lnTo>
                  <a:lnTo>
                    <a:pt x="13" y="563"/>
                  </a:lnTo>
                  <a:lnTo>
                    <a:pt x="18" y="576"/>
                  </a:lnTo>
                  <a:lnTo>
                    <a:pt x="24" y="584"/>
                  </a:lnTo>
                  <a:lnTo>
                    <a:pt x="34" y="597"/>
                  </a:lnTo>
                  <a:lnTo>
                    <a:pt x="39" y="607"/>
                  </a:lnTo>
                  <a:lnTo>
                    <a:pt x="47" y="618"/>
                  </a:lnTo>
                  <a:lnTo>
                    <a:pt x="52" y="625"/>
                  </a:lnTo>
                  <a:lnTo>
                    <a:pt x="62" y="625"/>
                  </a:lnTo>
                  <a:lnTo>
                    <a:pt x="67" y="625"/>
                  </a:lnTo>
                  <a:lnTo>
                    <a:pt x="75" y="623"/>
                  </a:lnTo>
                  <a:lnTo>
                    <a:pt x="80" y="615"/>
                  </a:lnTo>
                  <a:lnTo>
                    <a:pt x="86" y="607"/>
                  </a:lnTo>
                  <a:lnTo>
                    <a:pt x="96" y="607"/>
                  </a:lnTo>
                  <a:lnTo>
                    <a:pt x="101" y="607"/>
                  </a:lnTo>
                  <a:lnTo>
                    <a:pt x="109" y="605"/>
                  </a:lnTo>
                  <a:lnTo>
                    <a:pt x="114" y="600"/>
                  </a:lnTo>
                  <a:lnTo>
                    <a:pt x="124" y="597"/>
                  </a:lnTo>
                  <a:lnTo>
                    <a:pt x="129" y="592"/>
                  </a:lnTo>
                  <a:lnTo>
                    <a:pt x="140" y="589"/>
                  </a:lnTo>
                  <a:lnTo>
                    <a:pt x="142" y="584"/>
                  </a:lnTo>
                  <a:lnTo>
                    <a:pt x="147" y="581"/>
                  </a:lnTo>
                  <a:lnTo>
                    <a:pt x="158" y="576"/>
                  </a:lnTo>
                  <a:lnTo>
                    <a:pt x="163" y="569"/>
                  </a:lnTo>
                  <a:lnTo>
                    <a:pt x="173" y="550"/>
                  </a:lnTo>
                  <a:lnTo>
                    <a:pt x="176" y="535"/>
                  </a:lnTo>
                  <a:lnTo>
                    <a:pt x="186" y="519"/>
                  </a:lnTo>
                  <a:lnTo>
                    <a:pt x="191" y="506"/>
                  </a:lnTo>
                  <a:lnTo>
                    <a:pt x="202" y="491"/>
                  </a:lnTo>
                  <a:lnTo>
                    <a:pt x="207" y="475"/>
                  </a:lnTo>
                  <a:lnTo>
                    <a:pt x="209" y="468"/>
                  </a:lnTo>
                  <a:lnTo>
                    <a:pt x="220" y="465"/>
                  </a:lnTo>
                  <a:lnTo>
                    <a:pt x="225" y="460"/>
                  </a:lnTo>
                  <a:lnTo>
                    <a:pt x="235" y="460"/>
                  </a:lnTo>
                  <a:lnTo>
                    <a:pt x="240" y="468"/>
                  </a:lnTo>
                  <a:lnTo>
                    <a:pt x="248" y="473"/>
                  </a:lnTo>
                  <a:lnTo>
                    <a:pt x="253" y="473"/>
                  </a:lnTo>
                  <a:lnTo>
                    <a:pt x="264" y="460"/>
                  </a:lnTo>
                  <a:lnTo>
                    <a:pt x="269" y="457"/>
                  </a:lnTo>
                  <a:lnTo>
                    <a:pt x="274" y="450"/>
                  </a:lnTo>
                  <a:lnTo>
                    <a:pt x="282" y="450"/>
                  </a:lnTo>
                  <a:lnTo>
                    <a:pt x="287" y="444"/>
                  </a:lnTo>
                  <a:lnTo>
                    <a:pt x="297" y="437"/>
                  </a:lnTo>
                  <a:lnTo>
                    <a:pt x="302" y="426"/>
                  </a:lnTo>
                  <a:lnTo>
                    <a:pt x="310" y="416"/>
                  </a:lnTo>
                  <a:lnTo>
                    <a:pt x="315" y="395"/>
                  </a:lnTo>
                  <a:lnTo>
                    <a:pt x="326" y="377"/>
                  </a:lnTo>
                  <a:lnTo>
                    <a:pt x="331" y="359"/>
                  </a:lnTo>
                  <a:lnTo>
                    <a:pt x="341" y="338"/>
                  </a:lnTo>
                  <a:lnTo>
                    <a:pt x="344" y="325"/>
                  </a:lnTo>
                  <a:lnTo>
                    <a:pt x="349" y="302"/>
                  </a:lnTo>
                  <a:lnTo>
                    <a:pt x="359" y="279"/>
                  </a:lnTo>
                  <a:lnTo>
                    <a:pt x="364" y="256"/>
                  </a:lnTo>
                  <a:lnTo>
                    <a:pt x="375" y="235"/>
                  </a:lnTo>
                  <a:lnTo>
                    <a:pt x="377" y="214"/>
                  </a:lnTo>
                  <a:lnTo>
                    <a:pt x="388" y="188"/>
                  </a:lnTo>
                  <a:lnTo>
                    <a:pt x="393" y="165"/>
                  </a:lnTo>
                  <a:lnTo>
                    <a:pt x="403" y="137"/>
                  </a:lnTo>
                  <a:lnTo>
                    <a:pt x="408" y="113"/>
                  </a:lnTo>
                  <a:lnTo>
                    <a:pt x="411" y="87"/>
                  </a:lnTo>
                  <a:lnTo>
                    <a:pt x="421" y="67"/>
                  </a:lnTo>
                  <a:lnTo>
                    <a:pt x="426" y="54"/>
                  </a:lnTo>
                  <a:lnTo>
                    <a:pt x="437" y="49"/>
                  </a:lnTo>
                  <a:lnTo>
                    <a:pt x="442" y="33"/>
                  </a:lnTo>
                  <a:lnTo>
                    <a:pt x="450" y="25"/>
                  </a:lnTo>
                  <a:lnTo>
                    <a:pt x="455" y="15"/>
                  </a:lnTo>
                  <a:lnTo>
                    <a:pt x="465" y="5"/>
                  </a:lnTo>
                  <a:lnTo>
                    <a:pt x="470" y="0"/>
                  </a:lnTo>
                  <a:lnTo>
                    <a:pt x="475" y="0"/>
                  </a:lnTo>
                  <a:lnTo>
                    <a:pt x="483" y="5"/>
                  </a:lnTo>
                  <a:lnTo>
                    <a:pt x="488" y="7"/>
                  </a:lnTo>
                  <a:lnTo>
                    <a:pt x="499" y="15"/>
                  </a:lnTo>
                  <a:lnTo>
                    <a:pt x="504" y="20"/>
                  </a:lnTo>
                  <a:lnTo>
                    <a:pt x="512" y="20"/>
                  </a:lnTo>
                  <a:lnTo>
                    <a:pt x="517" y="23"/>
                  </a:lnTo>
                  <a:lnTo>
                    <a:pt x="527" y="33"/>
                  </a:lnTo>
                  <a:lnTo>
                    <a:pt x="532" y="46"/>
                  </a:lnTo>
                  <a:lnTo>
                    <a:pt x="537" y="56"/>
                  </a:lnTo>
                  <a:lnTo>
                    <a:pt x="545" y="64"/>
                  </a:lnTo>
                  <a:lnTo>
                    <a:pt x="550" y="67"/>
                  </a:lnTo>
                  <a:lnTo>
                    <a:pt x="561" y="72"/>
                  </a:lnTo>
                  <a:lnTo>
                    <a:pt x="566" y="67"/>
                  </a:lnTo>
                  <a:lnTo>
                    <a:pt x="576" y="64"/>
                  </a:lnTo>
                  <a:lnTo>
                    <a:pt x="579" y="64"/>
                  </a:lnTo>
                  <a:lnTo>
                    <a:pt x="589" y="67"/>
                  </a:lnTo>
                  <a:lnTo>
                    <a:pt x="594" y="67"/>
                  </a:lnTo>
                  <a:lnTo>
                    <a:pt x="599" y="62"/>
                  </a:lnTo>
                  <a:lnTo>
                    <a:pt x="610" y="54"/>
                  </a:lnTo>
                  <a:lnTo>
                    <a:pt x="612" y="49"/>
                  </a:lnTo>
                  <a:lnTo>
                    <a:pt x="623" y="49"/>
                  </a:lnTo>
                  <a:lnTo>
                    <a:pt x="628" y="49"/>
                  </a:lnTo>
                  <a:lnTo>
                    <a:pt x="638" y="46"/>
                  </a:lnTo>
                  <a:lnTo>
                    <a:pt x="643" y="41"/>
                  </a:lnTo>
                  <a:lnTo>
                    <a:pt x="651" y="33"/>
                  </a:lnTo>
                  <a:lnTo>
                    <a:pt x="656" y="25"/>
                  </a:lnTo>
                  <a:lnTo>
                    <a:pt x="666" y="20"/>
                  </a:lnTo>
                  <a:lnTo>
                    <a:pt x="672" y="15"/>
                  </a:lnTo>
                  <a:lnTo>
                    <a:pt x="677" y="15"/>
                  </a:lnTo>
                  <a:lnTo>
                    <a:pt x="685" y="15"/>
                  </a:lnTo>
                  <a:lnTo>
                    <a:pt x="690" y="23"/>
                  </a:lnTo>
                  <a:lnTo>
                    <a:pt x="700" y="25"/>
                  </a:lnTo>
                  <a:lnTo>
                    <a:pt x="705" y="38"/>
                  </a:lnTo>
                  <a:lnTo>
                    <a:pt x="713" y="54"/>
                  </a:lnTo>
                  <a:lnTo>
                    <a:pt x="718" y="72"/>
                  </a:lnTo>
                  <a:lnTo>
                    <a:pt x="728" y="98"/>
                  </a:lnTo>
                  <a:lnTo>
                    <a:pt x="734" y="124"/>
                  </a:lnTo>
                  <a:lnTo>
                    <a:pt x="739" y="162"/>
                  </a:lnTo>
                  <a:lnTo>
                    <a:pt x="749" y="201"/>
                  </a:lnTo>
                  <a:lnTo>
                    <a:pt x="752" y="235"/>
                  </a:lnTo>
                  <a:lnTo>
                    <a:pt x="762" y="269"/>
                  </a:lnTo>
                  <a:lnTo>
                    <a:pt x="767" y="305"/>
                  </a:lnTo>
                  <a:lnTo>
                    <a:pt x="778" y="338"/>
                  </a:lnTo>
                  <a:lnTo>
                    <a:pt x="783" y="375"/>
                  </a:lnTo>
                  <a:lnTo>
                    <a:pt x="790" y="408"/>
                  </a:lnTo>
                  <a:lnTo>
                    <a:pt x="796" y="434"/>
                  </a:lnTo>
                  <a:lnTo>
                    <a:pt x="801" y="460"/>
                  </a:lnTo>
                  <a:lnTo>
                    <a:pt x="811" y="483"/>
                  </a:lnTo>
                  <a:lnTo>
                    <a:pt x="816" y="517"/>
                  </a:lnTo>
                  <a:lnTo>
                    <a:pt x="824" y="548"/>
                  </a:lnTo>
                  <a:lnTo>
                    <a:pt x="829" y="584"/>
                  </a:lnTo>
                  <a:lnTo>
                    <a:pt x="839" y="618"/>
                  </a:lnTo>
                  <a:lnTo>
                    <a:pt x="845" y="646"/>
                  </a:lnTo>
                  <a:lnTo>
                    <a:pt x="852" y="680"/>
                  </a:lnTo>
                  <a:lnTo>
                    <a:pt x="858" y="713"/>
                  </a:lnTo>
                  <a:lnTo>
                    <a:pt x="863" y="737"/>
                  </a:lnTo>
                  <a:lnTo>
                    <a:pt x="873" y="757"/>
                  </a:lnTo>
                  <a:lnTo>
                    <a:pt x="878" y="778"/>
                  </a:lnTo>
                </a:path>
              </a:pathLst>
            </a:custGeom>
            <a:noFill/>
            <a:ln cap="rnd" w="23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296000" y="4167000"/>
              <a:ext cx="954000" cy="775440"/>
            </a:xfrm>
            <a:custGeom>
              <a:avLst/>
              <a:gdLst/>
              <a:ahLst/>
              <a:rect l="l" t="t" r="r" b="b"/>
              <a:pathLst>
                <a:path w="883" h="776">
                  <a:moveTo>
                    <a:pt x="0" y="766"/>
                  </a:moveTo>
                  <a:lnTo>
                    <a:pt x="8" y="776"/>
                  </a:lnTo>
                  <a:lnTo>
                    <a:pt x="13" y="776"/>
                  </a:lnTo>
                  <a:lnTo>
                    <a:pt x="23" y="774"/>
                  </a:lnTo>
                  <a:lnTo>
                    <a:pt x="29" y="766"/>
                  </a:lnTo>
                  <a:lnTo>
                    <a:pt x="39" y="753"/>
                  </a:lnTo>
                  <a:lnTo>
                    <a:pt x="42" y="743"/>
                  </a:lnTo>
                  <a:lnTo>
                    <a:pt x="47" y="732"/>
                  </a:lnTo>
                  <a:lnTo>
                    <a:pt x="57" y="717"/>
                  </a:lnTo>
                  <a:lnTo>
                    <a:pt x="62" y="701"/>
                  </a:lnTo>
                  <a:lnTo>
                    <a:pt x="73" y="691"/>
                  </a:lnTo>
                  <a:lnTo>
                    <a:pt x="75" y="676"/>
                  </a:lnTo>
                  <a:lnTo>
                    <a:pt x="85" y="660"/>
                  </a:lnTo>
                  <a:lnTo>
                    <a:pt x="91" y="642"/>
                  </a:lnTo>
                  <a:lnTo>
                    <a:pt x="101" y="621"/>
                  </a:lnTo>
                  <a:lnTo>
                    <a:pt x="106" y="611"/>
                  </a:lnTo>
                  <a:lnTo>
                    <a:pt x="114" y="593"/>
                  </a:lnTo>
                  <a:lnTo>
                    <a:pt x="119" y="577"/>
                  </a:lnTo>
                  <a:lnTo>
                    <a:pt x="124" y="559"/>
                  </a:lnTo>
                  <a:lnTo>
                    <a:pt x="134" y="536"/>
                  </a:lnTo>
                  <a:lnTo>
                    <a:pt x="140" y="513"/>
                  </a:lnTo>
                  <a:lnTo>
                    <a:pt x="147" y="482"/>
                  </a:lnTo>
                  <a:lnTo>
                    <a:pt x="153" y="448"/>
                  </a:lnTo>
                  <a:lnTo>
                    <a:pt x="163" y="414"/>
                  </a:lnTo>
                  <a:lnTo>
                    <a:pt x="168" y="386"/>
                  </a:lnTo>
                  <a:lnTo>
                    <a:pt x="176" y="357"/>
                  </a:lnTo>
                  <a:lnTo>
                    <a:pt x="181" y="332"/>
                  </a:lnTo>
                  <a:lnTo>
                    <a:pt x="186" y="316"/>
                  </a:lnTo>
                  <a:lnTo>
                    <a:pt x="196" y="306"/>
                  </a:lnTo>
                  <a:lnTo>
                    <a:pt x="202" y="300"/>
                  </a:lnTo>
                  <a:lnTo>
                    <a:pt x="209" y="295"/>
                  </a:lnTo>
                  <a:lnTo>
                    <a:pt x="215" y="288"/>
                  </a:lnTo>
                  <a:lnTo>
                    <a:pt x="225" y="275"/>
                  </a:lnTo>
                  <a:lnTo>
                    <a:pt x="230" y="272"/>
                  </a:lnTo>
                  <a:lnTo>
                    <a:pt x="240" y="259"/>
                  </a:lnTo>
                  <a:lnTo>
                    <a:pt x="243" y="259"/>
                  </a:lnTo>
                  <a:lnTo>
                    <a:pt x="248" y="257"/>
                  </a:lnTo>
                  <a:lnTo>
                    <a:pt x="258" y="259"/>
                  </a:lnTo>
                  <a:lnTo>
                    <a:pt x="264" y="267"/>
                  </a:lnTo>
                  <a:lnTo>
                    <a:pt x="274" y="280"/>
                  </a:lnTo>
                  <a:lnTo>
                    <a:pt x="277" y="275"/>
                  </a:lnTo>
                  <a:lnTo>
                    <a:pt x="287" y="272"/>
                  </a:lnTo>
                  <a:lnTo>
                    <a:pt x="292" y="259"/>
                  </a:lnTo>
                  <a:lnTo>
                    <a:pt x="302" y="259"/>
                  </a:lnTo>
                  <a:lnTo>
                    <a:pt x="307" y="259"/>
                  </a:lnTo>
                  <a:lnTo>
                    <a:pt x="313" y="259"/>
                  </a:lnTo>
                  <a:lnTo>
                    <a:pt x="320" y="267"/>
                  </a:lnTo>
                  <a:lnTo>
                    <a:pt x="326" y="282"/>
                  </a:lnTo>
                  <a:lnTo>
                    <a:pt x="336" y="298"/>
                  </a:lnTo>
                  <a:lnTo>
                    <a:pt x="341" y="313"/>
                  </a:lnTo>
                  <a:lnTo>
                    <a:pt x="349" y="324"/>
                  </a:lnTo>
                  <a:lnTo>
                    <a:pt x="354" y="332"/>
                  </a:lnTo>
                  <a:lnTo>
                    <a:pt x="364" y="339"/>
                  </a:lnTo>
                  <a:lnTo>
                    <a:pt x="369" y="344"/>
                  </a:lnTo>
                  <a:lnTo>
                    <a:pt x="375" y="344"/>
                  </a:lnTo>
                  <a:lnTo>
                    <a:pt x="382" y="347"/>
                  </a:lnTo>
                  <a:lnTo>
                    <a:pt x="388" y="357"/>
                  </a:lnTo>
                  <a:lnTo>
                    <a:pt x="398" y="370"/>
                  </a:lnTo>
                  <a:lnTo>
                    <a:pt x="403" y="381"/>
                  </a:lnTo>
                  <a:lnTo>
                    <a:pt x="413" y="391"/>
                  </a:lnTo>
                  <a:lnTo>
                    <a:pt x="416" y="399"/>
                  </a:lnTo>
                  <a:lnTo>
                    <a:pt x="426" y="412"/>
                  </a:lnTo>
                  <a:lnTo>
                    <a:pt x="431" y="422"/>
                  </a:lnTo>
                  <a:lnTo>
                    <a:pt x="437" y="430"/>
                  </a:lnTo>
                  <a:lnTo>
                    <a:pt x="447" y="445"/>
                  </a:lnTo>
                  <a:lnTo>
                    <a:pt x="450" y="469"/>
                  </a:lnTo>
                  <a:lnTo>
                    <a:pt x="460" y="497"/>
                  </a:lnTo>
                  <a:lnTo>
                    <a:pt x="465" y="528"/>
                  </a:lnTo>
                  <a:lnTo>
                    <a:pt x="475" y="559"/>
                  </a:lnTo>
                  <a:lnTo>
                    <a:pt x="480" y="585"/>
                  </a:lnTo>
                  <a:lnTo>
                    <a:pt x="488" y="611"/>
                  </a:lnTo>
                  <a:lnTo>
                    <a:pt x="493" y="626"/>
                  </a:lnTo>
                  <a:lnTo>
                    <a:pt x="504" y="637"/>
                  </a:lnTo>
                  <a:lnTo>
                    <a:pt x="509" y="650"/>
                  </a:lnTo>
                  <a:lnTo>
                    <a:pt x="514" y="663"/>
                  </a:lnTo>
                  <a:lnTo>
                    <a:pt x="522" y="686"/>
                  </a:lnTo>
                  <a:lnTo>
                    <a:pt x="527" y="709"/>
                  </a:lnTo>
                  <a:lnTo>
                    <a:pt x="537" y="720"/>
                  </a:lnTo>
                  <a:lnTo>
                    <a:pt x="542" y="740"/>
                  </a:lnTo>
                  <a:lnTo>
                    <a:pt x="550" y="753"/>
                  </a:lnTo>
                  <a:lnTo>
                    <a:pt x="555" y="766"/>
                  </a:lnTo>
                  <a:lnTo>
                    <a:pt x="566" y="774"/>
                  </a:lnTo>
                  <a:lnTo>
                    <a:pt x="571" y="774"/>
                  </a:lnTo>
                  <a:lnTo>
                    <a:pt x="576" y="766"/>
                  </a:lnTo>
                  <a:lnTo>
                    <a:pt x="584" y="753"/>
                  </a:lnTo>
                  <a:lnTo>
                    <a:pt x="589" y="751"/>
                  </a:lnTo>
                  <a:lnTo>
                    <a:pt x="599" y="740"/>
                  </a:lnTo>
                  <a:lnTo>
                    <a:pt x="604" y="727"/>
                  </a:lnTo>
                  <a:lnTo>
                    <a:pt x="615" y="717"/>
                  </a:lnTo>
                  <a:lnTo>
                    <a:pt x="617" y="694"/>
                  </a:lnTo>
                  <a:lnTo>
                    <a:pt x="628" y="663"/>
                  </a:lnTo>
                  <a:lnTo>
                    <a:pt x="633" y="626"/>
                  </a:lnTo>
                  <a:lnTo>
                    <a:pt x="638" y="588"/>
                  </a:lnTo>
                  <a:lnTo>
                    <a:pt x="648" y="554"/>
                  </a:lnTo>
                  <a:lnTo>
                    <a:pt x="653" y="518"/>
                  </a:lnTo>
                  <a:lnTo>
                    <a:pt x="661" y="482"/>
                  </a:lnTo>
                  <a:lnTo>
                    <a:pt x="666" y="453"/>
                  </a:lnTo>
                  <a:lnTo>
                    <a:pt x="677" y="427"/>
                  </a:lnTo>
                  <a:lnTo>
                    <a:pt x="682" y="396"/>
                  </a:lnTo>
                  <a:lnTo>
                    <a:pt x="690" y="357"/>
                  </a:lnTo>
                  <a:lnTo>
                    <a:pt x="695" y="316"/>
                  </a:lnTo>
                  <a:lnTo>
                    <a:pt x="700" y="275"/>
                  </a:lnTo>
                  <a:lnTo>
                    <a:pt x="710" y="241"/>
                  </a:lnTo>
                  <a:lnTo>
                    <a:pt x="715" y="207"/>
                  </a:lnTo>
                  <a:lnTo>
                    <a:pt x="723" y="174"/>
                  </a:lnTo>
                  <a:lnTo>
                    <a:pt x="728" y="143"/>
                  </a:lnTo>
                  <a:lnTo>
                    <a:pt x="739" y="117"/>
                  </a:lnTo>
                  <a:lnTo>
                    <a:pt x="744" y="91"/>
                  </a:lnTo>
                  <a:lnTo>
                    <a:pt x="754" y="75"/>
                  </a:lnTo>
                  <a:lnTo>
                    <a:pt x="757" y="60"/>
                  </a:lnTo>
                  <a:lnTo>
                    <a:pt x="762" y="44"/>
                  </a:lnTo>
                  <a:lnTo>
                    <a:pt x="772" y="26"/>
                  </a:lnTo>
                  <a:lnTo>
                    <a:pt x="777" y="16"/>
                  </a:lnTo>
                  <a:lnTo>
                    <a:pt x="788" y="3"/>
                  </a:lnTo>
                  <a:lnTo>
                    <a:pt x="790" y="0"/>
                  </a:lnTo>
                  <a:lnTo>
                    <a:pt x="801" y="0"/>
                  </a:lnTo>
                  <a:lnTo>
                    <a:pt x="806" y="8"/>
                  </a:lnTo>
                  <a:lnTo>
                    <a:pt x="816" y="11"/>
                  </a:lnTo>
                  <a:lnTo>
                    <a:pt x="821" y="8"/>
                  </a:lnTo>
                  <a:lnTo>
                    <a:pt x="829" y="16"/>
                  </a:lnTo>
                  <a:lnTo>
                    <a:pt x="834" y="29"/>
                  </a:lnTo>
                  <a:lnTo>
                    <a:pt x="839" y="44"/>
                  </a:lnTo>
                  <a:lnTo>
                    <a:pt x="850" y="60"/>
                  </a:lnTo>
                  <a:lnTo>
                    <a:pt x="855" y="83"/>
                  </a:lnTo>
                  <a:lnTo>
                    <a:pt x="863" y="106"/>
                  </a:lnTo>
                  <a:lnTo>
                    <a:pt x="868" y="125"/>
                  </a:lnTo>
                  <a:lnTo>
                    <a:pt x="878" y="148"/>
                  </a:lnTo>
                  <a:lnTo>
                    <a:pt x="883" y="169"/>
                  </a:lnTo>
                </a:path>
              </a:pathLst>
            </a:custGeom>
            <a:noFill/>
            <a:ln cap="rnd" w="23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72960" y="4077000"/>
              <a:ext cx="947520" cy="904680"/>
            </a:xfrm>
            <a:custGeom>
              <a:avLst/>
              <a:gdLst/>
              <a:ahLst/>
              <a:rect l="l" t="t" r="r" b="b"/>
              <a:pathLst>
                <a:path w="877" h="905">
                  <a:moveTo>
                    <a:pt x="0" y="905"/>
                  </a:moveTo>
                  <a:lnTo>
                    <a:pt x="5" y="890"/>
                  </a:lnTo>
                  <a:lnTo>
                    <a:pt x="12" y="877"/>
                  </a:lnTo>
                  <a:lnTo>
                    <a:pt x="18" y="866"/>
                  </a:lnTo>
                  <a:lnTo>
                    <a:pt x="23" y="853"/>
                  </a:lnTo>
                  <a:lnTo>
                    <a:pt x="33" y="838"/>
                  </a:lnTo>
                  <a:lnTo>
                    <a:pt x="38" y="822"/>
                  </a:lnTo>
                  <a:lnTo>
                    <a:pt x="46" y="817"/>
                  </a:lnTo>
                  <a:lnTo>
                    <a:pt x="51" y="822"/>
                  </a:lnTo>
                  <a:lnTo>
                    <a:pt x="62" y="825"/>
                  </a:lnTo>
                  <a:lnTo>
                    <a:pt x="67" y="830"/>
                  </a:lnTo>
                  <a:lnTo>
                    <a:pt x="77" y="830"/>
                  </a:lnTo>
                  <a:lnTo>
                    <a:pt x="80" y="830"/>
                  </a:lnTo>
                  <a:lnTo>
                    <a:pt x="85" y="830"/>
                  </a:lnTo>
                  <a:lnTo>
                    <a:pt x="95" y="830"/>
                  </a:lnTo>
                  <a:lnTo>
                    <a:pt x="100" y="825"/>
                  </a:lnTo>
                  <a:lnTo>
                    <a:pt x="111" y="825"/>
                  </a:lnTo>
                  <a:lnTo>
                    <a:pt x="113" y="822"/>
                  </a:lnTo>
                  <a:lnTo>
                    <a:pt x="123" y="810"/>
                  </a:lnTo>
                  <a:lnTo>
                    <a:pt x="129" y="804"/>
                  </a:lnTo>
                  <a:lnTo>
                    <a:pt x="139" y="802"/>
                  </a:lnTo>
                  <a:lnTo>
                    <a:pt x="144" y="794"/>
                  </a:lnTo>
                  <a:lnTo>
                    <a:pt x="147" y="786"/>
                  </a:lnTo>
                  <a:lnTo>
                    <a:pt x="157" y="773"/>
                  </a:lnTo>
                  <a:lnTo>
                    <a:pt x="162" y="760"/>
                  </a:lnTo>
                  <a:lnTo>
                    <a:pt x="173" y="750"/>
                  </a:lnTo>
                  <a:lnTo>
                    <a:pt x="178" y="740"/>
                  </a:lnTo>
                  <a:lnTo>
                    <a:pt x="185" y="724"/>
                  </a:lnTo>
                  <a:lnTo>
                    <a:pt x="191" y="714"/>
                  </a:lnTo>
                  <a:lnTo>
                    <a:pt x="201" y="693"/>
                  </a:lnTo>
                  <a:lnTo>
                    <a:pt x="206" y="680"/>
                  </a:lnTo>
                  <a:lnTo>
                    <a:pt x="211" y="672"/>
                  </a:lnTo>
                  <a:lnTo>
                    <a:pt x="219" y="657"/>
                  </a:lnTo>
                  <a:lnTo>
                    <a:pt x="224" y="636"/>
                  </a:lnTo>
                  <a:lnTo>
                    <a:pt x="235" y="623"/>
                  </a:lnTo>
                  <a:lnTo>
                    <a:pt x="240" y="616"/>
                  </a:lnTo>
                  <a:lnTo>
                    <a:pt x="247" y="608"/>
                  </a:lnTo>
                  <a:lnTo>
                    <a:pt x="253" y="600"/>
                  </a:lnTo>
                  <a:lnTo>
                    <a:pt x="263" y="587"/>
                  </a:lnTo>
                  <a:lnTo>
                    <a:pt x="268" y="584"/>
                  </a:lnTo>
                  <a:lnTo>
                    <a:pt x="273" y="584"/>
                  </a:lnTo>
                  <a:lnTo>
                    <a:pt x="281" y="572"/>
                  </a:lnTo>
                  <a:lnTo>
                    <a:pt x="286" y="564"/>
                  </a:lnTo>
                  <a:lnTo>
                    <a:pt x="296" y="556"/>
                  </a:lnTo>
                  <a:lnTo>
                    <a:pt x="302" y="548"/>
                  </a:lnTo>
                  <a:lnTo>
                    <a:pt x="312" y="528"/>
                  </a:lnTo>
                  <a:lnTo>
                    <a:pt x="315" y="512"/>
                  </a:lnTo>
                  <a:lnTo>
                    <a:pt x="325" y="504"/>
                  </a:lnTo>
                  <a:lnTo>
                    <a:pt x="330" y="499"/>
                  </a:lnTo>
                  <a:lnTo>
                    <a:pt x="340" y="497"/>
                  </a:lnTo>
                  <a:lnTo>
                    <a:pt x="346" y="486"/>
                  </a:lnTo>
                  <a:lnTo>
                    <a:pt x="348" y="471"/>
                  </a:lnTo>
                  <a:lnTo>
                    <a:pt x="358" y="463"/>
                  </a:lnTo>
                  <a:lnTo>
                    <a:pt x="364" y="450"/>
                  </a:lnTo>
                  <a:lnTo>
                    <a:pt x="374" y="447"/>
                  </a:lnTo>
                  <a:lnTo>
                    <a:pt x="379" y="440"/>
                  </a:lnTo>
                  <a:lnTo>
                    <a:pt x="387" y="419"/>
                  </a:lnTo>
                  <a:lnTo>
                    <a:pt x="392" y="403"/>
                  </a:lnTo>
                  <a:lnTo>
                    <a:pt x="402" y="390"/>
                  </a:lnTo>
                  <a:lnTo>
                    <a:pt x="408" y="367"/>
                  </a:lnTo>
                  <a:lnTo>
                    <a:pt x="413" y="334"/>
                  </a:lnTo>
                  <a:lnTo>
                    <a:pt x="420" y="305"/>
                  </a:lnTo>
                  <a:lnTo>
                    <a:pt x="426" y="282"/>
                  </a:lnTo>
                  <a:lnTo>
                    <a:pt x="436" y="259"/>
                  </a:lnTo>
                  <a:lnTo>
                    <a:pt x="441" y="233"/>
                  </a:lnTo>
                  <a:lnTo>
                    <a:pt x="449" y="207"/>
                  </a:lnTo>
                  <a:lnTo>
                    <a:pt x="454" y="196"/>
                  </a:lnTo>
                  <a:lnTo>
                    <a:pt x="464" y="189"/>
                  </a:lnTo>
                  <a:lnTo>
                    <a:pt x="469" y="189"/>
                  </a:lnTo>
                  <a:lnTo>
                    <a:pt x="475" y="186"/>
                  </a:lnTo>
                  <a:lnTo>
                    <a:pt x="482" y="189"/>
                  </a:lnTo>
                  <a:lnTo>
                    <a:pt x="488" y="189"/>
                  </a:lnTo>
                  <a:lnTo>
                    <a:pt x="498" y="186"/>
                  </a:lnTo>
                  <a:lnTo>
                    <a:pt x="503" y="181"/>
                  </a:lnTo>
                  <a:lnTo>
                    <a:pt x="513" y="173"/>
                  </a:lnTo>
                  <a:lnTo>
                    <a:pt x="516" y="171"/>
                  </a:lnTo>
                  <a:lnTo>
                    <a:pt x="526" y="171"/>
                  </a:lnTo>
                  <a:lnTo>
                    <a:pt x="531" y="165"/>
                  </a:lnTo>
                  <a:lnTo>
                    <a:pt x="537" y="160"/>
                  </a:lnTo>
                  <a:lnTo>
                    <a:pt x="547" y="150"/>
                  </a:lnTo>
                  <a:lnTo>
                    <a:pt x="550" y="142"/>
                  </a:lnTo>
                  <a:lnTo>
                    <a:pt x="560" y="142"/>
                  </a:lnTo>
                  <a:lnTo>
                    <a:pt x="565" y="134"/>
                  </a:lnTo>
                  <a:lnTo>
                    <a:pt x="575" y="137"/>
                  </a:lnTo>
                  <a:lnTo>
                    <a:pt x="581" y="145"/>
                  </a:lnTo>
                  <a:lnTo>
                    <a:pt x="588" y="160"/>
                  </a:lnTo>
                  <a:lnTo>
                    <a:pt x="593" y="171"/>
                  </a:lnTo>
                  <a:lnTo>
                    <a:pt x="599" y="178"/>
                  </a:lnTo>
                  <a:lnTo>
                    <a:pt x="609" y="186"/>
                  </a:lnTo>
                  <a:lnTo>
                    <a:pt x="614" y="194"/>
                  </a:lnTo>
                  <a:lnTo>
                    <a:pt x="622" y="194"/>
                  </a:lnTo>
                  <a:lnTo>
                    <a:pt x="627" y="186"/>
                  </a:lnTo>
                  <a:lnTo>
                    <a:pt x="637" y="171"/>
                  </a:lnTo>
                  <a:lnTo>
                    <a:pt x="642" y="150"/>
                  </a:lnTo>
                  <a:lnTo>
                    <a:pt x="653" y="134"/>
                  </a:lnTo>
                  <a:lnTo>
                    <a:pt x="655" y="114"/>
                  </a:lnTo>
                  <a:lnTo>
                    <a:pt x="666" y="98"/>
                  </a:lnTo>
                  <a:lnTo>
                    <a:pt x="671" y="80"/>
                  </a:lnTo>
                  <a:lnTo>
                    <a:pt x="676" y="65"/>
                  </a:lnTo>
                  <a:lnTo>
                    <a:pt x="686" y="44"/>
                  </a:lnTo>
                  <a:lnTo>
                    <a:pt x="689" y="28"/>
                  </a:lnTo>
                  <a:lnTo>
                    <a:pt x="699" y="26"/>
                  </a:lnTo>
                  <a:lnTo>
                    <a:pt x="704" y="15"/>
                  </a:lnTo>
                  <a:lnTo>
                    <a:pt x="715" y="8"/>
                  </a:lnTo>
                  <a:lnTo>
                    <a:pt x="720" y="5"/>
                  </a:lnTo>
                  <a:lnTo>
                    <a:pt x="728" y="5"/>
                  </a:lnTo>
                  <a:lnTo>
                    <a:pt x="733" y="0"/>
                  </a:lnTo>
                  <a:lnTo>
                    <a:pt x="738" y="8"/>
                  </a:lnTo>
                  <a:lnTo>
                    <a:pt x="748" y="15"/>
                  </a:lnTo>
                  <a:lnTo>
                    <a:pt x="754" y="26"/>
                  </a:lnTo>
                  <a:lnTo>
                    <a:pt x="761" y="26"/>
                  </a:lnTo>
                  <a:lnTo>
                    <a:pt x="766" y="36"/>
                  </a:lnTo>
                  <a:lnTo>
                    <a:pt x="777" y="44"/>
                  </a:lnTo>
                  <a:lnTo>
                    <a:pt x="782" y="52"/>
                  </a:lnTo>
                  <a:lnTo>
                    <a:pt x="790" y="70"/>
                  </a:lnTo>
                  <a:lnTo>
                    <a:pt x="795" y="85"/>
                  </a:lnTo>
                  <a:lnTo>
                    <a:pt x="800" y="116"/>
                  </a:lnTo>
                  <a:lnTo>
                    <a:pt x="810" y="150"/>
                  </a:lnTo>
                  <a:lnTo>
                    <a:pt x="815" y="189"/>
                  </a:lnTo>
                  <a:lnTo>
                    <a:pt x="823" y="225"/>
                  </a:lnTo>
                  <a:lnTo>
                    <a:pt x="828" y="274"/>
                  </a:lnTo>
                  <a:lnTo>
                    <a:pt x="839" y="315"/>
                  </a:lnTo>
                  <a:lnTo>
                    <a:pt x="844" y="359"/>
                  </a:lnTo>
                  <a:lnTo>
                    <a:pt x="854" y="406"/>
                  </a:lnTo>
                  <a:lnTo>
                    <a:pt x="857" y="460"/>
                  </a:lnTo>
                  <a:lnTo>
                    <a:pt x="862" y="504"/>
                  </a:lnTo>
                  <a:lnTo>
                    <a:pt x="872" y="541"/>
                  </a:lnTo>
                  <a:lnTo>
                    <a:pt x="877" y="577"/>
                  </a:lnTo>
                </a:path>
              </a:pathLst>
            </a:custGeom>
            <a:noFill/>
            <a:ln cap="rnd" w="237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320840" y="4110840"/>
              <a:ext cx="955080" cy="795600"/>
            </a:xfrm>
            <a:custGeom>
              <a:avLst/>
              <a:gdLst/>
              <a:ahLst/>
              <a:rect l="l" t="t" r="r" b="b"/>
              <a:pathLst>
                <a:path w="884" h="796">
                  <a:moveTo>
                    <a:pt x="0" y="543"/>
                  </a:moveTo>
                  <a:lnTo>
                    <a:pt x="11" y="579"/>
                  </a:lnTo>
                  <a:lnTo>
                    <a:pt x="13" y="610"/>
                  </a:lnTo>
                  <a:lnTo>
                    <a:pt x="24" y="644"/>
                  </a:lnTo>
                  <a:lnTo>
                    <a:pt x="29" y="669"/>
                  </a:lnTo>
                  <a:lnTo>
                    <a:pt x="39" y="690"/>
                  </a:lnTo>
                  <a:lnTo>
                    <a:pt x="44" y="695"/>
                  </a:lnTo>
                  <a:lnTo>
                    <a:pt x="47" y="698"/>
                  </a:lnTo>
                  <a:lnTo>
                    <a:pt x="57" y="703"/>
                  </a:lnTo>
                  <a:lnTo>
                    <a:pt x="62" y="706"/>
                  </a:lnTo>
                  <a:lnTo>
                    <a:pt x="73" y="716"/>
                  </a:lnTo>
                  <a:lnTo>
                    <a:pt x="78" y="711"/>
                  </a:lnTo>
                  <a:lnTo>
                    <a:pt x="86" y="703"/>
                  </a:lnTo>
                  <a:lnTo>
                    <a:pt x="91" y="695"/>
                  </a:lnTo>
                  <a:lnTo>
                    <a:pt x="101" y="682"/>
                  </a:lnTo>
                  <a:lnTo>
                    <a:pt x="106" y="662"/>
                  </a:lnTo>
                  <a:lnTo>
                    <a:pt x="114" y="633"/>
                  </a:lnTo>
                  <a:lnTo>
                    <a:pt x="119" y="607"/>
                  </a:lnTo>
                  <a:lnTo>
                    <a:pt x="124" y="571"/>
                  </a:lnTo>
                  <a:lnTo>
                    <a:pt x="135" y="545"/>
                  </a:lnTo>
                  <a:lnTo>
                    <a:pt x="140" y="522"/>
                  </a:lnTo>
                  <a:lnTo>
                    <a:pt x="148" y="494"/>
                  </a:lnTo>
                  <a:lnTo>
                    <a:pt x="153" y="463"/>
                  </a:lnTo>
                  <a:lnTo>
                    <a:pt x="163" y="437"/>
                  </a:lnTo>
                  <a:lnTo>
                    <a:pt x="168" y="421"/>
                  </a:lnTo>
                  <a:lnTo>
                    <a:pt x="179" y="408"/>
                  </a:lnTo>
                  <a:lnTo>
                    <a:pt x="181" y="393"/>
                  </a:lnTo>
                  <a:lnTo>
                    <a:pt x="186" y="380"/>
                  </a:lnTo>
                  <a:lnTo>
                    <a:pt x="197" y="364"/>
                  </a:lnTo>
                  <a:lnTo>
                    <a:pt x="202" y="354"/>
                  </a:lnTo>
                  <a:lnTo>
                    <a:pt x="212" y="354"/>
                  </a:lnTo>
                  <a:lnTo>
                    <a:pt x="215" y="356"/>
                  </a:lnTo>
                  <a:lnTo>
                    <a:pt x="225" y="362"/>
                  </a:lnTo>
                  <a:lnTo>
                    <a:pt x="230" y="364"/>
                  </a:lnTo>
                  <a:lnTo>
                    <a:pt x="241" y="362"/>
                  </a:lnTo>
                  <a:lnTo>
                    <a:pt x="246" y="349"/>
                  </a:lnTo>
                  <a:lnTo>
                    <a:pt x="251" y="344"/>
                  </a:lnTo>
                  <a:lnTo>
                    <a:pt x="259" y="354"/>
                  </a:lnTo>
                  <a:lnTo>
                    <a:pt x="264" y="356"/>
                  </a:lnTo>
                  <a:lnTo>
                    <a:pt x="274" y="356"/>
                  </a:lnTo>
                  <a:lnTo>
                    <a:pt x="279" y="356"/>
                  </a:lnTo>
                  <a:lnTo>
                    <a:pt x="287" y="369"/>
                  </a:lnTo>
                  <a:lnTo>
                    <a:pt x="292" y="385"/>
                  </a:lnTo>
                  <a:lnTo>
                    <a:pt x="303" y="400"/>
                  </a:lnTo>
                  <a:lnTo>
                    <a:pt x="308" y="406"/>
                  </a:lnTo>
                  <a:lnTo>
                    <a:pt x="313" y="413"/>
                  </a:lnTo>
                  <a:lnTo>
                    <a:pt x="321" y="426"/>
                  </a:lnTo>
                  <a:lnTo>
                    <a:pt x="326" y="434"/>
                  </a:lnTo>
                  <a:lnTo>
                    <a:pt x="336" y="437"/>
                  </a:lnTo>
                  <a:lnTo>
                    <a:pt x="341" y="434"/>
                  </a:lnTo>
                  <a:lnTo>
                    <a:pt x="352" y="429"/>
                  </a:lnTo>
                  <a:lnTo>
                    <a:pt x="354" y="434"/>
                  </a:lnTo>
                  <a:lnTo>
                    <a:pt x="365" y="434"/>
                  </a:lnTo>
                  <a:lnTo>
                    <a:pt x="370" y="437"/>
                  </a:lnTo>
                  <a:lnTo>
                    <a:pt x="375" y="437"/>
                  </a:lnTo>
                  <a:lnTo>
                    <a:pt x="385" y="434"/>
                  </a:lnTo>
                  <a:lnTo>
                    <a:pt x="388" y="434"/>
                  </a:lnTo>
                  <a:lnTo>
                    <a:pt x="398" y="434"/>
                  </a:lnTo>
                  <a:lnTo>
                    <a:pt x="403" y="437"/>
                  </a:lnTo>
                  <a:lnTo>
                    <a:pt x="414" y="457"/>
                  </a:lnTo>
                  <a:lnTo>
                    <a:pt x="419" y="486"/>
                  </a:lnTo>
                  <a:lnTo>
                    <a:pt x="427" y="514"/>
                  </a:lnTo>
                  <a:lnTo>
                    <a:pt x="432" y="530"/>
                  </a:lnTo>
                  <a:lnTo>
                    <a:pt x="437" y="553"/>
                  </a:lnTo>
                  <a:lnTo>
                    <a:pt x="447" y="582"/>
                  </a:lnTo>
                  <a:lnTo>
                    <a:pt x="452" y="602"/>
                  </a:lnTo>
                  <a:lnTo>
                    <a:pt x="460" y="618"/>
                  </a:lnTo>
                  <a:lnTo>
                    <a:pt x="465" y="631"/>
                  </a:lnTo>
                  <a:lnTo>
                    <a:pt x="476" y="646"/>
                  </a:lnTo>
                  <a:lnTo>
                    <a:pt x="481" y="667"/>
                  </a:lnTo>
                  <a:lnTo>
                    <a:pt x="488" y="680"/>
                  </a:lnTo>
                  <a:lnTo>
                    <a:pt x="494" y="682"/>
                  </a:lnTo>
                  <a:lnTo>
                    <a:pt x="504" y="695"/>
                  </a:lnTo>
                  <a:lnTo>
                    <a:pt x="509" y="711"/>
                  </a:lnTo>
                  <a:lnTo>
                    <a:pt x="514" y="734"/>
                  </a:lnTo>
                  <a:lnTo>
                    <a:pt x="522" y="755"/>
                  </a:lnTo>
                  <a:lnTo>
                    <a:pt x="527" y="768"/>
                  </a:lnTo>
                  <a:lnTo>
                    <a:pt x="538" y="776"/>
                  </a:lnTo>
                  <a:lnTo>
                    <a:pt x="543" y="783"/>
                  </a:lnTo>
                  <a:lnTo>
                    <a:pt x="553" y="791"/>
                  </a:lnTo>
                  <a:lnTo>
                    <a:pt x="556" y="791"/>
                  </a:lnTo>
                  <a:lnTo>
                    <a:pt x="566" y="791"/>
                  </a:lnTo>
                  <a:lnTo>
                    <a:pt x="571" y="796"/>
                  </a:lnTo>
                  <a:lnTo>
                    <a:pt x="576" y="791"/>
                  </a:lnTo>
                  <a:lnTo>
                    <a:pt x="587" y="776"/>
                  </a:lnTo>
                  <a:lnTo>
                    <a:pt x="592" y="752"/>
                  </a:lnTo>
                  <a:lnTo>
                    <a:pt x="600" y="732"/>
                  </a:lnTo>
                  <a:lnTo>
                    <a:pt x="605" y="716"/>
                  </a:lnTo>
                  <a:lnTo>
                    <a:pt x="615" y="698"/>
                  </a:lnTo>
                  <a:lnTo>
                    <a:pt x="620" y="680"/>
                  </a:lnTo>
                  <a:lnTo>
                    <a:pt x="628" y="667"/>
                  </a:lnTo>
                  <a:lnTo>
                    <a:pt x="633" y="659"/>
                  </a:lnTo>
                  <a:lnTo>
                    <a:pt x="638" y="646"/>
                  </a:lnTo>
                  <a:lnTo>
                    <a:pt x="649" y="633"/>
                  </a:lnTo>
                  <a:lnTo>
                    <a:pt x="654" y="623"/>
                  </a:lnTo>
                  <a:lnTo>
                    <a:pt x="661" y="615"/>
                  </a:lnTo>
                  <a:lnTo>
                    <a:pt x="667" y="607"/>
                  </a:lnTo>
                  <a:lnTo>
                    <a:pt x="677" y="594"/>
                  </a:lnTo>
                  <a:lnTo>
                    <a:pt x="682" y="571"/>
                  </a:lnTo>
                  <a:lnTo>
                    <a:pt x="692" y="535"/>
                  </a:lnTo>
                  <a:lnTo>
                    <a:pt x="695" y="507"/>
                  </a:lnTo>
                  <a:lnTo>
                    <a:pt x="700" y="473"/>
                  </a:lnTo>
                  <a:lnTo>
                    <a:pt x="711" y="450"/>
                  </a:lnTo>
                  <a:lnTo>
                    <a:pt x="716" y="429"/>
                  </a:lnTo>
                  <a:lnTo>
                    <a:pt x="726" y="406"/>
                  </a:lnTo>
                  <a:lnTo>
                    <a:pt x="729" y="385"/>
                  </a:lnTo>
                  <a:lnTo>
                    <a:pt x="739" y="364"/>
                  </a:lnTo>
                  <a:lnTo>
                    <a:pt x="744" y="336"/>
                  </a:lnTo>
                  <a:lnTo>
                    <a:pt x="754" y="318"/>
                  </a:lnTo>
                  <a:lnTo>
                    <a:pt x="760" y="305"/>
                  </a:lnTo>
                  <a:lnTo>
                    <a:pt x="762" y="292"/>
                  </a:lnTo>
                  <a:lnTo>
                    <a:pt x="773" y="284"/>
                  </a:lnTo>
                  <a:lnTo>
                    <a:pt x="778" y="261"/>
                  </a:lnTo>
                  <a:lnTo>
                    <a:pt x="788" y="240"/>
                  </a:lnTo>
                  <a:lnTo>
                    <a:pt x="793" y="219"/>
                  </a:lnTo>
                  <a:lnTo>
                    <a:pt x="801" y="201"/>
                  </a:lnTo>
                  <a:lnTo>
                    <a:pt x="806" y="168"/>
                  </a:lnTo>
                  <a:lnTo>
                    <a:pt x="816" y="139"/>
                  </a:lnTo>
                  <a:lnTo>
                    <a:pt x="822" y="111"/>
                  </a:lnTo>
                  <a:lnTo>
                    <a:pt x="829" y="82"/>
                  </a:lnTo>
                  <a:lnTo>
                    <a:pt x="834" y="51"/>
                  </a:lnTo>
                  <a:lnTo>
                    <a:pt x="840" y="28"/>
                  </a:lnTo>
                  <a:lnTo>
                    <a:pt x="850" y="7"/>
                  </a:lnTo>
                  <a:lnTo>
                    <a:pt x="855" y="0"/>
                  </a:lnTo>
                  <a:lnTo>
                    <a:pt x="863" y="7"/>
                  </a:lnTo>
                  <a:lnTo>
                    <a:pt x="868" y="7"/>
                  </a:lnTo>
                  <a:lnTo>
                    <a:pt x="878" y="10"/>
                  </a:lnTo>
                  <a:lnTo>
                    <a:pt x="884" y="10"/>
                  </a:lnTo>
                </a:path>
              </a:pathLst>
            </a:custGeom>
            <a:noFill/>
            <a:ln cap="rnd" w="237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96920" y="4992480"/>
              <a:ext cx="2106360" cy="4680"/>
            </a:xfrm>
            <a:prstGeom prst="line">
              <a:avLst/>
            </a:prstGeom>
            <a:ln cap="rnd"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 name=""/>
            <p:cNvSpPr/>
            <p:nvPr/>
          </p:nvSpPr>
          <p:spPr>
            <a:xfrm flipV="1">
              <a:off x="196920" y="3947760"/>
              <a:ext cx="5040" cy="104436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196920" y="4973760"/>
              <a:ext cx="5040" cy="18720"/>
            </a:xfrm>
            <a:prstGeom prst="line">
              <a:avLst/>
            </a:prstGeom>
            <a:ln cap="rnd"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9" name=""/>
            <p:cNvSpPr/>
            <p:nvPr/>
          </p:nvSpPr>
          <p:spPr>
            <a:xfrm flipV="1">
              <a:off x="500400" y="4973760"/>
              <a:ext cx="2880" cy="18720"/>
            </a:xfrm>
            <a:prstGeom prst="line">
              <a:avLst/>
            </a:prstGeom>
            <a:ln cap="rnd"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0" name=""/>
            <p:cNvSpPr/>
            <p:nvPr/>
          </p:nvSpPr>
          <p:spPr>
            <a:xfrm flipV="1">
              <a:off x="801720" y="4973760"/>
              <a:ext cx="1080" cy="18720"/>
            </a:xfrm>
            <a:prstGeom prst="line">
              <a:avLst/>
            </a:prstGeom>
            <a:ln cap="rnd"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1" name=""/>
            <p:cNvSpPr/>
            <p:nvPr/>
          </p:nvSpPr>
          <p:spPr>
            <a:xfrm flipV="1">
              <a:off x="1100520" y="4973760"/>
              <a:ext cx="2880" cy="18720"/>
            </a:xfrm>
            <a:prstGeom prst="line">
              <a:avLst/>
            </a:prstGeom>
            <a:ln cap="rnd"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2" name=""/>
            <p:cNvSpPr/>
            <p:nvPr/>
          </p:nvSpPr>
          <p:spPr>
            <a:xfrm flipV="1">
              <a:off x="1401840" y="4973760"/>
              <a:ext cx="720" cy="18720"/>
            </a:xfrm>
            <a:prstGeom prst="line">
              <a:avLst/>
            </a:prstGeom>
            <a:ln cap="rnd"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3" name=""/>
            <p:cNvSpPr/>
            <p:nvPr/>
          </p:nvSpPr>
          <p:spPr>
            <a:xfrm flipV="1">
              <a:off x="1701000" y="4973760"/>
              <a:ext cx="2160" cy="18720"/>
            </a:xfrm>
            <a:prstGeom prst="line">
              <a:avLst/>
            </a:prstGeom>
            <a:ln cap="rnd"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4" name=""/>
            <p:cNvSpPr/>
            <p:nvPr/>
          </p:nvSpPr>
          <p:spPr>
            <a:xfrm flipV="1">
              <a:off x="2001600" y="4973760"/>
              <a:ext cx="1080" cy="18720"/>
            </a:xfrm>
            <a:prstGeom prst="line">
              <a:avLst/>
            </a:prstGeom>
            <a:ln cap="rnd"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5" name=""/>
            <p:cNvSpPr/>
            <p:nvPr/>
          </p:nvSpPr>
          <p:spPr>
            <a:xfrm flipV="1">
              <a:off x="2303280" y="4973760"/>
              <a:ext cx="2880" cy="18720"/>
            </a:xfrm>
            <a:prstGeom prst="line">
              <a:avLst/>
            </a:prstGeom>
            <a:ln cap="rnd"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6" name=""/>
            <p:cNvSpPr/>
            <p:nvPr/>
          </p:nvSpPr>
          <p:spPr>
            <a:xfrm>
              <a:off x="196920" y="4992480"/>
              <a:ext cx="19080" cy="4680"/>
            </a:xfrm>
            <a:prstGeom prst="line">
              <a:avLst/>
            </a:prstGeom>
            <a:ln cap="rnd"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87" name=""/>
          <p:cNvSpPr/>
          <p:nvPr/>
        </p:nvSpPr>
        <p:spPr>
          <a:xfrm>
            <a:off x="139320" y="3474000"/>
            <a:ext cx="2207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f Discovery</a:t>
            </a:r>
            <a:endParaRPr b="0" lang="en-US" sz="2400" spc="-1" strike="noStrike">
              <a:solidFill>
                <a:srgbClr val="000000"/>
              </a:solidFill>
              <a:latin typeface="Times New Roman"/>
            </a:endParaRPr>
          </a:p>
        </p:txBody>
      </p:sp>
      <p:sp>
        <p:nvSpPr>
          <p:cNvPr id="288" name=""/>
          <p:cNvSpPr/>
          <p:nvPr/>
        </p:nvSpPr>
        <p:spPr>
          <a:xfrm>
            <a:off x="182520" y="5437080"/>
            <a:ext cx="8837640" cy="124308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563200" y="551808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grpSp>
        <p:nvGrpSpPr>
          <p:cNvPr id="290" name=""/>
          <p:cNvGrpSpPr/>
          <p:nvPr/>
        </p:nvGrpSpPr>
        <p:grpSpPr>
          <a:xfrm>
            <a:off x="353880" y="5608800"/>
            <a:ext cx="8440200" cy="968040"/>
            <a:chOff x="353880" y="5608800"/>
            <a:chExt cx="8440200" cy="968040"/>
          </a:xfrm>
        </p:grpSpPr>
        <p:sp>
          <p:nvSpPr>
            <p:cNvPr id="291" name=""/>
            <p:cNvSpPr/>
            <p:nvPr/>
          </p:nvSpPr>
          <p:spPr>
            <a:xfrm>
              <a:off x="353880" y="5628960"/>
              <a:ext cx="1821960" cy="915840"/>
            </a:xfrm>
            <a:custGeom>
              <a:avLst/>
              <a:gdLst/>
              <a:ahLst/>
              <a:rect l="l" t="t" r="r" b="b"/>
              <a:pathLst>
                <a:path w="1322" h="1154">
                  <a:moveTo>
                    <a:pt x="0" y="449"/>
                  </a:moveTo>
                  <a:lnTo>
                    <a:pt x="15" y="449"/>
                  </a:lnTo>
                  <a:lnTo>
                    <a:pt x="28" y="449"/>
                  </a:lnTo>
                  <a:lnTo>
                    <a:pt x="43" y="423"/>
                  </a:lnTo>
                  <a:lnTo>
                    <a:pt x="43" y="308"/>
                  </a:lnTo>
                  <a:lnTo>
                    <a:pt x="58" y="282"/>
                  </a:lnTo>
                  <a:lnTo>
                    <a:pt x="58" y="243"/>
                  </a:lnTo>
                  <a:lnTo>
                    <a:pt x="58" y="347"/>
                  </a:lnTo>
                  <a:lnTo>
                    <a:pt x="72" y="410"/>
                  </a:lnTo>
                  <a:lnTo>
                    <a:pt x="72" y="860"/>
                  </a:lnTo>
                  <a:lnTo>
                    <a:pt x="87" y="911"/>
                  </a:lnTo>
                  <a:lnTo>
                    <a:pt x="87" y="1142"/>
                  </a:lnTo>
                  <a:lnTo>
                    <a:pt x="102" y="1129"/>
                  </a:lnTo>
                  <a:lnTo>
                    <a:pt x="102" y="731"/>
                  </a:lnTo>
                  <a:lnTo>
                    <a:pt x="115" y="667"/>
                  </a:lnTo>
                  <a:lnTo>
                    <a:pt x="115" y="384"/>
                  </a:lnTo>
                  <a:lnTo>
                    <a:pt x="130" y="372"/>
                  </a:lnTo>
                  <a:lnTo>
                    <a:pt x="130" y="282"/>
                  </a:lnTo>
                  <a:lnTo>
                    <a:pt x="145" y="269"/>
                  </a:lnTo>
                  <a:lnTo>
                    <a:pt x="145" y="243"/>
                  </a:lnTo>
                  <a:lnTo>
                    <a:pt x="159" y="231"/>
                  </a:lnTo>
                  <a:lnTo>
                    <a:pt x="159" y="192"/>
                  </a:lnTo>
                  <a:lnTo>
                    <a:pt x="174" y="180"/>
                  </a:lnTo>
                  <a:lnTo>
                    <a:pt x="174" y="155"/>
                  </a:lnTo>
                  <a:lnTo>
                    <a:pt x="189" y="141"/>
                  </a:lnTo>
                  <a:lnTo>
                    <a:pt x="189" y="77"/>
                  </a:lnTo>
                  <a:lnTo>
                    <a:pt x="202" y="65"/>
                  </a:lnTo>
                  <a:lnTo>
                    <a:pt x="202" y="26"/>
                  </a:lnTo>
                  <a:lnTo>
                    <a:pt x="232" y="0"/>
                  </a:lnTo>
                  <a:lnTo>
                    <a:pt x="217" y="0"/>
                  </a:lnTo>
                  <a:lnTo>
                    <a:pt x="232" y="77"/>
                  </a:lnTo>
                  <a:lnTo>
                    <a:pt x="247" y="90"/>
                  </a:lnTo>
                  <a:lnTo>
                    <a:pt x="247" y="192"/>
                  </a:lnTo>
                  <a:lnTo>
                    <a:pt x="261" y="206"/>
                  </a:lnTo>
                  <a:lnTo>
                    <a:pt x="261" y="296"/>
                  </a:lnTo>
                  <a:lnTo>
                    <a:pt x="276" y="308"/>
                  </a:lnTo>
                  <a:lnTo>
                    <a:pt x="276" y="359"/>
                  </a:lnTo>
                  <a:lnTo>
                    <a:pt x="304" y="384"/>
                  </a:lnTo>
                  <a:lnTo>
                    <a:pt x="304" y="398"/>
                  </a:lnTo>
                  <a:lnTo>
                    <a:pt x="319" y="410"/>
                  </a:lnTo>
                  <a:lnTo>
                    <a:pt x="334" y="410"/>
                  </a:lnTo>
                  <a:lnTo>
                    <a:pt x="348" y="398"/>
                  </a:lnTo>
                  <a:lnTo>
                    <a:pt x="363" y="398"/>
                  </a:lnTo>
                  <a:lnTo>
                    <a:pt x="378" y="384"/>
                  </a:lnTo>
                  <a:lnTo>
                    <a:pt x="391" y="398"/>
                  </a:lnTo>
                  <a:lnTo>
                    <a:pt x="406" y="398"/>
                  </a:lnTo>
                  <a:lnTo>
                    <a:pt x="421" y="410"/>
                  </a:lnTo>
                  <a:lnTo>
                    <a:pt x="435" y="410"/>
                  </a:lnTo>
                  <a:lnTo>
                    <a:pt x="450" y="423"/>
                  </a:lnTo>
                  <a:lnTo>
                    <a:pt x="465" y="423"/>
                  </a:lnTo>
                  <a:lnTo>
                    <a:pt x="480" y="437"/>
                  </a:lnTo>
                  <a:lnTo>
                    <a:pt x="493" y="437"/>
                  </a:lnTo>
                  <a:lnTo>
                    <a:pt x="508" y="437"/>
                  </a:lnTo>
                  <a:lnTo>
                    <a:pt x="523" y="437"/>
                  </a:lnTo>
                  <a:lnTo>
                    <a:pt x="537" y="437"/>
                  </a:lnTo>
                  <a:lnTo>
                    <a:pt x="552" y="437"/>
                  </a:lnTo>
                  <a:lnTo>
                    <a:pt x="567" y="437"/>
                  </a:lnTo>
                  <a:lnTo>
                    <a:pt x="580" y="437"/>
                  </a:lnTo>
                  <a:lnTo>
                    <a:pt x="595" y="437"/>
                  </a:lnTo>
                  <a:lnTo>
                    <a:pt x="610" y="437"/>
                  </a:lnTo>
                  <a:lnTo>
                    <a:pt x="624" y="437"/>
                  </a:lnTo>
                  <a:lnTo>
                    <a:pt x="639" y="437"/>
                  </a:lnTo>
                  <a:lnTo>
                    <a:pt x="654" y="437"/>
                  </a:lnTo>
                  <a:lnTo>
                    <a:pt x="669" y="449"/>
                  </a:lnTo>
                  <a:lnTo>
                    <a:pt x="683" y="449"/>
                  </a:lnTo>
                  <a:lnTo>
                    <a:pt x="698" y="462"/>
                  </a:lnTo>
                  <a:lnTo>
                    <a:pt x="713" y="449"/>
                  </a:lnTo>
                  <a:lnTo>
                    <a:pt x="726" y="437"/>
                  </a:lnTo>
                  <a:lnTo>
                    <a:pt x="726" y="423"/>
                  </a:lnTo>
                  <a:lnTo>
                    <a:pt x="741" y="398"/>
                  </a:lnTo>
                  <a:lnTo>
                    <a:pt x="741" y="269"/>
                  </a:lnTo>
                  <a:lnTo>
                    <a:pt x="756" y="257"/>
                  </a:lnTo>
                  <a:lnTo>
                    <a:pt x="756" y="513"/>
                  </a:lnTo>
                  <a:lnTo>
                    <a:pt x="770" y="590"/>
                  </a:lnTo>
                  <a:lnTo>
                    <a:pt x="770" y="1013"/>
                  </a:lnTo>
                  <a:lnTo>
                    <a:pt x="785" y="1052"/>
                  </a:lnTo>
                  <a:lnTo>
                    <a:pt x="785" y="1154"/>
                  </a:lnTo>
                  <a:lnTo>
                    <a:pt x="785" y="1103"/>
                  </a:lnTo>
                  <a:lnTo>
                    <a:pt x="800" y="1064"/>
                  </a:lnTo>
                  <a:lnTo>
                    <a:pt x="800" y="590"/>
                  </a:lnTo>
                  <a:lnTo>
                    <a:pt x="813" y="539"/>
                  </a:lnTo>
                  <a:lnTo>
                    <a:pt x="813" y="333"/>
                  </a:lnTo>
                  <a:lnTo>
                    <a:pt x="828" y="321"/>
                  </a:lnTo>
                  <a:lnTo>
                    <a:pt x="828" y="269"/>
                  </a:lnTo>
                  <a:lnTo>
                    <a:pt x="843" y="257"/>
                  </a:lnTo>
                  <a:lnTo>
                    <a:pt x="843" y="231"/>
                  </a:lnTo>
                  <a:lnTo>
                    <a:pt x="857" y="218"/>
                  </a:lnTo>
                  <a:lnTo>
                    <a:pt x="857" y="180"/>
                  </a:lnTo>
                  <a:lnTo>
                    <a:pt x="872" y="167"/>
                  </a:lnTo>
                  <a:lnTo>
                    <a:pt x="872" y="128"/>
                  </a:lnTo>
                  <a:lnTo>
                    <a:pt x="887" y="116"/>
                  </a:lnTo>
                  <a:lnTo>
                    <a:pt x="887" y="65"/>
                  </a:lnTo>
                  <a:lnTo>
                    <a:pt x="902" y="51"/>
                  </a:lnTo>
                  <a:lnTo>
                    <a:pt x="902" y="26"/>
                  </a:lnTo>
                  <a:lnTo>
                    <a:pt x="915" y="14"/>
                  </a:lnTo>
                  <a:lnTo>
                    <a:pt x="915" y="26"/>
                  </a:lnTo>
                  <a:lnTo>
                    <a:pt x="930" y="39"/>
                  </a:lnTo>
                  <a:lnTo>
                    <a:pt x="930" y="102"/>
                  </a:lnTo>
                  <a:lnTo>
                    <a:pt x="945" y="116"/>
                  </a:lnTo>
                  <a:lnTo>
                    <a:pt x="945" y="218"/>
                  </a:lnTo>
                  <a:lnTo>
                    <a:pt x="959" y="231"/>
                  </a:lnTo>
                  <a:lnTo>
                    <a:pt x="959" y="321"/>
                  </a:lnTo>
                  <a:lnTo>
                    <a:pt x="974" y="333"/>
                  </a:lnTo>
                  <a:lnTo>
                    <a:pt x="974" y="359"/>
                  </a:lnTo>
                  <a:lnTo>
                    <a:pt x="1002" y="384"/>
                  </a:lnTo>
                  <a:lnTo>
                    <a:pt x="1002" y="398"/>
                  </a:lnTo>
                  <a:lnTo>
                    <a:pt x="1017" y="410"/>
                  </a:lnTo>
                  <a:lnTo>
                    <a:pt x="1032" y="410"/>
                  </a:lnTo>
                  <a:lnTo>
                    <a:pt x="1046" y="398"/>
                  </a:lnTo>
                  <a:lnTo>
                    <a:pt x="1061" y="398"/>
                  </a:lnTo>
                  <a:lnTo>
                    <a:pt x="1076" y="398"/>
                  </a:lnTo>
                  <a:lnTo>
                    <a:pt x="1089" y="398"/>
                  </a:lnTo>
                  <a:lnTo>
                    <a:pt x="1104" y="410"/>
                  </a:lnTo>
                  <a:lnTo>
                    <a:pt x="1119" y="410"/>
                  </a:lnTo>
                  <a:lnTo>
                    <a:pt x="1134" y="423"/>
                  </a:lnTo>
                  <a:lnTo>
                    <a:pt x="1148" y="423"/>
                  </a:lnTo>
                  <a:lnTo>
                    <a:pt x="1163" y="423"/>
                  </a:lnTo>
                  <a:lnTo>
                    <a:pt x="1178" y="437"/>
                  </a:lnTo>
                  <a:lnTo>
                    <a:pt x="1191" y="437"/>
                  </a:lnTo>
                  <a:lnTo>
                    <a:pt x="1206" y="437"/>
                  </a:lnTo>
                  <a:lnTo>
                    <a:pt x="1221" y="437"/>
                  </a:lnTo>
                  <a:lnTo>
                    <a:pt x="1235" y="437"/>
                  </a:lnTo>
                  <a:lnTo>
                    <a:pt x="1250" y="449"/>
                  </a:lnTo>
                  <a:lnTo>
                    <a:pt x="1265" y="449"/>
                  </a:lnTo>
                  <a:lnTo>
                    <a:pt x="1278" y="449"/>
                  </a:lnTo>
                  <a:lnTo>
                    <a:pt x="1293" y="449"/>
                  </a:lnTo>
                  <a:lnTo>
                    <a:pt x="1308" y="449"/>
                  </a:lnTo>
                  <a:lnTo>
                    <a:pt x="1322" y="437"/>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175840" y="5608800"/>
              <a:ext cx="1808280" cy="968040"/>
            </a:xfrm>
            <a:custGeom>
              <a:avLst/>
              <a:gdLst/>
              <a:ahLst/>
              <a:rect l="l" t="t" r="r" b="b"/>
              <a:pathLst>
                <a:path w="1310" h="1219">
                  <a:moveTo>
                    <a:pt x="0" y="460"/>
                  </a:moveTo>
                  <a:lnTo>
                    <a:pt x="15" y="460"/>
                  </a:lnTo>
                  <a:lnTo>
                    <a:pt x="30" y="474"/>
                  </a:lnTo>
                  <a:lnTo>
                    <a:pt x="45" y="486"/>
                  </a:lnTo>
                  <a:lnTo>
                    <a:pt x="59" y="486"/>
                  </a:lnTo>
                  <a:lnTo>
                    <a:pt x="74" y="486"/>
                  </a:lnTo>
                  <a:lnTo>
                    <a:pt x="89" y="474"/>
                  </a:lnTo>
                  <a:lnTo>
                    <a:pt x="102" y="460"/>
                  </a:lnTo>
                  <a:lnTo>
                    <a:pt x="102" y="358"/>
                  </a:lnTo>
                  <a:lnTo>
                    <a:pt x="117" y="345"/>
                  </a:lnTo>
                  <a:lnTo>
                    <a:pt x="117" y="294"/>
                  </a:lnTo>
                  <a:lnTo>
                    <a:pt x="117" y="358"/>
                  </a:lnTo>
                  <a:lnTo>
                    <a:pt x="132" y="409"/>
                  </a:lnTo>
                  <a:lnTo>
                    <a:pt x="132" y="936"/>
                  </a:lnTo>
                  <a:lnTo>
                    <a:pt x="146" y="987"/>
                  </a:lnTo>
                  <a:lnTo>
                    <a:pt x="146" y="1193"/>
                  </a:lnTo>
                  <a:lnTo>
                    <a:pt x="161" y="1205"/>
                  </a:lnTo>
                  <a:lnTo>
                    <a:pt x="161" y="846"/>
                  </a:lnTo>
                  <a:lnTo>
                    <a:pt x="176" y="770"/>
                  </a:lnTo>
                  <a:lnTo>
                    <a:pt x="176" y="423"/>
                  </a:lnTo>
                  <a:lnTo>
                    <a:pt x="191" y="397"/>
                  </a:lnTo>
                  <a:lnTo>
                    <a:pt x="191" y="307"/>
                  </a:lnTo>
                  <a:lnTo>
                    <a:pt x="204" y="294"/>
                  </a:lnTo>
                  <a:lnTo>
                    <a:pt x="204" y="268"/>
                  </a:lnTo>
                  <a:lnTo>
                    <a:pt x="219" y="256"/>
                  </a:lnTo>
                  <a:lnTo>
                    <a:pt x="219" y="217"/>
                  </a:lnTo>
                  <a:lnTo>
                    <a:pt x="234" y="204"/>
                  </a:lnTo>
                  <a:lnTo>
                    <a:pt x="234" y="166"/>
                  </a:lnTo>
                  <a:lnTo>
                    <a:pt x="248" y="153"/>
                  </a:lnTo>
                  <a:lnTo>
                    <a:pt x="248" y="102"/>
                  </a:lnTo>
                  <a:lnTo>
                    <a:pt x="263" y="88"/>
                  </a:lnTo>
                  <a:lnTo>
                    <a:pt x="263" y="37"/>
                  </a:lnTo>
                  <a:lnTo>
                    <a:pt x="278" y="25"/>
                  </a:lnTo>
                  <a:lnTo>
                    <a:pt x="278" y="0"/>
                  </a:lnTo>
                  <a:lnTo>
                    <a:pt x="291" y="12"/>
                  </a:lnTo>
                  <a:lnTo>
                    <a:pt x="291" y="51"/>
                  </a:lnTo>
                  <a:lnTo>
                    <a:pt x="306" y="63"/>
                  </a:lnTo>
                  <a:lnTo>
                    <a:pt x="306" y="178"/>
                  </a:lnTo>
                  <a:lnTo>
                    <a:pt x="321" y="192"/>
                  </a:lnTo>
                  <a:lnTo>
                    <a:pt x="321" y="307"/>
                  </a:lnTo>
                  <a:lnTo>
                    <a:pt x="335" y="319"/>
                  </a:lnTo>
                  <a:lnTo>
                    <a:pt x="335" y="372"/>
                  </a:lnTo>
                  <a:lnTo>
                    <a:pt x="350" y="384"/>
                  </a:lnTo>
                  <a:lnTo>
                    <a:pt x="350" y="397"/>
                  </a:lnTo>
                  <a:lnTo>
                    <a:pt x="380" y="423"/>
                  </a:lnTo>
                  <a:lnTo>
                    <a:pt x="365" y="423"/>
                  </a:lnTo>
                  <a:lnTo>
                    <a:pt x="380" y="423"/>
                  </a:lnTo>
                  <a:lnTo>
                    <a:pt x="393" y="423"/>
                  </a:lnTo>
                  <a:lnTo>
                    <a:pt x="408" y="423"/>
                  </a:lnTo>
                  <a:lnTo>
                    <a:pt x="423" y="423"/>
                  </a:lnTo>
                  <a:lnTo>
                    <a:pt x="437" y="409"/>
                  </a:lnTo>
                  <a:lnTo>
                    <a:pt x="452" y="409"/>
                  </a:lnTo>
                  <a:lnTo>
                    <a:pt x="467" y="423"/>
                  </a:lnTo>
                  <a:lnTo>
                    <a:pt x="480" y="435"/>
                  </a:lnTo>
                  <a:lnTo>
                    <a:pt x="495" y="435"/>
                  </a:lnTo>
                  <a:lnTo>
                    <a:pt x="510" y="448"/>
                  </a:lnTo>
                  <a:lnTo>
                    <a:pt x="524" y="448"/>
                  </a:lnTo>
                  <a:lnTo>
                    <a:pt x="539" y="460"/>
                  </a:lnTo>
                  <a:lnTo>
                    <a:pt x="554" y="460"/>
                  </a:lnTo>
                  <a:lnTo>
                    <a:pt x="569" y="460"/>
                  </a:lnTo>
                  <a:lnTo>
                    <a:pt x="582" y="460"/>
                  </a:lnTo>
                  <a:lnTo>
                    <a:pt x="597" y="460"/>
                  </a:lnTo>
                  <a:lnTo>
                    <a:pt x="612" y="460"/>
                  </a:lnTo>
                  <a:lnTo>
                    <a:pt x="626" y="460"/>
                  </a:lnTo>
                  <a:lnTo>
                    <a:pt x="641" y="460"/>
                  </a:lnTo>
                  <a:lnTo>
                    <a:pt x="656" y="460"/>
                  </a:lnTo>
                  <a:lnTo>
                    <a:pt x="669" y="474"/>
                  </a:lnTo>
                  <a:lnTo>
                    <a:pt x="684" y="460"/>
                  </a:lnTo>
                  <a:lnTo>
                    <a:pt x="699" y="460"/>
                  </a:lnTo>
                  <a:lnTo>
                    <a:pt x="714" y="460"/>
                  </a:lnTo>
                  <a:lnTo>
                    <a:pt x="728" y="460"/>
                  </a:lnTo>
                  <a:lnTo>
                    <a:pt x="743" y="474"/>
                  </a:lnTo>
                  <a:lnTo>
                    <a:pt x="758" y="486"/>
                  </a:lnTo>
                  <a:lnTo>
                    <a:pt x="772" y="474"/>
                  </a:lnTo>
                  <a:lnTo>
                    <a:pt x="787" y="474"/>
                  </a:lnTo>
                  <a:lnTo>
                    <a:pt x="802" y="448"/>
                  </a:lnTo>
                  <a:lnTo>
                    <a:pt x="802" y="345"/>
                  </a:lnTo>
                  <a:lnTo>
                    <a:pt x="815" y="333"/>
                  </a:lnTo>
                  <a:lnTo>
                    <a:pt x="815" y="282"/>
                  </a:lnTo>
                  <a:lnTo>
                    <a:pt x="815" y="423"/>
                  </a:lnTo>
                  <a:lnTo>
                    <a:pt x="830" y="486"/>
                  </a:lnTo>
                  <a:lnTo>
                    <a:pt x="830" y="962"/>
                  </a:lnTo>
                  <a:lnTo>
                    <a:pt x="845" y="1013"/>
                  </a:lnTo>
                  <a:lnTo>
                    <a:pt x="845" y="1219"/>
                  </a:lnTo>
                  <a:lnTo>
                    <a:pt x="859" y="1205"/>
                  </a:lnTo>
                  <a:lnTo>
                    <a:pt x="859" y="744"/>
                  </a:lnTo>
                  <a:lnTo>
                    <a:pt x="874" y="680"/>
                  </a:lnTo>
                  <a:lnTo>
                    <a:pt x="874" y="409"/>
                  </a:lnTo>
                  <a:lnTo>
                    <a:pt x="889" y="397"/>
                  </a:lnTo>
                  <a:lnTo>
                    <a:pt x="889" y="319"/>
                  </a:lnTo>
                  <a:lnTo>
                    <a:pt x="904" y="307"/>
                  </a:lnTo>
                  <a:lnTo>
                    <a:pt x="904" y="268"/>
                  </a:lnTo>
                  <a:lnTo>
                    <a:pt x="917" y="256"/>
                  </a:lnTo>
                  <a:lnTo>
                    <a:pt x="917" y="229"/>
                  </a:lnTo>
                  <a:lnTo>
                    <a:pt x="932" y="217"/>
                  </a:lnTo>
                  <a:lnTo>
                    <a:pt x="932" y="178"/>
                  </a:lnTo>
                  <a:lnTo>
                    <a:pt x="947" y="166"/>
                  </a:lnTo>
                  <a:lnTo>
                    <a:pt x="947" y="114"/>
                  </a:lnTo>
                  <a:lnTo>
                    <a:pt x="961" y="102"/>
                  </a:lnTo>
                  <a:lnTo>
                    <a:pt x="961" y="37"/>
                  </a:lnTo>
                  <a:lnTo>
                    <a:pt x="976" y="25"/>
                  </a:lnTo>
                  <a:lnTo>
                    <a:pt x="991" y="37"/>
                  </a:lnTo>
                  <a:lnTo>
                    <a:pt x="991" y="76"/>
                  </a:lnTo>
                  <a:lnTo>
                    <a:pt x="1004" y="88"/>
                  </a:lnTo>
                  <a:lnTo>
                    <a:pt x="1004" y="217"/>
                  </a:lnTo>
                  <a:lnTo>
                    <a:pt x="1019" y="229"/>
                  </a:lnTo>
                  <a:lnTo>
                    <a:pt x="1019" y="333"/>
                  </a:lnTo>
                  <a:lnTo>
                    <a:pt x="1034" y="345"/>
                  </a:lnTo>
                  <a:lnTo>
                    <a:pt x="1034" y="397"/>
                  </a:lnTo>
                  <a:lnTo>
                    <a:pt x="1063" y="423"/>
                  </a:lnTo>
                  <a:lnTo>
                    <a:pt x="1063" y="435"/>
                  </a:lnTo>
                  <a:lnTo>
                    <a:pt x="1078" y="448"/>
                  </a:lnTo>
                  <a:lnTo>
                    <a:pt x="1093" y="448"/>
                  </a:lnTo>
                  <a:lnTo>
                    <a:pt x="1106" y="435"/>
                  </a:lnTo>
                  <a:lnTo>
                    <a:pt x="1121" y="435"/>
                  </a:lnTo>
                  <a:lnTo>
                    <a:pt x="1136" y="423"/>
                  </a:lnTo>
                  <a:lnTo>
                    <a:pt x="1150" y="423"/>
                  </a:lnTo>
                  <a:lnTo>
                    <a:pt x="1165" y="435"/>
                  </a:lnTo>
                  <a:lnTo>
                    <a:pt x="1180" y="435"/>
                  </a:lnTo>
                  <a:lnTo>
                    <a:pt x="1193" y="448"/>
                  </a:lnTo>
                  <a:lnTo>
                    <a:pt x="1208" y="448"/>
                  </a:lnTo>
                  <a:lnTo>
                    <a:pt x="1223" y="460"/>
                  </a:lnTo>
                  <a:lnTo>
                    <a:pt x="1238" y="460"/>
                  </a:lnTo>
                  <a:lnTo>
                    <a:pt x="1252" y="460"/>
                  </a:lnTo>
                  <a:lnTo>
                    <a:pt x="1267" y="460"/>
                  </a:lnTo>
                  <a:lnTo>
                    <a:pt x="1282" y="460"/>
                  </a:lnTo>
                  <a:lnTo>
                    <a:pt x="1295" y="474"/>
                  </a:lnTo>
                  <a:lnTo>
                    <a:pt x="1310" y="474"/>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984120" y="5638680"/>
              <a:ext cx="2125080" cy="906120"/>
            </a:xfrm>
            <a:custGeom>
              <a:avLst/>
              <a:gdLst/>
              <a:ahLst/>
              <a:rect l="l" t="t" r="r" b="b"/>
              <a:pathLst>
                <a:path w="1542" h="1142">
                  <a:moveTo>
                    <a:pt x="0" y="437"/>
                  </a:moveTo>
                  <a:lnTo>
                    <a:pt x="15" y="437"/>
                  </a:lnTo>
                  <a:lnTo>
                    <a:pt x="29" y="437"/>
                  </a:lnTo>
                  <a:lnTo>
                    <a:pt x="44" y="450"/>
                  </a:lnTo>
                  <a:lnTo>
                    <a:pt x="59" y="450"/>
                  </a:lnTo>
                  <a:lnTo>
                    <a:pt x="72" y="450"/>
                  </a:lnTo>
                  <a:lnTo>
                    <a:pt x="87" y="437"/>
                  </a:lnTo>
                  <a:lnTo>
                    <a:pt x="103" y="437"/>
                  </a:lnTo>
                  <a:lnTo>
                    <a:pt x="116" y="450"/>
                  </a:lnTo>
                  <a:lnTo>
                    <a:pt x="131" y="462"/>
                  </a:lnTo>
                  <a:lnTo>
                    <a:pt x="146" y="462"/>
                  </a:lnTo>
                  <a:lnTo>
                    <a:pt x="161" y="462"/>
                  </a:lnTo>
                  <a:lnTo>
                    <a:pt x="175" y="450"/>
                  </a:lnTo>
                  <a:lnTo>
                    <a:pt x="190" y="437"/>
                  </a:lnTo>
                  <a:lnTo>
                    <a:pt x="190" y="296"/>
                  </a:lnTo>
                  <a:lnTo>
                    <a:pt x="205" y="270"/>
                  </a:lnTo>
                  <a:lnTo>
                    <a:pt x="205" y="257"/>
                  </a:lnTo>
                  <a:lnTo>
                    <a:pt x="205" y="437"/>
                  </a:lnTo>
                  <a:lnTo>
                    <a:pt x="218" y="501"/>
                  </a:lnTo>
                  <a:lnTo>
                    <a:pt x="218" y="937"/>
                  </a:lnTo>
                  <a:lnTo>
                    <a:pt x="233" y="976"/>
                  </a:lnTo>
                  <a:lnTo>
                    <a:pt x="233" y="1142"/>
                  </a:lnTo>
                  <a:lnTo>
                    <a:pt x="233" y="1130"/>
                  </a:lnTo>
                  <a:lnTo>
                    <a:pt x="248" y="1105"/>
                  </a:lnTo>
                  <a:lnTo>
                    <a:pt x="248" y="655"/>
                  </a:lnTo>
                  <a:lnTo>
                    <a:pt x="262" y="592"/>
                  </a:lnTo>
                  <a:lnTo>
                    <a:pt x="262" y="372"/>
                  </a:lnTo>
                  <a:lnTo>
                    <a:pt x="277" y="360"/>
                  </a:lnTo>
                  <a:lnTo>
                    <a:pt x="277" y="282"/>
                  </a:lnTo>
                  <a:lnTo>
                    <a:pt x="292" y="270"/>
                  </a:lnTo>
                  <a:lnTo>
                    <a:pt x="292" y="245"/>
                  </a:lnTo>
                  <a:lnTo>
                    <a:pt x="305" y="231"/>
                  </a:lnTo>
                  <a:lnTo>
                    <a:pt x="305" y="206"/>
                  </a:lnTo>
                  <a:lnTo>
                    <a:pt x="320" y="194"/>
                  </a:lnTo>
                  <a:lnTo>
                    <a:pt x="320" y="155"/>
                  </a:lnTo>
                  <a:lnTo>
                    <a:pt x="335" y="141"/>
                  </a:lnTo>
                  <a:lnTo>
                    <a:pt x="335" y="78"/>
                  </a:lnTo>
                  <a:lnTo>
                    <a:pt x="349" y="65"/>
                  </a:lnTo>
                  <a:lnTo>
                    <a:pt x="349" y="26"/>
                  </a:lnTo>
                  <a:lnTo>
                    <a:pt x="364" y="14"/>
                  </a:lnTo>
                  <a:lnTo>
                    <a:pt x="364" y="0"/>
                  </a:lnTo>
                  <a:lnTo>
                    <a:pt x="364" y="14"/>
                  </a:lnTo>
                  <a:lnTo>
                    <a:pt x="379" y="26"/>
                  </a:lnTo>
                  <a:lnTo>
                    <a:pt x="379" y="90"/>
                  </a:lnTo>
                  <a:lnTo>
                    <a:pt x="394" y="104"/>
                  </a:lnTo>
                  <a:lnTo>
                    <a:pt x="394" y="219"/>
                  </a:lnTo>
                  <a:lnTo>
                    <a:pt x="407" y="231"/>
                  </a:lnTo>
                  <a:lnTo>
                    <a:pt x="407" y="309"/>
                  </a:lnTo>
                  <a:lnTo>
                    <a:pt x="422" y="321"/>
                  </a:lnTo>
                  <a:lnTo>
                    <a:pt x="422" y="372"/>
                  </a:lnTo>
                  <a:lnTo>
                    <a:pt x="452" y="398"/>
                  </a:lnTo>
                  <a:lnTo>
                    <a:pt x="437" y="398"/>
                  </a:lnTo>
                  <a:lnTo>
                    <a:pt x="452" y="398"/>
                  </a:lnTo>
                  <a:lnTo>
                    <a:pt x="467" y="411"/>
                  </a:lnTo>
                  <a:lnTo>
                    <a:pt x="481" y="411"/>
                  </a:lnTo>
                  <a:lnTo>
                    <a:pt x="496" y="411"/>
                  </a:lnTo>
                  <a:lnTo>
                    <a:pt x="511" y="398"/>
                  </a:lnTo>
                  <a:lnTo>
                    <a:pt x="524" y="398"/>
                  </a:lnTo>
                  <a:lnTo>
                    <a:pt x="539" y="411"/>
                  </a:lnTo>
                  <a:lnTo>
                    <a:pt x="554" y="411"/>
                  </a:lnTo>
                  <a:lnTo>
                    <a:pt x="568" y="423"/>
                  </a:lnTo>
                  <a:lnTo>
                    <a:pt x="583" y="423"/>
                  </a:lnTo>
                  <a:lnTo>
                    <a:pt x="598" y="437"/>
                  </a:lnTo>
                  <a:lnTo>
                    <a:pt x="613" y="437"/>
                  </a:lnTo>
                  <a:lnTo>
                    <a:pt x="626" y="437"/>
                  </a:lnTo>
                  <a:lnTo>
                    <a:pt x="641" y="437"/>
                  </a:lnTo>
                  <a:lnTo>
                    <a:pt x="656" y="437"/>
                  </a:lnTo>
                  <a:lnTo>
                    <a:pt x="670" y="437"/>
                  </a:lnTo>
                  <a:lnTo>
                    <a:pt x="685" y="437"/>
                  </a:lnTo>
                  <a:lnTo>
                    <a:pt x="700" y="437"/>
                  </a:lnTo>
                  <a:lnTo>
                    <a:pt x="713" y="437"/>
                  </a:lnTo>
                  <a:lnTo>
                    <a:pt x="728" y="437"/>
                  </a:lnTo>
                  <a:lnTo>
                    <a:pt x="743" y="437"/>
                  </a:lnTo>
                  <a:lnTo>
                    <a:pt x="757" y="437"/>
                  </a:lnTo>
                  <a:lnTo>
                    <a:pt x="772" y="437"/>
                  </a:lnTo>
                  <a:lnTo>
                    <a:pt x="787" y="437"/>
                  </a:lnTo>
                  <a:lnTo>
                    <a:pt x="801" y="437"/>
                  </a:lnTo>
                  <a:lnTo>
                    <a:pt x="816" y="437"/>
                  </a:lnTo>
                  <a:lnTo>
                    <a:pt x="831" y="437"/>
                  </a:lnTo>
                  <a:lnTo>
                    <a:pt x="846" y="437"/>
                  </a:lnTo>
                  <a:lnTo>
                    <a:pt x="859" y="437"/>
                  </a:lnTo>
                  <a:lnTo>
                    <a:pt x="874" y="437"/>
                  </a:lnTo>
                  <a:lnTo>
                    <a:pt x="889" y="437"/>
                  </a:lnTo>
                  <a:lnTo>
                    <a:pt x="903" y="437"/>
                  </a:lnTo>
                  <a:lnTo>
                    <a:pt x="918" y="437"/>
                  </a:lnTo>
                  <a:lnTo>
                    <a:pt x="933" y="437"/>
                  </a:lnTo>
                  <a:lnTo>
                    <a:pt x="946" y="437"/>
                  </a:lnTo>
                  <a:lnTo>
                    <a:pt x="961" y="437"/>
                  </a:lnTo>
                  <a:lnTo>
                    <a:pt x="976" y="437"/>
                  </a:lnTo>
                  <a:lnTo>
                    <a:pt x="990" y="437"/>
                  </a:lnTo>
                  <a:lnTo>
                    <a:pt x="1005" y="437"/>
                  </a:lnTo>
                  <a:lnTo>
                    <a:pt x="1020" y="437"/>
                  </a:lnTo>
                  <a:lnTo>
                    <a:pt x="1033" y="437"/>
                  </a:lnTo>
                  <a:lnTo>
                    <a:pt x="1048" y="437"/>
                  </a:lnTo>
                  <a:lnTo>
                    <a:pt x="1063" y="437"/>
                  </a:lnTo>
                  <a:lnTo>
                    <a:pt x="1078" y="437"/>
                  </a:lnTo>
                  <a:lnTo>
                    <a:pt x="1092" y="437"/>
                  </a:lnTo>
                  <a:lnTo>
                    <a:pt x="1107" y="437"/>
                  </a:lnTo>
                  <a:lnTo>
                    <a:pt x="1122" y="437"/>
                  </a:lnTo>
                  <a:lnTo>
                    <a:pt x="1135" y="437"/>
                  </a:lnTo>
                  <a:lnTo>
                    <a:pt x="1150" y="437"/>
                  </a:lnTo>
                  <a:lnTo>
                    <a:pt x="1165" y="437"/>
                  </a:lnTo>
                  <a:lnTo>
                    <a:pt x="1179" y="437"/>
                  </a:lnTo>
                  <a:lnTo>
                    <a:pt x="1194" y="437"/>
                  </a:lnTo>
                  <a:lnTo>
                    <a:pt x="1209" y="437"/>
                  </a:lnTo>
                  <a:lnTo>
                    <a:pt x="1222" y="437"/>
                  </a:lnTo>
                  <a:lnTo>
                    <a:pt x="1237" y="437"/>
                  </a:lnTo>
                  <a:lnTo>
                    <a:pt x="1252" y="437"/>
                  </a:lnTo>
                  <a:lnTo>
                    <a:pt x="1266" y="437"/>
                  </a:lnTo>
                  <a:lnTo>
                    <a:pt x="1281" y="437"/>
                  </a:lnTo>
                  <a:lnTo>
                    <a:pt x="1296" y="437"/>
                  </a:lnTo>
                  <a:lnTo>
                    <a:pt x="1311" y="437"/>
                  </a:lnTo>
                  <a:lnTo>
                    <a:pt x="1324" y="437"/>
                  </a:lnTo>
                  <a:lnTo>
                    <a:pt x="1339" y="437"/>
                  </a:lnTo>
                  <a:lnTo>
                    <a:pt x="1354" y="437"/>
                  </a:lnTo>
                  <a:lnTo>
                    <a:pt x="1368" y="437"/>
                  </a:lnTo>
                  <a:lnTo>
                    <a:pt x="1383" y="437"/>
                  </a:lnTo>
                  <a:lnTo>
                    <a:pt x="1398" y="437"/>
                  </a:lnTo>
                  <a:lnTo>
                    <a:pt x="1411" y="437"/>
                  </a:lnTo>
                  <a:lnTo>
                    <a:pt x="1426" y="437"/>
                  </a:lnTo>
                  <a:lnTo>
                    <a:pt x="1441" y="437"/>
                  </a:lnTo>
                  <a:lnTo>
                    <a:pt x="1455" y="437"/>
                  </a:lnTo>
                  <a:lnTo>
                    <a:pt x="1470" y="437"/>
                  </a:lnTo>
                  <a:lnTo>
                    <a:pt x="1485" y="437"/>
                  </a:lnTo>
                  <a:lnTo>
                    <a:pt x="1499" y="437"/>
                  </a:lnTo>
                  <a:lnTo>
                    <a:pt x="1514" y="437"/>
                  </a:lnTo>
                  <a:lnTo>
                    <a:pt x="1529" y="437"/>
                  </a:lnTo>
                  <a:lnTo>
                    <a:pt x="1542" y="437"/>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109560" y="5659200"/>
              <a:ext cx="1863360" cy="885600"/>
            </a:xfrm>
            <a:custGeom>
              <a:avLst/>
              <a:gdLst/>
              <a:ahLst/>
              <a:rect l="l" t="t" r="r" b="b"/>
              <a:pathLst>
                <a:path w="1353" h="1116">
                  <a:moveTo>
                    <a:pt x="0" y="411"/>
                  </a:moveTo>
                  <a:lnTo>
                    <a:pt x="15" y="411"/>
                  </a:lnTo>
                  <a:lnTo>
                    <a:pt x="30" y="411"/>
                  </a:lnTo>
                  <a:lnTo>
                    <a:pt x="45" y="423"/>
                  </a:lnTo>
                  <a:lnTo>
                    <a:pt x="59" y="423"/>
                  </a:lnTo>
                  <a:lnTo>
                    <a:pt x="74" y="423"/>
                  </a:lnTo>
                  <a:lnTo>
                    <a:pt x="89" y="423"/>
                  </a:lnTo>
                  <a:lnTo>
                    <a:pt x="102" y="411"/>
                  </a:lnTo>
                  <a:lnTo>
                    <a:pt x="117" y="411"/>
                  </a:lnTo>
                  <a:lnTo>
                    <a:pt x="132" y="411"/>
                  </a:lnTo>
                  <a:lnTo>
                    <a:pt x="146" y="423"/>
                  </a:lnTo>
                  <a:lnTo>
                    <a:pt x="161" y="436"/>
                  </a:lnTo>
                  <a:lnTo>
                    <a:pt x="176" y="436"/>
                  </a:lnTo>
                  <a:lnTo>
                    <a:pt x="189" y="436"/>
                  </a:lnTo>
                  <a:lnTo>
                    <a:pt x="204" y="423"/>
                  </a:lnTo>
                  <a:lnTo>
                    <a:pt x="204" y="372"/>
                  </a:lnTo>
                  <a:lnTo>
                    <a:pt x="219" y="346"/>
                  </a:lnTo>
                  <a:lnTo>
                    <a:pt x="219" y="231"/>
                  </a:lnTo>
                  <a:lnTo>
                    <a:pt x="233" y="231"/>
                  </a:lnTo>
                  <a:lnTo>
                    <a:pt x="233" y="603"/>
                  </a:lnTo>
                  <a:lnTo>
                    <a:pt x="248" y="668"/>
                  </a:lnTo>
                  <a:lnTo>
                    <a:pt x="248" y="1014"/>
                  </a:lnTo>
                  <a:lnTo>
                    <a:pt x="263" y="1052"/>
                  </a:lnTo>
                  <a:lnTo>
                    <a:pt x="263" y="1091"/>
                  </a:lnTo>
                  <a:lnTo>
                    <a:pt x="263" y="975"/>
                  </a:lnTo>
                  <a:lnTo>
                    <a:pt x="278" y="911"/>
                  </a:lnTo>
                  <a:lnTo>
                    <a:pt x="278" y="474"/>
                  </a:lnTo>
                  <a:lnTo>
                    <a:pt x="291" y="448"/>
                  </a:lnTo>
                  <a:lnTo>
                    <a:pt x="291" y="295"/>
                  </a:lnTo>
                  <a:lnTo>
                    <a:pt x="306" y="282"/>
                  </a:lnTo>
                  <a:lnTo>
                    <a:pt x="306" y="244"/>
                  </a:lnTo>
                  <a:lnTo>
                    <a:pt x="321" y="231"/>
                  </a:lnTo>
                  <a:lnTo>
                    <a:pt x="321" y="205"/>
                  </a:lnTo>
                  <a:lnTo>
                    <a:pt x="335" y="192"/>
                  </a:lnTo>
                  <a:lnTo>
                    <a:pt x="335" y="166"/>
                  </a:lnTo>
                  <a:lnTo>
                    <a:pt x="350" y="154"/>
                  </a:lnTo>
                  <a:lnTo>
                    <a:pt x="350" y="102"/>
                  </a:lnTo>
                  <a:lnTo>
                    <a:pt x="365" y="90"/>
                  </a:lnTo>
                  <a:lnTo>
                    <a:pt x="365" y="39"/>
                  </a:lnTo>
                  <a:lnTo>
                    <a:pt x="378" y="25"/>
                  </a:lnTo>
                  <a:lnTo>
                    <a:pt x="378" y="0"/>
                  </a:lnTo>
                  <a:lnTo>
                    <a:pt x="408" y="25"/>
                  </a:lnTo>
                  <a:lnTo>
                    <a:pt x="408" y="115"/>
                  </a:lnTo>
                  <a:lnTo>
                    <a:pt x="422" y="141"/>
                  </a:lnTo>
                  <a:lnTo>
                    <a:pt x="422" y="244"/>
                  </a:lnTo>
                  <a:lnTo>
                    <a:pt x="437" y="256"/>
                  </a:lnTo>
                  <a:lnTo>
                    <a:pt x="437" y="321"/>
                  </a:lnTo>
                  <a:lnTo>
                    <a:pt x="452" y="333"/>
                  </a:lnTo>
                  <a:lnTo>
                    <a:pt x="452" y="360"/>
                  </a:lnTo>
                  <a:lnTo>
                    <a:pt x="465" y="372"/>
                  </a:lnTo>
                  <a:lnTo>
                    <a:pt x="480" y="385"/>
                  </a:lnTo>
                  <a:lnTo>
                    <a:pt x="495" y="397"/>
                  </a:lnTo>
                  <a:lnTo>
                    <a:pt x="510" y="397"/>
                  </a:lnTo>
                  <a:lnTo>
                    <a:pt x="524" y="385"/>
                  </a:lnTo>
                  <a:lnTo>
                    <a:pt x="539" y="385"/>
                  </a:lnTo>
                  <a:lnTo>
                    <a:pt x="554" y="385"/>
                  </a:lnTo>
                  <a:lnTo>
                    <a:pt x="567" y="385"/>
                  </a:lnTo>
                  <a:lnTo>
                    <a:pt x="582" y="397"/>
                  </a:lnTo>
                  <a:lnTo>
                    <a:pt x="597" y="411"/>
                  </a:lnTo>
                  <a:lnTo>
                    <a:pt x="611" y="411"/>
                  </a:lnTo>
                  <a:lnTo>
                    <a:pt x="626" y="411"/>
                  </a:lnTo>
                  <a:lnTo>
                    <a:pt x="641" y="423"/>
                  </a:lnTo>
                  <a:lnTo>
                    <a:pt x="655" y="423"/>
                  </a:lnTo>
                  <a:lnTo>
                    <a:pt x="670" y="423"/>
                  </a:lnTo>
                  <a:lnTo>
                    <a:pt x="685" y="423"/>
                  </a:lnTo>
                  <a:lnTo>
                    <a:pt x="698" y="423"/>
                  </a:lnTo>
                  <a:lnTo>
                    <a:pt x="713" y="423"/>
                  </a:lnTo>
                  <a:lnTo>
                    <a:pt x="728" y="423"/>
                  </a:lnTo>
                  <a:lnTo>
                    <a:pt x="743" y="436"/>
                  </a:lnTo>
                  <a:lnTo>
                    <a:pt x="757" y="436"/>
                  </a:lnTo>
                  <a:lnTo>
                    <a:pt x="772" y="436"/>
                  </a:lnTo>
                  <a:lnTo>
                    <a:pt x="787" y="423"/>
                  </a:lnTo>
                  <a:lnTo>
                    <a:pt x="800" y="423"/>
                  </a:lnTo>
                  <a:lnTo>
                    <a:pt x="815" y="423"/>
                  </a:lnTo>
                  <a:lnTo>
                    <a:pt x="830" y="423"/>
                  </a:lnTo>
                  <a:lnTo>
                    <a:pt x="844" y="436"/>
                  </a:lnTo>
                  <a:lnTo>
                    <a:pt x="859" y="436"/>
                  </a:lnTo>
                  <a:lnTo>
                    <a:pt x="874" y="436"/>
                  </a:lnTo>
                  <a:lnTo>
                    <a:pt x="887" y="423"/>
                  </a:lnTo>
                  <a:lnTo>
                    <a:pt x="902" y="411"/>
                  </a:lnTo>
                  <a:lnTo>
                    <a:pt x="902" y="295"/>
                  </a:lnTo>
                  <a:lnTo>
                    <a:pt x="917" y="270"/>
                  </a:lnTo>
                  <a:lnTo>
                    <a:pt x="917" y="231"/>
                  </a:lnTo>
                  <a:lnTo>
                    <a:pt x="917" y="321"/>
                  </a:lnTo>
                  <a:lnTo>
                    <a:pt x="931" y="385"/>
                  </a:lnTo>
                  <a:lnTo>
                    <a:pt x="931" y="885"/>
                  </a:lnTo>
                  <a:lnTo>
                    <a:pt x="946" y="924"/>
                  </a:lnTo>
                  <a:lnTo>
                    <a:pt x="946" y="1116"/>
                  </a:lnTo>
                  <a:lnTo>
                    <a:pt x="961" y="1116"/>
                  </a:lnTo>
                  <a:lnTo>
                    <a:pt x="961" y="732"/>
                  </a:lnTo>
                  <a:lnTo>
                    <a:pt x="974" y="654"/>
                  </a:lnTo>
                  <a:lnTo>
                    <a:pt x="974" y="360"/>
                  </a:lnTo>
                  <a:lnTo>
                    <a:pt x="989" y="346"/>
                  </a:lnTo>
                  <a:lnTo>
                    <a:pt x="989" y="270"/>
                  </a:lnTo>
                  <a:lnTo>
                    <a:pt x="1004" y="256"/>
                  </a:lnTo>
                  <a:lnTo>
                    <a:pt x="1004" y="231"/>
                  </a:lnTo>
                  <a:lnTo>
                    <a:pt x="1019" y="217"/>
                  </a:lnTo>
                  <a:lnTo>
                    <a:pt x="1019" y="180"/>
                  </a:lnTo>
                  <a:lnTo>
                    <a:pt x="1033" y="166"/>
                  </a:lnTo>
                  <a:lnTo>
                    <a:pt x="1033" y="129"/>
                  </a:lnTo>
                  <a:lnTo>
                    <a:pt x="1048" y="115"/>
                  </a:lnTo>
                  <a:lnTo>
                    <a:pt x="1048" y="64"/>
                  </a:lnTo>
                  <a:lnTo>
                    <a:pt x="1063" y="51"/>
                  </a:lnTo>
                  <a:lnTo>
                    <a:pt x="1063" y="13"/>
                  </a:lnTo>
                  <a:lnTo>
                    <a:pt x="1076" y="0"/>
                  </a:lnTo>
                  <a:lnTo>
                    <a:pt x="1091" y="13"/>
                  </a:lnTo>
                  <a:lnTo>
                    <a:pt x="1091" y="51"/>
                  </a:lnTo>
                  <a:lnTo>
                    <a:pt x="1106" y="64"/>
                  </a:lnTo>
                  <a:lnTo>
                    <a:pt x="1106" y="166"/>
                  </a:lnTo>
                  <a:lnTo>
                    <a:pt x="1120" y="180"/>
                  </a:lnTo>
                  <a:lnTo>
                    <a:pt x="1120" y="282"/>
                  </a:lnTo>
                  <a:lnTo>
                    <a:pt x="1135" y="295"/>
                  </a:lnTo>
                  <a:lnTo>
                    <a:pt x="1135" y="333"/>
                  </a:lnTo>
                  <a:lnTo>
                    <a:pt x="1163" y="360"/>
                  </a:lnTo>
                  <a:lnTo>
                    <a:pt x="1163" y="372"/>
                  </a:lnTo>
                  <a:lnTo>
                    <a:pt x="1178" y="372"/>
                  </a:lnTo>
                  <a:lnTo>
                    <a:pt x="1193" y="372"/>
                  </a:lnTo>
                  <a:lnTo>
                    <a:pt x="1207" y="372"/>
                  </a:lnTo>
                  <a:lnTo>
                    <a:pt x="1222" y="360"/>
                  </a:lnTo>
                  <a:lnTo>
                    <a:pt x="1237" y="360"/>
                  </a:lnTo>
                  <a:lnTo>
                    <a:pt x="1252" y="360"/>
                  </a:lnTo>
                  <a:lnTo>
                    <a:pt x="1265" y="372"/>
                  </a:lnTo>
                  <a:lnTo>
                    <a:pt x="1280" y="385"/>
                  </a:lnTo>
                  <a:lnTo>
                    <a:pt x="1296" y="385"/>
                  </a:lnTo>
                  <a:lnTo>
                    <a:pt x="1309" y="397"/>
                  </a:lnTo>
                  <a:lnTo>
                    <a:pt x="1324" y="397"/>
                  </a:lnTo>
                  <a:lnTo>
                    <a:pt x="1339" y="397"/>
                  </a:lnTo>
                  <a:lnTo>
                    <a:pt x="1353" y="411"/>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972920" y="5638680"/>
              <a:ext cx="821160" cy="896400"/>
            </a:xfrm>
            <a:custGeom>
              <a:avLst/>
              <a:gdLst/>
              <a:ahLst/>
              <a:rect l="l" t="t" r="r" b="b"/>
              <a:pathLst>
                <a:path w="597" h="1130">
                  <a:moveTo>
                    <a:pt x="0" y="437"/>
                  </a:moveTo>
                  <a:lnTo>
                    <a:pt x="15" y="437"/>
                  </a:lnTo>
                  <a:lnTo>
                    <a:pt x="30" y="437"/>
                  </a:lnTo>
                  <a:lnTo>
                    <a:pt x="43" y="437"/>
                  </a:lnTo>
                  <a:lnTo>
                    <a:pt x="58" y="437"/>
                  </a:lnTo>
                  <a:lnTo>
                    <a:pt x="73" y="437"/>
                  </a:lnTo>
                  <a:lnTo>
                    <a:pt x="88" y="437"/>
                  </a:lnTo>
                  <a:lnTo>
                    <a:pt x="102" y="437"/>
                  </a:lnTo>
                  <a:lnTo>
                    <a:pt x="117" y="437"/>
                  </a:lnTo>
                  <a:lnTo>
                    <a:pt x="132" y="425"/>
                  </a:lnTo>
                  <a:lnTo>
                    <a:pt x="145" y="425"/>
                  </a:lnTo>
                  <a:lnTo>
                    <a:pt x="160" y="437"/>
                  </a:lnTo>
                  <a:lnTo>
                    <a:pt x="175" y="450"/>
                  </a:lnTo>
                  <a:lnTo>
                    <a:pt x="189" y="450"/>
                  </a:lnTo>
                  <a:lnTo>
                    <a:pt x="204" y="437"/>
                  </a:lnTo>
                  <a:lnTo>
                    <a:pt x="219" y="437"/>
                  </a:lnTo>
                  <a:lnTo>
                    <a:pt x="232" y="411"/>
                  </a:lnTo>
                  <a:lnTo>
                    <a:pt x="232" y="296"/>
                  </a:lnTo>
                  <a:lnTo>
                    <a:pt x="247" y="270"/>
                  </a:lnTo>
                  <a:lnTo>
                    <a:pt x="247" y="231"/>
                  </a:lnTo>
                  <a:lnTo>
                    <a:pt x="247" y="347"/>
                  </a:lnTo>
                  <a:lnTo>
                    <a:pt x="262" y="398"/>
                  </a:lnTo>
                  <a:lnTo>
                    <a:pt x="262" y="899"/>
                  </a:lnTo>
                  <a:lnTo>
                    <a:pt x="277" y="950"/>
                  </a:lnTo>
                  <a:lnTo>
                    <a:pt x="277" y="1130"/>
                  </a:lnTo>
                  <a:lnTo>
                    <a:pt x="291" y="1117"/>
                  </a:lnTo>
                  <a:lnTo>
                    <a:pt x="291" y="719"/>
                  </a:lnTo>
                  <a:lnTo>
                    <a:pt x="306" y="655"/>
                  </a:lnTo>
                  <a:lnTo>
                    <a:pt x="306" y="360"/>
                  </a:lnTo>
                  <a:lnTo>
                    <a:pt x="321" y="347"/>
                  </a:lnTo>
                  <a:lnTo>
                    <a:pt x="321" y="270"/>
                  </a:lnTo>
                  <a:lnTo>
                    <a:pt x="334" y="257"/>
                  </a:lnTo>
                  <a:lnTo>
                    <a:pt x="334" y="231"/>
                  </a:lnTo>
                  <a:lnTo>
                    <a:pt x="349" y="219"/>
                  </a:lnTo>
                  <a:lnTo>
                    <a:pt x="349" y="194"/>
                  </a:lnTo>
                  <a:lnTo>
                    <a:pt x="364" y="180"/>
                  </a:lnTo>
                  <a:lnTo>
                    <a:pt x="364" y="129"/>
                  </a:lnTo>
                  <a:lnTo>
                    <a:pt x="378" y="116"/>
                  </a:lnTo>
                  <a:lnTo>
                    <a:pt x="378" y="78"/>
                  </a:lnTo>
                  <a:lnTo>
                    <a:pt x="393" y="65"/>
                  </a:lnTo>
                  <a:lnTo>
                    <a:pt x="393" y="26"/>
                  </a:lnTo>
                  <a:lnTo>
                    <a:pt x="408" y="14"/>
                  </a:lnTo>
                  <a:lnTo>
                    <a:pt x="408" y="0"/>
                  </a:lnTo>
                  <a:lnTo>
                    <a:pt x="408" y="14"/>
                  </a:lnTo>
                  <a:lnTo>
                    <a:pt x="421" y="26"/>
                  </a:lnTo>
                  <a:lnTo>
                    <a:pt x="421" y="78"/>
                  </a:lnTo>
                  <a:lnTo>
                    <a:pt x="436" y="90"/>
                  </a:lnTo>
                  <a:lnTo>
                    <a:pt x="436" y="180"/>
                  </a:lnTo>
                  <a:lnTo>
                    <a:pt x="451" y="194"/>
                  </a:lnTo>
                  <a:lnTo>
                    <a:pt x="451" y="296"/>
                  </a:lnTo>
                  <a:lnTo>
                    <a:pt x="466" y="309"/>
                  </a:lnTo>
                  <a:lnTo>
                    <a:pt x="466" y="347"/>
                  </a:lnTo>
                  <a:lnTo>
                    <a:pt x="495" y="372"/>
                  </a:lnTo>
                  <a:lnTo>
                    <a:pt x="495" y="386"/>
                  </a:lnTo>
                  <a:lnTo>
                    <a:pt x="510" y="386"/>
                  </a:lnTo>
                  <a:lnTo>
                    <a:pt x="523" y="386"/>
                  </a:lnTo>
                  <a:lnTo>
                    <a:pt x="538" y="386"/>
                  </a:lnTo>
                  <a:lnTo>
                    <a:pt x="553" y="386"/>
                  </a:lnTo>
                  <a:lnTo>
                    <a:pt x="582" y="386"/>
                  </a:lnTo>
                  <a:lnTo>
                    <a:pt x="567" y="386"/>
                  </a:lnTo>
                  <a:lnTo>
                    <a:pt x="582" y="386"/>
                  </a:lnTo>
                  <a:lnTo>
                    <a:pt x="597" y="386"/>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4160880" y="5491800"/>
            <a:ext cx="27385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lty Det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16000" y="227160"/>
            <a:ext cx="9360000" cy="7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these problems require </a:t>
            </a:r>
            <a:r>
              <a:rPr b="1" lang="en-US" sz="3600" spc="-1" strike="noStrike">
                <a:solidFill>
                  <a:srgbClr val="000000"/>
                </a:solidFill>
                <a:latin typeface="Times New Roman"/>
              </a:rPr>
              <a:t>similarity</a:t>
            </a:r>
            <a:r>
              <a:rPr b="0" lang="en-US" sz="3600" spc="-1" strike="noStrike">
                <a:solidFill>
                  <a:srgbClr val="000000"/>
                </a:solidFill>
                <a:latin typeface="Times New Roman"/>
              </a:rPr>
              <a:t> matching</a:t>
            </a:r>
            <a:endParaRPr b="0" lang="en-US" sz="3600" spc="-1" strike="noStrike">
              <a:solidFill>
                <a:srgbClr val="000000"/>
              </a:solidFill>
              <a:latin typeface="Times New Roman"/>
            </a:endParaRPr>
          </a:p>
        </p:txBody>
      </p:sp>
      <p:sp>
        <p:nvSpPr>
          <p:cNvPr id="298" name=""/>
          <p:cNvSpPr/>
          <p:nvPr/>
        </p:nvSpPr>
        <p:spPr>
          <a:xfrm>
            <a:off x="5614920" y="3457440"/>
            <a:ext cx="3394080" cy="171936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520" y="1368360"/>
            <a:ext cx="3463920" cy="187812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884760" y="1352520"/>
            <a:ext cx="5124240" cy="190188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
          <p:cNvGrpSpPr/>
          <p:nvPr/>
        </p:nvGrpSpPr>
        <p:grpSpPr>
          <a:xfrm>
            <a:off x="509760" y="1676520"/>
            <a:ext cx="2818800" cy="1407600"/>
            <a:chOff x="509760" y="1676520"/>
            <a:chExt cx="2818800" cy="1407600"/>
          </a:xfrm>
        </p:grpSpPr>
        <p:sp>
          <p:nvSpPr>
            <p:cNvPr id="302" name=""/>
            <p:cNvSpPr/>
            <p:nvPr/>
          </p:nvSpPr>
          <p:spPr>
            <a:xfrm>
              <a:off x="509760" y="2760120"/>
              <a:ext cx="1537920" cy="324000"/>
            </a:xfrm>
            <a:custGeom>
              <a:avLst/>
              <a:gdLst/>
              <a:ahLst/>
              <a:rect l="l" t="t" r="r" b="b"/>
              <a:pathLst>
                <a:path w="2566" h="975">
                  <a:moveTo>
                    <a:pt x="0" y="975"/>
                  </a:moveTo>
                  <a:lnTo>
                    <a:pt x="45" y="975"/>
                  </a:lnTo>
                  <a:lnTo>
                    <a:pt x="75" y="975"/>
                  </a:lnTo>
                  <a:lnTo>
                    <a:pt x="105" y="975"/>
                  </a:lnTo>
                  <a:lnTo>
                    <a:pt x="135" y="975"/>
                  </a:lnTo>
                  <a:lnTo>
                    <a:pt x="165" y="975"/>
                  </a:lnTo>
                  <a:lnTo>
                    <a:pt x="195" y="975"/>
                  </a:lnTo>
                  <a:lnTo>
                    <a:pt x="240" y="975"/>
                  </a:lnTo>
                  <a:lnTo>
                    <a:pt x="270" y="885"/>
                  </a:lnTo>
                  <a:lnTo>
                    <a:pt x="300" y="975"/>
                  </a:lnTo>
                  <a:lnTo>
                    <a:pt x="330" y="975"/>
                  </a:lnTo>
                  <a:lnTo>
                    <a:pt x="360" y="885"/>
                  </a:lnTo>
                  <a:lnTo>
                    <a:pt x="390" y="885"/>
                  </a:lnTo>
                  <a:lnTo>
                    <a:pt x="435" y="780"/>
                  </a:lnTo>
                  <a:lnTo>
                    <a:pt x="465" y="780"/>
                  </a:lnTo>
                  <a:lnTo>
                    <a:pt x="495" y="735"/>
                  </a:lnTo>
                  <a:lnTo>
                    <a:pt x="525" y="780"/>
                  </a:lnTo>
                  <a:lnTo>
                    <a:pt x="555" y="690"/>
                  </a:lnTo>
                  <a:lnTo>
                    <a:pt x="585" y="750"/>
                  </a:lnTo>
                  <a:lnTo>
                    <a:pt x="630" y="705"/>
                  </a:lnTo>
                  <a:lnTo>
                    <a:pt x="660" y="630"/>
                  </a:lnTo>
                  <a:lnTo>
                    <a:pt x="690" y="585"/>
                  </a:lnTo>
                  <a:lnTo>
                    <a:pt x="720" y="600"/>
                  </a:lnTo>
                  <a:lnTo>
                    <a:pt x="750" y="525"/>
                  </a:lnTo>
                  <a:lnTo>
                    <a:pt x="780" y="585"/>
                  </a:lnTo>
                  <a:lnTo>
                    <a:pt x="825" y="540"/>
                  </a:lnTo>
                  <a:lnTo>
                    <a:pt x="855" y="495"/>
                  </a:lnTo>
                  <a:lnTo>
                    <a:pt x="885" y="480"/>
                  </a:lnTo>
                  <a:lnTo>
                    <a:pt x="915" y="465"/>
                  </a:lnTo>
                  <a:lnTo>
                    <a:pt x="945" y="435"/>
                  </a:lnTo>
                  <a:lnTo>
                    <a:pt x="975" y="450"/>
                  </a:lnTo>
                  <a:lnTo>
                    <a:pt x="1020" y="405"/>
                  </a:lnTo>
                  <a:lnTo>
                    <a:pt x="1050" y="405"/>
                  </a:lnTo>
                  <a:lnTo>
                    <a:pt x="1080" y="360"/>
                  </a:lnTo>
                  <a:lnTo>
                    <a:pt x="1110" y="375"/>
                  </a:lnTo>
                  <a:lnTo>
                    <a:pt x="1140" y="315"/>
                  </a:lnTo>
                  <a:lnTo>
                    <a:pt x="1170" y="345"/>
                  </a:lnTo>
                  <a:lnTo>
                    <a:pt x="1215" y="330"/>
                  </a:lnTo>
                  <a:lnTo>
                    <a:pt x="1245" y="285"/>
                  </a:lnTo>
                  <a:lnTo>
                    <a:pt x="1275" y="285"/>
                  </a:lnTo>
                  <a:lnTo>
                    <a:pt x="1305" y="255"/>
                  </a:lnTo>
                  <a:lnTo>
                    <a:pt x="1335" y="255"/>
                  </a:lnTo>
                  <a:lnTo>
                    <a:pt x="1365" y="225"/>
                  </a:lnTo>
                  <a:lnTo>
                    <a:pt x="1410" y="195"/>
                  </a:lnTo>
                  <a:lnTo>
                    <a:pt x="1440" y="180"/>
                  </a:lnTo>
                  <a:lnTo>
                    <a:pt x="1470" y="165"/>
                  </a:lnTo>
                  <a:lnTo>
                    <a:pt x="1500" y="165"/>
                  </a:lnTo>
                  <a:lnTo>
                    <a:pt x="1530" y="150"/>
                  </a:lnTo>
                  <a:lnTo>
                    <a:pt x="1560" y="120"/>
                  </a:lnTo>
                  <a:lnTo>
                    <a:pt x="1605" y="105"/>
                  </a:lnTo>
                  <a:lnTo>
                    <a:pt x="1635" y="90"/>
                  </a:lnTo>
                  <a:lnTo>
                    <a:pt x="1665" y="75"/>
                  </a:lnTo>
                  <a:lnTo>
                    <a:pt x="1695" y="45"/>
                  </a:lnTo>
                  <a:lnTo>
                    <a:pt x="1725" y="30"/>
                  </a:lnTo>
                  <a:lnTo>
                    <a:pt x="1755" y="30"/>
                  </a:lnTo>
                  <a:lnTo>
                    <a:pt x="1801" y="15"/>
                  </a:lnTo>
                  <a:lnTo>
                    <a:pt x="1831" y="0"/>
                  </a:lnTo>
                  <a:lnTo>
                    <a:pt x="1861" y="0"/>
                  </a:lnTo>
                  <a:lnTo>
                    <a:pt x="1891" y="0"/>
                  </a:lnTo>
                  <a:lnTo>
                    <a:pt x="1921" y="0"/>
                  </a:lnTo>
                  <a:lnTo>
                    <a:pt x="1951" y="0"/>
                  </a:lnTo>
                  <a:lnTo>
                    <a:pt x="1996" y="30"/>
                  </a:lnTo>
                  <a:lnTo>
                    <a:pt x="2026" y="30"/>
                  </a:lnTo>
                  <a:lnTo>
                    <a:pt x="2056" y="75"/>
                  </a:lnTo>
                  <a:lnTo>
                    <a:pt x="2086" y="105"/>
                  </a:lnTo>
                  <a:lnTo>
                    <a:pt x="2116" y="180"/>
                  </a:lnTo>
                  <a:lnTo>
                    <a:pt x="2146" y="300"/>
                  </a:lnTo>
                  <a:lnTo>
                    <a:pt x="2191" y="510"/>
                  </a:lnTo>
                  <a:lnTo>
                    <a:pt x="2221" y="645"/>
                  </a:lnTo>
                  <a:lnTo>
                    <a:pt x="2251" y="975"/>
                  </a:lnTo>
                  <a:lnTo>
                    <a:pt x="2281" y="975"/>
                  </a:lnTo>
                  <a:lnTo>
                    <a:pt x="2311" y="975"/>
                  </a:lnTo>
                  <a:lnTo>
                    <a:pt x="2341" y="975"/>
                  </a:lnTo>
                  <a:lnTo>
                    <a:pt x="2371" y="975"/>
                  </a:lnTo>
                  <a:lnTo>
                    <a:pt x="2416" y="975"/>
                  </a:lnTo>
                  <a:lnTo>
                    <a:pt x="2446" y="975"/>
                  </a:lnTo>
                  <a:lnTo>
                    <a:pt x="2476" y="975"/>
                  </a:lnTo>
                  <a:lnTo>
                    <a:pt x="2506" y="975"/>
                  </a:lnTo>
                  <a:lnTo>
                    <a:pt x="2536" y="975"/>
                  </a:lnTo>
                  <a:lnTo>
                    <a:pt x="2566" y="975"/>
                  </a:ln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09760" y="2398320"/>
              <a:ext cx="1537920" cy="328320"/>
            </a:xfrm>
            <a:custGeom>
              <a:avLst/>
              <a:gdLst/>
              <a:ahLst/>
              <a:rect l="l" t="t" r="r" b="b"/>
              <a:pathLst>
                <a:path w="2566" h="990">
                  <a:moveTo>
                    <a:pt x="0" y="900"/>
                  </a:moveTo>
                  <a:lnTo>
                    <a:pt x="45" y="990"/>
                  </a:lnTo>
                  <a:lnTo>
                    <a:pt x="75" y="990"/>
                  </a:lnTo>
                  <a:lnTo>
                    <a:pt x="105" y="840"/>
                  </a:lnTo>
                  <a:lnTo>
                    <a:pt x="135" y="990"/>
                  </a:lnTo>
                  <a:lnTo>
                    <a:pt x="165" y="900"/>
                  </a:lnTo>
                  <a:lnTo>
                    <a:pt x="195" y="990"/>
                  </a:lnTo>
                  <a:lnTo>
                    <a:pt x="240" y="900"/>
                  </a:lnTo>
                  <a:lnTo>
                    <a:pt x="270" y="735"/>
                  </a:lnTo>
                  <a:lnTo>
                    <a:pt x="300" y="840"/>
                  </a:lnTo>
                  <a:lnTo>
                    <a:pt x="330" y="810"/>
                  </a:lnTo>
                  <a:lnTo>
                    <a:pt x="360" y="780"/>
                  </a:lnTo>
                  <a:lnTo>
                    <a:pt x="390" y="840"/>
                  </a:lnTo>
                  <a:lnTo>
                    <a:pt x="435" y="720"/>
                  </a:lnTo>
                  <a:lnTo>
                    <a:pt x="465" y="750"/>
                  </a:lnTo>
                  <a:lnTo>
                    <a:pt x="495" y="720"/>
                  </a:lnTo>
                  <a:lnTo>
                    <a:pt x="525" y="675"/>
                  </a:lnTo>
                  <a:lnTo>
                    <a:pt x="555" y="735"/>
                  </a:lnTo>
                  <a:lnTo>
                    <a:pt x="585" y="645"/>
                  </a:lnTo>
                  <a:lnTo>
                    <a:pt x="630" y="630"/>
                  </a:lnTo>
                  <a:lnTo>
                    <a:pt x="660" y="600"/>
                  </a:lnTo>
                  <a:lnTo>
                    <a:pt x="690" y="585"/>
                  </a:lnTo>
                  <a:lnTo>
                    <a:pt x="720" y="525"/>
                  </a:lnTo>
                  <a:lnTo>
                    <a:pt x="750" y="555"/>
                  </a:lnTo>
                  <a:lnTo>
                    <a:pt x="780" y="510"/>
                  </a:lnTo>
                  <a:lnTo>
                    <a:pt x="825" y="480"/>
                  </a:lnTo>
                  <a:lnTo>
                    <a:pt x="855" y="510"/>
                  </a:lnTo>
                  <a:lnTo>
                    <a:pt x="885" y="450"/>
                  </a:lnTo>
                  <a:lnTo>
                    <a:pt x="915" y="450"/>
                  </a:lnTo>
                  <a:lnTo>
                    <a:pt x="945" y="405"/>
                  </a:lnTo>
                  <a:lnTo>
                    <a:pt x="975" y="405"/>
                  </a:lnTo>
                  <a:lnTo>
                    <a:pt x="1020" y="390"/>
                  </a:lnTo>
                  <a:lnTo>
                    <a:pt x="1050" y="360"/>
                  </a:lnTo>
                  <a:lnTo>
                    <a:pt x="1080" y="330"/>
                  </a:lnTo>
                  <a:lnTo>
                    <a:pt x="1110" y="315"/>
                  </a:lnTo>
                  <a:lnTo>
                    <a:pt x="1140" y="300"/>
                  </a:lnTo>
                  <a:lnTo>
                    <a:pt x="1170" y="270"/>
                  </a:lnTo>
                  <a:lnTo>
                    <a:pt x="1215" y="255"/>
                  </a:lnTo>
                  <a:lnTo>
                    <a:pt x="1245" y="240"/>
                  </a:lnTo>
                  <a:lnTo>
                    <a:pt x="1275" y="210"/>
                  </a:lnTo>
                  <a:lnTo>
                    <a:pt x="1305" y="195"/>
                  </a:lnTo>
                  <a:lnTo>
                    <a:pt x="1335" y="180"/>
                  </a:lnTo>
                  <a:lnTo>
                    <a:pt x="1365" y="165"/>
                  </a:lnTo>
                  <a:lnTo>
                    <a:pt x="1410" y="150"/>
                  </a:lnTo>
                  <a:lnTo>
                    <a:pt x="1440" y="135"/>
                  </a:lnTo>
                  <a:lnTo>
                    <a:pt x="1470" y="105"/>
                  </a:lnTo>
                  <a:lnTo>
                    <a:pt x="1500" y="90"/>
                  </a:lnTo>
                  <a:lnTo>
                    <a:pt x="1530" y="60"/>
                  </a:lnTo>
                  <a:lnTo>
                    <a:pt x="1560" y="60"/>
                  </a:lnTo>
                  <a:lnTo>
                    <a:pt x="1605" y="45"/>
                  </a:lnTo>
                  <a:lnTo>
                    <a:pt x="1635" y="30"/>
                  </a:lnTo>
                  <a:lnTo>
                    <a:pt x="1665" y="15"/>
                  </a:lnTo>
                  <a:lnTo>
                    <a:pt x="1695" y="15"/>
                  </a:lnTo>
                  <a:lnTo>
                    <a:pt x="1725" y="0"/>
                  </a:lnTo>
                  <a:lnTo>
                    <a:pt x="1755" y="0"/>
                  </a:lnTo>
                  <a:lnTo>
                    <a:pt x="1801" y="15"/>
                  </a:lnTo>
                  <a:lnTo>
                    <a:pt x="1831" y="60"/>
                  </a:lnTo>
                  <a:lnTo>
                    <a:pt x="1861" y="165"/>
                  </a:lnTo>
                  <a:lnTo>
                    <a:pt x="1891" y="285"/>
                  </a:lnTo>
                  <a:lnTo>
                    <a:pt x="1921" y="405"/>
                  </a:lnTo>
                  <a:lnTo>
                    <a:pt x="1951" y="510"/>
                  </a:lnTo>
                  <a:lnTo>
                    <a:pt x="1996" y="660"/>
                  </a:lnTo>
                  <a:lnTo>
                    <a:pt x="2026" y="735"/>
                  </a:lnTo>
                  <a:lnTo>
                    <a:pt x="2056" y="840"/>
                  </a:lnTo>
                  <a:lnTo>
                    <a:pt x="2086" y="900"/>
                  </a:lnTo>
                  <a:lnTo>
                    <a:pt x="2116" y="900"/>
                  </a:lnTo>
                  <a:lnTo>
                    <a:pt x="2146" y="900"/>
                  </a:lnTo>
                  <a:lnTo>
                    <a:pt x="2191" y="840"/>
                  </a:lnTo>
                  <a:lnTo>
                    <a:pt x="2221" y="990"/>
                  </a:lnTo>
                  <a:lnTo>
                    <a:pt x="2251" y="990"/>
                  </a:lnTo>
                  <a:lnTo>
                    <a:pt x="2281" y="840"/>
                  </a:lnTo>
                  <a:lnTo>
                    <a:pt x="2311" y="990"/>
                  </a:lnTo>
                  <a:lnTo>
                    <a:pt x="2341" y="990"/>
                  </a:lnTo>
                  <a:lnTo>
                    <a:pt x="2371" y="990"/>
                  </a:lnTo>
                  <a:lnTo>
                    <a:pt x="2416" y="990"/>
                  </a:lnTo>
                  <a:lnTo>
                    <a:pt x="2446" y="990"/>
                  </a:lnTo>
                  <a:lnTo>
                    <a:pt x="2476" y="990"/>
                  </a:lnTo>
                  <a:lnTo>
                    <a:pt x="2506" y="990"/>
                  </a:lnTo>
                  <a:lnTo>
                    <a:pt x="2536" y="990"/>
                  </a:lnTo>
                  <a:lnTo>
                    <a:pt x="2566" y="990"/>
                  </a:lnTo>
                </a:path>
              </a:pathLst>
            </a:custGeom>
            <a:noFill/>
            <a:ln w="255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09760" y="2039760"/>
              <a:ext cx="1537920" cy="322560"/>
            </a:xfrm>
            <a:custGeom>
              <a:avLst/>
              <a:gdLst/>
              <a:ahLst/>
              <a:rect l="l" t="t" r="r" b="b"/>
              <a:pathLst>
                <a:path w="2566" h="975">
                  <a:moveTo>
                    <a:pt x="0" y="975"/>
                  </a:moveTo>
                  <a:lnTo>
                    <a:pt x="45" y="975"/>
                  </a:lnTo>
                  <a:lnTo>
                    <a:pt x="75" y="870"/>
                  </a:lnTo>
                  <a:lnTo>
                    <a:pt x="105" y="975"/>
                  </a:lnTo>
                  <a:lnTo>
                    <a:pt x="135" y="765"/>
                  </a:lnTo>
                  <a:lnTo>
                    <a:pt x="165" y="870"/>
                  </a:lnTo>
                  <a:lnTo>
                    <a:pt x="195" y="705"/>
                  </a:lnTo>
                  <a:lnTo>
                    <a:pt x="240" y="765"/>
                  </a:lnTo>
                  <a:lnTo>
                    <a:pt x="270" y="870"/>
                  </a:lnTo>
                  <a:lnTo>
                    <a:pt x="300" y="765"/>
                  </a:lnTo>
                  <a:lnTo>
                    <a:pt x="330" y="765"/>
                  </a:lnTo>
                  <a:lnTo>
                    <a:pt x="360" y="675"/>
                  </a:lnTo>
                  <a:lnTo>
                    <a:pt x="390" y="660"/>
                  </a:lnTo>
                  <a:lnTo>
                    <a:pt x="435" y="570"/>
                  </a:lnTo>
                  <a:lnTo>
                    <a:pt x="465" y="705"/>
                  </a:lnTo>
                  <a:lnTo>
                    <a:pt x="495" y="600"/>
                  </a:lnTo>
                  <a:lnTo>
                    <a:pt x="525" y="540"/>
                  </a:lnTo>
                  <a:lnTo>
                    <a:pt x="555" y="540"/>
                  </a:lnTo>
                  <a:lnTo>
                    <a:pt x="585" y="420"/>
                  </a:lnTo>
                  <a:lnTo>
                    <a:pt x="630" y="495"/>
                  </a:lnTo>
                  <a:lnTo>
                    <a:pt x="660" y="495"/>
                  </a:lnTo>
                  <a:lnTo>
                    <a:pt x="690" y="405"/>
                  </a:lnTo>
                  <a:lnTo>
                    <a:pt x="720" y="360"/>
                  </a:lnTo>
                  <a:lnTo>
                    <a:pt x="750" y="390"/>
                  </a:lnTo>
                  <a:lnTo>
                    <a:pt x="780" y="300"/>
                  </a:lnTo>
                  <a:lnTo>
                    <a:pt x="825" y="285"/>
                  </a:lnTo>
                  <a:lnTo>
                    <a:pt x="855" y="240"/>
                  </a:lnTo>
                  <a:lnTo>
                    <a:pt x="885" y="195"/>
                  </a:lnTo>
                  <a:lnTo>
                    <a:pt x="915" y="165"/>
                  </a:lnTo>
                  <a:lnTo>
                    <a:pt x="945" y="165"/>
                  </a:lnTo>
                  <a:lnTo>
                    <a:pt x="975" y="105"/>
                  </a:lnTo>
                  <a:lnTo>
                    <a:pt x="1020" y="60"/>
                  </a:lnTo>
                  <a:lnTo>
                    <a:pt x="1050" y="45"/>
                  </a:lnTo>
                  <a:lnTo>
                    <a:pt x="1080" y="15"/>
                  </a:lnTo>
                  <a:lnTo>
                    <a:pt x="1110" y="30"/>
                  </a:lnTo>
                  <a:lnTo>
                    <a:pt x="1140" y="15"/>
                  </a:lnTo>
                  <a:lnTo>
                    <a:pt x="1170" y="15"/>
                  </a:lnTo>
                  <a:lnTo>
                    <a:pt x="1215" y="15"/>
                  </a:lnTo>
                  <a:lnTo>
                    <a:pt x="1245" y="15"/>
                  </a:lnTo>
                  <a:lnTo>
                    <a:pt x="1275" y="0"/>
                  </a:lnTo>
                  <a:lnTo>
                    <a:pt x="1305" y="0"/>
                  </a:lnTo>
                  <a:lnTo>
                    <a:pt x="1335" y="30"/>
                  </a:lnTo>
                  <a:lnTo>
                    <a:pt x="1365" y="105"/>
                  </a:lnTo>
                  <a:lnTo>
                    <a:pt x="1410" y="255"/>
                  </a:lnTo>
                  <a:lnTo>
                    <a:pt x="1440" y="420"/>
                  </a:lnTo>
                  <a:lnTo>
                    <a:pt x="1470" y="570"/>
                  </a:lnTo>
                  <a:lnTo>
                    <a:pt x="1500" y="600"/>
                  </a:lnTo>
                  <a:lnTo>
                    <a:pt x="1530" y="660"/>
                  </a:lnTo>
                  <a:lnTo>
                    <a:pt x="1560" y="705"/>
                  </a:lnTo>
                  <a:lnTo>
                    <a:pt x="1605" y="735"/>
                  </a:lnTo>
                  <a:lnTo>
                    <a:pt x="1635" y="810"/>
                  </a:lnTo>
                  <a:lnTo>
                    <a:pt x="1665" y="810"/>
                  </a:lnTo>
                  <a:lnTo>
                    <a:pt x="1695" y="870"/>
                  </a:lnTo>
                  <a:lnTo>
                    <a:pt x="1725" y="870"/>
                  </a:lnTo>
                  <a:lnTo>
                    <a:pt x="1755" y="975"/>
                  </a:lnTo>
                  <a:lnTo>
                    <a:pt x="1801" y="870"/>
                  </a:lnTo>
                  <a:lnTo>
                    <a:pt x="1831" y="870"/>
                  </a:lnTo>
                  <a:lnTo>
                    <a:pt x="1861" y="975"/>
                  </a:lnTo>
                  <a:lnTo>
                    <a:pt x="1891" y="975"/>
                  </a:lnTo>
                  <a:lnTo>
                    <a:pt x="1921" y="975"/>
                  </a:lnTo>
                  <a:lnTo>
                    <a:pt x="1951" y="975"/>
                  </a:lnTo>
                  <a:lnTo>
                    <a:pt x="1996" y="975"/>
                  </a:lnTo>
                  <a:lnTo>
                    <a:pt x="2026" y="975"/>
                  </a:lnTo>
                  <a:lnTo>
                    <a:pt x="2056" y="975"/>
                  </a:lnTo>
                  <a:lnTo>
                    <a:pt x="2086" y="975"/>
                  </a:lnTo>
                  <a:lnTo>
                    <a:pt x="2116" y="975"/>
                  </a:lnTo>
                  <a:lnTo>
                    <a:pt x="2146" y="975"/>
                  </a:lnTo>
                  <a:lnTo>
                    <a:pt x="2191" y="975"/>
                  </a:lnTo>
                  <a:lnTo>
                    <a:pt x="2221" y="975"/>
                  </a:lnTo>
                  <a:lnTo>
                    <a:pt x="2251" y="975"/>
                  </a:lnTo>
                  <a:lnTo>
                    <a:pt x="2281" y="975"/>
                  </a:lnTo>
                  <a:lnTo>
                    <a:pt x="2311" y="975"/>
                  </a:lnTo>
                  <a:lnTo>
                    <a:pt x="2341" y="975"/>
                  </a:lnTo>
                  <a:lnTo>
                    <a:pt x="2371" y="975"/>
                  </a:lnTo>
                  <a:lnTo>
                    <a:pt x="2416" y="975"/>
                  </a:lnTo>
                  <a:lnTo>
                    <a:pt x="2446" y="975"/>
                  </a:lnTo>
                  <a:lnTo>
                    <a:pt x="2476" y="975"/>
                  </a:lnTo>
                  <a:lnTo>
                    <a:pt x="2506" y="975"/>
                  </a:lnTo>
                  <a:lnTo>
                    <a:pt x="2536" y="975"/>
                  </a:lnTo>
                  <a:lnTo>
                    <a:pt x="2566" y="975"/>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09760" y="1676520"/>
              <a:ext cx="1537920" cy="328320"/>
            </a:xfrm>
            <a:custGeom>
              <a:avLst/>
              <a:gdLst/>
              <a:ahLst/>
              <a:rect l="l" t="t" r="r" b="b"/>
              <a:pathLst>
                <a:path w="2566" h="990">
                  <a:moveTo>
                    <a:pt x="0" y="0"/>
                  </a:moveTo>
                  <a:lnTo>
                    <a:pt x="45" y="15"/>
                  </a:lnTo>
                  <a:lnTo>
                    <a:pt x="75" y="30"/>
                  </a:lnTo>
                  <a:lnTo>
                    <a:pt x="105" y="45"/>
                  </a:lnTo>
                  <a:lnTo>
                    <a:pt x="135" y="60"/>
                  </a:lnTo>
                  <a:lnTo>
                    <a:pt x="165" y="60"/>
                  </a:lnTo>
                  <a:lnTo>
                    <a:pt x="195" y="75"/>
                  </a:lnTo>
                  <a:lnTo>
                    <a:pt x="240" y="90"/>
                  </a:lnTo>
                  <a:lnTo>
                    <a:pt x="270" y="105"/>
                  </a:lnTo>
                  <a:lnTo>
                    <a:pt x="300" y="120"/>
                  </a:lnTo>
                  <a:lnTo>
                    <a:pt x="330" y="135"/>
                  </a:lnTo>
                  <a:lnTo>
                    <a:pt x="360" y="135"/>
                  </a:lnTo>
                  <a:lnTo>
                    <a:pt x="390" y="150"/>
                  </a:lnTo>
                  <a:lnTo>
                    <a:pt x="435" y="165"/>
                  </a:lnTo>
                  <a:lnTo>
                    <a:pt x="465" y="180"/>
                  </a:lnTo>
                  <a:lnTo>
                    <a:pt x="495" y="195"/>
                  </a:lnTo>
                  <a:lnTo>
                    <a:pt x="525" y="195"/>
                  </a:lnTo>
                  <a:lnTo>
                    <a:pt x="555" y="210"/>
                  </a:lnTo>
                  <a:lnTo>
                    <a:pt x="585" y="225"/>
                  </a:lnTo>
                  <a:lnTo>
                    <a:pt x="630" y="240"/>
                  </a:lnTo>
                  <a:lnTo>
                    <a:pt x="660" y="255"/>
                  </a:lnTo>
                  <a:lnTo>
                    <a:pt x="690" y="270"/>
                  </a:lnTo>
                  <a:lnTo>
                    <a:pt x="720" y="270"/>
                  </a:lnTo>
                  <a:lnTo>
                    <a:pt x="750" y="285"/>
                  </a:lnTo>
                  <a:lnTo>
                    <a:pt x="780" y="300"/>
                  </a:lnTo>
                  <a:lnTo>
                    <a:pt x="825" y="315"/>
                  </a:lnTo>
                  <a:lnTo>
                    <a:pt x="855" y="330"/>
                  </a:lnTo>
                  <a:lnTo>
                    <a:pt x="885" y="345"/>
                  </a:lnTo>
                  <a:lnTo>
                    <a:pt x="915" y="345"/>
                  </a:lnTo>
                  <a:lnTo>
                    <a:pt x="945" y="360"/>
                  </a:lnTo>
                  <a:lnTo>
                    <a:pt x="975" y="375"/>
                  </a:lnTo>
                  <a:lnTo>
                    <a:pt x="1020" y="390"/>
                  </a:lnTo>
                  <a:lnTo>
                    <a:pt x="1050" y="405"/>
                  </a:lnTo>
                  <a:lnTo>
                    <a:pt x="1080" y="420"/>
                  </a:lnTo>
                  <a:lnTo>
                    <a:pt x="1110" y="420"/>
                  </a:lnTo>
                  <a:lnTo>
                    <a:pt x="1140" y="435"/>
                  </a:lnTo>
                  <a:lnTo>
                    <a:pt x="1170" y="450"/>
                  </a:lnTo>
                  <a:lnTo>
                    <a:pt x="1215" y="465"/>
                  </a:lnTo>
                  <a:lnTo>
                    <a:pt x="1245" y="480"/>
                  </a:lnTo>
                  <a:lnTo>
                    <a:pt x="1275" y="480"/>
                  </a:lnTo>
                  <a:lnTo>
                    <a:pt x="1305" y="495"/>
                  </a:lnTo>
                  <a:lnTo>
                    <a:pt x="1335" y="510"/>
                  </a:lnTo>
                  <a:lnTo>
                    <a:pt x="1365" y="525"/>
                  </a:lnTo>
                  <a:lnTo>
                    <a:pt x="1410" y="540"/>
                  </a:lnTo>
                  <a:lnTo>
                    <a:pt x="1440" y="555"/>
                  </a:lnTo>
                  <a:lnTo>
                    <a:pt x="1470" y="555"/>
                  </a:lnTo>
                  <a:lnTo>
                    <a:pt x="1500" y="570"/>
                  </a:lnTo>
                  <a:lnTo>
                    <a:pt x="1530" y="585"/>
                  </a:lnTo>
                  <a:lnTo>
                    <a:pt x="1560" y="600"/>
                  </a:lnTo>
                  <a:lnTo>
                    <a:pt x="1605" y="615"/>
                  </a:lnTo>
                  <a:lnTo>
                    <a:pt x="1635" y="630"/>
                  </a:lnTo>
                  <a:lnTo>
                    <a:pt x="1665" y="630"/>
                  </a:lnTo>
                  <a:lnTo>
                    <a:pt x="1695" y="645"/>
                  </a:lnTo>
                  <a:lnTo>
                    <a:pt x="1725" y="660"/>
                  </a:lnTo>
                  <a:lnTo>
                    <a:pt x="1755" y="675"/>
                  </a:lnTo>
                  <a:lnTo>
                    <a:pt x="1801" y="690"/>
                  </a:lnTo>
                  <a:lnTo>
                    <a:pt x="1831" y="705"/>
                  </a:lnTo>
                  <a:lnTo>
                    <a:pt x="1861" y="705"/>
                  </a:lnTo>
                  <a:lnTo>
                    <a:pt x="1891" y="720"/>
                  </a:lnTo>
                  <a:lnTo>
                    <a:pt x="1921" y="735"/>
                  </a:lnTo>
                  <a:lnTo>
                    <a:pt x="1951" y="750"/>
                  </a:lnTo>
                  <a:lnTo>
                    <a:pt x="1996" y="765"/>
                  </a:lnTo>
                  <a:lnTo>
                    <a:pt x="2026" y="765"/>
                  </a:lnTo>
                  <a:lnTo>
                    <a:pt x="2056" y="780"/>
                  </a:lnTo>
                  <a:lnTo>
                    <a:pt x="2086" y="795"/>
                  </a:lnTo>
                  <a:lnTo>
                    <a:pt x="2116" y="810"/>
                  </a:lnTo>
                  <a:lnTo>
                    <a:pt x="2146" y="825"/>
                  </a:lnTo>
                  <a:lnTo>
                    <a:pt x="2191" y="840"/>
                  </a:lnTo>
                  <a:lnTo>
                    <a:pt x="2221" y="840"/>
                  </a:lnTo>
                  <a:lnTo>
                    <a:pt x="2251" y="855"/>
                  </a:lnTo>
                  <a:lnTo>
                    <a:pt x="2281" y="870"/>
                  </a:lnTo>
                  <a:lnTo>
                    <a:pt x="2311" y="885"/>
                  </a:lnTo>
                  <a:lnTo>
                    <a:pt x="2341" y="900"/>
                  </a:lnTo>
                  <a:lnTo>
                    <a:pt x="2371" y="915"/>
                  </a:lnTo>
                  <a:lnTo>
                    <a:pt x="2416" y="915"/>
                  </a:lnTo>
                  <a:lnTo>
                    <a:pt x="2446" y="930"/>
                  </a:lnTo>
                  <a:lnTo>
                    <a:pt x="2476" y="945"/>
                  </a:lnTo>
                  <a:lnTo>
                    <a:pt x="2506" y="960"/>
                  </a:lnTo>
                  <a:lnTo>
                    <a:pt x="2536" y="975"/>
                  </a:lnTo>
                  <a:lnTo>
                    <a:pt x="2566" y="990"/>
                  </a:lnTo>
                </a:path>
              </a:pathLst>
            </a:custGeom>
            <a:noFill/>
            <a:ln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
            <p:cNvGrpSpPr/>
            <p:nvPr/>
          </p:nvGrpSpPr>
          <p:grpSpPr>
            <a:xfrm>
              <a:off x="2190600" y="1810440"/>
              <a:ext cx="1137960" cy="1099440"/>
              <a:chOff x="2190600" y="1810440"/>
              <a:chExt cx="1137960" cy="1099440"/>
            </a:xfrm>
          </p:grpSpPr>
          <p:sp>
            <p:nvSpPr>
              <p:cNvPr id="307" name=""/>
              <p:cNvSpPr/>
              <p:nvPr/>
            </p:nvSpPr>
            <p:spPr>
              <a:xfrm>
                <a:off x="2190600" y="2894760"/>
                <a:ext cx="18720" cy="15120"/>
              </a:xfrm>
              <a:prstGeom prst="ellipse">
                <a:avLst/>
              </a:prstGeom>
              <a:solidFill>
                <a:srgbClr val="000000"/>
              </a:solidFill>
              <a:ln w="5400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8" name=""/>
              <p:cNvSpPr/>
              <p:nvPr/>
            </p:nvSpPr>
            <p:spPr>
              <a:xfrm>
                <a:off x="2190600" y="2532240"/>
                <a:ext cx="18720" cy="14400"/>
              </a:xfrm>
              <a:prstGeom prst="ellipse">
                <a:avLst/>
              </a:prstGeom>
              <a:solidFill>
                <a:srgbClr val="000000"/>
              </a:solidFill>
              <a:ln w="540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9" name=""/>
              <p:cNvSpPr/>
              <p:nvPr/>
            </p:nvSpPr>
            <p:spPr>
              <a:xfrm>
                <a:off x="2190600" y="2173680"/>
                <a:ext cx="18720" cy="14400"/>
              </a:xfrm>
              <a:prstGeom prst="ellipse">
                <a:avLst/>
              </a:prstGeom>
              <a:solidFill>
                <a:srgbClr val="000000"/>
              </a:solidFill>
              <a:ln w="540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0" name=""/>
              <p:cNvSpPr/>
              <p:nvPr/>
            </p:nvSpPr>
            <p:spPr>
              <a:xfrm>
                <a:off x="2190600" y="1810440"/>
                <a:ext cx="18720" cy="15120"/>
              </a:xfrm>
              <a:prstGeom prst="ellipse">
                <a:avLst/>
              </a:prstGeom>
              <a:solidFill>
                <a:srgbClr val="000000"/>
              </a:solidFill>
              <a:ln w="5400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1" name=""/>
              <p:cNvSpPr/>
              <p:nvPr/>
            </p:nvSpPr>
            <p:spPr>
              <a:xfrm>
                <a:off x="2202480" y="2904840"/>
                <a:ext cx="6120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12" name=""/>
              <p:cNvSpPr/>
              <p:nvPr/>
            </p:nvSpPr>
            <p:spPr>
              <a:xfrm>
                <a:off x="2202480" y="2542320"/>
                <a:ext cx="6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2264040" y="2541960"/>
                <a:ext cx="360" cy="362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264040" y="2726280"/>
                <a:ext cx="40356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5" name=""/>
              <p:cNvSpPr/>
              <p:nvPr/>
            </p:nvSpPr>
            <p:spPr>
              <a:xfrm>
                <a:off x="2202480" y="2183760"/>
                <a:ext cx="464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2667600" y="2183760"/>
                <a:ext cx="360" cy="54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667600" y="2452680"/>
                <a:ext cx="59292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8" name=""/>
              <p:cNvSpPr/>
              <p:nvPr/>
            </p:nvSpPr>
            <p:spPr>
              <a:xfrm>
                <a:off x="2202480" y="1820160"/>
                <a:ext cx="105804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9" name=""/>
              <p:cNvSpPr/>
              <p:nvPr/>
            </p:nvSpPr>
            <p:spPr>
              <a:xfrm flipV="1">
                <a:off x="3260520" y="1820160"/>
                <a:ext cx="360" cy="63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263400" y="2146680"/>
                <a:ext cx="65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1" name=""/>
          <p:cNvSpPr/>
          <p:nvPr/>
        </p:nvSpPr>
        <p:spPr>
          <a:xfrm>
            <a:off x="1167840" y="1266120"/>
            <a:ext cx="15555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Clustering</a:t>
            </a:r>
            <a:endParaRPr b="0" lang="en-US" sz="2400" spc="-1" strike="noStrike">
              <a:solidFill>
                <a:srgbClr val="000000"/>
              </a:solidFill>
              <a:latin typeface="Times New Roman"/>
            </a:endParaRPr>
          </a:p>
        </p:txBody>
      </p:sp>
      <p:pic>
        <p:nvPicPr>
          <p:cNvPr id="322" name="" descr=""/>
          <p:cNvPicPr/>
          <p:nvPr/>
        </p:nvPicPr>
        <p:blipFill>
          <a:blip r:embed="rId1"/>
          <a:stretch/>
        </p:blipFill>
        <p:spPr>
          <a:xfrm>
            <a:off x="4051440" y="1693800"/>
            <a:ext cx="1538280" cy="1527120"/>
          </a:xfrm>
          <a:prstGeom prst="rect">
            <a:avLst/>
          </a:prstGeom>
          <a:ln w="0">
            <a:noFill/>
          </a:ln>
        </p:spPr>
      </p:pic>
      <p:pic>
        <p:nvPicPr>
          <p:cNvPr id="323" name="" descr=""/>
          <p:cNvPicPr/>
          <p:nvPr/>
        </p:nvPicPr>
        <p:blipFill>
          <a:blip r:embed="rId2"/>
          <a:stretch/>
        </p:blipFill>
        <p:spPr>
          <a:xfrm>
            <a:off x="5894280" y="1406520"/>
            <a:ext cx="2989440" cy="1743120"/>
          </a:xfrm>
          <a:prstGeom prst="rect">
            <a:avLst/>
          </a:prstGeom>
          <a:ln w="0">
            <a:noFill/>
          </a:ln>
        </p:spPr>
      </p:pic>
      <p:sp>
        <p:nvSpPr>
          <p:cNvPr id="324" name=""/>
          <p:cNvSpPr/>
          <p:nvPr/>
        </p:nvSpPr>
        <p:spPr>
          <a:xfrm>
            <a:off x="3814200" y="1234080"/>
            <a:ext cx="19638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Classification</a:t>
            </a:r>
            <a:endParaRPr b="0" lang="en-US" sz="2400" spc="-1" strike="noStrike">
              <a:solidFill>
                <a:srgbClr val="000000"/>
              </a:solidFill>
              <a:latin typeface="Times New Roman"/>
            </a:endParaRPr>
          </a:p>
        </p:txBody>
      </p:sp>
      <p:pic>
        <p:nvPicPr>
          <p:cNvPr id="325" name="" descr=""/>
          <p:cNvPicPr/>
          <p:nvPr/>
        </p:nvPicPr>
        <p:blipFill>
          <a:blip r:embed="rId3"/>
          <a:stretch/>
        </p:blipFill>
        <p:spPr>
          <a:xfrm>
            <a:off x="5711760" y="3852720"/>
            <a:ext cx="1587600" cy="1265400"/>
          </a:xfrm>
          <a:prstGeom prst="rect">
            <a:avLst/>
          </a:prstGeom>
          <a:ln w="0">
            <a:noFill/>
          </a:ln>
        </p:spPr>
      </p:pic>
      <p:sp>
        <p:nvSpPr>
          <p:cNvPr id="326" name=""/>
          <p:cNvSpPr/>
          <p:nvPr/>
        </p:nvSpPr>
        <p:spPr>
          <a:xfrm>
            <a:off x="5102280" y="3413160"/>
            <a:ext cx="2290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ry by Content</a:t>
            </a:r>
            <a:endParaRPr b="0" lang="en-US" sz="2400" spc="-1" strike="noStrike">
              <a:solidFill>
                <a:srgbClr val="000000"/>
              </a:solidFill>
              <a:latin typeface="Times New Roman"/>
            </a:endParaRPr>
          </a:p>
        </p:txBody>
      </p:sp>
      <p:pic>
        <p:nvPicPr>
          <p:cNvPr id="327" name="" descr=""/>
          <p:cNvPicPr/>
          <p:nvPr/>
        </p:nvPicPr>
        <p:blipFill>
          <a:blip r:embed="rId4"/>
          <a:stretch/>
        </p:blipFill>
        <p:spPr>
          <a:xfrm>
            <a:off x="7377120" y="3611520"/>
            <a:ext cx="1485720" cy="1405080"/>
          </a:xfrm>
          <a:prstGeom prst="rect">
            <a:avLst/>
          </a:prstGeom>
          <a:ln w="0">
            <a:noFill/>
          </a:ln>
        </p:spPr>
      </p:pic>
      <p:sp>
        <p:nvSpPr>
          <p:cNvPr id="328" name=""/>
          <p:cNvSpPr/>
          <p:nvPr/>
        </p:nvSpPr>
        <p:spPr>
          <a:xfrm>
            <a:off x="2487600" y="3454560"/>
            <a:ext cx="2994120" cy="171756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427120" y="3453120"/>
            <a:ext cx="155916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 Discovery</a:t>
            </a:r>
            <a:endParaRPr b="0" lang="en-US" sz="2400" spc="-1" strike="noStrike">
              <a:solidFill>
                <a:srgbClr val="000000"/>
              </a:solidFill>
              <a:latin typeface="Times New Roman"/>
            </a:endParaRPr>
          </a:p>
        </p:txBody>
      </p:sp>
      <p:sp>
        <p:nvSpPr>
          <p:cNvPr id="330" name=""/>
          <p:cNvSpPr/>
          <p:nvPr/>
        </p:nvSpPr>
        <p:spPr>
          <a:xfrm flipV="1">
            <a:off x="4516560" y="4302000"/>
            <a:ext cx="900000" cy="392400"/>
          </a:xfrm>
          <a:custGeom>
            <a:avLst/>
            <a:gdLst/>
            <a:ahLst/>
            <a:rect l="l" t="t" r="r" b="b"/>
            <a:pathLst>
              <a:path w="2566" h="975">
                <a:moveTo>
                  <a:pt x="0" y="975"/>
                </a:moveTo>
                <a:lnTo>
                  <a:pt x="45" y="975"/>
                </a:lnTo>
                <a:lnTo>
                  <a:pt x="75" y="975"/>
                </a:lnTo>
                <a:lnTo>
                  <a:pt x="105" y="975"/>
                </a:lnTo>
                <a:lnTo>
                  <a:pt x="135" y="975"/>
                </a:lnTo>
                <a:lnTo>
                  <a:pt x="165" y="975"/>
                </a:lnTo>
                <a:lnTo>
                  <a:pt x="195" y="975"/>
                </a:lnTo>
                <a:lnTo>
                  <a:pt x="240" y="975"/>
                </a:lnTo>
                <a:lnTo>
                  <a:pt x="270" y="885"/>
                </a:lnTo>
                <a:lnTo>
                  <a:pt x="300" y="975"/>
                </a:lnTo>
                <a:lnTo>
                  <a:pt x="330" y="975"/>
                </a:lnTo>
                <a:lnTo>
                  <a:pt x="360" y="885"/>
                </a:lnTo>
                <a:lnTo>
                  <a:pt x="390" y="885"/>
                </a:lnTo>
                <a:lnTo>
                  <a:pt x="435" y="780"/>
                </a:lnTo>
                <a:lnTo>
                  <a:pt x="465" y="780"/>
                </a:lnTo>
                <a:lnTo>
                  <a:pt x="495" y="735"/>
                </a:lnTo>
                <a:lnTo>
                  <a:pt x="525" y="780"/>
                </a:lnTo>
                <a:lnTo>
                  <a:pt x="555" y="690"/>
                </a:lnTo>
                <a:lnTo>
                  <a:pt x="585" y="750"/>
                </a:lnTo>
                <a:lnTo>
                  <a:pt x="630" y="705"/>
                </a:lnTo>
                <a:lnTo>
                  <a:pt x="660" y="630"/>
                </a:lnTo>
                <a:lnTo>
                  <a:pt x="690" y="585"/>
                </a:lnTo>
                <a:lnTo>
                  <a:pt x="720" y="600"/>
                </a:lnTo>
                <a:lnTo>
                  <a:pt x="750" y="525"/>
                </a:lnTo>
                <a:lnTo>
                  <a:pt x="780" y="585"/>
                </a:lnTo>
                <a:lnTo>
                  <a:pt x="825" y="540"/>
                </a:lnTo>
                <a:lnTo>
                  <a:pt x="855" y="495"/>
                </a:lnTo>
                <a:lnTo>
                  <a:pt x="885" y="480"/>
                </a:lnTo>
                <a:lnTo>
                  <a:pt x="915" y="465"/>
                </a:lnTo>
                <a:lnTo>
                  <a:pt x="945" y="435"/>
                </a:lnTo>
                <a:lnTo>
                  <a:pt x="975" y="450"/>
                </a:lnTo>
                <a:lnTo>
                  <a:pt x="1020" y="405"/>
                </a:lnTo>
                <a:lnTo>
                  <a:pt x="1050" y="405"/>
                </a:lnTo>
                <a:lnTo>
                  <a:pt x="1080" y="360"/>
                </a:lnTo>
                <a:lnTo>
                  <a:pt x="1110" y="375"/>
                </a:lnTo>
                <a:lnTo>
                  <a:pt x="1140" y="315"/>
                </a:lnTo>
                <a:lnTo>
                  <a:pt x="1170" y="345"/>
                </a:lnTo>
                <a:lnTo>
                  <a:pt x="1215" y="330"/>
                </a:lnTo>
                <a:lnTo>
                  <a:pt x="1245" y="285"/>
                </a:lnTo>
                <a:lnTo>
                  <a:pt x="1275" y="285"/>
                </a:lnTo>
                <a:lnTo>
                  <a:pt x="1305" y="255"/>
                </a:lnTo>
                <a:lnTo>
                  <a:pt x="1335" y="255"/>
                </a:lnTo>
                <a:lnTo>
                  <a:pt x="1365" y="225"/>
                </a:lnTo>
                <a:lnTo>
                  <a:pt x="1410" y="195"/>
                </a:lnTo>
                <a:lnTo>
                  <a:pt x="1440" y="180"/>
                </a:lnTo>
                <a:lnTo>
                  <a:pt x="1470" y="165"/>
                </a:lnTo>
                <a:lnTo>
                  <a:pt x="1500" y="165"/>
                </a:lnTo>
                <a:lnTo>
                  <a:pt x="1530" y="150"/>
                </a:lnTo>
                <a:lnTo>
                  <a:pt x="1560" y="120"/>
                </a:lnTo>
                <a:lnTo>
                  <a:pt x="1605" y="105"/>
                </a:lnTo>
                <a:lnTo>
                  <a:pt x="1635" y="90"/>
                </a:lnTo>
                <a:lnTo>
                  <a:pt x="1665" y="75"/>
                </a:lnTo>
                <a:lnTo>
                  <a:pt x="1695" y="45"/>
                </a:lnTo>
                <a:lnTo>
                  <a:pt x="1725" y="30"/>
                </a:lnTo>
                <a:lnTo>
                  <a:pt x="1755" y="30"/>
                </a:lnTo>
                <a:lnTo>
                  <a:pt x="1801" y="15"/>
                </a:lnTo>
                <a:lnTo>
                  <a:pt x="1831" y="0"/>
                </a:lnTo>
                <a:lnTo>
                  <a:pt x="1861" y="0"/>
                </a:lnTo>
                <a:lnTo>
                  <a:pt x="1891" y="0"/>
                </a:lnTo>
                <a:lnTo>
                  <a:pt x="1921" y="0"/>
                </a:lnTo>
                <a:lnTo>
                  <a:pt x="1951" y="0"/>
                </a:lnTo>
                <a:lnTo>
                  <a:pt x="1996" y="30"/>
                </a:lnTo>
                <a:lnTo>
                  <a:pt x="2026" y="30"/>
                </a:lnTo>
                <a:lnTo>
                  <a:pt x="2056" y="75"/>
                </a:lnTo>
                <a:lnTo>
                  <a:pt x="2086" y="105"/>
                </a:lnTo>
                <a:lnTo>
                  <a:pt x="2116" y="180"/>
                </a:lnTo>
                <a:lnTo>
                  <a:pt x="2146" y="300"/>
                </a:lnTo>
                <a:lnTo>
                  <a:pt x="2191" y="510"/>
                </a:lnTo>
                <a:lnTo>
                  <a:pt x="2221" y="645"/>
                </a:lnTo>
                <a:lnTo>
                  <a:pt x="2251" y="975"/>
                </a:lnTo>
                <a:lnTo>
                  <a:pt x="2281" y="975"/>
                </a:lnTo>
                <a:lnTo>
                  <a:pt x="2311" y="975"/>
                </a:lnTo>
                <a:lnTo>
                  <a:pt x="2341" y="975"/>
                </a:lnTo>
                <a:lnTo>
                  <a:pt x="2371" y="975"/>
                </a:lnTo>
                <a:lnTo>
                  <a:pt x="2416" y="975"/>
                </a:lnTo>
                <a:lnTo>
                  <a:pt x="2446" y="975"/>
                </a:lnTo>
                <a:lnTo>
                  <a:pt x="2476" y="975"/>
                </a:lnTo>
                <a:lnTo>
                  <a:pt x="2506" y="975"/>
                </a:lnTo>
                <a:lnTo>
                  <a:pt x="2536" y="975"/>
                </a:lnTo>
                <a:lnTo>
                  <a:pt x="2566" y="975"/>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852000" y="3648240"/>
            <a:ext cx="740160" cy="1495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ymbol"/>
                <a:ea typeface="Symbol"/>
              </a:rPr>
              <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r>
              <a:rPr b="0" lang="en-US" sz="1600" spc="-1" strike="noStrike">
                <a:solidFill>
                  <a:srgbClr val="000000"/>
                </a:solidFill>
                <a:latin typeface="Times New Roman"/>
              </a:rPr>
              <a:t> = 0.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r>
              <a:rPr b="0" lang="en-US" sz="1600" spc="-1" strike="noStrike">
                <a:solidFill>
                  <a:srgbClr val="000000"/>
                </a:solidFill>
                <a:latin typeface="Times New Roman"/>
              </a:rPr>
              <a:t> = 0.3</a:t>
            </a:r>
            <a:endParaRPr b="0" lang="en-US" sz="1600" spc="-1" strike="noStrike">
              <a:solidFill>
                <a:srgbClr val="000000"/>
              </a:solidFill>
              <a:latin typeface="Times New Roman"/>
            </a:endParaRPr>
          </a:p>
        </p:txBody>
      </p:sp>
      <p:grpSp>
        <p:nvGrpSpPr>
          <p:cNvPr id="332" name=""/>
          <p:cNvGrpSpPr/>
          <p:nvPr/>
        </p:nvGrpSpPr>
        <p:grpSpPr>
          <a:xfrm>
            <a:off x="2538360" y="4289400"/>
            <a:ext cx="1366200" cy="498240"/>
            <a:chOff x="2538360" y="4289400"/>
            <a:chExt cx="1366200" cy="498240"/>
          </a:xfrm>
        </p:grpSpPr>
        <p:sp>
          <p:nvSpPr>
            <p:cNvPr id="333" name=""/>
            <p:cNvSpPr/>
            <p:nvPr/>
          </p:nvSpPr>
          <p:spPr>
            <a:xfrm>
              <a:off x="3219480" y="4295520"/>
              <a:ext cx="685080" cy="492120"/>
            </a:xfrm>
            <a:custGeom>
              <a:avLst/>
              <a:gdLst/>
              <a:ahLst/>
              <a:rect l="l" t="t" r="r" b="b"/>
              <a:pathLst>
                <a:path w="2566" h="990">
                  <a:moveTo>
                    <a:pt x="0" y="900"/>
                  </a:moveTo>
                  <a:lnTo>
                    <a:pt x="45" y="990"/>
                  </a:lnTo>
                  <a:lnTo>
                    <a:pt x="75" y="990"/>
                  </a:lnTo>
                  <a:lnTo>
                    <a:pt x="105" y="840"/>
                  </a:lnTo>
                  <a:lnTo>
                    <a:pt x="135" y="990"/>
                  </a:lnTo>
                  <a:lnTo>
                    <a:pt x="165" y="900"/>
                  </a:lnTo>
                  <a:lnTo>
                    <a:pt x="195" y="990"/>
                  </a:lnTo>
                  <a:lnTo>
                    <a:pt x="240" y="900"/>
                  </a:lnTo>
                  <a:lnTo>
                    <a:pt x="270" y="735"/>
                  </a:lnTo>
                  <a:lnTo>
                    <a:pt x="300" y="840"/>
                  </a:lnTo>
                  <a:lnTo>
                    <a:pt x="330" y="810"/>
                  </a:lnTo>
                  <a:lnTo>
                    <a:pt x="360" y="780"/>
                  </a:lnTo>
                  <a:lnTo>
                    <a:pt x="390" y="840"/>
                  </a:lnTo>
                  <a:lnTo>
                    <a:pt x="435" y="720"/>
                  </a:lnTo>
                  <a:lnTo>
                    <a:pt x="465" y="750"/>
                  </a:lnTo>
                  <a:lnTo>
                    <a:pt x="495" y="720"/>
                  </a:lnTo>
                  <a:lnTo>
                    <a:pt x="525" y="675"/>
                  </a:lnTo>
                  <a:lnTo>
                    <a:pt x="555" y="735"/>
                  </a:lnTo>
                  <a:lnTo>
                    <a:pt x="585" y="645"/>
                  </a:lnTo>
                  <a:lnTo>
                    <a:pt x="630" y="630"/>
                  </a:lnTo>
                  <a:lnTo>
                    <a:pt x="660" y="600"/>
                  </a:lnTo>
                  <a:lnTo>
                    <a:pt x="690" y="585"/>
                  </a:lnTo>
                  <a:lnTo>
                    <a:pt x="720" y="525"/>
                  </a:lnTo>
                  <a:lnTo>
                    <a:pt x="750" y="555"/>
                  </a:lnTo>
                  <a:lnTo>
                    <a:pt x="780" y="510"/>
                  </a:lnTo>
                  <a:lnTo>
                    <a:pt x="825" y="480"/>
                  </a:lnTo>
                  <a:lnTo>
                    <a:pt x="855" y="510"/>
                  </a:lnTo>
                  <a:lnTo>
                    <a:pt x="885" y="450"/>
                  </a:lnTo>
                  <a:lnTo>
                    <a:pt x="915" y="450"/>
                  </a:lnTo>
                  <a:lnTo>
                    <a:pt x="945" y="405"/>
                  </a:lnTo>
                  <a:lnTo>
                    <a:pt x="975" y="405"/>
                  </a:lnTo>
                  <a:lnTo>
                    <a:pt x="1020" y="390"/>
                  </a:lnTo>
                  <a:lnTo>
                    <a:pt x="1050" y="360"/>
                  </a:lnTo>
                  <a:lnTo>
                    <a:pt x="1080" y="330"/>
                  </a:lnTo>
                  <a:lnTo>
                    <a:pt x="1110" y="315"/>
                  </a:lnTo>
                  <a:lnTo>
                    <a:pt x="1140" y="300"/>
                  </a:lnTo>
                  <a:lnTo>
                    <a:pt x="1170" y="270"/>
                  </a:lnTo>
                  <a:lnTo>
                    <a:pt x="1215" y="255"/>
                  </a:lnTo>
                  <a:lnTo>
                    <a:pt x="1245" y="240"/>
                  </a:lnTo>
                  <a:lnTo>
                    <a:pt x="1275" y="210"/>
                  </a:lnTo>
                  <a:lnTo>
                    <a:pt x="1305" y="195"/>
                  </a:lnTo>
                  <a:lnTo>
                    <a:pt x="1335" y="180"/>
                  </a:lnTo>
                  <a:lnTo>
                    <a:pt x="1365" y="165"/>
                  </a:lnTo>
                  <a:lnTo>
                    <a:pt x="1410" y="150"/>
                  </a:lnTo>
                  <a:lnTo>
                    <a:pt x="1440" y="135"/>
                  </a:lnTo>
                  <a:lnTo>
                    <a:pt x="1470" y="105"/>
                  </a:lnTo>
                  <a:lnTo>
                    <a:pt x="1500" y="90"/>
                  </a:lnTo>
                  <a:lnTo>
                    <a:pt x="1530" y="60"/>
                  </a:lnTo>
                  <a:lnTo>
                    <a:pt x="1560" y="60"/>
                  </a:lnTo>
                  <a:lnTo>
                    <a:pt x="1605" y="45"/>
                  </a:lnTo>
                  <a:lnTo>
                    <a:pt x="1635" y="30"/>
                  </a:lnTo>
                  <a:lnTo>
                    <a:pt x="1665" y="15"/>
                  </a:lnTo>
                  <a:lnTo>
                    <a:pt x="1695" y="15"/>
                  </a:lnTo>
                  <a:lnTo>
                    <a:pt x="1725" y="0"/>
                  </a:lnTo>
                  <a:lnTo>
                    <a:pt x="1755" y="0"/>
                  </a:lnTo>
                  <a:lnTo>
                    <a:pt x="1801" y="15"/>
                  </a:lnTo>
                  <a:lnTo>
                    <a:pt x="1831" y="60"/>
                  </a:lnTo>
                  <a:lnTo>
                    <a:pt x="1861" y="165"/>
                  </a:lnTo>
                  <a:lnTo>
                    <a:pt x="1891" y="285"/>
                  </a:lnTo>
                  <a:lnTo>
                    <a:pt x="1921" y="405"/>
                  </a:lnTo>
                  <a:lnTo>
                    <a:pt x="1951" y="510"/>
                  </a:lnTo>
                  <a:lnTo>
                    <a:pt x="1996" y="660"/>
                  </a:lnTo>
                  <a:lnTo>
                    <a:pt x="2026" y="735"/>
                  </a:lnTo>
                  <a:lnTo>
                    <a:pt x="2056" y="840"/>
                  </a:lnTo>
                  <a:lnTo>
                    <a:pt x="2086" y="900"/>
                  </a:lnTo>
                  <a:lnTo>
                    <a:pt x="2116" y="900"/>
                  </a:lnTo>
                  <a:lnTo>
                    <a:pt x="2146" y="900"/>
                  </a:lnTo>
                  <a:lnTo>
                    <a:pt x="2191" y="840"/>
                  </a:lnTo>
                  <a:lnTo>
                    <a:pt x="2221" y="990"/>
                  </a:lnTo>
                  <a:lnTo>
                    <a:pt x="2251" y="990"/>
                  </a:lnTo>
                  <a:lnTo>
                    <a:pt x="2281" y="840"/>
                  </a:lnTo>
                  <a:lnTo>
                    <a:pt x="2311" y="990"/>
                  </a:lnTo>
                  <a:lnTo>
                    <a:pt x="2341" y="990"/>
                  </a:lnTo>
                  <a:lnTo>
                    <a:pt x="2371" y="990"/>
                  </a:lnTo>
                  <a:lnTo>
                    <a:pt x="2416" y="990"/>
                  </a:lnTo>
                  <a:lnTo>
                    <a:pt x="2446" y="990"/>
                  </a:lnTo>
                  <a:lnTo>
                    <a:pt x="2476" y="990"/>
                  </a:lnTo>
                  <a:lnTo>
                    <a:pt x="2506" y="990"/>
                  </a:lnTo>
                  <a:lnTo>
                    <a:pt x="2536" y="990"/>
                  </a:lnTo>
                  <a:lnTo>
                    <a:pt x="2566" y="990"/>
                  </a:lnTo>
                </a:path>
              </a:pathLst>
            </a:custGeom>
            <a:noFill/>
            <a:ln w="255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38360" y="4289400"/>
              <a:ext cx="685080" cy="491760"/>
            </a:xfrm>
            <a:custGeom>
              <a:avLst/>
              <a:gdLst/>
              <a:ahLst/>
              <a:rect l="l" t="t" r="r" b="b"/>
              <a:pathLst>
                <a:path w="2566" h="990">
                  <a:moveTo>
                    <a:pt x="0" y="900"/>
                  </a:moveTo>
                  <a:lnTo>
                    <a:pt x="45" y="990"/>
                  </a:lnTo>
                  <a:lnTo>
                    <a:pt x="75" y="990"/>
                  </a:lnTo>
                  <a:lnTo>
                    <a:pt x="105" y="840"/>
                  </a:lnTo>
                  <a:lnTo>
                    <a:pt x="135" y="990"/>
                  </a:lnTo>
                  <a:lnTo>
                    <a:pt x="165" y="900"/>
                  </a:lnTo>
                  <a:lnTo>
                    <a:pt x="195" y="990"/>
                  </a:lnTo>
                  <a:lnTo>
                    <a:pt x="240" y="900"/>
                  </a:lnTo>
                  <a:lnTo>
                    <a:pt x="270" y="735"/>
                  </a:lnTo>
                  <a:lnTo>
                    <a:pt x="300" y="840"/>
                  </a:lnTo>
                  <a:lnTo>
                    <a:pt x="330" y="810"/>
                  </a:lnTo>
                  <a:lnTo>
                    <a:pt x="360" y="780"/>
                  </a:lnTo>
                  <a:lnTo>
                    <a:pt x="390" y="840"/>
                  </a:lnTo>
                  <a:lnTo>
                    <a:pt x="435" y="720"/>
                  </a:lnTo>
                  <a:lnTo>
                    <a:pt x="465" y="750"/>
                  </a:lnTo>
                  <a:lnTo>
                    <a:pt x="495" y="720"/>
                  </a:lnTo>
                  <a:lnTo>
                    <a:pt x="525" y="675"/>
                  </a:lnTo>
                  <a:lnTo>
                    <a:pt x="555" y="735"/>
                  </a:lnTo>
                  <a:lnTo>
                    <a:pt x="585" y="645"/>
                  </a:lnTo>
                  <a:lnTo>
                    <a:pt x="630" y="630"/>
                  </a:lnTo>
                  <a:lnTo>
                    <a:pt x="660" y="600"/>
                  </a:lnTo>
                  <a:lnTo>
                    <a:pt x="690" y="585"/>
                  </a:lnTo>
                  <a:lnTo>
                    <a:pt x="720" y="525"/>
                  </a:lnTo>
                  <a:lnTo>
                    <a:pt x="750" y="555"/>
                  </a:lnTo>
                  <a:lnTo>
                    <a:pt x="780" y="510"/>
                  </a:lnTo>
                  <a:lnTo>
                    <a:pt x="825" y="480"/>
                  </a:lnTo>
                  <a:lnTo>
                    <a:pt x="855" y="510"/>
                  </a:lnTo>
                  <a:lnTo>
                    <a:pt x="885" y="450"/>
                  </a:lnTo>
                  <a:lnTo>
                    <a:pt x="915" y="450"/>
                  </a:lnTo>
                  <a:lnTo>
                    <a:pt x="945" y="405"/>
                  </a:lnTo>
                  <a:lnTo>
                    <a:pt x="975" y="405"/>
                  </a:lnTo>
                  <a:lnTo>
                    <a:pt x="1020" y="390"/>
                  </a:lnTo>
                  <a:lnTo>
                    <a:pt x="1050" y="360"/>
                  </a:lnTo>
                  <a:lnTo>
                    <a:pt x="1080" y="330"/>
                  </a:lnTo>
                  <a:lnTo>
                    <a:pt x="1110" y="315"/>
                  </a:lnTo>
                  <a:lnTo>
                    <a:pt x="1140" y="300"/>
                  </a:lnTo>
                  <a:lnTo>
                    <a:pt x="1170" y="270"/>
                  </a:lnTo>
                  <a:lnTo>
                    <a:pt x="1215" y="255"/>
                  </a:lnTo>
                  <a:lnTo>
                    <a:pt x="1245" y="240"/>
                  </a:lnTo>
                  <a:lnTo>
                    <a:pt x="1275" y="210"/>
                  </a:lnTo>
                  <a:lnTo>
                    <a:pt x="1305" y="195"/>
                  </a:lnTo>
                  <a:lnTo>
                    <a:pt x="1335" y="180"/>
                  </a:lnTo>
                  <a:lnTo>
                    <a:pt x="1365" y="165"/>
                  </a:lnTo>
                  <a:lnTo>
                    <a:pt x="1410" y="150"/>
                  </a:lnTo>
                  <a:lnTo>
                    <a:pt x="1440" y="135"/>
                  </a:lnTo>
                  <a:lnTo>
                    <a:pt x="1470" y="105"/>
                  </a:lnTo>
                  <a:lnTo>
                    <a:pt x="1500" y="90"/>
                  </a:lnTo>
                  <a:lnTo>
                    <a:pt x="1530" y="60"/>
                  </a:lnTo>
                  <a:lnTo>
                    <a:pt x="1560" y="60"/>
                  </a:lnTo>
                  <a:lnTo>
                    <a:pt x="1605" y="45"/>
                  </a:lnTo>
                  <a:lnTo>
                    <a:pt x="1635" y="30"/>
                  </a:lnTo>
                  <a:lnTo>
                    <a:pt x="1665" y="15"/>
                  </a:lnTo>
                  <a:lnTo>
                    <a:pt x="1695" y="15"/>
                  </a:lnTo>
                  <a:lnTo>
                    <a:pt x="1725" y="0"/>
                  </a:lnTo>
                  <a:lnTo>
                    <a:pt x="1755" y="0"/>
                  </a:lnTo>
                  <a:lnTo>
                    <a:pt x="1801" y="15"/>
                  </a:lnTo>
                  <a:lnTo>
                    <a:pt x="1831" y="60"/>
                  </a:lnTo>
                  <a:lnTo>
                    <a:pt x="1861" y="165"/>
                  </a:lnTo>
                  <a:lnTo>
                    <a:pt x="1891" y="285"/>
                  </a:lnTo>
                  <a:lnTo>
                    <a:pt x="1921" y="405"/>
                  </a:lnTo>
                  <a:lnTo>
                    <a:pt x="1951" y="510"/>
                  </a:lnTo>
                  <a:lnTo>
                    <a:pt x="1996" y="660"/>
                  </a:lnTo>
                  <a:lnTo>
                    <a:pt x="2026" y="735"/>
                  </a:lnTo>
                  <a:lnTo>
                    <a:pt x="2056" y="840"/>
                  </a:lnTo>
                  <a:lnTo>
                    <a:pt x="2086" y="900"/>
                  </a:lnTo>
                  <a:lnTo>
                    <a:pt x="2116" y="900"/>
                  </a:lnTo>
                  <a:lnTo>
                    <a:pt x="2146" y="900"/>
                  </a:lnTo>
                  <a:lnTo>
                    <a:pt x="2191" y="840"/>
                  </a:lnTo>
                  <a:lnTo>
                    <a:pt x="2221" y="990"/>
                  </a:lnTo>
                  <a:lnTo>
                    <a:pt x="2251" y="990"/>
                  </a:lnTo>
                  <a:lnTo>
                    <a:pt x="2281" y="840"/>
                  </a:lnTo>
                  <a:lnTo>
                    <a:pt x="2311" y="990"/>
                  </a:lnTo>
                  <a:lnTo>
                    <a:pt x="2341" y="990"/>
                  </a:lnTo>
                  <a:lnTo>
                    <a:pt x="2371" y="990"/>
                  </a:lnTo>
                  <a:lnTo>
                    <a:pt x="2416" y="990"/>
                  </a:lnTo>
                  <a:lnTo>
                    <a:pt x="2446" y="990"/>
                  </a:lnTo>
                  <a:lnTo>
                    <a:pt x="2476" y="990"/>
                  </a:lnTo>
                  <a:lnTo>
                    <a:pt x="2506" y="990"/>
                  </a:lnTo>
                  <a:lnTo>
                    <a:pt x="2536" y="990"/>
                  </a:lnTo>
                  <a:lnTo>
                    <a:pt x="2566" y="990"/>
                  </a:lnTo>
                </a:path>
              </a:pathLst>
            </a:custGeom>
            <a:noFill/>
            <a:ln w="255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5" name=""/>
          <p:cNvSpPr/>
          <p:nvPr/>
        </p:nvSpPr>
        <p:spPr>
          <a:xfrm>
            <a:off x="192240" y="3467160"/>
            <a:ext cx="2157120" cy="170028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196920" y="3947760"/>
            <a:ext cx="2109240" cy="1049400"/>
            <a:chOff x="196920" y="3947760"/>
            <a:chExt cx="2109240" cy="1049400"/>
          </a:xfrm>
        </p:grpSpPr>
        <p:sp>
          <p:nvSpPr>
            <p:cNvPr id="337" name=""/>
            <p:cNvSpPr/>
            <p:nvPr/>
          </p:nvSpPr>
          <p:spPr>
            <a:xfrm>
              <a:off x="347040" y="4154760"/>
              <a:ext cx="948960" cy="777600"/>
            </a:xfrm>
            <a:custGeom>
              <a:avLst/>
              <a:gdLst/>
              <a:ahLst/>
              <a:rect l="l" t="t" r="r" b="b"/>
              <a:pathLst>
                <a:path w="878" h="778">
                  <a:moveTo>
                    <a:pt x="0" y="535"/>
                  </a:moveTo>
                  <a:lnTo>
                    <a:pt x="5" y="550"/>
                  </a:lnTo>
                  <a:lnTo>
                    <a:pt x="13" y="563"/>
                  </a:lnTo>
                  <a:lnTo>
                    <a:pt x="18" y="576"/>
                  </a:lnTo>
                  <a:lnTo>
                    <a:pt x="24" y="584"/>
                  </a:lnTo>
                  <a:lnTo>
                    <a:pt x="34" y="597"/>
                  </a:lnTo>
                  <a:lnTo>
                    <a:pt x="39" y="607"/>
                  </a:lnTo>
                  <a:lnTo>
                    <a:pt x="47" y="618"/>
                  </a:lnTo>
                  <a:lnTo>
                    <a:pt x="52" y="625"/>
                  </a:lnTo>
                  <a:lnTo>
                    <a:pt x="62" y="625"/>
                  </a:lnTo>
                  <a:lnTo>
                    <a:pt x="67" y="625"/>
                  </a:lnTo>
                  <a:lnTo>
                    <a:pt x="75" y="623"/>
                  </a:lnTo>
                  <a:lnTo>
                    <a:pt x="80" y="615"/>
                  </a:lnTo>
                  <a:lnTo>
                    <a:pt x="86" y="607"/>
                  </a:lnTo>
                  <a:lnTo>
                    <a:pt x="96" y="607"/>
                  </a:lnTo>
                  <a:lnTo>
                    <a:pt x="101" y="607"/>
                  </a:lnTo>
                  <a:lnTo>
                    <a:pt x="109" y="605"/>
                  </a:lnTo>
                  <a:lnTo>
                    <a:pt x="114" y="600"/>
                  </a:lnTo>
                  <a:lnTo>
                    <a:pt x="124" y="597"/>
                  </a:lnTo>
                  <a:lnTo>
                    <a:pt x="129" y="592"/>
                  </a:lnTo>
                  <a:lnTo>
                    <a:pt x="140" y="589"/>
                  </a:lnTo>
                  <a:lnTo>
                    <a:pt x="142" y="584"/>
                  </a:lnTo>
                  <a:lnTo>
                    <a:pt x="147" y="581"/>
                  </a:lnTo>
                  <a:lnTo>
                    <a:pt x="158" y="576"/>
                  </a:lnTo>
                  <a:lnTo>
                    <a:pt x="163" y="569"/>
                  </a:lnTo>
                  <a:lnTo>
                    <a:pt x="173" y="550"/>
                  </a:lnTo>
                  <a:lnTo>
                    <a:pt x="176" y="535"/>
                  </a:lnTo>
                  <a:lnTo>
                    <a:pt x="186" y="519"/>
                  </a:lnTo>
                  <a:lnTo>
                    <a:pt x="191" y="506"/>
                  </a:lnTo>
                  <a:lnTo>
                    <a:pt x="202" y="491"/>
                  </a:lnTo>
                  <a:lnTo>
                    <a:pt x="207" y="475"/>
                  </a:lnTo>
                  <a:lnTo>
                    <a:pt x="209" y="468"/>
                  </a:lnTo>
                  <a:lnTo>
                    <a:pt x="220" y="465"/>
                  </a:lnTo>
                  <a:lnTo>
                    <a:pt x="225" y="460"/>
                  </a:lnTo>
                  <a:lnTo>
                    <a:pt x="235" y="460"/>
                  </a:lnTo>
                  <a:lnTo>
                    <a:pt x="240" y="468"/>
                  </a:lnTo>
                  <a:lnTo>
                    <a:pt x="248" y="473"/>
                  </a:lnTo>
                  <a:lnTo>
                    <a:pt x="253" y="473"/>
                  </a:lnTo>
                  <a:lnTo>
                    <a:pt x="264" y="460"/>
                  </a:lnTo>
                  <a:lnTo>
                    <a:pt x="269" y="457"/>
                  </a:lnTo>
                  <a:lnTo>
                    <a:pt x="274" y="450"/>
                  </a:lnTo>
                  <a:lnTo>
                    <a:pt x="282" y="450"/>
                  </a:lnTo>
                  <a:lnTo>
                    <a:pt x="287" y="444"/>
                  </a:lnTo>
                  <a:lnTo>
                    <a:pt x="297" y="437"/>
                  </a:lnTo>
                  <a:lnTo>
                    <a:pt x="302" y="426"/>
                  </a:lnTo>
                  <a:lnTo>
                    <a:pt x="310" y="416"/>
                  </a:lnTo>
                  <a:lnTo>
                    <a:pt x="315" y="395"/>
                  </a:lnTo>
                  <a:lnTo>
                    <a:pt x="326" y="377"/>
                  </a:lnTo>
                  <a:lnTo>
                    <a:pt x="331" y="359"/>
                  </a:lnTo>
                  <a:lnTo>
                    <a:pt x="341" y="338"/>
                  </a:lnTo>
                  <a:lnTo>
                    <a:pt x="344" y="325"/>
                  </a:lnTo>
                  <a:lnTo>
                    <a:pt x="349" y="302"/>
                  </a:lnTo>
                  <a:lnTo>
                    <a:pt x="359" y="279"/>
                  </a:lnTo>
                  <a:lnTo>
                    <a:pt x="364" y="256"/>
                  </a:lnTo>
                  <a:lnTo>
                    <a:pt x="375" y="235"/>
                  </a:lnTo>
                  <a:lnTo>
                    <a:pt x="377" y="214"/>
                  </a:lnTo>
                  <a:lnTo>
                    <a:pt x="388" y="188"/>
                  </a:lnTo>
                  <a:lnTo>
                    <a:pt x="393" y="165"/>
                  </a:lnTo>
                  <a:lnTo>
                    <a:pt x="403" y="137"/>
                  </a:lnTo>
                  <a:lnTo>
                    <a:pt x="408" y="113"/>
                  </a:lnTo>
                  <a:lnTo>
                    <a:pt x="411" y="87"/>
                  </a:lnTo>
                  <a:lnTo>
                    <a:pt x="421" y="67"/>
                  </a:lnTo>
                  <a:lnTo>
                    <a:pt x="426" y="54"/>
                  </a:lnTo>
                  <a:lnTo>
                    <a:pt x="437" y="49"/>
                  </a:lnTo>
                  <a:lnTo>
                    <a:pt x="442" y="33"/>
                  </a:lnTo>
                  <a:lnTo>
                    <a:pt x="450" y="25"/>
                  </a:lnTo>
                  <a:lnTo>
                    <a:pt x="455" y="15"/>
                  </a:lnTo>
                  <a:lnTo>
                    <a:pt x="465" y="5"/>
                  </a:lnTo>
                  <a:lnTo>
                    <a:pt x="470" y="0"/>
                  </a:lnTo>
                  <a:lnTo>
                    <a:pt x="475" y="0"/>
                  </a:lnTo>
                  <a:lnTo>
                    <a:pt x="483" y="5"/>
                  </a:lnTo>
                  <a:lnTo>
                    <a:pt x="488" y="7"/>
                  </a:lnTo>
                  <a:lnTo>
                    <a:pt x="499" y="15"/>
                  </a:lnTo>
                  <a:lnTo>
                    <a:pt x="504" y="20"/>
                  </a:lnTo>
                  <a:lnTo>
                    <a:pt x="512" y="20"/>
                  </a:lnTo>
                  <a:lnTo>
                    <a:pt x="517" y="23"/>
                  </a:lnTo>
                  <a:lnTo>
                    <a:pt x="527" y="33"/>
                  </a:lnTo>
                  <a:lnTo>
                    <a:pt x="532" y="46"/>
                  </a:lnTo>
                  <a:lnTo>
                    <a:pt x="537" y="56"/>
                  </a:lnTo>
                  <a:lnTo>
                    <a:pt x="545" y="64"/>
                  </a:lnTo>
                  <a:lnTo>
                    <a:pt x="550" y="67"/>
                  </a:lnTo>
                  <a:lnTo>
                    <a:pt x="561" y="72"/>
                  </a:lnTo>
                  <a:lnTo>
                    <a:pt x="566" y="67"/>
                  </a:lnTo>
                  <a:lnTo>
                    <a:pt x="576" y="64"/>
                  </a:lnTo>
                  <a:lnTo>
                    <a:pt x="579" y="64"/>
                  </a:lnTo>
                  <a:lnTo>
                    <a:pt x="589" y="67"/>
                  </a:lnTo>
                  <a:lnTo>
                    <a:pt x="594" y="67"/>
                  </a:lnTo>
                  <a:lnTo>
                    <a:pt x="599" y="62"/>
                  </a:lnTo>
                  <a:lnTo>
                    <a:pt x="610" y="54"/>
                  </a:lnTo>
                  <a:lnTo>
                    <a:pt x="612" y="49"/>
                  </a:lnTo>
                  <a:lnTo>
                    <a:pt x="623" y="49"/>
                  </a:lnTo>
                  <a:lnTo>
                    <a:pt x="628" y="49"/>
                  </a:lnTo>
                  <a:lnTo>
                    <a:pt x="638" y="46"/>
                  </a:lnTo>
                  <a:lnTo>
                    <a:pt x="643" y="41"/>
                  </a:lnTo>
                  <a:lnTo>
                    <a:pt x="651" y="33"/>
                  </a:lnTo>
                  <a:lnTo>
                    <a:pt x="656" y="25"/>
                  </a:lnTo>
                  <a:lnTo>
                    <a:pt x="666" y="20"/>
                  </a:lnTo>
                  <a:lnTo>
                    <a:pt x="672" y="15"/>
                  </a:lnTo>
                  <a:lnTo>
                    <a:pt x="677" y="15"/>
                  </a:lnTo>
                  <a:lnTo>
                    <a:pt x="685" y="15"/>
                  </a:lnTo>
                  <a:lnTo>
                    <a:pt x="690" y="23"/>
                  </a:lnTo>
                  <a:lnTo>
                    <a:pt x="700" y="25"/>
                  </a:lnTo>
                  <a:lnTo>
                    <a:pt x="705" y="38"/>
                  </a:lnTo>
                  <a:lnTo>
                    <a:pt x="713" y="54"/>
                  </a:lnTo>
                  <a:lnTo>
                    <a:pt x="718" y="72"/>
                  </a:lnTo>
                  <a:lnTo>
                    <a:pt x="728" y="98"/>
                  </a:lnTo>
                  <a:lnTo>
                    <a:pt x="734" y="124"/>
                  </a:lnTo>
                  <a:lnTo>
                    <a:pt x="739" y="162"/>
                  </a:lnTo>
                  <a:lnTo>
                    <a:pt x="749" y="201"/>
                  </a:lnTo>
                  <a:lnTo>
                    <a:pt x="752" y="235"/>
                  </a:lnTo>
                  <a:lnTo>
                    <a:pt x="762" y="269"/>
                  </a:lnTo>
                  <a:lnTo>
                    <a:pt x="767" y="305"/>
                  </a:lnTo>
                  <a:lnTo>
                    <a:pt x="778" y="338"/>
                  </a:lnTo>
                  <a:lnTo>
                    <a:pt x="783" y="375"/>
                  </a:lnTo>
                  <a:lnTo>
                    <a:pt x="790" y="408"/>
                  </a:lnTo>
                  <a:lnTo>
                    <a:pt x="796" y="434"/>
                  </a:lnTo>
                  <a:lnTo>
                    <a:pt x="801" y="460"/>
                  </a:lnTo>
                  <a:lnTo>
                    <a:pt x="811" y="483"/>
                  </a:lnTo>
                  <a:lnTo>
                    <a:pt x="816" y="517"/>
                  </a:lnTo>
                  <a:lnTo>
                    <a:pt x="824" y="548"/>
                  </a:lnTo>
                  <a:lnTo>
                    <a:pt x="829" y="584"/>
                  </a:lnTo>
                  <a:lnTo>
                    <a:pt x="839" y="618"/>
                  </a:lnTo>
                  <a:lnTo>
                    <a:pt x="845" y="646"/>
                  </a:lnTo>
                  <a:lnTo>
                    <a:pt x="852" y="680"/>
                  </a:lnTo>
                  <a:lnTo>
                    <a:pt x="858" y="713"/>
                  </a:lnTo>
                  <a:lnTo>
                    <a:pt x="863" y="737"/>
                  </a:lnTo>
                  <a:lnTo>
                    <a:pt x="873" y="757"/>
                  </a:lnTo>
                  <a:lnTo>
                    <a:pt x="878" y="778"/>
                  </a:lnTo>
                </a:path>
              </a:pathLst>
            </a:custGeom>
            <a:noFill/>
            <a:ln cap="rnd" w="23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296000" y="4167000"/>
              <a:ext cx="954000" cy="775440"/>
            </a:xfrm>
            <a:custGeom>
              <a:avLst/>
              <a:gdLst/>
              <a:ahLst/>
              <a:rect l="l" t="t" r="r" b="b"/>
              <a:pathLst>
                <a:path w="883" h="776">
                  <a:moveTo>
                    <a:pt x="0" y="766"/>
                  </a:moveTo>
                  <a:lnTo>
                    <a:pt x="8" y="776"/>
                  </a:lnTo>
                  <a:lnTo>
                    <a:pt x="13" y="776"/>
                  </a:lnTo>
                  <a:lnTo>
                    <a:pt x="23" y="774"/>
                  </a:lnTo>
                  <a:lnTo>
                    <a:pt x="29" y="766"/>
                  </a:lnTo>
                  <a:lnTo>
                    <a:pt x="39" y="753"/>
                  </a:lnTo>
                  <a:lnTo>
                    <a:pt x="42" y="743"/>
                  </a:lnTo>
                  <a:lnTo>
                    <a:pt x="47" y="732"/>
                  </a:lnTo>
                  <a:lnTo>
                    <a:pt x="57" y="717"/>
                  </a:lnTo>
                  <a:lnTo>
                    <a:pt x="62" y="701"/>
                  </a:lnTo>
                  <a:lnTo>
                    <a:pt x="73" y="691"/>
                  </a:lnTo>
                  <a:lnTo>
                    <a:pt x="75" y="676"/>
                  </a:lnTo>
                  <a:lnTo>
                    <a:pt x="85" y="660"/>
                  </a:lnTo>
                  <a:lnTo>
                    <a:pt x="91" y="642"/>
                  </a:lnTo>
                  <a:lnTo>
                    <a:pt x="101" y="621"/>
                  </a:lnTo>
                  <a:lnTo>
                    <a:pt x="106" y="611"/>
                  </a:lnTo>
                  <a:lnTo>
                    <a:pt x="114" y="593"/>
                  </a:lnTo>
                  <a:lnTo>
                    <a:pt x="119" y="577"/>
                  </a:lnTo>
                  <a:lnTo>
                    <a:pt x="124" y="559"/>
                  </a:lnTo>
                  <a:lnTo>
                    <a:pt x="134" y="536"/>
                  </a:lnTo>
                  <a:lnTo>
                    <a:pt x="140" y="513"/>
                  </a:lnTo>
                  <a:lnTo>
                    <a:pt x="147" y="482"/>
                  </a:lnTo>
                  <a:lnTo>
                    <a:pt x="153" y="448"/>
                  </a:lnTo>
                  <a:lnTo>
                    <a:pt x="163" y="414"/>
                  </a:lnTo>
                  <a:lnTo>
                    <a:pt x="168" y="386"/>
                  </a:lnTo>
                  <a:lnTo>
                    <a:pt x="176" y="357"/>
                  </a:lnTo>
                  <a:lnTo>
                    <a:pt x="181" y="332"/>
                  </a:lnTo>
                  <a:lnTo>
                    <a:pt x="186" y="316"/>
                  </a:lnTo>
                  <a:lnTo>
                    <a:pt x="196" y="306"/>
                  </a:lnTo>
                  <a:lnTo>
                    <a:pt x="202" y="300"/>
                  </a:lnTo>
                  <a:lnTo>
                    <a:pt x="209" y="295"/>
                  </a:lnTo>
                  <a:lnTo>
                    <a:pt x="215" y="288"/>
                  </a:lnTo>
                  <a:lnTo>
                    <a:pt x="225" y="275"/>
                  </a:lnTo>
                  <a:lnTo>
                    <a:pt x="230" y="272"/>
                  </a:lnTo>
                  <a:lnTo>
                    <a:pt x="240" y="259"/>
                  </a:lnTo>
                  <a:lnTo>
                    <a:pt x="243" y="259"/>
                  </a:lnTo>
                  <a:lnTo>
                    <a:pt x="248" y="257"/>
                  </a:lnTo>
                  <a:lnTo>
                    <a:pt x="258" y="259"/>
                  </a:lnTo>
                  <a:lnTo>
                    <a:pt x="264" y="267"/>
                  </a:lnTo>
                  <a:lnTo>
                    <a:pt x="274" y="280"/>
                  </a:lnTo>
                  <a:lnTo>
                    <a:pt x="277" y="275"/>
                  </a:lnTo>
                  <a:lnTo>
                    <a:pt x="287" y="272"/>
                  </a:lnTo>
                  <a:lnTo>
                    <a:pt x="292" y="259"/>
                  </a:lnTo>
                  <a:lnTo>
                    <a:pt x="302" y="259"/>
                  </a:lnTo>
                  <a:lnTo>
                    <a:pt x="307" y="259"/>
                  </a:lnTo>
                  <a:lnTo>
                    <a:pt x="313" y="259"/>
                  </a:lnTo>
                  <a:lnTo>
                    <a:pt x="320" y="267"/>
                  </a:lnTo>
                  <a:lnTo>
                    <a:pt x="326" y="282"/>
                  </a:lnTo>
                  <a:lnTo>
                    <a:pt x="336" y="298"/>
                  </a:lnTo>
                  <a:lnTo>
                    <a:pt x="341" y="313"/>
                  </a:lnTo>
                  <a:lnTo>
                    <a:pt x="349" y="324"/>
                  </a:lnTo>
                  <a:lnTo>
                    <a:pt x="354" y="332"/>
                  </a:lnTo>
                  <a:lnTo>
                    <a:pt x="364" y="339"/>
                  </a:lnTo>
                  <a:lnTo>
                    <a:pt x="369" y="344"/>
                  </a:lnTo>
                  <a:lnTo>
                    <a:pt x="375" y="344"/>
                  </a:lnTo>
                  <a:lnTo>
                    <a:pt x="382" y="347"/>
                  </a:lnTo>
                  <a:lnTo>
                    <a:pt x="388" y="357"/>
                  </a:lnTo>
                  <a:lnTo>
                    <a:pt x="398" y="370"/>
                  </a:lnTo>
                  <a:lnTo>
                    <a:pt x="403" y="381"/>
                  </a:lnTo>
                  <a:lnTo>
                    <a:pt x="413" y="391"/>
                  </a:lnTo>
                  <a:lnTo>
                    <a:pt x="416" y="399"/>
                  </a:lnTo>
                  <a:lnTo>
                    <a:pt x="426" y="412"/>
                  </a:lnTo>
                  <a:lnTo>
                    <a:pt x="431" y="422"/>
                  </a:lnTo>
                  <a:lnTo>
                    <a:pt x="437" y="430"/>
                  </a:lnTo>
                  <a:lnTo>
                    <a:pt x="447" y="445"/>
                  </a:lnTo>
                  <a:lnTo>
                    <a:pt x="450" y="469"/>
                  </a:lnTo>
                  <a:lnTo>
                    <a:pt x="460" y="497"/>
                  </a:lnTo>
                  <a:lnTo>
                    <a:pt x="465" y="528"/>
                  </a:lnTo>
                  <a:lnTo>
                    <a:pt x="475" y="559"/>
                  </a:lnTo>
                  <a:lnTo>
                    <a:pt x="480" y="585"/>
                  </a:lnTo>
                  <a:lnTo>
                    <a:pt x="488" y="611"/>
                  </a:lnTo>
                  <a:lnTo>
                    <a:pt x="493" y="626"/>
                  </a:lnTo>
                  <a:lnTo>
                    <a:pt x="504" y="637"/>
                  </a:lnTo>
                  <a:lnTo>
                    <a:pt x="509" y="650"/>
                  </a:lnTo>
                  <a:lnTo>
                    <a:pt x="514" y="663"/>
                  </a:lnTo>
                  <a:lnTo>
                    <a:pt x="522" y="686"/>
                  </a:lnTo>
                  <a:lnTo>
                    <a:pt x="527" y="709"/>
                  </a:lnTo>
                  <a:lnTo>
                    <a:pt x="537" y="720"/>
                  </a:lnTo>
                  <a:lnTo>
                    <a:pt x="542" y="740"/>
                  </a:lnTo>
                  <a:lnTo>
                    <a:pt x="550" y="753"/>
                  </a:lnTo>
                  <a:lnTo>
                    <a:pt x="555" y="766"/>
                  </a:lnTo>
                  <a:lnTo>
                    <a:pt x="566" y="774"/>
                  </a:lnTo>
                  <a:lnTo>
                    <a:pt x="571" y="774"/>
                  </a:lnTo>
                  <a:lnTo>
                    <a:pt x="576" y="766"/>
                  </a:lnTo>
                  <a:lnTo>
                    <a:pt x="584" y="753"/>
                  </a:lnTo>
                  <a:lnTo>
                    <a:pt x="589" y="751"/>
                  </a:lnTo>
                  <a:lnTo>
                    <a:pt x="599" y="740"/>
                  </a:lnTo>
                  <a:lnTo>
                    <a:pt x="604" y="727"/>
                  </a:lnTo>
                  <a:lnTo>
                    <a:pt x="615" y="717"/>
                  </a:lnTo>
                  <a:lnTo>
                    <a:pt x="617" y="694"/>
                  </a:lnTo>
                  <a:lnTo>
                    <a:pt x="628" y="663"/>
                  </a:lnTo>
                  <a:lnTo>
                    <a:pt x="633" y="626"/>
                  </a:lnTo>
                  <a:lnTo>
                    <a:pt x="638" y="588"/>
                  </a:lnTo>
                  <a:lnTo>
                    <a:pt x="648" y="554"/>
                  </a:lnTo>
                  <a:lnTo>
                    <a:pt x="653" y="518"/>
                  </a:lnTo>
                  <a:lnTo>
                    <a:pt x="661" y="482"/>
                  </a:lnTo>
                  <a:lnTo>
                    <a:pt x="666" y="453"/>
                  </a:lnTo>
                  <a:lnTo>
                    <a:pt x="677" y="427"/>
                  </a:lnTo>
                  <a:lnTo>
                    <a:pt x="682" y="396"/>
                  </a:lnTo>
                  <a:lnTo>
                    <a:pt x="690" y="357"/>
                  </a:lnTo>
                  <a:lnTo>
                    <a:pt x="695" y="316"/>
                  </a:lnTo>
                  <a:lnTo>
                    <a:pt x="700" y="275"/>
                  </a:lnTo>
                  <a:lnTo>
                    <a:pt x="710" y="241"/>
                  </a:lnTo>
                  <a:lnTo>
                    <a:pt x="715" y="207"/>
                  </a:lnTo>
                  <a:lnTo>
                    <a:pt x="723" y="174"/>
                  </a:lnTo>
                  <a:lnTo>
                    <a:pt x="728" y="143"/>
                  </a:lnTo>
                  <a:lnTo>
                    <a:pt x="739" y="117"/>
                  </a:lnTo>
                  <a:lnTo>
                    <a:pt x="744" y="91"/>
                  </a:lnTo>
                  <a:lnTo>
                    <a:pt x="754" y="75"/>
                  </a:lnTo>
                  <a:lnTo>
                    <a:pt x="757" y="60"/>
                  </a:lnTo>
                  <a:lnTo>
                    <a:pt x="762" y="44"/>
                  </a:lnTo>
                  <a:lnTo>
                    <a:pt x="772" y="26"/>
                  </a:lnTo>
                  <a:lnTo>
                    <a:pt x="777" y="16"/>
                  </a:lnTo>
                  <a:lnTo>
                    <a:pt x="788" y="3"/>
                  </a:lnTo>
                  <a:lnTo>
                    <a:pt x="790" y="0"/>
                  </a:lnTo>
                  <a:lnTo>
                    <a:pt x="801" y="0"/>
                  </a:lnTo>
                  <a:lnTo>
                    <a:pt x="806" y="8"/>
                  </a:lnTo>
                  <a:lnTo>
                    <a:pt x="816" y="11"/>
                  </a:lnTo>
                  <a:lnTo>
                    <a:pt x="821" y="8"/>
                  </a:lnTo>
                  <a:lnTo>
                    <a:pt x="829" y="16"/>
                  </a:lnTo>
                  <a:lnTo>
                    <a:pt x="834" y="29"/>
                  </a:lnTo>
                  <a:lnTo>
                    <a:pt x="839" y="44"/>
                  </a:lnTo>
                  <a:lnTo>
                    <a:pt x="850" y="60"/>
                  </a:lnTo>
                  <a:lnTo>
                    <a:pt x="855" y="83"/>
                  </a:lnTo>
                  <a:lnTo>
                    <a:pt x="863" y="106"/>
                  </a:lnTo>
                  <a:lnTo>
                    <a:pt x="868" y="125"/>
                  </a:lnTo>
                  <a:lnTo>
                    <a:pt x="878" y="148"/>
                  </a:lnTo>
                  <a:lnTo>
                    <a:pt x="883" y="169"/>
                  </a:lnTo>
                </a:path>
              </a:pathLst>
            </a:custGeom>
            <a:noFill/>
            <a:ln cap="rnd" w="23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72960" y="4077000"/>
              <a:ext cx="947520" cy="904680"/>
            </a:xfrm>
            <a:custGeom>
              <a:avLst/>
              <a:gdLst/>
              <a:ahLst/>
              <a:rect l="l" t="t" r="r" b="b"/>
              <a:pathLst>
                <a:path w="877" h="905">
                  <a:moveTo>
                    <a:pt x="0" y="905"/>
                  </a:moveTo>
                  <a:lnTo>
                    <a:pt x="5" y="890"/>
                  </a:lnTo>
                  <a:lnTo>
                    <a:pt x="12" y="877"/>
                  </a:lnTo>
                  <a:lnTo>
                    <a:pt x="18" y="866"/>
                  </a:lnTo>
                  <a:lnTo>
                    <a:pt x="23" y="853"/>
                  </a:lnTo>
                  <a:lnTo>
                    <a:pt x="33" y="838"/>
                  </a:lnTo>
                  <a:lnTo>
                    <a:pt x="38" y="822"/>
                  </a:lnTo>
                  <a:lnTo>
                    <a:pt x="46" y="817"/>
                  </a:lnTo>
                  <a:lnTo>
                    <a:pt x="51" y="822"/>
                  </a:lnTo>
                  <a:lnTo>
                    <a:pt x="62" y="825"/>
                  </a:lnTo>
                  <a:lnTo>
                    <a:pt x="67" y="830"/>
                  </a:lnTo>
                  <a:lnTo>
                    <a:pt x="77" y="830"/>
                  </a:lnTo>
                  <a:lnTo>
                    <a:pt x="80" y="830"/>
                  </a:lnTo>
                  <a:lnTo>
                    <a:pt x="85" y="830"/>
                  </a:lnTo>
                  <a:lnTo>
                    <a:pt x="95" y="830"/>
                  </a:lnTo>
                  <a:lnTo>
                    <a:pt x="100" y="825"/>
                  </a:lnTo>
                  <a:lnTo>
                    <a:pt x="111" y="825"/>
                  </a:lnTo>
                  <a:lnTo>
                    <a:pt x="113" y="822"/>
                  </a:lnTo>
                  <a:lnTo>
                    <a:pt x="123" y="810"/>
                  </a:lnTo>
                  <a:lnTo>
                    <a:pt x="129" y="804"/>
                  </a:lnTo>
                  <a:lnTo>
                    <a:pt x="139" y="802"/>
                  </a:lnTo>
                  <a:lnTo>
                    <a:pt x="144" y="794"/>
                  </a:lnTo>
                  <a:lnTo>
                    <a:pt x="147" y="786"/>
                  </a:lnTo>
                  <a:lnTo>
                    <a:pt x="157" y="773"/>
                  </a:lnTo>
                  <a:lnTo>
                    <a:pt x="162" y="760"/>
                  </a:lnTo>
                  <a:lnTo>
                    <a:pt x="173" y="750"/>
                  </a:lnTo>
                  <a:lnTo>
                    <a:pt x="178" y="740"/>
                  </a:lnTo>
                  <a:lnTo>
                    <a:pt x="185" y="724"/>
                  </a:lnTo>
                  <a:lnTo>
                    <a:pt x="191" y="714"/>
                  </a:lnTo>
                  <a:lnTo>
                    <a:pt x="201" y="693"/>
                  </a:lnTo>
                  <a:lnTo>
                    <a:pt x="206" y="680"/>
                  </a:lnTo>
                  <a:lnTo>
                    <a:pt x="211" y="672"/>
                  </a:lnTo>
                  <a:lnTo>
                    <a:pt x="219" y="657"/>
                  </a:lnTo>
                  <a:lnTo>
                    <a:pt x="224" y="636"/>
                  </a:lnTo>
                  <a:lnTo>
                    <a:pt x="235" y="623"/>
                  </a:lnTo>
                  <a:lnTo>
                    <a:pt x="240" y="616"/>
                  </a:lnTo>
                  <a:lnTo>
                    <a:pt x="247" y="608"/>
                  </a:lnTo>
                  <a:lnTo>
                    <a:pt x="253" y="600"/>
                  </a:lnTo>
                  <a:lnTo>
                    <a:pt x="263" y="587"/>
                  </a:lnTo>
                  <a:lnTo>
                    <a:pt x="268" y="584"/>
                  </a:lnTo>
                  <a:lnTo>
                    <a:pt x="273" y="584"/>
                  </a:lnTo>
                  <a:lnTo>
                    <a:pt x="281" y="572"/>
                  </a:lnTo>
                  <a:lnTo>
                    <a:pt x="286" y="564"/>
                  </a:lnTo>
                  <a:lnTo>
                    <a:pt x="296" y="556"/>
                  </a:lnTo>
                  <a:lnTo>
                    <a:pt x="302" y="548"/>
                  </a:lnTo>
                  <a:lnTo>
                    <a:pt x="312" y="528"/>
                  </a:lnTo>
                  <a:lnTo>
                    <a:pt x="315" y="512"/>
                  </a:lnTo>
                  <a:lnTo>
                    <a:pt x="325" y="504"/>
                  </a:lnTo>
                  <a:lnTo>
                    <a:pt x="330" y="499"/>
                  </a:lnTo>
                  <a:lnTo>
                    <a:pt x="340" y="497"/>
                  </a:lnTo>
                  <a:lnTo>
                    <a:pt x="346" y="486"/>
                  </a:lnTo>
                  <a:lnTo>
                    <a:pt x="348" y="471"/>
                  </a:lnTo>
                  <a:lnTo>
                    <a:pt x="358" y="463"/>
                  </a:lnTo>
                  <a:lnTo>
                    <a:pt x="364" y="450"/>
                  </a:lnTo>
                  <a:lnTo>
                    <a:pt x="374" y="447"/>
                  </a:lnTo>
                  <a:lnTo>
                    <a:pt x="379" y="440"/>
                  </a:lnTo>
                  <a:lnTo>
                    <a:pt x="387" y="419"/>
                  </a:lnTo>
                  <a:lnTo>
                    <a:pt x="392" y="403"/>
                  </a:lnTo>
                  <a:lnTo>
                    <a:pt x="402" y="390"/>
                  </a:lnTo>
                  <a:lnTo>
                    <a:pt x="408" y="367"/>
                  </a:lnTo>
                  <a:lnTo>
                    <a:pt x="413" y="334"/>
                  </a:lnTo>
                  <a:lnTo>
                    <a:pt x="420" y="305"/>
                  </a:lnTo>
                  <a:lnTo>
                    <a:pt x="426" y="282"/>
                  </a:lnTo>
                  <a:lnTo>
                    <a:pt x="436" y="259"/>
                  </a:lnTo>
                  <a:lnTo>
                    <a:pt x="441" y="233"/>
                  </a:lnTo>
                  <a:lnTo>
                    <a:pt x="449" y="207"/>
                  </a:lnTo>
                  <a:lnTo>
                    <a:pt x="454" y="196"/>
                  </a:lnTo>
                  <a:lnTo>
                    <a:pt x="464" y="189"/>
                  </a:lnTo>
                  <a:lnTo>
                    <a:pt x="469" y="189"/>
                  </a:lnTo>
                  <a:lnTo>
                    <a:pt x="475" y="186"/>
                  </a:lnTo>
                  <a:lnTo>
                    <a:pt x="482" y="189"/>
                  </a:lnTo>
                  <a:lnTo>
                    <a:pt x="488" y="189"/>
                  </a:lnTo>
                  <a:lnTo>
                    <a:pt x="498" y="186"/>
                  </a:lnTo>
                  <a:lnTo>
                    <a:pt x="503" y="181"/>
                  </a:lnTo>
                  <a:lnTo>
                    <a:pt x="513" y="173"/>
                  </a:lnTo>
                  <a:lnTo>
                    <a:pt x="516" y="171"/>
                  </a:lnTo>
                  <a:lnTo>
                    <a:pt x="526" y="171"/>
                  </a:lnTo>
                  <a:lnTo>
                    <a:pt x="531" y="165"/>
                  </a:lnTo>
                  <a:lnTo>
                    <a:pt x="537" y="160"/>
                  </a:lnTo>
                  <a:lnTo>
                    <a:pt x="547" y="150"/>
                  </a:lnTo>
                  <a:lnTo>
                    <a:pt x="550" y="142"/>
                  </a:lnTo>
                  <a:lnTo>
                    <a:pt x="560" y="142"/>
                  </a:lnTo>
                  <a:lnTo>
                    <a:pt x="565" y="134"/>
                  </a:lnTo>
                  <a:lnTo>
                    <a:pt x="575" y="137"/>
                  </a:lnTo>
                  <a:lnTo>
                    <a:pt x="581" y="145"/>
                  </a:lnTo>
                  <a:lnTo>
                    <a:pt x="588" y="160"/>
                  </a:lnTo>
                  <a:lnTo>
                    <a:pt x="593" y="171"/>
                  </a:lnTo>
                  <a:lnTo>
                    <a:pt x="599" y="178"/>
                  </a:lnTo>
                  <a:lnTo>
                    <a:pt x="609" y="186"/>
                  </a:lnTo>
                  <a:lnTo>
                    <a:pt x="614" y="194"/>
                  </a:lnTo>
                  <a:lnTo>
                    <a:pt x="622" y="194"/>
                  </a:lnTo>
                  <a:lnTo>
                    <a:pt x="627" y="186"/>
                  </a:lnTo>
                  <a:lnTo>
                    <a:pt x="637" y="171"/>
                  </a:lnTo>
                  <a:lnTo>
                    <a:pt x="642" y="150"/>
                  </a:lnTo>
                  <a:lnTo>
                    <a:pt x="653" y="134"/>
                  </a:lnTo>
                  <a:lnTo>
                    <a:pt x="655" y="114"/>
                  </a:lnTo>
                  <a:lnTo>
                    <a:pt x="666" y="98"/>
                  </a:lnTo>
                  <a:lnTo>
                    <a:pt x="671" y="80"/>
                  </a:lnTo>
                  <a:lnTo>
                    <a:pt x="676" y="65"/>
                  </a:lnTo>
                  <a:lnTo>
                    <a:pt x="686" y="44"/>
                  </a:lnTo>
                  <a:lnTo>
                    <a:pt x="689" y="28"/>
                  </a:lnTo>
                  <a:lnTo>
                    <a:pt x="699" y="26"/>
                  </a:lnTo>
                  <a:lnTo>
                    <a:pt x="704" y="15"/>
                  </a:lnTo>
                  <a:lnTo>
                    <a:pt x="715" y="8"/>
                  </a:lnTo>
                  <a:lnTo>
                    <a:pt x="720" y="5"/>
                  </a:lnTo>
                  <a:lnTo>
                    <a:pt x="728" y="5"/>
                  </a:lnTo>
                  <a:lnTo>
                    <a:pt x="733" y="0"/>
                  </a:lnTo>
                  <a:lnTo>
                    <a:pt x="738" y="8"/>
                  </a:lnTo>
                  <a:lnTo>
                    <a:pt x="748" y="15"/>
                  </a:lnTo>
                  <a:lnTo>
                    <a:pt x="754" y="26"/>
                  </a:lnTo>
                  <a:lnTo>
                    <a:pt x="761" y="26"/>
                  </a:lnTo>
                  <a:lnTo>
                    <a:pt x="766" y="36"/>
                  </a:lnTo>
                  <a:lnTo>
                    <a:pt x="777" y="44"/>
                  </a:lnTo>
                  <a:lnTo>
                    <a:pt x="782" y="52"/>
                  </a:lnTo>
                  <a:lnTo>
                    <a:pt x="790" y="70"/>
                  </a:lnTo>
                  <a:lnTo>
                    <a:pt x="795" y="85"/>
                  </a:lnTo>
                  <a:lnTo>
                    <a:pt x="800" y="116"/>
                  </a:lnTo>
                  <a:lnTo>
                    <a:pt x="810" y="150"/>
                  </a:lnTo>
                  <a:lnTo>
                    <a:pt x="815" y="189"/>
                  </a:lnTo>
                  <a:lnTo>
                    <a:pt x="823" y="225"/>
                  </a:lnTo>
                  <a:lnTo>
                    <a:pt x="828" y="274"/>
                  </a:lnTo>
                  <a:lnTo>
                    <a:pt x="839" y="315"/>
                  </a:lnTo>
                  <a:lnTo>
                    <a:pt x="844" y="359"/>
                  </a:lnTo>
                  <a:lnTo>
                    <a:pt x="854" y="406"/>
                  </a:lnTo>
                  <a:lnTo>
                    <a:pt x="857" y="460"/>
                  </a:lnTo>
                  <a:lnTo>
                    <a:pt x="862" y="504"/>
                  </a:lnTo>
                  <a:lnTo>
                    <a:pt x="872" y="541"/>
                  </a:lnTo>
                  <a:lnTo>
                    <a:pt x="877" y="577"/>
                  </a:lnTo>
                </a:path>
              </a:pathLst>
            </a:custGeom>
            <a:noFill/>
            <a:ln cap="rnd" w="237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320840" y="4110840"/>
              <a:ext cx="955080" cy="795600"/>
            </a:xfrm>
            <a:custGeom>
              <a:avLst/>
              <a:gdLst/>
              <a:ahLst/>
              <a:rect l="l" t="t" r="r" b="b"/>
              <a:pathLst>
                <a:path w="884" h="796">
                  <a:moveTo>
                    <a:pt x="0" y="543"/>
                  </a:moveTo>
                  <a:lnTo>
                    <a:pt x="11" y="579"/>
                  </a:lnTo>
                  <a:lnTo>
                    <a:pt x="13" y="610"/>
                  </a:lnTo>
                  <a:lnTo>
                    <a:pt x="24" y="644"/>
                  </a:lnTo>
                  <a:lnTo>
                    <a:pt x="29" y="669"/>
                  </a:lnTo>
                  <a:lnTo>
                    <a:pt x="39" y="690"/>
                  </a:lnTo>
                  <a:lnTo>
                    <a:pt x="44" y="695"/>
                  </a:lnTo>
                  <a:lnTo>
                    <a:pt x="47" y="698"/>
                  </a:lnTo>
                  <a:lnTo>
                    <a:pt x="57" y="703"/>
                  </a:lnTo>
                  <a:lnTo>
                    <a:pt x="62" y="706"/>
                  </a:lnTo>
                  <a:lnTo>
                    <a:pt x="73" y="716"/>
                  </a:lnTo>
                  <a:lnTo>
                    <a:pt x="78" y="711"/>
                  </a:lnTo>
                  <a:lnTo>
                    <a:pt x="86" y="703"/>
                  </a:lnTo>
                  <a:lnTo>
                    <a:pt x="91" y="695"/>
                  </a:lnTo>
                  <a:lnTo>
                    <a:pt x="101" y="682"/>
                  </a:lnTo>
                  <a:lnTo>
                    <a:pt x="106" y="662"/>
                  </a:lnTo>
                  <a:lnTo>
                    <a:pt x="114" y="633"/>
                  </a:lnTo>
                  <a:lnTo>
                    <a:pt x="119" y="607"/>
                  </a:lnTo>
                  <a:lnTo>
                    <a:pt x="124" y="571"/>
                  </a:lnTo>
                  <a:lnTo>
                    <a:pt x="135" y="545"/>
                  </a:lnTo>
                  <a:lnTo>
                    <a:pt x="140" y="522"/>
                  </a:lnTo>
                  <a:lnTo>
                    <a:pt x="148" y="494"/>
                  </a:lnTo>
                  <a:lnTo>
                    <a:pt x="153" y="463"/>
                  </a:lnTo>
                  <a:lnTo>
                    <a:pt x="163" y="437"/>
                  </a:lnTo>
                  <a:lnTo>
                    <a:pt x="168" y="421"/>
                  </a:lnTo>
                  <a:lnTo>
                    <a:pt x="179" y="408"/>
                  </a:lnTo>
                  <a:lnTo>
                    <a:pt x="181" y="393"/>
                  </a:lnTo>
                  <a:lnTo>
                    <a:pt x="186" y="380"/>
                  </a:lnTo>
                  <a:lnTo>
                    <a:pt x="197" y="364"/>
                  </a:lnTo>
                  <a:lnTo>
                    <a:pt x="202" y="354"/>
                  </a:lnTo>
                  <a:lnTo>
                    <a:pt x="212" y="354"/>
                  </a:lnTo>
                  <a:lnTo>
                    <a:pt x="215" y="356"/>
                  </a:lnTo>
                  <a:lnTo>
                    <a:pt x="225" y="362"/>
                  </a:lnTo>
                  <a:lnTo>
                    <a:pt x="230" y="364"/>
                  </a:lnTo>
                  <a:lnTo>
                    <a:pt x="241" y="362"/>
                  </a:lnTo>
                  <a:lnTo>
                    <a:pt x="246" y="349"/>
                  </a:lnTo>
                  <a:lnTo>
                    <a:pt x="251" y="344"/>
                  </a:lnTo>
                  <a:lnTo>
                    <a:pt x="259" y="354"/>
                  </a:lnTo>
                  <a:lnTo>
                    <a:pt x="264" y="356"/>
                  </a:lnTo>
                  <a:lnTo>
                    <a:pt x="274" y="356"/>
                  </a:lnTo>
                  <a:lnTo>
                    <a:pt x="279" y="356"/>
                  </a:lnTo>
                  <a:lnTo>
                    <a:pt x="287" y="369"/>
                  </a:lnTo>
                  <a:lnTo>
                    <a:pt x="292" y="385"/>
                  </a:lnTo>
                  <a:lnTo>
                    <a:pt x="303" y="400"/>
                  </a:lnTo>
                  <a:lnTo>
                    <a:pt x="308" y="406"/>
                  </a:lnTo>
                  <a:lnTo>
                    <a:pt x="313" y="413"/>
                  </a:lnTo>
                  <a:lnTo>
                    <a:pt x="321" y="426"/>
                  </a:lnTo>
                  <a:lnTo>
                    <a:pt x="326" y="434"/>
                  </a:lnTo>
                  <a:lnTo>
                    <a:pt x="336" y="437"/>
                  </a:lnTo>
                  <a:lnTo>
                    <a:pt x="341" y="434"/>
                  </a:lnTo>
                  <a:lnTo>
                    <a:pt x="352" y="429"/>
                  </a:lnTo>
                  <a:lnTo>
                    <a:pt x="354" y="434"/>
                  </a:lnTo>
                  <a:lnTo>
                    <a:pt x="365" y="434"/>
                  </a:lnTo>
                  <a:lnTo>
                    <a:pt x="370" y="437"/>
                  </a:lnTo>
                  <a:lnTo>
                    <a:pt x="375" y="437"/>
                  </a:lnTo>
                  <a:lnTo>
                    <a:pt x="385" y="434"/>
                  </a:lnTo>
                  <a:lnTo>
                    <a:pt x="388" y="434"/>
                  </a:lnTo>
                  <a:lnTo>
                    <a:pt x="398" y="434"/>
                  </a:lnTo>
                  <a:lnTo>
                    <a:pt x="403" y="437"/>
                  </a:lnTo>
                  <a:lnTo>
                    <a:pt x="414" y="457"/>
                  </a:lnTo>
                  <a:lnTo>
                    <a:pt x="419" y="486"/>
                  </a:lnTo>
                  <a:lnTo>
                    <a:pt x="427" y="514"/>
                  </a:lnTo>
                  <a:lnTo>
                    <a:pt x="432" y="530"/>
                  </a:lnTo>
                  <a:lnTo>
                    <a:pt x="437" y="553"/>
                  </a:lnTo>
                  <a:lnTo>
                    <a:pt x="447" y="582"/>
                  </a:lnTo>
                  <a:lnTo>
                    <a:pt x="452" y="602"/>
                  </a:lnTo>
                  <a:lnTo>
                    <a:pt x="460" y="618"/>
                  </a:lnTo>
                  <a:lnTo>
                    <a:pt x="465" y="631"/>
                  </a:lnTo>
                  <a:lnTo>
                    <a:pt x="476" y="646"/>
                  </a:lnTo>
                  <a:lnTo>
                    <a:pt x="481" y="667"/>
                  </a:lnTo>
                  <a:lnTo>
                    <a:pt x="488" y="680"/>
                  </a:lnTo>
                  <a:lnTo>
                    <a:pt x="494" y="682"/>
                  </a:lnTo>
                  <a:lnTo>
                    <a:pt x="504" y="695"/>
                  </a:lnTo>
                  <a:lnTo>
                    <a:pt x="509" y="711"/>
                  </a:lnTo>
                  <a:lnTo>
                    <a:pt x="514" y="734"/>
                  </a:lnTo>
                  <a:lnTo>
                    <a:pt x="522" y="755"/>
                  </a:lnTo>
                  <a:lnTo>
                    <a:pt x="527" y="768"/>
                  </a:lnTo>
                  <a:lnTo>
                    <a:pt x="538" y="776"/>
                  </a:lnTo>
                  <a:lnTo>
                    <a:pt x="543" y="783"/>
                  </a:lnTo>
                  <a:lnTo>
                    <a:pt x="553" y="791"/>
                  </a:lnTo>
                  <a:lnTo>
                    <a:pt x="556" y="791"/>
                  </a:lnTo>
                  <a:lnTo>
                    <a:pt x="566" y="791"/>
                  </a:lnTo>
                  <a:lnTo>
                    <a:pt x="571" y="796"/>
                  </a:lnTo>
                  <a:lnTo>
                    <a:pt x="576" y="791"/>
                  </a:lnTo>
                  <a:lnTo>
                    <a:pt x="587" y="776"/>
                  </a:lnTo>
                  <a:lnTo>
                    <a:pt x="592" y="752"/>
                  </a:lnTo>
                  <a:lnTo>
                    <a:pt x="600" y="732"/>
                  </a:lnTo>
                  <a:lnTo>
                    <a:pt x="605" y="716"/>
                  </a:lnTo>
                  <a:lnTo>
                    <a:pt x="615" y="698"/>
                  </a:lnTo>
                  <a:lnTo>
                    <a:pt x="620" y="680"/>
                  </a:lnTo>
                  <a:lnTo>
                    <a:pt x="628" y="667"/>
                  </a:lnTo>
                  <a:lnTo>
                    <a:pt x="633" y="659"/>
                  </a:lnTo>
                  <a:lnTo>
                    <a:pt x="638" y="646"/>
                  </a:lnTo>
                  <a:lnTo>
                    <a:pt x="649" y="633"/>
                  </a:lnTo>
                  <a:lnTo>
                    <a:pt x="654" y="623"/>
                  </a:lnTo>
                  <a:lnTo>
                    <a:pt x="661" y="615"/>
                  </a:lnTo>
                  <a:lnTo>
                    <a:pt x="667" y="607"/>
                  </a:lnTo>
                  <a:lnTo>
                    <a:pt x="677" y="594"/>
                  </a:lnTo>
                  <a:lnTo>
                    <a:pt x="682" y="571"/>
                  </a:lnTo>
                  <a:lnTo>
                    <a:pt x="692" y="535"/>
                  </a:lnTo>
                  <a:lnTo>
                    <a:pt x="695" y="507"/>
                  </a:lnTo>
                  <a:lnTo>
                    <a:pt x="700" y="473"/>
                  </a:lnTo>
                  <a:lnTo>
                    <a:pt x="711" y="450"/>
                  </a:lnTo>
                  <a:lnTo>
                    <a:pt x="716" y="429"/>
                  </a:lnTo>
                  <a:lnTo>
                    <a:pt x="726" y="406"/>
                  </a:lnTo>
                  <a:lnTo>
                    <a:pt x="729" y="385"/>
                  </a:lnTo>
                  <a:lnTo>
                    <a:pt x="739" y="364"/>
                  </a:lnTo>
                  <a:lnTo>
                    <a:pt x="744" y="336"/>
                  </a:lnTo>
                  <a:lnTo>
                    <a:pt x="754" y="318"/>
                  </a:lnTo>
                  <a:lnTo>
                    <a:pt x="760" y="305"/>
                  </a:lnTo>
                  <a:lnTo>
                    <a:pt x="762" y="292"/>
                  </a:lnTo>
                  <a:lnTo>
                    <a:pt x="773" y="284"/>
                  </a:lnTo>
                  <a:lnTo>
                    <a:pt x="778" y="261"/>
                  </a:lnTo>
                  <a:lnTo>
                    <a:pt x="788" y="240"/>
                  </a:lnTo>
                  <a:lnTo>
                    <a:pt x="793" y="219"/>
                  </a:lnTo>
                  <a:lnTo>
                    <a:pt x="801" y="201"/>
                  </a:lnTo>
                  <a:lnTo>
                    <a:pt x="806" y="168"/>
                  </a:lnTo>
                  <a:lnTo>
                    <a:pt x="816" y="139"/>
                  </a:lnTo>
                  <a:lnTo>
                    <a:pt x="822" y="111"/>
                  </a:lnTo>
                  <a:lnTo>
                    <a:pt x="829" y="82"/>
                  </a:lnTo>
                  <a:lnTo>
                    <a:pt x="834" y="51"/>
                  </a:lnTo>
                  <a:lnTo>
                    <a:pt x="840" y="28"/>
                  </a:lnTo>
                  <a:lnTo>
                    <a:pt x="850" y="7"/>
                  </a:lnTo>
                  <a:lnTo>
                    <a:pt x="855" y="0"/>
                  </a:lnTo>
                  <a:lnTo>
                    <a:pt x="863" y="7"/>
                  </a:lnTo>
                  <a:lnTo>
                    <a:pt x="868" y="7"/>
                  </a:lnTo>
                  <a:lnTo>
                    <a:pt x="878" y="10"/>
                  </a:lnTo>
                  <a:lnTo>
                    <a:pt x="884" y="10"/>
                  </a:lnTo>
                </a:path>
              </a:pathLst>
            </a:custGeom>
            <a:noFill/>
            <a:ln cap="rnd" w="237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96920" y="4992480"/>
              <a:ext cx="2106360" cy="4680"/>
            </a:xfrm>
            <a:prstGeom prst="line">
              <a:avLst/>
            </a:prstGeom>
            <a:ln cap="rnd"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2" name=""/>
            <p:cNvSpPr/>
            <p:nvPr/>
          </p:nvSpPr>
          <p:spPr>
            <a:xfrm flipV="1">
              <a:off x="196920" y="3947760"/>
              <a:ext cx="5040" cy="104436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196920" y="4973760"/>
              <a:ext cx="5040" cy="18720"/>
            </a:xfrm>
            <a:prstGeom prst="line">
              <a:avLst/>
            </a:prstGeom>
            <a:ln cap="rnd"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4" name=""/>
            <p:cNvSpPr/>
            <p:nvPr/>
          </p:nvSpPr>
          <p:spPr>
            <a:xfrm flipV="1">
              <a:off x="500400" y="4973760"/>
              <a:ext cx="2880" cy="18720"/>
            </a:xfrm>
            <a:prstGeom prst="line">
              <a:avLst/>
            </a:prstGeom>
            <a:ln cap="rnd"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5" name=""/>
            <p:cNvSpPr/>
            <p:nvPr/>
          </p:nvSpPr>
          <p:spPr>
            <a:xfrm flipV="1">
              <a:off x="801720" y="4973760"/>
              <a:ext cx="1080" cy="18720"/>
            </a:xfrm>
            <a:prstGeom prst="line">
              <a:avLst/>
            </a:prstGeom>
            <a:ln cap="rnd"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6" name=""/>
            <p:cNvSpPr/>
            <p:nvPr/>
          </p:nvSpPr>
          <p:spPr>
            <a:xfrm flipV="1">
              <a:off x="1100520" y="4973760"/>
              <a:ext cx="2880" cy="18720"/>
            </a:xfrm>
            <a:prstGeom prst="line">
              <a:avLst/>
            </a:prstGeom>
            <a:ln cap="rnd"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7" name=""/>
            <p:cNvSpPr/>
            <p:nvPr/>
          </p:nvSpPr>
          <p:spPr>
            <a:xfrm flipV="1">
              <a:off x="1401840" y="4973760"/>
              <a:ext cx="720" cy="18720"/>
            </a:xfrm>
            <a:prstGeom prst="line">
              <a:avLst/>
            </a:prstGeom>
            <a:ln cap="rnd"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8" name=""/>
            <p:cNvSpPr/>
            <p:nvPr/>
          </p:nvSpPr>
          <p:spPr>
            <a:xfrm flipV="1">
              <a:off x="1701000" y="4973760"/>
              <a:ext cx="2160" cy="18720"/>
            </a:xfrm>
            <a:prstGeom prst="line">
              <a:avLst/>
            </a:prstGeom>
            <a:ln cap="rnd"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9" name=""/>
            <p:cNvSpPr/>
            <p:nvPr/>
          </p:nvSpPr>
          <p:spPr>
            <a:xfrm flipV="1">
              <a:off x="2001600" y="4973760"/>
              <a:ext cx="1080" cy="18720"/>
            </a:xfrm>
            <a:prstGeom prst="line">
              <a:avLst/>
            </a:prstGeom>
            <a:ln cap="rnd"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0" name=""/>
            <p:cNvSpPr/>
            <p:nvPr/>
          </p:nvSpPr>
          <p:spPr>
            <a:xfrm flipV="1">
              <a:off x="2303280" y="4973760"/>
              <a:ext cx="2880" cy="18720"/>
            </a:xfrm>
            <a:prstGeom prst="line">
              <a:avLst/>
            </a:prstGeom>
            <a:ln cap="rnd"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1" name=""/>
            <p:cNvSpPr/>
            <p:nvPr/>
          </p:nvSpPr>
          <p:spPr>
            <a:xfrm>
              <a:off x="196920" y="4992480"/>
              <a:ext cx="19080" cy="4680"/>
            </a:xfrm>
            <a:prstGeom prst="line">
              <a:avLst/>
            </a:prstGeom>
            <a:ln cap="rnd"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52" name=""/>
          <p:cNvSpPr/>
          <p:nvPr/>
        </p:nvSpPr>
        <p:spPr>
          <a:xfrm>
            <a:off x="139320" y="3474000"/>
            <a:ext cx="2207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f Discovery</a:t>
            </a:r>
            <a:endParaRPr b="0" lang="en-US" sz="2400" spc="-1" strike="noStrike">
              <a:solidFill>
                <a:srgbClr val="000000"/>
              </a:solidFill>
              <a:latin typeface="Times New Roman"/>
            </a:endParaRPr>
          </a:p>
        </p:txBody>
      </p:sp>
      <p:sp>
        <p:nvSpPr>
          <p:cNvPr id="353" name=""/>
          <p:cNvSpPr/>
          <p:nvPr/>
        </p:nvSpPr>
        <p:spPr>
          <a:xfrm>
            <a:off x="182520" y="5437080"/>
            <a:ext cx="8837640" cy="1243080"/>
          </a:xfrm>
          <a:prstGeom prst="rect">
            <a:avLst/>
          </a:prstGeom>
          <a:solidFill>
            <a:srgbClr val="eaeaea"/>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563200" y="551808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grpSp>
        <p:nvGrpSpPr>
          <p:cNvPr id="355" name=""/>
          <p:cNvGrpSpPr/>
          <p:nvPr/>
        </p:nvGrpSpPr>
        <p:grpSpPr>
          <a:xfrm>
            <a:off x="353880" y="5608800"/>
            <a:ext cx="8440200" cy="968040"/>
            <a:chOff x="353880" y="5608800"/>
            <a:chExt cx="8440200" cy="968040"/>
          </a:xfrm>
        </p:grpSpPr>
        <p:sp>
          <p:nvSpPr>
            <p:cNvPr id="356" name=""/>
            <p:cNvSpPr/>
            <p:nvPr/>
          </p:nvSpPr>
          <p:spPr>
            <a:xfrm>
              <a:off x="353880" y="5628960"/>
              <a:ext cx="1821960" cy="915840"/>
            </a:xfrm>
            <a:custGeom>
              <a:avLst/>
              <a:gdLst/>
              <a:ahLst/>
              <a:rect l="l" t="t" r="r" b="b"/>
              <a:pathLst>
                <a:path w="1322" h="1154">
                  <a:moveTo>
                    <a:pt x="0" y="449"/>
                  </a:moveTo>
                  <a:lnTo>
                    <a:pt x="15" y="449"/>
                  </a:lnTo>
                  <a:lnTo>
                    <a:pt x="28" y="449"/>
                  </a:lnTo>
                  <a:lnTo>
                    <a:pt x="43" y="423"/>
                  </a:lnTo>
                  <a:lnTo>
                    <a:pt x="43" y="308"/>
                  </a:lnTo>
                  <a:lnTo>
                    <a:pt x="58" y="282"/>
                  </a:lnTo>
                  <a:lnTo>
                    <a:pt x="58" y="243"/>
                  </a:lnTo>
                  <a:lnTo>
                    <a:pt x="58" y="347"/>
                  </a:lnTo>
                  <a:lnTo>
                    <a:pt x="72" y="410"/>
                  </a:lnTo>
                  <a:lnTo>
                    <a:pt x="72" y="860"/>
                  </a:lnTo>
                  <a:lnTo>
                    <a:pt x="87" y="911"/>
                  </a:lnTo>
                  <a:lnTo>
                    <a:pt x="87" y="1142"/>
                  </a:lnTo>
                  <a:lnTo>
                    <a:pt x="102" y="1129"/>
                  </a:lnTo>
                  <a:lnTo>
                    <a:pt x="102" y="731"/>
                  </a:lnTo>
                  <a:lnTo>
                    <a:pt x="115" y="667"/>
                  </a:lnTo>
                  <a:lnTo>
                    <a:pt x="115" y="384"/>
                  </a:lnTo>
                  <a:lnTo>
                    <a:pt x="130" y="372"/>
                  </a:lnTo>
                  <a:lnTo>
                    <a:pt x="130" y="282"/>
                  </a:lnTo>
                  <a:lnTo>
                    <a:pt x="145" y="269"/>
                  </a:lnTo>
                  <a:lnTo>
                    <a:pt x="145" y="243"/>
                  </a:lnTo>
                  <a:lnTo>
                    <a:pt x="159" y="231"/>
                  </a:lnTo>
                  <a:lnTo>
                    <a:pt x="159" y="192"/>
                  </a:lnTo>
                  <a:lnTo>
                    <a:pt x="174" y="180"/>
                  </a:lnTo>
                  <a:lnTo>
                    <a:pt x="174" y="155"/>
                  </a:lnTo>
                  <a:lnTo>
                    <a:pt x="189" y="141"/>
                  </a:lnTo>
                  <a:lnTo>
                    <a:pt x="189" y="77"/>
                  </a:lnTo>
                  <a:lnTo>
                    <a:pt x="202" y="65"/>
                  </a:lnTo>
                  <a:lnTo>
                    <a:pt x="202" y="26"/>
                  </a:lnTo>
                  <a:lnTo>
                    <a:pt x="232" y="0"/>
                  </a:lnTo>
                  <a:lnTo>
                    <a:pt x="217" y="0"/>
                  </a:lnTo>
                  <a:lnTo>
                    <a:pt x="232" y="77"/>
                  </a:lnTo>
                  <a:lnTo>
                    <a:pt x="247" y="90"/>
                  </a:lnTo>
                  <a:lnTo>
                    <a:pt x="247" y="192"/>
                  </a:lnTo>
                  <a:lnTo>
                    <a:pt x="261" y="206"/>
                  </a:lnTo>
                  <a:lnTo>
                    <a:pt x="261" y="296"/>
                  </a:lnTo>
                  <a:lnTo>
                    <a:pt x="276" y="308"/>
                  </a:lnTo>
                  <a:lnTo>
                    <a:pt x="276" y="359"/>
                  </a:lnTo>
                  <a:lnTo>
                    <a:pt x="304" y="384"/>
                  </a:lnTo>
                  <a:lnTo>
                    <a:pt x="304" y="398"/>
                  </a:lnTo>
                  <a:lnTo>
                    <a:pt x="319" y="410"/>
                  </a:lnTo>
                  <a:lnTo>
                    <a:pt x="334" y="410"/>
                  </a:lnTo>
                  <a:lnTo>
                    <a:pt x="348" y="398"/>
                  </a:lnTo>
                  <a:lnTo>
                    <a:pt x="363" y="398"/>
                  </a:lnTo>
                  <a:lnTo>
                    <a:pt x="378" y="384"/>
                  </a:lnTo>
                  <a:lnTo>
                    <a:pt x="391" y="398"/>
                  </a:lnTo>
                  <a:lnTo>
                    <a:pt x="406" y="398"/>
                  </a:lnTo>
                  <a:lnTo>
                    <a:pt x="421" y="410"/>
                  </a:lnTo>
                  <a:lnTo>
                    <a:pt x="435" y="410"/>
                  </a:lnTo>
                  <a:lnTo>
                    <a:pt x="450" y="423"/>
                  </a:lnTo>
                  <a:lnTo>
                    <a:pt x="465" y="423"/>
                  </a:lnTo>
                  <a:lnTo>
                    <a:pt x="480" y="437"/>
                  </a:lnTo>
                  <a:lnTo>
                    <a:pt x="493" y="437"/>
                  </a:lnTo>
                  <a:lnTo>
                    <a:pt x="508" y="437"/>
                  </a:lnTo>
                  <a:lnTo>
                    <a:pt x="523" y="437"/>
                  </a:lnTo>
                  <a:lnTo>
                    <a:pt x="537" y="437"/>
                  </a:lnTo>
                  <a:lnTo>
                    <a:pt x="552" y="437"/>
                  </a:lnTo>
                  <a:lnTo>
                    <a:pt x="567" y="437"/>
                  </a:lnTo>
                  <a:lnTo>
                    <a:pt x="580" y="437"/>
                  </a:lnTo>
                  <a:lnTo>
                    <a:pt x="595" y="437"/>
                  </a:lnTo>
                  <a:lnTo>
                    <a:pt x="610" y="437"/>
                  </a:lnTo>
                  <a:lnTo>
                    <a:pt x="624" y="437"/>
                  </a:lnTo>
                  <a:lnTo>
                    <a:pt x="639" y="437"/>
                  </a:lnTo>
                  <a:lnTo>
                    <a:pt x="654" y="437"/>
                  </a:lnTo>
                  <a:lnTo>
                    <a:pt x="669" y="449"/>
                  </a:lnTo>
                  <a:lnTo>
                    <a:pt x="683" y="449"/>
                  </a:lnTo>
                  <a:lnTo>
                    <a:pt x="698" y="462"/>
                  </a:lnTo>
                  <a:lnTo>
                    <a:pt x="713" y="449"/>
                  </a:lnTo>
                  <a:lnTo>
                    <a:pt x="726" y="437"/>
                  </a:lnTo>
                  <a:lnTo>
                    <a:pt x="726" y="423"/>
                  </a:lnTo>
                  <a:lnTo>
                    <a:pt x="741" y="398"/>
                  </a:lnTo>
                  <a:lnTo>
                    <a:pt x="741" y="269"/>
                  </a:lnTo>
                  <a:lnTo>
                    <a:pt x="756" y="257"/>
                  </a:lnTo>
                  <a:lnTo>
                    <a:pt x="756" y="513"/>
                  </a:lnTo>
                  <a:lnTo>
                    <a:pt x="770" y="590"/>
                  </a:lnTo>
                  <a:lnTo>
                    <a:pt x="770" y="1013"/>
                  </a:lnTo>
                  <a:lnTo>
                    <a:pt x="785" y="1052"/>
                  </a:lnTo>
                  <a:lnTo>
                    <a:pt x="785" y="1154"/>
                  </a:lnTo>
                  <a:lnTo>
                    <a:pt x="785" y="1103"/>
                  </a:lnTo>
                  <a:lnTo>
                    <a:pt x="800" y="1064"/>
                  </a:lnTo>
                  <a:lnTo>
                    <a:pt x="800" y="590"/>
                  </a:lnTo>
                  <a:lnTo>
                    <a:pt x="813" y="539"/>
                  </a:lnTo>
                  <a:lnTo>
                    <a:pt x="813" y="333"/>
                  </a:lnTo>
                  <a:lnTo>
                    <a:pt x="828" y="321"/>
                  </a:lnTo>
                  <a:lnTo>
                    <a:pt x="828" y="269"/>
                  </a:lnTo>
                  <a:lnTo>
                    <a:pt x="843" y="257"/>
                  </a:lnTo>
                  <a:lnTo>
                    <a:pt x="843" y="231"/>
                  </a:lnTo>
                  <a:lnTo>
                    <a:pt x="857" y="218"/>
                  </a:lnTo>
                  <a:lnTo>
                    <a:pt x="857" y="180"/>
                  </a:lnTo>
                  <a:lnTo>
                    <a:pt x="872" y="167"/>
                  </a:lnTo>
                  <a:lnTo>
                    <a:pt x="872" y="128"/>
                  </a:lnTo>
                  <a:lnTo>
                    <a:pt x="887" y="116"/>
                  </a:lnTo>
                  <a:lnTo>
                    <a:pt x="887" y="65"/>
                  </a:lnTo>
                  <a:lnTo>
                    <a:pt x="902" y="51"/>
                  </a:lnTo>
                  <a:lnTo>
                    <a:pt x="902" y="26"/>
                  </a:lnTo>
                  <a:lnTo>
                    <a:pt x="915" y="14"/>
                  </a:lnTo>
                  <a:lnTo>
                    <a:pt x="915" y="26"/>
                  </a:lnTo>
                  <a:lnTo>
                    <a:pt x="930" y="39"/>
                  </a:lnTo>
                  <a:lnTo>
                    <a:pt x="930" y="102"/>
                  </a:lnTo>
                  <a:lnTo>
                    <a:pt x="945" y="116"/>
                  </a:lnTo>
                  <a:lnTo>
                    <a:pt x="945" y="218"/>
                  </a:lnTo>
                  <a:lnTo>
                    <a:pt x="959" y="231"/>
                  </a:lnTo>
                  <a:lnTo>
                    <a:pt x="959" y="321"/>
                  </a:lnTo>
                  <a:lnTo>
                    <a:pt x="974" y="333"/>
                  </a:lnTo>
                  <a:lnTo>
                    <a:pt x="974" y="359"/>
                  </a:lnTo>
                  <a:lnTo>
                    <a:pt x="1002" y="384"/>
                  </a:lnTo>
                  <a:lnTo>
                    <a:pt x="1002" y="398"/>
                  </a:lnTo>
                  <a:lnTo>
                    <a:pt x="1017" y="410"/>
                  </a:lnTo>
                  <a:lnTo>
                    <a:pt x="1032" y="410"/>
                  </a:lnTo>
                  <a:lnTo>
                    <a:pt x="1046" y="398"/>
                  </a:lnTo>
                  <a:lnTo>
                    <a:pt x="1061" y="398"/>
                  </a:lnTo>
                  <a:lnTo>
                    <a:pt x="1076" y="398"/>
                  </a:lnTo>
                  <a:lnTo>
                    <a:pt x="1089" y="398"/>
                  </a:lnTo>
                  <a:lnTo>
                    <a:pt x="1104" y="410"/>
                  </a:lnTo>
                  <a:lnTo>
                    <a:pt x="1119" y="410"/>
                  </a:lnTo>
                  <a:lnTo>
                    <a:pt x="1134" y="423"/>
                  </a:lnTo>
                  <a:lnTo>
                    <a:pt x="1148" y="423"/>
                  </a:lnTo>
                  <a:lnTo>
                    <a:pt x="1163" y="423"/>
                  </a:lnTo>
                  <a:lnTo>
                    <a:pt x="1178" y="437"/>
                  </a:lnTo>
                  <a:lnTo>
                    <a:pt x="1191" y="437"/>
                  </a:lnTo>
                  <a:lnTo>
                    <a:pt x="1206" y="437"/>
                  </a:lnTo>
                  <a:lnTo>
                    <a:pt x="1221" y="437"/>
                  </a:lnTo>
                  <a:lnTo>
                    <a:pt x="1235" y="437"/>
                  </a:lnTo>
                  <a:lnTo>
                    <a:pt x="1250" y="449"/>
                  </a:lnTo>
                  <a:lnTo>
                    <a:pt x="1265" y="449"/>
                  </a:lnTo>
                  <a:lnTo>
                    <a:pt x="1278" y="449"/>
                  </a:lnTo>
                  <a:lnTo>
                    <a:pt x="1293" y="449"/>
                  </a:lnTo>
                  <a:lnTo>
                    <a:pt x="1308" y="449"/>
                  </a:lnTo>
                  <a:lnTo>
                    <a:pt x="1322" y="437"/>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175840" y="5608800"/>
              <a:ext cx="1808280" cy="968040"/>
            </a:xfrm>
            <a:custGeom>
              <a:avLst/>
              <a:gdLst/>
              <a:ahLst/>
              <a:rect l="l" t="t" r="r" b="b"/>
              <a:pathLst>
                <a:path w="1310" h="1219">
                  <a:moveTo>
                    <a:pt x="0" y="460"/>
                  </a:moveTo>
                  <a:lnTo>
                    <a:pt x="15" y="460"/>
                  </a:lnTo>
                  <a:lnTo>
                    <a:pt x="30" y="474"/>
                  </a:lnTo>
                  <a:lnTo>
                    <a:pt x="45" y="486"/>
                  </a:lnTo>
                  <a:lnTo>
                    <a:pt x="59" y="486"/>
                  </a:lnTo>
                  <a:lnTo>
                    <a:pt x="74" y="486"/>
                  </a:lnTo>
                  <a:lnTo>
                    <a:pt x="89" y="474"/>
                  </a:lnTo>
                  <a:lnTo>
                    <a:pt x="102" y="460"/>
                  </a:lnTo>
                  <a:lnTo>
                    <a:pt x="102" y="358"/>
                  </a:lnTo>
                  <a:lnTo>
                    <a:pt x="117" y="345"/>
                  </a:lnTo>
                  <a:lnTo>
                    <a:pt x="117" y="294"/>
                  </a:lnTo>
                  <a:lnTo>
                    <a:pt x="117" y="358"/>
                  </a:lnTo>
                  <a:lnTo>
                    <a:pt x="132" y="409"/>
                  </a:lnTo>
                  <a:lnTo>
                    <a:pt x="132" y="936"/>
                  </a:lnTo>
                  <a:lnTo>
                    <a:pt x="146" y="987"/>
                  </a:lnTo>
                  <a:lnTo>
                    <a:pt x="146" y="1193"/>
                  </a:lnTo>
                  <a:lnTo>
                    <a:pt x="161" y="1205"/>
                  </a:lnTo>
                  <a:lnTo>
                    <a:pt x="161" y="846"/>
                  </a:lnTo>
                  <a:lnTo>
                    <a:pt x="176" y="770"/>
                  </a:lnTo>
                  <a:lnTo>
                    <a:pt x="176" y="423"/>
                  </a:lnTo>
                  <a:lnTo>
                    <a:pt x="191" y="397"/>
                  </a:lnTo>
                  <a:lnTo>
                    <a:pt x="191" y="307"/>
                  </a:lnTo>
                  <a:lnTo>
                    <a:pt x="204" y="294"/>
                  </a:lnTo>
                  <a:lnTo>
                    <a:pt x="204" y="268"/>
                  </a:lnTo>
                  <a:lnTo>
                    <a:pt x="219" y="256"/>
                  </a:lnTo>
                  <a:lnTo>
                    <a:pt x="219" y="217"/>
                  </a:lnTo>
                  <a:lnTo>
                    <a:pt x="234" y="204"/>
                  </a:lnTo>
                  <a:lnTo>
                    <a:pt x="234" y="166"/>
                  </a:lnTo>
                  <a:lnTo>
                    <a:pt x="248" y="153"/>
                  </a:lnTo>
                  <a:lnTo>
                    <a:pt x="248" y="102"/>
                  </a:lnTo>
                  <a:lnTo>
                    <a:pt x="263" y="88"/>
                  </a:lnTo>
                  <a:lnTo>
                    <a:pt x="263" y="37"/>
                  </a:lnTo>
                  <a:lnTo>
                    <a:pt x="278" y="25"/>
                  </a:lnTo>
                  <a:lnTo>
                    <a:pt x="278" y="0"/>
                  </a:lnTo>
                  <a:lnTo>
                    <a:pt x="291" y="12"/>
                  </a:lnTo>
                  <a:lnTo>
                    <a:pt x="291" y="51"/>
                  </a:lnTo>
                  <a:lnTo>
                    <a:pt x="306" y="63"/>
                  </a:lnTo>
                  <a:lnTo>
                    <a:pt x="306" y="178"/>
                  </a:lnTo>
                  <a:lnTo>
                    <a:pt x="321" y="192"/>
                  </a:lnTo>
                  <a:lnTo>
                    <a:pt x="321" y="307"/>
                  </a:lnTo>
                  <a:lnTo>
                    <a:pt x="335" y="319"/>
                  </a:lnTo>
                  <a:lnTo>
                    <a:pt x="335" y="372"/>
                  </a:lnTo>
                  <a:lnTo>
                    <a:pt x="350" y="384"/>
                  </a:lnTo>
                  <a:lnTo>
                    <a:pt x="350" y="397"/>
                  </a:lnTo>
                  <a:lnTo>
                    <a:pt x="380" y="423"/>
                  </a:lnTo>
                  <a:lnTo>
                    <a:pt x="365" y="423"/>
                  </a:lnTo>
                  <a:lnTo>
                    <a:pt x="380" y="423"/>
                  </a:lnTo>
                  <a:lnTo>
                    <a:pt x="393" y="423"/>
                  </a:lnTo>
                  <a:lnTo>
                    <a:pt x="408" y="423"/>
                  </a:lnTo>
                  <a:lnTo>
                    <a:pt x="423" y="423"/>
                  </a:lnTo>
                  <a:lnTo>
                    <a:pt x="437" y="409"/>
                  </a:lnTo>
                  <a:lnTo>
                    <a:pt x="452" y="409"/>
                  </a:lnTo>
                  <a:lnTo>
                    <a:pt x="467" y="423"/>
                  </a:lnTo>
                  <a:lnTo>
                    <a:pt x="480" y="435"/>
                  </a:lnTo>
                  <a:lnTo>
                    <a:pt x="495" y="435"/>
                  </a:lnTo>
                  <a:lnTo>
                    <a:pt x="510" y="448"/>
                  </a:lnTo>
                  <a:lnTo>
                    <a:pt x="524" y="448"/>
                  </a:lnTo>
                  <a:lnTo>
                    <a:pt x="539" y="460"/>
                  </a:lnTo>
                  <a:lnTo>
                    <a:pt x="554" y="460"/>
                  </a:lnTo>
                  <a:lnTo>
                    <a:pt x="569" y="460"/>
                  </a:lnTo>
                  <a:lnTo>
                    <a:pt x="582" y="460"/>
                  </a:lnTo>
                  <a:lnTo>
                    <a:pt x="597" y="460"/>
                  </a:lnTo>
                  <a:lnTo>
                    <a:pt x="612" y="460"/>
                  </a:lnTo>
                  <a:lnTo>
                    <a:pt x="626" y="460"/>
                  </a:lnTo>
                  <a:lnTo>
                    <a:pt x="641" y="460"/>
                  </a:lnTo>
                  <a:lnTo>
                    <a:pt x="656" y="460"/>
                  </a:lnTo>
                  <a:lnTo>
                    <a:pt x="669" y="474"/>
                  </a:lnTo>
                  <a:lnTo>
                    <a:pt x="684" y="460"/>
                  </a:lnTo>
                  <a:lnTo>
                    <a:pt x="699" y="460"/>
                  </a:lnTo>
                  <a:lnTo>
                    <a:pt x="714" y="460"/>
                  </a:lnTo>
                  <a:lnTo>
                    <a:pt x="728" y="460"/>
                  </a:lnTo>
                  <a:lnTo>
                    <a:pt x="743" y="474"/>
                  </a:lnTo>
                  <a:lnTo>
                    <a:pt x="758" y="486"/>
                  </a:lnTo>
                  <a:lnTo>
                    <a:pt x="772" y="474"/>
                  </a:lnTo>
                  <a:lnTo>
                    <a:pt x="787" y="474"/>
                  </a:lnTo>
                  <a:lnTo>
                    <a:pt x="802" y="448"/>
                  </a:lnTo>
                  <a:lnTo>
                    <a:pt x="802" y="345"/>
                  </a:lnTo>
                  <a:lnTo>
                    <a:pt x="815" y="333"/>
                  </a:lnTo>
                  <a:lnTo>
                    <a:pt x="815" y="282"/>
                  </a:lnTo>
                  <a:lnTo>
                    <a:pt x="815" y="423"/>
                  </a:lnTo>
                  <a:lnTo>
                    <a:pt x="830" y="486"/>
                  </a:lnTo>
                  <a:lnTo>
                    <a:pt x="830" y="962"/>
                  </a:lnTo>
                  <a:lnTo>
                    <a:pt x="845" y="1013"/>
                  </a:lnTo>
                  <a:lnTo>
                    <a:pt x="845" y="1219"/>
                  </a:lnTo>
                  <a:lnTo>
                    <a:pt x="859" y="1205"/>
                  </a:lnTo>
                  <a:lnTo>
                    <a:pt x="859" y="744"/>
                  </a:lnTo>
                  <a:lnTo>
                    <a:pt x="874" y="680"/>
                  </a:lnTo>
                  <a:lnTo>
                    <a:pt x="874" y="409"/>
                  </a:lnTo>
                  <a:lnTo>
                    <a:pt x="889" y="397"/>
                  </a:lnTo>
                  <a:lnTo>
                    <a:pt x="889" y="319"/>
                  </a:lnTo>
                  <a:lnTo>
                    <a:pt x="904" y="307"/>
                  </a:lnTo>
                  <a:lnTo>
                    <a:pt x="904" y="268"/>
                  </a:lnTo>
                  <a:lnTo>
                    <a:pt x="917" y="256"/>
                  </a:lnTo>
                  <a:lnTo>
                    <a:pt x="917" y="229"/>
                  </a:lnTo>
                  <a:lnTo>
                    <a:pt x="932" y="217"/>
                  </a:lnTo>
                  <a:lnTo>
                    <a:pt x="932" y="178"/>
                  </a:lnTo>
                  <a:lnTo>
                    <a:pt x="947" y="166"/>
                  </a:lnTo>
                  <a:lnTo>
                    <a:pt x="947" y="114"/>
                  </a:lnTo>
                  <a:lnTo>
                    <a:pt x="961" y="102"/>
                  </a:lnTo>
                  <a:lnTo>
                    <a:pt x="961" y="37"/>
                  </a:lnTo>
                  <a:lnTo>
                    <a:pt x="976" y="25"/>
                  </a:lnTo>
                  <a:lnTo>
                    <a:pt x="991" y="37"/>
                  </a:lnTo>
                  <a:lnTo>
                    <a:pt x="991" y="76"/>
                  </a:lnTo>
                  <a:lnTo>
                    <a:pt x="1004" y="88"/>
                  </a:lnTo>
                  <a:lnTo>
                    <a:pt x="1004" y="217"/>
                  </a:lnTo>
                  <a:lnTo>
                    <a:pt x="1019" y="229"/>
                  </a:lnTo>
                  <a:lnTo>
                    <a:pt x="1019" y="333"/>
                  </a:lnTo>
                  <a:lnTo>
                    <a:pt x="1034" y="345"/>
                  </a:lnTo>
                  <a:lnTo>
                    <a:pt x="1034" y="397"/>
                  </a:lnTo>
                  <a:lnTo>
                    <a:pt x="1063" y="423"/>
                  </a:lnTo>
                  <a:lnTo>
                    <a:pt x="1063" y="435"/>
                  </a:lnTo>
                  <a:lnTo>
                    <a:pt x="1078" y="448"/>
                  </a:lnTo>
                  <a:lnTo>
                    <a:pt x="1093" y="448"/>
                  </a:lnTo>
                  <a:lnTo>
                    <a:pt x="1106" y="435"/>
                  </a:lnTo>
                  <a:lnTo>
                    <a:pt x="1121" y="435"/>
                  </a:lnTo>
                  <a:lnTo>
                    <a:pt x="1136" y="423"/>
                  </a:lnTo>
                  <a:lnTo>
                    <a:pt x="1150" y="423"/>
                  </a:lnTo>
                  <a:lnTo>
                    <a:pt x="1165" y="435"/>
                  </a:lnTo>
                  <a:lnTo>
                    <a:pt x="1180" y="435"/>
                  </a:lnTo>
                  <a:lnTo>
                    <a:pt x="1193" y="448"/>
                  </a:lnTo>
                  <a:lnTo>
                    <a:pt x="1208" y="448"/>
                  </a:lnTo>
                  <a:lnTo>
                    <a:pt x="1223" y="460"/>
                  </a:lnTo>
                  <a:lnTo>
                    <a:pt x="1238" y="460"/>
                  </a:lnTo>
                  <a:lnTo>
                    <a:pt x="1252" y="460"/>
                  </a:lnTo>
                  <a:lnTo>
                    <a:pt x="1267" y="460"/>
                  </a:lnTo>
                  <a:lnTo>
                    <a:pt x="1282" y="460"/>
                  </a:lnTo>
                  <a:lnTo>
                    <a:pt x="1295" y="474"/>
                  </a:lnTo>
                  <a:lnTo>
                    <a:pt x="1310" y="474"/>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984120" y="5638680"/>
              <a:ext cx="2125080" cy="906120"/>
            </a:xfrm>
            <a:custGeom>
              <a:avLst/>
              <a:gdLst/>
              <a:ahLst/>
              <a:rect l="l" t="t" r="r" b="b"/>
              <a:pathLst>
                <a:path w="1542" h="1142">
                  <a:moveTo>
                    <a:pt x="0" y="437"/>
                  </a:moveTo>
                  <a:lnTo>
                    <a:pt x="15" y="437"/>
                  </a:lnTo>
                  <a:lnTo>
                    <a:pt x="29" y="437"/>
                  </a:lnTo>
                  <a:lnTo>
                    <a:pt x="44" y="450"/>
                  </a:lnTo>
                  <a:lnTo>
                    <a:pt x="59" y="450"/>
                  </a:lnTo>
                  <a:lnTo>
                    <a:pt x="72" y="450"/>
                  </a:lnTo>
                  <a:lnTo>
                    <a:pt x="87" y="437"/>
                  </a:lnTo>
                  <a:lnTo>
                    <a:pt x="103" y="437"/>
                  </a:lnTo>
                  <a:lnTo>
                    <a:pt x="116" y="450"/>
                  </a:lnTo>
                  <a:lnTo>
                    <a:pt x="131" y="462"/>
                  </a:lnTo>
                  <a:lnTo>
                    <a:pt x="146" y="462"/>
                  </a:lnTo>
                  <a:lnTo>
                    <a:pt x="161" y="462"/>
                  </a:lnTo>
                  <a:lnTo>
                    <a:pt x="175" y="450"/>
                  </a:lnTo>
                  <a:lnTo>
                    <a:pt x="190" y="437"/>
                  </a:lnTo>
                  <a:lnTo>
                    <a:pt x="190" y="296"/>
                  </a:lnTo>
                  <a:lnTo>
                    <a:pt x="205" y="270"/>
                  </a:lnTo>
                  <a:lnTo>
                    <a:pt x="205" y="257"/>
                  </a:lnTo>
                  <a:lnTo>
                    <a:pt x="205" y="437"/>
                  </a:lnTo>
                  <a:lnTo>
                    <a:pt x="218" y="501"/>
                  </a:lnTo>
                  <a:lnTo>
                    <a:pt x="218" y="937"/>
                  </a:lnTo>
                  <a:lnTo>
                    <a:pt x="233" y="976"/>
                  </a:lnTo>
                  <a:lnTo>
                    <a:pt x="233" y="1142"/>
                  </a:lnTo>
                  <a:lnTo>
                    <a:pt x="233" y="1130"/>
                  </a:lnTo>
                  <a:lnTo>
                    <a:pt x="248" y="1105"/>
                  </a:lnTo>
                  <a:lnTo>
                    <a:pt x="248" y="655"/>
                  </a:lnTo>
                  <a:lnTo>
                    <a:pt x="262" y="592"/>
                  </a:lnTo>
                  <a:lnTo>
                    <a:pt x="262" y="372"/>
                  </a:lnTo>
                  <a:lnTo>
                    <a:pt x="277" y="360"/>
                  </a:lnTo>
                  <a:lnTo>
                    <a:pt x="277" y="282"/>
                  </a:lnTo>
                  <a:lnTo>
                    <a:pt x="292" y="270"/>
                  </a:lnTo>
                  <a:lnTo>
                    <a:pt x="292" y="245"/>
                  </a:lnTo>
                  <a:lnTo>
                    <a:pt x="305" y="231"/>
                  </a:lnTo>
                  <a:lnTo>
                    <a:pt x="305" y="206"/>
                  </a:lnTo>
                  <a:lnTo>
                    <a:pt x="320" y="194"/>
                  </a:lnTo>
                  <a:lnTo>
                    <a:pt x="320" y="155"/>
                  </a:lnTo>
                  <a:lnTo>
                    <a:pt x="335" y="141"/>
                  </a:lnTo>
                  <a:lnTo>
                    <a:pt x="335" y="78"/>
                  </a:lnTo>
                  <a:lnTo>
                    <a:pt x="349" y="65"/>
                  </a:lnTo>
                  <a:lnTo>
                    <a:pt x="349" y="26"/>
                  </a:lnTo>
                  <a:lnTo>
                    <a:pt x="364" y="14"/>
                  </a:lnTo>
                  <a:lnTo>
                    <a:pt x="364" y="0"/>
                  </a:lnTo>
                  <a:lnTo>
                    <a:pt x="364" y="14"/>
                  </a:lnTo>
                  <a:lnTo>
                    <a:pt x="379" y="26"/>
                  </a:lnTo>
                  <a:lnTo>
                    <a:pt x="379" y="90"/>
                  </a:lnTo>
                  <a:lnTo>
                    <a:pt x="394" y="104"/>
                  </a:lnTo>
                  <a:lnTo>
                    <a:pt x="394" y="219"/>
                  </a:lnTo>
                  <a:lnTo>
                    <a:pt x="407" y="231"/>
                  </a:lnTo>
                  <a:lnTo>
                    <a:pt x="407" y="309"/>
                  </a:lnTo>
                  <a:lnTo>
                    <a:pt x="422" y="321"/>
                  </a:lnTo>
                  <a:lnTo>
                    <a:pt x="422" y="372"/>
                  </a:lnTo>
                  <a:lnTo>
                    <a:pt x="452" y="398"/>
                  </a:lnTo>
                  <a:lnTo>
                    <a:pt x="437" y="398"/>
                  </a:lnTo>
                  <a:lnTo>
                    <a:pt x="452" y="398"/>
                  </a:lnTo>
                  <a:lnTo>
                    <a:pt x="467" y="411"/>
                  </a:lnTo>
                  <a:lnTo>
                    <a:pt x="481" y="411"/>
                  </a:lnTo>
                  <a:lnTo>
                    <a:pt x="496" y="411"/>
                  </a:lnTo>
                  <a:lnTo>
                    <a:pt x="511" y="398"/>
                  </a:lnTo>
                  <a:lnTo>
                    <a:pt x="524" y="398"/>
                  </a:lnTo>
                  <a:lnTo>
                    <a:pt x="539" y="411"/>
                  </a:lnTo>
                  <a:lnTo>
                    <a:pt x="554" y="411"/>
                  </a:lnTo>
                  <a:lnTo>
                    <a:pt x="568" y="423"/>
                  </a:lnTo>
                  <a:lnTo>
                    <a:pt x="583" y="423"/>
                  </a:lnTo>
                  <a:lnTo>
                    <a:pt x="598" y="437"/>
                  </a:lnTo>
                  <a:lnTo>
                    <a:pt x="613" y="437"/>
                  </a:lnTo>
                  <a:lnTo>
                    <a:pt x="626" y="437"/>
                  </a:lnTo>
                  <a:lnTo>
                    <a:pt x="641" y="437"/>
                  </a:lnTo>
                  <a:lnTo>
                    <a:pt x="656" y="437"/>
                  </a:lnTo>
                  <a:lnTo>
                    <a:pt x="670" y="437"/>
                  </a:lnTo>
                  <a:lnTo>
                    <a:pt x="685" y="437"/>
                  </a:lnTo>
                  <a:lnTo>
                    <a:pt x="700" y="437"/>
                  </a:lnTo>
                  <a:lnTo>
                    <a:pt x="713" y="437"/>
                  </a:lnTo>
                  <a:lnTo>
                    <a:pt x="728" y="437"/>
                  </a:lnTo>
                  <a:lnTo>
                    <a:pt x="743" y="437"/>
                  </a:lnTo>
                  <a:lnTo>
                    <a:pt x="757" y="437"/>
                  </a:lnTo>
                  <a:lnTo>
                    <a:pt x="772" y="437"/>
                  </a:lnTo>
                  <a:lnTo>
                    <a:pt x="787" y="437"/>
                  </a:lnTo>
                  <a:lnTo>
                    <a:pt x="801" y="437"/>
                  </a:lnTo>
                  <a:lnTo>
                    <a:pt x="816" y="437"/>
                  </a:lnTo>
                  <a:lnTo>
                    <a:pt x="831" y="437"/>
                  </a:lnTo>
                  <a:lnTo>
                    <a:pt x="846" y="437"/>
                  </a:lnTo>
                  <a:lnTo>
                    <a:pt x="859" y="437"/>
                  </a:lnTo>
                  <a:lnTo>
                    <a:pt x="874" y="437"/>
                  </a:lnTo>
                  <a:lnTo>
                    <a:pt x="889" y="437"/>
                  </a:lnTo>
                  <a:lnTo>
                    <a:pt x="903" y="437"/>
                  </a:lnTo>
                  <a:lnTo>
                    <a:pt x="918" y="437"/>
                  </a:lnTo>
                  <a:lnTo>
                    <a:pt x="933" y="437"/>
                  </a:lnTo>
                  <a:lnTo>
                    <a:pt x="946" y="437"/>
                  </a:lnTo>
                  <a:lnTo>
                    <a:pt x="961" y="437"/>
                  </a:lnTo>
                  <a:lnTo>
                    <a:pt x="976" y="437"/>
                  </a:lnTo>
                  <a:lnTo>
                    <a:pt x="990" y="437"/>
                  </a:lnTo>
                  <a:lnTo>
                    <a:pt x="1005" y="437"/>
                  </a:lnTo>
                  <a:lnTo>
                    <a:pt x="1020" y="437"/>
                  </a:lnTo>
                  <a:lnTo>
                    <a:pt x="1033" y="437"/>
                  </a:lnTo>
                  <a:lnTo>
                    <a:pt x="1048" y="437"/>
                  </a:lnTo>
                  <a:lnTo>
                    <a:pt x="1063" y="437"/>
                  </a:lnTo>
                  <a:lnTo>
                    <a:pt x="1078" y="437"/>
                  </a:lnTo>
                  <a:lnTo>
                    <a:pt x="1092" y="437"/>
                  </a:lnTo>
                  <a:lnTo>
                    <a:pt x="1107" y="437"/>
                  </a:lnTo>
                  <a:lnTo>
                    <a:pt x="1122" y="437"/>
                  </a:lnTo>
                  <a:lnTo>
                    <a:pt x="1135" y="437"/>
                  </a:lnTo>
                  <a:lnTo>
                    <a:pt x="1150" y="437"/>
                  </a:lnTo>
                  <a:lnTo>
                    <a:pt x="1165" y="437"/>
                  </a:lnTo>
                  <a:lnTo>
                    <a:pt x="1179" y="437"/>
                  </a:lnTo>
                  <a:lnTo>
                    <a:pt x="1194" y="437"/>
                  </a:lnTo>
                  <a:lnTo>
                    <a:pt x="1209" y="437"/>
                  </a:lnTo>
                  <a:lnTo>
                    <a:pt x="1222" y="437"/>
                  </a:lnTo>
                  <a:lnTo>
                    <a:pt x="1237" y="437"/>
                  </a:lnTo>
                  <a:lnTo>
                    <a:pt x="1252" y="437"/>
                  </a:lnTo>
                  <a:lnTo>
                    <a:pt x="1266" y="437"/>
                  </a:lnTo>
                  <a:lnTo>
                    <a:pt x="1281" y="437"/>
                  </a:lnTo>
                  <a:lnTo>
                    <a:pt x="1296" y="437"/>
                  </a:lnTo>
                  <a:lnTo>
                    <a:pt x="1311" y="437"/>
                  </a:lnTo>
                  <a:lnTo>
                    <a:pt x="1324" y="437"/>
                  </a:lnTo>
                  <a:lnTo>
                    <a:pt x="1339" y="437"/>
                  </a:lnTo>
                  <a:lnTo>
                    <a:pt x="1354" y="437"/>
                  </a:lnTo>
                  <a:lnTo>
                    <a:pt x="1368" y="437"/>
                  </a:lnTo>
                  <a:lnTo>
                    <a:pt x="1383" y="437"/>
                  </a:lnTo>
                  <a:lnTo>
                    <a:pt x="1398" y="437"/>
                  </a:lnTo>
                  <a:lnTo>
                    <a:pt x="1411" y="437"/>
                  </a:lnTo>
                  <a:lnTo>
                    <a:pt x="1426" y="437"/>
                  </a:lnTo>
                  <a:lnTo>
                    <a:pt x="1441" y="437"/>
                  </a:lnTo>
                  <a:lnTo>
                    <a:pt x="1455" y="437"/>
                  </a:lnTo>
                  <a:lnTo>
                    <a:pt x="1470" y="437"/>
                  </a:lnTo>
                  <a:lnTo>
                    <a:pt x="1485" y="437"/>
                  </a:lnTo>
                  <a:lnTo>
                    <a:pt x="1499" y="437"/>
                  </a:lnTo>
                  <a:lnTo>
                    <a:pt x="1514" y="437"/>
                  </a:lnTo>
                  <a:lnTo>
                    <a:pt x="1529" y="437"/>
                  </a:lnTo>
                  <a:lnTo>
                    <a:pt x="1542" y="437"/>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109560" y="5659200"/>
              <a:ext cx="1863360" cy="885600"/>
            </a:xfrm>
            <a:custGeom>
              <a:avLst/>
              <a:gdLst/>
              <a:ahLst/>
              <a:rect l="l" t="t" r="r" b="b"/>
              <a:pathLst>
                <a:path w="1353" h="1116">
                  <a:moveTo>
                    <a:pt x="0" y="411"/>
                  </a:moveTo>
                  <a:lnTo>
                    <a:pt x="15" y="411"/>
                  </a:lnTo>
                  <a:lnTo>
                    <a:pt x="30" y="411"/>
                  </a:lnTo>
                  <a:lnTo>
                    <a:pt x="45" y="423"/>
                  </a:lnTo>
                  <a:lnTo>
                    <a:pt x="59" y="423"/>
                  </a:lnTo>
                  <a:lnTo>
                    <a:pt x="74" y="423"/>
                  </a:lnTo>
                  <a:lnTo>
                    <a:pt x="89" y="423"/>
                  </a:lnTo>
                  <a:lnTo>
                    <a:pt x="102" y="411"/>
                  </a:lnTo>
                  <a:lnTo>
                    <a:pt x="117" y="411"/>
                  </a:lnTo>
                  <a:lnTo>
                    <a:pt x="132" y="411"/>
                  </a:lnTo>
                  <a:lnTo>
                    <a:pt x="146" y="423"/>
                  </a:lnTo>
                  <a:lnTo>
                    <a:pt x="161" y="436"/>
                  </a:lnTo>
                  <a:lnTo>
                    <a:pt x="176" y="436"/>
                  </a:lnTo>
                  <a:lnTo>
                    <a:pt x="189" y="436"/>
                  </a:lnTo>
                  <a:lnTo>
                    <a:pt x="204" y="423"/>
                  </a:lnTo>
                  <a:lnTo>
                    <a:pt x="204" y="372"/>
                  </a:lnTo>
                  <a:lnTo>
                    <a:pt x="219" y="346"/>
                  </a:lnTo>
                  <a:lnTo>
                    <a:pt x="219" y="231"/>
                  </a:lnTo>
                  <a:lnTo>
                    <a:pt x="233" y="231"/>
                  </a:lnTo>
                  <a:lnTo>
                    <a:pt x="233" y="603"/>
                  </a:lnTo>
                  <a:lnTo>
                    <a:pt x="248" y="668"/>
                  </a:lnTo>
                  <a:lnTo>
                    <a:pt x="248" y="1014"/>
                  </a:lnTo>
                  <a:lnTo>
                    <a:pt x="263" y="1052"/>
                  </a:lnTo>
                  <a:lnTo>
                    <a:pt x="263" y="1091"/>
                  </a:lnTo>
                  <a:lnTo>
                    <a:pt x="263" y="975"/>
                  </a:lnTo>
                  <a:lnTo>
                    <a:pt x="278" y="911"/>
                  </a:lnTo>
                  <a:lnTo>
                    <a:pt x="278" y="474"/>
                  </a:lnTo>
                  <a:lnTo>
                    <a:pt x="291" y="448"/>
                  </a:lnTo>
                  <a:lnTo>
                    <a:pt x="291" y="295"/>
                  </a:lnTo>
                  <a:lnTo>
                    <a:pt x="306" y="282"/>
                  </a:lnTo>
                  <a:lnTo>
                    <a:pt x="306" y="244"/>
                  </a:lnTo>
                  <a:lnTo>
                    <a:pt x="321" y="231"/>
                  </a:lnTo>
                  <a:lnTo>
                    <a:pt x="321" y="205"/>
                  </a:lnTo>
                  <a:lnTo>
                    <a:pt x="335" y="192"/>
                  </a:lnTo>
                  <a:lnTo>
                    <a:pt x="335" y="166"/>
                  </a:lnTo>
                  <a:lnTo>
                    <a:pt x="350" y="154"/>
                  </a:lnTo>
                  <a:lnTo>
                    <a:pt x="350" y="102"/>
                  </a:lnTo>
                  <a:lnTo>
                    <a:pt x="365" y="90"/>
                  </a:lnTo>
                  <a:lnTo>
                    <a:pt x="365" y="39"/>
                  </a:lnTo>
                  <a:lnTo>
                    <a:pt x="378" y="25"/>
                  </a:lnTo>
                  <a:lnTo>
                    <a:pt x="378" y="0"/>
                  </a:lnTo>
                  <a:lnTo>
                    <a:pt x="408" y="25"/>
                  </a:lnTo>
                  <a:lnTo>
                    <a:pt x="408" y="115"/>
                  </a:lnTo>
                  <a:lnTo>
                    <a:pt x="422" y="141"/>
                  </a:lnTo>
                  <a:lnTo>
                    <a:pt x="422" y="244"/>
                  </a:lnTo>
                  <a:lnTo>
                    <a:pt x="437" y="256"/>
                  </a:lnTo>
                  <a:lnTo>
                    <a:pt x="437" y="321"/>
                  </a:lnTo>
                  <a:lnTo>
                    <a:pt x="452" y="333"/>
                  </a:lnTo>
                  <a:lnTo>
                    <a:pt x="452" y="360"/>
                  </a:lnTo>
                  <a:lnTo>
                    <a:pt x="465" y="372"/>
                  </a:lnTo>
                  <a:lnTo>
                    <a:pt x="480" y="385"/>
                  </a:lnTo>
                  <a:lnTo>
                    <a:pt x="495" y="397"/>
                  </a:lnTo>
                  <a:lnTo>
                    <a:pt x="510" y="397"/>
                  </a:lnTo>
                  <a:lnTo>
                    <a:pt x="524" y="385"/>
                  </a:lnTo>
                  <a:lnTo>
                    <a:pt x="539" y="385"/>
                  </a:lnTo>
                  <a:lnTo>
                    <a:pt x="554" y="385"/>
                  </a:lnTo>
                  <a:lnTo>
                    <a:pt x="567" y="385"/>
                  </a:lnTo>
                  <a:lnTo>
                    <a:pt x="582" y="397"/>
                  </a:lnTo>
                  <a:lnTo>
                    <a:pt x="597" y="411"/>
                  </a:lnTo>
                  <a:lnTo>
                    <a:pt x="611" y="411"/>
                  </a:lnTo>
                  <a:lnTo>
                    <a:pt x="626" y="411"/>
                  </a:lnTo>
                  <a:lnTo>
                    <a:pt x="641" y="423"/>
                  </a:lnTo>
                  <a:lnTo>
                    <a:pt x="655" y="423"/>
                  </a:lnTo>
                  <a:lnTo>
                    <a:pt x="670" y="423"/>
                  </a:lnTo>
                  <a:lnTo>
                    <a:pt x="685" y="423"/>
                  </a:lnTo>
                  <a:lnTo>
                    <a:pt x="698" y="423"/>
                  </a:lnTo>
                  <a:lnTo>
                    <a:pt x="713" y="423"/>
                  </a:lnTo>
                  <a:lnTo>
                    <a:pt x="728" y="423"/>
                  </a:lnTo>
                  <a:lnTo>
                    <a:pt x="743" y="436"/>
                  </a:lnTo>
                  <a:lnTo>
                    <a:pt x="757" y="436"/>
                  </a:lnTo>
                  <a:lnTo>
                    <a:pt x="772" y="436"/>
                  </a:lnTo>
                  <a:lnTo>
                    <a:pt x="787" y="423"/>
                  </a:lnTo>
                  <a:lnTo>
                    <a:pt x="800" y="423"/>
                  </a:lnTo>
                  <a:lnTo>
                    <a:pt x="815" y="423"/>
                  </a:lnTo>
                  <a:lnTo>
                    <a:pt x="830" y="423"/>
                  </a:lnTo>
                  <a:lnTo>
                    <a:pt x="844" y="436"/>
                  </a:lnTo>
                  <a:lnTo>
                    <a:pt x="859" y="436"/>
                  </a:lnTo>
                  <a:lnTo>
                    <a:pt x="874" y="436"/>
                  </a:lnTo>
                  <a:lnTo>
                    <a:pt x="887" y="423"/>
                  </a:lnTo>
                  <a:lnTo>
                    <a:pt x="902" y="411"/>
                  </a:lnTo>
                  <a:lnTo>
                    <a:pt x="902" y="295"/>
                  </a:lnTo>
                  <a:lnTo>
                    <a:pt x="917" y="270"/>
                  </a:lnTo>
                  <a:lnTo>
                    <a:pt x="917" y="231"/>
                  </a:lnTo>
                  <a:lnTo>
                    <a:pt x="917" y="321"/>
                  </a:lnTo>
                  <a:lnTo>
                    <a:pt x="931" y="385"/>
                  </a:lnTo>
                  <a:lnTo>
                    <a:pt x="931" y="885"/>
                  </a:lnTo>
                  <a:lnTo>
                    <a:pt x="946" y="924"/>
                  </a:lnTo>
                  <a:lnTo>
                    <a:pt x="946" y="1116"/>
                  </a:lnTo>
                  <a:lnTo>
                    <a:pt x="961" y="1116"/>
                  </a:lnTo>
                  <a:lnTo>
                    <a:pt x="961" y="732"/>
                  </a:lnTo>
                  <a:lnTo>
                    <a:pt x="974" y="654"/>
                  </a:lnTo>
                  <a:lnTo>
                    <a:pt x="974" y="360"/>
                  </a:lnTo>
                  <a:lnTo>
                    <a:pt x="989" y="346"/>
                  </a:lnTo>
                  <a:lnTo>
                    <a:pt x="989" y="270"/>
                  </a:lnTo>
                  <a:lnTo>
                    <a:pt x="1004" y="256"/>
                  </a:lnTo>
                  <a:lnTo>
                    <a:pt x="1004" y="231"/>
                  </a:lnTo>
                  <a:lnTo>
                    <a:pt x="1019" y="217"/>
                  </a:lnTo>
                  <a:lnTo>
                    <a:pt x="1019" y="180"/>
                  </a:lnTo>
                  <a:lnTo>
                    <a:pt x="1033" y="166"/>
                  </a:lnTo>
                  <a:lnTo>
                    <a:pt x="1033" y="129"/>
                  </a:lnTo>
                  <a:lnTo>
                    <a:pt x="1048" y="115"/>
                  </a:lnTo>
                  <a:lnTo>
                    <a:pt x="1048" y="64"/>
                  </a:lnTo>
                  <a:lnTo>
                    <a:pt x="1063" y="51"/>
                  </a:lnTo>
                  <a:lnTo>
                    <a:pt x="1063" y="13"/>
                  </a:lnTo>
                  <a:lnTo>
                    <a:pt x="1076" y="0"/>
                  </a:lnTo>
                  <a:lnTo>
                    <a:pt x="1091" y="13"/>
                  </a:lnTo>
                  <a:lnTo>
                    <a:pt x="1091" y="51"/>
                  </a:lnTo>
                  <a:lnTo>
                    <a:pt x="1106" y="64"/>
                  </a:lnTo>
                  <a:lnTo>
                    <a:pt x="1106" y="166"/>
                  </a:lnTo>
                  <a:lnTo>
                    <a:pt x="1120" y="180"/>
                  </a:lnTo>
                  <a:lnTo>
                    <a:pt x="1120" y="282"/>
                  </a:lnTo>
                  <a:lnTo>
                    <a:pt x="1135" y="295"/>
                  </a:lnTo>
                  <a:lnTo>
                    <a:pt x="1135" y="333"/>
                  </a:lnTo>
                  <a:lnTo>
                    <a:pt x="1163" y="360"/>
                  </a:lnTo>
                  <a:lnTo>
                    <a:pt x="1163" y="372"/>
                  </a:lnTo>
                  <a:lnTo>
                    <a:pt x="1178" y="372"/>
                  </a:lnTo>
                  <a:lnTo>
                    <a:pt x="1193" y="372"/>
                  </a:lnTo>
                  <a:lnTo>
                    <a:pt x="1207" y="372"/>
                  </a:lnTo>
                  <a:lnTo>
                    <a:pt x="1222" y="360"/>
                  </a:lnTo>
                  <a:lnTo>
                    <a:pt x="1237" y="360"/>
                  </a:lnTo>
                  <a:lnTo>
                    <a:pt x="1252" y="360"/>
                  </a:lnTo>
                  <a:lnTo>
                    <a:pt x="1265" y="372"/>
                  </a:lnTo>
                  <a:lnTo>
                    <a:pt x="1280" y="385"/>
                  </a:lnTo>
                  <a:lnTo>
                    <a:pt x="1296" y="385"/>
                  </a:lnTo>
                  <a:lnTo>
                    <a:pt x="1309" y="397"/>
                  </a:lnTo>
                  <a:lnTo>
                    <a:pt x="1324" y="397"/>
                  </a:lnTo>
                  <a:lnTo>
                    <a:pt x="1339" y="397"/>
                  </a:lnTo>
                  <a:lnTo>
                    <a:pt x="1353" y="411"/>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972920" y="5638680"/>
              <a:ext cx="821160" cy="896400"/>
            </a:xfrm>
            <a:custGeom>
              <a:avLst/>
              <a:gdLst/>
              <a:ahLst/>
              <a:rect l="l" t="t" r="r" b="b"/>
              <a:pathLst>
                <a:path w="597" h="1130">
                  <a:moveTo>
                    <a:pt x="0" y="437"/>
                  </a:moveTo>
                  <a:lnTo>
                    <a:pt x="15" y="437"/>
                  </a:lnTo>
                  <a:lnTo>
                    <a:pt x="30" y="437"/>
                  </a:lnTo>
                  <a:lnTo>
                    <a:pt x="43" y="437"/>
                  </a:lnTo>
                  <a:lnTo>
                    <a:pt x="58" y="437"/>
                  </a:lnTo>
                  <a:lnTo>
                    <a:pt x="73" y="437"/>
                  </a:lnTo>
                  <a:lnTo>
                    <a:pt x="88" y="437"/>
                  </a:lnTo>
                  <a:lnTo>
                    <a:pt x="102" y="437"/>
                  </a:lnTo>
                  <a:lnTo>
                    <a:pt x="117" y="437"/>
                  </a:lnTo>
                  <a:lnTo>
                    <a:pt x="132" y="425"/>
                  </a:lnTo>
                  <a:lnTo>
                    <a:pt x="145" y="425"/>
                  </a:lnTo>
                  <a:lnTo>
                    <a:pt x="160" y="437"/>
                  </a:lnTo>
                  <a:lnTo>
                    <a:pt x="175" y="450"/>
                  </a:lnTo>
                  <a:lnTo>
                    <a:pt x="189" y="450"/>
                  </a:lnTo>
                  <a:lnTo>
                    <a:pt x="204" y="437"/>
                  </a:lnTo>
                  <a:lnTo>
                    <a:pt x="219" y="437"/>
                  </a:lnTo>
                  <a:lnTo>
                    <a:pt x="232" y="411"/>
                  </a:lnTo>
                  <a:lnTo>
                    <a:pt x="232" y="296"/>
                  </a:lnTo>
                  <a:lnTo>
                    <a:pt x="247" y="270"/>
                  </a:lnTo>
                  <a:lnTo>
                    <a:pt x="247" y="231"/>
                  </a:lnTo>
                  <a:lnTo>
                    <a:pt x="247" y="347"/>
                  </a:lnTo>
                  <a:lnTo>
                    <a:pt x="262" y="398"/>
                  </a:lnTo>
                  <a:lnTo>
                    <a:pt x="262" y="899"/>
                  </a:lnTo>
                  <a:lnTo>
                    <a:pt x="277" y="950"/>
                  </a:lnTo>
                  <a:lnTo>
                    <a:pt x="277" y="1130"/>
                  </a:lnTo>
                  <a:lnTo>
                    <a:pt x="291" y="1117"/>
                  </a:lnTo>
                  <a:lnTo>
                    <a:pt x="291" y="719"/>
                  </a:lnTo>
                  <a:lnTo>
                    <a:pt x="306" y="655"/>
                  </a:lnTo>
                  <a:lnTo>
                    <a:pt x="306" y="360"/>
                  </a:lnTo>
                  <a:lnTo>
                    <a:pt x="321" y="347"/>
                  </a:lnTo>
                  <a:lnTo>
                    <a:pt x="321" y="270"/>
                  </a:lnTo>
                  <a:lnTo>
                    <a:pt x="334" y="257"/>
                  </a:lnTo>
                  <a:lnTo>
                    <a:pt x="334" y="231"/>
                  </a:lnTo>
                  <a:lnTo>
                    <a:pt x="349" y="219"/>
                  </a:lnTo>
                  <a:lnTo>
                    <a:pt x="349" y="194"/>
                  </a:lnTo>
                  <a:lnTo>
                    <a:pt x="364" y="180"/>
                  </a:lnTo>
                  <a:lnTo>
                    <a:pt x="364" y="129"/>
                  </a:lnTo>
                  <a:lnTo>
                    <a:pt x="378" y="116"/>
                  </a:lnTo>
                  <a:lnTo>
                    <a:pt x="378" y="78"/>
                  </a:lnTo>
                  <a:lnTo>
                    <a:pt x="393" y="65"/>
                  </a:lnTo>
                  <a:lnTo>
                    <a:pt x="393" y="26"/>
                  </a:lnTo>
                  <a:lnTo>
                    <a:pt x="408" y="14"/>
                  </a:lnTo>
                  <a:lnTo>
                    <a:pt x="408" y="0"/>
                  </a:lnTo>
                  <a:lnTo>
                    <a:pt x="408" y="14"/>
                  </a:lnTo>
                  <a:lnTo>
                    <a:pt x="421" y="26"/>
                  </a:lnTo>
                  <a:lnTo>
                    <a:pt x="421" y="78"/>
                  </a:lnTo>
                  <a:lnTo>
                    <a:pt x="436" y="90"/>
                  </a:lnTo>
                  <a:lnTo>
                    <a:pt x="436" y="180"/>
                  </a:lnTo>
                  <a:lnTo>
                    <a:pt x="451" y="194"/>
                  </a:lnTo>
                  <a:lnTo>
                    <a:pt x="451" y="296"/>
                  </a:lnTo>
                  <a:lnTo>
                    <a:pt x="466" y="309"/>
                  </a:lnTo>
                  <a:lnTo>
                    <a:pt x="466" y="347"/>
                  </a:lnTo>
                  <a:lnTo>
                    <a:pt x="495" y="372"/>
                  </a:lnTo>
                  <a:lnTo>
                    <a:pt x="495" y="386"/>
                  </a:lnTo>
                  <a:lnTo>
                    <a:pt x="510" y="386"/>
                  </a:lnTo>
                  <a:lnTo>
                    <a:pt x="523" y="386"/>
                  </a:lnTo>
                  <a:lnTo>
                    <a:pt x="538" y="386"/>
                  </a:lnTo>
                  <a:lnTo>
                    <a:pt x="553" y="386"/>
                  </a:lnTo>
                  <a:lnTo>
                    <a:pt x="582" y="386"/>
                  </a:lnTo>
                  <a:lnTo>
                    <a:pt x="567" y="386"/>
                  </a:lnTo>
                  <a:lnTo>
                    <a:pt x="582" y="386"/>
                  </a:lnTo>
                  <a:lnTo>
                    <a:pt x="597" y="386"/>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1" name=""/>
          <p:cNvSpPr/>
          <p:nvPr/>
        </p:nvSpPr>
        <p:spPr>
          <a:xfrm>
            <a:off x="4160880" y="5491800"/>
            <a:ext cx="27385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lty Det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0T17:34:28Z</dcterms:created>
  <dc:creator>Information and Computer Science</dc:creator>
  <dc:description/>
  <dc:language>en-US</dc:language>
  <cp:lastModifiedBy>eamonn keogh</cp:lastModifiedBy>
  <cp:lastPrinted>2001-11-04T13:46:42Z</cp:lastPrinted>
  <dcterms:modified xsi:type="dcterms:W3CDTF">2004-04-26T01:42:27Z</dcterms:modified>
  <cp:revision>345</cp:revision>
  <dc:subject/>
  <dc:title>dd</dc:title>
</cp:coreProperties>
</file>