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698-65DE-4E68-A514-F018E81C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F24-58AA-49BA-9EEA-5DE9BA3D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C45-BD9F-466A-811E-C514470A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0AC-9CC4-44C6-B129-7F92EFDE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0FF-4890-4798-A60C-BBC26A4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DEB-376F-44B0-9EA1-3FBB301F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A9B-3979-4072-A82C-B012B890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232-3EB7-4669-ADA7-086A4F5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5E3-4839-4301-8373-BE919C5C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04A-3174-4589-91D2-02C8260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D31-56D9-4EF6-BAB5-5E97AD2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8B4-561C-4A6E-86CE-2D20A20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7457-C117-4193-AA77-3686039F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2514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34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0"/>
            <a:endCxn id="42" idx="6"/>
          </p:cNvCxnSpPr>
          <p:nvPr/>
        </p:nvCxnSpPr>
        <p:spPr>
          <a:xfrm flipV="1" rot="16200000">
            <a:off x="2971800" y="13716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048840" y="1447920"/>
            <a:ext cx="86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wor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3"/>
            <a:endCxn id="43" idx="2"/>
          </p:cNvCxnSpPr>
          <p:nvPr/>
        </p:nvCxnSpPr>
        <p:spPr>
          <a:xfrm flipV="1" rot="10800000">
            <a:off x="3657600" y="3295080"/>
            <a:ext cx="134280" cy="1505880"/>
          </a:xfrm>
          <a:prstGeom prst="curvedConnector3">
            <a:avLst>
              <a:gd name="adj1" fmla="val 1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0"/>
            <a:endCxn id="44" idx="2"/>
          </p:cNvCxnSpPr>
          <p:nvPr/>
        </p:nvCxnSpPr>
        <p:spPr>
          <a:xfrm flipH="1" flipV="1" rot="5400000">
            <a:off x="4381560" y="13334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666520" y="3809880"/>
            <a:ext cx="836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long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480" y="1447920"/>
            <a:ext cx="88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shor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4"/>
            <a:endCxn id="41" idx="2"/>
          </p:cNvCxnSpPr>
          <p:nvPr/>
        </p:nvCxnSpPr>
        <p:spPr>
          <a:xfrm flipH="1" rot="16200000">
            <a:off x="2514600" y="18288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981080" y="2666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3" idx="6"/>
            <a:endCxn id="41" idx="5"/>
          </p:cNvCxnSpPr>
          <p:nvPr/>
        </p:nvCxnSpPr>
        <p:spPr>
          <a:xfrm flipH="1" flipV="1">
            <a:off x="4438080" y="3295080"/>
            <a:ext cx="134280" cy="1505880"/>
          </a:xfrm>
          <a:prstGeom prst="curvedConnector3">
            <a:avLst>
              <a:gd name="adj1" fmla="val -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709880" y="3809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4"/>
            <a:endCxn id="41" idx="6"/>
          </p:cNvCxnSpPr>
          <p:nvPr/>
        </p:nvCxnSpPr>
        <p:spPr>
          <a:xfrm rot="5400000">
            <a:off x="4838760" y="17906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57800" y="274320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8440"/>
          <a:ext cx="8229600" cy="680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440"/>
                    <a:ext cx="822960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55:57Z</dcterms:created>
  <dc:creator>David Chassin</dc:creator>
  <dc:description/>
  <dc:language>en-US</dc:language>
  <cp:lastModifiedBy>David Chassin</cp:lastModifiedBy>
  <dcterms:modified xsi:type="dcterms:W3CDTF">2008-12-15T20:03:31Z</dcterms:modified>
  <cp:revision>3</cp:revision>
  <dc:subject/>
  <dc:title>Slide 1</dc:title>
</cp:coreProperties>
</file>