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DF60-05ED-4B69-B0BA-2445554AC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F257-7125-4E6B-9054-E0A57EC5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C1D4-CB53-4F1A-B918-E92271CBB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9906-F6BA-4E5A-A4A6-32E446B72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BF27-25D1-4186-AE2B-5F46F5E0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2D72-C9B5-4BF8-9EC4-2572C5D4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67F4-CF4A-4D67-8138-5FB5331F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24CD-6490-44F5-B101-E0EE29BA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ED4D-3183-409F-A930-775A6773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EDCD-A917-4178-A4EE-80BF8378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2BE5-7BB3-4D49-9388-254DE595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28C8-962B-4B64-B8B9-942AF386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12DB-4AA3-45F5-A800-993D95B94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3440" y="404640"/>
            <a:ext cx="5832360" cy="583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76360" y="620640"/>
            <a:ext cx="5543640" cy="5321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V="1">
            <a:off x="2635200" y="4003200"/>
            <a:ext cx="281160" cy="25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3606840" y="2060280"/>
            <a:ext cx="1469880" cy="1368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580000" y="1341360"/>
            <a:ext cx="21600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89360" y="3909960"/>
            <a:ext cx="12060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22720" y="1986120"/>
            <a:ext cx="12096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12:57:48Z</dcterms:created>
  <dc:creator>SEMIR (changer!)</dc:creator>
  <dc:description/>
  <dc:language>en-US</dc:language>
  <cp:lastModifiedBy>SEMIR (changer!)</cp:lastModifiedBy>
  <dcterms:modified xsi:type="dcterms:W3CDTF">2009-06-30T19:58:55Z</dcterms:modified>
  <cp:revision>6</cp:revision>
  <dc:subject/>
  <dc:title>Diapositive 1</dc:title>
</cp:coreProperties>
</file>