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BF2-DF1E-4972-9AD3-63E75D37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C6A-8EDF-4DA3-ACF9-DE612EBE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E81-9FFA-45D1-89A3-FE895147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25C-42C0-46C1-B0D7-6F4B1C95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D83-3FE8-4838-A181-2C350CD7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C40-C5C8-4140-876D-BA5CADC6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A6C-36AA-4321-83F3-740DD8E0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DBB-A533-4191-9B4D-4272F9B9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7BB-B308-473D-8C36-D19508BE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74A-590E-426B-9E2E-26360311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A1A-17E3-4D33-923A-DDB07039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051-E9E9-4A65-AF37-65C566BC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191-CFD8-4033-A726-C1903C0E0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25146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114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43434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1143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1" idx="0"/>
            <a:endCxn id="42" idx="6"/>
          </p:cNvCxnSpPr>
          <p:nvPr/>
        </p:nvCxnSpPr>
        <p:spPr>
          <a:xfrm flipV="1" rot="16200000">
            <a:off x="2971800" y="1371600"/>
            <a:ext cx="914760" cy="1371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3048840" y="1447920"/>
            <a:ext cx="868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work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3"/>
            <a:endCxn id="43" idx="2"/>
          </p:cNvCxnSpPr>
          <p:nvPr/>
        </p:nvCxnSpPr>
        <p:spPr>
          <a:xfrm flipV="1" rot="10800000">
            <a:off x="3657600" y="3295080"/>
            <a:ext cx="134280" cy="1505880"/>
          </a:xfrm>
          <a:prstGeom prst="curvedConnector3">
            <a:avLst>
              <a:gd name="adj1" fmla="val 1120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0"/>
            <a:endCxn id="44" idx="2"/>
          </p:cNvCxnSpPr>
          <p:nvPr/>
        </p:nvCxnSpPr>
        <p:spPr>
          <a:xfrm flipH="1" flipV="1" rot="5400000">
            <a:off x="4381560" y="1333440"/>
            <a:ext cx="914760" cy="144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666520" y="3809880"/>
            <a:ext cx="836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long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1480" y="1447920"/>
            <a:ext cx="88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short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4"/>
            <a:endCxn id="41" idx="2"/>
          </p:cNvCxnSpPr>
          <p:nvPr/>
        </p:nvCxnSpPr>
        <p:spPr>
          <a:xfrm flipH="1" rot="16200000">
            <a:off x="2514600" y="1828800"/>
            <a:ext cx="914760" cy="1371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981080" y="266688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3" idx="6"/>
            <a:endCxn id="41" idx="5"/>
          </p:cNvCxnSpPr>
          <p:nvPr/>
        </p:nvCxnSpPr>
        <p:spPr>
          <a:xfrm flipH="1" flipV="1">
            <a:off x="4438080" y="3295080"/>
            <a:ext cx="134280" cy="1505880"/>
          </a:xfrm>
          <a:prstGeom prst="curvedConnector3">
            <a:avLst>
              <a:gd name="adj1" fmla="val -120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4709880" y="380988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4" idx="4"/>
            <a:endCxn id="41" idx="6"/>
          </p:cNvCxnSpPr>
          <p:nvPr/>
        </p:nvCxnSpPr>
        <p:spPr>
          <a:xfrm rot="5400000">
            <a:off x="4838760" y="1790640"/>
            <a:ext cx="914760" cy="1448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257800" y="2743200"/>
            <a:ext cx="92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gohome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8440"/>
          <a:ext cx="8229600" cy="680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440"/>
                    <a:ext cx="8229600" cy="68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7:55:57Z</dcterms:created>
  <dc:creator>David Chassin</dc:creator>
  <dc:description/>
  <dc:language>en-US</dc:language>
  <cp:lastModifiedBy>David Chassin</cp:lastModifiedBy>
  <dcterms:modified xsi:type="dcterms:W3CDTF">2008-12-15T20:03:31Z</dcterms:modified>
  <cp:revision>3</cp:revision>
  <dc:subject/>
  <dc:title>Slide 1</dc:title>
</cp:coreProperties>
</file>