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A359-79CD-41AB-96FF-537A1ACF5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1C11-45C2-44F0-BD3D-3C079781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8725-4F79-4D1E-B525-78C8EEADE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09AB-3949-4269-A55E-C1DCF52A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9B79-D753-47F9-AAA3-686BC6E6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2122-41C1-47AC-9A32-1504643C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9B16-BC5F-4D67-8D90-226CB785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6994-333C-4A43-A6C5-05404A19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E2C2-9562-4C74-AB8B-CDE93D27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91B4-43B9-4187-960F-76BED6BD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18D7-34E9-47FF-A6DF-078A930D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4C78-4DFD-47FA-BF82-C864F208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D94C8-26D5-495E-BA92-4DA23B11F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22:58:13Z</dcterms:created>
  <dc:creator/>
  <dc:description/>
  <dc:language>en-US</dc:language>
  <cp:lastModifiedBy/>
  <cp:revision>0</cp:revision>
  <dc:subject/>
  <dc:title/>
</cp:coreProperties>
</file>