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548-E835-4450-BC41-6F16C04A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ball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 and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ed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985-12B6-4C22-A4C0-C1D566BF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B13-A75B-4944-8918-C2FBD4F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861-18EA-4022-A394-6EEB54AA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C13-2ABC-4BE1-8A7B-4831803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6B7-2BBD-4E01-B51E-3F2639ED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C73-3346-498C-B809-CE068F2E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11C-96BF-419B-AE0E-99EF19BA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87A-8650-4EC9-BCF8-ECE2FD4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C2D-5E78-4F2A-AB06-86A6E5B3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F80-2FBE-4B1B-A5EA-9F7027F9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752-4540-44B9-97EB-05023E9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FA5-2843-41F4-8EDA-EE1EBBB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EA42914C-796E-4769-8791-C702D270B8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6720" y="1405080"/>
            <a:ext cx="223380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69380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7080" y="241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9280" y="1681200"/>
            <a:ext cx="750600" cy="1008000"/>
            <a:chOff x="899280" y="1681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972720" y="1968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9280" y="1681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1476000" y="2328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693880" y="2160720"/>
            <a:ext cx="165600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541600" y="2332800"/>
            <a:ext cx="808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1840" y="1116000"/>
            <a:ext cx="177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i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58" idx="2"/>
          </p:cNvCxnSpPr>
          <p:nvPr/>
        </p:nvCxnSpPr>
        <p:spPr>
          <a:xfrm flipV="1">
            <a:off x="3693960" y="2332080"/>
            <a:ext cx="95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24238" t="13521" r="20277" b="30040"/>
          <a:stretch/>
        </p:blipFill>
        <p:spPr>
          <a:xfrm>
            <a:off x="0" y="81000"/>
            <a:ext cx="61214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9080" y="118728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2872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5080" y="3395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3280" y="1692360"/>
            <a:ext cx="750600" cy="1008000"/>
            <a:chOff x="323280" y="1692360"/>
            <a:chExt cx="750600" cy="1008000"/>
          </a:xfrm>
        </p:grpSpPr>
        <p:sp>
          <p:nvSpPr>
            <p:cNvPr id="64" name=""/>
            <p:cNvSpPr/>
            <p:nvPr/>
          </p:nvSpPr>
          <p:spPr>
            <a:xfrm>
              <a:off x="396720" y="197964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280" y="1692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"/>
          <p:cNvCxnSpPr>
            <a:stCxn id="64" idx="3"/>
            <a:endCxn id="61" idx="0"/>
          </p:cNvCxnSpPr>
          <p:nvPr/>
        </p:nvCxnSpPr>
        <p:spPr>
          <a:xfrm flipV="1">
            <a:off x="900000" y="2334600"/>
            <a:ext cx="434160" cy="540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923920" y="21603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1" idx="2"/>
            <a:endCxn id="69" idx="0"/>
          </p:cNvCxnSpPr>
          <p:nvPr/>
        </p:nvCxnSpPr>
        <p:spPr>
          <a:xfrm>
            <a:off x="1677960" y="23349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400040" y="826920"/>
            <a:ext cx="189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chu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2"/>
            <a:endCxn id="71" idx="2"/>
          </p:cNvCxnSpPr>
          <p:nvPr/>
        </p:nvCxnSpPr>
        <p:spPr>
          <a:xfrm flipV="1">
            <a:off x="3925800" y="2331360"/>
            <a:ext cx="720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 rot="16200000">
            <a:off x="132372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4" idx="0"/>
          </p:cNvCxnSpPr>
          <p:nvPr/>
        </p:nvCxnSpPr>
        <p:spPr>
          <a:xfrm>
            <a:off x="2254320" y="23349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241920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2"/>
            <a:endCxn id="67" idx="0"/>
          </p:cNvCxnSpPr>
          <p:nvPr/>
        </p:nvCxnSpPr>
        <p:spPr>
          <a:xfrm>
            <a:off x="3349440" y="233496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772720" y="3395520"/>
            <a:ext cx="79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7400" y="20653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382760"/>
            <a:ext cx="11509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03120"/>
            <a:ext cx="11919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5640" y="108000"/>
            <a:ext cx="750600" cy="1008000"/>
            <a:chOff x="-35640" y="108000"/>
            <a:chExt cx="750600" cy="1008000"/>
          </a:xfrm>
        </p:grpSpPr>
        <p:sp>
          <p:nvSpPr>
            <p:cNvPr id="81" name=""/>
            <p:cNvSpPr/>
            <p:nvPr/>
          </p:nvSpPr>
          <p:spPr>
            <a:xfrm>
              <a:off x="37800" y="3952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5640" y="108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6200000">
            <a:off x="154080" y="206964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0360" y="2390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 flipH="1" rot="16200000">
            <a:off x="-90720" y="1495800"/>
            <a:ext cx="1129320" cy="36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rot="16200000">
            <a:off x="649080" y="207000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86" idx="0"/>
          </p:cNvCxnSpPr>
          <p:nvPr/>
        </p:nvCxnSpPr>
        <p:spPr>
          <a:xfrm>
            <a:off x="1003320" y="224424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 rot="5400000">
            <a:off x="2413080" y="1738440"/>
            <a:ext cx="287280" cy="1008000"/>
          </a:xfrm>
          <a:prstGeom prst="can">
            <a:avLst>
              <a:gd name="adj" fmla="val 13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1"/>
            <a:endCxn id="90" idx="1"/>
          </p:cNvCxnSpPr>
          <p:nvPr/>
        </p:nvCxnSpPr>
        <p:spPr>
          <a:xfrm flipV="1">
            <a:off x="3063600" y="224136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92" idx="0"/>
          </p:cNvCxnSpPr>
          <p:nvPr/>
        </p:nvCxnSpPr>
        <p:spPr>
          <a:xfrm flipV="1">
            <a:off x="3063600" y="1275840"/>
            <a:ext cx="72756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94" idx="0"/>
          </p:cNvCxnSpPr>
          <p:nvPr/>
        </p:nvCxnSpPr>
        <p:spPr>
          <a:xfrm>
            <a:off x="3063600" y="2242800"/>
            <a:ext cx="719640" cy="10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6" idx="2"/>
            <a:endCxn id="88" idx="3"/>
          </p:cNvCxnSpPr>
          <p:nvPr/>
        </p:nvCxnSpPr>
        <p:spPr>
          <a:xfrm flipV="1">
            <a:off x="1579320" y="2242800"/>
            <a:ext cx="47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6200000">
            <a:off x="3715920" y="110952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33800" y="11012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0"/>
          </p:cNvCxnSpPr>
          <p:nvPr/>
        </p:nvCxnSpPr>
        <p:spPr>
          <a:xfrm>
            <a:off x="4135320" y="127620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6200000">
            <a:off x="3708360" y="311904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125880" y="311112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4127400" y="328608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99240" y="2103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4" idx="1"/>
            <a:endCxn id="86" idx="1"/>
          </p:cNvCxnSpPr>
          <p:nvPr/>
        </p:nvCxnSpPr>
        <p:spPr>
          <a:xfrm flipV="1" rot="16200000">
            <a:off x="2124360" y="2283840"/>
            <a:ext cx="1113120" cy="2548440"/>
          </a:xfrm>
          <a:prstGeom prst="bentConnector3">
            <a:avLst>
              <a:gd name="adj1" fmla="val -20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760760" y="403380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to throttl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8400" y="289080"/>
            <a:ext cx="145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2"/>
            <a:endCxn id="78" idx="0"/>
          </p:cNvCxnSpPr>
          <p:nvPr/>
        </p:nvCxnSpPr>
        <p:spPr>
          <a:xfrm rot="5400000">
            <a:off x="1266840" y="883440"/>
            <a:ext cx="348480" cy="65160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79" idx="0"/>
          </p:cNvCxnSpPr>
          <p:nvPr/>
        </p:nvCxnSpPr>
        <p:spPr>
          <a:xfrm flipH="1" rot="16200000">
            <a:off x="3318480" y="-613080"/>
            <a:ext cx="14760" cy="1816920"/>
          </a:xfrm>
          <a:prstGeom prst="bentConnector3">
            <a:avLst>
              <a:gd name="adj1" fmla="val -16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202360" y="193680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6" idx="2"/>
            <a:endCxn id="106" idx="2"/>
          </p:cNvCxnSpPr>
          <p:nvPr/>
        </p:nvCxnSpPr>
        <p:spPr>
          <a:xfrm>
            <a:off x="4717800" y="1283760"/>
            <a:ext cx="48492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2"/>
            <a:endCxn id="106" idx="2"/>
          </p:cNvCxnSpPr>
          <p:nvPr/>
        </p:nvCxnSpPr>
        <p:spPr>
          <a:xfrm flipV="1">
            <a:off x="4709880" y="2233080"/>
            <a:ext cx="492840" cy="10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0" idx="3"/>
            <a:endCxn id="106" idx="2"/>
          </p:cNvCxnSpPr>
          <p:nvPr/>
        </p:nvCxnSpPr>
        <p:spPr>
          <a:xfrm flipV="1">
            <a:off x="4334040" y="2232720"/>
            <a:ext cx="8690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546560" y="792000"/>
            <a:ext cx="43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60000" y="4211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7080" y="1390680"/>
            <a:ext cx="601920" cy="18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78000"/>
            <a:ext cx="169704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4" idx="3"/>
            <a:endCxn id="115" idx="0"/>
          </p:cNvCxnSpPr>
          <p:nvPr/>
        </p:nvCxnSpPr>
        <p:spPr>
          <a:xfrm flipH="1" rot="16200000">
            <a:off x="169920" y="1576080"/>
            <a:ext cx="101664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 rot="16200000">
            <a:off x="243000" y="2118960"/>
            <a:ext cx="16304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4"/>
            <a:endCxn id="118" idx="1"/>
          </p:cNvCxnSpPr>
          <p:nvPr/>
        </p:nvCxnSpPr>
        <p:spPr>
          <a:xfrm>
            <a:off x="2844720" y="229032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4"/>
            <a:endCxn id="120" idx="0"/>
          </p:cNvCxnSpPr>
          <p:nvPr/>
        </p:nvCxnSpPr>
        <p:spPr>
          <a:xfrm flipV="1">
            <a:off x="2844720" y="1310400"/>
            <a:ext cx="442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22" idx="0"/>
          </p:cNvCxnSpPr>
          <p:nvPr/>
        </p:nvCxnSpPr>
        <p:spPr>
          <a:xfrm>
            <a:off x="2844720" y="2290680"/>
            <a:ext cx="4341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2"/>
            <a:endCxn id="117" idx="2"/>
          </p:cNvCxnSpPr>
          <p:nvPr/>
        </p:nvCxnSpPr>
        <p:spPr>
          <a:xfrm flipV="1">
            <a:off x="1231920" y="2289960"/>
            <a:ext cx="892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6200000">
            <a:off x="3715920" y="114444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629080" y="113616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0" idx="2"/>
            <a:endCxn id="126" idx="0"/>
          </p:cNvCxnSpPr>
          <p:nvPr/>
        </p:nvCxnSpPr>
        <p:spPr>
          <a:xfrm>
            <a:off x="3630600" y="1310760"/>
            <a:ext cx="224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3708360" y="31539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621160" y="31460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9" idx="0"/>
          </p:cNvCxnSpPr>
          <p:nvPr/>
        </p:nvCxnSpPr>
        <p:spPr>
          <a:xfrm>
            <a:off x="3622320" y="3320640"/>
            <a:ext cx="191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999240" y="2152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2880" y="33012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0"/>
            <a:endCxn id="112" idx="0"/>
          </p:cNvCxnSpPr>
          <p:nvPr/>
        </p:nvCxnSpPr>
        <p:spPr>
          <a:xfrm flipH="1" rot="16200000">
            <a:off x="2856240" y="-748080"/>
            <a:ext cx="48600" cy="2202840"/>
          </a:xfrm>
          <a:prstGeom prst="bentConnector3">
            <a:avLst>
              <a:gd name="adj1" fmla="val -47985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4" idx="2"/>
            <a:endCxn id="132" idx="2"/>
          </p:cNvCxnSpPr>
          <p:nvPr/>
        </p:nvCxnSpPr>
        <p:spPr>
          <a:xfrm>
            <a:off x="4717800" y="1318680"/>
            <a:ext cx="484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32" idx="2"/>
          </p:cNvCxnSpPr>
          <p:nvPr/>
        </p:nvCxnSpPr>
        <p:spPr>
          <a:xfrm flipV="1">
            <a:off x="4709880" y="2290680"/>
            <a:ext cx="49284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8" idx="3"/>
            <a:endCxn id="132" idx="2"/>
          </p:cNvCxnSpPr>
          <p:nvPr/>
        </p:nvCxnSpPr>
        <p:spPr>
          <a:xfrm>
            <a:off x="4334040" y="2290320"/>
            <a:ext cx="869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08000" y="68436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1"/>
            <a:endCxn id="117" idx="3"/>
          </p:cNvCxnSpPr>
          <p:nvPr/>
        </p:nvCxnSpPr>
        <p:spPr>
          <a:xfrm flipV="1" rot="16200000">
            <a:off x="2185200" y="2885400"/>
            <a:ext cx="1562760" cy="965880"/>
          </a:xfrm>
          <a:prstGeom prst="bentConnector3">
            <a:avLst>
              <a:gd name="adj1" fmla="val -143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331640" y="363528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155760" y="31557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2"/>
            <a:endCxn id="127" idx="0"/>
          </p:cNvCxnSpPr>
          <p:nvPr/>
        </p:nvCxnSpPr>
        <p:spPr>
          <a:xfrm flipV="1">
            <a:off x="4157640" y="3328200"/>
            <a:ext cx="20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rot="16200000">
            <a:off x="3197160" y="113940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6" idx="2"/>
            <a:endCxn id="124" idx="0"/>
          </p:cNvCxnSpPr>
          <p:nvPr/>
        </p:nvCxnSpPr>
        <p:spPr>
          <a:xfrm>
            <a:off x="4198680" y="1314000"/>
            <a:ext cx="17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810080" y="68436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111" idx="0"/>
          </p:cNvCxnSpPr>
          <p:nvPr/>
        </p:nvCxnSpPr>
        <p:spPr>
          <a:xfrm flipV="1" rot="10800000">
            <a:off x="1058040" y="805320"/>
            <a:ext cx="753120" cy="585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03320" y="13032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763640"/>
            <a:ext cx="1297080" cy="194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9080" y="25635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8920" y="2266920"/>
            <a:ext cx="750600" cy="1008000"/>
            <a:chOff x="538920" y="2266920"/>
            <a:chExt cx="750600" cy="1008000"/>
          </a:xfrm>
        </p:grpSpPr>
        <p:sp>
          <p:nvSpPr>
            <p:cNvPr id="146" name=""/>
            <p:cNvSpPr/>
            <p:nvPr/>
          </p:nvSpPr>
          <p:spPr>
            <a:xfrm>
              <a:off x="612360" y="255420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8920" y="226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"/>
          <p:cNvCxnSpPr>
            <a:stCxn id="146" idx="3"/>
            <a:endCxn id="144" idx="0"/>
          </p:cNvCxnSpPr>
          <p:nvPr/>
        </p:nvCxnSpPr>
        <p:spPr>
          <a:xfrm flipV="1">
            <a:off x="1115640" y="2737800"/>
            <a:ext cx="578520" cy="176760"/>
          </a:xfrm>
          <a:prstGeom prst="bentConnector3">
            <a:avLst>
              <a:gd name="adj1" fmla="val 496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612440" y="25635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038320" y="27381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627280" y="53964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2"/>
            <a:endCxn id="151" idx="3"/>
          </p:cNvCxnSpPr>
          <p:nvPr/>
        </p:nvCxnSpPr>
        <p:spPr>
          <a:xfrm flipV="1">
            <a:off x="2614680" y="1133280"/>
            <a:ext cx="373680" cy="1605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203640" y="1762200"/>
            <a:ext cx="1297080" cy="194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840040" y="2563920"/>
            <a:ext cx="150336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340080" y="25617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2"/>
            <a:endCxn id="155" idx="0"/>
          </p:cNvCxnSpPr>
          <p:nvPr/>
        </p:nvCxnSpPr>
        <p:spPr>
          <a:xfrm flipV="1">
            <a:off x="3765600" y="273600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788000" y="244152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2"/>
            <a:endCxn id="157" idx="2"/>
          </p:cNvCxnSpPr>
          <p:nvPr/>
        </p:nvCxnSpPr>
        <p:spPr>
          <a:xfrm>
            <a:off x="4341600" y="2736360"/>
            <a:ext cx="44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4" idx="0"/>
          </p:cNvCxnSpPr>
          <p:nvPr/>
        </p:nvCxnSpPr>
        <p:spPr>
          <a:xfrm flipH="1" rot="16200000">
            <a:off x="2401920" y="1719000"/>
            <a:ext cx="1605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333440" y="1474920"/>
            <a:ext cx="33098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56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8080" y="421164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1"/>
            <a:endCxn id="160" idx="2"/>
          </p:cNvCxnSpPr>
          <p:nvPr/>
        </p:nvCxnSpPr>
        <p:spPr>
          <a:xfrm rot="10800000">
            <a:off x="2988720" y="3850560"/>
            <a:ext cx="1270440" cy="483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59120" y="885960"/>
            <a:ext cx="1316160" cy="313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649160" y="1342800"/>
            <a:ext cx="18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8" idx="3"/>
            <a:endCxn id="169" idx="0"/>
          </p:cNvCxnSpPr>
          <p:nvPr/>
        </p:nvCxnSpPr>
        <p:spPr>
          <a:xfrm flipH="1" rot="16200000">
            <a:off x="1021680" y="1614960"/>
            <a:ext cx="148320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71" idx="4"/>
            <a:endCxn id="172" idx="1"/>
          </p:cNvCxnSpPr>
          <p:nvPr/>
        </p:nvCxnSpPr>
        <p:spPr>
          <a:xfrm>
            <a:off x="3475080" y="2430000"/>
            <a:ext cx="954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4"/>
            <a:endCxn id="174" idx="0"/>
          </p:cNvCxnSpPr>
          <p:nvPr/>
        </p:nvCxnSpPr>
        <p:spPr>
          <a:xfrm flipV="1">
            <a:off x="3475080" y="1639440"/>
            <a:ext cx="40392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6" idx="0"/>
          </p:cNvCxnSpPr>
          <p:nvPr/>
        </p:nvCxnSpPr>
        <p:spPr>
          <a:xfrm>
            <a:off x="3475080" y="2430360"/>
            <a:ext cx="39744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9" idx="2"/>
            <a:endCxn id="171" idx="2"/>
          </p:cNvCxnSpPr>
          <p:nvPr/>
        </p:nvCxnSpPr>
        <p:spPr>
          <a:xfrm>
            <a:off x="2103480" y="2430000"/>
            <a:ext cx="81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 rot="16200000">
            <a:off x="4186800" y="1510200"/>
            <a:ext cx="133524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43320" y="1503000"/>
            <a:ext cx="1335240" cy="26820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4" idx="2"/>
            <a:endCxn id="180" idx="0"/>
          </p:cNvCxnSpPr>
          <p:nvPr/>
        </p:nvCxnSpPr>
        <p:spPr>
          <a:xfrm>
            <a:off x="4144680" y="1639440"/>
            <a:ext cx="1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 rot="16200000">
            <a:off x="4179960" y="31316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336840" y="3125520"/>
            <a:ext cx="133668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>
            <a:off x="4140360" y="3260880"/>
            <a:ext cx="148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430880" y="2311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5080" y="324000"/>
            <a:ext cx="115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urrent Step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0"/>
            <a:endCxn id="165" idx="0"/>
          </p:cNvCxnSpPr>
          <p:nvPr/>
        </p:nvCxnSpPr>
        <p:spPr>
          <a:xfrm flipH="1" rot="16200000">
            <a:off x="3368520" y="-164520"/>
            <a:ext cx="562680" cy="1537200"/>
          </a:xfrm>
          <a:prstGeom prst="bentConnector3">
            <a:avLst>
              <a:gd name="adj1" fmla="val -406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364000" y="2190600"/>
            <a:ext cx="55908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8" idx="2"/>
            <a:endCxn id="186" idx="2"/>
          </p:cNvCxnSpPr>
          <p:nvPr/>
        </p:nvCxnSpPr>
        <p:spPr>
          <a:xfrm>
            <a:off x="4989600" y="1646280"/>
            <a:ext cx="3751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6" idx="2"/>
          </p:cNvCxnSpPr>
          <p:nvPr/>
        </p:nvCxnSpPr>
        <p:spPr>
          <a:xfrm flipV="1">
            <a:off x="4983120" y="24285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2" idx="3"/>
            <a:endCxn id="186" idx="2"/>
          </p:cNvCxnSpPr>
          <p:nvPr/>
        </p:nvCxnSpPr>
        <p:spPr>
          <a:xfrm flipV="1">
            <a:off x="4739760" y="2429640"/>
            <a:ext cx="6246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409760" y="468360"/>
            <a:ext cx="558720" cy="47952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190600"/>
            <a:ext cx="55872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6" idx="1"/>
            <a:endCxn id="171" idx="3"/>
          </p:cNvCxnSpPr>
          <p:nvPr/>
        </p:nvCxnSpPr>
        <p:spPr>
          <a:xfrm flipV="1" rot="16200000">
            <a:off x="2970360" y="2892600"/>
            <a:ext cx="1259640" cy="810360"/>
          </a:xfrm>
          <a:prstGeom prst="bentConnector3">
            <a:avLst>
              <a:gd name="adj1" fmla="val -18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97080" y="354024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751920" y="3132720"/>
            <a:ext cx="13348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3" idx="2"/>
            <a:endCxn id="181" idx="0"/>
          </p:cNvCxnSpPr>
          <p:nvPr/>
        </p:nvCxnSpPr>
        <p:spPr>
          <a:xfrm flipV="1">
            <a:off x="4554360" y="3266280"/>
            <a:ext cx="161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rot="16200000">
            <a:off x="3782880" y="15062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0" idx="2"/>
            <a:endCxn id="178" idx="0"/>
          </p:cNvCxnSpPr>
          <p:nvPr/>
        </p:nvCxnSpPr>
        <p:spPr>
          <a:xfrm>
            <a:off x="4586040" y="1641240"/>
            <a:ext cx="135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2720" y="1403280"/>
            <a:ext cx="1727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1120" y="2317680"/>
            <a:ext cx="11332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40" y="2031840"/>
            <a:ext cx="648720" cy="819000"/>
            <a:chOff x="10440" y="2031840"/>
            <a:chExt cx="648720" cy="819000"/>
          </a:xfrm>
        </p:grpSpPr>
        <p:sp>
          <p:nvSpPr>
            <p:cNvPr id="197" name=""/>
            <p:cNvSpPr/>
            <p:nvPr/>
          </p:nvSpPr>
          <p:spPr>
            <a:xfrm>
              <a:off x="54720" y="2247120"/>
              <a:ext cx="324360" cy="603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40" y="20318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7" idx="3"/>
            <a:endCxn id="195" idx="0"/>
          </p:cNvCxnSpPr>
          <p:nvPr/>
        </p:nvCxnSpPr>
        <p:spPr>
          <a:xfrm flipV="1">
            <a:off x="379440" y="2428200"/>
            <a:ext cx="488160" cy="12132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16200000">
            <a:off x="670680" y="2318400"/>
            <a:ext cx="1388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200" idx="0"/>
          </p:cNvCxnSpPr>
          <p:nvPr/>
        </p:nvCxnSpPr>
        <p:spPr>
          <a:xfrm>
            <a:off x="1088640" y="2428920"/>
            <a:ext cx="167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68" idx="3"/>
          </p:cNvCxnSpPr>
          <p:nvPr/>
        </p:nvCxnSpPr>
        <p:spPr>
          <a:xfrm flipV="1">
            <a:off x="1477440" y="947520"/>
            <a:ext cx="212040" cy="148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4480" y="1679400"/>
            <a:ext cx="863640" cy="151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5440" y="1692360"/>
            <a:ext cx="431640" cy="15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200" y="3995640"/>
            <a:ext cx="32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0"/>
            <a:endCxn id="194" idx="2"/>
          </p:cNvCxnSpPr>
          <p:nvPr/>
        </p:nvCxnSpPr>
        <p:spPr>
          <a:xfrm flipH="1" flipV="1" rot="5400000">
            <a:off x="882360" y="3401280"/>
            <a:ext cx="719640" cy="46908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57080" y="1476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5440" y="147636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684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312920" y="2296800"/>
            <a:ext cx="131436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6068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2"/>
            <a:endCxn id="212" idx="0"/>
          </p:cNvCxnSpPr>
          <p:nvPr/>
        </p:nvCxnSpPr>
        <p:spPr>
          <a:xfrm>
            <a:off x="1360080" y="30445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88880" y="32446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11600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78000" y="2411280"/>
            <a:ext cx="2790720" cy="1105200"/>
            <a:chOff x="3078000" y="2411280"/>
            <a:chExt cx="2790720" cy="1105200"/>
          </a:xfrm>
        </p:grpSpPr>
        <p:sp>
          <p:nvSpPr>
            <p:cNvPr id="217" name=""/>
            <p:cNvSpPr/>
            <p:nvPr/>
          </p:nvSpPr>
          <p:spPr>
            <a:xfrm>
              <a:off x="3078000" y="241128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peat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8000" y="317196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letion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0"/>
            </p:cNvCxnSpPr>
            <p:nvPr/>
          </p:nvCxnSpPr>
          <p:spPr>
            <a:xfrm>
              <a:off x="3753720" y="275580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3726000" y="29163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7640" y="2771640"/>
              <a:ext cx="135108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ceptionHand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7" idx="3"/>
              <a:endCxn id="221" idx="0"/>
            </p:cNvCxnSpPr>
            <p:nvPr/>
          </p:nvCxnSpPr>
          <p:spPr>
            <a:xfrm>
              <a:off x="4428720" y="2584440"/>
              <a:ext cx="76608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66000" y="251604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12" idx="3"/>
            <a:endCxn id="217" idx="0"/>
          </p:cNvCxnSpPr>
          <p:nvPr/>
        </p:nvCxnSpPr>
        <p:spPr>
          <a:xfrm flipV="1">
            <a:off x="2035080" y="2410920"/>
            <a:ext cx="1720080" cy="1223280"/>
          </a:xfrm>
          <a:prstGeom prst="bentConnector4">
            <a:avLst>
              <a:gd name="adj1" fmla="val 30270"/>
              <a:gd name="adj2" fmla="val 1186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712320" y="205272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s 2: inner and out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7" idx="2"/>
            <a:endCxn id="211" idx="0"/>
          </p:cNvCxnSpPr>
          <p:nvPr/>
        </p:nvCxnSpPr>
        <p:spPr>
          <a:xfrm rot="5400000">
            <a:off x="559440" y="1252440"/>
            <a:ext cx="2248560" cy="64836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404360" y="16923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2" idx="3"/>
          </p:cNvCxnSpPr>
          <p:nvPr/>
        </p:nvCxnSpPr>
        <p:spPr>
          <a:xfrm>
            <a:off x="2034720" y="3633480"/>
            <a:ext cx="521640" cy="122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478960" y="406872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infrastructure 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32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10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0800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27" idx="3"/>
            <a:endCxn id="215" idx="0"/>
          </p:cNvCxnSpPr>
          <p:nvPr/>
        </p:nvCxnSpPr>
        <p:spPr>
          <a:xfrm>
            <a:off x="2682720" y="280800"/>
            <a:ext cx="334080" cy="83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055680" y="53964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to identify job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403280"/>
            <a:ext cx="2952720" cy="1152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2700360"/>
            <a:ext cx="1350720" cy="1104840"/>
            <a:chOff x="684360" y="2700360"/>
            <a:chExt cx="1350720" cy="1104840"/>
          </a:xfrm>
        </p:grpSpPr>
        <p:sp>
          <p:nvSpPr>
            <p:cNvPr id="245" name=""/>
            <p:cNvSpPr/>
            <p:nvPr/>
          </p:nvSpPr>
          <p:spPr>
            <a:xfrm>
              <a:off x="684360" y="2700360"/>
              <a:ext cx="1350720" cy="34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3460680"/>
              <a:ext cx="1350720" cy="34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45" idx="2"/>
              <a:endCxn id="246" idx="0"/>
            </p:cNvCxnSpPr>
            <p:nvPr/>
          </p:nvCxnSpPr>
          <p:spPr>
            <a:xfrm>
              <a:off x="1360080" y="304452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388880" y="3244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6236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508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ep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3"/>
            <a:endCxn id="251" idx="0"/>
          </p:cNvCxnSpPr>
          <p:nvPr/>
        </p:nvCxnSpPr>
        <p:spPr>
          <a:xfrm>
            <a:off x="2034720" y="3633480"/>
            <a:ext cx="314244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3492000" y="3276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1"/>
            <a:endCxn id="246" idx="3"/>
          </p:cNvCxnSpPr>
          <p:nvPr/>
        </p:nvCxnSpPr>
        <p:spPr>
          <a:xfrm flipV="1" rot="10800000">
            <a:off x="2034360" y="2007720"/>
            <a:ext cx="1170720" cy="1626480"/>
          </a:xfrm>
          <a:prstGeom prst="bentConnector3">
            <a:avLst>
              <a:gd name="adj1" fmla="val 50046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332000" y="755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57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2"/>
            <a:endCxn id="243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42" idx="1"/>
          </p:cNvCxnSpPr>
          <p:nvPr/>
        </p:nvCxnSpPr>
        <p:spPr>
          <a:xfrm>
            <a:off x="968400" y="984240"/>
            <a:ext cx="2596320" cy="588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98944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eat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46" idx="3"/>
            <a:endCxn id="266" idx="0"/>
          </p:cNvCxnSpPr>
          <p:nvPr/>
        </p:nvCxnSpPr>
        <p:spPr>
          <a:xfrm>
            <a:off x="2034720" y="3633480"/>
            <a:ext cx="163116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49" idx="2"/>
            <a:endCxn id="246" idx="3"/>
          </p:cNvCxnSpPr>
          <p:nvPr/>
        </p:nvCxnSpPr>
        <p:spPr>
          <a:xfrm rot="5400000">
            <a:off x="2959200" y="1254600"/>
            <a:ext cx="1454760" cy="3304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2106720"/>
            <a:ext cx="1125720" cy="933480"/>
            <a:chOff x="3255840" y="2106720"/>
            <a:chExt cx="1125720" cy="933480"/>
          </a:xfrm>
        </p:grpSpPr>
        <p:sp>
          <p:nvSpPr>
            <p:cNvPr id="272" name=""/>
            <p:cNvSpPr/>
            <p:nvPr/>
          </p:nvSpPr>
          <p:spPr>
            <a:xfrm>
              <a:off x="3255840" y="210672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5840" y="274968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72" idx="2"/>
              <a:endCxn id="273" idx="0"/>
            </p:cNvCxnSpPr>
            <p:nvPr/>
          </p:nvCxnSpPr>
          <p:spPr>
            <a:xfrm>
              <a:off x="381924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798720" y="25081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54400" y="3460680"/>
            <a:ext cx="1123920" cy="290520"/>
          </a:xfrm>
          <a:prstGeom prst="ellipse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3" idx="2"/>
            <a:endCxn id="276" idx="0"/>
          </p:cNvCxnSpPr>
          <p:nvPr/>
        </p:nvCxnSpPr>
        <p:spPr>
          <a:xfrm rot="5400000">
            <a:off x="3606840" y="3248640"/>
            <a:ext cx="421200" cy="3960"/>
          </a:xfrm>
          <a:prstGeom prst="bentConnector3">
            <a:avLst>
              <a:gd name="adj1" fmla="val 49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787560" y="3182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rastructure depend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2" idx="1"/>
            <a:endCxn id="280" idx="3"/>
          </p:cNvCxnSpPr>
          <p:nvPr/>
        </p:nvCxnSpPr>
        <p:spPr>
          <a:xfrm rot="10800000">
            <a:off x="2455200" y="225180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556000" y="2035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90520" y="1098720"/>
            <a:ext cx="831600" cy="911160"/>
            <a:chOff x="4790520" y="1098720"/>
            <a:chExt cx="831600" cy="911160"/>
          </a:xfrm>
        </p:grpSpPr>
        <p:grpSp>
          <p:nvGrpSpPr>
            <p:cNvPr id="283" name=""/>
            <p:cNvGrpSpPr/>
            <p:nvPr/>
          </p:nvGrpSpPr>
          <p:grpSpPr>
            <a:xfrm>
              <a:off x="5057640" y="1098720"/>
              <a:ext cx="183960" cy="487080"/>
              <a:chOff x="5057640" y="1098720"/>
              <a:chExt cx="183960" cy="48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5058000" y="1098720"/>
                <a:ext cx="178560" cy="18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9800" y="12808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4980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5764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58000" y="134136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0520" y="161136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2"/>
            <a:endCxn id="270" idx="6"/>
          </p:cNvCxnSpPr>
          <p:nvPr/>
        </p:nvCxnSpPr>
        <p:spPr>
          <a:xfrm flipH="1">
            <a:off x="4606200" y="2007720"/>
            <a:ext cx="600840" cy="5598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4862160" y="2322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1384200"/>
            <a:ext cx="151272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72" idx="3"/>
          </p:cNvCxnSpPr>
          <p:nvPr/>
        </p:nvCxnSpPr>
        <p:spPr>
          <a:xfrm flipH="1">
            <a:off x="4381200" y="1530360"/>
            <a:ext cx="48240" cy="722520"/>
          </a:xfrm>
          <a:prstGeom prst="bentConnector3">
            <a:avLst>
              <a:gd name="adj1" fmla="val -4759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720" y="738360"/>
            <a:ext cx="151308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3"/>
            <a:endCxn id="292" idx="1"/>
          </p:cNvCxnSpPr>
          <p:nvPr/>
        </p:nvCxnSpPr>
        <p:spPr>
          <a:xfrm>
            <a:off x="1909800" y="883800"/>
            <a:ext cx="1007280" cy="64692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332000" y="2106720"/>
            <a:ext cx="1123920" cy="933480"/>
            <a:chOff x="1332000" y="2106720"/>
            <a:chExt cx="1123920" cy="933480"/>
          </a:xfrm>
        </p:grpSpPr>
        <p:sp>
          <p:nvSpPr>
            <p:cNvPr id="280" name=""/>
            <p:cNvSpPr/>
            <p:nvPr/>
          </p:nvSpPr>
          <p:spPr>
            <a:xfrm>
              <a:off x="1332000" y="210672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2000" y="274968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80" idx="2"/>
              <a:endCxn id="297" idx="0"/>
            </p:cNvCxnSpPr>
            <p:nvPr/>
          </p:nvCxnSpPr>
          <p:spPr>
            <a:xfrm>
              <a:off x="189360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919520" y="2592720"/>
              <a:ext cx="22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692360" y="3906720"/>
            <a:ext cx="720720" cy="59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69" idx="4"/>
            <a:endCxn id="300" idx="1"/>
          </p:cNvCxnSpPr>
          <p:nvPr/>
        </p:nvCxnSpPr>
        <p:spPr>
          <a:xfrm>
            <a:off x="1925280" y="3387600"/>
            <a:ext cx="127800" cy="5198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1957320" y="34750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640" y="10270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es to identify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3" idx="1"/>
            <a:endCxn id="297" idx="3"/>
          </p:cNvCxnSpPr>
          <p:nvPr/>
        </p:nvCxnSpPr>
        <p:spPr>
          <a:xfrm rot="10800000">
            <a:off x="2455200" y="289476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2556000" y="2682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7T13:01:31Z</dcterms:modified>
  <cp:revision>61</cp:revision>
  <dc:subject/>
  <dc:title>Slide 1</dc:title>
</cp:coreProperties>
</file>