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287972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766-0411-4401-8E16-075170FA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928-973C-441D-B40C-05136848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7F5-A5D0-43DB-9B90-A9173837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D2E-52A9-4465-A96F-28820A0F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6B2-57DF-4BA8-B19B-9CEB45ED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5D4-F45A-4A48-8EB8-19AA83EC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E5C-9088-4B56-8465-42F8417F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9B9-6A0F-47B4-BD90-78488E2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15920"/>
            <a:ext cx="55087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5C3-E144-4D19-945A-132CF93A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12C-1259-47F8-AE1F-8577CBBE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4BD-FA28-489E-A538-872B0C18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AF3-721D-4510-8C81-17FC2D46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15920"/>
            <a:ext cx="5508720" cy="479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69000"/>
          </a:bodyPr>
          <a:p>
            <a:pPr marL="159840" indent="-159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1314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2080" indent="-106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744840" indent="-106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622240"/>
            <a:ext cx="142704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622240"/>
            <a:ext cx="19368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622240"/>
            <a:ext cx="14274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15A344E9-DF71-4548-94C7-E1FB553778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6160" y="517680"/>
            <a:ext cx="1989000" cy="350640"/>
          </a:xfrm>
          <a:prstGeom prst="rect">
            <a:avLst/>
          </a:prstGeom>
          <a:solidFill>
            <a:srgbClr val="00ff00">
              <a:alpha val="90000"/>
            </a:srgbClr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568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6160" y="2271600"/>
            <a:ext cx="1989000" cy="3510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200" y="1521000"/>
            <a:ext cx="8413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A / E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95840" y="1521000"/>
            <a:ext cx="9349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38760" y="1521000"/>
            <a:ext cx="93348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9552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JB Partit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" y="1481040"/>
            <a:ext cx="5263920" cy="444600"/>
          </a:xfrm>
          <a:prstGeom prst="rect">
            <a:avLst/>
          </a:prstGeom>
          <a:noFill/>
          <a:ln w="19080">
            <a:solidFill>
              <a:srgbClr val="3555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70280" y="879120"/>
            <a:ext cx="1121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pecialized Execution Environ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71960" y="1170000"/>
            <a:ext cx="588960" cy="301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19440" y="204948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mmon 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213080" y="2224080"/>
            <a:ext cx="424080" cy="223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00" y="-144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ame Business 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0720" y="216000"/>
            <a:ext cx="792360" cy="287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1"/>
            <a:endCxn id="41" idx="1"/>
          </p:cNvCxnSpPr>
          <p:nvPr/>
        </p:nvCxnSpPr>
        <p:spPr>
          <a:xfrm rot="10800000">
            <a:off x="2216160" y="693000"/>
            <a:ext cx="360" cy="1754280"/>
          </a:xfrm>
          <a:prstGeom prst="bentConnector3">
            <a:avLst>
              <a:gd name="adj1" fmla="val -64900000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6" name=""/>
          <p:cNvCxnSpPr>
            <a:stCxn id="41" idx="2"/>
            <a:endCxn id="48" idx="0"/>
          </p:cNvCxnSpPr>
          <p:nvPr/>
        </p:nvCxnSpPr>
        <p:spPr>
          <a:xfrm flipH="1" rot="16200000">
            <a:off x="2904480" y="1173960"/>
            <a:ext cx="613080" cy="1440"/>
          </a:xfrm>
          <a:prstGeom prst="bentConnector3">
            <a:avLst>
              <a:gd name="adj1" fmla="val 4970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2"/>
            <a:endCxn id="43" idx="0"/>
          </p:cNvCxnSpPr>
          <p:nvPr/>
        </p:nvCxnSpPr>
        <p:spPr>
          <a:xfrm rot="5400000">
            <a:off x="3037680" y="2098080"/>
            <a:ext cx="346320" cy="144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7-08-20T20:59:35Z</dcterms:modified>
  <cp:revision>46</cp:revision>
  <dc:subject/>
  <dc:title>Slide 1</dc:title>
</cp:coreProperties>
</file>