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6119813" cy="467995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3624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160F1-E380-470E-8764-D3C8A3F9A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362400" cy="25718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mpleStep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362400" cy="257184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rivingQueryJob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362400" cy="257184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ote-chunking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362400" cy="25718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itioning-overview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362400" cy="257184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itioning-spi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362400" cy="257184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rrorOnFlush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362400" cy="257184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rrorOnWrite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362400" cy="257184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rrorOnCommit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1E39-50DC-4FE6-9746-CAA9005DC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6360" y="1091880"/>
            <a:ext cx="55087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6360" y="2705040"/>
            <a:ext cx="55087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34ED-A039-4BC5-A96D-E71AD4B9B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6360" y="109188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129120" y="109188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6360" y="270504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129120" y="270504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51EF-143F-480A-894D-5CC3DBCAA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6360" y="1091880"/>
            <a:ext cx="17737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169000" y="1091880"/>
            <a:ext cx="17737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032000" y="1091880"/>
            <a:ext cx="17737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6360" y="2705040"/>
            <a:ext cx="17737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169000" y="2705040"/>
            <a:ext cx="17737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032000" y="2705040"/>
            <a:ext cx="17737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D25A-E752-4B14-9253-CBE97BDFD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6360" y="1091880"/>
            <a:ext cx="550872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4CD5-889D-4053-803F-DE7A00024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6360" y="1091880"/>
            <a:ext cx="5508720" cy="30877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12F5-228B-4480-900E-97A2BFB0C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6360" y="1091880"/>
            <a:ext cx="2688120" cy="30877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129120" y="1091880"/>
            <a:ext cx="2688120" cy="30877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F9F2-4A11-42B9-93F5-F94E78F76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2E00-9423-4D5C-B419-F0FC24776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6360" y="187200"/>
            <a:ext cx="5508720" cy="36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6841-A332-42FD-9C36-EF5E5226F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6360" y="109188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129120" y="1091880"/>
            <a:ext cx="2688120" cy="30877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6360" y="270504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7A1E-F24C-440E-AAB3-6A5729FCF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6360" y="1091880"/>
            <a:ext cx="2688120" cy="30877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129120" y="109188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129120" y="270504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1196-5509-46A3-9027-1C4D795B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6360" y="109188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129120" y="109188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6360" y="2705040"/>
            <a:ext cx="55087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03C1-05A3-4BEA-AF8A-3CA91772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6360" y="1091880"/>
            <a:ext cx="5508720" cy="30877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marL="231840" indent="-2318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00040" indent="-1904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771480" indent="-154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1540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387440" indent="-15408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387440" indent="-15408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387440" indent="-15408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6360" y="4262400"/>
            <a:ext cx="1427040" cy="3240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lstStyle>
            <a:lvl1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92320" y="4262400"/>
            <a:ext cx="1936800" cy="3240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lstStyle>
            <a:lvl1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87320" y="4262400"/>
            <a:ext cx="1427400" cy="3240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lstStyle>
            <a:lvl1pPr indent="0" algn="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fld id="{81A45BF9-EC6A-4FFB-95F0-4EF325D4ACC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332000" y="1189080"/>
            <a:ext cx="2160360" cy="194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6200000">
            <a:off x="1189080" y="1971360"/>
            <a:ext cx="1351080" cy="34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leItemWr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52360" y="2197080"/>
            <a:ext cx="758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v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94560" y="1492200"/>
            <a:ext cx="750600" cy="1008000"/>
            <a:chOff x="394560" y="1492200"/>
            <a:chExt cx="750600" cy="1008000"/>
          </a:xfrm>
        </p:grpSpPr>
        <p:sp>
          <p:nvSpPr>
            <p:cNvPr id="52" name=""/>
            <p:cNvSpPr/>
            <p:nvPr/>
          </p:nvSpPr>
          <p:spPr>
            <a:xfrm>
              <a:off x="468000" y="1779480"/>
              <a:ext cx="503280" cy="720720"/>
            </a:xfrm>
            <a:prstGeom prst="foldedCorner">
              <a:avLst>
                <a:gd name="adj" fmla="val 4605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94560" y="149220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input 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4" name=""/>
          <p:cNvCxnSpPr>
            <a:stCxn id="52" idx="3"/>
            <a:endCxn id="49" idx="0"/>
          </p:cNvCxnSpPr>
          <p:nvPr/>
        </p:nvCxnSpPr>
        <p:spPr>
          <a:xfrm>
            <a:off x="971280" y="2139840"/>
            <a:ext cx="721440" cy="4320"/>
          </a:xfrm>
          <a:prstGeom prst="bentConnector3">
            <a:avLst>
              <a:gd name="adj1" fmla="val 5042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 rot="16200000">
            <a:off x="2189160" y="1971360"/>
            <a:ext cx="1655640" cy="34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sinessItemWr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49" idx="2"/>
            <a:endCxn id="55" idx="0"/>
          </p:cNvCxnSpPr>
          <p:nvPr/>
        </p:nvCxnSpPr>
        <p:spPr>
          <a:xfrm>
            <a:off x="2036880" y="2143800"/>
            <a:ext cx="8082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1255320" y="900000"/>
            <a:ext cx="1969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Executor iterates ov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>
            <a:stCxn id="55" idx="2"/>
            <a:endCxn id="59" idx="2"/>
          </p:cNvCxnSpPr>
          <p:nvPr/>
        </p:nvCxnSpPr>
        <p:spPr>
          <a:xfrm flipV="1">
            <a:off x="3189240" y="2143440"/>
            <a:ext cx="1024200" cy="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4213080" y="1846440"/>
            <a:ext cx="720720" cy="593640"/>
          </a:xfrm>
          <a:prstGeom prst="can">
            <a:avLst>
              <a:gd name="adj" fmla="val 25000"/>
            </a:avLst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E9FF1C1D-B6CF-4936-971E-E4BEB5CF34BF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68200" y="158400"/>
            <a:ext cx="560232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16000"/>
                <a:tab algn="l" pos="433440"/>
                <a:tab algn="l" pos="650880"/>
                <a:tab algn="l" pos="868320"/>
                <a:tab algn="l" pos="1084320"/>
                <a:tab algn="l" pos="1301760"/>
                <a:tab algn="l" pos="1517760"/>
                <a:tab algn="l" pos="1735200"/>
                <a:tab algn="l" pos="1952640"/>
                <a:tab algn="l" pos="2170080"/>
                <a:tab algn="l" pos="2386080"/>
                <a:tab algn="l" pos="2603520"/>
                <a:tab algn="l" pos="2819520"/>
                <a:tab algn="l" pos="3038400"/>
                <a:tab algn="l" pos="3254400"/>
                <a:tab algn="l" pos="3471840"/>
                <a:tab algn="l" pos="3687840"/>
                <a:tab algn="l" pos="3905280"/>
                <a:tab algn="l" pos="4122720"/>
                <a:tab algn="l" pos="4340160"/>
                <a:tab algn="l" pos="4465800"/>
                <a:tab algn="l" pos="4809960"/>
                <a:tab algn="l" pos="5153040"/>
                <a:tab algn="l" pos="5497560"/>
                <a:tab algn="l" pos="564192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0" lang="en-US" sz="2000" spc="-1" strike="noStrike">
                <a:solidFill>
                  <a:srgbClr val="525252"/>
                </a:solidFill>
                <a:latin typeface="Helvetica Neue Light"/>
                <a:ea typeface="ＭＳ Ｐゴシック"/>
              </a:rPr>
              <a:t>High Level Ov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2"/>
          <p:cNvGrpSpPr/>
          <p:nvPr/>
        </p:nvGrpSpPr>
        <p:grpSpPr>
          <a:xfrm>
            <a:off x="3137040" y="2116080"/>
            <a:ext cx="849240" cy="395280"/>
            <a:chOff x="3137040" y="2116080"/>
            <a:chExt cx="849240" cy="395280"/>
          </a:xfrm>
        </p:grpSpPr>
        <p:sp>
          <p:nvSpPr>
            <p:cNvPr id="284" name="Rectangle 3"/>
            <p:cNvSpPr/>
            <p:nvPr/>
          </p:nvSpPr>
          <p:spPr>
            <a:xfrm>
              <a:off x="3137040" y="2116080"/>
              <a:ext cx="849240" cy="39528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4"/>
            <p:cNvSpPr/>
            <p:nvPr/>
          </p:nvSpPr>
          <p:spPr>
            <a:xfrm>
              <a:off x="3300840" y="2178360"/>
              <a:ext cx="52128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tep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5"/>
          <p:cNvGrpSpPr/>
          <p:nvPr/>
        </p:nvGrpSpPr>
        <p:grpSpPr>
          <a:xfrm>
            <a:off x="322200" y="2116080"/>
            <a:ext cx="806400" cy="395280"/>
            <a:chOff x="322200" y="2116080"/>
            <a:chExt cx="806400" cy="395280"/>
          </a:xfrm>
        </p:grpSpPr>
        <p:grpSp>
          <p:nvGrpSpPr>
            <p:cNvPr id="287" name="Group 6"/>
            <p:cNvGrpSpPr/>
            <p:nvPr/>
          </p:nvGrpSpPr>
          <p:grpSpPr>
            <a:xfrm>
              <a:off x="322200" y="2116080"/>
              <a:ext cx="806400" cy="395280"/>
              <a:chOff x="322200" y="2116080"/>
              <a:chExt cx="806400" cy="395280"/>
            </a:xfrm>
          </p:grpSpPr>
          <p:sp>
            <p:nvSpPr>
              <p:cNvPr id="288" name="Rectangle 7"/>
              <p:cNvSpPr/>
              <p:nvPr/>
            </p:nvSpPr>
            <p:spPr>
              <a:xfrm>
                <a:off x="322200" y="2116080"/>
                <a:ext cx="806400" cy="395280"/>
              </a:xfrm>
              <a:prstGeom prst="rect">
                <a:avLst/>
              </a:prstGeom>
              <a:solidFill>
                <a:srgbClr val="5382a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Rectangle 8"/>
              <p:cNvSpPr/>
              <p:nvPr/>
            </p:nvSpPr>
            <p:spPr>
              <a:xfrm>
                <a:off x="477360" y="2178360"/>
                <a:ext cx="495000" cy="26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0" name="Rectangle 9"/>
            <p:cNvSpPr/>
            <p:nvPr/>
          </p:nvSpPr>
          <p:spPr>
            <a:xfrm>
              <a:off x="327240" y="2229840"/>
              <a:ext cx="796680" cy="1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Launch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Group 10"/>
          <p:cNvGrpSpPr/>
          <p:nvPr/>
        </p:nvGrpSpPr>
        <p:grpSpPr>
          <a:xfrm>
            <a:off x="1757520" y="2116080"/>
            <a:ext cx="776160" cy="395280"/>
            <a:chOff x="1757520" y="2116080"/>
            <a:chExt cx="776160" cy="395280"/>
          </a:xfrm>
        </p:grpSpPr>
        <p:grpSp>
          <p:nvGrpSpPr>
            <p:cNvPr id="292" name="Group 11"/>
            <p:cNvGrpSpPr/>
            <p:nvPr/>
          </p:nvGrpSpPr>
          <p:grpSpPr>
            <a:xfrm>
              <a:off x="1757520" y="2116080"/>
              <a:ext cx="776160" cy="395280"/>
              <a:chOff x="1757520" y="2116080"/>
              <a:chExt cx="776160" cy="395280"/>
            </a:xfrm>
          </p:grpSpPr>
          <p:sp>
            <p:nvSpPr>
              <p:cNvPr id="293" name="Rectangle 12"/>
              <p:cNvSpPr/>
              <p:nvPr/>
            </p:nvSpPr>
            <p:spPr>
              <a:xfrm>
                <a:off x="1757520" y="2116080"/>
                <a:ext cx="776160" cy="395280"/>
              </a:xfrm>
              <a:prstGeom prst="rect">
                <a:avLst/>
              </a:prstGeom>
              <a:solidFill>
                <a:srgbClr val="5382a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Rectangle 13"/>
              <p:cNvSpPr/>
              <p:nvPr/>
            </p:nvSpPr>
            <p:spPr>
              <a:xfrm>
                <a:off x="1906560" y="2178360"/>
                <a:ext cx="477000" cy="26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5" name="Rectangle 14"/>
            <p:cNvSpPr/>
            <p:nvPr/>
          </p:nvSpPr>
          <p:spPr>
            <a:xfrm>
              <a:off x="1762560" y="2229840"/>
              <a:ext cx="766440" cy="1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15"/>
          <p:cNvGrpSpPr/>
          <p:nvPr/>
        </p:nvGrpSpPr>
        <p:grpSpPr>
          <a:xfrm>
            <a:off x="4602240" y="1530360"/>
            <a:ext cx="1147680" cy="433440"/>
            <a:chOff x="4602240" y="1530360"/>
            <a:chExt cx="1147680" cy="433440"/>
          </a:xfrm>
        </p:grpSpPr>
        <p:grpSp>
          <p:nvGrpSpPr>
            <p:cNvPr id="297" name="Group 16"/>
            <p:cNvGrpSpPr/>
            <p:nvPr/>
          </p:nvGrpSpPr>
          <p:grpSpPr>
            <a:xfrm>
              <a:off x="4602240" y="1530360"/>
              <a:ext cx="1147680" cy="433440"/>
              <a:chOff x="4602240" y="1530360"/>
              <a:chExt cx="1147680" cy="433440"/>
            </a:xfrm>
          </p:grpSpPr>
          <p:sp>
            <p:nvSpPr>
              <p:cNvPr id="298" name="Rectangle 17"/>
              <p:cNvSpPr/>
              <p:nvPr/>
            </p:nvSpPr>
            <p:spPr>
              <a:xfrm>
                <a:off x="4602240" y="1530360"/>
                <a:ext cx="1147680" cy="43344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Rectangle 18"/>
              <p:cNvSpPr/>
              <p:nvPr/>
            </p:nvSpPr>
            <p:spPr>
              <a:xfrm>
                <a:off x="4823280" y="1598760"/>
                <a:ext cx="705240" cy="29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0" name="Rectangle 19"/>
            <p:cNvSpPr/>
            <p:nvPr/>
          </p:nvSpPr>
          <p:spPr>
            <a:xfrm>
              <a:off x="4602240" y="1662840"/>
              <a:ext cx="1143000" cy="17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Read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Group 20"/>
          <p:cNvGrpSpPr/>
          <p:nvPr/>
        </p:nvGrpSpPr>
        <p:grpSpPr>
          <a:xfrm>
            <a:off x="4583160" y="2676600"/>
            <a:ext cx="1208160" cy="433440"/>
            <a:chOff x="4583160" y="2676600"/>
            <a:chExt cx="1208160" cy="433440"/>
          </a:xfrm>
        </p:grpSpPr>
        <p:grpSp>
          <p:nvGrpSpPr>
            <p:cNvPr id="302" name="Group 21"/>
            <p:cNvGrpSpPr/>
            <p:nvPr/>
          </p:nvGrpSpPr>
          <p:grpSpPr>
            <a:xfrm>
              <a:off x="4583160" y="2676600"/>
              <a:ext cx="1208160" cy="433440"/>
              <a:chOff x="4583160" y="2676600"/>
              <a:chExt cx="1208160" cy="433440"/>
            </a:xfrm>
          </p:grpSpPr>
          <p:sp>
            <p:nvSpPr>
              <p:cNvPr id="303" name="Rectangle 22"/>
              <p:cNvSpPr/>
              <p:nvPr/>
            </p:nvSpPr>
            <p:spPr>
              <a:xfrm>
                <a:off x="4583160" y="2676600"/>
                <a:ext cx="1208160" cy="43344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Rectangle 23"/>
              <p:cNvSpPr/>
              <p:nvPr/>
            </p:nvSpPr>
            <p:spPr>
              <a:xfrm>
                <a:off x="4815720" y="2745000"/>
                <a:ext cx="741960" cy="29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" name="Rectangle 24"/>
            <p:cNvSpPr/>
            <p:nvPr/>
          </p:nvSpPr>
          <p:spPr>
            <a:xfrm>
              <a:off x="4583160" y="2809080"/>
              <a:ext cx="1203480" cy="17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Writ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Line 25"/>
          <p:cNvSpPr/>
          <p:nvPr/>
        </p:nvSpPr>
        <p:spPr>
          <a:xfrm flipV="1">
            <a:off x="4061520" y="1893600"/>
            <a:ext cx="476280" cy="3459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26"/>
          <p:cNvSpPr/>
          <p:nvPr/>
        </p:nvSpPr>
        <p:spPr>
          <a:xfrm>
            <a:off x="4065480" y="2376360"/>
            <a:ext cx="465120" cy="4017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27"/>
          <p:cNvSpPr/>
          <p:nvPr/>
        </p:nvSpPr>
        <p:spPr>
          <a:xfrm>
            <a:off x="2549520" y="2338560"/>
            <a:ext cx="56844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28"/>
          <p:cNvSpPr/>
          <p:nvPr/>
        </p:nvSpPr>
        <p:spPr>
          <a:xfrm>
            <a:off x="2580120" y="215316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29"/>
          <p:cNvSpPr/>
          <p:nvPr/>
        </p:nvSpPr>
        <p:spPr>
          <a:xfrm>
            <a:off x="3056400" y="2153160"/>
            <a:ext cx="45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0"/>
          <p:cNvSpPr/>
          <p:nvPr/>
        </p:nvSpPr>
        <p:spPr>
          <a:xfrm>
            <a:off x="1150920" y="2325600"/>
            <a:ext cx="56844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31"/>
          <p:cNvSpPr/>
          <p:nvPr/>
        </p:nvSpPr>
        <p:spPr>
          <a:xfrm>
            <a:off x="4044240" y="20134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32"/>
          <p:cNvSpPr/>
          <p:nvPr/>
        </p:nvSpPr>
        <p:spPr>
          <a:xfrm>
            <a:off x="4044240" y="25246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33"/>
          <p:cNvSpPr/>
          <p:nvPr/>
        </p:nvSpPr>
        <p:spPr>
          <a:xfrm>
            <a:off x="4438800" y="282960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34"/>
          <p:cNvSpPr/>
          <p:nvPr/>
        </p:nvSpPr>
        <p:spPr>
          <a:xfrm>
            <a:off x="4438800" y="17452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Group 35"/>
          <p:cNvGrpSpPr/>
          <p:nvPr/>
        </p:nvGrpSpPr>
        <p:grpSpPr>
          <a:xfrm>
            <a:off x="345960" y="3262320"/>
            <a:ext cx="3670560" cy="395280"/>
            <a:chOff x="345960" y="3262320"/>
            <a:chExt cx="3670560" cy="395280"/>
          </a:xfrm>
        </p:grpSpPr>
        <p:grpSp>
          <p:nvGrpSpPr>
            <p:cNvPr id="317" name="Group 36"/>
            <p:cNvGrpSpPr/>
            <p:nvPr/>
          </p:nvGrpSpPr>
          <p:grpSpPr>
            <a:xfrm>
              <a:off x="345960" y="3262320"/>
              <a:ext cx="3670560" cy="395280"/>
              <a:chOff x="345960" y="3262320"/>
              <a:chExt cx="3670560" cy="395280"/>
            </a:xfrm>
          </p:grpSpPr>
          <p:sp>
            <p:nvSpPr>
              <p:cNvPr id="318" name="Rectangle 37"/>
              <p:cNvSpPr/>
              <p:nvPr/>
            </p:nvSpPr>
            <p:spPr>
              <a:xfrm>
                <a:off x="345960" y="3262320"/>
                <a:ext cx="3670560" cy="395280"/>
              </a:xfrm>
              <a:prstGeom prst="rect">
                <a:avLst/>
              </a:prstGeom>
              <a:solidFill>
                <a:srgbClr val="5382a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Rectangle 38"/>
              <p:cNvSpPr/>
              <p:nvPr/>
            </p:nvSpPr>
            <p:spPr>
              <a:xfrm>
                <a:off x="1054080" y="3324600"/>
                <a:ext cx="2252880" cy="26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0" name="Rectangle 39"/>
            <p:cNvSpPr/>
            <p:nvPr/>
          </p:nvSpPr>
          <p:spPr>
            <a:xfrm>
              <a:off x="372600" y="3376080"/>
              <a:ext cx="3624840" cy="1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Repositor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AutoShape 40"/>
          <p:cNvSpPr/>
          <p:nvPr/>
        </p:nvSpPr>
        <p:spPr>
          <a:xfrm rot="5400000">
            <a:off x="1840680" y="2797920"/>
            <a:ext cx="682560" cy="185760"/>
          </a:xfrm>
          <a:prstGeom prst="leftRightArrow">
            <a:avLst>
              <a:gd name="adj1" fmla="val 34824"/>
              <a:gd name="adj2" fmla="val 13153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41"/>
          <p:cNvSpPr/>
          <p:nvPr/>
        </p:nvSpPr>
        <p:spPr>
          <a:xfrm rot="5400000">
            <a:off x="3222000" y="2797920"/>
            <a:ext cx="682560" cy="185760"/>
          </a:xfrm>
          <a:prstGeom prst="leftRightArrow">
            <a:avLst>
              <a:gd name="adj1" fmla="val 34824"/>
              <a:gd name="adj2" fmla="val 13153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42"/>
          <p:cNvSpPr/>
          <p:nvPr/>
        </p:nvSpPr>
        <p:spPr>
          <a:xfrm rot="5400000">
            <a:off x="381600" y="2797920"/>
            <a:ext cx="682560" cy="185760"/>
          </a:xfrm>
          <a:prstGeom prst="leftRightArrow">
            <a:avLst>
              <a:gd name="adj1" fmla="val 34824"/>
              <a:gd name="adj2" fmla="val 13153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508F6570-2E8B-4EF1-B711-FEFD441F6259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68200" y="158400"/>
            <a:ext cx="560232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16000"/>
                <a:tab algn="l" pos="433440"/>
                <a:tab algn="l" pos="650880"/>
                <a:tab algn="l" pos="868320"/>
                <a:tab algn="l" pos="1084320"/>
                <a:tab algn="l" pos="1301760"/>
                <a:tab algn="l" pos="1517760"/>
                <a:tab algn="l" pos="1735200"/>
                <a:tab algn="l" pos="1952640"/>
                <a:tab algn="l" pos="2170080"/>
                <a:tab algn="l" pos="2386080"/>
                <a:tab algn="l" pos="2603520"/>
                <a:tab algn="l" pos="2819520"/>
                <a:tab algn="l" pos="3038400"/>
                <a:tab algn="l" pos="3254400"/>
                <a:tab algn="l" pos="3471840"/>
                <a:tab algn="l" pos="3687840"/>
                <a:tab algn="l" pos="3905280"/>
                <a:tab algn="l" pos="4122720"/>
                <a:tab algn="l" pos="4340160"/>
                <a:tab algn="l" pos="4465800"/>
                <a:tab algn="l" pos="4809960"/>
                <a:tab algn="l" pos="5153040"/>
                <a:tab algn="l" pos="5497560"/>
                <a:tab algn="l" pos="564192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0" lang="en-US" sz="2000" spc="-1" strike="noStrike">
                <a:solidFill>
                  <a:srgbClr val="525252"/>
                </a:solidFill>
                <a:latin typeface="Helvetica Neue Light"/>
                <a:ea typeface="ＭＳ Ｐゴシック"/>
              </a:rPr>
              <a:t>High Level Ov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137040" y="2116080"/>
            <a:ext cx="849240" cy="395280"/>
            <a:chOff x="3137040" y="2116080"/>
            <a:chExt cx="849240" cy="395280"/>
          </a:xfrm>
        </p:grpSpPr>
        <p:sp>
          <p:nvSpPr>
            <p:cNvPr id="327" name="Rectangle 4"/>
            <p:cNvSpPr/>
            <p:nvPr/>
          </p:nvSpPr>
          <p:spPr>
            <a:xfrm>
              <a:off x="3137040" y="2116080"/>
              <a:ext cx="849240" cy="39528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5"/>
            <p:cNvSpPr/>
            <p:nvPr/>
          </p:nvSpPr>
          <p:spPr>
            <a:xfrm>
              <a:off x="3300840" y="2178360"/>
              <a:ext cx="52128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tep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Group 6"/>
          <p:cNvGrpSpPr/>
          <p:nvPr/>
        </p:nvGrpSpPr>
        <p:grpSpPr>
          <a:xfrm>
            <a:off x="322200" y="2116080"/>
            <a:ext cx="806400" cy="395280"/>
            <a:chOff x="322200" y="2116080"/>
            <a:chExt cx="806400" cy="395280"/>
          </a:xfrm>
        </p:grpSpPr>
        <p:grpSp>
          <p:nvGrpSpPr>
            <p:cNvPr id="330" name="Group 7"/>
            <p:cNvGrpSpPr/>
            <p:nvPr/>
          </p:nvGrpSpPr>
          <p:grpSpPr>
            <a:xfrm>
              <a:off x="322200" y="2116080"/>
              <a:ext cx="806400" cy="395280"/>
              <a:chOff x="322200" y="2116080"/>
              <a:chExt cx="806400" cy="395280"/>
            </a:xfrm>
          </p:grpSpPr>
          <p:sp>
            <p:nvSpPr>
              <p:cNvPr id="331" name="Rectangle 8"/>
              <p:cNvSpPr/>
              <p:nvPr/>
            </p:nvSpPr>
            <p:spPr>
              <a:xfrm>
                <a:off x="322200" y="2116080"/>
                <a:ext cx="806400" cy="395280"/>
              </a:xfrm>
              <a:prstGeom prst="rect">
                <a:avLst/>
              </a:prstGeom>
              <a:solidFill>
                <a:srgbClr val="5382a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Rectangle 9"/>
              <p:cNvSpPr/>
              <p:nvPr/>
            </p:nvSpPr>
            <p:spPr>
              <a:xfrm>
                <a:off x="477360" y="2178360"/>
                <a:ext cx="495000" cy="26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3" name="Rectangle 10"/>
            <p:cNvSpPr/>
            <p:nvPr/>
          </p:nvSpPr>
          <p:spPr>
            <a:xfrm>
              <a:off x="327240" y="2229840"/>
              <a:ext cx="796680" cy="1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Launch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Group 11"/>
          <p:cNvGrpSpPr/>
          <p:nvPr/>
        </p:nvGrpSpPr>
        <p:grpSpPr>
          <a:xfrm>
            <a:off x="1757520" y="2116080"/>
            <a:ext cx="776160" cy="395280"/>
            <a:chOff x="1757520" y="2116080"/>
            <a:chExt cx="776160" cy="395280"/>
          </a:xfrm>
        </p:grpSpPr>
        <p:grpSp>
          <p:nvGrpSpPr>
            <p:cNvPr id="335" name="Group 12"/>
            <p:cNvGrpSpPr/>
            <p:nvPr/>
          </p:nvGrpSpPr>
          <p:grpSpPr>
            <a:xfrm>
              <a:off x="1757520" y="2116080"/>
              <a:ext cx="776160" cy="395280"/>
              <a:chOff x="1757520" y="2116080"/>
              <a:chExt cx="776160" cy="395280"/>
            </a:xfrm>
          </p:grpSpPr>
          <p:sp>
            <p:nvSpPr>
              <p:cNvPr id="336" name="Rectangle 13"/>
              <p:cNvSpPr/>
              <p:nvPr/>
            </p:nvSpPr>
            <p:spPr>
              <a:xfrm>
                <a:off x="1757520" y="2116080"/>
                <a:ext cx="776160" cy="395280"/>
              </a:xfrm>
              <a:prstGeom prst="rect">
                <a:avLst/>
              </a:prstGeom>
              <a:solidFill>
                <a:srgbClr val="5382a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Rectangle 14"/>
              <p:cNvSpPr/>
              <p:nvPr/>
            </p:nvSpPr>
            <p:spPr>
              <a:xfrm>
                <a:off x="1906560" y="2178360"/>
                <a:ext cx="477000" cy="26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8" name="Rectangle 15"/>
            <p:cNvSpPr/>
            <p:nvPr/>
          </p:nvSpPr>
          <p:spPr>
            <a:xfrm>
              <a:off x="1762560" y="2229840"/>
              <a:ext cx="766440" cy="1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Group 16"/>
          <p:cNvGrpSpPr/>
          <p:nvPr/>
        </p:nvGrpSpPr>
        <p:grpSpPr>
          <a:xfrm>
            <a:off x="4572000" y="1530360"/>
            <a:ext cx="1206360" cy="433440"/>
            <a:chOff x="4572000" y="1530360"/>
            <a:chExt cx="1206360" cy="433440"/>
          </a:xfrm>
        </p:grpSpPr>
        <p:grpSp>
          <p:nvGrpSpPr>
            <p:cNvPr id="340" name="Group 17"/>
            <p:cNvGrpSpPr/>
            <p:nvPr/>
          </p:nvGrpSpPr>
          <p:grpSpPr>
            <a:xfrm>
              <a:off x="4572000" y="1530360"/>
              <a:ext cx="1206360" cy="433440"/>
              <a:chOff x="4572000" y="1530360"/>
              <a:chExt cx="1206360" cy="433440"/>
            </a:xfrm>
          </p:grpSpPr>
          <p:sp>
            <p:nvSpPr>
              <p:cNvPr id="341" name="Rectangle 18"/>
              <p:cNvSpPr/>
              <p:nvPr/>
            </p:nvSpPr>
            <p:spPr>
              <a:xfrm>
                <a:off x="4572000" y="1530360"/>
                <a:ext cx="1206360" cy="43344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Rectangle 19"/>
              <p:cNvSpPr/>
              <p:nvPr/>
            </p:nvSpPr>
            <p:spPr>
              <a:xfrm>
                <a:off x="4804200" y="1598760"/>
                <a:ext cx="740880" cy="29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3" name="Rectangle 20"/>
            <p:cNvSpPr/>
            <p:nvPr/>
          </p:nvSpPr>
          <p:spPr>
            <a:xfrm>
              <a:off x="4572000" y="1662840"/>
              <a:ext cx="1201680" cy="17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Read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Group 21"/>
          <p:cNvGrpSpPr/>
          <p:nvPr/>
        </p:nvGrpSpPr>
        <p:grpSpPr>
          <a:xfrm>
            <a:off x="4583160" y="2676600"/>
            <a:ext cx="1190520" cy="433440"/>
            <a:chOff x="4583160" y="2676600"/>
            <a:chExt cx="1190520" cy="433440"/>
          </a:xfrm>
        </p:grpSpPr>
        <p:grpSp>
          <p:nvGrpSpPr>
            <p:cNvPr id="345" name="Group 22"/>
            <p:cNvGrpSpPr/>
            <p:nvPr/>
          </p:nvGrpSpPr>
          <p:grpSpPr>
            <a:xfrm>
              <a:off x="4583160" y="2676600"/>
              <a:ext cx="1190520" cy="433440"/>
              <a:chOff x="4583160" y="2676600"/>
              <a:chExt cx="1190520" cy="433440"/>
            </a:xfrm>
          </p:grpSpPr>
          <p:sp>
            <p:nvSpPr>
              <p:cNvPr id="346" name="Rectangle 23"/>
              <p:cNvSpPr/>
              <p:nvPr/>
            </p:nvSpPr>
            <p:spPr>
              <a:xfrm>
                <a:off x="4583160" y="2676600"/>
                <a:ext cx="1190520" cy="43344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Rectangle 24"/>
              <p:cNvSpPr/>
              <p:nvPr/>
            </p:nvSpPr>
            <p:spPr>
              <a:xfrm>
                <a:off x="4812840" y="2745000"/>
                <a:ext cx="730800" cy="29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8" name="Rectangle 25"/>
            <p:cNvSpPr/>
            <p:nvPr/>
          </p:nvSpPr>
          <p:spPr>
            <a:xfrm>
              <a:off x="4583160" y="2809080"/>
              <a:ext cx="1185120" cy="17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Writ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Line 26"/>
          <p:cNvSpPr/>
          <p:nvPr/>
        </p:nvSpPr>
        <p:spPr>
          <a:xfrm flipV="1">
            <a:off x="4061520" y="1893600"/>
            <a:ext cx="476280" cy="3459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27"/>
          <p:cNvSpPr/>
          <p:nvPr/>
        </p:nvSpPr>
        <p:spPr>
          <a:xfrm>
            <a:off x="4065480" y="2376360"/>
            <a:ext cx="465120" cy="4017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28"/>
          <p:cNvSpPr/>
          <p:nvPr/>
        </p:nvSpPr>
        <p:spPr>
          <a:xfrm>
            <a:off x="2549520" y="2338560"/>
            <a:ext cx="56844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9"/>
          <p:cNvSpPr/>
          <p:nvPr/>
        </p:nvSpPr>
        <p:spPr>
          <a:xfrm>
            <a:off x="2580120" y="215316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30"/>
          <p:cNvSpPr/>
          <p:nvPr/>
        </p:nvSpPr>
        <p:spPr>
          <a:xfrm>
            <a:off x="3056400" y="2153160"/>
            <a:ext cx="45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31"/>
          <p:cNvSpPr/>
          <p:nvPr/>
        </p:nvSpPr>
        <p:spPr>
          <a:xfrm>
            <a:off x="1150920" y="2325600"/>
            <a:ext cx="56844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32"/>
          <p:cNvSpPr/>
          <p:nvPr/>
        </p:nvSpPr>
        <p:spPr>
          <a:xfrm>
            <a:off x="4044240" y="20134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33"/>
          <p:cNvSpPr/>
          <p:nvPr/>
        </p:nvSpPr>
        <p:spPr>
          <a:xfrm>
            <a:off x="4044240" y="25246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34"/>
          <p:cNvSpPr/>
          <p:nvPr/>
        </p:nvSpPr>
        <p:spPr>
          <a:xfrm>
            <a:off x="4438800" y="282960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35"/>
          <p:cNvSpPr/>
          <p:nvPr/>
        </p:nvSpPr>
        <p:spPr>
          <a:xfrm>
            <a:off x="4438800" y="17452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Group 36"/>
          <p:cNvGrpSpPr/>
          <p:nvPr/>
        </p:nvGrpSpPr>
        <p:grpSpPr>
          <a:xfrm>
            <a:off x="345960" y="3262320"/>
            <a:ext cx="3670560" cy="395280"/>
            <a:chOff x="345960" y="3262320"/>
            <a:chExt cx="3670560" cy="395280"/>
          </a:xfrm>
        </p:grpSpPr>
        <p:grpSp>
          <p:nvGrpSpPr>
            <p:cNvPr id="360" name="Group 37"/>
            <p:cNvGrpSpPr/>
            <p:nvPr/>
          </p:nvGrpSpPr>
          <p:grpSpPr>
            <a:xfrm>
              <a:off x="345960" y="3262320"/>
              <a:ext cx="3670560" cy="395280"/>
              <a:chOff x="345960" y="3262320"/>
              <a:chExt cx="3670560" cy="395280"/>
            </a:xfrm>
          </p:grpSpPr>
          <p:sp>
            <p:nvSpPr>
              <p:cNvPr id="361" name="Rectangle 38"/>
              <p:cNvSpPr/>
              <p:nvPr/>
            </p:nvSpPr>
            <p:spPr>
              <a:xfrm>
                <a:off x="345960" y="3262320"/>
                <a:ext cx="3670560" cy="395280"/>
              </a:xfrm>
              <a:prstGeom prst="rect">
                <a:avLst/>
              </a:prstGeom>
              <a:solidFill>
                <a:srgbClr val="5382a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Rectangle 39"/>
              <p:cNvSpPr/>
              <p:nvPr/>
            </p:nvSpPr>
            <p:spPr>
              <a:xfrm>
                <a:off x="1054080" y="3324600"/>
                <a:ext cx="2252880" cy="26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3" name="Rectangle 40"/>
            <p:cNvSpPr/>
            <p:nvPr/>
          </p:nvSpPr>
          <p:spPr>
            <a:xfrm>
              <a:off x="372600" y="3376080"/>
              <a:ext cx="3624840" cy="1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Repositor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AutoShape 41"/>
          <p:cNvSpPr/>
          <p:nvPr/>
        </p:nvSpPr>
        <p:spPr>
          <a:xfrm rot="5400000">
            <a:off x="1840680" y="2797920"/>
            <a:ext cx="682560" cy="185760"/>
          </a:xfrm>
          <a:prstGeom prst="leftRightArrow">
            <a:avLst>
              <a:gd name="adj1" fmla="val 34824"/>
              <a:gd name="adj2" fmla="val 13153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42"/>
          <p:cNvSpPr/>
          <p:nvPr/>
        </p:nvSpPr>
        <p:spPr>
          <a:xfrm rot="5400000">
            <a:off x="3222000" y="2797920"/>
            <a:ext cx="682560" cy="185760"/>
          </a:xfrm>
          <a:prstGeom prst="leftRightArrow">
            <a:avLst>
              <a:gd name="adj1" fmla="val 34824"/>
              <a:gd name="adj2" fmla="val 13153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43"/>
          <p:cNvSpPr/>
          <p:nvPr/>
        </p:nvSpPr>
        <p:spPr>
          <a:xfrm rot="5400000">
            <a:off x="381600" y="2797920"/>
            <a:ext cx="682560" cy="185760"/>
          </a:xfrm>
          <a:prstGeom prst="leftRightArrow">
            <a:avLst>
              <a:gd name="adj1" fmla="val 34824"/>
              <a:gd name="adj2" fmla="val 13153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Group 44"/>
          <p:cNvGrpSpPr/>
          <p:nvPr/>
        </p:nvGrpSpPr>
        <p:grpSpPr>
          <a:xfrm>
            <a:off x="4583160" y="2097000"/>
            <a:ext cx="1190520" cy="433440"/>
            <a:chOff x="4583160" y="2097000"/>
            <a:chExt cx="1190520" cy="433440"/>
          </a:xfrm>
        </p:grpSpPr>
        <p:grpSp>
          <p:nvGrpSpPr>
            <p:cNvPr id="368" name="Group 45"/>
            <p:cNvGrpSpPr/>
            <p:nvPr/>
          </p:nvGrpSpPr>
          <p:grpSpPr>
            <a:xfrm>
              <a:off x="4583160" y="2097000"/>
              <a:ext cx="1190520" cy="433440"/>
              <a:chOff x="4583160" y="2097000"/>
              <a:chExt cx="1190520" cy="433440"/>
            </a:xfrm>
          </p:grpSpPr>
          <p:sp>
            <p:nvSpPr>
              <p:cNvPr id="369" name="Rectangle 46"/>
              <p:cNvSpPr/>
              <p:nvPr/>
            </p:nvSpPr>
            <p:spPr>
              <a:xfrm>
                <a:off x="4583160" y="2097000"/>
                <a:ext cx="1190520" cy="43344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Rectangle 47"/>
              <p:cNvSpPr/>
              <p:nvPr/>
            </p:nvSpPr>
            <p:spPr>
              <a:xfrm>
                <a:off x="4812840" y="2165400"/>
                <a:ext cx="730800" cy="29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1" name="Rectangle 48"/>
            <p:cNvSpPr/>
            <p:nvPr/>
          </p:nvSpPr>
          <p:spPr>
            <a:xfrm>
              <a:off x="4583160" y="2229480"/>
              <a:ext cx="1185120" cy="17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Processo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Line 49"/>
          <p:cNvSpPr/>
          <p:nvPr/>
        </p:nvSpPr>
        <p:spPr>
          <a:xfrm>
            <a:off x="4079880" y="2313000"/>
            <a:ext cx="450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50"/>
          <p:cNvSpPr/>
          <p:nvPr/>
        </p:nvSpPr>
        <p:spPr>
          <a:xfrm>
            <a:off x="4432320" y="2120760"/>
            <a:ext cx="842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51"/>
          <p:cNvSpPr/>
          <p:nvPr/>
        </p:nvSpPr>
        <p:spPr>
          <a:xfrm>
            <a:off x="4182480" y="21610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8A1B73CA-11B5-4514-B571-7A3D568FDEF8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1"/>
          <p:cNvSpPr/>
          <p:nvPr/>
        </p:nvSpPr>
        <p:spPr>
          <a:xfrm>
            <a:off x="268200" y="0"/>
            <a:ext cx="55850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16000"/>
                <a:tab algn="l" pos="433440"/>
                <a:tab algn="l" pos="650880"/>
                <a:tab algn="l" pos="868320"/>
                <a:tab algn="l" pos="1084320"/>
                <a:tab algn="l" pos="1301760"/>
                <a:tab algn="l" pos="1517760"/>
                <a:tab algn="l" pos="1735200"/>
                <a:tab algn="l" pos="1952640"/>
                <a:tab algn="l" pos="2170080"/>
                <a:tab algn="l" pos="2386080"/>
                <a:tab algn="l" pos="2603520"/>
                <a:tab algn="l" pos="2819520"/>
                <a:tab algn="l" pos="3038400"/>
                <a:tab algn="l" pos="3254400"/>
                <a:tab algn="l" pos="3471840"/>
                <a:tab algn="l" pos="3687840"/>
                <a:tab algn="l" pos="3905280"/>
                <a:tab algn="l" pos="4122720"/>
                <a:tab algn="l" pos="4340160"/>
                <a:tab algn="l" pos="4465800"/>
                <a:tab algn="l" pos="4809960"/>
                <a:tab algn="l" pos="5153040"/>
                <a:tab algn="l" pos="5497560"/>
                <a:tab algn="l" pos="564192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0" lang="en-US" sz="2000" spc="-1" strike="noStrike">
                <a:solidFill>
                  <a:srgbClr val="525252"/>
                </a:solidFill>
                <a:latin typeface="Helvetica Neue Light"/>
                <a:ea typeface="ＭＳ Ｐゴシック"/>
              </a:rPr>
              <a:t>Batch 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2"/>
          <p:cNvGrpSpPr/>
          <p:nvPr/>
        </p:nvGrpSpPr>
        <p:grpSpPr>
          <a:xfrm>
            <a:off x="638280" y="1397160"/>
            <a:ext cx="1230120" cy="328320"/>
            <a:chOff x="638280" y="1397160"/>
            <a:chExt cx="1230120" cy="328320"/>
          </a:xfrm>
        </p:grpSpPr>
        <p:sp>
          <p:nvSpPr>
            <p:cNvPr id="378" name="Rectangle 3"/>
            <p:cNvSpPr/>
            <p:nvPr/>
          </p:nvSpPr>
          <p:spPr>
            <a:xfrm>
              <a:off x="638280" y="1397160"/>
              <a:ext cx="1230120" cy="328320"/>
            </a:xfrm>
            <a:prstGeom prst="rect">
              <a:avLst/>
            </a:prstGeom>
            <a:solidFill>
              <a:srgbClr val="5382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4"/>
            <p:cNvSpPr/>
            <p:nvPr/>
          </p:nvSpPr>
          <p:spPr>
            <a:xfrm>
              <a:off x="1088640" y="1425960"/>
              <a:ext cx="32940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720" tIns="0" bIns="0" anchor="ctr">
              <a:noAutofit/>
            </a:bodyPr>
            <a:p>
              <a:pPr marL="17640" algn="ctr">
                <a:tabLst>
                  <a:tab algn="l" pos="0"/>
                  <a:tab algn="l" pos="17640"/>
                  <a:tab algn="l" pos="235080"/>
                  <a:tab algn="l" pos="452520"/>
                  <a:tab algn="l" pos="668160"/>
                  <a:tab algn="l" pos="885960"/>
                  <a:tab algn="l" pos="1101600"/>
                  <a:tab algn="l" pos="1319040"/>
                  <a:tab algn="l" pos="1536840"/>
                  <a:tab algn="l" pos="1754280"/>
                  <a:tab algn="l" pos="1969920"/>
                  <a:tab algn="l" pos="2187720"/>
                  <a:tab algn="l" pos="2403360"/>
                  <a:tab algn="l" pos="2622600"/>
                  <a:tab algn="l" pos="2838600"/>
                  <a:tab algn="l" pos="3056040"/>
                  <a:tab algn="l" pos="3271680"/>
                  <a:tab algn="l" pos="3489480"/>
                  <a:tab algn="l" pos="3706920"/>
                  <a:tab algn="l" pos="3924360"/>
                  <a:tab algn="l" pos="4140360"/>
                  <a:tab algn="l" pos="435780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  <a:tab algn="l" pos="9101160"/>
                  <a:tab algn="l" pos="9534600"/>
                  <a:tab algn="l" pos="9968040"/>
                  <a:tab algn="l" pos="10401480"/>
                  <a:tab algn="l" pos="108345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Group 5"/>
          <p:cNvGrpSpPr/>
          <p:nvPr/>
        </p:nvGrpSpPr>
        <p:grpSpPr>
          <a:xfrm>
            <a:off x="1050840" y="2421000"/>
            <a:ext cx="1046160" cy="280800"/>
            <a:chOff x="1050840" y="2421000"/>
            <a:chExt cx="1046160" cy="280800"/>
          </a:xfrm>
        </p:grpSpPr>
        <p:sp>
          <p:nvSpPr>
            <p:cNvPr id="381" name="Rectangle 6"/>
            <p:cNvSpPr/>
            <p:nvPr/>
          </p:nvSpPr>
          <p:spPr>
            <a:xfrm>
              <a:off x="1050840" y="2421000"/>
              <a:ext cx="1046160" cy="280800"/>
            </a:xfrm>
            <a:prstGeom prst="rect">
              <a:avLst/>
            </a:prstGeom>
            <a:solidFill>
              <a:srgbClr val="f8d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7"/>
            <p:cNvSpPr/>
            <p:nvPr/>
          </p:nvSpPr>
          <p:spPr>
            <a:xfrm>
              <a:off x="1145520" y="2455200"/>
              <a:ext cx="85536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Instanc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Group 8"/>
          <p:cNvGrpSpPr/>
          <p:nvPr/>
        </p:nvGrpSpPr>
        <p:grpSpPr>
          <a:xfrm>
            <a:off x="1339920" y="3379680"/>
            <a:ext cx="1046160" cy="281160"/>
            <a:chOff x="1339920" y="3379680"/>
            <a:chExt cx="1046160" cy="281160"/>
          </a:xfrm>
        </p:grpSpPr>
        <p:sp>
          <p:nvSpPr>
            <p:cNvPr id="384" name="Rectangle 9"/>
            <p:cNvSpPr/>
            <p:nvPr/>
          </p:nvSpPr>
          <p:spPr>
            <a:xfrm>
              <a:off x="1339920" y="3379680"/>
              <a:ext cx="1046160" cy="281160"/>
            </a:xfrm>
            <a:prstGeom prst="rect">
              <a:avLst/>
            </a:prstGeom>
            <a:solidFill>
              <a:srgbClr val="f8d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10"/>
            <p:cNvSpPr/>
            <p:nvPr/>
          </p:nvSpPr>
          <p:spPr>
            <a:xfrm>
              <a:off x="1387440" y="3413880"/>
              <a:ext cx="949680" cy="21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Execu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Rectangle 11"/>
          <p:cNvSpPr/>
          <p:nvPr/>
        </p:nvSpPr>
        <p:spPr>
          <a:xfrm>
            <a:off x="1484640" y="1913040"/>
            <a:ext cx="110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880" rIns="29160" tIns="11880" bIns="11880" anchor="t">
            <a:spAutoFit/>
          </a:bodyPr>
          <a:p>
            <a:pPr marL="4680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2"/>
          <p:cNvSpPr/>
          <p:nvPr/>
        </p:nvSpPr>
        <p:spPr>
          <a:xfrm>
            <a:off x="2705040" y="1301760"/>
            <a:ext cx="1033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9440" tIns="0" bIns="0" anchor="ctr">
            <a:noAutofit/>
          </a:bodyPr>
          <a:p>
            <a:pPr marL="19080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The </a:t>
            </a:r>
            <a:r>
              <a:rPr b="1" lang="en-US" sz="9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EndOfDay</a:t>
            </a:r>
            <a:r>
              <a:rPr b="0" lang="en-US" sz="9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 Jo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13"/>
          <p:cNvSpPr/>
          <p:nvPr/>
        </p:nvSpPr>
        <p:spPr>
          <a:xfrm flipH="1">
            <a:off x="1961640" y="1406520"/>
            <a:ext cx="677880" cy="1396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14"/>
          <p:cNvSpPr/>
          <p:nvPr/>
        </p:nvSpPr>
        <p:spPr>
          <a:xfrm>
            <a:off x="4248000" y="2764800"/>
            <a:ext cx="929160" cy="2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9440" tIns="0" bIns="0" anchor="ctr">
            <a:spAutoFit/>
          </a:bodyPr>
          <a:p>
            <a:pPr marL="19080">
              <a:lnSpc>
                <a:spcPct val="11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The </a:t>
            </a:r>
            <a:r>
              <a:rPr b="1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EndOfDay</a:t>
            </a:r>
            <a:r>
              <a:rPr b="0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 J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9080">
              <a:lnSpc>
                <a:spcPct val="11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for </a:t>
            </a:r>
            <a:r>
              <a:rPr b="1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2007/05/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15"/>
          <p:cNvSpPr/>
          <p:nvPr/>
        </p:nvSpPr>
        <p:spPr>
          <a:xfrm flipH="1" flipV="1">
            <a:off x="2280960" y="2665440"/>
            <a:ext cx="1919160" cy="2239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16"/>
          <p:cNvSpPr/>
          <p:nvPr/>
        </p:nvSpPr>
        <p:spPr>
          <a:xfrm>
            <a:off x="3842280" y="3318120"/>
            <a:ext cx="975240" cy="4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9440" tIns="0" bIns="0" anchor="ctr">
            <a:spAutoFit/>
          </a:bodyPr>
          <a:p>
            <a:pPr marL="19080">
              <a:lnSpc>
                <a:spcPct val="11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The </a:t>
            </a:r>
            <a:r>
              <a:rPr b="1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first attempt </a:t>
            </a:r>
            <a:r>
              <a:rPr b="0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a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9080">
              <a:lnSpc>
                <a:spcPct val="11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EndOfDay</a:t>
            </a:r>
            <a:r>
              <a:rPr b="0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 Job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9080">
              <a:lnSpc>
                <a:spcPct val="11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for </a:t>
            </a:r>
            <a:r>
              <a:rPr b="1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2007/05/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17"/>
          <p:cNvSpPr/>
          <p:nvPr/>
        </p:nvSpPr>
        <p:spPr>
          <a:xfrm flipH="1" flipV="1">
            <a:off x="2514600" y="3512880"/>
            <a:ext cx="1279440" cy="140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18"/>
          <p:cNvSpPr/>
          <p:nvPr/>
        </p:nvSpPr>
        <p:spPr>
          <a:xfrm rot="3495600">
            <a:off x="1131480" y="1976040"/>
            <a:ext cx="588960" cy="179280"/>
          </a:xfrm>
          <a:prstGeom prst="rightArrow">
            <a:avLst>
              <a:gd name="adj1" fmla="val 33509"/>
              <a:gd name="adj2" fmla="val 110356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9"/>
          <p:cNvSpPr/>
          <p:nvPr/>
        </p:nvSpPr>
        <p:spPr>
          <a:xfrm>
            <a:off x="1765080" y="2887560"/>
            <a:ext cx="110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880" rIns="29160" tIns="11880" bIns="11880" anchor="t">
            <a:spAutoFit/>
          </a:bodyPr>
          <a:p>
            <a:pPr marL="4680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20"/>
          <p:cNvSpPr/>
          <p:nvPr/>
        </p:nvSpPr>
        <p:spPr>
          <a:xfrm rot="3495600">
            <a:off x="1411200" y="2933640"/>
            <a:ext cx="592200" cy="179280"/>
          </a:xfrm>
          <a:prstGeom prst="rightArrow">
            <a:avLst>
              <a:gd name="adj1" fmla="val 33509"/>
              <a:gd name="adj2" fmla="val 110963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67B9DEC3-545E-4C11-8CBD-84B8E5843DDB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"/>
          <p:cNvSpPr/>
          <p:nvPr/>
        </p:nvSpPr>
        <p:spPr>
          <a:xfrm>
            <a:off x="268200" y="0"/>
            <a:ext cx="55850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16000"/>
                <a:tab algn="l" pos="433440"/>
                <a:tab algn="l" pos="650880"/>
                <a:tab algn="l" pos="868320"/>
                <a:tab algn="l" pos="1084320"/>
                <a:tab algn="l" pos="1301760"/>
                <a:tab algn="l" pos="1517760"/>
                <a:tab algn="l" pos="1735200"/>
                <a:tab algn="l" pos="1952640"/>
                <a:tab algn="l" pos="2170080"/>
                <a:tab algn="l" pos="2386080"/>
                <a:tab algn="l" pos="2603520"/>
                <a:tab algn="l" pos="2819520"/>
                <a:tab algn="l" pos="3038400"/>
                <a:tab algn="l" pos="3254400"/>
                <a:tab algn="l" pos="3471840"/>
                <a:tab algn="l" pos="3687840"/>
                <a:tab algn="l" pos="3905280"/>
                <a:tab algn="l" pos="4122720"/>
                <a:tab algn="l" pos="4340160"/>
                <a:tab algn="l" pos="4465800"/>
                <a:tab algn="l" pos="4809960"/>
                <a:tab algn="l" pos="5153040"/>
                <a:tab algn="l" pos="5497560"/>
                <a:tab algn="l" pos="564192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0" lang="en-US" sz="2000" spc="-1" strike="noStrike">
                <a:solidFill>
                  <a:srgbClr val="525252"/>
                </a:solidFill>
                <a:latin typeface="Helvetica Neue Light"/>
                <a:ea typeface="ＭＳ Ｐゴシック"/>
              </a:rPr>
              <a:t>Batch 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2"/>
          <p:cNvGrpSpPr/>
          <p:nvPr/>
        </p:nvGrpSpPr>
        <p:grpSpPr>
          <a:xfrm>
            <a:off x="638280" y="1397160"/>
            <a:ext cx="1230120" cy="328320"/>
            <a:chOff x="638280" y="1397160"/>
            <a:chExt cx="1230120" cy="328320"/>
          </a:xfrm>
        </p:grpSpPr>
        <p:sp>
          <p:nvSpPr>
            <p:cNvPr id="399" name="Rectangle 3"/>
            <p:cNvSpPr/>
            <p:nvPr/>
          </p:nvSpPr>
          <p:spPr>
            <a:xfrm>
              <a:off x="638280" y="1397160"/>
              <a:ext cx="1230120" cy="328320"/>
            </a:xfrm>
            <a:prstGeom prst="rect">
              <a:avLst/>
            </a:prstGeom>
            <a:solidFill>
              <a:srgbClr val="5382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Rectangle 4"/>
            <p:cNvSpPr/>
            <p:nvPr/>
          </p:nvSpPr>
          <p:spPr>
            <a:xfrm>
              <a:off x="1088640" y="1425960"/>
              <a:ext cx="32940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720" tIns="0" bIns="0" anchor="ctr">
              <a:noAutofit/>
            </a:bodyPr>
            <a:p>
              <a:pPr marL="17640" algn="ctr">
                <a:tabLst>
                  <a:tab algn="l" pos="0"/>
                  <a:tab algn="l" pos="17640"/>
                  <a:tab algn="l" pos="235080"/>
                  <a:tab algn="l" pos="452520"/>
                  <a:tab algn="l" pos="668160"/>
                  <a:tab algn="l" pos="885960"/>
                  <a:tab algn="l" pos="1101600"/>
                  <a:tab algn="l" pos="1319040"/>
                  <a:tab algn="l" pos="1536840"/>
                  <a:tab algn="l" pos="1754280"/>
                  <a:tab algn="l" pos="1969920"/>
                  <a:tab algn="l" pos="2187720"/>
                  <a:tab algn="l" pos="2403360"/>
                  <a:tab algn="l" pos="2622600"/>
                  <a:tab algn="l" pos="2838600"/>
                  <a:tab algn="l" pos="3056040"/>
                  <a:tab algn="l" pos="3271680"/>
                  <a:tab algn="l" pos="3489480"/>
                  <a:tab algn="l" pos="3706920"/>
                  <a:tab algn="l" pos="3924360"/>
                  <a:tab algn="l" pos="4140360"/>
                  <a:tab algn="l" pos="435780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  <a:tab algn="l" pos="9101160"/>
                  <a:tab algn="l" pos="9534600"/>
                  <a:tab algn="l" pos="9968040"/>
                  <a:tab algn="l" pos="10401480"/>
                  <a:tab algn="l" pos="108345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Group 5"/>
          <p:cNvGrpSpPr/>
          <p:nvPr/>
        </p:nvGrpSpPr>
        <p:grpSpPr>
          <a:xfrm>
            <a:off x="1050840" y="2421000"/>
            <a:ext cx="1046160" cy="280800"/>
            <a:chOff x="1050840" y="2421000"/>
            <a:chExt cx="1046160" cy="280800"/>
          </a:xfrm>
        </p:grpSpPr>
        <p:sp>
          <p:nvSpPr>
            <p:cNvPr id="402" name="Rectangle 6"/>
            <p:cNvSpPr/>
            <p:nvPr/>
          </p:nvSpPr>
          <p:spPr>
            <a:xfrm>
              <a:off x="1050840" y="2421000"/>
              <a:ext cx="1046160" cy="280800"/>
            </a:xfrm>
            <a:prstGeom prst="rect">
              <a:avLst/>
            </a:prstGeom>
            <a:solidFill>
              <a:srgbClr val="f8d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7"/>
            <p:cNvSpPr/>
            <p:nvPr/>
          </p:nvSpPr>
          <p:spPr>
            <a:xfrm>
              <a:off x="1145520" y="2455200"/>
              <a:ext cx="85536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Instanc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Group 8"/>
          <p:cNvGrpSpPr/>
          <p:nvPr/>
        </p:nvGrpSpPr>
        <p:grpSpPr>
          <a:xfrm>
            <a:off x="1339920" y="3379680"/>
            <a:ext cx="1046160" cy="281160"/>
            <a:chOff x="1339920" y="3379680"/>
            <a:chExt cx="1046160" cy="281160"/>
          </a:xfrm>
        </p:grpSpPr>
        <p:sp>
          <p:nvSpPr>
            <p:cNvPr id="405" name="Rectangle 9"/>
            <p:cNvSpPr/>
            <p:nvPr/>
          </p:nvSpPr>
          <p:spPr>
            <a:xfrm>
              <a:off x="1339920" y="3379680"/>
              <a:ext cx="1046160" cy="281160"/>
            </a:xfrm>
            <a:prstGeom prst="rect">
              <a:avLst/>
            </a:prstGeom>
            <a:solidFill>
              <a:srgbClr val="f8d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10"/>
            <p:cNvSpPr/>
            <p:nvPr/>
          </p:nvSpPr>
          <p:spPr>
            <a:xfrm>
              <a:off x="1387440" y="3413880"/>
              <a:ext cx="949680" cy="21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Execu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Rectangle 11"/>
          <p:cNvSpPr/>
          <p:nvPr/>
        </p:nvSpPr>
        <p:spPr>
          <a:xfrm>
            <a:off x="1484640" y="1913040"/>
            <a:ext cx="110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880" rIns="29160" tIns="11880" bIns="11880" anchor="t">
            <a:spAutoFit/>
          </a:bodyPr>
          <a:p>
            <a:pPr marL="4680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2"/>
          <p:cNvSpPr/>
          <p:nvPr/>
        </p:nvSpPr>
        <p:spPr>
          <a:xfrm>
            <a:off x="2705040" y="1301760"/>
            <a:ext cx="1033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9440" tIns="0" bIns="0" anchor="ctr">
            <a:noAutofit/>
          </a:bodyPr>
          <a:p>
            <a:pPr marL="19080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The </a:t>
            </a:r>
            <a:r>
              <a:rPr b="1" lang="en-US" sz="9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EndOfDay</a:t>
            </a:r>
            <a:r>
              <a:rPr b="0" lang="en-US" sz="9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 Jo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13"/>
          <p:cNvSpPr/>
          <p:nvPr/>
        </p:nvSpPr>
        <p:spPr>
          <a:xfrm flipH="1">
            <a:off x="1961640" y="1406520"/>
            <a:ext cx="677880" cy="1396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4"/>
          <p:cNvSpPr/>
          <p:nvPr/>
        </p:nvSpPr>
        <p:spPr>
          <a:xfrm>
            <a:off x="4248000" y="2764800"/>
            <a:ext cx="929160" cy="2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9440" tIns="0" bIns="0" anchor="ctr">
            <a:spAutoFit/>
          </a:bodyPr>
          <a:p>
            <a:pPr marL="19080">
              <a:lnSpc>
                <a:spcPct val="11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The </a:t>
            </a:r>
            <a:r>
              <a:rPr b="1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EndOfDay</a:t>
            </a:r>
            <a:r>
              <a:rPr b="0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 J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9080">
              <a:lnSpc>
                <a:spcPct val="11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for </a:t>
            </a:r>
            <a:r>
              <a:rPr b="1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2007/05/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5"/>
          <p:cNvSpPr/>
          <p:nvPr/>
        </p:nvSpPr>
        <p:spPr>
          <a:xfrm flipH="1" flipV="1">
            <a:off x="2280960" y="2665440"/>
            <a:ext cx="1919160" cy="2239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6"/>
          <p:cNvSpPr/>
          <p:nvPr/>
        </p:nvSpPr>
        <p:spPr>
          <a:xfrm>
            <a:off x="3842280" y="3318120"/>
            <a:ext cx="975240" cy="4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9440" tIns="0" bIns="0" anchor="ctr">
            <a:spAutoFit/>
          </a:bodyPr>
          <a:p>
            <a:pPr marL="19080">
              <a:lnSpc>
                <a:spcPct val="11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The </a:t>
            </a:r>
            <a:r>
              <a:rPr b="1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first attempt </a:t>
            </a:r>
            <a:r>
              <a:rPr b="0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a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9080">
              <a:lnSpc>
                <a:spcPct val="11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EndOfDay</a:t>
            </a:r>
            <a:r>
              <a:rPr b="0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 Job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9080">
              <a:lnSpc>
                <a:spcPct val="11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for </a:t>
            </a:r>
            <a:r>
              <a:rPr b="1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2007/05/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17"/>
          <p:cNvSpPr/>
          <p:nvPr/>
        </p:nvSpPr>
        <p:spPr>
          <a:xfrm flipH="1" flipV="1">
            <a:off x="2514600" y="3512880"/>
            <a:ext cx="1279440" cy="140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Group 18"/>
          <p:cNvGrpSpPr/>
          <p:nvPr/>
        </p:nvGrpSpPr>
        <p:grpSpPr>
          <a:xfrm>
            <a:off x="2733840" y="2076480"/>
            <a:ext cx="1201680" cy="339840"/>
            <a:chOff x="2733840" y="2076480"/>
            <a:chExt cx="1201680" cy="339840"/>
          </a:xfrm>
        </p:grpSpPr>
        <p:sp>
          <p:nvSpPr>
            <p:cNvPr id="415" name="Rectangle 19"/>
            <p:cNvSpPr/>
            <p:nvPr/>
          </p:nvSpPr>
          <p:spPr>
            <a:xfrm>
              <a:off x="2733840" y="2076480"/>
              <a:ext cx="1201680" cy="339840"/>
            </a:xfrm>
            <a:prstGeom prst="rect">
              <a:avLst/>
            </a:prstGeom>
            <a:solidFill>
              <a:srgbClr val="5382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20"/>
            <p:cNvSpPr/>
            <p:nvPr/>
          </p:nvSpPr>
          <p:spPr>
            <a:xfrm>
              <a:off x="2815920" y="2106000"/>
              <a:ext cx="103644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720" tIns="0" bIns="0" anchor="ctr">
              <a:noAutofit/>
            </a:bodyPr>
            <a:p>
              <a:pPr marL="17640" algn="ctr">
                <a:tabLst>
                  <a:tab algn="l" pos="0"/>
                  <a:tab algn="l" pos="17640"/>
                  <a:tab algn="l" pos="235080"/>
                  <a:tab algn="l" pos="452520"/>
                  <a:tab algn="l" pos="668160"/>
                  <a:tab algn="l" pos="885960"/>
                  <a:tab algn="l" pos="1101600"/>
                  <a:tab algn="l" pos="1319040"/>
                  <a:tab algn="l" pos="1536840"/>
                  <a:tab algn="l" pos="1754280"/>
                  <a:tab algn="l" pos="1969920"/>
                  <a:tab algn="l" pos="2187720"/>
                  <a:tab algn="l" pos="2403360"/>
                  <a:tab algn="l" pos="2622600"/>
                  <a:tab algn="l" pos="2838600"/>
                  <a:tab algn="l" pos="3056040"/>
                  <a:tab algn="l" pos="3271680"/>
                  <a:tab algn="l" pos="3489480"/>
                  <a:tab algn="l" pos="3706920"/>
                  <a:tab algn="l" pos="3924360"/>
                  <a:tab algn="l" pos="4140360"/>
                  <a:tab algn="l" pos="435780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  <a:tab algn="l" pos="9101160"/>
                  <a:tab algn="l" pos="9534600"/>
                  <a:tab algn="l" pos="9968040"/>
                  <a:tab algn="l" pos="10401480"/>
                  <a:tab algn="l" pos="108345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Parameter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Rectangle 21"/>
          <p:cNvSpPr/>
          <p:nvPr/>
        </p:nvSpPr>
        <p:spPr>
          <a:xfrm>
            <a:off x="4047120" y="1584720"/>
            <a:ext cx="1464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9440" tIns="0" bIns="0" anchor="ctr">
            <a:spAutoFit/>
          </a:bodyPr>
          <a:p>
            <a:pPr marL="19080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schedule.date =</a:t>
            </a:r>
            <a:r>
              <a:rPr b="1" lang="en-US" sz="9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 2007/05/0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22"/>
          <p:cNvSpPr/>
          <p:nvPr/>
        </p:nvSpPr>
        <p:spPr>
          <a:xfrm flipH="1">
            <a:off x="3688920" y="1693800"/>
            <a:ext cx="389160" cy="3049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23"/>
          <p:cNvSpPr/>
          <p:nvPr/>
        </p:nvSpPr>
        <p:spPr>
          <a:xfrm rot="3495600">
            <a:off x="1131480" y="1976040"/>
            <a:ext cx="588960" cy="179280"/>
          </a:xfrm>
          <a:prstGeom prst="rightArrow">
            <a:avLst>
              <a:gd name="adj1" fmla="val 33509"/>
              <a:gd name="adj2" fmla="val 110356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24"/>
          <p:cNvSpPr/>
          <p:nvPr/>
        </p:nvSpPr>
        <p:spPr>
          <a:xfrm>
            <a:off x="1765080" y="2887560"/>
            <a:ext cx="110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880" rIns="29160" tIns="11880" bIns="11880" anchor="t">
            <a:spAutoFit/>
          </a:bodyPr>
          <a:p>
            <a:pPr marL="4680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25"/>
          <p:cNvSpPr/>
          <p:nvPr/>
        </p:nvSpPr>
        <p:spPr>
          <a:xfrm rot="3495600">
            <a:off x="1411200" y="2933640"/>
            <a:ext cx="592200" cy="179280"/>
          </a:xfrm>
          <a:prstGeom prst="rightArrow">
            <a:avLst>
              <a:gd name="adj1" fmla="val 33509"/>
              <a:gd name="adj2" fmla="val 110963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26"/>
          <p:cNvSpPr/>
          <p:nvPr/>
        </p:nvSpPr>
        <p:spPr>
          <a:xfrm rot="8896800">
            <a:off x="2122200" y="2322000"/>
            <a:ext cx="581040" cy="184320"/>
          </a:xfrm>
          <a:prstGeom prst="rightArrow">
            <a:avLst>
              <a:gd name="adj1" fmla="val 33509"/>
              <a:gd name="adj2" fmla="val 105895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77AEED26-0CB4-4209-9CAE-8BB0DE1D5581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"/>
          <p:cNvSpPr/>
          <p:nvPr/>
        </p:nvSpPr>
        <p:spPr>
          <a:xfrm>
            <a:off x="268200" y="0"/>
            <a:ext cx="55850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16000"/>
                <a:tab algn="l" pos="433440"/>
                <a:tab algn="l" pos="650880"/>
                <a:tab algn="l" pos="868320"/>
                <a:tab algn="l" pos="1084320"/>
                <a:tab algn="l" pos="1301760"/>
                <a:tab algn="l" pos="1517760"/>
                <a:tab algn="l" pos="1735200"/>
                <a:tab algn="l" pos="1952640"/>
                <a:tab algn="l" pos="2170080"/>
                <a:tab algn="l" pos="2386080"/>
                <a:tab algn="l" pos="2603520"/>
                <a:tab algn="l" pos="2819520"/>
                <a:tab algn="l" pos="3038400"/>
                <a:tab algn="l" pos="3254400"/>
                <a:tab algn="l" pos="3471840"/>
                <a:tab algn="l" pos="3687840"/>
                <a:tab algn="l" pos="3905280"/>
                <a:tab algn="l" pos="4122720"/>
                <a:tab algn="l" pos="4340160"/>
                <a:tab algn="l" pos="4465800"/>
                <a:tab algn="l" pos="4809960"/>
                <a:tab algn="l" pos="5153040"/>
                <a:tab algn="l" pos="5497560"/>
                <a:tab algn="l" pos="564192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0" lang="en-US" sz="2000" spc="-1" strike="noStrike">
                <a:solidFill>
                  <a:srgbClr val="525252"/>
                </a:solidFill>
                <a:latin typeface="Helvetica Neue Light"/>
                <a:ea typeface="ＭＳ Ｐゴシック"/>
              </a:rPr>
              <a:t>Batch 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2"/>
          <p:cNvGrpSpPr/>
          <p:nvPr/>
        </p:nvGrpSpPr>
        <p:grpSpPr>
          <a:xfrm>
            <a:off x="638280" y="1397160"/>
            <a:ext cx="1230120" cy="328320"/>
            <a:chOff x="638280" y="1397160"/>
            <a:chExt cx="1230120" cy="328320"/>
          </a:xfrm>
        </p:grpSpPr>
        <p:sp>
          <p:nvSpPr>
            <p:cNvPr id="426" name="Rectangle 3"/>
            <p:cNvSpPr/>
            <p:nvPr/>
          </p:nvSpPr>
          <p:spPr>
            <a:xfrm>
              <a:off x="638280" y="1397160"/>
              <a:ext cx="1230120" cy="328320"/>
            </a:xfrm>
            <a:prstGeom prst="rect">
              <a:avLst/>
            </a:prstGeom>
            <a:solidFill>
              <a:srgbClr val="5382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4"/>
            <p:cNvSpPr/>
            <p:nvPr/>
          </p:nvSpPr>
          <p:spPr>
            <a:xfrm>
              <a:off x="1088640" y="1425960"/>
              <a:ext cx="32940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720" tIns="0" bIns="0" anchor="ctr">
              <a:noAutofit/>
            </a:bodyPr>
            <a:p>
              <a:pPr marL="17640" algn="ctr">
                <a:tabLst>
                  <a:tab algn="l" pos="0"/>
                  <a:tab algn="l" pos="17640"/>
                  <a:tab algn="l" pos="235080"/>
                  <a:tab algn="l" pos="452520"/>
                  <a:tab algn="l" pos="668160"/>
                  <a:tab algn="l" pos="885960"/>
                  <a:tab algn="l" pos="1101600"/>
                  <a:tab algn="l" pos="1319040"/>
                  <a:tab algn="l" pos="1536840"/>
                  <a:tab algn="l" pos="1754280"/>
                  <a:tab algn="l" pos="1969920"/>
                  <a:tab algn="l" pos="2187720"/>
                  <a:tab algn="l" pos="2403360"/>
                  <a:tab algn="l" pos="2622600"/>
                  <a:tab algn="l" pos="2838600"/>
                  <a:tab algn="l" pos="3056040"/>
                  <a:tab algn="l" pos="3271680"/>
                  <a:tab algn="l" pos="3489480"/>
                  <a:tab algn="l" pos="3706920"/>
                  <a:tab algn="l" pos="3924360"/>
                  <a:tab algn="l" pos="4140360"/>
                  <a:tab algn="l" pos="435780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  <a:tab algn="l" pos="9101160"/>
                  <a:tab algn="l" pos="9534600"/>
                  <a:tab algn="l" pos="9968040"/>
                  <a:tab algn="l" pos="10401480"/>
                  <a:tab algn="l" pos="108345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Group 5"/>
          <p:cNvGrpSpPr/>
          <p:nvPr/>
        </p:nvGrpSpPr>
        <p:grpSpPr>
          <a:xfrm>
            <a:off x="1050840" y="2421000"/>
            <a:ext cx="1046160" cy="280800"/>
            <a:chOff x="1050840" y="2421000"/>
            <a:chExt cx="1046160" cy="280800"/>
          </a:xfrm>
        </p:grpSpPr>
        <p:sp>
          <p:nvSpPr>
            <p:cNvPr id="429" name="Rectangle 6"/>
            <p:cNvSpPr/>
            <p:nvPr/>
          </p:nvSpPr>
          <p:spPr>
            <a:xfrm>
              <a:off x="1050840" y="2421000"/>
              <a:ext cx="1046160" cy="280800"/>
            </a:xfrm>
            <a:prstGeom prst="rect">
              <a:avLst/>
            </a:prstGeom>
            <a:solidFill>
              <a:srgbClr val="f8d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7"/>
            <p:cNvSpPr/>
            <p:nvPr/>
          </p:nvSpPr>
          <p:spPr>
            <a:xfrm>
              <a:off x="1145520" y="2455200"/>
              <a:ext cx="85536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Instanc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Group 8"/>
          <p:cNvGrpSpPr/>
          <p:nvPr/>
        </p:nvGrpSpPr>
        <p:grpSpPr>
          <a:xfrm>
            <a:off x="1339920" y="3379680"/>
            <a:ext cx="1046160" cy="281160"/>
            <a:chOff x="1339920" y="3379680"/>
            <a:chExt cx="1046160" cy="281160"/>
          </a:xfrm>
        </p:grpSpPr>
        <p:sp>
          <p:nvSpPr>
            <p:cNvPr id="432" name="Rectangle 9"/>
            <p:cNvSpPr/>
            <p:nvPr/>
          </p:nvSpPr>
          <p:spPr>
            <a:xfrm>
              <a:off x="1339920" y="3379680"/>
              <a:ext cx="1046160" cy="281160"/>
            </a:xfrm>
            <a:prstGeom prst="rect">
              <a:avLst/>
            </a:prstGeom>
            <a:solidFill>
              <a:srgbClr val="f8d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10"/>
            <p:cNvSpPr/>
            <p:nvPr/>
          </p:nvSpPr>
          <p:spPr>
            <a:xfrm>
              <a:off x="1387440" y="3413880"/>
              <a:ext cx="949680" cy="21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Execu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4" name="Rectangle 11"/>
          <p:cNvSpPr/>
          <p:nvPr/>
        </p:nvSpPr>
        <p:spPr>
          <a:xfrm>
            <a:off x="1484640" y="1913040"/>
            <a:ext cx="110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880" rIns="29160" tIns="11880" bIns="11880" anchor="t">
            <a:spAutoFit/>
          </a:bodyPr>
          <a:p>
            <a:pPr marL="4680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12"/>
          <p:cNvSpPr/>
          <p:nvPr/>
        </p:nvSpPr>
        <p:spPr>
          <a:xfrm rot="3495600">
            <a:off x="1131480" y="1976040"/>
            <a:ext cx="588960" cy="179280"/>
          </a:xfrm>
          <a:prstGeom prst="rightArrow">
            <a:avLst>
              <a:gd name="adj1" fmla="val 33509"/>
              <a:gd name="adj2" fmla="val 110356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13"/>
          <p:cNvSpPr/>
          <p:nvPr/>
        </p:nvSpPr>
        <p:spPr>
          <a:xfrm>
            <a:off x="1765080" y="2887560"/>
            <a:ext cx="110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880" rIns="29160" tIns="11880" bIns="11880" anchor="t">
            <a:spAutoFit/>
          </a:bodyPr>
          <a:p>
            <a:pPr marL="4680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14"/>
          <p:cNvSpPr/>
          <p:nvPr/>
        </p:nvSpPr>
        <p:spPr>
          <a:xfrm rot="3495600">
            <a:off x="1411200" y="2933640"/>
            <a:ext cx="592200" cy="179280"/>
          </a:xfrm>
          <a:prstGeom prst="rightArrow">
            <a:avLst>
              <a:gd name="adj1" fmla="val 33509"/>
              <a:gd name="adj2" fmla="val 110963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Group 15"/>
          <p:cNvGrpSpPr/>
          <p:nvPr/>
        </p:nvGrpSpPr>
        <p:grpSpPr>
          <a:xfrm>
            <a:off x="2538360" y="1695600"/>
            <a:ext cx="1231920" cy="328320"/>
            <a:chOff x="2538360" y="1695600"/>
            <a:chExt cx="1231920" cy="328320"/>
          </a:xfrm>
        </p:grpSpPr>
        <p:sp>
          <p:nvSpPr>
            <p:cNvPr id="439" name="Rectangle 16"/>
            <p:cNvSpPr/>
            <p:nvPr/>
          </p:nvSpPr>
          <p:spPr>
            <a:xfrm>
              <a:off x="2538360" y="1695600"/>
              <a:ext cx="1231920" cy="328320"/>
            </a:xfrm>
            <a:prstGeom prst="rect">
              <a:avLst/>
            </a:prstGeom>
            <a:solidFill>
              <a:srgbClr val="5382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17"/>
            <p:cNvSpPr/>
            <p:nvPr/>
          </p:nvSpPr>
          <p:spPr>
            <a:xfrm>
              <a:off x="2989080" y="1724400"/>
              <a:ext cx="32976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720" tIns="0" bIns="0" anchor="ctr">
              <a:noAutofit/>
            </a:bodyPr>
            <a:p>
              <a:pPr marL="17640" algn="ctr">
                <a:tabLst>
                  <a:tab algn="l" pos="0"/>
                  <a:tab algn="l" pos="17640"/>
                  <a:tab algn="l" pos="235080"/>
                  <a:tab algn="l" pos="452520"/>
                  <a:tab algn="l" pos="668160"/>
                  <a:tab algn="l" pos="885960"/>
                  <a:tab algn="l" pos="1101600"/>
                  <a:tab algn="l" pos="1319040"/>
                  <a:tab algn="l" pos="1536840"/>
                  <a:tab algn="l" pos="1754280"/>
                  <a:tab algn="l" pos="1969920"/>
                  <a:tab algn="l" pos="2187720"/>
                  <a:tab algn="l" pos="2403360"/>
                  <a:tab algn="l" pos="2622600"/>
                  <a:tab algn="l" pos="2838600"/>
                  <a:tab algn="l" pos="3056040"/>
                  <a:tab algn="l" pos="3271680"/>
                  <a:tab algn="l" pos="3489480"/>
                  <a:tab algn="l" pos="3706920"/>
                  <a:tab algn="l" pos="3924360"/>
                  <a:tab algn="l" pos="4140360"/>
                  <a:tab algn="l" pos="435780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  <a:tab algn="l" pos="9101160"/>
                  <a:tab algn="l" pos="9534600"/>
                  <a:tab algn="l" pos="9968040"/>
                  <a:tab algn="l" pos="10401480"/>
                  <a:tab algn="l" pos="108345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tep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Group 18"/>
          <p:cNvGrpSpPr/>
          <p:nvPr/>
        </p:nvGrpSpPr>
        <p:grpSpPr>
          <a:xfrm>
            <a:off x="3092400" y="3656160"/>
            <a:ext cx="1046160" cy="279360"/>
            <a:chOff x="3092400" y="3656160"/>
            <a:chExt cx="1046160" cy="279360"/>
          </a:xfrm>
        </p:grpSpPr>
        <p:sp>
          <p:nvSpPr>
            <p:cNvPr id="442" name="Rectangle 19"/>
            <p:cNvSpPr/>
            <p:nvPr/>
          </p:nvSpPr>
          <p:spPr>
            <a:xfrm>
              <a:off x="3092400" y="3656160"/>
              <a:ext cx="1046160" cy="279360"/>
            </a:xfrm>
            <a:prstGeom prst="rect">
              <a:avLst/>
            </a:prstGeom>
            <a:solidFill>
              <a:srgbClr val="f8d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Rectangle 20"/>
            <p:cNvSpPr/>
            <p:nvPr/>
          </p:nvSpPr>
          <p:spPr>
            <a:xfrm>
              <a:off x="3139920" y="3690000"/>
              <a:ext cx="94968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tepExecu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Rectangle 21"/>
          <p:cNvSpPr/>
          <p:nvPr/>
        </p:nvSpPr>
        <p:spPr>
          <a:xfrm>
            <a:off x="3570480" y="3193920"/>
            <a:ext cx="110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880" rIns="29160" tIns="11880" bIns="11880" anchor="t">
            <a:spAutoFit/>
          </a:bodyPr>
          <a:p>
            <a:pPr marL="4680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22"/>
          <p:cNvSpPr/>
          <p:nvPr/>
        </p:nvSpPr>
        <p:spPr>
          <a:xfrm rot="4392600">
            <a:off x="2596680" y="2739600"/>
            <a:ext cx="1573200" cy="179280"/>
          </a:xfrm>
          <a:prstGeom prst="rightArrow">
            <a:avLst>
              <a:gd name="adj1" fmla="val 33509"/>
              <a:gd name="adj2" fmla="val 110826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23"/>
          <p:cNvSpPr/>
          <p:nvPr/>
        </p:nvSpPr>
        <p:spPr>
          <a:xfrm rot="1629600">
            <a:off x="1899720" y="1622160"/>
            <a:ext cx="579600" cy="182520"/>
          </a:xfrm>
          <a:prstGeom prst="rightArrow">
            <a:avLst>
              <a:gd name="adj1" fmla="val 33509"/>
              <a:gd name="adj2" fmla="val 106675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24"/>
          <p:cNvSpPr/>
          <p:nvPr/>
        </p:nvSpPr>
        <p:spPr>
          <a:xfrm>
            <a:off x="2202120" y="1541520"/>
            <a:ext cx="110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880" rIns="29160" tIns="11880" bIns="11880" anchor="t">
            <a:spAutoFit/>
          </a:bodyPr>
          <a:p>
            <a:pPr marL="4680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25"/>
          <p:cNvSpPr/>
          <p:nvPr/>
        </p:nvSpPr>
        <p:spPr>
          <a:xfrm rot="1629600">
            <a:off x="2437920" y="3559320"/>
            <a:ext cx="581040" cy="182520"/>
          </a:xfrm>
          <a:prstGeom prst="rightArrow">
            <a:avLst>
              <a:gd name="adj1" fmla="val 33509"/>
              <a:gd name="adj2" fmla="val 10694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26"/>
          <p:cNvSpPr/>
          <p:nvPr/>
        </p:nvSpPr>
        <p:spPr>
          <a:xfrm>
            <a:off x="2739600" y="3479760"/>
            <a:ext cx="110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880" rIns="29160" tIns="11880" bIns="11880" anchor="t">
            <a:spAutoFit/>
          </a:bodyPr>
          <a:p>
            <a:pPr marL="4680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3098DC24-7F8A-4768-897C-722A2D03A0BC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68200" y="158400"/>
            <a:ext cx="560232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16000"/>
                <a:tab algn="l" pos="433440"/>
                <a:tab algn="l" pos="650880"/>
                <a:tab algn="l" pos="868320"/>
                <a:tab algn="l" pos="1084320"/>
                <a:tab algn="l" pos="1301760"/>
                <a:tab algn="l" pos="1517760"/>
                <a:tab algn="l" pos="1735200"/>
                <a:tab algn="l" pos="1952640"/>
                <a:tab algn="l" pos="2170080"/>
                <a:tab algn="l" pos="2386080"/>
                <a:tab algn="l" pos="2603520"/>
                <a:tab algn="l" pos="2819520"/>
                <a:tab algn="l" pos="3038400"/>
                <a:tab algn="l" pos="3254400"/>
                <a:tab algn="l" pos="3471840"/>
                <a:tab algn="l" pos="3687840"/>
                <a:tab algn="l" pos="3905280"/>
                <a:tab algn="l" pos="4122720"/>
                <a:tab algn="l" pos="4340160"/>
                <a:tab algn="l" pos="4465800"/>
                <a:tab algn="l" pos="4809960"/>
                <a:tab algn="l" pos="5153040"/>
                <a:tab algn="l" pos="5497560"/>
                <a:tab algn="l" pos="564192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0" lang="en-US" sz="2000" spc="-1" strike="noStrike">
                <a:solidFill>
                  <a:srgbClr val="525252"/>
                </a:solidFill>
                <a:latin typeface="Helvetica Neue Light"/>
                <a:ea typeface="ＭＳ Ｐゴシック"/>
              </a:rPr>
              <a:t>Item Oriented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Group 2"/>
          <p:cNvGrpSpPr/>
          <p:nvPr/>
        </p:nvGrpSpPr>
        <p:grpSpPr>
          <a:xfrm>
            <a:off x="1677960" y="1144440"/>
            <a:ext cx="897120" cy="219240"/>
            <a:chOff x="1677960" y="1144440"/>
            <a:chExt cx="897120" cy="219240"/>
          </a:xfrm>
        </p:grpSpPr>
        <p:sp>
          <p:nvSpPr>
            <p:cNvPr id="453" name="Rectangle 3"/>
            <p:cNvSpPr/>
            <p:nvPr/>
          </p:nvSpPr>
          <p:spPr>
            <a:xfrm>
              <a:off x="1677960" y="1144440"/>
              <a:ext cx="897120" cy="2192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Rectangle 4"/>
            <p:cNvSpPr/>
            <p:nvPr/>
          </p:nvSpPr>
          <p:spPr>
            <a:xfrm>
              <a:off x="1725480" y="1180800"/>
              <a:ext cx="8013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880" rIns="29160" tIns="11880" bIns="11880" anchor="ctr">
              <a:noAutofit/>
            </a:bodyPr>
            <a:p>
              <a:pPr marL="46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Read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Line 5"/>
          <p:cNvSpPr/>
          <p:nvPr/>
        </p:nvSpPr>
        <p:spPr>
          <a:xfrm flipH="1">
            <a:off x="2117520" y="1370160"/>
            <a:ext cx="12600" cy="22478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6"/>
          <p:cNvSpPr/>
          <p:nvPr/>
        </p:nvSpPr>
        <p:spPr>
          <a:xfrm flipV="1">
            <a:off x="1275480" y="1797120"/>
            <a:ext cx="77652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7"/>
          <p:cNvSpPr/>
          <p:nvPr/>
        </p:nvSpPr>
        <p:spPr>
          <a:xfrm>
            <a:off x="1422360" y="1620720"/>
            <a:ext cx="54468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9440" tIns="0" bIns="0" anchor="t">
            <a:noAutofit/>
          </a:bodyPr>
          <a:p>
            <a:pPr marL="19080"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ad(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8"/>
          <p:cNvSpPr/>
          <p:nvPr/>
        </p:nvSpPr>
        <p:spPr>
          <a:xfrm flipH="1">
            <a:off x="734760" y="3579840"/>
            <a:ext cx="3999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9"/>
          <p:cNvSpPr/>
          <p:nvPr/>
        </p:nvSpPr>
        <p:spPr>
          <a:xfrm>
            <a:off x="514440" y="3371760"/>
            <a:ext cx="62712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tStat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Group 10"/>
          <p:cNvGrpSpPr/>
          <p:nvPr/>
        </p:nvGrpSpPr>
        <p:grpSpPr>
          <a:xfrm>
            <a:off x="2763720" y="1144440"/>
            <a:ext cx="890640" cy="219240"/>
            <a:chOff x="2763720" y="1144440"/>
            <a:chExt cx="890640" cy="219240"/>
          </a:xfrm>
        </p:grpSpPr>
        <p:sp>
          <p:nvSpPr>
            <p:cNvPr id="461" name="Rectangle 11"/>
            <p:cNvSpPr/>
            <p:nvPr/>
          </p:nvSpPr>
          <p:spPr>
            <a:xfrm>
              <a:off x="2763720" y="1144440"/>
              <a:ext cx="890640" cy="2192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12"/>
            <p:cNvSpPr/>
            <p:nvPr/>
          </p:nvSpPr>
          <p:spPr>
            <a:xfrm>
              <a:off x="2871720" y="1180800"/>
              <a:ext cx="6732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880" rIns="29160" tIns="11880" bIns="11880" anchor="ctr">
              <a:noAutofit/>
            </a:bodyPr>
            <a:p>
              <a:pPr marL="46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Writ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Line 13"/>
          <p:cNvSpPr/>
          <p:nvPr/>
        </p:nvSpPr>
        <p:spPr>
          <a:xfrm>
            <a:off x="3203640" y="1382760"/>
            <a:ext cx="1440" cy="2209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14"/>
          <p:cNvSpPr/>
          <p:nvPr/>
        </p:nvSpPr>
        <p:spPr>
          <a:xfrm>
            <a:off x="2065320" y="1766880"/>
            <a:ext cx="119160" cy="395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15"/>
          <p:cNvSpPr/>
          <p:nvPr/>
        </p:nvSpPr>
        <p:spPr>
          <a:xfrm>
            <a:off x="1287360" y="2417760"/>
            <a:ext cx="182880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16"/>
          <p:cNvSpPr/>
          <p:nvPr/>
        </p:nvSpPr>
        <p:spPr>
          <a:xfrm>
            <a:off x="2397240" y="2232000"/>
            <a:ext cx="74772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9440" tIns="0" bIns="0" anchor="t">
            <a:noAutofit/>
          </a:bodyPr>
          <a:p>
            <a:pPr marL="19080"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rite(item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17"/>
          <p:cNvSpPr/>
          <p:nvPr/>
        </p:nvSpPr>
        <p:spPr>
          <a:xfrm>
            <a:off x="3143160" y="2327400"/>
            <a:ext cx="135000" cy="183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18"/>
          <p:cNvSpPr/>
          <p:nvPr/>
        </p:nvSpPr>
        <p:spPr>
          <a:xfrm>
            <a:off x="1220760" y="1363680"/>
            <a:ext cx="1440" cy="1693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19"/>
          <p:cNvSpPr/>
          <p:nvPr/>
        </p:nvSpPr>
        <p:spPr>
          <a:xfrm flipH="1">
            <a:off x="1275840" y="2144880"/>
            <a:ext cx="7700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20"/>
          <p:cNvSpPr/>
          <p:nvPr/>
        </p:nvSpPr>
        <p:spPr>
          <a:xfrm>
            <a:off x="1477800" y="1973160"/>
            <a:ext cx="3715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9440" tIns="0" bIns="0" anchor="t">
            <a:noAutofit/>
          </a:bodyPr>
          <a:p>
            <a:pPr marL="19080"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e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21"/>
          <p:cNvSpPr/>
          <p:nvPr/>
        </p:nvSpPr>
        <p:spPr>
          <a:xfrm>
            <a:off x="716040" y="1592280"/>
            <a:ext cx="40788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22"/>
          <p:cNvSpPr/>
          <p:nvPr/>
        </p:nvSpPr>
        <p:spPr>
          <a:xfrm>
            <a:off x="512640" y="1420920"/>
            <a:ext cx="544680" cy="1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9440" tIns="0" bIns="0" anchor="t">
            <a:noAutofit/>
          </a:bodyPr>
          <a:p>
            <a:pPr marL="19080"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ecute(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23"/>
          <p:cNvSpPr/>
          <p:nvPr/>
        </p:nvSpPr>
        <p:spPr>
          <a:xfrm>
            <a:off x="1139760" y="1592280"/>
            <a:ext cx="138240" cy="2004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24"/>
          <p:cNvSpPr/>
          <p:nvPr/>
        </p:nvSpPr>
        <p:spPr>
          <a:xfrm>
            <a:off x="1282680" y="2800440"/>
            <a:ext cx="763560" cy="6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25"/>
          <p:cNvSpPr/>
          <p:nvPr/>
        </p:nvSpPr>
        <p:spPr>
          <a:xfrm>
            <a:off x="1406520" y="2619360"/>
            <a:ext cx="54288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9440" tIns="0" bIns="0" anchor="t">
            <a:noAutofit/>
          </a:bodyPr>
          <a:p>
            <a:pPr marL="19080"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ad(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26"/>
          <p:cNvSpPr/>
          <p:nvPr/>
        </p:nvSpPr>
        <p:spPr>
          <a:xfrm>
            <a:off x="2065320" y="2741760"/>
            <a:ext cx="119160" cy="420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27"/>
          <p:cNvSpPr/>
          <p:nvPr/>
        </p:nvSpPr>
        <p:spPr>
          <a:xfrm>
            <a:off x="1287360" y="340524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28"/>
          <p:cNvSpPr/>
          <p:nvPr/>
        </p:nvSpPr>
        <p:spPr>
          <a:xfrm>
            <a:off x="2397240" y="3219480"/>
            <a:ext cx="747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9440" tIns="0" bIns="0" anchor="t">
            <a:noAutofit/>
          </a:bodyPr>
          <a:p>
            <a:pPr marL="19080"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rite(item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29"/>
          <p:cNvSpPr/>
          <p:nvPr/>
        </p:nvSpPr>
        <p:spPr>
          <a:xfrm>
            <a:off x="3143160" y="3308400"/>
            <a:ext cx="135000" cy="183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30"/>
          <p:cNvSpPr/>
          <p:nvPr/>
        </p:nvSpPr>
        <p:spPr>
          <a:xfrm flipH="1">
            <a:off x="1287360" y="3132000"/>
            <a:ext cx="7365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31"/>
          <p:cNvSpPr/>
          <p:nvPr/>
        </p:nvSpPr>
        <p:spPr>
          <a:xfrm>
            <a:off x="1477800" y="2960640"/>
            <a:ext cx="3715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9440" tIns="0" bIns="0" anchor="t">
            <a:noAutofit/>
          </a:bodyPr>
          <a:p>
            <a:pPr marL="19080"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e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Group 32"/>
          <p:cNvGrpSpPr/>
          <p:nvPr/>
        </p:nvGrpSpPr>
        <p:grpSpPr>
          <a:xfrm>
            <a:off x="949320" y="1135080"/>
            <a:ext cx="550800" cy="230040"/>
            <a:chOff x="949320" y="1135080"/>
            <a:chExt cx="550800" cy="230040"/>
          </a:xfrm>
        </p:grpSpPr>
        <p:sp>
          <p:nvSpPr>
            <p:cNvPr id="483" name="Rectangle 33"/>
            <p:cNvSpPr/>
            <p:nvPr/>
          </p:nvSpPr>
          <p:spPr>
            <a:xfrm>
              <a:off x="949320" y="1135080"/>
              <a:ext cx="550800" cy="23004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Rectangle 34"/>
            <p:cNvSpPr/>
            <p:nvPr/>
          </p:nvSpPr>
          <p:spPr>
            <a:xfrm>
              <a:off x="1055520" y="1171440"/>
              <a:ext cx="337320" cy="15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tep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8F5A1B43-04CF-4A28-A82D-33F96224FFF7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68200" y="158400"/>
            <a:ext cx="560232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16000"/>
                <a:tab algn="l" pos="433440"/>
                <a:tab algn="l" pos="650880"/>
                <a:tab algn="l" pos="868320"/>
                <a:tab algn="l" pos="1084320"/>
                <a:tab algn="l" pos="1301760"/>
                <a:tab algn="l" pos="1517760"/>
                <a:tab algn="l" pos="1735200"/>
                <a:tab algn="l" pos="1952640"/>
                <a:tab algn="l" pos="2170080"/>
                <a:tab algn="l" pos="2386080"/>
                <a:tab algn="l" pos="2603520"/>
                <a:tab algn="l" pos="2819520"/>
                <a:tab algn="l" pos="3038400"/>
                <a:tab algn="l" pos="3254400"/>
                <a:tab algn="l" pos="3471840"/>
                <a:tab algn="l" pos="3687840"/>
                <a:tab algn="l" pos="3905280"/>
                <a:tab algn="l" pos="4122720"/>
                <a:tab algn="l" pos="4340160"/>
                <a:tab algn="l" pos="4465800"/>
                <a:tab algn="l" pos="4809960"/>
                <a:tab algn="l" pos="5153040"/>
                <a:tab algn="l" pos="5497560"/>
                <a:tab algn="l" pos="564192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0" lang="en-US" sz="2000" spc="-1" strike="noStrike">
                <a:solidFill>
                  <a:srgbClr val="525252"/>
                </a:solidFill>
                <a:latin typeface="Helvetica Neue Light"/>
                <a:ea typeface="ＭＳ Ｐゴシック"/>
              </a:rPr>
              <a:t>Chunk Oriented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Group 2"/>
          <p:cNvGrpSpPr/>
          <p:nvPr/>
        </p:nvGrpSpPr>
        <p:grpSpPr>
          <a:xfrm>
            <a:off x="1677960" y="1144440"/>
            <a:ext cx="897120" cy="219240"/>
            <a:chOff x="1677960" y="1144440"/>
            <a:chExt cx="897120" cy="219240"/>
          </a:xfrm>
        </p:grpSpPr>
        <p:sp>
          <p:nvSpPr>
            <p:cNvPr id="488" name="Rectangle 3"/>
            <p:cNvSpPr/>
            <p:nvPr/>
          </p:nvSpPr>
          <p:spPr>
            <a:xfrm>
              <a:off x="1677960" y="1144440"/>
              <a:ext cx="897120" cy="2192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Rectangle 4"/>
            <p:cNvSpPr/>
            <p:nvPr/>
          </p:nvSpPr>
          <p:spPr>
            <a:xfrm>
              <a:off x="1725480" y="1180800"/>
              <a:ext cx="8013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880" rIns="29160" tIns="11880" bIns="11880" anchor="ctr">
              <a:noAutofit/>
            </a:bodyPr>
            <a:p>
              <a:pPr marL="46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Read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Line 5"/>
          <p:cNvSpPr/>
          <p:nvPr/>
        </p:nvSpPr>
        <p:spPr>
          <a:xfrm flipH="1">
            <a:off x="2117520" y="1370160"/>
            <a:ext cx="12600" cy="22478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6"/>
          <p:cNvSpPr/>
          <p:nvPr/>
        </p:nvSpPr>
        <p:spPr>
          <a:xfrm flipV="1">
            <a:off x="1275480" y="1797120"/>
            <a:ext cx="77652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7"/>
          <p:cNvSpPr/>
          <p:nvPr/>
        </p:nvSpPr>
        <p:spPr>
          <a:xfrm>
            <a:off x="1422360" y="1620720"/>
            <a:ext cx="54468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9440" tIns="0" bIns="0" anchor="t">
            <a:noAutofit/>
          </a:bodyPr>
          <a:p>
            <a:pPr marL="19080"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ad(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8"/>
          <p:cNvSpPr/>
          <p:nvPr/>
        </p:nvSpPr>
        <p:spPr>
          <a:xfrm flipH="1">
            <a:off x="734760" y="3579840"/>
            <a:ext cx="3999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9"/>
          <p:cNvSpPr/>
          <p:nvPr/>
        </p:nvSpPr>
        <p:spPr>
          <a:xfrm>
            <a:off x="514440" y="3371760"/>
            <a:ext cx="62712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tStat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Group 10"/>
          <p:cNvGrpSpPr/>
          <p:nvPr/>
        </p:nvGrpSpPr>
        <p:grpSpPr>
          <a:xfrm>
            <a:off x="2763720" y="1144440"/>
            <a:ext cx="890640" cy="219240"/>
            <a:chOff x="2763720" y="1144440"/>
            <a:chExt cx="890640" cy="219240"/>
          </a:xfrm>
        </p:grpSpPr>
        <p:sp>
          <p:nvSpPr>
            <p:cNvPr id="496" name="Rectangle 11"/>
            <p:cNvSpPr/>
            <p:nvPr/>
          </p:nvSpPr>
          <p:spPr>
            <a:xfrm>
              <a:off x="2763720" y="1144440"/>
              <a:ext cx="890640" cy="2192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Rectangle 12"/>
            <p:cNvSpPr/>
            <p:nvPr/>
          </p:nvSpPr>
          <p:spPr>
            <a:xfrm>
              <a:off x="2871720" y="1180800"/>
              <a:ext cx="6732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880" rIns="29160" tIns="11880" bIns="11880" anchor="ctr">
              <a:noAutofit/>
            </a:bodyPr>
            <a:p>
              <a:pPr marL="46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Writ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Line 13"/>
          <p:cNvSpPr/>
          <p:nvPr/>
        </p:nvSpPr>
        <p:spPr>
          <a:xfrm>
            <a:off x="3203640" y="1382760"/>
            <a:ext cx="1440" cy="2209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14"/>
          <p:cNvSpPr/>
          <p:nvPr/>
        </p:nvSpPr>
        <p:spPr>
          <a:xfrm>
            <a:off x="2065320" y="1766880"/>
            <a:ext cx="119160" cy="395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15"/>
          <p:cNvSpPr/>
          <p:nvPr/>
        </p:nvSpPr>
        <p:spPr>
          <a:xfrm>
            <a:off x="1220760" y="1363680"/>
            <a:ext cx="1440" cy="1693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16"/>
          <p:cNvSpPr/>
          <p:nvPr/>
        </p:nvSpPr>
        <p:spPr>
          <a:xfrm flipH="1">
            <a:off x="1275840" y="2144880"/>
            <a:ext cx="7700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17"/>
          <p:cNvSpPr/>
          <p:nvPr/>
        </p:nvSpPr>
        <p:spPr>
          <a:xfrm>
            <a:off x="1477800" y="1973160"/>
            <a:ext cx="3715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9440" tIns="0" bIns="0" anchor="t">
            <a:noAutofit/>
          </a:bodyPr>
          <a:p>
            <a:pPr marL="19080"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e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18"/>
          <p:cNvSpPr/>
          <p:nvPr/>
        </p:nvSpPr>
        <p:spPr>
          <a:xfrm>
            <a:off x="716040" y="1592280"/>
            <a:ext cx="40788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19"/>
          <p:cNvSpPr/>
          <p:nvPr/>
        </p:nvSpPr>
        <p:spPr>
          <a:xfrm>
            <a:off x="512640" y="1420920"/>
            <a:ext cx="544680" cy="1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9440" tIns="0" bIns="0" anchor="t">
            <a:noAutofit/>
          </a:bodyPr>
          <a:p>
            <a:pPr marL="19080"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ecute(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20"/>
          <p:cNvSpPr/>
          <p:nvPr/>
        </p:nvSpPr>
        <p:spPr>
          <a:xfrm>
            <a:off x="1139760" y="1592280"/>
            <a:ext cx="138240" cy="2004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21"/>
          <p:cNvSpPr/>
          <p:nvPr/>
        </p:nvSpPr>
        <p:spPr>
          <a:xfrm>
            <a:off x="1282680" y="2585880"/>
            <a:ext cx="763560" cy="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2"/>
          <p:cNvSpPr/>
          <p:nvPr/>
        </p:nvSpPr>
        <p:spPr>
          <a:xfrm>
            <a:off x="1406520" y="2406600"/>
            <a:ext cx="54288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9440" tIns="0" bIns="0" anchor="t">
            <a:noAutofit/>
          </a:bodyPr>
          <a:p>
            <a:pPr marL="19080"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ad(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3"/>
          <p:cNvSpPr/>
          <p:nvPr/>
        </p:nvSpPr>
        <p:spPr>
          <a:xfrm>
            <a:off x="2065320" y="2529000"/>
            <a:ext cx="119160" cy="420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24"/>
          <p:cNvSpPr/>
          <p:nvPr/>
        </p:nvSpPr>
        <p:spPr>
          <a:xfrm>
            <a:off x="1287360" y="32958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5"/>
          <p:cNvSpPr/>
          <p:nvPr/>
        </p:nvSpPr>
        <p:spPr>
          <a:xfrm>
            <a:off x="2397240" y="3110040"/>
            <a:ext cx="74772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9440" tIns="0" bIns="0" anchor="t">
            <a:noAutofit/>
          </a:bodyPr>
          <a:p>
            <a:pPr marL="19080"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rite(item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6"/>
          <p:cNvSpPr/>
          <p:nvPr/>
        </p:nvSpPr>
        <p:spPr>
          <a:xfrm>
            <a:off x="3143160" y="3198960"/>
            <a:ext cx="135000" cy="183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27"/>
          <p:cNvSpPr/>
          <p:nvPr/>
        </p:nvSpPr>
        <p:spPr>
          <a:xfrm flipH="1">
            <a:off x="1287360" y="2917800"/>
            <a:ext cx="7365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8"/>
          <p:cNvSpPr/>
          <p:nvPr/>
        </p:nvSpPr>
        <p:spPr>
          <a:xfrm>
            <a:off x="1477800" y="2746440"/>
            <a:ext cx="3715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9440" tIns="0" bIns="0" anchor="t">
            <a:noAutofit/>
          </a:bodyPr>
          <a:p>
            <a:pPr marL="19080"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e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Group 29"/>
          <p:cNvGrpSpPr/>
          <p:nvPr/>
        </p:nvGrpSpPr>
        <p:grpSpPr>
          <a:xfrm>
            <a:off x="949320" y="1135080"/>
            <a:ext cx="550800" cy="230040"/>
            <a:chOff x="949320" y="1135080"/>
            <a:chExt cx="550800" cy="230040"/>
          </a:xfrm>
        </p:grpSpPr>
        <p:sp>
          <p:nvSpPr>
            <p:cNvPr id="515" name="Rectangle 30"/>
            <p:cNvSpPr/>
            <p:nvPr/>
          </p:nvSpPr>
          <p:spPr>
            <a:xfrm>
              <a:off x="949320" y="1135080"/>
              <a:ext cx="550800" cy="23004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31"/>
            <p:cNvSpPr/>
            <p:nvPr/>
          </p:nvSpPr>
          <p:spPr>
            <a:xfrm>
              <a:off x="1055520" y="1171440"/>
              <a:ext cx="337320" cy="15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tep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76D57340-3E51-4709-8974-76E4323C37C7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68200" y="158400"/>
            <a:ext cx="560232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16000"/>
                <a:tab algn="l" pos="433440"/>
                <a:tab algn="l" pos="650880"/>
                <a:tab algn="l" pos="868320"/>
                <a:tab algn="l" pos="1084320"/>
                <a:tab algn="l" pos="1301760"/>
                <a:tab algn="l" pos="1517760"/>
                <a:tab algn="l" pos="1735200"/>
                <a:tab algn="l" pos="1952640"/>
                <a:tab algn="l" pos="2170080"/>
                <a:tab algn="l" pos="2386080"/>
                <a:tab algn="l" pos="2603520"/>
                <a:tab algn="l" pos="2819520"/>
                <a:tab algn="l" pos="3038400"/>
                <a:tab algn="l" pos="3254400"/>
                <a:tab algn="l" pos="3471840"/>
                <a:tab algn="l" pos="3687840"/>
                <a:tab algn="l" pos="3905280"/>
                <a:tab algn="l" pos="4122720"/>
                <a:tab algn="l" pos="4340160"/>
                <a:tab algn="l" pos="4465800"/>
                <a:tab algn="l" pos="4809960"/>
                <a:tab algn="l" pos="5153040"/>
                <a:tab algn="l" pos="5497560"/>
                <a:tab algn="l" pos="564192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0" lang="en-US" sz="2000" spc="-1" strike="noStrike">
                <a:solidFill>
                  <a:srgbClr val="525252"/>
                </a:solidFill>
                <a:latin typeface="Helvetica Neue Light"/>
                <a:ea typeface="ＭＳ Ｐゴシック"/>
              </a:rPr>
              <a:t>Old Step Paradig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Group 2"/>
          <p:cNvGrpSpPr/>
          <p:nvPr/>
        </p:nvGrpSpPr>
        <p:grpSpPr>
          <a:xfrm>
            <a:off x="458640" y="2116080"/>
            <a:ext cx="1136880" cy="395280"/>
            <a:chOff x="458640" y="2116080"/>
            <a:chExt cx="1136880" cy="395280"/>
          </a:xfrm>
        </p:grpSpPr>
        <p:sp>
          <p:nvSpPr>
            <p:cNvPr id="520" name="Rectangle 3"/>
            <p:cNvSpPr/>
            <p:nvPr/>
          </p:nvSpPr>
          <p:spPr>
            <a:xfrm>
              <a:off x="458640" y="2116080"/>
              <a:ext cx="1136880" cy="39528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Rectangle 4"/>
            <p:cNvSpPr/>
            <p:nvPr/>
          </p:nvSpPr>
          <p:spPr>
            <a:xfrm>
              <a:off x="677520" y="2178360"/>
              <a:ext cx="69768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tep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" name="Group 5"/>
          <p:cNvGrpSpPr/>
          <p:nvPr/>
        </p:nvGrpSpPr>
        <p:grpSpPr>
          <a:xfrm>
            <a:off x="2217600" y="2768760"/>
            <a:ext cx="1517760" cy="433080"/>
            <a:chOff x="2217600" y="2768760"/>
            <a:chExt cx="1517760" cy="433080"/>
          </a:xfrm>
        </p:grpSpPr>
        <p:sp>
          <p:nvSpPr>
            <p:cNvPr id="523" name="Rectangle 6"/>
            <p:cNvSpPr/>
            <p:nvPr/>
          </p:nvSpPr>
          <p:spPr>
            <a:xfrm>
              <a:off x="2217600" y="2768760"/>
              <a:ext cx="1517760" cy="4330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Rectangle 7"/>
            <p:cNvSpPr/>
            <p:nvPr/>
          </p:nvSpPr>
          <p:spPr>
            <a:xfrm>
              <a:off x="2510280" y="2837160"/>
              <a:ext cx="931320" cy="29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Writ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" name="Group 8"/>
          <p:cNvGrpSpPr/>
          <p:nvPr/>
        </p:nvGrpSpPr>
        <p:grpSpPr>
          <a:xfrm>
            <a:off x="2222640" y="1469880"/>
            <a:ext cx="1506240" cy="432000"/>
            <a:chOff x="2222640" y="1469880"/>
            <a:chExt cx="1506240" cy="432000"/>
          </a:xfrm>
        </p:grpSpPr>
        <p:sp>
          <p:nvSpPr>
            <p:cNvPr id="526" name="Rectangle 9"/>
            <p:cNvSpPr/>
            <p:nvPr/>
          </p:nvSpPr>
          <p:spPr>
            <a:xfrm>
              <a:off x="2222640" y="1469880"/>
              <a:ext cx="1506240" cy="4320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10"/>
            <p:cNvSpPr/>
            <p:nvPr/>
          </p:nvSpPr>
          <p:spPr>
            <a:xfrm>
              <a:off x="2513160" y="1538280"/>
              <a:ext cx="924120" cy="29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Read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AutoShape 11"/>
          <p:cNvSpPr/>
          <p:nvPr/>
        </p:nvSpPr>
        <p:spPr>
          <a:xfrm rot="9029400">
            <a:off x="1661400" y="1792440"/>
            <a:ext cx="490680" cy="218880"/>
          </a:xfrm>
          <a:prstGeom prst="rightArrow">
            <a:avLst>
              <a:gd name="adj1" fmla="val 33509"/>
              <a:gd name="adj2" fmla="val 8909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AutoShape 12"/>
          <p:cNvSpPr/>
          <p:nvPr/>
        </p:nvSpPr>
        <p:spPr>
          <a:xfrm rot="1950000">
            <a:off x="1638360" y="2657520"/>
            <a:ext cx="490320" cy="218880"/>
          </a:xfrm>
          <a:prstGeom prst="rightArrow">
            <a:avLst>
              <a:gd name="adj1" fmla="val 33509"/>
              <a:gd name="adj2" fmla="val 8902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F07657B2-99CB-405F-BEE9-71CEAEBD0755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68200" y="158400"/>
            <a:ext cx="560232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16000"/>
                <a:tab algn="l" pos="433440"/>
                <a:tab algn="l" pos="650880"/>
                <a:tab algn="l" pos="868320"/>
                <a:tab algn="l" pos="1084320"/>
                <a:tab algn="l" pos="1301760"/>
                <a:tab algn="l" pos="1517760"/>
                <a:tab algn="l" pos="1735200"/>
                <a:tab algn="l" pos="1952640"/>
                <a:tab algn="l" pos="2170080"/>
                <a:tab algn="l" pos="2386080"/>
                <a:tab algn="l" pos="2603520"/>
                <a:tab algn="l" pos="2819520"/>
                <a:tab algn="l" pos="3038400"/>
                <a:tab algn="l" pos="3254400"/>
                <a:tab algn="l" pos="3471840"/>
                <a:tab algn="l" pos="3687840"/>
                <a:tab algn="l" pos="3905280"/>
                <a:tab algn="l" pos="4122720"/>
                <a:tab algn="l" pos="4340160"/>
                <a:tab algn="l" pos="4465800"/>
                <a:tab algn="l" pos="4809960"/>
                <a:tab algn="l" pos="5153040"/>
                <a:tab algn="l" pos="5497560"/>
                <a:tab algn="l" pos="564192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0" lang="en-US" sz="2000" spc="-1" strike="noStrike">
                <a:solidFill>
                  <a:srgbClr val="525252"/>
                </a:solidFill>
                <a:latin typeface="Helvetica Neue Light"/>
                <a:ea typeface="ＭＳ Ｐゴシック"/>
              </a:rPr>
              <a:t>Old Step Paradig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2" name="Group 2"/>
          <p:cNvGrpSpPr/>
          <p:nvPr/>
        </p:nvGrpSpPr>
        <p:grpSpPr>
          <a:xfrm>
            <a:off x="382680" y="2103480"/>
            <a:ext cx="1135080" cy="396720"/>
            <a:chOff x="382680" y="2103480"/>
            <a:chExt cx="1135080" cy="396720"/>
          </a:xfrm>
        </p:grpSpPr>
        <p:sp>
          <p:nvSpPr>
            <p:cNvPr id="533" name="Rectangle 3"/>
            <p:cNvSpPr/>
            <p:nvPr/>
          </p:nvSpPr>
          <p:spPr>
            <a:xfrm>
              <a:off x="382680" y="2103480"/>
              <a:ext cx="1135080" cy="39672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Rectangle 4"/>
            <p:cNvSpPr/>
            <p:nvPr/>
          </p:nvSpPr>
          <p:spPr>
            <a:xfrm>
              <a:off x="601200" y="2166120"/>
              <a:ext cx="696600" cy="27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tep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" name="Group 5"/>
          <p:cNvGrpSpPr/>
          <p:nvPr/>
        </p:nvGrpSpPr>
        <p:grpSpPr>
          <a:xfrm>
            <a:off x="4321080" y="3146400"/>
            <a:ext cx="1536840" cy="432000"/>
            <a:chOff x="4321080" y="3146400"/>
            <a:chExt cx="1536840" cy="432000"/>
          </a:xfrm>
        </p:grpSpPr>
        <p:sp>
          <p:nvSpPr>
            <p:cNvPr id="536" name="Rectangle 6"/>
            <p:cNvSpPr/>
            <p:nvPr/>
          </p:nvSpPr>
          <p:spPr>
            <a:xfrm>
              <a:off x="4321080" y="3146400"/>
              <a:ext cx="1536840" cy="4320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Rectangle 7"/>
            <p:cNvSpPr/>
            <p:nvPr/>
          </p:nvSpPr>
          <p:spPr>
            <a:xfrm>
              <a:off x="4617000" y="3214800"/>
              <a:ext cx="944280" cy="29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Writ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" name="Group 8"/>
          <p:cNvGrpSpPr/>
          <p:nvPr/>
        </p:nvGrpSpPr>
        <p:grpSpPr>
          <a:xfrm>
            <a:off x="2144880" y="1457280"/>
            <a:ext cx="1506240" cy="433440"/>
            <a:chOff x="2144880" y="1457280"/>
            <a:chExt cx="1506240" cy="433440"/>
          </a:xfrm>
        </p:grpSpPr>
        <p:sp>
          <p:nvSpPr>
            <p:cNvPr id="539" name="Rectangle 9"/>
            <p:cNvSpPr/>
            <p:nvPr/>
          </p:nvSpPr>
          <p:spPr>
            <a:xfrm>
              <a:off x="2144880" y="1457280"/>
              <a:ext cx="1506240" cy="433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Rectangle 10"/>
            <p:cNvSpPr/>
            <p:nvPr/>
          </p:nvSpPr>
          <p:spPr>
            <a:xfrm>
              <a:off x="2435400" y="1525680"/>
              <a:ext cx="92412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Read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AutoShape 11"/>
          <p:cNvSpPr/>
          <p:nvPr/>
        </p:nvSpPr>
        <p:spPr>
          <a:xfrm rot="9029400">
            <a:off x="1583640" y="1779120"/>
            <a:ext cx="490680" cy="219240"/>
          </a:xfrm>
          <a:prstGeom prst="rightArrow">
            <a:avLst>
              <a:gd name="adj1" fmla="val 33509"/>
              <a:gd name="adj2" fmla="val 88943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12"/>
          <p:cNvSpPr/>
          <p:nvPr/>
        </p:nvSpPr>
        <p:spPr>
          <a:xfrm rot="1537200">
            <a:off x="1560240" y="2607840"/>
            <a:ext cx="488880" cy="219240"/>
          </a:xfrm>
          <a:prstGeom prst="rightArrow">
            <a:avLst>
              <a:gd name="adj1" fmla="val 33509"/>
              <a:gd name="adj2" fmla="val 88617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3" name="Group 13"/>
          <p:cNvGrpSpPr/>
          <p:nvPr/>
        </p:nvGrpSpPr>
        <p:grpSpPr>
          <a:xfrm>
            <a:off x="2116080" y="2700360"/>
            <a:ext cx="1571760" cy="426960"/>
            <a:chOff x="2116080" y="2700360"/>
            <a:chExt cx="1571760" cy="426960"/>
          </a:xfrm>
        </p:grpSpPr>
        <p:sp>
          <p:nvSpPr>
            <p:cNvPr id="544" name="Rectangle 14"/>
            <p:cNvSpPr/>
            <p:nvPr/>
          </p:nvSpPr>
          <p:spPr>
            <a:xfrm>
              <a:off x="2116080" y="2700360"/>
              <a:ext cx="1571760" cy="426960"/>
            </a:xfrm>
            <a:prstGeom prst="rect">
              <a:avLst/>
            </a:prstGeom>
            <a:solidFill>
              <a:srgbClr val="66b13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Rectangle 15"/>
            <p:cNvSpPr/>
            <p:nvPr/>
          </p:nvSpPr>
          <p:spPr>
            <a:xfrm>
              <a:off x="2419200" y="2768040"/>
              <a:ext cx="964440" cy="2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Transform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Writ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Group 16"/>
          <p:cNvGrpSpPr/>
          <p:nvPr/>
        </p:nvGrpSpPr>
        <p:grpSpPr>
          <a:xfrm>
            <a:off x="2120760" y="3835440"/>
            <a:ext cx="1560600" cy="431640"/>
            <a:chOff x="2120760" y="3835440"/>
            <a:chExt cx="1560600" cy="431640"/>
          </a:xfrm>
        </p:grpSpPr>
        <p:sp>
          <p:nvSpPr>
            <p:cNvPr id="547" name="Rectangle 17"/>
            <p:cNvSpPr/>
            <p:nvPr/>
          </p:nvSpPr>
          <p:spPr>
            <a:xfrm>
              <a:off x="2120760" y="3835440"/>
              <a:ext cx="1560600" cy="431640"/>
            </a:xfrm>
            <a:prstGeom prst="rect">
              <a:avLst/>
            </a:prstGeom>
            <a:solidFill>
              <a:srgbClr val="66b13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Rectangle 18"/>
            <p:cNvSpPr/>
            <p:nvPr/>
          </p:nvSpPr>
          <p:spPr>
            <a:xfrm>
              <a:off x="2422080" y="3903840"/>
              <a:ext cx="957960" cy="2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Transform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9" name="AutoShape 19"/>
          <p:cNvSpPr/>
          <p:nvPr/>
        </p:nvSpPr>
        <p:spPr>
          <a:xfrm rot="5400000">
            <a:off x="2557800" y="3396240"/>
            <a:ext cx="682920" cy="185760"/>
          </a:xfrm>
          <a:prstGeom prst="leftRightArrow">
            <a:avLst>
              <a:gd name="adj1" fmla="val 34824"/>
              <a:gd name="adj2" fmla="val 131599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20"/>
          <p:cNvSpPr/>
          <p:nvPr/>
        </p:nvSpPr>
        <p:spPr>
          <a:xfrm rot="1537200">
            <a:off x="3784320" y="3058920"/>
            <a:ext cx="488880" cy="218880"/>
          </a:xfrm>
          <a:prstGeom prst="rightArrow">
            <a:avLst>
              <a:gd name="adj1" fmla="val 33509"/>
              <a:gd name="adj2" fmla="val 88763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FEBFD8FC-4365-487E-8B82-B08C3C2D5A8D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268200" y="158400"/>
            <a:ext cx="560232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16000"/>
                <a:tab algn="l" pos="433440"/>
                <a:tab algn="l" pos="650880"/>
                <a:tab algn="l" pos="868320"/>
                <a:tab algn="l" pos="1084320"/>
                <a:tab algn="l" pos="1301760"/>
                <a:tab algn="l" pos="1517760"/>
                <a:tab algn="l" pos="1735200"/>
                <a:tab algn="l" pos="1952640"/>
                <a:tab algn="l" pos="2170080"/>
                <a:tab algn="l" pos="2386080"/>
                <a:tab algn="l" pos="2603520"/>
                <a:tab algn="l" pos="2819520"/>
                <a:tab algn="l" pos="3038400"/>
                <a:tab algn="l" pos="3254400"/>
                <a:tab algn="l" pos="3471840"/>
                <a:tab algn="l" pos="3687840"/>
                <a:tab algn="l" pos="3905280"/>
                <a:tab algn="l" pos="4122720"/>
                <a:tab algn="l" pos="4340160"/>
                <a:tab algn="l" pos="4465800"/>
                <a:tab algn="l" pos="4809960"/>
                <a:tab algn="l" pos="5153040"/>
                <a:tab algn="l" pos="5497560"/>
                <a:tab algn="l" pos="564192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0" lang="en-US" sz="2000" spc="-1" strike="noStrike">
                <a:solidFill>
                  <a:srgbClr val="525252"/>
                </a:solidFill>
                <a:latin typeface="Helvetica Neue Light"/>
                <a:ea typeface="ＭＳ Ｐゴシック"/>
              </a:rPr>
              <a:t>New Step Paradig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Group 2"/>
          <p:cNvGrpSpPr/>
          <p:nvPr/>
        </p:nvGrpSpPr>
        <p:grpSpPr>
          <a:xfrm>
            <a:off x="369720" y="2092320"/>
            <a:ext cx="1135080" cy="395280"/>
            <a:chOff x="369720" y="2092320"/>
            <a:chExt cx="1135080" cy="395280"/>
          </a:xfrm>
        </p:grpSpPr>
        <p:sp>
          <p:nvSpPr>
            <p:cNvPr id="554" name="Rectangle 3"/>
            <p:cNvSpPr/>
            <p:nvPr/>
          </p:nvSpPr>
          <p:spPr>
            <a:xfrm>
              <a:off x="369720" y="2092320"/>
              <a:ext cx="1135080" cy="39528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Rectangle 4"/>
            <p:cNvSpPr/>
            <p:nvPr/>
          </p:nvSpPr>
          <p:spPr>
            <a:xfrm>
              <a:off x="588240" y="2154600"/>
              <a:ext cx="69660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tep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AutoShape 5"/>
          <p:cNvSpPr/>
          <p:nvPr/>
        </p:nvSpPr>
        <p:spPr>
          <a:xfrm rot="9029400">
            <a:off x="1564560" y="1734840"/>
            <a:ext cx="614520" cy="218880"/>
          </a:xfrm>
          <a:prstGeom prst="rightArrow">
            <a:avLst>
              <a:gd name="adj1" fmla="val 33509"/>
              <a:gd name="adj2" fmla="val 88828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AutoShape 6"/>
          <p:cNvSpPr/>
          <p:nvPr/>
        </p:nvSpPr>
        <p:spPr>
          <a:xfrm rot="1537200">
            <a:off x="1537920" y="2631600"/>
            <a:ext cx="658800" cy="220680"/>
          </a:xfrm>
          <a:prstGeom prst="rightArrow">
            <a:avLst>
              <a:gd name="adj1" fmla="val 33509"/>
              <a:gd name="adj2" fmla="val 8844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Group 7"/>
          <p:cNvGrpSpPr/>
          <p:nvPr/>
        </p:nvGrpSpPr>
        <p:grpSpPr>
          <a:xfrm>
            <a:off x="2249640" y="2109960"/>
            <a:ext cx="1569960" cy="433080"/>
            <a:chOff x="2249640" y="2109960"/>
            <a:chExt cx="1569960" cy="433080"/>
          </a:xfrm>
        </p:grpSpPr>
        <p:sp>
          <p:nvSpPr>
            <p:cNvPr id="559" name="Rectangle 8"/>
            <p:cNvSpPr/>
            <p:nvPr/>
          </p:nvSpPr>
          <p:spPr>
            <a:xfrm>
              <a:off x="2251800" y="2109960"/>
              <a:ext cx="1567800" cy="433080"/>
            </a:xfrm>
            <a:prstGeom prst="rect">
              <a:avLst/>
            </a:prstGeom>
            <a:solidFill>
              <a:srgbClr val="66b13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9"/>
            <p:cNvSpPr/>
            <p:nvPr/>
          </p:nvSpPr>
          <p:spPr>
            <a:xfrm>
              <a:off x="2249640" y="2180160"/>
              <a:ext cx="1567800" cy="29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Processo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1" name="AutoShape 10"/>
          <p:cNvSpPr/>
          <p:nvPr/>
        </p:nvSpPr>
        <p:spPr>
          <a:xfrm rot="10800000">
            <a:off x="1577520" y="2230560"/>
            <a:ext cx="628920" cy="188640"/>
          </a:xfrm>
          <a:prstGeom prst="leftRightArrow">
            <a:avLst>
              <a:gd name="adj1" fmla="val 33843"/>
              <a:gd name="adj2" fmla="val 93582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Group 11"/>
          <p:cNvGrpSpPr/>
          <p:nvPr/>
        </p:nvGrpSpPr>
        <p:grpSpPr>
          <a:xfrm>
            <a:off x="2252520" y="1427040"/>
            <a:ext cx="1560600" cy="433440"/>
            <a:chOff x="2252520" y="1427040"/>
            <a:chExt cx="1560600" cy="433440"/>
          </a:xfrm>
        </p:grpSpPr>
        <p:sp>
          <p:nvSpPr>
            <p:cNvPr id="563" name="Rectangle 12"/>
            <p:cNvSpPr/>
            <p:nvPr/>
          </p:nvSpPr>
          <p:spPr>
            <a:xfrm>
              <a:off x="2252520" y="1427040"/>
              <a:ext cx="1560600" cy="433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13"/>
            <p:cNvSpPr/>
            <p:nvPr/>
          </p:nvSpPr>
          <p:spPr>
            <a:xfrm>
              <a:off x="2553840" y="1495440"/>
              <a:ext cx="95796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Read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" name="Group 14"/>
          <p:cNvGrpSpPr/>
          <p:nvPr/>
        </p:nvGrpSpPr>
        <p:grpSpPr>
          <a:xfrm>
            <a:off x="2252520" y="2768760"/>
            <a:ext cx="1560600" cy="433080"/>
            <a:chOff x="2252520" y="2768760"/>
            <a:chExt cx="1560600" cy="433080"/>
          </a:xfrm>
        </p:grpSpPr>
        <p:sp>
          <p:nvSpPr>
            <p:cNvPr id="566" name="Rectangle 15"/>
            <p:cNvSpPr/>
            <p:nvPr/>
          </p:nvSpPr>
          <p:spPr>
            <a:xfrm>
              <a:off x="2252520" y="2768760"/>
              <a:ext cx="1560600" cy="4330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16"/>
            <p:cNvSpPr/>
            <p:nvPr/>
          </p:nvSpPr>
          <p:spPr>
            <a:xfrm>
              <a:off x="2553480" y="2837160"/>
              <a:ext cx="957240" cy="29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Writ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052720" y="1352520"/>
            <a:ext cx="1568520" cy="181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>
            <a:stCxn id="62" idx="3"/>
            <a:endCxn id="63" idx="0"/>
          </p:cNvCxnSpPr>
          <p:nvPr/>
        </p:nvCxnSpPr>
        <p:spPr>
          <a:xfrm>
            <a:off x="948960" y="2260440"/>
            <a:ext cx="1307160" cy="5760"/>
          </a:xfrm>
          <a:prstGeom prst="bentConnector3">
            <a:avLst>
              <a:gd name="adj1" fmla="val 495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2457360" y="3692520"/>
            <a:ext cx="868320" cy="41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i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18240" y="1959120"/>
            <a:ext cx="839520" cy="608040"/>
          </a:xfrm>
          <a:prstGeom prst="can">
            <a:avLst>
              <a:gd name="adj" fmla="val 25000"/>
            </a:avLst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7" idx="2"/>
            <a:endCxn id="65" idx="2"/>
          </p:cNvCxnSpPr>
          <p:nvPr/>
        </p:nvCxnSpPr>
        <p:spPr>
          <a:xfrm>
            <a:off x="3519360" y="2263320"/>
            <a:ext cx="1299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 rot="16200000">
            <a:off x="2572560" y="2121840"/>
            <a:ext cx="1612800" cy="280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  <a:ea typeface="MS Gothic"/>
              </a:rPr>
              <a:t>JdbcItemWri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6200000">
            <a:off x="2079720" y="2130480"/>
            <a:ext cx="1612800" cy="26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S Gothic"/>
              </a:rPr>
              <a:t>ItemProcess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"/>
          <p:cNvCxnSpPr>
            <a:stCxn id="63" idx="2"/>
            <a:endCxn id="63" idx="2"/>
          </p:cNvCxnSpPr>
          <p:nvPr/>
        </p:nvCxnSpPr>
        <p:spPr>
          <a:xfrm>
            <a:off x="2555640" y="22651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2628720" y="1039680"/>
            <a:ext cx="33120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t">
            <a:spAutoFit/>
          </a:bodyPr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o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1597680" y="2113200"/>
            <a:ext cx="1616040" cy="300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dbcItemR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"/>
          <p:cNvCxnSpPr>
            <a:stCxn id="63" idx="2"/>
            <a:endCxn id="68" idx="0"/>
          </p:cNvCxnSpPr>
          <p:nvPr/>
        </p:nvCxnSpPr>
        <p:spPr>
          <a:xfrm flipV="1">
            <a:off x="2555640" y="2261520"/>
            <a:ext cx="199080" cy="3960"/>
          </a:xfrm>
          <a:prstGeom prst="bentConnector3">
            <a:avLst>
              <a:gd name="adj1" fmla="val 494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"/>
          <p:cNvCxnSpPr>
            <a:stCxn id="67" idx="0"/>
            <a:endCxn id="67" idx="0"/>
          </p:cNvCxnSpPr>
          <p:nvPr/>
        </p:nvCxnSpPr>
        <p:spPr>
          <a:xfrm flipH="1" flipV="1" rot="10800000">
            <a:off x="3238200" y="2262600"/>
            <a:ext cx="2160" cy="25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0"/>
            <a:endCxn id="75" idx="2"/>
          </p:cNvCxnSpPr>
          <p:nvPr/>
        </p:nvCxnSpPr>
        <p:spPr>
          <a:xfrm flipH="1" flipV="1">
            <a:off x="649080" y="2515680"/>
            <a:ext cx="538560" cy="13629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74" name=""/>
          <p:cNvSpPr/>
          <p:nvPr/>
        </p:nvSpPr>
        <p:spPr>
          <a:xfrm>
            <a:off x="70200" y="3878280"/>
            <a:ext cx="22330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Keys obtained at step initializ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64" idx="0"/>
            <a:endCxn id="68" idx="1"/>
          </p:cNvCxnSpPr>
          <p:nvPr/>
        </p:nvCxnSpPr>
        <p:spPr>
          <a:xfrm flipV="1" rot="16200000">
            <a:off x="2576880" y="3376440"/>
            <a:ext cx="624600" cy="7200"/>
          </a:xfrm>
          <a:prstGeom prst="bentConnector3">
            <a:avLst>
              <a:gd name="adj1" fmla="val 498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78" idx="1"/>
            <a:endCxn id="64" idx="3"/>
          </p:cNvCxnSpPr>
          <p:nvPr/>
        </p:nvCxnSpPr>
        <p:spPr>
          <a:xfrm flipH="1">
            <a:off x="3325320" y="3630600"/>
            <a:ext cx="1113840" cy="2707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78" name=""/>
          <p:cNvSpPr/>
          <p:nvPr/>
        </p:nvSpPr>
        <p:spPr>
          <a:xfrm>
            <a:off x="4416480" y="3432240"/>
            <a:ext cx="1567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Query for details using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key as parame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68120" y="2112840"/>
            <a:ext cx="866880" cy="393840"/>
            <a:chOff x="168120" y="2112840"/>
            <a:chExt cx="866880" cy="393840"/>
          </a:xfrm>
        </p:grpSpPr>
        <p:sp>
          <p:nvSpPr>
            <p:cNvPr id="75" name=""/>
            <p:cNvSpPr/>
            <p:nvPr/>
          </p:nvSpPr>
          <p:spPr>
            <a:xfrm>
              <a:off x="263520" y="2211480"/>
              <a:ext cx="771480" cy="295200"/>
            </a:xfrm>
            <a:prstGeom prst="flowChartProcess">
              <a:avLst/>
            </a:prstGeom>
            <a:solidFill>
              <a:srgbClr val="ffc726"/>
            </a:solidFill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15640" y="2162520"/>
              <a:ext cx="771120" cy="295200"/>
            </a:xfrm>
            <a:prstGeom prst="flowChartProcess">
              <a:avLst/>
            </a:prstGeom>
            <a:solidFill>
              <a:srgbClr val="ffc726"/>
            </a:solidFill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68120" y="2112840"/>
              <a:ext cx="771120" cy="295200"/>
            </a:xfrm>
            <a:prstGeom prst="flowChartProcess">
              <a:avLst/>
            </a:prstGeom>
            <a:solidFill>
              <a:srgbClr val="ffc726"/>
            </a:solidFill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417889A2-27DE-412C-8ECF-3B2C3CAB4E2A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268200" y="158400"/>
            <a:ext cx="560232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16000"/>
                <a:tab algn="l" pos="433440"/>
                <a:tab algn="l" pos="650880"/>
                <a:tab algn="l" pos="868320"/>
                <a:tab algn="l" pos="1084320"/>
                <a:tab algn="l" pos="1301760"/>
                <a:tab algn="l" pos="1517760"/>
                <a:tab algn="l" pos="1735200"/>
                <a:tab algn="l" pos="1952640"/>
                <a:tab algn="l" pos="2170080"/>
                <a:tab algn="l" pos="2386080"/>
                <a:tab algn="l" pos="2603520"/>
                <a:tab algn="l" pos="2819520"/>
                <a:tab algn="l" pos="3038400"/>
                <a:tab algn="l" pos="3254400"/>
                <a:tab algn="l" pos="3471840"/>
                <a:tab algn="l" pos="3687840"/>
                <a:tab algn="l" pos="3905280"/>
                <a:tab algn="l" pos="4122720"/>
                <a:tab algn="l" pos="4340160"/>
                <a:tab algn="l" pos="4465800"/>
                <a:tab algn="l" pos="4809960"/>
                <a:tab algn="l" pos="5153040"/>
                <a:tab algn="l" pos="5497560"/>
                <a:tab algn="l" pos="564192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0" lang="en-US" sz="2000" spc="-1" strike="noStrike">
                <a:solidFill>
                  <a:srgbClr val="525252"/>
                </a:solidFill>
                <a:latin typeface="Helvetica Neue Light"/>
                <a:ea typeface="ＭＳ Ｐゴシック"/>
              </a:rPr>
              <a:t>Late Binding use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Group 2"/>
          <p:cNvGrpSpPr/>
          <p:nvPr/>
        </p:nvGrpSpPr>
        <p:grpSpPr>
          <a:xfrm>
            <a:off x="477720" y="1062000"/>
            <a:ext cx="2282400" cy="1187640"/>
            <a:chOff x="477720" y="1062000"/>
            <a:chExt cx="2282400" cy="1187640"/>
          </a:xfrm>
        </p:grpSpPr>
        <p:grpSp>
          <p:nvGrpSpPr>
            <p:cNvPr id="571" name="Group 3"/>
            <p:cNvGrpSpPr/>
            <p:nvPr/>
          </p:nvGrpSpPr>
          <p:grpSpPr>
            <a:xfrm>
              <a:off x="477720" y="1504800"/>
              <a:ext cx="794520" cy="271800"/>
              <a:chOff x="477720" y="1504800"/>
              <a:chExt cx="794520" cy="271800"/>
            </a:xfrm>
          </p:grpSpPr>
          <p:sp>
            <p:nvSpPr>
              <p:cNvPr id="572" name="Rectangle 4"/>
              <p:cNvSpPr/>
              <p:nvPr/>
            </p:nvSpPr>
            <p:spPr>
              <a:xfrm>
                <a:off x="482040" y="1504800"/>
                <a:ext cx="790200" cy="271800"/>
              </a:xfrm>
              <a:prstGeom prst="rect">
                <a:avLst/>
              </a:prstGeom>
              <a:solidFill>
                <a:srgbClr val="5382a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Rectangle 5"/>
              <p:cNvSpPr/>
              <p:nvPr/>
            </p:nvSpPr>
            <p:spPr>
              <a:xfrm>
                <a:off x="477720" y="1548720"/>
                <a:ext cx="78984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9440" tIns="0" bIns="0" anchor="ctr">
                <a:noAutofit/>
              </a:bodyPr>
              <a:p>
                <a:pPr marL="19080" algn="ctr"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Step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4" name="Group 6"/>
            <p:cNvGrpSpPr/>
            <p:nvPr/>
          </p:nvGrpSpPr>
          <p:grpSpPr>
            <a:xfrm>
              <a:off x="1703160" y="1952640"/>
              <a:ext cx="1056960" cy="297000"/>
              <a:chOff x="1703160" y="1952640"/>
              <a:chExt cx="1056960" cy="297000"/>
            </a:xfrm>
          </p:grpSpPr>
          <p:sp>
            <p:nvSpPr>
              <p:cNvPr id="575" name="Rectangle 7"/>
              <p:cNvSpPr/>
              <p:nvPr/>
            </p:nvSpPr>
            <p:spPr>
              <a:xfrm>
                <a:off x="1703520" y="1952640"/>
                <a:ext cx="1056600" cy="29700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Rectangle 8"/>
              <p:cNvSpPr/>
              <p:nvPr/>
            </p:nvSpPr>
            <p:spPr>
              <a:xfrm>
                <a:off x="1703160" y="2000520"/>
                <a:ext cx="1055880" cy="20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9440" tIns="0" bIns="0" anchor="ctr">
                <a:noAutofit/>
              </a:bodyPr>
              <a:p>
                <a:pPr marL="19080" algn="ctr"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ItemWrite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7" name="Group 9"/>
            <p:cNvGrpSpPr/>
            <p:nvPr/>
          </p:nvGrpSpPr>
          <p:grpSpPr>
            <a:xfrm>
              <a:off x="1708560" y="1062000"/>
              <a:ext cx="1049760" cy="297000"/>
              <a:chOff x="1708560" y="1062000"/>
              <a:chExt cx="1049760" cy="297000"/>
            </a:xfrm>
          </p:grpSpPr>
          <p:sp>
            <p:nvSpPr>
              <p:cNvPr id="578" name="Rectangle 10"/>
              <p:cNvSpPr/>
              <p:nvPr/>
            </p:nvSpPr>
            <p:spPr>
              <a:xfrm>
                <a:off x="1708560" y="1062000"/>
                <a:ext cx="1048320" cy="29700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Rectangle 11"/>
              <p:cNvSpPr/>
              <p:nvPr/>
            </p:nvSpPr>
            <p:spPr>
              <a:xfrm>
                <a:off x="1710000" y="1109880"/>
                <a:ext cx="1048320" cy="20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9440" tIns="0" bIns="0" anchor="ctr">
                <a:noAutofit/>
              </a:bodyPr>
              <a:p>
                <a:pPr marL="19080" algn="ctr"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ItemReade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0" name="AutoShape 12"/>
            <p:cNvSpPr/>
            <p:nvPr/>
          </p:nvSpPr>
          <p:spPr>
            <a:xfrm rot="9029400">
              <a:off x="1319760" y="1282320"/>
              <a:ext cx="339840" cy="150480"/>
            </a:xfrm>
            <a:prstGeom prst="pi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AutoShape 13"/>
            <p:cNvSpPr/>
            <p:nvPr/>
          </p:nvSpPr>
          <p:spPr>
            <a:xfrm rot="1950000">
              <a:off x="1301400" y="1875960"/>
              <a:ext cx="339840" cy="151560"/>
            </a:xfrm>
            <a:prstGeom prst="pi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Group 14"/>
          <p:cNvGrpSpPr/>
          <p:nvPr/>
        </p:nvGrpSpPr>
        <p:grpSpPr>
          <a:xfrm>
            <a:off x="477720" y="2766960"/>
            <a:ext cx="2282400" cy="1189080"/>
            <a:chOff x="477720" y="2766960"/>
            <a:chExt cx="2282400" cy="1189080"/>
          </a:xfrm>
        </p:grpSpPr>
        <p:grpSp>
          <p:nvGrpSpPr>
            <p:cNvPr id="583" name="Group 15"/>
            <p:cNvGrpSpPr/>
            <p:nvPr/>
          </p:nvGrpSpPr>
          <p:grpSpPr>
            <a:xfrm>
              <a:off x="477720" y="3210480"/>
              <a:ext cx="794520" cy="272160"/>
              <a:chOff x="477720" y="3210480"/>
              <a:chExt cx="794520" cy="272160"/>
            </a:xfrm>
          </p:grpSpPr>
          <p:sp>
            <p:nvSpPr>
              <p:cNvPr id="584" name="Rectangle 16"/>
              <p:cNvSpPr/>
              <p:nvPr/>
            </p:nvSpPr>
            <p:spPr>
              <a:xfrm>
                <a:off x="482040" y="3210480"/>
                <a:ext cx="790200" cy="272160"/>
              </a:xfrm>
              <a:prstGeom prst="rect">
                <a:avLst/>
              </a:prstGeom>
              <a:solidFill>
                <a:srgbClr val="5382a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Rectangle 17"/>
              <p:cNvSpPr/>
              <p:nvPr/>
            </p:nvSpPr>
            <p:spPr>
              <a:xfrm>
                <a:off x="477720" y="3254760"/>
                <a:ext cx="7898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9440" tIns="0" bIns="0" anchor="ctr">
                <a:noAutofit/>
              </a:bodyPr>
              <a:p>
                <a:pPr marL="19080" algn="ctr"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StepB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6" name="Group 18"/>
            <p:cNvGrpSpPr/>
            <p:nvPr/>
          </p:nvGrpSpPr>
          <p:grpSpPr>
            <a:xfrm>
              <a:off x="1703160" y="3658680"/>
              <a:ext cx="1056960" cy="297360"/>
              <a:chOff x="1703160" y="3658680"/>
              <a:chExt cx="1056960" cy="297360"/>
            </a:xfrm>
          </p:grpSpPr>
          <p:sp>
            <p:nvSpPr>
              <p:cNvPr id="587" name="Rectangle 19"/>
              <p:cNvSpPr/>
              <p:nvPr/>
            </p:nvSpPr>
            <p:spPr>
              <a:xfrm>
                <a:off x="1703520" y="3658680"/>
                <a:ext cx="1056600" cy="29736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Rectangle 20"/>
              <p:cNvSpPr/>
              <p:nvPr/>
            </p:nvSpPr>
            <p:spPr>
              <a:xfrm>
                <a:off x="1703160" y="3706560"/>
                <a:ext cx="1055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9440" tIns="0" bIns="0" anchor="ctr">
                <a:noAutofit/>
              </a:bodyPr>
              <a:p>
                <a:pPr marL="19080" algn="ctr"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ItemWrite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9" name="Group 21"/>
            <p:cNvGrpSpPr/>
            <p:nvPr/>
          </p:nvGrpSpPr>
          <p:grpSpPr>
            <a:xfrm>
              <a:off x="1708560" y="2766960"/>
              <a:ext cx="1049760" cy="297360"/>
              <a:chOff x="1708560" y="2766960"/>
              <a:chExt cx="1049760" cy="297360"/>
            </a:xfrm>
          </p:grpSpPr>
          <p:sp>
            <p:nvSpPr>
              <p:cNvPr id="590" name="Rectangle 22"/>
              <p:cNvSpPr/>
              <p:nvPr/>
            </p:nvSpPr>
            <p:spPr>
              <a:xfrm>
                <a:off x="1708560" y="2766960"/>
                <a:ext cx="1048320" cy="29736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Rectangle 23"/>
              <p:cNvSpPr/>
              <p:nvPr/>
            </p:nvSpPr>
            <p:spPr>
              <a:xfrm>
                <a:off x="1710000" y="2814840"/>
                <a:ext cx="10483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9440" tIns="0" bIns="0" anchor="ctr">
                <a:noAutofit/>
              </a:bodyPr>
              <a:p>
                <a:pPr marL="19080" algn="ctr"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ItemReade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2" name="AutoShape 24"/>
            <p:cNvSpPr/>
            <p:nvPr/>
          </p:nvSpPr>
          <p:spPr>
            <a:xfrm rot="9029400">
              <a:off x="1319760" y="2987280"/>
              <a:ext cx="339840" cy="150840"/>
            </a:xfrm>
            <a:prstGeom prst="pi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AutoShape 25"/>
            <p:cNvSpPr/>
            <p:nvPr/>
          </p:nvSpPr>
          <p:spPr>
            <a:xfrm rot="1950000">
              <a:off x="1301400" y="3582000"/>
              <a:ext cx="339840" cy="151560"/>
            </a:xfrm>
            <a:prstGeom prst="pi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Group 26"/>
          <p:cNvGrpSpPr/>
          <p:nvPr/>
        </p:nvGrpSpPr>
        <p:grpSpPr>
          <a:xfrm>
            <a:off x="2868480" y="1922400"/>
            <a:ext cx="1877760" cy="734760"/>
            <a:chOff x="2868480" y="1922400"/>
            <a:chExt cx="1877760" cy="734760"/>
          </a:xfrm>
        </p:grpSpPr>
        <p:sp>
          <p:nvSpPr>
            <p:cNvPr id="595" name="AutoShape 27"/>
            <p:cNvSpPr/>
            <p:nvPr/>
          </p:nvSpPr>
          <p:spPr>
            <a:xfrm rot="1950000">
              <a:off x="2878200" y="2057040"/>
              <a:ext cx="560160" cy="199800"/>
            </a:xfrm>
            <a:prstGeom prst="pi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Rectangle 28"/>
            <p:cNvSpPr/>
            <p:nvPr/>
          </p:nvSpPr>
          <p:spPr>
            <a:xfrm>
              <a:off x="3558600" y="2225160"/>
              <a:ext cx="1187640" cy="43200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Helvetica Neue"/>
                  <a:ea typeface="ＭＳ Ｐゴシック"/>
                </a:rPr>
                <a:t>outputFile.tx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7" name="AutoShape 29"/>
          <p:cNvSpPr/>
          <p:nvPr/>
        </p:nvSpPr>
        <p:spPr>
          <a:xfrm rot="8875800">
            <a:off x="2872800" y="2653920"/>
            <a:ext cx="561960" cy="15228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166728E9-D978-45CE-8137-4AFF6C8E090A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1"/>
          <p:cNvSpPr/>
          <p:nvPr/>
        </p:nvSpPr>
        <p:spPr>
          <a:xfrm>
            <a:off x="268200" y="-6480"/>
            <a:ext cx="55850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16000"/>
                <a:tab algn="l" pos="433440"/>
                <a:tab algn="l" pos="650880"/>
                <a:tab algn="l" pos="868320"/>
                <a:tab algn="l" pos="1084320"/>
                <a:tab algn="l" pos="1301760"/>
                <a:tab algn="l" pos="1517760"/>
                <a:tab algn="l" pos="1735200"/>
                <a:tab algn="l" pos="1952640"/>
                <a:tab algn="l" pos="2170080"/>
                <a:tab algn="l" pos="2386080"/>
                <a:tab algn="l" pos="2603520"/>
                <a:tab algn="l" pos="2819520"/>
                <a:tab algn="l" pos="3038400"/>
                <a:tab algn="l" pos="3254400"/>
                <a:tab algn="l" pos="3471840"/>
                <a:tab algn="l" pos="3687840"/>
                <a:tab algn="l" pos="3905280"/>
                <a:tab algn="l" pos="4122720"/>
                <a:tab algn="l" pos="4340160"/>
                <a:tab algn="l" pos="4465800"/>
                <a:tab algn="l" pos="4809960"/>
                <a:tab algn="l" pos="5153040"/>
                <a:tab algn="l" pos="5497560"/>
                <a:tab algn="l" pos="564192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0" lang="en-US" sz="2000" spc="-1" strike="noStrike">
                <a:solidFill>
                  <a:srgbClr val="525252"/>
                </a:solidFill>
                <a:latin typeface="Helvetica Neue Light"/>
                <a:ea typeface="ＭＳ Ｐゴシック"/>
              </a:rPr>
              <a:t>Sequential Step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2"/>
          <p:cNvSpPr/>
          <p:nvPr/>
        </p:nvSpPr>
        <p:spPr>
          <a:xfrm>
            <a:off x="268200" y="1023840"/>
            <a:ext cx="53564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85840" indent="-122400">
              <a:lnSpc>
                <a:spcPct val="100000"/>
              </a:lnSpc>
              <a:spcBef>
                <a:spcPts val="938"/>
              </a:spcBef>
              <a:buClr>
                <a:srgbClr val="747474"/>
              </a:buClr>
              <a:buFont typeface="Helvetica Neue"/>
              <a:buChar char="•"/>
              <a:tabLst>
                <a:tab algn="l" pos="47520"/>
                <a:tab algn="l" pos="103320"/>
                <a:tab algn="l" pos="318960"/>
                <a:tab algn="l" pos="536400"/>
                <a:tab algn="l" pos="754200"/>
                <a:tab algn="l" pos="971640"/>
                <a:tab algn="l" pos="1187280"/>
                <a:tab algn="l" pos="1405080"/>
                <a:tab algn="l" pos="1620720"/>
                <a:tab algn="l" pos="1838160"/>
                <a:tab algn="l" pos="2055960"/>
                <a:tab algn="l" pos="2271600"/>
                <a:tab algn="l" pos="2489040"/>
                <a:tab algn="l" pos="2706840"/>
                <a:tab algn="l" pos="2922480"/>
                <a:tab algn="l" pos="3139920"/>
                <a:tab algn="l" pos="3357720"/>
                <a:tab algn="l" pos="3575160"/>
                <a:tab algn="l" pos="3790800"/>
                <a:tab algn="l" pos="4006800"/>
                <a:tab algn="l" pos="4226040"/>
                <a:tab algn="l" pos="4387680"/>
                <a:tab algn="l" pos="4730760"/>
                <a:tab algn="l" pos="5075280"/>
                <a:tab algn="l" pos="5418000"/>
                <a:tab algn="l" pos="556272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0" lang="en-US" sz="1200" spc="-1" strike="noStrike">
                <a:solidFill>
                  <a:srgbClr val="747474"/>
                </a:solidFill>
                <a:latin typeface="Helvetica Neue"/>
                <a:ea typeface="ＭＳ Ｐゴシック"/>
              </a:rPr>
              <a:t>In 1.x the only option is sequential execution.  If the a step fails, the job fails, if it succeeds, the next is execu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1" name="Group 3"/>
          <p:cNvGrpSpPr/>
          <p:nvPr/>
        </p:nvGrpSpPr>
        <p:grpSpPr>
          <a:xfrm>
            <a:off x="2378160" y="1817640"/>
            <a:ext cx="1136520" cy="395280"/>
            <a:chOff x="2378160" y="1817640"/>
            <a:chExt cx="1136520" cy="395280"/>
          </a:xfrm>
        </p:grpSpPr>
        <p:sp>
          <p:nvSpPr>
            <p:cNvPr id="602" name="Rectangle 4"/>
            <p:cNvSpPr/>
            <p:nvPr/>
          </p:nvSpPr>
          <p:spPr>
            <a:xfrm>
              <a:off x="2378160" y="1817640"/>
              <a:ext cx="1136520" cy="39528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Rectangle 5"/>
            <p:cNvSpPr/>
            <p:nvPr/>
          </p:nvSpPr>
          <p:spPr>
            <a:xfrm>
              <a:off x="2597040" y="1879920"/>
              <a:ext cx="69732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tep 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" name="Group 6"/>
          <p:cNvGrpSpPr/>
          <p:nvPr/>
        </p:nvGrpSpPr>
        <p:grpSpPr>
          <a:xfrm>
            <a:off x="2378160" y="2725560"/>
            <a:ext cx="1136520" cy="395640"/>
            <a:chOff x="2378160" y="2725560"/>
            <a:chExt cx="1136520" cy="395640"/>
          </a:xfrm>
        </p:grpSpPr>
        <p:sp>
          <p:nvSpPr>
            <p:cNvPr id="605" name="Rectangle 7"/>
            <p:cNvSpPr/>
            <p:nvPr/>
          </p:nvSpPr>
          <p:spPr>
            <a:xfrm>
              <a:off x="2378160" y="2725560"/>
              <a:ext cx="1136520" cy="39564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Rectangle 8"/>
            <p:cNvSpPr/>
            <p:nvPr/>
          </p:nvSpPr>
          <p:spPr>
            <a:xfrm>
              <a:off x="2597040" y="2787840"/>
              <a:ext cx="69732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tep B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7" name="Group 9"/>
          <p:cNvGrpSpPr/>
          <p:nvPr/>
        </p:nvGrpSpPr>
        <p:grpSpPr>
          <a:xfrm>
            <a:off x="2378160" y="3627360"/>
            <a:ext cx="1136520" cy="395280"/>
            <a:chOff x="2378160" y="3627360"/>
            <a:chExt cx="1136520" cy="395280"/>
          </a:xfrm>
        </p:grpSpPr>
        <p:sp>
          <p:nvSpPr>
            <p:cNvPr id="608" name="Rectangle 10"/>
            <p:cNvSpPr/>
            <p:nvPr/>
          </p:nvSpPr>
          <p:spPr>
            <a:xfrm>
              <a:off x="2378160" y="3627360"/>
              <a:ext cx="1136520" cy="39528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Rectangle 11"/>
            <p:cNvSpPr/>
            <p:nvPr/>
          </p:nvSpPr>
          <p:spPr>
            <a:xfrm>
              <a:off x="2597040" y="3689640"/>
              <a:ext cx="69732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tep 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0" name="AutoShape 12"/>
          <p:cNvSpPr/>
          <p:nvPr/>
        </p:nvSpPr>
        <p:spPr>
          <a:xfrm rot="5400000">
            <a:off x="2697480" y="2361240"/>
            <a:ext cx="498240" cy="214200"/>
          </a:xfrm>
          <a:prstGeom prst="rightArrow">
            <a:avLst>
              <a:gd name="adj1" fmla="val 33509"/>
              <a:gd name="adj2" fmla="val 92439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13"/>
          <p:cNvSpPr/>
          <p:nvPr/>
        </p:nvSpPr>
        <p:spPr>
          <a:xfrm rot="5400000">
            <a:off x="2697480" y="3269520"/>
            <a:ext cx="498600" cy="214200"/>
          </a:xfrm>
          <a:prstGeom prst="rightArrow">
            <a:avLst>
              <a:gd name="adj1" fmla="val 33509"/>
              <a:gd name="adj2" fmla="val 92506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4183E1E1-5F9A-4299-B0F4-D14CAB455FC5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1"/>
          <p:cNvSpPr/>
          <p:nvPr/>
        </p:nvSpPr>
        <p:spPr>
          <a:xfrm>
            <a:off x="268200" y="-6480"/>
            <a:ext cx="55850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16000"/>
                <a:tab algn="l" pos="433440"/>
                <a:tab algn="l" pos="650880"/>
                <a:tab algn="l" pos="868320"/>
                <a:tab algn="l" pos="1084320"/>
                <a:tab algn="l" pos="1301760"/>
                <a:tab algn="l" pos="1517760"/>
                <a:tab algn="l" pos="1735200"/>
                <a:tab algn="l" pos="1952640"/>
                <a:tab algn="l" pos="2170080"/>
                <a:tab algn="l" pos="2386080"/>
                <a:tab algn="l" pos="2603520"/>
                <a:tab algn="l" pos="2819520"/>
                <a:tab algn="l" pos="3038400"/>
                <a:tab algn="l" pos="3254400"/>
                <a:tab algn="l" pos="3471840"/>
                <a:tab algn="l" pos="3687840"/>
                <a:tab algn="l" pos="3905280"/>
                <a:tab algn="l" pos="4122720"/>
                <a:tab algn="l" pos="4340160"/>
                <a:tab algn="l" pos="4465800"/>
                <a:tab algn="l" pos="4809960"/>
                <a:tab algn="l" pos="5153040"/>
                <a:tab algn="l" pos="5497560"/>
                <a:tab algn="l" pos="564192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0" lang="en-US" sz="2000" spc="-1" strike="noStrike">
                <a:solidFill>
                  <a:srgbClr val="525252"/>
                </a:solidFill>
                <a:latin typeface="Helvetica Neue Light"/>
                <a:ea typeface="ＭＳ Ｐゴシック"/>
              </a:rPr>
              <a:t>Non Sequential Step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2"/>
          <p:cNvSpPr/>
          <p:nvPr/>
        </p:nvSpPr>
        <p:spPr>
          <a:xfrm>
            <a:off x="268200" y="1023840"/>
            <a:ext cx="53564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85840" indent="-122400">
              <a:lnSpc>
                <a:spcPct val="100000"/>
              </a:lnSpc>
              <a:spcBef>
                <a:spcPts val="938"/>
              </a:spcBef>
              <a:buClr>
                <a:srgbClr val="747474"/>
              </a:buClr>
              <a:buFont typeface="Helvetica Neue"/>
              <a:buChar char="•"/>
              <a:tabLst>
                <a:tab algn="l" pos="47520"/>
                <a:tab algn="l" pos="103320"/>
                <a:tab algn="l" pos="318960"/>
                <a:tab algn="l" pos="536400"/>
                <a:tab algn="l" pos="754200"/>
                <a:tab algn="l" pos="971640"/>
                <a:tab algn="l" pos="1187280"/>
                <a:tab algn="l" pos="1405080"/>
                <a:tab algn="l" pos="1620720"/>
                <a:tab algn="l" pos="1838160"/>
                <a:tab algn="l" pos="2055960"/>
                <a:tab algn="l" pos="2271600"/>
                <a:tab algn="l" pos="2489040"/>
                <a:tab algn="l" pos="2706840"/>
                <a:tab algn="l" pos="2922480"/>
                <a:tab algn="l" pos="3139920"/>
                <a:tab algn="l" pos="3357720"/>
                <a:tab algn="l" pos="3575160"/>
                <a:tab algn="l" pos="3790800"/>
                <a:tab algn="l" pos="4006800"/>
                <a:tab algn="l" pos="4226040"/>
                <a:tab algn="l" pos="4387680"/>
                <a:tab algn="l" pos="4730760"/>
                <a:tab algn="l" pos="5075280"/>
                <a:tab algn="l" pos="5418000"/>
                <a:tab algn="l" pos="556272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0" lang="en-US" sz="1200" spc="-1" strike="noStrike">
                <a:solidFill>
                  <a:srgbClr val="747474"/>
                </a:solidFill>
                <a:latin typeface="Helvetica Neue"/>
                <a:ea typeface="ＭＳ Ｐゴシック"/>
              </a:rPr>
              <a:t>There are many scenarios in which different steps need to be executed depending upon the exit status of the last ste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Group 3"/>
          <p:cNvGrpSpPr/>
          <p:nvPr/>
        </p:nvGrpSpPr>
        <p:grpSpPr>
          <a:xfrm>
            <a:off x="2378160" y="1665360"/>
            <a:ext cx="1136520" cy="395280"/>
            <a:chOff x="2378160" y="1665360"/>
            <a:chExt cx="1136520" cy="395280"/>
          </a:xfrm>
        </p:grpSpPr>
        <p:sp>
          <p:nvSpPr>
            <p:cNvPr id="616" name="Rectangle 4"/>
            <p:cNvSpPr/>
            <p:nvPr/>
          </p:nvSpPr>
          <p:spPr>
            <a:xfrm>
              <a:off x="2378160" y="1665360"/>
              <a:ext cx="1136520" cy="39528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5"/>
            <p:cNvSpPr/>
            <p:nvPr/>
          </p:nvSpPr>
          <p:spPr>
            <a:xfrm>
              <a:off x="2597040" y="1727640"/>
              <a:ext cx="69732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tep 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Group 6"/>
          <p:cNvGrpSpPr/>
          <p:nvPr/>
        </p:nvGrpSpPr>
        <p:grpSpPr>
          <a:xfrm>
            <a:off x="1547640" y="3664080"/>
            <a:ext cx="1135080" cy="395280"/>
            <a:chOff x="1547640" y="3664080"/>
            <a:chExt cx="1135080" cy="395280"/>
          </a:xfrm>
        </p:grpSpPr>
        <p:sp>
          <p:nvSpPr>
            <p:cNvPr id="619" name="Rectangle 7"/>
            <p:cNvSpPr/>
            <p:nvPr/>
          </p:nvSpPr>
          <p:spPr>
            <a:xfrm>
              <a:off x="1547640" y="3664080"/>
              <a:ext cx="1135080" cy="39528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8"/>
            <p:cNvSpPr/>
            <p:nvPr/>
          </p:nvSpPr>
          <p:spPr>
            <a:xfrm>
              <a:off x="1766160" y="3726360"/>
              <a:ext cx="69660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tep B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1" name="Group 9"/>
          <p:cNvGrpSpPr/>
          <p:nvPr/>
        </p:nvGrpSpPr>
        <p:grpSpPr>
          <a:xfrm>
            <a:off x="3162240" y="3664080"/>
            <a:ext cx="1135080" cy="395280"/>
            <a:chOff x="3162240" y="3664080"/>
            <a:chExt cx="1135080" cy="395280"/>
          </a:xfrm>
        </p:grpSpPr>
        <p:sp>
          <p:nvSpPr>
            <p:cNvPr id="622" name="Rectangle 10"/>
            <p:cNvSpPr/>
            <p:nvPr/>
          </p:nvSpPr>
          <p:spPr>
            <a:xfrm>
              <a:off x="3162240" y="3664080"/>
              <a:ext cx="1135080" cy="39528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11"/>
            <p:cNvSpPr/>
            <p:nvPr/>
          </p:nvSpPr>
          <p:spPr>
            <a:xfrm>
              <a:off x="3380760" y="3726360"/>
              <a:ext cx="69660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tep 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4" name="AutoShape 12"/>
          <p:cNvSpPr/>
          <p:nvPr/>
        </p:nvSpPr>
        <p:spPr>
          <a:xfrm rot="5400000">
            <a:off x="2714760" y="2256480"/>
            <a:ext cx="463680" cy="214200"/>
          </a:xfrm>
          <a:prstGeom prst="rightArrow">
            <a:avLst>
              <a:gd name="adj1" fmla="val 33509"/>
              <a:gd name="adj2" fmla="val 92812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AutoShape 13"/>
          <p:cNvSpPr/>
          <p:nvPr/>
        </p:nvSpPr>
        <p:spPr>
          <a:xfrm rot="3170400">
            <a:off x="3150720" y="3262320"/>
            <a:ext cx="480960" cy="214200"/>
          </a:xfrm>
          <a:prstGeom prst="rightArrow">
            <a:avLst>
              <a:gd name="adj1" fmla="val 33509"/>
              <a:gd name="adj2" fmla="val 92622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utoShape 14"/>
          <p:cNvSpPr/>
          <p:nvPr/>
        </p:nvSpPr>
        <p:spPr>
          <a:xfrm>
            <a:off x="2527200" y="2657520"/>
            <a:ext cx="838440" cy="608040"/>
          </a:xfrm>
          <a:prstGeom prst="diamond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Success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AutoShape 15"/>
          <p:cNvSpPr/>
          <p:nvPr/>
        </p:nvSpPr>
        <p:spPr>
          <a:xfrm rot="7801200">
            <a:off x="2212920" y="3268080"/>
            <a:ext cx="487440" cy="214560"/>
          </a:xfrm>
          <a:prstGeom prst="rightArrow">
            <a:avLst>
              <a:gd name="adj1" fmla="val 33509"/>
              <a:gd name="adj2" fmla="val 9253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16"/>
          <p:cNvSpPr/>
          <p:nvPr/>
        </p:nvSpPr>
        <p:spPr>
          <a:xfrm>
            <a:off x="1941840" y="3025080"/>
            <a:ext cx="348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Y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17"/>
          <p:cNvSpPr/>
          <p:nvPr/>
        </p:nvSpPr>
        <p:spPr>
          <a:xfrm>
            <a:off x="3582720" y="3025080"/>
            <a:ext cx="2962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N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ED69D1B2-0081-45D7-B1C9-F76D2608CBC8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1"/>
          <p:cNvSpPr/>
          <p:nvPr/>
        </p:nvSpPr>
        <p:spPr>
          <a:xfrm>
            <a:off x="268200" y="-6480"/>
            <a:ext cx="55850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16000"/>
                <a:tab algn="l" pos="433440"/>
                <a:tab algn="l" pos="650880"/>
                <a:tab algn="l" pos="868320"/>
                <a:tab algn="l" pos="1084320"/>
                <a:tab algn="l" pos="1301760"/>
                <a:tab algn="l" pos="1517760"/>
                <a:tab algn="l" pos="1735200"/>
                <a:tab algn="l" pos="1952640"/>
                <a:tab algn="l" pos="2170080"/>
                <a:tab algn="l" pos="2386080"/>
                <a:tab algn="l" pos="2603520"/>
                <a:tab algn="l" pos="2819520"/>
                <a:tab algn="l" pos="3038400"/>
                <a:tab algn="l" pos="3254400"/>
                <a:tab algn="l" pos="3471840"/>
                <a:tab algn="l" pos="3687840"/>
                <a:tab algn="l" pos="3905280"/>
                <a:tab algn="l" pos="4122720"/>
                <a:tab algn="l" pos="4340160"/>
                <a:tab algn="l" pos="4465800"/>
                <a:tab algn="l" pos="4809960"/>
                <a:tab algn="l" pos="5153040"/>
                <a:tab algn="l" pos="5497560"/>
                <a:tab algn="l" pos="564192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0" lang="en-US" sz="2000" spc="-1" strike="noStrike">
                <a:solidFill>
                  <a:srgbClr val="525252"/>
                </a:solidFill>
                <a:latin typeface="Helvetica Neue Light"/>
                <a:ea typeface="ＭＳ Ｐゴシック"/>
              </a:rPr>
              <a:t>Repository Enha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2" name="Group 2"/>
          <p:cNvGrpSpPr/>
          <p:nvPr/>
        </p:nvGrpSpPr>
        <p:grpSpPr>
          <a:xfrm>
            <a:off x="1595520" y="1969920"/>
            <a:ext cx="1392120" cy="395280"/>
            <a:chOff x="1595520" y="1969920"/>
            <a:chExt cx="1392120" cy="395280"/>
          </a:xfrm>
        </p:grpSpPr>
        <p:sp>
          <p:nvSpPr>
            <p:cNvPr id="633" name="Rectangle 3"/>
            <p:cNvSpPr/>
            <p:nvPr/>
          </p:nvSpPr>
          <p:spPr>
            <a:xfrm>
              <a:off x="1595520" y="1969920"/>
              <a:ext cx="1392120" cy="39528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Rectangle 4"/>
            <p:cNvSpPr/>
            <p:nvPr/>
          </p:nvSpPr>
          <p:spPr>
            <a:xfrm>
              <a:off x="1863360" y="2032200"/>
              <a:ext cx="85500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Launch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5" name="Group 5"/>
          <p:cNvGrpSpPr/>
          <p:nvPr/>
        </p:nvGrpSpPr>
        <p:grpSpPr>
          <a:xfrm>
            <a:off x="1595520" y="2951280"/>
            <a:ext cx="1392120" cy="396720"/>
            <a:chOff x="1595520" y="2951280"/>
            <a:chExt cx="1392120" cy="396720"/>
          </a:xfrm>
        </p:grpSpPr>
        <p:sp>
          <p:nvSpPr>
            <p:cNvPr id="636" name="Rectangle 6"/>
            <p:cNvSpPr/>
            <p:nvPr/>
          </p:nvSpPr>
          <p:spPr>
            <a:xfrm>
              <a:off x="1595520" y="2951280"/>
              <a:ext cx="1392120" cy="39672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Rectangle 7"/>
            <p:cNvSpPr/>
            <p:nvPr/>
          </p:nvSpPr>
          <p:spPr>
            <a:xfrm>
              <a:off x="1863720" y="3013920"/>
              <a:ext cx="855720" cy="27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Repositor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8" name="AutoShape 8"/>
          <p:cNvSpPr/>
          <p:nvPr/>
        </p:nvSpPr>
        <p:spPr>
          <a:xfrm rot="3511800">
            <a:off x="2614680" y="3530160"/>
            <a:ext cx="498240" cy="216000"/>
          </a:xfrm>
          <a:prstGeom prst="rightArrow">
            <a:avLst>
              <a:gd name="adj1" fmla="val 33509"/>
              <a:gd name="adj2" fmla="val 91668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AutoShape 9"/>
          <p:cNvSpPr/>
          <p:nvPr/>
        </p:nvSpPr>
        <p:spPr>
          <a:xfrm rot="5400000">
            <a:off x="2039760" y="2555640"/>
            <a:ext cx="498600" cy="216000"/>
          </a:xfrm>
          <a:prstGeom prst="rightArrow">
            <a:avLst>
              <a:gd name="adj1" fmla="val 33509"/>
              <a:gd name="adj2" fmla="val 91735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10"/>
          <p:cNvSpPr/>
          <p:nvPr/>
        </p:nvSpPr>
        <p:spPr>
          <a:xfrm>
            <a:off x="162000" y="3449520"/>
            <a:ext cx="108720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ff2712"/>
                </a:solidFill>
                <a:latin typeface="Helvetica Neue Light"/>
                <a:ea typeface="ＭＳ Ｐゴシック"/>
              </a:rPr>
              <a:t>CRUD opera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Line 11"/>
          <p:cNvSpPr/>
          <p:nvPr/>
        </p:nvSpPr>
        <p:spPr>
          <a:xfrm flipH="1">
            <a:off x="1106640" y="3257640"/>
            <a:ext cx="374400" cy="176040"/>
          </a:xfrm>
          <a:prstGeom prst="line">
            <a:avLst/>
          </a:prstGeom>
          <a:ln w="25560">
            <a:solidFill>
              <a:srgbClr val="ff2712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12"/>
          <p:cNvSpPr/>
          <p:nvPr/>
        </p:nvSpPr>
        <p:spPr>
          <a:xfrm>
            <a:off x="216000" y="2346480"/>
            <a:ext cx="10872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ff2712"/>
                </a:solidFill>
                <a:latin typeface="Helvetica Neue Light"/>
                <a:ea typeface="ＭＳ Ｐゴシック"/>
              </a:rPr>
              <a:t>run(Job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Line 13"/>
          <p:cNvSpPr/>
          <p:nvPr/>
        </p:nvSpPr>
        <p:spPr>
          <a:xfrm flipH="1">
            <a:off x="1047600" y="2152800"/>
            <a:ext cx="487440" cy="249120"/>
          </a:xfrm>
          <a:prstGeom prst="line">
            <a:avLst/>
          </a:prstGeom>
          <a:ln w="25560">
            <a:solidFill>
              <a:srgbClr val="ff2712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4" name="Group 14"/>
          <p:cNvGrpSpPr/>
          <p:nvPr/>
        </p:nvGrpSpPr>
        <p:grpSpPr>
          <a:xfrm>
            <a:off x="2173680" y="1031760"/>
            <a:ext cx="3822480" cy="2905560"/>
            <a:chOff x="2173680" y="1031760"/>
            <a:chExt cx="3822480" cy="2905560"/>
          </a:xfrm>
        </p:grpSpPr>
        <p:sp>
          <p:nvSpPr>
            <p:cNvPr id="645" name="AutoShape 15"/>
            <p:cNvSpPr/>
            <p:nvPr/>
          </p:nvSpPr>
          <p:spPr>
            <a:xfrm rot="7114800">
              <a:off x="3062160" y="3551760"/>
              <a:ext cx="503280" cy="222120"/>
            </a:xfrm>
            <a:prstGeom prst="rightArrow">
              <a:avLst>
                <a:gd name="adj1" fmla="val 33509"/>
                <a:gd name="adj2" fmla="val 90045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6" name="Group 16"/>
            <p:cNvGrpSpPr/>
            <p:nvPr/>
          </p:nvGrpSpPr>
          <p:grpSpPr>
            <a:xfrm>
              <a:off x="2331360" y="1031760"/>
              <a:ext cx="1439280" cy="398880"/>
              <a:chOff x="2331360" y="1031760"/>
              <a:chExt cx="1439280" cy="398880"/>
            </a:xfrm>
          </p:grpSpPr>
          <p:sp>
            <p:nvSpPr>
              <p:cNvPr id="647" name="Rectangle 17"/>
              <p:cNvSpPr/>
              <p:nvPr/>
            </p:nvSpPr>
            <p:spPr>
              <a:xfrm>
                <a:off x="2331360" y="1031760"/>
                <a:ext cx="1439280" cy="398880"/>
              </a:xfrm>
              <a:prstGeom prst="rect">
                <a:avLst/>
              </a:prstGeom>
              <a:solidFill>
                <a:srgbClr val="5382a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Rectangle 18"/>
              <p:cNvSpPr/>
              <p:nvPr/>
            </p:nvSpPr>
            <p:spPr>
              <a:xfrm>
                <a:off x="2608560" y="1094760"/>
                <a:ext cx="884520" cy="27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9440" tIns="0" bIns="0" anchor="ctr">
                <a:noAutofit/>
              </a:bodyPr>
              <a:p>
                <a:pPr marL="19080" algn="ctr"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JobOperator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9" name="Group 19"/>
            <p:cNvGrpSpPr/>
            <p:nvPr/>
          </p:nvGrpSpPr>
          <p:grpSpPr>
            <a:xfrm>
              <a:off x="3202560" y="2964960"/>
              <a:ext cx="1439280" cy="398880"/>
              <a:chOff x="3202560" y="2964960"/>
              <a:chExt cx="1439280" cy="398880"/>
            </a:xfrm>
          </p:grpSpPr>
          <p:sp>
            <p:nvSpPr>
              <p:cNvPr id="650" name="Rectangle 20"/>
              <p:cNvSpPr/>
              <p:nvPr/>
            </p:nvSpPr>
            <p:spPr>
              <a:xfrm>
                <a:off x="3202560" y="2964960"/>
                <a:ext cx="1439280" cy="398880"/>
              </a:xfrm>
              <a:prstGeom prst="rect">
                <a:avLst/>
              </a:prstGeom>
              <a:solidFill>
                <a:srgbClr val="5382a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Rectangle 21"/>
              <p:cNvSpPr/>
              <p:nvPr/>
            </p:nvSpPr>
            <p:spPr>
              <a:xfrm>
                <a:off x="3479760" y="3027960"/>
                <a:ext cx="884520" cy="27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9440" tIns="0" bIns="0" anchor="ctr">
                <a:noAutofit/>
              </a:bodyPr>
              <a:p>
                <a:pPr marL="19080" algn="ctr"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JobExplorer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2" name="AutoShape 22"/>
            <p:cNvSpPr/>
            <p:nvPr/>
          </p:nvSpPr>
          <p:spPr>
            <a:xfrm rot="7436400">
              <a:off x="2154960" y="1586880"/>
              <a:ext cx="502200" cy="222120"/>
            </a:xfrm>
            <a:prstGeom prst="rightArrow">
              <a:avLst>
                <a:gd name="adj1" fmla="val 33509"/>
                <a:gd name="adj2" fmla="val 89851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AutoShape 23"/>
            <p:cNvSpPr/>
            <p:nvPr/>
          </p:nvSpPr>
          <p:spPr>
            <a:xfrm rot="4120200">
              <a:off x="2962440" y="2082600"/>
              <a:ext cx="1460520" cy="222120"/>
            </a:xfrm>
            <a:prstGeom prst="rightArrow">
              <a:avLst>
                <a:gd name="adj1" fmla="val 33509"/>
                <a:gd name="adj2" fmla="val 90046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Rectangle 24"/>
            <p:cNvSpPr/>
            <p:nvPr/>
          </p:nvSpPr>
          <p:spPr>
            <a:xfrm>
              <a:off x="4871880" y="3454200"/>
              <a:ext cx="11242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0" lang="en-US" sz="900" spc="-1" strike="noStrike">
                  <a:solidFill>
                    <a:srgbClr val="ff2712"/>
                  </a:solidFill>
                  <a:latin typeface="Helvetica Neue Light"/>
                  <a:ea typeface="ＭＳ Ｐゴシック"/>
                </a:rPr>
                <a:t>get* operation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Line 25"/>
            <p:cNvSpPr/>
            <p:nvPr/>
          </p:nvSpPr>
          <p:spPr>
            <a:xfrm>
              <a:off x="4708080" y="3258720"/>
              <a:ext cx="321120" cy="185760"/>
            </a:xfrm>
            <a:prstGeom prst="line">
              <a:avLst/>
            </a:prstGeom>
            <a:ln w="25560">
              <a:solidFill>
                <a:srgbClr val="ff2712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26"/>
            <p:cNvSpPr/>
            <p:nvPr/>
          </p:nvSpPr>
          <p:spPr>
            <a:xfrm>
              <a:off x="4316040" y="1343160"/>
              <a:ext cx="11242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0" lang="en-US" sz="900" spc="-1" strike="noStrike">
                  <a:solidFill>
                    <a:srgbClr val="ff2712"/>
                  </a:solidFill>
                  <a:latin typeface="Helvetica Neue Light"/>
                  <a:ea typeface="ＭＳ Ｐゴシック"/>
                </a:rPr>
                <a:t>Combines al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Line 27"/>
            <p:cNvSpPr/>
            <p:nvPr/>
          </p:nvSpPr>
          <p:spPr>
            <a:xfrm>
              <a:off x="3976200" y="1224720"/>
              <a:ext cx="514800" cy="170280"/>
            </a:xfrm>
            <a:prstGeom prst="line">
              <a:avLst/>
            </a:prstGeom>
            <a:ln w="25560">
              <a:solidFill>
                <a:srgbClr val="ff2712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8" name="Group 28"/>
          <p:cNvGrpSpPr/>
          <p:nvPr/>
        </p:nvGrpSpPr>
        <p:grpSpPr>
          <a:xfrm>
            <a:off x="2849400" y="3909960"/>
            <a:ext cx="590760" cy="428760"/>
            <a:chOff x="2849400" y="3909960"/>
            <a:chExt cx="590760" cy="428760"/>
          </a:xfrm>
        </p:grpSpPr>
        <p:sp>
          <p:nvSpPr>
            <p:cNvPr id="659" name="AutoShape 29"/>
            <p:cNvSpPr/>
            <p:nvPr/>
          </p:nvSpPr>
          <p:spPr>
            <a:xfrm>
              <a:off x="2849400" y="3909960"/>
              <a:ext cx="590760" cy="428760"/>
            </a:xfrm>
            <a:prstGeom prst="pie">
              <a:avLst/>
            </a:prstGeom>
            <a:solidFill>
              <a:srgbClr val="e0e0e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AutoShape 30"/>
            <p:cNvSpPr/>
            <p:nvPr/>
          </p:nvSpPr>
          <p:spPr>
            <a:xfrm>
              <a:off x="2849400" y="3909960"/>
              <a:ext cx="590760" cy="106560"/>
            </a:xfrm>
            <a:prstGeom prst="pie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AutoShape 31"/>
            <p:cNvSpPr/>
            <p:nvPr/>
          </p:nvSpPr>
          <p:spPr>
            <a:xfrm>
              <a:off x="2849400" y="3963240"/>
              <a:ext cx="590760" cy="5328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Rectangle 32"/>
            <p:cNvSpPr/>
            <p:nvPr/>
          </p:nvSpPr>
          <p:spPr>
            <a:xfrm>
              <a:off x="2895120" y="4071960"/>
              <a:ext cx="498240" cy="15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43560" tIns="18000" bIns="18000" anchor="ctr">
              <a:spAutoFit/>
            </a:bodyPr>
            <a:p>
              <a:pPr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atabas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CE973DA6-3067-47A2-8CD2-4D0AEC5BD67F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4" name="Group 4"/>
          <p:cNvGrpSpPr/>
          <p:nvPr/>
        </p:nvGrpSpPr>
        <p:grpSpPr>
          <a:xfrm>
            <a:off x="2271600" y="731880"/>
            <a:ext cx="2746440" cy="2997000"/>
            <a:chOff x="2271600" y="731880"/>
            <a:chExt cx="2746440" cy="2997000"/>
          </a:xfrm>
        </p:grpSpPr>
        <p:sp>
          <p:nvSpPr>
            <p:cNvPr id="665" name="Rectangle 5"/>
            <p:cNvSpPr/>
            <p:nvPr/>
          </p:nvSpPr>
          <p:spPr>
            <a:xfrm>
              <a:off x="2271600" y="731880"/>
              <a:ext cx="2746440" cy="2997000"/>
            </a:xfrm>
            <a:prstGeom prst="rect">
              <a:avLst/>
            </a:prstGeom>
            <a:solidFill>
              <a:srgbClr val="fef8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6"/>
            <p:cNvSpPr/>
            <p:nvPr/>
          </p:nvSpPr>
          <p:spPr>
            <a:xfrm>
              <a:off x="2311920" y="994680"/>
              <a:ext cx="2421000" cy="246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27360" tIns="0" bIns="0" anchor="ctr">
              <a:spAutoFit/>
            </a:bodyPr>
            <a:p>
              <a:pPr marL="268200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&lt;trade&gt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&lt;isin&gt;XYZ0001&lt;/isin&gt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&lt;quantity&gt;5&lt;/quantity&gt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&lt;price&gt;11.39&lt;/price&gt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&lt;customer&gt;Customer1&lt;/customer&gt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&lt;/trade&gt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&lt;trade&gt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&lt;isin&gt;XYZ0002&lt;/isin&gt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&lt;quantity&gt;2&lt;/quantity&gt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&lt;price&gt;72.99&lt;/price&gt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&lt;customer&gt;Customer2c&lt;/customer&gt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&lt;/trade&gt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&lt;trade&gt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&lt;isin&gt;XYZ0003&lt;/isin&gt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&lt;quantity&gt;9&lt;/quantity&gt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&lt;price&gt;99.99&lt;/price&gt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&lt;customer&gt;Customer3&lt;/customer&gt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&lt;/trade&gt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7" name="AutoShape 7"/>
          <p:cNvSpPr/>
          <p:nvPr/>
        </p:nvSpPr>
        <p:spPr>
          <a:xfrm>
            <a:off x="2030400" y="927000"/>
            <a:ext cx="289080" cy="83664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8" name="Group 8"/>
          <p:cNvGrpSpPr/>
          <p:nvPr/>
        </p:nvGrpSpPr>
        <p:grpSpPr>
          <a:xfrm>
            <a:off x="957960" y="1173240"/>
            <a:ext cx="984600" cy="344520"/>
            <a:chOff x="957960" y="1173240"/>
            <a:chExt cx="984600" cy="344520"/>
          </a:xfrm>
        </p:grpSpPr>
        <p:sp>
          <p:nvSpPr>
            <p:cNvPr id="669" name="AutoShape 9"/>
            <p:cNvSpPr/>
            <p:nvPr/>
          </p:nvSpPr>
          <p:spPr>
            <a:xfrm>
              <a:off x="967680" y="1173240"/>
              <a:ext cx="964800" cy="344520"/>
            </a:xfrm>
            <a:prstGeom prst="pie">
              <a:avLst/>
            </a:prstGeom>
            <a:solidFill>
              <a:srgbClr val="ffc72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10"/>
            <p:cNvSpPr/>
            <p:nvPr/>
          </p:nvSpPr>
          <p:spPr>
            <a:xfrm>
              <a:off x="957960" y="1222200"/>
              <a:ext cx="984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27360" tIns="0" bIns="0" anchor="ctr">
              <a:spAutoFit/>
            </a:bodyPr>
            <a:p>
              <a:pPr marL="27000" algn="ctr">
                <a:lnSpc>
                  <a:spcPct val="10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Fragment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1" name="AutoShape 11"/>
          <p:cNvSpPr/>
          <p:nvPr/>
        </p:nvSpPr>
        <p:spPr>
          <a:xfrm>
            <a:off x="2030400" y="1812960"/>
            <a:ext cx="289080" cy="83484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2" name="Group 12"/>
          <p:cNvGrpSpPr/>
          <p:nvPr/>
        </p:nvGrpSpPr>
        <p:grpSpPr>
          <a:xfrm>
            <a:off x="957960" y="2058840"/>
            <a:ext cx="984600" cy="343080"/>
            <a:chOff x="957960" y="2058840"/>
            <a:chExt cx="984600" cy="343080"/>
          </a:xfrm>
        </p:grpSpPr>
        <p:sp>
          <p:nvSpPr>
            <p:cNvPr id="673" name="AutoShape 13"/>
            <p:cNvSpPr/>
            <p:nvPr/>
          </p:nvSpPr>
          <p:spPr>
            <a:xfrm>
              <a:off x="967680" y="2058840"/>
              <a:ext cx="964800" cy="343080"/>
            </a:xfrm>
            <a:prstGeom prst="pie">
              <a:avLst/>
            </a:prstGeom>
            <a:solidFill>
              <a:srgbClr val="ffc72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14"/>
            <p:cNvSpPr/>
            <p:nvPr/>
          </p:nvSpPr>
          <p:spPr>
            <a:xfrm>
              <a:off x="957960" y="2107080"/>
              <a:ext cx="984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27360" tIns="0" bIns="0" anchor="ctr">
              <a:spAutoFit/>
            </a:bodyPr>
            <a:p>
              <a:pPr marL="27000" algn="ctr">
                <a:lnSpc>
                  <a:spcPct val="10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Fragment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5" name="AutoShape 15"/>
          <p:cNvSpPr/>
          <p:nvPr/>
        </p:nvSpPr>
        <p:spPr>
          <a:xfrm>
            <a:off x="2030400" y="2697120"/>
            <a:ext cx="289080" cy="8352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6" name="Group 16"/>
          <p:cNvGrpSpPr/>
          <p:nvPr/>
        </p:nvGrpSpPr>
        <p:grpSpPr>
          <a:xfrm>
            <a:off x="957960" y="2943360"/>
            <a:ext cx="984600" cy="342720"/>
            <a:chOff x="957960" y="2943360"/>
            <a:chExt cx="984600" cy="342720"/>
          </a:xfrm>
        </p:grpSpPr>
        <p:sp>
          <p:nvSpPr>
            <p:cNvPr id="677" name="AutoShape 17"/>
            <p:cNvSpPr/>
            <p:nvPr/>
          </p:nvSpPr>
          <p:spPr>
            <a:xfrm>
              <a:off x="967680" y="2943360"/>
              <a:ext cx="964800" cy="342720"/>
            </a:xfrm>
            <a:prstGeom prst="pie">
              <a:avLst/>
            </a:prstGeom>
            <a:solidFill>
              <a:srgbClr val="ffc72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18"/>
            <p:cNvSpPr/>
            <p:nvPr/>
          </p:nvSpPr>
          <p:spPr>
            <a:xfrm>
              <a:off x="957960" y="2991600"/>
              <a:ext cx="984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27360" tIns="0" bIns="0" anchor="ctr">
              <a:spAutoFit/>
            </a:bodyPr>
            <a:p>
              <a:pPr marL="27000" algn="ctr">
                <a:lnSpc>
                  <a:spcPct val="10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Fragment 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25416501-F6C3-4153-A7B3-A58589B83E25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Group 4"/>
          <p:cNvGrpSpPr/>
          <p:nvPr/>
        </p:nvGrpSpPr>
        <p:grpSpPr>
          <a:xfrm>
            <a:off x="1140480" y="1546200"/>
            <a:ext cx="1081440" cy="441000"/>
            <a:chOff x="1140480" y="1546200"/>
            <a:chExt cx="1081440" cy="441000"/>
          </a:xfrm>
        </p:grpSpPr>
        <p:grpSp>
          <p:nvGrpSpPr>
            <p:cNvPr id="681" name="Group 5"/>
            <p:cNvGrpSpPr/>
            <p:nvPr/>
          </p:nvGrpSpPr>
          <p:grpSpPr>
            <a:xfrm>
              <a:off x="1237320" y="1644480"/>
              <a:ext cx="984600" cy="342720"/>
              <a:chOff x="1237320" y="1644480"/>
              <a:chExt cx="984600" cy="342720"/>
            </a:xfrm>
          </p:grpSpPr>
          <p:sp>
            <p:nvSpPr>
              <p:cNvPr id="682" name="AutoShape 6"/>
              <p:cNvSpPr/>
              <p:nvPr/>
            </p:nvSpPr>
            <p:spPr>
              <a:xfrm>
                <a:off x="1246680" y="1644480"/>
                <a:ext cx="964800" cy="342720"/>
              </a:xfrm>
              <a:prstGeom prst="pie">
                <a:avLst/>
              </a:prstGeom>
              <a:solidFill>
                <a:srgbClr val="ffc72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Rectangle 7"/>
              <p:cNvSpPr/>
              <p:nvPr/>
            </p:nvSpPr>
            <p:spPr>
              <a:xfrm>
                <a:off x="1237320" y="1692720"/>
                <a:ext cx="9846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27360" tIns="0" bIns="0" anchor="ctr">
                <a:spAutoFit/>
              </a:bodyPr>
              <a:p>
                <a:pPr marL="27000" algn="ctr">
                  <a:lnSpc>
                    <a:spcPct val="100000"/>
                  </a:lnSpc>
                  <a:tabLst>
                    <a:tab algn="l" pos="0"/>
                    <a:tab algn="l" pos="617400"/>
                    <a:tab algn="l" pos="1235160"/>
                    <a:tab algn="l" pos="1852560"/>
                    <a:tab algn="l" pos="2470320"/>
                    <a:tab algn="l" pos="3087720"/>
                    <a:tab algn="l" pos="3705120"/>
                    <a:tab algn="l" pos="4322880"/>
                    <a:tab algn="l" pos="4940280"/>
                    <a:tab algn="l" pos="5557680"/>
                    <a:tab algn="l" pos="6175440"/>
                    <a:tab algn="l" pos="6792840"/>
                    <a:tab algn="l" pos="7410600"/>
                    <a:tab algn="l" pos="8028000"/>
                    <a:tab algn="l" pos="8645400"/>
                    <a:tab algn="l" pos="9263160"/>
                    <a:tab algn="l" pos="9880560"/>
                    <a:tab algn="l" pos="1049796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ＭＳ Ｐゴシック"/>
                  </a:rPr>
                  <a:t>Fragment 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4" name="Group 8"/>
            <p:cNvGrpSpPr/>
            <p:nvPr/>
          </p:nvGrpSpPr>
          <p:grpSpPr>
            <a:xfrm>
              <a:off x="1188000" y="1594440"/>
              <a:ext cx="984600" cy="342720"/>
              <a:chOff x="1188000" y="1594440"/>
              <a:chExt cx="984600" cy="342720"/>
            </a:xfrm>
          </p:grpSpPr>
          <p:sp>
            <p:nvSpPr>
              <p:cNvPr id="685" name="AutoShape 9"/>
              <p:cNvSpPr/>
              <p:nvPr/>
            </p:nvSpPr>
            <p:spPr>
              <a:xfrm>
                <a:off x="1197720" y="1594440"/>
                <a:ext cx="964800" cy="342720"/>
              </a:xfrm>
              <a:prstGeom prst="pie">
                <a:avLst/>
              </a:prstGeom>
              <a:solidFill>
                <a:srgbClr val="ffc72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Rectangle 10"/>
              <p:cNvSpPr/>
              <p:nvPr/>
            </p:nvSpPr>
            <p:spPr>
              <a:xfrm>
                <a:off x="1188000" y="1642680"/>
                <a:ext cx="9846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27360" tIns="0" bIns="0" anchor="ctr">
                <a:spAutoFit/>
              </a:bodyPr>
              <a:p>
                <a:pPr marL="27000" algn="ctr">
                  <a:lnSpc>
                    <a:spcPct val="100000"/>
                  </a:lnSpc>
                  <a:tabLst>
                    <a:tab algn="l" pos="0"/>
                    <a:tab algn="l" pos="617400"/>
                    <a:tab algn="l" pos="1235160"/>
                    <a:tab algn="l" pos="1852560"/>
                    <a:tab algn="l" pos="2470320"/>
                    <a:tab algn="l" pos="3087720"/>
                    <a:tab algn="l" pos="3705120"/>
                    <a:tab algn="l" pos="4322880"/>
                    <a:tab algn="l" pos="4940280"/>
                    <a:tab algn="l" pos="5557680"/>
                    <a:tab algn="l" pos="6175440"/>
                    <a:tab algn="l" pos="6792840"/>
                    <a:tab algn="l" pos="7410600"/>
                    <a:tab algn="l" pos="8028000"/>
                    <a:tab algn="l" pos="8645400"/>
                    <a:tab algn="l" pos="9263160"/>
                    <a:tab algn="l" pos="9880560"/>
                    <a:tab algn="l" pos="1049796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ＭＳ Ｐゴシック"/>
                  </a:rPr>
                  <a:t>Fragment 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7" name="Group 11"/>
            <p:cNvGrpSpPr/>
            <p:nvPr/>
          </p:nvGrpSpPr>
          <p:grpSpPr>
            <a:xfrm>
              <a:off x="1140480" y="1546200"/>
              <a:ext cx="984600" cy="342720"/>
              <a:chOff x="1140480" y="1546200"/>
              <a:chExt cx="984600" cy="342720"/>
            </a:xfrm>
          </p:grpSpPr>
          <p:sp>
            <p:nvSpPr>
              <p:cNvPr id="688" name="AutoShape 12"/>
              <p:cNvSpPr/>
              <p:nvPr/>
            </p:nvSpPr>
            <p:spPr>
              <a:xfrm>
                <a:off x="1150200" y="1546200"/>
                <a:ext cx="964800" cy="342720"/>
              </a:xfrm>
              <a:prstGeom prst="pie">
                <a:avLst/>
              </a:prstGeom>
              <a:solidFill>
                <a:srgbClr val="ffc72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Rectangle 13"/>
              <p:cNvSpPr/>
              <p:nvPr/>
            </p:nvSpPr>
            <p:spPr>
              <a:xfrm>
                <a:off x="1140480" y="1594440"/>
                <a:ext cx="9846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27360" tIns="0" bIns="0" anchor="ctr">
                <a:spAutoFit/>
              </a:bodyPr>
              <a:p>
                <a:pPr marL="27000" algn="ctr">
                  <a:lnSpc>
                    <a:spcPct val="100000"/>
                  </a:lnSpc>
                  <a:tabLst>
                    <a:tab algn="l" pos="0"/>
                    <a:tab algn="l" pos="617400"/>
                    <a:tab algn="l" pos="1235160"/>
                    <a:tab algn="l" pos="1852560"/>
                    <a:tab algn="l" pos="2470320"/>
                    <a:tab algn="l" pos="3087720"/>
                    <a:tab algn="l" pos="3705120"/>
                    <a:tab algn="l" pos="4322880"/>
                    <a:tab algn="l" pos="4940280"/>
                    <a:tab algn="l" pos="5557680"/>
                    <a:tab algn="l" pos="6175440"/>
                    <a:tab algn="l" pos="6792840"/>
                    <a:tab algn="l" pos="7410600"/>
                    <a:tab algn="l" pos="8028000"/>
                    <a:tab algn="l" pos="8645400"/>
                    <a:tab algn="l" pos="9263160"/>
                    <a:tab algn="l" pos="9880560"/>
                    <a:tab algn="l" pos="1049796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ＭＳ Ｐゴシック"/>
                  </a:rPr>
                  <a:t>Fragment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90" name="Group 14"/>
          <p:cNvGrpSpPr/>
          <p:nvPr/>
        </p:nvGrpSpPr>
        <p:grpSpPr>
          <a:xfrm>
            <a:off x="3416400" y="808200"/>
            <a:ext cx="1398600" cy="2014200"/>
            <a:chOff x="3416400" y="808200"/>
            <a:chExt cx="1398600" cy="2014200"/>
          </a:xfrm>
        </p:grpSpPr>
        <p:sp>
          <p:nvSpPr>
            <p:cNvPr id="691" name="AutoShape 15"/>
            <p:cNvSpPr/>
            <p:nvPr/>
          </p:nvSpPr>
          <p:spPr>
            <a:xfrm>
              <a:off x="3416400" y="808200"/>
              <a:ext cx="1398600" cy="2014200"/>
            </a:xfrm>
            <a:prstGeom prst="pie">
              <a:avLst/>
            </a:prstGeom>
            <a:solidFill>
              <a:srgbClr val="fef8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Rectangle 16"/>
            <p:cNvSpPr/>
            <p:nvPr/>
          </p:nvSpPr>
          <p:spPr>
            <a:xfrm>
              <a:off x="3553560" y="808200"/>
              <a:ext cx="112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27360" tIns="0" bIns="0" anchor="t">
              <a:spAutoFit/>
            </a:bodyPr>
            <a:p>
              <a:pPr marL="27000" algn="ctr">
                <a:lnSpc>
                  <a:spcPct val="10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Spring OX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3" name="Group 17"/>
          <p:cNvGrpSpPr/>
          <p:nvPr/>
        </p:nvGrpSpPr>
        <p:grpSpPr>
          <a:xfrm>
            <a:off x="3706920" y="1200240"/>
            <a:ext cx="866520" cy="415800"/>
            <a:chOff x="3706920" y="1200240"/>
            <a:chExt cx="866520" cy="415800"/>
          </a:xfrm>
        </p:grpSpPr>
        <p:sp>
          <p:nvSpPr>
            <p:cNvPr id="694" name="Rectangle 18"/>
            <p:cNvSpPr/>
            <p:nvPr/>
          </p:nvSpPr>
          <p:spPr>
            <a:xfrm>
              <a:off x="3706920" y="1200240"/>
              <a:ext cx="866520" cy="415800"/>
            </a:xfrm>
            <a:prstGeom prst="rect">
              <a:avLst/>
            </a:prstGeom>
            <a:solidFill>
              <a:srgbClr val="66aa4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Rectangle 19"/>
            <p:cNvSpPr/>
            <p:nvPr/>
          </p:nvSpPr>
          <p:spPr>
            <a:xfrm>
              <a:off x="3880800" y="1300320"/>
              <a:ext cx="51732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41760" tIns="17280" bIns="17280" anchor="ctr">
              <a:spAutoFit/>
            </a:bodyPr>
            <a:p>
              <a:pPr marL="6480"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axB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Group 20"/>
          <p:cNvGrpSpPr/>
          <p:nvPr/>
        </p:nvGrpSpPr>
        <p:grpSpPr>
          <a:xfrm>
            <a:off x="3706920" y="1717560"/>
            <a:ext cx="866520" cy="416160"/>
            <a:chOff x="3706920" y="1717560"/>
            <a:chExt cx="866520" cy="416160"/>
          </a:xfrm>
        </p:grpSpPr>
        <p:sp>
          <p:nvSpPr>
            <p:cNvPr id="697" name="Rectangle 21"/>
            <p:cNvSpPr/>
            <p:nvPr/>
          </p:nvSpPr>
          <p:spPr>
            <a:xfrm>
              <a:off x="3706920" y="1717560"/>
              <a:ext cx="866520" cy="416160"/>
            </a:xfrm>
            <a:prstGeom prst="rect">
              <a:avLst/>
            </a:prstGeom>
            <a:solidFill>
              <a:srgbClr val="66aa4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Rectangle 22"/>
            <p:cNvSpPr/>
            <p:nvPr/>
          </p:nvSpPr>
          <p:spPr>
            <a:xfrm>
              <a:off x="3864600" y="1817640"/>
              <a:ext cx="54936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41760" tIns="17280" bIns="17280" anchor="ctr">
              <a:spAutoFit/>
            </a:bodyPr>
            <a:p>
              <a:pPr marL="6480"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as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9" name="Group 23"/>
          <p:cNvGrpSpPr/>
          <p:nvPr/>
        </p:nvGrpSpPr>
        <p:grpSpPr>
          <a:xfrm>
            <a:off x="3706920" y="2282760"/>
            <a:ext cx="866520" cy="416160"/>
            <a:chOff x="3706920" y="2282760"/>
            <a:chExt cx="866520" cy="416160"/>
          </a:xfrm>
        </p:grpSpPr>
        <p:sp>
          <p:nvSpPr>
            <p:cNvPr id="700" name="Rectangle 24"/>
            <p:cNvSpPr/>
            <p:nvPr/>
          </p:nvSpPr>
          <p:spPr>
            <a:xfrm>
              <a:off x="3706920" y="2282760"/>
              <a:ext cx="866520" cy="416160"/>
            </a:xfrm>
            <a:prstGeom prst="rect">
              <a:avLst/>
            </a:prstGeom>
            <a:solidFill>
              <a:srgbClr val="66aa4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Rectangle 25"/>
            <p:cNvSpPr/>
            <p:nvPr/>
          </p:nvSpPr>
          <p:spPr>
            <a:xfrm>
              <a:off x="3736800" y="2382840"/>
              <a:ext cx="80532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41760" tIns="17280" bIns="17280" anchor="ctr">
              <a:spAutoFit/>
            </a:bodyPr>
            <a:p>
              <a:pPr marL="6480"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XmlBea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2" name="AutoShape 26"/>
          <p:cNvSpPr/>
          <p:nvPr/>
        </p:nvSpPr>
        <p:spPr>
          <a:xfrm flipH="1" rot="10800000">
            <a:off x="1911240" y="2576160"/>
            <a:ext cx="1263600" cy="492120"/>
          </a:xfrm>
          <a:prstGeom prst="pie">
            <a:avLst/>
          </a:prstGeom>
          <a:noFill/>
          <a:ln w="12600">
            <a:solidFill>
              <a:srgbClr val="cc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27"/>
          <p:cNvSpPr/>
          <p:nvPr/>
        </p:nvSpPr>
        <p:spPr>
          <a:xfrm>
            <a:off x="957240" y="3068640"/>
            <a:ext cx="19051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0" anchor="t">
            <a:noAutofit/>
          </a:bodyPr>
          <a:p>
            <a:pPr marL="27000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1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Any binding framework supported by Spring OX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AutoShape 28"/>
          <p:cNvSpPr/>
          <p:nvPr/>
        </p:nvSpPr>
        <p:spPr>
          <a:xfrm>
            <a:off x="2500200" y="1593720"/>
            <a:ext cx="627120" cy="393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0AC394A7-B2FD-4FAD-A5C8-879CA69DFE5B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AutoShape 8"/>
          <p:cNvSpPr/>
          <p:nvPr/>
        </p:nvSpPr>
        <p:spPr>
          <a:xfrm>
            <a:off x="3038400" y="2338560"/>
            <a:ext cx="2168640" cy="1552320"/>
          </a:xfrm>
          <a:prstGeom prst="pie">
            <a:avLst/>
          </a:prstGeom>
          <a:solidFill>
            <a:srgbClr val="ffc7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7" name=""/>
          <p:cNvGraphicFramePr/>
          <p:nvPr/>
        </p:nvGraphicFramePr>
        <p:xfrm>
          <a:off x="3040200" y="1720800"/>
          <a:ext cx="2174760" cy="2104920"/>
        </p:xfrm>
        <a:graphic>
          <a:graphicData uri="http://schemas.openxmlformats.org/drawingml/2006/table">
            <a:tbl>
              <a:tblPr/>
              <a:tblGrid>
                <a:gridCol w="725040"/>
                <a:gridCol w="724680"/>
                <a:gridCol w="725040"/>
              </a:tblGrid>
              <a:tr h="64764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8" name="AutoShape 104"/>
          <p:cNvSpPr/>
          <p:nvPr/>
        </p:nvSpPr>
        <p:spPr>
          <a:xfrm>
            <a:off x="2239920" y="2381400"/>
            <a:ext cx="654120" cy="244440"/>
          </a:xfrm>
          <a:prstGeom prst="rightArrow">
            <a:avLst>
              <a:gd name="adj1" fmla="val 50000"/>
              <a:gd name="adj2" fmla="val 66900"/>
            </a:avLst>
          </a:prstGeom>
          <a:solidFill>
            <a:srgbClr val="ffc7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AutoShape 105"/>
          <p:cNvSpPr/>
          <p:nvPr/>
        </p:nvSpPr>
        <p:spPr>
          <a:xfrm>
            <a:off x="2239920" y="2684520"/>
            <a:ext cx="654120" cy="244440"/>
          </a:xfrm>
          <a:prstGeom prst="rightArrow">
            <a:avLst>
              <a:gd name="adj1" fmla="val 50000"/>
              <a:gd name="adj2" fmla="val 66900"/>
            </a:avLst>
          </a:prstGeom>
          <a:solidFill>
            <a:srgbClr val="ffc7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AutoShape 106"/>
          <p:cNvSpPr/>
          <p:nvPr/>
        </p:nvSpPr>
        <p:spPr>
          <a:xfrm>
            <a:off x="2239920" y="2986200"/>
            <a:ext cx="654120" cy="244440"/>
          </a:xfrm>
          <a:prstGeom prst="rightArrow">
            <a:avLst>
              <a:gd name="adj1" fmla="val 50000"/>
              <a:gd name="adj2" fmla="val 66900"/>
            </a:avLst>
          </a:prstGeom>
          <a:solidFill>
            <a:srgbClr val="ffc7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1" name="Group 107"/>
          <p:cNvGrpSpPr/>
          <p:nvPr/>
        </p:nvGrpSpPr>
        <p:grpSpPr>
          <a:xfrm>
            <a:off x="2612880" y="1226520"/>
            <a:ext cx="3036960" cy="404280"/>
            <a:chOff x="2612880" y="1226520"/>
            <a:chExt cx="3036960" cy="404280"/>
          </a:xfrm>
        </p:grpSpPr>
        <p:sp>
          <p:nvSpPr>
            <p:cNvPr id="712" name="Rectangle 108"/>
            <p:cNvSpPr/>
            <p:nvPr/>
          </p:nvSpPr>
          <p:spPr>
            <a:xfrm>
              <a:off x="2612880" y="1231560"/>
              <a:ext cx="3036960" cy="392760"/>
            </a:xfrm>
            <a:prstGeom prst="rect">
              <a:avLst/>
            </a:prstGeom>
            <a:solidFill>
              <a:srgbClr val="fef8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Rectangle 109"/>
            <p:cNvSpPr/>
            <p:nvPr/>
          </p:nvSpPr>
          <p:spPr>
            <a:xfrm>
              <a:off x="2669760" y="1226520"/>
              <a:ext cx="2574720" cy="40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27360" tIns="0" bIns="0" anchor="ctr">
              <a:spAutoFit/>
            </a:bodyPr>
            <a:p>
              <a:pPr marL="268200">
                <a:lnSpc>
                  <a:spcPct val="102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Select * from FOO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lnSpc>
                  <a:spcPct val="102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where id &gt; 1 and id &lt; 7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714" name=""/>
          <p:cNvGraphicFramePr/>
          <p:nvPr/>
        </p:nvGraphicFramePr>
        <p:xfrm>
          <a:off x="863640" y="1244520"/>
          <a:ext cx="1012680" cy="789120"/>
        </p:xfrm>
        <a:graphic>
          <a:graphicData uri="http://schemas.openxmlformats.org/drawingml/2006/table">
            <a:tbl>
              <a:tblPr/>
              <a:tblGrid>
                <a:gridCol w="1012680"/>
              </a:tblGrid>
              <a:tr h="28188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88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=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=foo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88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=bar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15" name=""/>
          <p:cNvGraphicFramePr/>
          <p:nvPr/>
        </p:nvGraphicFramePr>
        <p:xfrm>
          <a:off x="863640" y="2324160"/>
          <a:ext cx="1012680" cy="788760"/>
        </p:xfrm>
        <a:graphic>
          <a:graphicData uri="http://schemas.openxmlformats.org/drawingml/2006/table">
            <a:tbl>
              <a:tblPr/>
              <a:tblGrid>
                <a:gridCol w="1012680"/>
              </a:tblGrid>
              <a:tr h="28188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88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=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=foo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88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=bar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16" name=""/>
          <p:cNvGraphicFramePr/>
          <p:nvPr/>
        </p:nvGraphicFramePr>
        <p:xfrm>
          <a:off x="863640" y="3409920"/>
          <a:ext cx="1012680" cy="789120"/>
        </p:xfrm>
        <a:graphic>
          <a:graphicData uri="http://schemas.openxmlformats.org/drawingml/2006/table">
            <a:tbl>
              <a:tblPr/>
              <a:tblGrid>
                <a:gridCol w="1012680"/>
              </a:tblGrid>
              <a:tr h="28188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88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=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=foo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88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=bar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502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xit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xit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2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xit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502"/>
                            </p:stCondLst>
                            <p:childTnLst>
                              <p:par>
                                <p:cTn id="207" nodeType="afterEffect" fill="hold" presetClass="exit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A03F6400-F5CB-41DB-942D-778CC22B6BD4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6"/>
          <p:cNvSpPr/>
          <p:nvPr/>
        </p:nvSpPr>
        <p:spPr>
          <a:xfrm>
            <a:off x="96840" y="4464000"/>
            <a:ext cx="3009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0" anchor="b">
            <a:noAutofit/>
          </a:bodyPr>
          <a:p>
            <a:pPr marL="27000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pyright © 2008 Accenture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AutoShape 8"/>
          <p:cNvSpPr/>
          <p:nvPr/>
        </p:nvSpPr>
        <p:spPr>
          <a:xfrm>
            <a:off x="3121200" y="2357280"/>
            <a:ext cx="722160" cy="1386000"/>
          </a:xfrm>
          <a:prstGeom prst="pie">
            <a:avLst/>
          </a:prstGeom>
          <a:solidFill>
            <a:srgbClr val="ffc7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0" name=""/>
          <p:cNvGraphicFramePr/>
          <p:nvPr/>
        </p:nvGraphicFramePr>
        <p:xfrm>
          <a:off x="3112920" y="1805040"/>
          <a:ext cx="2175120" cy="1940040"/>
        </p:xfrm>
        <a:graphic>
          <a:graphicData uri="http://schemas.openxmlformats.org/drawingml/2006/table">
            <a:tbl>
              <a:tblPr/>
              <a:tblGrid>
                <a:gridCol w="725040"/>
                <a:gridCol w="725040"/>
                <a:gridCol w="725040"/>
              </a:tblGrid>
              <a:tr h="31212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12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12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12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12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12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12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12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12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721" name="Group 104"/>
          <p:cNvGrpSpPr/>
          <p:nvPr/>
        </p:nvGrpSpPr>
        <p:grpSpPr>
          <a:xfrm>
            <a:off x="2643120" y="1272600"/>
            <a:ext cx="3036960" cy="404280"/>
            <a:chOff x="2643120" y="1272600"/>
            <a:chExt cx="3036960" cy="404280"/>
          </a:xfrm>
        </p:grpSpPr>
        <p:sp>
          <p:nvSpPr>
            <p:cNvPr id="722" name="Rectangle 105"/>
            <p:cNvSpPr/>
            <p:nvPr/>
          </p:nvSpPr>
          <p:spPr>
            <a:xfrm>
              <a:off x="2643120" y="1277640"/>
              <a:ext cx="3036960" cy="392760"/>
            </a:xfrm>
            <a:prstGeom prst="rect">
              <a:avLst/>
            </a:prstGeom>
            <a:solidFill>
              <a:srgbClr val="fef8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Rectangle 106"/>
            <p:cNvSpPr/>
            <p:nvPr/>
          </p:nvSpPr>
          <p:spPr>
            <a:xfrm>
              <a:off x="2700000" y="1272600"/>
              <a:ext cx="2574720" cy="40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27360" tIns="0" bIns="0" anchor="ctr">
              <a:spAutoFit/>
            </a:bodyPr>
            <a:p>
              <a:pPr marL="268200">
                <a:lnSpc>
                  <a:spcPct val="102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Select </a:t>
              </a:r>
              <a:r>
                <a:rPr b="1" lang="en-US" sz="13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ID</a:t>
              </a:r>
              <a:r>
                <a:rPr b="1" lang="en-US" sz="13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 from FOO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lnSpc>
                  <a:spcPct val="102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where id &gt; 1 and id &lt; 7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4" name="AutoShape 107"/>
          <p:cNvSpPr/>
          <p:nvPr/>
        </p:nvSpPr>
        <p:spPr>
          <a:xfrm rot="10800000">
            <a:off x="1917360" y="2409840"/>
            <a:ext cx="1058760" cy="1278000"/>
          </a:xfrm>
          <a:prstGeom prst="pie">
            <a:avLst/>
          </a:prstGeom>
          <a:solidFill>
            <a:srgbClr val="ffc7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5" name="Group 108"/>
          <p:cNvGrpSpPr/>
          <p:nvPr/>
        </p:nvGrpSpPr>
        <p:grpSpPr>
          <a:xfrm>
            <a:off x="731880" y="2835360"/>
            <a:ext cx="866520" cy="394200"/>
            <a:chOff x="731880" y="2835360"/>
            <a:chExt cx="866520" cy="394200"/>
          </a:xfrm>
        </p:grpSpPr>
        <p:grpSp>
          <p:nvGrpSpPr>
            <p:cNvPr id="726" name="Group 109"/>
            <p:cNvGrpSpPr/>
            <p:nvPr/>
          </p:nvGrpSpPr>
          <p:grpSpPr>
            <a:xfrm>
              <a:off x="827280" y="2934000"/>
              <a:ext cx="771120" cy="295560"/>
              <a:chOff x="827280" y="2934000"/>
              <a:chExt cx="771120" cy="295560"/>
            </a:xfrm>
          </p:grpSpPr>
          <p:sp>
            <p:nvSpPr>
              <p:cNvPr id="727" name="AutoShape 110"/>
              <p:cNvSpPr/>
              <p:nvPr/>
            </p:nvSpPr>
            <p:spPr>
              <a:xfrm>
                <a:off x="827280" y="2934000"/>
                <a:ext cx="771120" cy="295560"/>
              </a:xfrm>
              <a:prstGeom prst="pie">
                <a:avLst/>
              </a:prstGeom>
              <a:solidFill>
                <a:srgbClr val="ffc72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Rectangle 111"/>
              <p:cNvSpPr/>
              <p:nvPr/>
            </p:nvSpPr>
            <p:spPr>
              <a:xfrm>
                <a:off x="1133640" y="2959920"/>
                <a:ext cx="157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27360" tIns="0" bIns="0" anchor="ctr">
                <a:spAutoFit/>
              </a:bodyPr>
              <a:p>
                <a:pPr marL="27000" algn="ctr">
                  <a:lnSpc>
                    <a:spcPct val="100000"/>
                  </a:lnSpc>
                  <a:tabLst>
                    <a:tab algn="l" pos="0"/>
                    <a:tab algn="l" pos="617400"/>
                    <a:tab algn="l" pos="1235160"/>
                    <a:tab algn="l" pos="1852560"/>
                    <a:tab algn="l" pos="2470320"/>
                    <a:tab algn="l" pos="3087720"/>
                    <a:tab algn="l" pos="3705120"/>
                    <a:tab algn="l" pos="4322880"/>
                    <a:tab algn="l" pos="4940280"/>
                    <a:tab algn="l" pos="5557680"/>
                    <a:tab algn="l" pos="6175440"/>
                    <a:tab algn="l" pos="6792840"/>
                    <a:tab algn="l" pos="7410600"/>
                    <a:tab algn="l" pos="8028000"/>
                    <a:tab algn="l" pos="8645400"/>
                    <a:tab algn="l" pos="9263160"/>
                    <a:tab algn="l" pos="9880560"/>
                    <a:tab algn="l" pos="1049796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ＭＳ Ｐゴシック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9" name="Group 112"/>
            <p:cNvGrpSpPr/>
            <p:nvPr/>
          </p:nvGrpSpPr>
          <p:grpSpPr>
            <a:xfrm>
              <a:off x="779400" y="2885400"/>
              <a:ext cx="771480" cy="295200"/>
              <a:chOff x="779400" y="2885400"/>
              <a:chExt cx="771480" cy="295200"/>
            </a:xfrm>
          </p:grpSpPr>
          <p:sp>
            <p:nvSpPr>
              <p:cNvPr id="730" name="AutoShape 113"/>
              <p:cNvSpPr/>
              <p:nvPr/>
            </p:nvSpPr>
            <p:spPr>
              <a:xfrm>
                <a:off x="779400" y="2885400"/>
                <a:ext cx="771480" cy="295200"/>
              </a:xfrm>
              <a:prstGeom prst="pie">
                <a:avLst/>
              </a:prstGeom>
              <a:solidFill>
                <a:srgbClr val="ffc72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Rectangle 114"/>
              <p:cNvSpPr/>
              <p:nvPr/>
            </p:nvSpPr>
            <p:spPr>
              <a:xfrm>
                <a:off x="1085760" y="2911320"/>
                <a:ext cx="157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27360" tIns="0" bIns="0" anchor="ctr">
                <a:spAutoFit/>
              </a:bodyPr>
              <a:p>
                <a:pPr marL="27000" algn="ctr">
                  <a:lnSpc>
                    <a:spcPct val="100000"/>
                  </a:lnSpc>
                  <a:tabLst>
                    <a:tab algn="l" pos="0"/>
                    <a:tab algn="l" pos="617400"/>
                    <a:tab algn="l" pos="1235160"/>
                    <a:tab algn="l" pos="1852560"/>
                    <a:tab algn="l" pos="2470320"/>
                    <a:tab algn="l" pos="3087720"/>
                    <a:tab algn="l" pos="3705120"/>
                    <a:tab algn="l" pos="4322880"/>
                    <a:tab algn="l" pos="4940280"/>
                    <a:tab algn="l" pos="5557680"/>
                    <a:tab algn="l" pos="6175440"/>
                    <a:tab algn="l" pos="6792840"/>
                    <a:tab algn="l" pos="7410600"/>
                    <a:tab algn="l" pos="8028000"/>
                    <a:tab algn="l" pos="8645400"/>
                    <a:tab algn="l" pos="9263160"/>
                    <a:tab algn="l" pos="9880560"/>
                    <a:tab algn="l" pos="1049796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ＭＳ Ｐゴシック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2" name="Group 115"/>
            <p:cNvGrpSpPr/>
            <p:nvPr/>
          </p:nvGrpSpPr>
          <p:grpSpPr>
            <a:xfrm>
              <a:off x="731880" y="2835360"/>
              <a:ext cx="771120" cy="295200"/>
              <a:chOff x="731880" y="2835360"/>
              <a:chExt cx="771120" cy="295200"/>
            </a:xfrm>
          </p:grpSpPr>
          <p:sp>
            <p:nvSpPr>
              <p:cNvPr id="733" name="AutoShape 116"/>
              <p:cNvSpPr/>
              <p:nvPr/>
            </p:nvSpPr>
            <p:spPr>
              <a:xfrm>
                <a:off x="731880" y="2835360"/>
                <a:ext cx="771120" cy="295200"/>
              </a:xfrm>
              <a:prstGeom prst="pie">
                <a:avLst/>
              </a:prstGeom>
              <a:solidFill>
                <a:srgbClr val="ffc72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Rectangle 117"/>
              <p:cNvSpPr/>
              <p:nvPr/>
            </p:nvSpPr>
            <p:spPr>
              <a:xfrm>
                <a:off x="1038240" y="2861280"/>
                <a:ext cx="157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27360" tIns="0" bIns="0" anchor="ctr">
                <a:spAutoFit/>
              </a:bodyPr>
              <a:p>
                <a:pPr marL="27000" algn="ctr">
                  <a:lnSpc>
                    <a:spcPct val="100000"/>
                  </a:lnSpc>
                  <a:tabLst>
                    <a:tab algn="l" pos="0"/>
                    <a:tab algn="l" pos="617400"/>
                    <a:tab algn="l" pos="1235160"/>
                    <a:tab algn="l" pos="1852560"/>
                    <a:tab algn="l" pos="2470320"/>
                    <a:tab algn="l" pos="3087720"/>
                    <a:tab algn="l" pos="3705120"/>
                    <a:tab algn="l" pos="4322880"/>
                    <a:tab algn="l" pos="4940280"/>
                    <a:tab algn="l" pos="5557680"/>
                    <a:tab algn="l" pos="6175440"/>
                    <a:tab algn="l" pos="6792840"/>
                    <a:tab algn="l" pos="7410600"/>
                    <a:tab algn="l" pos="8028000"/>
                    <a:tab algn="l" pos="8645400"/>
                    <a:tab algn="l" pos="9263160"/>
                    <a:tab algn="l" pos="9880560"/>
                    <a:tab algn="l" pos="1049796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ＭＳ Ｐゴシック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502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45AD4978-190E-4E1B-997E-E4EFAC58B81B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6" name="Group 9"/>
          <p:cNvGrpSpPr/>
          <p:nvPr/>
        </p:nvGrpSpPr>
        <p:grpSpPr>
          <a:xfrm>
            <a:off x="1714680" y="1506600"/>
            <a:ext cx="1009440" cy="312840"/>
            <a:chOff x="1714680" y="1506600"/>
            <a:chExt cx="1009440" cy="312840"/>
          </a:xfrm>
        </p:grpSpPr>
        <p:sp>
          <p:nvSpPr>
            <p:cNvPr id="737" name="Rectangle 10"/>
            <p:cNvSpPr/>
            <p:nvPr/>
          </p:nvSpPr>
          <p:spPr>
            <a:xfrm>
              <a:off x="1714680" y="1506600"/>
              <a:ext cx="1009440" cy="31284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Rectangle 11"/>
            <p:cNvSpPr/>
            <p:nvPr/>
          </p:nvSpPr>
          <p:spPr>
            <a:xfrm>
              <a:off x="1747080" y="1562400"/>
              <a:ext cx="943920" cy="202320"/>
            </a:xfrm>
            <a:prstGeom prst="rect">
              <a:avLst/>
            </a:prstGeom>
            <a:solidFill>
              <a:srgbClr val="5382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41760" tIns="17280" bIns="17280" anchor="ctr">
              <a:spAutoFit/>
            </a:bodyPr>
            <a:p>
              <a:pPr marL="6480"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Launch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9" name="Line 12"/>
          <p:cNvSpPr/>
          <p:nvPr/>
        </p:nvSpPr>
        <p:spPr>
          <a:xfrm>
            <a:off x="2144880" y="1819440"/>
            <a:ext cx="0" cy="2406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Line 13"/>
          <p:cNvSpPr/>
          <p:nvPr/>
        </p:nvSpPr>
        <p:spPr>
          <a:xfrm flipV="1">
            <a:off x="697680" y="2408400"/>
            <a:ext cx="139860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14"/>
          <p:cNvSpPr/>
          <p:nvPr/>
        </p:nvSpPr>
        <p:spPr>
          <a:xfrm>
            <a:off x="936720" y="2182680"/>
            <a:ext cx="77472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0" anchor="t">
            <a:noAutofit/>
          </a:bodyPr>
          <a:p>
            <a:pPr marL="27000"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Line 15"/>
          <p:cNvSpPr/>
          <p:nvPr/>
        </p:nvSpPr>
        <p:spPr>
          <a:xfrm flipH="1">
            <a:off x="696600" y="4122720"/>
            <a:ext cx="1376280" cy="1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16"/>
          <p:cNvSpPr/>
          <p:nvPr/>
        </p:nvSpPr>
        <p:spPr>
          <a:xfrm>
            <a:off x="885960" y="3867120"/>
            <a:ext cx="1114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0" anchor="t">
            <a:noAutofit/>
          </a:bodyPr>
          <a:p>
            <a:pPr marL="27000"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ob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Group 17"/>
          <p:cNvGrpSpPr/>
          <p:nvPr/>
        </p:nvGrpSpPr>
        <p:grpSpPr>
          <a:xfrm>
            <a:off x="3276720" y="1506600"/>
            <a:ext cx="1085760" cy="312840"/>
            <a:chOff x="3276720" y="1506600"/>
            <a:chExt cx="1085760" cy="312840"/>
          </a:xfrm>
        </p:grpSpPr>
        <p:sp>
          <p:nvSpPr>
            <p:cNvPr id="745" name="Rectangle 18"/>
            <p:cNvSpPr/>
            <p:nvPr/>
          </p:nvSpPr>
          <p:spPr>
            <a:xfrm>
              <a:off x="3276720" y="1506600"/>
              <a:ext cx="1085760" cy="31284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Rectangle 19"/>
            <p:cNvSpPr/>
            <p:nvPr/>
          </p:nvSpPr>
          <p:spPr>
            <a:xfrm>
              <a:off x="3661560" y="1562400"/>
              <a:ext cx="314640" cy="202320"/>
            </a:xfrm>
            <a:prstGeom prst="rect">
              <a:avLst/>
            </a:prstGeom>
            <a:solidFill>
              <a:srgbClr val="5382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41760" tIns="17280" bIns="17280" anchor="ctr">
              <a:spAutoFit/>
            </a:bodyPr>
            <a:p>
              <a:pPr marL="6480"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7" name="Line 20"/>
          <p:cNvSpPr/>
          <p:nvPr/>
        </p:nvSpPr>
        <p:spPr>
          <a:xfrm>
            <a:off x="3757680" y="1819440"/>
            <a:ext cx="0" cy="2406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21"/>
          <p:cNvSpPr/>
          <p:nvPr/>
        </p:nvSpPr>
        <p:spPr>
          <a:xfrm flipV="1">
            <a:off x="2241000" y="2563920"/>
            <a:ext cx="144612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22"/>
          <p:cNvSpPr/>
          <p:nvPr/>
        </p:nvSpPr>
        <p:spPr>
          <a:xfrm>
            <a:off x="2509920" y="2340000"/>
            <a:ext cx="93348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0" anchor="t">
            <a:noAutofit/>
          </a:bodyPr>
          <a:p>
            <a:pPr marL="27000"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ecute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23"/>
          <p:cNvSpPr/>
          <p:nvPr/>
        </p:nvSpPr>
        <p:spPr>
          <a:xfrm>
            <a:off x="2068560" y="2390760"/>
            <a:ext cx="173160" cy="173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24"/>
          <p:cNvSpPr/>
          <p:nvPr/>
        </p:nvSpPr>
        <p:spPr>
          <a:xfrm>
            <a:off x="3832200" y="30481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2" name="Group 25"/>
          <p:cNvGrpSpPr/>
          <p:nvPr/>
        </p:nvGrpSpPr>
        <p:grpSpPr>
          <a:xfrm>
            <a:off x="4910040" y="1506600"/>
            <a:ext cx="849240" cy="312840"/>
            <a:chOff x="4910040" y="1506600"/>
            <a:chExt cx="849240" cy="312840"/>
          </a:xfrm>
        </p:grpSpPr>
        <p:sp>
          <p:nvSpPr>
            <p:cNvPr id="753" name="Rectangle 26"/>
            <p:cNvSpPr/>
            <p:nvPr/>
          </p:nvSpPr>
          <p:spPr>
            <a:xfrm>
              <a:off x="4910040" y="1506600"/>
              <a:ext cx="849240" cy="312840"/>
            </a:xfrm>
            <a:prstGeom prst="rect">
              <a:avLst/>
            </a:prstGeom>
            <a:solidFill>
              <a:srgbClr val="66b13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Rectangle 27"/>
            <p:cNvSpPr/>
            <p:nvPr/>
          </p:nvSpPr>
          <p:spPr>
            <a:xfrm>
              <a:off x="5045760" y="1576800"/>
              <a:ext cx="576720" cy="172080"/>
            </a:xfrm>
            <a:prstGeom prst="rect">
              <a:avLst/>
            </a:prstGeom>
            <a:solidFill>
              <a:srgbClr val="66b1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41760" tIns="17280" bIns="17280" anchor="ctr">
              <a:spAutoFit/>
            </a:bodyPr>
            <a:p>
              <a:pPr marL="6480"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Busines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5" name="Line 28"/>
          <p:cNvSpPr/>
          <p:nvPr/>
        </p:nvSpPr>
        <p:spPr>
          <a:xfrm flipH="1">
            <a:off x="5277960" y="1817640"/>
            <a:ext cx="9720" cy="2506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Line 29"/>
          <p:cNvSpPr/>
          <p:nvPr/>
        </p:nvSpPr>
        <p:spPr>
          <a:xfrm flipH="1">
            <a:off x="2265480" y="3684600"/>
            <a:ext cx="13968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30"/>
          <p:cNvSpPr/>
          <p:nvPr/>
        </p:nvSpPr>
        <p:spPr>
          <a:xfrm>
            <a:off x="2557440" y="3440160"/>
            <a:ext cx="95076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0" anchor="t">
            <a:noAutofit/>
          </a:bodyPr>
          <a:p>
            <a:pPr marL="27000"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tSta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31"/>
          <p:cNvSpPr/>
          <p:nvPr/>
        </p:nvSpPr>
        <p:spPr>
          <a:xfrm flipH="1" flipV="1">
            <a:off x="3831840" y="3586320"/>
            <a:ext cx="1468440" cy="1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32"/>
          <p:cNvSpPr/>
          <p:nvPr/>
        </p:nvSpPr>
        <p:spPr>
          <a:xfrm>
            <a:off x="3662280" y="2556000"/>
            <a:ext cx="169920" cy="11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33"/>
          <p:cNvSpPr/>
          <p:nvPr/>
        </p:nvSpPr>
        <p:spPr>
          <a:xfrm>
            <a:off x="5203800" y="3048120"/>
            <a:ext cx="169920" cy="538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Group 34"/>
          <p:cNvGrpSpPr/>
          <p:nvPr/>
        </p:nvGrpSpPr>
        <p:grpSpPr>
          <a:xfrm>
            <a:off x="314280" y="1504800"/>
            <a:ext cx="847800" cy="311400"/>
            <a:chOff x="314280" y="1504800"/>
            <a:chExt cx="847800" cy="311400"/>
          </a:xfrm>
        </p:grpSpPr>
        <p:sp>
          <p:nvSpPr>
            <p:cNvPr id="762" name="Rectangle 35"/>
            <p:cNvSpPr/>
            <p:nvPr/>
          </p:nvSpPr>
          <p:spPr>
            <a:xfrm>
              <a:off x="314280" y="1504800"/>
              <a:ext cx="847800" cy="311400"/>
            </a:xfrm>
            <a:prstGeom prst="rect">
              <a:avLst/>
            </a:prstGeom>
            <a:solidFill>
              <a:srgbClr val="66b13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Rectangle 36"/>
            <p:cNvSpPr/>
            <p:nvPr/>
          </p:nvSpPr>
          <p:spPr>
            <a:xfrm>
              <a:off x="544680" y="1574280"/>
              <a:ext cx="384840" cy="172080"/>
            </a:xfrm>
            <a:prstGeom prst="rect">
              <a:avLst/>
            </a:prstGeom>
            <a:solidFill>
              <a:srgbClr val="66b1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41760" tIns="17280" bIns="17280" anchor="ctr">
              <a:spAutoFit/>
            </a:bodyPr>
            <a:p>
              <a:pPr marL="6480"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lien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4" name="Line 37"/>
          <p:cNvSpPr/>
          <p:nvPr/>
        </p:nvSpPr>
        <p:spPr>
          <a:xfrm>
            <a:off x="698400" y="1819440"/>
            <a:ext cx="1800" cy="2406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38"/>
          <p:cNvSpPr/>
          <p:nvPr/>
        </p:nvSpPr>
        <p:spPr>
          <a:xfrm>
            <a:off x="2779200" y="4046040"/>
            <a:ext cx="2391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360" tIns="0" bIns="0" anchor="ctr">
            <a:spAutoFit/>
          </a:bodyPr>
          <a:p>
            <a:pPr marL="27000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1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With ExitStatus.FINISHED or FAIL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39"/>
          <p:cNvSpPr/>
          <p:nvPr/>
        </p:nvSpPr>
        <p:spPr>
          <a:xfrm flipH="1" flipV="1">
            <a:off x="1903320" y="4010040"/>
            <a:ext cx="819360" cy="14760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212F24DE-E5DC-4F38-A64E-6DDE6E9C6E9C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8" name="Picture 5" descr=""/>
          <p:cNvPicPr/>
          <p:nvPr/>
        </p:nvPicPr>
        <p:blipFill>
          <a:blip r:embed="rId1"/>
          <a:stretch/>
        </p:blipFill>
        <p:spPr>
          <a:xfrm>
            <a:off x="147600" y="743040"/>
            <a:ext cx="1243080" cy="395280"/>
          </a:xfrm>
          <a:prstGeom prst="rect">
            <a:avLst/>
          </a:prstGeom>
          <a:ln w="0">
            <a:noFill/>
          </a:ln>
        </p:spPr>
      </p:pic>
      <p:grpSp>
        <p:nvGrpSpPr>
          <p:cNvPr id="769" name="Group 9"/>
          <p:cNvGrpSpPr/>
          <p:nvPr/>
        </p:nvGrpSpPr>
        <p:grpSpPr>
          <a:xfrm>
            <a:off x="1714680" y="1506600"/>
            <a:ext cx="1009440" cy="312840"/>
            <a:chOff x="1714680" y="1506600"/>
            <a:chExt cx="1009440" cy="312840"/>
          </a:xfrm>
        </p:grpSpPr>
        <p:sp>
          <p:nvSpPr>
            <p:cNvPr id="770" name="Rectangle 10"/>
            <p:cNvSpPr/>
            <p:nvPr/>
          </p:nvSpPr>
          <p:spPr>
            <a:xfrm>
              <a:off x="1714680" y="1506600"/>
              <a:ext cx="1009440" cy="31284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Rectangle 11"/>
            <p:cNvSpPr/>
            <p:nvPr/>
          </p:nvSpPr>
          <p:spPr>
            <a:xfrm>
              <a:off x="1747080" y="1562400"/>
              <a:ext cx="943920" cy="202320"/>
            </a:xfrm>
            <a:prstGeom prst="rect">
              <a:avLst/>
            </a:prstGeom>
            <a:solidFill>
              <a:srgbClr val="5382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41760" tIns="17280" bIns="17280" anchor="ctr">
              <a:spAutoFit/>
            </a:bodyPr>
            <a:p>
              <a:pPr marL="6480"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Launch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2" name="Line 12"/>
          <p:cNvSpPr/>
          <p:nvPr/>
        </p:nvSpPr>
        <p:spPr>
          <a:xfrm>
            <a:off x="2144880" y="1819440"/>
            <a:ext cx="0" cy="2406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Line 13"/>
          <p:cNvSpPr/>
          <p:nvPr/>
        </p:nvSpPr>
        <p:spPr>
          <a:xfrm flipV="1">
            <a:off x="697680" y="2408400"/>
            <a:ext cx="139860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14"/>
          <p:cNvSpPr/>
          <p:nvPr/>
        </p:nvSpPr>
        <p:spPr>
          <a:xfrm>
            <a:off x="936720" y="2182680"/>
            <a:ext cx="77472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0" anchor="t">
            <a:noAutofit/>
          </a:bodyPr>
          <a:p>
            <a:pPr marL="27000"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Line 15"/>
          <p:cNvSpPr/>
          <p:nvPr/>
        </p:nvSpPr>
        <p:spPr>
          <a:xfrm flipH="1">
            <a:off x="696600" y="4122720"/>
            <a:ext cx="1376280" cy="1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16"/>
          <p:cNvSpPr/>
          <p:nvPr/>
        </p:nvSpPr>
        <p:spPr>
          <a:xfrm>
            <a:off x="885960" y="3867120"/>
            <a:ext cx="1114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0" anchor="t">
            <a:noAutofit/>
          </a:bodyPr>
          <a:p>
            <a:pPr marL="27000"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ob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7" name="Group 17"/>
          <p:cNvGrpSpPr/>
          <p:nvPr/>
        </p:nvGrpSpPr>
        <p:grpSpPr>
          <a:xfrm>
            <a:off x="3276720" y="1506600"/>
            <a:ext cx="1085760" cy="312840"/>
            <a:chOff x="3276720" y="1506600"/>
            <a:chExt cx="1085760" cy="312840"/>
          </a:xfrm>
        </p:grpSpPr>
        <p:sp>
          <p:nvSpPr>
            <p:cNvPr id="778" name="Rectangle 18"/>
            <p:cNvSpPr/>
            <p:nvPr/>
          </p:nvSpPr>
          <p:spPr>
            <a:xfrm>
              <a:off x="3276720" y="1506600"/>
              <a:ext cx="1085760" cy="31284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Rectangle 19"/>
            <p:cNvSpPr/>
            <p:nvPr/>
          </p:nvSpPr>
          <p:spPr>
            <a:xfrm>
              <a:off x="3362040" y="1562400"/>
              <a:ext cx="913680" cy="202320"/>
            </a:xfrm>
            <a:prstGeom prst="rect">
              <a:avLst/>
            </a:prstGeom>
            <a:solidFill>
              <a:srgbClr val="5382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41760" tIns="17280" bIns="17280" anchor="ctr">
              <a:spAutoFit/>
            </a:bodyPr>
            <a:p>
              <a:pPr marL="6480"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Executo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0" name="Line 20"/>
          <p:cNvSpPr/>
          <p:nvPr/>
        </p:nvSpPr>
        <p:spPr>
          <a:xfrm>
            <a:off x="3757680" y="1819440"/>
            <a:ext cx="0" cy="2406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Line 21"/>
          <p:cNvSpPr/>
          <p:nvPr/>
        </p:nvSpPr>
        <p:spPr>
          <a:xfrm flipV="1">
            <a:off x="2241000" y="2563920"/>
            <a:ext cx="144612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22"/>
          <p:cNvSpPr/>
          <p:nvPr/>
        </p:nvSpPr>
        <p:spPr>
          <a:xfrm>
            <a:off x="2509920" y="2340000"/>
            <a:ext cx="93348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0" anchor="t">
            <a:noAutofit/>
          </a:bodyPr>
          <a:p>
            <a:pPr marL="27000"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ecute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23"/>
          <p:cNvSpPr/>
          <p:nvPr/>
        </p:nvSpPr>
        <p:spPr>
          <a:xfrm>
            <a:off x="2068560" y="2390760"/>
            <a:ext cx="173160" cy="173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Line 24"/>
          <p:cNvSpPr/>
          <p:nvPr/>
        </p:nvSpPr>
        <p:spPr>
          <a:xfrm>
            <a:off x="3832200" y="30481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Group 25"/>
          <p:cNvGrpSpPr/>
          <p:nvPr/>
        </p:nvGrpSpPr>
        <p:grpSpPr>
          <a:xfrm>
            <a:off x="4910040" y="1506600"/>
            <a:ext cx="849240" cy="312840"/>
            <a:chOff x="4910040" y="1506600"/>
            <a:chExt cx="849240" cy="312840"/>
          </a:xfrm>
        </p:grpSpPr>
        <p:sp>
          <p:nvSpPr>
            <p:cNvPr id="786" name="Rectangle 26"/>
            <p:cNvSpPr/>
            <p:nvPr/>
          </p:nvSpPr>
          <p:spPr>
            <a:xfrm>
              <a:off x="4910040" y="1506600"/>
              <a:ext cx="849240" cy="312840"/>
            </a:xfrm>
            <a:prstGeom prst="rect">
              <a:avLst/>
            </a:prstGeom>
            <a:solidFill>
              <a:srgbClr val="66b13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Rectangle 27"/>
            <p:cNvSpPr/>
            <p:nvPr/>
          </p:nvSpPr>
          <p:spPr>
            <a:xfrm>
              <a:off x="5045760" y="1576800"/>
              <a:ext cx="576720" cy="172080"/>
            </a:xfrm>
            <a:prstGeom prst="rect">
              <a:avLst/>
            </a:prstGeom>
            <a:solidFill>
              <a:srgbClr val="66b1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41760" tIns="17280" bIns="17280" anchor="ctr">
              <a:spAutoFit/>
            </a:bodyPr>
            <a:p>
              <a:pPr marL="6480"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Busines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8" name="Line 28"/>
          <p:cNvSpPr/>
          <p:nvPr/>
        </p:nvSpPr>
        <p:spPr>
          <a:xfrm flipH="1">
            <a:off x="5277960" y="1817640"/>
            <a:ext cx="9720" cy="2506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29"/>
          <p:cNvSpPr/>
          <p:nvPr/>
        </p:nvSpPr>
        <p:spPr>
          <a:xfrm flipH="1">
            <a:off x="2265480" y="3684600"/>
            <a:ext cx="13968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Rectangle 30"/>
          <p:cNvSpPr/>
          <p:nvPr/>
        </p:nvSpPr>
        <p:spPr>
          <a:xfrm>
            <a:off x="2557440" y="3440160"/>
            <a:ext cx="95076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0" anchor="t">
            <a:noAutofit/>
          </a:bodyPr>
          <a:p>
            <a:pPr marL="27000"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tSta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31"/>
          <p:cNvSpPr/>
          <p:nvPr/>
        </p:nvSpPr>
        <p:spPr>
          <a:xfrm flipH="1" flipV="1">
            <a:off x="3831840" y="3586320"/>
            <a:ext cx="1468440" cy="1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32"/>
          <p:cNvSpPr/>
          <p:nvPr/>
        </p:nvSpPr>
        <p:spPr>
          <a:xfrm>
            <a:off x="3662280" y="2556000"/>
            <a:ext cx="169920" cy="11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33"/>
          <p:cNvSpPr/>
          <p:nvPr/>
        </p:nvSpPr>
        <p:spPr>
          <a:xfrm>
            <a:off x="5203800" y="3048120"/>
            <a:ext cx="169920" cy="538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4" name="Group 34"/>
          <p:cNvGrpSpPr/>
          <p:nvPr/>
        </p:nvGrpSpPr>
        <p:grpSpPr>
          <a:xfrm>
            <a:off x="314280" y="1504800"/>
            <a:ext cx="847800" cy="311400"/>
            <a:chOff x="314280" y="1504800"/>
            <a:chExt cx="847800" cy="311400"/>
          </a:xfrm>
        </p:grpSpPr>
        <p:sp>
          <p:nvSpPr>
            <p:cNvPr id="795" name="Rectangle 35"/>
            <p:cNvSpPr/>
            <p:nvPr/>
          </p:nvSpPr>
          <p:spPr>
            <a:xfrm>
              <a:off x="314280" y="1504800"/>
              <a:ext cx="847800" cy="311400"/>
            </a:xfrm>
            <a:prstGeom prst="rect">
              <a:avLst/>
            </a:prstGeom>
            <a:solidFill>
              <a:srgbClr val="66b13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Rectangle 36"/>
            <p:cNvSpPr/>
            <p:nvPr/>
          </p:nvSpPr>
          <p:spPr>
            <a:xfrm>
              <a:off x="544680" y="1574280"/>
              <a:ext cx="384840" cy="172080"/>
            </a:xfrm>
            <a:prstGeom prst="rect">
              <a:avLst/>
            </a:prstGeom>
            <a:solidFill>
              <a:srgbClr val="66b1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41760" tIns="17280" bIns="17280" anchor="ctr">
              <a:spAutoFit/>
            </a:bodyPr>
            <a:p>
              <a:pPr marL="6480"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lien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7" name="Line 37"/>
          <p:cNvSpPr/>
          <p:nvPr/>
        </p:nvSpPr>
        <p:spPr>
          <a:xfrm>
            <a:off x="698400" y="1819440"/>
            <a:ext cx="1800" cy="2406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8" name="Picture 38" descr=""/>
          <p:cNvPicPr/>
          <p:nvPr/>
        </p:nvPicPr>
        <p:blipFill>
          <a:blip r:embed="rId2"/>
          <a:stretch/>
        </p:blipFill>
        <p:spPr>
          <a:xfrm>
            <a:off x="1951200" y="2832120"/>
            <a:ext cx="434880" cy="442800"/>
          </a:xfrm>
          <a:prstGeom prst="rect">
            <a:avLst/>
          </a:prstGeom>
          <a:ln w="0">
            <a:noFill/>
          </a:ln>
        </p:spPr>
      </p:pic>
      <p:sp>
        <p:nvSpPr>
          <p:cNvPr id="799" name="Line 39"/>
          <p:cNvSpPr/>
          <p:nvPr/>
        </p:nvSpPr>
        <p:spPr>
          <a:xfrm>
            <a:off x="719280" y="3371760"/>
            <a:ext cx="1349280" cy="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Rectangle 40"/>
          <p:cNvSpPr/>
          <p:nvPr/>
        </p:nvSpPr>
        <p:spPr>
          <a:xfrm>
            <a:off x="936720" y="3127320"/>
            <a:ext cx="77472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0" anchor="t">
            <a:noAutofit/>
          </a:bodyPr>
          <a:p>
            <a:pPr marL="27000"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op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AutoShape 41"/>
          <p:cNvSpPr/>
          <p:nvPr/>
        </p:nvSpPr>
        <p:spPr>
          <a:xfrm>
            <a:off x="458640" y="3078000"/>
            <a:ext cx="530280" cy="588960"/>
          </a:xfrm>
          <a:prstGeom prst="pie">
            <a:avLst/>
          </a:prstGeom>
          <a:solidFill>
            <a:srgbClr val="ffc7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339920" y="593640"/>
            <a:ext cx="2262240" cy="292320"/>
          </a:xfrm>
          <a:prstGeom prst="rect">
            <a:avLst/>
          </a:prstGeom>
          <a:solidFill>
            <a:srgbClr val="f0ec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S Gothic"/>
              </a:rPr>
              <a:t>TransactionSynchronizationManag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75000" y="88884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414440" y="1920960"/>
            <a:ext cx="963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61960" y="1665360"/>
            <a:ext cx="965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ster(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33560" y="988920"/>
            <a:ext cx="1665360" cy="341280"/>
          </a:xfrm>
          <a:prstGeom prst="rect">
            <a:avLst/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S Gothic"/>
              </a:rPr>
              <a:t>TransactionSynchroniz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678120" y="1301760"/>
            <a:ext cx="0" cy="2406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679920" y="2019240"/>
            <a:ext cx="1349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1773360"/>
            <a:ext cx="938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398680" y="1873080"/>
            <a:ext cx="173160" cy="19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98600" y="3395520"/>
            <a:ext cx="3084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8600" y="3149640"/>
            <a:ext cx="771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back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50760" y="987480"/>
            <a:ext cx="849600" cy="311040"/>
          </a:xfrm>
          <a:prstGeom prst="rect">
            <a:avLst/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S Gothic"/>
              </a:rPr>
              <a:t>Wri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35240" y="1301760"/>
            <a:ext cx="0" cy="2406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116680" y="1298520"/>
            <a:ext cx="9360" cy="23907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029200" y="2019240"/>
            <a:ext cx="193680" cy="196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07960" y="2019240"/>
            <a:ext cx="295560" cy="825480"/>
          </a:xfrm>
          <a:custGeom>
            <a:avLst/>
            <a:gdLst/>
            <a:ahLst/>
            <a:rect l="l" t="t" r="r" b="b"/>
            <a:pathLst>
              <a:path w="127" h="206">
                <a:moveTo>
                  <a:pt x="0" y="0"/>
                </a:moveTo>
                <a:lnTo>
                  <a:pt x="127" y="0"/>
                </a:lnTo>
                <a:lnTo>
                  <a:pt x="127" y="205"/>
                </a:lnTo>
                <a:lnTo>
                  <a:pt x="6" y="206"/>
                </a:ln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7400" y="1625760"/>
            <a:ext cx="579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8680" y="1380960"/>
            <a:ext cx="100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(ite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22200" y="1625760"/>
            <a:ext cx="182880" cy="1506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407960" y="2952720"/>
            <a:ext cx="295560" cy="196920"/>
          </a:xfrm>
          <a:custGeom>
            <a:avLst/>
            <a:gdLst/>
            <a:ahLst/>
            <a:rect l="l" t="t" r="r" b="b"/>
            <a:pathLst>
              <a:path w="127" h="206">
                <a:moveTo>
                  <a:pt x="0" y="0"/>
                </a:moveTo>
                <a:lnTo>
                  <a:pt x="127" y="0"/>
                </a:lnTo>
                <a:lnTo>
                  <a:pt x="127" y="205"/>
                </a:lnTo>
                <a:lnTo>
                  <a:pt x="6" y="206"/>
                </a:ln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83080" y="1920960"/>
            <a:ext cx="193680" cy="295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71840" y="1920960"/>
            <a:ext cx="101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49520" y="1670040"/>
            <a:ext cx="938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22200" y="2854440"/>
            <a:ext cx="1109880" cy="371520"/>
          </a:xfrm>
          <a:prstGeom prst="irregularSeal1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92600" y="987480"/>
            <a:ext cx="849240" cy="311040"/>
          </a:xfrm>
          <a:prstGeom prst="rect">
            <a:avLst/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S Gothic"/>
              </a:rPr>
              <a:t>FileResour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79920" y="3487680"/>
            <a:ext cx="1349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57600" y="3243240"/>
            <a:ext cx="938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e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29200" y="3444840"/>
            <a:ext cx="193680" cy="196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86320" y="3395520"/>
            <a:ext cx="190440" cy="244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4899E6E9-30A1-4FBF-AB70-4666FDD6BF09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3" name="Group 9"/>
          <p:cNvGrpSpPr/>
          <p:nvPr/>
        </p:nvGrpSpPr>
        <p:grpSpPr>
          <a:xfrm>
            <a:off x="1714680" y="1506600"/>
            <a:ext cx="1009440" cy="312840"/>
            <a:chOff x="1714680" y="1506600"/>
            <a:chExt cx="1009440" cy="312840"/>
          </a:xfrm>
        </p:grpSpPr>
        <p:sp>
          <p:nvSpPr>
            <p:cNvPr id="804" name="Rectangle 10"/>
            <p:cNvSpPr/>
            <p:nvPr/>
          </p:nvSpPr>
          <p:spPr>
            <a:xfrm>
              <a:off x="1714680" y="1506600"/>
              <a:ext cx="1009440" cy="31284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Rectangle 11"/>
            <p:cNvSpPr/>
            <p:nvPr/>
          </p:nvSpPr>
          <p:spPr>
            <a:xfrm>
              <a:off x="1747080" y="1562400"/>
              <a:ext cx="943920" cy="202320"/>
            </a:xfrm>
            <a:prstGeom prst="rect">
              <a:avLst/>
            </a:prstGeom>
            <a:solidFill>
              <a:srgbClr val="5382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41760" tIns="17280" bIns="17280" anchor="ctr">
              <a:spAutoFit/>
            </a:bodyPr>
            <a:p>
              <a:pPr marL="6480"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Launch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6" name="Line 12"/>
          <p:cNvSpPr/>
          <p:nvPr/>
        </p:nvSpPr>
        <p:spPr>
          <a:xfrm>
            <a:off x="2144880" y="1819440"/>
            <a:ext cx="0" cy="2406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Line 13"/>
          <p:cNvSpPr/>
          <p:nvPr/>
        </p:nvSpPr>
        <p:spPr>
          <a:xfrm flipH="1" flipV="1">
            <a:off x="795240" y="2577600"/>
            <a:ext cx="1252800" cy="1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14"/>
          <p:cNvSpPr/>
          <p:nvPr/>
        </p:nvSpPr>
        <p:spPr>
          <a:xfrm>
            <a:off x="938160" y="2332080"/>
            <a:ext cx="10638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0" anchor="t">
            <a:noAutofit/>
          </a:bodyPr>
          <a:p>
            <a:pPr marL="27000"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ob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9" name="Group 15"/>
          <p:cNvGrpSpPr/>
          <p:nvPr/>
        </p:nvGrpSpPr>
        <p:grpSpPr>
          <a:xfrm>
            <a:off x="3276720" y="1506600"/>
            <a:ext cx="1085760" cy="312840"/>
            <a:chOff x="3276720" y="1506600"/>
            <a:chExt cx="1085760" cy="312840"/>
          </a:xfrm>
        </p:grpSpPr>
        <p:sp>
          <p:nvSpPr>
            <p:cNvPr id="810" name="Rectangle 16"/>
            <p:cNvSpPr/>
            <p:nvPr/>
          </p:nvSpPr>
          <p:spPr>
            <a:xfrm>
              <a:off x="3276720" y="1506600"/>
              <a:ext cx="1085760" cy="31284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Rectangle 17"/>
            <p:cNvSpPr/>
            <p:nvPr/>
          </p:nvSpPr>
          <p:spPr>
            <a:xfrm>
              <a:off x="3661560" y="1562400"/>
              <a:ext cx="314640" cy="202320"/>
            </a:xfrm>
            <a:prstGeom prst="rect">
              <a:avLst/>
            </a:prstGeom>
            <a:solidFill>
              <a:srgbClr val="5382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41760" tIns="17280" bIns="17280" anchor="ctr">
              <a:spAutoFit/>
            </a:bodyPr>
            <a:p>
              <a:pPr marL="6480"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2" name="Line 18"/>
          <p:cNvSpPr/>
          <p:nvPr/>
        </p:nvSpPr>
        <p:spPr>
          <a:xfrm>
            <a:off x="3757680" y="1819440"/>
            <a:ext cx="0" cy="2406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Line 19"/>
          <p:cNvSpPr/>
          <p:nvPr/>
        </p:nvSpPr>
        <p:spPr>
          <a:xfrm flipV="1">
            <a:off x="2241000" y="3373560"/>
            <a:ext cx="144612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20"/>
          <p:cNvSpPr/>
          <p:nvPr/>
        </p:nvSpPr>
        <p:spPr>
          <a:xfrm>
            <a:off x="2509920" y="3147840"/>
            <a:ext cx="93348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0" anchor="t">
            <a:noAutofit/>
          </a:bodyPr>
          <a:p>
            <a:pPr marL="27000"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ecute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ectangle 21"/>
          <p:cNvSpPr/>
          <p:nvPr/>
        </p:nvSpPr>
        <p:spPr>
          <a:xfrm>
            <a:off x="2048040" y="2192400"/>
            <a:ext cx="193680" cy="393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Line 22"/>
          <p:cNvSpPr/>
          <p:nvPr/>
        </p:nvSpPr>
        <p:spPr>
          <a:xfrm flipV="1">
            <a:off x="3832200" y="3467160"/>
            <a:ext cx="137160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7" name="Group 23"/>
          <p:cNvGrpSpPr/>
          <p:nvPr/>
        </p:nvGrpSpPr>
        <p:grpSpPr>
          <a:xfrm>
            <a:off x="4910040" y="1506600"/>
            <a:ext cx="849240" cy="312840"/>
            <a:chOff x="4910040" y="1506600"/>
            <a:chExt cx="849240" cy="312840"/>
          </a:xfrm>
        </p:grpSpPr>
        <p:sp>
          <p:nvSpPr>
            <p:cNvPr id="818" name="Rectangle 24"/>
            <p:cNvSpPr/>
            <p:nvPr/>
          </p:nvSpPr>
          <p:spPr>
            <a:xfrm>
              <a:off x="4910040" y="1506600"/>
              <a:ext cx="849240" cy="312840"/>
            </a:xfrm>
            <a:prstGeom prst="rect">
              <a:avLst/>
            </a:prstGeom>
            <a:solidFill>
              <a:srgbClr val="66b13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Rectangle 25"/>
            <p:cNvSpPr/>
            <p:nvPr/>
          </p:nvSpPr>
          <p:spPr>
            <a:xfrm>
              <a:off x="5045760" y="1576800"/>
              <a:ext cx="576720" cy="172080"/>
            </a:xfrm>
            <a:prstGeom prst="rect">
              <a:avLst/>
            </a:prstGeom>
            <a:solidFill>
              <a:srgbClr val="66b1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41760" tIns="17280" bIns="17280" anchor="ctr">
              <a:spAutoFit/>
            </a:bodyPr>
            <a:p>
              <a:pPr marL="6480"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Busines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0" name="Line 26"/>
          <p:cNvSpPr/>
          <p:nvPr/>
        </p:nvSpPr>
        <p:spPr>
          <a:xfrm flipH="1">
            <a:off x="5277960" y="1817640"/>
            <a:ext cx="9720" cy="2506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Line 27"/>
          <p:cNvSpPr/>
          <p:nvPr/>
        </p:nvSpPr>
        <p:spPr>
          <a:xfrm flipH="1" flipV="1">
            <a:off x="2265480" y="4103280"/>
            <a:ext cx="1396800" cy="1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28"/>
          <p:cNvSpPr/>
          <p:nvPr/>
        </p:nvSpPr>
        <p:spPr>
          <a:xfrm>
            <a:off x="2557440" y="3859200"/>
            <a:ext cx="95076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0" anchor="t">
            <a:noAutofit/>
          </a:bodyPr>
          <a:p>
            <a:pPr marL="27000"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tSta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Line 29"/>
          <p:cNvSpPr/>
          <p:nvPr/>
        </p:nvSpPr>
        <p:spPr>
          <a:xfrm flipH="1" flipV="1">
            <a:off x="3831840" y="4005360"/>
            <a:ext cx="1468440" cy="1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30"/>
          <p:cNvSpPr/>
          <p:nvPr/>
        </p:nvSpPr>
        <p:spPr>
          <a:xfrm>
            <a:off x="3662280" y="3371760"/>
            <a:ext cx="169920" cy="733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31"/>
          <p:cNvSpPr/>
          <p:nvPr/>
        </p:nvSpPr>
        <p:spPr>
          <a:xfrm>
            <a:off x="5203800" y="3467160"/>
            <a:ext cx="169920" cy="538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6" name="Group 32"/>
          <p:cNvGrpSpPr/>
          <p:nvPr/>
        </p:nvGrpSpPr>
        <p:grpSpPr>
          <a:xfrm>
            <a:off x="314280" y="1504800"/>
            <a:ext cx="847800" cy="311400"/>
            <a:chOff x="314280" y="1504800"/>
            <a:chExt cx="847800" cy="311400"/>
          </a:xfrm>
        </p:grpSpPr>
        <p:sp>
          <p:nvSpPr>
            <p:cNvPr id="827" name="Rectangle 33"/>
            <p:cNvSpPr/>
            <p:nvPr/>
          </p:nvSpPr>
          <p:spPr>
            <a:xfrm>
              <a:off x="314280" y="1504800"/>
              <a:ext cx="847800" cy="311400"/>
            </a:xfrm>
            <a:prstGeom prst="rect">
              <a:avLst/>
            </a:prstGeom>
            <a:solidFill>
              <a:srgbClr val="66b13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Rectangle 34"/>
            <p:cNvSpPr/>
            <p:nvPr/>
          </p:nvSpPr>
          <p:spPr>
            <a:xfrm>
              <a:off x="544680" y="1574280"/>
              <a:ext cx="384840" cy="172080"/>
            </a:xfrm>
            <a:prstGeom prst="rect">
              <a:avLst/>
            </a:prstGeom>
            <a:solidFill>
              <a:srgbClr val="66b1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41760" tIns="17280" bIns="17280" anchor="ctr">
              <a:spAutoFit/>
            </a:bodyPr>
            <a:p>
              <a:pPr marL="6480"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lien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9" name="Line 35"/>
          <p:cNvSpPr/>
          <p:nvPr/>
        </p:nvSpPr>
        <p:spPr>
          <a:xfrm>
            <a:off x="698400" y="1819440"/>
            <a:ext cx="1800" cy="2406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0" name="Picture 36" descr=""/>
          <p:cNvPicPr/>
          <p:nvPr/>
        </p:nvPicPr>
        <p:blipFill>
          <a:blip r:embed="rId1"/>
          <a:stretch/>
        </p:blipFill>
        <p:spPr>
          <a:xfrm>
            <a:off x="1951200" y="2832120"/>
            <a:ext cx="434880" cy="442800"/>
          </a:xfrm>
          <a:prstGeom prst="rect">
            <a:avLst/>
          </a:prstGeom>
          <a:ln w="0">
            <a:noFill/>
          </a:ln>
        </p:spPr>
      </p:pic>
      <p:sp>
        <p:nvSpPr>
          <p:cNvPr id="831" name="Rectangle 37"/>
          <p:cNvSpPr/>
          <p:nvPr/>
        </p:nvSpPr>
        <p:spPr>
          <a:xfrm>
            <a:off x="276120" y="3117600"/>
            <a:ext cx="14634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360" tIns="0" bIns="0" anchor="ctr">
            <a:spAutoFit/>
          </a:bodyPr>
          <a:p>
            <a:pPr marL="27000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1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Starts wit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7000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1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ExitStatus.UNKNOW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Line 38"/>
          <p:cNvSpPr/>
          <p:nvPr/>
        </p:nvSpPr>
        <p:spPr>
          <a:xfrm flipV="1">
            <a:off x="1036080" y="2566800"/>
            <a:ext cx="331560" cy="65700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Line 39"/>
          <p:cNvSpPr/>
          <p:nvPr/>
        </p:nvSpPr>
        <p:spPr>
          <a:xfrm>
            <a:off x="719280" y="2192400"/>
            <a:ext cx="134928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Rectangle 40"/>
          <p:cNvSpPr/>
          <p:nvPr/>
        </p:nvSpPr>
        <p:spPr>
          <a:xfrm>
            <a:off x="936720" y="1946160"/>
            <a:ext cx="77472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0" anchor="t">
            <a:noAutofit/>
          </a:bodyPr>
          <a:p>
            <a:pPr marL="27000"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41"/>
          <p:cNvSpPr/>
          <p:nvPr/>
        </p:nvSpPr>
        <p:spPr>
          <a:xfrm>
            <a:off x="601560" y="2163600"/>
            <a:ext cx="193680" cy="432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42"/>
          <p:cNvSpPr/>
          <p:nvPr/>
        </p:nvSpPr>
        <p:spPr>
          <a:xfrm>
            <a:off x="2048040" y="3371760"/>
            <a:ext cx="193680" cy="736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16000"/>
                <a:tab algn="l" pos="433440"/>
                <a:tab algn="l" pos="650880"/>
                <a:tab algn="l" pos="868320"/>
                <a:tab algn="l" pos="1084320"/>
                <a:tab algn="l" pos="1301760"/>
                <a:tab algn="l" pos="1517760"/>
                <a:tab algn="l" pos="1735200"/>
                <a:tab algn="l" pos="1952640"/>
                <a:tab algn="l" pos="2170080"/>
                <a:tab algn="l" pos="2386080"/>
                <a:tab algn="l" pos="2603520"/>
                <a:tab algn="l" pos="2819520"/>
                <a:tab algn="l" pos="3038400"/>
                <a:tab algn="l" pos="3254400"/>
                <a:tab algn="l" pos="3471840"/>
                <a:tab algn="l" pos="3687840"/>
                <a:tab algn="l" pos="3905280"/>
                <a:tab algn="l" pos="4122720"/>
                <a:tab algn="l" pos="4340160"/>
                <a:tab algn="l" pos="4465800"/>
                <a:tab algn="l" pos="4809960"/>
                <a:tab algn="l" pos="5153040"/>
                <a:tab algn="l" pos="5497560"/>
                <a:tab algn="l" pos="564192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0" lang="en-GB" sz="2000" spc="-1" strike="noStrike">
                <a:solidFill>
                  <a:srgbClr val="525252"/>
                </a:solidFill>
                <a:latin typeface="Helvetica Neue Light"/>
                <a:ea typeface="ＭＳ Ｐゴシック"/>
              </a:rPr>
              <a:t>Remote Chun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3664080" y="1898640"/>
            <a:ext cx="833400" cy="2370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3605040" y="1835280"/>
            <a:ext cx="833760" cy="23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3529080" y="1773360"/>
            <a:ext cx="833400" cy="236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1197000" y="1773360"/>
            <a:ext cx="833400" cy="236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 rot="16200000">
            <a:off x="559440" y="2865960"/>
            <a:ext cx="1781280" cy="189000"/>
          </a:xfrm>
          <a:prstGeom prst="rect">
            <a:avLst/>
          </a:prstGeom>
          <a:solidFill>
            <a:srgbClr val="ffc7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1680" bIns="31680" anchor="ctr">
            <a:noAutofit/>
          </a:bodyPr>
          <a:p>
            <a:pPr algn="ctr">
              <a:tabLst>
                <a:tab algn="l" pos="0"/>
                <a:tab algn="l" pos="307800"/>
                <a:tab algn="l" pos="617400"/>
                <a:tab algn="l" pos="925560"/>
                <a:tab algn="l" pos="1235160"/>
                <a:tab algn="l" pos="1542960"/>
                <a:tab algn="l" pos="1851120"/>
                <a:tab algn="l" pos="2160720"/>
                <a:tab algn="l" pos="2468520"/>
                <a:tab algn="l" pos="2778120"/>
                <a:tab algn="l" pos="3086280"/>
                <a:tab algn="l" pos="3394080"/>
                <a:tab algn="l" pos="3703680"/>
                <a:tab algn="l" pos="4011480"/>
                <a:tab algn="l" pos="4321080"/>
                <a:tab algn="l" pos="4629240"/>
                <a:tab algn="l" pos="4937040"/>
                <a:tab algn="l" pos="5246640"/>
                <a:tab algn="l" pos="5554800"/>
                <a:tab algn="l" pos="5864400"/>
                <a:tab algn="l" pos="6172200"/>
                <a:tab algn="l" pos="6467400"/>
                <a:tab algn="l" pos="6775560"/>
                <a:tab algn="l" pos="7083360"/>
                <a:tab algn="l" pos="7391520"/>
                <a:tab algn="l" pos="7699320"/>
                <a:tab algn="l" pos="8007480"/>
                <a:tab algn="l" pos="8315280"/>
                <a:tab algn="l" pos="8623440"/>
                <a:tab algn="l" pos="8931240"/>
                <a:tab algn="l" pos="9239400"/>
                <a:tab algn="l" pos="9547200"/>
                <a:tab algn="l" pos="9855360"/>
                <a:tab algn="l" pos="10163160"/>
                <a:tab algn="l" pos="10471320"/>
                <a:tab algn="l" pos="1077912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emR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rot="16200000">
            <a:off x="694440" y="2846880"/>
            <a:ext cx="2182680" cy="212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Gothic"/>
              </a:rPr>
              <a:t>Chunk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4" name=""/>
          <p:cNvCxnSpPr>
            <a:stCxn id="842" idx="2"/>
            <a:endCxn id="843" idx="0"/>
          </p:cNvCxnSpPr>
          <p:nvPr/>
        </p:nvCxnSpPr>
        <p:spPr>
          <a:xfrm flipV="1">
            <a:off x="1544400" y="2953440"/>
            <a:ext cx="137160" cy="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5" name=""/>
          <p:cNvCxnSpPr>
            <a:stCxn id="846" idx="4"/>
            <a:endCxn id="842" idx="0"/>
          </p:cNvCxnSpPr>
          <p:nvPr/>
        </p:nvCxnSpPr>
        <p:spPr>
          <a:xfrm>
            <a:off x="846000" y="2960280"/>
            <a:ext cx="510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7" name=""/>
          <p:cNvSpPr/>
          <p:nvPr/>
        </p:nvSpPr>
        <p:spPr>
          <a:xfrm>
            <a:off x="5006880" y="2716200"/>
            <a:ext cx="482760" cy="484200"/>
          </a:xfrm>
          <a:prstGeom prst="can">
            <a:avLst>
              <a:gd name="adj" fmla="val 25000"/>
            </a:avLst>
          </a:prstGeom>
          <a:solidFill>
            <a:srgbClr val="ed9b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8" name=""/>
          <p:cNvCxnSpPr>
            <a:stCxn id="849" idx="2"/>
            <a:endCxn id="847" idx="2"/>
          </p:cNvCxnSpPr>
          <p:nvPr/>
        </p:nvCxnSpPr>
        <p:spPr>
          <a:xfrm>
            <a:off x="4224240" y="2958840"/>
            <a:ext cx="783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0" name=""/>
          <p:cNvCxnSpPr>
            <a:stCxn id="843" idx="2"/>
            <a:endCxn id="851" idx="0"/>
          </p:cNvCxnSpPr>
          <p:nvPr/>
        </p:nvCxnSpPr>
        <p:spPr>
          <a:xfrm>
            <a:off x="1893600" y="2954160"/>
            <a:ext cx="177228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2" name=""/>
          <p:cNvSpPr/>
          <p:nvPr/>
        </p:nvSpPr>
        <p:spPr>
          <a:xfrm rot="16200000">
            <a:off x="2559600" y="2702160"/>
            <a:ext cx="195480" cy="527040"/>
          </a:xfrm>
          <a:prstGeom prst="can">
            <a:avLst>
              <a:gd name="adj" fmla="val 13342"/>
            </a:avLst>
          </a:prstGeom>
          <a:solidFill>
            <a:srgbClr val="ed9b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 anchorCtr="1" vert="eaVert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3" name=""/>
          <p:cNvCxnSpPr>
            <a:stCxn id="847" idx="3"/>
            <a:endCxn id="843" idx="1"/>
          </p:cNvCxnSpPr>
          <p:nvPr/>
        </p:nvCxnSpPr>
        <p:spPr>
          <a:xfrm rot="5400000">
            <a:off x="3094200" y="1892880"/>
            <a:ext cx="846720" cy="3461760"/>
          </a:xfrm>
          <a:prstGeom prst="bentConnector3">
            <a:avLst>
              <a:gd name="adj1" fmla="val 1367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4" name=""/>
          <p:cNvSpPr/>
          <p:nvPr/>
        </p:nvSpPr>
        <p:spPr>
          <a:xfrm rot="16200000">
            <a:off x="2642400" y="4093560"/>
            <a:ext cx="193680" cy="528480"/>
          </a:xfrm>
          <a:prstGeom prst="can">
            <a:avLst>
              <a:gd name="adj" fmla="val 13342"/>
            </a:avLst>
          </a:prstGeom>
          <a:solidFill>
            <a:srgbClr val="ed9b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 anchorCtr="1" vert="eaVert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 rot="16200000">
            <a:off x="2724840" y="2853360"/>
            <a:ext cx="2090880" cy="212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Gothic"/>
              </a:rPr>
              <a:t>ChunkProcess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 rot="16200000">
            <a:off x="3006000" y="2864160"/>
            <a:ext cx="2246040" cy="187200"/>
          </a:xfrm>
          <a:prstGeom prst="rect">
            <a:avLst/>
          </a:prstGeom>
          <a:solidFill>
            <a:srgbClr val="ffc7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1680" bIns="31680" anchor="ctr">
            <a:noAutofit/>
          </a:bodyPr>
          <a:p>
            <a:pPr algn="ctr">
              <a:tabLst>
                <a:tab algn="l" pos="0"/>
                <a:tab algn="l" pos="307800"/>
                <a:tab algn="l" pos="617400"/>
                <a:tab algn="l" pos="925560"/>
                <a:tab algn="l" pos="1235160"/>
                <a:tab algn="l" pos="1542960"/>
                <a:tab algn="l" pos="1851120"/>
                <a:tab algn="l" pos="2160720"/>
                <a:tab algn="l" pos="2468520"/>
                <a:tab algn="l" pos="2778120"/>
                <a:tab algn="l" pos="3086280"/>
                <a:tab algn="l" pos="3394080"/>
                <a:tab algn="l" pos="3703680"/>
                <a:tab algn="l" pos="4011480"/>
                <a:tab algn="l" pos="4321080"/>
                <a:tab algn="l" pos="4629240"/>
                <a:tab algn="l" pos="4937040"/>
                <a:tab algn="l" pos="5246640"/>
                <a:tab algn="l" pos="5554800"/>
                <a:tab algn="l" pos="5864400"/>
                <a:tab algn="l" pos="6172200"/>
                <a:tab algn="l" pos="6467400"/>
                <a:tab algn="l" pos="6775560"/>
                <a:tab algn="l" pos="7083360"/>
                <a:tab algn="l" pos="7391520"/>
                <a:tab algn="l" pos="7699320"/>
                <a:tab algn="l" pos="8007480"/>
                <a:tab algn="l" pos="8315280"/>
                <a:tab algn="l" pos="8623440"/>
                <a:tab algn="l" pos="8931240"/>
                <a:tab algn="l" pos="9239400"/>
                <a:tab algn="l" pos="9547200"/>
                <a:tab algn="l" pos="9855360"/>
                <a:tab algn="l" pos="10163160"/>
                <a:tab algn="l" pos="10471320"/>
                <a:tab algn="l" pos="1077912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emWr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5" name=""/>
          <p:cNvCxnSpPr>
            <a:stCxn id="851" idx="2"/>
            <a:endCxn id="849" idx="0"/>
          </p:cNvCxnSpPr>
          <p:nvPr/>
        </p:nvCxnSpPr>
        <p:spPr>
          <a:xfrm flipV="1">
            <a:off x="3877920" y="2958840"/>
            <a:ext cx="159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6" name=""/>
          <p:cNvSpPr/>
          <p:nvPr/>
        </p:nvSpPr>
        <p:spPr>
          <a:xfrm>
            <a:off x="363600" y="2717640"/>
            <a:ext cx="482400" cy="484200"/>
          </a:xfrm>
          <a:prstGeom prst="can">
            <a:avLst>
              <a:gd name="adj" fmla="val 25000"/>
            </a:avLst>
          </a:prstGeom>
          <a:solidFill>
            <a:srgbClr val="ed9b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1249920" y="1473120"/>
            <a:ext cx="808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&lt;Step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546360" y="1473120"/>
            <a:ext cx="1071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&lt;Listener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1248120" y="1160640"/>
            <a:ext cx="666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st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662280" y="1160640"/>
            <a:ext cx="574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la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16000"/>
                <a:tab algn="l" pos="433440"/>
                <a:tab algn="l" pos="650880"/>
                <a:tab algn="l" pos="868320"/>
                <a:tab algn="l" pos="1084320"/>
                <a:tab algn="l" pos="1301760"/>
                <a:tab algn="l" pos="1517760"/>
                <a:tab algn="l" pos="1735200"/>
                <a:tab algn="l" pos="1952640"/>
                <a:tab algn="l" pos="2170080"/>
                <a:tab algn="l" pos="2386080"/>
                <a:tab algn="l" pos="2603520"/>
                <a:tab algn="l" pos="2819520"/>
                <a:tab algn="l" pos="3038400"/>
                <a:tab algn="l" pos="3254400"/>
                <a:tab algn="l" pos="3471840"/>
                <a:tab algn="l" pos="3687840"/>
                <a:tab algn="l" pos="3905280"/>
                <a:tab algn="l" pos="4122720"/>
                <a:tab algn="l" pos="4340160"/>
                <a:tab algn="l" pos="4465800"/>
                <a:tab algn="l" pos="4809960"/>
                <a:tab algn="l" pos="5153040"/>
                <a:tab algn="l" pos="5497560"/>
                <a:tab algn="l" pos="564192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0" lang="en-GB" sz="2000" spc="-1" strike="noStrike">
                <a:solidFill>
                  <a:srgbClr val="525252"/>
                </a:solidFill>
                <a:latin typeface="Helvetica Neue Light"/>
                <a:ea typeface="ＭＳ Ｐゴシック"/>
              </a:rPr>
              <a:t>Partitioning Ov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603360" y="1308240"/>
            <a:ext cx="1782720" cy="2455560"/>
          </a:xfrm>
          <a:prstGeom prst="rect">
            <a:avLst/>
          </a:prstGeom>
          <a:solidFill>
            <a:srgbClr val="a3b8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MS Gothic"/>
              </a:rPr>
              <a:t>Jo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747720" y="1798560"/>
            <a:ext cx="1494000" cy="246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MS Gothic"/>
              </a:rPr>
              <a:t>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47720" y="2438280"/>
            <a:ext cx="1494000" cy="2462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MS Gothic"/>
              </a:rPr>
              <a:t>Mas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747720" y="3125880"/>
            <a:ext cx="1494000" cy="245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MS Gothic"/>
              </a:rPr>
              <a:t>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5" name=""/>
          <p:cNvCxnSpPr>
            <a:stCxn id="862" idx="2"/>
            <a:endCxn id="863" idx="0"/>
          </p:cNvCxnSpPr>
          <p:nvPr/>
        </p:nvCxnSpPr>
        <p:spPr>
          <a:xfrm>
            <a:off x="1495080" y="2044440"/>
            <a:ext cx="1080" cy="394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6" name=""/>
          <p:cNvCxnSpPr>
            <a:stCxn id="863" idx="2"/>
            <a:endCxn id="864" idx="0"/>
          </p:cNvCxnSpPr>
          <p:nvPr/>
        </p:nvCxnSpPr>
        <p:spPr>
          <a:xfrm>
            <a:off x="1495080" y="2684520"/>
            <a:ext cx="1080" cy="442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7" name=""/>
          <p:cNvSpPr/>
          <p:nvPr/>
        </p:nvSpPr>
        <p:spPr>
          <a:xfrm>
            <a:off x="3252960" y="1603440"/>
            <a:ext cx="1493640" cy="245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MS Gothic"/>
              </a:rPr>
              <a:t>Sl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3252960" y="1946160"/>
            <a:ext cx="1493640" cy="246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MS Gothic"/>
              </a:rPr>
              <a:t>Sl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3252960" y="2290680"/>
            <a:ext cx="1493640" cy="246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MS Gothic"/>
              </a:rPr>
              <a:t>Sl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3252960" y="2635200"/>
            <a:ext cx="1493640" cy="246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MS Gothic"/>
              </a:rPr>
              <a:t>Sl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3252960" y="2979720"/>
            <a:ext cx="1493640" cy="246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MS Gothic"/>
              </a:rPr>
              <a:t>Sl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3252960" y="3322800"/>
            <a:ext cx="1493640" cy="245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MS Gothic"/>
              </a:rPr>
              <a:t>Sl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3" name=""/>
          <p:cNvCxnSpPr>
            <a:stCxn id="863" idx="3"/>
            <a:endCxn id="867" idx="1"/>
          </p:cNvCxnSpPr>
          <p:nvPr/>
        </p:nvCxnSpPr>
        <p:spPr>
          <a:xfrm flipV="1">
            <a:off x="2241360" y="1726560"/>
            <a:ext cx="1011960" cy="835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4" name=""/>
          <p:cNvCxnSpPr>
            <a:stCxn id="863" idx="3"/>
            <a:endCxn id="868" idx="1"/>
          </p:cNvCxnSpPr>
          <p:nvPr/>
        </p:nvCxnSpPr>
        <p:spPr>
          <a:xfrm flipV="1">
            <a:off x="2241360" y="2069280"/>
            <a:ext cx="1011960" cy="49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5" name=""/>
          <p:cNvCxnSpPr>
            <a:stCxn id="863" idx="3"/>
            <a:endCxn id="869" idx="1"/>
          </p:cNvCxnSpPr>
          <p:nvPr/>
        </p:nvCxnSpPr>
        <p:spPr>
          <a:xfrm flipV="1">
            <a:off x="2241360" y="2414160"/>
            <a:ext cx="1011960" cy="148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6" name=""/>
          <p:cNvCxnSpPr>
            <a:stCxn id="863" idx="3"/>
            <a:endCxn id="870" idx="1"/>
          </p:cNvCxnSpPr>
          <p:nvPr/>
        </p:nvCxnSpPr>
        <p:spPr>
          <a:xfrm>
            <a:off x="2241360" y="2561760"/>
            <a:ext cx="1011960" cy="197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7" name=""/>
          <p:cNvCxnSpPr>
            <a:stCxn id="863" idx="3"/>
            <a:endCxn id="871" idx="1"/>
          </p:cNvCxnSpPr>
          <p:nvPr/>
        </p:nvCxnSpPr>
        <p:spPr>
          <a:xfrm>
            <a:off x="2241360" y="2562120"/>
            <a:ext cx="1011960" cy="54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8" name=""/>
          <p:cNvCxnSpPr>
            <a:stCxn id="863" idx="3"/>
            <a:endCxn id="872" idx="1"/>
          </p:cNvCxnSpPr>
          <p:nvPr/>
        </p:nvCxnSpPr>
        <p:spPr>
          <a:xfrm>
            <a:off x="2241360" y="2561760"/>
            <a:ext cx="1011960" cy="88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"/>
          <p:cNvSpPr/>
          <p:nvPr/>
        </p:nvSpPr>
        <p:spPr>
          <a:xfrm>
            <a:off x="1228680" y="1849320"/>
            <a:ext cx="773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ndle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264960" y="1603440"/>
            <a:ext cx="773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ecute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264960" y="1012680"/>
            <a:ext cx="1783080" cy="295560"/>
          </a:xfrm>
          <a:prstGeom prst="rect">
            <a:avLst/>
          </a:prstGeom>
          <a:solidFill>
            <a:srgbClr val="a3b8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MS Gothic"/>
              </a:rPr>
              <a:t>Partition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4275000" y="1111320"/>
            <a:ext cx="1300320" cy="295200"/>
          </a:xfrm>
          <a:prstGeom prst="rect">
            <a:avLst/>
          </a:prstGeom>
          <a:solidFill>
            <a:srgbClr val="a3b8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MS Gothic"/>
              </a:rPr>
              <a:t>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1422360" y="1455840"/>
            <a:ext cx="1494000" cy="245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MS Gothic"/>
              </a:rPr>
              <a:t>PartitionHandl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2819520" y="1749600"/>
            <a:ext cx="1685880" cy="245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MS Gothic"/>
              </a:rPr>
              <a:t>StepExecutionSplit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1084320" y="1308240"/>
            <a:ext cx="0" cy="2898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1181160" y="2093760"/>
            <a:ext cx="866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2144880" y="1700280"/>
            <a:ext cx="0" cy="2506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 flipH="1">
            <a:off x="1180800" y="3618000"/>
            <a:ext cx="9637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988920" y="1849320"/>
            <a:ext cx="192240" cy="230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2048040" y="2093760"/>
            <a:ext cx="191880" cy="152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4940280" y="1406520"/>
            <a:ext cx="0" cy="280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3638520" y="1995480"/>
            <a:ext cx="0" cy="2211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264960" y="1849320"/>
            <a:ext cx="723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3687840" y="2487600"/>
            <a:ext cx="1350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ecute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2241720" y="2730600"/>
            <a:ext cx="2601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 flipH="1">
            <a:off x="2241720" y="3075120"/>
            <a:ext cx="26985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3543480" y="2241720"/>
            <a:ext cx="191880" cy="295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4843440" y="2730600"/>
            <a:ext cx="192240" cy="34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2241720" y="2241720"/>
            <a:ext cx="130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2386080" y="1995480"/>
            <a:ext cx="772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li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 flipH="1">
            <a:off x="312840" y="4108320"/>
            <a:ext cx="6760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H="1">
            <a:off x="2241720" y="2536920"/>
            <a:ext cx="13017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 flipH="1">
            <a:off x="5133240" y="2682720"/>
            <a:ext cx="144360" cy="492120"/>
          </a:xfrm>
          <a:custGeom>
            <a:avLst/>
            <a:gdLst>
              <a:gd name="textAreaLeft" fmla="*/ 92160 w 144360"/>
              <a:gd name="textAreaRight" fmla="*/ 144360 w 144360"/>
              <a:gd name="textAreaTop" fmla="*/ 12600 h 492120"/>
              <a:gd name="textAreaBottom" fmla="*/ 479520 h 49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5276880" y="2781360"/>
            <a:ext cx="627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p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2144880" y="3224160"/>
            <a:ext cx="191880" cy="293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2335320" y="3273480"/>
            <a:ext cx="733320" cy="210960"/>
          </a:xfrm>
          <a:custGeom>
            <a:avLst/>
            <a:gdLst/>
            <a:ahLst/>
            <a:rect l="l" t="t" r="r" b="b"/>
            <a:pathLst>
              <a:path w="691" h="194">
                <a:moveTo>
                  <a:pt x="3" y="0"/>
                </a:moveTo>
                <a:lnTo>
                  <a:pt x="691" y="5"/>
                </a:lnTo>
                <a:lnTo>
                  <a:pt x="683" y="194"/>
                </a:lnTo>
                <a:lnTo>
                  <a:pt x="0" y="194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2530440" y="3044880"/>
            <a:ext cx="530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o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1084320" y="3716280"/>
            <a:ext cx="191880" cy="293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1274760" y="3765600"/>
            <a:ext cx="733320" cy="209520"/>
          </a:xfrm>
          <a:custGeom>
            <a:avLst/>
            <a:gdLst/>
            <a:ahLst/>
            <a:rect l="l" t="t" r="r" b="b"/>
            <a:pathLst>
              <a:path w="691" h="194">
                <a:moveTo>
                  <a:pt x="3" y="0"/>
                </a:moveTo>
                <a:lnTo>
                  <a:pt x="691" y="5"/>
                </a:lnTo>
                <a:lnTo>
                  <a:pt x="683" y="194"/>
                </a:lnTo>
                <a:lnTo>
                  <a:pt x="0" y="194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1325520" y="3730680"/>
            <a:ext cx="819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461960" y="1793880"/>
            <a:ext cx="965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(ite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60720" y="1006560"/>
            <a:ext cx="1262160" cy="291960"/>
          </a:xfrm>
          <a:prstGeom prst="rect">
            <a:avLst/>
          </a:prstGeom>
          <a:solidFill>
            <a:srgbClr val="f0ec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S Gothic"/>
              </a:rPr>
              <a:t>Sess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75000" y="888840"/>
            <a:ext cx="0" cy="3160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5360" y="2070000"/>
            <a:ext cx="1260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908000" y="539640"/>
            <a:ext cx="1089360" cy="341280"/>
          </a:xfrm>
          <a:prstGeom prst="rect">
            <a:avLst/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S Gothic"/>
              </a:rPr>
              <a:t>ItemWri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78120" y="1301760"/>
            <a:ext cx="12960" cy="279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398680" y="2001960"/>
            <a:ext cx="173160" cy="1490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65360" y="3419640"/>
            <a:ext cx="1035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65360" y="3195720"/>
            <a:ext cx="771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sh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68160" y="987480"/>
            <a:ext cx="849600" cy="311040"/>
          </a:xfrm>
          <a:prstGeom prst="rect">
            <a:avLst/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S Gothic"/>
              </a:rPr>
              <a:t>Ste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35000" y="1305000"/>
            <a:ext cx="0" cy="2835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130720" y="1305000"/>
            <a:ext cx="0" cy="2835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029200" y="1692360"/>
            <a:ext cx="19224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4800" y="1625760"/>
            <a:ext cx="579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080" y="1380960"/>
            <a:ext cx="100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e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39960" y="1625760"/>
            <a:ext cx="185400" cy="228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583080" y="2249640"/>
            <a:ext cx="193680" cy="295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71840" y="2281320"/>
            <a:ext cx="101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49520" y="2070000"/>
            <a:ext cx="938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00720" y="981000"/>
            <a:ext cx="1209600" cy="289080"/>
          </a:xfrm>
          <a:prstGeom prst="rect">
            <a:avLst/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S Gothic"/>
              </a:rPr>
              <a:t>TransactionManag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25360" y="3825720"/>
            <a:ext cx="3915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47680" y="3581280"/>
            <a:ext cx="938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back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3780000"/>
            <a:ext cx="193680" cy="196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586320" y="3395520"/>
            <a:ext cx="190440" cy="244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25360" y="1754280"/>
            <a:ext cx="3915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23880" y="1511280"/>
            <a:ext cx="771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98920" y="2630520"/>
            <a:ext cx="193680" cy="295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87680" y="2662200"/>
            <a:ext cx="101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565360" y="2451240"/>
            <a:ext cx="938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151080" y="3240000"/>
            <a:ext cx="1109880" cy="371520"/>
          </a:xfrm>
          <a:prstGeom prst="irregularSeal1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565360" y="2765520"/>
            <a:ext cx="938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61960" y="1793880"/>
            <a:ext cx="965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(ite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60720" y="1006560"/>
            <a:ext cx="1262160" cy="291960"/>
          </a:xfrm>
          <a:prstGeom prst="rect">
            <a:avLst/>
          </a:prstGeom>
          <a:solidFill>
            <a:srgbClr val="f0ec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S Gothic"/>
              </a:rPr>
              <a:t>Sess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75000" y="888840"/>
            <a:ext cx="0" cy="3160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25360" y="2070000"/>
            <a:ext cx="1260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08000" y="539640"/>
            <a:ext cx="1089360" cy="341280"/>
          </a:xfrm>
          <a:prstGeom prst="rect">
            <a:avLst/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S Gothic"/>
              </a:rPr>
              <a:t>ItemWri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78120" y="1301760"/>
            <a:ext cx="12960" cy="279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398680" y="2001960"/>
            <a:ext cx="166680" cy="65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65360" y="3419640"/>
            <a:ext cx="1035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65360" y="3195720"/>
            <a:ext cx="771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sh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68160" y="987480"/>
            <a:ext cx="849600" cy="311040"/>
          </a:xfrm>
          <a:prstGeom prst="rect">
            <a:avLst/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S Gothic"/>
              </a:rPr>
              <a:t>Ste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035000" y="1305000"/>
            <a:ext cx="0" cy="2835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130720" y="1305000"/>
            <a:ext cx="0" cy="2835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29200" y="1692360"/>
            <a:ext cx="19224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34800" y="1625760"/>
            <a:ext cx="579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080" y="1380960"/>
            <a:ext cx="100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e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39960" y="1625760"/>
            <a:ext cx="185400" cy="228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583080" y="2160720"/>
            <a:ext cx="198360" cy="38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71840" y="2173320"/>
            <a:ext cx="101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49520" y="1962000"/>
            <a:ext cx="938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00720" y="981000"/>
            <a:ext cx="1209600" cy="289080"/>
          </a:xfrm>
          <a:prstGeom prst="rect">
            <a:avLst/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S Gothic"/>
              </a:rPr>
              <a:t>TransactionManag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25360" y="3825720"/>
            <a:ext cx="3915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47680" y="3581280"/>
            <a:ext cx="938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back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029200" y="3780000"/>
            <a:ext cx="193680" cy="196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25360" y="1754280"/>
            <a:ext cx="3915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523880" y="1511280"/>
            <a:ext cx="771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598920" y="2944800"/>
            <a:ext cx="18252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587680" y="2976480"/>
            <a:ext cx="101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51080" y="3240000"/>
            <a:ext cx="1109880" cy="371520"/>
          </a:xfrm>
          <a:prstGeom prst="irregularSeal1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65360" y="2519280"/>
            <a:ext cx="1035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65360" y="2295360"/>
            <a:ext cx="771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sh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395440" y="2857680"/>
            <a:ext cx="166680" cy="65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461960" y="2649600"/>
            <a:ext cx="965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(ite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25360" y="2925720"/>
            <a:ext cx="1260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461960" y="1793880"/>
            <a:ext cx="965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(ite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060720" y="1006560"/>
            <a:ext cx="1262160" cy="291960"/>
          </a:xfrm>
          <a:prstGeom prst="rect">
            <a:avLst/>
          </a:prstGeom>
          <a:solidFill>
            <a:srgbClr val="f0ec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S Gothic"/>
              </a:rPr>
              <a:t>Sess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475000" y="888840"/>
            <a:ext cx="0" cy="3160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25360" y="2070000"/>
            <a:ext cx="1260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908000" y="539640"/>
            <a:ext cx="1089360" cy="341280"/>
          </a:xfrm>
          <a:prstGeom prst="rect">
            <a:avLst/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S Gothic"/>
              </a:rPr>
              <a:t>ItemWri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78120" y="1301760"/>
            <a:ext cx="12960" cy="279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398680" y="2001960"/>
            <a:ext cx="166680" cy="10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3781080" y="3419640"/>
            <a:ext cx="1258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30720" y="3149640"/>
            <a:ext cx="771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sh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68160" y="987480"/>
            <a:ext cx="849600" cy="311040"/>
          </a:xfrm>
          <a:prstGeom prst="rect">
            <a:avLst/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S Gothic"/>
              </a:rPr>
              <a:t>Ste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035000" y="1305000"/>
            <a:ext cx="0" cy="2835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130720" y="1305000"/>
            <a:ext cx="0" cy="2835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029200" y="1692360"/>
            <a:ext cx="19224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34800" y="1625760"/>
            <a:ext cx="579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6080" y="1380960"/>
            <a:ext cx="100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e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39960" y="1625760"/>
            <a:ext cx="185400" cy="228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583080" y="2249640"/>
            <a:ext cx="193680" cy="295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71840" y="2281320"/>
            <a:ext cx="101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549520" y="2070000"/>
            <a:ext cx="938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500720" y="981000"/>
            <a:ext cx="1209600" cy="289080"/>
          </a:xfrm>
          <a:prstGeom prst="rect">
            <a:avLst/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S Gothic"/>
              </a:rPr>
              <a:t>TransactionManag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25360" y="3170160"/>
            <a:ext cx="3915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147680" y="2925720"/>
            <a:ext cx="938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i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029200" y="3149640"/>
            <a:ext cx="192240" cy="765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586320" y="3395520"/>
            <a:ext cx="190440" cy="244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125360" y="1754280"/>
            <a:ext cx="3915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523880" y="1511280"/>
            <a:ext cx="771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98920" y="2630520"/>
            <a:ext cx="193680" cy="295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87680" y="2662200"/>
            <a:ext cx="101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65360" y="2451240"/>
            <a:ext cx="938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151080" y="3375000"/>
            <a:ext cx="1109880" cy="371520"/>
          </a:xfrm>
          <a:prstGeom prst="irregularSeal1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25360" y="3870360"/>
            <a:ext cx="3915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47680" y="3625920"/>
            <a:ext cx="938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"/>
          <p:cNvGrpSpPr/>
          <p:nvPr/>
        </p:nvGrpSpPr>
        <p:grpSpPr>
          <a:xfrm>
            <a:off x="108000" y="395280"/>
            <a:ext cx="5905440" cy="3240000"/>
            <a:chOff x="108000" y="395280"/>
            <a:chExt cx="5905440" cy="3240000"/>
          </a:xfrm>
        </p:grpSpPr>
        <p:sp>
          <p:nvSpPr>
            <p:cNvPr id="207" name=""/>
            <p:cNvSpPr/>
            <p:nvPr/>
          </p:nvSpPr>
          <p:spPr>
            <a:xfrm>
              <a:off x="108000" y="395280"/>
              <a:ext cx="5905440" cy="3240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179640" y="900000"/>
              <a:ext cx="5699880" cy="2593440"/>
              <a:chOff x="179640" y="900000"/>
              <a:chExt cx="5699880" cy="2593440"/>
            </a:xfrm>
          </p:grpSpPr>
          <p:sp>
            <p:nvSpPr>
              <p:cNvPr id="209" name=""/>
              <p:cNvSpPr/>
              <p:nvPr/>
            </p:nvSpPr>
            <p:spPr>
              <a:xfrm>
                <a:off x="181080" y="900000"/>
                <a:ext cx="5616360" cy="2521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617400"/>
                    <a:tab algn="l" pos="1235160"/>
                    <a:tab algn="l" pos="1852560"/>
                    <a:tab algn="l" pos="2470320"/>
                    <a:tab algn="l" pos="3087720"/>
                    <a:tab algn="l" pos="3705120"/>
                    <a:tab algn="l" pos="4322880"/>
                    <a:tab algn="l" pos="4940280"/>
                    <a:tab algn="l" pos="5557680"/>
                    <a:tab algn="l" pos="6175440"/>
                    <a:tab algn="l" pos="6792840"/>
                    <a:tab algn="l" pos="7410600"/>
                    <a:tab algn="l" pos="8028000"/>
                    <a:tab algn="l" pos="8645400"/>
                    <a:tab algn="l" pos="9263160"/>
                    <a:tab algn="l" pos="9880560"/>
                    <a:tab algn="l" pos="10497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320760" y="1498680"/>
                <a:ext cx="5558760" cy="1994760"/>
                <a:chOff x="320760" y="1498680"/>
                <a:chExt cx="5558760" cy="199476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1339920" y="1498680"/>
                  <a:ext cx="5266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Inpu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ourc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1780560" y="1978200"/>
                  <a:ext cx="619560" cy="50472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Transform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799560" y="2484360"/>
                  <a:ext cx="86040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File(Tokenizer)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ML (StAX)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QL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247640" y="1932120"/>
                  <a:ext cx="663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rocessed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Item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331200" y="1860480"/>
                  <a:ext cx="80280" cy="14292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58640" y="2147760"/>
                  <a:ext cx="78840" cy="14472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320760" y="1908000"/>
                  <a:ext cx="595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Incoming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Inpu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91680" y="2003400"/>
                  <a:ext cx="66600" cy="216000"/>
                </a:xfrm>
                <a:custGeom>
                  <a:avLst/>
                  <a:gdLst/>
                  <a:ahLst/>
                  <a:rect l="l" t="t" r="r" b="b"/>
                  <a:pathLst>
                    <a:path w="48" h="136">
                      <a:moveTo>
                        <a:pt x="3" y="0"/>
                      </a:moveTo>
                      <a:lnTo>
                        <a:pt x="0" y="135"/>
                      </a:lnTo>
                      <a:lnTo>
                        <a:pt x="48" y="13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rot="10800000">
                  <a:off x="5527440" y="2169720"/>
                  <a:ext cx="126000" cy="14436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rot="10800000">
                  <a:off x="5653440" y="2460240"/>
                  <a:ext cx="127440" cy="14292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0800000">
                  <a:off x="5651640" y="2244600"/>
                  <a:ext cx="66600" cy="216000"/>
                </a:xfrm>
                <a:custGeom>
                  <a:avLst/>
                  <a:gdLst/>
                  <a:ahLst/>
                  <a:rect l="l" t="t" r="r" b="b"/>
                  <a:pathLst>
                    <a:path w="48" h="136">
                      <a:moveTo>
                        <a:pt x="3" y="0"/>
                      </a:moveTo>
                      <a:lnTo>
                        <a:pt x="0" y="135"/>
                      </a:lnTo>
                      <a:lnTo>
                        <a:pt x="48" y="13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285880" y="2627280"/>
                  <a:ext cx="593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utgoing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utpu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884160" y="1978200"/>
                  <a:ext cx="435600" cy="50472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Parse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2813760" y="1978200"/>
                  <a:ext cx="533160" cy="50472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Validate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3778560" y="1978200"/>
                  <a:ext cx="531720" cy="50472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Process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V="1">
                  <a:off x="566640" y="2268000"/>
                  <a:ext cx="248760" cy="18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1735560" y="3132000"/>
                  <a:ext cx="764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Item Reader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1297440" y="2195640"/>
                  <a:ext cx="48312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1289160" y="1859040"/>
                  <a:ext cx="503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arsed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Resul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1662120" y="2484360"/>
                  <a:ext cx="87516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LineMapper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RowMapper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XM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2400480" y="2195640"/>
                  <a:ext cx="39312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2391840" y="1981080"/>
                  <a:ext cx="4762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bjec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2607120" y="2484360"/>
                  <a:ext cx="103284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pache Validator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pring VALANG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3365280" y="2195640"/>
                  <a:ext cx="45864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3427920" y="1981080"/>
                  <a:ext cx="3805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Item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330080" y="2268360"/>
                  <a:ext cx="508680" cy="18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3985200" y="3156120"/>
                  <a:ext cx="1447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Item Writer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rot="16200000">
                  <a:off x="2033280" y="1526760"/>
                  <a:ext cx="365040" cy="2712240"/>
                </a:xfrm>
                <a:custGeom>
                  <a:avLst/>
                  <a:gdLst>
                    <a:gd name="textAreaLeft" fmla="*/ 107280 w 365040"/>
                    <a:gd name="textAreaRight" fmla="*/ 365400 w 365040"/>
                    <a:gd name="textAreaTop" fmla="*/ 112680 h 2712240"/>
                    <a:gd name="textAreaBottom" fmla="*/ 2599560 h 2712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900"/>
                        <a:pt x="0" y="1800"/>
                      </a:cubicBezTo>
                      <a:lnTo>
                        <a:pt x="0" y="19800"/>
                      </a:lnTo>
                      <a:cubicBezTo>
                        <a:pt x="0" y="20700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flipV="1" rot="5400000">
                  <a:off x="1472040" y="977040"/>
                  <a:ext cx="289080" cy="1428120"/>
                </a:xfrm>
                <a:custGeom>
                  <a:avLst/>
                  <a:gdLst>
                    <a:gd name="textAreaLeft" fmla="*/ 84960 w 289080"/>
                    <a:gd name="textAreaRight" fmla="*/ 289080 w 289080"/>
                    <a:gd name="textAreaTop" fmla="*/ 59400 h 1428120"/>
                    <a:gd name="textAreaBottom" fmla="*/ 1368720 h 1428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900"/>
                        <a:pt x="0" y="1800"/>
                      </a:cubicBezTo>
                      <a:lnTo>
                        <a:pt x="0" y="19800"/>
                      </a:lnTo>
                      <a:cubicBezTo>
                        <a:pt x="0" y="20700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4811760" y="1979640"/>
                  <a:ext cx="551520" cy="50472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Serialize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5363280" y="2268360"/>
                  <a:ext cx="180360" cy="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4778280" y="1498680"/>
                  <a:ext cx="5266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utpu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ourc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 flipV="1" rot="5400000">
                  <a:off x="4905000" y="1290960"/>
                  <a:ext cx="288720" cy="757800"/>
                </a:xfrm>
                <a:custGeom>
                  <a:avLst/>
                  <a:gdLst>
                    <a:gd name="textAreaLeft" fmla="*/ 84960 w 288720"/>
                    <a:gd name="textAreaRight" fmla="*/ 289080 w 288720"/>
                    <a:gd name="textAreaTop" fmla="*/ 31320 h 757800"/>
                    <a:gd name="textAreaBottom" fmla="*/ 726480 h 757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900"/>
                        <a:pt x="0" y="1800"/>
                      </a:cubicBezTo>
                      <a:lnTo>
                        <a:pt x="0" y="19800"/>
                      </a:lnTo>
                      <a:cubicBezTo>
                        <a:pt x="0" y="20700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 rot="16200000">
                  <a:off x="4469400" y="1940760"/>
                  <a:ext cx="365040" cy="1883880"/>
                </a:xfrm>
                <a:custGeom>
                  <a:avLst/>
                  <a:gdLst>
                    <a:gd name="textAreaLeft" fmla="*/ 107280 w 365040"/>
                    <a:gd name="textAreaRight" fmla="*/ 365400 w 365040"/>
                    <a:gd name="textAreaTop" fmla="*/ 78480 h 1883880"/>
                    <a:gd name="textAreaBottom" fmla="*/ 1805400 h 1883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900"/>
                        <a:pt x="0" y="1800"/>
                      </a:cubicBezTo>
                      <a:lnTo>
                        <a:pt x="0" y="19800"/>
                      </a:lnTo>
                      <a:cubicBezTo>
                        <a:pt x="0" y="20700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4637880" y="2484360"/>
                  <a:ext cx="90468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Line Aggregator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ML (StAX)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QL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745800" y="2556000"/>
                  <a:ext cx="5968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Busines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Logic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7" name=""/>
              <p:cNvSpPr/>
              <p:nvPr/>
            </p:nvSpPr>
            <p:spPr>
              <a:xfrm>
                <a:off x="179640" y="1044720"/>
                <a:ext cx="1361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617400"/>
                    <a:tab algn="l" pos="1235160"/>
                    <a:tab algn="l" pos="1852560"/>
                    <a:tab algn="l" pos="2470320"/>
                    <a:tab algn="l" pos="3087720"/>
                    <a:tab algn="l" pos="3705120"/>
                    <a:tab algn="l" pos="4322880"/>
                    <a:tab algn="l" pos="4940280"/>
                    <a:tab algn="l" pos="5557680"/>
                    <a:tab algn="l" pos="6175440"/>
                    <a:tab algn="l" pos="6792840"/>
                    <a:tab algn="l" pos="7410600"/>
                    <a:tab algn="l" pos="8028000"/>
                    <a:tab algn="l" pos="8645400"/>
                    <a:tab algn="l" pos="9263160"/>
                    <a:tab algn="l" pos="9880560"/>
                    <a:tab algn="l" pos="1049796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Repeat Callback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180360" y="468360"/>
              <a:ext cx="140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peat Templ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279360" y="1116000"/>
            <a:ext cx="544500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9B24259C-4F6B-420B-A14A-478CB3E25719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2"/>
          <p:cNvSpPr/>
          <p:nvPr/>
        </p:nvSpPr>
        <p:spPr>
          <a:xfrm>
            <a:off x="1273320" y="1274760"/>
            <a:ext cx="3317760" cy="2952720"/>
          </a:xfrm>
          <a:prstGeom prst="roundRect">
            <a:avLst>
              <a:gd name="adj" fmla="val 11718"/>
            </a:avLst>
          </a:prstGeom>
          <a:noFill/>
          <a:ln w="12600">
            <a:solidFill>
              <a:srgbClr val="769b00"/>
            </a:solidFill>
            <a:miter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3"/>
          <p:cNvGrpSpPr/>
          <p:nvPr/>
        </p:nvGrpSpPr>
        <p:grpSpPr>
          <a:xfrm>
            <a:off x="1990800" y="1523880"/>
            <a:ext cx="1990800" cy="571680"/>
            <a:chOff x="1990800" y="1523880"/>
            <a:chExt cx="1990800" cy="571680"/>
          </a:xfrm>
        </p:grpSpPr>
        <p:sp>
          <p:nvSpPr>
            <p:cNvPr id="253" name="Rectangle 4"/>
            <p:cNvSpPr/>
            <p:nvPr/>
          </p:nvSpPr>
          <p:spPr>
            <a:xfrm>
              <a:off x="1990800" y="1523880"/>
              <a:ext cx="1990800" cy="571680"/>
            </a:xfrm>
            <a:prstGeom prst="rect">
              <a:avLst/>
            </a:prstGeom>
            <a:solidFill>
              <a:srgbClr val="66b1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5"/>
            <p:cNvSpPr/>
            <p:nvPr/>
          </p:nvSpPr>
          <p:spPr>
            <a:xfrm>
              <a:off x="2574360" y="1725480"/>
              <a:ext cx="817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26280" tIns="0" bIns="0" anchor="ctr">
              <a:spAutoFit/>
            </a:bodyPr>
            <a:p>
              <a:pPr marL="27000" algn="ctr">
                <a:tabLst>
                  <a:tab algn="l" pos="0"/>
                  <a:tab algn="l" pos="23760"/>
                  <a:tab algn="l" pos="330120"/>
                  <a:tab algn="l" pos="644400"/>
                  <a:tab algn="l" pos="952560"/>
                  <a:tab algn="l" pos="1260360"/>
                  <a:tab algn="l" pos="1566720"/>
                  <a:tab algn="l" pos="1873080"/>
                  <a:tab algn="l" pos="2187720"/>
                  <a:tab algn="l" pos="2495520"/>
                  <a:tab algn="l" pos="2803680"/>
                  <a:tab algn="l" pos="3110040"/>
                  <a:tab algn="l" pos="3416400"/>
                  <a:tab algn="l" pos="3730680"/>
                  <a:tab algn="l" pos="4038480"/>
                  <a:tab algn="l" pos="4344840"/>
                  <a:tab algn="l" pos="4653000"/>
                  <a:tab algn="l" pos="4959360"/>
                  <a:tab algn="l" pos="5273640"/>
                  <a:tab algn="l" pos="5581800"/>
                  <a:tab algn="l" pos="5888160"/>
                  <a:tab algn="l" pos="619596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  <a:tab algn="l" pos="9101160"/>
                  <a:tab algn="l" pos="9534600"/>
                  <a:tab algn="l" pos="9968040"/>
                  <a:tab algn="l" pos="10401480"/>
                  <a:tab algn="l" pos="108345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Applicat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6"/>
          <p:cNvGrpSpPr/>
          <p:nvPr/>
        </p:nvGrpSpPr>
        <p:grpSpPr>
          <a:xfrm>
            <a:off x="1990800" y="2492280"/>
            <a:ext cx="1990800" cy="573120"/>
            <a:chOff x="1990800" y="2492280"/>
            <a:chExt cx="1990800" cy="573120"/>
          </a:xfrm>
        </p:grpSpPr>
        <p:sp>
          <p:nvSpPr>
            <p:cNvPr id="256" name="Rectangle 7"/>
            <p:cNvSpPr/>
            <p:nvPr/>
          </p:nvSpPr>
          <p:spPr>
            <a:xfrm>
              <a:off x="1990800" y="2492280"/>
              <a:ext cx="1990800" cy="573120"/>
            </a:xfrm>
            <a:prstGeom prst="rect">
              <a:avLst/>
            </a:prstGeom>
            <a:solidFill>
              <a:srgbClr val="5382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8"/>
            <p:cNvSpPr/>
            <p:nvPr/>
          </p:nvSpPr>
          <p:spPr>
            <a:xfrm>
              <a:off x="2583360" y="2694600"/>
              <a:ext cx="800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26280" tIns="0" bIns="0" anchor="ctr">
              <a:spAutoFit/>
            </a:bodyPr>
            <a:p>
              <a:pPr marL="27000" algn="ctr">
                <a:tabLst>
                  <a:tab algn="l" pos="0"/>
                  <a:tab algn="l" pos="23760"/>
                  <a:tab algn="l" pos="330120"/>
                  <a:tab algn="l" pos="644400"/>
                  <a:tab algn="l" pos="952560"/>
                  <a:tab algn="l" pos="1260360"/>
                  <a:tab algn="l" pos="1566720"/>
                  <a:tab algn="l" pos="1873080"/>
                  <a:tab algn="l" pos="2187720"/>
                  <a:tab algn="l" pos="2495520"/>
                  <a:tab algn="l" pos="2803680"/>
                  <a:tab algn="l" pos="3110040"/>
                  <a:tab algn="l" pos="3416400"/>
                  <a:tab algn="l" pos="3730680"/>
                  <a:tab algn="l" pos="4038480"/>
                  <a:tab algn="l" pos="4344840"/>
                  <a:tab algn="l" pos="4653000"/>
                  <a:tab algn="l" pos="4959360"/>
                  <a:tab algn="l" pos="5273640"/>
                  <a:tab algn="l" pos="5581800"/>
                  <a:tab algn="l" pos="5888160"/>
                  <a:tab algn="l" pos="619596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  <a:tab algn="l" pos="9101160"/>
                  <a:tab algn="l" pos="9534600"/>
                  <a:tab algn="l" pos="9968040"/>
                  <a:tab algn="l" pos="10401480"/>
                  <a:tab algn="l" pos="108345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Batch Cor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9"/>
          <p:cNvGrpSpPr/>
          <p:nvPr/>
        </p:nvGrpSpPr>
        <p:grpSpPr>
          <a:xfrm>
            <a:off x="1990800" y="3438360"/>
            <a:ext cx="1990800" cy="573120"/>
            <a:chOff x="1990800" y="3438360"/>
            <a:chExt cx="1990800" cy="573120"/>
          </a:xfrm>
        </p:grpSpPr>
        <p:sp>
          <p:nvSpPr>
            <p:cNvPr id="259" name="Rectangle 10"/>
            <p:cNvSpPr/>
            <p:nvPr/>
          </p:nvSpPr>
          <p:spPr>
            <a:xfrm>
              <a:off x="1990800" y="3438360"/>
              <a:ext cx="1990800" cy="5731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11"/>
            <p:cNvSpPr/>
            <p:nvPr/>
          </p:nvSpPr>
          <p:spPr>
            <a:xfrm>
              <a:off x="2285640" y="3640680"/>
              <a:ext cx="1395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26280" tIns="0" bIns="0" anchor="ctr">
              <a:spAutoFit/>
            </a:bodyPr>
            <a:p>
              <a:pPr marL="27000" algn="ctr">
                <a:tabLst>
                  <a:tab algn="l" pos="0"/>
                  <a:tab algn="l" pos="23760"/>
                  <a:tab algn="l" pos="330120"/>
                  <a:tab algn="l" pos="644400"/>
                  <a:tab algn="l" pos="952560"/>
                  <a:tab algn="l" pos="1260360"/>
                  <a:tab algn="l" pos="1566720"/>
                  <a:tab algn="l" pos="1873080"/>
                  <a:tab algn="l" pos="2187720"/>
                  <a:tab algn="l" pos="2495520"/>
                  <a:tab algn="l" pos="2803680"/>
                  <a:tab algn="l" pos="3110040"/>
                  <a:tab algn="l" pos="3416400"/>
                  <a:tab algn="l" pos="3730680"/>
                  <a:tab algn="l" pos="4038480"/>
                  <a:tab algn="l" pos="4344840"/>
                  <a:tab algn="l" pos="4653000"/>
                  <a:tab algn="l" pos="4959360"/>
                  <a:tab algn="l" pos="5273640"/>
                  <a:tab algn="l" pos="5581800"/>
                  <a:tab algn="l" pos="5888160"/>
                  <a:tab algn="l" pos="619596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  <a:tab algn="l" pos="9101160"/>
                  <a:tab algn="l" pos="9534600"/>
                  <a:tab algn="l" pos="9968040"/>
                  <a:tab algn="l" pos="10401480"/>
                  <a:tab algn="l" pos="108345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Batch Infrastructur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Line 12"/>
          <p:cNvSpPr/>
          <p:nvPr/>
        </p:nvSpPr>
        <p:spPr>
          <a:xfrm>
            <a:off x="2755800" y="3056040"/>
            <a:ext cx="0" cy="382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3"/>
          <p:cNvSpPr/>
          <p:nvPr/>
        </p:nvSpPr>
        <p:spPr>
          <a:xfrm flipV="1">
            <a:off x="3114720" y="3060720"/>
            <a:ext cx="0" cy="379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4"/>
          <p:cNvSpPr/>
          <p:nvPr/>
        </p:nvSpPr>
        <p:spPr>
          <a:xfrm flipV="1">
            <a:off x="1685880" y="1698120"/>
            <a:ext cx="0" cy="209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5"/>
          <p:cNvSpPr/>
          <p:nvPr/>
        </p:nvSpPr>
        <p:spPr>
          <a:xfrm flipH="1">
            <a:off x="1681200" y="1709640"/>
            <a:ext cx="3096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6"/>
          <p:cNvSpPr/>
          <p:nvPr/>
        </p:nvSpPr>
        <p:spPr>
          <a:xfrm flipV="1">
            <a:off x="1786680" y="1844640"/>
            <a:ext cx="1800" cy="18036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7"/>
          <p:cNvSpPr/>
          <p:nvPr/>
        </p:nvSpPr>
        <p:spPr>
          <a:xfrm flipH="1">
            <a:off x="1782720" y="1846440"/>
            <a:ext cx="208080" cy="1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8"/>
          <p:cNvSpPr/>
          <p:nvPr/>
        </p:nvSpPr>
        <p:spPr>
          <a:xfrm>
            <a:off x="4781520" y="1177920"/>
            <a:ext cx="11476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6280" tIns="0" bIns="0" anchor="ctr">
            <a:noAutofit/>
          </a:bodyPr>
          <a:p>
            <a:pPr marL="27000" algn="ctr">
              <a:spcBef>
                <a:spcPts val="587"/>
              </a:spcBef>
              <a:tabLst>
                <a:tab algn="l" pos="0"/>
                <a:tab algn="l" pos="23760"/>
                <a:tab algn="l" pos="330120"/>
                <a:tab algn="l" pos="644400"/>
                <a:tab algn="l" pos="952560"/>
                <a:tab algn="l" pos="1260360"/>
                <a:tab algn="l" pos="1566720"/>
                <a:tab algn="l" pos="1873080"/>
                <a:tab algn="l" pos="2187720"/>
                <a:tab algn="l" pos="2495520"/>
                <a:tab algn="l" pos="2803680"/>
                <a:tab algn="l" pos="3110040"/>
                <a:tab algn="l" pos="3416400"/>
                <a:tab algn="l" pos="3730680"/>
                <a:tab algn="l" pos="4038480"/>
                <a:tab algn="l" pos="4344840"/>
                <a:tab algn="l" pos="4653000"/>
                <a:tab algn="l" pos="4959360"/>
                <a:tab algn="l" pos="5273640"/>
                <a:tab algn="l" pos="5581800"/>
                <a:tab algn="l" pos="5888160"/>
                <a:tab algn="l" pos="619596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ssiness Domain - Record Level data (i.e. Trad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19"/>
          <p:cNvSpPr/>
          <p:nvPr/>
        </p:nvSpPr>
        <p:spPr>
          <a:xfrm flipH="1">
            <a:off x="4131720" y="1392120"/>
            <a:ext cx="650520" cy="33516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20"/>
          <p:cNvSpPr/>
          <p:nvPr/>
        </p:nvSpPr>
        <p:spPr>
          <a:xfrm>
            <a:off x="4865760" y="2793960"/>
            <a:ext cx="1123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6280" tIns="0" bIns="0" anchor="ctr">
            <a:noAutofit/>
          </a:bodyPr>
          <a:p>
            <a:pPr marL="27000" algn="ctr">
              <a:spcBef>
                <a:spcPts val="587"/>
              </a:spcBef>
              <a:tabLst>
                <a:tab algn="l" pos="0"/>
                <a:tab algn="l" pos="23760"/>
                <a:tab algn="l" pos="330120"/>
                <a:tab algn="l" pos="644400"/>
                <a:tab algn="l" pos="952560"/>
                <a:tab algn="l" pos="1260360"/>
                <a:tab algn="l" pos="1566720"/>
                <a:tab algn="l" pos="1873080"/>
                <a:tab algn="l" pos="2187720"/>
                <a:tab algn="l" pos="2495520"/>
                <a:tab algn="l" pos="2803680"/>
                <a:tab algn="l" pos="3110040"/>
                <a:tab algn="l" pos="3416400"/>
                <a:tab algn="l" pos="3730680"/>
                <a:tab algn="l" pos="4038480"/>
                <a:tab algn="l" pos="4344840"/>
                <a:tab algn="l" pos="4653000"/>
                <a:tab algn="l" pos="4959360"/>
                <a:tab algn="l" pos="5273640"/>
                <a:tab algn="l" pos="5581800"/>
                <a:tab algn="l" pos="5888160"/>
                <a:tab algn="l" pos="619596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obLauncher, Implementations of Core AP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21"/>
          <p:cNvSpPr/>
          <p:nvPr/>
        </p:nvSpPr>
        <p:spPr>
          <a:xfrm rot="10800000">
            <a:off x="4142880" y="2852640"/>
            <a:ext cx="722520" cy="15408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22"/>
          <p:cNvSpPr/>
          <p:nvPr/>
        </p:nvSpPr>
        <p:spPr>
          <a:xfrm>
            <a:off x="4775040" y="3475080"/>
            <a:ext cx="11224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6280" tIns="0" bIns="0" anchor="ctr">
            <a:noAutofit/>
          </a:bodyPr>
          <a:p>
            <a:pPr marL="27000" algn="ctr">
              <a:spcBef>
                <a:spcPts val="587"/>
              </a:spcBef>
              <a:tabLst>
                <a:tab algn="l" pos="0"/>
                <a:tab algn="l" pos="23760"/>
                <a:tab algn="l" pos="330120"/>
                <a:tab algn="l" pos="644400"/>
                <a:tab algn="l" pos="952560"/>
                <a:tab algn="l" pos="1260360"/>
                <a:tab algn="l" pos="1566720"/>
                <a:tab algn="l" pos="1873080"/>
                <a:tab algn="l" pos="2187720"/>
                <a:tab algn="l" pos="2495520"/>
                <a:tab algn="l" pos="2803680"/>
                <a:tab algn="l" pos="3110040"/>
                <a:tab algn="l" pos="3416400"/>
                <a:tab algn="l" pos="3730680"/>
                <a:tab algn="l" pos="4038480"/>
                <a:tab algn="l" pos="4344840"/>
                <a:tab algn="l" pos="4653000"/>
                <a:tab algn="l" pos="4959360"/>
                <a:tab algn="l" pos="5273640"/>
                <a:tab algn="l" pos="5581800"/>
                <a:tab algn="l" pos="5888160"/>
                <a:tab algn="l" pos="619596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peat, Retry, Transaction, Input, Outpu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23"/>
          <p:cNvSpPr/>
          <p:nvPr/>
        </p:nvSpPr>
        <p:spPr>
          <a:xfrm flipH="1">
            <a:off x="4112640" y="3711600"/>
            <a:ext cx="663480" cy="1260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24"/>
          <p:cNvSpPr/>
          <p:nvPr/>
        </p:nvSpPr>
        <p:spPr>
          <a:xfrm>
            <a:off x="108000" y="3144960"/>
            <a:ext cx="112392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587"/>
              </a:spcBef>
              <a:tabLst>
                <a:tab algn="l" pos="0"/>
                <a:tab algn="l" pos="307800"/>
                <a:tab algn="l" pos="614520"/>
                <a:tab algn="l" pos="928800"/>
                <a:tab algn="l" pos="1235160"/>
                <a:tab algn="l" pos="1542960"/>
                <a:tab algn="l" pos="1851120"/>
                <a:tab algn="l" pos="2157480"/>
                <a:tab algn="l" pos="2471760"/>
                <a:tab algn="l" pos="2778120"/>
                <a:tab algn="l" pos="3086280"/>
                <a:tab algn="l" pos="3394080"/>
                <a:tab algn="l" pos="3700440"/>
                <a:tab algn="l" pos="4014720"/>
                <a:tab algn="l" pos="4321080"/>
                <a:tab algn="l" pos="4629240"/>
                <a:tab algn="l" pos="4937040"/>
                <a:tab algn="l" pos="5243400"/>
                <a:tab algn="l" pos="5557680"/>
                <a:tab algn="l" pos="5864400"/>
                <a:tab algn="l" pos="617220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clarative, plus Abstractions and Extension Poin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25"/>
          <p:cNvSpPr/>
          <p:nvPr/>
        </p:nvSpPr>
        <p:spPr>
          <a:xfrm flipH="1" rot="10800000">
            <a:off x="668880" y="2501640"/>
            <a:ext cx="847800" cy="61740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6"/>
          <p:cNvSpPr/>
          <p:nvPr/>
        </p:nvSpPr>
        <p:spPr>
          <a:xfrm>
            <a:off x="2760840" y="2103480"/>
            <a:ext cx="1440" cy="384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7"/>
          <p:cNvSpPr/>
          <p:nvPr/>
        </p:nvSpPr>
        <p:spPr>
          <a:xfrm flipH="1" flipV="1">
            <a:off x="3119400" y="2101680"/>
            <a:ext cx="6480" cy="3859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28"/>
          <p:cNvSpPr/>
          <p:nvPr/>
        </p:nvSpPr>
        <p:spPr>
          <a:xfrm>
            <a:off x="4788000" y="1986120"/>
            <a:ext cx="112212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6280" tIns="0" bIns="0" anchor="ctr">
            <a:noAutofit/>
          </a:bodyPr>
          <a:p>
            <a:pPr marL="27000" algn="ctr">
              <a:spcBef>
                <a:spcPts val="587"/>
              </a:spcBef>
              <a:tabLst>
                <a:tab algn="l" pos="0"/>
                <a:tab algn="l" pos="23760"/>
                <a:tab algn="l" pos="330120"/>
                <a:tab algn="l" pos="644400"/>
                <a:tab algn="l" pos="952560"/>
                <a:tab algn="l" pos="1260360"/>
                <a:tab algn="l" pos="1566720"/>
                <a:tab algn="l" pos="1873080"/>
                <a:tab algn="l" pos="2187720"/>
                <a:tab algn="l" pos="2495520"/>
                <a:tab algn="l" pos="2803680"/>
                <a:tab algn="l" pos="3110040"/>
                <a:tab algn="l" pos="3416400"/>
                <a:tab algn="l" pos="3730680"/>
                <a:tab algn="l" pos="4038480"/>
                <a:tab algn="l" pos="4344840"/>
                <a:tab algn="l" pos="4653000"/>
                <a:tab algn="l" pos="4959360"/>
                <a:tab algn="l" pos="5273640"/>
                <a:tab algn="l" pos="5581800"/>
                <a:tab algn="l" pos="5888160"/>
                <a:tab algn="l" pos="619596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ob, Step, JobLaunch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29"/>
          <p:cNvSpPr/>
          <p:nvPr/>
        </p:nvSpPr>
        <p:spPr>
          <a:xfrm flipH="1">
            <a:off x="4124160" y="2300400"/>
            <a:ext cx="658800" cy="34128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30"/>
          <p:cNvSpPr/>
          <p:nvPr/>
        </p:nvSpPr>
        <p:spPr>
          <a:xfrm>
            <a:off x="1685880" y="3801960"/>
            <a:ext cx="303120" cy="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31"/>
          <p:cNvSpPr/>
          <p:nvPr/>
        </p:nvSpPr>
        <p:spPr>
          <a:xfrm flipH="1">
            <a:off x="1782720" y="3649680"/>
            <a:ext cx="208080" cy="1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0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45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1T08:20:48Z</dcterms:created>
  <dc:creator> Dave Syer</dc:creator>
  <dc:description/>
  <dc:language>en-US</dc:language>
  <cp:lastModifiedBy> Dave Syer</cp:lastModifiedBy>
  <dcterms:modified xsi:type="dcterms:W3CDTF">2010-08-29T10:28:30Z</dcterms:modified>
  <cp:revision>63</cp:revision>
  <dc:subject/>
  <dc:title>Slide 1</dc:title>
</cp:coreProperties>
</file>