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0266-0627-4475-B2E4-5CA49C165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ivingQueryJob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ote-chunking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overview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spi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Flush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Write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Commit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0A2-FFA4-4AA0-B579-F549D52B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549-4FC0-407B-8A45-39572A1D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A640-4543-40F1-BDCB-099756BE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D77-7CA0-4123-B606-78285EE2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6EF-84E4-4A4A-ACA8-0466F43D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F54-E9CF-411F-A864-E98C70AB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DB8-0FBC-4386-B1ED-D6714A10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97D-04BE-42F4-85EB-160E2DF3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D5C-FCC5-4250-8A15-2BAF7359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152-6A4F-4E8D-878F-C23C4AF9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F2C-D2BD-4E1F-BA0A-143DE4F6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292-472B-4EB0-93F1-D18C0474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1A01E699-136A-4043-BD49-B13FBE4E4D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32000" y="1189080"/>
            <a:ext cx="216036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189080" y="197136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2360" y="2197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4560" y="1492200"/>
            <a:ext cx="750600" cy="1008000"/>
            <a:chOff x="394560" y="1492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468000" y="1779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4560" y="1492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971280" y="2139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189160" y="19713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036880" y="2143800"/>
            <a:ext cx="8082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255320" y="900000"/>
            <a:ext cx="196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Executor iterates ov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5" idx="2"/>
            <a:endCxn id="59" idx="2"/>
          </p:cNvCxnSpPr>
          <p:nvPr/>
        </p:nvCxnSpPr>
        <p:spPr>
          <a:xfrm flipV="1">
            <a:off x="3189240" y="2143440"/>
            <a:ext cx="10242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213080" y="18464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89CC877E-D1C8-4703-9E6D-BF37FE85350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284" name="Rectangle 3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287" name="Group 6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288" name="Rectangle 7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8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Rectangle 9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292" name="Group 11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293" name="Rectangle 12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3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14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5"/>
          <p:cNvGrpSpPr/>
          <p:nvPr/>
        </p:nvGrpSpPr>
        <p:grpSpPr>
          <a:xfrm>
            <a:off x="4602240" y="1530360"/>
            <a:ext cx="1147680" cy="433440"/>
            <a:chOff x="4602240" y="1530360"/>
            <a:chExt cx="1147680" cy="433440"/>
          </a:xfrm>
        </p:grpSpPr>
        <p:grpSp>
          <p:nvGrpSpPr>
            <p:cNvPr id="297" name="Group 16"/>
            <p:cNvGrpSpPr/>
            <p:nvPr/>
          </p:nvGrpSpPr>
          <p:grpSpPr>
            <a:xfrm>
              <a:off x="4602240" y="1530360"/>
              <a:ext cx="1147680" cy="433440"/>
              <a:chOff x="4602240" y="1530360"/>
              <a:chExt cx="1147680" cy="433440"/>
            </a:xfrm>
          </p:grpSpPr>
          <p:sp>
            <p:nvSpPr>
              <p:cNvPr id="298" name="Rectangle 17"/>
              <p:cNvSpPr/>
              <p:nvPr/>
            </p:nvSpPr>
            <p:spPr>
              <a:xfrm>
                <a:off x="4602240" y="1530360"/>
                <a:ext cx="114768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8"/>
              <p:cNvSpPr/>
              <p:nvPr/>
            </p:nvSpPr>
            <p:spPr>
              <a:xfrm>
                <a:off x="4823280" y="1598760"/>
                <a:ext cx="70524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19"/>
            <p:cNvSpPr/>
            <p:nvPr/>
          </p:nvSpPr>
          <p:spPr>
            <a:xfrm>
              <a:off x="4602240" y="1662840"/>
              <a:ext cx="114300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0"/>
          <p:cNvGrpSpPr/>
          <p:nvPr/>
        </p:nvGrpSpPr>
        <p:grpSpPr>
          <a:xfrm>
            <a:off x="4583160" y="2676600"/>
            <a:ext cx="1208160" cy="433440"/>
            <a:chOff x="4583160" y="2676600"/>
            <a:chExt cx="1208160" cy="433440"/>
          </a:xfrm>
        </p:grpSpPr>
        <p:grpSp>
          <p:nvGrpSpPr>
            <p:cNvPr id="302" name="Group 21"/>
            <p:cNvGrpSpPr/>
            <p:nvPr/>
          </p:nvGrpSpPr>
          <p:grpSpPr>
            <a:xfrm>
              <a:off x="4583160" y="2676600"/>
              <a:ext cx="1208160" cy="433440"/>
              <a:chOff x="4583160" y="2676600"/>
              <a:chExt cx="1208160" cy="43344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4583160" y="2676600"/>
                <a:ext cx="12081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815720" y="2745000"/>
                <a:ext cx="74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24"/>
            <p:cNvSpPr/>
            <p:nvPr/>
          </p:nvSpPr>
          <p:spPr>
            <a:xfrm>
              <a:off x="4583160" y="2809080"/>
              <a:ext cx="12034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25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7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5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17" name="Group 36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18" name="Rectangle 37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38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Rectangle 39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utoShape 40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1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2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1B5DE539-4211-427E-A38F-DFBDFB3FCB2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327" name="Rectangle 4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6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330" name="Group 7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331" name="Rectangle 8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9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10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1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335" name="Group 12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336" name="Rectangle 13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4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15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6"/>
          <p:cNvGrpSpPr/>
          <p:nvPr/>
        </p:nvGrpSpPr>
        <p:grpSpPr>
          <a:xfrm>
            <a:off x="4572000" y="1530360"/>
            <a:ext cx="1206360" cy="433440"/>
            <a:chOff x="4572000" y="1530360"/>
            <a:chExt cx="1206360" cy="433440"/>
          </a:xfrm>
        </p:grpSpPr>
        <p:grpSp>
          <p:nvGrpSpPr>
            <p:cNvPr id="340" name="Group 17"/>
            <p:cNvGrpSpPr/>
            <p:nvPr/>
          </p:nvGrpSpPr>
          <p:grpSpPr>
            <a:xfrm>
              <a:off x="4572000" y="1530360"/>
              <a:ext cx="1206360" cy="433440"/>
              <a:chOff x="4572000" y="1530360"/>
              <a:chExt cx="1206360" cy="433440"/>
            </a:xfrm>
          </p:grpSpPr>
          <p:sp>
            <p:nvSpPr>
              <p:cNvPr id="341" name="Rectangle 18"/>
              <p:cNvSpPr/>
              <p:nvPr/>
            </p:nvSpPr>
            <p:spPr>
              <a:xfrm>
                <a:off x="4572000" y="1530360"/>
                <a:ext cx="12063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9"/>
              <p:cNvSpPr/>
              <p:nvPr/>
            </p:nvSpPr>
            <p:spPr>
              <a:xfrm>
                <a:off x="4804200" y="1598760"/>
                <a:ext cx="74088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Rectangle 20"/>
            <p:cNvSpPr/>
            <p:nvPr/>
          </p:nvSpPr>
          <p:spPr>
            <a:xfrm>
              <a:off x="4572000" y="1662840"/>
              <a:ext cx="12016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1"/>
          <p:cNvGrpSpPr/>
          <p:nvPr/>
        </p:nvGrpSpPr>
        <p:grpSpPr>
          <a:xfrm>
            <a:off x="4583160" y="2676600"/>
            <a:ext cx="1190520" cy="433440"/>
            <a:chOff x="4583160" y="2676600"/>
            <a:chExt cx="1190520" cy="433440"/>
          </a:xfrm>
        </p:grpSpPr>
        <p:grpSp>
          <p:nvGrpSpPr>
            <p:cNvPr id="345" name="Group 22"/>
            <p:cNvGrpSpPr/>
            <p:nvPr/>
          </p:nvGrpSpPr>
          <p:grpSpPr>
            <a:xfrm>
              <a:off x="4583160" y="2676600"/>
              <a:ext cx="1190520" cy="433440"/>
              <a:chOff x="4583160" y="2676600"/>
              <a:chExt cx="1190520" cy="433440"/>
            </a:xfrm>
          </p:grpSpPr>
          <p:sp>
            <p:nvSpPr>
              <p:cNvPr id="346" name="Rectangle 23"/>
              <p:cNvSpPr/>
              <p:nvPr/>
            </p:nvSpPr>
            <p:spPr>
              <a:xfrm>
                <a:off x="4583160" y="26766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24"/>
              <p:cNvSpPr/>
              <p:nvPr/>
            </p:nvSpPr>
            <p:spPr>
              <a:xfrm>
                <a:off x="4812840" y="27450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Rectangle 25"/>
            <p:cNvSpPr/>
            <p:nvPr/>
          </p:nvSpPr>
          <p:spPr>
            <a:xfrm>
              <a:off x="4583160" y="28090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26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8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5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6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60" name="Group 37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61" name="Rectangle 38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39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Rectangle 40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AutoShape 41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2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3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4"/>
          <p:cNvGrpSpPr/>
          <p:nvPr/>
        </p:nvGrpSpPr>
        <p:grpSpPr>
          <a:xfrm>
            <a:off x="4583160" y="2097000"/>
            <a:ext cx="1190520" cy="433440"/>
            <a:chOff x="4583160" y="2097000"/>
            <a:chExt cx="1190520" cy="433440"/>
          </a:xfrm>
        </p:grpSpPr>
        <p:grpSp>
          <p:nvGrpSpPr>
            <p:cNvPr id="368" name="Group 45"/>
            <p:cNvGrpSpPr/>
            <p:nvPr/>
          </p:nvGrpSpPr>
          <p:grpSpPr>
            <a:xfrm>
              <a:off x="4583160" y="2097000"/>
              <a:ext cx="1190520" cy="433440"/>
              <a:chOff x="4583160" y="2097000"/>
              <a:chExt cx="1190520" cy="433440"/>
            </a:xfrm>
          </p:grpSpPr>
          <p:sp>
            <p:nvSpPr>
              <p:cNvPr id="369" name="Rectangle 46"/>
              <p:cNvSpPr/>
              <p:nvPr/>
            </p:nvSpPr>
            <p:spPr>
              <a:xfrm>
                <a:off x="4583160" y="20970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47"/>
              <p:cNvSpPr/>
              <p:nvPr/>
            </p:nvSpPr>
            <p:spPr>
              <a:xfrm>
                <a:off x="4812840" y="21654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Rectangle 48"/>
            <p:cNvSpPr/>
            <p:nvPr/>
          </p:nvSpPr>
          <p:spPr>
            <a:xfrm>
              <a:off x="4583160" y="22294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Line 49"/>
          <p:cNvSpPr/>
          <p:nvPr/>
        </p:nvSpPr>
        <p:spPr>
          <a:xfrm>
            <a:off x="4079880" y="2313000"/>
            <a:ext cx="45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0"/>
          <p:cNvSpPr/>
          <p:nvPr/>
        </p:nvSpPr>
        <p:spPr>
          <a:xfrm>
            <a:off x="4432320" y="2120760"/>
            <a:ext cx="8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1"/>
          <p:cNvSpPr/>
          <p:nvPr/>
        </p:nvSpPr>
        <p:spPr>
          <a:xfrm>
            <a:off x="4182480" y="2161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995FCB5-C0F5-4F84-9838-D8EC6EB44862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78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381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384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8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11B16BE-721B-4845-AC59-DC9CEFD08147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99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02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05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8"/>
          <p:cNvGrpSpPr/>
          <p:nvPr/>
        </p:nvGrpSpPr>
        <p:grpSpPr>
          <a:xfrm>
            <a:off x="2733840" y="2076480"/>
            <a:ext cx="1201680" cy="339840"/>
            <a:chOff x="2733840" y="2076480"/>
            <a:chExt cx="1201680" cy="339840"/>
          </a:xfrm>
        </p:grpSpPr>
        <p:sp>
          <p:nvSpPr>
            <p:cNvPr id="415" name="Rectangle 19"/>
            <p:cNvSpPr/>
            <p:nvPr/>
          </p:nvSpPr>
          <p:spPr>
            <a:xfrm>
              <a:off x="2733840" y="2076480"/>
              <a:ext cx="1201680" cy="33984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"/>
            <p:cNvSpPr/>
            <p:nvPr/>
          </p:nvSpPr>
          <p:spPr>
            <a:xfrm>
              <a:off x="2815920" y="2106000"/>
              <a:ext cx="1036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Paramet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21"/>
          <p:cNvSpPr/>
          <p:nvPr/>
        </p:nvSpPr>
        <p:spPr>
          <a:xfrm>
            <a:off x="4047120" y="1584720"/>
            <a:ext cx="1464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chedule.date =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2007/05/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2"/>
          <p:cNvSpPr/>
          <p:nvPr/>
        </p:nvSpPr>
        <p:spPr>
          <a:xfrm flipH="1">
            <a:off x="3688920" y="1693800"/>
            <a:ext cx="38916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3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4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5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6"/>
          <p:cNvSpPr/>
          <p:nvPr/>
        </p:nvSpPr>
        <p:spPr>
          <a:xfrm rot="8896800">
            <a:off x="2122200" y="2322000"/>
            <a:ext cx="581040" cy="184320"/>
          </a:xfrm>
          <a:prstGeom prst="rightArrow">
            <a:avLst>
              <a:gd name="adj1" fmla="val 33509"/>
              <a:gd name="adj2" fmla="val 10589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CDED2CC4-FBD2-4BE8-880A-42C1DF0A3B11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426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29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32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2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5"/>
          <p:cNvGrpSpPr/>
          <p:nvPr/>
        </p:nvGrpSpPr>
        <p:grpSpPr>
          <a:xfrm>
            <a:off x="2538360" y="1695600"/>
            <a:ext cx="1231920" cy="328320"/>
            <a:chOff x="2538360" y="1695600"/>
            <a:chExt cx="1231920" cy="328320"/>
          </a:xfrm>
        </p:grpSpPr>
        <p:sp>
          <p:nvSpPr>
            <p:cNvPr id="439" name="Rectangle 16"/>
            <p:cNvSpPr/>
            <p:nvPr/>
          </p:nvSpPr>
          <p:spPr>
            <a:xfrm>
              <a:off x="2538360" y="1695600"/>
              <a:ext cx="12319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989080" y="1724400"/>
              <a:ext cx="3297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8"/>
          <p:cNvGrpSpPr/>
          <p:nvPr/>
        </p:nvGrpSpPr>
        <p:grpSpPr>
          <a:xfrm>
            <a:off x="3092400" y="3656160"/>
            <a:ext cx="1046160" cy="279360"/>
            <a:chOff x="3092400" y="3656160"/>
            <a:chExt cx="1046160" cy="279360"/>
          </a:xfrm>
        </p:grpSpPr>
        <p:sp>
          <p:nvSpPr>
            <p:cNvPr id="442" name="Rectangle 19"/>
            <p:cNvSpPr/>
            <p:nvPr/>
          </p:nvSpPr>
          <p:spPr>
            <a:xfrm>
              <a:off x="3092400" y="3656160"/>
              <a:ext cx="1046160" cy="2793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3139920" y="3690000"/>
              <a:ext cx="9496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21"/>
          <p:cNvSpPr/>
          <p:nvPr/>
        </p:nvSpPr>
        <p:spPr>
          <a:xfrm>
            <a:off x="3570480" y="31939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4392600">
            <a:off x="2596680" y="2739600"/>
            <a:ext cx="1573200" cy="179280"/>
          </a:xfrm>
          <a:prstGeom prst="rightArrow">
            <a:avLst>
              <a:gd name="adj1" fmla="val 33509"/>
              <a:gd name="adj2" fmla="val 11082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3"/>
          <p:cNvSpPr/>
          <p:nvPr/>
        </p:nvSpPr>
        <p:spPr>
          <a:xfrm rot="1629600">
            <a:off x="1899720" y="1622160"/>
            <a:ext cx="579600" cy="182520"/>
          </a:xfrm>
          <a:prstGeom prst="rightArrow">
            <a:avLst>
              <a:gd name="adj1" fmla="val 33509"/>
              <a:gd name="adj2" fmla="val 10667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2202120" y="15415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5"/>
          <p:cNvSpPr/>
          <p:nvPr/>
        </p:nvSpPr>
        <p:spPr>
          <a:xfrm rot="1629600">
            <a:off x="2437920" y="3559320"/>
            <a:ext cx="581040" cy="182520"/>
          </a:xfrm>
          <a:prstGeom prst="rightArrow">
            <a:avLst>
              <a:gd name="adj1" fmla="val 33509"/>
              <a:gd name="adj2" fmla="val 1069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6"/>
          <p:cNvSpPr/>
          <p:nvPr/>
        </p:nvSpPr>
        <p:spPr>
          <a:xfrm>
            <a:off x="2739600" y="34797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5A0D7353-DEA7-42A9-B3BE-AA4799BAACB2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Item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53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61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1287360" y="2417760"/>
            <a:ext cx="1828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2397240" y="2232000"/>
            <a:ext cx="7477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3143160" y="2327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9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1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4"/>
          <p:cNvSpPr/>
          <p:nvPr/>
        </p:nvSpPr>
        <p:spPr>
          <a:xfrm>
            <a:off x="1282680" y="2800440"/>
            <a:ext cx="76356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5"/>
          <p:cNvSpPr/>
          <p:nvPr/>
        </p:nvSpPr>
        <p:spPr>
          <a:xfrm>
            <a:off x="1406520" y="261936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6"/>
          <p:cNvSpPr/>
          <p:nvPr/>
        </p:nvSpPr>
        <p:spPr>
          <a:xfrm>
            <a:off x="2065320" y="274176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7"/>
          <p:cNvSpPr/>
          <p:nvPr/>
        </p:nvSpPr>
        <p:spPr>
          <a:xfrm>
            <a:off x="1287360" y="340524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8"/>
          <p:cNvSpPr/>
          <p:nvPr/>
        </p:nvSpPr>
        <p:spPr>
          <a:xfrm>
            <a:off x="2397240" y="3219480"/>
            <a:ext cx="74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9"/>
          <p:cNvSpPr/>
          <p:nvPr/>
        </p:nvSpPr>
        <p:spPr>
          <a:xfrm>
            <a:off x="3143160" y="3308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 flipH="1">
            <a:off x="1287360" y="31320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1"/>
          <p:cNvSpPr/>
          <p:nvPr/>
        </p:nvSpPr>
        <p:spPr>
          <a:xfrm>
            <a:off x="1477800" y="29606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32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483" name="Rectangle 33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4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28F2BB5-D717-461F-BD09-754861382AA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Chunk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88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96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5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6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7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8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9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1"/>
          <p:cNvSpPr/>
          <p:nvPr/>
        </p:nvSpPr>
        <p:spPr>
          <a:xfrm>
            <a:off x="1282680" y="2585880"/>
            <a:ext cx="763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2"/>
          <p:cNvSpPr/>
          <p:nvPr/>
        </p:nvSpPr>
        <p:spPr>
          <a:xfrm>
            <a:off x="1406520" y="240660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2065320" y="252900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4"/>
          <p:cNvSpPr/>
          <p:nvPr/>
        </p:nvSpPr>
        <p:spPr>
          <a:xfrm>
            <a:off x="1287360" y="3295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2397240" y="3110040"/>
            <a:ext cx="747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3143160" y="319896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 flipH="1">
            <a:off x="1287360" y="29178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8"/>
          <p:cNvSpPr/>
          <p:nvPr/>
        </p:nvSpPr>
        <p:spPr>
          <a:xfrm>
            <a:off x="1477800" y="27464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29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515" name="Rectangle 30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31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6403390E-D064-48D4-9129-73F1130DC936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2"/>
          <p:cNvGrpSpPr/>
          <p:nvPr/>
        </p:nvGrpSpPr>
        <p:grpSpPr>
          <a:xfrm>
            <a:off x="458640" y="2116080"/>
            <a:ext cx="1136880" cy="395280"/>
            <a:chOff x="458640" y="2116080"/>
            <a:chExt cx="1136880" cy="395280"/>
          </a:xfrm>
        </p:grpSpPr>
        <p:sp>
          <p:nvSpPr>
            <p:cNvPr id="520" name="Rectangle 3"/>
            <p:cNvSpPr/>
            <p:nvPr/>
          </p:nvSpPr>
          <p:spPr>
            <a:xfrm>
              <a:off x="458640" y="2116080"/>
              <a:ext cx="11368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"/>
            <p:cNvSpPr/>
            <p:nvPr/>
          </p:nvSpPr>
          <p:spPr>
            <a:xfrm>
              <a:off x="677520" y="2178360"/>
              <a:ext cx="6976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5"/>
          <p:cNvGrpSpPr/>
          <p:nvPr/>
        </p:nvGrpSpPr>
        <p:grpSpPr>
          <a:xfrm>
            <a:off x="2217600" y="2768760"/>
            <a:ext cx="1517760" cy="433080"/>
            <a:chOff x="2217600" y="2768760"/>
            <a:chExt cx="1517760" cy="433080"/>
          </a:xfrm>
        </p:grpSpPr>
        <p:sp>
          <p:nvSpPr>
            <p:cNvPr id="523" name="Rectangle 6"/>
            <p:cNvSpPr/>
            <p:nvPr/>
          </p:nvSpPr>
          <p:spPr>
            <a:xfrm>
              <a:off x="2217600" y="2768760"/>
              <a:ext cx="151776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7"/>
            <p:cNvSpPr/>
            <p:nvPr/>
          </p:nvSpPr>
          <p:spPr>
            <a:xfrm>
              <a:off x="2510280" y="2837160"/>
              <a:ext cx="9313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8"/>
          <p:cNvGrpSpPr/>
          <p:nvPr/>
        </p:nvGrpSpPr>
        <p:grpSpPr>
          <a:xfrm>
            <a:off x="2222640" y="1469880"/>
            <a:ext cx="1506240" cy="432000"/>
            <a:chOff x="2222640" y="1469880"/>
            <a:chExt cx="1506240" cy="432000"/>
          </a:xfrm>
        </p:grpSpPr>
        <p:sp>
          <p:nvSpPr>
            <p:cNvPr id="526" name="Rectangle 9"/>
            <p:cNvSpPr/>
            <p:nvPr/>
          </p:nvSpPr>
          <p:spPr>
            <a:xfrm>
              <a:off x="2222640" y="1469880"/>
              <a:ext cx="15062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2513160" y="1538280"/>
              <a:ext cx="9241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AutoShape 11"/>
          <p:cNvSpPr/>
          <p:nvPr/>
        </p:nvSpPr>
        <p:spPr>
          <a:xfrm rot="9029400">
            <a:off x="1661400" y="1792440"/>
            <a:ext cx="490680" cy="218880"/>
          </a:xfrm>
          <a:prstGeom prst="rightArrow">
            <a:avLst>
              <a:gd name="adj1" fmla="val 33509"/>
              <a:gd name="adj2" fmla="val 8909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"/>
          <p:cNvSpPr/>
          <p:nvPr/>
        </p:nvSpPr>
        <p:spPr>
          <a:xfrm rot="1950000">
            <a:off x="1638360" y="2657520"/>
            <a:ext cx="490320" cy="218880"/>
          </a:xfrm>
          <a:prstGeom prst="rightArrow">
            <a:avLst>
              <a:gd name="adj1" fmla="val 33509"/>
              <a:gd name="adj2" fmla="val 8902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650C69ED-6CFF-47D0-932A-4CE430F84B9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2"/>
          <p:cNvGrpSpPr/>
          <p:nvPr/>
        </p:nvGrpSpPr>
        <p:grpSpPr>
          <a:xfrm>
            <a:off x="382680" y="2103480"/>
            <a:ext cx="1135080" cy="396720"/>
            <a:chOff x="382680" y="2103480"/>
            <a:chExt cx="1135080" cy="396720"/>
          </a:xfrm>
        </p:grpSpPr>
        <p:sp>
          <p:nvSpPr>
            <p:cNvPr id="533" name="Rectangle 3"/>
            <p:cNvSpPr/>
            <p:nvPr/>
          </p:nvSpPr>
          <p:spPr>
            <a:xfrm>
              <a:off x="382680" y="2103480"/>
              <a:ext cx="113508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601200" y="2166120"/>
              <a:ext cx="69660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5"/>
          <p:cNvGrpSpPr/>
          <p:nvPr/>
        </p:nvGrpSpPr>
        <p:grpSpPr>
          <a:xfrm>
            <a:off x="4321080" y="3146400"/>
            <a:ext cx="1536840" cy="432000"/>
            <a:chOff x="4321080" y="3146400"/>
            <a:chExt cx="1536840" cy="432000"/>
          </a:xfrm>
        </p:grpSpPr>
        <p:sp>
          <p:nvSpPr>
            <p:cNvPr id="536" name="Rectangle 6"/>
            <p:cNvSpPr/>
            <p:nvPr/>
          </p:nvSpPr>
          <p:spPr>
            <a:xfrm>
              <a:off x="4321080" y="3146400"/>
              <a:ext cx="15368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4617000" y="3214800"/>
              <a:ext cx="94428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8"/>
          <p:cNvGrpSpPr/>
          <p:nvPr/>
        </p:nvGrpSpPr>
        <p:grpSpPr>
          <a:xfrm>
            <a:off x="2144880" y="1457280"/>
            <a:ext cx="1506240" cy="433440"/>
            <a:chOff x="2144880" y="1457280"/>
            <a:chExt cx="1506240" cy="433440"/>
          </a:xfrm>
        </p:grpSpPr>
        <p:sp>
          <p:nvSpPr>
            <p:cNvPr id="539" name="Rectangle 9"/>
            <p:cNvSpPr/>
            <p:nvPr/>
          </p:nvSpPr>
          <p:spPr>
            <a:xfrm>
              <a:off x="2144880" y="1457280"/>
              <a:ext cx="150624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2435400" y="1525680"/>
              <a:ext cx="924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AutoShape 11"/>
          <p:cNvSpPr/>
          <p:nvPr/>
        </p:nvSpPr>
        <p:spPr>
          <a:xfrm rot="9029400">
            <a:off x="1583640" y="1779120"/>
            <a:ext cx="490680" cy="219240"/>
          </a:xfrm>
          <a:prstGeom prst="rightArrow">
            <a:avLst>
              <a:gd name="adj1" fmla="val 33509"/>
              <a:gd name="adj2" fmla="val 8894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2"/>
          <p:cNvSpPr/>
          <p:nvPr/>
        </p:nvSpPr>
        <p:spPr>
          <a:xfrm rot="1537200">
            <a:off x="1560240" y="2607840"/>
            <a:ext cx="488880" cy="219240"/>
          </a:xfrm>
          <a:prstGeom prst="rightArrow">
            <a:avLst>
              <a:gd name="adj1" fmla="val 33509"/>
              <a:gd name="adj2" fmla="val 8861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2116080" y="2700360"/>
            <a:ext cx="1571760" cy="426960"/>
            <a:chOff x="2116080" y="2700360"/>
            <a:chExt cx="1571760" cy="426960"/>
          </a:xfrm>
        </p:grpSpPr>
        <p:sp>
          <p:nvSpPr>
            <p:cNvPr id="544" name="Rectangle 14"/>
            <p:cNvSpPr/>
            <p:nvPr/>
          </p:nvSpPr>
          <p:spPr>
            <a:xfrm>
              <a:off x="2116080" y="2700360"/>
              <a:ext cx="1571760" cy="42696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2419200" y="2768040"/>
              <a:ext cx="9644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2120760" y="3835440"/>
            <a:ext cx="1560600" cy="431640"/>
            <a:chOff x="2120760" y="3835440"/>
            <a:chExt cx="1560600" cy="431640"/>
          </a:xfrm>
        </p:grpSpPr>
        <p:sp>
          <p:nvSpPr>
            <p:cNvPr id="547" name="Rectangle 17"/>
            <p:cNvSpPr/>
            <p:nvPr/>
          </p:nvSpPr>
          <p:spPr>
            <a:xfrm>
              <a:off x="2120760" y="3835440"/>
              <a:ext cx="1560600" cy="4316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422080" y="3903840"/>
              <a:ext cx="9579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AutoShape 19"/>
          <p:cNvSpPr/>
          <p:nvPr/>
        </p:nvSpPr>
        <p:spPr>
          <a:xfrm rot="5400000">
            <a:off x="2557800" y="3396240"/>
            <a:ext cx="682920" cy="185760"/>
          </a:xfrm>
          <a:prstGeom prst="leftRightArrow">
            <a:avLst>
              <a:gd name="adj1" fmla="val 34824"/>
              <a:gd name="adj2" fmla="val 13159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0"/>
          <p:cNvSpPr/>
          <p:nvPr/>
        </p:nvSpPr>
        <p:spPr>
          <a:xfrm rot="1537200">
            <a:off x="3784320" y="3058920"/>
            <a:ext cx="488880" cy="218880"/>
          </a:xfrm>
          <a:prstGeom prst="rightArrow">
            <a:avLst>
              <a:gd name="adj1" fmla="val 33509"/>
              <a:gd name="adj2" fmla="val 887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67E0D931-EF2A-4750-8EA3-21914BCE2E26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ew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2"/>
          <p:cNvGrpSpPr/>
          <p:nvPr/>
        </p:nvGrpSpPr>
        <p:grpSpPr>
          <a:xfrm>
            <a:off x="369720" y="2092320"/>
            <a:ext cx="1135080" cy="395280"/>
            <a:chOff x="369720" y="2092320"/>
            <a:chExt cx="1135080" cy="395280"/>
          </a:xfrm>
        </p:grpSpPr>
        <p:sp>
          <p:nvSpPr>
            <p:cNvPr id="554" name="Rectangle 3"/>
            <p:cNvSpPr/>
            <p:nvPr/>
          </p:nvSpPr>
          <p:spPr>
            <a:xfrm>
              <a:off x="369720" y="209232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4"/>
            <p:cNvSpPr/>
            <p:nvPr/>
          </p:nvSpPr>
          <p:spPr>
            <a:xfrm>
              <a:off x="588240" y="215460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AutoShape 5"/>
          <p:cNvSpPr/>
          <p:nvPr/>
        </p:nvSpPr>
        <p:spPr>
          <a:xfrm rot="9029400">
            <a:off x="1564560" y="1734840"/>
            <a:ext cx="614520" cy="218880"/>
          </a:xfrm>
          <a:prstGeom prst="rightArrow">
            <a:avLst>
              <a:gd name="adj1" fmla="val 33509"/>
              <a:gd name="adj2" fmla="val 8882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/>
          <p:cNvSpPr/>
          <p:nvPr/>
        </p:nvSpPr>
        <p:spPr>
          <a:xfrm rot="1537200">
            <a:off x="1537920" y="2631600"/>
            <a:ext cx="658800" cy="220680"/>
          </a:xfrm>
          <a:prstGeom prst="rightArrow">
            <a:avLst>
              <a:gd name="adj1" fmla="val 33509"/>
              <a:gd name="adj2" fmla="val 884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2249640" y="2109960"/>
            <a:ext cx="1569960" cy="433080"/>
            <a:chOff x="2249640" y="2109960"/>
            <a:chExt cx="1569960" cy="433080"/>
          </a:xfrm>
        </p:grpSpPr>
        <p:sp>
          <p:nvSpPr>
            <p:cNvPr id="559" name="Rectangle 8"/>
            <p:cNvSpPr/>
            <p:nvPr/>
          </p:nvSpPr>
          <p:spPr>
            <a:xfrm>
              <a:off x="2251800" y="2109960"/>
              <a:ext cx="1567800" cy="43308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"/>
            <p:cNvSpPr/>
            <p:nvPr/>
          </p:nvSpPr>
          <p:spPr>
            <a:xfrm>
              <a:off x="2249640" y="2180160"/>
              <a:ext cx="15678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10"/>
          <p:cNvSpPr/>
          <p:nvPr/>
        </p:nvSpPr>
        <p:spPr>
          <a:xfrm rot="10800000">
            <a:off x="1577520" y="2230560"/>
            <a:ext cx="628920" cy="188640"/>
          </a:xfrm>
          <a:prstGeom prst="leftRightArrow">
            <a:avLst>
              <a:gd name="adj1" fmla="val 33843"/>
              <a:gd name="adj2" fmla="val 935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1"/>
          <p:cNvGrpSpPr/>
          <p:nvPr/>
        </p:nvGrpSpPr>
        <p:grpSpPr>
          <a:xfrm>
            <a:off x="2252520" y="1427040"/>
            <a:ext cx="1560600" cy="433440"/>
            <a:chOff x="2252520" y="1427040"/>
            <a:chExt cx="1560600" cy="433440"/>
          </a:xfrm>
        </p:grpSpPr>
        <p:sp>
          <p:nvSpPr>
            <p:cNvPr id="563" name="Rectangle 12"/>
            <p:cNvSpPr/>
            <p:nvPr/>
          </p:nvSpPr>
          <p:spPr>
            <a:xfrm>
              <a:off x="2252520" y="1427040"/>
              <a:ext cx="156060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2553840" y="1495440"/>
              <a:ext cx="957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4"/>
          <p:cNvGrpSpPr/>
          <p:nvPr/>
        </p:nvGrpSpPr>
        <p:grpSpPr>
          <a:xfrm>
            <a:off x="2252520" y="2768760"/>
            <a:ext cx="1560600" cy="433080"/>
            <a:chOff x="2252520" y="2768760"/>
            <a:chExt cx="1560600" cy="433080"/>
          </a:xfrm>
        </p:grpSpPr>
        <p:sp>
          <p:nvSpPr>
            <p:cNvPr id="566" name="Rectangle 15"/>
            <p:cNvSpPr/>
            <p:nvPr/>
          </p:nvSpPr>
          <p:spPr>
            <a:xfrm>
              <a:off x="2252520" y="2768760"/>
              <a:ext cx="156060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6"/>
            <p:cNvSpPr/>
            <p:nvPr/>
          </p:nvSpPr>
          <p:spPr>
            <a:xfrm>
              <a:off x="2553480" y="2837160"/>
              <a:ext cx="9572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2720" y="1352520"/>
            <a:ext cx="1568520" cy="18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2" idx="3"/>
            <a:endCxn id="63" idx="0"/>
          </p:cNvCxnSpPr>
          <p:nvPr/>
        </p:nvCxnSpPr>
        <p:spPr>
          <a:xfrm>
            <a:off x="948960" y="2260440"/>
            <a:ext cx="1307160" cy="5760"/>
          </a:xfrm>
          <a:prstGeom prst="bentConnector3">
            <a:avLst>
              <a:gd name="adj1" fmla="val 495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457360" y="3692520"/>
            <a:ext cx="868320" cy="41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18240" y="1959120"/>
            <a:ext cx="839520" cy="6080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7" idx="2"/>
            <a:endCxn id="65" idx="2"/>
          </p:cNvCxnSpPr>
          <p:nvPr/>
        </p:nvCxnSpPr>
        <p:spPr>
          <a:xfrm>
            <a:off x="3519360" y="2263320"/>
            <a:ext cx="129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572560" y="2121840"/>
            <a:ext cx="1612800" cy="28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MS Gothic"/>
              </a:rPr>
              <a:t>JdbcItemWri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2079720" y="2130480"/>
            <a:ext cx="1612800" cy="26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Gothic"/>
              </a:rPr>
              <a:t>ItemProces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3" idx="2"/>
            <a:endCxn id="63" idx="2"/>
          </p:cNvCxnSpPr>
          <p:nvPr/>
        </p:nvCxnSpPr>
        <p:spPr>
          <a:xfrm>
            <a:off x="2555640" y="2265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628720" y="1039680"/>
            <a:ext cx="3312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1597680" y="2113200"/>
            <a:ext cx="1616040" cy="300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dbc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3" idx="2"/>
            <a:endCxn id="68" idx="0"/>
          </p:cNvCxnSpPr>
          <p:nvPr/>
        </p:nvCxnSpPr>
        <p:spPr>
          <a:xfrm flipV="1">
            <a:off x="2555640" y="2261520"/>
            <a:ext cx="199080" cy="3960"/>
          </a:xfrm>
          <a:prstGeom prst="bentConnector3">
            <a:avLst>
              <a:gd name="adj1" fmla="val 494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0"/>
            <a:endCxn id="67" idx="0"/>
          </p:cNvCxnSpPr>
          <p:nvPr/>
        </p:nvCxnSpPr>
        <p:spPr>
          <a:xfrm flipH="1" flipV="1" rot="10800000">
            <a:off x="3238200" y="22626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0"/>
            <a:endCxn id="75" idx="2"/>
          </p:cNvCxnSpPr>
          <p:nvPr/>
        </p:nvCxnSpPr>
        <p:spPr>
          <a:xfrm flipH="1" flipV="1">
            <a:off x="649080" y="2515680"/>
            <a:ext cx="538560" cy="136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0200" y="3878280"/>
            <a:ext cx="2233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s obtained at step initial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4" idx="0"/>
            <a:endCxn id="68" idx="1"/>
          </p:cNvCxnSpPr>
          <p:nvPr/>
        </p:nvCxnSpPr>
        <p:spPr>
          <a:xfrm flipV="1" rot="16200000">
            <a:off x="2576880" y="3376440"/>
            <a:ext cx="624600" cy="720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8" idx="1"/>
            <a:endCxn id="64" idx="3"/>
          </p:cNvCxnSpPr>
          <p:nvPr/>
        </p:nvCxnSpPr>
        <p:spPr>
          <a:xfrm flipH="1">
            <a:off x="3325320" y="3630600"/>
            <a:ext cx="1113840" cy="270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4416480" y="3432240"/>
            <a:ext cx="156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Query for details us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 as parame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8120" y="2112840"/>
            <a:ext cx="866880" cy="393840"/>
            <a:chOff x="168120" y="2112840"/>
            <a:chExt cx="866880" cy="393840"/>
          </a:xfrm>
        </p:grpSpPr>
        <p:sp>
          <p:nvSpPr>
            <p:cNvPr id="75" name=""/>
            <p:cNvSpPr/>
            <p:nvPr/>
          </p:nvSpPr>
          <p:spPr>
            <a:xfrm>
              <a:off x="263520" y="2211480"/>
              <a:ext cx="77148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5640" y="216252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8120" y="211284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C95FAE70-923B-448B-8B04-DD779BA2AD8C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Late Binding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2"/>
          <p:cNvGrpSpPr/>
          <p:nvPr/>
        </p:nvGrpSpPr>
        <p:grpSpPr>
          <a:xfrm>
            <a:off x="477720" y="1062000"/>
            <a:ext cx="2282400" cy="1187640"/>
            <a:chOff x="477720" y="1062000"/>
            <a:chExt cx="2282400" cy="1187640"/>
          </a:xfrm>
        </p:grpSpPr>
        <p:grpSp>
          <p:nvGrpSpPr>
            <p:cNvPr id="571" name="Group 3"/>
            <p:cNvGrpSpPr/>
            <p:nvPr/>
          </p:nvGrpSpPr>
          <p:grpSpPr>
            <a:xfrm>
              <a:off x="477720" y="1504800"/>
              <a:ext cx="794520" cy="271800"/>
              <a:chOff x="477720" y="1504800"/>
              <a:chExt cx="794520" cy="271800"/>
            </a:xfrm>
          </p:grpSpPr>
          <p:sp>
            <p:nvSpPr>
              <p:cNvPr id="572" name="Rectangle 4"/>
              <p:cNvSpPr/>
              <p:nvPr/>
            </p:nvSpPr>
            <p:spPr>
              <a:xfrm>
                <a:off x="482040" y="1504800"/>
                <a:ext cx="790200" cy="27180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5"/>
              <p:cNvSpPr/>
              <p:nvPr/>
            </p:nvSpPr>
            <p:spPr>
              <a:xfrm>
                <a:off x="477720" y="1548720"/>
                <a:ext cx="789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6"/>
            <p:cNvGrpSpPr/>
            <p:nvPr/>
          </p:nvGrpSpPr>
          <p:grpSpPr>
            <a:xfrm>
              <a:off x="1703160" y="1952640"/>
              <a:ext cx="1056960" cy="297000"/>
              <a:chOff x="1703160" y="1952640"/>
              <a:chExt cx="1056960" cy="297000"/>
            </a:xfrm>
          </p:grpSpPr>
          <p:sp>
            <p:nvSpPr>
              <p:cNvPr id="575" name="Rectangle 7"/>
              <p:cNvSpPr/>
              <p:nvPr/>
            </p:nvSpPr>
            <p:spPr>
              <a:xfrm>
                <a:off x="1703520" y="1952640"/>
                <a:ext cx="105660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8"/>
              <p:cNvSpPr/>
              <p:nvPr/>
            </p:nvSpPr>
            <p:spPr>
              <a:xfrm>
                <a:off x="1703160" y="2000520"/>
                <a:ext cx="105588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9"/>
            <p:cNvGrpSpPr/>
            <p:nvPr/>
          </p:nvGrpSpPr>
          <p:grpSpPr>
            <a:xfrm>
              <a:off x="1708560" y="1062000"/>
              <a:ext cx="1049760" cy="297000"/>
              <a:chOff x="1708560" y="1062000"/>
              <a:chExt cx="1049760" cy="297000"/>
            </a:xfrm>
          </p:grpSpPr>
          <p:sp>
            <p:nvSpPr>
              <p:cNvPr id="578" name="Rectangle 10"/>
              <p:cNvSpPr/>
              <p:nvPr/>
            </p:nvSpPr>
            <p:spPr>
              <a:xfrm>
                <a:off x="1708560" y="1062000"/>
                <a:ext cx="104832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1"/>
              <p:cNvSpPr/>
              <p:nvPr/>
            </p:nvSpPr>
            <p:spPr>
              <a:xfrm>
                <a:off x="1710000" y="1109880"/>
                <a:ext cx="10483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AutoShape 12"/>
            <p:cNvSpPr/>
            <p:nvPr/>
          </p:nvSpPr>
          <p:spPr>
            <a:xfrm rot="9029400">
              <a:off x="1319760" y="1282320"/>
              <a:ext cx="339840" cy="15048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3"/>
            <p:cNvSpPr/>
            <p:nvPr/>
          </p:nvSpPr>
          <p:spPr>
            <a:xfrm rot="1950000">
              <a:off x="1301400" y="187596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4"/>
          <p:cNvGrpSpPr/>
          <p:nvPr/>
        </p:nvGrpSpPr>
        <p:grpSpPr>
          <a:xfrm>
            <a:off x="477720" y="2766960"/>
            <a:ext cx="2282400" cy="1189080"/>
            <a:chOff x="477720" y="2766960"/>
            <a:chExt cx="2282400" cy="1189080"/>
          </a:xfrm>
        </p:grpSpPr>
        <p:grpSp>
          <p:nvGrpSpPr>
            <p:cNvPr id="583" name="Group 15"/>
            <p:cNvGrpSpPr/>
            <p:nvPr/>
          </p:nvGrpSpPr>
          <p:grpSpPr>
            <a:xfrm>
              <a:off x="477720" y="3210480"/>
              <a:ext cx="794520" cy="272160"/>
              <a:chOff x="477720" y="3210480"/>
              <a:chExt cx="794520" cy="272160"/>
            </a:xfrm>
          </p:grpSpPr>
          <p:sp>
            <p:nvSpPr>
              <p:cNvPr id="584" name="Rectangle 16"/>
              <p:cNvSpPr/>
              <p:nvPr/>
            </p:nvSpPr>
            <p:spPr>
              <a:xfrm>
                <a:off x="482040" y="3210480"/>
                <a:ext cx="790200" cy="27216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7"/>
              <p:cNvSpPr/>
              <p:nvPr/>
            </p:nvSpPr>
            <p:spPr>
              <a:xfrm>
                <a:off x="477720" y="3254760"/>
                <a:ext cx="789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18"/>
            <p:cNvGrpSpPr/>
            <p:nvPr/>
          </p:nvGrpSpPr>
          <p:grpSpPr>
            <a:xfrm>
              <a:off x="1703160" y="3658680"/>
              <a:ext cx="1056960" cy="297360"/>
              <a:chOff x="1703160" y="3658680"/>
              <a:chExt cx="1056960" cy="297360"/>
            </a:xfrm>
          </p:grpSpPr>
          <p:sp>
            <p:nvSpPr>
              <p:cNvPr id="587" name="Rectangle 19"/>
              <p:cNvSpPr/>
              <p:nvPr/>
            </p:nvSpPr>
            <p:spPr>
              <a:xfrm>
                <a:off x="1703520" y="3658680"/>
                <a:ext cx="105660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20"/>
              <p:cNvSpPr/>
              <p:nvPr/>
            </p:nvSpPr>
            <p:spPr>
              <a:xfrm>
                <a:off x="1703160" y="3706560"/>
                <a:ext cx="105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21"/>
            <p:cNvGrpSpPr/>
            <p:nvPr/>
          </p:nvGrpSpPr>
          <p:grpSpPr>
            <a:xfrm>
              <a:off x="1708560" y="2766960"/>
              <a:ext cx="1049760" cy="297360"/>
              <a:chOff x="1708560" y="2766960"/>
              <a:chExt cx="1049760" cy="297360"/>
            </a:xfrm>
          </p:grpSpPr>
          <p:sp>
            <p:nvSpPr>
              <p:cNvPr id="590" name="Rectangle 22"/>
              <p:cNvSpPr/>
              <p:nvPr/>
            </p:nvSpPr>
            <p:spPr>
              <a:xfrm>
                <a:off x="1708560" y="2766960"/>
                <a:ext cx="104832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23"/>
              <p:cNvSpPr/>
              <p:nvPr/>
            </p:nvSpPr>
            <p:spPr>
              <a:xfrm>
                <a:off x="1710000" y="2814840"/>
                <a:ext cx="1048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AutoShape 24"/>
            <p:cNvSpPr/>
            <p:nvPr/>
          </p:nvSpPr>
          <p:spPr>
            <a:xfrm rot="9029400">
              <a:off x="1319760" y="2987280"/>
              <a:ext cx="339840" cy="15084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5"/>
            <p:cNvSpPr/>
            <p:nvPr/>
          </p:nvSpPr>
          <p:spPr>
            <a:xfrm rot="1950000">
              <a:off x="1301400" y="358200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26"/>
          <p:cNvGrpSpPr/>
          <p:nvPr/>
        </p:nvGrpSpPr>
        <p:grpSpPr>
          <a:xfrm>
            <a:off x="2868480" y="1922400"/>
            <a:ext cx="1877760" cy="734760"/>
            <a:chOff x="2868480" y="1922400"/>
            <a:chExt cx="1877760" cy="734760"/>
          </a:xfrm>
        </p:grpSpPr>
        <p:sp>
          <p:nvSpPr>
            <p:cNvPr id="595" name="AutoShape 27"/>
            <p:cNvSpPr/>
            <p:nvPr/>
          </p:nvSpPr>
          <p:spPr>
            <a:xfrm rot="1950000">
              <a:off x="2878200" y="2057040"/>
              <a:ext cx="560160" cy="1998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3558600" y="2225160"/>
              <a:ext cx="1187640" cy="432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Helvetica Neue"/>
                  <a:ea typeface="ＭＳ Ｐゴシック"/>
                </a:rPr>
                <a:t>outputFile.tx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AutoShape 29"/>
          <p:cNvSpPr/>
          <p:nvPr/>
        </p:nvSpPr>
        <p:spPr>
          <a:xfrm rot="8875800">
            <a:off x="2872800" y="2653920"/>
            <a:ext cx="561960" cy="152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A94F8CC8-B172-488D-97E6-36E2A063B9B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In 1.x the only option is sequential execution.  If the a step fails, the job fails, if it succeeds, the next is execu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2378160" y="1817640"/>
            <a:ext cx="1136520" cy="395280"/>
            <a:chOff x="2378160" y="1817640"/>
            <a:chExt cx="1136520" cy="395280"/>
          </a:xfrm>
        </p:grpSpPr>
        <p:sp>
          <p:nvSpPr>
            <p:cNvPr id="602" name="Rectangle 4"/>
            <p:cNvSpPr/>
            <p:nvPr/>
          </p:nvSpPr>
          <p:spPr>
            <a:xfrm>
              <a:off x="2378160" y="181764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2597040" y="187992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6"/>
          <p:cNvGrpSpPr/>
          <p:nvPr/>
        </p:nvGrpSpPr>
        <p:grpSpPr>
          <a:xfrm>
            <a:off x="2378160" y="2725560"/>
            <a:ext cx="1136520" cy="395640"/>
            <a:chOff x="2378160" y="2725560"/>
            <a:chExt cx="1136520" cy="395640"/>
          </a:xfrm>
        </p:grpSpPr>
        <p:sp>
          <p:nvSpPr>
            <p:cNvPr id="605" name="Rectangle 7"/>
            <p:cNvSpPr/>
            <p:nvPr/>
          </p:nvSpPr>
          <p:spPr>
            <a:xfrm>
              <a:off x="2378160" y="2725560"/>
              <a:ext cx="1136520" cy="3956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2597040" y="2787840"/>
              <a:ext cx="6973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9"/>
          <p:cNvGrpSpPr/>
          <p:nvPr/>
        </p:nvGrpSpPr>
        <p:grpSpPr>
          <a:xfrm>
            <a:off x="2378160" y="3627360"/>
            <a:ext cx="1136520" cy="395280"/>
            <a:chOff x="2378160" y="3627360"/>
            <a:chExt cx="1136520" cy="395280"/>
          </a:xfrm>
        </p:grpSpPr>
        <p:sp>
          <p:nvSpPr>
            <p:cNvPr id="608" name="Rectangle 10"/>
            <p:cNvSpPr/>
            <p:nvPr/>
          </p:nvSpPr>
          <p:spPr>
            <a:xfrm>
              <a:off x="2378160" y="3627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2597040" y="3689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AutoShape 12"/>
          <p:cNvSpPr/>
          <p:nvPr/>
        </p:nvSpPr>
        <p:spPr>
          <a:xfrm rot="5400000">
            <a:off x="2697480" y="2361240"/>
            <a:ext cx="498240" cy="214200"/>
          </a:xfrm>
          <a:prstGeom prst="rightArrow">
            <a:avLst>
              <a:gd name="adj1" fmla="val 33509"/>
              <a:gd name="adj2" fmla="val 924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rot="5400000">
            <a:off x="2697480" y="3269520"/>
            <a:ext cx="498600" cy="214200"/>
          </a:xfrm>
          <a:prstGeom prst="rightArrow">
            <a:avLst>
              <a:gd name="adj1" fmla="val 33509"/>
              <a:gd name="adj2" fmla="val 925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06A64AF1-3A33-4C61-81A3-6DE4AABE7A3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on 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There are many scenarios in which different steps need to be executed depending upon the exit status of the last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378160" y="1665360"/>
            <a:ext cx="1136520" cy="395280"/>
            <a:chOff x="2378160" y="1665360"/>
            <a:chExt cx="1136520" cy="395280"/>
          </a:xfrm>
        </p:grpSpPr>
        <p:sp>
          <p:nvSpPr>
            <p:cNvPr id="616" name="Rectangle 4"/>
            <p:cNvSpPr/>
            <p:nvPr/>
          </p:nvSpPr>
          <p:spPr>
            <a:xfrm>
              <a:off x="2378160" y="1665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"/>
            <p:cNvSpPr/>
            <p:nvPr/>
          </p:nvSpPr>
          <p:spPr>
            <a:xfrm>
              <a:off x="2597040" y="1727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1547640" y="3664080"/>
            <a:ext cx="1135080" cy="395280"/>
            <a:chOff x="1547640" y="3664080"/>
            <a:chExt cx="1135080" cy="395280"/>
          </a:xfrm>
        </p:grpSpPr>
        <p:sp>
          <p:nvSpPr>
            <p:cNvPr id="619" name="Rectangle 7"/>
            <p:cNvSpPr/>
            <p:nvPr/>
          </p:nvSpPr>
          <p:spPr>
            <a:xfrm>
              <a:off x="15476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17661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3162240" y="3664080"/>
            <a:ext cx="1135080" cy="395280"/>
            <a:chOff x="3162240" y="3664080"/>
            <a:chExt cx="1135080" cy="395280"/>
          </a:xfrm>
        </p:grpSpPr>
        <p:sp>
          <p:nvSpPr>
            <p:cNvPr id="622" name="Rectangle 10"/>
            <p:cNvSpPr/>
            <p:nvPr/>
          </p:nvSpPr>
          <p:spPr>
            <a:xfrm>
              <a:off x="31622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1"/>
            <p:cNvSpPr/>
            <p:nvPr/>
          </p:nvSpPr>
          <p:spPr>
            <a:xfrm>
              <a:off x="33807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AutoShape 12"/>
          <p:cNvSpPr/>
          <p:nvPr/>
        </p:nvSpPr>
        <p:spPr>
          <a:xfrm rot="5400000">
            <a:off x="2714760" y="2256480"/>
            <a:ext cx="463680" cy="214200"/>
          </a:xfrm>
          <a:prstGeom prst="rightArrow">
            <a:avLst>
              <a:gd name="adj1" fmla="val 33509"/>
              <a:gd name="adj2" fmla="val 9281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 rot="3170400">
            <a:off x="3150720" y="3262320"/>
            <a:ext cx="480960" cy="214200"/>
          </a:xfrm>
          <a:prstGeom prst="rightArrow">
            <a:avLst>
              <a:gd name="adj1" fmla="val 33509"/>
              <a:gd name="adj2" fmla="val 9262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4"/>
          <p:cNvSpPr/>
          <p:nvPr/>
        </p:nvSpPr>
        <p:spPr>
          <a:xfrm>
            <a:off x="2527200" y="2657520"/>
            <a:ext cx="838440" cy="60804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ucces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5"/>
          <p:cNvSpPr/>
          <p:nvPr/>
        </p:nvSpPr>
        <p:spPr>
          <a:xfrm rot="7801200">
            <a:off x="2212920" y="3268080"/>
            <a:ext cx="487440" cy="214560"/>
          </a:xfrm>
          <a:prstGeom prst="rightArrow">
            <a:avLst>
              <a:gd name="adj1" fmla="val 33509"/>
              <a:gd name="adj2" fmla="val 9253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6"/>
          <p:cNvSpPr/>
          <p:nvPr/>
        </p:nvSpPr>
        <p:spPr>
          <a:xfrm>
            <a:off x="1941840" y="3025080"/>
            <a:ext cx="34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Y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3582720" y="3025080"/>
            <a:ext cx="29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6F553D3-001D-41EF-8633-A09FBC6D006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pository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2"/>
          <p:cNvGrpSpPr/>
          <p:nvPr/>
        </p:nvGrpSpPr>
        <p:grpSpPr>
          <a:xfrm>
            <a:off x="1595520" y="1969920"/>
            <a:ext cx="1392120" cy="395280"/>
            <a:chOff x="1595520" y="1969920"/>
            <a:chExt cx="1392120" cy="395280"/>
          </a:xfrm>
        </p:grpSpPr>
        <p:sp>
          <p:nvSpPr>
            <p:cNvPr id="633" name="Rectangle 3"/>
            <p:cNvSpPr/>
            <p:nvPr/>
          </p:nvSpPr>
          <p:spPr>
            <a:xfrm>
              <a:off x="1595520" y="1969920"/>
              <a:ext cx="13921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"/>
            <p:cNvSpPr/>
            <p:nvPr/>
          </p:nvSpPr>
          <p:spPr>
            <a:xfrm>
              <a:off x="1863360" y="2032200"/>
              <a:ext cx="855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5"/>
          <p:cNvGrpSpPr/>
          <p:nvPr/>
        </p:nvGrpSpPr>
        <p:grpSpPr>
          <a:xfrm>
            <a:off x="1595520" y="2951280"/>
            <a:ext cx="1392120" cy="396720"/>
            <a:chOff x="1595520" y="2951280"/>
            <a:chExt cx="1392120" cy="396720"/>
          </a:xfrm>
        </p:grpSpPr>
        <p:sp>
          <p:nvSpPr>
            <p:cNvPr id="636" name="Rectangle 6"/>
            <p:cNvSpPr/>
            <p:nvPr/>
          </p:nvSpPr>
          <p:spPr>
            <a:xfrm>
              <a:off x="1595520" y="2951280"/>
              <a:ext cx="139212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"/>
            <p:cNvSpPr/>
            <p:nvPr/>
          </p:nvSpPr>
          <p:spPr>
            <a:xfrm>
              <a:off x="1863720" y="3013920"/>
              <a:ext cx="85572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AutoShape 8"/>
          <p:cNvSpPr/>
          <p:nvPr/>
        </p:nvSpPr>
        <p:spPr>
          <a:xfrm rot="3511800">
            <a:off x="2614680" y="3530160"/>
            <a:ext cx="498240" cy="216000"/>
          </a:xfrm>
          <a:prstGeom prst="rightArrow">
            <a:avLst>
              <a:gd name="adj1" fmla="val 33509"/>
              <a:gd name="adj2" fmla="val 9166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9"/>
          <p:cNvSpPr/>
          <p:nvPr/>
        </p:nvSpPr>
        <p:spPr>
          <a:xfrm rot="5400000">
            <a:off x="2039760" y="2555640"/>
            <a:ext cx="498600" cy="216000"/>
          </a:xfrm>
          <a:prstGeom prst="rightArrow">
            <a:avLst>
              <a:gd name="adj1" fmla="val 33509"/>
              <a:gd name="adj2" fmla="val 9173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162000" y="3449520"/>
            <a:ext cx="1087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CRUD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1"/>
          <p:cNvSpPr/>
          <p:nvPr/>
        </p:nvSpPr>
        <p:spPr>
          <a:xfrm flipH="1">
            <a:off x="1106640" y="3257640"/>
            <a:ext cx="374400" cy="17604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216000" y="2346480"/>
            <a:ext cx="1087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run(Jo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3"/>
          <p:cNvSpPr/>
          <p:nvPr/>
        </p:nvSpPr>
        <p:spPr>
          <a:xfrm flipH="1">
            <a:off x="1047600" y="2152800"/>
            <a:ext cx="487440" cy="24912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4"/>
          <p:cNvGrpSpPr/>
          <p:nvPr/>
        </p:nvGrpSpPr>
        <p:grpSpPr>
          <a:xfrm>
            <a:off x="2173680" y="1031760"/>
            <a:ext cx="3822480" cy="2905560"/>
            <a:chOff x="2173680" y="1031760"/>
            <a:chExt cx="3822480" cy="2905560"/>
          </a:xfrm>
        </p:grpSpPr>
        <p:sp>
          <p:nvSpPr>
            <p:cNvPr id="645" name="AutoShape 15"/>
            <p:cNvSpPr/>
            <p:nvPr/>
          </p:nvSpPr>
          <p:spPr>
            <a:xfrm rot="7114800">
              <a:off x="3062160" y="3551760"/>
              <a:ext cx="503280" cy="222120"/>
            </a:xfrm>
            <a:prstGeom prst="rightArrow">
              <a:avLst>
                <a:gd name="adj1" fmla="val 33509"/>
                <a:gd name="adj2" fmla="val 9004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Group 16"/>
            <p:cNvGrpSpPr/>
            <p:nvPr/>
          </p:nvGrpSpPr>
          <p:grpSpPr>
            <a:xfrm>
              <a:off x="2331360" y="1031760"/>
              <a:ext cx="1439280" cy="398880"/>
              <a:chOff x="2331360" y="1031760"/>
              <a:chExt cx="1439280" cy="398880"/>
            </a:xfrm>
          </p:grpSpPr>
          <p:sp>
            <p:nvSpPr>
              <p:cNvPr id="647" name="Rectangle 17"/>
              <p:cNvSpPr/>
              <p:nvPr/>
            </p:nvSpPr>
            <p:spPr>
              <a:xfrm>
                <a:off x="2331360" y="10317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8"/>
              <p:cNvSpPr/>
              <p:nvPr/>
            </p:nvSpPr>
            <p:spPr>
              <a:xfrm>
                <a:off x="2608560" y="10947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Opera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9"/>
            <p:cNvGrpSpPr/>
            <p:nvPr/>
          </p:nvGrpSpPr>
          <p:grpSpPr>
            <a:xfrm>
              <a:off x="3202560" y="2964960"/>
              <a:ext cx="1439280" cy="398880"/>
              <a:chOff x="3202560" y="2964960"/>
              <a:chExt cx="1439280" cy="398880"/>
            </a:xfrm>
          </p:grpSpPr>
          <p:sp>
            <p:nvSpPr>
              <p:cNvPr id="650" name="Rectangle 20"/>
              <p:cNvSpPr/>
              <p:nvPr/>
            </p:nvSpPr>
            <p:spPr>
              <a:xfrm>
                <a:off x="3202560" y="29649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21"/>
              <p:cNvSpPr/>
              <p:nvPr/>
            </p:nvSpPr>
            <p:spPr>
              <a:xfrm>
                <a:off x="3479760" y="30279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Explor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AutoShape 22"/>
            <p:cNvSpPr/>
            <p:nvPr/>
          </p:nvSpPr>
          <p:spPr>
            <a:xfrm rot="7436400">
              <a:off x="2154960" y="1586880"/>
              <a:ext cx="502200" cy="222120"/>
            </a:xfrm>
            <a:prstGeom prst="rightArrow">
              <a:avLst>
                <a:gd name="adj1" fmla="val 33509"/>
                <a:gd name="adj2" fmla="val 8985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3"/>
            <p:cNvSpPr/>
            <p:nvPr/>
          </p:nvSpPr>
          <p:spPr>
            <a:xfrm rot="4120200">
              <a:off x="2962440" y="2082600"/>
              <a:ext cx="1460520" cy="222120"/>
            </a:xfrm>
            <a:prstGeom prst="rightArrow">
              <a:avLst>
                <a:gd name="adj1" fmla="val 33509"/>
                <a:gd name="adj2" fmla="val 90046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4"/>
            <p:cNvSpPr/>
            <p:nvPr/>
          </p:nvSpPr>
          <p:spPr>
            <a:xfrm>
              <a:off x="4871880" y="345420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get* oper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>
              <a:off x="4708080" y="3258720"/>
              <a:ext cx="321120" cy="18576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4316040" y="134316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Combines a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>
              <a:off x="3976200" y="1224720"/>
              <a:ext cx="514800" cy="17028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8"/>
          <p:cNvGrpSpPr/>
          <p:nvPr/>
        </p:nvGrpSpPr>
        <p:grpSpPr>
          <a:xfrm>
            <a:off x="2849400" y="3909960"/>
            <a:ext cx="590760" cy="428760"/>
            <a:chOff x="2849400" y="3909960"/>
            <a:chExt cx="590760" cy="428760"/>
          </a:xfrm>
        </p:grpSpPr>
        <p:sp>
          <p:nvSpPr>
            <p:cNvPr id="659" name="AutoShape 29"/>
            <p:cNvSpPr/>
            <p:nvPr/>
          </p:nvSpPr>
          <p:spPr>
            <a:xfrm>
              <a:off x="2849400" y="3909960"/>
              <a:ext cx="590760" cy="428760"/>
            </a:xfrm>
            <a:prstGeom prst="pie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30"/>
            <p:cNvSpPr/>
            <p:nvPr/>
          </p:nvSpPr>
          <p:spPr>
            <a:xfrm>
              <a:off x="2849400" y="3909960"/>
              <a:ext cx="590760" cy="1065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31"/>
            <p:cNvSpPr/>
            <p:nvPr/>
          </p:nvSpPr>
          <p:spPr>
            <a:xfrm>
              <a:off x="2849400" y="3963240"/>
              <a:ext cx="590760" cy="532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32"/>
            <p:cNvSpPr/>
            <p:nvPr/>
          </p:nvSpPr>
          <p:spPr>
            <a:xfrm>
              <a:off x="2895120" y="4071960"/>
              <a:ext cx="49824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43560" tIns="18000" bIns="18000" anchor="ctr">
              <a:sp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861FD1D7-3529-4A4A-BAE6-B45DF3212151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2271600" y="731880"/>
            <a:ext cx="2746440" cy="2997000"/>
            <a:chOff x="2271600" y="731880"/>
            <a:chExt cx="2746440" cy="2997000"/>
          </a:xfrm>
        </p:grpSpPr>
        <p:sp>
          <p:nvSpPr>
            <p:cNvPr id="665" name="Rectangle 5"/>
            <p:cNvSpPr/>
            <p:nvPr/>
          </p:nvSpPr>
          <p:spPr>
            <a:xfrm>
              <a:off x="2271600" y="731880"/>
              <a:ext cx="2746440" cy="299700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2311920" y="994680"/>
              <a:ext cx="2421000" cy="24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1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5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11.3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1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2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2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72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2c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3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9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99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3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AutoShape 7"/>
          <p:cNvSpPr/>
          <p:nvPr/>
        </p:nvSpPr>
        <p:spPr>
          <a:xfrm>
            <a:off x="2030400" y="927000"/>
            <a:ext cx="289080" cy="8366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957960" y="1173240"/>
            <a:ext cx="984600" cy="344520"/>
            <a:chOff x="957960" y="1173240"/>
            <a:chExt cx="984600" cy="344520"/>
          </a:xfrm>
        </p:grpSpPr>
        <p:sp>
          <p:nvSpPr>
            <p:cNvPr id="669" name="AutoShape 9"/>
            <p:cNvSpPr/>
            <p:nvPr/>
          </p:nvSpPr>
          <p:spPr>
            <a:xfrm>
              <a:off x="967680" y="1173240"/>
              <a:ext cx="964800" cy="3445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0"/>
            <p:cNvSpPr/>
            <p:nvPr/>
          </p:nvSpPr>
          <p:spPr>
            <a:xfrm>
              <a:off x="957960" y="12222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AutoShape 11"/>
          <p:cNvSpPr/>
          <p:nvPr/>
        </p:nvSpPr>
        <p:spPr>
          <a:xfrm>
            <a:off x="2030400" y="1812960"/>
            <a:ext cx="289080" cy="8348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12"/>
          <p:cNvGrpSpPr/>
          <p:nvPr/>
        </p:nvGrpSpPr>
        <p:grpSpPr>
          <a:xfrm>
            <a:off x="957960" y="2058840"/>
            <a:ext cx="984600" cy="343080"/>
            <a:chOff x="957960" y="2058840"/>
            <a:chExt cx="984600" cy="343080"/>
          </a:xfrm>
        </p:grpSpPr>
        <p:sp>
          <p:nvSpPr>
            <p:cNvPr id="673" name="AutoShape 13"/>
            <p:cNvSpPr/>
            <p:nvPr/>
          </p:nvSpPr>
          <p:spPr>
            <a:xfrm>
              <a:off x="967680" y="2058840"/>
              <a:ext cx="964800" cy="34308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957960" y="210708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AutoShape 15"/>
          <p:cNvSpPr/>
          <p:nvPr/>
        </p:nvSpPr>
        <p:spPr>
          <a:xfrm>
            <a:off x="2030400" y="2697120"/>
            <a:ext cx="289080" cy="835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6"/>
          <p:cNvGrpSpPr/>
          <p:nvPr/>
        </p:nvGrpSpPr>
        <p:grpSpPr>
          <a:xfrm>
            <a:off x="957960" y="2943360"/>
            <a:ext cx="984600" cy="342720"/>
            <a:chOff x="957960" y="2943360"/>
            <a:chExt cx="984600" cy="342720"/>
          </a:xfrm>
        </p:grpSpPr>
        <p:sp>
          <p:nvSpPr>
            <p:cNvPr id="677" name="AutoShape 17"/>
            <p:cNvSpPr/>
            <p:nvPr/>
          </p:nvSpPr>
          <p:spPr>
            <a:xfrm>
              <a:off x="967680" y="2943360"/>
              <a:ext cx="964800" cy="3427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8"/>
            <p:cNvSpPr/>
            <p:nvPr/>
          </p:nvSpPr>
          <p:spPr>
            <a:xfrm>
              <a:off x="957960" y="29916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A2FA86F5-C9B4-42F6-9721-D7DF55C16202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4"/>
          <p:cNvGrpSpPr/>
          <p:nvPr/>
        </p:nvGrpSpPr>
        <p:grpSpPr>
          <a:xfrm>
            <a:off x="1140480" y="1546200"/>
            <a:ext cx="1081440" cy="441000"/>
            <a:chOff x="1140480" y="1546200"/>
            <a:chExt cx="1081440" cy="441000"/>
          </a:xfrm>
        </p:grpSpPr>
        <p:grpSp>
          <p:nvGrpSpPr>
            <p:cNvPr id="681" name="Group 5"/>
            <p:cNvGrpSpPr/>
            <p:nvPr/>
          </p:nvGrpSpPr>
          <p:grpSpPr>
            <a:xfrm>
              <a:off x="1237320" y="1644480"/>
              <a:ext cx="984600" cy="342720"/>
              <a:chOff x="1237320" y="1644480"/>
              <a:chExt cx="984600" cy="342720"/>
            </a:xfrm>
          </p:grpSpPr>
          <p:sp>
            <p:nvSpPr>
              <p:cNvPr id="682" name="AutoShape 6"/>
              <p:cNvSpPr/>
              <p:nvPr/>
            </p:nvSpPr>
            <p:spPr>
              <a:xfrm>
                <a:off x="1246680" y="164448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7"/>
              <p:cNvSpPr/>
              <p:nvPr/>
            </p:nvSpPr>
            <p:spPr>
              <a:xfrm>
                <a:off x="1237320" y="169272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8"/>
            <p:cNvGrpSpPr/>
            <p:nvPr/>
          </p:nvGrpSpPr>
          <p:grpSpPr>
            <a:xfrm>
              <a:off x="1188000" y="1594440"/>
              <a:ext cx="984600" cy="342720"/>
              <a:chOff x="1188000" y="1594440"/>
              <a:chExt cx="984600" cy="342720"/>
            </a:xfrm>
          </p:grpSpPr>
          <p:sp>
            <p:nvSpPr>
              <p:cNvPr id="685" name="AutoShape 9"/>
              <p:cNvSpPr/>
              <p:nvPr/>
            </p:nvSpPr>
            <p:spPr>
              <a:xfrm>
                <a:off x="1197720" y="159444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"/>
              <p:cNvSpPr/>
              <p:nvPr/>
            </p:nvSpPr>
            <p:spPr>
              <a:xfrm>
                <a:off x="1188000" y="164268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"/>
            <p:cNvGrpSpPr/>
            <p:nvPr/>
          </p:nvGrpSpPr>
          <p:grpSpPr>
            <a:xfrm>
              <a:off x="1140480" y="1546200"/>
              <a:ext cx="984600" cy="342720"/>
              <a:chOff x="1140480" y="1546200"/>
              <a:chExt cx="984600" cy="342720"/>
            </a:xfrm>
          </p:grpSpPr>
          <p:sp>
            <p:nvSpPr>
              <p:cNvPr id="688" name="AutoShape 12"/>
              <p:cNvSpPr/>
              <p:nvPr/>
            </p:nvSpPr>
            <p:spPr>
              <a:xfrm>
                <a:off x="1150200" y="154620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3"/>
              <p:cNvSpPr/>
              <p:nvPr/>
            </p:nvSpPr>
            <p:spPr>
              <a:xfrm>
                <a:off x="1140480" y="159444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Group 14"/>
          <p:cNvGrpSpPr/>
          <p:nvPr/>
        </p:nvGrpSpPr>
        <p:grpSpPr>
          <a:xfrm>
            <a:off x="3416400" y="808200"/>
            <a:ext cx="1398600" cy="2014200"/>
            <a:chOff x="3416400" y="808200"/>
            <a:chExt cx="1398600" cy="2014200"/>
          </a:xfrm>
        </p:grpSpPr>
        <p:sp>
          <p:nvSpPr>
            <p:cNvPr id="691" name="AutoShape 15"/>
            <p:cNvSpPr/>
            <p:nvPr/>
          </p:nvSpPr>
          <p:spPr>
            <a:xfrm>
              <a:off x="3416400" y="808200"/>
              <a:ext cx="1398600" cy="2014200"/>
            </a:xfrm>
            <a:prstGeom prst="pie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6"/>
            <p:cNvSpPr/>
            <p:nvPr/>
          </p:nvSpPr>
          <p:spPr>
            <a:xfrm>
              <a:off x="3553560" y="808200"/>
              <a:ext cx="11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t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pring OX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17"/>
          <p:cNvGrpSpPr/>
          <p:nvPr/>
        </p:nvGrpSpPr>
        <p:grpSpPr>
          <a:xfrm>
            <a:off x="3706920" y="1200240"/>
            <a:ext cx="866520" cy="415800"/>
            <a:chOff x="3706920" y="1200240"/>
            <a:chExt cx="866520" cy="415800"/>
          </a:xfrm>
        </p:grpSpPr>
        <p:sp>
          <p:nvSpPr>
            <p:cNvPr id="694" name="Rectangle 18"/>
            <p:cNvSpPr/>
            <p:nvPr/>
          </p:nvSpPr>
          <p:spPr>
            <a:xfrm>
              <a:off x="3706920" y="1200240"/>
              <a:ext cx="866520" cy="41580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9"/>
            <p:cNvSpPr/>
            <p:nvPr/>
          </p:nvSpPr>
          <p:spPr>
            <a:xfrm>
              <a:off x="3880800" y="1300320"/>
              <a:ext cx="517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ax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20"/>
          <p:cNvGrpSpPr/>
          <p:nvPr/>
        </p:nvGrpSpPr>
        <p:grpSpPr>
          <a:xfrm>
            <a:off x="3706920" y="1717560"/>
            <a:ext cx="866520" cy="416160"/>
            <a:chOff x="3706920" y="1717560"/>
            <a:chExt cx="866520" cy="416160"/>
          </a:xfrm>
        </p:grpSpPr>
        <p:sp>
          <p:nvSpPr>
            <p:cNvPr id="697" name="Rectangle 21"/>
            <p:cNvSpPr/>
            <p:nvPr/>
          </p:nvSpPr>
          <p:spPr>
            <a:xfrm>
              <a:off x="3706920" y="17175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22"/>
            <p:cNvSpPr/>
            <p:nvPr/>
          </p:nvSpPr>
          <p:spPr>
            <a:xfrm>
              <a:off x="3864600" y="1817640"/>
              <a:ext cx="549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s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3"/>
          <p:cNvGrpSpPr/>
          <p:nvPr/>
        </p:nvGrpSpPr>
        <p:grpSpPr>
          <a:xfrm>
            <a:off x="3706920" y="2282760"/>
            <a:ext cx="866520" cy="416160"/>
            <a:chOff x="3706920" y="2282760"/>
            <a:chExt cx="866520" cy="416160"/>
          </a:xfrm>
        </p:grpSpPr>
        <p:sp>
          <p:nvSpPr>
            <p:cNvPr id="700" name="Rectangle 24"/>
            <p:cNvSpPr/>
            <p:nvPr/>
          </p:nvSpPr>
          <p:spPr>
            <a:xfrm>
              <a:off x="3706920" y="22827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736800" y="2382840"/>
              <a:ext cx="80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mlBe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6"/>
          <p:cNvSpPr/>
          <p:nvPr/>
        </p:nvSpPr>
        <p:spPr>
          <a:xfrm flipH="1" rot="10800000">
            <a:off x="1911240" y="2576160"/>
            <a:ext cx="1263600" cy="492120"/>
          </a:xfrm>
          <a:prstGeom prst="pie">
            <a:avLst/>
          </a:prstGeom>
          <a:noFill/>
          <a:ln w="1260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7"/>
          <p:cNvSpPr/>
          <p:nvPr/>
        </p:nvSpPr>
        <p:spPr>
          <a:xfrm>
            <a:off x="957240" y="3068640"/>
            <a:ext cx="1905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ny binding framework supported by Spring OX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8"/>
          <p:cNvSpPr/>
          <p:nvPr/>
        </p:nvSpPr>
        <p:spPr>
          <a:xfrm>
            <a:off x="2500200" y="1593720"/>
            <a:ext cx="627120" cy="39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313011F-B254-4E67-B75A-21726D3A4CE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8"/>
          <p:cNvSpPr/>
          <p:nvPr/>
        </p:nvSpPr>
        <p:spPr>
          <a:xfrm>
            <a:off x="3038400" y="2338560"/>
            <a:ext cx="2168640" cy="155232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3040200" y="1720800"/>
          <a:ext cx="2174760" cy="2104920"/>
        </p:xfrm>
        <a:graphic>
          <a:graphicData uri="http://schemas.openxmlformats.org/drawingml/2006/table">
            <a:tbl>
              <a:tblPr/>
              <a:tblGrid>
                <a:gridCol w="725040"/>
                <a:gridCol w="724680"/>
                <a:gridCol w="725040"/>
              </a:tblGrid>
              <a:tr h="64764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AutoShape 104"/>
          <p:cNvSpPr/>
          <p:nvPr/>
        </p:nvSpPr>
        <p:spPr>
          <a:xfrm>
            <a:off x="2239920" y="23814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05"/>
          <p:cNvSpPr/>
          <p:nvPr/>
        </p:nvSpPr>
        <p:spPr>
          <a:xfrm>
            <a:off x="2239920" y="268452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06"/>
          <p:cNvSpPr/>
          <p:nvPr/>
        </p:nvSpPr>
        <p:spPr>
          <a:xfrm>
            <a:off x="2239920" y="29862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107"/>
          <p:cNvGrpSpPr/>
          <p:nvPr/>
        </p:nvGrpSpPr>
        <p:grpSpPr>
          <a:xfrm>
            <a:off x="2612880" y="1226520"/>
            <a:ext cx="3036960" cy="404280"/>
            <a:chOff x="2612880" y="1226520"/>
            <a:chExt cx="3036960" cy="404280"/>
          </a:xfrm>
        </p:grpSpPr>
        <p:sp>
          <p:nvSpPr>
            <p:cNvPr id="712" name="Rectangle 108"/>
            <p:cNvSpPr/>
            <p:nvPr/>
          </p:nvSpPr>
          <p:spPr>
            <a:xfrm>
              <a:off x="2612880" y="123156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9"/>
            <p:cNvSpPr/>
            <p:nvPr/>
          </p:nvSpPr>
          <p:spPr>
            <a:xfrm>
              <a:off x="2669760" y="122652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*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14" name=""/>
          <p:cNvGraphicFramePr/>
          <p:nvPr/>
        </p:nvGraphicFramePr>
        <p:xfrm>
          <a:off x="863640" y="12445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863640" y="2324160"/>
          <a:ext cx="1012680" cy="78876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863640" y="34099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2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2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2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D92FFF4A-8582-4BCF-892E-ADA1A31EC862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96840" y="4464000"/>
            <a:ext cx="3009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b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08 Accenture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8"/>
          <p:cNvSpPr/>
          <p:nvPr/>
        </p:nvSpPr>
        <p:spPr>
          <a:xfrm>
            <a:off x="3121200" y="2357280"/>
            <a:ext cx="722160" cy="1386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112920" y="1805040"/>
          <a:ext cx="2175120" cy="1940040"/>
        </p:xfrm>
        <a:graphic>
          <a:graphicData uri="http://schemas.openxmlformats.org/drawingml/2006/table">
            <a:tbl>
              <a:tblPr/>
              <a:tblGrid>
                <a:gridCol w="725040"/>
                <a:gridCol w="725040"/>
                <a:gridCol w="725040"/>
              </a:tblGrid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1" name="Group 104"/>
          <p:cNvGrpSpPr/>
          <p:nvPr/>
        </p:nvGrpSpPr>
        <p:grpSpPr>
          <a:xfrm>
            <a:off x="2643120" y="1272600"/>
            <a:ext cx="3036960" cy="404280"/>
            <a:chOff x="2643120" y="1272600"/>
            <a:chExt cx="3036960" cy="404280"/>
          </a:xfrm>
        </p:grpSpPr>
        <p:sp>
          <p:nvSpPr>
            <p:cNvPr id="722" name="Rectangle 105"/>
            <p:cNvSpPr/>
            <p:nvPr/>
          </p:nvSpPr>
          <p:spPr>
            <a:xfrm>
              <a:off x="2643120" y="127764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06"/>
            <p:cNvSpPr/>
            <p:nvPr/>
          </p:nvSpPr>
          <p:spPr>
            <a:xfrm>
              <a:off x="2700000" y="127260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</a:t>
              </a: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D</a:t>
              </a: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107"/>
          <p:cNvSpPr/>
          <p:nvPr/>
        </p:nvSpPr>
        <p:spPr>
          <a:xfrm rot="10800000">
            <a:off x="1917360" y="2409840"/>
            <a:ext cx="1058760" cy="1278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08"/>
          <p:cNvGrpSpPr/>
          <p:nvPr/>
        </p:nvGrpSpPr>
        <p:grpSpPr>
          <a:xfrm>
            <a:off x="731880" y="2835360"/>
            <a:ext cx="866520" cy="394200"/>
            <a:chOff x="731880" y="2835360"/>
            <a:chExt cx="866520" cy="394200"/>
          </a:xfrm>
        </p:grpSpPr>
        <p:grpSp>
          <p:nvGrpSpPr>
            <p:cNvPr id="726" name="Group 109"/>
            <p:cNvGrpSpPr/>
            <p:nvPr/>
          </p:nvGrpSpPr>
          <p:grpSpPr>
            <a:xfrm>
              <a:off x="827280" y="2934000"/>
              <a:ext cx="771120" cy="295560"/>
              <a:chOff x="827280" y="2934000"/>
              <a:chExt cx="771120" cy="295560"/>
            </a:xfrm>
          </p:grpSpPr>
          <p:sp>
            <p:nvSpPr>
              <p:cNvPr id="727" name="AutoShape 110"/>
              <p:cNvSpPr/>
              <p:nvPr/>
            </p:nvSpPr>
            <p:spPr>
              <a:xfrm>
                <a:off x="827280" y="2934000"/>
                <a:ext cx="771120" cy="29556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111"/>
              <p:cNvSpPr/>
              <p:nvPr/>
            </p:nvSpPr>
            <p:spPr>
              <a:xfrm>
                <a:off x="1133640" y="29599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12"/>
            <p:cNvGrpSpPr/>
            <p:nvPr/>
          </p:nvGrpSpPr>
          <p:grpSpPr>
            <a:xfrm>
              <a:off x="779400" y="2885400"/>
              <a:ext cx="771480" cy="295200"/>
              <a:chOff x="779400" y="2885400"/>
              <a:chExt cx="771480" cy="295200"/>
            </a:xfrm>
          </p:grpSpPr>
          <p:sp>
            <p:nvSpPr>
              <p:cNvPr id="730" name="AutoShape 113"/>
              <p:cNvSpPr/>
              <p:nvPr/>
            </p:nvSpPr>
            <p:spPr>
              <a:xfrm>
                <a:off x="779400" y="2885400"/>
                <a:ext cx="77148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14"/>
              <p:cNvSpPr/>
              <p:nvPr/>
            </p:nvSpPr>
            <p:spPr>
              <a:xfrm>
                <a:off x="1085760" y="29113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Group 115"/>
            <p:cNvGrpSpPr/>
            <p:nvPr/>
          </p:nvGrpSpPr>
          <p:grpSpPr>
            <a:xfrm>
              <a:off x="731880" y="2835360"/>
              <a:ext cx="771120" cy="295200"/>
              <a:chOff x="731880" y="2835360"/>
              <a:chExt cx="771120" cy="295200"/>
            </a:xfrm>
          </p:grpSpPr>
          <p:sp>
            <p:nvSpPr>
              <p:cNvPr id="733" name="AutoShape 116"/>
              <p:cNvSpPr/>
              <p:nvPr/>
            </p:nvSpPr>
            <p:spPr>
              <a:xfrm>
                <a:off x="731880" y="2835360"/>
                <a:ext cx="77112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117"/>
              <p:cNvSpPr/>
              <p:nvPr/>
            </p:nvSpPr>
            <p:spPr>
              <a:xfrm>
                <a:off x="1038240" y="286128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2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2A20F6E-DB93-4921-83B7-4574C3C38476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37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45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9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53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62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8"/>
          <p:cNvSpPr/>
          <p:nvPr/>
        </p:nvSpPr>
        <p:spPr>
          <a:xfrm>
            <a:off x="2779200" y="4046040"/>
            <a:ext cx="239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With ExitStatus.FINISHED or FAIL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9"/>
          <p:cNvSpPr/>
          <p:nvPr/>
        </p:nvSpPr>
        <p:spPr>
          <a:xfrm flipH="1" flipV="1">
            <a:off x="1903320" y="4010040"/>
            <a:ext cx="819360" cy="147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BE0BD751-3E27-43B6-9E9E-B23D0C6D39D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1"/>
          <a:stretch/>
        </p:blipFill>
        <p:spPr>
          <a:xfrm>
            <a:off x="147600" y="743040"/>
            <a:ext cx="1243080" cy="395280"/>
          </a:xfrm>
          <a:prstGeom prst="rect">
            <a:avLst/>
          </a:prstGeom>
          <a:ln w="0">
            <a:noFill/>
          </a:ln>
        </p:spPr>
      </p:pic>
      <p:grpSp>
        <p:nvGrpSpPr>
          <p:cNvPr id="769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70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78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9"/>
            <p:cNvSpPr/>
            <p:nvPr/>
          </p:nvSpPr>
          <p:spPr>
            <a:xfrm>
              <a:off x="3362040" y="1562400"/>
              <a:ext cx="91368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86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95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38" descr=""/>
          <p:cNvPicPr/>
          <p:nvPr/>
        </p:nvPicPr>
        <p:blipFill>
          <a:blip r:embed="rId2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799" name="Line 39"/>
          <p:cNvSpPr/>
          <p:nvPr/>
        </p:nvSpPr>
        <p:spPr>
          <a:xfrm>
            <a:off x="719280" y="3371760"/>
            <a:ext cx="134928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40"/>
          <p:cNvSpPr/>
          <p:nvPr/>
        </p:nvSpPr>
        <p:spPr>
          <a:xfrm>
            <a:off x="936720" y="3127320"/>
            <a:ext cx="774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41"/>
          <p:cNvSpPr/>
          <p:nvPr/>
        </p:nvSpPr>
        <p:spPr>
          <a:xfrm>
            <a:off x="458640" y="3078000"/>
            <a:ext cx="530280" cy="58896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9920" y="593640"/>
            <a:ext cx="2262240" cy="29232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75000" y="88884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14440" y="192096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61960" y="166536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33560" y="988920"/>
            <a:ext cx="1665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7812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920" y="201924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77336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98680" y="1873080"/>
            <a:ext cx="173160" cy="1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8600" y="3395520"/>
            <a:ext cx="308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60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524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16680" y="1298520"/>
            <a:ext cx="9360" cy="2390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0192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7960" y="2019240"/>
            <a:ext cx="295560" cy="82548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86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200" y="1625760"/>
            <a:ext cx="182880" cy="150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7960" y="2952720"/>
            <a:ext cx="295560" cy="19692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3080" y="192096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71840" y="192096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49520" y="16700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22200" y="285444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2600" y="987480"/>
            <a:ext cx="84924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FileRe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79920" y="348768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243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448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B810FCD5-93DF-4E3F-814B-1CE4D842113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804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3"/>
          <p:cNvSpPr/>
          <p:nvPr/>
        </p:nvSpPr>
        <p:spPr>
          <a:xfrm flipH="1" flipV="1">
            <a:off x="795240" y="2577600"/>
            <a:ext cx="1252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938160" y="2332080"/>
            <a:ext cx="1063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15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810" name="Rectangle 16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7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18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9"/>
          <p:cNvSpPr/>
          <p:nvPr/>
        </p:nvSpPr>
        <p:spPr>
          <a:xfrm flipV="1">
            <a:off x="2241000" y="337356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0"/>
          <p:cNvSpPr/>
          <p:nvPr/>
        </p:nvSpPr>
        <p:spPr>
          <a:xfrm>
            <a:off x="2509920" y="3147840"/>
            <a:ext cx="933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1"/>
          <p:cNvSpPr/>
          <p:nvPr/>
        </p:nvSpPr>
        <p:spPr>
          <a:xfrm>
            <a:off x="2048040" y="2192400"/>
            <a:ext cx="1936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2"/>
          <p:cNvSpPr/>
          <p:nvPr/>
        </p:nvSpPr>
        <p:spPr>
          <a:xfrm flipV="1">
            <a:off x="3832200" y="34671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23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818" name="Rectangle 24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5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Line 26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7"/>
          <p:cNvSpPr/>
          <p:nvPr/>
        </p:nvSpPr>
        <p:spPr>
          <a:xfrm flipH="1" flipV="1">
            <a:off x="2265480" y="4103280"/>
            <a:ext cx="1396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8"/>
          <p:cNvSpPr/>
          <p:nvPr/>
        </p:nvSpPr>
        <p:spPr>
          <a:xfrm>
            <a:off x="2557440" y="385920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9"/>
          <p:cNvSpPr/>
          <p:nvPr/>
        </p:nvSpPr>
        <p:spPr>
          <a:xfrm flipH="1" flipV="1">
            <a:off x="3831840" y="400536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0"/>
          <p:cNvSpPr/>
          <p:nvPr/>
        </p:nvSpPr>
        <p:spPr>
          <a:xfrm>
            <a:off x="3662280" y="3371760"/>
            <a:ext cx="16992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1"/>
          <p:cNvSpPr/>
          <p:nvPr/>
        </p:nvSpPr>
        <p:spPr>
          <a:xfrm>
            <a:off x="5203800" y="346716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32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827" name="Rectangle 33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34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Line 35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36" descr=""/>
          <p:cNvPicPr/>
          <p:nvPr/>
        </p:nvPicPr>
        <p:blipFill>
          <a:blip r:embed="rId1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37"/>
          <p:cNvSpPr/>
          <p:nvPr/>
        </p:nvSpPr>
        <p:spPr>
          <a:xfrm>
            <a:off x="276120" y="3117600"/>
            <a:ext cx="1463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tart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xitStatus.UNKNO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8"/>
          <p:cNvSpPr/>
          <p:nvPr/>
        </p:nvSpPr>
        <p:spPr>
          <a:xfrm flipV="1">
            <a:off x="1036080" y="2566800"/>
            <a:ext cx="331560" cy="6570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9"/>
          <p:cNvSpPr/>
          <p:nvPr/>
        </p:nvSpPr>
        <p:spPr>
          <a:xfrm>
            <a:off x="719280" y="2192400"/>
            <a:ext cx="134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0"/>
          <p:cNvSpPr/>
          <p:nvPr/>
        </p:nvSpPr>
        <p:spPr>
          <a:xfrm>
            <a:off x="936720" y="194616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1"/>
          <p:cNvSpPr/>
          <p:nvPr/>
        </p:nvSpPr>
        <p:spPr>
          <a:xfrm>
            <a:off x="601560" y="2163600"/>
            <a:ext cx="19368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42"/>
          <p:cNvSpPr/>
          <p:nvPr/>
        </p:nvSpPr>
        <p:spPr>
          <a:xfrm>
            <a:off x="2048040" y="3371760"/>
            <a:ext cx="19368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mote Chu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64080" y="1898640"/>
            <a:ext cx="833400" cy="237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605040" y="1835280"/>
            <a:ext cx="833760" cy="23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529080" y="1773360"/>
            <a:ext cx="833400" cy="23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197000" y="1773360"/>
            <a:ext cx="833400" cy="23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559440" y="2865960"/>
            <a:ext cx="1781280" cy="1890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rot="16200000">
            <a:off x="694440" y="2846880"/>
            <a:ext cx="21826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"/>
          <p:cNvCxnSpPr>
            <a:stCxn id="842" idx="2"/>
            <a:endCxn id="843" idx="0"/>
          </p:cNvCxnSpPr>
          <p:nvPr/>
        </p:nvCxnSpPr>
        <p:spPr>
          <a:xfrm flipV="1">
            <a:off x="1544400" y="2953440"/>
            <a:ext cx="13716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46" idx="4"/>
            <a:endCxn id="842" idx="0"/>
          </p:cNvCxnSpPr>
          <p:nvPr/>
        </p:nvCxnSpPr>
        <p:spPr>
          <a:xfrm>
            <a:off x="846000" y="296028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5006880" y="2716200"/>
            <a:ext cx="48276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"/>
          <p:cNvCxnSpPr>
            <a:stCxn id="849" idx="2"/>
            <a:endCxn id="847" idx="2"/>
          </p:cNvCxnSpPr>
          <p:nvPr/>
        </p:nvCxnSpPr>
        <p:spPr>
          <a:xfrm>
            <a:off x="4224240" y="2958840"/>
            <a:ext cx="78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43" idx="2"/>
            <a:endCxn id="851" idx="0"/>
          </p:cNvCxnSpPr>
          <p:nvPr/>
        </p:nvCxnSpPr>
        <p:spPr>
          <a:xfrm>
            <a:off x="1893600" y="2954160"/>
            <a:ext cx="1772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2" name=""/>
          <p:cNvSpPr/>
          <p:nvPr/>
        </p:nvSpPr>
        <p:spPr>
          <a:xfrm rot="16200000">
            <a:off x="2559600" y="2702160"/>
            <a:ext cx="195480" cy="52704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3" name=""/>
          <p:cNvCxnSpPr>
            <a:stCxn id="847" idx="3"/>
            <a:endCxn id="843" idx="1"/>
          </p:cNvCxnSpPr>
          <p:nvPr/>
        </p:nvCxnSpPr>
        <p:spPr>
          <a:xfrm rot="5400000">
            <a:off x="3094200" y="1892880"/>
            <a:ext cx="846720" cy="3461760"/>
          </a:xfrm>
          <a:prstGeom prst="bentConnector3">
            <a:avLst>
              <a:gd name="adj1" fmla="val 136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4" name=""/>
          <p:cNvSpPr/>
          <p:nvPr/>
        </p:nvSpPr>
        <p:spPr>
          <a:xfrm rot="16200000">
            <a:off x="2642400" y="4093560"/>
            <a:ext cx="193680" cy="52848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rot="16200000">
            <a:off x="2724840" y="2853360"/>
            <a:ext cx="20908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3006000" y="2864160"/>
            <a:ext cx="2246040" cy="1872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"/>
          <p:cNvCxnSpPr>
            <a:stCxn id="851" idx="2"/>
            <a:endCxn id="849" idx="0"/>
          </p:cNvCxnSpPr>
          <p:nvPr/>
        </p:nvCxnSpPr>
        <p:spPr>
          <a:xfrm flipV="1">
            <a:off x="3877920" y="2958840"/>
            <a:ext cx="15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6" name=""/>
          <p:cNvSpPr/>
          <p:nvPr/>
        </p:nvSpPr>
        <p:spPr>
          <a:xfrm>
            <a:off x="363600" y="2717640"/>
            <a:ext cx="48240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249920" y="1473120"/>
            <a:ext cx="80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Step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46360" y="1473120"/>
            <a:ext cx="107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Listener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248120" y="1160640"/>
            <a:ext cx="66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62280" y="1160640"/>
            <a:ext cx="57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Partitioning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03360" y="1308240"/>
            <a:ext cx="1782720" cy="245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47720" y="1798560"/>
            <a:ext cx="149400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7720" y="2438280"/>
            <a:ext cx="1494000" cy="246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M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7720" y="3125880"/>
            <a:ext cx="149400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"/>
          <p:cNvCxnSpPr>
            <a:stCxn id="862" idx="2"/>
            <a:endCxn id="863" idx="0"/>
          </p:cNvCxnSpPr>
          <p:nvPr/>
        </p:nvCxnSpPr>
        <p:spPr>
          <a:xfrm>
            <a:off x="1495080" y="2044440"/>
            <a:ext cx="108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63" idx="2"/>
            <a:endCxn id="864" idx="0"/>
          </p:cNvCxnSpPr>
          <p:nvPr/>
        </p:nvCxnSpPr>
        <p:spPr>
          <a:xfrm>
            <a:off x="1495080" y="2684520"/>
            <a:ext cx="108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7" name=""/>
          <p:cNvSpPr/>
          <p:nvPr/>
        </p:nvSpPr>
        <p:spPr>
          <a:xfrm>
            <a:off x="3252960" y="160344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252960" y="194616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252960" y="229068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52960" y="263520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252960" y="297972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52960" y="332280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3" idx="3"/>
            <a:endCxn id="867" idx="1"/>
          </p:cNvCxnSpPr>
          <p:nvPr/>
        </p:nvCxnSpPr>
        <p:spPr>
          <a:xfrm flipV="1">
            <a:off x="2241360" y="1726560"/>
            <a:ext cx="1011960" cy="83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863" idx="3"/>
            <a:endCxn id="868" idx="1"/>
          </p:cNvCxnSpPr>
          <p:nvPr/>
        </p:nvCxnSpPr>
        <p:spPr>
          <a:xfrm flipV="1">
            <a:off x="2241360" y="2069280"/>
            <a:ext cx="101196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5" name=""/>
          <p:cNvCxnSpPr>
            <a:stCxn id="863" idx="3"/>
            <a:endCxn id="869" idx="1"/>
          </p:cNvCxnSpPr>
          <p:nvPr/>
        </p:nvCxnSpPr>
        <p:spPr>
          <a:xfrm flipV="1">
            <a:off x="2241360" y="2414160"/>
            <a:ext cx="101196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63" idx="3"/>
            <a:endCxn id="870" idx="1"/>
          </p:cNvCxnSpPr>
          <p:nvPr/>
        </p:nvCxnSpPr>
        <p:spPr>
          <a:xfrm>
            <a:off x="2241360" y="2561760"/>
            <a:ext cx="10119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63" idx="3"/>
            <a:endCxn id="871" idx="1"/>
          </p:cNvCxnSpPr>
          <p:nvPr/>
        </p:nvCxnSpPr>
        <p:spPr>
          <a:xfrm>
            <a:off x="2241360" y="2562120"/>
            <a:ext cx="101196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63" idx="3"/>
            <a:endCxn id="872" idx="1"/>
          </p:cNvCxnSpPr>
          <p:nvPr/>
        </p:nvCxnSpPr>
        <p:spPr>
          <a:xfrm>
            <a:off x="2241360" y="2561760"/>
            <a:ext cx="1011960" cy="88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228680" y="184932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l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4960" y="160344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4960" y="1012680"/>
            <a:ext cx="1783080" cy="29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275000" y="1111320"/>
            <a:ext cx="1300320" cy="29520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22360" y="1455840"/>
            <a:ext cx="149400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Hand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819520" y="1749600"/>
            <a:ext cx="168588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ExecutionSplit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84320" y="1308240"/>
            <a:ext cx="0" cy="28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181160" y="2093760"/>
            <a:ext cx="8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44880" y="1700280"/>
            <a:ext cx="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1180800" y="361800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988920" y="1849320"/>
            <a:ext cx="192240" cy="230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48040" y="2093760"/>
            <a:ext cx="191880" cy="152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940280" y="1406520"/>
            <a:ext cx="0" cy="280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638520" y="1995480"/>
            <a:ext cx="0" cy="2211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64960" y="184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87840" y="2487600"/>
            <a:ext cx="135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41720" y="2730600"/>
            <a:ext cx="260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241720" y="3075120"/>
            <a:ext cx="2698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543480" y="2241720"/>
            <a:ext cx="1918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843440" y="2730600"/>
            <a:ext cx="19224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41720" y="22417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86080" y="1995480"/>
            <a:ext cx="772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l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12840" y="4108320"/>
            <a:ext cx="676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241720" y="25369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133240" y="2682720"/>
            <a:ext cx="144360" cy="492120"/>
          </a:xfrm>
          <a:custGeom>
            <a:avLst/>
            <a:gdLst>
              <a:gd name="textAreaLeft" fmla="*/ 92160 w 144360"/>
              <a:gd name="textAreaRight" fmla="*/ 144360 w 144360"/>
              <a:gd name="textAreaTop" fmla="*/ 12600 h 492120"/>
              <a:gd name="textAreaBottom" fmla="*/ 479520 h 49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276880" y="2781360"/>
            <a:ext cx="62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44880" y="322416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35320" y="3273480"/>
            <a:ext cx="733320" cy="21096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30440" y="3044880"/>
            <a:ext cx="5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4320" y="371628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74760" y="3765600"/>
            <a:ext cx="733320" cy="20952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325520" y="3730680"/>
            <a:ext cx="819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8680" y="2001960"/>
            <a:ext cx="173160" cy="149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65360" y="27655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98680" y="200196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3080" y="2160720"/>
            <a:ext cx="198360" cy="38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71840" y="2173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49520" y="1962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8920" y="2944800"/>
            <a:ext cx="18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87680" y="297648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65360" y="251928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65360" y="229536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95440" y="285768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61960" y="264960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5360" y="292572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98680" y="2001960"/>
            <a:ext cx="166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781080" y="3419640"/>
            <a:ext cx="1258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3072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31701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7680" y="29257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149640"/>
            <a:ext cx="19224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51080" y="3375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5360" y="38703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7680" y="36259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08000" y="395280"/>
            <a:ext cx="5905440" cy="3240000"/>
            <a:chOff x="108000" y="395280"/>
            <a:chExt cx="5905440" cy="3240000"/>
          </a:xfrm>
        </p:grpSpPr>
        <p:sp>
          <p:nvSpPr>
            <p:cNvPr id="207" name=""/>
            <p:cNvSpPr/>
            <p:nvPr/>
          </p:nvSpPr>
          <p:spPr>
            <a:xfrm>
              <a:off x="108000" y="395280"/>
              <a:ext cx="5905440" cy="324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640" y="900000"/>
              <a:ext cx="5699880" cy="2593440"/>
              <a:chOff x="179640" y="900000"/>
              <a:chExt cx="5699880" cy="2593440"/>
            </a:xfrm>
          </p:grpSpPr>
          <p:sp>
            <p:nvSpPr>
              <p:cNvPr id="209" name=""/>
              <p:cNvSpPr/>
              <p:nvPr/>
            </p:nvSpPr>
            <p:spPr>
              <a:xfrm>
                <a:off x="181080" y="900000"/>
                <a:ext cx="5616360" cy="252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320760" y="1498680"/>
                <a:ext cx="5558760" cy="1994760"/>
                <a:chOff x="320760" y="1498680"/>
                <a:chExt cx="5558760" cy="1994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33992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780560" y="1978200"/>
                  <a:ext cx="6195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for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99560" y="2484360"/>
                  <a:ext cx="860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ile(Tokenizer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247640" y="1932120"/>
                  <a:ext cx="66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ces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1200" y="1860480"/>
                  <a:ext cx="8028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58640" y="2147760"/>
                  <a:ext cx="78840" cy="14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20760" y="1908000"/>
                  <a:ext cx="59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com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80" y="20034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0800000">
                  <a:off x="5527440" y="2169720"/>
                  <a:ext cx="126000" cy="1443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0800000">
                  <a:off x="5653440" y="2460240"/>
                  <a:ext cx="12744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0800000">
                  <a:off x="5651640" y="22446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5880" y="2627280"/>
                  <a:ext cx="59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go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84160" y="1978200"/>
                  <a:ext cx="43560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ars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13760" y="1978200"/>
                  <a:ext cx="5331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id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78560" y="1978200"/>
                  <a:ext cx="5317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ces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566640" y="2268000"/>
                  <a:ext cx="248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735560" y="3132000"/>
                  <a:ext cx="764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Read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297440" y="2195640"/>
                  <a:ext cx="48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289160" y="1859040"/>
                  <a:ext cx="50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ar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esul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62120" y="2484360"/>
                  <a:ext cx="8751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ow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X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400480" y="2195640"/>
                  <a:ext cx="39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391840" y="1981080"/>
                  <a:ext cx="47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bjec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607120" y="2484360"/>
                  <a:ext cx="10328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pache Valid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pring VA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65280" y="2195640"/>
                  <a:ext cx="4586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427920" y="1981080"/>
                  <a:ext cx="380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0080" y="2268360"/>
                  <a:ext cx="50868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85200" y="3156120"/>
                  <a:ext cx="14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Writ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6200000">
                  <a:off x="2033280" y="1526760"/>
                  <a:ext cx="365040" cy="271224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112680 h 2712240"/>
                    <a:gd name="textAreaBottom" fmla="*/ 2599560 h 271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 rot="5400000">
                  <a:off x="1472040" y="977040"/>
                  <a:ext cx="289080" cy="1428120"/>
                </a:xfrm>
                <a:custGeom>
                  <a:avLst/>
                  <a:gdLst>
                    <a:gd name="textAreaLeft" fmla="*/ 84960 w 289080"/>
                    <a:gd name="textAreaRight" fmla="*/ 289080 w 289080"/>
                    <a:gd name="textAreaTop" fmla="*/ 59400 h 1428120"/>
                    <a:gd name="textAreaBottom" fmla="*/ 1368720 h 1428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811760" y="1979640"/>
                  <a:ext cx="5515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erializ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363280" y="2268360"/>
                  <a:ext cx="1803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7828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 rot="5400000">
                  <a:off x="4905000" y="1290960"/>
                  <a:ext cx="288720" cy="757800"/>
                </a:xfrm>
                <a:custGeom>
                  <a:avLst/>
                  <a:gdLst>
                    <a:gd name="textAreaLeft" fmla="*/ 84960 w 288720"/>
                    <a:gd name="textAreaRight" fmla="*/ 289080 w 288720"/>
                    <a:gd name="textAreaTop" fmla="*/ 31320 h 757800"/>
                    <a:gd name="textAreaBottom" fmla="*/ 726480 h 75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6200000">
                  <a:off x="4469400" y="1940760"/>
                  <a:ext cx="365040" cy="188388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78480 h 1883880"/>
                    <a:gd name="textAreaBottom" fmla="*/ 1805400 h 188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37880" y="2484360"/>
                  <a:ext cx="904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 Aggreg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45800" y="2556000"/>
                  <a:ext cx="59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ogi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179640" y="1044720"/>
                <a:ext cx="13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peat Callba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80360" y="4683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eat 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79360" y="1116000"/>
            <a:ext cx="5445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6F1817D-DA86-4238-99E9-7F2F64B675D2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1273320" y="1274760"/>
            <a:ext cx="3317760" cy="2952720"/>
          </a:xfrm>
          <a:prstGeom prst="roundRect">
            <a:avLst>
              <a:gd name="adj" fmla="val 11718"/>
            </a:avLst>
          </a:prstGeom>
          <a:noFill/>
          <a:ln w="12600">
            <a:solidFill>
              <a:srgbClr val="769b00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1990800" y="1523880"/>
            <a:ext cx="1990800" cy="571680"/>
            <a:chOff x="1990800" y="1523880"/>
            <a:chExt cx="1990800" cy="571680"/>
          </a:xfrm>
        </p:grpSpPr>
        <p:sp>
          <p:nvSpPr>
            <p:cNvPr id="253" name="Rectangle 4"/>
            <p:cNvSpPr/>
            <p:nvPr/>
          </p:nvSpPr>
          <p:spPr>
            <a:xfrm>
              <a:off x="1990800" y="1523880"/>
              <a:ext cx="1990800" cy="5716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2574360" y="1725480"/>
              <a:ext cx="817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"/>
          <p:cNvGrpSpPr/>
          <p:nvPr/>
        </p:nvGrpSpPr>
        <p:grpSpPr>
          <a:xfrm>
            <a:off x="1990800" y="2492280"/>
            <a:ext cx="1990800" cy="573120"/>
            <a:chOff x="1990800" y="2492280"/>
            <a:chExt cx="1990800" cy="573120"/>
          </a:xfrm>
        </p:grpSpPr>
        <p:sp>
          <p:nvSpPr>
            <p:cNvPr id="256" name="Rectangle 7"/>
            <p:cNvSpPr/>
            <p:nvPr/>
          </p:nvSpPr>
          <p:spPr>
            <a:xfrm>
              <a:off x="1990800" y="2492280"/>
              <a:ext cx="1990800" cy="5731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583360" y="2694600"/>
              <a:ext cx="800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C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9"/>
          <p:cNvGrpSpPr/>
          <p:nvPr/>
        </p:nvGrpSpPr>
        <p:grpSpPr>
          <a:xfrm>
            <a:off x="1990800" y="3438360"/>
            <a:ext cx="1990800" cy="573120"/>
            <a:chOff x="1990800" y="3438360"/>
            <a:chExt cx="1990800" cy="573120"/>
          </a:xfrm>
        </p:grpSpPr>
        <p:sp>
          <p:nvSpPr>
            <p:cNvPr id="259" name="Rectangle 10"/>
            <p:cNvSpPr/>
            <p:nvPr/>
          </p:nvSpPr>
          <p:spPr>
            <a:xfrm>
              <a:off x="1990800" y="3438360"/>
              <a:ext cx="1990800" cy="573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285640" y="3640680"/>
              <a:ext cx="139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Infrastruc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Line 12"/>
          <p:cNvSpPr/>
          <p:nvPr/>
        </p:nvSpPr>
        <p:spPr>
          <a:xfrm>
            <a:off x="2755800" y="3056040"/>
            <a:ext cx="0" cy="38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V="1">
            <a:off x="3114720" y="306072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1685880" y="169812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1681200" y="1709640"/>
            <a:ext cx="30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1786680" y="1844640"/>
            <a:ext cx="1800" cy="1803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7"/>
          <p:cNvSpPr/>
          <p:nvPr/>
        </p:nvSpPr>
        <p:spPr>
          <a:xfrm flipH="1">
            <a:off x="1782720" y="184644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4781520" y="1177920"/>
            <a:ext cx="1147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siness Domain - Record Level data (i.e. Trad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/>
          <p:cNvSpPr/>
          <p:nvPr/>
        </p:nvSpPr>
        <p:spPr>
          <a:xfrm flipH="1">
            <a:off x="4131720" y="1392120"/>
            <a:ext cx="650520" cy="3351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4865760" y="2793960"/>
            <a:ext cx="1123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Launcher, Implementations of Core A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1"/>
          <p:cNvSpPr/>
          <p:nvPr/>
        </p:nvSpPr>
        <p:spPr>
          <a:xfrm rot="10800000">
            <a:off x="4142880" y="2852640"/>
            <a:ext cx="722520" cy="154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4775040" y="3475080"/>
            <a:ext cx="1122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, Retry, Transaction, Input,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3"/>
          <p:cNvSpPr/>
          <p:nvPr/>
        </p:nvSpPr>
        <p:spPr>
          <a:xfrm flipH="1">
            <a:off x="4112640" y="3711600"/>
            <a:ext cx="663480" cy="126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108000" y="3144960"/>
            <a:ext cx="11239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587"/>
              </a:spcBef>
              <a:tabLst>
                <a:tab algn="l" pos="0"/>
                <a:tab algn="l" pos="307800"/>
                <a:tab algn="l" pos="614520"/>
                <a:tab algn="l" pos="928800"/>
                <a:tab algn="l" pos="1235160"/>
                <a:tab algn="l" pos="1542960"/>
                <a:tab algn="l" pos="1851120"/>
                <a:tab algn="l" pos="2157480"/>
                <a:tab algn="l" pos="2471760"/>
                <a:tab algn="l" pos="2778120"/>
                <a:tab algn="l" pos="3086280"/>
                <a:tab algn="l" pos="3394080"/>
                <a:tab algn="l" pos="3700440"/>
                <a:tab algn="l" pos="4014720"/>
                <a:tab algn="l" pos="4321080"/>
                <a:tab algn="l" pos="4629240"/>
                <a:tab algn="l" pos="4937040"/>
                <a:tab algn="l" pos="5243400"/>
                <a:tab algn="l" pos="5557680"/>
                <a:tab algn="l" pos="5864400"/>
                <a:tab algn="l" pos="617220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ve, plus Abstractions and Extension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5"/>
          <p:cNvSpPr/>
          <p:nvPr/>
        </p:nvSpPr>
        <p:spPr>
          <a:xfrm flipH="1" rot="10800000">
            <a:off x="668880" y="2501640"/>
            <a:ext cx="847800" cy="617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2760840" y="2103480"/>
            <a:ext cx="1440" cy="38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7"/>
          <p:cNvSpPr/>
          <p:nvPr/>
        </p:nvSpPr>
        <p:spPr>
          <a:xfrm flipH="1" flipV="1">
            <a:off x="3119400" y="2101680"/>
            <a:ext cx="6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8"/>
          <p:cNvSpPr/>
          <p:nvPr/>
        </p:nvSpPr>
        <p:spPr>
          <a:xfrm>
            <a:off x="4788000" y="1986120"/>
            <a:ext cx="1122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, Step, JobLaunc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9"/>
          <p:cNvSpPr/>
          <p:nvPr/>
        </p:nvSpPr>
        <p:spPr>
          <a:xfrm flipH="1">
            <a:off x="4124160" y="2300400"/>
            <a:ext cx="658800" cy="3412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0"/>
          <p:cNvSpPr/>
          <p:nvPr/>
        </p:nvSpPr>
        <p:spPr>
          <a:xfrm>
            <a:off x="1685880" y="3801960"/>
            <a:ext cx="3031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1"/>
          <p:cNvSpPr/>
          <p:nvPr/>
        </p:nvSpPr>
        <p:spPr>
          <a:xfrm flipH="1">
            <a:off x="1782720" y="364968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10-08-29T10:28:30Z</dcterms:modified>
  <cp:revision>63</cp:revision>
  <dc:subject/>
  <dc:title>Slide 1</dc:title>
</cp:coreProperties>
</file>