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6119813" cy="467995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9A88-7E6F-48E8-BD18-4847178EA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otball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pelin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 with 2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 with 2 Steps and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on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on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endedExecution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8923-CD22-4D6A-8AB9-E1E6F01B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BEB-9EF1-4B6E-ABCA-A2697B3C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184-BCB7-421D-A0EC-AEDC6511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12C7-324E-440A-8597-45D35A7D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11C-AE3C-40E6-8D73-81141FE7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1F2-7C77-4488-AA73-3A0EDCB4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82D-7768-4F71-AB23-F7240B6D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EE1-4380-47B7-B514-EECAC37B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87200"/>
            <a:ext cx="550872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0247-C469-4416-8037-0DDE56E6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FB2-2601-45DC-B36A-00303F55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B76-EF22-4471-B0F4-218BE450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E74-A55E-4F9F-BFC0-C7E53214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marL="231840" indent="-231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190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1480" indent="-154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54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4262400"/>
            <a:ext cx="142704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4262400"/>
            <a:ext cx="19368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4262400"/>
            <a:ext cx="14274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CB2CACD7-E4F0-4836-AFBC-1B3105AF0A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36720" y="1405080"/>
            <a:ext cx="223380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1693800" y="21603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7080" y="2413080"/>
            <a:ext cx="7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99280" y="1681200"/>
            <a:ext cx="750600" cy="1008000"/>
            <a:chOff x="899280" y="1681200"/>
            <a:chExt cx="750600" cy="1008000"/>
          </a:xfrm>
        </p:grpSpPr>
        <p:sp>
          <p:nvSpPr>
            <p:cNvPr id="52" name=""/>
            <p:cNvSpPr/>
            <p:nvPr/>
          </p:nvSpPr>
          <p:spPr>
            <a:xfrm>
              <a:off x="972720" y="196848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99280" y="16812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" name=""/>
          <p:cNvCxnSpPr>
            <a:stCxn id="52" idx="3"/>
            <a:endCxn id="49" idx="0"/>
          </p:cNvCxnSpPr>
          <p:nvPr/>
        </p:nvCxnSpPr>
        <p:spPr>
          <a:xfrm>
            <a:off x="1476000" y="2328840"/>
            <a:ext cx="721440" cy="4320"/>
          </a:xfrm>
          <a:prstGeom prst="bentConnector3">
            <a:avLst>
              <a:gd name="adj1" fmla="val 504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 rot="16200000">
            <a:off x="2693880" y="2160720"/>
            <a:ext cx="1656000" cy="344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9" idx="2"/>
            <a:endCxn id="55" idx="0"/>
          </p:cNvCxnSpPr>
          <p:nvPr/>
        </p:nvCxnSpPr>
        <p:spPr>
          <a:xfrm>
            <a:off x="2541600" y="2332800"/>
            <a:ext cx="8085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761840" y="1116000"/>
            <a:ext cx="1772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iterates over it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5080" y="2035080"/>
            <a:ext cx="720720" cy="59400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5" idx="2"/>
            <a:endCxn id="58" idx="2"/>
          </p:cNvCxnSpPr>
          <p:nvPr/>
        </p:nvCxnSpPr>
        <p:spPr>
          <a:xfrm flipV="1">
            <a:off x="3693960" y="2332080"/>
            <a:ext cx="95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rcRect l="24238" t="13521" r="20277" b="30040"/>
          <a:stretch/>
        </p:blipFill>
        <p:spPr>
          <a:xfrm>
            <a:off x="0" y="81000"/>
            <a:ext cx="612144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89080" y="1187280"/>
            <a:ext cx="2881440" cy="28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828720" y="21603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65080" y="3395520"/>
            <a:ext cx="7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23280" y="1692360"/>
            <a:ext cx="750600" cy="1008000"/>
            <a:chOff x="323280" y="1692360"/>
            <a:chExt cx="750600" cy="1008000"/>
          </a:xfrm>
        </p:grpSpPr>
        <p:sp>
          <p:nvSpPr>
            <p:cNvPr id="64" name=""/>
            <p:cNvSpPr/>
            <p:nvPr/>
          </p:nvSpPr>
          <p:spPr>
            <a:xfrm>
              <a:off x="396720" y="197964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3280" y="169236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6" name=""/>
          <p:cNvCxnSpPr>
            <a:stCxn id="64" idx="3"/>
            <a:endCxn id="61" idx="0"/>
          </p:cNvCxnSpPr>
          <p:nvPr/>
        </p:nvCxnSpPr>
        <p:spPr>
          <a:xfrm flipV="1">
            <a:off x="900000" y="2334600"/>
            <a:ext cx="434160" cy="5400"/>
          </a:xfrm>
          <a:prstGeom prst="bentConnector3">
            <a:avLst>
              <a:gd name="adj1" fmla="val 493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 rot="16200000">
            <a:off x="2923920" y="216036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1" idx="2"/>
            <a:endCxn id="69" idx="0"/>
          </p:cNvCxnSpPr>
          <p:nvPr/>
        </p:nvCxnSpPr>
        <p:spPr>
          <a:xfrm>
            <a:off x="1677960" y="233496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1400040" y="826920"/>
            <a:ext cx="1893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iterates over chun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5080" y="2035080"/>
            <a:ext cx="720720" cy="59400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7" idx="2"/>
            <a:endCxn id="71" idx="2"/>
          </p:cNvCxnSpPr>
          <p:nvPr/>
        </p:nvCxnSpPr>
        <p:spPr>
          <a:xfrm flipV="1">
            <a:off x="3925800" y="2331360"/>
            <a:ext cx="7200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 rot="16200000">
            <a:off x="1323720" y="2160360"/>
            <a:ext cx="151272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2"/>
            <a:endCxn id="74" idx="0"/>
          </p:cNvCxnSpPr>
          <p:nvPr/>
        </p:nvCxnSpPr>
        <p:spPr>
          <a:xfrm>
            <a:off x="2254320" y="2334960"/>
            <a:ext cx="75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 rot="16200000">
            <a:off x="2419200" y="2160360"/>
            <a:ext cx="151272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hu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74" idx="2"/>
            <a:endCxn id="67" idx="0"/>
          </p:cNvCxnSpPr>
          <p:nvPr/>
        </p:nvCxnSpPr>
        <p:spPr>
          <a:xfrm>
            <a:off x="3349440" y="233496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772720" y="3395520"/>
            <a:ext cx="79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27400" y="206532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9640" y="1382760"/>
            <a:ext cx="1150920" cy="17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7080" y="303120"/>
            <a:ext cx="119196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35640" y="108000"/>
            <a:ext cx="750600" cy="1008000"/>
            <a:chOff x="-35640" y="108000"/>
            <a:chExt cx="750600" cy="1008000"/>
          </a:xfrm>
        </p:grpSpPr>
        <p:sp>
          <p:nvSpPr>
            <p:cNvPr id="81" name=""/>
            <p:cNvSpPr/>
            <p:nvPr/>
          </p:nvSpPr>
          <p:spPr>
            <a:xfrm>
              <a:off x="37800" y="39528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-35640" y="1080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 rot="16200000">
            <a:off x="154080" y="2069640"/>
            <a:ext cx="135108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0360" y="239076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81" idx="2"/>
            <a:endCxn id="83" idx="0"/>
          </p:cNvCxnSpPr>
          <p:nvPr/>
        </p:nvCxnSpPr>
        <p:spPr>
          <a:xfrm flipH="1" rot="16200000">
            <a:off x="-90720" y="1495800"/>
            <a:ext cx="1129320" cy="369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 rot="16200000">
            <a:off x="649080" y="2070000"/>
            <a:ext cx="151272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3" idx="2"/>
            <a:endCxn id="86" idx="0"/>
          </p:cNvCxnSpPr>
          <p:nvPr/>
        </p:nvCxnSpPr>
        <p:spPr>
          <a:xfrm>
            <a:off x="1003320" y="224424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 rot="5400000">
            <a:off x="2413080" y="1738440"/>
            <a:ext cx="287280" cy="1008000"/>
          </a:xfrm>
          <a:prstGeom prst="can">
            <a:avLst>
              <a:gd name="adj" fmla="val 1334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8" idx="1"/>
            <a:endCxn id="90" idx="1"/>
          </p:cNvCxnSpPr>
          <p:nvPr/>
        </p:nvCxnSpPr>
        <p:spPr>
          <a:xfrm flipV="1">
            <a:off x="3063600" y="2241360"/>
            <a:ext cx="934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8" idx="1"/>
            <a:endCxn id="92" idx="0"/>
          </p:cNvCxnSpPr>
          <p:nvPr/>
        </p:nvCxnSpPr>
        <p:spPr>
          <a:xfrm flipV="1">
            <a:off x="3063600" y="1275840"/>
            <a:ext cx="72756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8" idx="1"/>
            <a:endCxn id="94" idx="0"/>
          </p:cNvCxnSpPr>
          <p:nvPr/>
        </p:nvCxnSpPr>
        <p:spPr>
          <a:xfrm>
            <a:off x="3063600" y="2242800"/>
            <a:ext cx="719640" cy="10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6" idx="2"/>
            <a:endCxn id="88" idx="3"/>
          </p:cNvCxnSpPr>
          <p:nvPr/>
        </p:nvCxnSpPr>
        <p:spPr>
          <a:xfrm flipV="1">
            <a:off x="1579320" y="2242800"/>
            <a:ext cx="477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 rot="16200000">
            <a:off x="3715920" y="110952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133800" y="110124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u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0"/>
          </p:cNvCxnSpPr>
          <p:nvPr/>
        </p:nvCxnSpPr>
        <p:spPr>
          <a:xfrm>
            <a:off x="4135320" y="1276200"/>
            <a:ext cx="2390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rot="16200000">
            <a:off x="3708360" y="311904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3125880" y="311112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u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4" idx="2"/>
            <a:endCxn id="98" idx="0"/>
          </p:cNvCxnSpPr>
          <p:nvPr/>
        </p:nvCxnSpPr>
        <p:spPr>
          <a:xfrm>
            <a:off x="4127400" y="3286080"/>
            <a:ext cx="2390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3999240" y="2103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4" idx="1"/>
            <a:endCxn id="86" idx="1"/>
          </p:cNvCxnSpPr>
          <p:nvPr/>
        </p:nvCxnSpPr>
        <p:spPr>
          <a:xfrm flipV="1" rot="16200000">
            <a:off x="2124360" y="2283840"/>
            <a:ext cx="1113120" cy="2548440"/>
          </a:xfrm>
          <a:prstGeom prst="bentConnector3">
            <a:avLst>
              <a:gd name="adj1" fmla="val -200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1760760" y="4033800"/>
            <a:ext cx="185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dback to throttle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88400" y="289080"/>
            <a:ext cx="1457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urrent liste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4" idx="2"/>
            <a:endCxn id="78" idx="0"/>
          </p:cNvCxnSpPr>
          <p:nvPr/>
        </p:nvCxnSpPr>
        <p:spPr>
          <a:xfrm rot="5400000">
            <a:off x="1266840" y="883440"/>
            <a:ext cx="348480" cy="651600"/>
          </a:xfrm>
          <a:prstGeom prst="bentConnector3">
            <a:avLst>
              <a:gd name="adj1" fmla="val 49741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5" name=""/>
          <p:cNvCxnSpPr>
            <a:stCxn id="102" idx="0"/>
            <a:endCxn id="79" idx="0"/>
          </p:cNvCxnSpPr>
          <p:nvPr/>
        </p:nvCxnSpPr>
        <p:spPr>
          <a:xfrm flipH="1" rot="16200000">
            <a:off x="3318480" y="-613080"/>
            <a:ext cx="14760" cy="1816920"/>
          </a:xfrm>
          <a:prstGeom prst="bentConnector3">
            <a:avLst>
              <a:gd name="adj1" fmla="val -160000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5202360" y="193680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6" idx="2"/>
            <a:endCxn id="106" idx="2"/>
          </p:cNvCxnSpPr>
          <p:nvPr/>
        </p:nvCxnSpPr>
        <p:spPr>
          <a:xfrm>
            <a:off x="4717800" y="1283760"/>
            <a:ext cx="48492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8" idx="2"/>
            <a:endCxn id="106" idx="2"/>
          </p:cNvCxnSpPr>
          <p:nvPr/>
        </p:nvCxnSpPr>
        <p:spPr>
          <a:xfrm flipV="1">
            <a:off x="4709880" y="2233080"/>
            <a:ext cx="492840" cy="106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0" idx="3"/>
            <a:endCxn id="106" idx="2"/>
          </p:cNvCxnSpPr>
          <p:nvPr/>
        </p:nvCxnSpPr>
        <p:spPr>
          <a:xfrm flipV="1">
            <a:off x="4334040" y="2232720"/>
            <a:ext cx="869040" cy="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546560" y="792000"/>
            <a:ext cx="439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260000" y="4211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7080" y="1390680"/>
            <a:ext cx="601920" cy="181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378000"/>
            <a:ext cx="1697040" cy="38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14" idx="3"/>
            <a:endCxn id="115" idx="0"/>
          </p:cNvCxnSpPr>
          <p:nvPr/>
        </p:nvCxnSpPr>
        <p:spPr>
          <a:xfrm flipH="1" rot="16200000">
            <a:off x="169920" y="1576080"/>
            <a:ext cx="101664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 rot="16200000">
            <a:off x="243000" y="2118960"/>
            <a:ext cx="16304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Hand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7" idx="4"/>
            <a:endCxn id="118" idx="1"/>
          </p:cNvCxnSpPr>
          <p:nvPr/>
        </p:nvCxnSpPr>
        <p:spPr>
          <a:xfrm>
            <a:off x="2844720" y="2290320"/>
            <a:ext cx="115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4"/>
            <a:endCxn id="120" idx="0"/>
          </p:cNvCxnSpPr>
          <p:nvPr/>
        </p:nvCxnSpPr>
        <p:spPr>
          <a:xfrm flipV="1">
            <a:off x="2844720" y="1310400"/>
            <a:ext cx="442080" cy="98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7" idx="4"/>
            <a:endCxn id="122" idx="0"/>
          </p:cNvCxnSpPr>
          <p:nvPr/>
        </p:nvCxnSpPr>
        <p:spPr>
          <a:xfrm>
            <a:off x="2844720" y="2290680"/>
            <a:ext cx="434160" cy="10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2"/>
            <a:endCxn id="117" idx="2"/>
          </p:cNvCxnSpPr>
          <p:nvPr/>
        </p:nvCxnSpPr>
        <p:spPr>
          <a:xfrm flipV="1">
            <a:off x="1231920" y="2289960"/>
            <a:ext cx="8928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 rot="16200000">
            <a:off x="3715920" y="114444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2629080" y="113616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0" idx="2"/>
            <a:endCxn id="126" idx="0"/>
          </p:cNvCxnSpPr>
          <p:nvPr/>
        </p:nvCxnSpPr>
        <p:spPr>
          <a:xfrm>
            <a:off x="3630600" y="1310760"/>
            <a:ext cx="224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 rot="16200000">
            <a:off x="3708360" y="315396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2621160" y="314604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2" idx="2"/>
            <a:endCxn id="129" idx="0"/>
          </p:cNvCxnSpPr>
          <p:nvPr/>
        </p:nvCxnSpPr>
        <p:spPr>
          <a:xfrm>
            <a:off x="3622320" y="3320640"/>
            <a:ext cx="1911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3999240" y="2152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72880" y="330120"/>
            <a:ext cx="121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urr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30" idx="0"/>
            <a:endCxn id="112" idx="0"/>
          </p:cNvCxnSpPr>
          <p:nvPr/>
        </p:nvCxnSpPr>
        <p:spPr>
          <a:xfrm flipH="1" rot="16200000">
            <a:off x="2856240" y="-748080"/>
            <a:ext cx="48600" cy="2202840"/>
          </a:xfrm>
          <a:prstGeom prst="bentConnector3">
            <a:avLst>
              <a:gd name="adj1" fmla="val -47985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202360" y="199404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4" idx="2"/>
            <a:endCxn id="132" idx="2"/>
          </p:cNvCxnSpPr>
          <p:nvPr/>
        </p:nvCxnSpPr>
        <p:spPr>
          <a:xfrm>
            <a:off x="4717800" y="1318680"/>
            <a:ext cx="48492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2"/>
            <a:endCxn id="132" idx="2"/>
          </p:cNvCxnSpPr>
          <p:nvPr/>
        </p:nvCxnSpPr>
        <p:spPr>
          <a:xfrm flipV="1">
            <a:off x="4709880" y="2290680"/>
            <a:ext cx="492840" cy="10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18" idx="3"/>
            <a:endCxn id="132" idx="2"/>
          </p:cNvCxnSpPr>
          <p:nvPr/>
        </p:nvCxnSpPr>
        <p:spPr>
          <a:xfrm>
            <a:off x="4334040" y="2290320"/>
            <a:ext cx="869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108000" y="68436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199404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22" idx="1"/>
            <a:endCxn id="117" idx="3"/>
          </p:cNvCxnSpPr>
          <p:nvPr/>
        </p:nvCxnSpPr>
        <p:spPr>
          <a:xfrm flipV="1" rot="16200000">
            <a:off x="2185200" y="2885400"/>
            <a:ext cx="1562760" cy="965880"/>
          </a:xfrm>
          <a:prstGeom prst="bentConnector3">
            <a:avLst>
              <a:gd name="adj1" fmla="val -143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1331640" y="3635280"/>
            <a:ext cx="12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s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man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tar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155760" y="315576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29" idx="2"/>
            <a:endCxn id="127" idx="0"/>
          </p:cNvCxnSpPr>
          <p:nvPr/>
        </p:nvCxnSpPr>
        <p:spPr>
          <a:xfrm flipV="1">
            <a:off x="4157640" y="3328200"/>
            <a:ext cx="208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 rot="16200000">
            <a:off x="3197160" y="113940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26" idx="2"/>
            <a:endCxn id="124" idx="0"/>
          </p:cNvCxnSpPr>
          <p:nvPr/>
        </p:nvCxnSpPr>
        <p:spPr>
          <a:xfrm>
            <a:off x="4198680" y="1314000"/>
            <a:ext cx="1753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1810080" y="684360"/>
            <a:ext cx="37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40" idx="1"/>
            <a:endCxn id="111" idx="0"/>
          </p:cNvCxnSpPr>
          <p:nvPr/>
        </p:nvCxnSpPr>
        <p:spPr>
          <a:xfrm flipV="1" rot="10800000">
            <a:off x="1058040" y="805320"/>
            <a:ext cx="753120" cy="58500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 rot="16200000">
            <a:off x="1003320" y="1303200"/>
            <a:ext cx="150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ores partitions and sends messages to remote execu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76360" y="1763640"/>
            <a:ext cx="1297080" cy="1943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1189080" y="25635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38920" y="2266920"/>
            <a:ext cx="750600" cy="1008000"/>
            <a:chOff x="538920" y="2266920"/>
            <a:chExt cx="750600" cy="1008000"/>
          </a:xfrm>
        </p:grpSpPr>
        <p:sp>
          <p:nvSpPr>
            <p:cNvPr id="146" name=""/>
            <p:cNvSpPr/>
            <p:nvPr/>
          </p:nvSpPr>
          <p:spPr>
            <a:xfrm>
              <a:off x="612360" y="255420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8920" y="22669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8" name=""/>
          <p:cNvCxnSpPr>
            <a:stCxn id="146" idx="3"/>
            <a:endCxn id="144" idx="0"/>
          </p:cNvCxnSpPr>
          <p:nvPr/>
        </p:nvCxnSpPr>
        <p:spPr>
          <a:xfrm flipV="1">
            <a:off x="1115640" y="2737800"/>
            <a:ext cx="578520" cy="176760"/>
          </a:xfrm>
          <a:prstGeom prst="bentConnector3">
            <a:avLst>
              <a:gd name="adj1" fmla="val 496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 rot="16200000">
            <a:off x="1612440" y="256356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ing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2"/>
            <a:endCxn id="149" idx="0"/>
          </p:cNvCxnSpPr>
          <p:nvPr/>
        </p:nvCxnSpPr>
        <p:spPr>
          <a:xfrm>
            <a:off x="2038320" y="273816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2627280" y="539640"/>
            <a:ext cx="720720" cy="59400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49" idx="2"/>
            <a:endCxn id="151" idx="3"/>
          </p:cNvCxnSpPr>
          <p:nvPr/>
        </p:nvCxnSpPr>
        <p:spPr>
          <a:xfrm flipV="1">
            <a:off x="2614680" y="1133280"/>
            <a:ext cx="373680" cy="1605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3203640" y="1762200"/>
            <a:ext cx="1297080" cy="1942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2840040" y="2563920"/>
            <a:ext cx="1503360" cy="344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3340080" y="256176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4" idx="2"/>
            <a:endCxn id="155" idx="0"/>
          </p:cNvCxnSpPr>
          <p:nvPr/>
        </p:nvCxnSpPr>
        <p:spPr>
          <a:xfrm flipV="1">
            <a:off x="3765600" y="2736000"/>
            <a:ext cx="232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4788000" y="244152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5" idx="2"/>
            <a:endCxn id="157" idx="2"/>
          </p:cNvCxnSpPr>
          <p:nvPr/>
        </p:nvCxnSpPr>
        <p:spPr>
          <a:xfrm>
            <a:off x="4341600" y="2736360"/>
            <a:ext cx="446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1" idx="3"/>
            <a:endCxn id="154" idx="0"/>
          </p:cNvCxnSpPr>
          <p:nvPr/>
        </p:nvCxnSpPr>
        <p:spPr>
          <a:xfrm flipH="1" rot="16200000">
            <a:off x="2401920" y="1719000"/>
            <a:ext cx="1605600" cy="434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333440" y="1474920"/>
            <a:ext cx="330984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4560" y="1474920"/>
            <a:ext cx="56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1840" y="1474920"/>
            <a:ext cx="56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58080" y="4211640"/>
            <a:ext cx="37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3" idx="1"/>
            <a:endCxn id="160" idx="2"/>
          </p:cNvCxnSpPr>
          <p:nvPr/>
        </p:nvCxnSpPr>
        <p:spPr>
          <a:xfrm rot="10800000">
            <a:off x="2988720" y="3850560"/>
            <a:ext cx="1270440" cy="4834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759120" y="885960"/>
            <a:ext cx="1316160" cy="313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1649160" y="1342800"/>
            <a:ext cx="186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ores partitions and sends messages to remote execu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8" idx="3"/>
            <a:endCxn id="169" idx="0"/>
          </p:cNvCxnSpPr>
          <p:nvPr/>
        </p:nvCxnSpPr>
        <p:spPr>
          <a:xfrm flipH="1" rot="16200000">
            <a:off x="1021680" y="1614960"/>
            <a:ext cx="1483200" cy="148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71" idx="4"/>
            <a:endCxn id="172" idx="1"/>
          </p:cNvCxnSpPr>
          <p:nvPr/>
        </p:nvCxnSpPr>
        <p:spPr>
          <a:xfrm>
            <a:off x="3475080" y="2430000"/>
            <a:ext cx="9547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71" idx="4"/>
            <a:endCxn id="174" idx="0"/>
          </p:cNvCxnSpPr>
          <p:nvPr/>
        </p:nvCxnSpPr>
        <p:spPr>
          <a:xfrm flipV="1">
            <a:off x="3475080" y="1639440"/>
            <a:ext cx="403920" cy="7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1" idx="4"/>
            <a:endCxn id="176" idx="0"/>
          </p:cNvCxnSpPr>
          <p:nvPr/>
        </p:nvCxnSpPr>
        <p:spPr>
          <a:xfrm>
            <a:off x="3475080" y="2430360"/>
            <a:ext cx="397440" cy="82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9" idx="2"/>
            <a:endCxn id="171" idx="2"/>
          </p:cNvCxnSpPr>
          <p:nvPr/>
        </p:nvCxnSpPr>
        <p:spPr>
          <a:xfrm>
            <a:off x="2103480" y="2430000"/>
            <a:ext cx="81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 rot="16200000">
            <a:off x="4186800" y="1510200"/>
            <a:ext cx="133524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usinessItemProces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3343320" y="1503000"/>
            <a:ext cx="1335240" cy="26820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4" idx="2"/>
            <a:endCxn id="180" idx="0"/>
          </p:cNvCxnSpPr>
          <p:nvPr/>
        </p:nvCxnSpPr>
        <p:spPr>
          <a:xfrm>
            <a:off x="4144680" y="1639440"/>
            <a:ext cx="175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 rot="16200000">
            <a:off x="4179960" y="3131640"/>
            <a:ext cx="133668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usinessItemProces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3336840" y="3125520"/>
            <a:ext cx="1336680" cy="26676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76" idx="2"/>
            <a:endCxn id="183" idx="0"/>
          </p:cNvCxnSpPr>
          <p:nvPr/>
        </p:nvCxnSpPr>
        <p:spPr>
          <a:xfrm>
            <a:off x="4140360" y="3260880"/>
            <a:ext cx="14832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4430880" y="231156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5080" y="324000"/>
            <a:ext cx="1150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current Step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0"/>
            <a:endCxn id="165" idx="0"/>
          </p:cNvCxnSpPr>
          <p:nvPr/>
        </p:nvCxnSpPr>
        <p:spPr>
          <a:xfrm flipH="1" rot="16200000">
            <a:off x="3368520" y="-164520"/>
            <a:ext cx="562680" cy="1537200"/>
          </a:xfrm>
          <a:prstGeom prst="bentConnector3">
            <a:avLst>
              <a:gd name="adj1" fmla="val -4065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5364000" y="2190600"/>
            <a:ext cx="559080" cy="47808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8" idx="2"/>
            <a:endCxn id="186" idx="2"/>
          </p:cNvCxnSpPr>
          <p:nvPr/>
        </p:nvCxnSpPr>
        <p:spPr>
          <a:xfrm>
            <a:off x="4989600" y="1646280"/>
            <a:ext cx="375120" cy="7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1" idx="2"/>
            <a:endCxn id="186" idx="2"/>
          </p:cNvCxnSpPr>
          <p:nvPr/>
        </p:nvCxnSpPr>
        <p:spPr>
          <a:xfrm flipV="1">
            <a:off x="4983120" y="2428560"/>
            <a:ext cx="3816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72" idx="3"/>
            <a:endCxn id="186" idx="2"/>
          </p:cNvCxnSpPr>
          <p:nvPr/>
        </p:nvCxnSpPr>
        <p:spPr>
          <a:xfrm flipV="1">
            <a:off x="4739760" y="2429640"/>
            <a:ext cx="6246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1409760" y="468360"/>
            <a:ext cx="558720" cy="47952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2190600"/>
            <a:ext cx="558720" cy="47808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6" idx="1"/>
            <a:endCxn id="171" idx="3"/>
          </p:cNvCxnSpPr>
          <p:nvPr/>
        </p:nvCxnSpPr>
        <p:spPr>
          <a:xfrm flipV="1" rot="16200000">
            <a:off x="2970360" y="2892600"/>
            <a:ext cx="1259640" cy="810360"/>
          </a:xfrm>
          <a:prstGeom prst="bentConnector3">
            <a:avLst>
              <a:gd name="adj1" fmla="val -181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197080" y="3540240"/>
            <a:ext cx="104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s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d man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star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3751920" y="3132720"/>
            <a:ext cx="133488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83" idx="2"/>
            <a:endCxn id="181" idx="0"/>
          </p:cNvCxnSpPr>
          <p:nvPr/>
        </p:nvCxnSpPr>
        <p:spPr>
          <a:xfrm flipV="1">
            <a:off x="4554360" y="3266280"/>
            <a:ext cx="161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 rot="16200000">
            <a:off x="3782880" y="1506240"/>
            <a:ext cx="133668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0" idx="2"/>
            <a:endCxn id="178" idx="0"/>
          </p:cNvCxnSpPr>
          <p:nvPr/>
        </p:nvCxnSpPr>
        <p:spPr>
          <a:xfrm>
            <a:off x="4586040" y="1641240"/>
            <a:ext cx="1357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612720" y="1403280"/>
            <a:ext cx="1727280" cy="187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411120" y="2317680"/>
            <a:ext cx="11332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0440" y="2031840"/>
            <a:ext cx="648720" cy="819000"/>
            <a:chOff x="10440" y="2031840"/>
            <a:chExt cx="648720" cy="819000"/>
          </a:xfrm>
        </p:grpSpPr>
        <p:sp>
          <p:nvSpPr>
            <p:cNvPr id="197" name=""/>
            <p:cNvSpPr/>
            <p:nvPr/>
          </p:nvSpPr>
          <p:spPr>
            <a:xfrm>
              <a:off x="54720" y="2247120"/>
              <a:ext cx="324360" cy="603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440" y="2031840"/>
              <a:ext cx="64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9" name=""/>
          <p:cNvCxnSpPr>
            <a:stCxn id="197" idx="3"/>
            <a:endCxn id="195" idx="0"/>
          </p:cNvCxnSpPr>
          <p:nvPr/>
        </p:nvCxnSpPr>
        <p:spPr>
          <a:xfrm flipV="1">
            <a:off x="379440" y="2428200"/>
            <a:ext cx="488160" cy="121320"/>
          </a:xfrm>
          <a:prstGeom prst="bentConnector3">
            <a:avLst>
              <a:gd name="adj1" fmla="val 498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 rot="16200000">
            <a:off x="670680" y="2318400"/>
            <a:ext cx="1388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gingItemWr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5" idx="2"/>
            <a:endCxn id="200" idx="0"/>
          </p:cNvCxnSpPr>
          <p:nvPr/>
        </p:nvCxnSpPr>
        <p:spPr>
          <a:xfrm>
            <a:off x="1088640" y="2428920"/>
            <a:ext cx="167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200" idx="2"/>
            <a:endCxn id="168" idx="3"/>
          </p:cNvCxnSpPr>
          <p:nvPr/>
        </p:nvCxnSpPr>
        <p:spPr>
          <a:xfrm flipV="1">
            <a:off x="1477440" y="947520"/>
            <a:ext cx="212040" cy="148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44480" y="1679400"/>
            <a:ext cx="863640" cy="15116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65440" y="1692360"/>
            <a:ext cx="431640" cy="1511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44200" y="3995640"/>
            <a:ext cx="327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"/>
          <p:cNvCxnSpPr>
            <a:stCxn id="205" idx="0"/>
            <a:endCxn id="194" idx="2"/>
          </p:cNvCxnSpPr>
          <p:nvPr/>
        </p:nvCxnSpPr>
        <p:spPr>
          <a:xfrm flipH="1" flipV="1" rot="5400000">
            <a:off x="882360" y="3401280"/>
            <a:ext cx="719640" cy="469080"/>
          </a:xfrm>
          <a:prstGeom prst="bentConnector3">
            <a:avLst>
              <a:gd name="adj1" fmla="val 49849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757080" y="1476360"/>
            <a:ext cx="5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65440" y="147636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1440" y="684360"/>
            <a:ext cx="5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1312920" y="2296800"/>
            <a:ext cx="1314360" cy="26676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rtitionHand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2268360"/>
            <a:ext cx="1944720" cy="194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27003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346068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11" idx="2"/>
            <a:endCxn id="212" idx="0"/>
          </p:cNvCxnSpPr>
          <p:nvPr/>
        </p:nvCxnSpPr>
        <p:spPr>
          <a:xfrm>
            <a:off x="1360080" y="3044520"/>
            <a:ext cx="108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1388880" y="324468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40000" y="1116000"/>
            <a:ext cx="135108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078000" y="2411280"/>
            <a:ext cx="2790720" cy="1105200"/>
            <a:chOff x="3078000" y="2411280"/>
            <a:chExt cx="2790720" cy="1105200"/>
          </a:xfrm>
        </p:grpSpPr>
        <p:sp>
          <p:nvSpPr>
            <p:cNvPr id="217" name=""/>
            <p:cNvSpPr/>
            <p:nvPr/>
          </p:nvSpPr>
          <p:spPr>
            <a:xfrm>
              <a:off x="3078000" y="2411280"/>
              <a:ext cx="1350720" cy="344520"/>
            </a:xfrm>
            <a:prstGeom prst="rect">
              <a:avLst/>
            </a:prstGeom>
            <a:solidFill>
              <a:srgbClr val="f0b4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epeat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78000" y="3171960"/>
              <a:ext cx="1350720" cy="344520"/>
            </a:xfrm>
            <a:prstGeom prst="rect">
              <a:avLst/>
            </a:prstGeom>
            <a:solidFill>
              <a:srgbClr val="f0b4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ompletionPoli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7" idx="2"/>
              <a:endCxn id="218" idx="0"/>
            </p:cNvCxnSpPr>
            <p:nvPr/>
          </p:nvCxnSpPr>
          <p:spPr>
            <a:xfrm>
              <a:off x="3753720" y="2755800"/>
              <a:ext cx="108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>
              <a:off x="3726000" y="291636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u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17640" y="2771640"/>
              <a:ext cx="1351080" cy="344520"/>
            </a:xfrm>
            <a:prstGeom prst="rect">
              <a:avLst/>
            </a:prstGeom>
            <a:solidFill>
              <a:srgbClr val="f0b4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xceptionHand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2" name=""/>
            <p:cNvCxnSpPr>
              <a:stCxn id="217" idx="3"/>
              <a:endCxn id="221" idx="0"/>
            </p:cNvCxnSpPr>
            <p:nvPr/>
          </p:nvCxnSpPr>
          <p:spPr>
            <a:xfrm>
              <a:off x="4428720" y="2584440"/>
              <a:ext cx="76608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>
              <a:off x="5166000" y="251604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u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4" name=""/>
          <p:cNvCxnSpPr>
            <a:stCxn id="212" idx="3"/>
            <a:endCxn id="217" idx="0"/>
          </p:cNvCxnSpPr>
          <p:nvPr/>
        </p:nvCxnSpPr>
        <p:spPr>
          <a:xfrm flipV="1">
            <a:off x="2035080" y="2410920"/>
            <a:ext cx="1720080" cy="1223280"/>
          </a:xfrm>
          <a:prstGeom prst="bentConnector4">
            <a:avLst>
              <a:gd name="adj1" fmla="val 30270"/>
              <a:gd name="adj2" fmla="val 1186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3712320" y="2052720"/>
            <a:ext cx="23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s 2: inner and outer lo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27" idx="2"/>
            <a:endCxn id="211" idx="0"/>
          </p:cNvCxnSpPr>
          <p:nvPr/>
        </p:nvCxnSpPr>
        <p:spPr>
          <a:xfrm rot="5400000">
            <a:off x="559440" y="1252440"/>
            <a:ext cx="2248560" cy="648360"/>
          </a:xfrm>
          <a:prstGeom prst="bentConnector3">
            <a:avLst>
              <a:gd name="adj1" fmla="val 49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1404360" y="169236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2" idx="3"/>
          </p:cNvCxnSpPr>
          <p:nvPr/>
        </p:nvCxnSpPr>
        <p:spPr>
          <a:xfrm>
            <a:off x="2034720" y="3633480"/>
            <a:ext cx="521640" cy="122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2478960" y="4068720"/>
            <a:ext cx="24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infrastructure depend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23280" y="179280"/>
            <a:ext cx="222480" cy="576000"/>
            <a:chOff x="323280" y="179280"/>
            <a:chExt cx="222480" cy="576000"/>
          </a:xfrm>
        </p:grpSpPr>
        <p:sp>
          <p:nvSpPr>
            <p:cNvPr id="232" name=""/>
            <p:cNvSpPr/>
            <p:nvPr/>
          </p:nvSpPr>
          <p:spPr>
            <a:xfrm>
              <a:off x="324000" y="179280"/>
              <a:ext cx="21564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4880" y="3949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488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2400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3280" y="4665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-1440" y="75564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2"/>
            <a:endCxn id="210" idx="1"/>
          </p:cNvCxnSpPr>
          <p:nvPr/>
        </p:nvCxnSpPr>
        <p:spPr>
          <a:xfrm>
            <a:off x="484200" y="1212840"/>
            <a:ext cx="195840" cy="13406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446760" y="197964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10800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Laun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27" idx="3"/>
            <a:endCxn id="215" idx="0"/>
          </p:cNvCxnSpPr>
          <p:nvPr/>
        </p:nvCxnSpPr>
        <p:spPr>
          <a:xfrm>
            <a:off x="2682720" y="280800"/>
            <a:ext cx="334080" cy="83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3055680" y="539640"/>
            <a:ext cx="206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to identify job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132000" y="1403280"/>
            <a:ext cx="2952720" cy="115272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2268360"/>
            <a:ext cx="1944720" cy="194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84360" y="2700360"/>
            <a:ext cx="1350720" cy="1104840"/>
            <a:chOff x="684360" y="2700360"/>
            <a:chExt cx="1350720" cy="1104840"/>
          </a:xfrm>
        </p:grpSpPr>
        <p:sp>
          <p:nvSpPr>
            <p:cNvPr id="245" name=""/>
            <p:cNvSpPr/>
            <p:nvPr/>
          </p:nvSpPr>
          <p:spPr>
            <a:xfrm>
              <a:off x="684360" y="2700360"/>
              <a:ext cx="1350720" cy="344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Jo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4360" y="3460680"/>
              <a:ext cx="1350720" cy="344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e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7" name=""/>
            <p:cNvCxnSpPr>
              <a:stCxn id="245" idx="2"/>
              <a:endCxn id="246" idx="0"/>
            </p:cNvCxnSpPr>
            <p:nvPr/>
          </p:nvCxnSpPr>
          <p:spPr>
            <a:xfrm>
              <a:off x="1360080" y="3044520"/>
              <a:ext cx="108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8" name=""/>
            <p:cNvSpPr/>
            <p:nvPr/>
          </p:nvSpPr>
          <p:spPr>
            <a:xfrm>
              <a:off x="1388880" y="324468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662360" y="1835280"/>
            <a:ext cx="135108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5080" y="1835280"/>
            <a:ext cx="135108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00720" y="3995640"/>
            <a:ext cx="135072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ceptionHand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6" idx="3"/>
            <a:endCxn id="251" idx="0"/>
          </p:cNvCxnSpPr>
          <p:nvPr/>
        </p:nvCxnSpPr>
        <p:spPr>
          <a:xfrm>
            <a:off x="2034720" y="3633480"/>
            <a:ext cx="314244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3492000" y="327672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50" idx="1"/>
            <a:endCxn id="246" idx="3"/>
          </p:cNvCxnSpPr>
          <p:nvPr/>
        </p:nvCxnSpPr>
        <p:spPr>
          <a:xfrm flipV="1" rot="10800000">
            <a:off x="2034360" y="2007720"/>
            <a:ext cx="1170720" cy="1626480"/>
          </a:xfrm>
          <a:prstGeom prst="bentConnector3">
            <a:avLst>
              <a:gd name="adj1" fmla="val 50046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1332000" y="75564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imp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23280" y="179280"/>
            <a:ext cx="222480" cy="576000"/>
            <a:chOff x="323280" y="179280"/>
            <a:chExt cx="222480" cy="576000"/>
          </a:xfrm>
        </p:grpSpPr>
        <p:sp>
          <p:nvSpPr>
            <p:cNvPr id="257" name=""/>
            <p:cNvSpPr/>
            <p:nvPr/>
          </p:nvSpPr>
          <p:spPr>
            <a:xfrm>
              <a:off x="324000" y="179280"/>
              <a:ext cx="21564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4880" y="3949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488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2400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3280" y="4665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-1440" y="75564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62" idx="2"/>
            <a:endCxn id="243" idx="1"/>
          </p:cNvCxnSpPr>
          <p:nvPr/>
        </p:nvCxnSpPr>
        <p:spPr>
          <a:xfrm>
            <a:off x="484200" y="1212840"/>
            <a:ext cx="195840" cy="13406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446760" y="197964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con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"/>
          <p:cNvCxnSpPr>
            <a:stCxn id="262" idx="3"/>
            <a:endCxn id="242" idx="1"/>
          </p:cNvCxnSpPr>
          <p:nvPr/>
        </p:nvCxnSpPr>
        <p:spPr>
          <a:xfrm>
            <a:off x="968400" y="984240"/>
            <a:ext cx="2596320" cy="5882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2989440" y="3995640"/>
            <a:ext cx="135072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eat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46" idx="3"/>
            <a:endCxn id="266" idx="0"/>
          </p:cNvCxnSpPr>
          <p:nvPr/>
        </p:nvCxnSpPr>
        <p:spPr>
          <a:xfrm>
            <a:off x="2034720" y="3633480"/>
            <a:ext cx="163116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49" idx="2"/>
            <a:endCxn id="246" idx="3"/>
          </p:cNvCxnSpPr>
          <p:nvPr/>
        </p:nvCxnSpPr>
        <p:spPr>
          <a:xfrm rot="5400000">
            <a:off x="2959200" y="1254600"/>
            <a:ext cx="1454760" cy="3304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16000" y="1746360"/>
            <a:ext cx="1619280" cy="1641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87640" y="1746360"/>
            <a:ext cx="1619280" cy="1641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840" y="2106720"/>
            <a:ext cx="1125720" cy="933480"/>
            <a:chOff x="3255840" y="2106720"/>
            <a:chExt cx="1125720" cy="933480"/>
          </a:xfrm>
        </p:grpSpPr>
        <p:sp>
          <p:nvSpPr>
            <p:cNvPr id="272" name=""/>
            <p:cNvSpPr/>
            <p:nvPr/>
          </p:nvSpPr>
          <p:spPr>
            <a:xfrm>
              <a:off x="3255840" y="2106720"/>
              <a:ext cx="1125720" cy="290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o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55840" y="2749680"/>
              <a:ext cx="1125720" cy="290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t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4" name=""/>
            <p:cNvCxnSpPr>
              <a:stCxn id="272" idx="2"/>
              <a:endCxn id="273" idx="0"/>
            </p:cNvCxnSpPr>
            <p:nvPr/>
          </p:nvCxnSpPr>
          <p:spPr>
            <a:xfrm>
              <a:off x="3819240" y="2396880"/>
              <a:ext cx="1080" cy="35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3798720" y="250812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ocat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254400" y="3460680"/>
            <a:ext cx="1123920" cy="290520"/>
          </a:xfrm>
          <a:prstGeom prst="ellipse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3" idx="2"/>
            <a:endCxn id="276" idx="0"/>
          </p:cNvCxnSpPr>
          <p:nvPr/>
        </p:nvCxnSpPr>
        <p:spPr>
          <a:xfrm rot="5400000">
            <a:off x="3606840" y="3248640"/>
            <a:ext cx="421200" cy="3960"/>
          </a:xfrm>
          <a:prstGeom prst="bentConnector3">
            <a:avLst>
              <a:gd name="adj1" fmla="val 497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3787560" y="3182760"/>
            <a:ext cx="174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frastructure depend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2" idx="1"/>
            <a:endCxn id="280" idx="3"/>
          </p:cNvCxnSpPr>
          <p:nvPr/>
        </p:nvCxnSpPr>
        <p:spPr>
          <a:xfrm rot="10800000">
            <a:off x="2455200" y="2251800"/>
            <a:ext cx="800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2556000" y="203508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790520" y="1098720"/>
            <a:ext cx="831600" cy="911160"/>
            <a:chOff x="4790520" y="1098720"/>
            <a:chExt cx="831600" cy="911160"/>
          </a:xfrm>
        </p:grpSpPr>
        <p:grpSp>
          <p:nvGrpSpPr>
            <p:cNvPr id="283" name=""/>
            <p:cNvGrpSpPr/>
            <p:nvPr/>
          </p:nvGrpSpPr>
          <p:grpSpPr>
            <a:xfrm>
              <a:off x="5057640" y="1098720"/>
              <a:ext cx="183960" cy="487080"/>
              <a:chOff x="5057640" y="1098720"/>
              <a:chExt cx="183960" cy="487080"/>
            </a:xfrm>
          </p:grpSpPr>
          <p:sp>
            <p:nvSpPr>
              <p:cNvPr id="284" name=""/>
              <p:cNvSpPr/>
              <p:nvPr/>
            </p:nvSpPr>
            <p:spPr>
              <a:xfrm>
                <a:off x="5058000" y="1098720"/>
                <a:ext cx="178560" cy="182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149800" y="128088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149800" y="1463760"/>
                <a:ext cx="9180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5057640" y="1463760"/>
                <a:ext cx="9180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058000" y="1341360"/>
                <a:ext cx="17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4790520" y="1611360"/>
              <a:ext cx="83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pplic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evelo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2"/>
            <a:endCxn id="270" idx="6"/>
          </p:cNvCxnSpPr>
          <p:nvPr/>
        </p:nvCxnSpPr>
        <p:spPr>
          <a:xfrm flipH="1">
            <a:off x="4606200" y="2007720"/>
            <a:ext cx="600840" cy="55980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4862160" y="232236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fig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16360" y="1384200"/>
            <a:ext cx="1512720" cy="290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obLaun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2" idx="3"/>
            <a:endCxn id="272" idx="3"/>
          </p:cNvCxnSpPr>
          <p:nvPr/>
        </p:nvCxnSpPr>
        <p:spPr>
          <a:xfrm flipH="1">
            <a:off x="4381200" y="1530360"/>
            <a:ext cx="48240" cy="722520"/>
          </a:xfrm>
          <a:prstGeom prst="bentConnector3">
            <a:avLst>
              <a:gd name="adj1" fmla="val -4759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96720" y="738360"/>
            <a:ext cx="1513080" cy="290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obParame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4" idx="3"/>
            <a:endCxn id="292" idx="1"/>
          </p:cNvCxnSpPr>
          <p:nvPr/>
        </p:nvCxnSpPr>
        <p:spPr>
          <a:xfrm>
            <a:off x="1909800" y="883800"/>
            <a:ext cx="1007280" cy="646920"/>
          </a:xfrm>
          <a:prstGeom prst="bentConnector3">
            <a:avLst>
              <a:gd name="adj1" fmla="val 49839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296" name=""/>
          <p:cNvGrpSpPr/>
          <p:nvPr/>
        </p:nvGrpSpPr>
        <p:grpSpPr>
          <a:xfrm>
            <a:off x="1332000" y="2106720"/>
            <a:ext cx="1123920" cy="933480"/>
            <a:chOff x="1332000" y="2106720"/>
            <a:chExt cx="1123920" cy="933480"/>
          </a:xfrm>
        </p:grpSpPr>
        <p:sp>
          <p:nvSpPr>
            <p:cNvPr id="280" name=""/>
            <p:cNvSpPr/>
            <p:nvPr/>
          </p:nvSpPr>
          <p:spPr>
            <a:xfrm>
              <a:off x="1332000" y="2106720"/>
              <a:ext cx="1123920" cy="290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obExec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32000" y="2749680"/>
              <a:ext cx="1123920" cy="290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tepExec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"/>
            <p:cNvCxnSpPr>
              <a:stCxn id="280" idx="2"/>
              <a:endCxn id="297" idx="0"/>
            </p:cNvCxnSpPr>
            <p:nvPr/>
          </p:nvCxnSpPr>
          <p:spPr>
            <a:xfrm>
              <a:off x="1893600" y="2396880"/>
              <a:ext cx="1080" cy="35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9" name=""/>
            <p:cNvSpPr/>
            <p:nvPr/>
          </p:nvSpPr>
          <p:spPr>
            <a:xfrm>
              <a:off x="1919520" y="2592720"/>
              <a:ext cx="22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1692360" y="3906720"/>
            <a:ext cx="720720" cy="594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269" idx="4"/>
            <a:endCxn id="300" idx="1"/>
          </p:cNvCxnSpPr>
          <p:nvPr/>
        </p:nvCxnSpPr>
        <p:spPr>
          <a:xfrm>
            <a:off x="1925280" y="3387600"/>
            <a:ext cx="127800" cy="5198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1957320" y="347508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ored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87640" y="1027080"/>
            <a:ext cx="130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ses to identify 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 jo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"/>
          <p:cNvCxnSpPr>
            <a:stCxn id="273" idx="1"/>
            <a:endCxn id="297" idx="3"/>
          </p:cNvCxnSpPr>
          <p:nvPr/>
        </p:nvCxnSpPr>
        <p:spPr>
          <a:xfrm rot="10800000">
            <a:off x="2455200" y="2894760"/>
            <a:ext cx="800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2556000" y="268272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08-03-17T13:01:31Z</dcterms:modified>
  <cp:revision>61</cp:revision>
  <dc:subject/>
  <dc:title>Slide 1</dc:title>
</cp:coreProperties>
</file>