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119813" cy="2879725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7750-1D68-4713-A66A-4F4DB4267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6360" y="96120"/>
            <a:ext cx="5508720" cy="519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6360" y="671040"/>
            <a:ext cx="55087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6360" y="1663920"/>
            <a:ext cx="55087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38FC-D2A8-4D88-8BE0-02D3170B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6360" y="96120"/>
            <a:ext cx="5508720" cy="519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6360" y="671040"/>
            <a:ext cx="26881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29120" y="671040"/>
            <a:ext cx="26881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6360" y="1663920"/>
            <a:ext cx="26881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129120" y="1663920"/>
            <a:ext cx="26881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F246-876C-4B02-95AB-BFDAB0E8A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6360" y="96120"/>
            <a:ext cx="5508720" cy="519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6360" y="671040"/>
            <a:ext cx="17737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69000" y="671040"/>
            <a:ext cx="17737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32000" y="671040"/>
            <a:ext cx="17737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6360" y="1663920"/>
            <a:ext cx="17737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69000" y="1663920"/>
            <a:ext cx="17737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032000" y="1663920"/>
            <a:ext cx="17737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E37E-B927-47E3-B1E5-3C4DA53A1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6360" y="96120"/>
            <a:ext cx="5508720" cy="519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6360" y="671040"/>
            <a:ext cx="550872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4CE5-BFDF-47AB-9D55-2003871F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6360" y="96120"/>
            <a:ext cx="5508720" cy="519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6360" y="671040"/>
            <a:ext cx="5508720" cy="19004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1044-435C-4D23-A92C-E07FF34A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6360" y="96120"/>
            <a:ext cx="5508720" cy="519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6360" y="671040"/>
            <a:ext cx="2688120" cy="19004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129120" y="671040"/>
            <a:ext cx="2688120" cy="19004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0068-8B26-4FAA-B77B-A3009672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6360" y="96120"/>
            <a:ext cx="5508720" cy="519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EC0A-5B05-4676-87D3-AF99437D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6360" y="115920"/>
            <a:ext cx="5508720" cy="22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B982-82B7-4005-9577-09EBE4DC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6360" y="96120"/>
            <a:ext cx="5508720" cy="519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6360" y="671040"/>
            <a:ext cx="26881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29120" y="671040"/>
            <a:ext cx="2688120" cy="19004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6360" y="1663920"/>
            <a:ext cx="26881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32D1-E48D-4979-89EF-BAEF7CC3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6360" y="96120"/>
            <a:ext cx="5508720" cy="519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6360" y="671040"/>
            <a:ext cx="2688120" cy="19004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29120" y="671040"/>
            <a:ext cx="26881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29120" y="1663920"/>
            <a:ext cx="26881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843E-9D24-4974-B0D9-5DC4CC2D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6360" y="96120"/>
            <a:ext cx="5508720" cy="519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6360" y="671040"/>
            <a:ext cx="26881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29120" y="671040"/>
            <a:ext cx="26881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6360" y="1663920"/>
            <a:ext cx="5508720" cy="90648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44E6-38DD-45B2-A1C0-1F421C8C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6360" y="115920"/>
            <a:ext cx="5508720" cy="4795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6360" y="671040"/>
            <a:ext cx="5508720" cy="19004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 fontScale="69000"/>
          </a:bodyPr>
          <a:p>
            <a:pPr marL="159840" indent="-1598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1314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532080" indent="-1062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744840" indent="-106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957240" indent="-106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957240" indent="-106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957240" indent="-1062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6360" y="2622240"/>
            <a:ext cx="1427040" cy="1998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92320" y="2622240"/>
            <a:ext cx="1936800" cy="1998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87320" y="2622240"/>
            <a:ext cx="1427400" cy="1998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fld id="{2CCEBE4C-3C76-44FA-BBFF-0B33108BA00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16160" y="517680"/>
            <a:ext cx="1989000" cy="350640"/>
          </a:xfrm>
          <a:prstGeom prst="rect">
            <a:avLst/>
          </a:prstGeom>
          <a:solidFill>
            <a:srgbClr val="00ff00">
              <a:alpha val="90000"/>
            </a:srgbClr>
          </a:solidFill>
          <a:ln w="12600">
            <a:solidFill>
              <a:srgbClr val="000000"/>
            </a:solidFill>
            <a:miter/>
          </a:ln>
          <a:effectLst>
            <a:outerShdw dist="0" dir="0" blurRad="0" rotWithShape="0">
              <a:srgbClr val="808080">
                <a:alpha val="9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95680" y="1521000"/>
            <a:ext cx="993600" cy="3520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  <a:effectLst>
            <a:outerShdw dist="0" dir="0" blurRad="0" rotWithShape="0">
              <a:srgbClr val="808080">
                <a:alpha val="9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16160" y="2271600"/>
            <a:ext cx="1989000" cy="35100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  <a:effectLst>
            <a:outerShdw dist="0" dir="0" blurRad="0" rotWithShape="0">
              <a:srgbClr val="808080">
                <a:alpha val="9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46200" y="1521000"/>
            <a:ext cx="841320" cy="3520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  <a:effectLst>
            <a:outerShdw dist="0" dir="0" blurRad="0" rotWithShape="0">
              <a:srgbClr val="808080">
                <a:alpha val="9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DA / ES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95840" y="1521000"/>
            <a:ext cx="934920" cy="3520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  <a:effectLst>
            <a:outerShdw dist="0" dir="0" blurRad="0" rotWithShape="0">
              <a:srgbClr val="808080">
                <a:alpha val="9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38760" y="1521000"/>
            <a:ext cx="933480" cy="3520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  <a:effectLst>
            <a:outerShdw dist="0" dir="0" blurRad="0" rotWithShape="0">
              <a:srgbClr val="808080">
                <a:alpha val="9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95520" y="1521000"/>
            <a:ext cx="993600" cy="3520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  <a:effectLst>
            <a:outerShdw dist="0" dir="0" blurRad="0" rotWithShape="0">
              <a:srgbClr val="808080">
                <a:alpha val="9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JB Partiti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9600" y="1481040"/>
            <a:ext cx="5263920" cy="444600"/>
          </a:xfrm>
          <a:prstGeom prst="rect">
            <a:avLst/>
          </a:prstGeom>
          <a:noFill/>
          <a:ln w="19080">
            <a:solidFill>
              <a:srgbClr val="3555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70280" y="879120"/>
            <a:ext cx="112104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Specialized Execution Environm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4071960" y="1170000"/>
            <a:ext cx="588960" cy="30168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19440" y="2049480"/>
            <a:ext cx="1122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Common Infrastructu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4213080" y="2224080"/>
            <a:ext cx="424080" cy="22392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0800" y="-1440"/>
            <a:ext cx="1122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Same Business 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20720" y="216000"/>
            <a:ext cx="792360" cy="28728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43" idx="1"/>
            <a:endCxn id="41" idx="1"/>
          </p:cNvCxnSpPr>
          <p:nvPr/>
        </p:nvCxnSpPr>
        <p:spPr>
          <a:xfrm rot="10800000">
            <a:off x="2216160" y="693000"/>
            <a:ext cx="360" cy="1754280"/>
          </a:xfrm>
          <a:prstGeom prst="bentConnector3">
            <a:avLst>
              <a:gd name="adj1" fmla="val -64900000"/>
            </a:avLst>
          </a:prstGeom>
          <a:ln w="1260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6" name=""/>
          <p:cNvCxnSpPr>
            <a:stCxn id="41" idx="2"/>
            <a:endCxn id="48" idx="0"/>
          </p:cNvCxnSpPr>
          <p:nvPr/>
        </p:nvCxnSpPr>
        <p:spPr>
          <a:xfrm flipH="1" rot="16200000">
            <a:off x="2904480" y="1173960"/>
            <a:ext cx="613080" cy="1440"/>
          </a:xfrm>
          <a:prstGeom prst="bentConnector3">
            <a:avLst>
              <a:gd name="adj1" fmla="val 49706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8" idx="2"/>
            <a:endCxn id="43" idx="0"/>
          </p:cNvCxnSpPr>
          <p:nvPr/>
        </p:nvCxnSpPr>
        <p:spPr>
          <a:xfrm rot="5400000">
            <a:off x="3037680" y="2098080"/>
            <a:ext cx="346320" cy="1440"/>
          </a:xfrm>
          <a:prstGeom prst="bentConnector3">
            <a:avLst>
              <a:gd name="adj1" fmla="val 50364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08:20:48Z</dcterms:created>
  <dc:creator> Dave Syer</dc:creator>
  <dc:description/>
  <dc:language>en-US</dc:language>
  <cp:lastModifiedBy> Dave Syer</cp:lastModifiedBy>
  <dcterms:modified xsi:type="dcterms:W3CDTF">2007-08-20T20:59:35Z</dcterms:modified>
  <cp:revision>46</cp:revision>
  <dc:subject/>
  <dc:title>Slide 1</dc:title>
</cp:coreProperties>
</file>