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6119813" cy="3240088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143080" y="514440"/>
            <a:ext cx="4857840" cy="257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D8323-6634-4983-A3B8-EEA1477344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2143080" y="514440"/>
            <a:ext cx="4857840" cy="257184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untimeDependenc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63B42-6FFD-40E4-A369-E71D4E19B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6360" y="129960"/>
            <a:ext cx="5508720" cy="53964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ctr">
            <a:noAutofit/>
          </a:bodyPr>
          <a:p>
            <a:pPr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6360" y="755640"/>
            <a:ext cx="5508720" cy="101988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6360" y="1872720"/>
            <a:ext cx="5508720" cy="101988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CF385-2158-4293-9AE0-E3FD79C6E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6360" y="129960"/>
            <a:ext cx="5508720" cy="53964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ctr">
            <a:noAutofit/>
          </a:bodyPr>
          <a:p>
            <a:pPr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6360" y="755640"/>
            <a:ext cx="2688120" cy="101988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129120" y="755640"/>
            <a:ext cx="2688120" cy="101988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6360" y="1872720"/>
            <a:ext cx="2688120" cy="101988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129120" y="1872720"/>
            <a:ext cx="2688120" cy="101988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2E703-9973-4C90-8033-A37508DB7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6360" y="129960"/>
            <a:ext cx="5508720" cy="53964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ctr">
            <a:noAutofit/>
          </a:bodyPr>
          <a:p>
            <a:pPr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6360" y="755640"/>
            <a:ext cx="1773720" cy="101988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169000" y="755640"/>
            <a:ext cx="1773720" cy="101988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032000" y="755640"/>
            <a:ext cx="1773720" cy="101988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6360" y="1872720"/>
            <a:ext cx="1773720" cy="101988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169000" y="1872720"/>
            <a:ext cx="1773720" cy="101988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032000" y="1872720"/>
            <a:ext cx="1773720" cy="101988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B6E27-1672-4DFB-BB95-D80CEC0ED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6360" y="129960"/>
            <a:ext cx="5508720" cy="53964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ctr">
            <a:noAutofit/>
          </a:bodyPr>
          <a:p>
            <a:pPr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6360" y="755640"/>
            <a:ext cx="5508720" cy="21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74F63-849E-4C6E-A0CE-05109F9DC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6360" y="129960"/>
            <a:ext cx="5508720" cy="53964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ctr">
            <a:noAutofit/>
          </a:bodyPr>
          <a:p>
            <a:pPr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6360" y="755640"/>
            <a:ext cx="5508720" cy="213840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26EAD-3EEC-4A2C-BB5D-612B39FE4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6360" y="129960"/>
            <a:ext cx="5508720" cy="53964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ctr">
            <a:noAutofit/>
          </a:bodyPr>
          <a:p>
            <a:pPr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6360" y="755640"/>
            <a:ext cx="2688120" cy="213840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129120" y="755640"/>
            <a:ext cx="2688120" cy="213840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BACAA-EE72-4E19-A019-3DD103002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6360" y="129960"/>
            <a:ext cx="5508720" cy="53964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ctr">
            <a:noAutofit/>
          </a:bodyPr>
          <a:p>
            <a:pPr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863A8-C767-4005-90B3-492BA1AF7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6360" y="129960"/>
            <a:ext cx="5508720" cy="250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BE800-BBE4-44B5-AA98-CBDD64D08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6360" y="129960"/>
            <a:ext cx="5508720" cy="53964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ctr">
            <a:noAutofit/>
          </a:bodyPr>
          <a:p>
            <a:pPr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6360" y="755640"/>
            <a:ext cx="2688120" cy="101988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129120" y="755640"/>
            <a:ext cx="2688120" cy="213840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6360" y="1872720"/>
            <a:ext cx="2688120" cy="101988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ACBC7-8708-4017-88CC-F9F1E6FF4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6360" y="129960"/>
            <a:ext cx="5508720" cy="53964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ctr">
            <a:noAutofit/>
          </a:bodyPr>
          <a:p>
            <a:pPr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6360" y="755640"/>
            <a:ext cx="2688120" cy="213840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129120" y="755640"/>
            <a:ext cx="2688120" cy="101988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129120" y="1872720"/>
            <a:ext cx="2688120" cy="101988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3208A-1693-424B-A95A-A8F6A42A3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6360" y="129960"/>
            <a:ext cx="5508720" cy="53964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ctr">
            <a:noAutofit/>
          </a:bodyPr>
          <a:p>
            <a:pPr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6360" y="755640"/>
            <a:ext cx="2688120" cy="101988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129120" y="755640"/>
            <a:ext cx="2688120" cy="101988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6360" y="1872720"/>
            <a:ext cx="5508720" cy="101988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A75AD-5FB4-4E98-9768-0742FC479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6360" y="129960"/>
            <a:ext cx="5508720" cy="53964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ctr">
            <a:noAutofit/>
          </a:bodyPr>
          <a:p>
            <a:pPr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6360" y="755640"/>
            <a:ext cx="5508720" cy="213840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 fontScale="78000"/>
          </a:bodyPr>
          <a:p>
            <a:pPr marL="180720" indent="-18072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389880" indent="-14832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601560" indent="-1198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842040" indent="-11988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1082160" indent="-11988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1082160" indent="-11988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1082160" indent="-11988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6360" y="2950920"/>
            <a:ext cx="1427040" cy="22356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Autofit/>
          </a:bodyPr>
          <a:lstStyle>
            <a:lvl1pPr indent="0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  <a:defRPr b="0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092320" y="2950920"/>
            <a:ext cx="1936800" cy="22356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Autofit/>
          </a:bodyPr>
          <a:lstStyle>
            <a:lvl1pPr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  <a:defRPr b="0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87320" y="2950920"/>
            <a:ext cx="1427400" cy="22356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Autofit/>
          </a:bodyPr>
          <a:lstStyle>
            <a:lvl1pPr indent="0" algn="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  <a:defRPr b="0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fld id="{2C8F5BB4-10F1-44B5-BD81-A9BB3A9BF8B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649600" y="565200"/>
            <a:ext cx="3179880" cy="10224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006560" y="622440"/>
            <a:ext cx="3422520" cy="4064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133640" y="703440"/>
            <a:ext cx="1155600" cy="237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ctr">
            <a:no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89360" y="703440"/>
            <a:ext cx="1157040" cy="237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ctr">
            <a:no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529160" y="1179360"/>
            <a:ext cx="1157400" cy="238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ctr">
            <a:no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50" idx="3"/>
            <a:endCxn id="51" idx="1"/>
          </p:cNvCxnSpPr>
          <p:nvPr/>
        </p:nvCxnSpPr>
        <p:spPr>
          <a:xfrm>
            <a:off x="2289240" y="822240"/>
            <a:ext cx="600480" cy="36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54" name=""/>
          <p:cNvCxnSpPr>
            <a:stCxn id="51" idx="2"/>
            <a:endCxn id="52" idx="1"/>
          </p:cNvCxnSpPr>
          <p:nvPr/>
        </p:nvCxnSpPr>
        <p:spPr>
          <a:xfrm flipH="1" rot="16200000">
            <a:off x="3819960" y="589320"/>
            <a:ext cx="357480" cy="1061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0" idx="2"/>
            <a:endCxn id="52" idx="2"/>
          </p:cNvCxnSpPr>
          <p:nvPr/>
        </p:nvCxnSpPr>
        <p:spPr>
          <a:xfrm flipH="1" rot="16200000">
            <a:off x="3171600" y="-518760"/>
            <a:ext cx="476640" cy="3396600"/>
          </a:xfrm>
          <a:prstGeom prst="bentConnector3">
            <a:avLst>
              <a:gd name="adj1" fmla="val 14860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4795920" y="252360"/>
            <a:ext cx="10731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t">
            <a:spAutoFit/>
          </a:bodyPr>
          <a:p>
            <a:pPr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Spring Bat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36360" y="324000"/>
            <a:ext cx="7531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t">
            <a:spAutoFit/>
          </a:bodyPr>
          <a:p>
            <a:pPr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Samp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356000" y="2522520"/>
            <a:ext cx="1300320" cy="238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ctr">
            <a:no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pring Frame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52" idx="3"/>
            <a:endCxn id="58" idx="3"/>
          </p:cNvCxnSpPr>
          <p:nvPr/>
        </p:nvCxnSpPr>
        <p:spPr>
          <a:xfrm flipH="1">
            <a:off x="5656320" y="1298520"/>
            <a:ext cx="30600" cy="1343520"/>
          </a:xfrm>
          <a:prstGeom prst="bentConnector3">
            <a:avLst>
              <a:gd name="adj1" fmla="val -76428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51" idx="2"/>
            <a:endCxn id="58" idx="1"/>
          </p:cNvCxnSpPr>
          <p:nvPr/>
        </p:nvCxnSpPr>
        <p:spPr>
          <a:xfrm flipH="1" rot="16200000">
            <a:off x="3061800" y="1347120"/>
            <a:ext cx="1700640" cy="888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2629080" y="2427120"/>
            <a:ext cx="3179520" cy="417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871880" y="2092320"/>
            <a:ext cx="9972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t">
            <a:spAutoFit/>
          </a:bodyPr>
          <a:p>
            <a:pPr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Spring C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3" name=""/>
          <p:cNvCxnSpPr>
            <a:stCxn id="51" idx="3"/>
            <a:endCxn id="52" idx="0"/>
          </p:cNvCxnSpPr>
          <p:nvPr/>
        </p:nvCxnSpPr>
        <p:spPr>
          <a:xfrm>
            <a:off x="4046400" y="822240"/>
            <a:ext cx="1061640" cy="357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24000" y="2421000"/>
            <a:ext cx="577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995040" y="2317680"/>
            <a:ext cx="683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t">
            <a:spAutoFit/>
          </a:bodyPr>
          <a:p>
            <a:pPr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mp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2637000"/>
            <a:ext cx="577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993960" y="2533680"/>
            <a:ext cx="7869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t">
            <a:spAutoFit/>
          </a:bodyPr>
          <a:p>
            <a:pPr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nfig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1T08:20:48Z</dcterms:created>
  <dc:creator> Dave Syer</dc:creator>
  <dc:description/>
  <dc:language>en-US</dc:language>
  <cp:lastModifiedBy> Dave Syer</cp:lastModifiedBy>
  <dcterms:modified xsi:type="dcterms:W3CDTF">2008-03-13T15:08:21Z</dcterms:modified>
  <cp:revision>49</cp:revision>
  <dc:subject/>
  <dc:title>Slide 1</dc:title>
</cp:coreProperties>
</file>