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39F-4B8A-4149-8D82-9DDA1E46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ball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pelin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 with 2 Steps and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dedExecution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BBC-2A05-45D8-BDE9-5EA6EE27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F84-6595-4992-9552-433EC27A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C4D-FA51-43C5-BB79-869A785C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FA0-E98C-4D42-908F-A4513F35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C0A-5EF9-4138-A8BC-755E58E0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6F-7CDF-477B-B0A1-0163DC1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6B9-74B6-44AE-A2BE-4738797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AA4-EB10-4DF4-9B94-66814214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517-DEF8-427C-8678-1D6A7839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717-8A45-4667-AD49-08CD77FF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39A-A29A-4C68-A494-FFF65B2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20F-6373-4110-9BA5-55B2F36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9BF52A92-54F0-4AA3-93BB-FDA7046305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6720" y="1405080"/>
            <a:ext cx="223380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69380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7080" y="2413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99280" y="1681200"/>
            <a:ext cx="750600" cy="1008000"/>
            <a:chOff x="899280" y="1681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972720" y="1968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9280" y="1681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1476000" y="2328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693880" y="2160720"/>
            <a:ext cx="165600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541600" y="2332800"/>
            <a:ext cx="808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1840" y="1116000"/>
            <a:ext cx="177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i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2"/>
            <a:endCxn id="58" idx="2"/>
          </p:cNvCxnSpPr>
          <p:nvPr/>
        </p:nvCxnSpPr>
        <p:spPr>
          <a:xfrm flipV="1">
            <a:off x="3693960" y="2332080"/>
            <a:ext cx="95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24238" t="13521" r="20277" b="30040"/>
          <a:stretch/>
        </p:blipFill>
        <p:spPr>
          <a:xfrm>
            <a:off x="0" y="81000"/>
            <a:ext cx="61214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9080" y="118728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28720" y="216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5080" y="339552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3280" y="1692360"/>
            <a:ext cx="750600" cy="1008000"/>
            <a:chOff x="323280" y="1692360"/>
            <a:chExt cx="750600" cy="1008000"/>
          </a:xfrm>
        </p:grpSpPr>
        <p:sp>
          <p:nvSpPr>
            <p:cNvPr id="64" name=""/>
            <p:cNvSpPr/>
            <p:nvPr/>
          </p:nvSpPr>
          <p:spPr>
            <a:xfrm>
              <a:off x="396720" y="197964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280" y="169236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6" name=""/>
          <p:cNvCxnSpPr>
            <a:stCxn id="64" idx="3"/>
            <a:endCxn id="61" idx="0"/>
          </p:cNvCxnSpPr>
          <p:nvPr/>
        </p:nvCxnSpPr>
        <p:spPr>
          <a:xfrm flipV="1">
            <a:off x="900000" y="2334600"/>
            <a:ext cx="434160" cy="5400"/>
          </a:xfrm>
          <a:prstGeom prst="bentConnector3">
            <a:avLst>
              <a:gd name="adj1" fmla="val 493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923920" y="21603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1" idx="2"/>
            <a:endCxn id="69" idx="0"/>
          </p:cNvCxnSpPr>
          <p:nvPr/>
        </p:nvCxnSpPr>
        <p:spPr>
          <a:xfrm>
            <a:off x="1677960" y="23349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400040" y="826920"/>
            <a:ext cx="189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iterates over chu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45080" y="203508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7" idx="2"/>
            <a:endCxn id="71" idx="2"/>
          </p:cNvCxnSpPr>
          <p:nvPr/>
        </p:nvCxnSpPr>
        <p:spPr>
          <a:xfrm flipV="1">
            <a:off x="3925800" y="2331360"/>
            <a:ext cx="7200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 rot="16200000">
            <a:off x="132372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2"/>
            <a:endCxn id="74" idx="0"/>
          </p:cNvCxnSpPr>
          <p:nvPr/>
        </p:nvCxnSpPr>
        <p:spPr>
          <a:xfrm>
            <a:off x="2254320" y="2334960"/>
            <a:ext cx="751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 rot="16200000">
            <a:off x="2419200" y="216036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hu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4" idx="2"/>
            <a:endCxn id="67" idx="0"/>
          </p:cNvCxnSpPr>
          <p:nvPr/>
        </p:nvCxnSpPr>
        <p:spPr>
          <a:xfrm>
            <a:off x="3349440" y="233496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772720" y="3395520"/>
            <a:ext cx="79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27400" y="20653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1382760"/>
            <a:ext cx="115092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03120"/>
            <a:ext cx="11919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35640" y="108000"/>
            <a:ext cx="750600" cy="1008000"/>
            <a:chOff x="-35640" y="108000"/>
            <a:chExt cx="750600" cy="1008000"/>
          </a:xfrm>
        </p:grpSpPr>
        <p:sp>
          <p:nvSpPr>
            <p:cNvPr id="81" name=""/>
            <p:cNvSpPr/>
            <p:nvPr/>
          </p:nvSpPr>
          <p:spPr>
            <a:xfrm>
              <a:off x="37800" y="3952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-35640" y="1080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 rot="16200000">
            <a:off x="154080" y="206964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0360" y="239076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2"/>
            <a:endCxn id="83" idx="0"/>
          </p:cNvCxnSpPr>
          <p:nvPr/>
        </p:nvCxnSpPr>
        <p:spPr>
          <a:xfrm flipH="1" rot="16200000">
            <a:off x="-90720" y="1495800"/>
            <a:ext cx="1129320" cy="369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 rot="16200000">
            <a:off x="649080" y="2070000"/>
            <a:ext cx="151272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y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3" idx="2"/>
            <a:endCxn id="86" idx="0"/>
          </p:cNvCxnSpPr>
          <p:nvPr/>
        </p:nvCxnSpPr>
        <p:spPr>
          <a:xfrm>
            <a:off x="1003320" y="224424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 rot="5400000">
            <a:off x="2413080" y="1738440"/>
            <a:ext cx="287280" cy="1008000"/>
          </a:xfrm>
          <a:prstGeom prst="can">
            <a:avLst>
              <a:gd name="adj" fmla="val 133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8" idx="1"/>
            <a:endCxn id="90" idx="1"/>
          </p:cNvCxnSpPr>
          <p:nvPr/>
        </p:nvCxnSpPr>
        <p:spPr>
          <a:xfrm flipV="1">
            <a:off x="3063600" y="2241360"/>
            <a:ext cx="934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8" idx="1"/>
            <a:endCxn id="92" idx="0"/>
          </p:cNvCxnSpPr>
          <p:nvPr/>
        </p:nvCxnSpPr>
        <p:spPr>
          <a:xfrm flipV="1">
            <a:off x="3063600" y="1275840"/>
            <a:ext cx="727560" cy="9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1"/>
            <a:endCxn id="94" idx="0"/>
          </p:cNvCxnSpPr>
          <p:nvPr/>
        </p:nvCxnSpPr>
        <p:spPr>
          <a:xfrm>
            <a:off x="3063600" y="2242800"/>
            <a:ext cx="719640" cy="10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6" idx="2"/>
            <a:endCxn id="88" idx="3"/>
          </p:cNvCxnSpPr>
          <p:nvPr/>
        </p:nvCxnSpPr>
        <p:spPr>
          <a:xfrm flipV="1">
            <a:off x="1579320" y="2242800"/>
            <a:ext cx="477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6200000">
            <a:off x="3715920" y="110952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133800" y="11012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0"/>
          </p:cNvCxnSpPr>
          <p:nvPr/>
        </p:nvCxnSpPr>
        <p:spPr>
          <a:xfrm>
            <a:off x="4135320" y="127620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6200000">
            <a:off x="3708360" y="311904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125880" y="311112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u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4" idx="2"/>
            <a:endCxn id="98" idx="0"/>
          </p:cNvCxnSpPr>
          <p:nvPr/>
        </p:nvCxnSpPr>
        <p:spPr>
          <a:xfrm>
            <a:off x="4127400" y="3286080"/>
            <a:ext cx="23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3999240" y="2103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4" idx="1"/>
            <a:endCxn id="86" idx="1"/>
          </p:cNvCxnSpPr>
          <p:nvPr/>
        </p:nvCxnSpPr>
        <p:spPr>
          <a:xfrm flipV="1" rot="16200000">
            <a:off x="2124360" y="2283840"/>
            <a:ext cx="1113120" cy="2548440"/>
          </a:xfrm>
          <a:prstGeom prst="bentConnector3">
            <a:avLst>
              <a:gd name="adj1" fmla="val -200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1760760" y="4033800"/>
            <a:ext cx="185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back to throttle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88400" y="289080"/>
            <a:ext cx="145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liste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2"/>
            <a:endCxn id="78" idx="0"/>
          </p:cNvCxnSpPr>
          <p:nvPr/>
        </p:nvCxnSpPr>
        <p:spPr>
          <a:xfrm rot="5400000">
            <a:off x="1266840" y="883440"/>
            <a:ext cx="348480" cy="651600"/>
          </a:xfrm>
          <a:prstGeom prst="bentConnector3">
            <a:avLst>
              <a:gd name="adj1" fmla="val 49741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5" name=""/>
          <p:cNvCxnSpPr>
            <a:stCxn id="102" idx="0"/>
            <a:endCxn id="79" idx="0"/>
          </p:cNvCxnSpPr>
          <p:nvPr/>
        </p:nvCxnSpPr>
        <p:spPr>
          <a:xfrm flipH="1" rot="16200000">
            <a:off x="3318480" y="-613080"/>
            <a:ext cx="14760" cy="1816920"/>
          </a:xfrm>
          <a:prstGeom prst="bentConnector3">
            <a:avLst>
              <a:gd name="adj1" fmla="val -16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5202360" y="193680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6" idx="2"/>
            <a:endCxn id="106" idx="2"/>
          </p:cNvCxnSpPr>
          <p:nvPr/>
        </p:nvCxnSpPr>
        <p:spPr>
          <a:xfrm>
            <a:off x="4717800" y="1283760"/>
            <a:ext cx="48492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8" idx="2"/>
            <a:endCxn id="106" idx="2"/>
          </p:cNvCxnSpPr>
          <p:nvPr/>
        </p:nvCxnSpPr>
        <p:spPr>
          <a:xfrm flipV="1">
            <a:off x="4709880" y="2233080"/>
            <a:ext cx="492840" cy="106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0" idx="3"/>
            <a:endCxn id="106" idx="2"/>
          </p:cNvCxnSpPr>
          <p:nvPr/>
        </p:nvCxnSpPr>
        <p:spPr>
          <a:xfrm flipV="1">
            <a:off x="4334040" y="2232720"/>
            <a:ext cx="86904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546560" y="792000"/>
            <a:ext cx="43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60000" y="4211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7080" y="1390680"/>
            <a:ext cx="601920" cy="181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78000"/>
            <a:ext cx="1697040" cy="38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4" idx="3"/>
            <a:endCxn id="115" idx="0"/>
          </p:cNvCxnSpPr>
          <p:nvPr/>
        </p:nvCxnSpPr>
        <p:spPr>
          <a:xfrm flipH="1" rot="16200000">
            <a:off x="169920" y="1576080"/>
            <a:ext cx="101664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 rot="16200000">
            <a:off x="243000" y="2118960"/>
            <a:ext cx="16304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4"/>
            <a:endCxn id="118" idx="1"/>
          </p:cNvCxnSpPr>
          <p:nvPr/>
        </p:nvCxnSpPr>
        <p:spPr>
          <a:xfrm>
            <a:off x="2844720" y="229032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4"/>
            <a:endCxn id="120" idx="0"/>
          </p:cNvCxnSpPr>
          <p:nvPr/>
        </p:nvCxnSpPr>
        <p:spPr>
          <a:xfrm flipV="1">
            <a:off x="2844720" y="1310400"/>
            <a:ext cx="442080" cy="9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4"/>
            <a:endCxn id="122" idx="0"/>
          </p:cNvCxnSpPr>
          <p:nvPr/>
        </p:nvCxnSpPr>
        <p:spPr>
          <a:xfrm>
            <a:off x="2844720" y="2290680"/>
            <a:ext cx="434160" cy="10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2"/>
            <a:endCxn id="117" idx="2"/>
          </p:cNvCxnSpPr>
          <p:nvPr/>
        </p:nvCxnSpPr>
        <p:spPr>
          <a:xfrm flipV="1">
            <a:off x="1231920" y="2289960"/>
            <a:ext cx="8928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rot="16200000">
            <a:off x="3715920" y="114444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629080" y="113616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0" idx="2"/>
            <a:endCxn id="126" idx="0"/>
          </p:cNvCxnSpPr>
          <p:nvPr/>
        </p:nvCxnSpPr>
        <p:spPr>
          <a:xfrm>
            <a:off x="3630600" y="1310760"/>
            <a:ext cx="224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rot="16200000">
            <a:off x="3708360" y="31539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621160" y="3146040"/>
            <a:ext cx="1655640" cy="34452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2" idx="2"/>
            <a:endCxn id="129" idx="0"/>
          </p:cNvCxnSpPr>
          <p:nvPr/>
        </p:nvCxnSpPr>
        <p:spPr>
          <a:xfrm>
            <a:off x="3622320" y="3320640"/>
            <a:ext cx="1911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999240" y="2152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72880" y="33012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ur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0"/>
            <a:endCxn id="112" idx="0"/>
          </p:cNvCxnSpPr>
          <p:nvPr/>
        </p:nvCxnSpPr>
        <p:spPr>
          <a:xfrm flipH="1" rot="16200000">
            <a:off x="2856240" y="-748080"/>
            <a:ext cx="48600" cy="2202840"/>
          </a:xfrm>
          <a:prstGeom prst="bentConnector3">
            <a:avLst>
              <a:gd name="adj1" fmla="val -47985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20236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4" idx="2"/>
            <a:endCxn id="132" idx="2"/>
          </p:cNvCxnSpPr>
          <p:nvPr/>
        </p:nvCxnSpPr>
        <p:spPr>
          <a:xfrm>
            <a:off x="4717800" y="1318680"/>
            <a:ext cx="48492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32" idx="2"/>
          </p:cNvCxnSpPr>
          <p:nvPr/>
        </p:nvCxnSpPr>
        <p:spPr>
          <a:xfrm flipV="1">
            <a:off x="4709880" y="2290680"/>
            <a:ext cx="49284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18" idx="3"/>
            <a:endCxn id="132" idx="2"/>
          </p:cNvCxnSpPr>
          <p:nvPr/>
        </p:nvCxnSpPr>
        <p:spPr>
          <a:xfrm>
            <a:off x="4334040" y="2290320"/>
            <a:ext cx="869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08000" y="68436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19940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22" idx="1"/>
            <a:endCxn id="117" idx="3"/>
          </p:cNvCxnSpPr>
          <p:nvPr/>
        </p:nvCxnSpPr>
        <p:spPr>
          <a:xfrm flipV="1" rot="16200000">
            <a:off x="2185200" y="2885400"/>
            <a:ext cx="1562760" cy="965880"/>
          </a:xfrm>
          <a:prstGeom prst="bentConnector3">
            <a:avLst>
              <a:gd name="adj1" fmla="val -143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1331640" y="3635280"/>
            <a:ext cx="12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155760" y="31557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2"/>
            <a:endCxn id="127" idx="0"/>
          </p:cNvCxnSpPr>
          <p:nvPr/>
        </p:nvCxnSpPr>
        <p:spPr>
          <a:xfrm flipV="1">
            <a:off x="4157640" y="3328200"/>
            <a:ext cx="208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rot="16200000">
            <a:off x="3197160" y="113940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26" idx="2"/>
            <a:endCxn id="124" idx="0"/>
          </p:cNvCxnSpPr>
          <p:nvPr/>
        </p:nvCxnSpPr>
        <p:spPr>
          <a:xfrm>
            <a:off x="4198680" y="1314000"/>
            <a:ext cx="1753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810080" y="68436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40" idx="1"/>
            <a:endCxn id="111" idx="0"/>
          </p:cNvCxnSpPr>
          <p:nvPr/>
        </p:nvCxnSpPr>
        <p:spPr>
          <a:xfrm flipV="1" rot="10800000">
            <a:off x="1058040" y="805320"/>
            <a:ext cx="753120" cy="585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03320" y="130320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76360" y="1763640"/>
            <a:ext cx="1297080" cy="1943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9080" y="25635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8920" y="2266920"/>
            <a:ext cx="750600" cy="1008000"/>
            <a:chOff x="538920" y="2266920"/>
            <a:chExt cx="750600" cy="1008000"/>
          </a:xfrm>
        </p:grpSpPr>
        <p:sp>
          <p:nvSpPr>
            <p:cNvPr id="146" name=""/>
            <p:cNvSpPr/>
            <p:nvPr/>
          </p:nvSpPr>
          <p:spPr>
            <a:xfrm>
              <a:off x="612360" y="255420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8920" y="22669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8" name=""/>
          <p:cNvCxnSpPr>
            <a:stCxn id="146" idx="3"/>
            <a:endCxn id="144" idx="0"/>
          </p:cNvCxnSpPr>
          <p:nvPr/>
        </p:nvCxnSpPr>
        <p:spPr>
          <a:xfrm flipV="1">
            <a:off x="1115640" y="2737800"/>
            <a:ext cx="578520" cy="176760"/>
          </a:xfrm>
          <a:prstGeom prst="bentConnector3">
            <a:avLst>
              <a:gd name="adj1" fmla="val 496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 rot="16200000">
            <a:off x="1612440" y="2563560"/>
            <a:ext cx="165600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2"/>
            <a:endCxn id="149" idx="0"/>
          </p:cNvCxnSpPr>
          <p:nvPr/>
        </p:nvCxnSpPr>
        <p:spPr>
          <a:xfrm>
            <a:off x="2038320" y="273816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627280" y="539640"/>
            <a:ext cx="720720" cy="59400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49" idx="2"/>
            <a:endCxn id="151" idx="3"/>
          </p:cNvCxnSpPr>
          <p:nvPr/>
        </p:nvCxnSpPr>
        <p:spPr>
          <a:xfrm flipV="1">
            <a:off x="2614680" y="1133280"/>
            <a:ext cx="373680" cy="1605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3203640" y="1762200"/>
            <a:ext cx="1297080" cy="1942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2840040" y="2563920"/>
            <a:ext cx="1503360" cy="34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3340080" y="25617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2"/>
            <a:endCxn id="155" idx="0"/>
          </p:cNvCxnSpPr>
          <p:nvPr/>
        </p:nvCxnSpPr>
        <p:spPr>
          <a:xfrm flipV="1">
            <a:off x="3765600" y="273600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4788000" y="244152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2"/>
            <a:endCxn id="157" idx="2"/>
          </p:cNvCxnSpPr>
          <p:nvPr/>
        </p:nvCxnSpPr>
        <p:spPr>
          <a:xfrm>
            <a:off x="4341600" y="2736360"/>
            <a:ext cx="446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1" idx="3"/>
            <a:endCxn id="154" idx="0"/>
          </p:cNvCxnSpPr>
          <p:nvPr/>
        </p:nvCxnSpPr>
        <p:spPr>
          <a:xfrm flipH="1" rot="16200000">
            <a:off x="2401920" y="1719000"/>
            <a:ext cx="160560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333440" y="1474920"/>
            <a:ext cx="330984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456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474920"/>
            <a:ext cx="56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58080" y="4211640"/>
            <a:ext cx="37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1"/>
            <a:endCxn id="160" idx="2"/>
          </p:cNvCxnSpPr>
          <p:nvPr/>
        </p:nvCxnSpPr>
        <p:spPr>
          <a:xfrm rot="10800000">
            <a:off x="2988720" y="3850560"/>
            <a:ext cx="1270440" cy="4834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759120" y="885960"/>
            <a:ext cx="1316160" cy="313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649160" y="1342800"/>
            <a:ext cx="18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s partitions and sends messages to remote execu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8" idx="3"/>
            <a:endCxn id="169" idx="0"/>
          </p:cNvCxnSpPr>
          <p:nvPr/>
        </p:nvCxnSpPr>
        <p:spPr>
          <a:xfrm flipH="1" rot="16200000">
            <a:off x="1021680" y="1614960"/>
            <a:ext cx="148320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71" idx="4"/>
            <a:endCxn id="172" idx="1"/>
          </p:cNvCxnSpPr>
          <p:nvPr/>
        </p:nvCxnSpPr>
        <p:spPr>
          <a:xfrm>
            <a:off x="3475080" y="2430000"/>
            <a:ext cx="9547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4"/>
            <a:endCxn id="174" idx="0"/>
          </p:cNvCxnSpPr>
          <p:nvPr/>
        </p:nvCxnSpPr>
        <p:spPr>
          <a:xfrm flipV="1">
            <a:off x="3475080" y="1639440"/>
            <a:ext cx="40392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4"/>
            <a:endCxn id="176" idx="0"/>
          </p:cNvCxnSpPr>
          <p:nvPr/>
        </p:nvCxnSpPr>
        <p:spPr>
          <a:xfrm>
            <a:off x="3475080" y="2430360"/>
            <a:ext cx="39744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9" idx="2"/>
            <a:endCxn id="171" idx="2"/>
          </p:cNvCxnSpPr>
          <p:nvPr/>
        </p:nvCxnSpPr>
        <p:spPr>
          <a:xfrm>
            <a:off x="2103480" y="2430000"/>
            <a:ext cx="81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 rot="16200000">
            <a:off x="4186800" y="1510200"/>
            <a:ext cx="133524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343320" y="1503000"/>
            <a:ext cx="1335240" cy="26820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4" idx="2"/>
            <a:endCxn id="180" idx="0"/>
          </p:cNvCxnSpPr>
          <p:nvPr/>
        </p:nvCxnSpPr>
        <p:spPr>
          <a:xfrm>
            <a:off x="4144680" y="1639440"/>
            <a:ext cx="175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 rot="16200000">
            <a:off x="4179960" y="31316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usinessItemProces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336840" y="3125520"/>
            <a:ext cx="133668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6" idx="2"/>
            <a:endCxn id="183" idx="0"/>
          </p:cNvCxnSpPr>
          <p:nvPr/>
        </p:nvCxnSpPr>
        <p:spPr>
          <a:xfrm>
            <a:off x="4140360" y="3260880"/>
            <a:ext cx="148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430880" y="231156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5080" y="324000"/>
            <a:ext cx="115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current Step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0"/>
            <a:endCxn id="165" idx="0"/>
          </p:cNvCxnSpPr>
          <p:nvPr/>
        </p:nvCxnSpPr>
        <p:spPr>
          <a:xfrm flipH="1" rot="16200000">
            <a:off x="3368520" y="-164520"/>
            <a:ext cx="562680" cy="1537200"/>
          </a:xfrm>
          <a:prstGeom prst="bentConnector3">
            <a:avLst>
              <a:gd name="adj1" fmla="val -406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364000" y="2190600"/>
            <a:ext cx="55908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8" idx="2"/>
            <a:endCxn id="186" idx="2"/>
          </p:cNvCxnSpPr>
          <p:nvPr/>
        </p:nvCxnSpPr>
        <p:spPr>
          <a:xfrm>
            <a:off x="4989600" y="1646280"/>
            <a:ext cx="37512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6" idx="2"/>
          </p:cNvCxnSpPr>
          <p:nvPr/>
        </p:nvCxnSpPr>
        <p:spPr>
          <a:xfrm flipV="1">
            <a:off x="4983120" y="2428560"/>
            <a:ext cx="381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2" idx="3"/>
            <a:endCxn id="186" idx="2"/>
          </p:cNvCxnSpPr>
          <p:nvPr/>
        </p:nvCxnSpPr>
        <p:spPr>
          <a:xfrm flipV="1">
            <a:off x="4739760" y="2429640"/>
            <a:ext cx="6246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409760" y="468360"/>
            <a:ext cx="558720" cy="47952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190600"/>
            <a:ext cx="558720" cy="47808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6" idx="1"/>
            <a:endCxn id="171" idx="3"/>
          </p:cNvCxnSpPr>
          <p:nvPr/>
        </p:nvCxnSpPr>
        <p:spPr>
          <a:xfrm flipV="1" rot="16200000">
            <a:off x="2970360" y="2892600"/>
            <a:ext cx="1259640" cy="810360"/>
          </a:xfrm>
          <a:prstGeom prst="bentConnector3">
            <a:avLst>
              <a:gd name="adj1" fmla="val -181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197080" y="3540240"/>
            <a:ext cx="104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racks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d man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star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3751920" y="3132720"/>
            <a:ext cx="13348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3" idx="2"/>
            <a:endCxn id="181" idx="0"/>
          </p:cNvCxnSpPr>
          <p:nvPr/>
        </p:nvCxnSpPr>
        <p:spPr>
          <a:xfrm flipV="1">
            <a:off x="4554360" y="3266280"/>
            <a:ext cx="161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rot="16200000">
            <a:off x="3782880" y="1506240"/>
            <a:ext cx="133668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tity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0" idx="2"/>
            <a:endCxn id="178" idx="0"/>
          </p:cNvCxnSpPr>
          <p:nvPr/>
        </p:nvCxnSpPr>
        <p:spPr>
          <a:xfrm>
            <a:off x="4586040" y="1641240"/>
            <a:ext cx="1357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612720" y="1403280"/>
            <a:ext cx="1727280" cy="18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1120" y="2317680"/>
            <a:ext cx="11332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leItemR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440" y="2031840"/>
            <a:ext cx="648720" cy="819000"/>
            <a:chOff x="10440" y="2031840"/>
            <a:chExt cx="648720" cy="819000"/>
          </a:xfrm>
        </p:grpSpPr>
        <p:sp>
          <p:nvSpPr>
            <p:cNvPr id="197" name=""/>
            <p:cNvSpPr/>
            <p:nvPr/>
          </p:nvSpPr>
          <p:spPr>
            <a:xfrm>
              <a:off x="54720" y="2247120"/>
              <a:ext cx="324360" cy="603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40" y="2031840"/>
              <a:ext cx="64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7" idx="3"/>
            <a:endCxn id="195" idx="0"/>
          </p:cNvCxnSpPr>
          <p:nvPr/>
        </p:nvCxnSpPr>
        <p:spPr>
          <a:xfrm flipV="1">
            <a:off x="379440" y="2428200"/>
            <a:ext cx="488160" cy="121320"/>
          </a:xfrm>
          <a:prstGeom prst="bentConnector3">
            <a:avLst>
              <a:gd name="adj1" fmla="val 498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16200000">
            <a:off x="670680" y="2318400"/>
            <a:ext cx="1388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gingItemWr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5" idx="2"/>
            <a:endCxn id="200" idx="0"/>
          </p:cNvCxnSpPr>
          <p:nvPr/>
        </p:nvCxnSpPr>
        <p:spPr>
          <a:xfrm>
            <a:off x="1088640" y="2428920"/>
            <a:ext cx="167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68" idx="3"/>
          </p:cNvCxnSpPr>
          <p:nvPr/>
        </p:nvCxnSpPr>
        <p:spPr>
          <a:xfrm flipV="1">
            <a:off x="1477440" y="947520"/>
            <a:ext cx="212040" cy="148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4480" y="1679400"/>
            <a:ext cx="863640" cy="1511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5440" y="1692360"/>
            <a:ext cx="431640" cy="1511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4200" y="3995640"/>
            <a:ext cx="327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stCxn id="205" idx="0"/>
            <a:endCxn id="194" idx="2"/>
          </p:cNvCxnSpPr>
          <p:nvPr/>
        </p:nvCxnSpPr>
        <p:spPr>
          <a:xfrm flipH="1" flipV="1" rot="5400000">
            <a:off x="882360" y="3401280"/>
            <a:ext cx="719640" cy="469080"/>
          </a:xfrm>
          <a:prstGeom prst="bentConnector3">
            <a:avLst>
              <a:gd name="adj1" fmla="val 49849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57080" y="1476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65440" y="147636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1440" y="684360"/>
            <a:ext cx="5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312920" y="2296800"/>
            <a:ext cx="1314360" cy="266760"/>
          </a:xfrm>
          <a:prstGeom prst="rect">
            <a:avLst/>
          </a:prstGeom>
          <a:solidFill>
            <a:srgbClr val="ebb3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rtition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70036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346068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11" idx="2"/>
            <a:endCxn id="212" idx="0"/>
          </p:cNvCxnSpPr>
          <p:nvPr/>
        </p:nvCxnSpPr>
        <p:spPr>
          <a:xfrm>
            <a:off x="1360080" y="304452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88880" y="32446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0000" y="111600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78000" y="2411280"/>
            <a:ext cx="2790720" cy="1105200"/>
            <a:chOff x="3078000" y="2411280"/>
            <a:chExt cx="2790720" cy="1105200"/>
          </a:xfrm>
        </p:grpSpPr>
        <p:sp>
          <p:nvSpPr>
            <p:cNvPr id="217" name=""/>
            <p:cNvSpPr/>
            <p:nvPr/>
          </p:nvSpPr>
          <p:spPr>
            <a:xfrm>
              <a:off x="3078000" y="241128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peat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8000" y="3171960"/>
              <a:ext cx="135072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mpletionPoli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7" idx="2"/>
              <a:endCxn id="218" idx="0"/>
            </p:cNvCxnSpPr>
            <p:nvPr/>
          </p:nvCxnSpPr>
          <p:spPr>
            <a:xfrm>
              <a:off x="3753720" y="275580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3726000" y="291636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17640" y="2771640"/>
              <a:ext cx="1351080" cy="344520"/>
            </a:xfrm>
            <a:prstGeom prst="rect">
              <a:avLst/>
            </a:prstGeom>
            <a:solidFill>
              <a:srgbClr val="f0b4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xceptionHand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"/>
            <p:cNvCxnSpPr>
              <a:stCxn id="217" idx="3"/>
              <a:endCxn id="221" idx="0"/>
            </p:cNvCxnSpPr>
            <p:nvPr/>
          </p:nvCxnSpPr>
          <p:spPr>
            <a:xfrm>
              <a:off x="4428720" y="2584440"/>
              <a:ext cx="76608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5166000" y="251604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12" idx="3"/>
            <a:endCxn id="217" idx="0"/>
          </p:cNvCxnSpPr>
          <p:nvPr/>
        </p:nvCxnSpPr>
        <p:spPr>
          <a:xfrm flipV="1">
            <a:off x="2035080" y="2410920"/>
            <a:ext cx="1720080" cy="1223280"/>
          </a:xfrm>
          <a:prstGeom prst="bentConnector4">
            <a:avLst>
              <a:gd name="adj1" fmla="val 30270"/>
              <a:gd name="adj2" fmla="val 1186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"/>
          <p:cNvSpPr/>
          <p:nvPr/>
        </p:nvSpPr>
        <p:spPr>
          <a:xfrm>
            <a:off x="3712320" y="205272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s 2: inner and outer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7" idx="2"/>
            <a:endCxn id="211" idx="0"/>
          </p:cNvCxnSpPr>
          <p:nvPr/>
        </p:nvCxnSpPr>
        <p:spPr>
          <a:xfrm rot="5400000">
            <a:off x="559440" y="1252440"/>
            <a:ext cx="2248560" cy="64836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1404360" y="16923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2" idx="3"/>
          </p:cNvCxnSpPr>
          <p:nvPr/>
        </p:nvCxnSpPr>
        <p:spPr>
          <a:xfrm>
            <a:off x="2034720" y="3633480"/>
            <a:ext cx="521640" cy="122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2478960" y="4068720"/>
            <a:ext cx="24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infrastructure depend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32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2"/>
            <a:endCxn id="210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108000"/>
            <a:ext cx="135072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27" idx="3"/>
            <a:endCxn id="215" idx="0"/>
          </p:cNvCxnSpPr>
          <p:nvPr/>
        </p:nvCxnSpPr>
        <p:spPr>
          <a:xfrm>
            <a:off x="2682720" y="280800"/>
            <a:ext cx="334080" cy="83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055680" y="53964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to identify job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32000" y="1403280"/>
            <a:ext cx="2952720" cy="115272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68360"/>
            <a:ext cx="1944720" cy="194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4360" y="2700360"/>
            <a:ext cx="1350720" cy="1104840"/>
            <a:chOff x="684360" y="2700360"/>
            <a:chExt cx="1350720" cy="1104840"/>
          </a:xfrm>
        </p:grpSpPr>
        <p:sp>
          <p:nvSpPr>
            <p:cNvPr id="245" name=""/>
            <p:cNvSpPr/>
            <p:nvPr/>
          </p:nvSpPr>
          <p:spPr>
            <a:xfrm>
              <a:off x="684360" y="2700360"/>
              <a:ext cx="1350720" cy="344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3460680"/>
              <a:ext cx="1350720" cy="344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"/>
            <p:cNvCxnSpPr>
              <a:stCxn id="245" idx="2"/>
              <a:endCxn id="246" idx="0"/>
            </p:cNvCxnSpPr>
            <p:nvPr/>
          </p:nvCxnSpPr>
          <p:spPr>
            <a:xfrm>
              <a:off x="1360080" y="3044520"/>
              <a:ext cx="108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388880" y="32446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466236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5080" y="1835280"/>
            <a:ext cx="135108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0072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eption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6" idx="3"/>
            <a:endCxn id="251" idx="0"/>
          </p:cNvCxnSpPr>
          <p:nvPr/>
        </p:nvCxnSpPr>
        <p:spPr>
          <a:xfrm>
            <a:off x="2034720" y="3633480"/>
            <a:ext cx="314244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3492000" y="327672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0" idx="1"/>
            <a:endCxn id="246" idx="3"/>
          </p:cNvCxnSpPr>
          <p:nvPr/>
        </p:nvCxnSpPr>
        <p:spPr>
          <a:xfrm flipV="1" rot="10800000">
            <a:off x="2034360" y="2007720"/>
            <a:ext cx="1170720" cy="1626480"/>
          </a:xfrm>
          <a:prstGeom prst="bentConnector3">
            <a:avLst>
              <a:gd name="adj1" fmla="val 50046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1332000" y="755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23280" y="179280"/>
            <a:ext cx="222480" cy="576000"/>
            <a:chOff x="323280" y="179280"/>
            <a:chExt cx="222480" cy="576000"/>
          </a:xfrm>
        </p:grpSpPr>
        <p:sp>
          <p:nvSpPr>
            <p:cNvPr id="257" name=""/>
            <p:cNvSpPr/>
            <p:nvPr/>
          </p:nvSpPr>
          <p:spPr>
            <a:xfrm>
              <a:off x="324000" y="17928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4880" y="3949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488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4000" y="610920"/>
              <a:ext cx="1108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3280" y="4665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-1440" y="75564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2"/>
            <a:endCxn id="243" idx="1"/>
          </p:cNvCxnSpPr>
          <p:nvPr/>
        </p:nvCxnSpPr>
        <p:spPr>
          <a:xfrm>
            <a:off x="484200" y="1212840"/>
            <a:ext cx="195840" cy="13406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760" y="19796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n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62" idx="3"/>
            <a:endCxn id="242" idx="1"/>
          </p:cNvCxnSpPr>
          <p:nvPr/>
        </p:nvCxnSpPr>
        <p:spPr>
          <a:xfrm>
            <a:off x="968400" y="984240"/>
            <a:ext cx="2596320" cy="5882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2989440" y="3995640"/>
            <a:ext cx="1350720" cy="34452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eat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46" idx="3"/>
            <a:endCxn id="266" idx="0"/>
          </p:cNvCxnSpPr>
          <p:nvPr/>
        </p:nvCxnSpPr>
        <p:spPr>
          <a:xfrm>
            <a:off x="2034720" y="3633480"/>
            <a:ext cx="163116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49" idx="2"/>
            <a:endCxn id="246" idx="3"/>
          </p:cNvCxnSpPr>
          <p:nvPr/>
        </p:nvCxnSpPr>
        <p:spPr>
          <a:xfrm rot="5400000">
            <a:off x="2959200" y="1254600"/>
            <a:ext cx="1454760" cy="3304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1600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7640" y="1746360"/>
            <a:ext cx="1619280" cy="16412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2106720"/>
            <a:ext cx="1125720" cy="933480"/>
            <a:chOff x="3255840" y="2106720"/>
            <a:chExt cx="1125720" cy="933480"/>
          </a:xfrm>
        </p:grpSpPr>
        <p:sp>
          <p:nvSpPr>
            <p:cNvPr id="272" name=""/>
            <p:cNvSpPr/>
            <p:nvPr/>
          </p:nvSpPr>
          <p:spPr>
            <a:xfrm>
              <a:off x="3255840" y="210672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5840" y="2749680"/>
              <a:ext cx="1125720" cy="29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72" idx="2"/>
              <a:endCxn id="273" idx="0"/>
            </p:cNvCxnSpPr>
            <p:nvPr/>
          </p:nvCxnSpPr>
          <p:spPr>
            <a:xfrm>
              <a:off x="381924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3798720" y="250812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ocat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54400" y="3460680"/>
            <a:ext cx="1123920" cy="290520"/>
          </a:xfrm>
          <a:prstGeom prst="ellipse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3" idx="2"/>
            <a:endCxn id="276" idx="0"/>
          </p:cNvCxnSpPr>
          <p:nvPr/>
        </p:nvCxnSpPr>
        <p:spPr>
          <a:xfrm rot="5400000">
            <a:off x="3606840" y="3248640"/>
            <a:ext cx="421200" cy="3960"/>
          </a:xfrm>
          <a:prstGeom prst="bentConnector3">
            <a:avLst>
              <a:gd name="adj1" fmla="val 49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3787560" y="318276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frastructure depend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2" idx="1"/>
            <a:endCxn id="280" idx="3"/>
          </p:cNvCxnSpPr>
          <p:nvPr/>
        </p:nvCxnSpPr>
        <p:spPr>
          <a:xfrm rot="10800000">
            <a:off x="2455200" y="225180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2556000" y="203508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790520" y="1098720"/>
            <a:ext cx="831600" cy="911160"/>
            <a:chOff x="4790520" y="1098720"/>
            <a:chExt cx="831600" cy="911160"/>
          </a:xfrm>
        </p:grpSpPr>
        <p:grpSp>
          <p:nvGrpSpPr>
            <p:cNvPr id="283" name=""/>
            <p:cNvGrpSpPr/>
            <p:nvPr/>
          </p:nvGrpSpPr>
          <p:grpSpPr>
            <a:xfrm>
              <a:off x="5057640" y="1098720"/>
              <a:ext cx="183960" cy="487080"/>
              <a:chOff x="5057640" y="1098720"/>
              <a:chExt cx="183960" cy="48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5058000" y="1098720"/>
                <a:ext cx="178560" cy="18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149800" y="128088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14980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5057640" y="1463760"/>
                <a:ext cx="9180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058000" y="134136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0520" y="161136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Applica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2"/>
            <a:endCxn id="270" idx="6"/>
          </p:cNvCxnSpPr>
          <p:nvPr/>
        </p:nvCxnSpPr>
        <p:spPr>
          <a:xfrm flipH="1">
            <a:off x="4606200" y="2007720"/>
            <a:ext cx="600840" cy="55980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4862160" y="232236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nfig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16360" y="1384200"/>
            <a:ext cx="151272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Laun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72" idx="3"/>
          </p:cNvCxnSpPr>
          <p:nvPr/>
        </p:nvCxnSpPr>
        <p:spPr>
          <a:xfrm flipH="1">
            <a:off x="4381200" y="1530360"/>
            <a:ext cx="48240" cy="722520"/>
          </a:xfrm>
          <a:prstGeom prst="bentConnector3">
            <a:avLst>
              <a:gd name="adj1" fmla="val -4759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96720" y="738360"/>
            <a:ext cx="1513080" cy="290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ob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4" idx="3"/>
            <a:endCxn id="292" idx="1"/>
          </p:cNvCxnSpPr>
          <p:nvPr/>
        </p:nvCxnSpPr>
        <p:spPr>
          <a:xfrm>
            <a:off x="1909800" y="883800"/>
            <a:ext cx="1007280" cy="646920"/>
          </a:xfrm>
          <a:prstGeom prst="bentConnector3">
            <a:avLst>
              <a:gd name="adj1" fmla="val 4983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96" name=""/>
          <p:cNvGrpSpPr/>
          <p:nvPr/>
        </p:nvGrpSpPr>
        <p:grpSpPr>
          <a:xfrm>
            <a:off x="1332000" y="2106720"/>
            <a:ext cx="1123920" cy="933480"/>
            <a:chOff x="1332000" y="2106720"/>
            <a:chExt cx="1123920" cy="933480"/>
          </a:xfrm>
        </p:grpSpPr>
        <p:sp>
          <p:nvSpPr>
            <p:cNvPr id="280" name=""/>
            <p:cNvSpPr/>
            <p:nvPr/>
          </p:nvSpPr>
          <p:spPr>
            <a:xfrm>
              <a:off x="1332000" y="210672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Job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2000" y="2749680"/>
              <a:ext cx="1123920" cy="29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StepExecu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80" idx="2"/>
              <a:endCxn id="297" idx="0"/>
            </p:cNvCxnSpPr>
            <p:nvPr/>
          </p:nvCxnSpPr>
          <p:spPr>
            <a:xfrm>
              <a:off x="1893600" y="2396880"/>
              <a:ext cx="1080" cy="35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1919520" y="2592720"/>
              <a:ext cx="22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692360" y="3906720"/>
            <a:ext cx="720720" cy="59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69" idx="4"/>
            <a:endCxn id="300" idx="1"/>
          </p:cNvCxnSpPr>
          <p:nvPr/>
        </p:nvCxnSpPr>
        <p:spPr>
          <a:xfrm>
            <a:off x="1925280" y="3387600"/>
            <a:ext cx="127800" cy="51984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1957320" y="347508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ored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640" y="1027080"/>
            <a:ext cx="130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ses to identify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nage 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3" idx="1"/>
            <a:endCxn id="297" idx="3"/>
          </p:cNvCxnSpPr>
          <p:nvPr/>
        </p:nvCxnSpPr>
        <p:spPr>
          <a:xfrm rot="10800000">
            <a:off x="2455200" y="2894760"/>
            <a:ext cx="800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2556000" y="268272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8-03-17T13:01:31Z</dcterms:modified>
  <cp:revision>61</cp:revision>
  <dc:subject/>
  <dc:title>Slide 1</dc:title>
</cp:coreProperties>
</file>