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6119813" cy="467995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2C74-C6CC-430D-B788-04345F88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eStep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ivingQueryJob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ote-chunkin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overview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tioning-spi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Flush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Write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362400" cy="25718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rorOnCommit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B50-A054-4C8C-B164-F6B9D5F2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88F-C896-4B05-AB78-2B4B1721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53F-D10B-4D38-B81F-27D2EEAD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69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32000" y="109188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636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69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32000" y="2705040"/>
            <a:ext cx="1773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1CE-C38D-4400-A227-D552396B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7C6-B1E9-454E-B336-506BA6A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6E1-B062-4FAA-A098-B1F98D4B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BE3-F829-41EC-8051-0EB79EA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2A3-1FD3-4F96-A440-6EA1703B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6360" y="187200"/>
            <a:ext cx="550872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275-0682-4B21-A2B7-A1FEE68A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A573-AEB6-44AC-BB8A-2433AC7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29120" y="270504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DBA-61DD-445B-B19E-8D98B140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36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9120" y="1091880"/>
            <a:ext cx="26881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6360" y="2705040"/>
            <a:ext cx="5508720" cy="1472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4E8-7379-454B-8A0A-1FC345FB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6360" y="1091880"/>
            <a:ext cx="5508720" cy="30877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rmAutofit/>
          </a:bodyPr>
          <a:p>
            <a:pPr marL="231840" indent="-2318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190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771480" indent="-154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079640" indent="-1540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387440" indent="-1540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6360" y="4262400"/>
            <a:ext cx="142704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92320" y="4262400"/>
            <a:ext cx="19368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87320" y="4262400"/>
            <a:ext cx="1427400" cy="32400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fld id="{6DB77CD1-092C-4ACD-8565-2591489BC0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1189080"/>
            <a:ext cx="216036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1189080" y="1971360"/>
            <a:ext cx="135108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e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2360" y="2197080"/>
            <a:ext cx="7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4560" y="1492200"/>
            <a:ext cx="750600" cy="1008000"/>
            <a:chOff x="394560" y="1492200"/>
            <a:chExt cx="750600" cy="1008000"/>
          </a:xfrm>
        </p:grpSpPr>
        <p:sp>
          <p:nvSpPr>
            <p:cNvPr id="52" name=""/>
            <p:cNvSpPr/>
            <p:nvPr/>
          </p:nvSpPr>
          <p:spPr>
            <a:xfrm>
              <a:off x="468000" y="1779480"/>
              <a:ext cx="503280" cy="720720"/>
            </a:xfrm>
            <a:prstGeom prst="foldedCorner">
              <a:avLst>
                <a:gd name="adj" fmla="val 4605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4560" y="14922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nput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4" name=""/>
          <p:cNvCxnSpPr>
            <a:stCxn id="52" idx="3"/>
            <a:endCxn id="49" idx="0"/>
          </p:cNvCxnSpPr>
          <p:nvPr/>
        </p:nvCxnSpPr>
        <p:spPr>
          <a:xfrm>
            <a:off x="971280" y="2139840"/>
            <a:ext cx="721440" cy="4320"/>
          </a:xfrm>
          <a:prstGeom prst="bentConnector3">
            <a:avLst>
              <a:gd name="adj1" fmla="val 50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rot="16200000">
            <a:off x="2189160" y="1971360"/>
            <a:ext cx="1655640" cy="34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iness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9" idx="2"/>
            <a:endCxn id="55" idx="0"/>
          </p:cNvCxnSpPr>
          <p:nvPr/>
        </p:nvCxnSpPr>
        <p:spPr>
          <a:xfrm>
            <a:off x="2036880" y="2143800"/>
            <a:ext cx="8082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255320" y="90000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Executor iterates ov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5" idx="2"/>
            <a:endCxn id="59" idx="2"/>
          </p:cNvCxnSpPr>
          <p:nvPr/>
        </p:nvCxnSpPr>
        <p:spPr>
          <a:xfrm flipV="1">
            <a:off x="3189240" y="2143440"/>
            <a:ext cx="102420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213080" y="1846440"/>
            <a:ext cx="720720" cy="5936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2973F78-FF63-4EE5-928F-CD27898EE67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284" name="Rectangle 3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5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287" name="Group 6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288" name="Rectangle 7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8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Rectangle 9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292" name="Group 11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293" name="Rectangle 12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3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Rectangle 14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5"/>
          <p:cNvGrpSpPr/>
          <p:nvPr/>
        </p:nvGrpSpPr>
        <p:grpSpPr>
          <a:xfrm>
            <a:off x="4602240" y="1530360"/>
            <a:ext cx="1147680" cy="433440"/>
            <a:chOff x="4602240" y="1530360"/>
            <a:chExt cx="1147680" cy="433440"/>
          </a:xfrm>
        </p:grpSpPr>
        <p:grpSp>
          <p:nvGrpSpPr>
            <p:cNvPr id="297" name="Group 16"/>
            <p:cNvGrpSpPr/>
            <p:nvPr/>
          </p:nvGrpSpPr>
          <p:grpSpPr>
            <a:xfrm>
              <a:off x="4602240" y="1530360"/>
              <a:ext cx="1147680" cy="433440"/>
              <a:chOff x="4602240" y="1530360"/>
              <a:chExt cx="1147680" cy="433440"/>
            </a:xfrm>
          </p:grpSpPr>
          <p:sp>
            <p:nvSpPr>
              <p:cNvPr id="298" name="Rectangle 17"/>
              <p:cNvSpPr/>
              <p:nvPr/>
            </p:nvSpPr>
            <p:spPr>
              <a:xfrm>
                <a:off x="4602240" y="1530360"/>
                <a:ext cx="114768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8"/>
              <p:cNvSpPr/>
              <p:nvPr/>
            </p:nvSpPr>
            <p:spPr>
              <a:xfrm>
                <a:off x="4823280" y="1598760"/>
                <a:ext cx="70524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19"/>
            <p:cNvSpPr/>
            <p:nvPr/>
          </p:nvSpPr>
          <p:spPr>
            <a:xfrm>
              <a:off x="4602240" y="1662840"/>
              <a:ext cx="114300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20"/>
          <p:cNvGrpSpPr/>
          <p:nvPr/>
        </p:nvGrpSpPr>
        <p:grpSpPr>
          <a:xfrm>
            <a:off x="4583160" y="2676600"/>
            <a:ext cx="1208160" cy="433440"/>
            <a:chOff x="4583160" y="2676600"/>
            <a:chExt cx="1208160" cy="433440"/>
          </a:xfrm>
        </p:grpSpPr>
        <p:grpSp>
          <p:nvGrpSpPr>
            <p:cNvPr id="302" name="Group 21"/>
            <p:cNvGrpSpPr/>
            <p:nvPr/>
          </p:nvGrpSpPr>
          <p:grpSpPr>
            <a:xfrm>
              <a:off x="4583160" y="2676600"/>
              <a:ext cx="1208160" cy="433440"/>
              <a:chOff x="4583160" y="2676600"/>
              <a:chExt cx="1208160" cy="43344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583160" y="2676600"/>
                <a:ext cx="12081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23"/>
              <p:cNvSpPr/>
              <p:nvPr/>
            </p:nvSpPr>
            <p:spPr>
              <a:xfrm>
                <a:off x="4815720" y="2745000"/>
                <a:ext cx="74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Rectangle 24"/>
            <p:cNvSpPr/>
            <p:nvPr/>
          </p:nvSpPr>
          <p:spPr>
            <a:xfrm>
              <a:off x="4583160" y="2809080"/>
              <a:ext cx="12034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25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5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17" name="Group 36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18" name="Rectangle 37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38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Rectangle 39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AutoShape 40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1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2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353F1CE3-F6C3-4A70-BB3C-A06751F90AA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High Level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137040" y="2116080"/>
            <a:ext cx="849240" cy="395280"/>
            <a:chOff x="3137040" y="2116080"/>
            <a:chExt cx="849240" cy="395280"/>
          </a:xfrm>
        </p:grpSpPr>
        <p:sp>
          <p:nvSpPr>
            <p:cNvPr id="327" name="Rectangle 4"/>
            <p:cNvSpPr/>
            <p:nvPr/>
          </p:nvSpPr>
          <p:spPr>
            <a:xfrm>
              <a:off x="3137040" y="2116080"/>
              <a:ext cx="84924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3300840" y="2178360"/>
              <a:ext cx="521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6"/>
          <p:cNvGrpSpPr/>
          <p:nvPr/>
        </p:nvGrpSpPr>
        <p:grpSpPr>
          <a:xfrm>
            <a:off x="322200" y="2116080"/>
            <a:ext cx="806400" cy="395280"/>
            <a:chOff x="322200" y="2116080"/>
            <a:chExt cx="806400" cy="395280"/>
          </a:xfrm>
        </p:grpSpPr>
        <p:grpSp>
          <p:nvGrpSpPr>
            <p:cNvPr id="330" name="Group 7"/>
            <p:cNvGrpSpPr/>
            <p:nvPr/>
          </p:nvGrpSpPr>
          <p:grpSpPr>
            <a:xfrm>
              <a:off x="322200" y="2116080"/>
              <a:ext cx="806400" cy="395280"/>
              <a:chOff x="322200" y="2116080"/>
              <a:chExt cx="806400" cy="395280"/>
            </a:xfrm>
          </p:grpSpPr>
          <p:sp>
            <p:nvSpPr>
              <p:cNvPr id="331" name="Rectangle 8"/>
              <p:cNvSpPr/>
              <p:nvPr/>
            </p:nvSpPr>
            <p:spPr>
              <a:xfrm>
                <a:off x="322200" y="2116080"/>
                <a:ext cx="80640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9"/>
              <p:cNvSpPr/>
              <p:nvPr/>
            </p:nvSpPr>
            <p:spPr>
              <a:xfrm>
                <a:off x="477360" y="2178360"/>
                <a:ext cx="495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Rectangle 10"/>
            <p:cNvSpPr/>
            <p:nvPr/>
          </p:nvSpPr>
          <p:spPr>
            <a:xfrm>
              <a:off x="327240" y="2229840"/>
              <a:ext cx="79668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1"/>
          <p:cNvGrpSpPr/>
          <p:nvPr/>
        </p:nvGrpSpPr>
        <p:grpSpPr>
          <a:xfrm>
            <a:off x="1757520" y="2116080"/>
            <a:ext cx="776160" cy="395280"/>
            <a:chOff x="1757520" y="2116080"/>
            <a:chExt cx="776160" cy="395280"/>
          </a:xfrm>
        </p:grpSpPr>
        <p:grpSp>
          <p:nvGrpSpPr>
            <p:cNvPr id="335" name="Group 12"/>
            <p:cNvGrpSpPr/>
            <p:nvPr/>
          </p:nvGrpSpPr>
          <p:grpSpPr>
            <a:xfrm>
              <a:off x="1757520" y="2116080"/>
              <a:ext cx="776160" cy="395280"/>
              <a:chOff x="1757520" y="2116080"/>
              <a:chExt cx="776160" cy="395280"/>
            </a:xfrm>
          </p:grpSpPr>
          <p:sp>
            <p:nvSpPr>
              <p:cNvPr id="336" name="Rectangle 13"/>
              <p:cNvSpPr/>
              <p:nvPr/>
            </p:nvSpPr>
            <p:spPr>
              <a:xfrm>
                <a:off x="1757520" y="2116080"/>
                <a:ext cx="7761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4"/>
              <p:cNvSpPr/>
              <p:nvPr/>
            </p:nvSpPr>
            <p:spPr>
              <a:xfrm>
                <a:off x="1906560" y="2178360"/>
                <a:ext cx="47700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Rectangle 15"/>
            <p:cNvSpPr/>
            <p:nvPr/>
          </p:nvSpPr>
          <p:spPr>
            <a:xfrm>
              <a:off x="1762560" y="2229840"/>
              <a:ext cx="7664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6"/>
          <p:cNvGrpSpPr/>
          <p:nvPr/>
        </p:nvGrpSpPr>
        <p:grpSpPr>
          <a:xfrm>
            <a:off x="4572000" y="1530360"/>
            <a:ext cx="1206360" cy="433440"/>
            <a:chOff x="4572000" y="1530360"/>
            <a:chExt cx="1206360" cy="433440"/>
          </a:xfrm>
        </p:grpSpPr>
        <p:grpSp>
          <p:nvGrpSpPr>
            <p:cNvPr id="340" name="Group 17"/>
            <p:cNvGrpSpPr/>
            <p:nvPr/>
          </p:nvGrpSpPr>
          <p:grpSpPr>
            <a:xfrm>
              <a:off x="4572000" y="1530360"/>
              <a:ext cx="1206360" cy="433440"/>
              <a:chOff x="4572000" y="1530360"/>
              <a:chExt cx="1206360" cy="43344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4572000" y="1530360"/>
                <a:ext cx="120636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9"/>
              <p:cNvSpPr/>
              <p:nvPr/>
            </p:nvSpPr>
            <p:spPr>
              <a:xfrm>
                <a:off x="4804200" y="1598760"/>
                <a:ext cx="740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Rectangle 20"/>
            <p:cNvSpPr/>
            <p:nvPr/>
          </p:nvSpPr>
          <p:spPr>
            <a:xfrm>
              <a:off x="4572000" y="1662840"/>
              <a:ext cx="120168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21"/>
          <p:cNvGrpSpPr/>
          <p:nvPr/>
        </p:nvGrpSpPr>
        <p:grpSpPr>
          <a:xfrm>
            <a:off x="4583160" y="2676600"/>
            <a:ext cx="1190520" cy="433440"/>
            <a:chOff x="4583160" y="2676600"/>
            <a:chExt cx="1190520" cy="433440"/>
          </a:xfrm>
        </p:grpSpPr>
        <p:grpSp>
          <p:nvGrpSpPr>
            <p:cNvPr id="345" name="Group 22"/>
            <p:cNvGrpSpPr/>
            <p:nvPr/>
          </p:nvGrpSpPr>
          <p:grpSpPr>
            <a:xfrm>
              <a:off x="4583160" y="2676600"/>
              <a:ext cx="1190520" cy="433440"/>
              <a:chOff x="4583160" y="2676600"/>
              <a:chExt cx="1190520" cy="433440"/>
            </a:xfrm>
          </p:grpSpPr>
          <p:sp>
            <p:nvSpPr>
              <p:cNvPr id="346" name="Rectangle 23"/>
              <p:cNvSpPr/>
              <p:nvPr/>
            </p:nvSpPr>
            <p:spPr>
              <a:xfrm>
                <a:off x="4583160" y="26766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24"/>
              <p:cNvSpPr/>
              <p:nvPr/>
            </p:nvSpPr>
            <p:spPr>
              <a:xfrm>
                <a:off x="4812840" y="27450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Rectangle 25"/>
            <p:cNvSpPr/>
            <p:nvPr/>
          </p:nvSpPr>
          <p:spPr>
            <a:xfrm>
              <a:off x="4583160" y="28090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26"/>
          <p:cNvSpPr/>
          <p:nvPr/>
        </p:nvSpPr>
        <p:spPr>
          <a:xfrm flipV="1">
            <a:off x="4061520" y="1893600"/>
            <a:ext cx="476280" cy="34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>
            <a:off x="4065480" y="2376360"/>
            <a:ext cx="465120" cy="4017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8"/>
          <p:cNvSpPr/>
          <p:nvPr/>
        </p:nvSpPr>
        <p:spPr>
          <a:xfrm>
            <a:off x="2549520" y="2338560"/>
            <a:ext cx="5684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2580120" y="215316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3056400" y="2153160"/>
            <a:ext cx="4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>
            <a:off x="1150920" y="2325600"/>
            <a:ext cx="56844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4044240" y="20134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4044240" y="25246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4438800" y="28296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5"/>
          <p:cNvSpPr/>
          <p:nvPr/>
        </p:nvSpPr>
        <p:spPr>
          <a:xfrm>
            <a:off x="4438800" y="17452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6"/>
          <p:cNvGrpSpPr/>
          <p:nvPr/>
        </p:nvGrpSpPr>
        <p:grpSpPr>
          <a:xfrm>
            <a:off x="345960" y="3262320"/>
            <a:ext cx="3670560" cy="395280"/>
            <a:chOff x="345960" y="3262320"/>
            <a:chExt cx="3670560" cy="395280"/>
          </a:xfrm>
        </p:grpSpPr>
        <p:grpSp>
          <p:nvGrpSpPr>
            <p:cNvPr id="360" name="Group 37"/>
            <p:cNvGrpSpPr/>
            <p:nvPr/>
          </p:nvGrpSpPr>
          <p:grpSpPr>
            <a:xfrm>
              <a:off x="345960" y="3262320"/>
              <a:ext cx="3670560" cy="395280"/>
              <a:chOff x="345960" y="3262320"/>
              <a:chExt cx="3670560" cy="395280"/>
            </a:xfrm>
          </p:grpSpPr>
          <p:sp>
            <p:nvSpPr>
              <p:cNvPr id="361" name="Rectangle 38"/>
              <p:cNvSpPr/>
              <p:nvPr/>
            </p:nvSpPr>
            <p:spPr>
              <a:xfrm>
                <a:off x="345960" y="3262320"/>
                <a:ext cx="3670560" cy="3952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39"/>
              <p:cNvSpPr/>
              <p:nvPr/>
            </p:nvSpPr>
            <p:spPr>
              <a:xfrm>
                <a:off x="1054080" y="3324600"/>
                <a:ext cx="22528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Rectangle 40"/>
            <p:cNvSpPr/>
            <p:nvPr/>
          </p:nvSpPr>
          <p:spPr>
            <a:xfrm>
              <a:off x="372600" y="3376080"/>
              <a:ext cx="3624840" cy="1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AutoShape 41"/>
          <p:cNvSpPr/>
          <p:nvPr/>
        </p:nvSpPr>
        <p:spPr>
          <a:xfrm rot="5400000">
            <a:off x="184068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2"/>
          <p:cNvSpPr/>
          <p:nvPr/>
        </p:nvSpPr>
        <p:spPr>
          <a:xfrm rot="5400000">
            <a:off x="32220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3"/>
          <p:cNvSpPr/>
          <p:nvPr/>
        </p:nvSpPr>
        <p:spPr>
          <a:xfrm rot="5400000">
            <a:off x="381600" y="2797920"/>
            <a:ext cx="682560" cy="185760"/>
          </a:xfrm>
          <a:prstGeom prst="leftRightArrow">
            <a:avLst>
              <a:gd name="adj1" fmla="val 34824"/>
              <a:gd name="adj2" fmla="val 13153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4"/>
          <p:cNvGrpSpPr/>
          <p:nvPr/>
        </p:nvGrpSpPr>
        <p:grpSpPr>
          <a:xfrm>
            <a:off x="4583160" y="2097000"/>
            <a:ext cx="1190520" cy="433440"/>
            <a:chOff x="4583160" y="2097000"/>
            <a:chExt cx="1190520" cy="433440"/>
          </a:xfrm>
        </p:grpSpPr>
        <p:grpSp>
          <p:nvGrpSpPr>
            <p:cNvPr id="368" name="Group 45"/>
            <p:cNvGrpSpPr/>
            <p:nvPr/>
          </p:nvGrpSpPr>
          <p:grpSpPr>
            <a:xfrm>
              <a:off x="4583160" y="2097000"/>
              <a:ext cx="1190520" cy="433440"/>
              <a:chOff x="4583160" y="2097000"/>
              <a:chExt cx="1190520" cy="433440"/>
            </a:xfrm>
          </p:grpSpPr>
          <p:sp>
            <p:nvSpPr>
              <p:cNvPr id="369" name="Rectangle 46"/>
              <p:cNvSpPr/>
              <p:nvPr/>
            </p:nvSpPr>
            <p:spPr>
              <a:xfrm>
                <a:off x="4583160" y="2097000"/>
                <a:ext cx="1190520" cy="4334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47"/>
              <p:cNvSpPr/>
              <p:nvPr/>
            </p:nvSpPr>
            <p:spPr>
              <a:xfrm>
                <a:off x="4812840" y="2165400"/>
                <a:ext cx="73080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Rectangle 48"/>
            <p:cNvSpPr/>
            <p:nvPr/>
          </p:nvSpPr>
          <p:spPr>
            <a:xfrm>
              <a:off x="4583160" y="2229480"/>
              <a:ext cx="118512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49"/>
          <p:cNvSpPr/>
          <p:nvPr/>
        </p:nvSpPr>
        <p:spPr>
          <a:xfrm>
            <a:off x="4079880" y="2313000"/>
            <a:ext cx="45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0"/>
          <p:cNvSpPr/>
          <p:nvPr/>
        </p:nvSpPr>
        <p:spPr>
          <a:xfrm>
            <a:off x="4432320" y="2120760"/>
            <a:ext cx="84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1"/>
          <p:cNvSpPr/>
          <p:nvPr/>
        </p:nvSpPr>
        <p:spPr>
          <a:xfrm>
            <a:off x="4182480" y="216108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95DF535A-A24E-46B8-8731-929A453B549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78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381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384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8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69AB11D0-96F0-4076-B434-ABC71E8C906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399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02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05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2"/>
          <p:cNvSpPr/>
          <p:nvPr/>
        </p:nvSpPr>
        <p:spPr>
          <a:xfrm>
            <a:off x="2705040" y="1301760"/>
            <a:ext cx="1033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ctr">
            <a:no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3"/>
          <p:cNvSpPr/>
          <p:nvPr/>
        </p:nvSpPr>
        <p:spPr>
          <a:xfrm flipH="1">
            <a:off x="1961640" y="1406520"/>
            <a:ext cx="677880" cy="1396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4"/>
          <p:cNvSpPr/>
          <p:nvPr/>
        </p:nvSpPr>
        <p:spPr>
          <a:xfrm>
            <a:off x="4248000" y="2764800"/>
            <a:ext cx="9291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H="1" flipV="1">
            <a:off x="2280960" y="2665440"/>
            <a:ext cx="1919160" cy="223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3842280" y="3318120"/>
            <a:ext cx="97524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e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irst attempt 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ndOfDay</a:t>
            </a: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9080">
              <a:lnSpc>
                <a:spcPct val="11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 </a:t>
            </a:r>
            <a:r>
              <a:rPr b="1" lang="en-US" sz="8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07/05/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 flipV="1">
            <a:off x="2514600" y="3512880"/>
            <a:ext cx="1279440" cy="140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8"/>
          <p:cNvGrpSpPr/>
          <p:nvPr/>
        </p:nvGrpSpPr>
        <p:grpSpPr>
          <a:xfrm>
            <a:off x="2733840" y="2076480"/>
            <a:ext cx="1201680" cy="339840"/>
            <a:chOff x="2733840" y="2076480"/>
            <a:chExt cx="1201680" cy="339840"/>
          </a:xfrm>
        </p:grpSpPr>
        <p:sp>
          <p:nvSpPr>
            <p:cNvPr id="415" name="Rectangle 19"/>
            <p:cNvSpPr/>
            <p:nvPr/>
          </p:nvSpPr>
          <p:spPr>
            <a:xfrm>
              <a:off x="2733840" y="2076480"/>
              <a:ext cx="1201680" cy="33984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0"/>
            <p:cNvSpPr/>
            <p:nvPr/>
          </p:nvSpPr>
          <p:spPr>
            <a:xfrm>
              <a:off x="2815920" y="2106000"/>
              <a:ext cx="10364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Paramet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21"/>
          <p:cNvSpPr/>
          <p:nvPr/>
        </p:nvSpPr>
        <p:spPr>
          <a:xfrm>
            <a:off x="4047120" y="1584720"/>
            <a:ext cx="1464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440" tIns="0" bIns="0" anchor="ctr">
            <a:spAutoFit/>
          </a:bodyPr>
          <a:p>
            <a:pPr marL="190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chedule.date =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 2007/05/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>
            <a:off x="3688920" y="1693800"/>
            <a:ext cx="389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4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5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6"/>
          <p:cNvSpPr/>
          <p:nvPr/>
        </p:nvSpPr>
        <p:spPr>
          <a:xfrm rot="8896800">
            <a:off x="2122200" y="2322000"/>
            <a:ext cx="581040" cy="184320"/>
          </a:xfrm>
          <a:prstGeom prst="rightArrow">
            <a:avLst>
              <a:gd name="adj1" fmla="val 33509"/>
              <a:gd name="adj2" fmla="val 10589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19BB7B2-63D7-4172-B1DA-E30B3E03883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68200" y="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Batch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2"/>
          <p:cNvGrpSpPr/>
          <p:nvPr/>
        </p:nvGrpSpPr>
        <p:grpSpPr>
          <a:xfrm>
            <a:off x="638280" y="1397160"/>
            <a:ext cx="1230120" cy="328320"/>
            <a:chOff x="638280" y="1397160"/>
            <a:chExt cx="1230120" cy="328320"/>
          </a:xfrm>
        </p:grpSpPr>
        <p:sp>
          <p:nvSpPr>
            <p:cNvPr id="426" name="Rectangle 3"/>
            <p:cNvSpPr/>
            <p:nvPr/>
          </p:nvSpPr>
          <p:spPr>
            <a:xfrm>
              <a:off x="638280" y="1397160"/>
              <a:ext cx="12301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4"/>
            <p:cNvSpPr/>
            <p:nvPr/>
          </p:nvSpPr>
          <p:spPr>
            <a:xfrm>
              <a:off x="1088640" y="1425960"/>
              <a:ext cx="329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5"/>
          <p:cNvGrpSpPr/>
          <p:nvPr/>
        </p:nvGrpSpPr>
        <p:grpSpPr>
          <a:xfrm>
            <a:off x="1050840" y="2421000"/>
            <a:ext cx="1046160" cy="280800"/>
            <a:chOff x="1050840" y="2421000"/>
            <a:chExt cx="1046160" cy="280800"/>
          </a:xfrm>
        </p:grpSpPr>
        <p:sp>
          <p:nvSpPr>
            <p:cNvPr id="429" name="Rectangle 6"/>
            <p:cNvSpPr/>
            <p:nvPr/>
          </p:nvSpPr>
          <p:spPr>
            <a:xfrm>
              <a:off x="1050840" y="2421000"/>
              <a:ext cx="1046160" cy="28080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45520" y="2455200"/>
              <a:ext cx="85536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Instan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8"/>
          <p:cNvGrpSpPr/>
          <p:nvPr/>
        </p:nvGrpSpPr>
        <p:grpSpPr>
          <a:xfrm>
            <a:off x="1339920" y="3379680"/>
            <a:ext cx="1046160" cy="281160"/>
            <a:chOff x="1339920" y="3379680"/>
            <a:chExt cx="1046160" cy="281160"/>
          </a:xfrm>
        </p:grpSpPr>
        <p:sp>
          <p:nvSpPr>
            <p:cNvPr id="432" name="Rectangle 9"/>
            <p:cNvSpPr/>
            <p:nvPr/>
          </p:nvSpPr>
          <p:spPr>
            <a:xfrm>
              <a:off x="1339920" y="3379680"/>
              <a:ext cx="1046160" cy="2811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1387440" y="3413880"/>
              <a:ext cx="949680" cy="2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11"/>
          <p:cNvSpPr/>
          <p:nvPr/>
        </p:nvSpPr>
        <p:spPr>
          <a:xfrm>
            <a:off x="1484640" y="191304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2"/>
          <p:cNvSpPr/>
          <p:nvPr/>
        </p:nvSpPr>
        <p:spPr>
          <a:xfrm rot="3495600">
            <a:off x="1131480" y="1976040"/>
            <a:ext cx="588960" cy="179280"/>
          </a:xfrm>
          <a:prstGeom prst="rightArrow">
            <a:avLst>
              <a:gd name="adj1" fmla="val 33509"/>
              <a:gd name="adj2" fmla="val 11035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3"/>
          <p:cNvSpPr/>
          <p:nvPr/>
        </p:nvSpPr>
        <p:spPr>
          <a:xfrm>
            <a:off x="1765080" y="28875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4"/>
          <p:cNvSpPr/>
          <p:nvPr/>
        </p:nvSpPr>
        <p:spPr>
          <a:xfrm rot="3495600">
            <a:off x="1411200" y="2933640"/>
            <a:ext cx="592200" cy="179280"/>
          </a:xfrm>
          <a:prstGeom prst="rightArrow">
            <a:avLst>
              <a:gd name="adj1" fmla="val 33509"/>
              <a:gd name="adj2" fmla="val 1109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538360" y="1695600"/>
            <a:ext cx="1231920" cy="328320"/>
            <a:chOff x="2538360" y="1695600"/>
            <a:chExt cx="1231920" cy="328320"/>
          </a:xfrm>
        </p:grpSpPr>
        <p:sp>
          <p:nvSpPr>
            <p:cNvPr id="439" name="Rectangle 16"/>
            <p:cNvSpPr/>
            <p:nvPr/>
          </p:nvSpPr>
          <p:spPr>
            <a:xfrm>
              <a:off x="2538360" y="1695600"/>
              <a:ext cx="1231920" cy="328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2989080" y="1724400"/>
              <a:ext cx="3297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720" tIns="0" bIns="0" anchor="ctr">
              <a:noAutofit/>
            </a:bodyPr>
            <a:p>
              <a:pPr marL="17640" algn="ctr">
                <a:tabLst>
                  <a:tab algn="l" pos="0"/>
                  <a:tab algn="l" pos="17640"/>
                  <a:tab algn="l" pos="235080"/>
                  <a:tab algn="l" pos="452520"/>
                  <a:tab algn="l" pos="668160"/>
                  <a:tab algn="l" pos="885960"/>
                  <a:tab algn="l" pos="1101600"/>
                  <a:tab algn="l" pos="1319040"/>
                  <a:tab algn="l" pos="1536840"/>
                  <a:tab algn="l" pos="1754280"/>
                  <a:tab algn="l" pos="1969920"/>
                  <a:tab algn="l" pos="2187720"/>
                  <a:tab algn="l" pos="2403360"/>
                  <a:tab algn="l" pos="2622600"/>
                  <a:tab algn="l" pos="2838600"/>
                  <a:tab algn="l" pos="3056040"/>
                  <a:tab algn="l" pos="3271680"/>
                  <a:tab algn="l" pos="3489480"/>
                  <a:tab algn="l" pos="3706920"/>
                  <a:tab algn="l" pos="3924360"/>
                  <a:tab algn="l" pos="4140360"/>
                  <a:tab algn="l" pos="435780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3092400" y="3656160"/>
            <a:ext cx="1046160" cy="279360"/>
            <a:chOff x="3092400" y="3656160"/>
            <a:chExt cx="1046160" cy="279360"/>
          </a:xfrm>
        </p:grpSpPr>
        <p:sp>
          <p:nvSpPr>
            <p:cNvPr id="442" name="Rectangle 19"/>
            <p:cNvSpPr/>
            <p:nvPr/>
          </p:nvSpPr>
          <p:spPr>
            <a:xfrm>
              <a:off x="3092400" y="3656160"/>
              <a:ext cx="1046160" cy="279360"/>
            </a:xfrm>
            <a:prstGeom prst="rect">
              <a:avLst/>
            </a:prstGeom>
            <a:solidFill>
              <a:srgbClr val="f8d5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0"/>
            <p:cNvSpPr/>
            <p:nvPr/>
          </p:nvSpPr>
          <p:spPr>
            <a:xfrm>
              <a:off x="3139920" y="3690000"/>
              <a:ext cx="94968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Exec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21"/>
          <p:cNvSpPr/>
          <p:nvPr/>
        </p:nvSpPr>
        <p:spPr>
          <a:xfrm>
            <a:off x="3570480" y="31939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4392600">
            <a:off x="2596680" y="2739600"/>
            <a:ext cx="1573200" cy="179280"/>
          </a:xfrm>
          <a:prstGeom prst="rightArrow">
            <a:avLst>
              <a:gd name="adj1" fmla="val 33509"/>
              <a:gd name="adj2" fmla="val 11082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3"/>
          <p:cNvSpPr/>
          <p:nvPr/>
        </p:nvSpPr>
        <p:spPr>
          <a:xfrm rot="1629600">
            <a:off x="1899720" y="1622160"/>
            <a:ext cx="579600" cy="182520"/>
          </a:xfrm>
          <a:prstGeom prst="rightArrow">
            <a:avLst>
              <a:gd name="adj1" fmla="val 33509"/>
              <a:gd name="adj2" fmla="val 10667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2202120" y="154152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5"/>
          <p:cNvSpPr/>
          <p:nvPr/>
        </p:nvSpPr>
        <p:spPr>
          <a:xfrm rot="1629600">
            <a:off x="2437920" y="3559320"/>
            <a:ext cx="581040" cy="182520"/>
          </a:xfrm>
          <a:prstGeom prst="rightArrow">
            <a:avLst>
              <a:gd name="adj1" fmla="val 33509"/>
              <a:gd name="adj2" fmla="val 1069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739600" y="3479760"/>
            <a:ext cx="110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880" rIns="29160" tIns="11880" bIns="11880" anchor="t">
            <a:spAutoFit/>
          </a:bodyPr>
          <a:p>
            <a:pPr marL="4680"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9365B2B-5D16-4535-BF8C-50F7D3902C6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Item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53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61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1287360" y="2417760"/>
            <a:ext cx="1828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2397240" y="2232000"/>
            <a:ext cx="74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3143160" y="2327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8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9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1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3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>
            <a:off x="1282680" y="2800440"/>
            <a:ext cx="763560" cy="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5"/>
          <p:cNvSpPr/>
          <p:nvPr/>
        </p:nvSpPr>
        <p:spPr>
          <a:xfrm>
            <a:off x="1406520" y="261936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6"/>
          <p:cNvSpPr/>
          <p:nvPr/>
        </p:nvSpPr>
        <p:spPr>
          <a:xfrm>
            <a:off x="2065320" y="274176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7"/>
          <p:cNvSpPr/>
          <p:nvPr/>
        </p:nvSpPr>
        <p:spPr>
          <a:xfrm>
            <a:off x="1287360" y="3405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2397240" y="3219480"/>
            <a:ext cx="747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3143160" y="330840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 flipH="1">
            <a:off x="1287360" y="31320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1"/>
          <p:cNvSpPr/>
          <p:nvPr/>
        </p:nvSpPr>
        <p:spPr>
          <a:xfrm>
            <a:off x="1477800" y="29606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2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483" name="Rectangle 33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CEC7A7C-E4BC-42F6-BFE2-987A3D92380C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Chunk Oriented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2"/>
          <p:cNvGrpSpPr/>
          <p:nvPr/>
        </p:nvGrpSpPr>
        <p:grpSpPr>
          <a:xfrm>
            <a:off x="1677960" y="1144440"/>
            <a:ext cx="897120" cy="219240"/>
            <a:chOff x="1677960" y="1144440"/>
            <a:chExt cx="897120" cy="219240"/>
          </a:xfrm>
        </p:grpSpPr>
        <p:sp>
          <p:nvSpPr>
            <p:cNvPr id="488" name="Rectangle 3"/>
            <p:cNvSpPr/>
            <p:nvPr/>
          </p:nvSpPr>
          <p:spPr>
            <a:xfrm>
              <a:off x="1677960" y="1144440"/>
              <a:ext cx="89712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"/>
            <p:cNvSpPr/>
            <p:nvPr/>
          </p:nvSpPr>
          <p:spPr>
            <a:xfrm>
              <a:off x="1725480" y="1180800"/>
              <a:ext cx="801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Line 5"/>
          <p:cNvSpPr/>
          <p:nvPr/>
        </p:nvSpPr>
        <p:spPr>
          <a:xfrm flipH="1">
            <a:off x="2117520" y="1370160"/>
            <a:ext cx="12600" cy="224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"/>
          <p:cNvSpPr/>
          <p:nvPr/>
        </p:nvSpPr>
        <p:spPr>
          <a:xfrm flipV="1">
            <a:off x="1275480" y="1797120"/>
            <a:ext cx="7765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422360" y="1620720"/>
            <a:ext cx="54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8"/>
          <p:cNvSpPr/>
          <p:nvPr/>
        </p:nvSpPr>
        <p:spPr>
          <a:xfrm flipH="1">
            <a:off x="734760" y="3579840"/>
            <a:ext cx="39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514440" y="3371760"/>
            <a:ext cx="6271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0"/>
          <p:cNvGrpSpPr/>
          <p:nvPr/>
        </p:nvGrpSpPr>
        <p:grpSpPr>
          <a:xfrm>
            <a:off x="2763720" y="1144440"/>
            <a:ext cx="890640" cy="219240"/>
            <a:chOff x="2763720" y="1144440"/>
            <a:chExt cx="890640" cy="219240"/>
          </a:xfrm>
        </p:grpSpPr>
        <p:sp>
          <p:nvSpPr>
            <p:cNvPr id="496" name="Rectangle 11"/>
            <p:cNvSpPr/>
            <p:nvPr/>
          </p:nvSpPr>
          <p:spPr>
            <a:xfrm>
              <a:off x="2763720" y="1144440"/>
              <a:ext cx="890640" cy="2192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871720" y="1180800"/>
              <a:ext cx="67320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80" rIns="29160" tIns="11880" bIns="11880" anchor="ctr">
              <a:noAutofit/>
            </a:bodyPr>
            <a:p>
              <a:pPr marL="46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Line 13"/>
          <p:cNvSpPr/>
          <p:nvPr/>
        </p:nvSpPr>
        <p:spPr>
          <a:xfrm>
            <a:off x="3203640" y="1382760"/>
            <a:ext cx="144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2065320" y="1766880"/>
            <a:ext cx="11916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5"/>
          <p:cNvSpPr/>
          <p:nvPr/>
        </p:nvSpPr>
        <p:spPr>
          <a:xfrm>
            <a:off x="1220760" y="1363680"/>
            <a:ext cx="1440" cy="169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6"/>
          <p:cNvSpPr/>
          <p:nvPr/>
        </p:nvSpPr>
        <p:spPr>
          <a:xfrm flipH="1">
            <a:off x="1275840" y="214488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7"/>
          <p:cNvSpPr/>
          <p:nvPr/>
        </p:nvSpPr>
        <p:spPr>
          <a:xfrm>
            <a:off x="1477800" y="197316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8"/>
          <p:cNvSpPr/>
          <p:nvPr/>
        </p:nvSpPr>
        <p:spPr>
          <a:xfrm>
            <a:off x="716040" y="1592280"/>
            <a:ext cx="4078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9"/>
          <p:cNvSpPr/>
          <p:nvPr/>
        </p:nvSpPr>
        <p:spPr>
          <a:xfrm>
            <a:off x="512640" y="1420920"/>
            <a:ext cx="5446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0"/>
          <p:cNvSpPr/>
          <p:nvPr/>
        </p:nvSpPr>
        <p:spPr>
          <a:xfrm>
            <a:off x="1139760" y="1592280"/>
            <a:ext cx="138240" cy="20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21"/>
          <p:cNvSpPr/>
          <p:nvPr/>
        </p:nvSpPr>
        <p:spPr>
          <a:xfrm>
            <a:off x="1282680" y="2585880"/>
            <a:ext cx="763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2"/>
          <p:cNvSpPr/>
          <p:nvPr/>
        </p:nvSpPr>
        <p:spPr>
          <a:xfrm>
            <a:off x="1406520" y="2406600"/>
            <a:ext cx="5428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(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2065320" y="2529000"/>
            <a:ext cx="119160" cy="42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4"/>
          <p:cNvSpPr/>
          <p:nvPr/>
        </p:nvSpPr>
        <p:spPr>
          <a:xfrm>
            <a:off x="1287360" y="3295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397240" y="3110040"/>
            <a:ext cx="747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(ite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3143160" y="3198960"/>
            <a:ext cx="13500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 flipH="1">
            <a:off x="1287360" y="29178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8"/>
          <p:cNvSpPr/>
          <p:nvPr/>
        </p:nvSpPr>
        <p:spPr>
          <a:xfrm>
            <a:off x="1477800" y="2746440"/>
            <a:ext cx="371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9440" tIns="0" bIns="0" anchor="t">
            <a:noAutofit/>
          </a:bodyPr>
          <a:p>
            <a:pPr marL="19080"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29"/>
          <p:cNvGrpSpPr/>
          <p:nvPr/>
        </p:nvGrpSpPr>
        <p:grpSpPr>
          <a:xfrm>
            <a:off x="949320" y="1135080"/>
            <a:ext cx="550800" cy="230040"/>
            <a:chOff x="949320" y="1135080"/>
            <a:chExt cx="550800" cy="230040"/>
          </a:xfrm>
        </p:grpSpPr>
        <p:sp>
          <p:nvSpPr>
            <p:cNvPr id="515" name="Rectangle 30"/>
            <p:cNvSpPr/>
            <p:nvPr/>
          </p:nvSpPr>
          <p:spPr>
            <a:xfrm>
              <a:off x="949320" y="1135080"/>
              <a:ext cx="550800" cy="2300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1"/>
            <p:cNvSpPr/>
            <p:nvPr/>
          </p:nvSpPr>
          <p:spPr>
            <a:xfrm>
              <a:off x="1055520" y="1171440"/>
              <a:ext cx="33732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51FB562F-D8DA-4DF5-9146-A8F12F5887E4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458640" y="2116080"/>
            <a:ext cx="1136880" cy="395280"/>
            <a:chOff x="458640" y="2116080"/>
            <a:chExt cx="1136880" cy="395280"/>
          </a:xfrm>
        </p:grpSpPr>
        <p:sp>
          <p:nvSpPr>
            <p:cNvPr id="520" name="Rectangle 3"/>
            <p:cNvSpPr/>
            <p:nvPr/>
          </p:nvSpPr>
          <p:spPr>
            <a:xfrm>
              <a:off x="458640" y="2116080"/>
              <a:ext cx="11368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"/>
            <p:cNvSpPr/>
            <p:nvPr/>
          </p:nvSpPr>
          <p:spPr>
            <a:xfrm>
              <a:off x="677520" y="2178360"/>
              <a:ext cx="6976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2217600" y="2768760"/>
            <a:ext cx="1517760" cy="433080"/>
            <a:chOff x="2217600" y="2768760"/>
            <a:chExt cx="1517760" cy="433080"/>
          </a:xfrm>
        </p:grpSpPr>
        <p:sp>
          <p:nvSpPr>
            <p:cNvPr id="523" name="Rectangle 6"/>
            <p:cNvSpPr/>
            <p:nvPr/>
          </p:nvSpPr>
          <p:spPr>
            <a:xfrm>
              <a:off x="2217600" y="2768760"/>
              <a:ext cx="151776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7"/>
            <p:cNvSpPr/>
            <p:nvPr/>
          </p:nvSpPr>
          <p:spPr>
            <a:xfrm>
              <a:off x="2510280" y="2837160"/>
              <a:ext cx="93132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8"/>
          <p:cNvGrpSpPr/>
          <p:nvPr/>
        </p:nvGrpSpPr>
        <p:grpSpPr>
          <a:xfrm>
            <a:off x="2222640" y="1469880"/>
            <a:ext cx="1506240" cy="432000"/>
            <a:chOff x="2222640" y="1469880"/>
            <a:chExt cx="1506240" cy="432000"/>
          </a:xfrm>
        </p:grpSpPr>
        <p:sp>
          <p:nvSpPr>
            <p:cNvPr id="526" name="Rectangle 9"/>
            <p:cNvSpPr/>
            <p:nvPr/>
          </p:nvSpPr>
          <p:spPr>
            <a:xfrm>
              <a:off x="2222640" y="1469880"/>
              <a:ext cx="15062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0"/>
            <p:cNvSpPr/>
            <p:nvPr/>
          </p:nvSpPr>
          <p:spPr>
            <a:xfrm>
              <a:off x="2513160" y="1538280"/>
              <a:ext cx="92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AutoShape 11"/>
          <p:cNvSpPr/>
          <p:nvPr/>
        </p:nvSpPr>
        <p:spPr>
          <a:xfrm rot="9029400">
            <a:off x="1661400" y="1792440"/>
            <a:ext cx="490680" cy="218880"/>
          </a:xfrm>
          <a:prstGeom prst="rightArrow">
            <a:avLst>
              <a:gd name="adj1" fmla="val 33509"/>
              <a:gd name="adj2" fmla="val 8909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"/>
          <p:cNvSpPr/>
          <p:nvPr/>
        </p:nvSpPr>
        <p:spPr>
          <a:xfrm rot="1950000">
            <a:off x="1638360" y="2657520"/>
            <a:ext cx="490320" cy="218880"/>
          </a:xfrm>
          <a:prstGeom prst="rightArrow">
            <a:avLst>
              <a:gd name="adj1" fmla="val 33509"/>
              <a:gd name="adj2" fmla="val 8902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CA2F0379-3CFE-4FF7-A997-723F8C754B53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Old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382680" y="2103480"/>
            <a:ext cx="1135080" cy="396720"/>
            <a:chOff x="382680" y="2103480"/>
            <a:chExt cx="1135080" cy="396720"/>
          </a:xfrm>
        </p:grpSpPr>
        <p:sp>
          <p:nvSpPr>
            <p:cNvPr id="533" name="Rectangle 3"/>
            <p:cNvSpPr/>
            <p:nvPr/>
          </p:nvSpPr>
          <p:spPr>
            <a:xfrm>
              <a:off x="382680" y="2103480"/>
              <a:ext cx="113508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4"/>
            <p:cNvSpPr/>
            <p:nvPr/>
          </p:nvSpPr>
          <p:spPr>
            <a:xfrm>
              <a:off x="601200" y="2166120"/>
              <a:ext cx="69660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5"/>
          <p:cNvGrpSpPr/>
          <p:nvPr/>
        </p:nvGrpSpPr>
        <p:grpSpPr>
          <a:xfrm>
            <a:off x="4321080" y="3146400"/>
            <a:ext cx="1536840" cy="432000"/>
            <a:chOff x="4321080" y="3146400"/>
            <a:chExt cx="1536840" cy="432000"/>
          </a:xfrm>
        </p:grpSpPr>
        <p:sp>
          <p:nvSpPr>
            <p:cNvPr id="536" name="Rectangle 6"/>
            <p:cNvSpPr/>
            <p:nvPr/>
          </p:nvSpPr>
          <p:spPr>
            <a:xfrm>
              <a:off x="4321080" y="3146400"/>
              <a:ext cx="1536840" cy="4320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7"/>
            <p:cNvSpPr/>
            <p:nvPr/>
          </p:nvSpPr>
          <p:spPr>
            <a:xfrm>
              <a:off x="4617000" y="3214800"/>
              <a:ext cx="944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8"/>
          <p:cNvGrpSpPr/>
          <p:nvPr/>
        </p:nvGrpSpPr>
        <p:grpSpPr>
          <a:xfrm>
            <a:off x="2144880" y="1457280"/>
            <a:ext cx="1506240" cy="433440"/>
            <a:chOff x="2144880" y="1457280"/>
            <a:chExt cx="1506240" cy="433440"/>
          </a:xfrm>
        </p:grpSpPr>
        <p:sp>
          <p:nvSpPr>
            <p:cNvPr id="539" name="Rectangle 9"/>
            <p:cNvSpPr/>
            <p:nvPr/>
          </p:nvSpPr>
          <p:spPr>
            <a:xfrm>
              <a:off x="2144880" y="1457280"/>
              <a:ext cx="150624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0"/>
            <p:cNvSpPr/>
            <p:nvPr/>
          </p:nvSpPr>
          <p:spPr>
            <a:xfrm>
              <a:off x="2435400" y="1525680"/>
              <a:ext cx="924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AutoShape 11"/>
          <p:cNvSpPr/>
          <p:nvPr/>
        </p:nvSpPr>
        <p:spPr>
          <a:xfrm rot="9029400">
            <a:off x="1583640" y="1779120"/>
            <a:ext cx="490680" cy="219240"/>
          </a:xfrm>
          <a:prstGeom prst="rightArrow">
            <a:avLst>
              <a:gd name="adj1" fmla="val 33509"/>
              <a:gd name="adj2" fmla="val 8894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2"/>
          <p:cNvSpPr/>
          <p:nvPr/>
        </p:nvSpPr>
        <p:spPr>
          <a:xfrm rot="1537200">
            <a:off x="1560240" y="2607840"/>
            <a:ext cx="488880" cy="219240"/>
          </a:xfrm>
          <a:prstGeom prst="rightArrow">
            <a:avLst>
              <a:gd name="adj1" fmla="val 33509"/>
              <a:gd name="adj2" fmla="val 8861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3"/>
          <p:cNvGrpSpPr/>
          <p:nvPr/>
        </p:nvGrpSpPr>
        <p:grpSpPr>
          <a:xfrm>
            <a:off x="2116080" y="2700360"/>
            <a:ext cx="1571760" cy="426960"/>
            <a:chOff x="2116080" y="2700360"/>
            <a:chExt cx="1571760" cy="426960"/>
          </a:xfrm>
        </p:grpSpPr>
        <p:sp>
          <p:nvSpPr>
            <p:cNvPr id="544" name="Rectangle 14"/>
            <p:cNvSpPr/>
            <p:nvPr/>
          </p:nvSpPr>
          <p:spPr>
            <a:xfrm>
              <a:off x="2116080" y="2700360"/>
              <a:ext cx="1571760" cy="42696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2419200" y="2768040"/>
              <a:ext cx="964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6"/>
          <p:cNvGrpSpPr/>
          <p:nvPr/>
        </p:nvGrpSpPr>
        <p:grpSpPr>
          <a:xfrm>
            <a:off x="2120760" y="3835440"/>
            <a:ext cx="1560600" cy="431640"/>
            <a:chOff x="2120760" y="3835440"/>
            <a:chExt cx="1560600" cy="431640"/>
          </a:xfrm>
        </p:grpSpPr>
        <p:sp>
          <p:nvSpPr>
            <p:cNvPr id="547" name="Rectangle 17"/>
            <p:cNvSpPr/>
            <p:nvPr/>
          </p:nvSpPr>
          <p:spPr>
            <a:xfrm>
              <a:off x="2120760" y="3835440"/>
              <a:ext cx="1560600" cy="4316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8"/>
            <p:cNvSpPr/>
            <p:nvPr/>
          </p:nvSpPr>
          <p:spPr>
            <a:xfrm>
              <a:off x="2422080" y="3903840"/>
              <a:ext cx="9579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Transform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AutoShape 19"/>
          <p:cNvSpPr/>
          <p:nvPr/>
        </p:nvSpPr>
        <p:spPr>
          <a:xfrm rot="5400000">
            <a:off x="2557800" y="3396240"/>
            <a:ext cx="682920" cy="185760"/>
          </a:xfrm>
          <a:prstGeom prst="leftRightArrow">
            <a:avLst>
              <a:gd name="adj1" fmla="val 34824"/>
              <a:gd name="adj2" fmla="val 13159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20"/>
          <p:cNvSpPr/>
          <p:nvPr/>
        </p:nvSpPr>
        <p:spPr>
          <a:xfrm rot="1537200">
            <a:off x="3784320" y="3058920"/>
            <a:ext cx="488880" cy="218880"/>
          </a:xfrm>
          <a:prstGeom prst="rightArrow">
            <a:avLst>
              <a:gd name="adj1" fmla="val 33509"/>
              <a:gd name="adj2" fmla="val 88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C0B966C-5595-44B6-9CBF-12B0870B54C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ew Step Paradi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369720" y="2092320"/>
            <a:ext cx="1135080" cy="395280"/>
            <a:chOff x="369720" y="2092320"/>
            <a:chExt cx="1135080" cy="395280"/>
          </a:xfrm>
        </p:grpSpPr>
        <p:sp>
          <p:nvSpPr>
            <p:cNvPr id="554" name="Rectangle 3"/>
            <p:cNvSpPr/>
            <p:nvPr/>
          </p:nvSpPr>
          <p:spPr>
            <a:xfrm>
              <a:off x="369720" y="209232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"/>
            <p:cNvSpPr/>
            <p:nvPr/>
          </p:nvSpPr>
          <p:spPr>
            <a:xfrm>
              <a:off x="588240" y="215460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5"/>
          <p:cNvSpPr/>
          <p:nvPr/>
        </p:nvSpPr>
        <p:spPr>
          <a:xfrm rot="9029400">
            <a:off x="1564560" y="1734840"/>
            <a:ext cx="614520" cy="218880"/>
          </a:xfrm>
          <a:prstGeom prst="rightArrow">
            <a:avLst>
              <a:gd name="adj1" fmla="val 33509"/>
              <a:gd name="adj2" fmla="val 8882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6"/>
          <p:cNvSpPr/>
          <p:nvPr/>
        </p:nvSpPr>
        <p:spPr>
          <a:xfrm rot="1537200">
            <a:off x="1537920" y="2631600"/>
            <a:ext cx="658800" cy="220680"/>
          </a:xfrm>
          <a:prstGeom prst="rightArrow">
            <a:avLst>
              <a:gd name="adj1" fmla="val 33509"/>
              <a:gd name="adj2" fmla="val 8844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2249640" y="2109960"/>
            <a:ext cx="1569960" cy="433080"/>
            <a:chOff x="2249640" y="2109960"/>
            <a:chExt cx="1569960" cy="433080"/>
          </a:xfrm>
        </p:grpSpPr>
        <p:sp>
          <p:nvSpPr>
            <p:cNvPr id="559" name="Rectangle 8"/>
            <p:cNvSpPr/>
            <p:nvPr/>
          </p:nvSpPr>
          <p:spPr>
            <a:xfrm>
              <a:off x="2251800" y="2109960"/>
              <a:ext cx="1567800" cy="43308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"/>
            <p:cNvSpPr/>
            <p:nvPr/>
          </p:nvSpPr>
          <p:spPr>
            <a:xfrm>
              <a:off x="2249640" y="2180160"/>
              <a:ext cx="1567800" cy="29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Process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10"/>
          <p:cNvSpPr/>
          <p:nvPr/>
        </p:nvSpPr>
        <p:spPr>
          <a:xfrm rot="10800000">
            <a:off x="1577520" y="2230560"/>
            <a:ext cx="628920" cy="188640"/>
          </a:xfrm>
          <a:prstGeom prst="leftRightArrow">
            <a:avLst>
              <a:gd name="adj1" fmla="val 33843"/>
              <a:gd name="adj2" fmla="val 9358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2252520" y="1427040"/>
            <a:ext cx="1560600" cy="433440"/>
            <a:chOff x="2252520" y="1427040"/>
            <a:chExt cx="1560600" cy="433440"/>
          </a:xfrm>
        </p:grpSpPr>
        <p:sp>
          <p:nvSpPr>
            <p:cNvPr id="563" name="Rectangle 12"/>
            <p:cNvSpPr/>
            <p:nvPr/>
          </p:nvSpPr>
          <p:spPr>
            <a:xfrm>
              <a:off x="2252520" y="1427040"/>
              <a:ext cx="1560600" cy="433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2553840" y="1495440"/>
              <a:ext cx="957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Read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4"/>
          <p:cNvGrpSpPr/>
          <p:nvPr/>
        </p:nvGrpSpPr>
        <p:grpSpPr>
          <a:xfrm>
            <a:off x="2252520" y="2768760"/>
            <a:ext cx="1560600" cy="433080"/>
            <a:chOff x="2252520" y="2768760"/>
            <a:chExt cx="1560600" cy="433080"/>
          </a:xfrm>
        </p:grpSpPr>
        <p:sp>
          <p:nvSpPr>
            <p:cNvPr id="566" name="Rectangle 15"/>
            <p:cNvSpPr/>
            <p:nvPr/>
          </p:nvSpPr>
          <p:spPr>
            <a:xfrm>
              <a:off x="2252520" y="2768760"/>
              <a:ext cx="1560600" cy="4330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6"/>
            <p:cNvSpPr/>
            <p:nvPr/>
          </p:nvSpPr>
          <p:spPr>
            <a:xfrm>
              <a:off x="2553480" y="2837160"/>
              <a:ext cx="9572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temWri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2720" y="1352520"/>
            <a:ext cx="1568520" cy="18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2" idx="3"/>
            <a:endCxn id="63" idx="0"/>
          </p:cNvCxnSpPr>
          <p:nvPr/>
        </p:nvCxnSpPr>
        <p:spPr>
          <a:xfrm>
            <a:off x="948960" y="2260440"/>
            <a:ext cx="1307160" cy="5760"/>
          </a:xfrm>
          <a:prstGeom prst="bentConnector3">
            <a:avLst>
              <a:gd name="adj1" fmla="val 495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457360" y="3692520"/>
            <a:ext cx="868320" cy="41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18240" y="1959120"/>
            <a:ext cx="839520" cy="608040"/>
          </a:xfrm>
          <a:prstGeom prst="can">
            <a:avLst>
              <a:gd name="adj" fmla="val 25000"/>
            </a:avLst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7" idx="2"/>
            <a:endCxn id="65" idx="2"/>
          </p:cNvCxnSpPr>
          <p:nvPr/>
        </p:nvCxnSpPr>
        <p:spPr>
          <a:xfrm>
            <a:off x="3519360" y="2263320"/>
            <a:ext cx="129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 rot="16200000">
            <a:off x="2572560" y="2121840"/>
            <a:ext cx="1612800" cy="28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MS Gothic"/>
              </a:rPr>
              <a:t>JdbcItemWri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2079720" y="2130480"/>
            <a:ext cx="1612800" cy="26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Gothic"/>
              </a:rPr>
              <a:t>Item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3" idx="2"/>
            <a:endCxn id="63" idx="2"/>
          </p:cNvCxnSpPr>
          <p:nvPr/>
        </p:nvCxnSpPr>
        <p:spPr>
          <a:xfrm>
            <a:off x="2555640" y="2265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628720" y="1039680"/>
            <a:ext cx="3312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1597680" y="2113200"/>
            <a:ext cx="1616040" cy="300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dbc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2"/>
            <a:endCxn id="68" idx="0"/>
          </p:cNvCxnSpPr>
          <p:nvPr/>
        </p:nvCxnSpPr>
        <p:spPr>
          <a:xfrm flipV="1">
            <a:off x="2555640" y="2261520"/>
            <a:ext cx="199080" cy="3960"/>
          </a:xfrm>
          <a:prstGeom prst="bentConnector3">
            <a:avLst>
              <a:gd name="adj1" fmla="val 494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7" idx="0"/>
            <a:endCxn id="67" idx="0"/>
          </p:cNvCxnSpPr>
          <p:nvPr/>
        </p:nvCxnSpPr>
        <p:spPr>
          <a:xfrm flipH="1" flipV="1" rot="10800000">
            <a:off x="3238200" y="2262600"/>
            <a:ext cx="2160" cy="2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0"/>
            <a:endCxn id="75" idx="2"/>
          </p:cNvCxnSpPr>
          <p:nvPr/>
        </p:nvCxnSpPr>
        <p:spPr>
          <a:xfrm flipH="1" flipV="1">
            <a:off x="649080" y="2515680"/>
            <a:ext cx="538560" cy="1362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0200" y="3878280"/>
            <a:ext cx="223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s obtained at step initial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4" idx="0"/>
            <a:endCxn id="68" idx="1"/>
          </p:cNvCxnSpPr>
          <p:nvPr/>
        </p:nvCxnSpPr>
        <p:spPr>
          <a:xfrm flipV="1" rot="16200000">
            <a:off x="2576880" y="3376440"/>
            <a:ext cx="624600" cy="720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8" idx="1"/>
            <a:endCxn id="64" idx="3"/>
          </p:cNvCxnSpPr>
          <p:nvPr/>
        </p:nvCxnSpPr>
        <p:spPr>
          <a:xfrm flipH="1">
            <a:off x="3325320" y="3630600"/>
            <a:ext cx="1113840" cy="270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4416480" y="3432240"/>
            <a:ext cx="156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Query for details us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key as parame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8120" y="2112840"/>
            <a:ext cx="866880" cy="393840"/>
            <a:chOff x="168120" y="2112840"/>
            <a:chExt cx="866880" cy="393840"/>
          </a:xfrm>
        </p:grpSpPr>
        <p:sp>
          <p:nvSpPr>
            <p:cNvPr id="75" name=""/>
            <p:cNvSpPr/>
            <p:nvPr/>
          </p:nvSpPr>
          <p:spPr>
            <a:xfrm>
              <a:off x="263520" y="2211480"/>
              <a:ext cx="77148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640" y="216252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8120" y="2112840"/>
              <a:ext cx="771120" cy="295200"/>
            </a:xfrm>
            <a:prstGeom prst="flowChartProcess">
              <a:avLst/>
            </a:prstGeom>
            <a:solidFill>
              <a:srgbClr val="ffc726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AB9B001-45E9-44C4-815E-2B2D40CACC71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8200" y="158400"/>
            <a:ext cx="56023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Late Binding u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2"/>
          <p:cNvGrpSpPr/>
          <p:nvPr/>
        </p:nvGrpSpPr>
        <p:grpSpPr>
          <a:xfrm>
            <a:off x="477720" y="1062000"/>
            <a:ext cx="2282400" cy="1187640"/>
            <a:chOff x="477720" y="1062000"/>
            <a:chExt cx="2282400" cy="1187640"/>
          </a:xfrm>
        </p:grpSpPr>
        <p:grpSp>
          <p:nvGrpSpPr>
            <p:cNvPr id="571" name="Group 3"/>
            <p:cNvGrpSpPr/>
            <p:nvPr/>
          </p:nvGrpSpPr>
          <p:grpSpPr>
            <a:xfrm>
              <a:off x="477720" y="1504800"/>
              <a:ext cx="794520" cy="271800"/>
              <a:chOff x="477720" y="1504800"/>
              <a:chExt cx="794520" cy="271800"/>
            </a:xfrm>
          </p:grpSpPr>
          <p:sp>
            <p:nvSpPr>
              <p:cNvPr id="572" name="Rectangle 4"/>
              <p:cNvSpPr/>
              <p:nvPr/>
            </p:nvSpPr>
            <p:spPr>
              <a:xfrm>
                <a:off x="482040" y="1504800"/>
                <a:ext cx="790200" cy="27180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5"/>
              <p:cNvSpPr/>
              <p:nvPr/>
            </p:nvSpPr>
            <p:spPr>
              <a:xfrm>
                <a:off x="477720" y="1548720"/>
                <a:ext cx="789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6"/>
            <p:cNvGrpSpPr/>
            <p:nvPr/>
          </p:nvGrpSpPr>
          <p:grpSpPr>
            <a:xfrm>
              <a:off x="1703160" y="1952640"/>
              <a:ext cx="1056960" cy="297000"/>
              <a:chOff x="1703160" y="1952640"/>
              <a:chExt cx="1056960" cy="297000"/>
            </a:xfrm>
          </p:grpSpPr>
          <p:sp>
            <p:nvSpPr>
              <p:cNvPr id="575" name="Rectangle 7"/>
              <p:cNvSpPr/>
              <p:nvPr/>
            </p:nvSpPr>
            <p:spPr>
              <a:xfrm>
                <a:off x="1703520" y="1952640"/>
                <a:ext cx="105660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8"/>
              <p:cNvSpPr/>
              <p:nvPr/>
            </p:nvSpPr>
            <p:spPr>
              <a:xfrm>
                <a:off x="1703160" y="2000520"/>
                <a:ext cx="105588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9"/>
            <p:cNvGrpSpPr/>
            <p:nvPr/>
          </p:nvGrpSpPr>
          <p:grpSpPr>
            <a:xfrm>
              <a:off x="1708560" y="1062000"/>
              <a:ext cx="1049760" cy="297000"/>
              <a:chOff x="1708560" y="1062000"/>
              <a:chExt cx="1049760" cy="297000"/>
            </a:xfrm>
          </p:grpSpPr>
          <p:sp>
            <p:nvSpPr>
              <p:cNvPr id="578" name="Rectangle 10"/>
              <p:cNvSpPr/>
              <p:nvPr/>
            </p:nvSpPr>
            <p:spPr>
              <a:xfrm>
                <a:off x="1708560" y="1062000"/>
                <a:ext cx="1048320" cy="2970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1"/>
              <p:cNvSpPr/>
              <p:nvPr/>
            </p:nvSpPr>
            <p:spPr>
              <a:xfrm>
                <a:off x="1710000" y="1109880"/>
                <a:ext cx="10483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AutoShape 12"/>
            <p:cNvSpPr/>
            <p:nvPr/>
          </p:nvSpPr>
          <p:spPr>
            <a:xfrm rot="9029400">
              <a:off x="1319760" y="1282320"/>
              <a:ext cx="339840" cy="15048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3"/>
            <p:cNvSpPr/>
            <p:nvPr/>
          </p:nvSpPr>
          <p:spPr>
            <a:xfrm rot="1950000">
              <a:off x="1301400" y="187596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477720" y="2766960"/>
            <a:ext cx="2282400" cy="1189080"/>
            <a:chOff x="477720" y="2766960"/>
            <a:chExt cx="2282400" cy="1189080"/>
          </a:xfrm>
        </p:grpSpPr>
        <p:grpSp>
          <p:nvGrpSpPr>
            <p:cNvPr id="583" name="Group 15"/>
            <p:cNvGrpSpPr/>
            <p:nvPr/>
          </p:nvGrpSpPr>
          <p:grpSpPr>
            <a:xfrm>
              <a:off x="477720" y="3210480"/>
              <a:ext cx="794520" cy="272160"/>
              <a:chOff x="477720" y="3210480"/>
              <a:chExt cx="794520" cy="272160"/>
            </a:xfrm>
          </p:grpSpPr>
          <p:sp>
            <p:nvSpPr>
              <p:cNvPr id="584" name="Rectangle 16"/>
              <p:cNvSpPr/>
              <p:nvPr/>
            </p:nvSpPr>
            <p:spPr>
              <a:xfrm>
                <a:off x="482040" y="3210480"/>
                <a:ext cx="790200" cy="27216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7"/>
              <p:cNvSpPr/>
              <p:nvPr/>
            </p:nvSpPr>
            <p:spPr>
              <a:xfrm>
                <a:off x="477720" y="3254760"/>
                <a:ext cx="789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StepB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8"/>
            <p:cNvGrpSpPr/>
            <p:nvPr/>
          </p:nvGrpSpPr>
          <p:grpSpPr>
            <a:xfrm>
              <a:off x="1703160" y="3658680"/>
              <a:ext cx="1056960" cy="297360"/>
              <a:chOff x="1703160" y="3658680"/>
              <a:chExt cx="1056960" cy="297360"/>
            </a:xfrm>
          </p:grpSpPr>
          <p:sp>
            <p:nvSpPr>
              <p:cNvPr id="587" name="Rectangle 19"/>
              <p:cNvSpPr/>
              <p:nvPr/>
            </p:nvSpPr>
            <p:spPr>
              <a:xfrm>
                <a:off x="1703520" y="3658680"/>
                <a:ext cx="105660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20"/>
              <p:cNvSpPr/>
              <p:nvPr/>
            </p:nvSpPr>
            <p:spPr>
              <a:xfrm>
                <a:off x="1703160" y="3706560"/>
                <a:ext cx="105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Writ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1"/>
            <p:cNvGrpSpPr/>
            <p:nvPr/>
          </p:nvGrpSpPr>
          <p:grpSpPr>
            <a:xfrm>
              <a:off x="1708560" y="2766960"/>
              <a:ext cx="1049760" cy="297360"/>
              <a:chOff x="1708560" y="2766960"/>
              <a:chExt cx="1049760" cy="297360"/>
            </a:xfrm>
          </p:grpSpPr>
          <p:sp>
            <p:nvSpPr>
              <p:cNvPr id="590" name="Rectangle 22"/>
              <p:cNvSpPr/>
              <p:nvPr/>
            </p:nvSpPr>
            <p:spPr>
              <a:xfrm>
                <a:off x="1708560" y="2766960"/>
                <a:ext cx="1048320" cy="29736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23"/>
              <p:cNvSpPr/>
              <p:nvPr/>
            </p:nvSpPr>
            <p:spPr>
              <a:xfrm>
                <a:off x="1710000" y="2814840"/>
                <a:ext cx="1048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temReade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AutoShape 24"/>
            <p:cNvSpPr/>
            <p:nvPr/>
          </p:nvSpPr>
          <p:spPr>
            <a:xfrm rot="9029400">
              <a:off x="1319760" y="2987280"/>
              <a:ext cx="339840" cy="15084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5"/>
            <p:cNvSpPr/>
            <p:nvPr/>
          </p:nvSpPr>
          <p:spPr>
            <a:xfrm rot="1950000">
              <a:off x="1301400" y="3582000"/>
              <a:ext cx="339840" cy="15156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26"/>
          <p:cNvGrpSpPr/>
          <p:nvPr/>
        </p:nvGrpSpPr>
        <p:grpSpPr>
          <a:xfrm>
            <a:off x="2868480" y="1922400"/>
            <a:ext cx="1877760" cy="734760"/>
            <a:chOff x="2868480" y="1922400"/>
            <a:chExt cx="1877760" cy="734760"/>
          </a:xfrm>
        </p:grpSpPr>
        <p:sp>
          <p:nvSpPr>
            <p:cNvPr id="595" name="AutoShape 27"/>
            <p:cNvSpPr/>
            <p:nvPr/>
          </p:nvSpPr>
          <p:spPr>
            <a:xfrm rot="1950000">
              <a:off x="2878200" y="2057040"/>
              <a:ext cx="560160" cy="199800"/>
            </a:xfrm>
            <a:prstGeom prst="pi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558600" y="2225160"/>
              <a:ext cx="1187640" cy="432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Helvetica Neue"/>
                  <a:ea typeface="ＭＳ Ｐゴシック"/>
                </a:rPr>
                <a:t>outputFile.tx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AutoShape 29"/>
          <p:cNvSpPr/>
          <p:nvPr/>
        </p:nvSpPr>
        <p:spPr>
          <a:xfrm rot="8875800">
            <a:off x="2872800" y="2653920"/>
            <a:ext cx="561960" cy="152280"/>
          </a:xfrm>
          <a:prstGeom prst="pi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42129F10-AD5D-4362-8B6D-D35E59A22883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In 1.x the only option is sequential execution.  If the a step fails, the job fails, if it succeeds, the next is exec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2378160" y="1817640"/>
            <a:ext cx="1136520" cy="395280"/>
            <a:chOff x="2378160" y="1817640"/>
            <a:chExt cx="1136520" cy="395280"/>
          </a:xfrm>
        </p:grpSpPr>
        <p:sp>
          <p:nvSpPr>
            <p:cNvPr id="602" name="Rectangle 4"/>
            <p:cNvSpPr/>
            <p:nvPr/>
          </p:nvSpPr>
          <p:spPr>
            <a:xfrm>
              <a:off x="2378160" y="181764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5"/>
            <p:cNvSpPr/>
            <p:nvPr/>
          </p:nvSpPr>
          <p:spPr>
            <a:xfrm>
              <a:off x="2597040" y="187992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6"/>
          <p:cNvGrpSpPr/>
          <p:nvPr/>
        </p:nvGrpSpPr>
        <p:grpSpPr>
          <a:xfrm>
            <a:off x="2378160" y="2725560"/>
            <a:ext cx="1136520" cy="395640"/>
            <a:chOff x="2378160" y="2725560"/>
            <a:chExt cx="1136520" cy="395640"/>
          </a:xfrm>
        </p:grpSpPr>
        <p:sp>
          <p:nvSpPr>
            <p:cNvPr id="605" name="Rectangle 7"/>
            <p:cNvSpPr/>
            <p:nvPr/>
          </p:nvSpPr>
          <p:spPr>
            <a:xfrm>
              <a:off x="2378160" y="2725560"/>
              <a:ext cx="1136520" cy="3956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2597040" y="2787840"/>
              <a:ext cx="6973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9"/>
          <p:cNvGrpSpPr/>
          <p:nvPr/>
        </p:nvGrpSpPr>
        <p:grpSpPr>
          <a:xfrm>
            <a:off x="2378160" y="3627360"/>
            <a:ext cx="1136520" cy="395280"/>
            <a:chOff x="2378160" y="3627360"/>
            <a:chExt cx="1136520" cy="395280"/>
          </a:xfrm>
        </p:grpSpPr>
        <p:sp>
          <p:nvSpPr>
            <p:cNvPr id="608" name="Rectangle 10"/>
            <p:cNvSpPr/>
            <p:nvPr/>
          </p:nvSpPr>
          <p:spPr>
            <a:xfrm>
              <a:off x="2378160" y="3627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2597040" y="3689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AutoShape 12"/>
          <p:cNvSpPr/>
          <p:nvPr/>
        </p:nvSpPr>
        <p:spPr>
          <a:xfrm rot="5400000">
            <a:off x="2697480" y="2361240"/>
            <a:ext cx="498240" cy="214200"/>
          </a:xfrm>
          <a:prstGeom prst="rightArrow">
            <a:avLst>
              <a:gd name="adj1" fmla="val 33509"/>
              <a:gd name="adj2" fmla="val 9243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3"/>
          <p:cNvSpPr/>
          <p:nvPr/>
        </p:nvSpPr>
        <p:spPr>
          <a:xfrm rot="5400000">
            <a:off x="2697480" y="3269520"/>
            <a:ext cx="498600" cy="214200"/>
          </a:xfrm>
          <a:prstGeom prst="rightArrow">
            <a:avLst>
              <a:gd name="adj1" fmla="val 33509"/>
              <a:gd name="adj2" fmla="val 9250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9843A49-CD28-4B98-8B60-4DB4E13A5D4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Non Sequential Step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268200" y="1023840"/>
            <a:ext cx="5356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122400">
              <a:lnSpc>
                <a:spcPct val="100000"/>
              </a:lnSpc>
              <a:spcBef>
                <a:spcPts val="938"/>
              </a:spcBef>
              <a:buClr>
                <a:srgbClr val="747474"/>
              </a:buClr>
              <a:buFont typeface="Helvetica Neue"/>
              <a:buChar char="•"/>
              <a:tabLst>
                <a:tab algn="l" pos="47520"/>
                <a:tab algn="l" pos="103320"/>
                <a:tab algn="l" pos="318960"/>
                <a:tab algn="l" pos="536400"/>
                <a:tab algn="l" pos="754200"/>
                <a:tab algn="l" pos="971640"/>
                <a:tab algn="l" pos="1187280"/>
                <a:tab algn="l" pos="1405080"/>
                <a:tab algn="l" pos="1620720"/>
                <a:tab algn="l" pos="1838160"/>
                <a:tab algn="l" pos="2055960"/>
                <a:tab algn="l" pos="2271600"/>
                <a:tab algn="l" pos="2489040"/>
                <a:tab algn="l" pos="2706840"/>
                <a:tab algn="l" pos="2922480"/>
                <a:tab algn="l" pos="3139920"/>
                <a:tab algn="l" pos="3357720"/>
                <a:tab algn="l" pos="3575160"/>
                <a:tab algn="l" pos="3790800"/>
                <a:tab algn="l" pos="4006800"/>
                <a:tab algn="l" pos="4226040"/>
                <a:tab algn="l" pos="4387680"/>
                <a:tab algn="l" pos="4730760"/>
                <a:tab algn="l" pos="5075280"/>
                <a:tab algn="l" pos="5418000"/>
                <a:tab algn="l" pos="556272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1200" spc="-1" strike="noStrike">
                <a:solidFill>
                  <a:srgbClr val="747474"/>
                </a:solidFill>
                <a:latin typeface="Helvetica Neue"/>
                <a:ea typeface="ＭＳ Ｐゴシック"/>
              </a:rPr>
              <a:t>There are many scenarios in which different steps need to be executed depending upon the exit status of the last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378160" y="1665360"/>
            <a:ext cx="1136520" cy="395280"/>
            <a:chOff x="2378160" y="1665360"/>
            <a:chExt cx="1136520" cy="395280"/>
          </a:xfrm>
        </p:grpSpPr>
        <p:sp>
          <p:nvSpPr>
            <p:cNvPr id="616" name="Rectangle 4"/>
            <p:cNvSpPr/>
            <p:nvPr/>
          </p:nvSpPr>
          <p:spPr>
            <a:xfrm>
              <a:off x="2378160" y="1665360"/>
              <a:ext cx="11365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"/>
            <p:cNvSpPr/>
            <p:nvPr/>
          </p:nvSpPr>
          <p:spPr>
            <a:xfrm>
              <a:off x="2597040" y="1727640"/>
              <a:ext cx="697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1547640" y="3664080"/>
            <a:ext cx="1135080" cy="395280"/>
            <a:chOff x="1547640" y="3664080"/>
            <a:chExt cx="1135080" cy="395280"/>
          </a:xfrm>
        </p:grpSpPr>
        <p:sp>
          <p:nvSpPr>
            <p:cNvPr id="619" name="Rectangle 7"/>
            <p:cNvSpPr/>
            <p:nvPr/>
          </p:nvSpPr>
          <p:spPr>
            <a:xfrm>
              <a:off x="15476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17661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3162240" y="3664080"/>
            <a:ext cx="1135080" cy="395280"/>
            <a:chOff x="3162240" y="3664080"/>
            <a:chExt cx="1135080" cy="395280"/>
          </a:xfrm>
        </p:grpSpPr>
        <p:sp>
          <p:nvSpPr>
            <p:cNvPr id="622" name="Rectangle 10"/>
            <p:cNvSpPr/>
            <p:nvPr/>
          </p:nvSpPr>
          <p:spPr>
            <a:xfrm>
              <a:off x="3162240" y="3664080"/>
              <a:ext cx="113508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3380760" y="3726360"/>
              <a:ext cx="6966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ep 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AutoShape 12"/>
          <p:cNvSpPr/>
          <p:nvPr/>
        </p:nvSpPr>
        <p:spPr>
          <a:xfrm rot="5400000">
            <a:off x="2714760" y="2256480"/>
            <a:ext cx="463680" cy="214200"/>
          </a:xfrm>
          <a:prstGeom prst="rightArrow">
            <a:avLst>
              <a:gd name="adj1" fmla="val 33509"/>
              <a:gd name="adj2" fmla="val 9281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3170400">
            <a:off x="3150720" y="3262320"/>
            <a:ext cx="480960" cy="214200"/>
          </a:xfrm>
          <a:prstGeom prst="rightArrow">
            <a:avLst>
              <a:gd name="adj1" fmla="val 33509"/>
              <a:gd name="adj2" fmla="val 9262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>
            <a:off x="2527200" y="2657520"/>
            <a:ext cx="838440" cy="608040"/>
          </a:xfrm>
          <a:prstGeom prst="diamond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Success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5"/>
          <p:cNvSpPr/>
          <p:nvPr/>
        </p:nvSpPr>
        <p:spPr>
          <a:xfrm rot="7801200">
            <a:off x="2212920" y="3268080"/>
            <a:ext cx="487440" cy="214560"/>
          </a:xfrm>
          <a:prstGeom prst="rightArrow">
            <a:avLst>
              <a:gd name="adj1" fmla="val 33509"/>
              <a:gd name="adj2" fmla="val 925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6"/>
          <p:cNvSpPr/>
          <p:nvPr/>
        </p:nvSpPr>
        <p:spPr>
          <a:xfrm>
            <a:off x="1941840" y="3025080"/>
            <a:ext cx="34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Y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7"/>
          <p:cNvSpPr/>
          <p:nvPr/>
        </p:nvSpPr>
        <p:spPr>
          <a:xfrm>
            <a:off x="3582720" y="3025080"/>
            <a:ext cx="296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Helvetica Neue Light"/>
                <a:ea typeface="ＭＳ Ｐゴシック"/>
              </a:rPr>
              <a:t>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570E0C8-48AC-4689-BAB4-DBAACC6FCF3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"/>
          <p:cNvSpPr/>
          <p:nvPr/>
        </p:nvSpPr>
        <p:spPr>
          <a:xfrm>
            <a:off x="268200" y="-6480"/>
            <a:ext cx="558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US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pository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2"/>
          <p:cNvGrpSpPr/>
          <p:nvPr/>
        </p:nvGrpSpPr>
        <p:grpSpPr>
          <a:xfrm>
            <a:off x="1595520" y="1969920"/>
            <a:ext cx="1392120" cy="395280"/>
            <a:chOff x="1595520" y="1969920"/>
            <a:chExt cx="1392120" cy="395280"/>
          </a:xfrm>
        </p:grpSpPr>
        <p:sp>
          <p:nvSpPr>
            <p:cNvPr id="633" name="Rectangle 3"/>
            <p:cNvSpPr/>
            <p:nvPr/>
          </p:nvSpPr>
          <p:spPr>
            <a:xfrm>
              <a:off x="1595520" y="1969920"/>
              <a:ext cx="1392120" cy="39528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"/>
            <p:cNvSpPr/>
            <p:nvPr/>
          </p:nvSpPr>
          <p:spPr>
            <a:xfrm>
              <a:off x="1863360" y="2032200"/>
              <a:ext cx="855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5"/>
          <p:cNvGrpSpPr/>
          <p:nvPr/>
        </p:nvGrpSpPr>
        <p:grpSpPr>
          <a:xfrm>
            <a:off x="1595520" y="2951280"/>
            <a:ext cx="1392120" cy="396720"/>
            <a:chOff x="1595520" y="2951280"/>
            <a:chExt cx="1392120" cy="396720"/>
          </a:xfrm>
        </p:grpSpPr>
        <p:sp>
          <p:nvSpPr>
            <p:cNvPr id="636" name="Rectangle 6"/>
            <p:cNvSpPr/>
            <p:nvPr/>
          </p:nvSpPr>
          <p:spPr>
            <a:xfrm>
              <a:off x="1595520" y="2951280"/>
              <a:ext cx="1392120" cy="39672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"/>
            <p:cNvSpPr/>
            <p:nvPr/>
          </p:nvSpPr>
          <p:spPr>
            <a:xfrm>
              <a:off x="1863720" y="3013920"/>
              <a:ext cx="8557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9440" tIns="0" bIns="0" anchor="ctr">
              <a:noAutofit/>
            </a:bodyPr>
            <a:p>
              <a:pPr marL="19080"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Reposi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 rot="3511800">
            <a:off x="2614680" y="3530160"/>
            <a:ext cx="498240" cy="216000"/>
          </a:xfrm>
          <a:prstGeom prst="rightArrow">
            <a:avLst>
              <a:gd name="adj1" fmla="val 33509"/>
              <a:gd name="adj2" fmla="val 9166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9"/>
          <p:cNvSpPr/>
          <p:nvPr/>
        </p:nvSpPr>
        <p:spPr>
          <a:xfrm rot="5400000">
            <a:off x="2039760" y="2555640"/>
            <a:ext cx="498600" cy="216000"/>
          </a:xfrm>
          <a:prstGeom prst="rightArrow">
            <a:avLst>
              <a:gd name="adj1" fmla="val 33509"/>
              <a:gd name="adj2" fmla="val 9173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162000" y="3449520"/>
            <a:ext cx="1087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CRUD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1"/>
          <p:cNvSpPr/>
          <p:nvPr/>
        </p:nvSpPr>
        <p:spPr>
          <a:xfrm flipH="1">
            <a:off x="1106640" y="3257640"/>
            <a:ext cx="374400" cy="17604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216000" y="2346480"/>
            <a:ext cx="1087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r>
              <a:rPr b="0" lang="en-US" sz="900" spc="-1" strike="noStrike">
                <a:solidFill>
                  <a:srgbClr val="ff2712"/>
                </a:solidFill>
                <a:latin typeface="Helvetica Neue Light"/>
                <a:ea typeface="ＭＳ Ｐゴシック"/>
              </a:rPr>
              <a:t>run(Job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3"/>
          <p:cNvSpPr/>
          <p:nvPr/>
        </p:nvSpPr>
        <p:spPr>
          <a:xfrm flipH="1">
            <a:off x="1047600" y="2152800"/>
            <a:ext cx="487440" cy="249120"/>
          </a:xfrm>
          <a:prstGeom prst="line">
            <a:avLst/>
          </a:prstGeom>
          <a:ln w="25560">
            <a:solidFill>
              <a:srgbClr val="ff2712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4"/>
          <p:cNvGrpSpPr/>
          <p:nvPr/>
        </p:nvGrpSpPr>
        <p:grpSpPr>
          <a:xfrm>
            <a:off x="2173680" y="1031760"/>
            <a:ext cx="3822480" cy="2905560"/>
            <a:chOff x="2173680" y="1031760"/>
            <a:chExt cx="3822480" cy="2905560"/>
          </a:xfrm>
        </p:grpSpPr>
        <p:sp>
          <p:nvSpPr>
            <p:cNvPr id="645" name="AutoShape 15"/>
            <p:cNvSpPr/>
            <p:nvPr/>
          </p:nvSpPr>
          <p:spPr>
            <a:xfrm rot="7114800">
              <a:off x="3062160" y="3551760"/>
              <a:ext cx="503280" cy="222120"/>
            </a:xfrm>
            <a:prstGeom prst="rightArrow">
              <a:avLst>
                <a:gd name="adj1" fmla="val 33509"/>
                <a:gd name="adj2" fmla="val 90045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6"/>
            <p:cNvGrpSpPr/>
            <p:nvPr/>
          </p:nvGrpSpPr>
          <p:grpSpPr>
            <a:xfrm>
              <a:off x="2331360" y="1031760"/>
              <a:ext cx="1439280" cy="398880"/>
              <a:chOff x="2331360" y="1031760"/>
              <a:chExt cx="1439280" cy="39888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2331360" y="10317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608560" y="10947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Operat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Group 19"/>
            <p:cNvGrpSpPr/>
            <p:nvPr/>
          </p:nvGrpSpPr>
          <p:grpSpPr>
            <a:xfrm>
              <a:off x="3202560" y="2964960"/>
              <a:ext cx="1439280" cy="398880"/>
              <a:chOff x="3202560" y="2964960"/>
              <a:chExt cx="1439280" cy="398880"/>
            </a:xfrm>
          </p:grpSpPr>
          <p:sp>
            <p:nvSpPr>
              <p:cNvPr id="650" name="Rectangle 20"/>
              <p:cNvSpPr/>
              <p:nvPr/>
            </p:nvSpPr>
            <p:spPr>
              <a:xfrm>
                <a:off x="3202560" y="2964960"/>
                <a:ext cx="1439280" cy="398880"/>
              </a:xfrm>
              <a:prstGeom prst="rect">
                <a:avLst/>
              </a:prstGeom>
              <a:solidFill>
                <a:srgbClr val="5382a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1"/>
              <p:cNvSpPr/>
              <p:nvPr/>
            </p:nvSpPr>
            <p:spPr>
              <a:xfrm>
                <a:off x="3479760" y="3027960"/>
                <a:ext cx="88452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9440" tIns="0" bIns="0" anchor="ctr">
                <a:noAutofit/>
              </a:bodyPr>
              <a:p>
                <a:pPr marL="19080" algn="ctr"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JobExplor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AutoShape 22"/>
            <p:cNvSpPr/>
            <p:nvPr/>
          </p:nvSpPr>
          <p:spPr>
            <a:xfrm rot="7436400">
              <a:off x="2154960" y="1586880"/>
              <a:ext cx="502200" cy="222120"/>
            </a:xfrm>
            <a:prstGeom prst="rightArrow">
              <a:avLst>
                <a:gd name="adj1" fmla="val 33509"/>
                <a:gd name="adj2" fmla="val 89851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3"/>
            <p:cNvSpPr/>
            <p:nvPr/>
          </p:nvSpPr>
          <p:spPr>
            <a:xfrm rot="4120200">
              <a:off x="2962440" y="2082600"/>
              <a:ext cx="1460520" cy="222120"/>
            </a:xfrm>
            <a:prstGeom prst="rightArrow">
              <a:avLst>
                <a:gd name="adj1" fmla="val 33509"/>
                <a:gd name="adj2" fmla="val 90046"/>
              </a:avLst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4"/>
            <p:cNvSpPr/>
            <p:nvPr/>
          </p:nvSpPr>
          <p:spPr>
            <a:xfrm>
              <a:off x="4871880" y="345420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get* 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>
              <a:off x="4708080" y="3258720"/>
              <a:ext cx="321120" cy="18576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4316040" y="1343160"/>
              <a:ext cx="1124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900" spc="-1" strike="noStrike">
                  <a:solidFill>
                    <a:srgbClr val="ff2712"/>
                  </a:solidFill>
                  <a:latin typeface="Helvetica Neue Light"/>
                  <a:ea typeface="ＭＳ Ｐゴシック"/>
                </a:rPr>
                <a:t>Combines al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>
              <a:off x="3976200" y="1224720"/>
              <a:ext cx="514800" cy="170280"/>
            </a:xfrm>
            <a:prstGeom prst="line">
              <a:avLst/>
            </a:prstGeom>
            <a:ln w="255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8"/>
          <p:cNvGrpSpPr/>
          <p:nvPr/>
        </p:nvGrpSpPr>
        <p:grpSpPr>
          <a:xfrm>
            <a:off x="2849400" y="3909960"/>
            <a:ext cx="590760" cy="428760"/>
            <a:chOff x="2849400" y="3909960"/>
            <a:chExt cx="590760" cy="428760"/>
          </a:xfrm>
        </p:grpSpPr>
        <p:sp>
          <p:nvSpPr>
            <p:cNvPr id="659" name="AutoShape 29"/>
            <p:cNvSpPr/>
            <p:nvPr/>
          </p:nvSpPr>
          <p:spPr>
            <a:xfrm>
              <a:off x="2849400" y="3909960"/>
              <a:ext cx="590760" cy="428760"/>
            </a:xfrm>
            <a:prstGeom prst="pi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30"/>
            <p:cNvSpPr/>
            <p:nvPr/>
          </p:nvSpPr>
          <p:spPr>
            <a:xfrm>
              <a:off x="2849400" y="3909960"/>
              <a:ext cx="590760" cy="10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31"/>
            <p:cNvSpPr/>
            <p:nvPr/>
          </p:nvSpPr>
          <p:spPr>
            <a:xfrm>
              <a:off x="2849400" y="3963240"/>
              <a:ext cx="590760" cy="532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32"/>
            <p:cNvSpPr/>
            <p:nvPr/>
          </p:nvSpPr>
          <p:spPr>
            <a:xfrm>
              <a:off x="2895120" y="4071960"/>
              <a:ext cx="49824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43560" tIns="18000" bIns="18000" anchor="ctr">
              <a:spAutoFit/>
            </a:bodyPr>
            <a:p>
              <a:pPr algn="ctr"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F270990-86DE-4C39-A327-5D7E4F18112E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2271600" y="731880"/>
            <a:ext cx="2746440" cy="2997000"/>
            <a:chOff x="2271600" y="731880"/>
            <a:chExt cx="2746440" cy="2997000"/>
          </a:xfrm>
        </p:grpSpPr>
        <p:sp>
          <p:nvSpPr>
            <p:cNvPr id="665" name="Rectangle 5"/>
            <p:cNvSpPr/>
            <p:nvPr/>
          </p:nvSpPr>
          <p:spPr>
            <a:xfrm>
              <a:off x="2271600" y="731880"/>
              <a:ext cx="2746440" cy="299700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2311920" y="994680"/>
              <a:ext cx="2421000" cy="24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1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5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11.3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1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2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2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72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2c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isin&gt;XYZ0003&lt;/isin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quantity&gt;9&lt;/quantity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price&gt;99.99&lt;/pric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customer&gt;Customer3&lt;/customer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&lt;/trade&gt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AutoShape 7"/>
          <p:cNvSpPr/>
          <p:nvPr/>
        </p:nvSpPr>
        <p:spPr>
          <a:xfrm>
            <a:off x="2030400" y="927000"/>
            <a:ext cx="289080" cy="8366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957960" y="1173240"/>
            <a:ext cx="984600" cy="344520"/>
            <a:chOff x="957960" y="1173240"/>
            <a:chExt cx="984600" cy="344520"/>
          </a:xfrm>
        </p:grpSpPr>
        <p:sp>
          <p:nvSpPr>
            <p:cNvPr id="669" name="AutoShape 9"/>
            <p:cNvSpPr/>
            <p:nvPr/>
          </p:nvSpPr>
          <p:spPr>
            <a:xfrm>
              <a:off x="967680" y="1173240"/>
              <a:ext cx="964800" cy="3445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"/>
            <p:cNvSpPr/>
            <p:nvPr/>
          </p:nvSpPr>
          <p:spPr>
            <a:xfrm>
              <a:off x="957960" y="12222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AutoShape 11"/>
          <p:cNvSpPr/>
          <p:nvPr/>
        </p:nvSpPr>
        <p:spPr>
          <a:xfrm>
            <a:off x="2030400" y="1812960"/>
            <a:ext cx="289080" cy="83484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12"/>
          <p:cNvGrpSpPr/>
          <p:nvPr/>
        </p:nvGrpSpPr>
        <p:grpSpPr>
          <a:xfrm>
            <a:off x="957960" y="2058840"/>
            <a:ext cx="984600" cy="343080"/>
            <a:chOff x="957960" y="2058840"/>
            <a:chExt cx="984600" cy="343080"/>
          </a:xfrm>
        </p:grpSpPr>
        <p:sp>
          <p:nvSpPr>
            <p:cNvPr id="673" name="AutoShape 13"/>
            <p:cNvSpPr/>
            <p:nvPr/>
          </p:nvSpPr>
          <p:spPr>
            <a:xfrm>
              <a:off x="967680" y="2058840"/>
              <a:ext cx="964800" cy="34308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957960" y="210708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AutoShape 15"/>
          <p:cNvSpPr/>
          <p:nvPr/>
        </p:nvSpPr>
        <p:spPr>
          <a:xfrm>
            <a:off x="2030400" y="2697120"/>
            <a:ext cx="289080" cy="8352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6"/>
          <p:cNvGrpSpPr/>
          <p:nvPr/>
        </p:nvGrpSpPr>
        <p:grpSpPr>
          <a:xfrm>
            <a:off x="957960" y="2943360"/>
            <a:ext cx="984600" cy="342720"/>
            <a:chOff x="957960" y="2943360"/>
            <a:chExt cx="984600" cy="342720"/>
          </a:xfrm>
        </p:grpSpPr>
        <p:sp>
          <p:nvSpPr>
            <p:cNvPr id="677" name="AutoShape 17"/>
            <p:cNvSpPr/>
            <p:nvPr/>
          </p:nvSpPr>
          <p:spPr>
            <a:xfrm>
              <a:off x="967680" y="2943360"/>
              <a:ext cx="964800" cy="342720"/>
            </a:xfrm>
            <a:prstGeom prst="pie">
              <a:avLst/>
            </a:prstGeom>
            <a:solidFill>
              <a:srgbClr val="ffc72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8"/>
            <p:cNvSpPr/>
            <p:nvPr/>
          </p:nvSpPr>
          <p:spPr>
            <a:xfrm>
              <a:off x="957960" y="2991600"/>
              <a:ext cx="9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agmen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1375415E-B3C8-447F-8C4E-02F12AA4C7C8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4"/>
          <p:cNvGrpSpPr/>
          <p:nvPr/>
        </p:nvGrpSpPr>
        <p:grpSpPr>
          <a:xfrm>
            <a:off x="1140480" y="1546200"/>
            <a:ext cx="1081440" cy="441000"/>
            <a:chOff x="1140480" y="1546200"/>
            <a:chExt cx="1081440" cy="441000"/>
          </a:xfrm>
        </p:grpSpPr>
        <p:grpSp>
          <p:nvGrpSpPr>
            <p:cNvPr id="681" name="Group 5"/>
            <p:cNvGrpSpPr/>
            <p:nvPr/>
          </p:nvGrpSpPr>
          <p:grpSpPr>
            <a:xfrm>
              <a:off x="1237320" y="1644480"/>
              <a:ext cx="984600" cy="342720"/>
              <a:chOff x="1237320" y="1644480"/>
              <a:chExt cx="984600" cy="342720"/>
            </a:xfrm>
          </p:grpSpPr>
          <p:sp>
            <p:nvSpPr>
              <p:cNvPr id="682" name="AutoShape 6"/>
              <p:cNvSpPr/>
              <p:nvPr/>
            </p:nvSpPr>
            <p:spPr>
              <a:xfrm>
                <a:off x="1246680" y="164448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7"/>
              <p:cNvSpPr/>
              <p:nvPr/>
            </p:nvSpPr>
            <p:spPr>
              <a:xfrm>
                <a:off x="1237320" y="169272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1188000" y="1594440"/>
              <a:ext cx="984600" cy="342720"/>
              <a:chOff x="1188000" y="1594440"/>
              <a:chExt cx="984600" cy="342720"/>
            </a:xfrm>
          </p:grpSpPr>
          <p:sp>
            <p:nvSpPr>
              <p:cNvPr id="685" name="AutoShape 9"/>
              <p:cNvSpPr/>
              <p:nvPr/>
            </p:nvSpPr>
            <p:spPr>
              <a:xfrm>
                <a:off x="1197720" y="159444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0"/>
              <p:cNvSpPr/>
              <p:nvPr/>
            </p:nvSpPr>
            <p:spPr>
              <a:xfrm>
                <a:off x="1188000" y="164268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"/>
            <p:cNvGrpSpPr/>
            <p:nvPr/>
          </p:nvGrpSpPr>
          <p:grpSpPr>
            <a:xfrm>
              <a:off x="1140480" y="1546200"/>
              <a:ext cx="984600" cy="342720"/>
              <a:chOff x="1140480" y="1546200"/>
              <a:chExt cx="984600" cy="342720"/>
            </a:xfrm>
          </p:grpSpPr>
          <p:sp>
            <p:nvSpPr>
              <p:cNvPr id="688" name="AutoShape 12"/>
              <p:cNvSpPr/>
              <p:nvPr/>
            </p:nvSpPr>
            <p:spPr>
              <a:xfrm>
                <a:off x="1150200" y="1546200"/>
                <a:ext cx="964800" cy="34272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3"/>
              <p:cNvSpPr/>
              <p:nvPr/>
            </p:nvSpPr>
            <p:spPr>
              <a:xfrm>
                <a:off x="1140480" y="1594440"/>
                <a:ext cx="984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agmen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Group 14"/>
          <p:cNvGrpSpPr/>
          <p:nvPr/>
        </p:nvGrpSpPr>
        <p:grpSpPr>
          <a:xfrm>
            <a:off x="3416400" y="808200"/>
            <a:ext cx="1398600" cy="2014200"/>
            <a:chOff x="3416400" y="808200"/>
            <a:chExt cx="1398600" cy="2014200"/>
          </a:xfrm>
        </p:grpSpPr>
        <p:sp>
          <p:nvSpPr>
            <p:cNvPr id="691" name="AutoShape 15"/>
            <p:cNvSpPr/>
            <p:nvPr/>
          </p:nvSpPr>
          <p:spPr>
            <a:xfrm>
              <a:off x="3416400" y="808200"/>
              <a:ext cx="1398600" cy="2014200"/>
            </a:xfrm>
            <a:prstGeom prst="pie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6"/>
            <p:cNvSpPr/>
            <p:nvPr/>
          </p:nvSpPr>
          <p:spPr>
            <a:xfrm>
              <a:off x="3553560" y="808200"/>
              <a:ext cx="112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t">
              <a:spAutoFit/>
            </a:bodyPr>
            <a:p>
              <a:pPr marL="27000" algn="ctr">
                <a:lnSpc>
                  <a:spcPct val="100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pring OX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Group 17"/>
          <p:cNvGrpSpPr/>
          <p:nvPr/>
        </p:nvGrpSpPr>
        <p:grpSpPr>
          <a:xfrm>
            <a:off x="3706920" y="1200240"/>
            <a:ext cx="866520" cy="415800"/>
            <a:chOff x="3706920" y="1200240"/>
            <a:chExt cx="866520" cy="415800"/>
          </a:xfrm>
        </p:grpSpPr>
        <p:sp>
          <p:nvSpPr>
            <p:cNvPr id="694" name="Rectangle 18"/>
            <p:cNvSpPr/>
            <p:nvPr/>
          </p:nvSpPr>
          <p:spPr>
            <a:xfrm>
              <a:off x="3706920" y="1200240"/>
              <a:ext cx="866520" cy="41580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9"/>
            <p:cNvSpPr/>
            <p:nvPr/>
          </p:nvSpPr>
          <p:spPr>
            <a:xfrm>
              <a:off x="3880800" y="1300320"/>
              <a:ext cx="517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ax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20"/>
          <p:cNvGrpSpPr/>
          <p:nvPr/>
        </p:nvGrpSpPr>
        <p:grpSpPr>
          <a:xfrm>
            <a:off x="3706920" y="1717560"/>
            <a:ext cx="866520" cy="416160"/>
            <a:chOff x="3706920" y="1717560"/>
            <a:chExt cx="866520" cy="416160"/>
          </a:xfrm>
        </p:grpSpPr>
        <p:sp>
          <p:nvSpPr>
            <p:cNvPr id="697" name="Rectangle 21"/>
            <p:cNvSpPr/>
            <p:nvPr/>
          </p:nvSpPr>
          <p:spPr>
            <a:xfrm>
              <a:off x="3706920" y="17175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22"/>
            <p:cNvSpPr/>
            <p:nvPr/>
          </p:nvSpPr>
          <p:spPr>
            <a:xfrm>
              <a:off x="3864600" y="1817640"/>
              <a:ext cx="5493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s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23"/>
          <p:cNvGrpSpPr/>
          <p:nvPr/>
        </p:nvGrpSpPr>
        <p:grpSpPr>
          <a:xfrm>
            <a:off x="3706920" y="2282760"/>
            <a:ext cx="866520" cy="416160"/>
            <a:chOff x="3706920" y="2282760"/>
            <a:chExt cx="866520" cy="416160"/>
          </a:xfrm>
        </p:grpSpPr>
        <p:sp>
          <p:nvSpPr>
            <p:cNvPr id="700" name="Rectangle 24"/>
            <p:cNvSpPr/>
            <p:nvPr/>
          </p:nvSpPr>
          <p:spPr>
            <a:xfrm>
              <a:off x="3706920" y="2282760"/>
              <a:ext cx="866520" cy="416160"/>
            </a:xfrm>
            <a:prstGeom prst="rect">
              <a:avLst/>
            </a:prstGeom>
            <a:solidFill>
              <a:srgbClr val="66aa4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736800" y="2382840"/>
              <a:ext cx="80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XmlBea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AutoShape 26"/>
          <p:cNvSpPr/>
          <p:nvPr/>
        </p:nvSpPr>
        <p:spPr>
          <a:xfrm flipH="1" rot="10800000">
            <a:off x="1911240" y="2576160"/>
            <a:ext cx="1263600" cy="492120"/>
          </a:xfrm>
          <a:prstGeom prst="pie">
            <a:avLst/>
          </a:prstGeom>
          <a:noFill/>
          <a:ln w="1260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7"/>
          <p:cNvSpPr/>
          <p:nvPr/>
        </p:nvSpPr>
        <p:spPr>
          <a:xfrm>
            <a:off x="957240" y="3068640"/>
            <a:ext cx="19051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ny binding framework supported by Spring OX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2500200" y="1593720"/>
            <a:ext cx="627120" cy="393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226132AD-B68C-40F6-85C5-306062DD597A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3038400" y="2338560"/>
            <a:ext cx="2168640" cy="155232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3040200" y="1720800"/>
          <a:ext cx="2174760" cy="2104920"/>
        </p:xfrm>
        <a:graphic>
          <a:graphicData uri="http://schemas.openxmlformats.org/drawingml/2006/table">
            <a:tbl>
              <a:tblPr/>
              <a:tblGrid>
                <a:gridCol w="725040"/>
                <a:gridCol w="724680"/>
                <a:gridCol w="725040"/>
              </a:tblGrid>
              <a:tr h="64764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AutoShape 104"/>
          <p:cNvSpPr/>
          <p:nvPr/>
        </p:nvSpPr>
        <p:spPr>
          <a:xfrm>
            <a:off x="2239920" y="23814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05"/>
          <p:cNvSpPr/>
          <p:nvPr/>
        </p:nvSpPr>
        <p:spPr>
          <a:xfrm>
            <a:off x="2239920" y="268452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06"/>
          <p:cNvSpPr/>
          <p:nvPr/>
        </p:nvSpPr>
        <p:spPr>
          <a:xfrm>
            <a:off x="2239920" y="2986200"/>
            <a:ext cx="654120" cy="244440"/>
          </a:xfrm>
          <a:prstGeom prst="rightArrow">
            <a:avLst>
              <a:gd name="adj1" fmla="val 50000"/>
              <a:gd name="adj2" fmla="val 66900"/>
            </a:avLst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107"/>
          <p:cNvGrpSpPr/>
          <p:nvPr/>
        </p:nvGrpSpPr>
        <p:grpSpPr>
          <a:xfrm>
            <a:off x="2612880" y="1226520"/>
            <a:ext cx="3036960" cy="404280"/>
            <a:chOff x="2612880" y="1226520"/>
            <a:chExt cx="3036960" cy="404280"/>
          </a:xfrm>
        </p:grpSpPr>
        <p:sp>
          <p:nvSpPr>
            <p:cNvPr id="712" name="Rectangle 108"/>
            <p:cNvSpPr/>
            <p:nvPr/>
          </p:nvSpPr>
          <p:spPr>
            <a:xfrm>
              <a:off x="2612880" y="123156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9"/>
            <p:cNvSpPr/>
            <p:nvPr/>
          </p:nvSpPr>
          <p:spPr>
            <a:xfrm>
              <a:off x="2669760" y="122652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*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863640" y="12445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5" name=""/>
          <p:cNvGraphicFramePr/>
          <p:nvPr/>
        </p:nvGraphicFramePr>
        <p:xfrm>
          <a:off x="863640" y="2324160"/>
          <a:ext cx="1012680" cy="78876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863640" y="3409920"/>
          <a:ext cx="1012680" cy="789120"/>
        </p:xfrm>
        <a:graphic>
          <a:graphicData uri="http://schemas.openxmlformats.org/drawingml/2006/table">
            <a:tbl>
              <a:tblPr/>
              <a:tblGrid>
                <a:gridCol w="1012680"/>
              </a:tblGrid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=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=foo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=ba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2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2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2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3DAB436B-DECC-4B3A-91ED-0D72A19CDC0D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96840" y="4464000"/>
            <a:ext cx="30099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b">
            <a:no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08 Accenture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8"/>
          <p:cNvSpPr/>
          <p:nvPr/>
        </p:nvSpPr>
        <p:spPr>
          <a:xfrm>
            <a:off x="3121200" y="2357280"/>
            <a:ext cx="722160" cy="1386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112920" y="1805040"/>
          <a:ext cx="2175120" cy="1940040"/>
        </p:xfrm>
        <a:graphic>
          <a:graphicData uri="http://schemas.openxmlformats.org/drawingml/2006/table">
            <a:tbl>
              <a:tblPr/>
              <a:tblGrid>
                <a:gridCol w="725040"/>
                <a:gridCol w="725040"/>
                <a:gridCol w="725040"/>
              </a:tblGrid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1" name="Group 104"/>
          <p:cNvGrpSpPr/>
          <p:nvPr/>
        </p:nvGrpSpPr>
        <p:grpSpPr>
          <a:xfrm>
            <a:off x="2643120" y="1272600"/>
            <a:ext cx="3036960" cy="404280"/>
            <a:chOff x="2643120" y="1272600"/>
            <a:chExt cx="3036960" cy="404280"/>
          </a:xfrm>
        </p:grpSpPr>
        <p:sp>
          <p:nvSpPr>
            <p:cNvPr id="722" name="Rectangle 105"/>
            <p:cNvSpPr/>
            <p:nvPr/>
          </p:nvSpPr>
          <p:spPr>
            <a:xfrm>
              <a:off x="2643120" y="1277640"/>
              <a:ext cx="3036960" cy="392760"/>
            </a:xfrm>
            <a:prstGeom prst="rect">
              <a:avLst/>
            </a:prstGeom>
            <a:solidFill>
              <a:srgbClr val="fef8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2700000" y="1272600"/>
              <a:ext cx="257472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7360" tIns="0" bIns="0" anchor="ctr">
              <a:spAutoFit/>
            </a:bodyPr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Select </a:t>
              </a:r>
              <a:r>
                <a:rPr b="1" lang="en-US" sz="13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D</a:t>
              </a: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 from FOO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>
                <a:lnSpc>
                  <a:spcPct val="102000"/>
                </a:lnSpc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Courier New"/>
                  <a:ea typeface="ＭＳ Ｐゴシック"/>
                </a:rPr>
                <a:t>where id &gt; 1 and id &lt; 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107"/>
          <p:cNvSpPr/>
          <p:nvPr/>
        </p:nvSpPr>
        <p:spPr>
          <a:xfrm rot="10800000">
            <a:off x="1917360" y="2409840"/>
            <a:ext cx="1058760" cy="127800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08"/>
          <p:cNvGrpSpPr/>
          <p:nvPr/>
        </p:nvGrpSpPr>
        <p:grpSpPr>
          <a:xfrm>
            <a:off x="731880" y="2835360"/>
            <a:ext cx="866520" cy="394200"/>
            <a:chOff x="731880" y="2835360"/>
            <a:chExt cx="866520" cy="394200"/>
          </a:xfrm>
        </p:grpSpPr>
        <p:grpSp>
          <p:nvGrpSpPr>
            <p:cNvPr id="726" name="Group 109"/>
            <p:cNvGrpSpPr/>
            <p:nvPr/>
          </p:nvGrpSpPr>
          <p:grpSpPr>
            <a:xfrm>
              <a:off x="827280" y="2934000"/>
              <a:ext cx="771120" cy="295560"/>
              <a:chOff x="827280" y="2934000"/>
              <a:chExt cx="771120" cy="295560"/>
            </a:xfrm>
          </p:grpSpPr>
          <p:sp>
            <p:nvSpPr>
              <p:cNvPr id="727" name="AutoShape 110"/>
              <p:cNvSpPr/>
              <p:nvPr/>
            </p:nvSpPr>
            <p:spPr>
              <a:xfrm>
                <a:off x="827280" y="2934000"/>
                <a:ext cx="771120" cy="29556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111"/>
              <p:cNvSpPr/>
              <p:nvPr/>
            </p:nvSpPr>
            <p:spPr>
              <a:xfrm>
                <a:off x="1133640" y="29599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12"/>
            <p:cNvGrpSpPr/>
            <p:nvPr/>
          </p:nvGrpSpPr>
          <p:grpSpPr>
            <a:xfrm>
              <a:off x="779400" y="2885400"/>
              <a:ext cx="771480" cy="295200"/>
              <a:chOff x="779400" y="2885400"/>
              <a:chExt cx="771480" cy="295200"/>
            </a:xfrm>
          </p:grpSpPr>
          <p:sp>
            <p:nvSpPr>
              <p:cNvPr id="730" name="AutoShape 113"/>
              <p:cNvSpPr/>
              <p:nvPr/>
            </p:nvSpPr>
            <p:spPr>
              <a:xfrm>
                <a:off x="779400" y="2885400"/>
                <a:ext cx="77148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114"/>
              <p:cNvSpPr/>
              <p:nvPr/>
            </p:nvSpPr>
            <p:spPr>
              <a:xfrm>
                <a:off x="1085760" y="291132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Group 115"/>
            <p:cNvGrpSpPr/>
            <p:nvPr/>
          </p:nvGrpSpPr>
          <p:grpSpPr>
            <a:xfrm>
              <a:off x="731880" y="2835360"/>
              <a:ext cx="771120" cy="295200"/>
              <a:chOff x="731880" y="2835360"/>
              <a:chExt cx="771120" cy="295200"/>
            </a:xfrm>
          </p:grpSpPr>
          <p:sp>
            <p:nvSpPr>
              <p:cNvPr id="733" name="AutoShape 116"/>
              <p:cNvSpPr/>
              <p:nvPr/>
            </p:nvSpPr>
            <p:spPr>
              <a:xfrm>
                <a:off x="731880" y="2835360"/>
                <a:ext cx="771120" cy="295200"/>
              </a:xfrm>
              <a:prstGeom prst="pie">
                <a:avLst/>
              </a:prstGeom>
              <a:solidFill>
                <a:srgbClr val="ffc7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3440"/>
                    <a:tab algn="l" pos="866880"/>
                    <a:tab algn="l" pos="1300320"/>
                    <a:tab algn="l" pos="1733400"/>
                    <a:tab algn="l" pos="2166840"/>
                    <a:tab algn="l" pos="2600280"/>
                    <a:tab algn="l" pos="3033720"/>
                    <a:tab algn="l" pos="3467160"/>
                    <a:tab algn="l" pos="3900600"/>
                    <a:tab algn="l" pos="4334040"/>
                    <a:tab algn="l" pos="4767120"/>
                    <a:tab algn="l" pos="5200560"/>
                    <a:tab algn="l" pos="5634000"/>
                    <a:tab algn="l" pos="6067440"/>
                    <a:tab algn="l" pos="6500880"/>
                    <a:tab algn="l" pos="6934320"/>
                    <a:tab algn="l" pos="7367760"/>
                    <a:tab algn="l" pos="7800840"/>
                    <a:tab algn="l" pos="8234280"/>
                    <a:tab algn="l" pos="8667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Rectangle 117"/>
              <p:cNvSpPr/>
              <p:nvPr/>
            </p:nvSpPr>
            <p:spPr>
              <a:xfrm>
                <a:off x="1038240" y="2861280"/>
                <a:ext cx="157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27360" tIns="0" bIns="0" anchor="ctr">
                <a:spAutoFit/>
              </a:bodyPr>
              <a:p>
                <a:pPr marL="27000" algn="ctr">
                  <a:lnSpc>
                    <a:spcPct val="100000"/>
                  </a:lnSpc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2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E1DA7512-2302-4240-B184-8E4F02AF6E30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37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45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9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53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62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8"/>
          <p:cNvSpPr/>
          <p:nvPr/>
        </p:nvSpPr>
        <p:spPr>
          <a:xfrm>
            <a:off x="2779200" y="4046040"/>
            <a:ext cx="239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With ExitStatus.FINISHED or FAI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9"/>
          <p:cNvSpPr/>
          <p:nvPr/>
        </p:nvSpPr>
        <p:spPr>
          <a:xfrm flipH="1" flipV="1">
            <a:off x="1903320" y="4010040"/>
            <a:ext cx="819360" cy="147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A661D546-BBB7-41AD-BA4A-5460C5DBCEC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1"/>
          <a:stretch/>
        </p:blipFill>
        <p:spPr>
          <a:xfrm>
            <a:off x="147600" y="743040"/>
            <a:ext cx="1243080" cy="395280"/>
          </a:xfrm>
          <a:prstGeom prst="rect">
            <a:avLst/>
          </a:prstGeom>
          <a:ln w="0">
            <a:noFill/>
          </a:ln>
        </p:spPr>
      </p:pic>
      <p:grpSp>
        <p:nvGrpSpPr>
          <p:cNvPr id="769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770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"/>
          <p:cNvSpPr/>
          <p:nvPr/>
        </p:nvSpPr>
        <p:spPr>
          <a:xfrm flipV="1">
            <a:off x="697680" y="2408400"/>
            <a:ext cx="1398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936720" y="218268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5"/>
          <p:cNvSpPr/>
          <p:nvPr/>
        </p:nvSpPr>
        <p:spPr>
          <a:xfrm flipH="1">
            <a:off x="696600" y="4122720"/>
            <a:ext cx="13762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6"/>
          <p:cNvSpPr/>
          <p:nvPr/>
        </p:nvSpPr>
        <p:spPr>
          <a:xfrm>
            <a:off x="885960" y="3867120"/>
            <a:ext cx="1114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Group 17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778" name="Rectangle 18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"/>
            <p:cNvSpPr/>
            <p:nvPr/>
          </p:nvSpPr>
          <p:spPr>
            <a:xfrm>
              <a:off x="3362040" y="1562400"/>
              <a:ext cx="91368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Execu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Line 20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1"/>
          <p:cNvSpPr/>
          <p:nvPr/>
        </p:nvSpPr>
        <p:spPr>
          <a:xfrm flipV="1">
            <a:off x="2241000" y="256392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2"/>
          <p:cNvSpPr/>
          <p:nvPr/>
        </p:nvSpPr>
        <p:spPr>
          <a:xfrm>
            <a:off x="2509920" y="2340000"/>
            <a:ext cx="933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2068560" y="2390760"/>
            <a:ext cx="173160" cy="173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24"/>
          <p:cNvSpPr/>
          <p:nvPr/>
        </p:nvSpPr>
        <p:spPr>
          <a:xfrm>
            <a:off x="383220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25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786" name="Rectangle 26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27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Line 28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9"/>
          <p:cNvSpPr/>
          <p:nvPr/>
        </p:nvSpPr>
        <p:spPr>
          <a:xfrm flipH="1">
            <a:off x="2265480" y="368460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0"/>
          <p:cNvSpPr/>
          <p:nvPr/>
        </p:nvSpPr>
        <p:spPr>
          <a:xfrm>
            <a:off x="2557440" y="344016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31"/>
          <p:cNvSpPr/>
          <p:nvPr/>
        </p:nvSpPr>
        <p:spPr>
          <a:xfrm flipH="1" flipV="1">
            <a:off x="3831840" y="358632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2"/>
          <p:cNvSpPr/>
          <p:nvPr/>
        </p:nvSpPr>
        <p:spPr>
          <a:xfrm>
            <a:off x="3662280" y="2556000"/>
            <a:ext cx="169920" cy="11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3"/>
          <p:cNvSpPr/>
          <p:nvPr/>
        </p:nvSpPr>
        <p:spPr>
          <a:xfrm>
            <a:off x="5203800" y="304812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4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795" name="Rectangle 35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6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Line 37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38" descr=""/>
          <p:cNvPicPr/>
          <p:nvPr/>
        </p:nvPicPr>
        <p:blipFill>
          <a:blip r:embed="rId2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799" name="Line 39"/>
          <p:cNvSpPr/>
          <p:nvPr/>
        </p:nvSpPr>
        <p:spPr>
          <a:xfrm>
            <a:off x="719280" y="3371760"/>
            <a:ext cx="134928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40"/>
          <p:cNvSpPr/>
          <p:nvPr/>
        </p:nvSpPr>
        <p:spPr>
          <a:xfrm>
            <a:off x="936720" y="3127320"/>
            <a:ext cx="7747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41"/>
          <p:cNvSpPr/>
          <p:nvPr/>
        </p:nvSpPr>
        <p:spPr>
          <a:xfrm>
            <a:off x="458640" y="3078000"/>
            <a:ext cx="530280" cy="588960"/>
          </a:xfrm>
          <a:prstGeom prst="pie">
            <a:avLst/>
          </a:prstGeom>
          <a:solidFill>
            <a:srgbClr val="ffc7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9920" y="593640"/>
            <a:ext cx="2262240" cy="29232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5000" y="88884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14440" y="192096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61960" y="166536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ster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3560" y="988920"/>
            <a:ext cx="1665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Synchron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7812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9920" y="201924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177336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98680" y="1873080"/>
            <a:ext cx="173160" cy="1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8600" y="3395520"/>
            <a:ext cx="308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60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507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5240" y="130176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16680" y="1298520"/>
            <a:ext cx="9360" cy="239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20192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7960" y="2019240"/>
            <a:ext cx="295560" cy="8254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4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86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625760"/>
            <a:ext cx="182880" cy="150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07960" y="2952720"/>
            <a:ext cx="295560" cy="19692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0"/>
                </a:moveTo>
                <a:lnTo>
                  <a:pt x="127" y="0"/>
                </a:lnTo>
                <a:lnTo>
                  <a:pt x="127" y="205"/>
                </a:lnTo>
                <a:lnTo>
                  <a:pt x="6" y="206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3080" y="192096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71840" y="19209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49520" y="16700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22200" y="285444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92600" y="987480"/>
            <a:ext cx="84924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FileRe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3487680"/>
            <a:ext cx="134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243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444840"/>
            <a:ext cx="19368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054859AE-D314-4A5A-87C0-ADCBB6147D93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9"/>
          <p:cNvGrpSpPr/>
          <p:nvPr/>
        </p:nvGrpSpPr>
        <p:grpSpPr>
          <a:xfrm>
            <a:off x="1714680" y="1506600"/>
            <a:ext cx="1009440" cy="312840"/>
            <a:chOff x="1714680" y="1506600"/>
            <a:chExt cx="1009440" cy="312840"/>
          </a:xfrm>
        </p:grpSpPr>
        <p:sp>
          <p:nvSpPr>
            <p:cNvPr id="804" name="Rectangle 10"/>
            <p:cNvSpPr/>
            <p:nvPr/>
          </p:nvSpPr>
          <p:spPr>
            <a:xfrm>
              <a:off x="1714680" y="1506600"/>
              <a:ext cx="100944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1"/>
            <p:cNvSpPr/>
            <p:nvPr/>
          </p:nvSpPr>
          <p:spPr>
            <a:xfrm>
              <a:off x="1747080" y="1562400"/>
              <a:ext cx="94392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Launch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Line 12"/>
          <p:cNvSpPr/>
          <p:nvPr/>
        </p:nvSpPr>
        <p:spPr>
          <a:xfrm>
            <a:off x="21448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3"/>
          <p:cNvSpPr/>
          <p:nvPr/>
        </p:nvSpPr>
        <p:spPr>
          <a:xfrm flipH="1" flipV="1">
            <a:off x="795240" y="2577600"/>
            <a:ext cx="1252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938160" y="233208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5"/>
          <p:cNvGrpSpPr/>
          <p:nvPr/>
        </p:nvGrpSpPr>
        <p:grpSpPr>
          <a:xfrm>
            <a:off x="3276720" y="1506600"/>
            <a:ext cx="1085760" cy="312840"/>
            <a:chOff x="3276720" y="1506600"/>
            <a:chExt cx="1085760" cy="312840"/>
          </a:xfrm>
        </p:grpSpPr>
        <p:sp>
          <p:nvSpPr>
            <p:cNvPr id="810" name="Rectangle 16"/>
            <p:cNvSpPr/>
            <p:nvPr/>
          </p:nvSpPr>
          <p:spPr>
            <a:xfrm>
              <a:off x="3276720" y="1506600"/>
              <a:ext cx="1085760" cy="312840"/>
            </a:xfrm>
            <a:prstGeom prst="rect">
              <a:avLst/>
            </a:prstGeom>
            <a:solidFill>
              <a:srgbClr val="5382a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7"/>
            <p:cNvSpPr/>
            <p:nvPr/>
          </p:nvSpPr>
          <p:spPr>
            <a:xfrm>
              <a:off x="3661560" y="1562400"/>
              <a:ext cx="314640" cy="2023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Jo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18"/>
          <p:cNvSpPr/>
          <p:nvPr/>
        </p:nvSpPr>
        <p:spPr>
          <a:xfrm>
            <a:off x="3757680" y="1819440"/>
            <a:ext cx="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9"/>
          <p:cNvSpPr/>
          <p:nvPr/>
        </p:nvSpPr>
        <p:spPr>
          <a:xfrm flipV="1">
            <a:off x="2241000" y="3373560"/>
            <a:ext cx="14461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0"/>
          <p:cNvSpPr/>
          <p:nvPr/>
        </p:nvSpPr>
        <p:spPr>
          <a:xfrm>
            <a:off x="2509920" y="3147840"/>
            <a:ext cx="933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1"/>
          <p:cNvSpPr/>
          <p:nvPr/>
        </p:nvSpPr>
        <p:spPr>
          <a:xfrm>
            <a:off x="2048040" y="2192400"/>
            <a:ext cx="1936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2"/>
          <p:cNvSpPr/>
          <p:nvPr/>
        </p:nvSpPr>
        <p:spPr>
          <a:xfrm flipV="1">
            <a:off x="3832200" y="3467160"/>
            <a:ext cx="13716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3"/>
          <p:cNvGrpSpPr/>
          <p:nvPr/>
        </p:nvGrpSpPr>
        <p:grpSpPr>
          <a:xfrm>
            <a:off x="4910040" y="1506600"/>
            <a:ext cx="849240" cy="312840"/>
            <a:chOff x="4910040" y="1506600"/>
            <a:chExt cx="849240" cy="312840"/>
          </a:xfrm>
        </p:grpSpPr>
        <p:sp>
          <p:nvSpPr>
            <p:cNvPr id="818" name="Rectangle 24"/>
            <p:cNvSpPr/>
            <p:nvPr/>
          </p:nvSpPr>
          <p:spPr>
            <a:xfrm>
              <a:off x="4910040" y="1506600"/>
              <a:ext cx="849240" cy="31284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5"/>
            <p:cNvSpPr/>
            <p:nvPr/>
          </p:nvSpPr>
          <p:spPr>
            <a:xfrm>
              <a:off x="5045760" y="1576800"/>
              <a:ext cx="57672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Line 26"/>
          <p:cNvSpPr/>
          <p:nvPr/>
        </p:nvSpPr>
        <p:spPr>
          <a:xfrm flipH="1">
            <a:off x="5277960" y="1817640"/>
            <a:ext cx="972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7"/>
          <p:cNvSpPr/>
          <p:nvPr/>
        </p:nvSpPr>
        <p:spPr>
          <a:xfrm flipH="1" flipV="1">
            <a:off x="2265480" y="4103280"/>
            <a:ext cx="139680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8"/>
          <p:cNvSpPr/>
          <p:nvPr/>
        </p:nvSpPr>
        <p:spPr>
          <a:xfrm>
            <a:off x="2557440" y="3859200"/>
            <a:ext cx="950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t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9"/>
          <p:cNvSpPr/>
          <p:nvPr/>
        </p:nvSpPr>
        <p:spPr>
          <a:xfrm flipH="1" flipV="1">
            <a:off x="3831840" y="4005360"/>
            <a:ext cx="146844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0"/>
          <p:cNvSpPr/>
          <p:nvPr/>
        </p:nvSpPr>
        <p:spPr>
          <a:xfrm>
            <a:off x="3662280" y="3371760"/>
            <a:ext cx="16992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1"/>
          <p:cNvSpPr/>
          <p:nvPr/>
        </p:nvSpPr>
        <p:spPr>
          <a:xfrm>
            <a:off x="5203800" y="3467160"/>
            <a:ext cx="169920" cy="53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32"/>
          <p:cNvGrpSpPr/>
          <p:nvPr/>
        </p:nvGrpSpPr>
        <p:grpSpPr>
          <a:xfrm>
            <a:off x="314280" y="1504800"/>
            <a:ext cx="847800" cy="311400"/>
            <a:chOff x="314280" y="1504800"/>
            <a:chExt cx="847800" cy="311400"/>
          </a:xfrm>
        </p:grpSpPr>
        <p:sp>
          <p:nvSpPr>
            <p:cNvPr id="827" name="Rectangle 33"/>
            <p:cNvSpPr/>
            <p:nvPr/>
          </p:nvSpPr>
          <p:spPr>
            <a:xfrm>
              <a:off x="314280" y="1504800"/>
              <a:ext cx="847800" cy="311400"/>
            </a:xfrm>
            <a:prstGeom prst="rect">
              <a:avLst/>
            </a:prstGeom>
            <a:solidFill>
              <a:srgbClr val="66b1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34"/>
            <p:cNvSpPr/>
            <p:nvPr/>
          </p:nvSpPr>
          <p:spPr>
            <a:xfrm>
              <a:off x="544680" y="1574280"/>
              <a:ext cx="384840" cy="1720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41760" tIns="17280" bIns="17280" anchor="ctr">
              <a:spAutoFit/>
            </a:bodyPr>
            <a:p>
              <a:pPr marL="6480"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i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35"/>
          <p:cNvSpPr/>
          <p:nvPr/>
        </p:nvSpPr>
        <p:spPr>
          <a:xfrm>
            <a:off x="698400" y="1819440"/>
            <a:ext cx="1800" cy="240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36" descr=""/>
          <p:cNvPicPr/>
          <p:nvPr/>
        </p:nvPicPr>
        <p:blipFill>
          <a:blip r:embed="rId1"/>
          <a:stretch/>
        </p:blipFill>
        <p:spPr>
          <a:xfrm>
            <a:off x="1951200" y="2832120"/>
            <a:ext cx="434880" cy="44280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37"/>
          <p:cNvSpPr/>
          <p:nvPr/>
        </p:nvSpPr>
        <p:spPr>
          <a:xfrm>
            <a:off x="276120" y="3117600"/>
            <a:ext cx="1463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360" tIns="0" bIns="0" anchor="ctr">
            <a:spAutoFit/>
          </a:bodyPr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Starts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000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ExitStatus.UNKNO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38"/>
          <p:cNvSpPr/>
          <p:nvPr/>
        </p:nvSpPr>
        <p:spPr>
          <a:xfrm flipV="1">
            <a:off x="1036080" y="2566800"/>
            <a:ext cx="331560" cy="6570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39"/>
          <p:cNvSpPr/>
          <p:nvPr/>
        </p:nvSpPr>
        <p:spPr>
          <a:xfrm>
            <a:off x="719280" y="2192400"/>
            <a:ext cx="13492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0"/>
          <p:cNvSpPr/>
          <p:nvPr/>
        </p:nvSpPr>
        <p:spPr>
          <a:xfrm>
            <a:off x="936720" y="1946160"/>
            <a:ext cx="774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360" tIns="0" b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1"/>
          <p:cNvSpPr/>
          <p:nvPr/>
        </p:nvSpPr>
        <p:spPr>
          <a:xfrm>
            <a:off x="601560" y="2163600"/>
            <a:ext cx="19368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2"/>
          <p:cNvSpPr/>
          <p:nvPr/>
        </p:nvSpPr>
        <p:spPr>
          <a:xfrm>
            <a:off x="2048040" y="3371760"/>
            <a:ext cx="19368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Remote Chu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64080" y="1898640"/>
            <a:ext cx="833400" cy="237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05040" y="1835280"/>
            <a:ext cx="833760" cy="23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529080" y="1773360"/>
            <a:ext cx="833400" cy="23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97000" y="1773360"/>
            <a:ext cx="833400" cy="236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rot="16200000">
            <a:off x="559440" y="2865960"/>
            <a:ext cx="1781280" cy="1890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16200000">
            <a:off x="694440" y="2846880"/>
            <a:ext cx="21826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4" name=""/>
          <p:cNvCxnSpPr>
            <a:stCxn id="842" idx="2"/>
            <a:endCxn id="843" idx="0"/>
          </p:cNvCxnSpPr>
          <p:nvPr/>
        </p:nvCxnSpPr>
        <p:spPr>
          <a:xfrm flipV="1">
            <a:off x="1544400" y="2953440"/>
            <a:ext cx="137160" cy="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46" idx="4"/>
            <a:endCxn id="842" idx="0"/>
          </p:cNvCxnSpPr>
          <p:nvPr/>
        </p:nvCxnSpPr>
        <p:spPr>
          <a:xfrm>
            <a:off x="846000" y="296028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006880" y="2716200"/>
            <a:ext cx="48276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49" idx="2"/>
            <a:endCxn id="847" idx="2"/>
          </p:cNvCxnSpPr>
          <p:nvPr/>
        </p:nvCxnSpPr>
        <p:spPr>
          <a:xfrm>
            <a:off x="4224240" y="2958840"/>
            <a:ext cx="78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3" idx="2"/>
            <a:endCxn id="851" idx="0"/>
          </p:cNvCxnSpPr>
          <p:nvPr/>
        </p:nvCxnSpPr>
        <p:spPr>
          <a:xfrm>
            <a:off x="1893600" y="2954160"/>
            <a:ext cx="177228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2" name=""/>
          <p:cNvSpPr/>
          <p:nvPr/>
        </p:nvSpPr>
        <p:spPr>
          <a:xfrm rot="16200000">
            <a:off x="2559600" y="2702160"/>
            <a:ext cx="195480" cy="52704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>
            <a:stCxn id="847" idx="3"/>
            <a:endCxn id="843" idx="1"/>
          </p:cNvCxnSpPr>
          <p:nvPr/>
        </p:nvCxnSpPr>
        <p:spPr>
          <a:xfrm rot="5400000">
            <a:off x="3094200" y="1892880"/>
            <a:ext cx="846720" cy="3461760"/>
          </a:xfrm>
          <a:prstGeom prst="bentConnector3">
            <a:avLst>
              <a:gd name="adj1" fmla="val 136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4" name=""/>
          <p:cNvSpPr/>
          <p:nvPr/>
        </p:nvSpPr>
        <p:spPr>
          <a:xfrm rot="16200000">
            <a:off x="2642400" y="4093560"/>
            <a:ext cx="193680" cy="528480"/>
          </a:xfrm>
          <a:prstGeom prst="can">
            <a:avLst>
              <a:gd name="adj" fmla="val 13342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 anchorCtr="1" vert="eaVer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rot="16200000">
            <a:off x="2724840" y="2853360"/>
            <a:ext cx="2090880" cy="212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Gothic"/>
              </a:rPr>
              <a:t>Chunk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3006000" y="2864160"/>
            <a:ext cx="2246040" cy="187200"/>
          </a:xfrm>
          <a:prstGeom prst="rect">
            <a:avLst/>
          </a:prstGeom>
          <a:solidFill>
            <a:srgbClr val="ffc7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1680" bIns="31680" anchor="ctr">
            <a:noAutofit/>
          </a:bodyPr>
          <a:p>
            <a:pPr algn="ctr">
              <a:tabLst>
                <a:tab algn="l" pos="0"/>
                <a:tab algn="l" pos="307800"/>
                <a:tab algn="l" pos="617400"/>
                <a:tab algn="l" pos="925560"/>
                <a:tab algn="l" pos="1235160"/>
                <a:tab algn="l" pos="1542960"/>
                <a:tab algn="l" pos="1851120"/>
                <a:tab algn="l" pos="2160720"/>
                <a:tab algn="l" pos="2468520"/>
                <a:tab algn="l" pos="2778120"/>
                <a:tab algn="l" pos="3086280"/>
                <a:tab algn="l" pos="3394080"/>
                <a:tab algn="l" pos="3703680"/>
                <a:tab algn="l" pos="4011480"/>
                <a:tab algn="l" pos="4321080"/>
                <a:tab algn="l" pos="4629240"/>
                <a:tab algn="l" pos="4937040"/>
                <a:tab algn="l" pos="5246640"/>
                <a:tab algn="l" pos="5554800"/>
                <a:tab algn="l" pos="5864400"/>
                <a:tab algn="l" pos="6172200"/>
                <a:tab algn="l" pos="6467400"/>
                <a:tab algn="l" pos="6775560"/>
                <a:tab algn="l" pos="7083360"/>
                <a:tab algn="l" pos="7391520"/>
                <a:tab algn="l" pos="7699320"/>
                <a:tab algn="l" pos="8007480"/>
                <a:tab algn="l" pos="8315280"/>
                <a:tab algn="l" pos="8623440"/>
                <a:tab algn="l" pos="8931240"/>
                <a:tab algn="l" pos="9239400"/>
                <a:tab algn="l" pos="9547200"/>
                <a:tab algn="l" pos="9855360"/>
                <a:tab algn="l" pos="10163160"/>
                <a:tab algn="l" pos="10471320"/>
                <a:tab algn="l" pos="107791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em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"/>
          <p:cNvCxnSpPr>
            <a:stCxn id="851" idx="2"/>
            <a:endCxn id="849" idx="0"/>
          </p:cNvCxnSpPr>
          <p:nvPr/>
        </p:nvCxnSpPr>
        <p:spPr>
          <a:xfrm flipV="1">
            <a:off x="3877920" y="2958840"/>
            <a:ext cx="159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"/>
          <p:cNvSpPr/>
          <p:nvPr/>
        </p:nvSpPr>
        <p:spPr>
          <a:xfrm>
            <a:off x="363600" y="2717640"/>
            <a:ext cx="482400" cy="484200"/>
          </a:xfrm>
          <a:prstGeom prst="can">
            <a:avLst>
              <a:gd name="adj" fmla="val 25000"/>
            </a:avLst>
          </a:prstGeom>
          <a:solidFill>
            <a:srgbClr val="ed9b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249920" y="1473120"/>
            <a:ext cx="80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Step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1473120"/>
            <a:ext cx="1071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&lt;Listener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248120" y="1160640"/>
            <a:ext cx="66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s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62280" y="1160640"/>
            <a:ext cx="57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spAutoFit/>
          </a:bodyPr>
          <a:p>
            <a:pPr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6360" y="187200"/>
            <a:ext cx="550872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16000"/>
                <a:tab algn="l" pos="433440"/>
                <a:tab algn="l" pos="650880"/>
                <a:tab algn="l" pos="868320"/>
                <a:tab algn="l" pos="1084320"/>
                <a:tab algn="l" pos="1301760"/>
                <a:tab algn="l" pos="1517760"/>
                <a:tab algn="l" pos="1735200"/>
                <a:tab algn="l" pos="1952640"/>
                <a:tab algn="l" pos="2170080"/>
                <a:tab algn="l" pos="2386080"/>
                <a:tab algn="l" pos="2603520"/>
                <a:tab algn="l" pos="2819520"/>
                <a:tab algn="l" pos="3038400"/>
                <a:tab algn="l" pos="3254400"/>
                <a:tab algn="l" pos="3471840"/>
                <a:tab algn="l" pos="3687840"/>
                <a:tab algn="l" pos="3905280"/>
                <a:tab algn="l" pos="4122720"/>
                <a:tab algn="l" pos="4340160"/>
                <a:tab algn="l" pos="4465800"/>
                <a:tab algn="l" pos="4809960"/>
                <a:tab algn="l" pos="5153040"/>
                <a:tab algn="l" pos="5497560"/>
                <a:tab algn="l" pos="564192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0" lang="en-GB" sz="2000" spc="-1" strike="noStrike">
                <a:solidFill>
                  <a:srgbClr val="525252"/>
                </a:solidFill>
                <a:latin typeface="Helvetica Neue Light"/>
                <a:ea typeface="ＭＳ Ｐゴシック"/>
              </a:rPr>
              <a:t>Partitioning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03360" y="1308240"/>
            <a:ext cx="1782720" cy="245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t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47720" y="1798560"/>
            <a:ext cx="149400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7720" y="2438280"/>
            <a:ext cx="1494000" cy="246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Ma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7720" y="3125880"/>
            <a:ext cx="149400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5" name=""/>
          <p:cNvCxnSpPr>
            <a:stCxn id="862" idx="2"/>
            <a:endCxn id="863" idx="0"/>
          </p:cNvCxnSpPr>
          <p:nvPr/>
        </p:nvCxnSpPr>
        <p:spPr>
          <a:xfrm>
            <a:off x="1495080" y="2044440"/>
            <a:ext cx="108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63" idx="2"/>
            <a:endCxn id="864" idx="0"/>
          </p:cNvCxnSpPr>
          <p:nvPr/>
        </p:nvCxnSpPr>
        <p:spPr>
          <a:xfrm>
            <a:off x="1495080" y="2684520"/>
            <a:ext cx="108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7" name=""/>
          <p:cNvSpPr/>
          <p:nvPr/>
        </p:nvSpPr>
        <p:spPr>
          <a:xfrm>
            <a:off x="3252960" y="160344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252960" y="194616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252960" y="229068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52960" y="263520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52960" y="2979720"/>
            <a:ext cx="1493640" cy="246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52960" y="3322800"/>
            <a:ext cx="1493640" cy="245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l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3" idx="3"/>
            <a:endCxn id="867" idx="1"/>
          </p:cNvCxnSpPr>
          <p:nvPr/>
        </p:nvCxnSpPr>
        <p:spPr>
          <a:xfrm flipV="1">
            <a:off x="2241360" y="1726560"/>
            <a:ext cx="1011960" cy="83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3" idx="3"/>
            <a:endCxn id="868" idx="1"/>
          </p:cNvCxnSpPr>
          <p:nvPr/>
        </p:nvCxnSpPr>
        <p:spPr>
          <a:xfrm flipV="1">
            <a:off x="2241360" y="2069280"/>
            <a:ext cx="101196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5" name=""/>
          <p:cNvCxnSpPr>
            <a:stCxn id="863" idx="3"/>
            <a:endCxn id="869" idx="1"/>
          </p:cNvCxnSpPr>
          <p:nvPr/>
        </p:nvCxnSpPr>
        <p:spPr>
          <a:xfrm flipV="1">
            <a:off x="2241360" y="2414160"/>
            <a:ext cx="101196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6" name=""/>
          <p:cNvCxnSpPr>
            <a:stCxn id="863" idx="3"/>
            <a:endCxn id="870" idx="1"/>
          </p:cNvCxnSpPr>
          <p:nvPr/>
        </p:nvCxnSpPr>
        <p:spPr>
          <a:xfrm>
            <a:off x="2241360" y="2561760"/>
            <a:ext cx="10119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"/>
          <p:cNvCxnSpPr>
            <a:stCxn id="863" idx="3"/>
            <a:endCxn id="871" idx="1"/>
          </p:cNvCxnSpPr>
          <p:nvPr/>
        </p:nvCxnSpPr>
        <p:spPr>
          <a:xfrm>
            <a:off x="2241360" y="2562120"/>
            <a:ext cx="101196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63" idx="3"/>
            <a:endCxn id="872" idx="1"/>
          </p:cNvCxnSpPr>
          <p:nvPr/>
        </p:nvCxnSpPr>
        <p:spPr>
          <a:xfrm>
            <a:off x="2241360" y="2561760"/>
            <a:ext cx="1011960" cy="88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228680" y="184932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l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4960" y="1603440"/>
            <a:ext cx="77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960" y="1012680"/>
            <a:ext cx="1783080" cy="29556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75000" y="1111320"/>
            <a:ext cx="1300320" cy="295200"/>
          </a:xfrm>
          <a:prstGeom prst="rect">
            <a:avLst/>
          </a:prstGeom>
          <a:solidFill>
            <a:srgbClr val="a3b8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22360" y="1455840"/>
            <a:ext cx="149400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PartitionHand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819520" y="1749600"/>
            <a:ext cx="1685880" cy="245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 anchorCtr="1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 Gothic"/>
              </a:rPr>
              <a:t>StepExecutionSplit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84320" y="1308240"/>
            <a:ext cx="0" cy="289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1160" y="2093760"/>
            <a:ext cx="8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144880" y="1700280"/>
            <a:ext cx="0" cy="250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1180800" y="3618000"/>
            <a:ext cx="963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988920" y="1849320"/>
            <a:ext cx="192240" cy="230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48040" y="2093760"/>
            <a:ext cx="1918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940280" y="1406520"/>
            <a:ext cx="0" cy="280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638520" y="1995480"/>
            <a:ext cx="0" cy="2211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4960" y="184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87840" y="2487600"/>
            <a:ext cx="135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241720" y="2730600"/>
            <a:ext cx="260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241720" y="3075120"/>
            <a:ext cx="2698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543480" y="2241720"/>
            <a:ext cx="1918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843440" y="2730600"/>
            <a:ext cx="19224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41720" y="22417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86080" y="1995480"/>
            <a:ext cx="772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840" y="4108320"/>
            <a:ext cx="676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241720" y="2536920"/>
            <a:ext cx="1301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133240" y="2682720"/>
            <a:ext cx="144360" cy="4921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600 h 492120"/>
              <a:gd name="textAreaBottom" fmla="*/ 479520 h 49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276880" y="2781360"/>
            <a:ext cx="62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44880" y="322416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35320" y="3273480"/>
            <a:ext cx="733320" cy="21096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30440" y="3044880"/>
            <a:ext cx="5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4320" y="3716280"/>
            <a:ext cx="191880" cy="29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74760" y="3765600"/>
            <a:ext cx="733320" cy="209520"/>
          </a:xfrm>
          <a:custGeom>
            <a:avLst/>
            <a:gdLst/>
            <a:ahLst/>
            <a:rect l="l" t="t" r="r" b="b"/>
            <a:pathLst>
              <a:path w="691" h="194">
                <a:moveTo>
                  <a:pt x="3" y="0"/>
                </a:moveTo>
                <a:lnTo>
                  <a:pt x="691" y="5"/>
                </a:lnTo>
                <a:lnTo>
                  <a:pt x="683" y="194"/>
                </a:lnTo>
                <a:lnTo>
                  <a:pt x="0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325520" y="3730680"/>
            <a:ext cx="81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8680" y="2001960"/>
            <a:ext cx="173160" cy="14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65360" y="27655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8680" y="200196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65360" y="341964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65360" y="319572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3080" y="2160720"/>
            <a:ext cx="198360" cy="38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2173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49520" y="1962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5360" y="382572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358128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back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780000"/>
            <a:ext cx="193680" cy="19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8920" y="2944800"/>
            <a:ext cx="182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87680" y="297648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51080" y="3240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65360" y="2519280"/>
            <a:ext cx="103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65360" y="229536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95440" y="2857680"/>
            <a:ext cx="166680" cy="65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61960" y="264960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5360" y="292572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61960" y="1793880"/>
            <a:ext cx="96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(ite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1006560"/>
            <a:ext cx="1262160" cy="291960"/>
          </a:xfrm>
          <a:prstGeom prst="rect">
            <a:avLst/>
          </a:prstGeom>
          <a:solidFill>
            <a:srgbClr val="f0ec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e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75000" y="888840"/>
            <a:ext cx="0" cy="3160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25360" y="2070000"/>
            <a:ext cx="12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39640"/>
            <a:ext cx="1089360" cy="3412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ItemWr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78120" y="1301760"/>
            <a:ext cx="12960" cy="279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98680" y="2001960"/>
            <a:ext cx="166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781080" y="3419640"/>
            <a:ext cx="1258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30720" y="314964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sh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8160" y="987480"/>
            <a:ext cx="849600" cy="31104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Ste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3500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30720" y="1305000"/>
            <a:ext cx="0" cy="2835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692360"/>
            <a:ext cx="192240" cy="2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" y="1625760"/>
            <a:ext cx="57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080" y="138096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39960" y="1625760"/>
            <a:ext cx="185400" cy="228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3080" y="224964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71840" y="228132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207000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981000"/>
            <a:ext cx="1209600" cy="289080"/>
          </a:xfrm>
          <a:prstGeom prst="rect">
            <a:avLst/>
          </a:prstGeom>
          <a:solidFill>
            <a:srgbClr val="f0b4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760" rIns="41760" tIns="20880" bIns="20880" anchor="ctr">
            <a:noAutofit/>
          </a:bodyPr>
          <a:p>
            <a:pPr algn="ctr">
              <a:tabLst>
                <a:tab algn="l" pos="0"/>
                <a:tab algn="l" pos="417600"/>
                <a:tab algn="l" pos="835200"/>
                <a:tab algn="l" pos="1252440"/>
                <a:tab algn="l" pos="1670040"/>
                <a:tab algn="l" pos="2087640"/>
                <a:tab algn="l" pos="2505240"/>
                <a:tab algn="l" pos="2922480"/>
                <a:tab algn="l" pos="3340080"/>
                <a:tab algn="l" pos="3757680"/>
                <a:tab algn="l" pos="4175280"/>
                <a:tab algn="l" pos="4592520"/>
                <a:tab algn="l" pos="5010120"/>
                <a:tab algn="l" pos="5427720"/>
                <a:tab algn="l" pos="5845320"/>
                <a:tab algn="l" pos="6262560"/>
                <a:tab algn="l" pos="6680160"/>
                <a:tab algn="l" pos="7097760"/>
                <a:tab algn="l" pos="7515360"/>
                <a:tab algn="l" pos="7932600"/>
                <a:tab algn="l" pos="835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MS Gothic"/>
              </a:rPr>
              <a:t>Transaction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31701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7680" y="29257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149640"/>
            <a:ext cx="19224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86320" y="3395520"/>
            <a:ext cx="1904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25360" y="175428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11280"/>
            <a:ext cx="77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98920" y="2630520"/>
            <a:ext cx="193680" cy="29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87680" y="266220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5360" y="245124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51080" y="3375000"/>
            <a:ext cx="1109880" cy="371520"/>
          </a:xfrm>
          <a:prstGeom prst="irregularSeal1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560" rIns="6156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5360" y="3870360"/>
            <a:ext cx="3915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7680" y="3625920"/>
            <a:ext cx="938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7400"/>
                <a:tab algn="l" pos="1235160"/>
                <a:tab algn="l" pos="1852560"/>
                <a:tab algn="l" pos="2470320"/>
                <a:tab algn="l" pos="3087720"/>
                <a:tab algn="l" pos="3705120"/>
                <a:tab algn="l" pos="4322880"/>
                <a:tab algn="l" pos="4940280"/>
                <a:tab algn="l" pos="5557680"/>
                <a:tab algn="l" pos="6175440"/>
                <a:tab algn="l" pos="6792840"/>
                <a:tab algn="l" pos="7410600"/>
                <a:tab algn="l" pos="8028000"/>
                <a:tab algn="l" pos="8645400"/>
                <a:tab algn="l" pos="9263160"/>
                <a:tab algn="l" pos="9880560"/>
                <a:tab algn="l" pos="10497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08000" y="395280"/>
            <a:ext cx="5905440" cy="3240000"/>
            <a:chOff x="108000" y="395280"/>
            <a:chExt cx="5905440" cy="3240000"/>
          </a:xfrm>
        </p:grpSpPr>
        <p:sp>
          <p:nvSpPr>
            <p:cNvPr id="207" name=""/>
            <p:cNvSpPr/>
            <p:nvPr/>
          </p:nvSpPr>
          <p:spPr>
            <a:xfrm>
              <a:off x="108000" y="395280"/>
              <a:ext cx="5905440" cy="3240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640" y="900000"/>
              <a:ext cx="5699880" cy="2593440"/>
              <a:chOff x="179640" y="900000"/>
              <a:chExt cx="5699880" cy="259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181080" y="900000"/>
                <a:ext cx="5616360" cy="2521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320760" y="1498680"/>
                <a:ext cx="5558760" cy="1994760"/>
                <a:chOff x="320760" y="1498680"/>
                <a:chExt cx="5558760" cy="199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33992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780560" y="1978200"/>
                  <a:ext cx="6195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form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99560" y="2484360"/>
                  <a:ext cx="86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File(Tokenizer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47640" y="193212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oces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1200" y="1860480"/>
                  <a:ext cx="8028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58640" y="2147760"/>
                  <a:ext cx="78840" cy="14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20760" y="1908000"/>
                  <a:ext cx="595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com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80" y="20034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0800000">
                  <a:off x="5527440" y="2169720"/>
                  <a:ext cx="126000" cy="1443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0800000">
                  <a:off x="5653440" y="2460240"/>
                  <a:ext cx="127440" cy="142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0800000">
                  <a:off x="5651640" y="2244600"/>
                  <a:ext cx="66600" cy="216000"/>
                </a:xfrm>
                <a:custGeom>
                  <a:avLst/>
                  <a:gdLst/>
                  <a:ahLst/>
                  <a:rect l="l" t="t" r="r" b="b"/>
                  <a:pathLst>
                    <a:path w="48" h="136">
                      <a:moveTo>
                        <a:pt x="3" y="0"/>
                      </a:moveTo>
                      <a:lnTo>
                        <a:pt x="0" y="135"/>
                      </a:lnTo>
                      <a:lnTo>
                        <a:pt x="48" y="1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5880" y="2627280"/>
                  <a:ext cx="59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goi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84160" y="1978200"/>
                  <a:ext cx="43560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rs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13760" y="1978200"/>
                  <a:ext cx="53316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Validat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778560" y="1978200"/>
                  <a:ext cx="5317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66640" y="2268000"/>
                  <a:ext cx="24876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735560" y="3132000"/>
                  <a:ext cx="764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Read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97440" y="2195640"/>
                  <a:ext cx="48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89160" y="1859040"/>
                  <a:ext cx="503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ars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esul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62120" y="2484360"/>
                  <a:ext cx="8751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owMapp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X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400480" y="2195640"/>
                  <a:ext cx="3931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391840" y="1981080"/>
                  <a:ext cx="47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bjec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607120" y="2484360"/>
                  <a:ext cx="103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ache Valid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pring VALAN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65280" y="2195640"/>
                  <a:ext cx="458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427920" y="1981080"/>
                  <a:ext cx="380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30080" y="2268360"/>
                  <a:ext cx="5086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85200" y="3156120"/>
                  <a:ext cx="1447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tem Write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6200000">
                  <a:off x="2033280" y="1526760"/>
                  <a:ext cx="365040" cy="271224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112680 h 2712240"/>
                    <a:gd name="textAreaBottom" fmla="*/ 2599560 h 271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5400000">
                  <a:off x="1472040" y="977040"/>
                  <a:ext cx="289080" cy="1428120"/>
                </a:xfrm>
                <a:custGeom>
                  <a:avLst/>
                  <a:gdLst>
                    <a:gd name="textAreaLeft" fmla="*/ 84960 w 289080"/>
                    <a:gd name="textAreaRight" fmla="*/ 289080 w 289080"/>
                    <a:gd name="textAreaTop" fmla="*/ 59400 h 1428120"/>
                    <a:gd name="textAreaBottom" fmla="*/ 1368720 h 1428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1760" y="1979640"/>
                  <a:ext cx="551520" cy="5047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erializ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363280" y="2268360"/>
                  <a:ext cx="180360" cy="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78280" y="1498680"/>
                  <a:ext cx="526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 rot="5400000">
                  <a:off x="4905000" y="1290960"/>
                  <a:ext cx="288720" cy="757800"/>
                </a:xfrm>
                <a:custGeom>
                  <a:avLst/>
                  <a:gdLst>
                    <a:gd name="textAreaLeft" fmla="*/ 84960 w 288720"/>
                    <a:gd name="textAreaRight" fmla="*/ 289080 w 288720"/>
                    <a:gd name="textAreaTop" fmla="*/ 31320 h 757800"/>
                    <a:gd name="textAreaBottom" fmla="*/ 726480 h 75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6200000">
                  <a:off x="4469400" y="1940760"/>
                  <a:ext cx="365040" cy="1883880"/>
                </a:xfrm>
                <a:custGeom>
                  <a:avLst/>
                  <a:gdLst>
                    <a:gd name="textAreaLeft" fmla="*/ 107280 w 365040"/>
                    <a:gd name="textAreaRight" fmla="*/ 365400 w 365040"/>
                    <a:gd name="textAreaTop" fmla="*/ 78480 h 1883880"/>
                    <a:gd name="textAreaBottom" fmla="*/ 1805400 h 188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900"/>
                        <a:pt x="0" y="1800"/>
                      </a:cubicBezTo>
                      <a:lnTo>
                        <a:pt x="0" y="19800"/>
                      </a:lnTo>
                      <a:cubicBezTo>
                        <a:pt x="0" y="207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637880" y="2484360"/>
                  <a:ext cx="904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ne Aggregato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ML (StAX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Q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45800" y="255600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617400"/>
                      <a:tab algn="l" pos="1235160"/>
                      <a:tab algn="l" pos="1852560"/>
                      <a:tab algn="l" pos="2470320"/>
                      <a:tab algn="l" pos="3087720"/>
                      <a:tab algn="l" pos="3705120"/>
                      <a:tab algn="l" pos="4322880"/>
                      <a:tab algn="l" pos="4940280"/>
                      <a:tab algn="l" pos="5557680"/>
                      <a:tab algn="l" pos="6175440"/>
                      <a:tab algn="l" pos="6792840"/>
                      <a:tab algn="l" pos="7410600"/>
                      <a:tab algn="l" pos="8028000"/>
                      <a:tab algn="l" pos="8645400"/>
                      <a:tab algn="l" pos="9263160"/>
                      <a:tab algn="l" pos="9880560"/>
                      <a:tab algn="l" pos="1049796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ogi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79640" y="1044720"/>
                <a:ext cx="1361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617400"/>
                    <a:tab algn="l" pos="1235160"/>
                    <a:tab algn="l" pos="1852560"/>
                    <a:tab algn="l" pos="2470320"/>
                    <a:tab algn="l" pos="3087720"/>
                    <a:tab algn="l" pos="3705120"/>
                    <a:tab algn="l" pos="4322880"/>
                    <a:tab algn="l" pos="4940280"/>
                    <a:tab algn="l" pos="5557680"/>
                    <a:tab algn="l" pos="6175440"/>
                    <a:tab algn="l" pos="6792840"/>
                    <a:tab algn="l" pos="7410600"/>
                    <a:tab algn="l" pos="8028000"/>
                    <a:tab algn="l" pos="8645400"/>
                    <a:tab algn="l" pos="9263160"/>
                    <a:tab algn="l" pos="9880560"/>
                    <a:tab algn="l" pos="104979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peat Call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80360" y="46836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617400"/>
                  <a:tab algn="l" pos="1235160"/>
                  <a:tab algn="l" pos="1852560"/>
                  <a:tab algn="l" pos="2470320"/>
                  <a:tab algn="l" pos="3087720"/>
                  <a:tab algn="l" pos="3705120"/>
                  <a:tab algn="l" pos="4322880"/>
                  <a:tab algn="l" pos="4940280"/>
                  <a:tab algn="l" pos="5557680"/>
                  <a:tab algn="l" pos="6175440"/>
                  <a:tab algn="l" pos="6792840"/>
                  <a:tab algn="l" pos="7410600"/>
                  <a:tab algn="l" pos="8028000"/>
                  <a:tab algn="l" pos="8645400"/>
                  <a:tab algn="l" pos="9263160"/>
                  <a:tab algn="l" pos="9880560"/>
                  <a:tab algn="l" pos="10497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peat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79360" y="1116000"/>
            <a:ext cx="5445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5715000" y="4478400"/>
            <a:ext cx="146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3560" rIns="43560" tIns="21600" bIns="21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fld id="{D1912B07-BBA6-4B93-AE81-602CE58B0319}" type="slidenum">
              <a:rPr b="0" lang="en-US" sz="7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"/>
          <p:cNvSpPr/>
          <p:nvPr/>
        </p:nvSpPr>
        <p:spPr>
          <a:xfrm>
            <a:off x="1273320" y="1274760"/>
            <a:ext cx="3317760" cy="2952720"/>
          </a:xfrm>
          <a:prstGeom prst="roundRect">
            <a:avLst>
              <a:gd name="adj" fmla="val 11718"/>
            </a:avLst>
          </a:prstGeom>
          <a:noFill/>
          <a:ln w="12600">
            <a:solidFill>
              <a:srgbClr val="769b00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"/>
          <p:cNvGrpSpPr/>
          <p:nvPr/>
        </p:nvGrpSpPr>
        <p:grpSpPr>
          <a:xfrm>
            <a:off x="1990800" y="1523880"/>
            <a:ext cx="1990800" cy="571680"/>
            <a:chOff x="1990800" y="1523880"/>
            <a:chExt cx="1990800" cy="571680"/>
          </a:xfrm>
        </p:grpSpPr>
        <p:sp>
          <p:nvSpPr>
            <p:cNvPr id="253" name="Rectangle 4"/>
            <p:cNvSpPr/>
            <p:nvPr/>
          </p:nvSpPr>
          <p:spPr>
            <a:xfrm>
              <a:off x="1990800" y="1523880"/>
              <a:ext cx="1990800" cy="571680"/>
            </a:xfrm>
            <a:prstGeom prst="rect">
              <a:avLst/>
            </a:prstGeom>
            <a:solidFill>
              <a:srgbClr val="66b1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"/>
            <p:cNvSpPr/>
            <p:nvPr/>
          </p:nvSpPr>
          <p:spPr>
            <a:xfrm>
              <a:off x="2574360" y="1725480"/>
              <a:ext cx="81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pplic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"/>
          <p:cNvGrpSpPr/>
          <p:nvPr/>
        </p:nvGrpSpPr>
        <p:grpSpPr>
          <a:xfrm>
            <a:off x="1990800" y="2492280"/>
            <a:ext cx="1990800" cy="573120"/>
            <a:chOff x="1990800" y="2492280"/>
            <a:chExt cx="1990800" cy="573120"/>
          </a:xfrm>
        </p:grpSpPr>
        <p:sp>
          <p:nvSpPr>
            <p:cNvPr id="256" name="Rectangle 7"/>
            <p:cNvSpPr/>
            <p:nvPr/>
          </p:nvSpPr>
          <p:spPr>
            <a:xfrm>
              <a:off x="1990800" y="2492280"/>
              <a:ext cx="1990800" cy="573120"/>
            </a:xfrm>
            <a:prstGeom prst="rect">
              <a:avLst/>
            </a:prstGeom>
            <a:solidFill>
              <a:srgbClr val="538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583360" y="2694600"/>
              <a:ext cx="800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C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9"/>
          <p:cNvGrpSpPr/>
          <p:nvPr/>
        </p:nvGrpSpPr>
        <p:grpSpPr>
          <a:xfrm>
            <a:off x="1990800" y="3438360"/>
            <a:ext cx="1990800" cy="573120"/>
            <a:chOff x="1990800" y="3438360"/>
            <a:chExt cx="1990800" cy="573120"/>
          </a:xfrm>
        </p:grpSpPr>
        <p:sp>
          <p:nvSpPr>
            <p:cNvPr id="259" name="Rectangle 10"/>
            <p:cNvSpPr/>
            <p:nvPr/>
          </p:nvSpPr>
          <p:spPr>
            <a:xfrm>
              <a:off x="1990800" y="3438360"/>
              <a:ext cx="1990800" cy="5731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3440"/>
                  <a:tab algn="l" pos="866880"/>
                  <a:tab algn="l" pos="1300320"/>
                  <a:tab algn="l" pos="1733400"/>
                  <a:tab algn="l" pos="2166840"/>
                  <a:tab algn="l" pos="2600280"/>
                  <a:tab algn="l" pos="3033720"/>
                  <a:tab algn="l" pos="3467160"/>
                  <a:tab algn="l" pos="3900600"/>
                  <a:tab algn="l" pos="4334040"/>
                  <a:tab algn="l" pos="4767120"/>
                  <a:tab algn="l" pos="5200560"/>
                  <a:tab algn="l" pos="5634000"/>
                  <a:tab algn="l" pos="606744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285640" y="3640680"/>
              <a:ext cx="1395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26280" tIns="0" bIns="0" anchor="ctr">
              <a:spAutoFit/>
            </a:bodyPr>
            <a:p>
              <a:pPr marL="27000" algn="ctr">
                <a:tabLst>
                  <a:tab algn="l" pos="0"/>
                  <a:tab algn="l" pos="23760"/>
                  <a:tab algn="l" pos="330120"/>
                  <a:tab algn="l" pos="644400"/>
                  <a:tab algn="l" pos="952560"/>
                  <a:tab algn="l" pos="1260360"/>
                  <a:tab algn="l" pos="1566720"/>
                  <a:tab algn="l" pos="1873080"/>
                  <a:tab algn="l" pos="2187720"/>
                  <a:tab algn="l" pos="2495520"/>
                  <a:tab algn="l" pos="2803680"/>
                  <a:tab algn="l" pos="3110040"/>
                  <a:tab algn="l" pos="3416400"/>
                  <a:tab algn="l" pos="3730680"/>
                  <a:tab algn="l" pos="4038480"/>
                  <a:tab algn="l" pos="4344840"/>
                  <a:tab algn="l" pos="4653000"/>
                  <a:tab algn="l" pos="4959360"/>
                  <a:tab algn="l" pos="5273640"/>
                  <a:tab algn="l" pos="5581800"/>
                  <a:tab algn="l" pos="5888160"/>
                  <a:tab algn="l" pos="6195960"/>
                  <a:tab algn="l" pos="6500880"/>
                  <a:tab algn="l" pos="6934320"/>
                  <a:tab algn="l" pos="7367760"/>
                  <a:tab algn="l" pos="7800840"/>
                  <a:tab algn="l" pos="8234280"/>
                  <a:tab algn="l" pos="8667720"/>
                  <a:tab algn="l" pos="9101160"/>
                  <a:tab algn="l" pos="9534600"/>
                  <a:tab algn="l" pos="9968040"/>
                  <a:tab algn="l" pos="10401480"/>
                  <a:tab algn="l" pos="108345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atch Infrastructu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2"/>
          <p:cNvSpPr/>
          <p:nvPr/>
        </p:nvSpPr>
        <p:spPr>
          <a:xfrm>
            <a:off x="2755800" y="305604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V="1">
            <a:off x="3114720" y="30607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1685880" y="1698120"/>
            <a:ext cx="0" cy="209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1681200" y="1709640"/>
            <a:ext cx="30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1786680" y="1844640"/>
            <a:ext cx="1800" cy="1803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 flipH="1">
            <a:off x="1782720" y="184644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4781520" y="1177920"/>
            <a:ext cx="1147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siness Domain - Record Level data (i.e. Tra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 flipH="1">
            <a:off x="4131720" y="1392120"/>
            <a:ext cx="650520" cy="3351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4865760" y="2793960"/>
            <a:ext cx="1123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Launcher, Implementations of Core AP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 rot="10800000">
            <a:off x="4142880" y="2852640"/>
            <a:ext cx="722520" cy="154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4775040" y="3475080"/>
            <a:ext cx="1122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, Retry, Transaction, Input, Outpu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flipH="1">
            <a:off x="4112640" y="3711600"/>
            <a:ext cx="663480" cy="126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108000" y="3144960"/>
            <a:ext cx="11239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587"/>
              </a:spcBef>
              <a:tabLst>
                <a:tab algn="l" pos="0"/>
                <a:tab algn="l" pos="307800"/>
                <a:tab algn="l" pos="614520"/>
                <a:tab algn="l" pos="928800"/>
                <a:tab algn="l" pos="1235160"/>
                <a:tab algn="l" pos="1542960"/>
                <a:tab algn="l" pos="1851120"/>
                <a:tab algn="l" pos="2157480"/>
                <a:tab algn="l" pos="2471760"/>
                <a:tab algn="l" pos="2778120"/>
                <a:tab algn="l" pos="3086280"/>
                <a:tab algn="l" pos="3394080"/>
                <a:tab algn="l" pos="3700440"/>
                <a:tab algn="l" pos="4014720"/>
                <a:tab algn="l" pos="4321080"/>
                <a:tab algn="l" pos="4629240"/>
                <a:tab algn="l" pos="4937040"/>
                <a:tab algn="l" pos="5243400"/>
                <a:tab algn="l" pos="5557680"/>
                <a:tab algn="l" pos="5864400"/>
                <a:tab algn="l" pos="617220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larative, plus Abstractions and Extension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flipH="1" rot="10800000">
            <a:off x="668880" y="2501640"/>
            <a:ext cx="847800" cy="61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2760840" y="2103480"/>
            <a:ext cx="1440" cy="38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 flipH="1" flipV="1">
            <a:off x="3119400" y="2101680"/>
            <a:ext cx="6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8"/>
          <p:cNvSpPr/>
          <p:nvPr/>
        </p:nvSpPr>
        <p:spPr>
          <a:xfrm>
            <a:off x="4788000" y="1986120"/>
            <a:ext cx="1122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6280" tIns="0" bIns="0" anchor="ctr">
            <a:noAutofit/>
          </a:bodyPr>
          <a:p>
            <a:pPr marL="27000" algn="ctr">
              <a:spcBef>
                <a:spcPts val="587"/>
              </a:spcBef>
              <a:tabLst>
                <a:tab algn="l" pos="0"/>
                <a:tab algn="l" pos="23760"/>
                <a:tab algn="l" pos="330120"/>
                <a:tab algn="l" pos="644400"/>
                <a:tab algn="l" pos="952560"/>
                <a:tab algn="l" pos="1260360"/>
                <a:tab algn="l" pos="1566720"/>
                <a:tab algn="l" pos="1873080"/>
                <a:tab algn="l" pos="2187720"/>
                <a:tab algn="l" pos="2495520"/>
                <a:tab algn="l" pos="2803680"/>
                <a:tab algn="l" pos="3110040"/>
                <a:tab algn="l" pos="3416400"/>
                <a:tab algn="l" pos="3730680"/>
                <a:tab algn="l" pos="4038480"/>
                <a:tab algn="l" pos="4344840"/>
                <a:tab algn="l" pos="4653000"/>
                <a:tab algn="l" pos="4959360"/>
                <a:tab algn="l" pos="5273640"/>
                <a:tab algn="l" pos="5581800"/>
                <a:tab algn="l" pos="5888160"/>
                <a:tab algn="l" pos="619596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  <a:tab algn="l" pos="9101160"/>
                <a:tab algn="l" pos="9534600"/>
                <a:tab algn="l" pos="9968040"/>
                <a:tab algn="l" pos="10401480"/>
                <a:tab algn="l" pos="108345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b, Step, JobLaunc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9"/>
          <p:cNvSpPr/>
          <p:nvPr/>
        </p:nvSpPr>
        <p:spPr>
          <a:xfrm flipH="1">
            <a:off x="4124160" y="2300400"/>
            <a:ext cx="658800" cy="3412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33440"/>
                <a:tab algn="l" pos="866880"/>
                <a:tab algn="l" pos="1300320"/>
                <a:tab algn="l" pos="1733400"/>
                <a:tab algn="l" pos="2166840"/>
                <a:tab algn="l" pos="2600280"/>
                <a:tab algn="l" pos="3033720"/>
                <a:tab algn="l" pos="3467160"/>
                <a:tab algn="l" pos="3900600"/>
                <a:tab algn="l" pos="4334040"/>
                <a:tab algn="l" pos="4767120"/>
                <a:tab algn="l" pos="5200560"/>
                <a:tab algn="l" pos="5634000"/>
                <a:tab algn="l" pos="6067440"/>
                <a:tab algn="l" pos="6500880"/>
                <a:tab algn="l" pos="6934320"/>
                <a:tab algn="l" pos="7367760"/>
                <a:tab algn="l" pos="7800840"/>
                <a:tab algn="l" pos="8234280"/>
                <a:tab algn="l" pos="8667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0"/>
          <p:cNvSpPr/>
          <p:nvPr/>
        </p:nvSpPr>
        <p:spPr>
          <a:xfrm>
            <a:off x="1685880" y="3801960"/>
            <a:ext cx="30312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1"/>
          <p:cNvSpPr/>
          <p:nvPr/>
        </p:nvSpPr>
        <p:spPr>
          <a:xfrm flipH="1">
            <a:off x="1782720" y="3649680"/>
            <a:ext cx="20808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8:20:48Z</dcterms:created>
  <dc:creator> Dave Syer</dc:creator>
  <dc:description/>
  <dc:language>en-US</dc:language>
  <cp:lastModifiedBy> Dave Syer</cp:lastModifiedBy>
  <dcterms:modified xsi:type="dcterms:W3CDTF">2010-08-29T10:28:30Z</dcterms:modified>
  <cp:revision>63</cp:revision>
  <dc:subject/>
  <dc:title>Slide 1</dc:title>
</cp:coreProperties>
</file>